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3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38.gif" ContentType="image/gif"/>
  <Override PartName="/ppt/media/image3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04840"/>
            <a:ext cx="8456760" cy="3154320"/>
          </a:xfrm>
          <a:prstGeom prst="rect">
            <a:avLst/>
          </a:prstGeom>
          <a:ln w="0">
            <a:noFill/>
          </a:ln>
        </p:spPr>
      </p:pic>
      <p:pic>
        <p:nvPicPr>
          <p:cNvPr id="1" name="iecex_logo_home" descr="IECEx Logo"/>
          <p:cNvPicPr/>
          <p:nvPr/>
        </p:nvPicPr>
        <p:blipFill>
          <a:blip r:embed="rId3"/>
          <a:stretch/>
        </p:blipFill>
        <p:spPr>
          <a:xfrm>
            <a:off x="79200" y="95400"/>
            <a:ext cx="1397160" cy="66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image" Target="../media/image38.gif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77920" y="1038240"/>
            <a:ext cx="8609400" cy="5248080"/>
            <a:chOff x="277920" y="1038240"/>
            <a:chExt cx="8609400" cy="5248080"/>
          </a:xfrm>
        </p:grpSpPr>
        <p:grpSp>
          <p:nvGrpSpPr>
            <p:cNvPr id="41" name=""/>
            <p:cNvGrpSpPr/>
            <p:nvPr/>
          </p:nvGrpSpPr>
          <p:grpSpPr>
            <a:xfrm>
              <a:off x="3713760" y="1041480"/>
              <a:ext cx="5173560" cy="4881600"/>
              <a:chOff x="3713760" y="1041480"/>
              <a:chExt cx="5173560" cy="4881600"/>
            </a:xfrm>
          </p:grpSpPr>
          <p:grpSp>
            <p:nvGrpSpPr>
              <p:cNvPr id="42" name=""/>
              <p:cNvGrpSpPr/>
              <p:nvPr/>
            </p:nvGrpSpPr>
            <p:grpSpPr>
              <a:xfrm>
                <a:off x="8126280" y="4145040"/>
                <a:ext cx="761040" cy="1778040"/>
                <a:chOff x="8126280" y="4145040"/>
                <a:chExt cx="761040" cy="1778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8126280" y="5402160"/>
                  <a:ext cx="761040" cy="520920"/>
                  <a:chOff x="8126280" y="5402160"/>
                  <a:chExt cx="761040" cy="5209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8764200" y="5402160"/>
                    <a:ext cx="1231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99">
                        <a:moveTo>
                          <a:pt x="27" y="3"/>
                        </a:moveTo>
                        <a:lnTo>
                          <a:pt x="35" y="0"/>
                        </a:lnTo>
                        <a:lnTo>
                          <a:pt x="50" y="22"/>
                        </a:lnTo>
                        <a:lnTo>
                          <a:pt x="48" y="85"/>
                        </a:lnTo>
                        <a:lnTo>
                          <a:pt x="58" y="85"/>
                        </a:lnTo>
                        <a:lnTo>
                          <a:pt x="60" y="94"/>
                        </a:lnTo>
                        <a:lnTo>
                          <a:pt x="64" y="107"/>
                        </a:lnTo>
                        <a:lnTo>
                          <a:pt x="66" y="116"/>
                        </a:lnTo>
                        <a:lnTo>
                          <a:pt x="75" y="113"/>
                        </a:lnTo>
                        <a:lnTo>
                          <a:pt x="81" y="99"/>
                        </a:lnTo>
                        <a:lnTo>
                          <a:pt x="83" y="107"/>
                        </a:lnTo>
                        <a:lnTo>
                          <a:pt x="79" y="118"/>
                        </a:lnTo>
                        <a:lnTo>
                          <a:pt x="75" y="127"/>
                        </a:lnTo>
                        <a:lnTo>
                          <a:pt x="73" y="143"/>
                        </a:lnTo>
                        <a:lnTo>
                          <a:pt x="62" y="151"/>
                        </a:lnTo>
                        <a:lnTo>
                          <a:pt x="56" y="154"/>
                        </a:lnTo>
                        <a:lnTo>
                          <a:pt x="48" y="162"/>
                        </a:lnTo>
                        <a:lnTo>
                          <a:pt x="46" y="171"/>
                        </a:lnTo>
                        <a:lnTo>
                          <a:pt x="48" y="179"/>
                        </a:lnTo>
                        <a:lnTo>
                          <a:pt x="50" y="187"/>
                        </a:lnTo>
                        <a:lnTo>
                          <a:pt x="39" y="193"/>
                        </a:lnTo>
                        <a:lnTo>
                          <a:pt x="33" y="195"/>
                        </a:lnTo>
                        <a:lnTo>
                          <a:pt x="27" y="198"/>
                        </a:lnTo>
                        <a:lnTo>
                          <a:pt x="23" y="195"/>
                        </a:lnTo>
                        <a:lnTo>
                          <a:pt x="12" y="193"/>
                        </a:lnTo>
                        <a:lnTo>
                          <a:pt x="8" y="187"/>
                        </a:lnTo>
                        <a:lnTo>
                          <a:pt x="12" y="182"/>
                        </a:lnTo>
                        <a:lnTo>
                          <a:pt x="21" y="179"/>
                        </a:lnTo>
                        <a:lnTo>
                          <a:pt x="27" y="165"/>
                        </a:lnTo>
                        <a:lnTo>
                          <a:pt x="27" y="160"/>
                        </a:lnTo>
                        <a:lnTo>
                          <a:pt x="21" y="154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3"/>
                        </a:lnTo>
                        <a:lnTo>
                          <a:pt x="0" y="135"/>
                        </a:lnTo>
                        <a:lnTo>
                          <a:pt x="2" y="129"/>
                        </a:lnTo>
                        <a:lnTo>
                          <a:pt x="6" y="129"/>
                        </a:lnTo>
                        <a:lnTo>
                          <a:pt x="12" y="127"/>
                        </a:lnTo>
                        <a:lnTo>
                          <a:pt x="21" y="118"/>
                        </a:lnTo>
                        <a:lnTo>
                          <a:pt x="25" y="116"/>
                        </a:lnTo>
                        <a:lnTo>
                          <a:pt x="29" y="85"/>
                        </a:lnTo>
                        <a:lnTo>
                          <a:pt x="25" y="77"/>
                        </a:lnTo>
                        <a:lnTo>
                          <a:pt x="19" y="72"/>
                        </a:lnTo>
                        <a:lnTo>
                          <a:pt x="17" y="55"/>
                        </a:lnTo>
                        <a:lnTo>
                          <a:pt x="19" y="39"/>
                        </a:lnTo>
                        <a:lnTo>
                          <a:pt x="21" y="28"/>
                        </a:lnTo>
                        <a:lnTo>
                          <a:pt x="27" y="3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8531640" y="5654520"/>
                    <a:ext cx="2253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69"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53" y="44"/>
                        </a:lnTo>
                        <a:lnTo>
                          <a:pt x="124" y="83"/>
                        </a:lnTo>
                        <a:lnTo>
                          <a:pt x="124" y="99"/>
                        </a:lnTo>
                        <a:lnTo>
                          <a:pt x="118" y="105"/>
                        </a:lnTo>
                        <a:lnTo>
                          <a:pt x="101" y="105"/>
                        </a:lnTo>
                        <a:lnTo>
                          <a:pt x="81" y="127"/>
                        </a:lnTo>
                        <a:lnTo>
                          <a:pt x="62" y="149"/>
                        </a:lnTo>
                        <a:lnTo>
                          <a:pt x="50" y="168"/>
                        </a:lnTo>
                        <a:lnTo>
                          <a:pt x="50" y="151"/>
                        </a:lnTo>
                        <a:lnTo>
                          <a:pt x="27" y="154"/>
                        </a:lnTo>
                        <a:lnTo>
                          <a:pt x="17" y="154"/>
                        </a:lnTo>
                        <a:lnTo>
                          <a:pt x="0" y="154"/>
                        </a:lnTo>
                        <a:lnTo>
                          <a:pt x="23" y="127"/>
                        </a:lnTo>
                        <a:lnTo>
                          <a:pt x="31" y="113"/>
                        </a:lnTo>
                        <a:lnTo>
                          <a:pt x="39" y="113"/>
                        </a:lnTo>
                        <a:lnTo>
                          <a:pt x="56" y="91"/>
                        </a:lnTo>
                        <a:lnTo>
                          <a:pt x="62" y="91"/>
                        </a:lnTo>
                        <a:lnTo>
                          <a:pt x="62" y="88"/>
                        </a:lnTo>
                        <a:lnTo>
                          <a:pt x="70" y="80"/>
                        </a:lnTo>
                        <a:lnTo>
                          <a:pt x="81" y="80"/>
                        </a:lnTo>
                        <a:lnTo>
                          <a:pt x="77" y="55"/>
                        </a:lnTo>
                        <a:lnTo>
                          <a:pt x="79" y="55"/>
                        </a:lnTo>
                        <a:lnTo>
                          <a:pt x="89" y="41"/>
                        </a:lnTo>
                        <a:lnTo>
                          <a:pt x="93" y="52"/>
                        </a:lnTo>
                        <a:lnTo>
                          <a:pt x="110" y="33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126280" y="5668920"/>
                    <a:ext cx="86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7" y="11"/>
                        </a:lnTo>
                        <a:lnTo>
                          <a:pt x="58" y="11"/>
                        </a:lnTo>
                        <a:lnTo>
                          <a:pt x="54" y="25"/>
                        </a:lnTo>
                        <a:lnTo>
                          <a:pt x="58" y="42"/>
                        </a:lnTo>
                        <a:lnTo>
                          <a:pt x="48" y="42"/>
                        </a:lnTo>
                        <a:lnTo>
                          <a:pt x="46" y="45"/>
                        </a:lnTo>
                        <a:lnTo>
                          <a:pt x="39" y="47"/>
                        </a:lnTo>
                        <a:lnTo>
                          <a:pt x="46" y="89"/>
                        </a:lnTo>
                        <a:lnTo>
                          <a:pt x="27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" name=""/>
                <p:cNvSpPr/>
                <p:nvPr/>
              </p:nvSpPr>
              <p:spPr>
                <a:xfrm>
                  <a:off x="8281080" y="4145040"/>
                  <a:ext cx="137520" cy="160200"/>
                </a:xfrm>
                <a:custGeom>
                  <a:avLst/>
                  <a:gdLst/>
                  <a:ahLst/>
                  <a:rect l="l" t="t" r="r" b="b"/>
                  <a:pathLst>
                    <a:path w="94" h="101">
                      <a:moveTo>
                        <a:pt x="17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3" y="100"/>
                      </a:lnTo>
                      <a:lnTo>
                        <a:pt x="56" y="100"/>
                      </a:lnTo>
                      <a:lnTo>
                        <a:pt x="64" y="83"/>
                      </a:lnTo>
                      <a:lnTo>
                        <a:pt x="68" y="66"/>
                      </a:lnTo>
                      <a:lnTo>
                        <a:pt x="93" y="66"/>
                      </a:lnTo>
                      <a:lnTo>
                        <a:pt x="89" y="40"/>
                      </a:lnTo>
                      <a:lnTo>
                        <a:pt x="89" y="14"/>
                      </a:lnTo>
                      <a:lnTo>
                        <a:pt x="64" y="0"/>
                      </a:lnTo>
                      <a:lnTo>
                        <a:pt x="62" y="29"/>
                      </a:lnTo>
                      <a:lnTo>
                        <a:pt x="76" y="46"/>
                      </a:lnTo>
                      <a:lnTo>
                        <a:pt x="54" y="46"/>
                      </a:lnTo>
                      <a:lnTo>
                        <a:pt x="45" y="57"/>
                      </a:lnTo>
                      <a:lnTo>
                        <a:pt x="17" y="37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6775920" y="1814400"/>
                <a:ext cx="1602720" cy="3794040"/>
                <a:chOff x="6775920" y="1814400"/>
                <a:chExt cx="1602720" cy="379404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7034760" y="2200320"/>
                  <a:ext cx="356760" cy="1138320"/>
                  <a:chOff x="7034760" y="2200320"/>
                  <a:chExt cx="356760" cy="113832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7034760" y="3220920"/>
                    <a:ext cx="864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3" y="67"/>
                        </a:lnTo>
                        <a:lnTo>
                          <a:pt x="41" y="73"/>
                        </a:lnTo>
                        <a:lnTo>
                          <a:pt x="56" y="73"/>
                        </a:lnTo>
                        <a:lnTo>
                          <a:pt x="58" y="48"/>
                        </a:lnTo>
                        <a:lnTo>
                          <a:pt x="54" y="31"/>
                        </a:lnTo>
                        <a:lnTo>
                          <a:pt x="44" y="11"/>
                        </a:lnTo>
                        <a:lnTo>
                          <a:pt x="33" y="11"/>
                        </a:lnTo>
                        <a:lnTo>
                          <a:pt x="29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7260120" y="3019320"/>
                    <a:ext cx="84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4">
                        <a:moveTo>
                          <a:pt x="13" y="0"/>
                        </a:moveTo>
                        <a:lnTo>
                          <a:pt x="38" y="3"/>
                        </a:lnTo>
                        <a:lnTo>
                          <a:pt x="46" y="28"/>
                        </a:lnTo>
                        <a:lnTo>
                          <a:pt x="57" y="42"/>
                        </a:lnTo>
                        <a:lnTo>
                          <a:pt x="49" y="54"/>
                        </a:lnTo>
                        <a:lnTo>
                          <a:pt x="57" y="68"/>
                        </a:lnTo>
                        <a:lnTo>
                          <a:pt x="53" y="85"/>
                        </a:lnTo>
                        <a:lnTo>
                          <a:pt x="44" y="93"/>
                        </a:lnTo>
                        <a:lnTo>
                          <a:pt x="27" y="90"/>
                        </a:lnTo>
                        <a:lnTo>
                          <a:pt x="17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245360" y="2200320"/>
                    <a:ext cx="1461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7">
                        <a:moveTo>
                          <a:pt x="14" y="0"/>
                        </a:moveTo>
                        <a:lnTo>
                          <a:pt x="27" y="14"/>
                        </a:lnTo>
                        <a:lnTo>
                          <a:pt x="39" y="11"/>
                        </a:lnTo>
                        <a:lnTo>
                          <a:pt x="58" y="14"/>
                        </a:lnTo>
                        <a:lnTo>
                          <a:pt x="74" y="14"/>
                        </a:lnTo>
                        <a:lnTo>
                          <a:pt x="83" y="22"/>
                        </a:lnTo>
                        <a:lnTo>
                          <a:pt x="93" y="42"/>
                        </a:lnTo>
                        <a:lnTo>
                          <a:pt x="99" y="50"/>
                        </a:lnTo>
                        <a:lnTo>
                          <a:pt x="76" y="55"/>
                        </a:lnTo>
                        <a:lnTo>
                          <a:pt x="70" y="61"/>
                        </a:lnTo>
                        <a:lnTo>
                          <a:pt x="76" y="72"/>
                        </a:lnTo>
                        <a:lnTo>
                          <a:pt x="76" y="83"/>
                        </a:lnTo>
                        <a:lnTo>
                          <a:pt x="54" y="72"/>
                        </a:lnTo>
                        <a:lnTo>
                          <a:pt x="35" y="64"/>
                        </a:lnTo>
                        <a:lnTo>
                          <a:pt x="27" y="67"/>
                        </a:lnTo>
                        <a:lnTo>
                          <a:pt x="27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7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" name=""/>
                <p:cNvSpPr/>
                <p:nvPr/>
              </p:nvSpPr>
              <p:spPr>
                <a:xfrm>
                  <a:off x="7368840" y="4505400"/>
                  <a:ext cx="1009800" cy="1103040"/>
                </a:xfrm>
                <a:custGeom>
                  <a:avLst/>
                  <a:gdLst/>
                  <a:ahLst/>
                  <a:rect l="l" t="t" r="r" b="b"/>
                  <a:pathLst>
                    <a:path w="690" h="695">
                      <a:moveTo>
                        <a:pt x="496" y="0"/>
                      </a:moveTo>
                      <a:lnTo>
                        <a:pt x="533" y="0"/>
                      </a:lnTo>
                      <a:lnTo>
                        <a:pt x="533" y="56"/>
                      </a:lnTo>
                      <a:lnTo>
                        <a:pt x="548" y="70"/>
                      </a:lnTo>
                      <a:lnTo>
                        <a:pt x="552" y="78"/>
                      </a:lnTo>
                      <a:lnTo>
                        <a:pt x="560" y="78"/>
                      </a:lnTo>
                      <a:lnTo>
                        <a:pt x="564" y="89"/>
                      </a:lnTo>
                      <a:lnTo>
                        <a:pt x="568" y="145"/>
                      </a:lnTo>
                      <a:lnTo>
                        <a:pt x="589" y="181"/>
                      </a:lnTo>
                      <a:lnTo>
                        <a:pt x="619" y="234"/>
                      </a:lnTo>
                      <a:lnTo>
                        <a:pt x="619" y="242"/>
                      </a:lnTo>
                      <a:lnTo>
                        <a:pt x="652" y="287"/>
                      </a:lnTo>
                      <a:lnTo>
                        <a:pt x="652" y="295"/>
                      </a:lnTo>
                      <a:lnTo>
                        <a:pt x="685" y="332"/>
                      </a:lnTo>
                      <a:lnTo>
                        <a:pt x="689" y="396"/>
                      </a:lnTo>
                      <a:lnTo>
                        <a:pt x="685" y="454"/>
                      </a:lnTo>
                      <a:lnTo>
                        <a:pt x="675" y="482"/>
                      </a:lnTo>
                      <a:lnTo>
                        <a:pt x="662" y="496"/>
                      </a:lnTo>
                      <a:lnTo>
                        <a:pt x="658" y="524"/>
                      </a:lnTo>
                      <a:lnTo>
                        <a:pt x="646" y="549"/>
                      </a:lnTo>
                      <a:lnTo>
                        <a:pt x="636" y="560"/>
                      </a:lnTo>
                      <a:lnTo>
                        <a:pt x="638" y="569"/>
                      </a:lnTo>
                      <a:lnTo>
                        <a:pt x="625" y="585"/>
                      </a:lnTo>
                      <a:lnTo>
                        <a:pt x="619" y="622"/>
                      </a:lnTo>
                      <a:lnTo>
                        <a:pt x="617" y="641"/>
                      </a:lnTo>
                      <a:lnTo>
                        <a:pt x="605" y="649"/>
                      </a:lnTo>
                      <a:lnTo>
                        <a:pt x="603" y="658"/>
                      </a:lnTo>
                      <a:lnTo>
                        <a:pt x="595" y="674"/>
                      </a:lnTo>
                      <a:lnTo>
                        <a:pt x="580" y="677"/>
                      </a:lnTo>
                      <a:lnTo>
                        <a:pt x="570" y="683"/>
                      </a:lnTo>
                      <a:lnTo>
                        <a:pt x="556" y="694"/>
                      </a:lnTo>
                      <a:lnTo>
                        <a:pt x="537" y="672"/>
                      </a:lnTo>
                      <a:lnTo>
                        <a:pt x="517" y="674"/>
                      </a:lnTo>
                      <a:lnTo>
                        <a:pt x="511" y="674"/>
                      </a:lnTo>
                      <a:lnTo>
                        <a:pt x="482" y="680"/>
                      </a:lnTo>
                      <a:lnTo>
                        <a:pt x="463" y="658"/>
                      </a:lnTo>
                      <a:lnTo>
                        <a:pt x="451" y="635"/>
                      </a:lnTo>
                      <a:lnTo>
                        <a:pt x="443" y="638"/>
                      </a:lnTo>
                      <a:lnTo>
                        <a:pt x="435" y="619"/>
                      </a:lnTo>
                      <a:lnTo>
                        <a:pt x="431" y="602"/>
                      </a:lnTo>
                      <a:lnTo>
                        <a:pt x="427" y="596"/>
                      </a:lnTo>
                      <a:lnTo>
                        <a:pt x="427" y="569"/>
                      </a:lnTo>
                      <a:lnTo>
                        <a:pt x="429" y="552"/>
                      </a:lnTo>
                      <a:lnTo>
                        <a:pt x="424" y="541"/>
                      </a:lnTo>
                      <a:lnTo>
                        <a:pt x="408" y="546"/>
                      </a:lnTo>
                      <a:lnTo>
                        <a:pt x="400" y="549"/>
                      </a:lnTo>
                      <a:lnTo>
                        <a:pt x="386" y="549"/>
                      </a:lnTo>
                      <a:lnTo>
                        <a:pt x="379" y="549"/>
                      </a:lnTo>
                      <a:lnTo>
                        <a:pt x="373" y="549"/>
                      </a:lnTo>
                      <a:lnTo>
                        <a:pt x="363" y="532"/>
                      </a:lnTo>
                      <a:lnTo>
                        <a:pt x="353" y="510"/>
                      </a:lnTo>
                      <a:lnTo>
                        <a:pt x="351" y="513"/>
                      </a:lnTo>
                      <a:lnTo>
                        <a:pt x="332" y="513"/>
                      </a:lnTo>
                      <a:lnTo>
                        <a:pt x="330" y="504"/>
                      </a:lnTo>
                      <a:lnTo>
                        <a:pt x="320" y="513"/>
                      </a:lnTo>
                      <a:lnTo>
                        <a:pt x="310" y="510"/>
                      </a:lnTo>
                      <a:lnTo>
                        <a:pt x="293" y="510"/>
                      </a:lnTo>
                      <a:lnTo>
                        <a:pt x="283" y="504"/>
                      </a:lnTo>
                      <a:lnTo>
                        <a:pt x="279" y="513"/>
                      </a:lnTo>
                      <a:lnTo>
                        <a:pt x="262" y="516"/>
                      </a:lnTo>
                      <a:lnTo>
                        <a:pt x="258" y="510"/>
                      </a:lnTo>
                      <a:lnTo>
                        <a:pt x="248" y="524"/>
                      </a:lnTo>
                      <a:lnTo>
                        <a:pt x="236" y="538"/>
                      </a:lnTo>
                      <a:lnTo>
                        <a:pt x="228" y="538"/>
                      </a:lnTo>
                      <a:lnTo>
                        <a:pt x="215" y="555"/>
                      </a:lnTo>
                      <a:lnTo>
                        <a:pt x="197" y="555"/>
                      </a:lnTo>
                      <a:lnTo>
                        <a:pt x="183" y="560"/>
                      </a:lnTo>
                      <a:lnTo>
                        <a:pt x="166" y="569"/>
                      </a:lnTo>
                      <a:lnTo>
                        <a:pt x="158" y="580"/>
                      </a:lnTo>
                      <a:lnTo>
                        <a:pt x="152" y="577"/>
                      </a:lnTo>
                      <a:lnTo>
                        <a:pt x="146" y="588"/>
                      </a:lnTo>
                      <a:lnTo>
                        <a:pt x="137" y="591"/>
                      </a:lnTo>
                      <a:lnTo>
                        <a:pt x="127" y="605"/>
                      </a:lnTo>
                      <a:lnTo>
                        <a:pt x="94" y="605"/>
                      </a:lnTo>
                      <a:lnTo>
                        <a:pt x="80" y="585"/>
                      </a:lnTo>
                      <a:lnTo>
                        <a:pt x="78" y="577"/>
                      </a:lnTo>
                      <a:lnTo>
                        <a:pt x="74" y="585"/>
                      </a:lnTo>
                      <a:lnTo>
                        <a:pt x="68" y="571"/>
                      </a:lnTo>
                      <a:lnTo>
                        <a:pt x="70" y="535"/>
                      </a:lnTo>
                      <a:lnTo>
                        <a:pt x="74" y="513"/>
                      </a:lnTo>
                      <a:lnTo>
                        <a:pt x="68" y="496"/>
                      </a:lnTo>
                      <a:lnTo>
                        <a:pt x="62" y="479"/>
                      </a:lnTo>
                      <a:lnTo>
                        <a:pt x="59" y="460"/>
                      </a:lnTo>
                      <a:lnTo>
                        <a:pt x="49" y="452"/>
                      </a:lnTo>
                      <a:lnTo>
                        <a:pt x="47" y="449"/>
                      </a:lnTo>
                      <a:lnTo>
                        <a:pt x="45" y="440"/>
                      </a:lnTo>
                      <a:lnTo>
                        <a:pt x="31" y="415"/>
                      </a:lnTo>
                      <a:lnTo>
                        <a:pt x="12" y="354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9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31" y="215"/>
                      </a:lnTo>
                      <a:lnTo>
                        <a:pt x="53" y="217"/>
                      </a:lnTo>
                      <a:lnTo>
                        <a:pt x="57" y="223"/>
                      </a:lnTo>
                      <a:lnTo>
                        <a:pt x="86" y="223"/>
                      </a:lnTo>
                      <a:lnTo>
                        <a:pt x="88" y="215"/>
                      </a:lnTo>
                      <a:lnTo>
                        <a:pt x="94" y="217"/>
                      </a:lnTo>
                      <a:lnTo>
                        <a:pt x="103" y="209"/>
                      </a:lnTo>
                      <a:lnTo>
                        <a:pt x="109" y="212"/>
                      </a:lnTo>
                      <a:lnTo>
                        <a:pt x="115" y="206"/>
                      </a:lnTo>
                      <a:lnTo>
                        <a:pt x="113" y="198"/>
                      </a:lnTo>
                      <a:lnTo>
                        <a:pt x="119" y="178"/>
                      </a:lnTo>
                      <a:lnTo>
                        <a:pt x="127" y="170"/>
                      </a:lnTo>
                      <a:lnTo>
                        <a:pt x="123" y="164"/>
                      </a:lnTo>
                      <a:lnTo>
                        <a:pt x="127" y="159"/>
                      </a:lnTo>
                      <a:lnTo>
                        <a:pt x="123" y="151"/>
                      </a:lnTo>
                      <a:lnTo>
                        <a:pt x="135" y="137"/>
                      </a:lnTo>
                      <a:lnTo>
                        <a:pt x="154" y="134"/>
                      </a:lnTo>
                      <a:lnTo>
                        <a:pt x="172" y="100"/>
                      </a:lnTo>
                      <a:lnTo>
                        <a:pt x="195" y="72"/>
                      </a:lnTo>
                      <a:lnTo>
                        <a:pt x="205" y="70"/>
                      </a:lnTo>
                      <a:lnTo>
                        <a:pt x="211" y="64"/>
                      </a:lnTo>
                      <a:lnTo>
                        <a:pt x="221" y="64"/>
                      </a:lnTo>
                      <a:lnTo>
                        <a:pt x="240" y="86"/>
                      </a:lnTo>
                      <a:lnTo>
                        <a:pt x="246" y="89"/>
                      </a:lnTo>
                      <a:lnTo>
                        <a:pt x="252" y="78"/>
                      </a:lnTo>
                      <a:lnTo>
                        <a:pt x="265" y="64"/>
                      </a:lnTo>
                      <a:lnTo>
                        <a:pt x="273" y="61"/>
                      </a:lnTo>
                      <a:lnTo>
                        <a:pt x="281" y="39"/>
                      </a:lnTo>
                      <a:lnTo>
                        <a:pt x="289" y="36"/>
                      </a:lnTo>
                      <a:lnTo>
                        <a:pt x="299" y="28"/>
                      </a:lnTo>
                      <a:lnTo>
                        <a:pt x="310" y="20"/>
                      </a:lnTo>
                      <a:lnTo>
                        <a:pt x="320" y="20"/>
                      </a:lnTo>
                      <a:lnTo>
                        <a:pt x="328" y="8"/>
                      </a:lnTo>
                      <a:lnTo>
                        <a:pt x="340" y="8"/>
                      </a:lnTo>
                      <a:lnTo>
                        <a:pt x="355" y="8"/>
                      </a:lnTo>
                      <a:lnTo>
                        <a:pt x="373" y="14"/>
                      </a:lnTo>
                      <a:lnTo>
                        <a:pt x="386" y="25"/>
                      </a:lnTo>
                      <a:lnTo>
                        <a:pt x="388" y="33"/>
                      </a:lnTo>
                      <a:lnTo>
                        <a:pt x="390" y="39"/>
                      </a:lnTo>
                      <a:lnTo>
                        <a:pt x="392" y="53"/>
                      </a:lnTo>
                      <a:lnTo>
                        <a:pt x="390" y="59"/>
                      </a:lnTo>
                      <a:lnTo>
                        <a:pt x="390" y="70"/>
                      </a:lnTo>
                      <a:lnTo>
                        <a:pt x="388" y="78"/>
                      </a:lnTo>
                      <a:lnTo>
                        <a:pt x="418" y="109"/>
                      </a:lnTo>
                      <a:lnTo>
                        <a:pt x="429" y="125"/>
                      </a:lnTo>
                      <a:lnTo>
                        <a:pt x="441" y="131"/>
                      </a:lnTo>
                      <a:lnTo>
                        <a:pt x="453" y="139"/>
                      </a:lnTo>
                      <a:lnTo>
                        <a:pt x="461" y="142"/>
                      </a:lnTo>
                      <a:lnTo>
                        <a:pt x="474" y="134"/>
                      </a:lnTo>
                      <a:lnTo>
                        <a:pt x="484" y="109"/>
                      </a:lnTo>
                      <a:lnTo>
                        <a:pt x="488" y="89"/>
                      </a:lnTo>
                      <a:lnTo>
                        <a:pt x="492" y="53"/>
                      </a:lnTo>
                      <a:lnTo>
                        <a:pt x="496" y="36"/>
                      </a:lnTo>
                      <a:lnTo>
                        <a:pt x="496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131240" y="4270320"/>
                  <a:ext cx="560520" cy="147600"/>
                </a:xfrm>
                <a:custGeom>
                  <a:avLst/>
                  <a:gdLst/>
                  <a:ahLst/>
                  <a:rect l="l" t="t" r="r" b="b"/>
                  <a:pathLst>
                    <a:path w="383" h="93">
                      <a:moveTo>
                        <a:pt x="0" y="0"/>
                      </a:moveTo>
                      <a:lnTo>
                        <a:pt x="29" y="14"/>
                      </a:lnTo>
                      <a:lnTo>
                        <a:pt x="53" y="14"/>
                      </a:lnTo>
                      <a:lnTo>
                        <a:pt x="76" y="14"/>
                      </a:lnTo>
                      <a:lnTo>
                        <a:pt x="92" y="14"/>
                      </a:lnTo>
                      <a:lnTo>
                        <a:pt x="105" y="16"/>
                      </a:lnTo>
                      <a:lnTo>
                        <a:pt x="121" y="24"/>
                      </a:lnTo>
                      <a:lnTo>
                        <a:pt x="129" y="43"/>
                      </a:lnTo>
                      <a:lnTo>
                        <a:pt x="138" y="51"/>
                      </a:lnTo>
                      <a:lnTo>
                        <a:pt x="152" y="49"/>
                      </a:lnTo>
                      <a:lnTo>
                        <a:pt x="168" y="49"/>
                      </a:lnTo>
                      <a:lnTo>
                        <a:pt x="187" y="60"/>
                      </a:lnTo>
                      <a:lnTo>
                        <a:pt x="199" y="65"/>
                      </a:lnTo>
                      <a:lnTo>
                        <a:pt x="207" y="65"/>
                      </a:lnTo>
                      <a:lnTo>
                        <a:pt x="209" y="51"/>
                      </a:lnTo>
                      <a:lnTo>
                        <a:pt x="216" y="43"/>
                      </a:lnTo>
                      <a:lnTo>
                        <a:pt x="240" y="49"/>
                      </a:lnTo>
                      <a:lnTo>
                        <a:pt x="261" y="49"/>
                      </a:lnTo>
                      <a:lnTo>
                        <a:pt x="279" y="49"/>
                      </a:lnTo>
                      <a:lnTo>
                        <a:pt x="294" y="57"/>
                      </a:lnTo>
                      <a:lnTo>
                        <a:pt x="302" y="62"/>
                      </a:lnTo>
                      <a:lnTo>
                        <a:pt x="316" y="60"/>
                      </a:lnTo>
                      <a:lnTo>
                        <a:pt x="327" y="54"/>
                      </a:lnTo>
                      <a:lnTo>
                        <a:pt x="333" y="49"/>
                      </a:lnTo>
                      <a:lnTo>
                        <a:pt x="349" y="49"/>
                      </a:lnTo>
                      <a:lnTo>
                        <a:pt x="359" y="43"/>
                      </a:lnTo>
                      <a:lnTo>
                        <a:pt x="374" y="38"/>
                      </a:lnTo>
                      <a:lnTo>
                        <a:pt x="382" y="38"/>
                      </a:lnTo>
                      <a:lnTo>
                        <a:pt x="380" y="57"/>
                      </a:lnTo>
                      <a:lnTo>
                        <a:pt x="376" y="65"/>
                      </a:lnTo>
                      <a:lnTo>
                        <a:pt x="368" y="73"/>
                      </a:lnTo>
                      <a:lnTo>
                        <a:pt x="359" y="73"/>
                      </a:lnTo>
                      <a:lnTo>
                        <a:pt x="357" y="73"/>
                      </a:lnTo>
                      <a:lnTo>
                        <a:pt x="347" y="76"/>
                      </a:lnTo>
                      <a:lnTo>
                        <a:pt x="339" y="87"/>
                      </a:lnTo>
                      <a:lnTo>
                        <a:pt x="331" y="84"/>
                      </a:lnTo>
                      <a:lnTo>
                        <a:pt x="322" y="78"/>
                      </a:lnTo>
                      <a:lnTo>
                        <a:pt x="314" y="84"/>
                      </a:lnTo>
                      <a:lnTo>
                        <a:pt x="306" y="87"/>
                      </a:lnTo>
                      <a:lnTo>
                        <a:pt x="300" y="87"/>
                      </a:lnTo>
                      <a:lnTo>
                        <a:pt x="294" y="92"/>
                      </a:lnTo>
                      <a:lnTo>
                        <a:pt x="277" y="92"/>
                      </a:lnTo>
                      <a:lnTo>
                        <a:pt x="271" y="84"/>
                      </a:lnTo>
                      <a:lnTo>
                        <a:pt x="263" y="73"/>
                      </a:lnTo>
                      <a:lnTo>
                        <a:pt x="253" y="84"/>
                      </a:lnTo>
                      <a:lnTo>
                        <a:pt x="246" y="92"/>
                      </a:lnTo>
                      <a:lnTo>
                        <a:pt x="238" y="92"/>
                      </a:lnTo>
                      <a:lnTo>
                        <a:pt x="224" y="73"/>
                      </a:lnTo>
                      <a:lnTo>
                        <a:pt x="220" y="76"/>
                      </a:lnTo>
                      <a:lnTo>
                        <a:pt x="212" y="76"/>
                      </a:lnTo>
                      <a:lnTo>
                        <a:pt x="205" y="87"/>
                      </a:lnTo>
                      <a:lnTo>
                        <a:pt x="193" y="84"/>
                      </a:lnTo>
                      <a:lnTo>
                        <a:pt x="181" y="84"/>
                      </a:lnTo>
                      <a:lnTo>
                        <a:pt x="175" y="78"/>
                      </a:lnTo>
                      <a:lnTo>
                        <a:pt x="166" y="73"/>
                      </a:lnTo>
                      <a:lnTo>
                        <a:pt x="154" y="76"/>
                      </a:lnTo>
                      <a:lnTo>
                        <a:pt x="142" y="87"/>
                      </a:lnTo>
                      <a:lnTo>
                        <a:pt x="133" y="84"/>
                      </a:lnTo>
                      <a:lnTo>
                        <a:pt x="121" y="78"/>
                      </a:lnTo>
                      <a:lnTo>
                        <a:pt x="107" y="70"/>
                      </a:lnTo>
                      <a:lnTo>
                        <a:pt x="94" y="70"/>
                      </a:lnTo>
                      <a:lnTo>
                        <a:pt x="70" y="62"/>
                      </a:lnTo>
                      <a:lnTo>
                        <a:pt x="53" y="57"/>
                      </a:lnTo>
                      <a:lnTo>
                        <a:pt x="43" y="54"/>
                      </a:lnTo>
                      <a:lnTo>
                        <a:pt x="27" y="51"/>
                      </a:lnTo>
                      <a:lnTo>
                        <a:pt x="16" y="41"/>
                      </a:lnTo>
                      <a:lnTo>
                        <a:pt x="6" y="38"/>
                      </a:lnTo>
                      <a:lnTo>
                        <a:pt x="2" y="35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437600" y="3976560"/>
                  <a:ext cx="254520" cy="285840"/>
                </a:xfrm>
                <a:custGeom>
                  <a:avLst/>
                  <a:gdLst/>
                  <a:ahLst/>
                  <a:rect l="l" t="t" r="r" b="b"/>
                  <a:pathLst>
                    <a:path w="174" h="180">
                      <a:moveTo>
                        <a:pt x="43" y="0"/>
                      </a:moveTo>
                      <a:lnTo>
                        <a:pt x="84" y="3"/>
                      </a:lnTo>
                      <a:lnTo>
                        <a:pt x="124" y="3"/>
                      </a:lnTo>
                      <a:lnTo>
                        <a:pt x="144" y="0"/>
                      </a:lnTo>
                      <a:lnTo>
                        <a:pt x="173" y="17"/>
                      </a:lnTo>
                      <a:lnTo>
                        <a:pt x="154" y="22"/>
                      </a:lnTo>
                      <a:lnTo>
                        <a:pt x="144" y="30"/>
                      </a:lnTo>
                      <a:lnTo>
                        <a:pt x="138" y="36"/>
                      </a:lnTo>
                      <a:lnTo>
                        <a:pt x="134" y="41"/>
                      </a:lnTo>
                      <a:lnTo>
                        <a:pt x="134" y="47"/>
                      </a:lnTo>
                      <a:lnTo>
                        <a:pt x="134" y="55"/>
                      </a:lnTo>
                      <a:lnTo>
                        <a:pt x="122" y="61"/>
                      </a:lnTo>
                      <a:lnTo>
                        <a:pt x="111" y="61"/>
                      </a:lnTo>
                      <a:lnTo>
                        <a:pt x="107" y="63"/>
                      </a:lnTo>
                      <a:lnTo>
                        <a:pt x="97" y="63"/>
                      </a:lnTo>
                      <a:lnTo>
                        <a:pt x="93" y="55"/>
                      </a:lnTo>
                      <a:lnTo>
                        <a:pt x="84" y="44"/>
                      </a:lnTo>
                      <a:lnTo>
                        <a:pt x="76" y="36"/>
                      </a:lnTo>
                      <a:lnTo>
                        <a:pt x="60" y="36"/>
                      </a:lnTo>
                      <a:lnTo>
                        <a:pt x="56" y="36"/>
                      </a:lnTo>
                      <a:lnTo>
                        <a:pt x="51" y="50"/>
                      </a:lnTo>
                      <a:lnTo>
                        <a:pt x="54" y="63"/>
                      </a:lnTo>
                      <a:lnTo>
                        <a:pt x="54" y="72"/>
                      </a:lnTo>
                      <a:lnTo>
                        <a:pt x="56" y="80"/>
                      </a:lnTo>
                      <a:lnTo>
                        <a:pt x="64" y="77"/>
                      </a:lnTo>
                      <a:lnTo>
                        <a:pt x="76" y="69"/>
                      </a:lnTo>
                      <a:lnTo>
                        <a:pt x="84" y="69"/>
                      </a:lnTo>
                      <a:lnTo>
                        <a:pt x="91" y="74"/>
                      </a:lnTo>
                      <a:lnTo>
                        <a:pt x="91" y="80"/>
                      </a:lnTo>
                      <a:lnTo>
                        <a:pt x="87" y="91"/>
                      </a:lnTo>
                      <a:lnTo>
                        <a:pt x="84" y="96"/>
                      </a:lnTo>
                      <a:lnTo>
                        <a:pt x="84" y="102"/>
                      </a:lnTo>
                      <a:lnTo>
                        <a:pt x="82" y="110"/>
                      </a:lnTo>
                      <a:lnTo>
                        <a:pt x="87" y="118"/>
                      </a:lnTo>
                      <a:lnTo>
                        <a:pt x="95" y="129"/>
                      </a:lnTo>
                      <a:lnTo>
                        <a:pt x="97" y="127"/>
                      </a:lnTo>
                      <a:lnTo>
                        <a:pt x="97" y="138"/>
                      </a:lnTo>
                      <a:lnTo>
                        <a:pt x="93" y="146"/>
                      </a:lnTo>
                      <a:lnTo>
                        <a:pt x="89" y="154"/>
                      </a:lnTo>
                      <a:lnTo>
                        <a:pt x="87" y="168"/>
                      </a:lnTo>
                      <a:lnTo>
                        <a:pt x="78" y="173"/>
                      </a:lnTo>
                      <a:lnTo>
                        <a:pt x="72" y="173"/>
                      </a:lnTo>
                      <a:lnTo>
                        <a:pt x="66" y="173"/>
                      </a:lnTo>
                      <a:lnTo>
                        <a:pt x="66" y="162"/>
                      </a:lnTo>
                      <a:lnTo>
                        <a:pt x="64" y="143"/>
                      </a:lnTo>
                      <a:lnTo>
                        <a:pt x="58" y="138"/>
                      </a:lnTo>
                      <a:lnTo>
                        <a:pt x="56" y="129"/>
                      </a:lnTo>
                      <a:lnTo>
                        <a:pt x="58" y="113"/>
                      </a:lnTo>
                      <a:lnTo>
                        <a:pt x="51" y="107"/>
                      </a:lnTo>
                      <a:lnTo>
                        <a:pt x="37" y="113"/>
                      </a:lnTo>
                      <a:lnTo>
                        <a:pt x="31" y="107"/>
                      </a:lnTo>
                      <a:lnTo>
                        <a:pt x="25" y="116"/>
                      </a:lnTo>
                      <a:lnTo>
                        <a:pt x="31" y="121"/>
                      </a:lnTo>
                      <a:lnTo>
                        <a:pt x="41" y="127"/>
                      </a:lnTo>
                      <a:lnTo>
                        <a:pt x="43" y="132"/>
                      </a:lnTo>
                      <a:lnTo>
                        <a:pt x="49" y="143"/>
                      </a:lnTo>
                      <a:lnTo>
                        <a:pt x="49" y="151"/>
                      </a:lnTo>
                      <a:lnTo>
                        <a:pt x="43" y="165"/>
                      </a:lnTo>
                      <a:lnTo>
                        <a:pt x="35" y="176"/>
                      </a:lnTo>
                      <a:lnTo>
                        <a:pt x="31" y="179"/>
                      </a:lnTo>
                      <a:lnTo>
                        <a:pt x="31" y="171"/>
                      </a:lnTo>
                      <a:lnTo>
                        <a:pt x="31" y="162"/>
                      </a:lnTo>
                      <a:lnTo>
                        <a:pt x="33" y="151"/>
                      </a:lnTo>
                      <a:lnTo>
                        <a:pt x="23" y="143"/>
                      </a:lnTo>
                      <a:lnTo>
                        <a:pt x="12" y="135"/>
                      </a:lnTo>
                      <a:lnTo>
                        <a:pt x="10" y="127"/>
                      </a:lnTo>
                      <a:lnTo>
                        <a:pt x="0" y="121"/>
                      </a:lnTo>
                      <a:lnTo>
                        <a:pt x="2" y="107"/>
                      </a:lnTo>
                      <a:lnTo>
                        <a:pt x="10" y="99"/>
                      </a:lnTo>
                      <a:lnTo>
                        <a:pt x="16" y="85"/>
                      </a:lnTo>
                      <a:lnTo>
                        <a:pt x="23" y="72"/>
                      </a:lnTo>
                      <a:lnTo>
                        <a:pt x="25" y="58"/>
                      </a:lnTo>
                      <a:lnTo>
                        <a:pt x="23" y="44"/>
                      </a:lnTo>
                      <a:lnTo>
                        <a:pt x="27" y="39"/>
                      </a:lnTo>
                      <a:lnTo>
                        <a:pt x="31" y="33"/>
                      </a:lnTo>
                      <a:lnTo>
                        <a:pt x="25" y="22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172640" y="3848040"/>
                  <a:ext cx="279360" cy="393840"/>
                </a:xfrm>
                <a:custGeom>
                  <a:avLst/>
                  <a:gdLst/>
                  <a:ahLst/>
                  <a:rect l="l" t="t" r="r" b="b"/>
                  <a:pathLst>
                    <a:path w="191" h="248">
                      <a:moveTo>
                        <a:pt x="0" y="82"/>
                      </a:moveTo>
                      <a:lnTo>
                        <a:pt x="39" y="44"/>
                      </a:lnTo>
                      <a:lnTo>
                        <a:pt x="59" y="27"/>
                      </a:lnTo>
                      <a:lnTo>
                        <a:pt x="69" y="14"/>
                      </a:lnTo>
                      <a:lnTo>
                        <a:pt x="100" y="0"/>
                      </a:lnTo>
                      <a:lnTo>
                        <a:pt x="116" y="30"/>
                      </a:lnTo>
                      <a:lnTo>
                        <a:pt x="133" y="16"/>
                      </a:lnTo>
                      <a:lnTo>
                        <a:pt x="139" y="8"/>
                      </a:lnTo>
                      <a:lnTo>
                        <a:pt x="153" y="0"/>
                      </a:lnTo>
                      <a:lnTo>
                        <a:pt x="161" y="0"/>
                      </a:lnTo>
                      <a:lnTo>
                        <a:pt x="163" y="11"/>
                      </a:lnTo>
                      <a:lnTo>
                        <a:pt x="163" y="19"/>
                      </a:lnTo>
                      <a:lnTo>
                        <a:pt x="155" y="33"/>
                      </a:lnTo>
                      <a:lnTo>
                        <a:pt x="155" y="41"/>
                      </a:lnTo>
                      <a:lnTo>
                        <a:pt x="178" y="77"/>
                      </a:lnTo>
                      <a:lnTo>
                        <a:pt x="182" y="99"/>
                      </a:lnTo>
                      <a:lnTo>
                        <a:pt x="188" y="99"/>
                      </a:lnTo>
                      <a:lnTo>
                        <a:pt x="190" y="110"/>
                      </a:lnTo>
                      <a:lnTo>
                        <a:pt x="182" y="121"/>
                      </a:lnTo>
                      <a:lnTo>
                        <a:pt x="176" y="115"/>
                      </a:lnTo>
                      <a:lnTo>
                        <a:pt x="161" y="124"/>
                      </a:lnTo>
                      <a:lnTo>
                        <a:pt x="163" y="145"/>
                      </a:lnTo>
                      <a:lnTo>
                        <a:pt x="147" y="159"/>
                      </a:lnTo>
                      <a:lnTo>
                        <a:pt x="147" y="195"/>
                      </a:lnTo>
                      <a:lnTo>
                        <a:pt x="147" y="220"/>
                      </a:lnTo>
                      <a:lnTo>
                        <a:pt x="139" y="231"/>
                      </a:lnTo>
                      <a:lnTo>
                        <a:pt x="133" y="247"/>
                      </a:lnTo>
                      <a:lnTo>
                        <a:pt x="125" y="244"/>
                      </a:lnTo>
                      <a:lnTo>
                        <a:pt x="112" y="236"/>
                      </a:lnTo>
                      <a:lnTo>
                        <a:pt x="102" y="228"/>
                      </a:lnTo>
                      <a:lnTo>
                        <a:pt x="94" y="214"/>
                      </a:lnTo>
                      <a:lnTo>
                        <a:pt x="65" y="217"/>
                      </a:lnTo>
                      <a:lnTo>
                        <a:pt x="41" y="209"/>
                      </a:lnTo>
                      <a:lnTo>
                        <a:pt x="25" y="187"/>
                      </a:lnTo>
                      <a:lnTo>
                        <a:pt x="14" y="170"/>
                      </a:lnTo>
                      <a:lnTo>
                        <a:pt x="6" y="156"/>
                      </a:lnTo>
                      <a:lnTo>
                        <a:pt x="6" y="129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767000" y="4070160"/>
                  <a:ext cx="537480" cy="374760"/>
                </a:xfrm>
                <a:custGeom>
                  <a:avLst/>
                  <a:gdLst/>
                  <a:ahLst/>
                  <a:rect l="l" t="t" r="r" b="b"/>
                  <a:pathLst>
                    <a:path w="367" h="236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60" y="6"/>
                      </a:lnTo>
                      <a:lnTo>
                        <a:pt x="72" y="39"/>
                      </a:lnTo>
                      <a:lnTo>
                        <a:pt x="74" y="50"/>
                      </a:lnTo>
                      <a:lnTo>
                        <a:pt x="78" y="56"/>
                      </a:lnTo>
                      <a:lnTo>
                        <a:pt x="86" y="48"/>
                      </a:lnTo>
                      <a:lnTo>
                        <a:pt x="101" y="48"/>
                      </a:lnTo>
                      <a:lnTo>
                        <a:pt x="109" y="56"/>
                      </a:lnTo>
                      <a:lnTo>
                        <a:pt x="113" y="53"/>
                      </a:lnTo>
                      <a:lnTo>
                        <a:pt x="125" y="39"/>
                      </a:lnTo>
                      <a:lnTo>
                        <a:pt x="127" y="39"/>
                      </a:lnTo>
                      <a:lnTo>
                        <a:pt x="138" y="31"/>
                      </a:lnTo>
                      <a:lnTo>
                        <a:pt x="148" y="31"/>
                      </a:lnTo>
                      <a:lnTo>
                        <a:pt x="181" y="48"/>
                      </a:lnTo>
                      <a:lnTo>
                        <a:pt x="195" y="48"/>
                      </a:lnTo>
                      <a:lnTo>
                        <a:pt x="210" y="62"/>
                      </a:lnTo>
                      <a:lnTo>
                        <a:pt x="224" y="67"/>
                      </a:lnTo>
                      <a:lnTo>
                        <a:pt x="236" y="78"/>
                      </a:lnTo>
                      <a:lnTo>
                        <a:pt x="247" y="81"/>
                      </a:lnTo>
                      <a:lnTo>
                        <a:pt x="273" y="92"/>
                      </a:lnTo>
                      <a:lnTo>
                        <a:pt x="286" y="112"/>
                      </a:lnTo>
                      <a:lnTo>
                        <a:pt x="292" y="123"/>
                      </a:lnTo>
                      <a:lnTo>
                        <a:pt x="290" y="129"/>
                      </a:lnTo>
                      <a:lnTo>
                        <a:pt x="300" y="140"/>
                      </a:lnTo>
                      <a:lnTo>
                        <a:pt x="308" y="143"/>
                      </a:lnTo>
                      <a:lnTo>
                        <a:pt x="313" y="145"/>
                      </a:lnTo>
                      <a:lnTo>
                        <a:pt x="323" y="148"/>
                      </a:lnTo>
                      <a:lnTo>
                        <a:pt x="339" y="165"/>
                      </a:lnTo>
                      <a:lnTo>
                        <a:pt x="339" y="176"/>
                      </a:lnTo>
                      <a:lnTo>
                        <a:pt x="350" y="187"/>
                      </a:lnTo>
                      <a:lnTo>
                        <a:pt x="352" y="193"/>
                      </a:lnTo>
                      <a:lnTo>
                        <a:pt x="366" y="215"/>
                      </a:lnTo>
                      <a:lnTo>
                        <a:pt x="354" y="235"/>
                      </a:lnTo>
                      <a:lnTo>
                        <a:pt x="350" y="235"/>
                      </a:lnTo>
                      <a:lnTo>
                        <a:pt x="337" y="235"/>
                      </a:lnTo>
                      <a:lnTo>
                        <a:pt x="333" y="227"/>
                      </a:lnTo>
                      <a:lnTo>
                        <a:pt x="327" y="227"/>
                      </a:lnTo>
                      <a:lnTo>
                        <a:pt x="321" y="229"/>
                      </a:lnTo>
                      <a:lnTo>
                        <a:pt x="290" y="185"/>
                      </a:lnTo>
                      <a:lnTo>
                        <a:pt x="271" y="187"/>
                      </a:lnTo>
                      <a:lnTo>
                        <a:pt x="253" y="185"/>
                      </a:lnTo>
                      <a:lnTo>
                        <a:pt x="247" y="190"/>
                      </a:lnTo>
                      <a:lnTo>
                        <a:pt x="241" y="199"/>
                      </a:lnTo>
                      <a:lnTo>
                        <a:pt x="239" y="193"/>
                      </a:lnTo>
                      <a:lnTo>
                        <a:pt x="230" y="207"/>
                      </a:lnTo>
                      <a:lnTo>
                        <a:pt x="218" y="227"/>
                      </a:lnTo>
                      <a:lnTo>
                        <a:pt x="208" y="218"/>
                      </a:lnTo>
                      <a:lnTo>
                        <a:pt x="195" y="213"/>
                      </a:lnTo>
                      <a:lnTo>
                        <a:pt x="187" y="213"/>
                      </a:lnTo>
                      <a:lnTo>
                        <a:pt x="175" y="207"/>
                      </a:lnTo>
                      <a:lnTo>
                        <a:pt x="169" y="213"/>
                      </a:lnTo>
                      <a:lnTo>
                        <a:pt x="160" y="185"/>
                      </a:lnTo>
                      <a:lnTo>
                        <a:pt x="146" y="159"/>
                      </a:lnTo>
                      <a:lnTo>
                        <a:pt x="132" y="129"/>
                      </a:lnTo>
                      <a:lnTo>
                        <a:pt x="119" y="112"/>
                      </a:lnTo>
                      <a:lnTo>
                        <a:pt x="109" y="95"/>
                      </a:lnTo>
                      <a:lnTo>
                        <a:pt x="86" y="95"/>
                      </a:lnTo>
                      <a:lnTo>
                        <a:pt x="66" y="104"/>
                      </a:lnTo>
                      <a:lnTo>
                        <a:pt x="56" y="92"/>
                      </a:lnTo>
                      <a:lnTo>
                        <a:pt x="35" y="84"/>
                      </a:lnTo>
                      <a:lnTo>
                        <a:pt x="25" y="76"/>
                      </a:lnTo>
                      <a:lnTo>
                        <a:pt x="25" y="42"/>
                      </a:lnTo>
                      <a:lnTo>
                        <a:pt x="27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75920" y="3808440"/>
                  <a:ext cx="323280" cy="490320"/>
                </a:xfrm>
                <a:custGeom>
                  <a:avLst/>
                  <a:gdLst/>
                  <a:ahLst/>
                  <a:rect l="l" t="t" r="r" b="b"/>
                  <a:pathLst>
                    <a:path w="221" h="309">
                      <a:moveTo>
                        <a:pt x="0" y="8"/>
                      </a:moveTo>
                      <a:lnTo>
                        <a:pt x="22" y="0"/>
                      </a:lnTo>
                      <a:lnTo>
                        <a:pt x="49" y="14"/>
                      </a:lnTo>
                      <a:lnTo>
                        <a:pt x="53" y="28"/>
                      </a:lnTo>
                      <a:lnTo>
                        <a:pt x="53" y="33"/>
                      </a:lnTo>
                      <a:lnTo>
                        <a:pt x="59" y="36"/>
                      </a:lnTo>
                      <a:lnTo>
                        <a:pt x="59" y="42"/>
                      </a:lnTo>
                      <a:lnTo>
                        <a:pt x="67" y="44"/>
                      </a:lnTo>
                      <a:lnTo>
                        <a:pt x="67" y="55"/>
                      </a:lnTo>
                      <a:lnTo>
                        <a:pt x="94" y="89"/>
                      </a:lnTo>
                      <a:lnTo>
                        <a:pt x="98" y="89"/>
                      </a:lnTo>
                      <a:lnTo>
                        <a:pt x="102" y="97"/>
                      </a:lnTo>
                      <a:lnTo>
                        <a:pt x="106" y="105"/>
                      </a:lnTo>
                      <a:lnTo>
                        <a:pt x="110" y="105"/>
                      </a:lnTo>
                      <a:lnTo>
                        <a:pt x="128" y="117"/>
                      </a:lnTo>
                      <a:lnTo>
                        <a:pt x="163" y="122"/>
                      </a:lnTo>
                      <a:lnTo>
                        <a:pt x="165" y="161"/>
                      </a:lnTo>
                      <a:lnTo>
                        <a:pt x="173" y="166"/>
                      </a:lnTo>
                      <a:lnTo>
                        <a:pt x="171" y="180"/>
                      </a:lnTo>
                      <a:lnTo>
                        <a:pt x="191" y="200"/>
                      </a:lnTo>
                      <a:lnTo>
                        <a:pt x="210" y="208"/>
                      </a:lnTo>
                      <a:lnTo>
                        <a:pt x="210" y="272"/>
                      </a:lnTo>
                      <a:lnTo>
                        <a:pt x="220" y="297"/>
                      </a:lnTo>
                      <a:lnTo>
                        <a:pt x="214" y="305"/>
                      </a:lnTo>
                      <a:lnTo>
                        <a:pt x="202" y="308"/>
                      </a:lnTo>
                      <a:lnTo>
                        <a:pt x="200" y="286"/>
                      </a:lnTo>
                      <a:lnTo>
                        <a:pt x="179" y="308"/>
                      </a:lnTo>
                      <a:lnTo>
                        <a:pt x="165" y="275"/>
                      </a:lnTo>
                      <a:lnTo>
                        <a:pt x="157" y="253"/>
                      </a:lnTo>
                      <a:lnTo>
                        <a:pt x="132" y="222"/>
                      </a:lnTo>
                      <a:lnTo>
                        <a:pt x="126" y="222"/>
                      </a:lnTo>
                      <a:lnTo>
                        <a:pt x="104" y="205"/>
                      </a:lnTo>
                      <a:lnTo>
                        <a:pt x="100" y="189"/>
                      </a:lnTo>
                      <a:lnTo>
                        <a:pt x="100" y="178"/>
                      </a:lnTo>
                      <a:lnTo>
                        <a:pt x="81" y="133"/>
                      </a:lnTo>
                      <a:lnTo>
                        <a:pt x="73" y="105"/>
                      </a:lnTo>
                      <a:lnTo>
                        <a:pt x="51" y="80"/>
                      </a:lnTo>
                      <a:lnTo>
                        <a:pt x="20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349400" y="3279600"/>
                  <a:ext cx="317520" cy="540000"/>
                </a:xfrm>
                <a:custGeom>
                  <a:avLst/>
                  <a:gdLst/>
                  <a:ahLst/>
                  <a:rect l="l" t="t" r="r" b="b"/>
                  <a:pathLst>
                    <a:path w="217" h="340">
                      <a:moveTo>
                        <a:pt x="15" y="0"/>
                      </a:moveTo>
                      <a:lnTo>
                        <a:pt x="33" y="0"/>
                      </a:lnTo>
                      <a:lnTo>
                        <a:pt x="54" y="36"/>
                      </a:lnTo>
                      <a:lnTo>
                        <a:pt x="50" y="69"/>
                      </a:lnTo>
                      <a:lnTo>
                        <a:pt x="62" y="81"/>
                      </a:lnTo>
                      <a:lnTo>
                        <a:pt x="69" y="103"/>
                      </a:lnTo>
                      <a:lnTo>
                        <a:pt x="83" y="114"/>
                      </a:lnTo>
                      <a:lnTo>
                        <a:pt x="100" y="117"/>
                      </a:lnTo>
                      <a:lnTo>
                        <a:pt x="125" y="133"/>
                      </a:lnTo>
                      <a:lnTo>
                        <a:pt x="141" y="153"/>
                      </a:lnTo>
                      <a:lnTo>
                        <a:pt x="145" y="153"/>
                      </a:lnTo>
                      <a:lnTo>
                        <a:pt x="166" y="170"/>
                      </a:lnTo>
                      <a:lnTo>
                        <a:pt x="166" y="211"/>
                      </a:lnTo>
                      <a:lnTo>
                        <a:pt x="172" y="231"/>
                      </a:lnTo>
                      <a:lnTo>
                        <a:pt x="179" y="242"/>
                      </a:lnTo>
                      <a:lnTo>
                        <a:pt x="187" y="253"/>
                      </a:lnTo>
                      <a:lnTo>
                        <a:pt x="195" y="267"/>
                      </a:lnTo>
                      <a:lnTo>
                        <a:pt x="199" y="283"/>
                      </a:lnTo>
                      <a:lnTo>
                        <a:pt x="216" y="297"/>
                      </a:lnTo>
                      <a:lnTo>
                        <a:pt x="214" y="314"/>
                      </a:lnTo>
                      <a:lnTo>
                        <a:pt x="197" y="317"/>
                      </a:lnTo>
                      <a:lnTo>
                        <a:pt x="191" y="303"/>
                      </a:lnTo>
                      <a:lnTo>
                        <a:pt x="179" y="303"/>
                      </a:lnTo>
                      <a:lnTo>
                        <a:pt x="179" y="339"/>
                      </a:lnTo>
                      <a:lnTo>
                        <a:pt x="168" y="339"/>
                      </a:lnTo>
                      <a:lnTo>
                        <a:pt x="156" y="322"/>
                      </a:lnTo>
                      <a:lnTo>
                        <a:pt x="147" y="314"/>
                      </a:lnTo>
                      <a:lnTo>
                        <a:pt x="147" y="295"/>
                      </a:lnTo>
                      <a:lnTo>
                        <a:pt x="129" y="295"/>
                      </a:lnTo>
                      <a:lnTo>
                        <a:pt x="123" y="314"/>
                      </a:lnTo>
                      <a:lnTo>
                        <a:pt x="116" y="295"/>
                      </a:lnTo>
                      <a:lnTo>
                        <a:pt x="114" y="275"/>
                      </a:lnTo>
                      <a:lnTo>
                        <a:pt x="137" y="267"/>
                      </a:lnTo>
                      <a:lnTo>
                        <a:pt x="150" y="272"/>
                      </a:lnTo>
                      <a:lnTo>
                        <a:pt x="152" y="239"/>
                      </a:lnTo>
                      <a:lnTo>
                        <a:pt x="139" y="228"/>
                      </a:lnTo>
                      <a:lnTo>
                        <a:pt x="131" y="200"/>
                      </a:lnTo>
                      <a:lnTo>
                        <a:pt x="125" y="167"/>
                      </a:lnTo>
                      <a:lnTo>
                        <a:pt x="102" y="156"/>
                      </a:lnTo>
                      <a:lnTo>
                        <a:pt x="91" y="142"/>
                      </a:lnTo>
                      <a:lnTo>
                        <a:pt x="73" y="133"/>
                      </a:lnTo>
                      <a:lnTo>
                        <a:pt x="83" y="164"/>
                      </a:lnTo>
                      <a:lnTo>
                        <a:pt x="62" y="178"/>
                      </a:lnTo>
                      <a:lnTo>
                        <a:pt x="50" y="144"/>
                      </a:lnTo>
                      <a:lnTo>
                        <a:pt x="39" y="136"/>
                      </a:lnTo>
                      <a:lnTo>
                        <a:pt x="39" y="117"/>
                      </a:lnTo>
                      <a:lnTo>
                        <a:pt x="25" y="94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7" y="61"/>
                      </a:lnTo>
                      <a:lnTo>
                        <a:pt x="21" y="47"/>
                      </a:lnTo>
                      <a:lnTo>
                        <a:pt x="17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79560" y="2363760"/>
                  <a:ext cx="232560" cy="458640"/>
                </a:xfrm>
                <a:custGeom>
                  <a:avLst/>
                  <a:gdLst/>
                  <a:ahLst/>
                  <a:rect l="l" t="t" r="r" b="b"/>
                  <a:pathLst>
                    <a:path w="159" h="289">
                      <a:moveTo>
                        <a:pt x="33" y="0"/>
                      </a:moveTo>
                      <a:lnTo>
                        <a:pt x="64" y="20"/>
                      </a:lnTo>
                      <a:lnTo>
                        <a:pt x="82" y="36"/>
                      </a:lnTo>
                      <a:lnTo>
                        <a:pt x="94" y="62"/>
                      </a:lnTo>
                      <a:lnTo>
                        <a:pt x="105" y="62"/>
                      </a:lnTo>
                      <a:lnTo>
                        <a:pt x="103" y="78"/>
                      </a:lnTo>
                      <a:lnTo>
                        <a:pt x="115" y="89"/>
                      </a:lnTo>
                      <a:lnTo>
                        <a:pt x="123" y="106"/>
                      </a:lnTo>
                      <a:lnTo>
                        <a:pt x="144" y="140"/>
                      </a:lnTo>
                      <a:lnTo>
                        <a:pt x="158" y="179"/>
                      </a:lnTo>
                      <a:lnTo>
                        <a:pt x="131" y="176"/>
                      </a:lnTo>
                      <a:lnTo>
                        <a:pt x="111" y="171"/>
                      </a:lnTo>
                      <a:lnTo>
                        <a:pt x="125" y="199"/>
                      </a:lnTo>
                      <a:lnTo>
                        <a:pt x="125" y="215"/>
                      </a:lnTo>
                      <a:lnTo>
                        <a:pt x="125" y="232"/>
                      </a:lnTo>
                      <a:lnTo>
                        <a:pt x="117" y="224"/>
                      </a:lnTo>
                      <a:lnTo>
                        <a:pt x="107" y="210"/>
                      </a:lnTo>
                      <a:lnTo>
                        <a:pt x="88" y="193"/>
                      </a:lnTo>
                      <a:lnTo>
                        <a:pt x="78" y="185"/>
                      </a:lnTo>
                      <a:lnTo>
                        <a:pt x="62" y="193"/>
                      </a:lnTo>
                      <a:lnTo>
                        <a:pt x="51" y="199"/>
                      </a:lnTo>
                      <a:lnTo>
                        <a:pt x="57" y="213"/>
                      </a:lnTo>
                      <a:lnTo>
                        <a:pt x="74" y="224"/>
                      </a:lnTo>
                      <a:lnTo>
                        <a:pt x="90" y="235"/>
                      </a:lnTo>
                      <a:lnTo>
                        <a:pt x="96" y="254"/>
                      </a:lnTo>
                      <a:lnTo>
                        <a:pt x="94" y="280"/>
                      </a:lnTo>
                      <a:lnTo>
                        <a:pt x="94" y="288"/>
                      </a:lnTo>
                      <a:lnTo>
                        <a:pt x="88" y="288"/>
                      </a:lnTo>
                      <a:lnTo>
                        <a:pt x="78" y="280"/>
                      </a:lnTo>
                      <a:lnTo>
                        <a:pt x="74" y="277"/>
                      </a:lnTo>
                      <a:lnTo>
                        <a:pt x="68" y="271"/>
                      </a:lnTo>
                      <a:lnTo>
                        <a:pt x="62" y="285"/>
                      </a:lnTo>
                      <a:lnTo>
                        <a:pt x="51" y="288"/>
                      </a:lnTo>
                      <a:lnTo>
                        <a:pt x="43" y="277"/>
                      </a:lnTo>
                      <a:lnTo>
                        <a:pt x="43" y="252"/>
                      </a:lnTo>
                      <a:lnTo>
                        <a:pt x="41" y="238"/>
                      </a:lnTo>
                      <a:lnTo>
                        <a:pt x="31" y="229"/>
                      </a:lnTo>
                      <a:lnTo>
                        <a:pt x="21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6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7" y="129"/>
                      </a:lnTo>
                      <a:lnTo>
                        <a:pt x="37" y="140"/>
                      </a:lnTo>
                      <a:lnTo>
                        <a:pt x="55" y="145"/>
                      </a:lnTo>
                      <a:lnTo>
                        <a:pt x="55" y="126"/>
                      </a:lnTo>
                      <a:lnTo>
                        <a:pt x="47" y="115"/>
                      </a:lnTo>
                      <a:lnTo>
                        <a:pt x="43" y="106"/>
                      </a:lnTo>
                      <a:lnTo>
                        <a:pt x="49" y="106"/>
                      </a:lnTo>
                      <a:lnTo>
                        <a:pt x="53" y="106"/>
                      </a:lnTo>
                      <a:lnTo>
                        <a:pt x="57" y="106"/>
                      </a:lnTo>
                      <a:lnTo>
                        <a:pt x="62" y="106"/>
                      </a:lnTo>
                      <a:lnTo>
                        <a:pt x="68" y="98"/>
                      </a:lnTo>
                      <a:lnTo>
                        <a:pt x="66" y="89"/>
                      </a:lnTo>
                      <a:lnTo>
                        <a:pt x="60" y="70"/>
                      </a:lnTo>
                      <a:lnTo>
                        <a:pt x="47" y="50"/>
                      </a:lnTo>
                      <a:lnTo>
                        <a:pt x="31" y="39"/>
                      </a:lnTo>
                      <a:lnTo>
                        <a:pt x="25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015680" y="1814400"/>
                  <a:ext cx="254520" cy="374760"/>
                </a:xfrm>
                <a:custGeom>
                  <a:avLst/>
                  <a:gdLst/>
                  <a:ahLst/>
                  <a:rect l="l" t="t" r="r" b="b"/>
                  <a:pathLst>
                    <a:path w="174" h="23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3" y="17"/>
                      </a:lnTo>
                      <a:lnTo>
                        <a:pt x="45" y="41"/>
                      </a:lnTo>
                      <a:lnTo>
                        <a:pt x="56" y="69"/>
                      </a:lnTo>
                      <a:lnTo>
                        <a:pt x="72" y="72"/>
                      </a:lnTo>
                      <a:lnTo>
                        <a:pt x="84" y="77"/>
                      </a:lnTo>
                      <a:lnTo>
                        <a:pt x="95" y="88"/>
                      </a:lnTo>
                      <a:lnTo>
                        <a:pt x="107" y="88"/>
                      </a:lnTo>
                      <a:lnTo>
                        <a:pt x="122" y="105"/>
                      </a:lnTo>
                      <a:lnTo>
                        <a:pt x="134" y="119"/>
                      </a:lnTo>
                      <a:lnTo>
                        <a:pt x="148" y="127"/>
                      </a:lnTo>
                      <a:lnTo>
                        <a:pt x="146" y="135"/>
                      </a:lnTo>
                      <a:lnTo>
                        <a:pt x="138" y="141"/>
                      </a:lnTo>
                      <a:lnTo>
                        <a:pt x="130" y="141"/>
                      </a:lnTo>
                      <a:lnTo>
                        <a:pt x="126" y="149"/>
                      </a:lnTo>
                      <a:lnTo>
                        <a:pt x="142" y="166"/>
                      </a:lnTo>
                      <a:lnTo>
                        <a:pt x="154" y="182"/>
                      </a:lnTo>
                      <a:lnTo>
                        <a:pt x="173" y="199"/>
                      </a:lnTo>
                      <a:lnTo>
                        <a:pt x="161" y="218"/>
                      </a:lnTo>
                      <a:lnTo>
                        <a:pt x="150" y="224"/>
                      </a:lnTo>
                      <a:lnTo>
                        <a:pt x="152" y="235"/>
                      </a:lnTo>
                      <a:lnTo>
                        <a:pt x="134" y="235"/>
                      </a:lnTo>
                      <a:lnTo>
                        <a:pt x="128" y="227"/>
                      </a:lnTo>
                      <a:lnTo>
                        <a:pt x="113" y="205"/>
                      </a:lnTo>
                      <a:lnTo>
                        <a:pt x="103" y="185"/>
                      </a:lnTo>
                      <a:lnTo>
                        <a:pt x="87" y="152"/>
                      </a:lnTo>
                      <a:lnTo>
                        <a:pt x="68" y="127"/>
                      </a:lnTo>
                      <a:lnTo>
                        <a:pt x="47" y="91"/>
                      </a:lnTo>
                      <a:lnTo>
                        <a:pt x="35" y="80"/>
                      </a:lnTo>
                      <a:lnTo>
                        <a:pt x="25" y="72"/>
                      </a:lnTo>
                      <a:lnTo>
                        <a:pt x="21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3713760" y="1041480"/>
                <a:ext cx="3692880" cy="4383000"/>
                <a:chOff x="3713760" y="1041480"/>
                <a:chExt cx="3692880" cy="4383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3713760" y="2573280"/>
                  <a:ext cx="1837800" cy="2851200"/>
                </a:xfrm>
                <a:custGeom>
                  <a:avLst/>
                  <a:gdLst/>
                  <a:ahLst/>
                  <a:rect l="l" t="t" r="r" b="b"/>
                  <a:pathLst>
                    <a:path w="1255" h="1796">
                      <a:moveTo>
                        <a:pt x="937" y="215"/>
                      </a:moveTo>
                      <a:lnTo>
                        <a:pt x="958" y="290"/>
                      </a:lnTo>
                      <a:lnTo>
                        <a:pt x="997" y="404"/>
                      </a:lnTo>
                      <a:lnTo>
                        <a:pt x="1075" y="588"/>
                      </a:lnTo>
                      <a:lnTo>
                        <a:pt x="1104" y="610"/>
                      </a:lnTo>
                      <a:lnTo>
                        <a:pt x="1122" y="663"/>
                      </a:lnTo>
                      <a:lnTo>
                        <a:pt x="1184" y="661"/>
                      </a:lnTo>
                      <a:lnTo>
                        <a:pt x="1225" y="644"/>
                      </a:lnTo>
                      <a:lnTo>
                        <a:pt x="1254" y="644"/>
                      </a:lnTo>
                      <a:lnTo>
                        <a:pt x="1252" y="716"/>
                      </a:lnTo>
                      <a:lnTo>
                        <a:pt x="1242" y="755"/>
                      </a:lnTo>
                      <a:lnTo>
                        <a:pt x="1129" y="917"/>
                      </a:lnTo>
                      <a:lnTo>
                        <a:pt x="1026" y="1084"/>
                      </a:lnTo>
                      <a:lnTo>
                        <a:pt x="1028" y="1148"/>
                      </a:lnTo>
                      <a:lnTo>
                        <a:pt x="1057" y="1196"/>
                      </a:lnTo>
                      <a:lnTo>
                        <a:pt x="1042" y="1232"/>
                      </a:lnTo>
                      <a:lnTo>
                        <a:pt x="1050" y="1279"/>
                      </a:lnTo>
                      <a:lnTo>
                        <a:pt x="1042" y="1316"/>
                      </a:lnTo>
                      <a:lnTo>
                        <a:pt x="1018" y="1346"/>
                      </a:lnTo>
                      <a:lnTo>
                        <a:pt x="997" y="1346"/>
                      </a:lnTo>
                      <a:lnTo>
                        <a:pt x="962" y="1399"/>
                      </a:lnTo>
                      <a:lnTo>
                        <a:pt x="931" y="1461"/>
                      </a:lnTo>
                      <a:lnTo>
                        <a:pt x="937" y="1527"/>
                      </a:lnTo>
                      <a:lnTo>
                        <a:pt x="907" y="1558"/>
                      </a:lnTo>
                      <a:lnTo>
                        <a:pt x="878" y="1628"/>
                      </a:lnTo>
                      <a:lnTo>
                        <a:pt x="845" y="1692"/>
                      </a:lnTo>
                      <a:lnTo>
                        <a:pt x="826" y="1717"/>
                      </a:lnTo>
                      <a:lnTo>
                        <a:pt x="810" y="1723"/>
                      </a:lnTo>
                      <a:lnTo>
                        <a:pt x="781" y="1764"/>
                      </a:lnTo>
                      <a:lnTo>
                        <a:pt x="734" y="1789"/>
                      </a:lnTo>
                      <a:lnTo>
                        <a:pt x="674" y="1795"/>
                      </a:lnTo>
                      <a:lnTo>
                        <a:pt x="641" y="1767"/>
                      </a:lnTo>
                      <a:lnTo>
                        <a:pt x="637" y="1739"/>
                      </a:lnTo>
                      <a:lnTo>
                        <a:pt x="631" y="1703"/>
                      </a:lnTo>
                      <a:lnTo>
                        <a:pt x="608" y="1684"/>
                      </a:lnTo>
                      <a:lnTo>
                        <a:pt x="590" y="1614"/>
                      </a:lnTo>
                      <a:lnTo>
                        <a:pt x="584" y="1580"/>
                      </a:lnTo>
                      <a:lnTo>
                        <a:pt x="582" y="1539"/>
                      </a:lnTo>
                      <a:lnTo>
                        <a:pt x="571" y="1508"/>
                      </a:lnTo>
                      <a:lnTo>
                        <a:pt x="569" y="1488"/>
                      </a:lnTo>
                      <a:lnTo>
                        <a:pt x="551" y="1458"/>
                      </a:lnTo>
                      <a:lnTo>
                        <a:pt x="530" y="1433"/>
                      </a:lnTo>
                      <a:lnTo>
                        <a:pt x="516" y="1391"/>
                      </a:lnTo>
                      <a:lnTo>
                        <a:pt x="506" y="1360"/>
                      </a:lnTo>
                      <a:lnTo>
                        <a:pt x="510" y="1310"/>
                      </a:lnTo>
                      <a:lnTo>
                        <a:pt x="541" y="1238"/>
                      </a:lnTo>
                      <a:lnTo>
                        <a:pt x="547" y="1157"/>
                      </a:lnTo>
                      <a:lnTo>
                        <a:pt x="524" y="1065"/>
                      </a:lnTo>
                      <a:lnTo>
                        <a:pt x="491" y="1029"/>
                      </a:lnTo>
                      <a:lnTo>
                        <a:pt x="469" y="978"/>
                      </a:lnTo>
                      <a:lnTo>
                        <a:pt x="477" y="900"/>
                      </a:lnTo>
                      <a:lnTo>
                        <a:pt x="460" y="842"/>
                      </a:lnTo>
                      <a:lnTo>
                        <a:pt x="421" y="836"/>
                      </a:lnTo>
                      <a:lnTo>
                        <a:pt x="380" y="792"/>
                      </a:lnTo>
                      <a:lnTo>
                        <a:pt x="329" y="766"/>
                      </a:lnTo>
                      <a:lnTo>
                        <a:pt x="275" y="806"/>
                      </a:lnTo>
                      <a:lnTo>
                        <a:pt x="136" y="794"/>
                      </a:lnTo>
                      <a:lnTo>
                        <a:pt x="60" y="697"/>
                      </a:lnTo>
                      <a:lnTo>
                        <a:pt x="0" y="566"/>
                      </a:lnTo>
                      <a:lnTo>
                        <a:pt x="10" y="521"/>
                      </a:lnTo>
                      <a:lnTo>
                        <a:pt x="37" y="488"/>
                      </a:lnTo>
                      <a:lnTo>
                        <a:pt x="49" y="396"/>
                      </a:lnTo>
                      <a:lnTo>
                        <a:pt x="68" y="329"/>
                      </a:lnTo>
                      <a:lnTo>
                        <a:pt x="121" y="259"/>
                      </a:lnTo>
                      <a:lnTo>
                        <a:pt x="177" y="229"/>
                      </a:lnTo>
                      <a:lnTo>
                        <a:pt x="228" y="156"/>
                      </a:lnTo>
                      <a:lnTo>
                        <a:pt x="241" y="125"/>
                      </a:lnTo>
                      <a:lnTo>
                        <a:pt x="308" y="47"/>
                      </a:lnTo>
                      <a:lnTo>
                        <a:pt x="352" y="78"/>
                      </a:lnTo>
                      <a:lnTo>
                        <a:pt x="382" y="75"/>
                      </a:lnTo>
                      <a:lnTo>
                        <a:pt x="419" y="33"/>
                      </a:lnTo>
                      <a:lnTo>
                        <a:pt x="463" y="28"/>
                      </a:lnTo>
                      <a:lnTo>
                        <a:pt x="491" y="39"/>
                      </a:lnTo>
                      <a:lnTo>
                        <a:pt x="518" y="6"/>
                      </a:lnTo>
                      <a:lnTo>
                        <a:pt x="553" y="0"/>
                      </a:lnTo>
                      <a:lnTo>
                        <a:pt x="561" y="61"/>
                      </a:lnTo>
                      <a:lnTo>
                        <a:pt x="584" y="106"/>
                      </a:lnTo>
                      <a:lnTo>
                        <a:pt x="648" y="151"/>
                      </a:lnTo>
                      <a:lnTo>
                        <a:pt x="701" y="159"/>
                      </a:lnTo>
                      <a:lnTo>
                        <a:pt x="707" y="109"/>
                      </a:lnTo>
                      <a:lnTo>
                        <a:pt x="748" y="109"/>
                      </a:lnTo>
                      <a:lnTo>
                        <a:pt x="798" y="139"/>
                      </a:lnTo>
                      <a:lnTo>
                        <a:pt x="851" y="156"/>
                      </a:lnTo>
                      <a:lnTo>
                        <a:pt x="896" y="137"/>
                      </a:lnTo>
                      <a:lnTo>
                        <a:pt x="937" y="215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3839400" y="1041480"/>
                  <a:ext cx="812880" cy="982440"/>
                  <a:chOff x="3839400" y="1041480"/>
                  <a:chExt cx="812880" cy="98244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4161240" y="1655640"/>
                    <a:ext cx="254520" cy="368280"/>
                    <a:chOff x="4161240" y="1655640"/>
                    <a:chExt cx="254520" cy="3682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4161240" y="1789200"/>
                      <a:ext cx="1198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32">
                          <a:moveTo>
                            <a:pt x="19" y="40"/>
                          </a:moveTo>
                          <a:lnTo>
                            <a:pt x="25" y="26"/>
                          </a:lnTo>
                          <a:lnTo>
                            <a:pt x="39" y="26"/>
                          </a:lnTo>
                          <a:lnTo>
                            <a:pt x="60" y="0"/>
                          </a:lnTo>
                          <a:lnTo>
                            <a:pt x="66" y="17"/>
                          </a:lnTo>
                          <a:lnTo>
                            <a:pt x="77" y="17"/>
                          </a:lnTo>
                          <a:lnTo>
                            <a:pt x="81" y="26"/>
                          </a:lnTo>
                          <a:lnTo>
                            <a:pt x="75" y="40"/>
                          </a:lnTo>
                          <a:lnTo>
                            <a:pt x="66" y="46"/>
                          </a:lnTo>
                          <a:lnTo>
                            <a:pt x="66" y="57"/>
                          </a:lnTo>
                          <a:lnTo>
                            <a:pt x="64" y="63"/>
                          </a:lnTo>
                          <a:lnTo>
                            <a:pt x="62" y="71"/>
                          </a:lnTo>
                          <a:lnTo>
                            <a:pt x="66" y="83"/>
                          </a:lnTo>
                          <a:lnTo>
                            <a:pt x="60" y="94"/>
                          </a:lnTo>
                          <a:lnTo>
                            <a:pt x="54" y="100"/>
                          </a:lnTo>
                          <a:lnTo>
                            <a:pt x="48" y="100"/>
                          </a:lnTo>
                          <a:lnTo>
                            <a:pt x="46" y="103"/>
                          </a:lnTo>
                          <a:lnTo>
                            <a:pt x="44" y="111"/>
                          </a:lnTo>
                          <a:lnTo>
                            <a:pt x="33" y="114"/>
                          </a:lnTo>
                          <a:lnTo>
                            <a:pt x="31" y="111"/>
                          </a:lnTo>
                          <a:lnTo>
                            <a:pt x="23" y="120"/>
                          </a:lnTo>
                          <a:lnTo>
                            <a:pt x="21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7" y="74"/>
                          </a:lnTo>
                          <a:lnTo>
                            <a:pt x="23" y="74"/>
                          </a:lnTo>
                          <a:lnTo>
                            <a:pt x="27" y="77"/>
                          </a:lnTo>
                          <a:lnTo>
                            <a:pt x="33" y="74"/>
                          </a:lnTo>
                          <a:lnTo>
                            <a:pt x="27" y="71"/>
                          </a:lnTo>
                          <a:lnTo>
                            <a:pt x="19" y="40"/>
                          </a:lnTo>
                        </a:path>
                      </a:pathLst>
                    </a:custGeom>
                    <a:solidFill>
                      <a:srgbClr val="d9da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271040" y="1655640"/>
                      <a:ext cx="144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232">
                          <a:moveTo>
                            <a:pt x="31" y="33"/>
                          </a:moveTo>
                          <a:lnTo>
                            <a:pt x="38" y="25"/>
                          </a:lnTo>
                          <a:lnTo>
                            <a:pt x="56" y="28"/>
                          </a:lnTo>
                          <a:lnTo>
                            <a:pt x="60" y="22"/>
                          </a:lnTo>
                          <a:lnTo>
                            <a:pt x="65" y="14"/>
                          </a:lnTo>
                          <a:lnTo>
                            <a:pt x="69" y="14"/>
                          </a:lnTo>
                          <a:lnTo>
                            <a:pt x="73" y="11"/>
                          </a:lnTo>
                          <a:lnTo>
                            <a:pt x="79" y="6"/>
                          </a:lnTo>
                          <a:lnTo>
                            <a:pt x="88" y="0"/>
                          </a:lnTo>
                          <a:lnTo>
                            <a:pt x="98" y="3"/>
                          </a:lnTo>
                          <a:lnTo>
                            <a:pt x="96" y="14"/>
                          </a:lnTo>
                          <a:lnTo>
                            <a:pt x="92" y="22"/>
                          </a:lnTo>
                          <a:lnTo>
                            <a:pt x="88" y="25"/>
                          </a:lnTo>
                          <a:lnTo>
                            <a:pt x="83" y="28"/>
                          </a:lnTo>
                          <a:lnTo>
                            <a:pt x="71" y="33"/>
                          </a:lnTo>
                          <a:lnTo>
                            <a:pt x="71" y="45"/>
                          </a:lnTo>
                          <a:lnTo>
                            <a:pt x="73" y="50"/>
                          </a:lnTo>
                          <a:lnTo>
                            <a:pt x="85" y="45"/>
                          </a:lnTo>
                          <a:lnTo>
                            <a:pt x="96" y="39"/>
                          </a:lnTo>
                          <a:lnTo>
                            <a:pt x="98" y="45"/>
                          </a:lnTo>
                          <a:lnTo>
                            <a:pt x="98" y="61"/>
                          </a:lnTo>
                          <a:lnTo>
                            <a:pt x="90" y="64"/>
                          </a:lnTo>
                          <a:lnTo>
                            <a:pt x="81" y="64"/>
                          </a:lnTo>
                          <a:lnTo>
                            <a:pt x="75" y="72"/>
                          </a:lnTo>
                          <a:lnTo>
                            <a:pt x="73" y="78"/>
                          </a:lnTo>
                          <a:lnTo>
                            <a:pt x="73" y="86"/>
                          </a:lnTo>
                          <a:lnTo>
                            <a:pt x="79" y="97"/>
                          </a:lnTo>
                          <a:lnTo>
                            <a:pt x="85" y="106"/>
                          </a:lnTo>
                          <a:lnTo>
                            <a:pt x="90" y="114"/>
                          </a:lnTo>
                          <a:lnTo>
                            <a:pt x="92" y="125"/>
                          </a:lnTo>
                          <a:lnTo>
                            <a:pt x="94" y="136"/>
                          </a:lnTo>
                          <a:lnTo>
                            <a:pt x="98" y="150"/>
                          </a:lnTo>
                          <a:lnTo>
                            <a:pt x="98" y="170"/>
                          </a:lnTo>
                          <a:lnTo>
                            <a:pt x="94" y="181"/>
                          </a:lnTo>
                          <a:lnTo>
                            <a:pt x="85" y="189"/>
                          </a:lnTo>
                          <a:lnTo>
                            <a:pt x="83" y="195"/>
                          </a:lnTo>
                          <a:lnTo>
                            <a:pt x="88" y="206"/>
                          </a:lnTo>
                          <a:lnTo>
                            <a:pt x="92" y="217"/>
                          </a:lnTo>
                          <a:lnTo>
                            <a:pt x="79" y="217"/>
                          </a:lnTo>
                          <a:lnTo>
                            <a:pt x="69" y="217"/>
                          </a:lnTo>
                          <a:lnTo>
                            <a:pt x="65" y="214"/>
                          </a:lnTo>
                          <a:lnTo>
                            <a:pt x="56" y="214"/>
                          </a:lnTo>
                          <a:lnTo>
                            <a:pt x="46" y="217"/>
                          </a:lnTo>
                          <a:lnTo>
                            <a:pt x="38" y="223"/>
                          </a:lnTo>
                          <a:lnTo>
                            <a:pt x="31" y="223"/>
                          </a:lnTo>
                          <a:lnTo>
                            <a:pt x="27" y="225"/>
                          </a:lnTo>
                          <a:lnTo>
                            <a:pt x="17" y="231"/>
                          </a:lnTo>
                          <a:lnTo>
                            <a:pt x="15" y="228"/>
                          </a:lnTo>
                          <a:lnTo>
                            <a:pt x="10" y="223"/>
                          </a:lnTo>
                          <a:lnTo>
                            <a:pt x="4" y="220"/>
                          </a:lnTo>
                          <a:lnTo>
                            <a:pt x="0" y="217"/>
                          </a:lnTo>
                          <a:lnTo>
                            <a:pt x="0" y="206"/>
                          </a:lnTo>
                          <a:lnTo>
                            <a:pt x="4" y="192"/>
                          </a:lnTo>
                          <a:lnTo>
                            <a:pt x="10" y="192"/>
                          </a:lnTo>
                          <a:lnTo>
                            <a:pt x="17" y="189"/>
                          </a:lnTo>
                          <a:lnTo>
                            <a:pt x="25" y="189"/>
                          </a:lnTo>
                          <a:lnTo>
                            <a:pt x="25" y="186"/>
                          </a:lnTo>
                          <a:lnTo>
                            <a:pt x="17" y="181"/>
                          </a:lnTo>
                          <a:lnTo>
                            <a:pt x="17" y="173"/>
                          </a:lnTo>
                          <a:lnTo>
                            <a:pt x="17" y="167"/>
                          </a:lnTo>
                          <a:lnTo>
                            <a:pt x="25" y="161"/>
                          </a:lnTo>
                          <a:lnTo>
                            <a:pt x="29" y="159"/>
                          </a:lnTo>
                          <a:lnTo>
                            <a:pt x="33" y="156"/>
                          </a:lnTo>
                          <a:lnTo>
                            <a:pt x="40" y="156"/>
                          </a:lnTo>
                          <a:lnTo>
                            <a:pt x="44" y="153"/>
                          </a:lnTo>
                          <a:lnTo>
                            <a:pt x="46" y="131"/>
                          </a:lnTo>
                          <a:lnTo>
                            <a:pt x="52" y="114"/>
                          </a:lnTo>
                          <a:lnTo>
                            <a:pt x="52" y="106"/>
                          </a:lnTo>
                          <a:lnTo>
                            <a:pt x="38" y="103"/>
                          </a:lnTo>
                          <a:lnTo>
                            <a:pt x="42" y="89"/>
                          </a:lnTo>
                          <a:lnTo>
                            <a:pt x="31" y="81"/>
                          </a:lnTo>
                          <a:lnTo>
                            <a:pt x="21" y="83"/>
                          </a:lnTo>
                          <a:lnTo>
                            <a:pt x="33" y="64"/>
                          </a:lnTo>
                          <a:lnTo>
                            <a:pt x="31" y="33"/>
                          </a:lnTo>
                        </a:path>
                      </a:pathLst>
                    </a:custGeom>
                    <a:solidFill>
                      <a:srgbClr val="d9da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>
                    <a:off x="3839400" y="1041480"/>
                    <a:ext cx="812880" cy="61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390">
                        <a:moveTo>
                          <a:pt x="0" y="389"/>
                        </a:moveTo>
                        <a:lnTo>
                          <a:pt x="35" y="381"/>
                        </a:lnTo>
                        <a:lnTo>
                          <a:pt x="47" y="364"/>
                        </a:lnTo>
                        <a:lnTo>
                          <a:pt x="55" y="353"/>
                        </a:lnTo>
                        <a:lnTo>
                          <a:pt x="60" y="344"/>
                        </a:lnTo>
                        <a:lnTo>
                          <a:pt x="68" y="344"/>
                        </a:lnTo>
                        <a:lnTo>
                          <a:pt x="76" y="336"/>
                        </a:lnTo>
                        <a:lnTo>
                          <a:pt x="86" y="336"/>
                        </a:lnTo>
                        <a:lnTo>
                          <a:pt x="92" y="336"/>
                        </a:lnTo>
                        <a:lnTo>
                          <a:pt x="101" y="336"/>
                        </a:lnTo>
                        <a:lnTo>
                          <a:pt x="105" y="336"/>
                        </a:lnTo>
                        <a:lnTo>
                          <a:pt x="113" y="325"/>
                        </a:lnTo>
                        <a:lnTo>
                          <a:pt x="117" y="316"/>
                        </a:lnTo>
                        <a:lnTo>
                          <a:pt x="127" y="308"/>
                        </a:lnTo>
                        <a:lnTo>
                          <a:pt x="135" y="305"/>
                        </a:lnTo>
                        <a:lnTo>
                          <a:pt x="142" y="299"/>
                        </a:lnTo>
                        <a:lnTo>
                          <a:pt x="150" y="297"/>
                        </a:lnTo>
                        <a:lnTo>
                          <a:pt x="156" y="291"/>
                        </a:lnTo>
                        <a:lnTo>
                          <a:pt x="164" y="285"/>
                        </a:lnTo>
                        <a:lnTo>
                          <a:pt x="172" y="280"/>
                        </a:lnTo>
                        <a:lnTo>
                          <a:pt x="183" y="271"/>
                        </a:lnTo>
                        <a:lnTo>
                          <a:pt x="193" y="274"/>
                        </a:lnTo>
                        <a:lnTo>
                          <a:pt x="209" y="280"/>
                        </a:lnTo>
                        <a:lnTo>
                          <a:pt x="226" y="280"/>
                        </a:lnTo>
                        <a:lnTo>
                          <a:pt x="244" y="271"/>
                        </a:lnTo>
                        <a:lnTo>
                          <a:pt x="252" y="269"/>
                        </a:lnTo>
                        <a:lnTo>
                          <a:pt x="259" y="252"/>
                        </a:lnTo>
                        <a:lnTo>
                          <a:pt x="267" y="241"/>
                        </a:lnTo>
                        <a:lnTo>
                          <a:pt x="281" y="227"/>
                        </a:lnTo>
                        <a:lnTo>
                          <a:pt x="285" y="218"/>
                        </a:lnTo>
                        <a:lnTo>
                          <a:pt x="285" y="207"/>
                        </a:lnTo>
                        <a:lnTo>
                          <a:pt x="298" y="199"/>
                        </a:lnTo>
                        <a:lnTo>
                          <a:pt x="304" y="190"/>
                        </a:lnTo>
                        <a:lnTo>
                          <a:pt x="308" y="182"/>
                        </a:lnTo>
                        <a:lnTo>
                          <a:pt x="312" y="182"/>
                        </a:lnTo>
                        <a:lnTo>
                          <a:pt x="332" y="165"/>
                        </a:lnTo>
                        <a:lnTo>
                          <a:pt x="332" y="182"/>
                        </a:lnTo>
                        <a:lnTo>
                          <a:pt x="328" y="188"/>
                        </a:lnTo>
                        <a:lnTo>
                          <a:pt x="332" y="196"/>
                        </a:lnTo>
                        <a:lnTo>
                          <a:pt x="347" y="199"/>
                        </a:lnTo>
                        <a:lnTo>
                          <a:pt x="355" y="199"/>
                        </a:lnTo>
                        <a:lnTo>
                          <a:pt x="363" y="190"/>
                        </a:lnTo>
                        <a:lnTo>
                          <a:pt x="369" y="182"/>
                        </a:lnTo>
                        <a:lnTo>
                          <a:pt x="369" y="174"/>
                        </a:lnTo>
                        <a:lnTo>
                          <a:pt x="375" y="165"/>
                        </a:lnTo>
                        <a:lnTo>
                          <a:pt x="375" y="157"/>
                        </a:lnTo>
                        <a:lnTo>
                          <a:pt x="382" y="146"/>
                        </a:lnTo>
                        <a:lnTo>
                          <a:pt x="386" y="140"/>
                        </a:lnTo>
                        <a:lnTo>
                          <a:pt x="396" y="140"/>
                        </a:lnTo>
                        <a:lnTo>
                          <a:pt x="417" y="140"/>
                        </a:lnTo>
                        <a:lnTo>
                          <a:pt x="433" y="129"/>
                        </a:lnTo>
                        <a:lnTo>
                          <a:pt x="447" y="112"/>
                        </a:lnTo>
                        <a:lnTo>
                          <a:pt x="464" y="106"/>
                        </a:lnTo>
                        <a:lnTo>
                          <a:pt x="478" y="92"/>
                        </a:lnTo>
                        <a:lnTo>
                          <a:pt x="488" y="70"/>
                        </a:lnTo>
                        <a:lnTo>
                          <a:pt x="511" y="45"/>
                        </a:lnTo>
                        <a:lnTo>
                          <a:pt x="525" y="34"/>
                        </a:lnTo>
                        <a:lnTo>
                          <a:pt x="540" y="22"/>
                        </a:lnTo>
                        <a:lnTo>
                          <a:pt x="554" y="8"/>
                        </a:lnTo>
                        <a:lnTo>
                          <a:pt x="529" y="0"/>
                        </a:lnTo>
                        <a:lnTo>
                          <a:pt x="505" y="0"/>
                        </a:lnTo>
                        <a:lnTo>
                          <a:pt x="480" y="14"/>
                        </a:lnTo>
                        <a:lnTo>
                          <a:pt x="468" y="22"/>
                        </a:lnTo>
                        <a:lnTo>
                          <a:pt x="447" y="28"/>
                        </a:lnTo>
                        <a:lnTo>
                          <a:pt x="425" y="31"/>
                        </a:lnTo>
                        <a:lnTo>
                          <a:pt x="412" y="36"/>
                        </a:lnTo>
                        <a:lnTo>
                          <a:pt x="386" y="50"/>
                        </a:lnTo>
                        <a:lnTo>
                          <a:pt x="369" y="59"/>
                        </a:lnTo>
                        <a:lnTo>
                          <a:pt x="353" y="67"/>
                        </a:lnTo>
                        <a:lnTo>
                          <a:pt x="332" y="73"/>
                        </a:lnTo>
                        <a:lnTo>
                          <a:pt x="312" y="81"/>
                        </a:lnTo>
                        <a:lnTo>
                          <a:pt x="293" y="92"/>
                        </a:lnTo>
                        <a:lnTo>
                          <a:pt x="279" y="106"/>
                        </a:lnTo>
                        <a:lnTo>
                          <a:pt x="267" y="120"/>
                        </a:lnTo>
                        <a:lnTo>
                          <a:pt x="254" y="132"/>
                        </a:lnTo>
                        <a:lnTo>
                          <a:pt x="244" y="140"/>
                        </a:lnTo>
                        <a:lnTo>
                          <a:pt x="222" y="157"/>
                        </a:lnTo>
                        <a:lnTo>
                          <a:pt x="199" y="174"/>
                        </a:lnTo>
                        <a:lnTo>
                          <a:pt x="172" y="190"/>
                        </a:lnTo>
                        <a:lnTo>
                          <a:pt x="154" y="215"/>
                        </a:lnTo>
                        <a:lnTo>
                          <a:pt x="133" y="235"/>
                        </a:lnTo>
                        <a:lnTo>
                          <a:pt x="115" y="246"/>
                        </a:lnTo>
                        <a:lnTo>
                          <a:pt x="96" y="271"/>
                        </a:lnTo>
                        <a:lnTo>
                          <a:pt x="84" y="288"/>
                        </a:lnTo>
                        <a:lnTo>
                          <a:pt x="68" y="305"/>
                        </a:lnTo>
                        <a:lnTo>
                          <a:pt x="51" y="316"/>
                        </a:lnTo>
                        <a:lnTo>
                          <a:pt x="35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5276160" y="4527360"/>
                  <a:ext cx="244440" cy="596880"/>
                </a:xfrm>
                <a:custGeom>
                  <a:avLst/>
                  <a:gdLst/>
                  <a:ahLst/>
                  <a:rect l="l" t="t" r="r" b="b"/>
                  <a:pathLst>
                    <a:path w="167" h="376">
                      <a:moveTo>
                        <a:pt x="31" y="117"/>
                      </a:moveTo>
                      <a:lnTo>
                        <a:pt x="27" y="192"/>
                      </a:lnTo>
                      <a:lnTo>
                        <a:pt x="12" y="239"/>
                      </a:lnTo>
                      <a:lnTo>
                        <a:pt x="0" y="283"/>
                      </a:lnTo>
                      <a:lnTo>
                        <a:pt x="0" y="317"/>
                      </a:lnTo>
                      <a:lnTo>
                        <a:pt x="4" y="344"/>
                      </a:lnTo>
                      <a:lnTo>
                        <a:pt x="19" y="369"/>
                      </a:lnTo>
                      <a:lnTo>
                        <a:pt x="31" y="372"/>
                      </a:lnTo>
                      <a:lnTo>
                        <a:pt x="42" y="372"/>
                      </a:lnTo>
                      <a:lnTo>
                        <a:pt x="54" y="375"/>
                      </a:lnTo>
                      <a:lnTo>
                        <a:pt x="60" y="356"/>
                      </a:lnTo>
                      <a:lnTo>
                        <a:pt x="66" y="306"/>
                      </a:lnTo>
                      <a:lnTo>
                        <a:pt x="85" y="272"/>
                      </a:lnTo>
                      <a:lnTo>
                        <a:pt x="89" y="222"/>
                      </a:lnTo>
                      <a:lnTo>
                        <a:pt x="98" y="203"/>
                      </a:lnTo>
                      <a:lnTo>
                        <a:pt x="106" y="189"/>
                      </a:lnTo>
                      <a:lnTo>
                        <a:pt x="112" y="153"/>
                      </a:lnTo>
                      <a:lnTo>
                        <a:pt x="125" y="131"/>
                      </a:lnTo>
                      <a:lnTo>
                        <a:pt x="133" y="114"/>
                      </a:lnTo>
                      <a:lnTo>
                        <a:pt x="141" y="100"/>
                      </a:lnTo>
                      <a:lnTo>
                        <a:pt x="141" y="92"/>
                      </a:lnTo>
                      <a:lnTo>
                        <a:pt x="160" y="72"/>
                      </a:lnTo>
                      <a:lnTo>
                        <a:pt x="162" y="42"/>
                      </a:lnTo>
                      <a:lnTo>
                        <a:pt x="166" y="22"/>
                      </a:lnTo>
                      <a:lnTo>
                        <a:pt x="149" y="14"/>
                      </a:lnTo>
                      <a:lnTo>
                        <a:pt x="139" y="0"/>
                      </a:lnTo>
                      <a:lnTo>
                        <a:pt x="125" y="14"/>
                      </a:lnTo>
                      <a:lnTo>
                        <a:pt x="112" y="47"/>
                      </a:lnTo>
                      <a:lnTo>
                        <a:pt x="98" y="69"/>
                      </a:lnTo>
                      <a:lnTo>
                        <a:pt x="85" y="89"/>
                      </a:lnTo>
                      <a:lnTo>
                        <a:pt x="79" y="89"/>
                      </a:lnTo>
                      <a:lnTo>
                        <a:pt x="66" y="100"/>
                      </a:lnTo>
                      <a:lnTo>
                        <a:pt x="60" y="111"/>
                      </a:lnTo>
                      <a:lnTo>
                        <a:pt x="31" y="117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117680" y="1103400"/>
                  <a:ext cx="3288960" cy="2835000"/>
                </a:xfrm>
                <a:custGeom>
                  <a:avLst/>
                  <a:gdLst/>
                  <a:ahLst/>
                  <a:rect l="l" t="t" r="r" b="b"/>
                  <a:pathLst>
                    <a:path w="2246" h="1786">
                      <a:moveTo>
                        <a:pt x="0" y="802"/>
                      </a:moveTo>
                      <a:lnTo>
                        <a:pt x="21" y="777"/>
                      </a:lnTo>
                      <a:lnTo>
                        <a:pt x="33" y="757"/>
                      </a:lnTo>
                      <a:lnTo>
                        <a:pt x="60" y="757"/>
                      </a:lnTo>
                      <a:lnTo>
                        <a:pt x="88" y="763"/>
                      </a:lnTo>
                      <a:lnTo>
                        <a:pt x="109" y="752"/>
                      </a:lnTo>
                      <a:lnTo>
                        <a:pt x="131" y="749"/>
                      </a:lnTo>
                      <a:lnTo>
                        <a:pt x="134" y="716"/>
                      </a:lnTo>
                      <a:lnTo>
                        <a:pt x="146" y="693"/>
                      </a:lnTo>
                      <a:lnTo>
                        <a:pt x="115" y="668"/>
                      </a:lnTo>
                      <a:lnTo>
                        <a:pt x="111" y="649"/>
                      </a:lnTo>
                      <a:lnTo>
                        <a:pt x="113" y="621"/>
                      </a:lnTo>
                      <a:lnTo>
                        <a:pt x="136" y="621"/>
                      </a:lnTo>
                      <a:lnTo>
                        <a:pt x="150" y="618"/>
                      </a:lnTo>
                      <a:lnTo>
                        <a:pt x="152" y="621"/>
                      </a:lnTo>
                      <a:lnTo>
                        <a:pt x="168" y="604"/>
                      </a:lnTo>
                      <a:lnTo>
                        <a:pt x="185" y="596"/>
                      </a:lnTo>
                      <a:lnTo>
                        <a:pt x="191" y="596"/>
                      </a:lnTo>
                      <a:lnTo>
                        <a:pt x="201" y="579"/>
                      </a:lnTo>
                      <a:lnTo>
                        <a:pt x="214" y="574"/>
                      </a:lnTo>
                      <a:lnTo>
                        <a:pt x="226" y="543"/>
                      </a:lnTo>
                      <a:lnTo>
                        <a:pt x="234" y="551"/>
                      </a:lnTo>
                      <a:lnTo>
                        <a:pt x="251" y="532"/>
                      </a:lnTo>
                      <a:lnTo>
                        <a:pt x="253" y="532"/>
                      </a:lnTo>
                      <a:lnTo>
                        <a:pt x="273" y="510"/>
                      </a:lnTo>
                      <a:lnTo>
                        <a:pt x="286" y="507"/>
                      </a:lnTo>
                      <a:lnTo>
                        <a:pt x="302" y="507"/>
                      </a:lnTo>
                      <a:lnTo>
                        <a:pt x="312" y="507"/>
                      </a:lnTo>
                      <a:lnTo>
                        <a:pt x="304" y="479"/>
                      </a:lnTo>
                      <a:lnTo>
                        <a:pt x="300" y="457"/>
                      </a:lnTo>
                      <a:lnTo>
                        <a:pt x="296" y="409"/>
                      </a:lnTo>
                      <a:lnTo>
                        <a:pt x="320" y="407"/>
                      </a:lnTo>
                      <a:lnTo>
                        <a:pt x="333" y="398"/>
                      </a:lnTo>
                      <a:lnTo>
                        <a:pt x="327" y="418"/>
                      </a:lnTo>
                      <a:lnTo>
                        <a:pt x="337" y="432"/>
                      </a:lnTo>
                      <a:lnTo>
                        <a:pt x="347" y="448"/>
                      </a:lnTo>
                      <a:lnTo>
                        <a:pt x="353" y="459"/>
                      </a:lnTo>
                      <a:lnTo>
                        <a:pt x="382" y="457"/>
                      </a:lnTo>
                      <a:lnTo>
                        <a:pt x="407" y="415"/>
                      </a:lnTo>
                      <a:lnTo>
                        <a:pt x="425" y="395"/>
                      </a:lnTo>
                      <a:lnTo>
                        <a:pt x="435" y="382"/>
                      </a:lnTo>
                      <a:lnTo>
                        <a:pt x="448" y="365"/>
                      </a:lnTo>
                      <a:lnTo>
                        <a:pt x="460" y="343"/>
                      </a:lnTo>
                      <a:lnTo>
                        <a:pt x="470" y="351"/>
                      </a:lnTo>
                      <a:lnTo>
                        <a:pt x="470" y="337"/>
                      </a:lnTo>
                      <a:lnTo>
                        <a:pt x="477" y="329"/>
                      </a:lnTo>
                      <a:lnTo>
                        <a:pt x="495" y="334"/>
                      </a:lnTo>
                      <a:lnTo>
                        <a:pt x="526" y="370"/>
                      </a:lnTo>
                      <a:lnTo>
                        <a:pt x="520" y="270"/>
                      </a:lnTo>
                      <a:lnTo>
                        <a:pt x="493" y="315"/>
                      </a:lnTo>
                      <a:lnTo>
                        <a:pt x="472" y="312"/>
                      </a:lnTo>
                      <a:lnTo>
                        <a:pt x="466" y="284"/>
                      </a:lnTo>
                      <a:lnTo>
                        <a:pt x="466" y="270"/>
                      </a:lnTo>
                      <a:lnTo>
                        <a:pt x="460" y="262"/>
                      </a:lnTo>
                      <a:lnTo>
                        <a:pt x="477" y="239"/>
                      </a:lnTo>
                      <a:lnTo>
                        <a:pt x="487" y="223"/>
                      </a:lnTo>
                      <a:lnTo>
                        <a:pt x="497" y="217"/>
                      </a:lnTo>
                      <a:lnTo>
                        <a:pt x="505" y="214"/>
                      </a:lnTo>
                      <a:lnTo>
                        <a:pt x="511" y="200"/>
                      </a:lnTo>
                      <a:lnTo>
                        <a:pt x="520" y="198"/>
                      </a:lnTo>
                      <a:lnTo>
                        <a:pt x="530" y="198"/>
                      </a:lnTo>
                      <a:lnTo>
                        <a:pt x="511" y="173"/>
                      </a:lnTo>
                      <a:lnTo>
                        <a:pt x="493" y="178"/>
                      </a:lnTo>
                      <a:lnTo>
                        <a:pt x="481" y="178"/>
                      </a:lnTo>
                      <a:lnTo>
                        <a:pt x="470" y="170"/>
                      </a:lnTo>
                      <a:lnTo>
                        <a:pt x="470" y="187"/>
                      </a:lnTo>
                      <a:lnTo>
                        <a:pt x="460" y="203"/>
                      </a:lnTo>
                      <a:lnTo>
                        <a:pt x="446" y="231"/>
                      </a:lnTo>
                      <a:lnTo>
                        <a:pt x="431" y="242"/>
                      </a:lnTo>
                      <a:lnTo>
                        <a:pt x="421" y="242"/>
                      </a:lnTo>
                      <a:lnTo>
                        <a:pt x="417" y="262"/>
                      </a:lnTo>
                      <a:lnTo>
                        <a:pt x="417" y="270"/>
                      </a:lnTo>
                      <a:lnTo>
                        <a:pt x="409" y="278"/>
                      </a:lnTo>
                      <a:lnTo>
                        <a:pt x="419" y="312"/>
                      </a:lnTo>
                      <a:lnTo>
                        <a:pt x="425" y="329"/>
                      </a:lnTo>
                      <a:lnTo>
                        <a:pt x="413" y="354"/>
                      </a:lnTo>
                      <a:lnTo>
                        <a:pt x="398" y="370"/>
                      </a:lnTo>
                      <a:lnTo>
                        <a:pt x="394" y="395"/>
                      </a:lnTo>
                      <a:lnTo>
                        <a:pt x="386" y="415"/>
                      </a:lnTo>
                      <a:lnTo>
                        <a:pt x="378" y="415"/>
                      </a:lnTo>
                      <a:lnTo>
                        <a:pt x="366" y="418"/>
                      </a:lnTo>
                      <a:lnTo>
                        <a:pt x="353" y="426"/>
                      </a:lnTo>
                      <a:lnTo>
                        <a:pt x="349" y="423"/>
                      </a:lnTo>
                      <a:lnTo>
                        <a:pt x="349" y="409"/>
                      </a:lnTo>
                      <a:lnTo>
                        <a:pt x="347" y="387"/>
                      </a:lnTo>
                      <a:lnTo>
                        <a:pt x="337" y="387"/>
                      </a:lnTo>
                      <a:lnTo>
                        <a:pt x="331" y="373"/>
                      </a:lnTo>
                      <a:lnTo>
                        <a:pt x="333" y="354"/>
                      </a:lnTo>
                      <a:lnTo>
                        <a:pt x="335" y="343"/>
                      </a:lnTo>
                      <a:lnTo>
                        <a:pt x="333" y="337"/>
                      </a:lnTo>
                      <a:lnTo>
                        <a:pt x="325" y="343"/>
                      </a:lnTo>
                      <a:lnTo>
                        <a:pt x="320" y="343"/>
                      </a:lnTo>
                      <a:lnTo>
                        <a:pt x="314" y="340"/>
                      </a:lnTo>
                      <a:lnTo>
                        <a:pt x="310" y="337"/>
                      </a:lnTo>
                      <a:lnTo>
                        <a:pt x="300" y="348"/>
                      </a:lnTo>
                      <a:lnTo>
                        <a:pt x="290" y="362"/>
                      </a:lnTo>
                      <a:lnTo>
                        <a:pt x="279" y="376"/>
                      </a:lnTo>
                      <a:lnTo>
                        <a:pt x="257" y="373"/>
                      </a:lnTo>
                      <a:lnTo>
                        <a:pt x="242" y="370"/>
                      </a:lnTo>
                      <a:lnTo>
                        <a:pt x="232" y="356"/>
                      </a:lnTo>
                      <a:lnTo>
                        <a:pt x="232" y="348"/>
                      </a:lnTo>
                      <a:lnTo>
                        <a:pt x="238" y="337"/>
                      </a:lnTo>
                      <a:lnTo>
                        <a:pt x="246" y="329"/>
                      </a:lnTo>
                      <a:lnTo>
                        <a:pt x="253" y="317"/>
                      </a:lnTo>
                      <a:lnTo>
                        <a:pt x="238" y="323"/>
                      </a:lnTo>
                      <a:lnTo>
                        <a:pt x="232" y="309"/>
                      </a:lnTo>
                      <a:lnTo>
                        <a:pt x="232" y="301"/>
                      </a:lnTo>
                      <a:lnTo>
                        <a:pt x="253" y="298"/>
                      </a:lnTo>
                      <a:lnTo>
                        <a:pt x="271" y="295"/>
                      </a:lnTo>
                      <a:lnTo>
                        <a:pt x="259" y="287"/>
                      </a:lnTo>
                      <a:lnTo>
                        <a:pt x="240" y="290"/>
                      </a:lnTo>
                      <a:lnTo>
                        <a:pt x="240" y="273"/>
                      </a:lnTo>
                      <a:lnTo>
                        <a:pt x="249" y="262"/>
                      </a:lnTo>
                      <a:lnTo>
                        <a:pt x="267" y="251"/>
                      </a:lnTo>
                      <a:lnTo>
                        <a:pt x="273" y="239"/>
                      </a:lnTo>
                      <a:lnTo>
                        <a:pt x="279" y="234"/>
                      </a:lnTo>
                      <a:lnTo>
                        <a:pt x="294" y="231"/>
                      </a:lnTo>
                      <a:lnTo>
                        <a:pt x="306" y="234"/>
                      </a:lnTo>
                      <a:lnTo>
                        <a:pt x="312" y="239"/>
                      </a:lnTo>
                      <a:lnTo>
                        <a:pt x="322" y="231"/>
                      </a:lnTo>
                      <a:lnTo>
                        <a:pt x="312" y="228"/>
                      </a:lnTo>
                      <a:lnTo>
                        <a:pt x="312" y="206"/>
                      </a:lnTo>
                      <a:lnTo>
                        <a:pt x="339" y="181"/>
                      </a:lnTo>
                      <a:lnTo>
                        <a:pt x="353" y="164"/>
                      </a:lnTo>
                      <a:lnTo>
                        <a:pt x="362" y="162"/>
                      </a:lnTo>
                      <a:lnTo>
                        <a:pt x="359" y="153"/>
                      </a:lnTo>
                      <a:lnTo>
                        <a:pt x="372" y="136"/>
                      </a:lnTo>
                      <a:lnTo>
                        <a:pt x="386" y="111"/>
                      </a:lnTo>
                      <a:lnTo>
                        <a:pt x="403" y="100"/>
                      </a:lnTo>
                      <a:lnTo>
                        <a:pt x="390" y="89"/>
                      </a:lnTo>
                      <a:lnTo>
                        <a:pt x="423" y="64"/>
                      </a:lnTo>
                      <a:lnTo>
                        <a:pt x="437" y="67"/>
                      </a:lnTo>
                      <a:lnTo>
                        <a:pt x="435" y="53"/>
                      </a:lnTo>
                      <a:lnTo>
                        <a:pt x="464" y="50"/>
                      </a:lnTo>
                      <a:lnTo>
                        <a:pt x="518" y="6"/>
                      </a:lnTo>
                      <a:lnTo>
                        <a:pt x="526" y="0"/>
                      </a:lnTo>
                      <a:lnTo>
                        <a:pt x="516" y="33"/>
                      </a:lnTo>
                      <a:lnTo>
                        <a:pt x="528" y="17"/>
                      </a:lnTo>
                      <a:lnTo>
                        <a:pt x="542" y="11"/>
                      </a:lnTo>
                      <a:lnTo>
                        <a:pt x="540" y="25"/>
                      </a:lnTo>
                      <a:lnTo>
                        <a:pt x="581" y="8"/>
                      </a:lnTo>
                      <a:lnTo>
                        <a:pt x="600" y="22"/>
                      </a:lnTo>
                      <a:lnTo>
                        <a:pt x="573" y="36"/>
                      </a:lnTo>
                      <a:lnTo>
                        <a:pt x="583" y="53"/>
                      </a:lnTo>
                      <a:lnTo>
                        <a:pt x="622" y="50"/>
                      </a:lnTo>
                      <a:lnTo>
                        <a:pt x="682" y="75"/>
                      </a:lnTo>
                      <a:lnTo>
                        <a:pt x="678" y="103"/>
                      </a:lnTo>
                      <a:lnTo>
                        <a:pt x="653" y="128"/>
                      </a:lnTo>
                      <a:lnTo>
                        <a:pt x="616" y="142"/>
                      </a:lnTo>
                      <a:lnTo>
                        <a:pt x="610" y="170"/>
                      </a:lnTo>
                      <a:lnTo>
                        <a:pt x="612" y="198"/>
                      </a:lnTo>
                      <a:lnTo>
                        <a:pt x="622" y="203"/>
                      </a:lnTo>
                      <a:lnTo>
                        <a:pt x="624" y="217"/>
                      </a:lnTo>
                      <a:lnTo>
                        <a:pt x="629" y="223"/>
                      </a:lnTo>
                      <a:lnTo>
                        <a:pt x="637" y="228"/>
                      </a:lnTo>
                      <a:lnTo>
                        <a:pt x="639" y="245"/>
                      </a:lnTo>
                      <a:lnTo>
                        <a:pt x="651" y="265"/>
                      </a:lnTo>
                      <a:lnTo>
                        <a:pt x="651" y="273"/>
                      </a:lnTo>
                      <a:lnTo>
                        <a:pt x="663" y="273"/>
                      </a:lnTo>
                      <a:lnTo>
                        <a:pt x="668" y="278"/>
                      </a:lnTo>
                      <a:lnTo>
                        <a:pt x="678" y="284"/>
                      </a:lnTo>
                      <a:lnTo>
                        <a:pt x="684" y="276"/>
                      </a:lnTo>
                      <a:lnTo>
                        <a:pt x="690" y="262"/>
                      </a:lnTo>
                      <a:lnTo>
                        <a:pt x="694" y="253"/>
                      </a:lnTo>
                      <a:lnTo>
                        <a:pt x="705" y="259"/>
                      </a:lnTo>
                      <a:lnTo>
                        <a:pt x="717" y="239"/>
                      </a:lnTo>
                      <a:lnTo>
                        <a:pt x="717" y="226"/>
                      </a:lnTo>
                      <a:lnTo>
                        <a:pt x="721" y="214"/>
                      </a:lnTo>
                      <a:lnTo>
                        <a:pt x="723" y="206"/>
                      </a:lnTo>
                      <a:lnTo>
                        <a:pt x="748" y="198"/>
                      </a:lnTo>
                      <a:lnTo>
                        <a:pt x="768" y="189"/>
                      </a:lnTo>
                      <a:lnTo>
                        <a:pt x="795" y="178"/>
                      </a:lnTo>
                      <a:lnTo>
                        <a:pt x="826" y="187"/>
                      </a:lnTo>
                      <a:lnTo>
                        <a:pt x="857" y="187"/>
                      </a:lnTo>
                      <a:lnTo>
                        <a:pt x="908" y="187"/>
                      </a:lnTo>
                      <a:lnTo>
                        <a:pt x="916" y="120"/>
                      </a:lnTo>
                      <a:lnTo>
                        <a:pt x="945" y="123"/>
                      </a:lnTo>
                      <a:lnTo>
                        <a:pt x="965" y="173"/>
                      </a:lnTo>
                      <a:lnTo>
                        <a:pt x="969" y="131"/>
                      </a:lnTo>
                      <a:lnTo>
                        <a:pt x="1064" y="8"/>
                      </a:lnTo>
                      <a:lnTo>
                        <a:pt x="1101" y="8"/>
                      </a:lnTo>
                      <a:lnTo>
                        <a:pt x="1134" y="33"/>
                      </a:lnTo>
                      <a:lnTo>
                        <a:pt x="1177" y="31"/>
                      </a:lnTo>
                      <a:lnTo>
                        <a:pt x="1234" y="75"/>
                      </a:lnTo>
                      <a:lnTo>
                        <a:pt x="1300" y="100"/>
                      </a:lnTo>
                      <a:lnTo>
                        <a:pt x="1347" y="95"/>
                      </a:lnTo>
                      <a:lnTo>
                        <a:pt x="1409" y="123"/>
                      </a:lnTo>
                      <a:lnTo>
                        <a:pt x="1460" y="123"/>
                      </a:lnTo>
                      <a:lnTo>
                        <a:pt x="1485" y="103"/>
                      </a:lnTo>
                      <a:lnTo>
                        <a:pt x="1543" y="103"/>
                      </a:lnTo>
                      <a:lnTo>
                        <a:pt x="1573" y="125"/>
                      </a:lnTo>
                      <a:lnTo>
                        <a:pt x="1651" y="125"/>
                      </a:lnTo>
                      <a:lnTo>
                        <a:pt x="1717" y="162"/>
                      </a:lnTo>
                      <a:lnTo>
                        <a:pt x="1834" y="156"/>
                      </a:lnTo>
                      <a:lnTo>
                        <a:pt x="2025" y="173"/>
                      </a:lnTo>
                      <a:lnTo>
                        <a:pt x="2118" y="226"/>
                      </a:lnTo>
                      <a:lnTo>
                        <a:pt x="2196" y="259"/>
                      </a:lnTo>
                      <a:lnTo>
                        <a:pt x="2245" y="287"/>
                      </a:lnTo>
                      <a:lnTo>
                        <a:pt x="2231" y="295"/>
                      </a:lnTo>
                      <a:lnTo>
                        <a:pt x="2196" y="273"/>
                      </a:lnTo>
                      <a:lnTo>
                        <a:pt x="2116" y="265"/>
                      </a:lnTo>
                      <a:lnTo>
                        <a:pt x="2138" y="287"/>
                      </a:lnTo>
                      <a:lnTo>
                        <a:pt x="2173" y="298"/>
                      </a:lnTo>
                      <a:lnTo>
                        <a:pt x="2163" y="334"/>
                      </a:lnTo>
                      <a:lnTo>
                        <a:pt x="2126" y="356"/>
                      </a:lnTo>
                      <a:lnTo>
                        <a:pt x="2114" y="393"/>
                      </a:lnTo>
                      <a:lnTo>
                        <a:pt x="2163" y="426"/>
                      </a:lnTo>
                      <a:lnTo>
                        <a:pt x="2198" y="471"/>
                      </a:lnTo>
                      <a:lnTo>
                        <a:pt x="2216" y="535"/>
                      </a:lnTo>
                      <a:lnTo>
                        <a:pt x="2194" y="540"/>
                      </a:lnTo>
                      <a:lnTo>
                        <a:pt x="2144" y="521"/>
                      </a:lnTo>
                      <a:lnTo>
                        <a:pt x="2093" y="473"/>
                      </a:lnTo>
                      <a:lnTo>
                        <a:pt x="2072" y="448"/>
                      </a:lnTo>
                      <a:lnTo>
                        <a:pt x="2060" y="415"/>
                      </a:lnTo>
                      <a:lnTo>
                        <a:pt x="2048" y="365"/>
                      </a:lnTo>
                      <a:lnTo>
                        <a:pt x="2027" y="348"/>
                      </a:lnTo>
                      <a:lnTo>
                        <a:pt x="2009" y="345"/>
                      </a:lnTo>
                      <a:lnTo>
                        <a:pt x="1992" y="351"/>
                      </a:lnTo>
                      <a:lnTo>
                        <a:pt x="2011" y="390"/>
                      </a:lnTo>
                      <a:lnTo>
                        <a:pt x="1962" y="395"/>
                      </a:lnTo>
                      <a:lnTo>
                        <a:pt x="1939" y="376"/>
                      </a:lnTo>
                      <a:lnTo>
                        <a:pt x="1896" y="387"/>
                      </a:lnTo>
                      <a:lnTo>
                        <a:pt x="1863" y="418"/>
                      </a:lnTo>
                      <a:lnTo>
                        <a:pt x="1863" y="434"/>
                      </a:lnTo>
                      <a:lnTo>
                        <a:pt x="1875" y="462"/>
                      </a:lnTo>
                      <a:lnTo>
                        <a:pt x="1927" y="471"/>
                      </a:lnTo>
                      <a:lnTo>
                        <a:pt x="1968" y="504"/>
                      </a:lnTo>
                      <a:lnTo>
                        <a:pt x="2038" y="596"/>
                      </a:lnTo>
                      <a:lnTo>
                        <a:pt x="2066" y="657"/>
                      </a:lnTo>
                      <a:lnTo>
                        <a:pt x="2070" y="721"/>
                      </a:lnTo>
                      <a:lnTo>
                        <a:pt x="2064" y="774"/>
                      </a:lnTo>
                      <a:lnTo>
                        <a:pt x="2048" y="774"/>
                      </a:lnTo>
                      <a:lnTo>
                        <a:pt x="2029" y="755"/>
                      </a:lnTo>
                      <a:lnTo>
                        <a:pt x="2003" y="780"/>
                      </a:lnTo>
                      <a:lnTo>
                        <a:pt x="1976" y="802"/>
                      </a:lnTo>
                      <a:lnTo>
                        <a:pt x="1972" y="838"/>
                      </a:lnTo>
                      <a:lnTo>
                        <a:pt x="2001" y="883"/>
                      </a:lnTo>
                      <a:lnTo>
                        <a:pt x="1982" y="919"/>
                      </a:lnTo>
                      <a:lnTo>
                        <a:pt x="1976" y="980"/>
                      </a:lnTo>
                      <a:lnTo>
                        <a:pt x="2011" y="1019"/>
                      </a:lnTo>
                      <a:lnTo>
                        <a:pt x="2050" y="1030"/>
                      </a:lnTo>
                      <a:lnTo>
                        <a:pt x="2091" y="1072"/>
                      </a:lnTo>
                      <a:lnTo>
                        <a:pt x="2126" y="1128"/>
                      </a:lnTo>
                      <a:lnTo>
                        <a:pt x="2128" y="1211"/>
                      </a:lnTo>
                      <a:lnTo>
                        <a:pt x="2116" y="1250"/>
                      </a:lnTo>
                      <a:lnTo>
                        <a:pt x="2079" y="1284"/>
                      </a:lnTo>
                      <a:lnTo>
                        <a:pt x="2033" y="1300"/>
                      </a:lnTo>
                      <a:lnTo>
                        <a:pt x="2005" y="1326"/>
                      </a:lnTo>
                      <a:lnTo>
                        <a:pt x="1988" y="1312"/>
                      </a:lnTo>
                      <a:lnTo>
                        <a:pt x="1974" y="1326"/>
                      </a:lnTo>
                      <a:lnTo>
                        <a:pt x="1970" y="1387"/>
                      </a:lnTo>
                      <a:lnTo>
                        <a:pt x="1980" y="1423"/>
                      </a:lnTo>
                      <a:lnTo>
                        <a:pt x="2025" y="1465"/>
                      </a:lnTo>
                      <a:lnTo>
                        <a:pt x="2044" y="1507"/>
                      </a:lnTo>
                      <a:lnTo>
                        <a:pt x="2058" y="1529"/>
                      </a:lnTo>
                      <a:lnTo>
                        <a:pt x="2054" y="1573"/>
                      </a:lnTo>
                      <a:lnTo>
                        <a:pt x="2025" y="1610"/>
                      </a:lnTo>
                      <a:lnTo>
                        <a:pt x="1994" y="1610"/>
                      </a:lnTo>
                      <a:lnTo>
                        <a:pt x="1945" y="1557"/>
                      </a:lnTo>
                      <a:lnTo>
                        <a:pt x="1910" y="1537"/>
                      </a:lnTo>
                      <a:lnTo>
                        <a:pt x="1896" y="1526"/>
                      </a:lnTo>
                      <a:lnTo>
                        <a:pt x="1881" y="1554"/>
                      </a:lnTo>
                      <a:lnTo>
                        <a:pt x="1886" y="1593"/>
                      </a:lnTo>
                      <a:lnTo>
                        <a:pt x="1898" y="1623"/>
                      </a:lnTo>
                      <a:lnTo>
                        <a:pt x="1906" y="1671"/>
                      </a:lnTo>
                      <a:lnTo>
                        <a:pt x="1937" y="1688"/>
                      </a:lnTo>
                      <a:lnTo>
                        <a:pt x="1927" y="1713"/>
                      </a:lnTo>
                      <a:lnTo>
                        <a:pt x="1929" y="1749"/>
                      </a:lnTo>
                      <a:lnTo>
                        <a:pt x="1939" y="1785"/>
                      </a:lnTo>
                      <a:lnTo>
                        <a:pt x="1918" y="1782"/>
                      </a:lnTo>
                      <a:lnTo>
                        <a:pt x="1896" y="1740"/>
                      </a:lnTo>
                      <a:lnTo>
                        <a:pt x="1898" y="1696"/>
                      </a:lnTo>
                      <a:lnTo>
                        <a:pt x="1890" y="1682"/>
                      </a:lnTo>
                      <a:lnTo>
                        <a:pt x="1881" y="1632"/>
                      </a:lnTo>
                      <a:lnTo>
                        <a:pt x="1871" y="1618"/>
                      </a:lnTo>
                      <a:lnTo>
                        <a:pt x="1867" y="1548"/>
                      </a:lnTo>
                      <a:lnTo>
                        <a:pt x="1853" y="1507"/>
                      </a:lnTo>
                      <a:lnTo>
                        <a:pt x="1828" y="1468"/>
                      </a:lnTo>
                      <a:lnTo>
                        <a:pt x="1783" y="1445"/>
                      </a:lnTo>
                      <a:lnTo>
                        <a:pt x="1752" y="1409"/>
                      </a:lnTo>
                      <a:lnTo>
                        <a:pt x="1740" y="1381"/>
                      </a:lnTo>
                      <a:lnTo>
                        <a:pt x="1717" y="1351"/>
                      </a:lnTo>
                      <a:lnTo>
                        <a:pt x="1682" y="1281"/>
                      </a:lnTo>
                      <a:lnTo>
                        <a:pt x="1651" y="1287"/>
                      </a:lnTo>
                      <a:lnTo>
                        <a:pt x="1610" y="1320"/>
                      </a:lnTo>
                      <a:lnTo>
                        <a:pt x="1592" y="1348"/>
                      </a:lnTo>
                      <a:lnTo>
                        <a:pt x="1555" y="1401"/>
                      </a:lnTo>
                      <a:lnTo>
                        <a:pt x="1528" y="1456"/>
                      </a:lnTo>
                      <a:lnTo>
                        <a:pt x="1518" y="1476"/>
                      </a:lnTo>
                      <a:lnTo>
                        <a:pt x="1528" y="1540"/>
                      </a:lnTo>
                      <a:lnTo>
                        <a:pt x="1526" y="1604"/>
                      </a:lnTo>
                      <a:lnTo>
                        <a:pt x="1493" y="1649"/>
                      </a:lnTo>
                      <a:lnTo>
                        <a:pt x="1475" y="1651"/>
                      </a:lnTo>
                      <a:lnTo>
                        <a:pt x="1436" y="1559"/>
                      </a:lnTo>
                      <a:lnTo>
                        <a:pt x="1405" y="1495"/>
                      </a:lnTo>
                      <a:lnTo>
                        <a:pt x="1343" y="1373"/>
                      </a:lnTo>
                      <a:lnTo>
                        <a:pt x="1341" y="1326"/>
                      </a:lnTo>
                      <a:lnTo>
                        <a:pt x="1327" y="1303"/>
                      </a:lnTo>
                      <a:lnTo>
                        <a:pt x="1317" y="1334"/>
                      </a:lnTo>
                      <a:lnTo>
                        <a:pt x="1263" y="1264"/>
                      </a:lnTo>
                      <a:lnTo>
                        <a:pt x="1191" y="1211"/>
                      </a:lnTo>
                      <a:lnTo>
                        <a:pt x="1146" y="1222"/>
                      </a:lnTo>
                      <a:lnTo>
                        <a:pt x="1080" y="1217"/>
                      </a:lnTo>
                      <a:lnTo>
                        <a:pt x="1050" y="1178"/>
                      </a:lnTo>
                      <a:lnTo>
                        <a:pt x="1015" y="1184"/>
                      </a:lnTo>
                      <a:lnTo>
                        <a:pt x="965" y="1167"/>
                      </a:lnTo>
                      <a:lnTo>
                        <a:pt x="863" y="1036"/>
                      </a:lnTo>
                      <a:lnTo>
                        <a:pt x="869" y="1089"/>
                      </a:lnTo>
                      <a:lnTo>
                        <a:pt x="900" y="1164"/>
                      </a:lnTo>
                      <a:lnTo>
                        <a:pt x="935" y="1217"/>
                      </a:lnTo>
                      <a:lnTo>
                        <a:pt x="972" y="1245"/>
                      </a:lnTo>
                      <a:lnTo>
                        <a:pt x="1013" y="1222"/>
                      </a:lnTo>
                      <a:lnTo>
                        <a:pt x="1045" y="1222"/>
                      </a:lnTo>
                      <a:lnTo>
                        <a:pt x="1089" y="1270"/>
                      </a:lnTo>
                      <a:lnTo>
                        <a:pt x="1113" y="1306"/>
                      </a:lnTo>
                      <a:lnTo>
                        <a:pt x="1109" y="1328"/>
                      </a:lnTo>
                      <a:lnTo>
                        <a:pt x="1035" y="1431"/>
                      </a:lnTo>
                      <a:lnTo>
                        <a:pt x="986" y="1470"/>
                      </a:lnTo>
                      <a:lnTo>
                        <a:pt x="883" y="1520"/>
                      </a:lnTo>
                      <a:lnTo>
                        <a:pt x="852" y="1537"/>
                      </a:lnTo>
                      <a:lnTo>
                        <a:pt x="834" y="1520"/>
                      </a:lnTo>
                      <a:lnTo>
                        <a:pt x="828" y="1501"/>
                      </a:lnTo>
                      <a:lnTo>
                        <a:pt x="826" y="1470"/>
                      </a:lnTo>
                      <a:lnTo>
                        <a:pt x="817" y="1440"/>
                      </a:lnTo>
                      <a:lnTo>
                        <a:pt x="803" y="1415"/>
                      </a:lnTo>
                      <a:lnTo>
                        <a:pt x="791" y="1392"/>
                      </a:lnTo>
                      <a:lnTo>
                        <a:pt x="772" y="1362"/>
                      </a:lnTo>
                      <a:lnTo>
                        <a:pt x="762" y="1342"/>
                      </a:lnTo>
                      <a:lnTo>
                        <a:pt x="754" y="1317"/>
                      </a:lnTo>
                      <a:lnTo>
                        <a:pt x="739" y="1295"/>
                      </a:lnTo>
                      <a:lnTo>
                        <a:pt x="717" y="1239"/>
                      </a:lnTo>
                      <a:lnTo>
                        <a:pt x="705" y="1217"/>
                      </a:lnTo>
                      <a:lnTo>
                        <a:pt x="688" y="1186"/>
                      </a:lnTo>
                      <a:lnTo>
                        <a:pt x="661" y="1145"/>
                      </a:lnTo>
                      <a:lnTo>
                        <a:pt x="647" y="1119"/>
                      </a:lnTo>
                      <a:lnTo>
                        <a:pt x="635" y="1103"/>
                      </a:lnTo>
                      <a:lnTo>
                        <a:pt x="620" y="1067"/>
                      </a:lnTo>
                      <a:lnTo>
                        <a:pt x="663" y="1033"/>
                      </a:lnTo>
                      <a:lnTo>
                        <a:pt x="682" y="961"/>
                      </a:lnTo>
                      <a:lnTo>
                        <a:pt x="641" y="941"/>
                      </a:lnTo>
                      <a:lnTo>
                        <a:pt x="585" y="952"/>
                      </a:lnTo>
                      <a:lnTo>
                        <a:pt x="573" y="944"/>
                      </a:lnTo>
                      <a:lnTo>
                        <a:pt x="567" y="944"/>
                      </a:lnTo>
                      <a:lnTo>
                        <a:pt x="559" y="944"/>
                      </a:lnTo>
                      <a:lnTo>
                        <a:pt x="553" y="944"/>
                      </a:lnTo>
                      <a:lnTo>
                        <a:pt x="550" y="930"/>
                      </a:lnTo>
                      <a:lnTo>
                        <a:pt x="546" y="919"/>
                      </a:lnTo>
                      <a:lnTo>
                        <a:pt x="546" y="897"/>
                      </a:lnTo>
                      <a:lnTo>
                        <a:pt x="536" y="886"/>
                      </a:lnTo>
                      <a:lnTo>
                        <a:pt x="534" y="872"/>
                      </a:lnTo>
                      <a:lnTo>
                        <a:pt x="528" y="869"/>
                      </a:lnTo>
                      <a:lnTo>
                        <a:pt x="522" y="858"/>
                      </a:lnTo>
                      <a:lnTo>
                        <a:pt x="520" y="847"/>
                      </a:lnTo>
                      <a:lnTo>
                        <a:pt x="516" y="835"/>
                      </a:lnTo>
                      <a:lnTo>
                        <a:pt x="511" y="830"/>
                      </a:lnTo>
                      <a:lnTo>
                        <a:pt x="499" y="830"/>
                      </a:lnTo>
                      <a:lnTo>
                        <a:pt x="491" y="830"/>
                      </a:lnTo>
                      <a:lnTo>
                        <a:pt x="487" y="830"/>
                      </a:lnTo>
                      <a:lnTo>
                        <a:pt x="485" y="844"/>
                      </a:lnTo>
                      <a:lnTo>
                        <a:pt x="485" y="858"/>
                      </a:lnTo>
                      <a:lnTo>
                        <a:pt x="485" y="874"/>
                      </a:lnTo>
                      <a:lnTo>
                        <a:pt x="485" y="891"/>
                      </a:lnTo>
                      <a:lnTo>
                        <a:pt x="485" y="902"/>
                      </a:lnTo>
                      <a:lnTo>
                        <a:pt x="474" y="908"/>
                      </a:lnTo>
                      <a:lnTo>
                        <a:pt x="466" y="919"/>
                      </a:lnTo>
                      <a:lnTo>
                        <a:pt x="454" y="902"/>
                      </a:lnTo>
                      <a:lnTo>
                        <a:pt x="446" y="880"/>
                      </a:lnTo>
                      <a:lnTo>
                        <a:pt x="448" y="855"/>
                      </a:lnTo>
                      <a:lnTo>
                        <a:pt x="435" y="821"/>
                      </a:lnTo>
                      <a:lnTo>
                        <a:pt x="429" y="799"/>
                      </a:lnTo>
                      <a:lnTo>
                        <a:pt x="415" y="785"/>
                      </a:lnTo>
                      <a:lnTo>
                        <a:pt x="398" y="771"/>
                      </a:lnTo>
                      <a:lnTo>
                        <a:pt x="390" y="752"/>
                      </a:lnTo>
                      <a:lnTo>
                        <a:pt x="384" y="738"/>
                      </a:lnTo>
                      <a:lnTo>
                        <a:pt x="370" y="735"/>
                      </a:lnTo>
                      <a:lnTo>
                        <a:pt x="366" y="727"/>
                      </a:lnTo>
                      <a:lnTo>
                        <a:pt x="355" y="727"/>
                      </a:lnTo>
                      <a:lnTo>
                        <a:pt x="347" y="741"/>
                      </a:lnTo>
                      <a:lnTo>
                        <a:pt x="339" y="752"/>
                      </a:lnTo>
                      <a:lnTo>
                        <a:pt x="357" y="766"/>
                      </a:lnTo>
                      <a:lnTo>
                        <a:pt x="368" y="785"/>
                      </a:lnTo>
                      <a:lnTo>
                        <a:pt x="386" y="810"/>
                      </a:lnTo>
                      <a:lnTo>
                        <a:pt x="394" y="821"/>
                      </a:lnTo>
                      <a:lnTo>
                        <a:pt x="409" y="830"/>
                      </a:lnTo>
                      <a:lnTo>
                        <a:pt x="419" y="847"/>
                      </a:lnTo>
                      <a:lnTo>
                        <a:pt x="407" y="866"/>
                      </a:lnTo>
                      <a:lnTo>
                        <a:pt x="405" y="858"/>
                      </a:lnTo>
                      <a:lnTo>
                        <a:pt x="405" y="847"/>
                      </a:lnTo>
                      <a:lnTo>
                        <a:pt x="398" y="872"/>
                      </a:lnTo>
                      <a:lnTo>
                        <a:pt x="396" y="894"/>
                      </a:lnTo>
                      <a:lnTo>
                        <a:pt x="384" y="899"/>
                      </a:lnTo>
                      <a:lnTo>
                        <a:pt x="388" y="872"/>
                      </a:lnTo>
                      <a:lnTo>
                        <a:pt x="386" y="858"/>
                      </a:lnTo>
                      <a:lnTo>
                        <a:pt x="372" y="849"/>
                      </a:lnTo>
                      <a:lnTo>
                        <a:pt x="366" y="844"/>
                      </a:lnTo>
                      <a:lnTo>
                        <a:pt x="359" y="833"/>
                      </a:lnTo>
                      <a:lnTo>
                        <a:pt x="347" y="827"/>
                      </a:lnTo>
                      <a:lnTo>
                        <a:pt x="339" y="819"/>
                      </a:lnTo>
                      <a:lnTo>
                        <a:pt x="331" y="802"/>
                      </a:lnTo>
                      <a:lnTo>
                        <a:pt x="320" y="794"/>
                      </a:lnTo>
                      <a:lnTo>
                        <a:pt x="314" y="777"/>
                      </a:lnTo>
                      <a:lnTo>
                        <a:pt x="312" y="763"/>
                      </a:lnTo>
                      <a:lnTo>
                        <a:pt x="304" y="757"/>
                      </a:lnTo>
                      <a:lnTo>
                        <a:pt x="296" y="749"/>
                      </a:lnTo>
                      <a:lnTo>
                        <a:pt x="279" y="749"/>
                      </a:lnTo>
                      <a:lnTo>
                        <a:pt x="265" y="752"/>
                      </a:lnTo>
                      <a:lnTo>
                        <a:pt x="249" y="749"/>
                      </a:lnTo>
                      <a:lnTo>
                        <a:pt x="220" y="752"/>
                      </a:lnTo>
                      <a:lnTo>
                        <a:pt x="199" y="755"/>
                      </a:lnTo>
                      <a:lnTo>
                        <a:pt x="193" y="760"/>
                      </a:lnTo>
                      <a:lnTo>
                        <a:pt x="191" y="777"/>
                      </a:lnTo>
                      <a:lnTo>
                        <a:pt x="191" y="796"/>
                      </a:lnTo>
                      <a:lnTo>
                        <a:pt x="179" y="816"/>
                      </a:lnTo>
                      <a:lnTo>
                        <a:pt x="170" y="824"/>
                      </a:lnTo>
                      <a:lnTo>
                        <a:pt x="166" y="830"/>
                      </a:lnTo>
                      <a:lnTo>
                        <a:pt x="160" y="844"/>
                      </a:lnTo>
                      <a:lnTo>
                        <a:pt x="156" y="855"/>
                      </a:lnTo>
                      <a:lnTo>
                        <a:pt x="162" y="863"/>
                      </a:lnTo>
                      <a:lnTo>
                        <a:pt x="162" y="880"/>
                      </a:lnTo>
                      <a:lnTo>
                        <a:pt x="160" y="888"/>
                      </a:lnTo>
                      <a:lnTo>
                        <a:pt x="156" y="899"/>
                      </a:lnTo>
                      <a:lnTo>
                        <a:pt x="146" y="919"/>
                      </a:lnTo>
                      <a:lnTo>
                        <a:pt x="140" y="911"/>
                      </a:lnTo>
                      <a:lnTo>
                        <a:pt x="134" y="916"/>
                      </a:lnTo>
                      <a:lnTo>
                        <a:pt x="125" y="925"/>
                      </a:lnTo>
                      <a:lnTo>
                        <a:pt x="113" y="927"/>
                      </a:lnTo>
                      <a:lnTo>
                        <a:pt x="101" y="941"/>
                      </a:lnTo>
                      <a:lnTo>
                        <a:pt x="88" y="944"/>
                      </a:lnTo>
                      <a:lnTo>
                        <a:pt x="76" y="944"/>
                      </a:lnTo>
                      <a:lnTo>
                        <a:pt x="64" y="944"/>
                      </a:lnTo>
                      <a:lnTo>
                        <a:pt x="37" y="952"/>
                      </a:lnTo>
                      <a:lnTo>
                        <a:pt x="25" y="952"/>
                      </a:lnTo>
                      <a:lnTo>
                        <a:pt x="18" y="933"/>
                      </a:lnTo>
                      <a:lnTo>
                        <a:pt x="12" y="908"/>
                      </a:lnTo>
                      <a:lnTo>
                        <a:pt x="8" y="886"/>
                      </a:lnTo>
                      <a:lnTo>
                        <a:pt x="6" y="863"/>
                      </a:lnTo>
                      <a:lnTo>
                        <a:pt x="6" y="835"/>
                      </a:lnTo>
                      <a:lnTo>
                        <a:pt x="0" y="802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277920" y="1038240"/>
              <a:ext cx="2883240" cy="5248080"/>
              <a:chOff x="277920" y="1038240"/>
              <a:chExt cx="2883240" cy="5248080"/>
            </a:xfrm>
          </p:grpSpPr>
          <p:sp>
            <p:nvSpPr>
              <p:cNvPr id="72" name=""/>
              <p:cNvSpPr/>
              <p:nvPr/>
            </p:nvSpPr>
            <p:spPr>
              <a:xfrm>
                <a:off x="277920" y="1270080"/>
                <a:ext cx="1951920" cy="2457360"/>
              </a:xfrm>
              <a:custGeom>
                <a:avLst/>
                <a:gdLst/>
                <a:ahLst/>
                <a:rect l="l" t="t" r="r" b="b"/>
                <a:pathLst>
                  <a:path w="1333" h="1548">
                    <a:moveTo>
                      <a:pt x="0" y="398"/>
                    </a:moveTo>
                    <a:lnTo>
                      <a:pt x="64" y="345"/>
                    </a:lnTo>
                    <a:lnTo>
                      <a:pt x="101" y="323"/>
                    </a:lnTo>
                    <a:lnTo>
                      <a:pt x="107" y="289"/>
                    </a:lnTo>
                    <a:lnTo>
                      <a:pt x="78" y="270"/>
                    </a:lnTo>
                    <a:lnTo>
                      <a:pt x="76" y="231"/>
                    </a:lnTo>
                    <a:lnTo>
                      <a:pt x="88" y="220"/>
                    </a:lnTo>
                    <a:lnTo>
                      <a:pt x="86" y="203"/>
                    </a:lnTo>
                    <a:lnTo>
                      <a:pt x="135" y="198"/>
                    </a:lnTo>
                    <a:lnTo>
                      <a:pt x="148" y="167"/>
                    </a:lnTo>
                    <a:lnTo>
                      <a:pt x="150" y="139"/>
                    </a:lnTo>
                    <a:lnTo>
                      <a:pt x="191" y="131"/>
                    </a:lnTo>
                    <a:lnTo>
                      <a:pt x="195" y="103"/>
                    </a:lnTo>
                    <a:lnTo>
                      <a:pt x="156" y="95"/>
                    </a:lnTo>
                    <a:lnTo>
                      <a:pt x="174" y="75"/>
                    </a:lnTo>
                    <a:lnTo>
                      <a:pt x="238" y="75"/>
                    </a:lnTo>
                    <a:lnTo>
                      <a:pt x="257" y="53"/>
                    </a:lnTo>
                    <a:lnTo>
                      <a:pt x="283" y="50"/>
                    </a:lnTo>
                    <a:lnTo>
                      <a:pt x="300" y="33"/>
                    </a:lnTo>
                    <a:lnTo>
                      <a:pt x="320" y="64"/>
                    </a:lnTo>
                    <a:lnTo>
                      <a:pt x="400" y="58"/>
                    </a:lnTo>
                    <a:lnTo>
                      <a:pt x="437" y="92"/>
                    </a:lnTo>
                    <a:lnTo>
                      <a:pt x="556" y="83"/>
                    </a:lnTo>
                    <a:lnTo>
                      <a:pt x="575" y="67"/>
                    </a:lnTo>
                    <a:lnTo>
                      <a:pt x="620" y="95"/>
                    </a:lnTo>
                    <a:lnTo>
                      <a:pt x="667" y="120"/>
                    </a:lnTo>
                    <a:lnTo>
                      <a:pt x="690" y="109"/>
                    </a:lnTo>
                    <a:lnTo>
                      <a:pt x="704" y="95"/>
                    </a:lnTo>
                    <a:lnTo>
                      <a:pt x="743" y="103"/>
                    </a:lnTo>
                    <a:lnTo>
                      <a:pt x="716" y="83"/>
                    </a:lnTo>
                    <a:lnTo>
                      <a:pt x="692" y="86"/>
                    </a:lnTo>
                    <a:lnTo>
                      <a:pt x="655" y="92"/>
                    </a:lnTo>
                    <a:lnTo>
                      <a:pt x="636" y="64"/>
                    </a:lnTo>
                    <a:lnTo>
                      <a:pt x="616" y="50"/>
                    </a:lnTo>
                    <a:lnTo>
                      <a:pt x="616" y="28"/>
                    </a:lnTo>
                    <a:lnTo>
                      <a:pt x="622" y="3"/>
                    </a:lnTo>
                    <a:lnTo>
                      <a:pt x="638" y="0"/>
                    </a:lnTo>
                    <a:lnTo>
                      <a:pt x="661" y="22"/>
                    </a:lnTo>
                    <a:lnTo>
                      <a:pt x="667" y="11"/>
                    </a:lnTo>
                    <a:lnTo>
                      <a:pt x="685" y="0"/>
                    </a:lnTo>
                    <a:lnTo>
                      <a:pt x="708" y="17"/>
                    </a:lnTo>
                    <a:lnTo>
                      <a:pt x="720" y="3"/>
                    </a:lnTo>
                    <a:lnTo>
                      <a:pt x="733" y="25"/>
                    </a:lnTo>
                    <a:lnTo>
                      <a:pt x="735" y="39"/>
                    </a:lnTo>
                    <a:lnTo>
                      <a:pt x="768" y="58"/>
                    </a:lnTo>
                    <a:lnTo>
                      <a:pt x="755" y="75"/>
                    </a:lnTo>
                    <a:lnTo>
                      <a:pt x="755" y="97"/>
                    </a:lnTo>
                    <a:lnTo>
                      <a:pt x="811" y="103"/>
                    </a:lnTo>
                    <a:lnTo>
                      <a:pt x="825" y="75"/>
                    </a:lnTo>
                    <a:lnTo>
                      <a:pt x="815" y="61"/>
                    </a:lnTo>
                    <a:lnTo>
                      <a:pt x="790" y="64"/>
                    </a:lnTo>
                    <a:lnTo>
                      <a:pt x="796" y="33"/>
                    </a:lnTo>
                    <a:lnTo>
                      <a:pt x="846" y="50"/>
                    </a:lnTo>
                    <a:lnTo>
                      <a:pt x="856" y="72"/>
                    </a:lnTo>
                    <a:lnTo>
                      <a:pt x="897" y="72"/>
                    </a:lnTo>
                    <a:lnTo>
                      <a:pt x="934" y="100"/>
                    </a:lnTo>
                    <a:lnTo>
                      <a:pt x="954" y="95"/>
                    </a:lnTo>
                    <a:lnTo>
                      <a:pt x="977" y="120"/>
                    </a:lnTo>
                    <a:lnTo>
                      <a:pt x="954" y="153"/>
                    </a:lnTo>
                    <a:lnTo>
                      <a:pt x="936" y="128"/>
                    </a:lnTo>
                    <a:lnTo>
                      <a:pt x="924" y="136"/>
                    </a:lnTo>
                    <a:lnTo>
                      <a:pt x="907" y="156"/>
                    </a:lnTo>
                    <a:lnTo>
                      <a:pt x="880" y="173"/>
                    </a:lnTo>
                    <a:lnTo>
                      <a:pt x="895" y="198"/>
                    </a:lnTo>
                    <a:lnTo>
                      <a:pt x="870" y="200"/>
                    </a:lnTo>
                    <a:lnTo>
                      <a:pt x="850" y="234"/>
                    </a:lnTo>
                    <a:lnTo>
                      <a:pt x="829" y="275"/>
                    </a:lnTo>
                    <a:lnTo>
                      <a:pt x="860" y="312"/>
                    </a:lnTo>
                    <a:lnTo>
                      <a:pt x="885" y="353"/>
                    </a:lnTo>
                    <a:lnTo>
                      <a:pt x="928" y="359"/>
                    </a:lnTo>
                    <a:lnTo>
                      <a:pt x="969" y="353"/>
                    </a:lnTo>
                    <a:lnTo>
                      <a:pt x="987" y="376"/>
                    </a:lnTo>
                    <a:lnTo>
                      <a:pt x="979" y="387"/>
                    </a:lnTo>
                    <a:lnTo>
                      <a:pt x="967" y="409"/>
                    </a:lnTo>
                    <a:lnTo>
                      <a:pt x="985" y="448"/>
                    </a:lnTo>
                    <a:lnTo>
                      <a:pt x="991" y="476"/>
                    </a:lnTo>
                    <a:lnTo>
                      <a:pt x="1014" y="490"/>
                    </a:lnTo>
                    <a:lnTo>
                      <a:pt x="1045" y="465"/>
                    </a:lnTo>
                    <a:lnTo>
                      <a:pt x="1036" y="428"/>
                    </a:lnTo>
                    <a:lnTo>
                      <a:pt x="1010" y="398"/>
                    </a:lnTo>
                    <a:lnTo>
                      <a:pt x="1041" y="362"/>
                    </a:lnTo>
                    <a:lnTo>
                      <a:pt x="1014" y="300"/>
                    </a:lnTo>
                    <a:lnTo>
                      <a:pt x="989" y="275"/>
                    </a:lnTo>
                    <a:lnTo>
                      <a:pt x="1010" y="253"/>
                    </a:lnTo>
                    <a:lnTo>
                      <a:pt x="1006" y="220"/>
                    </a:lnTo>
                    <a:lnTo>
                      <a:pt x="1020" y="200"/>
                    </a:lnTo>
                    <a:lnTo>
                      <a:pt x="1045" y="220"/>
                    </a:lnTo>
                    <a:lnTo>
                      <a:pt x="1102" y="292"/>
                    </a:lnTo>
                    <a:lnTo>
                      <a:pt x="1137" y="303"/>
                    </a:lnTo>
                    <a:lnTo>
                      <a:pt x="1147" y="284"/>
                    </a:lnTo>
                    <a:lnTo>
                      <a:pt x="1139" y="245"/>
                    </a:lnTo>
                    <a:lnTo>
                      <a:pt x="1160" y="250"/>
                    </a:lnTo>
                    <a:lnTo>
                      <a:pt x="1194" y="295"/>
                    </a:lnTo>
                    <a:lnTo>
                      <a:pt x="1201" y="320"/>
                    </a:lnTo>
                    <a:lnTo>
                      <a:pt x="1221" y="337"/>
                    </a:lnTo>
                    <a:lnTo>
                      <a:pt x="1262" y="356"/>
                    </a:lnTo>
                    <a:lnTo>
                      <a:pt x="1283" y="392"/>
                    </a:lnTo>
                    <a:lnTo>
                      <a:pt x="1314" y="417"/>
                    </a:lnTo>
                    <a:lnTo>
                      <a:pt x="1330" y="426"/>
                    </a:lnTo>
                    <a:lnTo>
                      <a:pt x="1332" y="448"/>
                    </a:lnTo>
                    <a:lnTo>
                      <a:pt x="1307" y="462"/>
                    </a:lnTo>
                    <a:lnTo>
                      <a:pt x="1293" y="445"/>
                    </a:lnTo>
                    <a:lnTo>
                      <a:pt x="1281" y="448"/>
                    </a:lnTo>
                    <a:lnTo>
                      <a:pt x="1277" y="484"/>
                    </a:lnTo>
                    <a:lnTo>
                      <a:pt x="1256" y="492"/>
                    </a:lnTo>
                    <a:lnTo>
                      <a:pt x="1233" y="473"/>
                    </a:lnTo>
                    <a:lnTo>
                      <a:pt x="1186" y="473"/>
                    </a:lnTo>
                    <a:lnTo>
                      <a:pt x="1180" y="515"/>
                    </a:lnTo>
                    <a:lnTo>
                      <a:pt x="1192" y="540"/>
                    </a:lnTo>
                    <a:lnTo>
                      <a:pt x="1211" y="526"/>
                    </a:lnTo>
                    <a:lnTo>
                      <a:pt x="1229" y="520"/>
                    </a:lnTo>
                    <a:lnTo>
                      <a:pt x="1248" y="534"/>
                    </a:lnTo>
                    <a:lnTo>
                      <a:pt x="1223" y="565"/>
                    </a:lnTo>
                    <a:lnTo>
                      <a:pt x="1248" y="593"/>
                    </a:lnTo>
                    <a:lnTo>
                      <a:pt x="1281" y="601"/>
                    </a:lnTo>
                    <a:lnTo>
                      <a:pt x="1277" y="618"/>
                    </a:lnTo>
                    <a:lnTo>
                      <a:pt x="1264" y="620"/>
                    </a:lnTo>
                    <a:lnTo>
                      <a:pt x="1233" y="715"/>
                    </a:lnTo>
                    <a:lnTo>
                      <a:pt x="1236" y="654"/>
                    </a:lnTo>
                    <a:lnTo>
                      <a:pt x="1250" y="623"/>
                    </a:lnTo>
                    <a:lnTo>
                      <a:pt x="1233" y="609"/>
                    </a:lnTo>
                    <a:lnTo>
                      <a:pt x="1215" y="629"/>
                    </a:lnTo>
                    <a:lnTo>
                      <a:pt x="1225" y="646"/>
                    </a:lnTo>
                    <a:lnTo>
                      <a:pt x="1211" y="657"/>
                    </a:lnTo>
                    <a:lnTo>
                      <a:pt x="1197" y="671"/>
                    </a:lnTo>
                    <a:lnTo>
                      <a:pt x="1199" y="712"/>
                    </a:lnTo>
                    <a:lnTo>
                      <a:pt x="1178" y="726"/>
                    </a:lnTo>
                    <a:lnTo>
                      <a:pt x="1149" y="729"/>
                    </a:lnTo>
                    <a:lnTo>
                      <a:pt x="1160" y="751"/>
                    </a:lnTo>
                    <a:lnTo>
                      <a:pt x="1149" y="776"/>
                    </a:lnTo>
                    <a:lnTo>
                      <a:pt x="1160" y="796"/>
                    </a:lnTo>
                    <a:lnTo>
                      <a:pt x="1143" y="837"/>
                    </a:lnTo>
                    <a:lnTo>
                      <a:pt x="1137" y="876"/>
                    </a:lnTo>
                    <a:lnTo>
                      <a:pt x="1112" y="899"/>
                    </a:lnTo>
                    <a:lnTo>
                      <a:pt x="1082" y="960"/>
                    </a:lnTo>
                    <a:lnTo>
                      <a:pt x="1078" y="1002"/>
                    </a:lnTo>
                    <a:lnTo>
                      <a:pt x="1088" y="1035"/>
                    </a:lnTo>
                    <a:lnTo>
                      <a:pt x="1102" y="1077"/>
                    </a:lnTo>
                    <a:lnTo>
                      <a:pt x="1110" y="1121"/>
                    </a:lnTo>
                    <a:lnTo>
                      <a:pt x="1096" y="1141"/>
                    </a:lnTo>
                    <a:lnTo>
                      <a:pt x="1078" y="1127"/>
                    </a:lnTo>
                    <a:lnTo>
                      <a:pt x="1082" y="1105"/>
                    </a:lnTo>
                    <a:lnTo>
                      <a:pt x="1071" y="1055"/>
                    </a:lnTo>
                    <a:lnTo>
                      <a:pt x="1059" y="1046"/>
                    </a:lnTo>
                    <a:lnTo>
                      <a:pt x="1051" y="1016"/>
                    </a:lnTo>
                    <a:lnTo>
                      <a:pt x="1034" y="1016"/>
                    </a:lnTo>
                    <a:lnTo>
                      <a:pt x="1016" y="999"/>
                    </a:lnTo>
                    <a:lnTo>
                      <a:pt x="995" y="1004"/>
                    </a:lnTo>
                    <a:lnTo>
                      <a:pt x="977" y="993"/>
                    </a:lnTo>
                    <a:lnTo>
                      <a:pt x="954" y="1007"/>
                    </a:lnTo>
                    <a:lnTo>
                      <a:pt x="913" y="996"/>
                    </a:lnTo>
                    <a:lnTo>
                      <a:pt x="940" y="1032"/>
                    </a:lnTo>
                    <a:lnTo>
                      <a:pt x="907" y="1029"/>
                    </a:lnTo>
                    <a:lnTo>
                      <a:pt x="885" y="1002"/>
                    </a:lnTo>
                    <a:lnTo>
                      <a:pt x="844" y="1002"/>
                    </a:lnTo>
                    <a:lnTo>
                      <a:pt x="850" y="1046"/>
                    </a:lnTo>
                    <a:lnTo>
                      <a:pt x="819" y="1032"/>
                    </a:lnTo>
                    <a:lnTo>
                      <a:pt x="802" y="1077"/>
                    </a:lnTo>
                    <a:lnTo>
                      <a:pt x="815" y="1096"/>
                    </a:lnTo>
                    <a:lnTo>
                      <a:pt x="802" y="1149"/>
                    </a:lnTo>
                    <a:lnTo>
                      <a:pt x="817" y="1210"/>
                    </a:lnTo>
                    <a:lnTo>
                      <a:pt x="833" y="1252"/>
                    </a:lnTo>
                    <a:lnTo>
                      <a:pt x="852" y="1291"/>
                    </a:lnTo>
                    <a:lnTo>
                      <a:pt x="907" y="1288"/>
                    </a:lnTo>
                    <a:lnTo>
                      <a:pt x="930" y="1280"/>
                    </a:lnTo>
                    <a:lnTo>
                      <a:pt x="934" y="1252"/>
                    </a:lnTo>
                    <a:lnTo>
                      <a:pt x="922" y="1230"/>
                    </a:lnTo>
                    <a:lnTo>
                      <a:pt x="924" y="1210"/>
                    </a:lnTo>
                    <a:lnTo>
                      <a:pt x="958" y="1216"/>
                    </a:lnTo>
                    <a:lnTo>
                      <a:pt x="993" y="1205"/>
                    </a:lnTo>
                    <a:lnTo>
                      <a:pt x="993" y="1230"/>
                    </a:lnTo>
                    <a:lnTo>
                      <a:pt x="983" y="1266"/>
                    </a:lnTo>
                    <a:lnTo>
                      <a:pt x="967" y="1294"/>
                    </a:lnTo>
                    <a:lnTo>
                      <a:pt x="963" y="1333"/>
                    </a:lnTo>
                    <a:lnTo>
                      <a:pt x="985" y="1349"/>
                    </a:lnTo>
                    <a:lnTo>
                      <a:pt x="1016" y="1344"/>
                    </a:lnTo>
                    <a:lnTo>
                      <a:pt x="1034" y="1358"/>
                    </a:lnTo>
                    <a:lnTo>
                      <a:pt x="1051" y="1352"/>
                    </a:lnTo>
                    <a:lnTo>
                      <a:pt x="1057" y="1377"/>
                    </a:lnTo>
                    <a:lnTo>
                      <a:pt x="1043" y="1413"/>
                    </a:lnTo>
                    <a:lnTo>
                      <a:pt x="1055" y="1436"/>
                    </a:lnTo>
                    <a:lnTo>
                      <a:pt x="1057" y="1480"/>
                    </a:lnTo>
                    <a:lnTo>
                      <a:pt x="1078" y="1511"/>
                    </a:lnTo>
                    <a:lnTo>
                      <a:pt x="1104" y="1519"/>
                    </a:lnTo>
                    <a:lnTo>
                      <a:pt x="1123" y="1511"/>
                    </a:lnTo>
                    <a:lnTo>
                      <a:pt x="1131" y="1514"/>
                    </a:lnTo>
                    <a:lnTo>
                      <a:pt x="1166" y="1514"/>
                    </a:lnTo>
                    <a:lnTo>
                      <a:pt x="1197" y="1516"/>
                    </a:lnTo>
                    <a:lnTo>
                      <a:pt x="1205" y="1497"/>
                    </a:lnTo>
                    <a:lnTo>
                      <a:pt x="1178" y="1530"/>
                    </a:lnTo>
                    <a:lnTo>
                      <a:pt x="1160" y="1528"/>
                    </a:lnTo>
                    <a:lnTo>
                      <a:pt x="1141" y="1530"/>
                    </a:lnTo>
                    <a:lnTo>
                      <a:pt x="1104" y="1547"/>
                    </a:lnTo>
                    <a:lnTo>
                      <a:pt x="1073" y="1525"/>
                    </a:lnTo>
                    <a:lnTo>
                      <a:pt x="1045" y="1511"/>
                    </a:lnTo>
                    <a:lnTo>
                      <a:pt x="1032" y="1514"/>
                    </a:lnTo>
                    <a:lnTo>
                      <a:pt x="1034" y="1494"/>
                    </a:lnTo>
                    <a:lnTo>
                      <a:pt x="1032" y="1464"/>
                    </a:lnTo>
                    <a:lnTo>
                      <a:pt x="1008" y="1436"/>
                    </a:lnTo>
                    <a:lnTo>
                      <a:pt x="956" y="1419"/>
                    </a:lnTo>
                    <a:lnTo>
                      <a:pt x="948" y="1408"/>
                    </a:lnTo>
                    <a:lnTo>
                      <a:pt x="934" y="1411"/>
                    </a:lnTo>
                    <a:lnTo>
                      <a:pt x="919" y="1397"/>
                    </a:lnTo>
                    <a:lnTo>
                      <a:pt x="901" y="1383"/>
                    </a:lnTo>
                    <a:lnTo>
                      <a:pt x="876" y="1344"/>
                    </a:lnTo>
                    <a:lnTo>
                      <a:pt x="848" y="1333"/>
                    </a:lnTo>
                    <a:lnTo>
                      <a:pt x="831" y="1358"/>
                    </a:lnTo>
                    <a:lnTo>
                      <a:pt x="813" y="1338"/>
                    </a:lnTo>
                    <a:lnTo>
                      <a:pt x="790" y="1338"/>
                    </a:lnTo>
                    <a:lnTo>
                      <a:pt x="745" y="1324"/>
                    </a:lnTo>
                    <a:lnTo>
                      <a:pt x="663" y="1258"/>
                    </a:lnTo>
                    <a:lnTo>
                      <a:pt x="657" y="1188"/>
                    </a:lnTo>
                    <a:lnTo>
                      <a:pt x="649" y="1160"/>
                    </a:lnTo>
                    <a:lnTo>
                      <a:pt x="634" y="1141"/>
                    </a:lnTo>
                    <a:lnTo>
                      <a:pt x="616" y="1102"/>
                    </a:lnTo>
                    <a:lnTo>
                      <a:pt x="530" y="968"/>
                    </a:lnTo>
                    <a:lnTo>
                      <a:pt x="530" y="1018"/>
                    </a:lnTo>
                    <a:lnTo>
                      <a:pt x="583" y="1107"/>
                    </a:lnTo>
                    <a:lnTo>
                      <a:pt x="605" y="1183"/>
                    </a:lnTo>
                    <a:lnTo>
                      <a:pt x="573" y="1166"/>
                    </a:lnTo>
                    <a:lnTo>
                      <a:pt x="566" y="1121"/>
                    </a:lnTo>
                    <a:lnTo>
                      <a:pt x="523" y="1093"/>
                    </a:lnTo>
                    <a:lnTo>
                      <a:pt x="548" y="1077"/>
                    </a:lnTo>
                    <a:lnTo>
                      <a:pt x="491" y="1029"/>
                    </a:lnTo>
                    <a:lnTo>
                      <a:pt x="513" y="1002"/>
                    </a:lnTo>
                    <a:lnTo>
                      <a:pt x="493" y="946"/>
                    </a:lnTo>
                    <a:lnTo>
                      <a:pt x="423" y="829"/>
                    </a:lnTo>
                    <a:lnTo>
                      <a:pt x="415" y="762"/>
                    </a:lnTo>
                    <a:lnTo>
                      <a:pt x="419" y="712"/>
                    </a:lnTo>
                    <a:lnTo>
                      <a:pt x="437" y="657"/>
                    </a:lnTo>
                    <a:lnTo>
                      <a:pt x="437" y="601"/>
                    </a:lnTo>
                    <a:lnTo>
                      <a:pt x="423" y="568"/>
                    </a:lnTo>
                    <a:lnTo>
                      <a:pt x="462" y="556"/>
                    </a:lnTo>
                    <a:lnTo>
                      <a:pt x="415" y="490"/>
                    </a:lnTo>
                    <a:lnTo>
                      <a:pt x="417" y="459"/>
                    </a:lnTo>
                    <a:lnTo>
                      <a:pt x="396" y="417"/>
                    </a:lnTo>
                    <a:lnTo>
                      <a:pt x="404" y="392"/>
                    </a:lnTo>
                    <a:lnTo>
                      <a:pt x="390" y="378"/>
                    </a:lnTo>
                    <a:lnTo>
                      <a:pt x="388" y="351"/>
                    </a:lnTo>
                    <a:lnTo>
                      <a:pt x="374" y="328"/>
                    </a:lnTo>
                    <a:lnTo>
                      <a:pt x="390" y="309"/>
                    </a:lnTo>
                    <a:lnTo>
                      <a:pt x="367" y="295"/>
                    </a:lnTo>
                    <a:lnTo>
                      <a:pt x="349" y="314"/>
                    </a:lnTo>
                    <a:lnTo>
                      <a:pt x="322" y="275"/>
                    </a:lnTo>
                    <a:lnTo>
                      <a:pt x="293" y="264"/>
                    </a:lnTo>
                    <a:lnTo>
                      <a:pt x="252" y="264"/>
                    </a:lnTo>
                    <a:lnTo>
                      <a:pt x="226" y="300"/>
                    </a:lnTo>
                    <a:lnTo>
                      <a:pt x="213" y="289"/>
                    </a:lnTo>
                    <a:lnTo>
                      <a:pt x="236" y="242"/>
                    </a:lnTo>
                    <a:lnTo>
                      <a:pt x="216" y="250"/>
                    </a:lnTo>
                    <a:lnTo>
                      <a:pt x="174" y="300"/>
                    </a:lnTo>
                    <a:lnTo>
                      <a:pt x="131" y="345"/>
                    </a:lnTo>
                    <a:lnTo>
                      <a:pt x="92" y="356"/>
                    </a:lnTo>
                    <a:lnTo>
                      <a:pt x="27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71840" y="1038240"/>
                <a:ext cx="664560" cy="646200"/>
              </a:xfrm>
              <a:custGeom>
                <a:avLst/>
                <a:gdLst/>
                <a:ahLst/>
                <a:rect l="l" t="t" r="r" b="b"/>
                <a:pathLst>
                  <a:path w="454" h="407">
                    <a:moveTo>
                      <a:pt x="0" y="83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7" y="0"/>
                    </a:lnTo>
                    <a:lnTo>
                      <a:pt x="109" y="19"/>
                    </a:lnTo>
                    <a:lnTo>
                      <a:pt x="250" y="56"/>
                    </a:lnTo>
                    <a:lnTo>
                      <a:pt x="305" y="86"/>
                    </a:lnTo>
                    <a:lnTo>
                      <a:pt x="379" y="114"/>
                    </a:lnTo>
                    <a:lnTo>
                      <a:pt x="416" y="167"/>
                    </a:lnTo>
                    <a:lnTo>
                      <a:pt x="453" y="192"/>
                    </a:lnTo>
                    <a:lnTo>
                      <a:pt x="439" y="211"/>
                    </a:lnTo>
                    <a:lnTo>
                      <a:pt x="439" y="236"/>
                    </a:lnTo>
                    <a:lnTo>
                      <a:pt x="424" y="242"/>
                    </a:lnTo>
                    <a:lnTo>
                      <a:pt x="412" y="264"/>
                    </a:lnTo>
                    <a:lnTo>
                      <a:pt x="424" y="286"/>
                    </a:lnTo>
                    <a:lnTo>
                      <a:pt x="422" y="303"/>
                    </a:lnTo>
                    <a:lnTo>
                      <a:pt x="408" y="325"/>
                    </a:lnTo>
                    <a:lnTo>
                      <a:pt x="410" y="348"/>
                    </a:lnTo>
                    <a:lnTo>
                      <a:pt x="435" y="370"/>
                    </a:lnTo>
                    <a:lnTo>
                      <a:pt x="437" y="392"/>
                    </a:lnTo>
                    <a:lnTo>
                      <a:pt x="430" y="403"/>
                    </a:lnTo>
                    <a:lnTo>
                      <a:pt x="406" y="406"/>
                    </a:lnTo>
                    <a:lnTo>
                      <a:pt x="387" y="395"/>
                    </a:lnTo>
                    <a:lnTo>
                      <a:pt x="367" y="367"/>
                    </a:lnTo>
                    <a:lnTo>
                      <a:pt x="359" y="367"/>
                    </a:lnTo>
                    <a:lnTo>
                      <a:pt x="348" y="356"/>
                    </a:lnTo>
                    <a:lnTo>
                      <a:pt x="338" y="323"/>
                    </a:lnTo>
                    <a:lnTo>
                      <a:pt x="326" y="311"/>
                    </a:lnTo>
                    <a:lnTo>
                      <a:pt x="299" y="295"/>
                    </a:lnTo>
                    <a:lnTo>
                      <a:pt x="277" y="284"/>
                    </a:lnTo>
                    <a:lnTo>
                      <a:pt x="244" y="253"/>
                    </a:lnTo>
                    <a:lnTo>
                      <a:pt x="230" y="231"/>
                    </a:lnTo>
                    <a:lnTo>
                      <a:pt x="232" y="214"/>
                    </a:lnTo>
                    <a:lnTo>
                      <a:pt x="246" y="200"/>
                    </a:lnTo>
                    <a:lnTo>
                      <a:pt x="234" y="184"/>
                    </a:lnTo>
                    <a:lnTo>
                      <a:pt x="221" y="192"/>
                    </a:lnTo>
                    <a:lnTo>
                      <a:pt x="201" y="167"/>
                    </a:lnTo>
                    <a:lnTo>
                      <a:pt x="197" y="181"/>
                    </a:lnTo>
                    <a:lnTo>
                      <a:pt x="178" y="181"/>
                    </a:lnTo>
                    <a:lnTo>
                      <a:pt x="174" y="170"/>
                    </a:lnTo>
                    <a:lnTo>
                      <a:pt x="174" y="150"/>
                    </a:lnTo>
                    <a:lnTo>
                      <a:pt x="166" y="139"/>
                    </a:lnTo>
                    <a:lnTo>
                      <a:pt x="154" y="142"/>
                    </a:lnTo>
                    <a:lnTo>
                      <a:pt x="137" y="111"/>
                    </a:lnTo>
                    <a:lnTo>
                      <a:pt x="125" y="108"/>
                    </a:lnTo>
                    <a:lnTo>
                      <a:pt x="107" y="95"/>
                    </a:lnTo>
                    <a:lnTo>
                      <a:pt x="68" y="97"/>
                    </a:lnTo>
                    <a:lnTo>
                      <a:pt x="29" y="95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40080" y="1263600"/>
                <a:ext cx="423000" cy="333360"/>
              </a:xfrm>
              <a:custGeom>
                <a:avLst/>
                <a:gdLst/>
                <a:ahLst/>
                <a:rect l="l" t="t" r="r" b="b"/>
                <a:pathLst>
                  <a:path w="289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0" y="56"/>
                    </a:lnTo>
                    <a:lnTo>
                      <a:pt x="32" y="50"/>
                    </a:lnTo>
                    <a:lnTo>
                      <a:pt x="37" y="59"/>
                    </a:lnTo>
                    <a:lnTo>
                      <a:pt x="49" y="61"/>
                    </a:lnTo>
                    <a:lnTo>
                      <a:pt x="57" y="47"/>
                    </a:lnTo>
                    <a:lnTo>
                      <a:pt x="85" y="50"/>
                    </a:lnTo>
                    <a:lnTo>
                      <a:pt x="89" y="64"/>
                    </a:lnTo>
                    <a:lnTo>
                      <a:pt x="99" y="70"/>
                    </a:lnTo>
                    <a:lnTo>
                      <a:pt x="124" y="67"/>
                    </a:lnTo>
                    <a:lnTo>
                      <a:pt x="132" y="75"/>
                    </a:lnTo>
                    <a:lnTo>
                      <a:pt x="144" y="84"/>
                    </a:lnTo>
                    <a:lnTo>
                      <a:pt x="154" y="100"/>
                    </a:lnTo>
                    <a:lnTo>
                      <a:pt x="154" y="123"/>
                    </a:lnTo>
                    <a:lnTo>
                      <a:pt x="146" y="128"/>
                    </a:lnTo>
                    <a:lnTo>
                      <a:pt x="150" y="137"/>
                    </a:lnTo>
                    <a:lnTo>
                      <a:pt x="138" y="150"/>
                    </a:lnTo>
                    <a:lnTo>
                      <a:pt x="138" y="170"/>
                    </a:lnTo>
                    <a:lnTo>
                      <a:pt x="156" y="173"/>
                    </a:lnTo>
                    <a:lnTo>
                      <a:pt x="166" y="167"/>
                    </a:lnTo>
                    <a:lnTo>
                      <a:pt x="170" y="159"/>
                    </a:lnTo>
                    <a:lnTo>
                      <a:pt x="176" y="167"/>
                    </a:lnTo>
                    <a:lnTo>
                      <a:pt x="187" y="162"/>
                    </a:lnTo>
                    <a:lnTo>
                      <a:pt x="209" y="173"/>
                    </a:lnTo>
                    <a:lnTo>
                      <a:pt x="223" y="192"/>
                    </a:lnTo>
                    <a:lnTo>
                      <a:pt x="227" y="192"/>
                    </a:lnTo>
                    <a:lnTo>
                      <a:pt x="229" y="203"/>
                    </a:lnTo>
                    <a:lnTo>
                      <a:pt x="243" y="209"/>
                    </a:lnTo>
                    <a:lnTo>
                      <a:pt x="260" y="209"/>
                    </a:lnTo>
                    <a:lnTo>
                      <a:pt x="249" y="198"/>
                    </a:lnTo>
                    <a:lnTo>
                      <a:pt x="254" y="187"/>
                    </a:lnTo>
                    <a:lnTo>
                      <a:pt x="266" y="198"/>
                    </a:lnTo>
                    <a:lnTo>
                      <a:pt x="280" y="201"/>
                    </a:lnTo>
                    <a:lnTo>
                      <a:pt x="282" y="184"/>
                    </a:lnTo>
                    <a:lnTo>
                      <a:pt x="268" y="170"/>
                    </a:lnTo>
                    <a:lnTo>
                      <a:pt x="258" y="170"/>
                    </a:lnTo>
                    <a:lnTo>
                      <a:pt x="243" y="156"/>
                    </a:lnTo>
                    <a:lnTo>
                      <a:pt x="258" y="156"/>
                    </a:lnTo>
                    <a:lnTo>
                      <a:pt x="268" y="164"/>
                    </a:lnTo>
                    <a:lnTo>
                      <a:pt x="288" y="164"/>
                    </a:lnTo>
                    <a:lnTo>
                      <a:pt x="284" y="148"/>
                    </a:lnTo>
                    <a:lnTo>
                      <a:pt x="266" y="131"/>
                    </a:lnTo>
                    <a:lnTo>
                      <a:pt x="254" y="128"/>
                    </a:lnTo>
                    <a:lnTo>
                      <a:pt x="235" y="109"/>
                    </a:lnTo>
                    <a:lnTo>
                      <a:pt x="213" y="103"/>
                    </a:lnTo>
                    <a:lnTo>
                      <a:pt x="195" y="95"/>
                    </a:lnTo>
                    <a:lnTo>
                      <a:pt x="181" y="70"/>
                    </a:lnTo>
                    <a:lnTo>
                      <a:pt x="170" y="39"/>
                    </a:lnTo>
                    <a:lnTo>
                      <a:pt x="156" y="39"/>
                    </a:lnTo>
                    <a:lnTo>
                      <a:pt x="152" y="31"/>
                    </a:lnTo>
                    <a:lnTo>
                      <a:pt x="144" y="33"/>
                    </a:lnTo>
                    <a:lnTo>
                      <a:pt x="130" y="20"/>
                    </a:lnTo>
                    <a:lnTo>
                      <a:pt x="105" y="14"/>
                    </a:lnTo>
                    <a:lnTo>
                      <a:pt x="95" y="22"/>
                    </a:lnTo>
                    <a:lnTo>
                      <a:pt x="73" y="14"/>
                    </a:lnTo>
                    <a:lnTo>
                      <a:pt x="59" y="14"/>
                    </a:lnTo>
                    <a:lnTo>
                      <a:pt x="53" y="3"/>
                    </a:lnTo>
                    <a:lnTo>
                      <a:pt x="47" y="0"/>
                    </a:lnTo>
                    <a:lnTo>
                      <a:pt x="37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82000" y="3114720"/>
                <a:ext cx="299880" cy="154080"/>
              </a:xfrm>
              <a:custGeom>
                <a:avLst/>
                <a:gdLst/>
                <a:ahLst/>
                <a:rect l="l" t="t" r="r" b="b"/>
                <a:pathLst>
                  <a:path w="205" h="97">
                    <a:moveTo>
                      <a:pt x="0" y="48"/>
                    </a:moveTo>
                    <a:lnTo>
                      <a:pt x="18" y="20"/>
                    </a:lnTo>
                    <a:lnTo>
                      <a:pt x="26" y="20"/>
                    </a:lnTo>
                    <a:lnTo>
                      <a:pt x="40" y="6"/>
                    </a:lnTo>
                    <a:lnTo>
                      <a:pt x="57" y="6"/>
                    </a:lnTo>
                    <a:lnTo>
                      <a:pt x="61" y="3"/>
                    </a:lnTo>
                    <a:lnTo>
                      <a:pt x="67" y="0"/>
                    </a:lnTo>
                    <a:lnTo>
                      <a:pt x="87" y="17"/>
                    </a:lnTo>
                    <a:lnTo>
                      <a:pt x="93" y="28"/>
                    </a:lnTo>
                    <a:lnTo>
                      <a:pt x="97" y="23"/>
                    </a:lnTo>
                    <a:lnTo>
                      <a:pt x="113" y="34"/>
                    </a:lnTo>
                    <a:lnTo>
                      <a:pt x="123" y="34"/>
                    </a:lnTo>
                    <a:lnTo>
                      <a:pt x="131" y="42"/>
                    </a:lnTo>
                    <a:lnTo>
                      <a:pt x="145" y="48"/>
                    </a:lnTo>
                    <a:lnTo>
                      <a:pt x="145" y="62"/>
                    </a:lnTo>
                    <a:lnTo>
                      <a:pt x="172" y="62"/>
                    </a:lnTo>
                    <a:lnTo>
                      <a:pt x="178" y="76"/>
                    </a:lnTo>
                    <a:lnTo>
                      <a:pt x="194" y="76"/>
                    </a:lnTo>
                    <a:lnTo>
                      <a:pt x="204" y="93"/>
                    </a:lnTo>
                    <a:lnTo>
                      <a:pt x="198" y="96"/>
                    </a:lnTo>
                    <a:lnTo>
                      <a:pt x="194" y="90"/>
                    </a:lnTo>
                    <a:lnTo>
                      <a:pt x="192" y="88"/>
                    </a:lnTo>
                    <a:lnTo>
                      <a:pt x="178" y="90"/>
                    </a:lnTo>
                    <a:lnTo>
                      <a:pt x="174" y="93"/>
                    </a:lnTo>
                    <a:lnTo>
                      <a:pt x="162" y="96"/>
                    </a:lnTo>
                    <a:lnTo>
                      <a:pt x="143" y="96"/>
                    </a:lnTo>
                    <a:lnTo>
                      <a:pt x="131" y="96"/>
                    </a:lnTo>
                    <a:lnTo>
                      <a:pt x="131" y="88"/>
                    </a:lnTo>
                    <a:lnTo>
                      <a:pt x="113" y="65"/>
                    </a:lnTo>
                    <a:lnTo>
                      <a:pt x="113" y="51"/>
                    </a:lnTo>
                    <a:lnTo>
                      <a:pt x="93" y="51"/>
                    </a:lnTo>
                    <a:lnTo>
                      <a:pt x="85" y="42"/>
                    </a:lnTo>
                    <a:lnTo>
                      <a:pt x="79" y="51"/>
                    </a:lnTo>
                    <a:lnTo>
                      <a:pt x="73" y="40"/>
                    </a:lnTo>
                    <a:lnTo>
                      <a:pt x="67" y="40"/>
                    </a:lnTo>
                    <a:lnTo>
                      <a:pt x="67" y="25"/>
                    </a:lnTo>
                    <a:lnTo>
                      <a:pt x="61" y="20"/>
                    </a:lnTo>
                    <a:lnTo>
                      <a:pt x="42" y="23"/>
                    </a:lnTo>
                    <a:lnTo>
                      <a:pt x="30" y="40"/>
                    </a:lnTo>
                    <a:lnTo>
                      <a:pt x="16" y="42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42640" y="3224160"/>
                <a:ext cx="200520" cy="133200"/>
              </a:xfrm>
              <a:custGeom>
                <a:avLst/>
                <a:gdLst/>
                <a:ahLst/>
                <a:rect l="l" t="t" r="r" b="b"/>
                <a:pathLst>
                  <a:path w="137" h="84">
                    <a:moveTo>
                      <a:pt x="0" y="63"/>
                    </a:moveTo>
                    <a:lnTo>
                      <a:pt x="13" y="66"/>
                    </a:lnTo>
                    <a:lnTo>
                      <a:pt x="43" y="63"/>
                    </a:lnTo>
                    <a:lnTo>
                      <a:pt x="55" y="80"/>
                    </a:lnTo>
                    <a:lnTo>
                      <a:pt x="72" y="83"/>
                    </a:lnTo>
                    <a:lnTo>
                      <a:pt x="81" y="63"/>
                    </a:lnTo>
                    <a:lnTo>
                      <a:pt x="77" y="57"/>
                    </a:lnTo>
                    <a:lnTo>
                      <a:pt x="85" y="49"/>
                    </a:lnTo>
                    <a:lnTo>
                      <a:pt x="102" y="63"/>
                    </a:lnTo>
                    <a:lnTo>
                      <a:pt x="115" y="63"/>
                    </a:lnTo>
                    <a:lnTo>
                      <a:pt x="115" y="54"/>
                    </a:lnTo>
                    <a:lnTo>
                      <a:pt x="123" y="54"/>
                    </a:lnTo>
                    <a:lnTo>
                      <a:pt x="136" y="40"/>
                    </a:lnTo>
                    <a:lnTo>
                      <a:pt x="128" y="37"/>
                    </a:lnTo>
                    <a:lnTo>
                      <a:pt x="128" y="23"/>
                    </a:lnTo>
                    <a:lnTo>
                      <a:pt x="128" y="11"/>
                    </a:lnTo>
                    <a:lnTo>
                      <a:pt x="108" y="9"/>
                    </a:lnTo>
                    <a:lnTo>
                      <a:pt x="94" y="11"/>
                    </a:lnTo>
                    <a:lnTo>
                      <a:pt x="81" y="11"/>
                    </a:lnTo>
                    <a:lnTo>
                      <a:pt x="62" y="9"/>
                    </a:lnTo>
                    <a:lnTo>
                      <a:pt x="47" y="0"/>
                    </a:lnTo>
                    <a:lnTo>
                      <a:pt x="43" y="9"/>
                    </a:lnTo>
                    <a:lnTo>
                      <a:pt x="40" y="26"/>
                    </a:lnTo>
                    <a:lnTo>
                      <a:pt x="26" y="26"/>
                    </a:lnTo>
                    <a:lnTo>
                      <a:pt x="21" y="40"/>
                    </a:lnTo>
                    <a:lnTo>
                      <a:pt x="13" y="46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20960" y="3595680"/>
                <a:ext cx="1240200" cy="2690640"/>
              </a:xfrm>
              <a:custGeom>
                <a:avLst/>
                <a:gdLst/>
                <a:ahLst/>
                <a:rect l="l" t="t" r="r" b="b"/>
                <a:pathLst>
                  <a:path w="847" h="1695">
                    <a:moveTo>
                      <a:pt x="66" y="75"/>
                    </a:moveTo>
                    <a:lnTo>
                      <a:pt x="76" y="56"/>
                    </a:lnTo>
                    <a:lnTo>
                      <a:pt x="97" y="28"/>
                    </a:lnTo>
                    <a:lnTo>
                      <a:pt x="128" y="11"/>
                    </a:lnTo>
                    <a:lnTo>
                      <a:pt x="144" y="0"/>
                    </a:lnTo>
                    <a:lnTo>
                      <a:pt x="161" y="3"/>
                    </a:lnTo>
                    <a:lnTo>
                      <a:pt x="156" y="17"/>
                    </a:lnTo>
                    <a:lnTo>
                      <a:pt x="138" y="31"/>
                    </a:lnTo>
                    <a:lnTo>
                      <a:pt x="134" y="59"/>
                    </a:lnTo>
                    <a:lnTo>
                      <a:pt x="138" y="81"/>
                    </a:lnTo>
                    <a:lnTo>
                      <a:pt x="154" y="81"/>
                    </a:lnTo>
                    <a:lnTo>
                      <a:pt x="161" y="56"/>
                    </a:lnTo>
                    <a:lnTo>
                      <a:pt x="165" y="31"/>
                    </a:lnTo>
                    <a:lnTo>
                      <a:pt x="175" y="39"/>
                    </a:lnTo>
                    <a:lnTo>
                      <a:pt x="187" y="53"/>
                    </a:lnTo>
                    <a:lnTo>
                      <a:pt x="208" y="47"/>
                    </a:lnTo>
                    <a:lnTo>
                      <a:pt x="220" y="59"/>
                    </a:lnTo>
                    <a:lnTo>
                      <a:pt x="224" y="72"/>
                    </a:lnTo>
                    <a:lnTo>
                      <a:pt x="255" y="67"/>
                    </a:lnTo>
                    <a:lnTo>
                      <a:pt x="317" y="59"/>
                    </a:lnTo>
                    <a:lnTo>
                      <a:pt x="340" y="103"/>
                    </a:lnTo>
                    <a:lnTo>
                      <a:pt x="379" y="125"/>
                    </a:lnTo>
                    <a:lnTo>
                      <a:pt x="377" y="145"/>
                    </a:lnTo>
                    <a:lnTo>
                      <a:pt x="393" y="134"/>
                    </a:lnTo>
                    <a:lnTo>
                      <a:pt x="412" y="134"/>
                    </a:lnTo>
                    <a:lnTo>
                      <a:pt x="434" y="153"/>
                    </a:lnTo>
                    <a:lnTo>
                      <a:pt x="461" y="150"/>
                    </a:lnTo>
                    <a:lnTo>
                      <a:pt x="484" y="153"/>
                    </a:lnTo>
                    <a:lnTo>
                      <a:pt x="521" y="189"/>
                    </a:lnTo>
                    <a:lnTo>
                      <a:pt x="560" y="234"/>
                    </a:lnTo>
                    <a:lnTo>
                      <a:pt x="576" y="284"/>
                    </a:lnTo>
                    <a:lnTo>
                      <a:pt x="566" y="323"/>
                    </a:lnTo>
                    <a:lnTo>
                      <a:pt x="613" y="337"/>
                    </a:lnTo>
                    <a:lnTo>
                      <a:pt x="692" y="357"/>
                    </a:lnTo>
                    <a:lnTo>
                      <a:pt x="772" y="379"/>
                    </a:lnTo>
                    <a:lnTo>
                      <a:pt x="823" y="424"/>
                    </a:lnTo>
                    <a:lnTo>
                      <a:pt x="846" y="465"/>
                    </a:lnTo>
                    <a:lnTo>
                      <a:pt x="846" y="518"/>
                    </a:lnTo>
                    <a:lnTo>
                      <a:pt x="825" y="566"/>
                    </a:lnTo>
                    <a:lnTo>
                      <a:pt x="803" y="591"/>
                    </a:lnTo>
                    <a:lnTo>
                      <a:pt x="788" y="607"/>
                    </a:lnTo>
                    <a:lnTo>
                      <a:pt x="772" y="641"/>
                    </a:lnTo>
                    <a:lnTo>
                      <a:pt x="770" y="671"/>
                    </a:lnTo>
                    <a:lnTo>
                      <a:pt x="772" y="710"/>
                    </a:lnTo>
                    <a:lnTo>
                      <a:pt x="764" y="749"/>
                    </a:lnTo>
                    <a:lnTo>
                      <a:pt x="751" y="758"/>
                    </a:lnTo>
                    <a:lnTo>
                      <a:pt x="747" y="780"/>
                    </a:lnTo>
                    <a:lnTo>
                      <a:pt x="733" y="797"/>
                    </a:lnTo>
                    <a:lnTo>
                      <a:pt x="731" y="816"/>
                    </a:lnTo>
                    <a:lnTo>
                      <a:pt x="712" y="839"/>
                    </a:lnTo>
                    <a:lnTo>
                      <a:pt x="683" y="878"/>
                    </a:lnTo>
                    <a:lnTo>
                      <a:pt x="659" y="889"/>
                    </a:lnTo>
                    <a:lnTo>
                      <a:pt x="642" y="886"/>
                    </a:lnTo>
                    <a:lnTo>
                      <a:pt x="611" y="906"/>
                    </a:lnTo>
                    <a:lnTo>
                      <a:pt x="580" y="950"/>
                    </a:lnTo>
                    <a:lnTo>
                      <a:pt x="574" y="967"/>
                    </a:lnTo>
                    <a:lnTo>
                      <a:pt x="574" y="989"/>
                    </a:lnTo>
                    <a:lnTo>
                      <a:pt x="580" y="1014"/>
                    </a:lnTo>
                    <a:lnTo>
                      <a:pt x="566" y="1039"/>
                    </a:lnTo>
                    <a:lnTo>
                      <a:pt x="566" y="1059"/>
                    </a:lnTo>
                    <a:lnTo>
                      <a:pt x="541" y="1081"/>
                    </a:lnTo>
                    <a:lnTo>
                      <a:pt x="523" y="1098"/>
                    </a:lnTo>
                    <a:lnTo>
                      <a:pt x="508" y="1123"/>
                    </a:lnTo>
                    <a:lnTo>
                      <a:pt x="502" y="1148"/>
                    </a:lnTo>
                    <a:lnTo>
                      <a:pt x="482" y="1179"/>
                    </a:lnTo>
                    <a:lnTo>
                      <a:pt x="473" y="1173"/>
                    </a:lnTo>
                    <a:lnTo>
                      <a:pt x="457" y="1173"/>
                    </a:lnTo>
                    <a:lnTo>
                      <a:pt x="436" y="1184"/>
                    </a:lnTo>
                    <a:lnTo>
                      <a:pt x="451" y="1198"/>
                    </a:lnTo>
                    <a:lnTo>
                      <a:pt x="451" y="1226"/>
                    </a:lnTo>
                    <a:lnTo>
                      <a:pt x="449" y="1248"/>
                    </a:lnTo>
                    <a:lnTo>
                      <a:pt x="438" y="1265"/>
                    </a:lnTo>
                    <a:lnTo>
                      <a:pt x="412" y="1268"/>
                    </a:lnTo>
                    <a:lnTo>
                      <a:pt x="391" y="1276"/>
                    </a:lnTo>
                    <a:lnTo>
                      <a:pt x="381" y="1293"/>
                    </a:lnTo>
                    <a:lnTo>
                      <a:pt x="381" y="1321"/>
                    </a:lnTo>
                    <a:lnTo>
                      <a:pt x="356" y="1323"/>
                    </a:lnTo>
                    <a:lnTo>
                      <a:pt x="336" y="1321"/>
                    </a:lnTo>
                    <a:lnTo>
                      <a:pt x="329" y="1332"/>
                    </a:lnTo>
                    <a:lnTo>
                      <a:pt x="340" y="1343"/>
                    </a:lnTo>
                    <a:lnTo>
                      <a:pt x="333" y="1385"/>
                    </a:lnTo>
                    <a:lnTo>
                      <a:pt x="325" y="1421"/>
                    </a:lnTo>
                    <a:lnTo>
                      <a:pt x="298" y="1421"/>
                    </a:lnTo>
                    <a:lnTo>
                      <a:pt x="290" y="1435"/>
                    </a:lnTo>
                    <a:lnTo>
                      <a:pt x="292" y="1463"/>
                    </a:lnTo>
                    <a:lnTo>
                      <a:pt x="307" y="1463"/>
                    </a:lnTo>
                    <a:lnTo>
                      <a:pt x="317" y="1479"/>
                    </a:lnTo>
                    <a:lnTo>
                      <a:pt x="311" y="1507"/>
                    </a:lnTo>
                    <a:lnTo>
                      <a:pt x="296" y="1510"/>
                    </a:lnTo>
                    <a:lnTo>
                      <a:pt x="274" y="1521"/>
                    </a:lnTo>
                    <a:lnTo>
                      <a:pt x="268" y="1544"/>
                    </a:lnTo>
                    <a:lnTo>
                      <a:pt x="266" y="1577"/>
                    </a:lnTo>
                    <a:lnTo>
                      <a:pt x="251" y="1594"/>
                    </a:lnTo>
                    <a:lnTo>
                      <a:pt x="303" y="1649"/>
                    </a:lnTo>
                    <a:lnTo>
                      <a:pt x="317" y="1677"/>
                    </a:lnTo>
                    <a:lnTo>
                      <a:pt x="309" y="1694"/>
                    </a:lnTo>
                    <a:lnTo>
                      <a:pt x="286" y="1683"/>
                    </a:lnTo>
                    <a:lnTo>
                      <a:pt x="268" y="1661"/>
                    </a:lnTo>
                    <a:lnTo>
                      <a:pt x="241" y="1644"/>
                    </a:lnTo>
                    <a:lnTo>
                      <a:pt x="216" y="1616"/>
                    </a:lnTo>
                    <a:lnTo>
                      <a:pt x="200" y="1583"/>
                    </a:lnTo>
                    <a:lnTo>
                      <a:pt x="198" y="1555"/>
                    </a:lnTo>
                    <a:lnTo>
                      <a:pt x="202" y="1532"/>
                    </a:lnTo>
                    <a:lnTo>
                      <a:pt x="200" y="1351"/>
                    </a:lnTo>
                    <a:lnTo>
                      <a:pt x="193" y="1321"/>
                    </a:lnTo>
                    <a:lnTo>
                      <a:pt x="175" y="1287"/>
                    </a:lnTo>
                    <a:lnTo>
                      <a:pt x="175" y="1257"/>
                    </a:lnTo>
                    <a:lnTo>
                      <a:pt x="187" y="1220"/>
                    </a:lnTo>
                    <a:lnTo>
                      <a:pt x="198" y="1176"/>
                    </a:lnTo>
                    <a:lnTo>
                      <a:pt x="193" y="1131"/>
                    </a:lnTo>
                    <a:lnTo>
                      <a:pt x="191" y="1112"/>
                    </a:lnTo>
                    <a:lnTo>
                      <a:pt x="189" y="1087"/>
                    </a:lnTo>
                    <a:lnTo>
                      <a:pt x="196" y="1075"/>
                    </a:lnTo>
                    <a:lnTo>
                      <a:pt x="200" y="1025"/>
                    </a:lnTo>
                    <a:lnTo>
                      <a:pt x="196" y="1000"/>
                    </a:lnTo>
                    <a:lnTo>
                      <a:pt x="204" y="939"/>
                    </a:lnTo>
                    <a:lnTo>
                      <a:pt x="196" y="886"/>
                    </a:lnTo>
                    <a:lnTo>
                      <a:pt x="202" y="858"/>
                    </a:lnTo>
                    <a:lnTo>
                      <a:pt x="212" y="805"/>
                    </a:lnTo>
                    <a:lnTo>
                      <a:pt x="202" y="772"/>
                    </a:lnTo>
                    <a:lnTo>
                      <a:pt x="181" y="747"/>
                    </a:lnTo>
                    <a:lnTo>
                      <a:pt x="175" y="719"/>
                    </a:lnTo>
                    <a:lnTo>
                      <a:pt x="152" y="694"/>
                    </a:lnTo>
                    <a:lnTo>
                      <a:pt x="128" y="677"/>
                    </a:lnTo>
                    <a:lnTo>
                      <a:pt x="93" y="669"/>
                    </a:lnTo>
                    <a:lnTo>
                      <a:pt x="76" y="632"/>
                    </a:lnTo>
                    <a:lnTo>
                      <a:pt x="54" y="596"/>
                    </a:lnTo>
                    <a:lnTo>
                      <a:pt x="51" y="566"/>
                    </a:lnTo>
                    <a:lnTo>
                      <a:pt x="49" y="538"/>
                    </a:lnTo>
                    <a:lnTo>
                      <a:pt x="43" y="518"/>
                    </a:lnTo>
                    <a:lnTo>
                      <a:pt x="31" y="496"/>
                    </a:lnTo>
                    <a:lnTo>
                      <a:pt x="14" y="485"/>
                    </a:lnTo>
                    <a:lnTo>
                      <a:pt x="2" y="463"/>
                    </a:lnTo>
                    <a:lnTo>
                      <a:pt x="16" y="443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5"/>
                    </a:lnTo>
                    <a:lnTo>
                      <a:pt x="8" y="309"/>
                    </a:lnTo>
                    <a:lnTo>
                      <a:pt x="41" y="220"/>
                    </a:lnTo>
                    <a:lnTo>
                      <a:pt x="43" y="181"/>
                    </a:lnTo>
                    <a:lnTo>
                      <a:pt x="62" y="139"/>
                    </a:lnTo>
                    <a:lnTo>
                      <a:pt x="62" y="117"/>
                    </a:lnTo>
                    <a:lnTo>
                      <a:pt x="66" y="75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1434960" y="1916280"/>
            <a:ext cx="659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A Global Approach for Ex-Produ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IEC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UNECE WP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Gen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19.-21.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1520" y="588960"/>
            <a:ext cx="790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osal for a new activity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International legal requirements for explosion prot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73920" y="1539720"/>
            <a:ext cx="7668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product sector with global 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re mainly manufactured in accordance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EC/IS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theless trade barriers caused by national legisl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but not caused by technical certification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83340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960" y="471024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&gt; Project fits to “International Model” of UNE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2040" y="83340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3400" y="1628640"/>
            <a:ext cx="77734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for Hazardous Locations need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tect workers and the environment all over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nee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rd party certif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plac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n the market in many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Standards IEC/ISO are the basis for 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x-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laws and regulations emphasize the mandato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pproval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tional author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mestically recogniz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notified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54040" y="2693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41440" y="1125360"/>
            <a:ext cx="8385480" cy="4444920"/>
            <a:chOff x="541440" y="1125360"/>
            <a:chExt cx="8385480" cy="4444920"/>
          </a:xfrm>
        </p:grpSpPr>
        <p:graphicFrame>
          <p:nvGraphicFramePr>
            <p:cNvPr id="84" name=""/>
            <p:cNvGraphicFramePr/>
            <p:nvPr/>
          </p:nvGraphicFramePr>
          <p:xfrm>
            <a:off x="1146240" y="1125360"/>
            <a:ext cx="6446880" cy="444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6240" y="1125360"/>
                      <a:ext cx="6446880" cy="444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1906920" y="165888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526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46960" y="1582560"/>
              <a:ext cx="141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Enclo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32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4720" y="44020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Mo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217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9560" y="4370040"/>
              <a:ext cx="22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Operator 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7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1440" y="363996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Switchg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115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7840" y="3259080"/>
              <a:ext cx="19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Instru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16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3280" y="421776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Ligh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€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245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85560" y="2421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0960" y="28926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9080" y="3564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3360" y="37926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66040" y="3564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91760" y="3411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1840" y="2573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8080" y="762120"/>
            <a:ext cx="62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Volume in Europe in 200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1440" y="5300640"/>
            <a:ext cx="552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Market Volume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000 millio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58640" y="1628640"/>
            <a:ext cx="8685000" cy="4046760"/>
            <a:chOff x="458640" y="1628640"/>
            <a:chExt cx="8685000" cy="4046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8640" y="3895560"/>
              <a:ext cx="272412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58640" y="1628640"/>
              <a:ext cx="2747880" cy="17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470280" y="3894120"/>
              <a:ext cx="263052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6467400" y="1673280"/>
              <a:ext cx="2676240" cy="17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3484440" y="1658880"/>
              <a:ext cx="2678040" cy="17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3476520" y="3890880"/>
              <a:ext cx="275112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037160" y="76500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of the Indust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x-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1546200"/>
            <a:ext cx="84056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hemical and petroleum industry act more and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with a single engineering approach for their pla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rn savings of engineering, installat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uy the equipment in a larger number and to get a be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per 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benefit from the global competition under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against this tendency are domestic rules and reg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requi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al engineering for the pl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coun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755640" y="1628640"/>
            <a:ext cx="7703640" cy="4983120"/>
            <a:chOff x="755640" y="1628640"/>
            <a:chExt cx="7703640" cy="4983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0" t="0" r="35494" b="0"/>
            <a:stretch/>
          </p:blipFill>
          <p:spPr>
            <a:xfrm>
              <a:off x="755640" y="1628640"/>
              <a:ext cx="2022120" cy="21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011640" y="4365360"/>
              <a:ext cx="2447640" cy="22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3132000" y="2852640"/>
              <a:ext cx="226476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1541880" y="561960"/>
            <a:ext cx="704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of the Indust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ufact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-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800" y="1528560"/>
            <a:ext cx="76327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nt to sell and manufacture thei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dditional national differences for the produc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delays to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cordance to one global standard (IEC /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double-testing of their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formal restrictions to place it on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57524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against this tendency are domestic rules and regulations which requi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al differences for the 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country to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8480" y="76500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IECEx-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480" y="1700280"/>
            <a:ext cx="76118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Ex found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ound of peer assessments and developmen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f operational rules and forms (1997 –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ce mutual acceptance of IECEx Test Repo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ExTRs), to fast-track national certification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Ex internet based “On-Line” Certificates ma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vailable (2003, more than xxx existing certificates to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 Ex-Certification bodies approved by peer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93560" y="1254240"/>
            <a:ext cx="8609760" cy="5248080"/>
            <a:chOff x="493560" y="1254240"/>
            <a:chExt cx="8609760" cy="5248080"/>
          </a:xfrm>
        </p:grpSpPr>
        <p:grpSp>
          <p:nvGrpSpPr>
            <p:cNvPr id="122" name=""/>
            <p:cNvGrpSpPr/>
            <p:nvPr/>
          </p:nvGrpSpPr>
          <p:grpSpPr>
            <a:xfrm>
              <a:off x="3929400" y="1257480"/>
              <a:ext cx="5173920" cy="4881600"/>
              <a:chOff x="3929400" y="1257480"/>
              <a:chExt cx="5173920" cy="48816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8342280" y="4361040"/>
                <a:ext cx="761040" cy="1778040"/>
                <a:chOff x="8342280" y="4361040"/>
                <a:chExt cx="761040" cy="177804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8342280" y="5618160"/>
                  <a:ext cx="761040" cy="520920"/>
                  <a:chOff x="8342280" y="5618160"/>
                  <a:chExt cx="761040" cy="5209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980200" y="5618160"/>
                    <a:ext cx="1231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99">
                        <a:moveTo>
                          <a:pt x="27" y="3"/>
                        </a:moveTo>
                        <a:lnTo>
                          <a:pt x="35" y="0"/>
                        </a:lnTo>
                        <a:lnTo>
                          <a:pt x="50" y="22"/>
                        </a:lnTo>
                        <a:lnTo>
                          <a:pt x="48" y="85"/>
                        </a:lnTo>
                        <a:lnTo>
                          <a:pt x="58" y="85"/>
                        </a:lnTo>
                        <a:lnTo>
                          <a:pt x="60" y="94"/>
                        </a:lnTo>
                        <a:lnTo>
                          <a:pt x="64" y="107"/>
                        </a:lnTo>
                        <a:lnTo>
                          <a:pt x="66" y="116"/>
                        </a:lnTo>
                        <a:lnTo>
                          <a:pt x="75" y="113"/>
                        </a:lnTo>
                        <a:lnTo>
                          <a:pt x="81" y="99"/>
                        </a:lnTo>
                        <a:lnTo>
                          <a:pt x="83" y="107"/>
                        </a:lnTo>
                        <a:lnTo>
                          <a:pt x="79" y="118"/>
                        </a:lnTo>
                        <a:lnTo>
                          <a:pt x="75" y="127"/>
                        </a:lnTo>
                        <a:lnTo>
                          <a:pt x="73" y="143"/>
                        </a:lnTo>
                        <a:lnTo>
                          <a:pt x="62" y="151"/>
                        </a:lnTo>
                        <a:lnTo>
                          <a:pt x="56" y="154"/>
                        </a:lnTo>
                        <a:lnTo>
                          <a:pt x="48" y="162"/>
                        </a:lnTo>
                        <a:lnTo>
                          <a:pt x="46" y="171"/>
                        </a:lnTo>
                        <a:lnTo>
                          <a:pt x="48" y="179"/>
                        </a:lnTo>
                        <a:lnTo>
                          <a:pt x="50" y="187"/>
                        </a:lnTo>
                        <a:lnTo>
                          <a:pt x="39" y="193"/>
                        </a:lnTo>
                        <a:lnTo>
                          <a:pt x="33" y="195"/>
                        </a:lnTo>
                        <a:lnTo>
                          <a:pt x="27" y="198"/>
                        </a:lnTo>
                        <a:lnTo>
                          <a:pt x="23" y="195"/>
                        </a:lnTo>
                        <a:lnTo>
                          <a:pt x="12" y="193"/>
                        </a:lnTo>
                        <a:lnTo>
                          <a:pt x="8" y="187"/>
                        </a:lnTo>
                        <a:lnTo>
                          <a:pt x="12" y="182"/>
                        </a:lnTo>
                        <a:lnTo>
                          <a:pt x="21" y="179"/>
                        </a:lnTo>
                        <a:lnTo>
                          <a:pt x="27" y="165"/>
                        </a:lnTo>
                        <a:lnTo>
                          <a:pt x="27" y="160"/>
                        </a:lnTo>
                        <a:lnTo>
                          <a:pt x="21" y="154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3"/>
                        </a:lnTo>
                        <a:lnTo>
                          <a:pt x="0" y="135"/>
                        </a:lnTo>
                        <a:lnTo>
                          <a:pt x="2" y="129"/>
                        </a:lnTo>
                        <a:lnTo>
                          <a:pt x="6" y="129"/>
                        </a:lnTo>
                        <a:lnTo>
                          <a:pt x="12" y="127"/>
                        </a:lnTo>
                        <a:lnTo>
                          <a:pt x="21" y="118"/>
                        </a:lnTo>
                        <a:lnTo>
                          <a:pt x="25" y="116"/>
                        </a:lnTo>
                        <a:lnTo>
                          <a:pt x="29" y="85"/>
                        </a:lnTo>
                        <a:lnTo>
                          <a:pt x="25" y="77"/>
                        </a:lnTo>
                        <a:lnTo>
                          <a:pt x="19" y="72"/>
                        </a:lnTo>
                        <a:lnTo>
                          <a:pt x="17" y="55"/>
                        </a:lnTo>
                        <a:lnTo>
                          <a:pt x="19" y="39"/>
                        </a:lnTo>
                        <a:lnTo>
                          <a:pt x="21" y="28"/>
                        </a:lnTo>
                        <a:lnTo>
                          <a:pt x="27" y="3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747640" y="5870520"/>
                    <a:ext cx="2253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69"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53" y="44"/>
                        </a:lnTo>
                        <a:lnTo>
                          <a:pt x="124" y="83"/>
                        </a:lnTo>
                        <a:lnTo>
                          <a:pt x="124" y="99"/>
                        </a:lnTo>
                        <a:lnTo>
                          <a:pt x="118" y="105"/>
                        </a:lnTo>
                        <a:lnTo>
                          <a:pt x="101" y="105"/>
                        </a:lnTo>
                        <a:lnTo>
                          <a:pt x="81" y="127"/>
                        </a:lnTo>
                        <a:lnTo>
                          <a:pt x="62" y="149"/>
                        </a:lnTo>
                        <a:lnTo>
                          <a:pt x="50" y="168"/>
                        </a:lnTo>
                        <a:lnTo>
                          <a:pt x="50" y="151"/>
                        </a:lnTo>
                        <a:lnTo>
                          <a:pt x="27" y="154"/>
                        </a:lnTo>
                        <a:lnTo>
                          <a:pt x="17" y="154"/>
                        </a:lnTo>
                        <a:lnTo>
                          <a:pt x="0" y="154"/>
                        </a:lnTo>
                        <a:lnTo>
                          <a:pt x="23" y="127"/>
                        </a:lnTo>
                        <a:lnTo>
                          <a:pt x="31" y="113"/>
                        </a:lnTo>
                        <a:lnTo>
                          <a:pt x="39" y="113"/>
                        </a:lnTo>
                        <a:lnTo>
                          <a:pt x="56" y="91"/>
                        </a:lnTo>
                        <a:lnTo>
                          <a:pt x="62" y="91"/>
                        </a:lnTo>
                        <a:lnTo>
                          <a:pt x="62" y="88"/>
                        </a:lnTo>
                        <a:lnTo>
                          <a:pt x="70" y="80"/>
                        </a:lnTo>
                        <a:lnTo>
                          <a:pt x="81" y="80"/>
                        </a:lnTo>
                        <a:lnTo>
                          <a:pt x="77" y="55"/>
                        </a:lnTo>
                        <a:lnTo>
                          <a:pt x="79" y="55"/>
                        </a:lnTo>
                        <a:lnTo>
                          <a:pt x="89" y="41"/>
                        </a:lnTo>
                        <a:lnTo>
                          <a:pt x="93" y="52"/>
                        </a:lnTo>
                        <a:lnTo>
                          <a:pt x="110" y="33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342280" y="5884920"/>
                    <a:ext cx="86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7" y="11"/>
                        </a:lnTo>
                        <a:lnTo>
                          <a:pt x="58" y="11"/>
                        </a:lnTo>
                        <a:lnTo>
                          <a:pt x="54" y="25"/>
                        </a:lnTo>
                        <a:lnTo>
                          <a:pt x="58" y="42"/>
                        </a:lnTo>
                        <a:lnTo>
                          <a:pt x="48" y="42"/>
                        </a:lnTo>
                        <a:lnTo>
                          <a:pt x="46" y="45"/>
                        </a:lnTo>
                        <a:lnTo>
                          <a:pt x="39" y="47"/>
                        </a:lnTo>
                        <a:lnTo>
                          <a:pt x="46" y="89"/>
                        </a:lnTo>
                        <a:lnTo>
                          <a:pt x="27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8497080" y="4361040"/>
                  <a:ext cx="137520" cy="160200"/>
                </a:xfrm>
                <a:custGeom>
                  <a:avLst/>
                  <a:gdLst/>
                  <a:ahLst/>
                  <a:rect l="l" t="t" r="r" b="b"/>
                  <a:pathLst>
                    <a:path w="94" h="101">
                      <a:moveTo>
                        <a:pt x="17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3" y="100"/>
                      </a:lnTo>
                      <a:lnTo>
                        <a:pt x="56" y="100"/>
                      </a:lnTo>
                      <a:lnTo>
                        <a:pt x="64" y="83"/>
                      </a:lnTo>
                      <a:lnTo>
                        <a:pt x="68" y="66"/>
                      </a:lnTo>
                      <a:lnTo>
                        <a:pt x="93" y="66"/>
                      </a:lnTo>
                      <a:lnTo>
                        <a:pt x="89" y="40"/>
                      </a:lnTo>
                      <a:lnTo>
                        <a:pt x="89" y="14"/>
                      </a:lnTo>
                      <a:lnTo>
                        <a:pt x="64" y="0"/>
                      </a:lnTo>
                      <a:lnTo>
                        <a:pt x="62" y="29"/>
                      </a:lnTo>
                      <a:lnTo>
                        <a:pt x="76" y="46"/>
                      </a:lnTo>
                      <a:lnTo>
                        <a:pt x="54" y="46"/>
                      </a:lnTo>
                      <a:lnTo>
                        <a:pt x="45" y="57"/>
                      </a:lnTo>
                      <a:lnTo>
                        <a:pt x="17" y="37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991920" y="2030400"/>
                <a:ext cx="1603080" cy="3794040"/>
                <a:chOff x="6991920" y="2030400"/>
                <a:chExt cx="1603080" cy="379404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7250760" y="2416320"/>
                  <a:ext cx="356760" cy="1138320"/>
                  <a:chOff x="7250760" y="2416320"/>
                  <a:chExt cx="356760" cy="11383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250760" y="3436920"/>
                    <a:ext cx="864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3" y="67"/>
                        </a:lnTo>
                        <a:lnTo>
                          <a:pt x="41" y="73"/>
                        </a:lnTo>
                        <a:lnTo>
                          <a:pt x="56" y="73"/>
                        </a:lnTo>
                        <a:lnTo>
                          <a:pt x="58" y="48"/>
                        </a:lnTo>
                        <a:lnTo>
                          <a:pt x="54" y="31"/>
                        </a:lnTo>
                        <a:lnTo>
                          <a:pt x="44" y="11"/>
                        </a:lnTo>
                        <a:lnTo>
                          <a:pt x="33" y="11"/>
                        </a:lnTo>
                        <a:lnTo>
                          <a:pt x="29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476120" y="3235320"/>
                    <a:ext cx="84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4">
                        <a:moveTo>
                          <a:pt x="13" y="0"/>
                        </a:moveTo>
                        <a:lnTo>
                          <a:pt x="38" y="3"/>
                        </a:lnTo>
                        <a:lnTo>
                          <a:pt x="46" y="28"/>
                        </a:lnTo>
                        <a:lnTo>
                          <a:pt x="57" y="42"/>
                        </a:lnTo>
                        <a:lnTo>
                          <a:pt x="49" y="54"/>
                        </a:lnTo>
                        <a:lnTo>
                          <a:pt x="57" y="68"/>
                        </a:lnTo>
                        <a:lnTo>
                          <a:pt x="53" y="85"/>
                        </a:lnTo>
                        <a:lnTo>
                          <a:pt x="44" y="93"/>
                        </a:lnTo>
                        <a:lnTo>
                          <a:pt x="27" y="90"/>
                        </a:lnTo>
                        <a:lnTo>
                          <a:pt x="17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461360" y="2416320"/>
                    <a:ext cx="1461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7">
                        <a:moveTo>
                          <a:pt x="14" y="0"/>
                        </a:moveTo>
                        <a:lnTo>
                          <a:pt x="27" y="14"/>
                        </a:lnTo>
                        <a:lnTo>
                          <a:pt x="39" y="11"/>
                        </a:lnTo>
                        <a:lnTo>
                          <a:pt x="58" y="14"/>
                        </a:lnTo>
                        <a:lnTo>
                          <a:pt x="74" y="14"/>
                        </a:lnTo>
                        <a:lnTo>
                          <a:pt x="83" y="22"/>
                        </a:lnTo>
                        <a:lnTo>
                          <a:pt x="93" y="42"/>
                        </a:lnTo>
                        <a:lnTo>
                          <a:pt x="99" y="50"/>
                        </a:lnTo>
                        <a:lnTo>
                          <a:pt x="76" y="55"/>
                        </a:lnTo>
                        <a:lnTo>
                          <a:pt x="70" y="61"/>
                        </a:lnTo>
                        <a:lnTo>
                          <a:pt x="76" y="72"/>
                        </a:lnTo>
                        <a:lnTo>
                          <a:pt x="76" y="83"/>
                        </a:lnTo>
                        <a:lnTo>
                          <a:pt x="54" y="72"/>
                        </a:lnTo>
                        <a:lnTo>
                          <a:pt x="35" y="64"/>
                        </a:lnTo>
                        <a:lnTo>
                          <a:pt x="27" y="67"/>
                        </a:lnTo>
                        <a:lnTo>
                          <a:pt x="27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7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7584840" y="4721400"/>
                  <a:ext cx="1010160" cy="1103040"/>
                </a:xfrm>
                <a:custGeom>
                  <a:avLst/>
                  <a:gdLst/>
                  <a:ahLst/>
                  <a:rect l="l" t="t" r="r" b="b"/>
                  <a:pathLst>
                    <a:path w="690" h="695">
                      <a:moveTo>
                        <a:pt x="496" y="0"/>
                      </a:moveTo>
                      <a:lnTo>
                        <a:pt x="533" y="0"/>
                      </a:lnTo>
                      <a:lnTo>
                        <a:pt x="533" y="56"/>
                      </a:lnTo>
                      <a:lnTo>
                        <a:pt x="548" y="70"/>
                      </a:lnTo>
                      <a:lnTo>
                        <a:pt x="552" y="78"/>
                      </a:lnTo>
                      <a:lnTo>
                        <a:pt x="560" y="78"/>
                      </a:lnTo>
                      <a:lnTo>
                        <a:pt x="564" y="89"/>
                      </a:lnTo>
                      <a:lnTo>
                        <a:pt x="568" y="145"/>
                      </a:lnTo>
                      <a:lnTo>
                        <a:pt x="589" y="181"/>
                      </a:lnTo>
                      <a:lnTo>
                        <a:pt x="619" y="234"/>
                      </a:lnTo>
                      <a:lnTo>
                        <a:pt x="619" y="242"/>
                      </a:lnTo>
                      <a:lnTo>
                        <a:pt x="652" y="287"/>
                      </a:lnTo>
                      <a:lnTo>
                        <a:pt x="652" y="295"/>
                      </a:lnTo>
                      <a:lnTo>
                        <a:pt x="685" y="332"/>
                      </a:lnTo>
                      <a:lnTo>
                        <a:pt x="689" y="396"/>
                      </a:lnTo>
                      <a:lnTo>
                        <a:pt x="685" y="454"/>
                      </a:lnTo>
                      <a:lnTo>
                        <a:pt x="675" y="482"/>
                      </a:lnTo>
                      <a:lnTo>
                        <a:pt x="662" y="496"/>
                      </a:lnTo>
                      <a:lnTo>
                        <a:pt x="658" y="524"/>
                      </a:lnTo>
                      <a:lnTo>
                        <a:pt x="646" y="549"/>
                      </a:lnTo>
                      <a:lnTo>
                        <a:pt x="636" y="560"/>
                      </a:lnTo>
                      <a:lnTo>
                        <a:pt x="638" y="569"/>
                      </a:lnTo>
                      <a:lnTo>
                        <a:pt x="625" y="585"/>
                      </a:lnTo>
                      <a:lnTo>
                        <a:pt x="619" y="622"/>
                      </a:lnTo>
                      <a:lnTo>
                        <a:pt x="617" y="641"/>
                      </a:lnTo>
                      <a:lnTo>
                        <a:pt x="605" y="649"/>
                      </a:lnTo>
                      <a:lnTo>
                        <a:pt x="603" y="658"/>
                      </a:lnTo>
                      <a:lnTo>
                        <a:pt x="595" y="674"/>
                      </a:lnTo>
                      <a:lnTo>
                        <a:pt x="580" y="677"/>
                      </a:lnTo>
                      <a:lnTo>
                        <a:pt x="570" y="683"/>
                      </a:lnTo>
                      <a:lnTo>
                        <a:pt x="556" y="694"/>
                      </a:lnTo>
                      <a:lnTo>
                        <a:pt x="537" y="672"/>
                      </a:lnTo>
                      <a:lnTo>
                        <a:pt x="517" y="674"/>
                      </a:lnTo>
                      <a:lnTo>
                        <a:pt x="511" y="674"/>
                      </a:lnTo>
                      <a:lnTo>
                        <a:pt x="482" y="680"/>
                      </a:lnTo>
                      <a:lnTo>
                        <a:pt x="463" y="658"/>
                      </a:lnTo>
                      <a:lnTo>
                        <a:pt x="451" y="635"/>
                      </a:lnTo>
                      <a:lnTo>
                        <a:pt x="443" y="638"/>
                      </a:lnTo>
                      <a:lnTo>
                        <a:pt x="435" y="619"/>
                      </a:lnTo>
                      <a:lnTo>
                        <a:pt x="431" y="602"/>
                      </a:lnTo>
                      <a:lnTo>
                        <a:pt x="427" y="596"/>
                      </a:lnTo>
                      <a:lnTo>
                        <a:pt x="427" y="569"/>
                      </a:lnTo>
                      <a:lnTo>
                        <a:pt x="429" y="552"/>
                      </a:lnTo>
                      <a:lnTo>
                        <a:pt x="424" y="541"/>
                      </a:lnTo>
                      <a:lnTo>
                        <a:pt x="408" y="546"/>
                      </a:lnTo>
                      <a:lnTo>
                        <a:pt x="400" y="549"/>
                      </a:lnTo>
                      <a:lnTo>
                        <a:pt x="386" y="549"/>
                      </a:lnTo>
                      <a:lnTo>
                        <a:pt x="379" y="549"/>
                      </a:lnTo>
                      <a:lnTo>
                        <a:pt x="373" y="549"/>
                      </a:lnTo>
                      <a:lnTo>
                        <a:pt x="363" y="532"/>
                      </a:lnTo>
                      <a:lnTo>
                        <a:pt x="353" y="510"/>
                      </a:lnTo>
                      <a:lnTo>
                        <a:pt x="351" y="513"/>
                      </a:lnTo>
                      <a:lnTo>
                        <a:pt x="332" y="513"/>
                      </a:lnTo>
                      <a:lnTo>
                        <a:pt x="330" y="504"/>
                      </a:lnTo>
                      <a:lnTo>
                        <a:pt x="320" y="513"/>
                      </a:lnTo>
                      <a:lnTo>
                        <a:pt x="310" y="510"/>
                      </a:lnTo>
                      <a:lnTo>
                        <a:pt x="293" y="510"/>
                      </a:lnTo>
                      <a:lnTo>
                        <a:pt x="283" y="504"/>
                      </a:lnTo>
                      <a:lnTo>
                        <a:pt x="279" y="513"/>
                      </a:lnTo>
                      <a:lnTo>
                        <a:pt x="262" y="516"/>
                      </a:lnTo>
                      <a:lnTo>
                        <a:pt x="258" y="510"/>
                      </a:lnTo>
                      <a:lnTo>
                        <a:pt x="248" y="524"/>
                      </a:lnTo>
                      <a:lnTo>
                        <a:pt x="236" y="538"/>
                      </a:lnTo>
                      <a:lnTo>
                        <a:pt x="228" y="538"/>
                      </a:lnTo>
                      <a:lnTo>
                        <a:pt x="215" y="555"/>
                      </a:lnTo>
                      <a:lnTo>
                        <a:pt x="197" y="555"/>
                      </a:lnTo>
                      <a:lnTo>
                        <a:pt x="183" y="560"/>
                      </a:lnTo>
                      <a:lnTo>
                        <a:pt x="166" y="569"/>
                      </a:lnTo>
                      <a:lnTo>
                        <a:pt x="158" y="580"/>
                      </a:lnTo>
                      <a:lnTo>
                        <a:pt x="152" y="577"/>
                      </a:lnTo>
                      <a:lnTo>
                        <a:pt x="146" y="588"/>
                      </a:lnTo>
                      <a:lnTo>
                        <a:pt x="137" y="591"/>
                      </a:lnTo>
                      <a:lnTo>
                        <a:pt x="127" y="605"/>
                      </a:lnTo>
                      <a:lnTo>
                        <a:pt x="94" y="605"/>
                      </a:lnTo>
                      <a:lnTo>
                        <a:pt x="80" y="585"/>
                      </a:lnTo>
                      <a:lnTo>
                        <a:pt x="78" y="577"/>
                      </a:lnTo>
                      <a:lnTo>
                        <a:pt x="74" y="585"/>
                      </a:lnTo>
                      <a:lnTo>
                        <a:pt x="68" y="571"/>
                      </a:lnTo>
                      <a:lnTo>
                        <a:pt x="70" y="535"/>
                      </a:lnTo>
                      <a:lnTo>
                        <a:pt x="74" y="513"/>
                      </a:lnTo>
                      <a:lnTo>
                        <a:pt x="68" y="496"/>
                      </a:lnTo>
                      <a:lnTo>
                        <a:pt x="62" y="479"/>
                      </a:lnTo>
                      <a:lnTo>
                        <a:pt x="59" y="460"/>
                      </a:lnTo>
                      <a:lnTo>
                        <a:pt x="49" y="452"/>
                      </a:lnTo>
                      <a:lnTo>
                        <a:pt x="47" y="449"/>
                      </a:lnTo>
                      <a:lnTo>
                        <a:pt x="45" y="440"/>
                      </a:lnTo>
                      <a:lnTo>
                        <a:pt x="31" y="415"/>
                      </a:lnTo>
                      <a:lnTo>
                        <a:pt x="12" y="354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9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31" y="215"/>
                      </a:lnTo>
                      <a:lnTo>
                        <a:pt x="53" y="217"/>
                      </a:lnTo>
                      <a:lnTo>
                        <a:pt x="57" y="223"/>
                      </a:lnTo>
                      <a:lnTo>
                        <a:pt x="86" y="223"/>
                      </a:lnTo>
                      <a:lnTo>
                        <a:pt x="88" y="215"/>
                      </a:lnTo>
                      <a:lnTo>
                        <a:pt x="94" y="217"/>
                      </a:lnTo>
                      <a:lnTo>
                        <a:pt x="103" y="209"/>
                      </a:lnTo>
                      <a:lnTo>
                        <a:pt x="109" y="212"/>
                      </a:lnTo>
                      <a:lnTo>
                        <a:pt x="115" y="206"/>
                      </a:lnTo>
                      <a:lnTo>
                        <a:pt x="113" y="198"/>
                      </a:lnTo>
                      <a:lnTo>
                        <a:pt x="119" y="178"/>
                      </a:lnTo>
                      <a:lnTo>
                        <a:pt x="127" y="170"/>
                      </a:lnTo>
                      <a:lnTo>
                        <a:pt x="123" y="164"/>
                      </a:lnTo>
                      <a:lnTo>
                        <a:pt x="127" y="159"/>
                      </a:lnTo>
                      <a:lnTo>
                        <a:pt x="123" y="151"/>
                      </a:lnTo>
                      <a:lnTo>
                        <a:pt x="135" y="137"/>
                      </a:lnTo>
                      <a:lnTo>
                        <a:pt x="154" y="134"/>
                      </a:lnTo>
                      <a:lnTo>
                        <a:pt x="172" y="100"/>
                      </a:lnTo>
                      <a:lnTo>
                        <a:pt x="195" y="72"/>
                      </a:lnTo>
                      <a:lnTo>
                        <a:pt x="205" y="70"/>
                      </a:lnTo>
                      <a:lnTo>
                        <a:pt x="211" y="64"/>
                      </a:lnTo>
                      <a:lnTo>
                        <a:pt x="221" y="64"/>
                      </a:lnTo>
                      <a:lnTo>
                        <a:pt x="240" y="86"/>
                      </a:lnTo>
                      <a:lnTo>
                        <a:pt x="246" y="89"/>
                      </a:lnTo>
                      <a:lnTo>
                        <a:pt x="252" y="78"/>
                      </a:lnTo>
                      <a:lnTo>
                        <a:pt x="265" y="64"/>
                      </a:lnTo>
                      <a:lnTo>
                        <a:pt x="273" y="61"/>
                      </a:lnTo>
                      <a:lnTo>
                        <a:pt x="281" y="39"/>
                      </a:lnTo>
                      <a:lnTo>
                        <a:pt x="289" y="36"/>
                      </a:lnTo>
                      <a:lnTo>
                        <a:pt x="299" y="28"/>
                      </a:lnTo>
                      <a:lnTo>
                        <a:pt x="310" y="20"/>
                      </a:lnTo>
                      <a:lnTo>
                        <a:pt x="320" y="20"/>
                      </a:lnTo>
                      <a:lnTo>
                        <a:pt x="328" y="8"/>
                      </a:lnTo>
                      <a:lnTo>
                        <a:pt x="340" y="8"/>
                      </a:lnTo>
                      <a:lnTo>
                        <a:pt x="355" y="8"/>
                      </a:lnTo>
                      <a:lnTo>
                        <a:pt x="373" y="14"/>
                      </a:lnTo>
                      <a:lnTo>
                        <a:pt x="386" y="25"/>
                      </a:lnTo>
                      <a:lnTo>
                        <a:pt x="388" y="33"/>
                      </a:lnTo>
                      <a:lnTo>
                        <a:pt x="390" y="39"/>
                      </a:lnTo>
                      <a:lnTo>
                        <a:pt x="392" y="53"/>
                      </a:lnTo>
                      <a:lnTo>
                        <a:pt x="390" y="59"/>
                      </a:lnTo>
                      <a:lnTo>
                        <a:pt x="390" y="70"/>
                      </a:lnTo>
                      <a:lnTo>
                        <a:pt x="388" y="78"/>
                      </a:lnTo>
                      <a:lnTo>
                        <a:pt x="418" y="109"/>
                      </a:lnTo>
                      <a:lnTo>
                        <a:pt x="429" y="125"/>
                      </a:lnTo>
                      <a:lnTo>
                        <a:pt x="441" y="131"/>
                      </a:lnTo>
                      <a:lnTo>
                        <a:pt x="453" y="139"/>
                      </a:lnTo>
                      <a:lnTo>
                        <a:pt x="461" y="142"/>
                      </a:lnTo>
                      <a:lnTo>
                        <a:pt x="474" y="134"/>
                      </a:lnTo>
                      <a:lnTo>
                        <a:pt x="484" y="109"/>
                      </a:lnTo>
                      <a:lnTo>
                        <a:pt x="488" y="89"/>
                      </a:lnTo>
                      <a:lnTo>
                        <a:pt x="492" y="53"/>
                      </a:lnTo>
                      <a:lnTo>
                        <a:pt x="496" y="36"/>
                      </a:lnTo>
                      <a:lnTo>
                        <a:pt x="496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47600" y="4486320"/>
                  <a:ext cx="560880" cy="147600"/>
                </a:xfrm>
                <a:custGeom>
                  <a:avLst/>
                  <a:gdLst/>
                  <a:ahLst/>
                  <a:rect l="l" t="t" r="r" b="b"/>
                  <a:pathLst>
                    <a:path w="383" h="93">
                      <a:moveTo>
                        <a:pt x="0" y="0"/>
                      </a:moveTo>
                      <a:lnTo>
                        <a:pt x="29" y="14"/>
                      </a:lnTo>
                      <a:lnTo>
                        <a:pt x="53" y="14"/>
                      </a:lnTo>
                      <a:lnTo>
                        <a:pt x="76" y="14"/>
                      </a:lnTo>
                      <a:lnTo>
                        <a:pt x="92" y="14"/>
                      </a:lnTo>
                      <a:lnTo>
                        <a:pt x="105" y="16"/>
                      </a:lnTo>
                      <a:lnTo>
                        <a:pt x="121" y="24"/>
                      </a:lnTo>
                      <a:lnTo>
                        <a:pt x="129" y="43"/>
                      </a:lnTo>
                      <a:lnTo>
                        <a:pt x="138" y="51"/>
                      </a:lnTo>
                      <a:lnTo>
                        <a:pt x="152" y="49"/>
                      </a:lnTo>
                      <a:lnTo>
                        <a:pt x="168" y="49"/>
                      </a:lnTo>
                      <a:lnTo>
                        <a:pt x="187" y="60"/>
                      </a:lnTo>
                      <a:lnTo>
                        <a:pt x="199" y="65"/>
                      </a:lnTo>
                      <a:lnTo>
                        <a:pt x="207" y="65"/>
                      </a:lnTo>
                      <a:lnTo>
                        <a:pt x="209" y="51"/>
                      </a:lnTo>
                      <a:lnTo>
                        <a:pt x="216" y="43"/>
                      </a:lnTo>
                      <a:lnTo>
                        <a:pt x="240" y="49"/>
                      </a:lnTo>
                      <a:lnTo>
                        <a:pt x="261" y="49"/>
                      </a:lnTo>
                      <a:lnTo>
                        <a:pt x="279" y="49"/>
                      </a:lnTo>
                      <a:lnTo>
                        <a:pt x="294" y="57"/>
                      </a:lnTo>
                      <a:lnTo>
                        <a:pt x="302" y="62"/>
                      </a:lnTo>
                      <a:lnTo>
                        <a:pt x="316" y="60"/>
                      </a:lnTo>
                      <a:lnTo>
                        <a:pt x="327" y="54"/>
                      </a:lnTo>
                      <a:lnTo>
                        <a:pt x="333" y="49"/>
                      </a:lnTo>
                      <a:lnTo>
                        <a:pt x="349" y="49"/>
                      </a:lnTo>
                      <a:lnTo>
                        <a:pt x="359" y="43"/>
                      </a:lnTo>
                      <a:lnTo>
                        <a:pt x="374" y="38"/>
                      </a:lnTo>
                      <a:lnTo>
                        <a:pt x="382" y="38"/>
                      </a:lnTo>
                      <a:lnTo>
                        <a:pt x="380" y="57"/>
                      </a:lnTo>
                      <a:lnTo>
                        <a:pt x="376" y="65"/>
                      </a:lnTo>
                      <a:lnTo>
                        <a:pt x="368" y="73"/>
                      </a:lnTo>
                      <a:lnTo>
                        <a:pt x="359" y="73"/>
                      </a:lnTo>
                      <a:lnTo>
                        <a:pt x="357" y="73"/>
                      </a:lnTo>
                      <a:lnTo>
                        <a:pt x="347" y="76"/>
                      </a:lnTo>
                      <a:lnTo>
                        <a:pt x="339" y="87"/>
                      </a:lnTo>
                      <a:lnTo>
                        <a:pt x="331" y="84"/>
                      </a:lnTo>
                      <a:lnTo>
                        <a:pt x="322" y="78"/>
                      </a:lnTo>
                      <a:lnTo>
                        <a:pt x="314" y="84"/>
                      </a:lnTo>
                      <a:lnTo>
                        <a:pt x="306" y="87"/>
                      </a:lnTo>
                      <a:lnTo>
                        <a:pt x="300" y="87"/>
                      </a:lnTo>
                      <a:lnTo>
                        <a:pt x="294" y="92"/>
                      </a:lnTo>
                      <a:lnTo>
                        <a:pt x="277" y="92"/>
                      </a:lnTo>
                      <a:lnTo>
                        <a:pt x="271" y="84"/>
                      </a:lnTo>
                      <a:lnTo>
                        <a:pt x="263" y="73"/>
                      </a:lnTo>
                      <a:lnTo>
                        <a:pt x="253" y="84"/>
                      </a:lnTo>
                      <a:lnTo>
                        <a:pt x="246" y="92"/>
                      </a:lnTo>
                      <a:lnTo>
                        <a:pt x="238" y="92"/>
                      </a:lnTo>
                      <a:lnTo>
                        <a:pt x="224" y="73"/>
                      </a:lnTo>
                      <a:lnTo>
                        <a:pt x="220" y="76"/>
                      </a:lnTo>
                      <a:lnTo>
                        <a:pt x="212" y="76"/>
                      </a:lnTo>
                      <a:lnTo>
                        <a:pt x="205" y="87"/>
                      </a:lnTo>
                      <a:lnTo>
                        <a:pt x="193" y="84"/>
                      </a:lnTo>
                      <a:lnTo>
                        <a:pt x="181" y="84"/>
                      </a:lnTo>
                      <a:lnTo>
                        <a:pt x="175" y="78"/>
                      </a:lnTo>
                      <a:lnTo>
                        <a:pt x="166" y="73"/>
                      </a:lnTo>
                      <a:lnTo>
                        <a:pt x="154" y="76"/>
                      </a:lnTo>
                      <a:lnTo>
                        <a:pt x="142" y="87"/>
                      </a:lnTo>
                      <a:lnTo>
                        <a:pt x="133" y="84"/>
                      </a:lnTo>
                      <a:lnTo>
                        <a:pt x="121" y="78"/>
                      </a:lnTo>
                      <a:lnTo>
                        <a:pt x="107" y="70"/>
                      </a:lnTo>
                      <a:lnTo>
                        <a:pt x="94" y="70"/>
                      </a:lnTo>
                      <a:lnTo>
                        <a:pt x="70" y="62"/>
                      </a:lnTo>
                      <a:lnTo>
                        <a:pt x="53" y="57"/>
                      </a:lnTo>
                      <a:lnTo>
                        <a:pt x="43" y="54"/>
                      </a:lnTo>
                      <a:lnTo>
                        <a:pt x="27" y="51"/>
                      </a:lnTo>
                      <a:lnTo>
                        <a:pt x="16" y="41"/>
                      </a:lnTo>
                      <a:lnTo>
                        <a:pt x="6" y="38"/>
                      </a:lnTo>
                      <a:lnTo>
                        <a:pt x="2" y="35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53600" y="4192560"/>
                  <a:ext cx="254520" cy="285840"/>
                </a:xfrm>
                <a:custGeom>
                  <a:avLst/>
                  <a:gdLst/>
                  <a:ahLst/>
                  <a:rect l="l" t="t" r="r" b="b"/>
                  <a:pathLst>
                    <a:path w="174" h="180">
                      <a:moveTo>
                        <a:pt x="43" y="0"/>
                      </a:moveTo>
                      <a:lnTo>
                        <a:pt x="84" y="3"/>
                      </a:lnTo>
                      <a:lnTo>
                        <a:pt x="124" y="3"/>
                      </a:lnTo>
                      <a:lnTo>
                        <a:pt x="144" y="0"/>
                      </a:lnTo>
                      <a:lnTo>
                        <a:pt x="173" y="17"/>
                      </a:lnTo>
                      <a:lnTo>
                        <a:pt x="154" y="22"/>
                      </a:lnTo>
                      <a:lnTo>
                        <a:pt x="144" y="30"/>
                      </a:lnTo>
                      <a:lnTo>
                        <a:pt x="138" y="36"/>
                      </a:lnTo>
                      <a:lnTo>
                        <a:pt x="134" y="41"/>
                      </a:lnTo>
                      <a:lnTo>
                        <a:pt x="134" y="47"/>
                      </a:lnTo>
                      <a:lnTo>
                        <a:pt x="134" y="55"/>
                      </a:lnTo>
                      <a:lnTo>
                        <a:pt x="122" y="61"/>
                      </a:lnTo>
                      <a:lnTo>
                        <a:pt x="111" y="61"/>
                      </a:lnTo>
                      <a:lnTo>
                        <a:pt x="107" y="63"/>
                      </a:lnTo>
                      <a:lnTo>
                        <a:pt x="97" y="63"/>
                      </a:lnTo>
                      <a:lnTo>
                        <a:pt x="93" y="55"/>
                      </a:lnTo>
                      <a:lnTo>
                        <a:pt x="84" y="44"/>
                      </a:lnTo>
                      <a:lnTo>
                        <a:pt x="76" y="36"/>
                      </a:lnTo>
                      <a:lnTo>
                        <a:pt x="60" y="36"/>
                      </a:lnTo>
                      <a:lnTo>
                        <a:pt x="56" y="36"/>
                      </a:lnTo>
                      <a:lnTo>
                        <a:pt x="51" y="50"/>
                      </a:lnTo>
                      <a:lnTo>
                        <a:pt x="54" y="63"/>
                      </a:lnTo>
                      <a:lnTo>
                        <a:pt x="54" y="72"/>
                      </a:lnTo>
                      <a:lnTo>
                        <a:pt x="56" y="80"/>
                      </a:lnTo>
                      <a:lnTo>
                        <a:pt x="64" y="77"/>
                      </a:lnTo>
                      <a:lnTo>
                        <a:pt x="76" y="69"/>
                      </a:lnTo>
                      <a:lnTo>
                        <a:pt x="84" y="69"/>
                      </a:lnTo>
                      <a:lnTo>
                        <a:pt x="91" y="74"/>
                      </a:lnTo>
                      <a:lnTo>
                        <a:pt x="91" y="80"/>
                      </a:lnTo>
                      <a:lnTo>
                        <a:pt x="87" y="91"/>
                      </a:lnTo>
                      <a:lnTo>
                        <a:pt x="84" y="96"/>
                      </a:lnTo>
                      <a:lnTo>
                        <a:pt x="84" y="102"/>
                      </a:lnTo>
                      <a:lnTo>
                        <a:pt x="82" y="110"/>
                      </a:lnTo>
                      <a:lnTo>
                        <a:pt x="87" y="118"/>
                      </a:lnTo>
                      <a:lnTo>
                        <a:pt x="95" y="129"/>
                      </a:lnTo>
                      <a:lnTo>
                        <a:pt x="97" y="127"/>
                      </a:lnTo>
                      <a:lnTo>
                        <a:pt x="97" y="138"/>
                      </a:lnTo>
                      <a:lnTo>
                        <a:pt x="93" y="146"/>
                      </a:lnTo>
                      <a:lnTo>
                        <a:pt x="89" y="154"/>
                      </a:lnTo>
                      <a:lnTo>
                        <a:pt x="87" y="168"/>
                      </a:lnTo>
                      <a:lnTo>
                        <a:pt x="78" y="173"/>
                      </a:lnTo>
                      <a:lnTo>
                        <a:pt x="72" y="173"/>
                      </a:lnTo>
                      <a:lnTo>
                        <a:pt x="66" y="173"/>
                      </a:lnTo>
                      <a:lnTo>
                        <a:pt x="66" y="162"/>
                      </a:lnTo>
                      <a:lnTo>
                        <a:pt x="64" y="143"/>
                      </a:lnTo>
                      <a:lnTo>
                        <a:pt x="58" y="138"/>
                      </a:lnTo>
                      <a:lnTo>
                        <a:pt x="56" y="129"/>
                      </a:lnTo>
                      <a:lnTo>
                        <a:pt x="58" y="113"/>
                      </a:lnTo>
                      <a:lnTo>
                        <a:pt x="51" y="107"/>
                      </a:lnTo>
                      <a:lnTo>
                        <a:pt x="37" y="113"/>
                      </a:lnTo>
                      <a:lnTo>
                        <a:pt x="31" y="107"/>
                      </a:lnTo>
                      <a:lnTo>
                        <a:pt x="25" y="116"/>
                      </a:lnTo>
                      <a:lnTo>
                        <a:pt x="31" y="121"/>
                      </a:lnTo>
                      <a:lnTo>
                        <a:pt x="41" y="127"/>
                      </a:lnTo>
                      <a:lnTo>
                        <a:pt x="43" y="132"/>
                      </a:lnTo>
                      <a:lnTo>
                        <a:pt x="49" y="143"/>
                      </a:lnTo>
                      <a:lnTo>
                        <a:pt x="49" y="151"/>
                      </a:lnTo>
                      <a:lnTo>
                        <a:pt x="43" y="165"/>
                      </a:lnTo>
                      <a:lnTo>
                        <a:pt x="35" y="176"/>
                      </a:lnTo>
                      <a:lnTo>
                        <a:pt x="31" y="179"/>
                      </a:lnTo>
                      <a:lnTo>
                        <a:pt x="31" y="171"/>
                      </a:lnTo>
                      <a:lnTo>
                        <a:pt x="31" y="162"/>
                      </a:lnTo>
                      <a:lnTo>
                        <a:pt x="33" y="151"/>
                      </a:lnTo>
                      <a:lnTo>
                        <a:pt x="23" y="143"/>
                      </a:lnTo>
                      <a:lnTo>
                        <a:pt x="12" y="135"/>
                      </a:lnTo>
                      <a:lnTo>
                        <a:pt x="10" y="127"/>
                      </a:lnTo>
                      <a:lnTo>
                        <a:pt x="0" y="121"/>
                      </a:lnTo>
                      <a:lnTo>
                        <a:pt x="2" y="107"/>
                      </a:lnTo>
                      <a:lnTo>
                        <a:pt x="10" y="99"/>
                      </a:lnTo>
                      <a:lnTo>
                        <a:pt x="16" y="85"/>
                      </a:lnTo>
                      <a:lnTo>
                        <a:pt x="23" y="72"/>
                      </a:lnTo>
                      <a:lnTo>
                        <a:pt x="25" y="58"/>
                      </a:lnTo>
                      <a:lnTo>
                        <a:pt x="23" y="44"/>
                      </a:lnTo>
                      <a:lnTo>
                        <a:pt x="27" y="39"/>
                      </a:lnTo>
                      <a:lnTo>
                        <a:pt x="31" y="33"/>
                      </a:lnTo>
                      <a:lnTo>
                        <a:pt x="25" y="22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88640" y="4064040"/>
                  <a:ext cx="279360" cy="393840"/>
                </a:xfrm>
                <a:custGeom>
                  <a:avLst/>
                  <a:gdLst/>
                  <a:ahLst/>
                  <a:rect l="l" t="t" r="r" b="b"/>
                  <a:pathLst>
                    <a:path w="191" h="248">
                      <a:moveTo>
                        <a:pt x="0" y="82"/>
                      </a:moveTo>
                      <a:lnTo>
                        <a:pt x="39" y="44"/>
                      </a:lnTo>
                      <a:lnTo>
                        <a:pt x="59" y="27"/>
                      </a:lnTo>
                      <a:lnTo>
                        <a:pt x="69" y="14"/>
                      </a:lnTo>
                      <a:lnTo>
                        <a:pt x="100" y="0"/>
                      </a:lnTo>
                      <a:lnTo>
                        <a:pt x="116" y="30"/>
                      </a:lnTo>
                      <a:lnTo>
                        <a:pt x="133" y="16"/>
                      </a:lnTo>
                      <a:lnTo>
                        <a:pt x="139" y="8"/>
                      </a:lnTo>
                      <a:lnTo>
                        <a:pt x="153" y="0"/>
                      </a:lnTo>
                      <a:lnTo>
                        <a:pt x="161" y="0"/>
                      </a:lnTo>
                      <a:lnTo>
                        <a:pt x="163" y="11"/>
                      </a:lnTo>
                      <a:lnTo>
                        <a:pt x="163" y="19"/>
                      </a:lnTo>
                      <a:lnTo>
                        <a:pt x="155" y="33"/>
                      </a:lnTo>
                      <a:lnTo>
                        <a:pt x="155" y="41"/>
                      </a:lnTo>
                      <a:lnTo>
                        <a:pt x="178" y="77"/>
                      </a:lnTo>
                      <a:lnTo>
                        <a:pt x="182" y="99"/>
                      </a:lnTo>
                      <a:lnTo>
                        <a:pt x="188" y="99"/>
                      </a:lnTo>
                      <a:lnTo>
                        <a:pt x="190" y="110"/>
                      </a:lnTo>
                      <a:lnTo>
                        <a:pt x="182" y="121"/>
                      </a:lnTo>
                      <a:lnTo>
                        <a:pt x="176" y="115"/>
                      </a:lnTo>
                      <a:lnTo>
                        <a:pt x="161" y="124"/>
                      </a:lnTo>
                      <a:lnTo>
                        <a:pt x="163" y="145"/>
                      </a:lnTo>
                      <a:lnTo>
                        <a:pt x="147" y="159"/>
                      </a:lnTo>
                      <a:lnTo>
                        <a:pt x="147" y="195"/>
                      </a:lnTo>
                      <a:lnTo>
                        <a:pt x="147" y="220"/>
                      </a:lnTo>
                      <a:lnTo>
                        <a:pt x="139" y="231"/>
                      </a:lnTo>
                      <a:lnTo>
                        <a:pt x="133" y="247"/>
                      </a:lnTo>
                      <a:lnTo>
                        <a:pt x="125" y="244"/>
                      </a:lnTo>
                      <a:lnTo>
                        <a:pt x="112" y="236"/>
                      </a:lnTo>
                      <a:lnTo>
                        <a:pt x="102" y="228"/>
                      </a:lnTo>
                      <a:lnTo>
                        <a:pt x="94" y="214"/>
                      </a:lnTo>
                      <a:lnTo>
                        <a:pt x="65" y="217"/>
                      </a:lnTo>
                      <a:lnTo>
                        <a:pt x="41" y="209"/>
                      </a:lnTo>
                      <a:lnTo>
                        <a:pt x="25" y="187"/>
                      </a:lnTo>
                      <a:lnTo>
                        <a:pt x="14" y="170"/>
                      </a:lnTo>
                      <a:lnTo>
                        <a:pt x="6" y="156"/>
                      </a:lnTo>
                      <a:lnTo>
                        <a:pt x="6" y="129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983000" y="4286160"/>
                  <a:ext cx="537480" cy="374760"/>
                </a:xfrm>
                <a:custGeom>
                  <a:avLst/>
                  <a:gdLst/>
                  <a:ahLst/>
                  <a:rect l="l" t="t" r="r" b="b"/>
                  <a:pathLst>
                    <a:path w="367" h="236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60" y="6"/>
                      </a:lnTo>
                      <a:lnTo>
                        <a:pt x="72" y="39"/>
                      </a:lnTo>
                      <a:lnTo>
                        <a:pt x="74" y="50"/>
                      </a:lnTo>
                      <a:lnTo>
                        <a:pt x="78" y="56"/>
                      </a:lnTo>
                      <a:lnTo>
                        <a:pt x="86" y="48"/>
                      </a:lnTo>
                      <a:lnTo>
                        <a:pt x="101" y="48"/>
                      </a:lnTo>
                      <a:lnTo>
                        <a:pt x="109" y="56"/>
                      </a:lnTo>
                      <a:lnTo>
                        <a:pt x="113" y="53"/>
                      </a:lnTo>
                      <a:lnTo>
                        <a:pt x="125" y="39"/>
                      </a:lnTo>
                      <a:lnTo>
                        <a:pt x="127" y="39"/>
                      </a:lnTo>
                      <a:lnTo>
                        <a:pt x="138" y="31"/>
                      </a:lnTo>
                      <a:lnTo>
                        <a:pt x="148" y="31"/>
                      </a:lnTo>
                      <a:lnTo>
                        <a:pt x="181" y="48"/>
                      </a:lnTo>
                      <a:lnTo>
                        <a:pt x="195" y="48"/>
                      </a:lnTo>
                      <a:lnTo>
                        <a:pt x="210" y="62"/>
                      </a:lnTo>
                      <a:lnTo>
                        <a:pt x="224" y="67"/>
                      </a:lnTo>
                      <a:lnTo>
                        <a:pt x="236" y="78"/>
                      </a:lnTo>
                      <a:lnTo>
                        <a:pt x="247" y="81"/>
                      </a:lnTo>
                      <a:lnTo>
                        <a:pt x="273" y="92"/>
                      </a:lnTo>
                      <a:lnTo>
                        <a:pt x="286" y="112"/>
                      </a:lnTo>
                      <a:lnTo>
                        <a:pt x="292" y="123"/>
                      </a:lnTo>
                      <a:lnTo>
                        <a:pt x="290" y="129"/>
                      </a:lnTo>
                      <a:lnTo>
                        <a:pt x="300" y="140"/>
                      </a:lnTo>
                      <a:lnTo>
                        <a:pt x="308" y="143"/>
                      </a:lnTo>
                      <a:lnTo>
                        <a:pt x="313" y="145"/>
                      </a:lnTo>
                      <a:lnTo>
                        <a:pt x="323" y="148"/>
                      </a:lnTo>
                      <a:lnTo>
                        <a:pt x="339" y="165"/>
                      </a:lnTo>
                      <a:lnTo>
                        <a:pt x="339" y="176"/>
                      </a:lnTo>
                      <a:lnTo>
                        <a:pt x="350" y="187"/>
                      </a:lnTo>
                      <a:lnTo>
                        <a:pt x="352" y="193"/>
                      </a:lnTo>
                      <a:lnTo>
                        <a:pt x="366" y="215"/>
                      </a:lnTo>
                      <a:lnTo>
                        <a:pt x="354" y="235"/>
                      </a:lnTo>
                      <a:lnTo>
                        <a:pt x="350" y="235"/>
                      </a:lnTo>
                      <a:lnTo>
                        <a:pt x="337" y="235"/>
                      </a:lnTo>
                      <a:lnTo>
                        <a:pt x="333" y="227"/>
                      </a:lnTo>
                      <a:lnTo>
                        <a:pt x="327" y="227"/>
                      </a:lnTo>
                      <a:lnTo>
                        <a:pt x="321" y="229"/>
                      </a:lnTo>
                      <a:lnTo>
                        <a:pt x="290" y="185"/>
                      </a:lnTo>
                      <a:lnTo>
                        <a:pt x="271" y="187"/>
                      </a:lnTo>
                      <a:lnTo>
                        <a:pt x="253" y="185"/>
                      </a:lnTo>
                      <a:lnTo>
                        <a:pt x="247" y="190"/>
                      </a:lnTo>
                      <a:lnTo>
                        <a:pt x="241" y="199"/>
                      </a:lnTo>
                      <a:lnTo>
                        <a:pt x="239" y="193"/>
                      </a:lnTo>
                      <a:lnTo>
                        <a:pt x="230" y="207"/>
                      </a:lnTo>
                      <a:lnTo>
                        <a:pt x="218" y="227"/>
                      </a:lnTo>
                      <a:lnTo>
                        <a:pt x="208" y="218"/>
                      </a:lnTo>
                      <a:lnTo>
                        <a:pt x="195" y="213"/>
                      </a:lnTo>
                      <a:lnTo>
                        <a:pt x="187" y="213"/>
                      </a:lnTo>
                      <a:lnTo>
                        <a:pt x="175" y="207"/>
                      </a:lnTo>
                      <a:lnTo>
                        <a:pt x="169" y="213"/>
                      </a:lnTo>
                      <a:lnTo>
                        <a:pt x="160" y="185"/>
                      </a:lnTo>
                      <a:lnTo>
                        <a:pt x="146" y="159"/>
                      </a:lnTo>
                      <a:lnTo>
                        <a:pt x="132" y="129"/>
                      </a:lnTo>
                      <a:lnTo>
                        <a:pt x="119" y="112"/>
                      </a:lnTo>
                      <a:lnTo>
                        <a:pt x="109" y="95"/>
                      </a:lnTo>
                      <a:lnTo>
                        <a:pt x="86" y="95"/>
                      </a:lnTo>
                      <a:lnTo>
                        <a:pt x="66" y="104"/>
                      </a:lnTo>
                      <a:lnTo>
                        <a:pt x="56" y="92"/>
                      </a:lnTo>
                      <a:lnTo>
                        <a:pt x="35" y="84"/>
                      </a:lnTo>
                      <a:lnTo>
                        <a:pt x="25" y="76"/>
                      </a:lnTo>
                      <a:lnTo>
                        <a:pt x="25" y="42"/>
                      </a:lnTo>
                      <a:lnTo>
                        <a:pt x="27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991920" y="4024440"/>
                  <a:ext cx="323280" cy="490320"/>
                </a:xfrm>
                <a:custGeom>
                  <a:avLst/>
                  <a:gdLst/>
                  <a:ahLst/>
                  <a:rect l="l" t="t" r="r" b="b"/>
                  <a:pathLst>
                    <a:path w="221" h="309">
                      <a:moveTo>
                        <a:pt x="0" y="8"/>
                      </a:moveTo>
                      <a:lnTo>
                        <a:pt x="22" y="0"/>
                      </a:lnTo>
                      <a:lnTo>
                        <a:pt x="49" y="14"/>
                      </a:lnTo>
                      <a:lnTo>
                        <a:pt x="53" y="28"/>
                      </a:lnTo>
                      <a:lnTo>
                        <a:pt x="53" y="33"/>
                      </a:lnTo>
                      <a:lnTo>
                        <a:pt x="59" y="36"/>
                      </a:lnTo>
                      <a:lnTo>
                        <a:pt x="59" y="42"/>
                      </a:lnTo>
                      <a:lnTo>
                        <a:pt x="67" y="44"/>
                      </a:lnTo>
                      <a:lnTo>
                        <a:pt x="67" y="55"/>
                      </a:lnTo>
                      <a:lnTo>
                        <a:pt x="94" y="89"/>
                      </a:lnTo>
                      <a:lnTo>
                        <a:pt x="98" y="89"/>
                      </a:lnTo>
                      <a:lnTo>
                        <a:pt x="102" y="97"/>
                      </a:lnTo>
                      <a:lnTo>
                        <a:pt x="106" y="105"/>
                      </a:lnTo>
                      <a:lnTo>
                        <a:pt x="110" y="105"/>
                      </a:lnTo>
                      <a:lnTo>
                        <a:pt x="128" y="117"/>
                      </a:lnTo>
                      <a:lnTo>
                        <a:pt x="163" y="122"/>
                      </a:lnTo>
                      <a:lnTo>
                        <a:pt x="165" y="161"/>
                      </a:lnTo>
                      <a:lnTo>
                        <a:pt x="173" y="166"/>
                      </a:lnTo>
                      <a:lnTo>
                        <a:pt x="171" y="180"/>
                      </a:lnTo>
                      <a:lnTo>
                        <a:pt x="191" y="200"/>
                      </a:lnTo>
                      <a:lnTo>
                        <a:pt x="210" y="208"/>
                      </a:lnTo>
                      <a:lnTo>
                        <a:pt x="210" y="272"/>
                      </a:lnTo>
                      <a:lnTo>
                        <a:pt x="220" y="297"/>
                      </a:lnTo>
                      <a:lnTo>
                        <a:pt x="214" y="305"/>
                      </a:lnTo>
                      <a:lnTo>
                        <a:pt x="202" y="308"/>
                      </a:lnTo>
                      <a:lnTo>
                        <a:pt x="200" y="286"/>
                      </a:lnTo>
                      <a:lnTo>
                        <a:pt x="179" y="308"/>
                      </a:lnTo>
                      <a:lnTo>
                        <a:pt x="165" y="275"/>
                      </a:lnTo>
                      <a:lnTo>
                        <a:pt x="157" y="253"/>
                      </a:lnTo>
                      <a:lnTo>
                        <a:pt x="132" y="222"/>
                      </a:lnTo>
                      <a:lnTo>
                        <a:pt x="126" y="222"/>
                      </a:lnTo>
                      <a:lnTo>
                        <a:pt x="104" y="205"/>
                      </a:lnTo>
                      <a:lnTo>
                        <a:pt x="100" y="189"/>
                      </a:lnTo>
                      <a:lnTo>
                        <a:pt x="100" y="178"/>
                      </a:lnTo>
                      <a:lnTo>
                        <a:pt x="81" y="133"/>
                      </a:lnTo>
                      <a:lnTo>
                        <a:pt x="73" y="105"/>
                      </a:lnTo>
                      <a:lnTo>
                        <a:pt x="51" y="80"/>
                      </a:lnTo>
                      <a:lnTo>
                        <a:pt x="20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5760" y="3495600"/>
                  <a:ext cx="317520" cy="540000"/>
                </a:xfrm>
                <a:custGeom>
                  <a:avLst/>
                  <a:gdLst/>
                  <a:ahLst/>
                  <a:rect l="l" t="t" r="r" b="b"/>
                  <a:pathLst>
                    <a:path w="217" h="340">
                      <a:moveTo>
                        <a:pt x="15" y="0"/>
                      </a:moveTo>
                      <a:lnTo>
                        <a:pt x="33" y="0"/>
                      </a:lnTo>
                      <a:lnTo>
                        <a:pt x="54" y="36"/>
                      </a:lnTo>
                      <a:lnTo>
                        <a:pt x="50" y="69"/>
                      </a:lnTo>
                      <a:lnTo>
                        <a:pt x="62" y="81"/>
                      </a:lnTo>
                      <a:lnTo>
                        <a:pt x="69" y="103"/>
                      </a:lnTo>
                      <a:lnTo>
                        <a:pt x="83" y="114"/>
                      </a:lnTo>
                      <a:lnTo>
                        <a:pt x="100" y="117"/>
                      </a:lnTo>
                      <a:lnTo>
                        <a:pt x="125" y="133"/>
                      </a:lnTo>
                      <a:lnTo>
                        <a:pt x="141" y="153"/>
                      </a:lnTo>
                      <a:lnTo>
                        <a:pt x="145" y="153"/>
                      </a:lnTo>
                      <a:lnTo>
                        <a:pt x="166" y="170"/>
                      </a:lnTo>
                      <a:lnTo>
                        <a:pt x="166" y="211"/>
                      </a:lnTo>
                      <a:lnTo>
                        <a:pt x="172" y="231"/>
                      </a:lnTo>
                      <a:lnTo>
                        <a:pt x="179" y="242"/>
                      </a:lnTo>
                      <a:lnTo>
                        <a:pt x="187" y="253"/>
                      </a:lnTo>
                      <a:lnTo>
                        <a:pt x="195" y="267"/>
                      </a:lnTo>
                      <a:lnTo>
                        <a:pt x="199" y="283"/>
                      </a:lnTo>
                      <a:lnTo>
                        <a:pt x="216" y="297"/>
                      </a:lnTo>
                      <a:lnTo>
                        <a:pt x="214" y="314"/>
                      </a:lnTo>
                      <a:lnTo>
                        <a:pt x="197" y="317"/>
                      </a:lnTo>
                      <a:lnTo>
                        <a:pt x="191" y="303"/>
                      </a:lnTo>
                      <a:lnTo>
                        <a:pt x="179" y="303"/>
                      </a:lnTo>
                      <a:lnTo>
                        <a:pt x="179" y="339"/>
                      </a:lnTo>
                      <a:lnTo>
                        <a:pt x="168" y="339"/>
                      </a:lnTo>
                      <a:lnTo>
                        <a:pt x="156" y="322"/>
                      </a:lnTo>
                      <a:lnTo>
                        <a:pt x="147" y="314"/>
                      </a:lnTo>
                      <a:lnTo>
                        <a:pt x="147" y="295"/>
                      </a:lnTo>
                      <a:lnTo>
                        <a:pt x="129" y="295"/>
                      </a:lnTo>
                      <a:lnTo>
                        <a:pt x="123" y="314"/>
                      </a:lnTo>
                      <a:lnTo>
                        <a:pt x="116" y="295"/>
                      </a:lnTo>
                      <a:lnTo>
                        <a:pt x="114" y="275"/>
                      </a:lnTo>
                      <a:lnTo>
                        <a:pt x="137" y="267"/>
                      </a:lnTo>
                      <a:lnTo>
                        <a:pt x="150" y="272"/>
                      </a:lnTo>
                      <a:lnTo>
                        <a:pt x="152" y="239"/>
                      </a:lnTo>
                      <a:lnTo>
                        <a:pt x="139" y="228"/>
                      </a:lnTo>
                      <a:lnTo>
                        <a:pt x="131" y="200"/>
                      </a:lnTo>
                      <a:lnTo>
                        <a:pt x="125" y="167"/>
                      </a:lnTo>
                      <a:lnTo>
                        <a:pt x="102" y="156"/>
                      </a:lnTo>
                      <a:lnTo>
                        <a:pt x="91" y="142"/>
                      </a:lnTo>
                      <a:lnTo>
                        <a:pt x="73" y="133"/>
                      </a:lnTo>
                      <a:lnTo>
                        <a:pt x="83" y="164"/>
                      </a:lnTo>
                      <a:lnTo>
                        <a:pt x="62" y="178"/>
                      </a:lnTo>
                      <a:lnTo>
                        <a:pt x="50" y="144"/>
                      </a:lnTo>
                      <a:lnTo>
                        <a:pt x="39" y="136"/>
                      </a:lnTo>
                      <a:lnTo>
                        <a:pt x="39" y="117"/>
                      </a:lnTo>
                      <a:lnTo>
                        <a:pt x="25" y="94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7" y="61"/>
                      </a:lnTo>
                      <a:lnTo>
                        <a:pt x="21" y="47"/>
                      </a:lnTo>
                      <a:lnTo>
                        <a:pt x="17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495560" y="2579760"/>
                  <a:ext cx="232560" cy="458640"/>
                </a:xfrm>
                <a:custGeom>
                  <a:avLst/>
                  <a:gdLst/>
                  <a:ahLst/>
                  <a:rect l="l" t="t" r="r" b="b"/>
                  <a:pathLst>
                    <a:path w="159" h="289">
                      <a:moveTo>
                        <a:pt x="33" y="0"/>
                      </a:moveTo>
                      <a:lnTo>
                        <a:pt x="64" y="20"/>
                      </a:lnTo>
                      <a:lnTo>
                        <a:pt x="82" y="36"/>
                      </a:lnTo>
                      <a:lnTo>
                        <a:pt x="94" y="62"/>
                      </a:lnTo>
                      <a:lnTo>
                        <a:pt x="105" y="62"/>
                      </a:lnTo>
                      <a:lnTo>
                        <a:pt x="103" y="78"/>
                      </a:lnTo>
                      <a:lnTo>
                        <a:pt x="115" y="89"/>
                      </a:lnTo>
                      <a:lnTo>
                        <a:pt x="123" y="106"/>
                      </a:lnTo>
                      <a:lnTo>
                        <a:pt x="144" y="140"/>
                      </a:lnTo>
                      <a:lnTo>
                        <a:pt x="158" y="179"/>
                      </a:lnTo>
                      <a:lnTo>
                        <a:pt x="131" y="176"/>
                      </a:lnTo>
                      <a:lnTo>
                        <a:pt x="111" y="171"/>
                      </a:lnTo>
                      <a:lnTo>
                        <a:pt x="125" y="199"/>
                      </a:lnTo>
                      <a:lnTo>
                        <a:pt x="125" y="215"/>
                      </a:lnTo>
                      <a:lnTo>
                        <a:pt x="125" y="232"/>
                      </a:lnTo>
                      <a:lnTo>
                        <a:pt x="117" y="224"/>
                      </a:lnTo>
                      <a:lnTo>
                        <a:pt x="107" y="210"/>
                      </a:lnTo>
                      <a:lnTo>
                        <a:pt x="88" y="193"/>
                      </a:lnTo>
                      <a:lnTo>
                        <a:pt x="78" y="185"/>
                      </a:lnTo>
                      <a:lnTo>
                        <a:pt x="62" y="193"/>
                      </a:lnTo>
                      <a:lnTo>
                        <a:pt x="51" y="199"/>
                      </a:lnTo>
                      <a:lnTo>
                        <a:pt x="57" y="213"/>
                      </a:lnTo>
                      <a:lnTo>
                        <a:pt x="74" y="224"/>
                      </a:lnTo>
                      <a:lnTo>
                        <a:pt x="90" y="235"/>
                      </a:lnTo>
                      <a:lnTo>
                        <a:pt x="96" y="254"/>
                      </a:lnTo>
                      <a:lnTo>
                        <a:pt x="94" y="280"/>
                      </a:lnTo>
                      <a:lnTo>
                        <a:pt x="94" y="288"/>
                      </a:lnTo>
                      <a:lnTo>
                        <a:pt x="88" y="288"/>
                      </a:lnTo>
                      <a:lnTo>
                        <a:pt x="78" y="280"/>
                      </a:lnTo>
                      <a:lnTo>
                        <a:pt x="74" y="277"/>
                      </a:lnTo>
                      <a:lnTo>
                        <a:pt x="68" y="271"/>
                      </a:lnTo>
                      <a:lnTo>
                        <a:pt x="62" y="285"/>
                      </a:lnTo>
                      <a:lnTo>
                        <a:pt x="51" y="288"/>
                      </a:lnTo>
                      <a:lnTo>
                        <a:pt x="43" y="277"/>
                      </a:lnTo>
                      <a:lnTo>
                        <a:pt x="43" y="252"/>
                      </a:lnTo>
                      <a:lnTo>
                        <a:pt x="41" y="238"/>
                      </a:lnTo>
                      <a:lnTo>
                        <a:pt x="31" y="229"/>
                      </a:lnTo>
                      <a:lnTo>
                        <a:pt x="21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6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7" y="129"/>
                      </a:lnTo>
                      <a:lnTo>
                        <a:pt x="37" y="140"/>
                      </a:lnTo>
                      <a:lnTo>
                        <a:pt x="55" y="145"/>
                      </a:lnTo>
                      <a:lnTo>
                        <a:pt x="55" y="126"/>
                      </a:lnTo>
                      <a:lnTo>
                        <a:pt x="47" y="115"/>
                      </a:lnTo>
                      <a:lnTo>
                        <a:pt x="43" y="106"/>
                      </a:lnTo>
                      <a:lnTo>
                        <a:pt x="49" y="106"/>
                      </a:lnTo>
                      <a:lnTo>
                        <a:pt x="53" y="106"/>
                      </a:lnTo>
                      <a:lnTo>
                        <a:pt x="57" y="106"/>
                      </a:lnTo>
                      <a:lnTo>
                        <a:pt x="62" y="106"/>
                      </a:lnTo>
                      <a:lnTo>
                        <a:pt x="68" y="98"/>
                      </a:lnTo>
                      <a:lnTo>
                        <a:pt x="66" y="89"/>
                      </a:lnTo>
                      <a:lnTo>
                        <a:pt x="60" y="70"/>
                      </a:lnTo>
                      <a:lnTo>
                        <a:pt x="47" y="50"/>
                      </a:lnTo>
                      <a:lnTo>
                        <a:pt x="31" y="39"/>
                      </a:lnTo>
                      <a:lnTo>
                        <a:pt x="25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32040" y="2030400"/>
                  <a:ext cx="254520" cy="374760"/>
                </a:xfrm>
                <a:custGeom>
                  <a:avLst/>
                  <a:gdLst/>
                  <a:ahLst/>
                  <a:rect l="l" t="t" r="r" b="b"/>
                  <a:pathLst>
                    <a:path w="174" h="23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3" y="17"/>
                      </a:lnTo>
                      <a:lnTo>
                        <a:pt x="45" y="41"/>
                      </a:lnTo>
                      <a:lnTo>
                        <a:pt x="56" y="69"/>
                      </a:lnTo>
                      <a:lnTo>
                        <a:pt x="72" y="72"/>
                      </a:lnTo>
                      <a:lnTo>
                        <a:pt x="84" y="77"/>
                      </a:lnTo>
                      <a:lnTo>
                        <a:pt x="95" y="88"/>
                      </a:lnTo>
                      <a:lnTo>
                        <a:pt x="107" y="88"/>
                      </a:lnTo>
                      <a:lnTo>
                        <a:pt x="122" y="105"/>
                      </a:lnTo>
                      <a:lnTo>
                        <a:pt x="134" y="119"/>
                      </a:lnTo>
                      <a:lnTo>
                        <a:pt x="148" y="127"/>
                      </a:lnTo>
                      <a:lnTo>
                        <a:pt x="146" y="135"/>
                      </a:lnTo>
                      <a:lnTo>
                        <a:pt x="138" y="141"/>
                      </a:lnTo>
                      <a:lnTo>
                        <a:pt x="130" y="141"/>
                      </a:lnTo>
                      <a:lnTo>
                        <a:pt x="126" y="149"/>
                      </a:lnTo>
                      <a:lnTo>
                        <a:pt x="142" y="166"/>
                      </a:lnTo>
                      <a:lnTo>
                        <a:pt x="154" y="182"/>
                      </a:lnTo>
                      <a:lnTo>
                        <a:pt x="173" y="199"/>
                      </a:lnTo>
                      <a:lnTo>
                        <a:pt x="161" y="218"/>
                      </a:lnTo>
                      <a:lnTo>
                        <a:pt x="150" y="224"/>
                      </a:lnTo>
                      <a:lnTo>
                        <a:pt x="152" y="235"/>
                      </a:lnTo>
                      <a:lnTo>
                        <a:pt x="134" y="235"/>
                      </a:lnTo>
                      <a:lnTo>
                        <a:pt x="128" y="227"/>
                      </a:lnTo>
                      <a:lnTo>
                        <a:pt x="113" y="205"/>
                      </a:lnTo>
                      <a:lnTo>
                        <a:pt x="103" y="185"/>
                      </a:lnTo>
                      <a:lnTo>
                        <a:pt x="87" y="152"/>
                      </a:lnTo>
                      <a:lnTo>
                        <a:pt x="68" y="127"/>
                      </a:lnTo>
                      <a:lnTo>
                        <a:pt x="47" y="91"/>
                      </a:lnTo>
                      <a:lnTo>
                        <a:pt x="35" y="80"/>
                      </a:lnTo>
                      <a:lnTo>
                        <a:pt x="25" y="72"/>
                      </a:lnTo>
                      <a:lnTo>
                        <a:pt x="21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929400" y="1257480"/>
                <a:ext cx="3693240" cy="4383000"/>
                <a:chOff x="3929400" y="1257480"/>
                <a:chExt cx="3693240" cy="4383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929400" y="2789280"/>
                  <a:ext cx="1837800" cy="2851200"/>
                </a:xfrm>
                <a:custGeom>
                  <a:avLst/>
                  <a:gdLst/>
                  <a:ahLst/>
                  <a:rect l="l" t="t" r="r" b="b"/>
                  <a:pathLst>
                    <a:path w="1255" h="1796">
                      <a:moveTo>
                        <a:pt x="937" y="215"/>
                      </a:moveTo>
                      <a:lnTo>
                        <a:pt x="958" y="290"/>
                      </a:lnTo>
                      <a:lnTo>
                        <a:pt x="997" y="404"/>
                      </a:lnTo>
                      <a:lnTo>
                        <a:pt x="1075" y="588"/>
                      </a:lnTo>
                      <a:lnTo>
                        <a:pt x="1104" y="610"/>
                      </a:lnTo>
                      <a:lnTo>
                        <a:pt x="1122" y="663"/>
                      </a:lnTo>
                      <a:lnTo>
                        <a:pt x="1184" y="661"/>
                      </a:lnTo>
                      <a:lnTo>
                        <a:pt x="1225" y="644"/>
                      </a:lnTo>
                      <a:lnTo>
                        <a:pt x="1254" y="644"/>
                      </a:lnTo>
                      <a:lnTo>
                        <a:pt x="1252" y="716"/>
                      </a:lnTo>
                      <a:lnTo>
                        <a:pt x="1242" y="755"/>
                      </a:lnTo>
                      <a:lnTo>
                        <a:pt x="1129" y="917"/>
                      </a:lnTo>
                      <a:lnTo>
                        <a:pt x="1026" y="1084"/>
                      </a:lnTo>
                      <a:lnTo>
                        <a:pt x="1028" y="1148"/>
                      </a:lnTo>
                      <a:lnTo>
                        <a:pt x="1057" y="1196"/>
                      </a:lnTo>
                      <a:lnTo>
                        <a:pt x="1042" y="1232"/>
                      </a:lnTo>
                      <a:lnTo>
                        <a:pt x="1050" y="1279"/>
                      </a:lnTo>
                      <a:lnTo>
                        <a:pt x="1042" y="1316"/>
                      </a:lnTo>
                      <a:lnTo>
                        <a:pt x="1018" y="1346"/>
                      </a:lnTo>
                      <a:lnTo>
                        <a:pt x="997" y="1346"/>
                      </a:lnTo>
                      <a:lnTo>
                        <a:pt x="962" y="1399"/>
                      </a:lnTo>
                      <a:lnTo>
                        <a:pt x="931" y="1461"/>
                      </a:lnTo>
                      <a:lnTo>
                        <a:pt x="937" y="1527"/>
                      </a:lnTo>
                      <a:lnTo>
                        <a:pt x="907" y="1558"/>
                      </a:lnTo>
                      <a:lnTo>
                        <a:pt x="878" y="1628"/>
                      </a:lnTo>
                      <a:lnTo>
                        <a:pt x="845" y="1692"/>
                      </a:lnTo>
                      <a:lnTo>
                        <a:pt x="826" y="1717"/>
                      </a:lnTo>
                      <a:lnTo>
                        <a:pt x="810" y="1723"/>
                      </a:lnTo>
                      <a:lnTo>
                        <a:pt x="781" y="1764"/>
                      </a:lnTo>
                      <a:lnTo>
                        <a:pt x="734" y="1789"/>
                      </a:lnTo>
                      <a:lnTo>
                        <a:pt x="674" y="1795"/>
                      </a:lnTo>
                      <a:lnTo>
                        <a:pt x="641" y="1767"/>
                      </a:lnTo>
                      <a:lnTo>
                        <a:pt x="637" y="1739"/>
                      </a:lnTo>
                      <a:lnTo>
                        <a:pt x="631" y="1703"/>
                      </a:lnTo>
                      <a:lnTo>
                        <a:pt x="608" y="1684"/>
                      </a:lnTo>
                      <a:lnTo>
                        <a:pt x="590" y="1614"/>
                      </a:lnTo>
                      <a:lnTo>
                        <a:pt x="584" y="1580"/>
                      </a:lnTo>
                      <a:lnTo>
                        <a:pt x="582" y="1539"/>
                      </a:lnTo>
                      <a:lnTo>
                        <a:pt x="571" y="1508"/>
                      </a:lnTo>
                      <a:lnTo>
                        <a:pt x="569" y="1488"/>
                      </a:lnTo>
                      <a:lnTo>
                        <a:pt x="551" y="1458"/>
                      </a:lnTo>
                      <a:lnTo>
                        <a:pt x="530" y="1433"/>
                      </a:lnTo>
                      <a:lnTo>
                        <a:pt x="516" y="1391"/>
                      </a:lnTo>
                      <a:lnTo>
                        <a:pt x="506" y="1360"/>
                      </a:lnTo>
                      <a:lnTo>
                        <a:pt x="510" y="1310"/>
                      </a:lnTo>
                      <a:lnTo>
                        <a:pt x="541" y="1238"/>
                      </a:lnTo>
                      <a:lnTo>
                        <a:pt x="547" y="1157"/>
                      </a:lnTo>
                      <a:lnTo>
                        <a:pt x="524" y="1065"/>
                      </a:lnTo>
                      <a:lnTo>
                        <a:pt x="491" y="1029"/>
                      </a:lnTo>
                      <a:lnTo>
                        <a:pt x="469" y="978"/>
                      </a:lnTo>
                      <a:lnTo>
                        <a:pt x="477" y="900"/>
                      </a:lnTo>
                      <a:lnTo>
                        <a:pt x="460" y="842"/>
                      </a:lnTo>
                      <a:lnTo>
                        <a:pt x="421" y="836"/>
                      </a:lnTo>
                      <a:lnTo>
                        <a:pt x="380" y="792"/>
                      </a:lnTo>
                      <a:lnTo>
                        <a:pt x="329" y="766"/>
                      </a:lnTo>
                      <a:lnTo>
                        <a:pt x="275" y="806"/>
                      </a:lnTo>
                      <a:lnTo>
                        <a:pt x="136" y="794"/>
                      </a:lnTo>
                      <a:lnTo>
                        <a:pt x="60" y="697"/>
                      </a:lnTo>
                      <a:lnTo>
                        <a:pt x="0" y="566"/>
                      </a:lnTo>
                      <a:lnTo>
                        <a:pt x="10" y="521"/>
                      </a:lnTo>
                      <a:lnTo>
                        <a:pt x="37" y="488"/>
                      </a:lnTo>
                      <a:lnTo>
                        <a:pt x="49" y="396"/>
                      </a:lnTo>
                      <a:lnTo>
                        <a:pt x="68" y="329"/>
                      </a:lnTo>
                      <a:lnTo>
                        <a:pt x="121" y="259"/>
                      </a:lnTo>
                      <a:lnTo>
                        <a:pt x="177" y="229"/>
                      </a:lnTo>
                      <a:lnTo>
                        <a:pt x="228" y="156"/>
                      </a:lnTo>
                      <a:lnTo>
                        <a:pt x="241" y="125"/>
                      </a:lnTo>
                      <a:lnTo>
                        <a:pt x="308" y="47"/>
                      </a:lnTo>
                      <a:lnTo>
                        <a:pt x="352" y="78"/>
                      </a:lnTo>
                      <a:lnTo>
                        <a:pt x="382" y="75"/>
                      </a:lnTo>
                      <a:lnTo>
                        <a:pt x="419" y="33"/>
                      </a:lnTo>
                      <a:lnTo>
                        <a:pt x="463" y="28"/>
                      </a:lnTo>
                      <a:lnTo>
                        <a:pt x="491" y="39"/>
                      </a:lnTo>
                      <a:lnTo>
                        <a:pt x="518" y="6"/>
                      </a:lnTo>
                      <a:lnTo>
                        <a:pt x="553" y="0"/>
                      </a:lnTo>
                      <a:lnTo>
                        <a:pt x="561" y="61"/>
                      </a:lnTo>
                      <a:lnTo>
                        <a:pt x="584" y="106"/>
                      </a:lnTo>
                      <a:lnTo>
                        <a:pt x="648" y="151"/>
                      </a:lnTo>
                      <a:lnTo>
                        <a:pt x="701" y="159"/>
                      </a:lnTo>
                      <a:lnTo>
                        <a:pt x="707" y="109"/>
                      </a:lnTo>
                      <a:lnTo>
                        <a:pt x="748" y="109"/>
                      </a:lnTo>
                      <a:lnTo>
                        <a:pt x="798" y="139"/>
                      </a:lnTo>
                      <a:lnTo>
                        <a:pt x="851" y="156"/>
                      </a:lnTo>
                      <a:lnTo>
                        <a:pt x="896" y="137"/>
                      </a:lnTo>
                      <a:lnTo>
                        <a:pt x="937" y="215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4055040" y="1257480"/>
                  <a:ext cx="812880" cy="982440"/>
                  <a:chOff x="4055040" y="1257480"/>
                  <a:chExt cx="812880" cy="9824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4376880" y="1871640"/>
                    <a:ext cx="254520" cy="368280"/>
                    <a:chOff x="4376880" y="1871640"/>
                    <a:chExt cx="254520" cy="36828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376880" y="2005200"/>
                      <a:ext cx="1198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32">
                          <a:moveTo>
                            <a:pt x="19" y="40"/>
                          </a:moveTo>
                          <a:lnTo>
                            <a:pt x="25" y="26"/>
                          </a:lnTo>
                          <a:lnTo>
                            <a:pt x="39" y="26"/>
                          </a:lnTo>
                          <a:lnTo>
                            <a:pt x="60" y="0"/>
                          </a:lnTo>
                          <a:lnTo>
                            <a:pt x="66" y="17"/>
                          </a:lnTo>
                          <a:lnTo>
                            <a:pt x="77" y="17"/>
                          </a:lnTo>
                          <a:lnTo>
                            <a:pt x="81" y="26"/>
                          </a:lnTo>
                          <a:lnTo>
                            <a:pt x="75" y="40"/>
                          </a:lnTo>
                          <a:lnTo>
                            <a:pt x="66" y="46"/>
                          </a:lnTo>
                          <a:lnTo>
                            <a:pt x="66" y="57"/>
                          </a:lnTo>
                          <a:lnTo>
                            <a:pt x="64" y="63"/>
                          </a:lnTo>
                          <a:lnTo>
                            <a:pt x="62" y="71"/>
                          </a:lnTo>
                          <a:lnTo>
                            <a:pt x="66" y="83"/>
                          </a:lnTo>
                          <a:lnTo>
                            <a:pt x="60" y="94"/>
                          </a:lnTo>
                          <a:lnTo>
                            <a:pt x="54" y="100"/>
                          </a:lnTo>
                          <a:lnTo>
                            <a:pt x="48" y="100"/>
                          </a:lnTo>
                          <a:lnTo>
                            <a:pt x="46" y="103"/>
                          </a:lnTo>
                          <a:lnTo>
                            <a:pt x="44" y="111"/>
                          </a:lnTo>
                          <a:lnTo>
                            <a:pt x="33" y="114"/>
                          </a:lnTo>
                          <a:lnTo>
                            <a:pt x="31" y="111"/>
                          </a:lnTo>
                          <a:lnTo>
                            <a:pt x="23" y="120"/>
                          </a:lnTo>
                          <a:lnTo>
                            <a:pt x="21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7" y="74"/>
                          </a:lnTo>
                          <a:lnTo>
                            <a:pt x="23" y="74"/>
                          </a:lnTo>
                          <a:lnTo>
                            <a:pt x="27" y="77"/>
                          </a:lnTo>
                          <a:lnTo>
                            <a:pt x="33" y="74"/>
                          </a:lnTo>
                          <a:lnTo>
                            <a:pt x="27" y="71"/>
                          </a:lnTo>
                          <a:lnTo>
                            <a:pt x="19" y="40"/>
                          </a:lnTo>
                        </a:path>
                      </a:pathLst>
                    </a:custGeom>
                    <a:solidFill>
                      <a:srgbClr val="d9da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486680" y="1871640"/>
                      <a:ext cx="144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232">
                          <a:moveTo>
                            <a:pt x="31" y="33"/>
                          </a:moveTo>
                          <a:lnTo>
                            <a:pt x="38" y="25"/>
                          </a:lnTo>
                          <a:lnTo>
                            <a:pt x="56" y="28"/>
                          </a:lnTo>
                          <a:lnTo>
                            <a:pt x="60" y="22"/>
                          </a:lnTo>
                          <a:lnTo>
                            <a:pt x="65" y="14"/>
                          </a:lnTo>
                          <a:lnTo>
                            <a:pt x="69" y="14"/>
                          </a:lnTo>
                          <a:lnTo>
                            <a:pt x="73" y="11"/>
                          </a:lnTo>
                          <a:lnTo>
                            <a:pt x="79" y="6"/>
                          </a:lnTo>
                          <a:lnTo>
                            <a:pt x="88" y="0"/>
                          </a:lnTo>
                          <a:lnTo>
                            <a:pt x="98" y="3"/>
                          </a:lnTo>
                          <a:lnTo>
                            <a:pt x="96" y="14"/>
                          </a:lnTo>
                          <a:lnTo>
                            <a:pt x="92" y="22"/>
                          </a:lnTo>
                          <a:lnTo>
                            <a:pt x="88" y="25"/>
                          </a:lnTo>
                          <a:lnTo>
                            <a:pt x="83" y="28"/>
                          </a:lnTo>
                          <a:lnTo>
                            <a:pt x="71" y="33"/>
                          </a:lnTo>
                          <a:lnTo>
                            <a:pt x="71" y="45"/>
                          </a:lnTo>
                          <a:lnTo>
                            <a:pt x="73" y="50"/>
                          </a:lnTo>
                          <a:lnTo>
                            <a:pt x="85" y="45"/>
                          </a:lnTo>
                          <a:lnTo>
                            <a:pt x="96" y="39"/>
                          </a:lnTo>
                          <a:lnTo>
                            <a:pt x="98" y="45"/>
                          </a:lnTo>
                          <a:lnTo>
                            <a:pt x="98" y="61"/>
                          </a:lnTo>
                          <a:lnTo>
                            <a:pt x="90" y="64"/>
                          </a:lnTo>
                          <a:lnTo>
                            <a:pt x="81" y="64"/>
                          </a:lnTo>
                          <a:lnTo>
                            <a:pt x="75" y="72"/>
                          </a:lnTo>
                          <a:lnTo>
                            <a:pt x="73" y="78"/>
                          </a:lnTo>
                          <a:lnTo>
                            <a:pt x="73" y="86"/>
                          </a:lnTo>
                          <a:lnTo>
                            <a:pt x="79" y="97"/>
                          </a:lnTo>
                          <a:lnTo>
                            <a:pt x="85" y="106"/>
                          </a:lnTo>
                          <a:lnTo>
                            <a:pt x="90" y="114"/>
                          </a:lnTo>
                          <a:lnTo>
                            <a:pt x="92" y="125"/>
                          </a:lnTo>
                          <a:lnTo>
                            <a:pt x="94" y="136"/>
                          </a:lnTo>
                          <a:lnTo>
                            <a:pt x="98" y="150"/>
                          </a:lnTo>
                          <a:lnTo>
                            <a:pt x="98" y="170"/>
                          </a:lnTo>
                          <a:lnTo>
                            <a:pt x="94" y="181"/>
                          </a:lnTo>
                          <a:lnTo>
                            <a:pt x="85" y="189"/>
                          </a:lnTo>
                          <a:lnTo>
                            <a:pt x="83" y="195"/>
                          </a:lnTo>
                          <a:lnTo>
                            <a:pt x="88" y="206"/>
                          </a:lnTo>
                          <a:lnTo>
                            <a:pt x="92" y="217"/>
                          </a:lnTo>
                          <a:lnTo>
                            <a:pt x="79" y="217"/>
                          </a:lnTo>
                          <a:lnTo>
                            <a:pt x="69" y="217"/>
                          </a:lnTo>
                          <a:lnTo>
                            <a:pt x="65" y="214"/>
                          </a:lnTo>
                          <a:lnTo>
                            <a:pt x="56" y="214"/>
                          </a:lnTo>
                          <a:lnTo>
                            <a:pt x="46" y="217"/>
                          </a:lnTo>
                          <a:lnTo>
                            <a:pt x="38" y="223"/>
                          </a:lnTo>
                          <a:lnTo>
                            <a:pt x="31" y="223"/>
                          </a:lnTo>
                          <a:lnTo>
                            <a:pt x="27" y="225"/>
                          </a:lnTo>
                          <a:lnTo>
                            <a:pt x="17" y="231"/>
                          </a:lnTo>
                          <a:lnTo>
                            <a:pt x="15" y="228"/>
                          </a:lnTo>
                          <a:lnTo>
                            <a:pt x="10" y="223"/>
                          </a:lnTo>
                          <a:lnTo>
                            <a:pt x="4" y="220"/>
                          </a:lnTo>
                          <a:lnTo>
                            <a:pt x="0" y="217"/>
                          </a:lnTo>
                          <a:lnTo>
                            <a:pt x="0" y="206"/>
                          </a:lnTo>
                          <a:lnTo>
                            <a:pt x="4" y="192"/>
                          </a:lnTo>
                          <a:lnTo>
                            <a:pt x="10" y="192"/>
                          </a:lnTo>
                          <a:lnTo>
                            <a:pt x="17" y="189"/>
                          </a:lnTo>
                          <a:lnTo>
                            <a:pt x="25" y="189"/>
                          </a:lnTo>
                          <a:lnTo>
                            <a:pt x="25" y="186"/>
                          </a:lnTo>
                          <a:lnTo>
                            <a:pt x="17" y="181"/>
                          </a:lnTo>
                          <a:lnTo>
                            <a:pt x="17" y="173"/>
                          </a:lnTo>
                          <a:lnTo>
                            <a:pt x="17" y="167"/>
                          </a:lnTo>
                          <a:lnTo>
                            <a:pt x="25" y="161"/>
                          </a:lnTo>
                          <a:lnTo>
                            <a:pt x="29" y="159"/>
                          </a:lnTo>
                          <a:lnTo>
                            <a:pt x="33" y="156"/>
                          </a:lnTo>
                          <a:lnTo>
                            <a:pt x="40" y="156"/>
                          </a:lnTo>
                          <a:lnTo>
                            <a:pt x="44" y="153"/>
                          </a:lnTo>
                          <a:lnTo>
                            <a:pt x="46" y="131"/>
                          </a:lnTo>
                          <a:lnTo>
                            <a:pt x="52" y="114"/>
                          </a:lnTo>
                          <a:lnTo>
                            <a:pt x="52" y="106"/>
                          </a:lnTo>
                          <a:lnTo>
                            <a:pt x="38" y="103"/>
                          </a:lnTo>
                          <a:lnTo>
                            <a:pt x="42" y="89"/>
                          </a:lnTo>
                          <a:lnTo>
                            <a:pt x="31" y="81"/>
                          </a:lnTo>
                          <a:lnTo>
                            <a:pt x="21" y="83"/>
                          </a:lnTo>
                          <a:lnTo>
                            <a:pt x="33" y="64"/>
                          </a:lnTo>
                          <a:lnTo>
                            <a:pt x="31" y="33"/>
                          </a:lnTo>
                        </a:path>
                      </a:pathLst>
                    </a:custGeom>
                    <a:solidFill>
                      <a:srgbClr val="d9da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" name=""/>
                  <p:cNvSpPr/>
                  <p:nvPr/>
                </p:nvSpPr>
                <p:spPr>
                  <a:xfrm>
                    <a:off x="4055040" y="1257480"/>
                    <a:ext cx="812880" cy="61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390">
                        <a:moveTo>
                          <a:pt x="0" y="389"/>
                        </a:moveTo>
                        <a:lnTo>
                          <a:pt x="35" y="381"/>
                        </a:lnTo>
                        <a:lnTo>
                          <a:pt x="47" y="364"/>
                        </a:lnTo>
                        <a:lnTo>
                          <a:pt x="55" y="353"/>
                        </a:lnTo>
                        <a:lnTo>
                          <a:pt x="60" y="344"/>
                        </a:lnTo>
                        <a:lnTo>
                          <a:pt x="68" y="344"/>
                        </a:lnTo>
                        <a:lnTo>
                          <a:pt x="76" y="336"/>
                        </a:lnTo>
                        <a:lnTo>
                          <a:pt x="86" y="336"/>
                        </a:lnTo>
                        <a:lnTo>
                          <a:pt x="92" y="336"/>
                        </a:lnTo>
                        <a:lnTo>
                          <a:pt x="101" y="336"/>
                        </a:lnTo>
                        <a:lnTo>
                          <a:pt x="105" y="336"/>
                        </a:lnTo>
                        <a:lnTo>
                          <a:pt x="113" y="325"/>
                        </a:lnTo>
                        <a:lnTo>
                          <a:pt x="117" y="316"/>
                        </a:lnTo>
                        <a:lnTo>
                          <a:pt x="127" y="308"/>
                        </a:lnTo>
                        <a:lnTo>
                          <a:pt x="135" y="305"/>
                        </a:lnTo>
                        <a:lnTo>
                          <a:pt x="142" y="299"/>
                        </a:lnTo>
                        <a:lnTo>
                          <a:pt x="150" y="297"/>
                        </a:lnTo>
                        <a:lnTo>
                          <a:pt x="156" y="291"/>
                        </a:lnTo>
                        <a:lnTo>
                          <a:pt x="164" y="285"/>
                        </a:lnTo>
                        <a:lnTo>
                          <a:pt x="172" y="280"/>
                        </a:lnTo>
                        <a:lnTo>
                          <a:pt x="183" y="271"/>
                        </a:lnTo>
                        <a:lnTo>
                          <a:pt x="193" y="274"/>
                        </a:lnTo>
                        <a:lnTo>
                          <a:pt x="209" y="280"/>
                        </a:lnTo>
                        <a:lnTo>
                          <a:pt x="226" y="280"/>
                        </a:lnTo>
                        <a:lnTo>
                          <a:pt x="244" y="271"/>
                        </a:lnTo>
                        <a:lnTo>
                          <a:pt x="252" y="269"/>
                        </a:lnTo>
                        <a:lnTo>
                          <a:pt x="259" y="252"/>
                        </a:lnTo>
                        <a:lnTo>
                          <a:pt x="267" y="241"/>
                        </a:lnTo>
                        <a:lnTo>
                          <a:pt x="281" y="227"/>
                        </a:lnTo>
                        <a:lnTo>
                          <a:pt x="285" y="218"/>
                        </a:lnTo>
                        <a:lnTo>
                          <a:pt x="285" y="207"/>
                        </a:lnTo>
                        <a:lnTo>
                          <a:pt x="298" y="199"/>
                        </a:lnTo>
                        <a:lnTo>
                          <a:pt x="304" y="190"/>
                        </a:lnTo>
                        <a:lnTo>
                          <a:pt x="308" y="182"/>
                        </a:lnTo>
                        <a:lnTo>
                          <a:pt x="312" y="182"/>
                        </a:lnTo>
                        <a:lnTo>
                          <a:pt x="332" y="165"/>
                        </a:lnTo>
                        <a:lnTo>
                          <a:pt x="332" y="182"/>
                        </a:lnTo>
                        <a:lnTo>
                          <a:pt x="328" y="188"/>
                        </a:lnTo>
                        <a:lnTo>
                          <a:pt x="332" y="196"/>
                        </a:lnTo>
                        <a:lnTo>
                          <a:pt x="347" y="199"/>
                        </a:lnTo>
                        <a:lnTo>
                          <a:pt x="355" y="199"/>
                        </a:lnTo>
                        <a:lnTo>
                          <a:pt x="363" y="190"/>
                        </a:lnTo>
                        <a:lnTo>
                          <a:pt x="369" y="182"/>
                        </a:lnTo>
                        <a:lnTo>
                          <a:pt x="369" y="174"/>
                        </a:lnTo>
                        <a:lnTo>
                          <a:pt x="375" y="165"/>
                        </a:lnTo>
                        <a:lnTo>
                          <a:pt x="375" y="157"/>
                        </a:lnTo>
                        <a:lnTo>
                          <a:pt x="382" y="146"/>
                        </a:lnTo>
                        <a:lnTo>
                          <a:pt x="386" y="140"/>
                        </a:lnTo>
                        <a:lnTo>
                          <a:pt x="396" y="140"/>
                        </a:lnTo>
                        <a:lnTo>
                          <a:pt x="417" y="140"/>
                        </a:lnTo>
                        <a:lnTo>
                          <a:pt x="433" y="129"/>
                        </a:lnTo>
                        <a:lnTo>
                          <a:pt x="447" y="112"/>
                        </a:lnTo>
                        <a:lnTo>
                          <a:pt x="464" y="106"/>
                        </a:lnTo>
                        <a:lnTo>
                          <a:pt x="478" y="92"/>
                        </a:lnTo>
                        <a:lnTo>
                          <a:pt x="488" y="70"/>
                        </a:lnTo>
                        <a:lnTo>
                          <a:pt x="511" y="45"/>
                        </a:lnTo>
                        <a:lnTo>
                          <a:pt x="525" y="34"/>
                        </a:lnTo>
                        <a:lnTo>
                          <a:pt x="540" y="22"/>
                        </a:lnTo>
                        <a:lnTo>
                          <a:pt x="554" y="8"/>
                        </a:lnTo>
                        <a:lnTo>
                          <a:pt x="529" y="0"/>
                        </a:lnTo>
                        <a:lnTo>
                          <a:pt x="505" y="0"/>
                        </a:lnTo>
                        <a:lnTo>
                          <a:pt x="480" y="14"/>
                        </a:lnTo>
                        <a:lnTo>
                          <a:pt x="468" y="22"/>
                        </a:lnTo>
                        <a:lnTo>
                          <a:pt x="447" y="28"/>
                        </a:lnTo>
                        <a:lnTo>
                          <a:pt x="425" y="31"/>
                        </a:lnTo>
                        <a:lnTo>
                          <a:pt x="412" y="36"/>
                        </a:lnTo>
                        <a:lnTo>
                          <a:pt x="386" y="50"/>
                        </a:lnTo>
                        <a:lnTo>
                          <a:pt x="369" y="59"/>
                        </a:lnTo>
                        <a:lnTo>
                          <a:pt x="353" y="67"/>
                        </a:lnTo>
                        <a:lnTo>
                          <a:pt x="332" y="73"/>
                        </a:lnTo>
                        <a:lnTo>
                          <a:pt x="312" y="81"/>
                        </a:lnTo>
                        <a:lnTo>
                          <a:pt x="293" y="92"/>
                        </a:lnTo>
                        <a:lnTo>
                          <a:pt x="279" y="106"/>
                        </a:lnTo>
                        <a:lnTo>
                          <a:pt x="267" y="120"/>
                        </a:lnTo>
                        <a:lnTo>
                          <a:pt x="254" y="132"/>
                        </a:lnTo>
                        <a:lnTo>
                          <a:pt x="244" y="140"/>
                        </a:lnTo>
                        <a:lnTo>
                          <a:pt x="222" y="157"/>
                        </a:lnTo>
                        <a:lnTo>
                          <a:pt x="199" y="174"/>
                        </a:lnTo>
                        <a:lnTo>
                          <a:pt x="172" y="190"/>
                        </a:lnTo>
                        <a:lnTo>
                          <a:pt x="154" y="215"/>
                        </a:lnTo>
                        <a:lnTo>
                          <a:pt x="133" y="235"/>
                        </a:lnTo>
                        <a:lnTo>
                          <a:pt x="115" y="246"/>
                        </a:lnTo>
                        <a:lnTo>
                          <a:pt x="96" y="271"/>
                        </a:lnTo>
                        <a:lnTo>
                          <a:pt x="84" y="288"/>
                        </a:lnTo>
                        <a:lnTo>
                          <a:pt x="68" y="305"/>
                        </a:lnTo>
                        <a:lnTo>
                          <a:pt x="51" y="316"/>
                        </a:lnTo>
                        <a:lnTo>
                          <a:pt x="35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d9da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491800" y="4743360"/>
                  <a:ext cx="244440" cy="596880"/>
                </a:xfrm>
                <a:custGeom>
                  <a:avLst/>
                  <a:gdLst/>
                  <a:ahLst/>
                  <a:rect l="l" t="t" r="r" b="b"/>
                  <a:pathLst>
                    <a:path w="167" h="376">
                      <a:moveTo>
                        <a:pt x="31" y="117"/>
                      </a:moveTo>
                      <a:lnTo>
                        <a:pt x="27" y="192"/>
                      </a:lnTo>
                      <a:lnTo>
                        <a:pt x="12" y="239"/>
                      </a:lnTo>
                      <a:lnTo>
                        <a:pt x="0" y="283"/>
                      </a:lnTo>
                      <a:lnTo>
                        <a:pt x="0" y="317"/>
                      </a:lnTo>
                      <a:lnTo>
                        <a:pt x="4" y="344"/>
                      </a:lnTo>
                      <a:lnTo>
                        <a:pt x="19" y="369"/>
                      </a:lnTo>
                      <a:lnTo>
                        <a:pt x="31" y="372"/>
                      </a:lnTo>
                      <a:lnTo>
                        <a:pt x="42" y="372"/>
                      </a:lnTo>
                      <a:lnTo>
                        <a:pt x="54" y="375"/>
                      </a:lnTo>
                      <a:lnTo>
                        <a:pt x="60" y="356"/>
                      </a:lnTo>
                      <a:lnTo>
                        <a:pt x="66" y="306"/>
                      </a:lnTo>
                      <a:lnTo>
                        <a:pt x="85" y="272"/>
                      </a:lnTo>
                      <a:lnTo>
                        <a:pt x="89" y="222"/>
                      </a:lnTo>
                      <a:lnTo>
                        <a:pt x="98" y="203"/>
                      </a:lnTo>
                      <a:lnTo>
                        <a:pt x="106" y="189"/>
                      </a:lnTo>
                      <a:lnTo>
                        <a:pt x="112" y="153"/>
                      </a:lnTo>
                      <a:lnTo>
                        <a:pt x="125" y="131"/>
                      </a:lnTo>
                      <a:lnTo>
                        <a:pt x="133" y="114"/>
                      </a:lnTo>
                      <a:lnTo>
                        <a:pt x="141" y="100"/>
                      </a:lnTo>
                      <a:lnTo>
                        <a:pt x="141" y="92"/>
                      </a:lnTo>
                      <a:lnTo>
                        <a:pt x="160" y="72"/>
                      </a:lnTo>
                      <a:lnTo>
                        <a:pt x="162" y="42"/>
                      </a:lnTo>
                      <a:lnTo>
                        <a:pt x="166" y="22"/>
                      </a:lnTo>
                      <a:lnTo>
                        <a:pt x="149" y="14"/>
                      </a:lnTo>
                      <a:lnTo>
                        <a:pt x="139" y="0"/>
                      </a:lnTo>
                      <a:lnTo>
                        <a:pt x="125" y="14"/>
                      </a:lnTo>
                      <a:lnTo>
                        <a:pt x="112" y="47"/>
                      </a:lnTo>
                      <a:lnTo>
                        <a:pt x="98" y="69"/>
                      </a:lnTo>
                      <a:lnTo>
                        <a:pt x="85" y="89"/>
                      </a:lnTo>
                      <a:lnTo>
                        <a:pt x="79" y="89"/>
                      </a:lnTo>
                      <a:lnTo>
                        <a:pt x="66" y="100"/>
                      </a:lnTo>
                      <a:lnTo>
                        <a:pt x="60" y="111"/>
                      </a:lnTo>
                      <a:lnTo>
                        <a:pt x="31" y="117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333320" y="1319400"/>
                  <a:ext cx="3289320" cy="2835000"/>
                </a:xfrm>
                <a:custGeom>
                  <a:avLst/>
                  <a:gdLst/>
                  <a:ahLst/>
                  <a:rect l="l" t="t" r="r" b="b"/>
                  <a:pathLst>
                    <a:path w="2246" h="1786">
                      <a:moveTo>
                        <a:pt x="0" y="802"/>
                      </a:moveTo>
                      <a:lnTo>
                        <a:pt x="21" y="777"/>
                      </a:lnTo>
                      <a:lnTo>
                        <a:pt x="33" y="757"/>
                      </a:lnTo>
                      <a:lnTo>
                        <a:pt x="60" y="757"/>
                      </a:lnTo>
                      <a:lnTo>
                        <a:pt x="88" y="763"/>
                      </a:lnTo>
                      <a:lnTo>
                        <a:pt x="109" y="752"/>
                      </a:lnTo>
                      <a:lnTo>
                        <a:pt x="131" y="749"/>
                      </a:lnTo>
                      <a:lnTo>
                        <a:pt x="134" y="716"/>
                      </a:lnTo>
                      <a:lnTo>
                        <a:pt x="146" y="693"/>
                      </a:lnTo>
                      <a:lnTo>
                        <a:pt x="115" y="668"/>
                      </a:lnTo>
                      <a:lnTo>
                        <a:pt x="111" y="649"/>
                      </a:lnTo>
                      <a:lnTo>
                        <a:pt x="113" y="621"/>
                      </a:lnTo>
                      <a:lnTo>
                        <a:pt x="136" y="621"/>
                      </a:lnTo>
                      <a:lnTo>
                        <a:pt x="150" y="618"/>
                      </a:lnTo>
                      <a:lnTo>
                        <a:pt x="152" y="621"/>
                      </a:lnTo>
                      <a:lnTo>
                        <a:pt x="168" y="604"/>
                      </a:lnTo>
                      <a:lnTo>
                        <a:pt x="185" y="596"/>
                      </a:lnTo>
                      <a:lnTo>
                        <a:pt x="191" y="596"/>
                      </a:lnTo>
                      <a:lnTo>
                        <a:pt x="201" y="579"/>
                      </a:lnTo>
                      <a:lnTo>
                        <a:pt x="214" y="574"/>
                      </a:lnTo>
                      <a:lnTo>
                        <a:pt x="226" y="543"/>
                      </a:lnTo>
                      <a:lnTo>
                        <a:pt x="234" y="551"/>
                      </a:lnTo>
                      <a:lnTo>
                        <a:pt x="251" y="532"/>
                      </a:lnTo>
                      <a:lnTo>
                        <a:pt x="253" y="532"/>
                      </a:lnTo>
                      <a:lnTo>
                        <a:pt x="273" y="510"/>
                      </a:lnTo>
                      <a:lnTo>
                        <a:pt x="286" y="507"/>
                      </a:lnTo>
                      <a:lnTo>
                        <a:pt x="302" y="507"/>
                      </a:lnTo>
                      <a:lnTo>
                        <a:pt x="312" y="507"/>
                      </a:lnTo>
                      <a:lnTo>
                        <a:pt x="304" y="479"/>
                      </a:lnTo>
                      <a:lnTo>
                        <a:pt x="300" y="457"/>
                      </a:lnTo>
                      <a:lnTo>
                        <a:pt x="296" y="409"/>
                      </a:lnTo>
                      <a:lnTo>
                        <a:pt x="320" y="407"/>
                      </a:lnTo>
                      <a:lnTo>
                        <a:pt x="333" y="398"/>
                      </a:lnTo>
                      <a:lnTo>
                        <a:pt x="327" y="418"/>
                      </a:lnTo>
                      <a:lnTo>
                        <a:pt x="337" y="432"/>
                      </a:lnTo>
                      <a:lnTo>
                        <a:pt x="347" y="448"/>
                      </a:lnTo>
                      <a:lnTo>
                        <a:pt x="353" y="459"/>
                      </a:lnTo>
                      <a:lnTo>
                        <a:pt x="382" y="457"/>
                      </a:lnTo>
                      <a:lnTo>
                        <a:pt x="407" y="415"/>
                      </a:lnTo>
                      <a:lnTo>
                        <a:pt x="425" y="395"/>
                      </a:lnTo>
                      <a:lnTo>
                        <a:pt x="435" y="382"/>
                      </a:lnTo>
                      <a:lnTo>
                        <a:pt x="448" y="365"/>
                      </a:lnTo>
                      <a:lnTo>
                        <a:pt x="460" y="343"/>
                      </a:lnTo>
                      <a:lnTo>
                        <a:pt x="470" y="351"/>
                      </a:lnTo>
                      <a:lnTo>
                        <a:pt x="470" y="337"/>
                      </a:lnTo>
                      <a:lnTo>
                        <a:pt x="477" y="329"/>
                      </a:lnTo>
                      <a:lnTo>
                        <a:pt x="495" y="334"/>
                      </a:lnTo>
                      <a:lnTo>
                        <a:pt x="526" y="370"/>
                      </a:lnTo>
                      <a:lnTo>
                        <a:pt x="520" y="270"/>
                      </a:lnTo>
                      <a:lnTo>
                        <a:pt x="493" y="315"/>
                      </a:lnTo>
                      <a:lnTo>
                        <a:pt x="472" y="312"/>
                      </a:lnTo>
                      <a:lnTo>
                        <a:pt x="466" y="284"/>
                      </a:lnTo>
                      <a:lnTo>
                        <a:pt x="466" y="270"/>
                      </a:lnTo>
                      <a:lnTo>
                        <a:pt x="460" y="262"/>
                      </a:lnTo>
                      <a:lnTo>
                        <a:pt x="477" y="239"/>
                      </a:lnTo>
                      <a:lnTo>
                        <a:pt x="487" y="223"/>
                      </a:lnTo>
                      <a:lnTo>
                        <a:pt x="497" y="217"/>
                      </a:lnTo>
                      <a:lnTo>
                        <a:pt x="505" y="214"/>
                      </a:lnTo>
                      <a:lnTo>
                        <a:pt x="511" y="200"/>
                      </a:lnTo>
                      <a:lnTo>
                        <a:pt x="520" y="198"/>
                      </a:lnTo>
                      <a:lnTo>
                        <a:pt x="530" y="198"/>
                      </a:lnTo>
                      <a:lnTo>
                        <a:pt x="511" y="173"/>
                      </a:lnTo>
                      <a:lnTo>
                        <a:pt x="493" y="178"/>
                      </a:lnTo>
                      <a:lnTo>
                        <a:pt x="481" y="178"/>
                      </a:lnTo>
                      <a:lnTo>
                        <a:pt x="470" y="170"/>
                      </a:lnTo>
                      <a:lnTo>
                        <a:pt x="470" y="187"/>
                      </a:lnTo>
                      <a:lnTo>
                        <a:pt x="460" y="203"/>
                      </a:lnTo>
                      <a:lnTo>
                        <a:pt x="446" y="231"/>
                      </a:lnTo>
                      <a:lnTo>
                        <a:pt x="431" y="242"/>
                      </a:lnTo>
                      <a:lnTo>
                        <a:pt x="421" y="242"/>
                      </a:lnTo>
                      <a:lnTo>
                        <a:pt x="417" y="262"/>
                      </a:lnTo>
                      <a:lnTo>
                        <a:pt x="417" y="270"/>
                      </a:lnTo>
                      <a:lnTo>
                        <a:pt x="409" y="278"/>
                      </a:lnTo>
                      <a:lnTo>
                        <a:pt x="419" y="312"/>
                      </a:lnTo>
                      <a:lnTo>
                        <a:pt x="425" y="329"/>
                      </a:lnTo>
                      <a:lnTo>
                        <a:pt x="413" y="354"/>
                      </a:lnTo>
                      <a:lnTo>
                        <a:pt x="398" y="370"/>
                      </a:lnTo>
                      <a:lnTo>
                        <a:pt x="394" y="395"/>
                      </a:lnTo>
                      <a:lnTo>
                        <a:pt x="386" y="415"/>
                      </a:lnTo>
                      <a:lnTo>
                        <a:pt x="378" y="415"/>
                      </a:lnTo>
                      <a:lnTo>
                        <a:pt x="366" y="418"/>
                      </a:lnTo>
                      <a:lnTo>
                        <a:pt x="353" y="426"/>
                      </a:lnTo>
                      <a:lnTo>
                        <a:pt x="349" y="423"/>
                      </a:lnTo>
                      <a:lnTo>
                        <a:pt x="349" y="409"/>
                      </a:lnTo>
                      <a:lnTo>
                        <a:pt x="347" y="387"/>
                      </a:lnTo>
                      <a:lnTo>
                        <a:pt x="337" y="387"/>
                      </a:lnTo>
                      <a:lnTo>
                        <a:pt x="331" y="373"/>
                      </a:lnTo>
                      <a:lnTo>
                        <a:pt x="333" y="354"/>
                      </a:lnTo>
                      <a:lnTo>
                        <a:pt x="335" y="343"/>
                      </a:lnTo>
                      <a:lnTo>
                        <a:pt x="333" y="337"/>
                      </a:lnTo>
                      <a:lnTo>
                        <a:pt x="325" y="343"/>
                      </a:lnTo>
                      <a:lnTo>
                        <a:pt x="320" y="343"/>
                      </a:lnTo>
                      <a:lnTo>
                        <a:pt x="314" y="340"/>
                      </a:lnTo>
                      <a:lnTo>
                        <a:pt x="310" y="337"/>
                      </a:lnTo>
                      <a:lnTo>
                        <a:pt x="300" y="348"/>
                      </a:lnTo>
                      <a:lnTo>
                        <a:pt x="290" y="362"/>
                      </a:lnTo>
                      <a:lnTo>
                        <a:pt x="279" y="376"/>
                      </a:lnTo>
                      <a:lnTo>
                        <a:pt x="257" y="373"/>
                      </a:lnTo>
                      <a:lnTo>
                        <a:pt x="242" y="370"/>
                      </a:lnTo>
                      <a:lnTo>
                        <a:pt x="232" y="356"/>
                      </a:lnTo>
                      <a:lnTo>
                        <a:pt x="232" y="348"/>
                      </a:lnTo>
                      <a:lnTo>
                        <a:pt x="238" y="337"/>
                      </a:lnTo>
                      <a:lnTo>
                        <a:pt x="246" y="329"/>
                      </a:lnTo>
                      <a:lnTo>
                        <a:pt x="253" y="317"/>
                      </a:lnTo>
                      <a:lnTo>
                        <a:pt x="238" y="323"/>
                      </a:lnTo>
                      <a:lnTo>
                        <a:pt x="232" y="309"/>
                      </a:lnTo>
                      <a:lnTo>
                        <a:pt x="232" y="301"/>
                      </a:lnTo>
                      <a:lnTo>
                        <a:pt x="253" y="298"/>
                      </a:lnTo>
                      <a:lnTo>
                        <a:pt x="271" y="295"/>
                      </a:lnTo>
                      <a:lnTo>
                        <a:pt x="259" y="287"/>
                      </a:lnTo>
                      <a:lnTo>
                        <a:pt x="240" y="290"/>
                      </a:lnTo>
                      <a:lnTo>
                        <a:pt x="240" y="273"/>
                      </a:lnTo>
                      <a:lnTo>
                        <a:pt x="249" y="262"/>
                      </a:lnTo>
                      <a:lnTo>
                        <a:pt x="267" y="251"/>
                      </a:lnTo>
                      <a:lnTo>
                        <a:pt x="273" y="239"/>
                      </a:lnTo>
                      <a:lnTo>
                        <a:pt x="279" y="234"/>
                      </a:lnTo>
                      <a:lnTo>
                        <a:pt x="294" y="231"/>
                      </a:lnTo>
                      <a:lnTo>
                        <a:pt x="306" y="234"/>
                      </a:lnTo>
                      <a:lnTo>
                        <a:pt x="312" y="239"/>
                      </a:lnTo>
                      <a:lnTo>
                        <a:pt x="322" y="231"/>
                      </a:lnTo>
                      <a:lnTo>
                        <a:pt x="312" y="228"/>
                      </a:lnTo>
                      <a:lnTo>
                        <a:pt x="312" y="206"/>
                      </a:lnTo>
                      <a:lnTo>
                        <a:pt x="339" y="181"/>
                      </a:lnTo>
                      <a:lnTo>
                        <a:pt x="353" y="164"/>
                      </a:lnTo>
                      <a:lnTo>
                        <a:pt x="362" y="162"/>
                      </a:lnTo>
                      <a:lnTo>
                        <a:pt x="359" y="153"/>
                      </a:lnTo>
                      <a:lnTo>
                        <a:pt x="372" y="136"/>
                      </a:lnTo>
                      <a:lnTo>
                        <a:pt x="386" y="111"/>
                      </a:lnTo>
                      <a:lnTo>
                        <a:pt x="403" y="100"/>
                      </a:lnTo>
                      <a:lnTo>
                        <a:pt x="390" y="89"/>
                      </a:lnTo>
                      <a:lnTo>
                        <a:pt x="423" y="64"/>
                      </a:lnTo>
                      <a:lnTo>
                        <a:pt x="437" y="67"/>
                      </a:lnTo>
                      <a:lnTo>
                        <a:pt x="435" y="53"/>
                      </a:lnTo>
                      <a:lnTo>
                        <a:pt x="464" y="50"/>
                      </a:lnTo>
                      <a:lnTo>
                        <a:pt x="518" y="6"/>
                      </a:lnTo>
                      <a:lnTo>
                        <a:pt x="526" y="0"/>
                      </a:lnTo>
                      <a:lnTo>
                        <a:pt x="516" y="33"/>
                      </a:lnTo>
                      <a:lnTo>
                        <a:pt x="528" y="17"/>
                      </a:lnTo>
                      <a:lnTo>
                        <a:pt x="542" y="11"/>
                      </a:lnTo>
                      <a:lnTo>
                        <a:pt x="540" y="25"/>
                      </a:lnTo>
                      <a:lnTo>
                        <a:pt x="581" y="8"/>
                      </a:lnTo>
                      <a:lnTo>
                        <a:pt x="600" y="22"/>
                      </a:lnTo>
                      <a:lnTo>
                        <a:pt x="573" y="36"/>
                      </a:lnTo>
                      <a:lnTo>
                        <a:pt x="583" y="53"/>
                      </a:lnTo>
                      <a:lnTo>
                        <a:pt x="622" y="50"/>
                      </a:lnTo>
                      <a:lnTo>
                        <a:pt x="682" y="75"/>
                      </a:lnTo>
                      <a:lnTo>
                        <a:pt x="678" y="103"/>
                      </a:lnTo>
                      <a:lnTo>
                        <a:pt x="653" y="128"/>
                      </a:lnTo>
                      <a:lnTo>
                        <a:pt x="616" y="142"/>
                      </a:lnTo>
                      <a:lnTo>
                        <a:pt x="610" y="170"/>
                      </a:lnTo>
                      <a:lnTo>
                        <a:pt x="612" y="198"/>
                      </a:lnTo>
                      <a:lnTo>
                        <a:pt x="622" y="203"/>
                      </a:lnTo>
                      <a:lnTo>
                        <a:pt x="624" y="217"/>
                      </a:lnTo>
                      <a:lnTo>
                        <a:pt x="629" y="223"/>
                      </a:lnTo>
                      <a:lnTo>
                        <a:pt x="637" y="228"/>
                      </a:lnTo>
                      <a:lnTo>
                        <a:pt x="639" y="245"/>
                      </a:lnTo>
                      <a:lnTo>
                        <a:pt x="651" y="265"/>
                      </a:lnTo>
                      <a:lnTo>
                        <a:pt x="651" y="273"/>
                      </a:lnTo>
                      <a:lnTo>
                        <a:pt x="663" y="273"/>
                      </a:lnTo>
                      <a:lnTo>
                        <a:pt x="668" y="278"/>
                      </a:lnTo>
                      <a:lnTo>
                        <a:pt x="678" y="284"/>
                      </a:lnTo>
                      <a:lnTo>
                        <a:pt x="684" y="276"/>
                      </a:lnTo>
                      <a:lnTo>
                        <a:pt x="690" y="262"/>
                      </a:lnTo>
                      <a:lnTo>
                        <a:pt x="694" y="253"/>
                      </a:lnTo>
                      <a:lnTo>
                        <a:pt x="705" y="259"/>
                      </a:lnTo>
                      <a:lnTo>
                        <a:pt x="717" y="239"/>
                      </a:lnTo>
                      <a:lnTo>
                        <a:pt x="717" y="226"/>
                      </a:lnTo>
                      <a:lnTo>
                        <a:pt x="721" y="214"/>
                      </a:lnTo>
                      <a:lnTo>
                        <a:pt x="723" y="206"/>
                      </a:lnTo>
                      <a:lnTo>
                        <a:pt x="748" y="198"/>
                      </a:lnTo>
                      <a:lnTo>
                        <a:pt x="768" y="189"/>
                      </a:lnTo>
                      <a:lnTo>
                        <a:pt x="795" y="178"/>
                      </a:lnTo>
                      <a:lnTo>
                        <a:pt x="826" y="187"/>
                      </a:lnTo>
                      <a:lnTo>
                        <a:pt x="857" y="187"/>
                      </a:lnTo>
                      <a:lnTo>
                        <a:pt x="908" y="187"/>
                      </a:lnTo>
                      <a:lnTo>
                        <a:pt x="916" y="120"/>
                      </a:lnTo>
                      <a:lnTo>
                        <a:pt x="945" y="123"/>
                      </a:lnTo>
                      <a:lnTo>
                        <a:pt x="965" y="173"/>
                      </a:lnTo>
                      <a:lnTo>
                        <a:pt x="969" y="131"/>
                      </a:lnTo>
                      <a:lnTo>
                        <a:pt x="1064" y="8"/>
                      </a:lnTo>
                      <a:lnTo>
                        <a:pt x="1101" y="8"/>
                      </a:lnTo>
                      <a:lnTo>
                        <a:pt x="1134" y="33"/>
                      </a:lnTo>
                      <a:lnTo>
                        <a:pt x="1177" y="31"/>
                      </a:lnTo>
                      <a:lnTo>
                        <a:pt x="1234" y="75"/>
                      </a:lnTo>
                      <a:lnTo>
                        <a:pt x="1300" y="100"/>
                      </a:lnTo>
                      <a:lnTo>
                        <a:pt x="1347" y="95"/>
                      </a:lnTo>
                      <a:lnTo>
                        <a:pt x="1409" y="123"/>
                      </a:lnTo>
                      <a:lnTo>
                        <a:pt x="1460" y="123"/>
                      </a:lnTo>
                      <a:lnTo>
                        <a:pt x="1485" y="103"/>
                      </a:lnTo>
                      <a:lnTo>
                        <a:pt x="1543" y="103"/>
                      </a:lnTo>
                      <a:lnTo>
                        <a:pt x="1573" y="125"/>
                      </a:lnTo>
                      <a:lnTo>
                        <a:pt x="1651" y="125"/>
                      </a:lnTo>
                      <a:lnTo>
                        <a:pt x="1717" y="162"/>
                      </a:lnTo>
                      <a:lnTo>
                        <a:pt x="1834" y="156"/>
                      </a:lnTo>
                      <a:lnTo>
                        <a:pt x="2025" y="173"/>
                      </a:lnTo>
                      <a:lnTo>
                        <a:pt x="2118" y="226"/>
                      </a:lnTo>
                      <a:lnTo>
                        <a:pt x="2196" y="259"/>
                      </a:lnTo>
                      <a:lnTo>
                        <a:pt x="2245" y="287"/>
                      </a:lnTo>
                      <a:lnTo>
                        <a:pt x="2231" y="295"/>
                      </a:lnTo>
                      <a:lnTo>
                        <a:pt x="2196" y="273"/>
                      </a:lnTo>
                      <a:lnTo>
                        <a:pt x="2116" y="265"/>
                      </a:lnTo>
                      <a:lnTo>
                        <a:pt x="2138" y="287"/>
                      </a:lnTo>
                      <a:lnTo>
                        <a:pt x="2173" y="298"/>
                      </a:lnTo>
                      <a:lnTo>
                        <a:pt x="2163" y="334"/>
                      </a:lnTo>
                      <a:lnTo>
                        <a:pt x="2126" y="356"/>
                      </a:lnTo>
                      <a:lnTo>
                        <a:pt x="2114" y="393"/>
                      </a:lnTo>
                      <a:lnTo>
                        <a:pt x="2163" y="426"/>
                      </a:lnTo>
                      <a:lnTo>
                        <a:pt x="2198" y="471"/>
                      </a:lnTo>
                      <a:lnTo>
                        <a:pt x="2216" y="535"/>
                      </a:lnTo>
                      <a:lnTo>
                        <a:pt x="2194" y="540"/>
                      </a:lnTo>
                      <a:lnTo>
                        <a:pt x="2144" y="521"/>
                      </a:lnTo>
                      <a:lnTo>
                        <a:pt x="2093" y="473"/>
                      </a:lnTo>
                      <a:lnTo>
                        <a:pt x="2072" y="448"/>
                      </a:lnTo>
                      <a:lnTo>
                        <a:pt x="2060" y="415"/>
                      </a:lnTo>
                      <a:lnTo>
                        <a:pt x="2048" y="365"/>
                      </a:lnTo>
                      <a:lnTo>
                        <a:pt x="2027" y="348"/>
                      </a:lnTo>
                      <a:lnTo>
                        <a:pt x="2009" y="345"/>
                      </a:lnTo>
                      <a:lnTo>
                        <a:pt x="1992" y="351"/>
                      </a:lnTo>
                      <a:lnTo>
                        <a:pt x="2011" y="390"/>
                      </a:lnTo>
                      <a:lnTo>
                        <a:pt x="1962" y="395"/>
                      </a:lnTo>
                      <a:lnTo>
                        <a:pt x="1939" y="376"/>
                      </a:lnTo>
                      <a:lnTo>
                        <a:pt x="1896" y="387"/>
                      </a:lnTo>
                      <a:lnTo>
                        <a:pt x="1863" y="418"/>
                      </a:lnTo>
                      <a:lnTo>
                        <a:pt x="1863" y="434"/>
                      </a:lnTo>
                      <a:lnTo>
                        <a:pt x="1875" y="462"/>
                      </a:lnTo>
                      <a:lnTo>
                        <a:pt x="1927" y="471"/>
                      </a:lnTo>
                      <a:lnTo>
                        <a:pt x="1968" y="504"/>
                      </a:lnTo>
                      <a:lnTo>
                        <a:pt x="2038" y="596"/>
                      </a:lnTo>
                      <a:lnTo>
                        <a:pt x="2066" y="657"/>
                      </a:lnTo>
                      <a:lnTo>
                        <a:pt x="2070" y="721"/>
                      </a:lnTo>
                      <a:lnTo>
                        <a:pt x="2064" y="774"/>
                      </a:lnTo>
                      <a:lnTo>
                        <a:pt x="2048" y="774"/>
                      </a:lnTo>
                      <a:lnTo>
                        <a:pt x="2029" y="755"/>
                      </a:lnTo>
                      <a:lnTo>
                        <a:pt x="2003" y="780"/>
                      </a:lnTo>
                      <a:lnTo>
                        <a:pt x="1976" y="802"/>
                      </a:lnTo>
                      <a:lnTo>
                        <a:pt x="1972" y="838"/>
                      </a:lnTo>
                      <a:lnTo>
                        <a:pt x="2001" y="883"/>
                      </a:lnTo>
                      <a:lnTo>
                        <a:pt x="1982" y="919"/>
                      </a:lnTo>
                      <a:lnTo>
                        <a:pt x="1976" y="980"/>
                      </a:lnTo>
                      <a:lnTo>
                        <a:pt x="2011" y="1019"/>
                      </a:lnTo>
                      <a:lnTo>
                        <a:pt x="2050" y="1030"/>
                      </a:lnTo>
                      <a:lnTo>
                        <a:pt x="2091" y="1072"/>
                      </a:lnTo>
                      <a:lnTo>
                        <a:pt x="2126" y="1128"/>
                      </a:lnTo>
                      <a:lnTo>
                        <a:pt x="2128" y="1211"/>
                      </a:lnTo>
                      <a:lnTo>
                        <a:pt x="2116" y="1250"/>
                      </a:lnTo>
                      <a:lnTo>
                        <a:pt x="2079" y="1284"/>
                      </a:lnTo>
                      <a:lnTo>
                        <a:pt x="2033" y="1300"/>
                      </a:lnTo>
                      <a:lnTo>
                        <a:pt x="2005" y="1326"/>
                      </a:lnTo>
                      <a:lnTo>
                        <a:pt x="1988" y="1312"/>
                      </a:lnTo>
                      <a:lnTo>
                        <a:pt x="1974" y="1326"/>
                      </a:lnTo>
                      <a:lnTo>
                        <a:pt x="1970" y="1387"/>
                      </a:lnTo>
                      <a:lnTo>
                        <a:pt x="1980" y="1423"/>
                      </a:lnTo>
                      <a:lnTo>
                        <a:pt x="2025" y="1465"/>
                      </a:lnTo>
                      <a:lnTo>
                        <a:pt x="2044" y="1507"/>
                      </a:lnTo>
                      <a:lnTo>
                        <a:pt x="2058" y="1529"/>
                      </a:lnTo>
                      <a:lnTo>
                        <a:pt x="2054" y="1573"/>
                      </a:lnTo>
                      <a:lnTo>
                        <a:pt x="2025" y="1610"/>
                      </a:lnTo>
                      <a:lnTo>
                        <a:pt x="1994" y="1610"/>
                      </a:lnTo>
                      <a:lnTo>
                        <a:pt x="1945" y="1557"/>
                      </a:lnTo>
                      <a:lnTo>
                        <a:pt x="1910" y="1537"/>
                      </a:lnTo>
                      <a:lnTo>
                        <a:pt x="1896" y="1526"/>
                      </a:lnTo>
                      <a:lnTo>
                        <a:pt x="1881" y="1554"/>
                      </a:lnTo>
                      <a:lnTo>
                        <a:pt x="1886" y="1593"/>
                      </a:lnTo>
                      <a:lnTo>
                        <a:pt x="1898" y="1623"/>
                      </a:lnTo>
                      <a:lnTo>
                        <a:pt x="1906" y="1671"/>
                      </a:lnTo>
                      <a:lnTo>
                        <a:pt x="1937" y="1688"/>
                      </a:lnTo>
                      <a:lnTo>
                        <a:pt x="1927" y="1713"/>
                      </a:lnTo>
                      <a:lnTo>
                        <a:pt x="1929" y="1749"/>
                      </a:lnTo>
                      <a:lnTo>
                        <a:pt x="1939" y="1785"/>
                      </a:lnTo>
                      <a:lnTo>
                        <a:pt x="1918" y="1782"/>
                      </a:lnTo>
                      <a:lnTo>
                        <a:pt x="1896" y="1740"/>
                      </a:lnTo>
                      <a:lnTo>
                        <a:pt x="1898" y="1696"/>
                      </a:lnTo>
                      <a:lnTo>
                        <a:pt x="1890" y="1682"/>
                      </a:lnTo>
                      <a:lnTo>
                        <a:pt x="1881" y="1632"/>
                      </a:lnTo>
                      <a:lnTo>
                        <a:pt x="1871" y="1618"/>
                      </a:lnTo>
                      <a:lnTo>
                        <a:pt x="1867" y="1548"/>
                      </a:lnTo>
                      <a:lnTo>
                        <a:pt x="1853" y="1507"/>
                      </a:lnTo>
                      <a:lnTo>
                        <a:pt x="1828" y="1468"/>
                      </a:lnTo>
                      <a:lnTo>
                        <a:pt x="1783" y="1445"/>
                      </a:lnTo>
                      <a:lnTo>
                        <a:pt x="1752" y="1409"/>
                      </a:lnTo>
                      <a:lnTo>
                        <a:pt x="1740" y="1381"/>
                      </a:lnTo>
                      <a:lnTo>
                        <a:pt x="1717" y="1351"/>
                      </a:lnTo>
                      <a:lnTo>
                        <a:pt x="1682" y="1281"/>
                      </a:lnTo>
                      <a:lnTo>
                        <a:pt x="1651" y="1287"/>
                      </a:lnTo>
                      <a:lnTo>
                        <a:pt x="1610" y="1320"/>
                      </a:lnTo>
                      <a:lnTo>
                        <a:pt x="1592" y="1348"/>
                      </a:lnTo>
                      <a:lnTo>
                        <a:pt x="1555" y="1401"/>
                      </a:lnTo>
                      <a:lnTo>
                        <a:pt x="1528" y="1456"/>
                      </a:lnTo>
                      <a:lnTo>
                        <a:pt x="1518" y="1476"/>
                      </a:lnTo>
                      <a:lnTo>
                        <a:pt x="1528" y="1540"/>
                      </a:lnTo>
                      <a:lnTo>
                        <a:pt x="1526" y="1604"/>
                      </a:lnTo>
                      <a:lnTo>
                        <a:pt x="1493" y="1649"/>
                      </a:lnTo>
                      <a:lnTo>
                        <a:pt x="1475" y="1651"/>
                      </a:lnTo>
                      <a:lnTo>
                        <a:pt x="1436" y="1559"/>
                      </a:lnTo>
                      <a:lnTo>
                        <a:pt x="1405" y="1495"/>
                      </a:lnTo>
                      <a:lnTo>
                        <a:pt x="1343" y="1373"/>
                      </a:lnTo>
                      <a:lnTo>
                        <a:pt x="1341" y="1326"/>
                      </a:lnTo>
                      <a:lnTo>
                        <a:pt x="1327" y="1303"/>
                      </a:lnTo>
                      <a:lnTo>
                        <a:pt x="1317" y="1334"/>
                      </a:lnTo>
                      <a:lnTo>
                        <a:pt x="1263" y="1264"/>
                      </a:lnTo>
                      <a:lnTo>
                        <a:pt x="1191" y="1211"/>
                      </a:lnTo>
                      <a:lnTo>
                        <a:pt x="1146" y="1222"/>
                      </a:lnTo>
                      <a:lnTo>
                        <a:pt x="1080" y="1217"/>
                      </a:lnTo>
                      <a:lnTo>
                        <a:pt x="1050" y="1178"/>
                      </a:lnTo>
                      <a:lnTo>
                        <a:pt x="1015" y="1184"/>
                      </a:lnTo>
                      <a:lnTo>
                        <a:pt x="965" y="1167"/>
                      </a:lnTo>
                      <a:lnTo>
                        <a:pt x="863" y="1036"/>
                      </a:lnTo>
                      <a:lnTo>
                        <a:pt x="869" y="1089"/>
                      </a:lnTo>
                      <a:lnTo>
                        <a:pt x="900" y="1164"/>
                      </a:lnTo>
                      <a:lnTo>
                        <a:pt x="935" y="1217"/>
                      </a:lnTo>
                      <a:lnTo>
                        <a:pt x="972" y="1245"/>
                      </a:lnTo>
                      <a:lnTo>
                        <a:pt x="1013" y="1222"/>
                      </a:lnTo>
                      <a:lnTo>
                        <a:pt x="1045" y="1222"/>
                      </a:lnTo>
                      <a:lnTo>
                        <a:pt x="1089" y="1270"/>
                      </a:lnTo>
                      <a:lnTo>
                        <a:pt x="1113" y="1306"/>
                      </a:lnTo>
                      <a:lnTo>
                        <a:pt x="1109" y="1328"/>
                      </a:lnTo>
                      <a:lnTo>
                        <a:pt x="1035" y="1431"/>
                      </a:lnTo>
                      <a:lnTo>
                        <a:pt x="986" y="1470"/>
                      </a:lnTo>
                      <a:lnTo>
                        <a:pt x="883" y="1520"/>
                      </a:lnTo>
                      <a:lnTo>
                        <a:pt x="852" y="1537"/>
                      </a:lnTo>
                      <a:lnTo>
                        <a:pt x="834" y="1520"/>
                      </a:lnTo>
                      <a:lnTo>
                        <a:pt x="828" y="1501"/>
                      </a:lnTo>
                      <a:lnTo>
                        <a:pt x="826" y="1470"/>
                      </a:lnTo>
                      <a:lnTo>
                        <a:pt x="817" y="1440"/>
                      </a:lnTo>
                      <a:lnTo>
                        <a:pt x="803" y="1415"/>
                      </a:lnTo>
                      <a:lnTo>
                        <a:pt x="791" y="1392"/>
                      </a:lnTo>
                      <a:lnTo>
                        <a:pt x="772" y="1362"/>
                      </a:lnTo>
                      <a:lnTo>
                        <a:pt x="762" y="1342"/>
                      </a:lnTo>
                      <a:lnTo>
                        <a:pt x="754" y="1317"/>
                      </a:lnTo>
                      <a:lnTo>
                        <a:pt x="739" y="1295"/>
                      </a:lnTo>
                      <a:lnTo>
                        <a:pt x="717" y="1239"/>
                      </a:lnTo>
                      <a:lnTo>
                        <a:pt x="705" y="1217"/>
                      </a:lnTo>
                      <a:lnTo>
                        <a:pt x="688" y="1186"/>
                      </a:lnTo>
                      <a:lnTo>
                        <a:pt x="661" y="1145"/>
                      </a:lnTo>
                      <a:lnTo>
                        <a:pt x="647" y="1119"/>
                      </a:lnTo>
                      <a:lnTo>
                        <a:pt x="635" y="1103"/>
                      </a:lnTo>
                      <a:lnTo>
                        <a:pt x="620" y="1067"/>
                      </a:lnTo>
                      <a:lnTo>
                        <a:pt x="663" y="1033"/>
                      </a:lnTo>
                      <a:lnTo>
                        <a:pt x="682" y="961"/>
                      </a:lnTo>
                      <a:lnTo>
                        <a:pt x="641" y="941"/>
                      </a:lnTo>
                      <a:lnTo>
                        <a:pt x="585" y="952"/>
                      </a:lnTo>
                      <a:lnTo>
                        <a:pt x="573" y="944"/>
                      </a:lnTo>
                      <a:lnTo>
                        <a:pt x="567" y="944"/>
                      </a:lnTo>
                      <a:lnTo>
                        <a:pt x="559" y="944"/>
                      </a:lnTo>
                      <a:lnTo>
                        <a:pt x="553" y="944"/>
                      </a:lnTo>
                      <a:lnTo>
                        <a:pt x="550" y="930"/>
                      </a:lnTo>
                      <a:lnTo>
                        <a:pt x="546" y="919"/>
                      </a:lnTo>
                      <a:lnTo>
                        <a:pt x="546" y="897"/>
                      </a:lnTo>
                      <a:lnTo>
                        <a:pt x="536" y="886"/>
                      </a:lnTo>
                      <a:lnTo>
                        <a:pt x="534" y="872"/>
                      </a:lnTo>
                      <a:lnTo>
                        <a:pt x="528" y="869"/>
                      </a:lnTo>
                      <a:lnTo>
                        <a:pt x="522" y="858"/>
                      </a:lnTo>
                      <a:lnTo>
                        <a:pt x="520" y="847"/>
                      </a:lnTo>
                      <a:lnTo>
                        <a:pt x="516" y="835"/>
                      </a:lnTo>
                      <a:lnTo>
                        <a:pt x="511" y="830"/>
                      </a:lnTo>
                      <a:lnTo>
                        <a:pt x="499" y="830"/>
                      </a:lnTo>
                      <a:lnTo>
                        <a:pt x="491" y="830"/>
                      </a:lnTo>
                      <a:lnTo>
                        <a:pt x="487" y="830"/>
                      </a:lnTo>
                      <a:lnTo>
                        <a:pt x="485" y="844"/>
                      </a:lnTo>
                      <a:lnTo>
                        <a:pt x="485" y="858"/>
                      </a:lnTo>
                      <a:lnTo>
                        <a:pt x="485" y="874"/>
                      </a:lnTo>
                      <a:lnTo>
                        <a:pt x="485" y="891"/>
                      </a:lnTo>
                      <a:lnTo>
                        <a:pt x="485" y="902"/>
                      </a:lnTo>
                      <a:lnTo>
                        <a:pt x="474" y="908"/>
                      </a:lnTo>
                      <a:lnTo>
                        <a:pt x="466" y="919"/>
                      </a:lnTo>
                      <a:lnTo>
                        <a:pt x="454" y="902"/>
                      </a:lnTo>
                      <a:lnTo>
                        <a:pt x="446" y="880"/>
                      </a:lnTo>
                      <a:lnTo>
                        <a:pt x="448" y="855"/>
                      </a:lnTo>
                      <a:lnTo>
                        <a:pt x="435" y="821"/>
                      </a:lnTo>
                      <a:lnTo>
                        <a:pt x="429" y="799"/>
                      </a:lnTo>
                      <a:lnTo>
                        <a:pt x="415" y="785"/>
                      </a:lnTo>
                      <a:lnTo>
                        <a:pt x="398" y="771"/>
                      </a:lnTo>
                      <a:lnTo>
                        <a:pt x="390" y="752"/>
                      </a:lnTo>
                      <a:lnTo>
                        <a:pt x="384" y="738"/>
                      </a:lnTo>
                      <a:lnTo>
                        <a:pt x="370" y="735"/>
                      </a:lnTo>
                      <a:lnTo>
                        <a:pt x="366" y="727"/>
                      </a:lnTo>
                      <a:lnTo>
                        <a:pt x="355" y="727"/>
                      </a:lnTo>
                      <a:lnTo>
                        <a:pt x="347" y="741"/>
                      </a:lnTo>
                      <a:lnTo>
                        <a:pt x="339" y="752"/>
                      </a:lnTo>
                      <a:lnTo>
                        <a:pt x="357" y="766"/>
                      </a:lnTo>
                      <a:lnTo>
                        <a:pt x="368" y="785"/>
                      </a:lnTo>
                      <a:lnTo>
                        <a:pt x="386" y="810"/>
                      </a:lnTo>
                      <a:lnTo>
                        <a:pt x="394" y="821"/>
                      </a:lnTo>
                      <a:lnTo>
                        <a:pt x="409" y="830"/>
                      </a:lnTo>
                      <a:lnTo>
                        <a:pt x="419" y="847"/>
                      </a:lnTo>
                      <a:lnTo>
                        <a:pt x="407" y="866"/>
                      </a:lnTo>
                      <a:lnTo>
                        <a:pt x="405" y="858"/>
                      </a:lnTo>
                      <a:lnTo>
                        <a:pt x="405" y="847"/>
                      </a:lnTo>
                      <a:lnTo>
                        <a:pt x="398" y="872"/>
                      </a:lnTo>
                      <a:lnTo>
                        <a:pt x="396" y="894"/>
                      </a:lnTo>
                      <a:lnTo>
                        <a:pt x="384" y="899"/>
                      </a:lnTo>
                      <a:lnTo>
                        <a:pt x="388" y="872"/>
                      </a:lnTo>
                      <a:lnTo>
                        <a:pt x="386" y="858"/>
                      </a:lnTo>
                      <a:lnTo>
                        <a:pt x="372" y="849"/>
                      </a:lnTo>
                      <a:lnTo>
                        <a:pt x="366" y="844"/>
                      </a:lnTo>
                      <a:lnTo>
                        <a:pt x="359" y="833"/>
                      </a:lnTo>
                      <a:lnTo>
                        <a:pt x="347" y="827"/>
                      </a:lnTo>
                      <a:lnTo>
                        <a:pt x="339" y="819"/>
                      </a:lnTo>
                      <a:lnTo>
                        <a:pt x="331" y="802"/>
                      </a:lnTo>
                      <a:lnTo>
                        <a:pt x="320" y="794"/>
                      </a:lnTo>
                      <a:lnTo>
                        <a:pt x="314" y="777"/>
                      </a:lnTo>
                      <a:lnTo>
                        <a:pt x="312" y="763"/>
                      </a:lnTo>
                      <a:lnTo>
                        <a:pt x="304" y="757"/>
                      </a:lnTo>
                      <a:lnTo>
                        <a:pt x="296" y="749"/>
                      </a:lnTo>
                      <a:lnTo>
                        <a:pt x="279" y="749"/>
                      </a:lnTo>
                      <a:lnTo>
                        <a:pt x="265" y="752"/>
                      </a:lnTo>
                      <a:lnTo>
                        <a:pt x="249" y="749"/>
                      </a:lnTo>
                      <a:lnTo>
                        <a:pt x="220" y="752"/>
                      </a:lnTo>
                      <a:lnTo>
                        <a:pt x="199" y="755"/>
                      </a:lnTo>
                      <a:lnTo>
                        <a:pt x="193" y="760"/>
                      </a:lnTo>
                      <a:lnTo>
                        <a:pt x="191" y="777"/>
                      </a:lnTo>
                      <a:lnTo>
                        <a:pt x="191" y="796"/>
                      </a:lnTo>
                      <a:lnTo>
                        <a:pt x="179" y="816"/>
                      </a:lnTo>
                      <a:lnTo>
                        <a:pt x="170" y="824"/>
                      </a:lnTo>
                      <a:lnTo>
                        <a:pt x="166" y="830"/>
                      </a:lnTo>
                      <a:lnTo>
                        <a:pt x="160" y="844"/>
                      </a:lnTo>
                      <a:lnTo>
                        <a:pt x="156" y="855"/>
                      </a:lnTo>
                      <a:lnTo>
                        <a:pt x="162" y="863"/>
                      </a:lnTo>
                      <a:lnTo>
                        <a:pt x="162" y="880"/>
                      </a:lnTo>
                      <a:lnTo>
                        <a:pt x="160" y="888"/>
                      </a:lnTo>
                      <a:lnTo>
                        <a:pt x="156" y="899"/>
                      </a:lnTo>
                      <a:lnTo>
                        <a:pt x="146" y="919"/>
                      </a:lnTo>
                      <a:lnTo>
                        <a:pt x="140" y="911"/>
                      </a:lnTo>
                      <a:lnTo>
                        <a:pt x="134" y="916"/>
                      </a:lnTo>
                      <a:lnTo>
                        <a:pt x="125" y="925"/>
                      </a:lnTo>
                      <a:lnTo>
                        <a:pt x="113" y="927"/>
                      </a:lnTo>
                      <a:lnTo>
                        <a:pt x="101" y="941"/>
                      </a:lnTo>
                      <a:lnTo>
                        <a:pt x="88" y="944"/>
                      </a:lnTo>
                      <a:lnTo>
                        <a:pt x="76" y="944"/>
                      </a:lnTo>
                      <a:lnTo>
                        <a:pt x="64" y="944"/>
                      </a:lnTo>
                      <a:lnTo>
                        <a:pt x="37" y="952"/>
                      </a:lnTo>
                      <a:lnTo>
                        <a:pt x="25" y="952"/>
                      </a:lnTo>
                      <a:lnTo>
                        <a:pt x="18" y="933"/>
                      </a:lnTo>
                      <a:lnTo>
                        <a:pt x="12" y="908"/>
                      </a:lnTo>
                      <a:lnTo>
                        <a:pt x="8" y="886"/>
                      </a:lnTo>
                      <a:lnTo>
                        <a:pt x="6" y="863"/>
                      </a:lnTo>
                      <a:lnTo>
                        <a:pt x="6" y="835"/>
                      </a:lnTo>
                      <a:lnTo>
                        <a:pt x="0" y="802"/>
                      </a:lnTo>
                    </a:path>
                  </a:pathLst>
                </a:custGeom>
                <a:solidFill>
                  <a:srgbClr val="d9da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93560" y="1254240"/>
              <a:ext cx="2883600" cy="5248080"/>
              <a:chOff x="493560" y="1254240"/>
              <a:chExt cx="2883600" cy="5248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3560" y="1486080"/>
                <a:ext cx="1952280" cy="2457360"/>
              </a:xfrm>
              <a:custGeom>
                <a:avLst/>
                <a:gdLst/>
                <a:ahLst/>
                <a:rect l="l" t="t" r="r" b="b"/>
                <a:pathLst>
                  <a:path w="1333" h="1548">
                    <a:moveTo>
                      <a:pt x="0" y="398"/>
                    </a:moveTo>
                    <a:lnTo>
                      <a:pt x="64" y="345"/>
                    </a:lnTo>
                    <a:lnTo>
                      <a:pt x="101" y="323"/>
                    </a:lnTo>
                    <a:lnTo>
                      <a:pt x="107" y="289"/>
                    </a:lnTo>
                    <a:lnTo>
                      <a:pt x="78" y="270"/>
                    </a:lnTo>
                    <a:lnTo>
                      <a:pt x="76" y="231"/>
                    </a:lnTo>
                    <a:lnTo>
                      <a:pt x="88" y="220"/>
                    </a:lnTo>
                    <a:lnTo>
                      <a:pt x="86" y="203"/>
                    </a:lnTo>
                    <a:lnTo>
                      <a:pt x="135" y="198"/>
                    </a:lnTo>
                    <a:lnTo>
                      <a:pt x="148" y="167"/>
                    </a:lnTo>
                    <a:lnTo>
                      <a:pt x="150" y="139"/>
                    </a:lnTo>
                    <a:lnTo>
                      <a:pt x="191" y="131"/>
                    </a:lnTo>
                    <a:lnTo>
                      <a:pt x="195" y="103"/>
                    </a:lnTo>
                    <a:lnTo>
                      <a:pt x="156" y="95"/>
                    </a:lnTo>
                    <a:lnTo>
                      <a:pt x="174" y="75"/>
                    </a:lnTo>
                    <a:lnTo>
                      <a:pt x="238" y="75"/>
                    </a:lnTo>
                    <a:lnTo>
                      <a:pt x="257" y="53"/>
                    </a:lnTo>
                    <a:lnTo>
                      <a:pt x="283" y="50"/>
                    </a:lnTo>
                    <a:lnTo>
                      <a:pt x="300" y="33"/>
                    </a:lnTo>
                    <a:lnTo>
                      <a:pt x="320" y="64"/>
                    </a:lnTo>
                    <a:lnTo>
                      <a:pt x="400" y="58"/>
                    </a:lnTo>
                    <a:lnTo>
                      <a:pt x="437" y="92"/>
                    </a:lnTo>
                    <a:lnTo>
                      <a:pt x="556" y="83"/>
                    </a:lnTo>
                    <a:lnTo>
                      <a:pt x="575" y="67"/>
                    </a:lnTo>
                    <a:lnTo>
                      <a:pt x="620" y="95"/>
                    </a:lnTo>
                    <a:lnTo>
                      <a:pt x="667" y="120"/>
                    </a:lnTo>
                    <a:lnTo>
                      <a:pt x="690" y="109"/>
                    </a:lnTo>
                    <a:lnTo>
                      <a:pt x="704" y="95"/>
                    </a:lnTo>
                    <a:lnTo>
                      <a:pt x="743" y="103"/>
                    </a:lnTo>
                    <a:lnTo>
                      <a:pt x="716" y="83"/>
                    </a:lnTo>
                    <a:lnTo>
                      <a:pt x="692" y="86"/>
                    </a:lnTo>
                    <a:lnTo>
                      <a:pt x="655" y="92"/>
                    </a:lnTo>
                    <a:lnTo>
                      <a:pt x="636" y="64"/>
                    </a:lnTo>
                    <a:lnTo>
                      <a:pt x="616" y="50"/>
                    </a:lnTo>
                    <a:lnTo>
                      <a:pt x="616" y="28"/>
                    </a:lnTo>
                    <a:lnTo>
                      <a:pt x="622" y="3"/>
                    </a:lnTo>
                    <a:lnTo>
                      <a:pt x="638" y="0"/>
                    </a:lnTo>
                    <a:lnTo>
                      <a:pt x="661" y="22"/>
                    </a:lnTo>
                    <a:lnTo>
                      <a:pt x="667" y="11"/>
                    </a:lnTo>
                    <a:lnTo>
                      <a:pt x="685" y="0"/>
                    </a:lnTo>
                    <a:lnTo>
                      <a:pt x="708" y="17"/>
                    </a:lnTo>
                    <a:lnTo>
                      <a:pt x="720" y="3"/>
                    </a:lnTo>
                    <a:lnTo>
                      <a:pt x="733" y="25"/>
                    </a:lnTo>
                    <a:lnTo>
                      <a:pt x="735" y="39"/>
                    </a:lnTo>
                    <a:lnTo>
                      <a:pt x="768" y="58"/>
                    </a:lnTo>
                    <a:lnTo>
                      <a:pt x="755" y="75"/>
                    </a:lnTo>
                    <a:lnTo>
                      <a:pt x="755" y="97"/>
                    </a:lnTo>
                    <a:lnTo>
                      <a:pt x="811" y="103"/>
                    </a:lnTo>
                    <a:lnTo>
                      <a:pt x="825" y="75"/>
                    </a:lnTo>
                    <a:lnTo>
                      <a:pt x="815" y="61"/>
                    </a:lnTo>
                    <a:lnTo>
                      <a:pt x="790" y="64"/>
                    </a:lnTo>
                    <a:lnTo>
                      <a:pt x="796" y="33"/>
                    </a:lnTo>
                    <a:lnTo>
                      <a:pt x="846" y="50"/>
                    </a:lnTo>
                    <a:lnTo>
                      <a:pt x="856" y="72"/>
                    </a:lnTo>
                    <a:lnTo>
                      <a:pt x="897" y="72"/>
                    </a:lnTo>
                    <a:lnTo>
                      <a:pt x="934" y="100"/>
                    </a:lnTo>
                    <a:lnTo>
                      <a:pt x="954" y="95"/>
                    </a:lnTo>
                    <a:lnTo>
                      <a:pt x="977" y="120"/>
                    </a:lnTo>
                    <a:lnTo>
                      <a:pt x="954" y="153"/>
                    </a:lnTo>
                    <a:lnTo>
                      <a:pt x="936" y="128"/>
                    </a:lnTo>
                    <a:lnTo>
                      <a:pt x="924" y="136"/>
                    </a:lnTo>
                    <a:lnTo>
                      <a:pt x="907" y="156"/>
                    </a:lnTo>
                    <a:lnTo>
                      <a:pt x="880" y="173"/>
                    </a:lnTo>
                    <a:lnTo>
                      <a:pt x="895" y="198"/>
                    </a:lnTo>
                    <a:lnTo>
                      <a:pt x="870" y="200"/>
                    </a:lnTo>
                    <a:lnTo>
                      <a:pt x="850" y="234"/>
                    </a:lnTo>
                    <a:lnTo>
                      <a:pt x="829" y="275"/>
                    </a:lnTo>
                    <a:lnTo>
                      <a:pt x="860" y="312"/>
                    </a:lnTo>
                    <a:lnTo>
                      <a:pt x="885" y="353"/>
                    </a:lnTo>
                    <a:lnTo>
                      <a:pt x="928" y="359"/>
                    </a:lnTo>
                    <a:lnTo>
                      <a:pt x="969" y="353"/>
                    </a:lnTo>
                    <a:lnTo>
                      <a:pt x="987" y="376"/>
                    </a:lnTo>
                    <a:lnTo>
                      <a:pt x="979" y="387"/>
                    </a:lnTo>
                    <a:lnTo>
                      <a:pt x="967" y="409"/>
                    </a:lnTo>
                    <a:lnTo>
                      <a:pt x="985" y="448"/>
                    </a:lnTo>
                    <a:lnTo>
                      <a:pt x="991" y="476"/>
                    </a:lnTo>
                    <a:lnTo>
                      <a:pt x="1014" y="490"/>
                    </a:lnTo>
                    <a:lnTo>
                      <a:pt x="1045" y="465"/>
                    </a:lnTo>
                    <a:lnTo>
                      <a:pt x="1036" y="428"/>
                    </a:lnTo>
                    <a:lnTo>
                      <a:pt x="1010" y="398"/>
                    </a:lnTo>
                    <a:lnTo>
                      <a:pt x="1041" y="362"/>
                    </a:lnTo>
                    <a:lnTo>
                      <a:pt x="1014" y="300"/>
                    </a:lnTo>
                    <a:lnTo>
                      <a:pt x="989" y="275"/>
                    </a:lnTo>
                    <a:lnTo>
                      <a:pt x="1010" y="253"/>
                    </a:lnTo>
                    <a:lnTo>
                      <a:pt x="1006" y="220"/>
                    </a:lnTo>
                    <a:lnTo>
                      <a:pt x="1020" y="200"/>
                    </a:lnTo>
                    <a:lnTo>
                      <a:pt x="1045" y="220"/>
                    </a:lnTo>
                    <a:lnTo>
                      <a:pt x="1102" y="292"/>
                    </a:lnTo>
                    <a:lnTo>
                      <a:pt x="1137" y="303"/>
                    </a:lnTo>
                    <a:lnTo>
                      <a:pt x="1147" y="284"/>
                    </a:lnTo>
                    <a:lnTo>
                      <a:pt x="1139" y="245"/>
                    </a:lnTo>
                    <a:lnTo>
                      <a:pt x="1160" y="250"/>
                    </a:lnTo>
                    <a:lnTo>
                      <a:pt x="1194" y="295"/>
                    </a:lnTo>
                    <a:lnTo>
                      <a:pt x="1201" y="320"/>
                    </a:lnTo>
                    <a:lnTo>
                      <a:pt x="1221" y="337"/>
                    </a:lnTo>
                    <a:lnTo>
                      <a:pt x="1262" y="356"/>
                    </a:lnTo>
                    <a:lnTo>
                      <a:pt x="1283" y="392"/>
                    </a:lnTo>
                    <a:lnTo>
                      <a:pt x="1314" y="417"/>
                    </a:lnTo>
                    <a:lnTo>
                      <a:pt x="1330" y="426"/>
                    </a:lnTo>
                    <a:lnTo>
                      <a:pt x="1332" y="448"/>
                    </a:lnTo>
                    <a:lnTo>
                      <a:pt x="1307" y="462"/>
                    </a:lnTo>
                    <a:lnTo>
                      <a:pt x="1293" y="445"/>
                    </a:lnTo>
                    <a:lnTo>
                      <a:pt x="1281" y="448"/>
                    </a:lnTo>
                    <a:lnTo>
                      <a:pt x="1277" y="484"/>
                    </a:lnTo>
                    <a:lnTo>
                      <a:pt x="1256" y="492"/>
                    </a:lnTo>
                    <a:lnTo>
                      <a:pt x="1233" y="473"/>
                    </a:lnTo>
                    <a:lnTo>
                      <a:pt x="1186" y="473"/>
                    </a:lnTo>
                    <a:lnTo>
                      <a:pt x="1180" y="515"/>
                    </a:lnTo>
                    <a:lnTo>
                      <a:pt x="1192" y="540"/>
                    </a:lnTo>
                    <a:lnTo>
                      <a:pt x="1211" y="526"/>
                    </a:lnTo>
                    <a:lnTo>
                      <a:pt x="1229" y="520"/>
                    </a:lnTo>
                    <a:lnTo>
                      <a:pt x="1248" y="534"/>
                    </a:lnTo>
                    <a:lnTo>
                      <a:pt x="1223" y="565"/>
                    </a:lnTo>
                    <a:lnTo>
                      <a:pt x="1248" y="593"/>
                    </a:lnTo>
                    <a:lnTo>
                      <a:pt x="1281" y="601"/>
                    </a:lnTo>
                    <a:lnTo>
                      <a:pt x="1277" y="618"/>
                    </a:lnTo>
                    <a:lnTo>
                      <a:pt x="1264" y="620"/>
                    </a:lnTo>
                    <a:lnTo>
                      <a:pt x="1233" y="715"/>
                    </a:lnTo>
                    <a:lnTo>
                      <a:pt x="1236" y="654"/>
                    </a:lnTo>
                    <a:lnTo>
                      <a:pt x="1250" y="623"/>
                    </a:lnTo>
                    <a:lnTo>
                      <a:pt x="1233" y="609"/>
                    </a:lnTo>
                    <a:lnTo>
                      <a:pt x="1215" y="629"/>
                    </a:lnTo>
                    <a:lnTo>
                      <a:pt x="1225" y="646"/>
                    </a:lnTo>
                    <a:lnTo>
                      <a:pt x="1211" y="657"/>
                    </a:lnTo>
                    <a:lnTo>
                      <a:pt x="1197" y="671"/>
                    </a:lnTo>
                    <a:lnTo>
                      <a:pt x="1199" y="712"/>
                    </a:lnTo>
                    <a:lnTo>
                      <a:pt x="1178" y="726"/>
                    </a:lnTo>
                    <a:lnTo>
                      <a:pt x="1149" y="729"/>
                    </a:lnTo>
                    <a:lnTo>
                      <a:pt x="1160" y="751"/>
                    </a:lnTo>
                    <a:lnTo>
                      <a:pt x="1149" y="776"/>
                    </a:lnTo>
                    <a:lnTo>
                      <a:pt x="1160" y="796"/>
                    </a:lnTo>
                    <a:lnTo>
                      <a:pt x="1143" y="837"/>
                    </a:lnTo>
                    <a:lnTo>
                      <a:pt x="1137" y="876"/>
                    </a:lnTo>
                    <a:lnTo>
                      <a:pt x="1112" y="899"/>
                    </a:lnTo>
                    <a:lnTo>
                      <a:pt x="1082" y="960"/>
                    </a:lnTo>
                    <a:lnTo>
                      <a:pt x="1078" y="1002"/>
                    </a:lnTo>
                    <a:lnTo>
                      <a:pt x="1088" y="1035"/>
                    </a:lnTo>
                    <a:lnTo>
                      <a:pt x="1102" y="1077"/>
                    </a:lnTo>
                    <a:lnTo>
                      <a:pt x="1110" y="1121"/>
                    </a:lnTo>
                    <a:lnTo>
                      <a:pt x="1096" y="1141"/>
                    </a:lnTo>
                    <a:lnTo>
                      <a:pt x="1078" y="1127"/>
                    </a:lnTo>
                    <a:lnTo>
                      <a:pt x="1082" y="1105"/>
                    </a:lnTo>
                    <a:lnTo>
                      <a:pt x="1071" y="1055"/>
                    </a:lnTo>
                    <a:lnTo>
                      <a:pt x="1059" y="1046"/>
                    </a:lnTo>
                    <a:lnTo>
                      <a:pt x="1051" y="1016"/>
                    </a:lnTo>
                    <a:lnTo>
                      <a:pt x="1034" y="1016"/>
                    </a:lnTo>
                    <a:lnTo>
                      <a:pt x="1016" y="999"/>
                    </a:lnTo>
                    <a:lnTo>
                      <a:pt x="995" y="1004"/>
                    </a:lnTo>
                    <a:lnTo>
                      <a:pt x="977" y="993"/>
                    </a:lnTo>
                    <a:lnTo>
                      <a:pt x="954" y="1007"/>
                    </a:lnTo>
                    <a:lnTo>
                      <a:pt x="913" y="996"/>
                    </a:lnTo>
                    <a:lnTo>
                      <a:pt x="940" y="1032"/>
                    </a:lnTo>
                    <a:lnTo>
                      <a:pt x="907" y="1029"/>
                    </a:lnTo>
                    <a:lnTo>
                      <a:pt x="885" y="1002"/>
                    </a:lnTo>
                    <a:lnTo>
                      <a:pt x="844" y="1002"/>
                    </a:lnTo>
                    <a:lnTo>
                      <a:pt x="850" y="1046"/>
                    </a:lnTo>
                    <a:lnTo>
                      <a:pt x="819" y="1032"/>
                    </a:lnTo>
                    <a:lnTo>
                      <a:pt x="802" y="1077"/>
                    </a:lnTo>
                    <a:lnTo>
                      <a:pt x="815" y="1096"/>
                    </a:lnTo>
                    <a:lnTo>
                      <a:pt x="802" y="1149"/>
                    </a:lnTo>
                    <a:lnTo>
                      <a:pt x="817" y="1210"/>
                    </a:lnTo>
                    <a:lnTo>
                      <a:pt x="833" y="1252"/>
                    </a:lnTo>
                    <a:lnTo>
                      <a:pt x="852" y="1291"/>
                    </a:lnTo>
                    <a:lnTo>
                      <a:pt x="907" y="1288"/>
                    </a:lnTo>
                    <a:lnTo>
                      <a:pt x="930" y="1280"/>
                    </a:lnTo>
                    <a:lnTo>
                      <a:pt x="934" y="1252"/>
                    </a:lnTo>
                    <a:lnTo>
                      <a:pt x="922" y="1230"/>
                    </a:lnTo>
                    <a:lnTo>
                      <a:pt x="924" y="1210"/>
                    </a:lnTo>
                    <a:lnTo>
                      <a:pt x="958" y="1216"/>
                    </a:lnTo>
                    <a:lnTo>
                      <a:pt x="993" y="1205"/>
                    </a:lnTo>
                    <a:lnTo>
                      <a:pt x="993" y="1230"/>
                    </a:lnTo>
                    <a:lnTo>
                      <a:pt x="983" y="1266"/>
                    </a:lnTo>
                    <a:lnTo>
                      <a:pt x="967" y="1294"/>
                    </a:lnTo>
                    <a:lnTo>
                      <a:pt x="963" y="1333"/>
                    </a:lnTo>
                    <a:lnTo>
                      <a:pt x="985" y="1349"/>
                    </a:lnTo>
                    <a:lnTo>
                      <a:pt x="1016" y="1344"/>
                    </a:lnTo>
                    <a:lnTo>
                      <a:pt x="1034" y="1358"/>
                    </a:lnTo>
                    <a:lnTo>
                      <a:pt x="1051" y="1352"/>
                    </a:lnTo>
                    <a:lnTo>
                      <a:pt x="1057" y="1377"/>
                    </a:lnTo>
                    <a:lnTo>
                      <a:pt x="1043" y="1413"/>
                    </a:lnTo>
                    <a:lnTo>
                      <a:pt x="1055" y="1436"/>
                    </a:lnTo>
                    <a:lnTo>
                      <a:pt x="1057" y="1480"/>
                    </a:lnTo>
                    <a:lnTo>
                      <a:pt x="1078" y="1511"/>
                    </a:lnTo>
                    <a:lnTo>
                      <a:pt x="1104" y="1519"/>
                    </a:lnTo>
                    <a:lnTo>
                      <a:pt x="1123" y="1511"/>
                    </a:lnTo>
                    <a:lnTo>
                      <a:pt x="1131" y="1514"/>
                    </a:lnTo>
                    <a:lnTo>
                      <a:pt x="1166" y="1514"/>
                    </a:lnTo>
                    <a:lnTo>
                      <a:pt x="1197" y="1516"/>
                    </a:lnTo>
                    <a:lnTo>
                      <a:pt x="1205" y="1497"/>
                    </a:lnTo>
                    <a:lnTo>
                      <a:pt x="1178" y="1530"/>
                    </a:lnTo>
                    <a:lnTo>
                      <a:pt x="1160" y="1528"/>
                    </a:lnTo>
                    <a:lnTo>
                      <a:pt x="1141" y="1530"/>
                    </a:lnTo>
                    <a:lnTo>
                      <a:pt x="1104" y="1547"/>
                    </a:lnTo>
                    <a:lnTo>
                      <a:pt x="1073" y="1525"/>
                    </a:lnTo>
                    <a:lnTo>
                      <a:pt x="1045" y="1511"/>
                    </a:lnTo>
                    <a:lnTo>
                      <a:pt x="1032" y="1514"/>
                    </a:lnTo>
                    <a:lnTo>
                      <a:pt x="1034" y="1494"/>
                    </a:lnTo>
                    <a:lnTo>
                      <a:pt x="1032" y="1464"/>
                    </a:lnTo>
                    <a:lnTo>
                      <a:pt x="1008" y="1436"/>
                    </a:lnTo>
                    <a:lnTo>
                      <a:pt x="956" y="1419"/>
                    </a:lnTo>
                    <a:lnTo>
                      <a:pt x="948" y="1408"/>
                    </a:lnTo>
                    <a:lnTo>
                      <a:pt x="934" y="1411"/>
                    </a:lnTo>
                    <a:lnTo>
                      <a:pt x="919" y="1397"/>
                    </a:lnTo>
                    <a:lnTo>
                      <a:pt x="901" y="1383"/>
                    </a:lnTo>
                    <a:lnTo>
                      <a:pt x="876" y="1344"/>
                    </a:lnTo>
                    <a:lnTo>
                      <a:pt x="848" y="1333"/>
                    </a:lnTo>
                    <a:lnTo>
                      <a:pt x="831" y="1358"/>
                    </a:lnTo>
                    <a:lnTo>
                      <a:pt x="813" y="1338"/>
                    </a:lnTo>
                    <a:lnTo>
                      <a:pt x="790" y="1338"/>
                    </a:lnTo>
                    <a:lnTo>
                      <a:pt x="745" y="1324"/>
                    </a:lnTo>
                    <a:lnTo>
                      <a:pt x="663" y="1258"/>
                    </a:lnTo>
                    <a:lnTo>
                      <a:pt x="657" y="1188"/>
                    </a:lnTo>
                    <a:lnTo>
                      <a:pt x="649" y="1160"/>
                    </a:lnTo>
                    <a:lnTo>
                      <a:pt x="634" y="1141"/>
                    </a:lnTo>
                    <a:lnTo>
                      <a:pt x="616" y="1102"/>
                    </a:lnTo>
                    <a:lnTo>
                      <a:pt x="530" y="968"/>
                    </a:lnTo>
                    <a:lnTo>
                      <a:pt x="530" y="1018"/>
                    </a:lnTo>
                    <a:lnTo>
                      <a:pt x="583" y="1107"/>
                    </a:lnTo>
                    <a:lnTo>
                      <a:pt x="605" y="1183"/>
                    </a:lnTo>
                    <a:lnTo>
                      <a:pt x="573" y="1166"/>
                    </a:lnTo>
                    <a:lnTo>
                      <a:pt x="566" y="1121"/>
                    </a:lnTo>
                    <a:lnTo>
                      <a:pt x="523" y="1093"/>
                    </a:lnTo>
                    <a:lnTo>
                      <a:pt x="548" y="1077"/>
                    </a:lnTo>
                    <a:lnTo>
                      <a:pt x="491" y="1029"/>
                    </a:lnTo>
                    <a:lnTo>
                      <a:pt x="513" y="1002"/>
                    </a:lnTo>
                    <a:lnTo>
                      <a:pt x="493" y="946"/>
                    </a:lnTo>
                    <a:lnTo>
                      <a:pt x="423" y="829"/>
                    </a:lnTo>
                    <a:lnTo>
                      <a:pt x="415" y="762"/>
                    </a:lnTo>
                    <a:lnTo>
                      <a:pt x="419" y="712"/>
                    </a:lnTo>
                    <a:lnTo>
                      <a:pt x="437" y="657"/>
                    </a:lnTo>
                    <a:lnTo>
                      <a:pt x="437" y="601"/>
                    </a:lnTo>
                    <a:lnTo>
                      <a:pt x="423" y="568"/>
                    </a:lnTo>
                    <a:lnTo>
                      <a:pt x="462" y="556"/>
                    </a:lnTo>
                    <a:lnTo>
                      <a:pt x="415" y="490"/>
                    </a:lnTo>
                    <a:lnTo>
                      <a:pt x="417" y="459"/>
                    </a:lnTo>
                    <a:lnTo>
                      <a:pt x="396" y="417"/>
                    </a:lnTo>
                    <a:lnTo>
                      <a:pt x="404" y="392"/>
                    </a:lnTo>
                    <a:lnTo>
                      <a:pt x="390" y="378"/>
                    </a:lnTo>
                    <a:lnTo>
                      <a:pt x="388" y="351"/>
                    </a:lnTo>
                    <a:lnTo>
                      <a:pt x="374" y="328"/>
                    </a:lnTo>
                    <a:lnTo>
                      <a:pt x="390" y="309"/>
                    </a:lnTo>
                    <a:lnTo>
                      <a:pt x="367" y="295"/>
                    </a:lnTo>
                    <a:lnTo>
                      <a:pt x="349" y="314"/>
                    </a:lnTo>
                    <a:lnTo>
                      <a:pt x="322" y="275"/>
                    </a:lnTo>
                    <a:lnTo>
                      <a:pt x="293" y="264"/>
                    </a:lnTo>
                    <a:lnTo>
                      <a:pt x="252" y="264"/>
                    </a:lnTo>
                    <a:lnTo>
                      <a:pt x="226" y="300"/>
                    </a:lnTo>
                    <a:lnTo>
                      <a:pt x="213" y="289"/>
                    </a:lnTo>
                    <a:lnTo>
                      <a:pt x="236" y="242"/>
                    </a:lnTo>
                    <a:lnTo>
                      <a:pt x="216" y="250"/>
                    </a:lnTo>
                    <a:lnTo>
                      <a:pt x="174" y="300"/>
                    </a:lnTo>
                    <a:lnTo>
                      <a:pt x="131" y="345"/>
                    </a:lnTo>
                    <a:lnTo>
                      <a:pt x="92" y="356"/>
                    </a:lnTo>
                    <a:lnTo>
                      <a:pt x="27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7840" y="1254240"/>
                <a:ext cx="664920" cy="646200"/>
              </a:xfrm>
              <a:custGeom>
                <a:avLst/>
                <a:gdLst/>
                <a:ahLst/>
                <a:rect l="l" t="t" r="r" b="b"/>
                <a:pathLst>
                  <a:path w="454" h="407">
                    <a:moveTo>
                      <a:pt x="0" y="83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7" y="0"/>
                    </a:lnTo>
                    <a:lnTo>
                      <a:pt x="109" y="19"/>
                    </a:lnTo>
                    <a:lnTo>
                      <a:pt x="250" y="56"/>
                    </a:lnTo>
                    <a:lnTo>
                      <a:pt x="305" y="86"/>
                    </a:lnTo>
                    <a:lnTo>
                      <a:pt x="379" y="114"/>
                    </a:lnTo>
                    <a:lnTo>
                      <a:pt x="416" y="167"/>
                    </a:lnTo>
                    <a:lnTo>
                      <a:pt x="453" y="192"/>
                    </a:lnTo>
                    <a:lnTo>
                      <a:pt x="439" y="211"/>
                    </a:lnTo>
                    <a:lnTo>
                      <a:pt x="439" y="236"/>
                    </a:lnTo>
                    <a:lnTo>
                      <a:pt x="424" y="242"/>
                    </a:lnTo>
                    <a:lnTo>
                      <a:pt x="412" y="264"/>
                    </a:lnTo>
                    <a:lnTo>
                      <a:pt x="424" y="286"/>
                    </a:lnTo>
                    <a:lnTo>
                      <a:pt x="422" y="303"/>
                    </a:lnTo>
                    <a:lnTo>
                      <a:pt x="408" y="325"/>
                    </a:lnTo>
                    <a:lnTo>
                      <a:pt x="410" y="348"/>
                    </a:lnTo>
                    <a:lnTo>
                      <a:pt x="435" y="370"/>
                    </a:lnTo>
                    <a:lnTo>
                      <a:pt x="437" y="392"/>
                    </a:lnTo>
                    <a:lnTo>
                      <a:pt x="430" y="403"/>
                    </a:lnTo>
                    <a:lnTo>
                      <a:pt x="406" y="406"/>
                    </a:lnTo>
                    <a:lnTo>
                      <a:pt x="387" y="395"/>
                    </a:lnTo>
                    <a:lnTo>
                      <a:pt x="367" y="367"/>
                    </a:lnTo>
                    <a:lnTo>
                      <a:pt x="359" y="367"/>
                    </a:lnTo>
                    <a:lnTo>
                      <a:pt x="348" y="356"/>
                    </a:lnTo>
                    <a:lnTo>
                      <a:pt x="338" y="323"/>
                    </a:lnTo>
                    <a:lnTo>
                      <a:pt x="326" y="311"/>
                    </a:lnTo>
                    <a:lnTo>
                      <a:pt x="299" y="295"/>
                    </a:lnTo>
                    <a:lnTo>
                      <a:pt x="277" y="284"/>
                    </a:lnTo>
                    <a:lnTo>
                      <a:pt x="244" y="253"/>
                    </a:lnTo>
                    <a:lnTo>
                      <a:pt x="230" y="231"/>
                    </a:lnTo>
                    <a:lnTo>
                      <a:pt x="232" y="214"/>
                    </a:lnTo>
                    <a:lnTo>
                      <a:pt x="246" y="200"/>
                    </a:lnTo>
                    <a:lnTo>
                      <a:pt x="234" y="184"/>
                    </a:lnTo>
                    <a:lnTo>
                      <a:pt x="221" y="192"/>
                    </a:lnTo>
                    <a:lnTo>
                      <a:pt x="201" y="167"/>
                    </a:lnTo>
                    <a:lnTo>
                      <a:pt x="197" y="181"/>
                    </a:lnTo>
                    <a:lnTo>
                      <a:pt x="178" y="181"/>
                    </a:lnTo>
                    <a:lnTo>
                      <a:pt x="174" y="170"/>
                    </a:lnTo>
                    <a:lnTo>
                      <a:pt x="174" y="150"/>
                    </a:lnTo>
                    <a:lnTo>
                      <a:pt x="166" y="139"/>
                    </a:lnTo>
                    <a:lnTo>
                      <a:pt x="154" y="142"/>
                    </a:lnTo>
                    <a:lnTo>
                      <a:pt x="137" y="111"/>
                    </a:lnTo>
                    <a:lnTo>
                      <a:pt x="125" y="108"/>
                    </a:lnTo>
                    <a:lnTo>
                      <a:pt x="107" y="95"/>
                    </a:lnTo>
                    <a:lnTo>
                      <a:pt x="68" y="97"/>
                    </a:lnTo>
                    <a:lnTo>
                      <a:pt x="29" y="95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55720" y="1479600"/>
                <a:ext cx="423000" cy="333360"/>
              </a:xfrm>
              <a:custGeom>
                <a:avLst/>
                <a:gdLst/>
                <a:ahLst/>
                <a:rect l="l" t="t" r="r" b="b"/>
                <a:pathLst>
                  <a:path w="289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0" y="56"/>
                    </a:lnTo>
                    <a:lnTo>
                      <a:pt x="32" y="50"/>
                    </a:lnTo>
                    <a:lnTo>
                      <a:pt x="37" y="59"/>
                    </a:lnTo>
                    <a:lnTo>
                      <a:pt x="49" y="61"/>
                    </a:lnTo>
                    <a:lnTo>
                      <a:pt x="57" y="47"/>
                    </a:lnTo>
                    <a:lnTo>
                      <a:pt x="85" y="50"/>
                    </a:lnTo>
                    <a:lnTo>
                      <a:pt x="89" y="64"/>
                    </a:lnTo>
                    <a:lnTo>
                      <a:pt x="99" y="70"/>
                    </a:lnTo>
                    <a:lnTo>
                      <a:pt x="124" y="67"/>
                    </a:lnTo>
                    <a:lnTo>
                      <a:pt x="132" y="75"/>
                    </a:lnTo>
                    <a:lnTo>
                      <a:pt x="144" y="84"/>
                    </a:lnTo>
                    <a:lnTo>
                      <a:pt x="154" y="100"/>
                    </a:lnTo>
                    <a:lnTo>
                      <a:pt x="154" y="123"/>
                    </a:lnTo>
                    <a:lnTo>
                      <a:pt x="146" y="128"/>
                    </a:lnTo>
                    <a:lnTo>
                      <a:pt x="150" y="137"/>
                    </a:lnTo>
                    <a:lnTo>
                      <a:pt x="138" y="150"/>
                    </a:lnTo>
                    <a:lnTo>
                      <a:pt x="138" y="170"/>
                    </a:lnTo>
                    <a:lnTo>
                      <a:pt x="156" y="173"/>
                    </a:lnTo>
                    <a:lnTo>
                      <a:pt x="166" y="167"/>
                    </a:lnTo>
                    <a:lnTo>
                      <a:pt x="170" y="159"/>
                    </a:lnTo>
                    <a:lnTo>
                      <a:pt x="176" y="167"/>
                    </a:lnTo>
                    <a:lnTo>
                      <a:pt x="187" y="162"/>
                    </a:lnTo>
                    <a:lnTo>
                      <a:pt x="209" y="173"/>
                    </a:lnTo>
                    <a:lnTo>
                      <a:pt x="223" y="192"/>
                    </a:lnTo>
                    <a:lnTo>
                      <a:pt x="227" y="192"/>
                    </a:lnTo>
                    <a:lnTo>
                      <a:pt x="229" y="203"/>
                    </a:lnTo>
                    <a:lnTo>
                      <a:pt x="243" y="209"/>
                    </a:lnTo>
                    <a:lnTo>
                      <a:pt x="260" y="209"/>
                    </a:lnTo>
                    <a:lnTo>
                      <a:pt x="249" y="198"/>
                    </a:lnTo>
                    <a:lnTo>
                      <a:pt x="254" y="187"/>
                    </a:lnTo>
                    <a:lnTo>
                      <a:pt x="266" y="198"/>
                    </a:lnTo>
                    <a:lnTo>
                      <a:pt x="280" y="201"/>
                    </a:lnTo>
                    <a:lnTo>
                      <a:pt x="282" y="184"/>
                    </a:lnTo>
                    <a:lnTo>
                      <a:pt x="268" y="170"/>
                    </a:lnTo>
                    <a:lnTo>
                      <a:pt x="258" y="170"/>
                    </a:lnTo>
                    <a:lnTo>
                      <a:pt x="243" y="156"/>
                    </a:lnTo>
                    <a:lnTo>
                      <a:pt x="258" y="156"/>
                    </a:lnTo>
                    <a:lnTo>
                      <a:pt x="268" y="164"/>
                    </a:lnTo>
                    <a:lnTo>
                      <a:pt x="288" y="164"/>
                    </a:lnTo>
                    <a:lnTo>
                      <a:pt x="284" y="148"/>
                    </a:lnTo>
                    <a:lnTo>
                      <a:pt x="266" y="131"/>
                    </a:lnTo>
                    <a:lnTo>
                      <a:pt x="254" y="128"/>
                    </a:lnTo>
                    <a:lnTo>
                      <a:pt x="235" y="109"/>
                    </a:lnTo>
                    <a:lnTo>
                      <a:pt x="213" y="103"/>
                    </a:lnTo>
                    <a:lnTo>
                      <a:pt x="195" y="95"/>
                    </a:lnTo>
                    <a:lnTo>
                      <a:pt x="181" y="70"/>
                    </a:lnTo>
                    <a:lnTo>
                      <a:pt x="170" y="39"/>
                    </a:lnTo>
                    <a:lnTo>
                      <a:pt x="156" y="39"/>
                    </a:lnTo>
                    <a:lnTo>
                      <a:pt x="152" y="31"/>
                    </a:lnTo>
                    <a:lnTo>
                      <a:pt x="144" y="33"/>
                    </a:lnTo>
                    <a:lnTo>
                      <a:pt x="130" y="20"/>
                    </a:lnTo>
                    <a:lnTo>
                      <a:pt x="105" y="14"/>
                    </a:lnTo>
                    <a:lnTo>
                      <a:pt x="95" y="22"/>
                    </a:lnTo>
                    <a:lnTo>
                      <a:pt x="73" y="14"/>
                    </a:lnTo>
                    <a:lnTo>
                      <a:pt x="59" y="14"/>
                    </a:lnTo>
                    <a:lnTo>
                      <a:pt x="53" y="3"/>
                    </a:lnTo>
                    <a:lnTo>
                      <a:pt x="47" y="0"/>
                    </a:lnTo>
                    <a:lnTo>
                      <a:pt x="37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97640" y="3330720"/>
                <a:ext cx="300240" cy="154080"/>
              </a:xfrm>
              <a:custGeom>
                <a:avLst/>
                <a:gdLst/>
                <a:ahLst/>
                <a:rect l="l" t="t" r="r" b="b"/>
                <a:pathLst>
                  <a:path w="205" h="97">
                    <a:moveTo>
                      <a:pt x="0" y="48"/>
                    </a:moveTo>
                    <a:lnTo>
                      <a:pt x="18" y="20"/>
                    </a:lnTo>
                    <a:lnTo>
                      <a:pt x="26" y="20"/>
                    </a:lnTo>
                    <a:lnTo>
                      <a:pt x="40" y="6"/>
                    </a:lnTo>
                    <a:lnTo>
                      <a:pt x="57" y="6"/>
                    </a:lnTo>
                    <a:lnTo>
                      <a:pt x="61" y="3"/>
                    </a:lnTo>
                    <a:lnTo>
                      <a:pt x="67" y="0"/>
                    </a:lnTo>
                    <a:lnTo>
                      <a:pt x="87" y="17"/>
                    </a:lnTo>
                    <a:lnTo>
                      <a:pt x="93" y="28"/>
                    </a:lnTo>
                    <a:lnTo>
                      <a:pt x="97" y="23"/>
                    </a:lnTo>
                    <a:lnTo>
                      <a:pt x="113" y="34"/>
                    </a:lnTo>
                    <a:lnTo>
                      <a:pt x="123" y="34"/>
                    </a:lnTo>
                    <a:lnTo>
                      <a:pt x="131" y="42"/>
                    </a:lnTo>
                    <a:lnTo>
                      <a:pt x="145" y="48"/>
                    </a:lnTo>
                    <a:lnTo>
                      <a:pt x="145" y="62"/>
                    </a:lnTo>
                    <a:lnTo>
                      <a:pt x="172" y="62"/>
                    </a:lnTo>
                    <a:lnTo>
                      <a:pt x="178" y="76"/>
                    </a:lnTo>
                    <a:lnTo>
                      <a:pt x="194" y="76"/>
                    </a:lnTo>
                    <a:lnTo>
                      <a:pt x="204" y="93"/>
                    </a:lnTo>
                    <a:lnTo>
                      <a:pt x="198" y="96"/>
                    </a:lnTo>
                    <a:lnTo>
                      <a:pt x="194" y="90"/>
                    </a:lnTo>
                    <a:lnTo>
                      <a:pt x="192" y="88"/>
                    </a:lnTo>
                    <a:lnTo>
                      <a:pt x="178" y="90"/>
                    </a:lnTo>
                    <a:lnTo>
                      <a:pt x="174" y="93"/>
                    </a:lnTo>
                    <a:lnTo>
                      <a:pt x="162" y="96"/>
                    </a:lnTo>
                    <a:lnTo>
                      <a:pt x="143" y="96"/>
                    </a:lnTo>
                    <a:lnTo>
                      <a:pt x="131" y="96"/>
                    </a:lnTo>
                    <a:lnTo>
                      <a:pt x="131" y="88"/>
                    </a:lnTo>
                    <a:lnTo>
                      <a:pt x="113" y="65"/>
                    </a:lnTo>
                    <a:lnTo>
                      <a:pt x="113" y="51"/>
                    </a:lnTo>
                    <a:lnTo>
                      <a:pt x="93" y="51"/>
                    </a:lnTo>
                    <a:lnTo>
                      <a:pt x="85" y="42"/>
                    </a:lnTo>
                    <a:lnTo>
                      <a:pt x="79" y="51"/>
                    </a:lnTo>
                    <a:lnTo>
                      <a:pt x="73" y="40"/>
                    </a:lnTo>
                    <a:lnTo>
                      <a:pt x="67" y="40"/>
                    </a:lnTo>
                    <a:lnTo>
                      <a:pt x="67" y="25"/>
                    </a:lnTo>
                    <a:lnTo>
                      <a:pt x="61" y="20"/>
                    </a:lnTo>
                    <a:lnTo>
                      <a:pt x="42" y="23"/>
                    </a:lnTo>
                    <a:lnTo>
                      <a:pt x="30" y="40"/>
                    </a:lnTo>
                    <a:lnTo>
                      <a:pt x="16" y="42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58280" y="3440160"/>
                <a:ext cx="200520" cy="133200"/>
              </a:xfrm>
              <a:custGeom>
                <a:avLst/>
                <a:gdLst/>
                <a:ahLst/>
                <a:rect l="l" t="t" r="r" b="b"/>
                <a:pathLst>
                  <a:path w="137" h="84">
                    <a:moveTo>
                      <a:pt x="0" y="63"/>
                    </a:moveTo>
                    <a:lnTo>
                      <a:pt x="13" y="66"/>
                    </a:lnTo>
                    <a:lnTo>
                      <a:pt x="43" y="63"/>
                    </a:lnTo>
                    <a:lnTo>
                      <a:pt x="55" y="80"/>
                    </a:lnTo>
                    <a:lnTo>
                      <a:pt x="72" y="83"/>
                    </a:lnTo>
                    <a:lnTo>
                      <a:pt x="81" y="63"/>
                    </a:lnTo>
                    <a:lnTo>
                      <a:pt x="77" y="57"/>
                    </a:lnTo>
                    <a:lnTo>
                      <a:pt x="85" y="49"/>
                    </a:lnTo>
                    <a:lnTo>
                      <a:pt x="102" y="63"/>
                    </a:lnTo>
                    <a:lnTo>
                      <a:pt x="115" y="63"/>
                    </a:lnTo>
                    <a:lnTo>
                      <a:pt x="115" y="54"/>
                    </a:lnTo>
                    <a:lnTo>
                      <a:pt x="123" y="54"/>
                    </a:lnTo>
                    <a:lnTo>
                      <a:pt x="136" y="40"/>
                    </a:lnTo>
                    <a:lnTo>
                      <a:pt x="128" y="37"/>
                    </a:lnTo>
                    <a:lnTo>
                      <a:pt x="128" y="23"/>
                    </a:lnTo>
                    <a:lnTo>
                      <a:pt x="128" y="11"/>
                    </a:lnTo>
                    <a:lnTo>
                      <a:pt x="108" y="9"/>
                    </a:lnTo>
                    <a:lnTo>
                      <a:pt x="94" y="11"/>
                    </a:lnTo>
                    <a:lnTo>
                      <a:pt x="81" y="11"/>
                    </a:lnTo>
                    <a:lnTo>
                      <a:pt x="62" y="9"/>
                    </a:lnTo>
                    <a:lnTo>
                      <a:pt x="47" y="0"/>
                    </a:lnTo>
                    <a:lnTo>
                      <a:pt x="43" y="9"/>
                    </a:lnTo>
                    <a:lnTo>
                      <a:pt x="40" y="26"/>
                    </a:lnTo>
                    <a:lnTo>
                      <a:pt x="26" y="26"/>
                    </a:lnTo>
                    <a:lnTo>
                      <a:pt x="21" y="40"/>
                    </a:lnTo>
                    <a:lnTo>
                      <a:pt x="13" y="46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36960" y="3811680"/>
                <a:ext cx="1240200" cy="2690640"/>
              </a:xfrm>
              <a:custGeom>
                <a:avLst/>
                <a:gdLst/>
                <a:ahLst/>
                <a:rect l="l" t="t" r="r" b="b"/>
                <a:pathLst>
                  <a:path w="847" h="1695">
                    <a:moveTo>
                      <a:pt x="66" y="75"/>
                    </a:moveTo>
                    <a:lnTo>
                      <a:pt x="76" y="56"/>
                    </a:lnTo>
                    <a:lnTo>
                      <a:pt x="97" y="28"/>
                    </a:lnTo>
                    <a:lnTo>
                      <a:pt x="128" y="11"/>
                    </a:lnTo>
                    <a:lnTo>
                      <a:pt x="144" y="0"/>
                    </a:lnTo>
                    <a:lnTo>
                      <a:pt x="161" y="3"/>
                    </a:lnTo>
                    <a:lnTo>
                      <a:pt x="156" y="17"/>
                    </a:lnTo>
                    <a:lnTo>
                      <a:pt x="138" y="31"/>
                    </a:lnTo>
                    <a:lnTo>
                      <a:pt x="134" y="59"/>
                    </a:lnTo>
                    <a:lnTo>
                      <a:pt x="138" y="81"/>
                    </a:lnTo>
                    <a:lnTo>
                      <a:pt x="154" y="81"/>
                    </a:lnTo>
                    <a:lnTo>
                      <a:pt x="161" y="56"/>
                    </a:lnTo>
                    <a:lnTo>
                      <a:pt x="165" y="31"/>
                    </a:lnTo>
                    <a:lnTo>
                      <a:pt x="175" y="39"/>
                    </a:lnTo>
                    <a:lnTo>
                      <a:pt x="187" y="53"/>
                    </a:lnTo>
                    <a:lnTo>
                      <a:pt x="208" y="47"/>
                    </a:lnTo>
                    <a:lnTo>
                      <a:pt x="220" y="59"/>
                    </a:lnTo>
                    <a:lnTo>
                      <a:pt x="224" y="72"/>
                    </a:lnTo>
                    <a:lnTo>
                      <a:pt x="255" y="67"/>
                    </a:lnTo>
                    <a:lnTo>
                      <a:pt x="317" y="59"/>
                    </a:lnTo>
                    <a:lnTo>
                      <a:pt x="340" y="103"/>
                    </a:lnTo>
                    <a:lnTo>
                      <a:pt x="379" y="125"/>
                    </a:lnTo>
                    <a:lnTo>
                      <a:pt x="377" y="145"/>
                    </a:lnTo>
                    <a:lnTo>
                      <a:pt x="393" y="134"/>
                    </a:lnTo>
                    <a:lnTo>
                      <a:pt x="412" y="134"/>
                    </a:lnTo>
                    <a:lnTo>
                      <a:pt x="434" y="153"/>
                    </a:lnTo>
                    <a:lnTo>
                      <a:pt x="461" y="150"/>
                    </a:lnTo>
                    <a:lnTo>
                      <a:pt x="484" y="153"/>
                    </a:lnTo>
                    <a:lnTo>
                      <a:pt x="521" y="189"/>
                    </a:lnTo>
                    <a:lnTo>
                      <a:pt x="560" y="234"/>
                    </a:lnTo>
                    <a:lnTo>
                      <a:pt x="576" y="284"/>
                    </a:lnTo>
                    <a:lnTo>
                      <a:pt x="566" y="323"/>
                    </a:lnTo>
                    <a:lnTo>
                      <a:pt x="613" y="337"/>
                    </a:lnTo>
                    <a:lnTo>
                      <a:pt x="692" y="357"/>
                    </a:lnTo>
                    <a:lnTo>
                      <a:pt x="772" y="379"/>
                    </a:lnTo>
                    <a:lnTo>
                      <a:pt x="823" y="424"/>
                    </a:lnTo>
                    <a:lnTo>
                      <a:pt x="846" y="465"/>
                    </a:lnTo>
                    <a:lnTo>
                      <a:pt x="846" y="518"/>
                    </a:lnTo>
                    <a:lnTo>
                      <a:pt x="825" y="566"/>
                    </a:lnTo>
                    <a:lnTo>
                      <a:pt x="803" y="591"/>
                    </a:lnTo>
                    <a:lnTo>
                      <a:pt x="788" y="607"/>
                    </a:lnTo>
                    <a:lnTo>
                      <a:pt x="772" y="641"/>
                    </a:lnTo>
                    <a:lnTo>
                      <a:pt x="770" y="671"/>
                    </a:lnTo>
                    <a:lnTo>
                      <a:pt x="772" y="710"/>
                    </a:lnTo>
                    <a:lnTo>
                      <a:pt x="764" y="749"/>
                    </a:lnTo>
                    <a:lnTo>
                      <a:pt x="751" y="758"/>
                    </a:lnTo>
                    <a:lnTo>
                      <a:pt x="747" y="780"/>
                    </a:lnTo>
                    <a:lnTo>
                      <a:pt x="733" y="797"/>
                    </a:lnTo>
                    <a:lnTo>
                      <a:pt x="731" y="816"/>
                    </a:lnTo>
                    <a:lnTo>
                      <a:pt x="712" y="839"/>
                    </a:lnTo>
                    <a:lnTo>
                      <a:pt x="683" y="878"/>
                    </a:lnTo>
                    <a:lnTo>
                      <a:pt x="659" y="889"/>
                    </a:lnTo>
                    <a:lnTo>
                      <a:pt x="642" y="886"/>
                    </a:lnTo>
                    <a:lnTo>
                      <a:pt x="611" y="906"/>
                    </a:lnTo>
                    <a:lnTo>
                      <a:pt x="580" y="950"/>
                    </a:lnTo>
                    <a:lnTo>
                      <a:pt x="574" y="967"/>
                    </a:lnTo>
                    <a:lnTo>
                      <a:pt x="574" y="989"/>
                    </a:lnTo>
                    <a:lnTo>
                      <a:pt x="580" y="1014"/>
                    </a:lnTo>
                    <a:lnTo>
                      <a:pt x="566" y="1039"/>
                    </a:lnTo>
                    <a:lnTo>
                      <a:pt x="566" y="1059"/>
                    </a:lnTo>
                    <a:lnTo>
                      <a:pt x="541" y="1081"/>
                    </a:lnTo>
                    <a:lnTo>
                      <a:pt x="523" y="1098"/>
                    </a:lnTo>
                    <a:lnTo>
                      <a:pt x="508" y="1123"/>
                    </a:lnTo>
                    <a:lnTo>
                      <a:pt x="502" y="1148"/>
                    </a:lnTo>
                    <a:lnTo>
                      <a:pt x="482" y="1179"/>
                    </a:lnTo>
                    <a:lnTo>
                      <a:pt x="473" y="1173"/>
                    </a:lnTo>
                    <a:lnTo>
                      <a:pt x="457" y="1173"/>
                    </a:lnTo>
                    <a:lnTo>
                      <a:pt x="436" y="1184"/>
                    </a:lnTo>
                    <a:lnTo>
                      <a:pt x="451" y="1198"/>
                    </a:lnTo>
                    <a:lnTo>
                      <a:pt x="451" y="1226"/>
                    </a:lnTo>
                    <a:lnTo>
                      <a:pt x="449" y="1248"/>
                    </a:lnTo>
                    <a:lnTo>
                      <a:pt x="438" y="1265"/>
                    </a:lnTo>
                    <a:lnTo>
                      <a:pt x="412" y="1268"/>
                    </a:lnTo>
                    <a:lnTo>
                      <a:pt x="391" y="1276"/>
                    </a:lnTo>
                    <a:lnTo>
                      <a:pt x="381" y="1293"/>
                    </a:lnTo>
                    <a:lnTo>
                      <a:pt x="381" y="1321"/>
                    </a:lnTo>
                    <a:lnTo>
                      <a:pt x="356" y="1323"/>
                    </a:lnTo>
                    <a:lnTo>
                      <a:pt x="336" y="1321"/>
                    </a:lnTo>
                    <a:lnTo>
                      <a:pt x="329" y="1332"/>
                    </a:lnTo>
                    <a:lnTo>
                      <a:pt x="340" y="1343"/>
                    </a:lnTo>
                    <a:lnTo>
                      <a:pt x="333" y="1385"/>
                    </a:lnTo>
                    <a:lnTo>
                      <a:pt x="325" y="1421"/>
                    </a:lnTo>
                    <a:lnTo>
                      <a:pt x="298" y="1421"/>
                    </a:lnTo>
                    <a:lnTo>
                      <a:pt x="290" y="1435"/>
                    </a:lnTo>
                    <a:lnTo>
                      <a:pt x="292" y="1463"/>
                    </a:lnTo>
                    <a:lnTo>
                      <a:pt x="307" y="1463"/>
                    </a:lnTo>
                    <a:lnTo>
                      <a:pt x="317" y="1479"/>
                    </a:lnTo>
                    <a:lnTo>
                      <a:pt x="311" y="1507"/>
                    </a:lnTo>
                    <a:lnTo>
                      <a:pt x="296" y="1510"/>
                    </a:lnTo>
                    <a:lnTo>
                      <a:pt x="274" y="1521"/>
                    </a:lnTo>
                    <a:lnTo>
                      <a:pt x="268" y="1544"/>
                    </a:lnTo>
                    <a:lnTo>
                      <a:pt x="266" y="1577"/>
                    </a:lnTo>
                    <a:lnTo>
                      <a:pt x="251" y="1594"/>
                    </a:lnTo>
                    <a:lnTo>
                      <a:pt x="303" y="1649"/>
                    </a:lnTo>
                    <a:lnTo>
                      <a:pt x="317" y="1677"/>
                    </a:lnTo>
                    <a:lnTo>
                      <a:pt x="309" y="1694"/>
                    </a:lnTo>
                    <a:lnTo>
                      <a:pt x="286" y="1683"/>
                    </a:lnTo>
                    <a:lnTo>
                      <a:pt x="268" y="1661"/>
                    </a:lnTo>
                    <a:lnTo>
                      <a:pt x="241" y="1644"/>
                    </a:lnTo>
                    <a:lnTo>
                      <a:pt x="216" y="1616"/>
                    </a:lnTo>
                    <a:lnTo>
                      <a:pt x="200" y="1583"/>
                    </a:lnTo>
                    <a:lnTo>
                      <a:pt x="198" y="1555"/>
                    </a:lnTo>
                    <a:lnTo>
                      <a:pt x="202" y="1532"/>
                    </a:lnTo>
                    <a:lnTo>
                      <a:pt x="200" y="1351"/>
                    </a:lnTo>
                    <a:lnTo>
                      <a:pt x="193" y="1321"/>
                    </a:lnTo>
                    <a:lnTo>
                      <a:pt x="175" y="1287"/>
                    </a:lnTo>
                    <a:lnTo>
                      <a:pt x="175" y="1257"/>
                    </a:lnTo>
                    <a:lnTo>
                      <a:pt x="187" y="1220"/>
                    </a:lnTo>
                    <a:lnTo>
                      <a:pt x="198" y="1176"/>
                    </a:lnTo>
                    <a:lnTo>
                      <a:pt x="193" y="1131"/>
                    </a:lnTo>
                    <a:lnTo>
                      <a:pt x="191" y="1112"/>
                    </a:lnTo>
                    <a:lnTo>
                      <a:pt x="189" y="1087"/>
                    </a:lnTo>
                    <a:lnTo>
                      <a:pt x="196" y="1075"/>
                    </a:lnTo>
                    <a:lnTo>
                      <a:pt x="200" y="1025"/>
                    </a:lnTo>
                    <a:lnTo>
                      <a:pt x="196" y="1000"/>
                    </a:lnTo>
                    <a:lnTo>
                      <a:pt x="204" y="939"/>
                    </a:lnTo>
                    <a:lnTo>
                      <a:pt x="196" y="886"/>
                    </a:lnTo>
                    <a:lnTo>
                      <a:pt x="202" y="858"/>
                    </a:lnTo>
                    <a:lnTo>
                      <a:pt x="212" y="805"/>
                    </a:lnTo>
                    <a:lnTo>
                      <a:pt x="202" y="772"/>
                    </a:lnTo>
                    <a:lnTo>
                      <a:pt x="181" y="747"/>
                    </a:lnTo>
                    <a:lnTo>
                      <a:pt x="175" y="719"/>
                    </a:lnTo>
                    <a:lnTo>
                      <a:pt x="152" y="694"/>
                    </a:lnTo>
                    <a:lnTo>
                      <a:pt x="128" y="677"/>
                    </a:lnTo>
                    <a:lnTo>
                      <a:pt x="93" y="669"/>
                    </a:lnTo>
                    <a:lnTo>
                      <a:pt x="76" y="632"/>
                    </a:lnTo>
                    <a:lnTo>
                      <a:pt x="54" y="596"/>
                    </a:lnTo>
                    <a:lnTo>
                      <a:pt x="51" y="566"/>
                    </a:lnTo>
                    <a:lnTo>
                      <a:pt x="49" y="538"/>
                    </a:lnTo>
                    <a:lnTo>
                      <a:pt x="43" y="518"/>
                    </a:lnTo>
                    <a:lnTo>
                      <a:pt x="31" y="496"/>
                    </a:lnTo>
                    <a:lnTo>
                      <a:pt x="14" y="485"/>
                    </a:lnTo>
                    <a:lnTo>
                      <a:pt x="2" y="463"/>
                    </a:lnTo>
                    <a:lnTo>
                      <a:pt x="16" y="443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5"/>
                    </a:lnTo>
                    <a:lnTo>
                      <a:pt x="8" y="309"/>
                    </a:lnTo>
                    <a:lnTo>
                      <a:pt x="41" y="220"/>
                    </a:lnTo>
                    <a:lnTo>
                      <a:pt x="43" y="181"/>
                    </a:lnTo>
                    <a:lnTo>
                      <a:pt x="62" y="139"/>
                    </a:lnTo>
                    <a:lnTo>
                      <a:pt x="62" y="117"/>
                    </a:lnTo>
                    <a:lnTo>
                      <a:pt x="66" y="75"/>
                    </a:lnTo>
                  </a:path>
                </a:pathLst>
              </a:custGeom>
              <a:solidFill>
                <a:srgbClr val="d9da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1547640" y="0"/>
            <a:ext cx="7020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80808"/>
                </a:solidFill>
                <a:latin typeface="Arial"/>
              </a:rPr>
              <a:t>Status 2005: 25 Countr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914400"/>
            <a:ext cx="411480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Nor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New Zea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Roma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Russian Fede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ingap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love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outh Afric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we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witzer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ited Kingd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ited States of Americ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Serbia &amp; Montenegr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942840"/>
            <a:ext cx="284148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h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zech Republ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Denma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Fin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Fr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German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Hunga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Ita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Jap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Korea, Republic o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4255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Netherlan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35520" y="4503600"/>
            <a:ext cx="303120" cy="330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35520" y="954000"/>
            <a:ext cx="4143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835520" y="1467000"/>
            <a:ext cx="438120" cy="23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835520" y="1854360"/>
            <a:ext cx="372960" cy="26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835520" y="2236680"/>
            <a:ext cx="415800" cy="301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835520" y="3257640"/>
            <a:ext cx="372960" cy="203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835520" y="3668760"/>
            <a:ext cx="372960" cy="27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4835520" y="4103640"/>
            <a:ext cx="380880" cy="260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35520" y="5008680"/>
            <a:ext cx="368280" cy="201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4835520" y="5478480"/>
            <a:ext cx="355680" cy="20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835520" y="5888160"/>
            <a:ext cx="363600" cy="199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060560" y="992160"/>
            <a:ext cx="469800" cy="254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1060560" y="1432080"/>
            <a:ext cx="426960" cy="23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1046160" y="1808280"/>
            <a:ext cx="406440" cy="293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1060560" y="4070520"/>
            <a:ext cx="436320" cy="280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1060560" y="3232080"/>
            <a:ext cx="355320" cy="23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1060560" y="3649680"/>
            <a:ext cx="365040" cy="258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1060560" y="4498920"/>
            <a:ext cx="412560" cy="295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1060560" y="4984920"/>
            <a:ext cx="387360" cy="27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0"/>
          <a:stretch/>
        </p:blipFill>
        <p:spPr>
          <a:xfrm>
            <a:off x="1046160" y="5872320"/>
            <a:ext cx="438120" cy="31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1"/>
          <a:stretch/>
        </p:blipFill>
        <p:spPr>
          <a:xfrm>
            <a:off x="1073160" y="6302520"/>
            <a:ext cx="363600" cy="260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nation's flag"/>
          <p:cNvPicPr/>
          <p:nvPr/>
        </p:nvPicPr>
        <p:blipFill>
          <a:blip r:embed="rId22"/>
          <a:stretch/>
        </p:blipFill>
        <p:spPr>
          <a:xfrm>
            <a:off x="1062000" y="2668680"/>
            <a:ext cx="460440" cy="371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1046160" y="2189160"/>
            <a:ext cx="547560" cy="351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4"/>
          <a:stretch/>
        </p:blipFill>
        <p:spPr>
          <a:xfrm>
            <a:off x="4816440" y="2781360"/>
            <a:ext cx="523800" cy="334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5"/>
          <a:stretch/>
        </p:blipFill>
        <p:spPr>
          <a:xfrm>
            <a:off x="1042920" y="5389560"/>
            <a:ext cx="506520" cy="38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767120" y="61722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9e1c02"/>
                </a:solidFill>
                <a:latin typeface="Times New Roman"/>
              </a:rPr>
              <a:t>Malaysia as Observer + discussions with India, Brazil o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14960" y="83340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of the IECEx-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542960"/>
            <a:ext cx="7921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ze the requirements for the equipment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azardous Locations based on 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 of testing bodies glob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creditation procedure with notified technical expe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certification bodies and laboratories under the rule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LAC/IAF (ISO/IEC 17025:1999, ISO Guide 65) and with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inal approval step done by the national legal authoriti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 a dialog between the national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eliminate national barriers for a free trad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worldw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to be the Global Centre of Excellence </a:t>
            </a:r>
            <a:br>
              <a:rPr sz="2400"/>
            </a:b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    in the Ex-fie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mes</cp:lastModifiedBy>
  <dcterms:modified xsi:type="dcterms:W3CDTF">2006-06-15T09:46:39Z</dcterms:modified>
  <cp:revision>17</cp:revision>
  <dc:subject/>
  <dc:title>PowerPoint Presentation</dc:title>
</cp:coreProperties>
</file>