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928-2BC2-413B-AC57-C3515ACCA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BD6E-6FAA-40AE-A74C-979A267D9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96920" y="6494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19F8-9787-45B4-8D7F-D1C045BD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D61F-6692-45F0-95E7-E0653C56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12EB-671E-450E-8353-B0874A3A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B823-9C04-454F-B5AF-8A7A07D4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6EAC-B095-4D32-B2D2-20934A58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6EAC-44A4-493B-BF80-C52903E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C588-DF3D-459A-90D9-8C9365F6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661F-F304-45C4-9478-D4FE9B16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5C35-5B71-402D-9721-F831BB94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5C07-3DA4-4575-A77D-6E0C5BCA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5BED-1F18-44E0-94CB-9550038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F135-21B6-4C58-BCE2-F207CDFE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035-1664-4624-8032-1045490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B363-185B-40F4-AA6A-615ED9CE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B5CF-46C4-4E71-8C28-3AC5E68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AD6E-3CE7-4FA5-883F-BE13FD39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4D12-7E1C-4834-98AB-131EA6FC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5077-7354-450A-BF64-E2A72B58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5BA3-D7AB-4E05-A8AB-07103AB9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01F5-7FAB-45BA-A73E-1FCA1F20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B3B3-E24B-4AF3-8223-581FB02C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4A83-F0FD-407B-BC69-9C8E0FD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AF18-27CF-4A56-814F-D04A965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4E7B-A429-4F18-BF52-27629236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1A03-BC94-416A-8359-0EC2A6FFF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D8F4-609B-46FD-B553-547B181183ED}" type="datetime"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184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FEEF-F36E-4616-B2DE-91778F701E70}" type="datetime"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A75A-D42E-4CA8-ABB4-0398D6386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700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Trade Facilitation in ESCA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87280" y="4292280"/>
            <a:ext cx="615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International Conference on Trade Facili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6-17 Octob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6, Moscow, Russian Fed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ordin Azhar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ief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de Efficiency and Facilitation S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de and Investment Divi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ESC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1F9A-857C-4EB0-BFB7-11E9F96B8074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58920" y="4389480"/>
            <a:ext cx="8373960" cy="750960"/>
          </a:xfrm>
          <a:prstGeom prst="rect">
            <a:avLst/>
          </a:prstGeom>
          <a:solidFill>
            <a:srgbClr val="e8f2fe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  <a:ea typeface="SimSun"/>
              </a:rPr>
              <a:t>CBP - Capacity Building Programmes: Awareness and Training</a:t>
            </a:r>
            <a:r>
              <a:rPr b="1" lang="en-GB" sz="1800" spc="-1" strike="noStrike">
                <a:solidFill>
                  <a:srgbClr val="9999cc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Tahoma"/>
                <a:ea typeface="SimSun"/>
              </a:rPr>
              <a:t>iii. Creating awareness and organizing training courses and workshops for member count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160" y="5160960"/>
            <a:ext cx="8582040" cy="757080"/>
          </a:xfrm>
          <a:prstGeom prst="rect">
            <a:avLst/>
          </a:prstGeom>
          <a:solidFill>
            <a:srgbClr val="e8f2fe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Tahoma"/>
                <a:ea typeface="Tahoma"/>
              </a:rPr>
              <a:t>KR - Knowledge Repository for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ii.  Developing and maintaining a repository and virtual communication mechanism for trade knowledge and </a:t>
            </a:r>
            <a:br>
              <a:rPr sz="1100"/>
            </a:b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TF current conditions, indicators, needs and priorities for continuous analysis and TF-improved recommend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5929200"/>
            <a:ext cx="8801280" cy="928800"/>
          </a:xfrm>
          <a:prstGeom prst="rect">
            <a:avLst/>
          </a:prstGeom>
          <a:solidFill>
            <a:srgbClr val="dde4fb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  <a:ea typeface="SimSun"/>
              </a:rPr>
              <a:t>APNET</a:t>
            </a:r>
            <a:r>
              <a:rPr b="1" lang="en-US" sz="2000" spc="-1" strike="noStrike">
                <a:solidFill>
                  <a:srgbClr val="9999cc"/>
                </a:solidFill>
                <a:latin typeface="Tahoma"/>
                <a:ea typeface="SimSu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  <a:ea typeface="SimSun"/>
              </a:rPr>
              <a:t>- Asia Pacific Network for Efficient Trade</a:t>
            </a:r>
            <a:br>
              <a:rPr sz="2000"/>
            </a:br>
            <a:r>
              <a:rPr b="1" lang="en-US" sz="2000" spc="-1" strike="noStrike">
                <a:solidFill>
                  <a:srgbClr val="9999cc"/>
                </a:solidFill>
                <a:latin typeface="Tahoma"/>
                <a:ea typeface="SimSun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Arial"/>
                <a:ea typeface="SimSun"/>
              </a:rPr>
              <a:t>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Facilitating a regional forum for policy makers, practitioners and resource persons from government and  private se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to share lessons learned, develop and promote trade facilitation measures suitable for the Asia-Pacific reg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06440" y="1828800"/>
            <a:ext cx="8262360" cy="2561760"/>
            <a:chOff x="406440" y="1828800"/>
            <a:chExt cx="8262360" cy="2561760"/>
          </a:xfrm>
        </p:grpSpPr>
        <p:grpSp>
          <p:nvGrpSpPr>
            <p:cNvPr id="140" name=""/>
            <p:cNvGrpSpPr/>
            <p:nvPr/>
          </p:nvGrpSpPr>
          <p:grpSpPr>
            <a:xfrm>
              <a:off x="406440" y="1828800"/>
              <a:ext cx="1297080" cy="2561760"/>
              <a:chOff x="406440" y="1828800"/>
              <a:chExt cx="1297080" cy="2561760"/>
            </a:xfrm>
          </p:grpSpPr>
          <p:sp>
            <p:nvSpPr>
              <p:cNvPr id="141" name=""/>
              <p:cNvSpPr/>
              <p:nvPr/>
            </p:nvSpPr>
            <p:spPr>
              <a:xfrm>
                <a:off x="46836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1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ssessing TF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Needs,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iorities 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mplementa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Cos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(Captur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F Knowledg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&amp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ndicators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644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228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795320" y="1828800"/>
              <a:ext cx="1297080" cy="2561760"/>
              <a:chOff x="1795320" y="1828800"/>
              <a:chExt cx="1297080" cy="256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185724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2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 th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Establish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of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Strengthe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acili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Organiza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Regional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Cooper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9532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1116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200400" y="1828800"/>
              <a:ext cx="1297080" cy="2561760"/>
              <a:chOff x="3200400" y="1828800"/>
              <a:chExt cx="1297080" cy="2561760"/>
            </a:xfrm>
          </p:grpSpPr>
          <p:sp>
            <p:nvSpPr>
              <p:cNvPr id="149" name=""/>
              <p:cNvSpPr/>
              <p:nvPr/>
            </p:nvSpPr>
            <p:spPr>
              <a:xfrm>
                <a:off x="326232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3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acili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la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40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1624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600440" y="1828800"/>
              <a:ext cx="1297080" cy="2561760"/>
              <a:chOff x="4600440" y="1828800"/>
              <a:chExt cx="1297080" cy="2561760"/>
            </a:xfrm>
          </p:grpSpPr>
          <p:sp>
            <p:nvSpPr>
              <p:cNvPr id="153" name=""/>
              <p:cNvSpPr/>
              <p:nvPr/>
            </p:nvSpPr>
            <p:spPr>
              <a:xfrm>
                <a:off x="466236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4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ssisting 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Simplif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Harmoniz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o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Documents &amp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cedur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0044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1628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000840" y="1828800"/>
              <a:ext cx="1296360" cy="2561760"/>
              <a:chOff x="6000840" y="1828800"/>
              <a:chExt cx="1296360" cy="2561760"/>
            </a:xfrm>
          </p:grpSpPr>
          <p:sp>
            <p:nvSpPr>
              <p:cNvPr id="157" name=""/>
              <p:cNvSpPr/>
              <p:nvPr/>
            </p:nvSpPr>
            <p:spPr>
              <a:xfrm>
                <a:off x="6062400" y="1950840"/>
                <a:ext cx="118548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5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he use o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CT Applica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or 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acili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00840" y="4286520"/>
                <a:ext cx="128088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6320" y="1828800"/>
                <a:ext cx="128088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372440" y="1828800"/>
              <a:ext cx="1296360" cy="2561760"/>
              <a:chOff x="7372440" y="1828800"/>
              <a:chExt cx="1296360" cy="2561760"/>
            </a:xfrm>
          </p:grpSpPr>
          <p:sp>
            <p:nvSpPr>
              <p:cNvPr id="161" name=""/>
              <p:cNvSpPr/>
              <p:nvPr/>
            </p:nvSpPr>
            <p:spPr>
              <a:xfrm>
                <a:off x="7434000" y="1950840"/>
                <a:ext cx="118548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6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i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ay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Develop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72440" y="4286520"/>
                <a:ext cx="128088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87920" y="1828800"/>
                <a:ext cx="128088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01520" y="33480"/>
            <a:ext cx="8915400" cy="1795320"/>
            <a:chOff x="101520" y="33480"/>
            <a:chExt cx="8915400" cy="1795320"/>
          </a:xfrm>
        </p:grpSpPr>
        <p:grpSp>
          <p:nvGrpSpPr>
            <p:cNvPr id="165" name=""/>
            <p:cNvGrpSpPr/>
            <p:nvPr/>
          </p:nvGrpSpPr>
          <p:grpSpPr>
            <a:xfrm>
              <a:off x="101520" y="533520"/>
              <a:ext cx="8915400" cy="1295280"/>
              <a:chOff x="101520" y="533520"/>
              <a:chExt cx="8915400" cy="1295280"/>
            </a:xfrm>
          </p:grpSpPr>
          <p:sp>
            <p:nvSpPr>
              <p:cNvPr id="166" name=""/>
              <p:cNvSpPr/>
              <p:nvPr/>
            </p:nvSpPr>
            <p:spPr>
              <a:xfrm>
                <a:off x="101520" y="533520"/>
                <a:ext cx="8915400" cy="1174680"/>
              </a:xfrm>
              <a:prstGeom prst="triangle">
                <a:avLst>
                  <a:gd name="adj" fmla="val 50000"/>
                </a:avLst>
              </a:prstGeom>
              <a:solidFill>
                <a:srgbClr val="ffe2b7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0120" y="1717560"/>
                <a:ext cx="8382240" cy="11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28800" y="685800"/>
                <a:ext cx="548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UNESCA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 Facilitation Strateg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62120" y="33480"/>
              <a:ext cx="754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291B-A3B1-4C8E-8DA0-7DE804D1E33E}" type="slidenum">
              <a:t>10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43280" y="1844280"/>
            <a:ext cx="6121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42560" y="3068640"/>
            <a:ext cx="6913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A0CF-7276-40EE-AD09-D1AE670B1799}" type="slidenum">
              <a:t>11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cts and Fig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48360" y="2997360"/>
            <a:ext cx="1341720" cy="187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1844640"/>
            <a:ext cx="5688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st of trade procedures may range from 2 to 15 per-cent of the traded goods’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one per cent reduction of trade transaction costs of traded goods’ value would bring annual gains of about US$ 40 billion on a world-wide basi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five per cent reduction in trade transaction costs in 2006 will raise APEC’s GDP by 0.98 per cent (around US$ 154 billion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406520" cy="1477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948360" y="1413000"/>
            <a:ext cx="1368720" cy="13888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2A42-2C84-4246-8BDE-AC534E37ADBF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TF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trade facilitation negot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-in-time operations; need for swift flow of data a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and secur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trade arrangements and initiatives in Asia and the Pa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1D3D-B7D4-4D69-AEA8-624EDCDD6541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UNESCAP Trade Facilit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ss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Promoting the simplification, harmonization, standardization of procedures and related documentary requirements in international t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ducing Trade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Improving Trade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Integrated approach to trade and transport facilitation, including IC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FD83-88C9-43B2-9343-36644EB528EE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engthening Regional Cooper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Establishment of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sia-Pacific Network for Efficient Trade – APN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a regional platform for national trade facilitation coordination committees/bodies (NTTF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mote the establishment and strengthening of NTTF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regional trade facilitation requirements of traders and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ormulate, coordinate and promote trade and transport facilitation strategies, action plans and best practices among UNESCAP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72FB-3C63-4EBB-BA1A-83E4F5165E6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74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ng National Coordination Mechanis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Good practices in implementing TF measures require cooperation of three main players – government agencies, logistics service providers, and tr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ssisting member states to establish National Trade and Transport Committee (NTTFC) and supporting instit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Providing training and technical assistance to strengthen the capability of NTTFCs - lead agency, inter-government and private key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ED31-1C52-4845-8BAB-03FC4FF3EC0F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essing Needs, Priorities and Implementation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nducting benchmarking study and analysis of current conditions, impediments to trade, and indicators of TF-related performances (quantitative &amp; qualitat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ing opportunities for impro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fining and promoting assessment/benchmark tools, and assisting member states to build human and institutional capacity to regularly conduct TF self assess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SimSun"/>
              </a:rPr>
              <a:t>Tools availab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UNESCAP Trade Facilitation Frame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UNESCAP Time/Cost-Distance 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WB Trade and Transport Facilitation Au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WCO Time Release Stu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WCO Self Assessment Checklist of GATT Articles V, VIII, 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UN/CEFACT Benchmarking Guideli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51A1-CCB2-4D60-B0A6-1D446573F34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41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ification, Standardization and Harmonization of Trade Procedures and Docu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538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studies, trainings and advisory service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formats and contents of trad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ligned trade documents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 Layout Key for Tra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 Trade Facilitators Toolkit for tra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CO Customs Data Model and UN Trade Data Elements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92AE-3F67-4CF3-9238-1D0DF5D7C9C6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ng ICT Application for Trade Facili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and assist member states to develop strategies and action plans to establish single-window and ICT-enable paperles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ool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establishing Single Window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(UN/CEFACT Recommendation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Handbooks and Roadmap for Paperless Trad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(UNESCAP TF Handbook, UN/CEFACT Roadm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UNeDocs (UN Electronic Trade Documents proje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WCO Customs Data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3DCF-CB83-4EED-9329-BCE6B7C5FA0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2:47:45Z</dcterms:created>
  <dc:creator>mmisovicova</dc:creator>
  <dc:description/>
  <dc:language>en-US</dc:language>
  <cp:lastModifiedBy>User</cp:lastModifiedBy>
  <dcterms:modified xsi:type="dcterms:W3CDTF">2006-10-15T16:55:00Z</dcterms:modified>
  <cp:revision>27</cp:revision>
  <dc:subject/>
  <dc:title>Slide 1</dc:title>
</cp:coreProperties>
</file>