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ECD4-5989-45CE-AF7C-0E02B9C4E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B48E-4D65-4A58-B10B-9BF4D0FE4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096920" y="6494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h-TH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A5790-21FF-4EB4-938E-89345101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1BF16-0787-4764-BD53-7E4BBBE9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B1BBD-8CA0-4213-B8C3-C4C88A94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3C40B-A1B9-4148-BAC3-EB90F126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976D-39F4-4D45-BB9B-F5706EC9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64D0-EE97-4A4C-B04D-2901766B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2810-703F-4EF5-8148-86F67DBE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32CE-0A42-48C2-95AC-16FF6A03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E5E6-5604-45D4-B95D-64115AF6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E8EE-CD09-4BFF-ABA0-0C0BD8D6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6FF9-E4D2-4236-B6C8-10BA37D5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695C4-1C8B-4152-8B19-7BB56A31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B5F9-4336-4397-93C5-9740C024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D549-30FF-47B9-A9F0-CB204AED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D2DC-CAA5-4570-890F-49A16711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31AF-3FA9-4F15-8184-4E688691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FDC6-4E79-4518-A09F-45E2F77A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3CB87-8073-495E-983C-513EA147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AB54B-A924-4303-B383-3E314F81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A04FD-4089-497E-A8B4-911F5E8B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3119D-B350-47C6-9F67-E890B688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46C26-DC1A-4630-859A-8893F506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5E48C-C5B8-4393-9701-B6C9ECE7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9936D-FDAB-430A-BF07-EDCC11D3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518C-41A7-4EE2-839B-79481A67FF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1403280" y="475920"/>
            <a:ext cx="741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CEA9-B4FB-4F11-9A28-6A46FB764650}" type="datetime"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1840" cy="14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F8AD-486D-46B8-BB37-86BDBB49DDB3}" type="datetime"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FFD4-4A0D-45A5-B0A6-B8EF530FD2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17002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Trade Facilitation in ESCAP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987280" y="4292280"/>
            <a:ext cx="61563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International Conference on Trade Facilit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16-17 Octobe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2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6, Moscow, Russian Fed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ordin Azhari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ief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ade Efficiency and Facilitation Se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ade and Investment Divi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ESC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9475-84A3-4310-A2EF-8CE25FEF7065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58920" y="4389480"/>
            <a:ext cx="8373960" cy="750960"/>
          </a:xfrm>
          <a:prstGeom prst="rect">
            <a:avLst/>
          </a:prstGeom>
          <a:solidFill>
            <a:srgbClr val="e8f2fe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ahoma"/>
                <a:ea typeface="SimSun"/>
              </a:rPr>
              <a:t>CBP - Capacity Building Programmes: Awareness and Training</a:t>
            </a:r>
            <a:r>
              <a:rPr b="1" lang="en-GB" sz="1800" spc="-1" strike="noStrike">
                <a:solidFill>
                  <a:srgbClr val="9999cc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333399"/>
                </a:solidFill>
                <a:latin typeface="Tahoma"/>
                <a:ea typeface="SimSun"/>
              </a:rPr>
              <a:t>iii. Creating awareness and organizing training courses and workshops for member countr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4160" y="5160960"/>
            <a:ext cx="8582040" cy="757080"/>
          </a:xfrm>
          <a:prstGeom prst="rect">
            <a:avLst/>
          </a:prstGeom>
          <a:solidFill>
            <a:srgbClr val="e8f2fe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Tahoma"/>
                <a:ea typeface="Tahoma"/>
              </a:rPr>
              <a:t>KR - Knowledge Repository for Trade Facil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Tahoma"/>
                <a:ea typeface="SimSun"/>
              </a:rPr>
              <a:t>ii.  Developing and maintaining a repository and virtual communication mechanism for trade knowledge and </a:t>
            </a:r>
            <a:br>
              <a:rPr sz="1100"/>
            </a:br>
            <a:r>
              <a:rPr b="1" lang="en-US" sz="1100" spc="-1" strike="noStrike">
                <a:solidFill>
                  <a:srgbClr val="333399"/>
                </a:solidFill>
                <a:latin typeface="Tahoma"/>
                <a:ea typeface="SimSun"/>
              </a:rPr>
              <a:t>TF current conditions, indicators, needs and priorities for continuous analysis and TF-improved recommend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5929200"/>
            <a:ext cx="8801280" cy="928800"/>
          </a:xfrm>
          <a:prstGeom prst="rect">
            <a:avLst/>
          </a:prstGeom>
          <a:solidFill>
            <a:srgbClr val="dde4fb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ahoma"/>
                <a:ea typeface="SimSun"/>
              </a:rPr>
              <a:t>APNET</a:t>
            </a:r>
            <a:r>
              <a:rPr b="1" lang="en-US" sz="2000" spc="-1" strike="noStrike">
                <a:solidFill>
                  <a:srgbClr val="9999cc"/>
                </a:solidFill>
                <a:latin typeface="Tahoma"/>
                <a:ea typeface="SimSun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Tahoma"/>
                <a:ea typeface="SimSun"/>
              </a:rPr>
              <a:t>- Asia Pacific Network for Efficient Trade</a:t>
            </a:r>
            <a:br>
              <a:rPr sz="2000"/>
            </a:br>
            <a:r>
              <a:rPr b="1" lang="en-US" sz="2000" spc="-1" strike="noStrike">
                <a:solidFill>
                  <a:srgbClr val="9999cc"/>
                </a:solidFill>
                <a:latin typeface="Tahoma"/>
                <a:ea typeface="SimSun"/>
              </a:rPr>
              <a:t> </a:t>
            </a:r>
            <a:r>
              <a:rPr b="1" lang="en-US" sz="1100" spc="-1" strike="noStrike">
                <a:solidFill>
                  <a:srgbClr val="333399"/>
                </a:solidFill>
                <a:latin typeface="Arial"/>
                <a:ea typeface="SimSun"/>
              </a:rPr>
              <a:t>i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1100" spc="-1" strike="noStrike">
                <a:solidFill>
                  <a:srgbClr val="333399"/>
                </a:solidFill>
                <a:latin typeface="Tahoma"/>
                <a:ea typeface="SimSun"/>
              </a:rPr>
              <a:t>Facilitating a regional forum for policy makers, practitioners and resource persons from government and  private secto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Tahoma"/>
                <a:ea typeface="SimSun"/>
              </a:rPr>
              <a:t>to share lessons learned, develop and promote trade facilitation measures suitable for the Asia-Pacific reg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06440" y="1828800"/>
            <a:ext cx="8262360" cy="2561760"/>
            <a:chOff x="406440" y="1828800"/>
            <a:chExt cx="8262360" cy="2561760"/>
          </a:xfrm>
        </p:grpSpPr>
        <p:grpSp>
          <p:nvGrpSpPr>
            <p:cNvPr id="140" name=""/>
            <p:cNvGrpSpPr/>
            <p:nvPr/>
          </p:nvGrpSpPr>
          <p:grpSpPr>
            <a:xfrm>
              <a:off x="406440" y="1828800"/>
              <a:ext cx="1297080" cy="2561760"/>
              <a:chOff x="406440" y="1828800"/>
              <a:chExt cx="1297080" cy="2561760"/>
            </a:xfrm>
          </p:grpSpPr>
          <p:sp>
            <p:nvSpPr>
              <p:cNvPr id="141" name=""/>
              <p:cNvSpPr/>
              <p:nvPr/>
            </p:nvSpPr>
            <p:spPr>
              <a:xfrm>
                <a:off x="468360" y="1950840"/>
                <a:ext cx="1185840" cy="23342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  <a:effectLst>
                <a:outerShdw dist="17819" dir="2700000" blurRad="0" rotWithShape="0">
                  <a:srgbClr val="0000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1.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Assessing TF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Needs,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Priorities an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Implementation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Cost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(Capturin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TF Knowledge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&amp;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Indicators)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06440" y="4286520"/>
                <a:ext cx="1281240" cy="104040"/>
              </a:xfrm>
              <a:prstGeom prst="roundRect">
                <a:avLst>
                  <a:gd name="adj" fmla="val 50000"/>
                </a:avLst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22280" y="1828800"/>
                <a:ext cx="1281240" cy="103680"/>
              </a:xfrm>
              <a:prstGeom prst="roundRect">
                <a:avLst>
                  <a:gd name="adj" fmla="val 50000"/>
                </a:avLst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795320" y="1828800"/>
              <a:ext cx="1297080" cy="2561760"/>
              <a:chOff x="1795320" y="1828800"/>
              <a:chExt cx="1297080" cy="2561760"/>
            </a:xfrm>
          </p:grpSpPr>
          <p:sp>
            <p:nvSpPr>
              <p:cNvPr id="145" name=""/>
              <p:cNvSpPr/>
              <p:nvPr/>
            </p:nvSpPr>
            <p:spPr>
              <a:xfrm>
                <a:off x="1857240" y="1950840"/>
                <a:ext cx="1185840" cy="23342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  <a:effectLst>
                <a:outerShdw dist="17819" dir="2700000" blurRad="0" rotWithShape="0">
                  <a:srgbClr val="0000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2. </a:t>
                </a:r>
                <a:br>
                  <a:rPr sz="1100"/>
                </a:b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Promoting th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Establishmen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of,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an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Strengthenin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Nationa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Trad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Facilit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Organization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and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Regional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Cooper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95320" y="4286520"/>
                <a:ext cx="1281240" cy="104040"/>
              </a:xfrm>
              <a:prstGeom prst="roundRect">
                <a:avLst>
                  <a:gd name="adj" fmla="val 50000"/>
                </a:avLst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811160" y="1828800"/>
                <a:ext cx="1281240" cy="103680"/>
              </a:xfrm>
              <a:prstGeom prst="roundRect">
                <a:avLst>
                  <a:gd name="adj" fmla="val 50000"/>
                </a:avLst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3200400" y="1828800"/>
              <a:ext cx="1297080" cy="2561760"/>
              <a:chOff x="3200400" y="1828800"/>
              <a:chExt cx="1297080" cy="2561760"/>
            </a:xfrm>
          </p:grpSpPr>
          <p:sp>
            <p:nvSpPr>
              <p:cNvPr id="149" name=""/>
              <p:cNvSpPr/>
              <p:nvPr/>
            </p:nvSpPr>
            <p:spPr>
              <a:xfrm>
                <a:off x="3262320" y="1950840"/>
                <a:ext cx="1185840" cy="23342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  <a:effectLst>
                <a:outerShdw dist="17819" dir="2700000" blurRad="0" rotWithShape="0">
                  <a:srgbClr val="0000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3. </a:t>
                </a:r>
                <a:br>
                  <a:rPr sz="1100"/>
                </a:b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Promotin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Trad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Facilit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Strateg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and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Action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Plan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200400" y="4286520"/>
                <a:ext cx="1281240" cy="104040"/>
              </a:xfrm>
              <a:prstGeom prst="roundRect">
                <a:avLst>
                  <a:gd name="adj" fmla="val 50000"/>
                </a:avLst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216240" y="1828800"/>
                <a:ext cx="1281240" cy="103680"/>
              </a:xfrm>
              <a:prstGeom prst="roundRect">
                <a:avLst>
                  <a:gd name="adj" fmla="val 50000"/>
                </a:avLst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600440" y="1828800"/>
              <a:ext cx="1297080" cy="2561760"/>
              <a:chOff x="4600440" y="1828800"/>
              <a:chExt cx="1297080" cy="2561760"/>
            </a:xfrm>
          </p:grpSpPr>
          <p:sp>
            <p:nvSpPr>
              <p:cNvPr id="153" name=""/>
              <p:cNvSpPr/>
              <p:nvPr/>
            </p:nvSpPr>
            <p:spPr>
              <a:xfrm>
                <a:off x="4662360" y="1950840"/>
                <a:ext cx="1185840" cy="23342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  <a:effectLst>
                <a:outerShdw dist="17819" dir="2700000" blurRad="0" rotWithShape="0">
                  <a:srgbClr val="0000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4. </a:t>
                </a:r>
                <a:br>
                  <a:rPr sz="1100"/>
                </a:b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Assisting i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Simplific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an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Harmoniz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of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Trad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Documents &amp;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Procedur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600440" y="4286520"/>
                <a:ext cx="1281240" cy="104040"/>
              </a:xfrm>
              <a:prstGeom prst="roundRect">
                <a:avLst>
                  <a:gd name="adj" fmla="val 50000"/>
                </a:avLst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616280" y="1828800"/>
                <a:ext cx="1281240" cy="103680"/>
              </a:xfrm>
              <a:prstGeom prst="roundRect">
                <a:avLst>
                  <a:gd name="adj" fmla="val 50000"/>
                </a:avLst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6000840" y="1828800"/>
              <a:ext cx="1296360" cy="2561760"/>
              <a:chOff x="6000840" y="1828800"/>
              <a:chExt cx="1296360" cy="2561760"/>
            </a:xfrm>
          </p:grpSpPr>
          <p:sp>
            <p:nvSpPr>
              <p:cNvPr id="157" name=""/>
              <p:cNvSpPr/>
              <p:nvPr/>
            </p:nvSpPr>
            <p:spPr>
              <a:xfrm>
                <a:off x="6062400" y="1950840"/>
                <a:ext cx="1185480" cy="23342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  <a:effectLst>
                <a:outerShdw dist="17819" dir="2700000" blurRad="0" rotWithShape="0">
                  <a:srgbClr val="0000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5. </a:t>
                </a:r>
                <a:br>
                  <a:rPr sz="1100"/>
                </a:b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Promotin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the use of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ICT Application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for Trad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Facilit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000840" y="4286520"/>
                <a:ext cx="1280880" cy="104040"/>
              </a:xfrm>
              <a:prstGeom prst="roundRect">
                <a:avLst>
                  <a:gd name="adj" fmla="val 50000"/>
                </a:avLst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016320" y="1828800"/>
                <a:ext cx="1280880" cy="103680"/>
              </a:xfrm>
              <a:prstGeom prst="roundRect">
                <a:avLst>
                  <a:gd name="adj" fmla="val 50000"/>
                </a:avLst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7372440" y="1828800"/>
              <a:ext cx="1296360" cy="2561760"/>
              <a:chOff x="7372440" y="1828800"/>
              <a:chExt cx="1296360" cy="2561760"/>
            </a:xfrm>
          </p:grpSpPr>
          <p:sp>
            <p:nvSpPr>
              <p:cNvPr id="161" name=""/>
              <p:cNvSpPr/>
              <p:nvPr/>
            </p:nvSpPr>
            <p:spPr>
              <a:xfrm>
                <a:off x="7434000" y="1950840"/>
                <a:ext cx="1185480" cy="23342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  <a:effectLst>
                <a:outerShdw dist="17819" dir="2700000" blurRad="0" rotWithShape="0">
                  <a:srgbClr val="0000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6. </a:t>
                </a:r>
                <a:br>
                  <a:rPr sz="1100"/>
                </a:b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Promotin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Trade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Financ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an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Paymen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Infrastructur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Developmen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72440" y="4286520"/>
                <a:ext cx="1280880" cy="104040"/>
              </a:xfrm>
              <a:prstGeom prst="roundRect">
                <a:avLst>
                  <a:gd name="adj" fmla="val 50000"/>
                </a:avLst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387920" y="1828800"/>
                <a:ext cx="1280880" cy="103680"/>
              </a:xfrm>
              <a:prstGeom prst="roundRect">
                <a:avLst>
                  <a:gd name="adj" fmla="val 50000"/>
                </a:avLst>
              </a:prstGeom>
              <a:solidFill>
                <a:srgbClr val="ffffcc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101520" y="33480"/>
            <a:ext cx="8915400" cy="1795320"/>
            <a:chOff x="101520" y="33480"/>
            <a:chExt cx="8915400" cy="1795320"/>
          </a:xfrm>
        </p:grpSpPr>
        <p:grpSp>
          <p:nvGrpSpPr>
            <p:cNvPr id="165" name=""/>
            <p:cNvGrpSpPr/>
            <p:nvPr/>
          </p:nvGrpSpPr>
          <p:grpSpPr>
            <a:xfrm>
              <a:off x="101520" y="533520"/>
              <a:ext cx="8915400" cy="1295280"/>
              <a:chOff x="101520" y="533520"/>
              <a:chExt cx="8915400" cy="1295280"/>
            </a:xfrm>
          </p:grpSpPr>
          <p:sp>
            <p:nvSpPr>
              <p:cNvPr id="166" name=""/>
              <p:cNvSpPr/>
              <p:nvPr/>
            </p:nvSpPr>
            <p:spPr>
              <a:xfrm>
                <a:off x="101520" y="533520"/>
                <a:ext cx="8915400" cy="1174680"/>
              </a:xfrm>
              <a:prstGeom prst="triangle">
                <a:avLst>
                  <a:gd name="adj" fmla="val 50000"/>
                </a:avLst>
              </a:prstGeom>
              <a:solidFill>
                <a:srgbClr val="ffe2b7"/>
              </a:solidFill>
              <a:ln w="9360">
                <a:solidFill>
                  <a:srgbClr val="000099"/>
                </a:solidFill>
                <a:miter/>
              </a:ln>
              <a:effectLst>
                <a:outerShdw dist="17819" dir="2700000" blurRad="0" rotWithShape="0">
                  <a:srgbClr val="0000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0120" y="1717560"/>
                <a:ext cx="8382240" cy="11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828800" y="685800"/>
                <a:ext cx="5486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UNESCA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ahoma"/>
                    <a:ea typeface="SimSun"/>
                  </a:rPr>
                  <a:t>Trade Facilitation Strateg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762120" y="33480"/>
              <a:ext cx="7543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DCDCD-773D-4E1D-B036-97E91C28AA9E}" type="slidenum">
              <a:t>10</a:t>
            </a:fld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43280" y="1844280"/>
            <a:ext cx="6121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042560" y="3068640"/>
            <a:ext cx="69138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B8C6-1523-4C47-91CF-B861C76B6A1C}" type="slidenum">
              <a:t>11</a:t>
            </a:fld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741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cts and Figur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948360" y="2997360"/>
            <a:ext cx="1341720" cy="1871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11280" y="1844640"/>
            <a:ext cx="5688000" cy="47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st of trade procedures may range from 2 to 15 per-cent of the traded goods’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 one per cent reduction of trade transaction costs of traded goods’ value would bring annual gains of about US$ 40 billion on a world-wide basi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OE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 five per cent reduction in trade transaction costs in 2006 will raise APEC’s GDP by 0.98 per cent (around US$ 154 billion)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948360" y="5013360"/>
            <a:ext cx="1406520" cy="1477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948360" y="1413000"/>
            <a:ext cx="1368720" cy="138888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5D18F-88E7-4CD0-83BA-3C420326CE53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741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rrent TF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TO trade facilitation negoti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-in-time operations; need for swift flow of data an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 and securit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trade arrangements and initiatives in Asia and the Pacif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08C4C-A37B-4513-AB38-0CF9C131D009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741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UNESCAP Trade Facilitation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2184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ssio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  <a:ea typeface="SimSun"/>
              </a:rPr>
              <a:t>Promoting the simplification, harmonization, standardization of procedures and related documentary requirements in international tra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Reducing Trade Transac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Improving Trade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ppro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Integrated approach to trade and transport facilitation, including IC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B36C5-6575-4C1C-A697-CD25AFA84F96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741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engthening Regional Cooper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Establishment of 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sia-Pacific Network for Efficient Trade – APNE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vide a regional platform for national trade facilitation coordination committees/bodies (NTTF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mote the establishment and strengthening of NTTF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regional trade facilitation requirements of traders and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ormulate, coordinate and promote trade and transport facilitation strategies, action plans and best practices among UNESCAP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624EE-D927-43B2-934C-19455E682AA6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7740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moting National Coordination Mechanis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Good practices in implementing TF measures require cooperation of three main players – government agencies, logistics service providers, and tra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Assisting member states to establish National Trade and Transport Committee (NTTFC) and supporting instit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Providing training and technical assistance to strengthen the capability of NTTFCs - lead agency, inter-government and private key stakehol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CF352-81D6-431F-8E13-8BA98B458319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741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sessing Needs, Priorities and Implementation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nducting benchmarking study and analysis of current conditions, impediments to trade, and indicators of TF-related performances (quantitative &amp; qualitativ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dentifying opportunities for improv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efining and promoting assessment/benchmark tools, and assisting member states to build human and institutional capacity to regularly conduct TF self assess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SimSun"/>
              </a:rPr>
              <a:t>Tools availabl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UNESCAP Trade Facilitation Framewo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UNESCAP Time/Cost-Distance Analys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WB Trade and Transport Facilitation Aud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WCO Time Release Stu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WCO Self Assessment Checklist of GATT Articles V, VIII, 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UN/CEFACT Benchmarking Guidelin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24951-45A3-43FD-97B0-6589F92C5C49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3280" y="765000"/>
            <a:ext cx="7416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plification, Standardization and Harmonization of Trade Procedures and Docume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2538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ing studies, trainings and advisory service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y formats and contents of trade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ligned trade documents 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avail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 Layout Key for Trade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 Trade Facilitators Toolkit for trade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CO Customs Data Model and UN Trade Data Elements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2E727-CF71-40D7-9F47-D0A93206973F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741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moting ICT Application for Trade Facilit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2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and assist member states to develop strategies and action plans to establish single-window and ICT-enable paperless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ools avail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Guidelines for establishing Single Window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(UN/CEFACT Recommendation 3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Handbooks and Roadmap for Paperless Trad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(UNESCAP TF Handbook, UN/CEFACT Roadm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UNeDocs (UN Electronic Trade Documents projec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WCO Customs Data Mod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A8076-9AAA-4350-950E-26FFD0A2884B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02:47:45Z</dcterms:created>
  <dc:creator>mmisovicova</dc:creator>
  <dc:description/>
  <dc:language>en-US</dc:language>
  <cp:lastModifiedBy>User</cp:lastModifiedBy>
  <dcterms:modified xsi:type="dcterms:W3CDTF">2006-10-15T16:55:00Z</dcterms:modified>
  <cp:revision>27</cp:revision>
  <dc:subject/>
  <dc:title>Slide 1</dc:title>
</cp:coreProperties>
</file>