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8A2-427A-4A4B-87F6-63335C9E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4EB-2B4B-42B0-BBC7-D129ED8A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EB4-672F-4A23-9463-4FA90B6C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AA5-B16E-4563-9E65-8933E9EF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B89-FC07-471E-BB82-593514A4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ACA-8BC7-424C-8E81-487D4236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F69-EE9F-4CC3-AF20-19803FC8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CDD-9910-40EA-9F44-1C2896A5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F91-9641-465D-8F29-6DF6DF92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8EB-AD68-4793-ACF7-AFC956C0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2EF-4C2A-4AEA-8167-8D795B29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EB3-FFFA-41E9-82F3-9C8C9A3A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21B5-6D97-45DB-93C4-327D07E7D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ternational Trade Data System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T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he US Single Window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hat We Have Done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Con’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dentified Next Tier of PGA’s (23 agenc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GA survey and operational/data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mestic harmonization  (August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pping to the WCO Model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be Completed by Nov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corporated ITDS into Release 4 of the Automated Commercial Environment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cludes PGA’s - Customs, Immigration, and Department of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xt Tier of PGA’s to be Incorporated into Release 5 of 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hat We Have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ngle Window works and can be d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ed High Level Support and Strong Lead Ag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ablish Multi-Agency Gover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TDS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olve Trade Community and PGA’s in Design, Development, and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E Trade Support Network (TS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TDS Government Support Network (GS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ect Challenges, Us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 N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 703.66825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.nolle@dh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ditio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cpb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wcoomd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itds.trea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unece.org/ce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ogram -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Ori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Research and 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Function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Receiving and Processing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What Have We D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wareness/Acknowledgmen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ny agencies involved in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he public’s expec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ole of government in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vailability and source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entities hav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iming of a data sub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hift from time of arrival to ex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is ITDS/Single Wind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 set of international, harmonized data and messag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CO Framework, WCO Data Model, WCO Framework, UCR, Revised Kyoto Convention, United Nations Trade Date Elements Directory (UNT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ata utility for collection, dissemination, use, and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 import, export, and transit (in-bo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 goods, conveyances, equipment, and people (cre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search and 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00 + Agencies use International Trad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00 forms for international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duced 10,000 data fields to 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3 Federal Trade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ngoing Harmonization with Participating Government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mpliance with WCO Data Mode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unctional Are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urity, Enforcement, and Targ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order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sp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censing and Perm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censes, visas, permits, certificates (L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tistical, Analy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act on nations’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rade 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creasing country’s access to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eceiving and Processing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CO Data Model and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ommodations for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legacy messages, X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ploring X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Receives, edits, validates, distributes, and stores data and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Operational Agenc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cessed in the ITDS/ ACE Single Window “bo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Interfaced Agenc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ata to agency, processed by the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Ownership of “Box”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8120" y="1828800"/>
            <a:ext cx="1096920" cy="10969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85800"/>
            <a:ext cx="914400" cy="914400"/>
          </a:xfrm>
          <a:prstGeom prst="rect">
            <a:avLst/>
          </a:prstGeom>
          <a:solidFill>
            <a:srgbClr val="66ff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371600"/>
            <a:ext cx="914400" cy="914400"/>
          </a:xfrm>
          <a:prstGeom prst="rect">
            <a:avLst/>
          </a:prstGeom>
          <a:solidFill>
            <a:srgbClr val="ff33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2057400"/>
            <a:ext cx="914400" cy="914400"/>
          </a:xfrm>
          <a:prstGeom prst="rect">
            <a:avLst/>
          </a:prstGeom>
          <a:solidFill>
            <a:srgbClr val="ffff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2819520"/>
            <a:ext cx="1905120" cy="17524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/IT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676520"/>
            <a:ext cx="1371600" cy="1371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3276720"/>
            <a:ext cx="1371600" cy="1371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876920"/>
            <a:ext cx="1371600" cy="1371600"/>
          </a:xfrm>
          <a:prstGeom prst="rect">
            <a:avLst/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9" idx="2"/>
          </p:cNvCxnSpPr>
          <p:nvPr/>
        </p:nvCxnSpPr>
        <p:spPr>
          <a:xfrm flipH="1" rot="16200000">
            <a:off x="4338720" y="2952360"/>
            <a:ext cx="1877040" cy="514440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64" name=""/>
          <p:cNvSpPr/>
          <p:nvPr/>
        </p:nvSpPr>
        <p:spPr>
          <a:xfrm>
            <a:off x="7162920" y="3505320"/>
            <a:ext cx="1371600" cy="1371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48769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43920" y="3567240"/>
            <a:ext cx="109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rive/de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228600"/>
            <a:ext cx="2590920" cy="70380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DS/Singl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1447920"/>
            <a:ext cx="2361960" cy="2057400"/>
          </a:xfrm>
          <a:prstGeom prst="downArrowCallout">
            <a:avLst>
              <a:gd name="adj1" fmla="val 28703"/>
              <a:gd name="adj2" fmla="val 28701"/>
              <a:gd name="adj3" fmla="val 16667"/>
              <a:gd name="adj4" fmla="val 6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y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21798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2400" y="1477800"/>
            <a:ext cx="182520" cy="1828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1798560"/>
            <a:ext cx="182520" cy="1825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1477800"/>
            <a:ext cx="182520" cy="1828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179856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53280" y="21798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534520" y="14940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34520" y="179856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34520" y="21798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9" idx="3"/>
            <a:endCxn id="60" idx="1"/>
          </p:cNvCxnSpPr>
          <p:nvPr/>
        </p:nvCxnSpPr>
        <p:spPr>
          <a:xfrm flipV="1">
            <a:off x="3671640" y="2361960"/>
            <a:ext cx="112932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>
            <a:off x="3733560" y="3733560"/>
            <a:ext cx="10530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608120" y="838080"/>
            <a:ext cx="13586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3760" y="1143000"/>
            <a:ext cx="119556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74680" y="91440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809880"/>
            <a:ext cx="1282680" cy="280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0"/>
          </p:cNvCxnSpPr>
          <p:nvPr/>
        </p:nvCxnSpPr>
        <p:spPr>
          <a:xfrm flipH="1" flipV="1" rot="5400000">
            <a:off x="1135440" y="3238920"/>
            <a:ext cx="381600" cy="7610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85" name=""/>
          <p:cNvSpPr/>
          <p:nvPr/>
        </p:nvSpPr>
        <p:spPr>
          <a:xfrm>
            <a:off x="3657600" y="3733920"/>
            <a:ext cx="106668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3733920"/>
            <a:ext cx="106668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3733920"/>
            <a:ext cx="106668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657240" y="3733560"/>
            <a:ext cx="106668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3809880"/>
            <a:ext cx="114300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73392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25146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5146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34520" y="25146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hat We Have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ucted Preliminary 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th American Trade Automation Prototype (NATAP - CA/US/M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ernational Trade Prototype (UK/U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leted Data Harmonization for First Tier Participating Government Agencies (PG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mestic harm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pping to the WCO Customs Dat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7:34:26Z</dcterms:created>
  <dc:creator>Authorized User</dc:creator>
  <dc:description/>
  <dc:language>en-US</dc:language>
  <cp:lastModifiedBy>roberto_valfre</cp:lastModifiedBy>
  <dcterms:modified xsi:type="dcterms:W3CDTF">2006-10-17T05:38:50Z</dcterms:modified>
  <cp:revision>6</cp:revision>
  <dc:subject/>
  <dc:title>International Trade Data System ITDS</dc:title>
</cp:coreProperties>
</file>