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EEF-CCDA-4C32-8368-ED41A997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3395-9AAE-419A-AFA0-96572FFB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3E8-C479-411C-9383-98C7E4C1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132-9817-4F27-8420-11FAF9AE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F2C-8546-412B-A0CB-F0A031EE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938-58A8-4C1D-B2DA-3B0B40E1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974-BCEE-4C59-A732-85E845C9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AB0C-FABF-4EAF-8B81-6CFBE5B2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541-0643-4716-A622-4933FB37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BDF-E739-402C-B0C3-FDE1F1EE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636-CA21-467A-9260-4FEC76B2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022-32B8-41AB-8D02-18AF15CE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24E3-974C-4246-9BFC-C758BAFAB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Window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evant International Standar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le Window develop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le Window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ational standards 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abling a Single Wind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ingle Wind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Single Window is…a facility that allows parties involved in trade and and transport to lodge standardized information and documents with a single entry point to fulfill all import, export, and transit-related regulatory requirements.”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UN ECE Recommendation 33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ations and Guidelines on Establis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l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ed Inform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Trade Data Elements Directory – UNT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Cross Border Data Reference Model (B2G and B2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O Data Model (B2G and G2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CAR, CUSREP,CUSDEC, and PAXL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eDocs  - Paper and electronic representation of trade documents (B2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Component Technical Specifications (CC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Dri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CEFACT Technical Business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G 3–Transport, 4–Customs,15-Facil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 Kyoto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O Framework of Standards to Secure and Facilitate Global Trade (WCO 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O FAL Compend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TA e-freight init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Window Develop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International Trade Data System (IT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n Standardized Data Set (S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of S.E. Asian Nations (ASEAN) Single Wind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ian Single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Single Window Init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EC Single Window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otive Industry Action Group AI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 Off-Shore Sourcing – (MO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cost for government and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an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reporting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ication and redunda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manipulation of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for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unece.org/cefa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 33 Single Window Guide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Window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ocs and C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wcoomd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O Data Model v 2.0 and corresponding EDIFACT messag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Consignment Reference (UC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O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Kyoto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iam N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 703.629.7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 703.66825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 703.629.7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iam.nolle@dhs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ddition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cpb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wcoomd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itds.treas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unece.org/ce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03:43:35Z</dcterms:created>
  <dc:creator>Authorized User</dc:creator>
  <dc:description/>
  <dc:language>en-US</dc:language>
  <cp:lastModifiedBy>Apostolov</cp:lastModifiedBy>
  <dcterms:modified xsi:type="dcterms:W3CDTF">2006-10-26T15:24:40Z</dcterms:modified>
  <cp:revision>18</cp:revision>
  <dc:subject/>
  <dc:title>Single Window and Relevant International Standards </dc:title>
</cp:coreProperties>
</file>