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BE89-CE66-4089-8CBC-18E5BDC7D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43A4-C21D-4E46-98BD-ED4206E7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E538-32E3-451A-A28E-9C73F7C4C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D3ED-D8E5-48AD-8D09-B93E5C2D0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1CA1-26C1-4985-808C-C442A967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2B8F-3A53-42CC-85C8-7A048246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8081-02AD-4C01-8359-2ACD9585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005F-001C-4C71-9815-D69D9DD8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F011-34CF-410D-AC9E-D1ECF766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B089-EF4A-4586-844B-20C23EDC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6DFA-EFFE-4F36-9FAB-1F1A53F2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BEC7-1900-4F07-AFCA-76C556BC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7B21-C15D-4138-945C-CB7073008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le Window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evant International Standard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ngle Window develop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ngle Window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national standards 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abling a Single Wind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Single Wind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“…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Single Window is…a facility that allows parties involved in trade and and transport to lodge standardized information and documents with a single entry point to fulfill all import, export, and transit-related regulatory requirements.”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UN ECE Recommendation 33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mendations and Guidelines on Establis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ngle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ized Inform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Trade Data Elements Directory – UNT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Cross Border Data Reference Model (B2G and B2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CO Data Model (B2G and G2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CAR, CUSREP,CUSDEC, and PAXL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eDocs  - Paper and electronic representation of trade documents (B2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e Component Technical Specifications (CC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Driv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CEFACT Technical Business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G 3–Transport, 4–Customs,15-Facil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ed Kyoto Con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O Framework of Standards to Secure and Facilitate Global Trade (WCO SAF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O FAL Compendi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ATA e-freight initi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le Window Develop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International Trade Data System (IT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tralian Standardized Data Set (S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ion of S.E. Asian Nations (ASEAN) Single Windo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dian Single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 Single Window Initi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EC Single Window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otive Industry Action Group AI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s Off-Shore Sourcing – (MOS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d cost for government and t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enance and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r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d reporting bu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plication and redundan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manipulation of 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for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unece.org/cefa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ation 33 Single Window Guide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Window Re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ocs and C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wcoomd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CO Data Model v 2.0 and corresponding EDIFACT messag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 Consignment Reference (UC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CO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ed Kyoto Con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hank You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tact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lliam N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 703.629.7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 703.668256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 703.629.7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lliam.nolle@dhs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dditional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ww.cpb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ww.wcoomd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ww.itds.treas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ww.unece.org/cef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03:43:35Z</dcterms:created>
  <dc:creator>Authorized User</dc:creator>
  <dc:description/>
  <dc:language>en-US</dc:language>
  <cp:lastModifiedBy>Apostolov</cp:lastModifiedBy>
  <dcterms:modified xsi:type="dcterms:W3CDTF">2006-10-26T15:24:40Z</dcterms:modified>
  <cp:revision>18</cp:revision>
  <dc:subject/>
  <dc:title>Single Window and Relevant International Standards </dc:title>
</cp:coreProperties>
</file>