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A3107-D596-4D2E-A75A-0D08696C5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68AB8-45FB-42CF-977A-E9AD8B05E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31EE5-6A78-45A8-AECE-13CC607AF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5C545-A5B6-4065-9300-BB8BE5B9C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ABA4F-A3A2-49CB-AD1D-C2C98C293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4CE7B-283E-4760-86AD-CF8500D38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BE51C-4F88-42B3-BA81-5A79922D1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E385F-E7EF-437C-86AD-C06D42AC1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C500B-FDC5-4153-A9A0-8F6A0622F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09498-3E08-4EB9-BBC1-7940A6CA8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C78AD-9986-4D09-AF08-43ED0AD68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5A11D-5002-424A-9EC6-D33D69E93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85F35-3753-47DF-8834-4B49DA2DDA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ngle Window Mode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85800" y="838080"/>
            <a:ext cx="792468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219320" y="685800"/>
            <a:ext cx="701028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838080" y="762120"/>
            <a:ext cx="762012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143000" y="685800"/>
            <a:ext cx="701028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04T04:34:07Z</dcterms:created>
  <dc:creator>Authorized User</dc:creator>
  <dc:description/>
  <dc:language>en-US</dc:language>
  <cp:lastModifiedBy>Apostolov</cp:lastModifiedBy>
  <dcterms:modified xsi:type="dcterms:W3CDTF">2006-10-26T15:25:07Z</dcterms:modified>
  <cp:revision>2</cp:revision>
  <dc:subject/>
  <dc:title>Single Window Models</dc:title>
</cp:coreProperties>
</file>