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149-AE49-4DB4-857B-2600E1F1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933-76D9-4787-A8C4-136C201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A74-6244-49FA-8E80-79AA4B93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76B-B7AF-453D-AE8A-AE60FDB9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5EC-523C-4E0E-9C14-5DF4A3C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029-A4A5-4FC1-8C55-D344651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69-AB8F-418B-B44A-A06B9DC5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5DD-A74F-40CA-943E-5258A22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344-109A-4889-BAE5-F2DB0CD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A66-57D5-4A37-84E7-C4BB606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4F3-E08C-480C-89FF-C048A14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A96-510B-4458-9860-9F1437E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3C9-01BB-4EAB-82F3-36202E8B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4:34:07Z</dcterms:created>
  <dc:creator>Authorized User</dc:creator>
  <dc:description/>
  <dc:language>en-US</dc:language>
  <cp:lastModifiedBy>Apostolov</cp:lastModifiedBy>
  <dcterms:modified xsi:type="dcterms:W3CDTF">2006-10-26T15:25:07Z</dcterms:modified>
  <cp:revision>2</cp:revision>
  <dc:subject/>
  <dc:title>Single Window Models</dc:title>
</cp:coreProperties>
</file>