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CB9-477B-4911-95DE-69AE2D64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383D-38A5-49A5-B455-2F41A016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B7D-B2EE-473B-96AD-BA0E5D22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5FA-135B-47CC-8895-656B4ADE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68E-0583-4747-8E6E-9A930FF9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042-A78B-4C26-B736-B6D05236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0D2-4BB1-4679-B698-26199D11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1DD0-AACF-40D6-B937-1EB3AD0D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89E-89F5-4603-B05B-47C7CB5E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CCB-C85B-4D7D-B789-3B092967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BF9-E4AA-4404-8380-008CF384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862-EF61-49E0-8B03-3D8917AE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494C-C9A6-4C43-A826-9F79695A6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1337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 to Implement a Single Window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iam N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 703.629.7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 703.668.25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 703.629.7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iam.nolle@dhs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ddition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cpb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wcoomd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itds.treas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unece.org/ce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/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Steps in Planning and Implementing a Single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actors in Establishing a Single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Harmoniz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Steps in Planning and Implementing a Single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the initial concept for a  Single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to examine the fea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taking the feasibility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al of feasibility study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Key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lead a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 between government and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clear boundaries and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friendliness and acces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ly enabling enviro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s and 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Key Facto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 Identification of possible obsta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 Financi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. Payment possibi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. Promotion and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. Communications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III - Data Harmo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of harmoniz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actor - Strong Lead A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dedicated to the harmonization eff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of briefings for participating agencies and trad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s, 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definitions, coding, mess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onization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and inventorying agencies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ning – what information is conve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similar names and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c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to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me, definition,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u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/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(A, N, 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(cod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of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ine, air, rail, tr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, export, tran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of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s, conveyance, equipment, cre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, transport,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er, exporter, broker, forwa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arrival, arrival, release, post-release, data ware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5040" y="304920"/>
            <a:ext cx="743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ng, Analyzing, Reconci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120" y="1674720"/>
            <a:ext cx="3417480" cy="247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t of un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t of unlo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Port of un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Port of unlo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eign Port of un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eign Port of unlo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648320"/>
            <a:ext cx="29498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N US Propri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 Schedule ‘K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X 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90120" y="1905120"/>
            <a:ext cx="3221280" cy="198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WCO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of discharg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DED, 3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61040" y="4572000"/>
            <a:ext cx="3237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OCO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CE Recommen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8:05:33Z</dcterms:created>
  <dc:creator>Authorized User</dc:creator>
  <dc:description/>
  <dc:language>en-US</dc:language>
  <cp:lastModifiedBy>roberto_valfre</cp:lastModifiedBy>
  <dcterms:modified xsi:type="dcterms:W3CDTF">2006-10-17T05:39:08Z</dcterms:modified>
  <cp:revision>5</cp:revision>
  <dc:subject/>
  <dc:title>How to Implement a Single Window </dc:title>
</cp:coreProperties>
</file>