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CAE-155E-46B5-A7AA-B4EB0FC0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0F3-9E69-4386-AEF1-6328BE0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71E-081C-41A1-A7E0-5724755B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490-B385-40F3-9AF1-9B8F3264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3AE-7431-4A19-BCAF-97A0D772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E76-B77F-4A6F-874C-7298C94E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49F-E4D8-4265-A5D9-3BB52512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D01-C1A8-4266-83A7-C9FD82FA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256-932B-4E3C-A899-D843CE12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3CE-1CAD-41CF-B446-C042A1B4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008-26B5-4E26-A20D-67E9B26E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BEE-5984-431B-8915-7E1D1F9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DFA-5D00-4997-A73B-11E4EEB68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1337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to Implement a Single Window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 N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 703.668.25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 703.629.7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iam.nolle@dh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iti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cp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wcoom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itds.trea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ww.unece.org/ce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/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Steps in Planning and Implementing a Singl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actors in Establishing a Singl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Harmoniz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Steps in Planning and Implementing a Singl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he initial concept for a  Single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to examine the fea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ing the feasibility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al of feasibility study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Key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lead 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 between government and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clear boundaries and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friendliness and acces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ly enabling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s and 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Key Facto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Identification of possible obsta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 Financi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 Payment possi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 Promotion and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. Communications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- Data Harmo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f harmon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actor - Strong Lead A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dedicated to the harmonization eff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briefings for participating agencies and trad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s, 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definitions, coding,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zation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and inventorying agencies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ing – what information is conve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similar names and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to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, definition,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/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(A, N, 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(cod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of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ne, air, rail, tr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, export,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s, conveyance, equipment, cr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, transport,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er, exporter, broker, forwa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arrival, arrival, release, post-release, data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5040" y="304920"/>
            <a:ext cx="743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, Analyzing, Reconci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120" y="1674720"/>
            <a:ext cx="3417480" cy="247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 of un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 of un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Port of un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Port of un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eign Port of un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eign Port of un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648320"/>
            <a:ext cx="29498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 US Propri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 Schedule ‘K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X 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90120" y="1905120"/>
            <a:ext cx="322128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WCO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f dischar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DED, 3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61040" y="4572000"/>
            <a:ext cx="3237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OCO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 Recommen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8:05:33Z</dcterms:created>
  <dc:creator>Authorized User</dc:creator>
  <dc:description/>
  <dc:language>en-US</dc:language>
  <cp:lastModifiedBy>roberto_valfre</cp:lastModifiedBy>
  <dcterms:modified xsi:type="dcterms:W3CDTF">2006-10-17T05:39:08Z</dcterms:modified>
  <cp:revision>5</cp:revision>
  <dc:subject/>
  <dc:title>How to Implement a Single Window </dc:title>
</cp:coreProperties>
</file>