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552600" cy="6851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28480" y="0"/>
            <a:ext cx="861552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320" y="38160"/>
            <a:ext cx="485640" cy="8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8c508"/>
                </a:solidFill>
                <a:latin typeface="Arial"/>
                <a:ea typeface="Arial"/>
              </a:rPr>
              <a:t>Single Window Development and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cc00"/>
                </a:solidFill>
                <a:latin typeface="Arial"/>
                <a:ea typeface="Arial"/>
              </a:rPr>
              <a:t>Mats Wic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cc00"/>
                </a:solidFill>
                <a:latin typeface="Arial"/>
                <a:ea typeface="Arial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cc00"/>
                </a:solidFill>
                <a:latin typeface="Arial"/>
                <a:ea typeface="Arial"/>
              </a:rPr>
              <a:t>Swedish Customs Future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Results</a:t>
            </a:r>
            <a:r>
              <a:rPr b="1" lang="en-GB" sz="4400" spc="-1" strike="noStrike">
                <a:solidFill>
                  <a:srgbClr val="f8c508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Major benefit: automatic clearance of Customs decla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For trade: release times 90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For trade: no requirements for supporting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For trade: one interface regarding all information related to international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For Customs: realloc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For Customs: improved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For all: creation of a level playing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c508"/>
                </a:solidFill>
                <a:latin typeface="Arial"/>
              </a:rPr>
              <a:t>National Enabl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ritical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vite assignors to risk-discus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ke the risk-assess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ke use of up-dated risk-prof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bandon the paper tra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ave the power to release good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725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c508"/>
                </a:solidFill>
                <a:latin typeface="Arial"/>
                <a:ea typeface="Arial"/>
              </a:rPr>
              <a:t>Future plans for Single Wind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658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Make use of international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Continue efforts of full integ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Explore new possibilities of data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Careful monitoring of efforts within 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Continuous dialogue with other public services to facilitate submission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Establish Single Window independent of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Establish Single Window for enforc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Continue developments regarding track &amp; t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600" spc="-1" strike="noStrike">
                <a:solidFill>
                  <a:srgbClr val="ffcc00"/>
                </a:solidFill>
                <a:latin typeface="Arial"/>
                <a:ea typeface="Arial"/>
              </a:rPr>
              <a:t>The Green Corrido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604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Agreed data set.</a:t>
            </a:r>
            <a:br>
              <a:rPr sz="4000"/>
            </a:b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Transparency.</a:t>
            </a:r>
            <a:br>
              <a:rPr sz="4000"/>
            </a:b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Trust.</a:t>
            </a:r>
            <a:br>
              <a:rPr sz="4000"/>
            </a:b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Pre-arrival information.</a:t>
            </a:r>
            <a:br>
              <a:rPr sz="4000"/>
            </a:br>
            <a:r>
              <a:rPr b="1" lang="sv-SE" sz="4000" spc="-1" strike="noStrike">
                <a:solidFill>
                  <a:srgbClr val="ffcc00"/>
                </a:solidFill>
                <a:latin typeface="Arial"/>
                <a:ea typeface="Arial"/>
              </a:rPr>
              <a:t>Improved revenue coll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60436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3240"/>
            <a:ext cx="8604360" cy="6856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600" spc="-1" strike="noStrike">
                <a:solidFill>
                  <a:srgbClr val="ffcc00"/>
                </a:solidFill>
                <a:latin typeface="Arial"/>
                <a:ea typeface="Arial"/>
              </a:rPr>
              <a:t>Customs</a:t>
            </a:r>
            <a:r>
              <a:rPr b="1" lang="sv-SE" sz="8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br>
              <a:rPr sz="8800"/>
            </a:br>
            <a:r>
              <a:rPr b="1" lang="sv-SE" sz="6000" spc="-1" strike="noStrike">
                <a:solidFill>
                  <a:srgbClr val="ffcc00"/>
                </a:solidFill>
                <a:latin typeface="Arial"/>
                <a:ea typeface="Arial"/>
              </a:rPr>
              <a:t>–a partner in foreign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5400" spc="-1" strike="noStrike">
                <a:solidFill>
                  <a:srgbClr val="ffcc00"/>
                </a:solidFill>
                <a:latin typeface="Arial"/>
                <a:ea typeface="Arial"/>
              </a:rPr>
              <a:t>Thank you for the attention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604360" cy="36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83664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508"/>
                </a:solidFill>
                <a:latin typeface="Arial"/>
              </a:rPr>
              <a:t>Need for advan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508464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508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8c508"/>
                </a:solidFill>
                <a:latin typeface="Arial"/>
              </a:rPr>
              <a:t>and early co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</a:rPr>
              <a:t>International Enablers </a:t>
            </a:r>
            <a:r>
              <a:rPr b="1" lang="en-US" sz="2800" spc="-1" strike="noStrike">
                <a:solidFill>
                  <a:srgbClr val="f8c508"/>
                </a:solidFill>
                <a:latin typeface="Arial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137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vised Kyoto Conven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CO Data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eDO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uropean Union eCustoms init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creased international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creased used of 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duction of Customs du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v-SE" sz="2800" spc="-1" strike="noStrike">
                <a:solidFill>
                  <a:srgbClr val="ffcc00"/>
                </a:solidFill>
                <a:latin typeface="Arial"/>
              </a:rPr>
              <a:t>Promotion of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l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eeds for openness and transpar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784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8c508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Single Window in Swedish Customs was established as a consequence of the computerization starting in 19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8c508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Electronic communication early showed great potential if seamless process were to be ach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8c508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Customer requirements initiated the process and development of a true Single Window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8c508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Added value through governmental integration of e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Enabling Single Window, assessments were made accordin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c508"/>
                </a:solidFill>
                <a:latin typeface="Arial"/>
                <a:ea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c508"/>
                </a:solidFill>
                <a:latin typeface="Arial"/>
                <a:ea typeface="Arial"/>
              </a:rPr>
              <a:t>Dialogue with customers and other public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Design and development proce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Swedish Customs is responsible for monitoring all international and national legislation related to border-cro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Therefore Customs is the logical interface between the Business community and other public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Information is gathered by Swedish Customs on behalf of more than 30 different authorities (import VAT, trade statistics, monitoring of licenses, pets, weapon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Structure and services</a:t>
            </a:r>
            <a:r>
              <a:rPr b="1" lang="en-GB" sz="4400" spc="-1" strike="noStrike">
                <a:solidFill>
                  <a:srgbClr val="f8c508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Technology</a:t>
            </a:r>
            <a:r>
              <a:rPr b="1" lang="en-GB" sz="4400" spc="-1" strike="noStrike">
                <a:solidFill>
                  <a:srgbClr val="f8c508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Swedish Customs Single Window solutions are available using different technolo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Mobi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Single Window solutions are available to customers regardless of technology, investments or other prerequi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53316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Participants</a:t>
            </a:r>
            <a:r>
              <a:rPr b="1" lang="en-GB" sz="4400" spc="-1" strike="noStrike">
                <a:solidFill>
                  <a:srgbClr val="f8c508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Swedish importers, exporters and brok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National Board of Tax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Statistics Sw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National Board of Agri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National Board of Tr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European Un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c508"/>
                </a:solidFill>
                <a:latin typeface="Arial"/>
                <a:ea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c508"/>
                </a:solidFill>
                <a:latin typeface="Arial"/>
                <a:ea typeface="Arial"/>
              </a:rPr>
              <a:t>Cli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Swedish Customs Single Window is used by importers, exporters, brokers and other stakeholders in the process of international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Annually 96 % of all Customs declarations are submitted using a Single Window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  <a:ea typeface="Arial"/>
              </a:rPr>
              <a:t>Automated processes forward necessary data to other concerned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ostolov</cp:lastModifiedBy>
  <dcterms:modified xsi:type="dcterms:W3CDTF">2006-10-26T15:27:33Z</dcterms:modified>
  <cp:revision>48</cp:revision>
  <dc:subject/>
  <dc:title>CEFACT Group Report Template</dc:title>
</cp:coreProperties>
</file>