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4CA3-FBFF-4360-898C-730C33EB2F32}" type="slidenum">
              <a: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AL TUNISIA, Painting industry had either to adapt to requirement made by EU customer or disappear. They decided to manage the change process by doing a business and modelling approach to improve inventory and delivery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F allows to reduce frictions in international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Untitled-1%20copy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762120"/>
            <a:ext cx="8839440" cy="58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Times New Roman"/>
              </a:rPr>
              <a:t>Конференция</a:t>
            </a: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 по упрощению процедур торговли</a:t>
            </a:r>
            <a:r>
              <a:rPr b="1" lang="bg-BG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Times New Roman"/>
              </a:rPr>
              <a:t>ЕЭК ООН – ЕврАзЭС – ЭСКАТО, Москва </a:t>
            </a: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bg-BG" sz="2400" spc="-1" strike="noStrike">
                <a:solidFill>
                  <a:srgbClr val="003399"/>
                </a:solidFill>
                <a:latin typeface="Times New Roman"/>
              </a:rPr>
              <a:t>6 октября</a:t>
            </a: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 20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cc0000"/>
                </a:solidFill>
                <a:latin typeface="Times New Roman"/>
              </a:rPr>
              <a:t>Интегрированный подход к 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прощению процедур торгов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Марио АПОСТОЛ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Региональный советник, ЕЭК О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io.apostolov@unec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 объединить интересы? </a:t>
            </a:r>
            <a:r>
              <a:rPr b="1" lang="bg-BG" sz="3200" spc="-1" strike="noStrike">
                <a:solidFill>
                  <a:srgbClr val="000066"/>
                </a:solidFill>
                <a:latin typeface="Times New Roman"/>
              </a:rPr>
              <a:t>- Рекомендация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1600200"/>
            <a:ext cx="426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Государственны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агент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uzzle3"/>
          <p:cNvSpPr/>
          <p:nvPr/>
        </p:nvSpPr>
        <p:spPr>
          <a:xfrm>
            <a:off x="5334120" y="1905120"/>
            <a:ext cx="1447560" cy="190476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uzzle2"/>
          <p:cNvSpPr/>
          <p:nvPr/>
        </p:nvSpPr>
        <p:spPr>
          <a:xfrm>
            <a:off x="4572000" y="4343400"/>
            <a:ext cx="2440080" cy="165276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uzzle4"/>
          <p:cNvSpPr/>
          <p:nvPr/>
        </p:nvSpPr>
        <p:spPr>
          <a:xfrm>
            <a:off x="2438280" y="4267080"/>
            <a:ext cx="1379520" cy="228600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uzzle1"/>
          <p:cNvSpPr/>
          <p:nvPr/>
        </p:nvSpPr>
        <p:spPr>
          <a:xfrm>
            <a:off x="2133720" y="2362320"/>
            <a:ext cx="2549520" cy="12952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59436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Частный бизне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9620000">
            <a:off x="3733920" y="3733920"/>
            <a:ext cx="1304640" cy="914400"/>
          </a:xfrm>
          <a:custGeom>
            <a:avLst/>
            <a:gdLst>
              <a:gd name="textAreaLeft" fmla="*/ 0 w 1304640"/>
              <a:gd name="textAreaRight" fmla="*/ 1305000 w 1304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165200">
            <a:off x="2895120" y="365724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165200">
            <a:off x="5486400" y="3809880"/>
            <a:ext cx="304920" cy="60984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19200">
            <a:off x="4838040" y="2781000"/>
            <a:ext cx="304920" cy="685800"/>
          </a:xfrm>
          <a:prstGeom prst="upDownArrow">
            <a:avLst>
              <a:gd name="adj1" fmla="val 50000"/>
              <a:gd name="adj2" fmla="val 447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19200">
            <a:off x="3999600" y="5067000"/>
            <a:ext cx="304920" cy="685800"/>
          </a:xfrm>
          <a:prstGeom prst="upDownArrow">
            <a:avLst>
              <a:gd name="adj1" fmla="val 50000"/>
              <a:gd name="adj2" fmla="val 447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240" y="2819520"/>
            <a:ext cx="220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а и т.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82480" y="2666880"/>
            <a:ext cx="187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ожня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ция и т.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760" y="5181480"/>
            <a:ext cx="215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ы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циаци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х сектор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65800" y="3962520"/>
            <a:ext cx="1808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еры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ортеры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диторы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но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и,малы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ят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 объединить интересы? </a:t>
            </a:r>
            <a:r>
              <a:rPr b="1" lang="bg-BG" sz="3200" spc="-1" strike="noStrike">
                <a:solidFill>
                  <a:srgbClr val="000066"/>
                </a:solidFill>
                <a:latin typeface="Times New Roman"/>
              </a:rPr>
              <a:t>- Рекомендация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600200"/>
            <a:ext cx="426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Государственны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агент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uzzle3"/>
          <p:cNvSpPr/>
          <p:nvPr/>
        </p:nvSpPr>
        <p:spPr>
          <a:xfrm>
            <a:off x="4419720" y="2286000"/>
            <a:ext cx="1523880" cy="182880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uzzle2"/>
          <p:cNvSpPr/>
          <p:nvPr/>
        </p:nvSpPr>
        <p:spPr>
          <a:xfrm>
            <a:off x="3962520" y="3581280"/>
            <a:ext cx="2439720" cy="175284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uzzle4"/>
          <p:cNvSpPr/>
          <p:nvPr/>
        </p:nvSpPr>
        <p:spPr>
          <a:xfrm>
            <a:off x="3124080" y="3581280"/>
            <a:ext cx="1379520" cy="221004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uzzle1"/>
          <p:cNvSpPr/>
          <p:nvPr/>
        </p:nvSpPr>
        <p:spPr>
          <a:xfrm>
            <a:off x="2590920" y="2819520"/>
            <a:ext cx="2396880" cy="12952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59436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Частный бизне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240" y="2819520"/>
            <a:ext cx="220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а и т.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28160" y="2666880"/>
            <a:ext cx="187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ожня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ция и т.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0760" y="5181480"/>
            <a:ext cx="215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ы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циаци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х сектор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49960" y="3962520"/>
            <a:ext cx="1840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еры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ортеры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диторы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но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и, малы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ят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Меры по УПТ стоят дорого, а все пользуются. Кто заплатит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ажна роль государ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Использовать дивиденды от нефти для всех стран ЕврАзЭС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блемы, отмеченные стран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регионального сотрудничест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координации между ведомствами, занимающимися вопросами уп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ния торгов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знаний в правительстве и в частном сектор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ние международных стандартов качест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ламент медлит с принятием представленных инициатив и новых законопроект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сть профессиональных зна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ие инфраструктура и оборуд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нкта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сечения границы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фитосанитарного и ветеринарного контрол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автоматизации тамо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служб охраны границы и фитосанитарных и ветеринарных служб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иболее проблемные вопросы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 международных стандартов, принципов «Единого окна», «Одной остановки», оценки риска и избирательности (RAS) и т.д.;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ое управление границей (IBM) или координация деятельности и требований всех пограничных ведомст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ые документы (UN Layout Key for Trade Document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формуляр – образец ОО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рговых документов и т.д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е документы: возможности и использовани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аза данных для пограничных ведомств, осуществляющих контроль на границ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ейская практика управления границей – последние достиж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Важные ме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бликация правил и норм (ВТ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интернету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как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язык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од м/у публикацией и внедрением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варительное решение (об очистк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рощение всех формальностей, требований данных и документ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 процедур и требований данных и документ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якие платы и налоги должны соответствовать “тоьлко сумме приблизительных затрат предоставленных услуг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я пограничных ведомст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ое окно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Благодарю за внимание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ww.unec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rio.apostolov@unec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6094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02b4"/>
                </a:solidFill>
                <a:latin typeface="Arial"/>
              </a:rPr>
              <a:t>United Nations Economic Commission for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39193" t="0" r="40991" b="0"/>
          <a:stretch/>
        </p:blipFill>
        <p:spPr>
          <a:xfrm>
            <a:off x="4114800" y="1638360"/>
            <a:ext cx="838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Цель ЕЭК в международной торговл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действовать интеграции стран членов ЕЭК и, прежде всего, стран с переходной экономикой в рамках европейской и мировой экономи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прощение процедур торговли (УПТ) – ключевой инструмент для достижения этой ц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Упрощение процедур торговли в ЕЭ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+ лет опыта в установлении стандартов УП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мирный банк, ЮНКТАД, ЮНИДО, АБР, АТЭС ВТО – обязательные правила (переговоры с июля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ЭК соз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т стандарты и рекоменда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ЭК помогает национальным и региональны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сударственно-частного сотрудничества УП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ы повышения квалификаци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техническому сотрудничеству ЕЭК-Чешская Республика: семинар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A, MD, BY, UZ, AZ, KZ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ы в рамках СПЕКА (ЕЭК + ЕСКАТ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Times New Roman"/>
              </a:rPr>
              <a:t>Определение упрощения процедур торговли (УПТ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торговля – слож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я комбинация процес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Т -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«упрощение, стандартизация и согласование процедур и всей  соответствующей информации, требуемой для перемещения товаров от продавца к покупателю и для осуществления расчета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 ООН по УПТ и Электронным Деловым Операциям (СЕФАКТ ООН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: Процедуры = “деятельность, методики и формальности, необходимые дл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б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оставления и обработки дан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буемых для передвижения товаров в международной торговле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потоки включат в себя торговые данные и докумен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Times New Roman"/>
              </a:rPr>
              <a:t>Упрощение процедур торговл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ОБЛЕМА – требуются более 40 документов с повторяющимися данными  </a:t>
            </a:r>
            <a:r>
              <a:rPr b="0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=&gt;  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прощение процедур и докумен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окращение и уточнение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требовани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й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анны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и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окумент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ам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огласование процедур и документов с международными стандар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втоматизация (компьютеризация) документов и проце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ЕЗУЛЬТАТ: товары и торговая информация быстрее передвига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ся через границ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ПРОЦЕСС МЕЖДУНАРОДНЫХ ТОРГОВЫХ ОПЕРАЦИЙ (модель цепочки поставо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267080"/>
            <a:ext cx="1511280" cy="2286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Торговые процед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Вступление в договорные отнош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Заказать товар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Указать условия доставк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Требовать оплат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32120" y="4267080"/>
            <a:ext cx="1511280" cy="2286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Транспортные процед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Вступление в договорные отношения по транспортировк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Собрать,перевезти и доставить гру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беспечить накладную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узовые квитанции, указ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ания о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статус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товара и т.д.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4267080"/>
            <a:ext cx="1511280" cy="2286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цедуры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ffffff"/>
                </a:solidFill>
                <a:latin typeface="Arial"/>
              </a:rPr>
              <a:t>контр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олучить лицензии на 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мпорт</a:t>
            </a:r>
            <a:r>
              <a:rPr b="0" lang="es-ES" sz="9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э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кспорт и т.д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дать таможенные деклараци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дать декларацию о грузе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облюдать процедуры торговой безопасност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овести таможенную очистку товаров для</a:t>
            </a:r>
            <a:r>
              <a:rPr b="0" lang="es-E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Экспорта</a:t>
            </a:r>
            <a:r>
              <a:rPr b="0" lang="es-ES" sz="9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Импорт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9720" y="4267080"/>
            <a:ext cx="1511280" cy="2286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нансовые процед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беспечить оценку кредитоспособнос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беспечить страхов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беспечить креди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извести оплат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ыдать заяв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80720" y="388620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КЛЮ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Т В СЕБ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16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4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895480"/>
            <a:ext cx="1532160" cy="990720"/>
          </a:xfrm>
          <a:custGeom>
            <a:avLst/>
            <a:gdLst>
              <a:gd name="textAreaLeft" fmla="*/ 0 w 1532160"/>
              <a:gd name="textAreaRight" fmla="*/ 1532520 w 1532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68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00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318456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Подготовить для экспор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2767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Эк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32767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32767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Им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066680" y="2590920"/>
            <a:ext cx="2819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2590920"/>
            <a:ext cx="2743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1600200"/>
            <a:ext cx="1511280" cy="9907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78480" y="1600200"/>
            <a:ext cx="1511280" cy="9907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1960" y="1600200"/>
            <a:ext cx="1511280" cy="9907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ОТПРАВИ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38360" y="194328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УПИТЬ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1936800"/>
            <a:ext cx="11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ПЛАТИ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318456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Подготовить для импор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zoll" descr=""/>
          <p:cNvPicPr/>
          <p:nvPr/>
        </p:nvPicPr>
        <p:blipFill>
          <a:blip r:embed="rId1"/>
          <a:stretch/>
        </p:blipFill>
        <p:spPr>
          <a:xfrm>
            <a:off x="5715000" y="623088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80" name="maut" descr=""/>
          <p:cNvPicPr/>
          <p:nvPr/>
        </p:nvPicPr>
        <p:blipFill>
          <a:blip r:embed="rId2"/>
          <a:stretch/>
        </p:blipFill>
        <p:spPr>
          <a:xfrm>
            <a:off x="7526160" y="623088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81" name="truck" descr=""/>
          <p:cNvPicPr/>
          <p:nvPr/>
        </p:nvPicPr>
        <p:blipFill>
          <a:blip r:embed="rId3"/>
          <a:stretch/>
        </p:blipFill>
        <p:spPr>
          <a:xfrm>
            <a:off x="3868560" y="623088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82" name="verhandlung" descr=""/>
          <p:cNvPicPr/>
          <p:nvPr/>
        </p:nvPicPr>
        <p:blipFill>
          <a:blip r:embed="rId4"/>
          <a:stretch/>
        </p:blipFill>
        <p:spPr>
          <a:xfrm>
            <a:off x="2116080" y="6230880"/>
            <a:ext cx="55080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762120"/>
          <a:ext cx="9144000" cy="56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6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371600"/>
            <a:ext cx="8915400" cy="914400"/>
          </a:xfrm>
          <a:prstGeom prst="leftRightArrow">
            <a:avLst>
              <a:gd name="adj1" fmla="val 50000"/>
              <a:gd name="adj2" fmla="val 19409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55520" y="1600200"/>
            <a:ext cx="6892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uturaBookTBWA"/>
              </a:rPr>
              <a:t>Интегрированная цепочка постав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798200">
            <a:off x="5866920" y="3657600"/>
            <a:ext cx="3124440" cy="838080"/>
          </a:xfrm>
          <a:prstGeom prst="leftArrow">
            <a:avLst>
              <a:gd name="adj1" fmla="val 50000"/>
              <a:gd name="adj2" fmla="val 9320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3886200"/>
            <a:ext cx="3352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Упрощение процедур торгов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048120"/>
            <a:ext cx="5562360" cy="838080"/>
          </a:xfrm>
          <a:prstGeom prst="leftArrow">
            <a:avLst>
              <a:gd name="adj1" fmla="val 50000"/>
              <a:gd name="adj2" fmla="val 1659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297240"/>
            <a:ext cx="5105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Конкурентноспособность – эффективность торгов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990720"/>
            <a:ext cx="0" cy="5410080"/>
          </a:xfrm>
          <a:prstGeom prst="line">
            <a:avLst/>
          </a:prstGeom>
          <a:ln w="63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41920" y="914400"/>
            <a:ext cx="0" cy="5486400"/>
          </a:xfrm>
          <a:prstGeom prst="line">
            <a:avLst/>
          </a:prstGeom>
          <a:ln w="604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96360" y="1066680"/>
            <a:ext cx="0" cy="5486400"/>
          </a:xfrm>
          <a:prstGeom prst="line">
            <a:avLst/>
          </a:prstGeom>
          <a:ln w="604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тоимость логистики в торгов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имость логистики, как % ВНП в 1997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ША – 10.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ксика -  15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ьгия – 11.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ранция – 12.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мания - 13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еция – 12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итай – 16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ЭСР (2005) 1% снижения торгово-транспортных расходов через УПТ приведет к сбережению от 40 до 50 млрд долларов в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335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начение УП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67652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3809880" y="1143000"/>
            <a:ext cx="17030520" cy="6666120"/>
          </a:xfrm>
          <a:prstGeom prst="downArrow">
            <a:avLst>
              <a:gd name="adj1" fmla="val 50981"/>
              <a:gd name="adj2" fmla="val 252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растающее значени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УПТ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в ВТО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публикация всех правил, упрощение формальностей, транзит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лучшенный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доступ к морским портам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рез УП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напр. затраты на логистику торговли у Боливии на 43% больше, чем у других стран Меркосур (у Парагвая на 66%), и на 192% больше, чем у США (у Парагвая на 240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дернизация таможни (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проекты “Единого окна”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ужна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региональная интеграц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Рыночная реформ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привлечени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иностр. инвестиц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государство и бизнес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заинтересованы в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 УП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учший обмен информацией в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борьбе с терроризм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0:12:34Z</dcterms:created>
  <dc:creator>Balaji</dc:creator>
  <dc:description/>
  <dc:language>en-US</dc:language>
  <cp:lastModifiedBy>Apostolov</cp:lastModifiedBy>
  <dcterms:modified xsi:type="dcterms:W3CDTF">2006-10-26T15:23:32Z</dcterms:modified>
  <cp:revision>80</cp:revision>
  <dc:subject/>
  <dc:title>PowerPoint Presentation</dc:title>
</cp:coreProperties>
</file>