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D85-0BF2-4A22-AB0F-ACF6708F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F85-3019-4687-A6D9-64D543CB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405-0C0D-4523-A303-30A6026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B0A-3C3A-451C-9D99-6C38BD27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2C7-EFF0-455F-B544-7B6037EC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533-8B89-4353-BC73-B4A3FEB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387-BF7A-431E-A960-D3103CE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D0D-6F3A-45F8-B63E-D30CE02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E4A-ED96-46CC-9757-5935399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564-21BD-47B0-A2CE-FF42092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363-5BC0-436F-BD66-EB93957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96E-D068-485F-93FE-D002B97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unece.org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english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24816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ктября 2006 г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8280" y="62481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еждународная конференция по упрощению процедур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680" y="624816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59A-B142-4228-9A30-CBC09CFFEB37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ecelogo" descr="United Nations Economic Commission for Europ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0"/>
            <a:ext cx="1600200" cy="579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8128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05120"/>
            <a:ext cx="914400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НЦИЯ МДП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ОЕ СОСТОЯНИЕ И ПЕРСПЕКТИВЫ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стантин Глухень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ая экономическая комиссия ООН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транспор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МД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098-A967-4895-A079-23100C78AE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оваривающихся сторон, включая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яется в 5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нах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ыше 3 млн. перевозок ежегод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ая глобальная процедура таможенного транзи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ощает международные перевозки при одновременной защите бюджетных интересов Договаривающихся сто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одержит ограничений на используемые виды транспорта (дорожные транспортные средства и контейнер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ждется на партнерстве государственных органов и бизнес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828-47CA-4B89-BADD-13C1987394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33520" y="1752480"/>
            <a:ext cx="8377200" cy="4189320"/>
            <a:chOff x="533520" y="1752480"/>
            <a:chExt cx="8377200" cy="4189320"/>
          </a:xfrm>
        </p:grpSpPr>
        <p:sp>
          <p:nvSpPr>
            <p:cNvPr id="49" name=""/>
            <p:cNvSpPr/>
            <p:nvPr/>
          </p:nvSpPr>
          <p:spPr>
            <a:xfrm>
              <a:off x="2932200" y="503964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24321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7475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03640" y="25333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41480" y="26193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6480" y="29044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0760" y="40798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7680" y="33904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11320" y="41479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1800" y="41479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84480" y="417816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16280" y="417816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5880" y="42544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31960" y="433656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1800" y="43693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71640" y="385632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49520" y="418104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5000" y="419328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4840" y="4232880"/>
              <a:ext cx="147600" cy="6408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25760" y="42656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30640" y="43952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27240" y="477900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98960" y="498096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97200" y="431460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09840" y="44485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98760" y="44539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54284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760" y="457560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24280" y="446472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00480" y="52264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36880" y="431892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6120" y="494568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27400" y="34671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3292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82840" y="323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96960" y="33469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5920" y="2401920"/>
              <a:ext cx="2081160" cy="122184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6360" y="38012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3440" y="3307320"/>
              <a:ext cx="1376280" cy="86400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72160" y="324612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70600" y="325296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34160" y="23187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76920" y="24364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6080" y="25797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83200" y="264528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62520" y="269568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0680" y="395316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1280" y="3414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6320" y="34833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13320" y="33865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46720" y="37987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31039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92560" y="31557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2560" y="32158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45120" y="322416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38800" y="31366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84800" y="32529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19560" y="33469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76760" y="33728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2200" y="34300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6360" y="3461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8520" y="34696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67120" y="35049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3000" y="35092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24440" y="35200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46840" y="353124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6640" y="35557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24600" y="358164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3240" y="359532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6000" y="359964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8560" y="36007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56200" y="36252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84640" y="363240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5320" y="363924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07040" y="363924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29320" y="364320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8520" y="365004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0880" y="36579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21240" y="37576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31665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56320" y="32662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37040" y="327060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02320" y="331704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96000" y="33865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4080" y="34506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2800" y="37224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26360" y="40197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3160" y="40579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78520" y="40730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64440" y="415368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1080" y="423288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18440" y="43297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1400" y="361044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07080" y="40021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19840" y="411696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1760" y="438444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4360" y="37659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7840" y="44197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97720" y="447876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94440" y="454968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75440" y="443484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39120" y="354636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4720" y="396108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02400" y="335376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15240" y="33058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69000" y="40089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3680" y="40114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40046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354636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4800" y="36075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07160" y="362124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43760" y="36622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6720" y="369648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86440" y="372924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7560" y="37576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2160" y="392580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1880" y="385344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1000" y="385632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07200" y="3877920"/>
              <a:ext cx="480960" cy="35784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27800" y="39146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415656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1880" y="5219640"/>
              <a:ext cx="271440" cy="30708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99400" y="456876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74080" y="472428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2120" y="457128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69280" y="45766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29560" y="46602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26360" y="46695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56520" y="467244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03960" y="467244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97680" y="46299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12040" y="46778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5840" y="469584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8720" y="2167560"/>
              <a:ext cx="3672000" cy="149328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97560" y="448560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77280" y="452484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70520" y="441036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94200" y="441324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61040" y="40294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0680" y="40622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23000" y="40622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3600" y="42260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3520" y="43052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36920" y="432576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73640" y="43513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67160" y="453204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9240" y="45320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59240" y="45547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9520" y="459324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49800" y="466560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92680" y="37616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35560" y="37684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45080" y="427932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4360" y="430380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24560" y="430380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38800" y="43092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0440" y="444312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18240" y="446760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8520" y="444168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4680" y="425340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6440" y="42656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32280" y="385632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8880" y="389304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3040" y="398592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3720" y="409248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24480" y="41698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5120" y="419328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49960" y="423288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7720" y="425340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2400" y="427248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95880" y="427248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57880" y="442404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2200" y="443484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67160" y="453204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83040" y="45943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5520" y="466560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43480" y="469152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9480" y="4706640"/>
              <a:ext cx="230400" cy="32472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73880" y="473940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78600" y="480636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3040" y="483228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62680" y="484704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3520" y="4933080"/>
              <a:ext cx="403200" cy="27180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2080" y="500688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19640" y="506844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40400" y="427248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26000" y="42872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5720" y="20088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0120" y="22874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7400" y="22546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5520" y="23011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4080" y="21290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19240" y="22082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5960" y="21715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52600" y="21715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98680" y="21618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05240" y="22219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7840" y="21470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3280" y="17524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8840" y="21686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85880" y="2323080"/>
              <a:ext cx="662040" cy="61416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0960" y="22957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53040" y="379620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3320" y="382464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3160" y="34369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51120" y="349164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133720" y="8380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ОГРАФИЯ КОНВ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752480"/>
            <a:ext cx="8377200" cy="4189320"/>
            <a:chOff x="533520" y="1752480"/>
            <a:chExt cx="8377200" cy="4189320"/>
          </a:xfrm>
        </p:grpSpPr>
        <p:grpSp>
          <p:nvGrpSpPr>
            <p:cNvPr id="260" name=""/>
            <p:cNvGrpSpPr/>
            <p:nvPr/>
          </p:nvGrpSpPr>
          <p:grpSpPr>
            <a:xfrm>
              <a:off x="5156280" y="3456000"/>
              <a:ext cx="147600" cy="101520"/>
              <a:chOff x="5156280" y="3456000"/>
              <a:chExt cx="147600" cy="101520"/>
            </a:xfrm>
          </p:grpSpPr>
          <p:sp>
            <p:nvSpPr>
              <p:cNvPr id="261" name=""/>
              <p:cNvSpPr/>
              <p:nvPr/>
            </p:nvSpPr>
            <p:spPr>
              <a:xfrm>
                <a:off x="5181480" y="3456000"/>
                <a:ext cx="122400" cy="6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56280" y="3488400"/>
                <a:ext cx="122040" cy="69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932200" y="503964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24321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00280" y="27475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03640" y="25333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1480" y="26193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46480" y="29044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0760" y="40798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7680" y="33904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11320" y="41479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1479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417816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16280" y="417816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85880" y="42544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1960" y="433656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1800" y="43693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71640" y="385632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49520" y="418104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5000" y="419328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4840" y="4232880"/>
              <a:ext cx="147600" cy="6408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42656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30640" y="43952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27240" y="477900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98960" y="498096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97200" y="431460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9840" y="44485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98760" y="44539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51120" y="454284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1760" y="457560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4280" y="446472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00480" y="52264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6880" y="431892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86120" y="494568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27400" y="34671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6720" y="33292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82840" y="323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96960" y="33469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85920" y="2401920"/>
              <a:ext cx="2081160" cy="122184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6360" y="38012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83440" y="3307320"/>
              <a:ext cx="1376280" cy="86400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72160" y="324612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0600" y="325296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34160" y="23187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76920" y="24364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6080" y="25797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83200" y="264528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62520" y="269568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0680" y="395316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1280" y="3414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6320" y="34833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3320" y="33865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6720" y="37987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48360" y="31039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92560" y="31557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2560" y="32158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5120" y="322416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8800" y="31366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84800" y="32529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9560" y="33469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76760" y="33728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02200" y="34300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86360" y="3461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78520" y="34696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7120" y="35049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23000" y="35092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4440" y="35200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6840" y="353124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76640" y="35557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4600" y="358164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3240" y="359532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26000" y="359964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8560" y="36007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56200" y="36252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4640" y="363240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05320" y="363924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07040" y="363924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29320" y="364320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8520" y="365004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0880" y="36579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21240" y="37576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31665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56320" y="32662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37040" y="327060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2320" y="331704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96000" y="33865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4080" y="34506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62800" y="37224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26360" y="40197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23160" y="40579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78520" y="40730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64440" y="415368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1080" y="423288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18440" y="43297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21400" y="361044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07080" y="40021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19840" y="411696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81760" y="438444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4360" y="37659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97840" y="44197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97720" y="447876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454968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5440" y="443484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39120" y="354636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4720" y="396108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02400" y="335376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15240" y="33058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69000" y="40089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73680" y="40114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91320" y="40046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88160" y="354636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84800" y="36075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7160" y="362124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43760" y="36622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16720" y="369648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86440" y="372924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7560" y="37576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72160" y="392580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1880" y="385344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91000" y="385632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07200" y="3877920"/>
              <a:ext cx="480960" cy="35784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27800" y="39146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4680" y="415656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1880" y="5219640"/>
              <a:ext cx="271440" cy="30708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9400" y="456876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74080" y="472428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2120" y="457128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69280" y="45766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29560" y="46602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26360" y="46695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56520" y="467244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3960" y="467244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7680" y="46299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46778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469584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38720" y="2167560"/>
              <a:ext cx="3672000" cy="149328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97560" y="448560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77280" y="452484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70520" y="441036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94200" y="441324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61040" y="40294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0680" y="40622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3000" y="40622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3600" y="42260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43520" y="43052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6920" y="432576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73640" y="43513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67160" y="453204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9240" y="45320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59240" y="45547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89520" y="459324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9800" y="466560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92680" y="37616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35560" y="37684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45080" y="427932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54360" y="430380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430380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38800" y="43092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70440" y="444312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18240" y="446760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8520" y="444168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84680" y="425340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16440" y="42656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32280" y="385632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68880" y="389304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3040" y="398592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03720" y="409248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24480" y="41698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45120" y="419328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49960" y="423288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57720" y="425340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62400" y="427248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5880" y="427248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57880" y="442404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72200" y="443484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67160" y="453204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83040" y="45943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05520" y="466560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3480" y="469152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89480" y="4706640"/>
              <a:ext cx="230400" cy="32472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3880" y="473940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78600" y="480636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83040" y="483228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62680" y="484704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43520" y="4933080"/>
              <a:ext cx="403200" cy="27180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02080" y="500688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19640" y="506844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0400" y="427248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26000" y="42872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95720" y="20088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70120" y="22874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27400" y="22546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95520" y="23011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54080" y="21290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19240" y="22082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5960" y="21715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52600" y="21715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98680" y="21618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5240" y="22219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7840" y="21470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73280" y="17524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98840" y="21686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85880" y="2323080"/>
              <a:ext cx="662040" cy="61416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0960" y="22957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53040" y="379620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13320" y="382464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34369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51120" y="349164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33520" y="1752480"/>
            <a:ext cx="8377200" cy="4189320"/>
            <a:chOff x="533520" y="1752480"/>
            <a:chExt cx="8377200" cy="4189320"/>
          </a:xfrm>
        </p:grpSpPr>
        <p:grpSp>
          <p:nvGrpSpPr>
            <p:cNvPr id="471" name=""/>
            <p:cNvGrpSpPr/>
            <p:nvPr/>
          </p:nvGrpSpPr>
          <p:grpSpPr>
            <a:xfrm>
              <a:off x="5156280" y="3456000"/>
              <a:ext cx="147600" cy="101520"/>
              <a:chOff x="5156280" y="3456000"/>
              <a:chExt cx="147600" cy="101520"/>
            </a:xfrm>
          </p:grpSpPr>
          <p:sp>
            <p:nvSpPr>
              <p:cNvPr id="472" name=""/>
              <p:cNvSpPr/>
              <p:nvPr/>
            </p:nvSpPr>
            <p:spPr>
              <a:xfrm>
                <a:off x="5181480" y="3456000"/>
                <a:ext cx="122400" cy="6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56280" y="3488400"/>
                <a:ext cx="122040" cy="69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932200" y="503964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24321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00280" y="27475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03640" y="25333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1480" y="26193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46480" y="29044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0760" y="40798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87680" y="33904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11320" y="41479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1800" y="41479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84480" y="417816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16280" y="417816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85880" y="42544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31960" y="433656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01800" y="43693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71640" y="385632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49520" y="418104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75000" y="419328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44840" y="4232880"/>
              <a:ext cx="147600" cy="6408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25760" y="42656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30640" y="43952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27240" y="477900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98960" y="498096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97200" y="431460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09840" y="44485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98760" y="44539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51120" y="454284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41760" y="457560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24280" y="446472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00480" y="52264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36880" y="431892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86120" y="494568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27400" y="34671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76720" y="33292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82840" y="323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96960" y="33469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85920" y="2401920"/>
              <a:ext cx="2081160" cy="122184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56360" y="38012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83440" y="3307320"/>
              <a:ext cx="1376280" cy="86400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72160" y="324612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70600" y="325296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34160" y="23187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4364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6080" y="25797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83200" y="264528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62520" y="269568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0680" y="395316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51280" y="3414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56320" y="34833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13320" y="33865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46720" y="37987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8360" y="31039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92560" y="31557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92560" y="32158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45120" y="322416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38800" y="31366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84800" y="32529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19560" y="33469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6760" y="33728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02200" y="34300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86360" y="3461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8520" y="34696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67120" y="35049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23000" y="35092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24440" y="35200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46840" y="353124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76640" y="35557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24600" y="358164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240" y="359532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26000" y="359964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8560" y="36007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56200" y="36252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84640" y="363240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05320" y="363924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07040" y="363924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29320" y="364320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78520" y="365004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00880" y="36579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21240" y="37576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00600" y="31665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56320" y="32662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7040" y="327060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02320" y="331704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96000" y="33865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34080" y="34506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2800" y="37224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26360" y="40197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23160" y="40579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78520" y="40730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64440" y="415368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1080" y="423288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18440" y="43297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21400" y="361044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07080" y="40021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19840" y="411696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81760" y="438444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4360" y="37659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97840" y="44197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97720" y="447876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94440" y="454968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75440" y="443484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39120" y="354636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24720" y="396108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02400" y="335376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15240" y="33058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69000" y="40089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73680" y="40114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91320" y="40046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88160" y="354636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84800" y="36075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07160" y="362124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43760" y="36622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16720" y="369648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86440" y="372924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97560" y="37576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2160" y="392580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1880" y="385344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91000" y="385632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07200" y="3877920"/>
              <a:ext cx="480960" cy="35784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27800" y="39146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4680" y="415656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1880" y="5219640"/>
              <a:ext cx="271440" cy="30708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99400" y="456876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74080" y="472428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12120" y="457128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69280" y="45766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29560" y="46602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26360" y="46695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6520" y="467244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03960" y="467244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46299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2040" y="46778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5840" y="469584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38720" y="2167560"/>
              <a:ext cx="3672000" cy="149328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97560" y="448560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77280" y="452484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70520" y="441036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94200" y="441324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61040" y="40294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30680" y="40622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23000" y="40622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03600" y="42260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43520" y="43052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36920" y="432576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3513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67160" y="453204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59240" y="45320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240" y="45547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89520" y="459324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49800" y="466560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2680" y="37616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35560" y="37684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45080" y="427932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54360" y="430380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24560" y="430380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38800" y="43092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70440" y="444312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18240" y="446760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8520" y="444168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84680" y="425340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16440" y="42656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32280" y="385632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8880" y="389304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53040" y="398592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03720" y="409248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24480" y="41698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45120" y="419328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49960" y="423288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7720" y="425340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62400" y="427248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95880" y="427248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57880" y="442404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72200" y="443484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7160" y="453204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83040" y="45943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05520" y="466560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43480" y="469152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89480" y="4706640"/>
              <a:ext cx="230400" cy="32472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73880" y="473940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78600" y="480636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83040" y="483228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62680" y="484704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43520" y="4933080"/>
              <a:ext cx="403200" cy="27180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2080" y="500688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19640" y="506844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40400" y="427248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26000" y="42872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95720" y="20088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70120" y="22874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7400" y="22546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5520" y="23011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54080" y="21290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19240" y="22082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55960" y="21715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52600" y="21715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98680" y="21618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05240" y="22219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17840" y="21470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73280" y="17524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98840" y="21686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85880" y="2323080"/>
              <a:ext cx="662040" cy="61416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20960" y="22957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53040" y="379620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3320" y="382464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13160" y="34369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349164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3520" y="1754280"/>
            <a:ext cx="8377200" cy="4188960"/>
            <a:chOff x="533520" y="1754280"/>
            <a:chExt cx="8377200" cy="4188960"/>
          </a:xfrm>
        </p:grpSpPr>
        <p:grpSp>
          <p:nvGrpSpPr>
            <p:cNvPr id="681" name=""/>
            <p:cNvGrpSpPr/>
            <p:nvPr/>
          </p:nvGrpSpPr>
          <p:grpSpPr>
            <a:xfrm>
              <a:off x="5156280" y="3457800"/>
              <a:ext cx="147600" cy="101520"/>
              <a:chOff x="5156280" y="3457800"/>
              <a:chExt cx="147600" cy="101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181480" y="3457800"/>
                <a:ext cx="122400" cy="6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56280" y="3490200"/>
                <a:ext cx="122040" cy="69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932200" y="504108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3520" y="24339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0280" y="27493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03640" y="25351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41480" y="26211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146480" y="29062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0760" y="40816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87680" y="33922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1320" y="41497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1800" y="41497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4480" y="417960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16280" y="417960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85880" y="42562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31960" y="433800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01800" y="43711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71640" y="385776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49520" y="418248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75000" y="419472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44840" y="4234320"/>
              <a:ext cx="147600" cy="6372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25760" y="42674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30640" y="43970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27240" y="478044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98960" y="498240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97200" y="431604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09840" y="44503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98760" y="445536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1120" y="454428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41760" y="457704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24280" y="446616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00480" y="52282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36880" y="432036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86120" y="494712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27400" y="34686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76720" y="33310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82840" y="3240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6960" y="33487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85920" y="2403720"/>
              <a:ext cx="2081160" cy="122148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56360" y="38030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83440" y="3309120"/>
              <a:ext cx="1376280" cy="86364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72160" y="324756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70600" y="325440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34160" y="23205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76920" y="24382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26080" y="25815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83200" y="264672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520" y="269712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0680" y="395460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51280" y="3416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756320" y="34851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3320" y="33883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46720" y="38005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360" y="31057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92560" y="31575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92560" y="32176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45120" y="322560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38800" y="31384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84800" y="325440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19560" y="33487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76760" y="33746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02200" y="34318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86360" y="34632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78520" y="34714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67120" y="35067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23000" y="35110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24440" y="35218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46840" y="353268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76640" y="35575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24600" y="358308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13240" y="359676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6000" y="360108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8560" y="36025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56200" y="36270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84640" y="363384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05320" y="364068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7040" y="364068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29320" y="364464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8520" y="365148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880" y="36597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21240" y="37594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00600" y="31683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56320" y="32680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37040" y="327204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02320" y="331848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96000" y="33883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34080" y="34524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62800" y="37242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26360" y="40215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23160" y="40597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78520" y="40748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64440" y="415512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31080" y="423432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18440" y="43315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421400" y="361188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07080" y="40039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19840" y="411840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760" y="438588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94360" y="37677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7840" y="44215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97720" y="44802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94440" y="455112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5440" y="443628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39120" y="354780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624720" y="396252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02400" y="335520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15240" y="33076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69000" y="40107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73680" y="40132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91320" y="40064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888160" y="354780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84800" y="36093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7160" y="362268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43760" y="36640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16720" y="369792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86440" y="373068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97560" y="37594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72160" y="39272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11880" y="385488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91000" y="385776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07200" y="3879360"/>
              <a:ext cx="480960" cy="35748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27800" y="39164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84680" y="415800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381880" y="5221440"/>
              <a:ext cx="271440" cy="30672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799400" y="457020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4080" y="472572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12120" y="457272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9280" y="45784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29560" y="46616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26360" y="46713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56520" y="467388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03960" y="467388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97680" y="46317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12040" y="467928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05840" y="469728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38720" y="2169360"/>
              <a:ext cx="3672000" cy="149292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7560" y="448704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77280" y="452628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0520" y="441180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94200" y="441468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61040" y="40312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30680" y="40640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23000" y="40640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03600" y="42278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43520" y="43070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36920" y="432720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73640" y="43531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67160" y="453348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59240" y="453348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9240" y="45565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9520" y="459468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49800" y="466704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92680" y="37634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35560" y="37702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45080" y="428076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54360" y="430524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24560" y="430524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38800" y="43110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70440" y="444456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18240" y="446904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08520" y="444312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84680" y="425484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16440" y="42674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832280" y="385776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68880" y="389448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53040" y="398736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03720" y="409392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24480" y="41716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45120" y="419472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9960" y="423432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57720" y="425484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62400" y="427392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95880" y="427392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57880" y="442548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72200" y="443628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67160" y="453348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3040" y="45961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05520" y="466704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343480" y="469296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89480" y="4708080"/>
              <a:ext cx="230400" cy="32436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73880" y="474084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78600" y="480780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3040" y="483372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62680" y="484848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943520" y="4934520"/>
              <a:ext cx="403200" cy="27144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02080" y="500832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19640" y="506988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40400" y="427392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26000" y="42890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95720" y="20106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770120" y="22892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27400" y="22564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95520" y="23029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54080" y="21308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19240" y="22100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55960" y="21733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52600" y="21733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1636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05240" y="22237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517840" y="21488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3280" y="17542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8840" y="21704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85880" y="2324880"/>
              <a:ext cx="662040" cy="61380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20960" y="22975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53040" y="379764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13320" y="382608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3160" y="34387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51120" y="349308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505320" y="5181480"/>
            <a:ext cx="4343040" cy="761760"/>
            <a:chOff x="3505320" y="5181480"/>
            <a:chExt cx="4343040" cy="761760"/>
          </a:xfrm>
        </p:grpSpPr>
        <p:sp>
          <p:nvSpPr>
            <p:cNvPr id="891" name=""/>
            <p:cNvSpPr/>
            <p:nvPr/>
          </p:nvSpPr>
          <p:spPr>
            <a:xfrm>
              <a:off x="3505320" y="5301360"/>
              <a:ext cx="4343040" cy="64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60560" y="5181480"/>
              <a:ext cx="408780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Страны-участники, применяющие Конвенцию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(200</a:t>
              </a: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Страны-участники, не применяющие Конвенцию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(200</a:t>
              </a: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Потенциальные Договаривающиеся сторон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75240" y="5421960"/>
              <a:ext cx="108000" cy="86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75240" y="5582160"/>
              <a:ext cx="108000" cy="86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5240" y="5743080"/>
              <a:ext cx="104760" cy="84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19A-D677-4868-A2AE-C67F177F96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05120" y="33526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-131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2286000" y="2057400"/>
          <a:ext cx="5562720" cy="3885840"/>
        </p:xfrm>
        <a:graphic>
          <a:graphicData uri="http://schemas.openxmlformats.org/drawingml/2006/table">
            <a:tbl>
              <a:tblPr/>
              <a:tblGrid>
                <a:gridCol w="2532240"/>
                <a:gridCol w="3030480"/>
              </a:tblGrid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НИЖ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0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240 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"/>
          <p:cNvSpPr/>
          <p:nvPr/>
        </p:nvSpPr>
        <p:spPr>
          <a:xfrm>
            <a:off x="2743200" y="6858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ТИ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ДАЧИ КНИЖЕК МД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55A-9C93-4D97-A193-A631534A96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-131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19520" y="4572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ДАЧА КНИЖЕК МД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ТРАНАХ ЕврАзЭ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990720" y="1752480"/>
          <a:ext cx="7696080" cy="4064040"/>
        </p:xfrm>
        <a:graphic>
          <a:graphicData uri="http://schemas.openxmlformats.org/drawingml/2006/table">
            <a:tbl>
              <a:tblPr/>
              <a:tblGrid>
                <a:gridCol w="2361960"/>
                <a:gridCol w="1219320"/>
                <a:gridCol w="1371600"/>
                <a:gridCol w="1371600"/>
                <a:gridCol w="1371600"/>
              </a:tblGrid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ору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4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7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ыргыз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д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3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3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2BA-5B27-42FD-A9EE-72D756BB0C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-131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371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НЫ С НАИБОЛЬШИМ ЧИСЛОМ ВЫДАВАЕМЫХ КНИЖЕК МД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2819520"/>
            <a:ext cx="8991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96 г. – Польша, Венгрия, Турция, РФ, Румы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98 г. – Польша, Турция, Румыния, Венгрия,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0 г. – Турция, Румыния, Литва, Польша,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2 г. – Румыния, Турция, Литва, Беларусь,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5 г. – Турция, Румыния, РФ, Болгария, 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521-5E65-4008-93B0-97761B02B8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Ы, С КОТОРЫМ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ЛКИВАЕТСЯ КОНВЕНЦИЯ МД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щие пробл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сть внедрения достижений НТ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сть повышения эффектив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рьба с мошенничеств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нижка МД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мажная система подвержена ошибкам и отнимает много време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ует индивидуальных информационных технологи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торение процедуры ввода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ACD-AE5C-4249-8C7A-8959B52385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НЦИИ МД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соединение новых стран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тай, Пакистан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аудовская Аравия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ьнейшее совершенствование основополагающих принципов Конвенции МДП в целях повышения безопасности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модальные перевоз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ьютеризация МДП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TIR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переход на безбумажные технологии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F37-77EF-423D-A08F-7270815C56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914400" y="1676520"/>
            <a:ext cx="792468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CE TIR SECRETAR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port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-14, Avenue de Paix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-1211 Geneva 1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1 22 917 15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1 22 917 0039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. почт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tirexb@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ернет: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ttp://tir.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86000" y="9907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BD5-5F38-4661-B67C-D7973FBD5A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09:43:08Z</dcterms:created>
  <dc:creator>Jarh</dc:creator>
  <dc:description/>
  <dc:language>en-US</dc:language>
  <cp:lastModifiedBy>Apostolov</cp:lastModifiedBy>
  <dcterms:modified xsi:type="dcterms:W3CDTF">2006-10-26T15:30:52Z</dcterms:modified>
  <cp:revision>177</cp:revision>
  <dc:subject/>
  <dc:title>PowerPoint Presentation</dc:title>
</cp:coreProperties>
</file>