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2"/>
          </p:nvPr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3"/>
          </p:nvPr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2E7847-952C-46DC-B489-BB167D84B1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8908BE-F83E-4354-ABAF-D098BD05E9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66552F-A6A9-4E5C-B3A6-15DCC53E36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ndards are a prerequisite for paperless trade but they are not en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tical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y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hfinder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bal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standing on the benefits for security and efficiency and how they can be lever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6133F5-BFFF-497A-BAD3-1E688E5033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940520" y="5392800"/>
            <a:ext cx="914400" cy="1422720"/>
            <a:chOff x="7940520" y="5392800"/>
            <a:chExt cx="914400" cy="1422720"/>
          </a:xfrm>
        </p:grpSpPr>
        <p:grpSp>
          <p:nvGrpSpPr>
            <p:cNvPr id="3" name=""/>
            <p:cNvGrpSpPr/>
            <p:nvPr/>
          </p:nvGrpSpPr>
          <p:grpSpPr>
            <a:xfrm>
              <a:off x="7940520" y="5729400"/>
              <a:ext cx="914400" cy="761400"/>
              <a:chOff x="7940520" y="5729400"/>
              <a:chExt cx="914400" cy="761400"/>
            </a:xfrm>
          </p:grpSpPr>
          <p:sp>
            <p:nvSpPr>
              <p:cNvPr id="4" name=""/>
              <p:cNvSpPr/>
              <p:nvPr/>
            </p:nvSpPr>
            <p:spPr>
              <a:xfrm>
                <a:off x="804384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94052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6454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4044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4856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48196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2948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3884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3272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6756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48808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25156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12304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4228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37540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6748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9448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4048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09604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52480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6752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96896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71848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09604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09928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7856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943760" y="5762520"/>
                <a:ext cx="904680" cy="643680"/>
                <a:chOff x="7943760" y="5762520"/>
                <a:chExt cx="904680" cy="64368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794376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803268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74548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66448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03268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67384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16120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21844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839448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" name=""/>
              <p:cNvSpPr/>
              <p:nvPr/>
            </p:nvSpPr>
            <p:spPr>
              <a:xfrm>
                <a:off x="850716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8640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8640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405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7991640" y="6535800"/>
              <a:ext cx="799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3400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131436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4920" y="4527360"/>
            <a:ext cx="633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19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1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2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3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4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5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6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45080" y="760320"/>
            <a:ext cx="1598400" cy="1296720"/>
            <a:chOff x="3745080" y="760320"/>
            <a:chExt cx="1598400" cy="1296720"/>
          </a:xfrm>
        </p:grpSpPr>
        <p:sp>
          <p:nvSpPr>
            <p:cNvPr id="88" name=""/>
            <p:cNvSpPr/>
            <p:nvPr/>
          </p:nvSpPr>
          <p:spPr>
            <a:xfrm>
              <a:off x="392760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5080" y="1326960"/>
              <a:ext cx="19656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844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6560" y="1326960"/>
              <a:ext cx="19692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8520" y="1638000"/>
              <a:ext cx="37476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94400" y="907920"/>
              <a:ext cx="42840" cy="27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6840" y="1128600"/>
              <a:ext cx="66600" cy="65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1240" y="1552320"/>
              <a:ext cx="36360" cy="5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1520" y="939600"/>
              <a:ext cx="25560" cy="20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1036440"/>
              <a:ext cx="63720" cy="8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05560" y="954000"/>
              <a:ext cx="228600" cy="20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1200" y="1328400"/>
              <a:ext cx="14040" cy="38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65480" y="1193760"/>
              <a:ext cx="462240" cy="369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1306440"/>
              <a:ext cx="75960" cy="66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6840" y="1366560"/>
              <a:ext cx="129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2800" y="1139760"/>
              <a:ext cx="384120" cy="54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8880" y="1582560"/>
              <a:ext cx="6120" cy="21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4920" y="1206360"/>
              <a:ext cx="187560" cy="182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17960" y="1299960"/>
              <a:ext cx="26820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68920" y="1299960"/>
              <a:ext cx="27936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2600" y="1485720"/>
              <a:ext cx="280800" cy="330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584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96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17960" y="1898280"/>
              <a:ext cx="1047960" cy="15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4440" y="803160"/>
              <a:ext cx="1027080" cy="9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6920" y="1103040"/>
              <a:ext cx="406440" cy="393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751200" y="819000"/>
              <a:ext cx="1582560" cy="1093680"/>
              <a:chOff x="3751200" y="819000"/>
              <a:chExt cx="1582560" cy="1093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751200" y="1142640"/>
                <a:ext cx="1825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05280" y="1639800"/>
                <a:ext cx="371520" cy="27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53040" y="1142640"/>
                <a:ext cx="1807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13360" y="1490400"/>
                <a:ext cx="277560" cy="327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5280" y="83160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29200" y="839520"/>
                <a:ext cx="198360" cy="27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30640" y="919080"/>
                <a:ext cx="820800" cy="787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32160" y="1014120"/>
                <a:ext cx="614520" cy="592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40320" y="819000"/>
                <a:ext cx="4680" cy="406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738680" y="1508040"/>
              <a:ext cx="155520" cy="150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75280" y="1373040"/>
              <a:ext cx="29376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132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002480" y="2178000"/>
            <a:ext cx="1064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13040" y="685800"/>
            <a:ext cx="1716120" cy="14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nece.org/etrades/unedocs/" TargetMode="External"/><Relationship Id="rId2" Type="http://schemas.openxmlformats.org/officeDocument/2006/relationships/hyperlink" Target="http://www.unece.org/etrades/unedocs/" TargetMode="External"/><Relationship Id="rId3" Type="http://schemas.openxmlformats.org/officeDocument/2006/relationships/hyperlink" Target="http://www.unece.org/etrades/unedocs/" TargetMode="External"/><Relationship Id="rId4" Type="http://schemas.openxmlformats.org/officeDocument/2006/relationships/hyperlink" Target="http://www.unece.org/etrades/unedocs/" TargetMode="External"/><Relationship Id="rId5" Type="http://schemas.openxmlformats.org/officeDocument/2006/relationships/hyperlink" Target="http://www.unece.org/etrades/unedocs/" TargetMode="External"/><Relationship Id="rId6" Type="http://schemas.openxmlformats.org/officeDocument/2006/relationships/hyperlink" Target="http://www.unece.org/etrades/unedocs/" TargetMode="External"/><Relationship Id="rId7" Type="http://schemas.openxmlformats.org/officeDocument/2006/relationships/hyperlink" Target="http://www.unece.org/etrades/unedocs/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8620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2999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ECE Integrated Approach to Trade Facilitation</a:t>
            </a:r>
            <a:br>
              <a:rPr sz="2400"/>
            </a:b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m Butterl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puty Chief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lobal Trade Solutions Branch</a:t>
            </a:r>
            <a:br>
              <a:rPr sz="1800"/>
            </a:b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ECE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city-Building Workshop on the WTO Trade Facilitation Negotiation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-13 June 2006, Chisinau, Republic of Moldova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480" y="1936440"/>
            <a:ext cx="68169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CE Integrated Model of Trade Facili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/CEFACT Standards, Recommendations an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tional Trade Singl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 rot="16200000">
            <a:off x="1143000" y="502920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ategic Approach to Realising the Benefits of Trade Facili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78000" indent="-353520">
              <a:lnSpc>
                <a:spcPct val="90000"/>
              </a:lnSpc>
              <a:spcBef>
                <a:spcPts val="14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dertake detailed needs analysis and set priorities at both the national and reg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53520">
              <a:lnSpc>
                <a:spcPct val="90000"/>
              </a:lnSpc>
              <a:spcBef>
                <a:spcPts val="14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 the business community from the out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53520">
              <a:lnSpc>
                <a:spcPct val="90000"/>
              </a:lnSpc>
              <a:spcBef>
                <a:spcPts val="14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ild TF into national and regional economic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53520">
              <a:lnSpc>
                <a:spcPts val="3399"/>
              </a:lnSpc>
              <a:spcBef>
                <a:spcPts val="14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anage the technical assistance and capacity build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ts val="3399"/>
              </a:lnSpc>
              <a:spcBef>
                <a:spcPts val="1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97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UNECE Capacity Building Approa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66120" indent="-34236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pacity building workshops to help countries understand available recommendations and standards and see where they can fit their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-34236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D ROM on some of our core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Bef>
                <a:spcPts val="150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CEFACT Recommend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Bef>
                <a:spcPts val="150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Do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Bef>
                <a:spcPts val="150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ol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Bef>
                <a:spcPts val="150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6120" indent="-34236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e Size does not fit all – but standards ess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97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/CEFACT Comprehensive Guide to Trade Facilitation Implement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04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66120" indent="-342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Guide will help countrie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y trade facilitation needs and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 and understand available tools, techniques and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 costs for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view implementation and funding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an effective national and/or regional trade facilitation implementation strateg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6120" indent="0" algn="just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72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Gu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040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aining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6 Regional Training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just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just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arget Date for Completion of Guide – end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Follow-up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 UN/CEFACT Recommendations, codes, standards and publications are available for free on our website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unece.org/cefac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unece.org/t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nece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org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trade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nedoc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0">
              <a:lnSpc>
                <a:spcPts val="29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m.butterly@unec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748720" cy="56088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-73656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.. now we have to mak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rade facilitation happen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24000" y="2708280"/>
            <a:ext cx="640080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ANK YOU</a:t>
            </a:r>
            <a:r>
              <a:rPr b="1" lang="sk-SK" sz="60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m.butterl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@unec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ny</cp:lastModifiedBy>
  <cp:lastPrinted>2004-11-30T09:13:18Z</cp:lastPrinted>
  <dcterms:modified xsi:type="dcterms:W3CDTF">2006-06-13T08:41:22Z</dcterms:modified>
  <cp:revision>351</cp:revision>
  <dc:subject/>
  <dc:title>CEFACT Group Report Template</dc:title>
</cp:coreProperties>
</file>