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325A9B-3B6C-458A-B81F-03A03E596A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C10092-70EE-4106-BE46-947D12113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CAD25-CE5C-4903-A4B2-F5EDB5F9B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RAL TUNISIA, Painting industry had either to adapt to requirement made by EU customer or disappear. They decided to manage the change process by doing a business and modelling approach to improve inventory and delivery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F allows to reduce frictions in 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30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TF a tool for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facilitation allows to increase added value to the products and reduce cost – the green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2999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CE Integrated Approach to Trade Facilitation</a:t>
            </a:r>
            <a:br>
              <a:rPr sz="2400"/>
            </a:b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m Butter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puty Chie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 Trade Solutions Branch</a:t>
            </a:r>
            <a:br>
              <a:rPr sz="1800"/>
            </a:b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EC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y-Building Workshop on the WTO Trade Facilitation Negotiation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13 June 2006, Chisinau, Republic of Moldova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hy focus on Trade Facilitation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Benefits - shift in focus from technical to trade/economic policy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ater demands from business for predictability a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orm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 Facilitation at the W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conomic Benef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s vary from 1-15% of total trade transac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 if only 1%, OECD estimates total gains to world economy of US$40,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EC estimates gains of US$46 billion from trade facilitation measures - adopted TF as key policy targ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conomic Benef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nefits higher for developing countries and for S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reater than the potential value of increased tariff reductions under future multilateral trade negoti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efficient or unnecessary process and controls add no value whatso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CE Study on TF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F plays a crucial role in deriving benefits from overall trade liberalisatio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n in non-liberalised economies significant benefits cold be ga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ntroduction of trade liberalisation measure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ou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arallel trade facilitation initiative might fail to realise their full economic pot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0" y="9540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ategic Approach to Realising the Benefits of Trade Facili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e detailed needs analysis and set priorities at both the national and region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 the business community from the out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ltivate the necessary political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national and regional implementation strategies, with trade facilitation as a key trade and economic development instru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trade transaction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ts val="3399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existing trade facilitation standards, tools and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480" y="1936440"/>
            <a:ext cx="68169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CE Integrated Model of Trade Facili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 Practice Examples - UN/CEFACT Standards, Recommendations 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1218600" y="20570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371600"/>
            <a:ext cx="8381880" cy="4038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9360" y="457200"/>
            <a:ext cx="886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ECE Integrated Model of Trade Facili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447920"/>
            <a:ext cx="731520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8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UNECE’s objective in international trade: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o facilitate and strengthen the integration of member States, and especially countries in transition, into the European and global economy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rade Facilitation is a key tool of UNECE to achieve this objective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rade Facili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mplification, standardization and harmonization of procedures and associated information flows required to move goods from seller to buyer and to make payment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ilitate -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ake easy or easi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202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ATIONAL TRADE TRANSACTION PRO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stablish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21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stablish Transport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Collect,Transport and Deliver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Waybills, Goods Receipts Statu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u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btain Import/Export Licences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argo Decl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lear Goods for Export/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97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Financi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886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18456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3276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066680" y="2590920"/>
            <a:ext cx="3353040" cy="304560"/>
          </a:xfrm>
          <a:prstGeom prst="line">
            <a:avLst/>
          </a:prstGeom>
          <a:ln w="9360">
            <a:solidFill>
              <a:srgbClr val="e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590920"/>
            <a:ext cx="3200400" cy="304560"/>
          </a:xfrm>
          <a:prstGeom prst="line">
            <a:avLst/>
          </a:prstGeom>
          <a:ln w="9360">
            <a:solidFill>
              <a:srgbClr val="d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1905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19368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18456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zoll" descr=""/>
          <p:cNvPicPr/>
          <p:nvPr/>
        </p:nvPicPr>
        <p:blipFill>
          <a:blip r:embed="rId1"/>
          <a:stretch/>
        </p:blipFill>
        <p:spPr>
          <a:xfrm>
            <a:off x="5715000" y="6002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209" name="maut" descr=""/>
          <p:cNvPicPr/>
          <p:nvPr/>
        </p:nvPicPr>
        <p:blipFill>
          <a:blip r:embed="rId2"/>
          <a:stretch/>
        </p:blipFill>
        <p:spPr>
          <a:xfrm>
            <a:off x="7526160" y="6002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210" name="truck" descr=""/>
          <p:cNvPicPr/>
          <p:nvPr/>
        </p:nvPicPr>
        <p:blipFill>
          <a:blip r:embed="rId3"/>
          <a:stretch/>
        </p:blipFill>
        <p:spPr>
          <a:xfrm>
            <a:off x="3868560" y="6002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211" name="verhandlung" descr=""/>
          <p:cNvPicPr/>
          <p:nvPr/>
        </p:nvPicPr>
        <p:blipFill>
          <a:blip r:embed="rId4"/>
          <a:stretch/>
        </p:blipFill>
        <p:spPr>
          <a:xfrm>
            <a:off x="2116080" y="6002280"/>
            <a:ext cx="55080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762120"/>
          <a:ext cx="914400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1371600"/>
            <a:ext cx="8915400" cy="914400"/>
          </a:xfrm>
          <a:prstGeom prst="leftRightArrow">
            <a:avLst>
              <a:gd name="adj1" fmla="val 50000"/>
              <a:gd name="adj2" fmla="val 19409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5520" y="1600200"/>
            <a:ext cx="689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uturaBookTBWA"/>
              </a:rPr>
              <a:t>Total Trade Transaction – Integrated supply-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8760" y="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3ff"/>
                </a:solidFill>
                <a:latin typeface="Arial"/>
              </a:rPr>
              <a:t>The UN/CEFAC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798200">
            <a:off x="5866920" y="3657600"/>
            <a:ext cx="3124440" cy="838080"/>
          </a:xfrm>
          <a:prstGeom prst="leftArrow">
            <a:avLst>
              <a:gd name="adj1" fmla="val 50000"/>
              <a:gd name="adj2" fmla="val 9320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886200"/>
            <a:ext cx="259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de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048120"/>
            <a:ext cx="5562360" cy="838080"/>
          </a:xfrm>
          <a:prstGeom prst="leftArrow">
            <a:avLst>
              <a:gd name="adj1" fmla="val 50000"/>
              <a:gd name="adj2" fmla="val 165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76720"/>
            <a:ext cx="441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itiveness – trad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990720"/>
            <a:ext cx="0" cy="5410080"/>
          </a:xfrm>
          <a:prstGeom prst="line">
            <a:avLst/>
          </a:prstGeom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41920" y="914400"/>
            <a:ext cx="0" cy="5486400"/>
          </a:xfrm>
          <a:prstGeom prst="line">
            <a:avLst/>
          </a:prstGeom>
          <a:ln w="604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1066680"/>
            <a:ext cx="0" cy="5486400"/>
          </a:xfrm>
          <a:prstGeom prst="line">
            <a:avLst/>
          </a:prstGeom>
          <a:ln w="604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837360" y="1006560"/>
            <a:ext cx="7013160" cy="5851080"/>
            <a:chOff x="837360" y="1006560"/>
            <a:chExt cx="7013160" cy="5851080"/>
          </a:xfrm>
        </p:grpSpPr>
        <p:sp>
          <p:nvSpPr>
            <p:cNvPr id="227" name=""/>
            <p:cNvSpPr/>
            <p:nvPr/>
          </p:nvSpPr>
          <p:spPr>
            <a:xfrm flipV="1">
              <a:off x="916920" y="1739880"/>
              <a:ext cx="6473520" cy="44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75840" y="5978520"/>
              <a:ext cx="88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nquiry Valid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89040" y="58428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redit Arrang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23400" y="40165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cla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5600" y="54835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ng L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7120" y="56214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i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29960" y="520596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Export Lic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1120" y="50626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hort Lead Compon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6440" y="331560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3480" y="386712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28760" y="373896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ehire GKN palle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1440" y="2332080"/>
              <a:ext cx="153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er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3120" y="19108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 and st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960" y="169920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Retail s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2960" y="1491480"/>
              <a:ext cx="99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yment by custo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3840" y="177300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ayment o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28160" y="191088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28520" y="2052360"/>
              <a:ext cx="41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and F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32120" y="21938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har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918720" y="1918440"/>
              <a:ext cx="1080" cy="424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4560" y="1739880"/>
              <a:ext cx="144360" cy="253800"/>
            </a:xfrm>
            <a:custGeom>
              <a:avLst/>
              <a:gdLst/>
              <a:ahLst/>
              <a:rect l="l" t="t" r="r" b="b"/>
              <a:pathLst>
                <a:path w="80" h="126">
                  <a:moveTo>
                    <a:pt x="80" y="126"/>
                  </a:moveTo>
                  <a:lnTo>
                    <a:pt x="41" y="110"/>
                  </a:lnTo>
                  <a:lnTo>
                    <a:pt x="0" y="126"/>
                  </a:lnTo>
                  <a:lnTo>
                    <a:pt x="41" y="0"/>
                  </a:lnTo>
                  <a:lnTo>
                    <a:pt x="8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2800" y="1006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7360" y="1339920"/>
              <a:ext cx="96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3193ff"/>
                  </a:solidFill>
                  <a:latin typeface="Times New Roman"/>
                </a:rPr>
                <a:t>Added valu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94680" y="1557360"/>
              <a:ext cx="63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and </a:t>
              </a:r>
              <a:r>
                <a:rPr b="0" lang="en-GB" sz="1500" spc="-1" strike="noStrike">
                  <a:solidFill>
                    <a:srgbClr val="ffff00"/>
                  </a:solidFill>
                  <a:latin typeface="Times New Roman"/>
                </a:rPr>
                <a:t>co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1880" y="6161040"/>
              <a:ext cx="637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25560" y="6081480"/>
              <a:ext cx="229320" cy="15696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78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27" y="3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07080" y="1339920"/>
              <a:ext cx="2602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Omagh to Algeria.  1 Order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360 net tonnes, 21 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6040" y="4228200"/>
              <a:ext cx="150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voice and order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2080" y="3455640"/>
              <a:ext cx="127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          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, r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28160" y="359532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79200" y="3804480"/>
              <a:ext cx="144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6120" y="3245760"/>
              <a:ext cx="151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xit clearance from commun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5840" y="3032280"/>
              <a:ext cx="164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paymen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852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20600" y="6158880"/>
              <a:ext cx="144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344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84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2144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9492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7324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688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2160" y="632772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748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3888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252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0048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58080" y="632772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72160" y="6327720"/>
              <a:ext cx="29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67880" y="6409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61760" y="662904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(approx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2960" y="5388480"/>
              <a:ext cx="127764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185200" y="4821480"/>
              <a:ext cx="2520" cy="57060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82320" y="4825800"/>
              <a:ext cx="643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885400" y="4051440"/>
              <a:ext cx="2520" cy="779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9640" y="4055040"/>
              <a:ext cx="1406880" cy="21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81120" y="3560400"/>
              <a:ext cx="2160" cy="5025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31000" y="3102120"/>
              <a:ext cx="925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99720" y="289836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ea Cros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04160" y="2684880"/>
              <a:ext cx="132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off-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78600" y="3568320"/>
              <a:ext cx="45252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5360" y="3069000"/>
              <a:ext cx="2520" cy="500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2480" y="3073320"/>
              <a:ext cx="64080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360760" y="2508120"/>
              <a:ext cx="1440" cy="56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12600" y="1386360"/>
              <a:ext cx="1080" cy="113148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08280" y="1390680"/>
              <a:ext cx="10864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6800" y="2514240"/>
              <a:ext cx="958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5760" y="5392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Art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3920" y="5419440"/>
              <a:ext cx="149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Order receip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4480" y="5285520"/>
              <a:ext cx="172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quest Health Certificates, Licen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7680" y="506808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6280" y="4857120"/>
              <a:ext cx="1119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e-shipment Inspe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23800" y="4715280"/>
              <a:ext cx="132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ustoms formalities (Inlan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29800" y="492660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nufa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92320" y="436752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ad and despa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3120" y="282492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oof of ex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91720" y="2611440"/>
              <a:ext cx="82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wards clear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938760" y="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3ff"/>
                </a:solidFill>
                <a:latin typeface="Arial"/>
              </a:rPr>
              <a:t>Economic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914400" y="762120"/>
            <a:ext cx="0" cy="5410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6172200"/>
            <a:ext cx="6470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984240" y="1447560"/>
            <a:ext cx="682308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ship-container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cp:lastPrinted>2004-11-30T09:13:18Z</cp:lastPrinted>
  <dcterms:modified xsi:type="dcterms:W3CDTF">2006-06-13T13:06:35Z</dcterms:modified>
  <cp:revision>349</cp:revision>
  <dc:subject/>
  <dc:title>CEFACT Group Report Template</dc:title>
</cp:coreProperties>
</file>