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9752013" cy="6854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C086-42AB-45C6-9407-130F907E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EFF9-8089-437A-80C5-8E857FD1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6949-96B0-43C1-9573-1EA8A243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0351-F660-4D6A-B150-3D0F4ADB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9B80-E6D6-480D-8102-09388240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40E3-31ED-45D1-A6B8-F818AAF1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DEAF-F910-4E83-B19E-F2064B42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5444-6395-4D0D-8202-93DEA1A5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F074-E8CB-4FD8-B389-E4EAFAF4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F972-1760-47C2-A6BD-723D3FB4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910B-E6BC-4AF3-812C-C09326C0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133F-FB8E-4247-913E-270C08D1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8408-B57D-4272-A5A0-D632394C8C0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16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57B3-A319-4019-B9BE-318F5B6A2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990720" y="0"/>
            <a:ext cx="11049120" cy="6845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1481760" y="6095880"/>
            <a:ext cx="6114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ited Nations Conference on Trade and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533520" y="2133720"/>
            <a:ext cx="10058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6000" spc="-1" strike="noStrike">
                <a:solidFill>
                  <a:srgbClr val="000000"/>
                </a:solidFill>
                <a:latin typeface="Times New Roman"/>
              </a:rPr>
              <a:t>Implementation Issu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464832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Times New Roman"/>
              </a:rPr>
              <a:t>Workshop on Trade Facil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6760" y="5334120"/>
            <a:ext cx="483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sinau, Moldova, 12-13 June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und-table on Trade Facilitation Implem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E308-91BD-4BA7-8319-FCFE299DDD9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A41C45-DA6C-4FE4-A070-F735000787F7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ffective implementation of any TF Agenda requir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27380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adest possible commitment from Government institu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ve and professional support from the Business commun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ion &amp; coordination of trade-related assistance (among donors and among implementing agenci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reating institutional changes takes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und-table on Trade Facilitation Imple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7BA1-8B5D-4B66-905E-8A0CE576FD8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DFE082-BC02-4106-A41A-3DBC29741F31}" type="datetime1">
              <a:rPr lang="en-US"/>
              <a:t>07/31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855520" y="2416320"/>
            <a:ext cx="343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ence </a:t>
            </a:r>
            <a:r>
              <a:rPr b="1" lang="fr-CH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thlieb</a:t>
            </a:r>
            <a:br>
              <a:rPr sz="2800"/>
            </a:br>
            <a:r>
              <a:rPr b="0" lang="fr-CH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axence.orthlieb@unctad.or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1480" y="1519200"/>
            <a:ext cx="273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er </a:t>
            </a:r>
            <a:r>
              <a:rPr b="1" lang="fr-CH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ust</a:t>
            </a:r>
            <a:br>
              <a:rPr sz="2800"/>
            </a:br>
            <a:r>
              <a:rPr b="0" lang="fr-CH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eter.faust@unctad.or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53520" y="3311640"/>
            <a:ext cx="303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 </a:t>
            </a:r>
            <a:r>
              <a:rPr b="1" lang="fr-CH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ffmann</a:t>
            </a:r>
            <a:br>
              <a:rPr sz="2800"/>
            </a:br>
            <a:r>
              <a:rPr b="0" lang="fr-CH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jan.hoffmann@unctad.or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04960" y="5105520"/>
            <a:ext cx="7467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Helvetica-Narrow"/>
              </a:rPr>
              <a:t>Trade Logistics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Helvetica-Narrow"/>
              </a:rPr>
              <a:t>Division for Services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Helvetica-Narrow"/>
              </a:rPr>
              <a:t>for Development and Trade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800" y="4208400"/>
            <a:ext cx="286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sé </a:t>
            </a:r>
            <a:r>
              <a:rPr b="1" lang="fr-CH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biato</a:t>
            </a:r>
            <a:br>
              <a:rPr sz="2800"/>
            </a:br>
            <a:r>
              <a:rPr b="0" lang="fr-CH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jose.rubiato@unctad.or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Times New Roman"/>
              </a:rPr>
              <a:t>The present sit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GTF meetings have been mostly devoted to discussions on substantive issu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The proposals for clarification and improvement of the three GATT articles have put forward more than 60 possible meas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3300"/>
                </a:solidFill>
                <a:latin typeface="Times New Roman"/>
              </a:rPr>
              <a:t>If Members reach an agreement, some of the most relevant measures will be part of a WTO binding </a:t>
            </a:r>
            <a:r>
              <a:rPr b="1" lang="fr-CH" sz="3200" spc="-1" strike="noStrike">
                <a:solidFill>
                  <a:srgbClr val="ff3300"/>
                </a:solidFill>
                <a:latin typeface="Times New Roman"/>
              </a:rPr>
              <a:t>rule</a:t>
            </a:r>
            <a:r>
              <a:rPr b="0" lang="fr-CH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und-table on Trade Facilitation Imple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14FE-F85D-45E4-96D1-03F9E052968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B8977-7258-48D3-895F-BF63B331E4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00"/>
                </a:solidFill>
                <a:latin typeface="Times New Roman"/>
              </a:rPr>
              <a:t>But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re has been limited discussion on needs &amp; priorities with regard to the tabled propos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 developing countries have the capacity to implement the proposals? (para.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Will developed countries commit to adequately ensure support and assistance during the negotiations? (para. 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Will assistance be provided after the negotiations to implement commitments in accordance with their nature and scope? (para. 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What about transition economi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und-table on Trade Facilitation Imple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1847-8291-4935-AE65-AAA4F03051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63AB34-0BC9-4A9E-87B3-0389CAD547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00"/>
                </a:solidFill>
                <a:latin typeface="Times New Roman"/>
              </a:rPr>
              <a:t>A key 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To reach an agreement, developing country Members wish to kno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what the rules will be?   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to what extent they will receive the TA &amp; CA necessary to develop their capacity to implement the ru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Only when the rule is known, they will be able to assess their needs, formulate TA &amp;CB programmes and request S&amp;D Treat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und-table on Trade Facilitation Imple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F506-2ED8-4585-B5F9-FAF174C80C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F7315-55EB-40F2-8A7B-C3A00B4965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00"/>
                </a:solidFill>
                <a:latin typeface="Times New Roman"/>
              </a:rPr>
              <a:t>Proposed mecha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Signing the Single Undert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Capacity self-assess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Notification proced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Entry into force of the Agre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Formulation of the Capacity Building (CB) p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Notification of CB p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Implementation of CB p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Verification of Capacity acqui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Notification of the acquisition of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Full implementation of the Agreeme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05920" y="2971800"/>
            <a:ext cx="304560" cy="2438280"/>
          </a:xfrm>
          <a:prstGeom prst="downArrow">
            <a:avLst>
              <a:gd name="adj1" fmla="val 50000"/>
              <a:gd name="adj2" fmla="val 2001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44080" y="1600200"/>
            <a:ext cx="228600" cy="1295280"/>
          </a:xfrm>
          <a:prstGeom prst="downArrow">
            <a:avLst>
              <a:gd name="adj1" fmla="val 50000"/>
              <a:gd name="adj2" fmla="val 1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2895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16002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91240" y="1371600"/>
            <a:ext cx="1219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Year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36576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38960" y="2666880"/>
            <a:ext cx="1523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Year X+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3429000"/>
            <a:ext cx="1904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Year X+Y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10080" y="54100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6720" y="1789200"/>
            <a:ext cx="1908360" cy="912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imes New Roman"/>
              </a:rPr>
              <a:t>Transitional provisions outside TF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46720" y="4038480"/>
            <a:ext cx="1908360" cy="912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imes New Roman"/>
              </a:rPr>
              <a:t>Provisions of the agreement regarding S&amp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984080" y="9144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und-table on Trade Facilitation Imple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AF45-3B6C-4880-9BB5-841FF8D35E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293D01-9829-4C76-8CCB-762B6633CF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30040" y="2192400"/>
            <a:ext cx="1843200" cy="100800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Verdana"/>
              </a:rPr>
              <a:t>Capacity Self-assess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03440" y="2192400"/>
            <a:ext cx="1843200" cy="100800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Verdana"/>
              </a:rPr>
              <a:t>Capacity Building pl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34080" y="2192400"/>
            <a:ext cx="1842840" cy="100800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993300"/>
                </a:solidFill>
                <a:latin typeface="Verdana"/>
              </a:rPr>
              <a:t>Implement CB pl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21520" y="2192400"/>
            <a:ext cx="1843200" cy="100800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993300"/>
                </a:solidFill>
                <a:latin typeface="Verdana"/>
              </a:rPr>
              <a:t>Capacity Acqui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1734840" cy="6778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Verdana"/>
              </a:rPr>
              <a:t>Notification Proced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57440" y="4648320"/>
            <a:ext cx="1735200" cy="6778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CB plans not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75520" y="4649760"/>
            <a:ext cx="1735200" cy="6778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Rules in fo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07080" y="4649760"/>
            <a:ext cx="1898640" cy="6778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Capacity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57360" y="3444840"/>
            <a:ext cx="1897200" cy="36504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Verdana"/>
              </a:rPr>
              <a:t>For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4840" y="3368520"/>
            <a:ext cx="1896840" cy="9748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Verdana"/>
              </a:rPr>
              <a:t>N&amp;P and Gap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8520" y="3444840"/>
            <a:ext cx="1897200" cy="9748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Creation of Capacity based on notified pl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70" idx="3"/>
            <a:endCxn id="67" idx="1"/>
          </p:cNvCxnSpPr>
          <p:nvPr/>
        </p:nvCxnSpPr>
        <p:spPr>
          <a:xfrm flipV="1">
            <a:off x="2039760" y="2696400"/>
            <a:ext cx="464400" cy="2291400"/>
          </a:xfrm>
          <a:prstGeom prst="bentConnector3">
            <a:avLst>
              <a:gd name="adj1" fmla="val 49961"/>
            </a:avLst>
          </a:prstGeom>
          <a:ln w="381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1" idx="3"/>
            <a:endCxn id="68" idx="1"/>
          </p:cNvCxnSpPr>
          <p:nvPr/>
        </p:nvCxnSpPr>
        <p:spPr>
          <a:xfrm flipV="1">
            <a:off x="4292640" y="2696400"/>
            <a:ext cx="542160" cy="2291400"/>
          </a:xfrm>
          <a:prstGeom prst="bentConnector3">
            <a:avLst>
              <a:gd name="adj1" fmla="val 49833"/>
            </a:avLst>
          </a:prstGeom>
          <a:ln w="381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3" idx="3"/>
            <a:endCxn id="69" idx="1"/>
          </p:cNvCxnSpPr>
          <p:nvPr/>
        </p:nvCxnSpPr>
        <p:spPr>
          <a:xfrm flipV="1">
            <a:off x="6705360" y="2696760"/>
            <a:ext cx="416520" cy="2293200"/>
          </a:xfrm>
          <a:prstGeom prst="bentConnector3">
            <a:avLst>
              <a:gd name="adj1" fmla="val 50000"/>
            </a:avLst>
          </a:prstGeom>
          <a:ln w="381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00"/>
                </a:solidFill>
                <a:latin typeface="Times New Roman"/>
              </a:rPr>
              <a:t>A possible mecha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3978360"/>
            <a:ext cx="1897200" cy="36504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Verdana"/>
              </a:rPr>
              <a:t>Not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05680" y="3505320"/>
            <a:ext cx="1897200" cy="36504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Verdana"/>
              </a:rPr>
              <a:t>Ver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86600" y="4038480"/>
            <a:ext cx="1897200" cy="36540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Verdana"/>
              </a:rPr>
              <a:t>Not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58672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8640" y="5851440"/>
            <a:ext cx="12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Time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4560" y="537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03840" y="5410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2560" y="5410080"/>
            <a:ext cx="6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n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28600" y="1225440"/>
            <a:ext cx="8691480" cy="832680"/>
            <a:chOff x="228600" y="1225440"/>
            <a:chExt cx="8691480" cy="832680"/>
          </a:xfrm>
        </p:grpSpPr>
        <p:sp>
          <p:nvSpPr>
            <p:cNvPr id="90" name=""/>
            <p:cNvSpPr/>
            <p:nvPr/>
          </p:nvSpPr>
          <p:spPr>
            <a:xfrm>
              <a:off x="228600" y="1720800"/>
              <a:ext cx="3048120" cy="32220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5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</a:t>
              </a:r>
              <a:r>
                <a:rPr b="0" lang="es-AR" sz="15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0" lang="es-AR" sz="1500" spc="-1" strike="noStrike">
                  <a:solidFill>
                    <a:srgbClr val="008000"/>
                  </a:solidFill>
                  <a:latin typeface="Arial"/>
                </a:rPr>
                <a:t>[Rule enforcement suspended]</a:t>
              </a:r>
              <a:r>
                <a:rPr b="0" lang="es-AR" sz="15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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52680" y="1720800"/>
              <a:ext cx="5567400" cy="337320"/>
            </a:xfrm>
            <a:prstGeom prst="rect">
              <a:avLst/>
            </a:prstGeom>
            <a:solidFill>
              <a:srgbClr val="fc9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</a:t>
              </a:r>
              <a:r>
                <a:rPr b="0" lang="es-AR" sz="1600" spc="-1" strike="noStrike">
                  <a:solidFill>
                    <a:srgbClr val="a50021"/>
                  </a:solidFill>
                  <a:latin typeface="Arial"/>
                </a:rPr>
                <a:t>  </a:t>
              </a:r>
              <a:r>
                <a:rPr b="0" lang="es-AR" sz="1600" spc="-1" strike="noStrike">
                  <a:solidFill>
                    <a:srgbClr val="a50021"/>
                  </a:solidFill>
                  <a:latin typeface="Arial"/>
                </a:rPr>
                <a:t>[Commitment to enforcement] </a:t>
              </a:r>
              <a:r>
                <a:rPr b="0" lang="es-AR" sz="16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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600" y="1225440"/>
              <a:ext cx="4041720" cy="3988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</a:t>
              </a:r>
              <a:r>
                <a:rPr b="0" lang="es-AR" sz="18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0" lang="es-AR" sz="2000" spc="-1" strike="noStrike">
                  <a:solidFill>
                    <a:srgbClr val="008000"/>
                  </a:solidFill>
                  <a:latin typeface="Arial"/>
                </a:rPr>
                <a:t>[</a:t>
              </a:r>
              <a:r>
                <a:rPr b="0" lang="es-AR" sz="1800" spc="-1" strike="noStrike">
                  <a:solidFill>
                    <a:srgbClr val="008000"/>
                  </a:solidFill>
                  <a:latin typeface="Arial"/>
                </a:rPr>
                <a:t>Time-limited assessment Period</a:t>
              </a:r>
              <a:r>
                <a:rPr b="0" lang="es-AR" sz="2000" spc="-1" strike="noStrike">
                  <a:solidFill>
                    <a:srgbClr val="008000"/>
                  </a:solidFill>
                  <a:latin typeface="Arial"/>
                </a:rPr>
                <a:t>]</a:t>
              </a:r>
              <a:r>
                <a:rPr b="0" lang="es-AR" sz="14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0" lang="es-AR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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67320" y="1239840"/>
              <a:ext cx="4348080" cy="368280"/>
            </a:xfrm>
            <a:prstGeom prst="rect">
              <a:avLst/>
            </a:prstGeom>
            <a:solidFill>
              <a:srgbClr val="fc9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</a:t>
              </a:r>
              <a:r>
                <a:rPr b="0" lang="es-AR" sz="1800" spc="-1" strike="noStrike">
                  <a:solidFill>
                    <a:srgbClr val="a50021"/>
                  </a:solidFill>
                  <a:latin typeface="Arial"/>
                </a:rPr>
                <a:t>        </a:t>
              </a:r>
              <a:r>
                <a:rPr b="0" lang="es-AR" sz="1800" spc="-1" strike="noStrike">
                  <a:solidFill>
                    <a:srgbClr val="a50021"/>
                  </a:solidFill>
                  <a:latin typeface="Arial"/>
                </a:rPr>
                <a:t>[S&amp;D Individual Period ]     </a:t>
              </a:r>
              <a:r>
                <a:rPr b="0" lang="es-AR" sz="1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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und-table on Trade Facilitation Implem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983B-65F6-4990-A549-DDFCB8283F8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397B8-8580-4D4C-8E52-FE77EC682B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00"/>
                </a:solidFill>
                <a:latin typeface="Times New Roman"/>
              </a:rPr>
              <a:t>Support from the 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Each Member establishes its own plan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No cut-off date for implementatio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If implementation capacity is not developed, there is no commitmen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Linkage between implementation capacity and TA &amp; C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und-table on Trade Facilitation Imple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20DF-92D4-4493-B930-DC03A7F6A5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99E294-F706-4C4C-9294-B8480F0AB7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000000"/>
                </a:solidFill>
                <a:latin typeface="Times New Roman"/>
              </a:rPr>
              <a:t>Pending issue:</a:t>
            </a:r>
            <a:br>
              <a:rPr sz="4400"/>
            </a:br>
            <a:r>
              <a:rPr b="1" lang="es-UY" sz="4400" spc="-1" strike="noStrike">
                <a:solidFill>
                  <a:srgbClr val="000000"/>
                </a:solidFill>
                <a:latin typeface="Times New Roman"/>
              </a:rPr>
              <a:t>Assistance after Negot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The scope of TA &amp; CB after negotiations remains uncl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Required funds towards TA &amp; CB in the area of TF are likely to incr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3300"/>
                </a:solidFill>
                <a:latin typeface="Times New Roman"/>
              </a:rPr>
              <a:t>BUT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Will these funds be sufficient to cater for the needs of developing countri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Will these funds be equally accessible to all requesting WTO Memb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und-table on Trade Facilitation Imple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C8B5-0932-4C24-B674-92DF5B05F5C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FC8928-C951-47C5-A312-6F598A7DF8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00"/>
                </a:solidFill>
                <a:latin typeface="Times New Roman"/>
              </a:rPr>
              <a:t>Do your « homework 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298440" indent="-29844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3300"/>
                </a:solidFill>
                <a:latin typeface="Times New Roman"/>
              </a:rPr>
              <a:t>Take the most relevant measures and review them with a </a:t>
            </a:r>
            <a:r>
              <a:rPr b="1" lang="fr-CH" sz="3200" spc="-1" strike="noStrike" u="sng">
                <a:solidFill>
                  <a:srgbClr val="ff3300"/>
                </a:solidFill>
                <a:uFillTx/>
                <a:latin typeface="Times New Roman"/>
              </a:rPr>
              <a:t>critical eye</a:t>
            </a:r>
            <a:r>
              <a:rPr b="1" lang="fr-CH" sz="32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1920" indent="-255960"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3300"/>
                </a:solidFill>
                <a:latin typeface="Times New Roman"/>
              </a:rPr>
              <a:t>What have you already don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1920" indent="-255960"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3300"/>
                </a:solidFill>
                <a:latin typeface="Times New Roman"/>
              </a:rPr>
              <a:t>What can you do yourself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1920" indent="-255960"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3300"/>
                </a:solidFill>
                <a:latin typeface="Times New Roman"/>
              </a:rPr>
              <a:t>What could you do with proper TA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1920" indent="-255960"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3300"/>
                </a:solidFill>
                <a:latin typeface="Times New Roman"/>
              </a:rPr>
              <a:t>How long it may tak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3300"/>
                </a:solidFill>
                <a:latin typeface="Times New Roman"/>
              </a:rPr>
              <a:t>Assess your Needs and formulate your TA requirements and flexible SD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und-table on Trade Facilitation Imple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E369-1A05-413D-BA47-2B8573BC3BB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D4CC18-107F-42B5-801A-A74914DDED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8:58:09Z</dcterms:created>
  <dc:creator>Unctad User</dc:creator>
  <dc:description/>
  <dc:language>en-US</dc:language>
  <cp:lastModifiedBy>Apostolov</cp:lastModifiedBy>
  <dcterms:modified xsi:type="dcterms:W3CDTF">2006-06-16T16:55:01Z</dcterms:modified>
  <cp:revision>28</cp:revision>
  <dc:subject/>
  <dc:title>PowerPoint Presentation</dc:title>
</cp:coreProperties>
</file>