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0E36-DFE8-4863-872F-AB8DAFB11FD4}" type="slidenum"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е решение о таможенной очистке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: таможня предоставляет (если есть запрос от торговца) в письменном виде объязательное решение о ключевых элементах торговой операции до того как она началась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Предварительное решение о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классификации пошли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для импортеров в стране и экспортеров из-за рубеж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всегда в письменном вид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объязательные для тамож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Опубликованные / общедоступные для все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Таможня может менять п.р если условия изменятс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Нотификация об измененном решении – в указанном сроке до и в письменном виде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Некоторые развивающиеся страны могут получ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Более длительный период до внедрения в практику конкретной меры (о которой страны договорились в ВТО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Больше гибк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Техническую помощ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Внимание: специальный и дифференцированный подход для разввщхся стран, не для стран с эккой пере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titled-1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762120"/>
            <a:ext cx="883944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Семинар ЕЭК ООН для переговорщиков ВТО по упрощению процедур торговли, 1</a:t>
            </a:r>
            <a:r>
              <a:rPr b="1" lang="bg-BG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-13 </a:t>
            </a:r>
            <a:r>
              <a:rPr b="1" lang="bg-BG" sz="2400" spc="-1" strike="noStrike">
                <a:solidFill>
                  <a:srgbClr val="003399"/>
                </a:solidFill>
                <a:latin typeface="Times New Roman"/>
              </a:rPr>
              <a:t>июня</a:t>
            </a: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 20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ь предложений для 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ереговоров ВТО по    у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ощени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ю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процедур торговли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док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ВТО 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N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/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F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/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W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/43/Ред.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Марио АПОСТОЛ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Региональный советник, ЕЭК О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o.apostolov@unec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Предложения (ст.VІІІ ГАТТ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ощение всех формальностей, процедур и требований данных и докумен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процедур и требований данных и докумен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сякие платы и налоги должны соответствовать “тоьлко сумме приблизительных затрат предоставленных услуг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пограничных ведомст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Единое окно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Гармонизация требуемых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Разделение освобождения товаров от процедур очист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ругие 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таможенный кодек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система классификации пошл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, касающиеся транзита товаров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V ГАТТ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вобода транзи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Никакие платы за пределы реальных затрат на предоставленные услуги (опубликовать все требуемые пла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вободный выбор маршру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Дальше в програм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2438280"/>
            <a:ext cx="8610480" cy="609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ЭК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ты: формуляр-образец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оды, ЭДИФА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28600" y="1219320"/>
            <a:ext cx="1219320" cy="1218960"/>
          </a:xfrm>
          <a:prstGeom prst="line">
            <a:avLst/>
          </a:prstGeom>
          <a:ln w="5079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295280"/>
            <a:ext cx="6629400" cy="0"/>
          </a:xfrm>
          <a:prstGeom prst="line">
            <a:avLst/>
          </a:prstGeom>
          <a:ln w="5079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1219320"/>
            <a:ext cx="1143000" cy="1371600"/>
          </a:xfrm>
          <a:prstGeom prst="line">
            <a:avLst/>
          </a:prstGeom>
          <a:ln w="5079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03480" y="990720"/>
            <a:ext cx="68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ТО – ОБЯЗАТЕЛЬ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РАВ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752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151080"/>
            <a:ext cx="8458200" cy="2494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Проекты по внедрению мер УПТ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Всемирный банк: АБР, TTFSE и др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ЮНКТАД: Пакистан, Непал, техн. сотр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ЮНИДО - лаборатории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bg-BG" sz="2700" spc="-1" strike="noStrike">
                <a:solidFill>
                  <a:srgbClr val="000000"/>
                </a:solidFill>
                <a:latin typeface="Times New Roman"/>
              </a:rPr>
              <a:t>ТЭС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– широкий спектр проектов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791320"/>
            <a:ext cx="8458200" cy="1002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Региональные инициативы с элементом УПТ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АТС, ЕС, СЕКИ, ТРАСЕКА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д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590920"/>
            <a:ext cx="0" cy="4267080"/>
          </a:xfrm>
          <a:prstGeom prst="line">
            <a:avLst/>
          </a:prstGeom>
          <a:ln w="228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15400" y="2590920"/>
            <a:ext cx="0" cy="4267080"/>
          </a:xfrm>
          <a:prstGeom prst="line">
            <a:avLst/>
          </a:prstGeom>
          <a:ln w="228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858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язятельные правила ВТО упростят задачи работающих по УП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4382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3984480" y="2057400"/>
            <a:ext cx="17037000" cy="559332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 для ЕЭ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яр образец ООН для торговых документов (UN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мест, товаров, транспорта, элементов данных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для электронного обмена информацией (Единого ок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тран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ство работать на основе международных стандартов и правил, чтобы преодолеть инерцию и создать политическую вол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бизнесменов будет легч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то нужн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6765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3984480" y="1371600"/>
            <a:ext cx="17037000" cy="642996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ая во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помощ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ирование проек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-частное сотрудничество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комендация 4 ЕЭК ООН: национальные организации по УПТ)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м надо определить свои позиции по всем вопро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акие потребности у стран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6765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3984480" y="1644480"/>
            <a:ext cx="17037000" cy="514980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ЭК и ЕКА организовали семинар о потремностях стран Африки в переговорах ВТО по УПТ в 2005 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ЭК организует сейчас такой семинар для стран СНГ в ВТ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о потребностей  и возможностей технической помощ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ww.unec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io.apostolov@unec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094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02b4"/>
                </a:solidFill>
                <a:latin typeface="Arial"/>
              </a:rPr>
              <a:t>United Nations Economic Commission for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39193" t="0" r="40991" b="0"/>
          <a:stretch/>
        </p:blipFill>
        <p:spPr>
          <a:xfrm>
            <a:off x="4114800" y="1638360"/>
            <a:ext cx="838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Times New Roman"/>
              </a:rPr>
              <a:t>Определение упрощения процедур торговли (УП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торговля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я комбинация деятельнос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ПТ -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упрощение, стандартизация и согласование процедур и</a:t>
            </a:r>
            <a:r>
              <a:rPr b="0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всей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оответствующей информации, требуемой для перемещения товаров от продавца к покупателю и для осуществления расчета»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Центр ООН по УПТ и Электронным Деловым Операциям (СЕФАКТ ООН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: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цеду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, методики и формальности, необходимые для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ния, предоставления и обработки данных требуемых д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вижения товаров в международной торговл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потоки включат в себя торговые данные и докумен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Times New Roman"/>
              </a:rPr>
              <a:t>Упрощение процедур торговл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ОБЛЕМА – требуются более 40 документов с повторяющимися данными  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=&gt;  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прощение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процедур и доку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ньше да лучше требования данных и</a:t>
            </a:r>
            <a:r>
              <a:rPr b="0" lang="bg-BG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ку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гласование процедур и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документов с международными стандар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втоматизация (компьютеризация) документов и проце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ЕЗУЛЬТАТ: быстрее передвигаются товары и торговая информация через гран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Цели упрощения </a:t>
            </a:r>
            <a:r>
              <a:rPr b="0" lang="ru-RU" sz="43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орговых 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процед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утем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ключения ненужных компонентов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, стандартизация и согласование требуемых документов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меньшение числа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кументов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и координация административных процедур пересечения границы, особенно в работе таможни, учреждений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овершенствование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мпъютеризация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ка информаци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и товаров на протяжении всей сделк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систем оплаты после завершения сделк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доверительных торговых отношений с помощью качественного обмена информаци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Страны без выхода на мор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Даже если они улучшат управление своих границ, они зависят от ситуации у сосед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блемы транзита через соседние государства: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несвоевременное уведомление об изменениях правил у соседей, забастовки, бюрократия, неадекватная инфраструктура, зависимость от транспортных компаний, закрытый валютный режим и т.д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– все это замедляет перевозку грузов. А если это быстро портящиеся продукты (как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свежие продукты из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олдавии и Грузии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Пример: затраты на логистику торговли у Боливии 43% больше чем у других стран Меркосур (у Парагвая 66%) и 192% чем у США (у Парагвая 240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ПРОЦЕСС МЕЖДУНАРОДНЫХ ТОРГОВЫХ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ОПЕРАЦИЙ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 (модель цепочки поставо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Торговые процед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Вступление в договорные отнош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Заказать това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Указать условия доставк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Требовать оплат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3212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Транспортные процед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Вступление в договорные отношения по транспортировк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Собрать,перевезти и доставить гру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накладную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узовые квитанции, указ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ания о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статус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товара и т.д.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цедуры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контр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лучить лицензии на 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мпорт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э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кспорт и т.д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дать таможенные деклар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дать декларацию о груз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облюдать процедуры торговой безопасност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овести таможенную очистку товаров для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Экспорта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Импорт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972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нансовые процед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оценку кредитоспособ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страхов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креди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извести оплат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ыдать заяв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0720" y="38862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КЛЮ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Т В СЕБ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16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4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95480"/>
            <a:ext cx="1532160" cy="990720"/>
          </a:xfrm>
          <a:custGeom>
            <a:avLst/>
            <a:gdLst>
              <a:gd name="textAreaLeft" fmla="*/ 0 w 1532160"/>
              <a:gd name="textAreaRight" fmla="*/ 1532520 w 1532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68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00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1845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Подготовить для экс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276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Эк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32767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3276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Им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066680" y="2590920"/>
            <a:ext cx="2819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590920"/>
            <a:ext cx="2743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7848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196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ОТПРАВ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8360" y="19432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УПИТ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1936800"/>
            <a:ext cx="11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ПЛАТ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1845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Подготовить для им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zoll" descr=""/>
          <p:cNvPicPr/>
          <p:nvPr/>
        </p:nvPicPr>
        <p:blipFill>
          <a:blip r:embed="rId1"/>
          <a:stretch/>
        </p:blipFill>
        <p:spPr>
          <a:xfrm>
            <a:off x="5715000" y="62308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80" name="maut" descr=""/>
          <p:cNvPicPr/>
          <p:nvPr/>
        </p:nvPicPr>
        <p:blipFill>
          <a:blip r:embed="rId2"/>
          <a:stretch/>
        </p:blipFill>
        <p:spPr>
          <a:xfrm>
            <a:off x="7526160" y="62308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81" name="truck" descr=""/>
          <p:cNvPicPr/>
          <p:nvPr/>
        </p:nvPicPr>
        <p:blipFill>
          <a:blip r:embed="rId3"/>
          <a:stretch/>
        </p:blipFill>
        <p:spPr>
          <a:xfrm>
            <a:off x="3868560" y="62308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82" name="verhandlung" descr=""/>
          <p:cNvPicPr/>
          <p:nvPr/>
        </p:nvPicPr>
        <p:blipFill>
          <a:blip r:embed="rId4"/>
          <a:stretch/>
        </p:blipFill>
        <p:spPr>
          <a:xfrm>
            <a:off x="2116080" y="6230880"/>
            <a:ext cx="55080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юльская базовая договорен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в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4г. ВТО принял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юльск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ю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базов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ю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договоренност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 параметры дл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ийског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унда торговых переговор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Параметры договоренностей для ведения переговоров об упрощении процедур торговли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говор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точнение и прояснение стате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I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Т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г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ьн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ифференцированн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 для развивающихся стран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ническую помощь и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щи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е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г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трудничества м/у таможней и другими агентствами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лане УП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533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ри статьи ГАТТ в основе предстоящих переговоров в В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6765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3984480" y="1644480"/>
            <a:ext cx="17037000" cy="54856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V - транзит – Государства должны пропускать транзит свободно, уплачиваемы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логи (пошлины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должны считаться как источник дохода для государства или индивидов, а должны только покрывать расходы. Исключение дискриминации. Наиболее благоприятствованная нация. ЕЭК  – Конвенция МДП (TIR) и Конвенция о гармонизации контроля товаров на границ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VIII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логи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уменьшение формальностей и налогов импорта и экспорта; и упрощение требований документов и процедур. Возможные решения: международные стандарты для бумажных и электронных документов (ФООНТД), Единое Окно, и т.д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X – прозрачность в публикации процедур. Если страны и региональные инициативы установят веб серверы для всех документов и процедур, напр. вдоль корридор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Публикация правил и норм (ст.Х ГАТТ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Больше: прозрачности, добросовестного управления и предсказуемости прави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де публиковать (в республиканской газете, по интернету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 каком язы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ериод м/у публикацией и внедре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роцедуры апел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редварительное решение (об очистк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0:12:34Z</dcterms:created>
  <dc:creator>Balaji</dc:creator>
  <dc:description/>
  <dc:language>en-US</dc:language>
  <cp:lastModifiedBy>Apostolov</cp:lastModifiedBy>
  <dcterms:modified xsi:type="dcterms:W3CDTF">2006-06-15T13:59:42Z</dcterms:modified>
  <cp:revision>70</cp:revision>
  <dc:subject/>
  <dc:title>PowerPoint Presentation</dc:title>
</cp:coreProperties>
</file>