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1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A679-9801-4E0F-89C0-39918F85D64A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40F-9789-4D2D-AF4D-21946749AC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5463-1B92-48E0-B529-88E2E323F6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1573-E8F3-4A11-B187-828FE34ECC75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uthorisation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ssued for a customs reg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authorisation of the consignor requires customs debt flat guarantee, makes possible a separate transit data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. Issued for a set of messages, defines data elements and their usage. Common for all regimes making use of the same message data set (NCTS + ECS + …if 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uthorised consignor declares electronically, can make use of all types of guarantee of guarantee documents, cash deposit,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ssued for a person identification in electronical communication, possible to be used for all regimes and message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is necessary for presentation of any legally binding document in electronic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single person (firm) registers any number of certificates for purposes of digital signature and only a single one for encryp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Hierarchy of simplifications and author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hange/cancellation of a higher level certificate does not effect the existence of lower level certif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ancellation or  temporary invalidation of lower lever certificates causes higher lever certificates unavail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84D9-4A01-4CD9-83F6-0D0DF56104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2D80-DBC8-4E36-B6BD-A6E8F4F65223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D41-89A7-4EA7-B99E-E861EDE7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3A9-3629-4238-8594-8ADBBC7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F9F-14C2-441A-A250-08F4D338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7C0-89FD-4F53-A964-5BFD7853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2C9F-02ED-4D5D-8521-E82480DC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7C1-50DC-442F-974E-79F7A41F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B39C-0C7B-4FEB-8958-6767AE42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BEEC-DDBD-44FF-B023-99655073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80FC-CF03-492F-BB07-2F931B8B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21B7-2670-4BED-B6AF-B518A6CA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DEDC-A5BD-49EF-AB54-DC281F9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751-A90A-4E2F-9629-77C39794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79F-A1F6-4E00-8CB4-3AE07A7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F81-D60D-4C45-8107-2CB3320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D07E-77CF-4017-BC48-80B608E6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27B3-B00F-4962-B11B-E64B8651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1E4-958F-4FFD-A568-7A91658B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5AA-B08C-4E39-B36D-147BC65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0DF-968E-47F0-AD4B-C9683B17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379-49FF-4556-A417-E405031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605-5091-4E83-8CB9-EC42D4F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83A-7366-4CCE-B071-A19FE19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19E-D0FD-44E2-9446-2187B85D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040-F35C-4D3F-ADDC-E79137D9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8a1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D0F-33D9-4668-B90D-56D0C203018F}" type="datetime">
              <a:rPr b="0" lang="en-US" sz="1400" spc="-1" strike="noStrike">
                <a:solidFill>
                  <a:srgbClr val="ee8a1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195280" y="6400800"/>
            <a:ext cx="43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ee8a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ee8a1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16360" y="6400800"/>
            <a:ext cx="208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ee8a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32C-E317-41CE-82F7-A4712B409E46}" type="slidenum">
              <a:rPr b="0" lang="fi-FI" sz="1400" spc="-1" strike="noStrike">
                <a:solidFill>
                  <a:srgbClr val="ee8a1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6308640"/>
            <a:ext cx="82994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24000" y="1125360"/>
            <a:ext cx="8226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B38C-8403-48DE-B1EA-6FBB3E46C02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5577-5397-4A01-8EE7-CF5F9FAE5CDF}" type="slidenum"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mailto:komon@cs.mfcr.cz" TargetMode="External"/><Relationship Id="rId7" Type="http://schemas.openxmlformats.org/officeDocument/2006/relationships/hyperlink" Target="mailto:konecny@cs.mfcr.cz" TargetMode="External"/><Relationship Id="rId8" Type="http://schemas.openxmlformats.org/officeDocument/2006/relationships/hyperlink" Target="mailto:konecny@cs.mfcr.cz" TargetMode="External"/><Relationship Id="rId9" Type="http://schemas.openxmlformats.org/officeDocument/2006/relationships/hyperlink" Target="mailto:konecny@cs.mfcr.cz" TargetMode="External"/><Relationship Id="rId10" Type="http://schemas.openxmlformats.org/officeDocument/2006/relationships/hyperlink" Target="mailto:konecny@cs.mfcr.cz" TargetMode="External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EU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lectronic Customs initiative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- implementation in the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Czech Republic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bor Klap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(NPM of ECS and NC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klapal@cs.mfcr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1762200" cy="271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093080" y="3068640"/>
            <a:ext cx="181584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5776-95AB-4B29-95BA-7CCA9EF5FF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C433296-DA3D-4685-B1E5-3E75F0D2E68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Z - Transit – not closed after 4 month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4611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258920" y="220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2205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22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p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A03-9797-4689-A218-833025CD9E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467EA-BBD9-4574-B30A-F71C933A5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pain – electronic custo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1197000"/>
          <a:ext cx="84247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42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E69-73E2-4F68-A5CC-9F12A794E6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8A287-B273-4DFE-9EBA-5CB1524CE0DC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4321080" cy="231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03280" y="1052640"/>
            <a:ext cx="214560" cy="4316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49440" y="906480"/>
            <a:ext cx="142920" cy="57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881080" y="906480"/>
            <a:ext cx="215640" cy="504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22800">
            <a:off x="1544760" y="1751040"/>
            <a:ext cx="169920" cy="47520"/>
          </a:xfrm>
          <a:custGeom>
            <a:avLst/>
            <a:gdLst/>
            <a:ahLst/>
            <a:rect l="l" t="t" r="r" b="b"/>
            <a:pathLst>
              <a:path w="202" h="212">
                <a:moveTo>
                  <a:pt x="83" y="212"/>
                </a:moveTo>
                <a:lnTo>
                  <a:pt x="202" y="139"/>
                </a:lnTo>
                <a:lnTo>
                  <a:pt x="64" y="0"/>
                </a:lnTo>
                <a:lnTo>
                  <a:pt x="0" y="77"/>
                </a:lnTo>
                <a:lnTo>
                  <a:pt x="83" y="21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160" bIns="21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0822800">
            <a:off x="2515320" y="1777320"/>
            <a:ext cx="698760" cy="1918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0822800">
            <a:off x="2066400" y="1828080"/>
            <a:ext cx="57492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22800">
            <a:off x="2778840" y="1447200"/>
            <a:ext cx="1016280" cy="2775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22800">
            <a:off x="1634760" y="1434600"/>
            <a:ext cx="763560" cy="2527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22800">
            <a:off x="3473280" y="1517400"/>
            <a:ext cx="573120" cy="1569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22800">
            <a:off x="3533760" y="1639080"/>
            <a:ext cx="57168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22800">
            <a:off x="2954160" y="1691640"/>
            <a:ext cx="89568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22800">
            <a:off x="2201400" y="1410480"/>
            <a:ext cx="89388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22800">
            <a:off x="1561680" y="1809360"/>
            <a:ext cx="635040" cy="1746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22800">
            <a:off x="1247400" y="1582200"/>
            <a:ext cx="885960" cy="2462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22800">
            <a:off x="1151640" y="1722600"/>
            <a:ext cx="855720" cy="1936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8600" y="1494000"/>
            <a:ext cx="2566800" cy="46656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432"/>
                </a:moveTo>
                <a:lnTo>
                  <a:pt x="48" y="240"/>
                </a:lnTo>
                <a:lnTo>
                  <a:pt x="192" y="48"/>
                </a:lnTo>
                <a:lnTo>
                  <a:pt x="528" y="0"/>
                </a:lnTo>
                <a:lnTo>
                  <a:pt x="864" y="0"/>
                </a:lnTo>
                <a:lnTo>
                  <a:pt x="1008" y="96"/>
                </a:lnTo>
                <a:lnTo>
                  <a:pt x="1056" y="288"/>
                </a:lnTo>
                <a:lnTo>
                  <a:pt x="864" y="528"/>
                </a:lnTo>
                <a:lnTo>
                  <a:pt x="192" y="624"/>
                </a:lnTo>
                <a:lnTo>
                  <a:pt x="0" y="43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290520" cy="299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266920" y="765000"/>
            <a:ext cx="290520" cy="300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720" y="15559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7440" y="790560"/>
            <a:ext cx="260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310520" y="717480"/>
            <a:ext cx="349200" cy="576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734160" y="717480"/>
            <a:ext cx="262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822800">
            <a:off x="5624280" y="1562040"/>
            <a:ext cx="206280" cy="47520"/>
          </a:xfrm>
          <a:custGeom>
            <a:avLst/>
            <a:gdLst/>
            <a:ahLst/>
            <a:rect l="l" t="t" r="r" b="b"/>
            <a:pathLst>
              <a:path w="202" h="212">
                <a:moveTo>
                  <a:pt x="83" y="212"/>
                </a:moveTo>
                <a:lnTo>
                  <a:pt x="202" y="139"/>
                </a:lnTo>
                <a:lnTo>
                  <a:pt x="64" y="0"/>
                </a:lnTo>
                <a:lnTo>
                  <a:pt x="0" y="77"/>
                </a:lnTo>
                <a:lnTo>
                  <a:pt x="83" y="21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160" bIns="21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822800">
            <a:off x="6803640" y="1589040"/>
            <a:ext cx="846000" cy="1922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22800">
            <a:off x="6259320" y="1639080"/>
            <a:ext cx="69660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22800">
            <a:off x="7122240" y="1258560"/>
            <a:ext cx="1233720" cy="2779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0822800">
            <a:off x="5733720" y="1245960"/>
            <a:ext cx="927000" cy="2523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0822800">
            <a:off x="7965720" y="1328040"/>
            <a:ext cx="69516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0822800">
            <a:off x="8038800" y="1450080"/>
            <a:ext cx="69372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22800">
            <a:off x="7335360" y="1502640"/>
            <a:ext cx="108756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22800">
            <a:off x="6423120" y="1222200"/>
            <a:ext cx="1084320" cy="2448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0822800">
            <a:off x="5644440" y="1620000"/>
            <a:ext cx="771480" cy="1746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22800">
            <a:off x="5262480" y="1393560"/>
            <a:ext cx="1076400" cy="2458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0822800">
            <a:off x="5148000" y="1533600"/>
            <a:ext cx="1038240" cy="1936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6800" y="1305000"/>
            <a:ext cx="3116160" cy="46656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432"/>
                </a:moveTo>
                <a:lnTo>
                  <a:pt x="48" y="240"/>
                </a:lnTo>
                <a:lnTo>
                  <a:pt x="192" y="48"/>
                </a:lnTo>
                <a:lnTo>
                  <a:pt x="528" y="0"/>
                </a:lnTo>
                <a:lnTo>
                  <a:pt x="864" y="0"/>
                </a:lnTo>
                <a:lnTo>
                  <a:pt x="1008" y="96"/>
                </a:lnTo>
                <a:lnTo>
                  <a:pt x="1056" y="288"/>
                </a:lnTo>
                <a:lnTo>
                  <a:pt x="864" y="528"/>
                </a:lnTo>
                <a:lnTo>
                  <a:pt x="192" y="624"/>
                </a:lnTo>
                <a:lnTo>
                  <a:pt x="0" y="43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653080" y="501480"/>
            <a:ext cx="352440" cy="300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6805440" y="430200"/>
            <a:ext cx="352440" cy="299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013440" y="136692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VAN oper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453080" y="1077840"/>
            <a:ext cx="525240" cy="43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45080" y="933480"/>
            <a:ext cx="1731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092720" y="1077840"/>
            <a:ext cx="1746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0822800">
            <a:off x="5840280" y="1778040"/>
            <a:ext cx="206640" cy="47520"/>
          </a:xfrm>
          <a:custGeom>
            <a:avLst/>
            <a:gdLst/>
            <a:ahLst/>
            <a:rect l="l" t="t" r="r" b="b"/>
            <a:pathLst>
              <a:path w="202" h="212">
                <a:moveTo>
                  <a:pt x="83" y="212"/>
                </a:moveTo>
                <a:lnTo>
                  <a:pt x="202" y="139"/>
                </a:lnTo>
                <a:lnTo>
                  <a:pt x="64" y="0"/>
                </a:lnTo>
                <a:lnTo>
                  <a:pt x="0" y="77"/>
                </a:lnTo>
                <a:lnTo>
                  <a:pt x="83" y="21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160" bIns="21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22800">
            <a:off x="7019640" y="1804680"/>
            <a:ext cx="846000" cy="1918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822800">
            <a:off x="6475320" y="1855080"/>
            <a:ext cx="69696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0822800">
            <a:off x="7338240" y="1474200"/>
            <a:ext cx="1233720" cy="2775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822800">
            <a:off x="5949720" y="1461960"/>
            <a:ext cx="927000" cy="2527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22800">
            <a:off x="8181720" y="1544400"/>
            <a:ext cx="695160" cy="15696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22800">
            <a:off x="8254800" y="1666080"/>
            <a:ext cx="693720" cy="15732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0822800">
            <a:off x="7551360" y="1718640"/>
            <a:ext cx="108756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0822800">
            <a:off x="6638760" y="1437840"/>
            <a:ext cx="1084320" cy="2444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0822800">
            <a:off x="5860440" y="1836000"/>
            <a:ext cx="771480" cy="17460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22800">
            <a:off x="5478480" y="1609560"/>
            <a:ext cx="1076400" cy="24624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0822800">
            <a:off x="5363640" y="1749600"/>
            <a:ext cx="1038240" cy="193680"/>
          </a:xfrm>
          <a:prstGeom prst="ellips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62440" y="1521000"/>
            <a:ext cx="3116520" cy="46656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432"/>
                </a:moveTo>
                <a:lnTo>
                  <a:pt x="48" y="240"/>
                </a:lnTo>
                <a:lnTo>
                  <a:pt x="192" y="48"/>
                </a:lnTo>
                <a:lnTo>
                  <a:pt x="528" y="0"/>
                </a:lnTo>
                <a:lnTo>
                  <a:pt x="864" y="0"/>
                </a:lnTo>
                <a:lnTo>
                  <a:pt x="1008" y="96"/>
                </a:lnTo>
                <a:lnTo>
                  <a:pt x="1056" y="288"/>
                </a:lnTo>
                <a:lnTo>
                  <a:pt x="864" y="528"/>
                </a:lnTo>
                <a:lnTo>
                  <a:pt x="192" y="624"/>
                </a:lnTo>
                <a:lnTo>
                  <a:pt x="0" y="43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6302520" y="646200"/>
            <a:ext cx="352440" cy="29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7094520" y="790560"/>
            <a:ext cx="352440" cy="29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229440" y="158256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Arial"/>
              </a:rPr>
              <a:t>VAN operato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2997360"/>
            <a:ext cx="3311640" cy="287280"/>
          </a:xfrm>
          <a:prstGeom prst="rect">
            <a:avLst/>
          </a:prstGeom>
          <a:solidFill>
            <a:srgbClr val="a1fb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00"/>
                </a:solidFill>
                <a:latin typeface="Arial"/>
              </a:rPr>
              <a:t>BIZTA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980200">
            <a:off x="2484000" y="2203560"/>
            <a:ext cx="934920" cy="360360"/>
          </a:xfrm>
          <a:prstGeom prst="leftRightArrow">
            <a:avLst>
              <a:gd name="adj1" fmla="val 50000"/>
              <a:gd name="adj2" fmla="val 51648"/>
            </a:avLst>
          </a:prstGeom>
          <a:solidFill>
            <a:srgbClr val="ccff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7564800">
            <a:off x="5052960" y="2154600"/>
            <a:ext cx="981000" cy="360360"/>
          </a:xfrm>
          <a:prstGeom prst="leftRightArrow">
            <a:avLst>
              <a:gd name="adj1" fmla="val 50000"/>
              <a:gd name="adj2" fmla="val 54193"/>
            </a:avLst>
          </a:prstGeom>
          <a:solidFill>
            <a:srgbClr val="ccff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 rot="16200000">
            <a:off x="-222120" y="3974760"/>
            <a:ext cx="217188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Customs</a:t>
            </a:r>
            <a:endParaRPr b="0" lang="en-US" sz="2400" spc="1" strike="noStrike">
              <a:ln w="9360">
                <a:solidFill>
                  <a:srgbClr val="ccffcc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779560"/>
            <a:ext cx="125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2997360"/>
            <a:ext cx="935280" cy="863280"/>
          </a:xfrm>
          <a:prstGeom prst="ellipse">
            <a:avLst/>
          </a:prstGeom>
          <a:solidFill>
            <a:srgbClr val="a1fb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Digi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Certic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66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87640" y="836640"/>
            <a:ext cx="934920" cy="76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ff99"/>
                </a:solidFill>
                <a:latin typeface="Arial"/>
              </a:rPr>
              <a:t>Go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ff99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2987640" y="189000"/>
            <a:ext cx="347760" cy="358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4067280" y="3357720"/>
            <a:ext cx="695160" cy="718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0920" y="11253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ff00"/>
                </a:solidFill>
                <a:latin typeface="Arial"/>
              </a:rPr>
              <a:t>(e-mai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2708280"/>
            <a:ext cx="4392720" cy="217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7528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Arial"/>
              </a:rPr>
              <a:t>Customs IT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549360"/>
            <a:ext cx="73080" cy="287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851200">
            <a:off x="4174920" y="-205920"/>
            <a:ext cx="654120" cy="1444320"/>
          </a:xfrm>
          <a:custGeom>
            <a:avLst/>
            <a:gdLst>
              <a:gd name="textAreaLeft" fmla="*/ 87480 w 654120"/>
              <a:gd name="textAreaRight" fmla="*/ 566640 w 654120"/>
              <a:gd name="textAreaTop" fmla="*/ 241920 h 1444320"/>
              <a:gd name="textAreaBottom" fmla="*/ 1100880 h 144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39" stAng="-5400000" swAng="-5400000"/>
                <a:lnTo>
                  <a:pt x="0" y="12843"/>
                </a:lnTo>
                <a:arcTo wR="21600" hR="7239" stAng="10800000" swAng="-2608102"/>
                <a:lnTo>
                  <a:pt x="14400" y="21186"/>
                </a:lnTo>
                <a:lnTo>
                  <a:pt x="21600" y="17280"/>
                </a:lnTo>
                <a:lnTo>
                  <a:pt x="14400" y="12546"/>
                </a:lnTo>
                <a:lnTo>
                  <a:pt x="14400" y="14064"/>
                </a:lnTo>
                <a:arcTo wR="21600" hR="7239" stAng="8191898" swAng="2127603"/>
                <a:lnTo>
                  <a:pt x="1684" y="10041"/>
                </a:lnTo>
                <a:arcTo wR="21600" hR="7239" stAng="-10319501" swAng="4919501"/>
                <a:close/>
              </a:path>
              <a:path fill="darkenLess" w="21600" h="21600">
                <a:moveTo>
                  <a:pt x="21600" y="0"/>
                </a:moveTo>
                <a:arcTo wR="21600" hR="7239" stAng="-5400000" swAng="-5400000"/>
                <a:lnTo>
                  <a:pt x="0" y="7239"/>
                </a:lnTo>
                <a:arcTo wR="21600" hR="7239" stAng="10800000" swAng="-480499"/>
                <a:lnTo>
                  <a:pt x="1684" y="10041"/>
                </a:lnTo>
                <a:arcTo wR="21600" hR="7239" stAng="-10319501" swAng="4919501"/>
                <a:close/>
              </a:path>
            </a:pathLst>
          </a:custGeom>
          <a:noFill/>
          <a:ln w="3168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7564800">
            <a:off x="3324240" y="4315320"/>
            <a:ext cx="981000" cy="360360"/>
          </a:xfrm>
          <a:prstGeom prst="leftRightArrow">
            <a:avLst>
              <a:gd name="adj1" fmla="val 50000"/>
              <a:gd name="adj2" fmla="val 54193"/>
            </a:avLst>
          </a:prstGeom>
          <a:solidFill>
            <a:srgbClr val="33cc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831400">
            <a:off x="4114080" y="4575240"/>
            <a:ext cx="1890720" cy="360360"/>
          </a:xfrm>
          <a:prstGeom prst="leftRightArrow">
            <a:avLst>
              <a:gd name="adj1" fmla="val 50000"/>
              <a:gd name="adj2" fmla="val 104449"/>
            </a:avLst>
          </a:prstGeom>
          <a:solidFill>
            <a:srgbClr val="33cccc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32720" y="4724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presentation of information to customs off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32720" y="26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58920" y="115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tr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1268280"/>
            <a:ext cx="1352520" cy="466200"/>
          </a:xfrm>
          <a:prstGeom prst="rect">
            <a:avLst/>
          </a:prstGeom>
          <a:solidFill>
            <a:srgbClr val="ee8a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99"/>
                </a:solidFill>
                <a:latin typeface="Arial"/>
              </a:rPr>
              <a:t>Web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99"/>
                </a:solidFill>
                <a:latin typeface="Arial"/>
              </a:rPr>
              <a:t>for S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18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tr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2997360"/>
            <a:ext cx="14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/M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68A-477B-4C8A-BAD3-B6271341B9A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9943D-EBD0-4AE0-A146-BC15B54A9451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Processes of standarisation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- La</a:t>
            </a: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ye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95280" y="1197000"/>
            <a:ext cx="5562720" cy="23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Authoris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signors | Consignees | Exporters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uarant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uthorised location of goods,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imers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40360" y="126828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 authorisations and parameters in the system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40360" y="28526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 managed by customs offices vi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Intranet program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3500280"/>
            <a:ext cx="6113520" cy="1872000"/>
          </a:xfrm>
          <a:prstGeom prst="rect">
            <a:avLst/>
          </a:prstGeom>
          <a:solidFill>
            <a:srgbClr val="a1f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 -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hared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N operator  |  Web cl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nique 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tact information (cust. and I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5373720"/>
            <a:ext cx="6624720" cy="936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lvl="1" marL="727920" indent="-280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gital certifica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or signature | encryption of data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(sharing - comments…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ocation list each hour,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0360" y="4581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 profiles, account, complete history of chang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59F-8531-4CC9-BA55-9CADAB790A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838BC-69C0-4108-8220-02CF0F8911F4}" type="datetime1">
              <a:rPr lang="en-US"/>
              <a:t>07/30/26</a:t>
            </a:fld>
          </a:p>
        </p:txBody>
      </p:sp>
    </p:spTree>
  </p:cSld>
  <p:transition spd="med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ctronic signature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– WCO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1581120" y="3859200"/>
            <a:ext cx="4191120" cy="152640"/>
          </a:xfrm>
          <a:prstGeom prst="roundRect">
            <a:avLst>
              <a:gd name="adj" fmla="val 49977"/>
            </a:avLst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19162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Electronic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252576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Ver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32878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Integ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00" y="39736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Non-repud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465948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Legal val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7680" y="534528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66"/>
                </a:solidFill>
                <a:latin typeface="Verdana"/>
              </a:rPr>
              <a:t>Permanent val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86160" y="115416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Class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sign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48280" y="1855800"/>
            <a:ext cx="533520" cy="642600"/>
            <a:chOff x="5048280" y="1855800"/>
            <a:chExt cx="533520" cy="642600"/>
          </a:xfrm>
        </p:grpSpPr>
        <p:sp>
          <p:nvSpPr>
            <p:cNvPr id="313" name=""/>
            <p:cNvSpPr/>
            <p:nvPr/>
          </p:nvSpPr>
          <p:spPr>
            <a:xfrm>
              <a:off x="5124600" y="2039760"/>
              <a:ext cx="30456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8280" y="1855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3600" spc="-1" strike="noStrike">
                  <a:solidFill>
                    <a:srgbClr val="ff0033"/>
                  </a:solidFill>
                  <a:latin typeface="Wingdings"/>
                  <a:ea typeface="Wingdings"/>
                </a:rPr>
                <a:t>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124600" y="4049640"/>
            <a:ext cx="304560" cy="304920"/>
          </a:xfrm>
          <a:prstGeom prst="rect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48280" y="3897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048280" y="4506840"/>
            <a:ext cx="533160" cy="703440"/>
            <a:chOff x="5048280" y="4506840"/>
            <a:chExt cx="533160" cy="703440"/>
          </a:xfrm>
        </p:grpSpPr>
        <p:sp>
          <p:nvSpPr>
            <p:cNvPr id="318" name=""/>
            <p:cNvSpPr/>
            <p:nvPr/>
          </p:nvSpPr>
          <p:spPr>
            <a:xfrm>
              <a:off x="5124240" y="473544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48280" y="45068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048280" y="5176800"/>
            <a:ext cx="533160" cy="703440"/>
            <a:chOff x="5048280" y="5176800"/>
            <a:chExt cx="533160" cy="703440"/>
          </a:xfrm>
        </p:grpSpPr>
        <p:sp>
          <p:nvSpPr>
            <p:cNvPr id="321" name=""/>
            <p:cNvSpPr/>
            <p:nvPr/>
          </p:nvSpPr>
          <p:spPr>
            <a:xfrm>
              <a:off x="5124240" y="54054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48280" y="5176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990720" cy="625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7740720" y="1557360"/>
            <a:ext cx="547560" cy="5382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6877080" y="1839960"/>
            <a:ext cx="533160" cy="703440"/>
            <a:chOff x="6877080" y="1839960"/>
            <a:chExt cx="533160" cy="703440"/>
          </a:xfrm>
        </p:grpSpPr>
        <p:sp>
          <p:nvSpPr>
            <p:cNvPr id="326" name=""/>
            <p:cNvSpPr/>
            <p:nvPr/>
          </p:nvSpPr>
          <p:spPr>
            <a:xfrm>
              <a:off x="6953040" y="206856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77080" y="18399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191280" y="115416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Electro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vantGarde Bk BT"/>
              </a:rPr>
              <a:t>sign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877080" y="2449440"/>
            <a:ext cx="533160" cy="703440"/>
            <a:chOff x="6877080" y="2449440"/>
            <a:chExt cx="533160" cy="703440"/>
          </a:xfrm>
        </p:grpSpPr>
        <p:sp>
          <p:nvSpPr>
            <p:cNvPr id="330" name=""/>
            <p:cNvSpPr/>
            <p:nvPr/>
          </p:nvSpPr>
          <p:spPr>
            <a:xfrm>
              <a:off x="6953040" y="267804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77080" y="24494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877080" y="3119400"/>
            <a:ext cx="533160" cy="703440"/>
            <a:chOff x="6877080" y="3119400"/>
            <a:chExt cx="533160" cy="703440"/>
          </a:xfrm>
        </p:grpSpPr>
        <p:sp>
          <p:nvSpPr>
            <p:cNvPr id="333" name=""/>
            <p:cNvSpPr/>
            <p:nvPr/>
          </p:nvSpPr>
          <p:spPr>
            <a:xfrm>
              <a:off x="6953040" y="33480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31194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77080" y="3805200"/>
            <a:ext cx="533160" cy="703440"/>
            <a:chOff x="6877080" y="3805200"/>
            <a:chExt cx="533160" cy="703440"/>
          </a:xfrm>
        </p:grpSpPr>
        <p:sp>
          <p:nvSpPr>
            <p:cNvPr id="336" name=""/>
            <p:cNvSpPr/>
            <p:nvPr/>
          </p:nvSpPr>
          <p:spPr>
            <a:xfrm>
              <a:off x="6953040" y="40338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7080" y="3805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877080" y="4491000"/>
            <a:ext cx="533160" cy="703440"/>
            <a:chOff x="6877080" y="4491000"/>
            <a:chExt cx="533160" cy="703440"/>
          </a:xfrm>
        </p:grpSpPr>
        <p:sp>
          <p:nvSpPr>
            <p:cNvPr id="339" name=""/>
            <p:cNvSpPr/>
            <p:nvPr/>
          </p:nvSpPr>
          <p:spPr>
            <a:xfrm>
              <a:off x="6953040" y="4719600"/>
              <a:ext cx="30492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77080" y="44910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77080" y="5192640"/>
            <a:ext cx="533520" cy="581400"/>
            <a:chOff x="6877080" y="5192640"/>
            <a:chExt cx="533520" cy="581400"/>
          </a:xfrm>
        </p:grpSpPr>
        <p:sp>
          <p:nvSpPr>
            <p:cNvPr id="342" name=""/>
            <p:cNvSpPr/>
            <p:nvPr/>
          </p:nvSpPr>
          <p:spPr>
            <a:xfrm>
              <a:off x="6953400" y="5376600"/>
              <a:ext cx="304560" cy="304920"/>
            </a:xfrm>
            <a:prstGeom prst="rect">
              <a:avLst/>
            </a:prstGeom>
            <a:solidFill>
              <a:srgbClr val="0000ff"/>
            </a:solidFill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77080" y="5192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851280" y="836640"/>
            <a:ext cx="1028520" cy="1222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124600" y="3363840"/>
            <a:ext cx="304560" cy="304920"/>
          </a:xfrm>
          <a:prstGeom prst="rect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48280" y="3241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24600" y="2662200"/>
            <a:ext cx="304560" cy="304920"/>
          </a:xfrm>
          <a:prstGeom prst="rect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48280" y="25257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780000" y="1989000"/>
            <a:ext cx="107928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A4B-159E-459A-A590-F6D1B86D5B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E0A3D-4E08-422F-A014-80D6D9541414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ools for traders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w</a:t>
            </a:r>
            <a:r>
              <a:rPr b="0" lang="en-GB" sz="4000" spc="-1" strike="noStrike">
                <a:solidFill>
                  <a:srgbClr val="3366ff"/>
                </a:solidFill>
                <a:latin typeface="Arial"/>
              </a:rPr>
              <a:t>ww.cs.mfcr.cz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1484280"/>
            <a:ext cx="77724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eb NCTS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simplified procedure – free for any tr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RN state che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ful for exception handling – includes external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matic Codelist Update (web serv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ader’s SW: everyday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ssage docu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enerated from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availability in external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017-06E9-435E-96B9-5A23B220F6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02540-C9B0-49D1-BDEB-A7A4D23A1EE6}" type="datetime1">
              <a:rPr lang="en-US"/>
              <a:t>07/30/26</a:t>
            </a:fld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129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ervices for trad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40" y="11970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cc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interfaces are fully supported by the customs national helpdesk 24x7x3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Z Trade Contact group for Electronic Customs (3 times a year ‚synchro‘ meetings with traders, incl. planning, their proposals and commit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651640" y="4149720"/>
            <a:ext cx="31813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 free of char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871-A31D-47B5-AFC6-5C5DC37762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28DA7-225A-4050-84EC-4C954A0805A1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Be pro-active; help traders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3040" y="1268280"/>
            <a:ext cx="84009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desk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for Electronic 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52520" y="1979640"/>
            <a:ext cx="6019920" cy="88236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96 270 36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(working days 7:00 – 15:3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737 233 76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   (outside working 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e-ma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Arial Unicode MS"/>
              </a:rPr>
              <a:t>ecrhelpdesk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54080" y="174636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pened 7 days per week and 24 hour per 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cused especially for solving Traders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lves both procedural and technical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vers all regions in Czech Repub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1360" indent="-43992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R Helpdesk team-lea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hal Petřík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4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m.petrik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lan Šaře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0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m.sarec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arel Komoň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9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komon@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etr Komečný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96 270 369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7"/>
              </a:rPr>
              <a:t>k</a:t>
            </a:r>
            <a:r>
              <a:rPr b="0" lang="cs-CZ" sz="1600" spc="-1" strike="noStrike" u="sng">
                <a:solidFill>
                  <a:srgbClr val="ff0033"/>
                </a:solidFill>
                <a:uFillTx/>
                <a:latin typeface="Arial"/>
                <a:hlinkClick r:id="rId8"/>
              </a:rPr>
              <a:t>onecny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9"/>
              </a:rPr>
              <a:t>@</a:t>
            </a:r>
            <a:r>
              <a:rPr b="0" lang="en-GB" sz="1600" spc="-1" strike="noStrike" u="sng">
                <a:solidFill>
                  <a:srgbClr val="ff0033"/>
                </a:solidFill>
                <a:uFillTx/>
                <a:latin typeface="Arial"/>
                <a:hlinkClick r:id="rId10"/>
              </a:rPr>
              <a:t>cs.mfcr.c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63480" indent="-214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elpde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369-0B44-4E57-8C1D-5A0B2561FD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51938-4067-4E2F-A83F-AFBA4692F009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Web client appl. – WCO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recommed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248000" y="1773360"/>
          <a:ext cx="489600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8000" y="1773360"/>
                    <a:ext cx="489600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0" y="1197000"/>
            <a:ext cx="4176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only to lodge declarations by expor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ed / refused / released / exported / export refu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pre-departure summary declaration at CO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templates managed by  trader, services to upload/downloa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y supported by customs, but archiving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03640" y="1197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SMEs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b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E0A-10F8-445F-858D-85D2019D83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4E30A-5AC5-4FB9-A3F3-D7C9A85C8A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Reference data – lists of cod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716360" y="1197000"/>
          <a:ext cx="42274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42274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24000" y="1413000"/>
            <a:ext cx="4176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fied set of lists of codes: ‚import‘, export, transit, excise, Intra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ily updates = the same ref. data as customs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web services = direct on-line synchronization of trader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. descri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y supported by 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2C9-FD13-4CA1-8DF5-28053048B5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596AF-99F3-4524-A1E9-6DEE88D3791E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ain Vision of e-Custo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rease the protection of Community intere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security, financial, environ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 paper le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geographical applicability of simplifications from national to Communit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rther convergence of the customs procedures in the Communit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stoms Administrations to act as on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rve the cultural and economical diversity of the Economic Operators as well as the diversity of the MS customs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2C4-A012-406A-B2C1-4DAD009235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B822C-5382-4E35-A580-8BA2B122E045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rvices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traders -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availabilit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88360" cy="523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CF3-31E0-4B64-9CAF-28F7CDB72D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4AE69-3464-4723-A28A-48ED44D72C50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ervices for SW develop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1268280"/>
            <a:ext cx="80769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d set of i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faces – XML, S/MIME, SOAP,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d  and maintained documentation for all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examples and scripts available on the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lly supported by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s national helpde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rterly ‚synchro‘ meetings with SW developers, incl. planning, their proposals and commi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only certified apl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datory tests and re-tests for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ular 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itoring of quality -&gt; fair com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96000" y="4005360"/>
            <a:ext cx="31813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l free of char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91F-9D84-4E8F-9932-347B5756A1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7719E-9539-4938-B7CC-B6B23C6DB965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Message document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0" t="22086" r="0" b="0"/>
          <a:stretch/>
        </p:blipFill>
        <p:spPr>
          <a:xfrm>
            <a:off x="324000" y="1268280"/>
            <a:ext cx="8610480" cy="48657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3440" y="584280"/>
            <a:ext cx="879480" cy="457200"/>
          </a:xfrm>
          <a:prstGeom prst="wedgeRoundRectCallout">
            <a:avLst>
              <a:gd name="adj1" fmla="val -9745"/>
              <a:gd name="adj2" fmla="val 1666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List of mess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30480" y="620640"/>
            <a:ext cx="677520" cy="268200"/>
          </a:xfrm>
          <a:prstGeom prst="wedgeRoundRectCallout">
            <a:avLst>
              <a:gd name="adj1" fmla="val -5268"/>
              <a:gd name="adj2" fmla="val 50592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907920"/>
            <a:ext cx="787320" cy="209520"/>
          </a:xfrm>
          <a:prstGeom prst="wedgeRoundRectCallout">
            <a:avLst>
              <a:gd name="adj1" fmla="val -21773"/>
              <a:gd name="adj2" fmla="val 50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72360" y="765000"/>
            <a:ext cx="971640" cy="287640"/>
          </a:xfrm>
          <a:prstGeom prst="wedgeRoundRectCallout">
            <a:avLst>
              <a:gd name="adj1" fmla="val -57680"/>
              <a:gd name="adj2" fmla="val 11685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SAD b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64360" y="620640"/>
            <a:ext cx="927000" cy="357120"/>
          </a:xfrm>
          <a:prstGeom prst="wedgeRoundRectCallout">
            <a:avLst>
              <a:gd name="adj1" fmla="val -13527"/>
              <a:gd name="adj2" fmla="val 12511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Code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72360" y="765000"/>
            <a:ext cx="792000" cy="228600"/>
          </a:xfrm>
          <a:prstGeom prst="wedgeRoundRectCallout">
            <a:avLst>
              <a:gd name="adj1" fmla="val -92083"/>
              <a:gd name="adj2" fmla="val 21180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5300640"/>
            <a:ext cx="879480" cy="457200"/>
          </a:xfrm>
          <a:prstGeom prst="wedgeRoundRectCallout">
            <a:avLst>
              <a:gd name="adj1" fmla="val 94402"/>
              <a:gd name="adj2" fmla="val -21076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Rules &amp; Co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59880" y="6146640"/>
            <a:ext cx="990360" cy="228600"/>
          </a:xfrm>
          <a:prstGeom prst="wedgeRoundRectCallout">
            <a:avLst>
              <a:gd name="adj1" fmla="val -2722"/>
              <a:gd name="adj2" fmla="val -447222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Times New Roman"/>
              </a:rPr>
              <a:t>R&amp;C u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BCF-95F5-48AA-9654-3087ED9CC6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FFBDE-B001-4197-A9B6-A846153343FC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55640" y="981000"/>
            <a:ext cx="7632720" cy="54723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09800" y="1101600"/>
            <a:ext cx="7191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79280" y="1484280"/>
            <a:ext cx="52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cs-CZ" sz="3000" spc="-1" strike="noStrike">
                <a:solidFill>
                  <a:srgbClr val="eaeaea"/>
                </a:solidFill>
                <a:latin typeface="Times New Roman"/>
              </a:rPr>
              <a:t>Robust or weak construction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73160" y="4933800"/>
            <a:ext cx="7062480" cy="387000"/>
            <a:chOff x="1073160" y="4933800"/>
            <a:chExt cx="7062480" cy="387000"/>
          </a:xfrm>
        </p:grpSpPr>
        <p:sp>
          <p:nvSpPr>
            <p:cNvPr id="388" name=""/>
            <p:cNvSpPr/>
            <p:nvPr/>
          </p:nvSpPr>
          <p:spPr>
            <a:xfrm>
              <a:off x="1073160" y="4933800"/>
              <a:ext cx="12736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43000" y="4996800"/>
              <a:ext cx="103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Legisl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4360" y="4933800"/>
              <a:ext cx="140220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7000" y="499680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0320" y="4933800"/>
              <a:ext cx="15292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65520" y="499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I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68280" y="499680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sta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06360" y="4933800"/>
              <a:ext cx="15292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7920" y="4996800"/>
              <a:ext cx="128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Profit, vill,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45040" y="4933800"/>
              <a:ext cx="140256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22160" y="49968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C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87280" y="499680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16880" y="499680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sta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836720" y="4083120"/>
            <a:ext cx="5281200" cy="387000"/>
            <a:chOff x="1836720" y="4083120"/>
            <a:chExt cx="5281200" cy="387000"/>
          </a:xfrm>
        </p:grpSpPr>
        <p:sp>
          <p:nvSpPr>
            <p:cNvPr id="402" name=""/>
            <p:cNvSpPr/>
            <p:nvPr/>
          </p:nvSpPr>
          <p:spPr>
            <a:xfrm>
              <a:off x="1836720" y="4083120"/>
              <a:ext cx="273708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1320" y="4144320"/>
              <a:ext cx="110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Monitor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8000" y="4144320"/>
              <a:ext cx="86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Helpdes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360" y="4083120"/>
              <a:ext cx="254556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8600" y="4144320"/>
              <a:ext cx="20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IS traders, VAN ope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892600" y="2459160"/>
            <a:ext cx="3050640" cy="1115640"/>
            <a:chOff x="2892600" y="2459160"/>
            <a:chExt cx="3050640" cy="1115640"/>
          </a:xfrm>
        </p:grpSpPr>
        <p:sp>
          <p:nvSpPr>
            <p:cNvPr id="408" name=""/>
            <p:cNvSpPr/>
            <p:nvPr/>
          </p:nvSpPr>
          <p:spPr>
            <a:xfrm>
              <a:off x="2922840" y="2471040"/>
              <a:ext cx="2990160" cy="1093320"/>
            </a:xfrm>
            <a:custGeom>
              <a:avLst/>
              <a:gdLst/>
              <a:ahLst/>
              <a:rect l="l" t="t" r="r" b="b"/>
              <a:pathLst>
                <a:path w="1674" h="641">
                  <a:moveTo>
                    <a:pt x="837" y="0"/>
                  </a:moveTo>
                  <a:lnTo>
                    <a:pt x="0" y="641"/>
                  </a:lnTo>
                  <a:lnTo>
                    <a:pt x="1674" y="641"/>
                  </a:lnTo>
                  <a:lnTo>
                    <a:pt x="837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92600" y="2459160"/>
              <a:ext cx="3050640" cy="1115640"/>
            </a:xfrm>
            <a:custGeom>
              <a:avLst/>
              <a:gdLst/>
              <a:ahLst/>
              <a:rect l="l" t="t" r="r" b="b"/>
              <a:pathLst>
                <a:path w="1708" h="654">
                  <a:moveTo>
                    <a:pt x="14" y="643"/>
                  </a:moveTo>
                  <a:lnTo>
                    <a:pt x="0" y="654"/>
                  </a:lnTo>
                  <a:lnTo>
                    <a:pt x="17" y="654"/>
                  </a:lnTo>
                  <a:lnTo>
                    <a:pt x="1691" y="654"/>
                  </a:lnTo>
                  <a:lnTo>
                    <a:pt x="1708" y="654"/>
                  </a:lnTo>
                  <a:lnTo>
                    <a:pt x="1695" y="643"/>
                  </a:lnTo>
                  <a:lnTo>
                    <a:pt x="858" y="3"/>
                  </a:lnTo>
                  <a:lnTo>
                    <a:pt x="854" y="0"/>
                  </a:lnTo>
                  <a:lnTo>
                    <a:pt x="851" y="3"/>
                  </a:lnTo>
                  <a:lnTo>
                    <a:pt x="14" y="643"/>
                  </a:lnTo>
                  <a:close/>
                  <a:moveTo>
                    <a:pt x="858" y="11"/>
                  </a:moveTo>
                  <a:lnTo>
                    <a:pt x="854" y="7"/>
                  </a:lnTo>
                  <a:lnTo>
                    <a:pt x="851" y="11"/>
                  </a:lnTo>
                  <a:lnTo>
                    <a:pt x="1688" y="652"/>
                  </a:lnTo>
                  <a:lnTo>
                    <a:pt x="1691" y="648"/>
                  </a:lnTo>
                  <a:lnTo>
                    <a:pt x="1691" y="642"/>
                  </a:lnTo>
                  <a:lnTo>
                    <a:pt x="17" y="642"/>
                  </a:lnTo>
                  <a:lnTo>
                    <a:pt x="17" y="648"/>
                  </a:lnTo>
                  <a:lnTo>
                    <a:pt x="22" y="652"/>
                  </a:lnTo>
                  <a:lnTo>
                    <a:pt x="85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876840" y="2774880"/>
            <a:ext cx="1276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9920" y="2886120"/>
            <a:ext cx="100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Electro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21920" y="31179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65400" y="4508640"/>
            <a:ext cx="6425640" cy="387000"/>
            <a:chOff x="1265400" y="4508640"/>
            <a:chExt cx="6425640" cy="387000"/>
          </a:xfrm>
        </p:grpSpPr>
        <p:sp>
          <p:nvSpPr>
            <p:cNvPr id="414" name=""/>
            <p:cNvSpPr/>
            <p:nvPr/>
          </p:nvSpPr>
          <p:spPr>
            <a:xfrm>
              <a:off x="1265400" y="4508640"/>
              <a:ext cx="210060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7800" y="456984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Procedur.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21000" y="46260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300" spc="-1" strike="noStrike">
                  <a:solidFill>
                    <a:srgbClr val="eaeaea"/>
                  </a:solidFill>
                  <a:latin typeface="Times New Roman"/>
                </a:rPr>
                <a:t>Fal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17640" y="462600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300" spc="-1" strike="noStrike">
                  <a:solidFill>
                    <a:srgbClr val="eaeaea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79920" y="4626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300" spc="-1" strike="noStrike">
                  <a:solidFill>
                    <a:srgbClr val="eaeaea"/>
                  </a:solidFill>
                  <a:latin typeface="Times New Roman"/>
                </a:rPr>
                <a:t>backup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64560" y="4508640"/>
              <a:ext cx="216324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31520" y="456984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Rob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1520" y="4569840"/>
              <a:ext cx="118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. IC, WAN,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6000" y="4508640"/>
              <a:ext cx="2165040" cy="387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88080" y="4569840"/>
              <a:ext cx="159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eaeaea"/>
                  </a:solidFill>
                  <a:latin typeface="Times New Roman"/>
                </a:rPr>
                <a:t>IS of administrat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17800" y="3656160"/>
            <a:ext cx="3056040" cy="38736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8120" y="3736800"/>
            <a:ext cx="260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df3e7"/>
                </a:solidFill>
                <a:latin typeface="Times New Roman"/>
              </a:rPr>
              <a:t>Enlightenment education</a:t>
            </a:r>
            <a:r>
              <a:rPr b="0" lang="cs-CZ" sz="1600" spc="-1" strike="noStrike">
                <a:solidFill>
                  <a:srgbClr val="fdf3e7"/>
                </a:solidFill>
                <a:latin typeface="Times New Roman"/>
              </a:rPr>
              <a:t>,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73200" y="5662440"/>
            <a:ext cx="57898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82560" y="5715000"/>
            <a:ext cx="49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tests, money, users = traders, customs officers, O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88680" y="60069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89000"/>
            <a:ext cx="8589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tep by step - availability and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93F-31D3-4153-A2C6-492D61ECAED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5B0AB-D0F8-4E8E-884E-F4943562752D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4000" y="1197000"/>
            <a:ext cx="8064360" cy="50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ory for 25 MSs – deadline 1.7.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–departure + simplified declaration – only electronic from 1.1.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. proof of ex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declaration – 100% elec. From 1.1.2009 – a challenge for border 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+ Art. 36c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cust. decl. that serves as summary decl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MF – shared risk analyses system behind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O – once source of author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mmediately in front of us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2A1-4943-4D22-8BDF-20E5DEE3BA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CF8FF-CBC3-4834-961C-2B0F0B9A9EE4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68360" y="1989000"/>
            <a:ext cx="8124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ased on previous IT systems in M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best practices from NCTS -&gt; much easier to develop and (expected) to roll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Window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+ One-Stop-Shop 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biggest challeng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we are pushed ahead by trader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 th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lectroni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ub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2DB-9E1F-4139-B884-FF76172F3A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E893F-C4D1-47A0-AD42-3F5C36D6B551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iorities – time pla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9780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224-72DE-412D-8A80-1BA535617E8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6F95F-1A00-485A-9C30-0BB4EDC4A6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 you have any questions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16000" y="1125360"/>
            <a:ext cx="6853320" cy="51879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11160" y="1220760"/>
            <a:ext cx="5785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 train is faster and faster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4148280"/>
            <a:ext cx="2055960" cy="981000"/>
          </a:xfrm>
          <a:custGeom>
            <a:avLst/>
            <a:gdLst/>
            <a:ahLst/>
            <a:rect l="l" t="t" r="r" b="b"/>
            <a:pathLst>
              <a:path w="1310" h="619">
                <a:moveTo>
                  <a:pt x="0" y="0"/>
                </a:moveTo>
                <a:lnTo>
                  <a:pt x="0" y="619"/>
                </a:lnTo>
                <a:lnTo>
                  <a:pt x="1310" y="619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36920" y="3701880"/>
            <a:ext cx="96840" cy="1451160"/>
          </a:xfrm>
          <a:custGeom>
            <a:avLst/>
            <a:gdLst/>
            <a:ahLst/>
            <a:rect l="l" t="t" r="r" b="b"/>
            <a:pathLst>
              <a:path w="61" h="916">
                <a:moveTo>
                  <a:pt x="24" y="916"/>
                </a:moveTo>
                <a:lnTo>
                  <a:pt x="24" y="30"/>
                </a:lnTo>
                <a:lnTo>
                  <a:pt x="36" y="30"/>
                </a:lnTo>
                <a:lnTo>
                  <a:pt x="36" y="916"/>
                </a:lnTo>
                <a:lnTo>
                  <a:pt x="24" y="916"/>
                </a:lnTo>
                <a:close/>
                <a:moveTo>
                  <a:pt x="0" y="36"/>
                </a:moveTo>
                <a:lnTo>
                  <a:pt x="30" y="0"/>
                </a:lnTo>
                <a:lnTo>
                  <a:pt x="61" y="36"/>
                </a:lnTo>
                <a:lnTo>
                  <a:pt x="0" y="36"/>
                </a:lnTo>
                <a:close/>
              </a:path>
            </a:pathLst>
          </a:custGeom>
          <a:solidFill>
            <a:srgbClr val="eaeaea"/>
          </a:solidFill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98600" y="4041720"/>
            <a:ext cx="1049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% in fully electronic wa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03680" y="5326200"/>
            <a:ext cx="2065320" cy="96840"/>
          </a:xfrm>
          <a:custGeom>
            <a:avLst/>
            <a:gdLst/>
            <a:ahLst/>
            <a:rect l="l" t="t" r="r" b="b"/>
            <a:pathLst>
              <a:path w="1316" h="61">
                <a:moveTo>
                  <a:pt x="0" y="24"/>
                </a:moveTo>
                <a:lnTo>
                  <a:pt x="1286" y="24"/>
                </a:lnTo>
                <a:lnTo>
                  <a:pt x="1286" y="37"/>
                </a:lnTo>
                <a:lnTo>
                  <a:pt x="0" y="37"/>
                </a:lnTo>
                <a:lnTo>
                  <a:pt x="0" y="24"/>
                </a:lnTo>
                <a:close/>
                <a:moveTo>
                  <a:pt x="1280" y="0"/>
                </a:moveTo>
                <a:lnTo>
                  <a:pt x="1316" y="31"/>
                </a:lnTo>
                <a:lnTo>
                  <a:pt x="1280" y="61"/>
                </a:lnTo>
                <a:lnTo>
                  <a:pt x="1280" y="0"/>
                </a:lnTo>
                <a:close/>
              </a:path>
            </a:pathLst>
          </a:custGeom>
          <a:solidFill>
            <a:srgbClr val="eaeaea"/>
          </a:solidFill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48400" y="5587920"/>
            <a:ext cx="19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Times New Roman"/>
              </a:rPr>
              <a:t>2005     2008-9  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780000" y="4076640"/>
            <a:ext cx="1982160" cy="922320"/>
            <a:chOff x="3780000" y="4076640"/>
            <a:chExt cx="1982160" cy="922320"/>
          </a:xfrm>
        </p:grpSpPr>
        <p:sp>
          <p:nvSpPr>
            <p:cNvPr id="445" name=""/>
            <p:cNvSpPr/>
            <p:nvPr/>
          </p:nvSpPr>
          <p:spPr>
            <a:xfrm>
              <a:off x="3822120" y="4076640"/>
              <a:ext cx="1940040" cy="922320"/>
            </a:xfrm>
            <a:custGeom>
              <a:avLst/>
              <a:gdLst/>
              <a:ahLst/>
              <a:rect l="l" t="t" r="r" b="b"/>
              <a:pathLst>
                <a:path w="1237" h="582">
                  <a:moveTo>
                    <a:pt x="1237" y="582"/>
                  </a:moveTo>
                  <a:lnTo>
                    <a:pt x="1237" y="0"/>
                  </a:lnTo>
                  <a:lnTo>
                    <a:pt x="0" y="0"/>
                  </a:lnTo>
                  <a:lnTo>
                    <a:pt x="1237" y="58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22120" y="4076640"/>
              <a:ext cx="1198080" cy="576720"/>
            </a:xfrm>
            <a:custGeom>
              <a:avLst/>
              <a:gdLst/>
              <a:ahLst/>
              <a:rect l="l" t="t" r="r" b="b"/>
              <a:pathLst>
                <a:path w="764" h="364">
                  <a:moveTo>
                    <a:pt x="764" y="364"/>
                  </a:moveTo>
                  <a:lnTo>
                    <a:pt x="764" y="0"/>
                  </a:lnTo>
                  <a:lnTo>
                    <a:pt x="0" y="0"/>
                  </a:lnTo>
                  <a:lnTo>
                    <a:pt x="764" y="36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80000" y="4076640"/>
              <a:ext cx="954720" cy="403920"/>
            </a:xfrm>
            <a:custGeom>
              <a:avLst/>
              <a:gdLst/>
              <a:ahLst/>
              <a:rect l="l" t="t" r="r" b="b"/>
              <a:pathLst>
                <a:path w="609" h="255">
                  <a:moveTo>
                    <a:pt x="609" y="255"/>
                  </a:moveTo>
                  <a:lnTo>
                    <a:pt x="609" y="0"/>
                  </a:lnTo>
                  <a:lnTo>
                    <a:pt x="0" y="0"/>
                  </a:lnTo>
                  <a:lnTo>
                    <a:pt x="609" y="255"/>
                  </a:lnTo>
                  <a:close/>
                </a:path>
              </a:pathLst>
            </a:custGeom>
            <a:solidFill>
              <a:srgbClr val="06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257480" y="1973160"/>
            <a:ext cx="2981160" cy="1784520"/>
            <a:chOff x="1257480" y="1973160"/>
            <a:chExt cx="2981160" cy="1784520"/>
          </a:xfrm>
        </p:grpSpPr>
        <p:sp>
          <p:nvSpPr>
            <p:cNvPr id="449" name=""/>
            <p:cNvSpPr/>
            <p:nvPr/>
          </p:nvSpPr>
          <p:spPr>
            <a:xfrm>
              <a:off x="1257480" y="1973160"/>
              <a:ext cx="2981160" cy="1784520"/>
            </a:xfrm>
            <a:custGeom>
              <a:avLst/>
              <a:gdLst/>
              <a:ahLst/>
              <a:rect l="l" t="t" r="r" b="b"/>
              <a:pathLst>
                <a:path w="8122" h="4816">
                  <a:moveTo>
                    <a:pt x="5418" y="3803"/>
                  </a:moveTo>
                  <a:cubicBezTo>
                    <a:pt x="4837" y="4059"/>
                    <a:pt x="4139" y="4197"/>
                    <a:pt x="3423" y="4197"/>
                  </a:cubicBezTo>
                  <a:cubicBezTo>
                    <a:pt x="1533" y="4197"/>
                    <a:pt x="0" y="3257"/>
                    <a:pt x="0" y="2099"/>
                  </a:cubicBezTo>
                  <a:cubicBezTo>
                    <a:pt x="0" y="940"/>
                    <a:pt x="1533" y="0"/>
                    <a:pt x="3423" y="0"/>
                  </a:cubicBezTo>
                  <a:cubicBezTo>
                    <a:pt x="5313" y="0"/>
                    <a:pt x="6845" y="940"/>
                    <a:pt x="6845" y="2099"/>
                  </a:cubicBezTo>
                  <a:cubicBezTo>
                    <a:pt x="6845" y="2496"/>
                    <a:pt x="6661" y="2885"/>
                    <a:pt x="6314" y="3220"/>
                  </a:cubicBezTo>
                  <a:lnTo>
                    <a:pt x="8122" y="4816"/>
                  </a:lnTo>
                  <a:lnTo>
                    <a:pt x="5418" y="38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57480" y="1973160"/>
              <a:ext cx="2981160" cy="1784520"/>
            </a:xfrm>
            <a:custGeom>
              <a:avLst/>
              <a:gdLst/>
              <a:ahLst/>
              <a:rect l="l" t="t" r="r" b="b"/>
              <a:pathLst>
                <a:path w="8122" h="4816">
                  <a:moveTo>
                    <a:pt x="5418" y="3803"/>
                  </a:moveTo>
                  <a:cubicBezTo>
                    <a:pt x="4837" y="4059"/>
                    <a:pt x="4139" y="4197"/>
                    <a:pt x="3423" y="4197"/>
                  </a:cubicBezTo>
                  <a:cubicBezTo>
                    <a:pt x="1533" y="4197"/>
                    <a:pt x="0" y="3257"/>
                    <a:pt x="0" y="2099"/>
                  </a:cubicBezTo>
                  <a:cubicBezTo>
                    <a:pt x="0" y="940"/>
                    <a:pt x="1533" y="0"/>
                    <a:pt x="3423" y="0"/>
                  </a:cubicBezTo>
                  <a:cubicBezTo>
                    <a:pt x="5313" y="0"/>
                    <a:pt x="6845" y="940"/>
                    <a:pt x="6845" y="2099"/>
                  </a:cubicBezTo>
                  <a:cubicBezTo>
                    <a:pt x="6845" y="2496"/>
                    <a:pt x="6661" y="2885"/>
                    <a:pt x="6314" y="3220"/>
                  </a:cubicBezTo>
                  <a:lnTo>
                    <a:pt x="8122" y="4816"/>
                  </a:lnTo>
                  <a:lnTo>
                    <a:pt x="5418" y="3803"/>
                  </a:lnTo>
                  <a:close/>
                </a:path>
              </a:pathLst>
            </a:custGeom>
            <a:noFill/>
            <a:ln cap="rnd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313080" y="1973160"/>
            <a:ext cx="2741760" cy="1860480"/>
            <a:chOff x="3313080" y="1973160"/>
            <a:chExt cx="2741760" cy="1860480"/>
          </a:xfrm>
        </p:grpSpPr>
        <p:sp>
          <p:nvSpPr>
            <p:cNvPr id="452" name=""/>
            <p:cNvSpPr/>
            <p:nvPr/>
          </p:nvSpPr>
          <p:spPr>
            <a:xfrm>
              <a:off x="3313080" y="1973160"/>
              <a:ext cx="2741760" cy="1860480"/>
            </a:xfrm>
            <a:custGeom>
              <a:avLst/>
              <a:gdLst/>
              <a:ahLst/>
              <a:rect l="l" t="t" r="r" b="b"/>
              <a:pathLst>
                <a:path w="7467" h="5020">
                  <a:moveTo>
                    <a:pt x="3502" y="4351"/>
                  </a:moveTo>
                  <a:cubicBezTo>
                    <a:pt x="1534" y="4280"/>
                    <a:pt x="0" y="3328"/>
                    <a:pt x="0" y="2178"/>
                  </a:cubicBezTo>
                  <a:cubicBezTo>
                    <a:pt x="0" y="975"/>
                    <a:pt x="1672" y="0"/>
                    <a:pt x="3734" y="0"/>
                  </a:cubicBezTo>
                  <a:cubicBezTo>
                    <a:pt x="5795" y="0"/>
                    <a:pt x="7467" y="975"/>
                    <a:pt x="7467" y="2178"/>
                  </a:cubicBezTo>
                  <a:cubicBezTo>
                    <a:pt x="7467" y="3115"/>
                    <a:pt x="6439" y="3948"/>
                    <a:pt x="4914" y="4244"/>
                  </a:cubicBezTo>
                  <a:lnTo>
                    <a:pt x="4369" y="5020"/>
                  </a:lnTo>
                  <a:lnTo>
                    <a:pt x="3502" y="435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13080" y="1973160"/>
              <a:ext cx="2741760" cy="1860480"/>
            </a:xfrm>
            <a:custGeom>
              <a:avLst/>
              <a:gdLst/>
              <a:ahLst/>
              <a:rect l="l" t="t" r="r" b="b"/>
              <a:pathLst>
                <a:path w="7467" h="5020">
                  <a:moveTo>
                    <a:pt x="3502" y="4351"/>
                  </a:moveTo>
                  <a:cubicBezTo>
                    <a:pt x="1534" y="4280"/>
                    <a:pt x="0" y="3328"/>
                    <a:pt x="0" y="2178"/>
                  </a:cubicBezTo>
                  <a:cubicBezTo>
                    <a:pt x="0" y="975"/>
                    <a:pt x="1672" y="0"/>
                    <a:pt x="3734" y="0"/>
                  </a:cubicBezTo>
                  <a:cubicBezTo>
                    <a:pt x="5795" y="0"/>
                    <a:pt x="7467" y="975"/>
                    <a:pt x="7467" y="2178"/>
                  </a:cubicBezTo>
                  <a:cubicBezTo>
                    <a:pt x="7467" y="3115"/>
                    <a:pt x="6439" y="3948"/>
                    <a:pt x="4914" y="4244"/>
                  </a:cubicBezTo>
                  <a:lnTo>
                    <a:pt x="4369" y="5020"/>
                  </a:lnTo>
                  <a:lnTo>
                    <a:pt x="3502" y="4351"/>
                  </a:lnTo>
                  <a:close/>
                </a:path>
              </a:pathLst>
            </a:custGeom>
            <a:noFill/>
            <a:ln cap="rnd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317920" y="287964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aeaea"/>
                </a:solidFill>
                <a:latin typeface="Times New Roman"/>
              </a:rPr>
              <a:t>(dn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083200" y="2030400"/>
            <a:ext cx="2743200" cy="1973160"/>
            <a:chOff x="5083200" y="2030400"/>
            <a:chExt cx="2743200" cy="1973160"/>
          </a:xfrm>
        </p:grpSpPr>
        <p:sp>
          <p:nvSpPr>
            <p:cNvPr id="456" name=""/>
            <p:cNvSpPr/>
            <p:nvPr/>
          </p:nvSpPr>
          <p:spPr>
            <a:xfrm>
              <a:off x="5083200" y="2030400"/>
              <a:ext cx="2743200" cy="1973160"/>
            </a:xfrm>
            <a:custGeom>
              <a:avLst/>
              <a:gdLst/>
              <a:ahLst/>
              <a:rect l="l" t="t" r="r" b="b"/>
              <a:pathLst>
                <a:path w="7466" h="5321">
                  <a:moveTo>
                    <a:pt x="1377" y="3867"/>
                  </a:moveTo>
                  <a:cubicBezTo>
                    <a:pt x="505" y="3453"/>
                    <a:pt x="0" y="2833"/>
                    <a:pt x="0" y="2177"/>
                  </a:cubicBezTo>
                  <a:cubicBezTo>
                    <a:pt x="0" y="975"/>
                    <a:pt x="1671" y="0"/>
                    <a:pt x="3733" y="0"/>
                  </a:cubicBezTo>
                  <a:cubicBezTo>
                    <a:pt x="5795" y="0"/>
                    <a:pt x="7466" y="975"/>
                    <a:pt x="7466" y="2177"/>
                  </a:cubicBezTo>
                  <a:cubicBezTo>
                    <a:pt x="7466" y="3380"/>
                    <a:pt x="5795" y="4355"/>
                    <a:pt x="3733" y="4355"/>
                  </a:cubicBezTo>
                  <a:cubicBezTo>
                    <a:pt x="3360" y="4355"/>
                    <a:pt x="2990" y="4323"/>
                    <a:pt x="2633" y="4259"/>
                  </a:cubicBezTo>
                  <a:lnTo>
                    <a:pt x="852" y="5321"/>
                  </a:lnTo>
                  <a:lnTo>
                    <a:pt x="1377" y="386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83200" y="2030400"/>
              <a:ext cx="2743200" cy="1973160"/>
            </a:xfrm>
            <a:custGeom>
              <a:avLst/>
              <a:gdLst/>
              <a:ahLst/>
              <a:rect l="l" t="t" r="r" b="b"/>
              <a:pathLst>
                <a:path w="7466" h="5321">
                  <a:moveTo>
                    <a:pt x="1377" y="3867"/>
                  </a:moveTo>
                  <a:cubicBezTo>
                    <a:pt x="505" y="3453"/>
                    <a:pt x="0" y="2833"/>
                    <a:pt x="0" y="2177"/>
                  </a:cubicBezTo>
                  <a:cubicBezTo>
                    <a:pt x="0" y="975"/>
                    <a:pt x="1671" y="0"/>
                    <a:pt x="3733" y="0"/>
                  </a:cubicBezTo>
                  <a:cubicBezTo>
                    <a:pt x="5795" y="0"/>
                    <a:pt x="7466" y="975"/>
                    <a:pt x="7466" y="2177"/>
                  </a:cubicBezTo>
                  <a:cubicBezTo>
                    <a:pt x="7466" y="3380"/>
                    <a:pt x="5795" y="4355"/>
                    <a:pt x="3733" y="4355"/>
                  </a:cubicBezTo>
                  <a:cubicBezTo>
                    <a:pt x="3360" y="4355"/>
                    <a:pt x="2990" y="4323"/>
                    <a:pt x="2633" y="4259"/>
                  </a:cubicBezTo>
                  <a:lnTo>
                    <a:pt x="852" y="5321"/>
                  </a:lnTo>
                  <a:lnTo>
                    <a:pt x="1377" y="3867"/>
                  </a:lnTo>
                  <a:close/>
                </a:path>
              </a:pathLst>
            </a:custGeom>
            <a:noFill/>
            <a:ln cap="rnd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19280" y="20588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df3e7"/>
                </a:solidFill>
                <a:latin typeface="Times New Roman"/>
              </a:rPr>
              <a:t>NCTS, your Ext. domain,  AEO, ECS, ICS, RMF,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08360" y="205884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df3e7"/>
                </a:solidFill>
                <a:latin typeface="Times New Roman"/>
              </a:rPr>
              <a:t>transit and summ. decl. elec. only 100%, … CCIP, SA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80000" y="2276640"/>
            <a:ext cx="194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df3e7"/>
                </a:solidFill>
                <a:latin typeface="Times New Roman"/>
              </a:rPr>
              <a:t>Import, export, trans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100% elec.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C83-5450-4096-9A0B-072FDF0EC0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F7F1A-78D4-448E-B1A7-C40A4025AF49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gal b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95 EC (internal mark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135 EC (customs co-oper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251 EC (co-dec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cil Communication – 2003+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mendment of the Community Customs Code – May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provisions – end of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ized Customs Code -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007 programme and its success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&gt;&gt; Decision of the Council: “Go for it”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900-B1C1-42E7-9F08-6E4706E5AC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4A067-E005-4125-AE4C-0181BE90BF71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T projects -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341360"/>
            <a:ext cx="7993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cy systems, incl’g MS system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CT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/T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New Computerized Transi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Amendments of Customs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S/AES – Export Control System/Automated Expor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S/AIS – Import Control System/Automated Impor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EO – Authorised Economic Operators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MF - Risk management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532-0EFC-4F55-BFB4-C717D56207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D82B5-35AD-48C8-97D1-D1EFBC8BB4EF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T projects -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052640"/>
            <a:ext cx="7993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CIP –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stom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ommo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formation port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AP – Single Electronic 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stoms/Taxation coher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rnised Customs Co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per 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’s regist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ngle window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p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ntralized clea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B5A-47C2-4FE0-A488-F36105D379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45DD1-B84E-4635-A763-1F76F247091D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omai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00440" y="4648320"/>
            <a:ext cx="19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TIONAL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38320" y="2852640"/>
            <a:ext cx="4627080" cy="1822320"/>
            <a:chOff x="1138320" y="2852640"/>
            <a:chExt cx="4627080" cy="1822320"/>
          </a:xfrm>
        </p:grpSpPr>
        <p:sp>
          <p:nvSpPr>
            <p:cNvPr id="112" name=""/>
            <p:cNvSpPr/>
            <p:nvPr/>
          </p:nvSpPr>
          <p:spPr>
            <a:xfrm>
              <a:off x="1473840" y="4066920"/>
              <a:ext cx="1072080" cy="49752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8320" y="3460680"/>
              <a:ext cx="1073520" cy="49608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7640" y="3736800"/>
              <a:ext cx="1073520" cy="49608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4120" y="4178520"/>
              <a:ext cx="1073520" cy="49644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91880" y="2852640"/>
              <a:ext cx="1073520" cy="496080"/>
            </a:xfrm>
            <a:prstGeom prst="ellipse">
              <a:avLst/>
            </a:prstGeom>
            <a:solidFill>
              <a:srgbClr val="8ae6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C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 flipV="1">
            <a:off x="5662080" y="3236760"/>
            <a:ext cx="405000" cy="385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797080" y="3127320"/>
            <a:ext cx="405000" cy="5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29040" y="2687760"/>
            <a:ext cx="338040" cy="330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99040" y="2303640"/>
            <a:ext cx="1081080" cy="495000"/>
          </a:xfrm>
          <a:prstGeom prst="ellipse">
            <a:avLst/>
          </a:prstGeom>
          <a:solidFill>
            <a:srgbClr val="febe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Trader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02440" y="2962440"/>
            <a:ext cx="1079280" cy="495000"/>
          </a:xfrm>
          <a:prstGeom prst="ellipse">
            <a:avLst/>
          </a:prstGeom>
          <a:solidFill>
            <a:srgbClr val="febe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Tra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4400" y="3567240"/>
            <a:ext cx="1081080" cy="493560"/>
          </a:xfrm>
          <a:prstGeom prst="ellipse">
            <a:avLst/>
          </a:prstGeom>
          <a:solidFill>
            <a:srgbClr val="febe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Trar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27800" y="2193840"/>
            <a:ext cx="2092320" cy="2252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4365720"/>
            <a:ext cx="18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75040" y="2266920"/>
            <a:ext cx="2592360" cy="1871640"/>
            <a:chOff x="2075040" y="2266920"/>
            <a:chExt cx="2592360" cy="1871640"/>
          </a:xfrm>
        </p:grpSpPr>
        <p:sp>
          <p:nvSpPr>
            <p:cNvPr id="126" name=""/>
            <p:cNvSpPr/>
            <p:nvPr/>
          </p:nvSpPr>
          <p:spPr>
            <a:xfrm>
              <a:off x="2146320" y="2266920"/>
              <a:ext cx="2087640" cy="1223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M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75040" y="3274560"/>
              <a:ext cx="28728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299040" y="3490560"/>
              <a:ext cx="71280" cy="6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803760" y="3346200"/>
              <a:ext cx="287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35400" y="2985840"/>
              <a:ext cx="432000" cy="7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435400" y="3417480"/>
              <a:ext cx="287280" cy="64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53B-AD21-4B3C-B7F3-CEB38CCA79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A9C94-4A47-4DE0-80FF-5C20B0D4AB36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NCTS – a solid bas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21844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ull and on-line electronic data exchange in the Common domain (MSs connected via CCN/CSI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utomatic acceptance/refuse of customs declarations – WCO data model ver. 2.0 compati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ectronic decisions – released / decision to check the goods / 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uthorized traders – consignors, consignees - 24 h x 365 day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uarantee system – NCTS phase 3.2.1 - fully electron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llow up /International looking for transits – NCTS phase 3.2.2 -  - fully electron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IR in the pilot phase - in 11 MSs – mandatory so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iable and predictable environment; technology was not obstructi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=&gt;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now 100% “paper less” - e.g. In CZ starting from 1.7.2006 „paper-based customs declaration“ will be refus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9” trader interfaces (MS + EFTA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164360" y="2421000"/>
            <a:ext cx="22557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73F-0A12-4853-9C03-C3877C8E34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5A2BF-D8EE-4A92-A8B3-20A434CF19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ffcc66"/>
                </a:solidFill>
                <a:latin typeface="Arial"/>
              </a:rPr>
              <a:t>NCTS messages and scenario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1280" y="1700280"/>
            <a:ext cx="450720" cy="428040"/>
            <a:chOff x="611280" y="1700280"/>
            <a:chExt cx="450720" cy="428040"/>
          </a:xfrm>
        </p:grpSpPr>
        <p:sp>
          <p:nvSpPr>
            <p:cNvPr id="137" name=""/>
            <p:cNvSpPr/>
            <p:nvPr/>
          </p:nvSpPr>
          <p:spPr>
            <a:xfrm>
              <a:off x="733320" y="1700280"/>
              <a:ext cx="213840" cy="142560"/>
            </a:xfrm>
            <a:prstGeom prst="ellipse">
              <a:avLst/>
            </a:prstGeom>
            <a:noFill/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6280" y="1841400"/>
              <a:ext cx="1440" cy="13140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840" y="1879560"/>
              <a:ext cx="326880" cy="108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" y="1973160"/>
              <a:ext cx="450720" cy="15516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0" y="54"/>
                  </a:moveTo>
                  <a:lnTo>
                    <a:pt x="54" y="0"/>
                  </a:lnTo>
                  <a:lnTo>
                    <a:pt x="108" y="54"/>
                  </a:ln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0960" y="1413000"/>
            <a:ext cx="1402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Trader Princip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0800" y="1644480"/>
            <a:ext cx="180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93920" y="1909800"/>
            <a:ext cx="106200" cy="33480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3920" y="2511360"/>
            <a:ext cx="106200" cy="1540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3920" y="3152880"/>
            <a:ext cx="106200" cy="1569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93920" y="5576760"/>
            <a:ext cx="106200" cy="1666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58160" y="1446120"/>
            <a:ext cx="15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Trader Destin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9312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35880" y="4206960"/>
            <a:ext cx="106200" cy="33480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880" y="5218200"/>
            <a:ext cx="106200" cy="1555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720" y="1266840"/>
            <a:ext cx="1239840" cy="272880"/>
          </a:xfrm>
          <a:prstGeom prst="rect">
            <a:avLst/>
          </a:prstGeom>
          <a:solidFill>
            <a:srgbClr val="ffffcc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8800" y="1268280"/>
            <a:ext cx="13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Office of Transit</a:t>
            </a:r>
            <a:r>
              <a:rPr b="0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2560" y="1557360"/>
            <a:ext cx="71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Declar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8964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27720" y="3195720"/>
            <a:ext cx="101520" cy="1666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27720" y="3836880"/>
            <a:ext cx="101520" cy="3351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266840"/>
            <a:ext cx="1239840" cy="272880"/>
          </a:xfrm>
          <a:prstGeom prst="rect">
            <a:avLst/>
          </a:prstGeom>
          <a:solidFill>
            <a:srgbClr val="ffffcc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7160" y="130320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OoDe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8620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30400" y="1909800"/>
            <a:ext cx="104760" cy="16524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0400" y="2511360"/>
            <a:ext cx="104760" cy="3351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0400" y="3152880"/>
            <a:ext cx="104760" cy="41724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30400" y="3836880"/>
            <a:ext cx="104760" cy="1587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30400" y="4619520"/>
            <a:ext cx="104760" cy="15408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0400" y="5124600"/>
            <a:ext cx="104760" cy="1537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5576760"/>
            <a:ext cx="104760" cy="33516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0640" y="1266840"/>
            <a:ext cx="1224000" cy="272880"/>
          </a:xfrm>
          <a:prstGeom prst="rect">
            <a:avLst/>
          </a:prstGeom>
          <a:solidFill>
            <a:srgbClr val="ffffcc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38920" y="130320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: OoD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91280" y="1644480"/>
            <a:ext cx="1440" cy="477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21440" y="3247920"/>
            <a:ext cx="122040" cy="1573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21440" y="4206960"/>
            <a:ext cx="122040" cy="1555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21440" y="4619520"/>
            <a:ext cx="122040" cy="33192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21440" y="5124600"/>
            <a:ext cx="122040" cy="417240"/>
          </a:xfrm>
          <a:prstGeom prst="rect">
            <a:avLst/>
          </a:prstGeom>
          <a:solidFill>
            <a:srgbClr val="ffff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70200" y="1913040"/>
            <a:ext cx="149040" cy="428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70200" y="1869840"/>
            <a:ext cx="149040" cy="428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8400" y="1781280"/>
            <a:ext cx="152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: E_DEC_DAT (IE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3320" y="2349360"/>
            <a:ext cx="152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2: E_MRN_ALL (IE2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4040" y="2852640"/>
            <a:ext cx="150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3: E_REL_TRA (IE2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8760" y="2852640"/>
            <a:ext cx="15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4: C_ATR_SND (IE5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12400" y="3141720"/>
            <a:ext cx="154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5: C_AAR_SND (IE0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9480" y="3645000"/>
            <a:ext cx="162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6: C_NCF_NOT (IE11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97840" y="3933720"/>
            <a:ext cx="154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7: E_ARR_NOT (IE0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3320" y="4508640"/>
            <a:ext cx="154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8: C_ARR_ADV (IE0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81320" y="4995720"/>
            <a:ext cx="156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9: C_DES_CON (IE1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96040" y="4941720"/>
            <a:ext cx="161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0: E_GDS_REL (IE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45480" y="5300640"/>
            <a:ext cx="16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1: E_WRT_NOT (IE4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00800" y="126828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Office of Destination</a:t>
            </a:r>
            <a:r>
              <a:rPr b="0" lang="cs-CZ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5120" y="1628640"/>
            <a:ext cx="71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</a:rPr>
              <a:t>Declar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989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5300640"/>
            <a:ext cx="11527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393372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3213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3429000"/>
            <a:ext cx="295272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2637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3213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5661000"/>
            <a:ext cx="1366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724280"/>
            <a:ext cx="29527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4292640"/>
            <a:ext cx="11509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5229360"/>
            <a:ext cx="295272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885080" y="1700280"/>
            <a:ext cx="450720" cy="428040"/>
            <a:chOff x="7885080" y="1700280"/>
            <a:chExt cx="450720" cy="428040"/>
          </a:xfrm>
        </p:grpSpPr>
        <p:sp>
          <p:nvSpPr>
            <p:cNvPr id="201" name=""/>
            <p:cNvSpPr/>
            <p:nvPr/>
          </p:nvSpPr>
          <p:spPr>
            <a:xfrm>
              <a:off x="8007120" y="1700280"/>
              <a:ext cx="213840" cy="142560"/>
            </a:xfrm>
            <a:prstGeom prst="ellipse">
              <a:avLst/>
            </a:prstGeom>
            <a:noFill/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10080" y="1841400"/>
              <a:ext cx="1440" cy="13140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46640" y="1879560"/>
              <a:ext cx="326880" cy="1080"/>
            </a:xfrm>
            <a:prstGeom prst="line">
              <a:avLst/>
            </a:prstGeom>
            <a:ln w="1908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85080" y="1973160"/>
              <a:ext cx="450720" cy="15516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0" y="54"/>
                  </a:moveTo>
                  <a:lnTo>
                    <a:pt x="54" y="0"/>
                  </a:lnTo>
                  <a:lnTo>
                    <a:pt x="108" y="54"/>
                  </a:ln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97B-9302-4049-80C0-7B619E42153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7C299-C679-4D4D-A17D-85691B7A6C9B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Quality = How transits are written-off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42920" y="1197000"/>
          <a:ext cx="6624720" cy="50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6624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TO conference - Mold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BE3-7BCF-4A4E-90A3-91F626D965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C7ED9-B3AB-4114-922C-AF3055969247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4:48:05Z</dcterms:created>
  <dc:creator>Virpi</dc:creator>
  <dc:description/>
  <dc:language>en-US</dc:language>
  <cp:lastModifiedBy>Klapal</cp:lastModifiedBy>
  <dcterms:modified xsi:type="dcterms:W3CDTF">2006-06-12T07:48:15Z</dcterms:modified>
  <cp:revision>93</cp:revision>
  <dc:subject/>
  <dc:title>Align EU requirements on US requirements </dc:title>
</cp:coreProperties>
</file>