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35E-4FA0-43E2-9E91-6F81EF98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9DF-3D03-4194-8535-76E8AE5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033-9152-4C89-A50E-1E457865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AF7-FF36-47D5-AC3F-80E4793D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4D18-82DA-45CE-A014-DA041EF5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FE5-B35A-4A1C-9346-475C7B34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24B8-B78F-4079-85F7-329DD18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2FAE-E15A-4020-8E15-C09B8F8B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A72-A732-4AD8-A760-1B42C1F2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B76C-6AB0-4075-9C7B-29E65837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311-4AEC-456E-B0B9-520B7EF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D8E-1FA3-46CD-B2AD-839614F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012-E934-4B6F-B0DF-9612D79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AA56-C174-41D3-A48B-947D118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05F-315A-4AD6-BAA4-250596F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B030-F758-4FDA-8251-836063A7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5D4-AACB-405F-8B9A-BE750F57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0F6-1A3F-45A3-952C-E652DBDF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ED0-9A38-475A-AAB5-4DBEC5F8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FB1-1646-4447-961C-1D10865D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5E0-0DA3-458D-9F11-35BD311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391-EA24-4756-B2EF-A96A74D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B95-3E62-4BAF-AC40-76670BA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2EA-3B9D-44DD-9D77-8334DBD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3CC-0773-4F9D-941F-88CFB487CB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EECD-A7B6-4E04-8F5A-DF661D4766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63664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кабрь 2005 – март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у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ыргызс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лд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989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</a:t>
            </a:r>
            <a:r>
              <a:rPr b="1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членов ВТО для поддержки их участия в переговорах ВТО по вопросам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Ход проект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867280" y="0"/>
            <a:ext cx="11527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24000" y="2349360"/>
            <a:ext cx="86407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ыргызста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перационные процедуры пересечения границ советских врем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ый закон «О государственной границе» (1999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втоматизация границ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сутствие закона об электронной подписи и электронных документ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преемлемость международного (европейского) опыта управления границой и  проведения таможенных операци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лдо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блема Приднестровь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сутствие необходимого оборудования на таможенных пункт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нтр профессиональной подготовки таможенных служащи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0920" y="764640"/>
            <a:ext cx="78469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Соответствие статьям</a:t>
            </a:r>
            <a:r>
              <a:rPr b="1" i="1" lang="ru-RU" sz="18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69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обрили все страны. Причи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ий характер статей и возможность разной интерпретации каждой страной, а то и ведомств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ширение статей путем включения предложений компиляции сделают статьи более конкретными  и облегчит понимание обязательств и их выполнени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02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Расширение статей</a:t>
            </a:r>
            <a:r>
              <a:rPr b="1" i="1" lang="ru-RU" sz="20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и Компиляция членских предложений ВТО по </a:t>
            </a: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упрощению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ложения, наиболее интересные для стран, касаю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именения международных стандартов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спользования электронных документ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я общей информационной базы данных для таможни и службы безопасности границ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меньшения/ограничения формальностей/процедур и требуемых данных/документац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томатизации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ординации деятельности и требований всех пограничных ведомств, осуществляющих контроль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прощенной таможенной очистки и выпуска товар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я единого национального центра,  как  коммуникационного органа по вопросам торговых процеду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989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Компиляция членских предложений ВТО по упрощению процедур торговли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иболее проблемные вопросы компиля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спользование  международных стандартов , принципов «Единого окна», «Одной остановки», оценки риска и избирательности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AS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) и т.д.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нтегрированное управление границей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BM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) или координация деятельности и требований всех пограничных ведомст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андартизированные документы 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UN Layout Key for Trade Documents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(Ключ ООН схемы расположения информации для торговых документов и т.д.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лектронные документы: возможности и использовани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бщая база данных для пограничных ведомств, осуществляющих контроль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Европейская практика управления границей – последние достижения и огранич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ятельность ВТО и соответствующие вопросы в це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Компиляция членских предложений ВТО по 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упрощению процедур торговли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 (</a:t>
            </a:r>
            <a:r>
              <a:rPr b="1" lang="en-US" sz="1800" spc="-1" strike="noStrike">
                <a:solidFill>
                  <a:srgbClr val="a2dac5"/>
                </a:solidFill>
                <a:latin typeface="Tahoma"/>
              </a:rPr>
              <a:t>TN/TF/W/43/Rev.4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рм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декабре 2005 года Армении предоставлен режим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D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з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тегорически отказалась от возможности предоставления подобного режи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ыргыз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ступает за предоставление подобного режим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лд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ыступает за предоставление режима особой гибк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Специальный и дифференциальный режим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(режим особой гибкости) </a:t>
            </a:r>
            <a:r>
              <a:rPr b="1" lang="en-US" sz="2000" spc="-1" strike="noStrike">
                <a:solidFill>
                  <a:srgbClr val="a2dac5"/>
                </a:solidFill>
                <a:latin typeface="Tahoma"/>
              </a:rPr>
              <a:t>SDT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гионального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трудничеств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седние страны  не являются членами ВТО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координации между ведомствами, занимающимися вопросами упрщения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наний в правительстве и в частном секторе  о деятельности ВТО  и  связанных с ней вопрос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наний  в частном секторе  по вопросам международной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знание международных стандартов качеств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арламент медлит с принятием представленных инициатив и новых законопроект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достаточность профессиональных знаний;  отсутствие возможностей обучения для таможенных служащих и персонала фитосанитарной и ветеринарной служб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Проблемы, отмеченные странам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охие инфраструктура и оборудова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 на пунктах пограничных перех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лохая инфраструктура для фитосанитарного и ветеринарного контрол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в таможенных служб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 в службах охраны границ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достаток оборудования  в  фитосанитарной и ветеринарной служб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изкий уровень автоматизации таможен,  служб охраны границы и фитосанитарных и ветеринарных служб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Проблемы, отмеченные странами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лучшение инфраструктуры пунктов пограничных перех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таможенным орган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пограничным служб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авка современного оборудования для фитосанитарной и ветеринарной служб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учение и повышение квалификации сотрудников таможенной службы и фитосанитарной и ветеринарной служб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мощь в создании веб-сайта торгово-промышленной палат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здание справочных центров по вопросам торговл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Требования в технической помощ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изации таможен,  служб охраны границы и фитосанитарных и ветеринарных служб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 по электронной документации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N Layout Key for Trade Document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 по стандартизации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 по европейским технологиям управления границ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ощь в стандартизации экспортно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91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200"/>
            </a:br>
            <a:r>
              <a:rPr b="1" i="1" lang="ru-RU" sz="22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Требования в технической помощи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89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600"/>
            </a:br>
            <a:r>
              <a:rPr b="1" i="1" lang="ru-RU" sz="26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600"/>
            </a:b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8893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ение вопросов для переговоров ВТО об обязательных правилах, касающихся  упрощения процедур  торговли,  для Армении, Грузии, Кыргызстана и Республики Молдов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прос о  расширении статей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GAT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рамках  Рабочей програ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h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юме предложений, представленных в Переговорную группу ВТО по упрощению торговли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GT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“Переговоры ВТО по упрощению процедур торговли – Компиляция членских предложений”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43/Редакция 4, 31  октября, 2005 г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989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Задачи и цели проект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83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508720" y="0"/>
            <a:ext cx="1152360" cy="54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ровень соответствия требованиям статей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 GATT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в каждой из стра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ие вопросы, связанные с вопросами упрощения торговли, вызывают наибольшее беспокойство в  странах СНГ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  настоящий уровень соответствия предложениям, представленным  группе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Arial"/>
              </a:rPr>
              <a:t>NGTF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,  в соответствующей стран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ие дополнительные обязательства наиболее вероятно возникнут для стран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ы потенциальные преимущества и ограничения для  их экономик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ы возможные требования этих стран в технической помощи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ова техническая помощь для создания потенциал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 возможности укажите стоимость необходимой технической помощ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Задачи и цели проекта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508720" y="0"/>
            <a:ext cx="115236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м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торговли и экономическ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енный таможенный комитет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и государственная инспекция по защите растений и карантину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ргово-промышленная палата Республики Арм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 International Armeni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Апавен- международные автомобильные перевоз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79898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8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уз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экономического развития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иностранных дел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оженный департамент министерства финансов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партамент охраны границ министерства внутренних дел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оргово-промышленная палат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ersk Shipping Line Georgia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еждународный центр торговой политики и права Груз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стоянное представительство Грузии в миссии ООН в Женев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1800"/>
            </a:b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1800"/>
            </a:br>
            <a:r>
              <a:rPr b="1" lang="ru-RU" sz="18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24000" y="2420640"/>
            <a:ext cx="8820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ыргызстан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истерство промышленности, торговли и туризма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правление пограничных войск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, водного хозяйства и перерабатывающей промышленности Республики Кыргызст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оянный предствитель Министерство промышленности, торговли и туризма Кыргызстана в ВТ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нтр экономических исследован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1042920" cy="54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492360" y="0"/>
            <a:ext cx="1008360" cy="54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2349360"/>
            <a:ext cx="8820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лдо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моженное управление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граничная служба 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нистерство экономики и торговли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нистерство сельского хозяйства и пищевой промышленности Республики Молд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ргово-промышленная палата Республики Молдова; МолдПро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тоянное представительство Республики Молдова в миссии ООН в Женев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89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2000"/>
            </a:b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20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Целевая группа</a:t>
            </a:r>
            <a:br>
              <a:rPr sz="2200"/>
            </a:br>
            <a:r>
              <a:rPr b="1" lang="ru-RU" sz="22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820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м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собое положение таможенных органов в стран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обходимость укрепления принципа верховности закон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кон о транзите грузов несовершене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соединение к ряду международных конвенций и соглашений (Женевская конвенция о свободном передвижении контейнеров, соглашение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MGS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цедура пересечения границ не упрощен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едоплата НДС на границ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оженное сопровождение транзитных груз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возможность изменения электронной декларации, заполненной для предочистки товар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ятие оригинальной счет-фактуры- внутренний таможенный прейскуран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558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упрощения процедур торговли </a:t>
            </a:r>
            <a:br>
              <a:rPr sz="2000"/>
            </a:br>
            <a:r>
              <a:rPr b="1" lang="ru-RU" sz="2000" spc="-1" strike="noStrike">
                <a:solidFill>
                  <a:srgbClr val="a2dac5"/>
                </a:solidFill>
                <a:latin typeface="Tahoma"/>
              </a:rPr>
              <a:t>Соответствие статьям </a:t>
            </a:r>
            <a:br>
              <a:rPr sz="2000"/>
            </a:br>
            <a:r>
              <a:rPr b="1" lang="en-US" sz="20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692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820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руз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ребования статьи Х ГАТТ игнорированы полностью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пытка таможни установить всеобщий контрол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гнорирование принципа управления риском и избира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изкий профессиональный уровень таможенных служащи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ранзитная перевозка акцизных груз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ношение к предпринимателям- как к потенциальным преступника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риятие оригинальной счет-фактуры- внутренний таможенный прейскуран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акона об электронной подписи и электронных документ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координированного подхода к вопросам упрощения торгов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облема демаркации границ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облема Абхазии и Южной Осет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3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Исследование и семинар для стран СНГ-членов ВТО для поддержки их участия в переговорах ВТО по вопросам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 упрощения процедур торговли 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2dac5"/>
                </a:solidFill>
                <a:latin typeface="Tahoma"/>
              </a:rPr>
              <a:t>Соответствие статьям </a:t>
            </a:r>
            <a:br>
              <a:rPr sz="1600"/>
            </a:br>
            <a:r>
              <a:rPr b="1" lang="en-US" sz="1600" spc="-1" strike="noStrike">
                <a:solidFill>
                  <a:srgbClr val="a2dac5"/>
                </a:solidFill>
                <a:latin typeface="Tahoma"/>
              </a:rPr>
              <a:t>V, VIII, X GATT</a:t>
            </a:r>
            <a:br>
              <a:rPr sz="1600"/>
            </a:br>
            <a:r>
              <a:rPr b="1" lang="ru-RU" sz="1600" spc="-1" strike="noStrike">
                <a:solidFill>
                  <a:srgbClr val="a2dac5"/>
                </a:solidFill>
                <a:latin typeface="Tahoma"/>
              </a:rPr>
              <a:t>(Продолжение)</a:t>
            </a: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76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1043280" cy="54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1008000" cy="5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115272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8101080" y="0"/>
            <a:ext cx="104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5:04:06Z</dcterms:created>
  <dc:creator>cam</dc:creator>
  <dc:description/>
  <dc:language>en-US</dc:language>
  <cp:lastModifiedBy>cam</cp:lastModifiedBy>
  <dcterms:modified xsi:type="dcterms:W3CDTF">2006-06-07T12:27:58Z</dcterms:modified>
  <cp:revision>17</cp:revision>
  <dc:subject/>
  <dc:title>Исследование и семинар для стран СНГ-членов ВТО для поддержки их участия в переговорах ВТО по вопросам содействия торговле Сроки и страны-участницы исследования</dc:title>
</cp:coreProperties>
</file>