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C22-E671-4F1B-8176-7B67A53D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ECB-DA0D-4C39-8152-FADB9B73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4F0-58A5-4811-AE7F-319C7561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A41-06A1-4727-91B9-EBBA9462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F88B-48D8-4114-AB9D-76B42C14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0E8-5FB5-4B80-92DB-1502780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BFCA-7078-4507-947E-FE412360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061C-3C62-41D7-9129-08FF7E90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320-74D5-43F2-8A9C-27E54CC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10C5-2CB2-4AB8-A896-9A116FC5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DD31-9712-492B-8041-E55C621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676-1E4E-4ED6-8DD7-8EEFE0E0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D2D7-23A1-479C-9860-B089D5F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2D0A-625A-4766-850F-129EC65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77B5-8D39-460E-9B70-27DD789E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D657-B7C3-4B78-A37E-4A427F26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7354-8433-416A-8685-32957EDC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448-E616-46A1-BF60-4132AEEA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7CF-BA54-4DAE-AD82-F385C18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DE5-E231-4FBB-A570-37110D2D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476-9D5F-4B0C-8426-2D591BAA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4E3-EEDC-476C-81CA-2F99E56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ED0-EA02-4268-9F1D-9ACEAF72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590-71A7-4B22-95A0-DE014377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E345-AD14-4E91-931D-A338B3CF7B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EB41-8472-42F9-B154-56B13229B1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63664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кабрь 2005 – март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м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уз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ыргызст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лд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268280"/>
            <a:ext cx="79898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</a:t>
            </a:r>
            <a:r>
              <a:rPr b="1" i="1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членов ВТО для поддержки их участия в переговорах ВТО по вопросам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Ход проекта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836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90800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867280" y="0"/>
            <a:ext cx="11527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24000" y="2349360"/>
            <a:ext cx="86407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ыргызста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перационные процедуры пересечения границ советских врем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вый закон «О государственной границе» (1999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втоматизация границ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сутствие закона об электронной подписи и электронных документ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преемлемость международного (европейского) опыта управления границой и  проведения таможенных операций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лдо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облема Приднестровь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сутствие необходимого оборудования на таможенных пункт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лохая инфраструктур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нтр профессиональной подготовки таможенных служащи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0920" y="764640"/>
            <a:ext cx="78469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Соответствие статьям</a:t>
            </a:r>
            <a:r>
              <a:rPr b="1" i="1" lang="ru-RU" sz="1800" spc="-1" strike="noStrike">
                <a:solidFill>
                  <a:srgbClr val="a2dac5"/>
                </a:solidFill>
                <a:latin typeface="Tahoma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a2dac5"/>
                </a:solidFill>
                <a:latin typeface="Tahoma"/>
              </a:rPr>
              <a:t>V, VIII, X GATT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692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обрили все страны. Причин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ий характер статей и возможность разной интерпретации каждой страной, а то и ведомств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ширение статей путем включения предложений компиляции сделают статьи более конкретными  и облегчит понимание обязательств и их выполнени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025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Расширение статей</a:t>
            </a:r>
            <a:r>
              <a:rPr b="1" i="1" lang="ru-RU" sz="2000" spc="-1" strike="noStrike">
                <a:solidFill>
                  <a:srgbClr val="a2dac5"/>
                </a:solidFill>
                <a:latin typeface="Tahoma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a2dac5"/>
                </a:solidFill>
                <a:latin typeface="Tahoma"/>
              </a:rPr>
              <a:t>V, VIII, X GATT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и Компиляция членских предложений ВТО по </a:t>
            </a: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упрощению процедур торговли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a2dac5"/>
                </a:solidFill>
                <a:latin typeface="Tahoma"/>
              </a:rPr>
              <a:t>TN/TF/W/43/Rev.4</a:t>
            </a: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ложения, наиболее интересные для стран, касаютс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именения международных стандартов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спользования электронных документ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здания общей информационной базы данных для таможни и службы безопасности границ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меньшения/ограничения формальностей/процедур и требуемых данных/документац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втоматизации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оординации деятельности и требований всех пограничных ведомств, осуществляющих контроль на границ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прощенной таможенной очистки и выпуска товар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здания единого национального центра,  как  коммуникационного органа по вопросам торговых процедур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9898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Компиляция членских предложений ВТО по упрощению процедур торговли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a2dac5"/>
                </a:solidFill>
                <a:latin typeface="Tahoma"/>
              </a:rPr>
              <a:t>TN/TF/W/43/Rev.4</a:t>
            </a: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иболее проблемные вопросы компиляц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спользование  международных стандартов , принципов «Единого окна», «Одной остановки», оценки риска и избирательности 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AS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) и т.д.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нтегрированное управление границей 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BM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) или координация деятельности и требований всех пограничных ведомст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тандартизированные документы 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UN Layout Key for Trade Documents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(Ключ ООН схемы расположения информации для торговых документов и т.д.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Электронные документы: возможности и использование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бщая база данных для пограничных ведомств, осуществляющих контроль на границ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Европейская практика управления границей – последние достижения и ограничения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еятельность ВТО и соответствующие вопросы в це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Компиляция членских предложений ВТО по 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упрощению процедур торговли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 (</a:t>
            </a:r>
            <a:r>
              <a:rPr b="1" lang="en-US" sz="1800" spc="-1" strike="noStrike">
                <a:solidFill>
                  <a:srgbClr val="a2dac5"/>
                </a:solidFill>
                <a:latin typeface="Tahoma"/>
              </a:rPr>
              <a:t>TN/TF/W/43/Rev.4</a:t>
            </a: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рм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 декабре 2005 года Армении предоставлен режим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D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з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атегорически отказалась от возможности предоставления подобного режим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ыргыз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ыступает за предоставление подобного режим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лд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ыступает за предоставление режима особой гибк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Специальный и дифференциальный режим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(режим особой гибкости) </a:t>
            </a:r>
            <a:r>
              <a:rPr b="1" lang="en-US" sz="2000" spc="-1" strike="noStrike">
                <a:solidFill>
                  <a:srgbClr val="a2dac5"/>
                </a:solidFill>
                <a:latin typeface="Tahoma"/>
              </a:rPr>
              <a:t>SDT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егионального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трудничества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седние страны  не являются членами ВТО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координации между ведомствами, занимающимися вопросами упрщения торговл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знаний в правительстве и в частном секторе  о деятельности ВТО  и  связанных с ней вопроса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знаний  в частном секторе  по вопросам международной торговл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знание международных стандартов качеств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арламент медлит с принятием представленных инициатив и новых законопроект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достаточность профессиональных знаний;  отсутствие возможностей обучения для таможенных служащих и персонала фитосанитарной и ветеринарной служб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Проблемы, отмеченные странам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охие инфраструктура и оборудова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лохая инфраструктура на пунктах пограничных переход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лохая инфраструктура для фитосанитарного и ветеринарного контрол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достаток оборудования в таможенных служб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достаток оборудования  в службах охраны границ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достаток оборудования  в  фитосанитарной и ветеринарной служб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изкий уровень автоматизации таможен,  служб охраны границы и фитосанитарных и ветеринарных служб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Проблемы, отмеченные странами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лучшение инфраструктуры пунктов пограничных переход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тавка современного оборудования таможенным органа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тавка современного оборудования пограничным служба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тавка современного оборудования для фитосанитарной и ветеринарной служб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бучение и повышение квалификации сотрудников таможенной службы и фитосанитарной и ветеринарной служб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мощь в создании веб-сайта торгово-промышленной палат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здание справочных центров по вопросам торговл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Требования в технической помощ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матизации таможен,  служб охраны границы и фитосанитарных и ветеринарных служб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минары по электронной документации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N Layout Key for Trade Document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минар по стандартизации докум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минары по европейским технологиям управления границ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мощь в стандартизации экспортной продук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91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200"/>
            </a:br>
            <a:r>
              <a:rPr b="1" i="1" lang="ru-RU" sz="22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Требования в технической помощи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БЛАГОДАРЮ ЗА ВНИМ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989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600"/>
            </a:br>
            <a:r>
              <a:rPr b="1" i="1" lang="ru-RU" sz="26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600"/>
            </a:br>
            <a:endParaRPr b="0" lang="en-US" sz="2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2636640"/>
            <a:ext cx="8893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еделение вопросов для переговоров ВТО об обязательных правилах, касающихся  упрощения процедур  торговли,  для Армении, Грузии, Кыргызстана и Республики Молдов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прос о  расширении статей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GATT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рамках  Рабочей програ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h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зюме предложений, представленных в Переговорную группу ВТО по упрощению торговли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GT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“Переговоры ВТО по упрощению процедур торговли – Компиляция членских предложений”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43/Редакция 4, 31  октября, 2005 г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1268280"/>
            <a:ext cx="79898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Задачи и цели проекта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7640" cy="836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508720" y="0"/>
            <a:ext cx="1152360" cy="549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ровень соответствия требованиям статей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III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X GATT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в каждой из стра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ие вопросы, связанные с вопросами упрощения торговли, вызывают наибольшее беспокойство в  странах СНГ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ов  настоящий уровень соответствия предложениям, представленным  группе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Arial"/>
              </a:rPr>
              <a:t>NGTF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,  в соответствующей стране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ие дополнительные обязательства наиболее вероятно возникнут для страны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овы потенциальные преимущества и ограничения для  их экономик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овы возможные требования этих стран в технической помощи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ова техническая помощь для создания потенциал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о возможности укажите стоимость необходимой технической помощ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7989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Задачи и цели проекта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836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508720" y="0"/>
            <a:ext cx="1152360" cy="54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м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истерство торговли и экономического разви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енный таможенный комитет Республики Арм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истерство сельского хозяйства и государственная инспекция по защите растений и карантину Республики Арм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оргово-промышленная палата Республики Арм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 International Armeni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Апавен- международные автомобильные перевоз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79898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Целевая группа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83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4000" y="220464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руз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инистерство экономического развития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инистерство иностранных дел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аможенный департамент министерства финансов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инистерство сельского хозяйства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епартамент охраны границ министерства внутренних дел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оргово-промышленная палата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ersk Shipping Line Georgia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еждународный центр торговой политики и права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стоянное представительство Грузии в миссии ООН в Женев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Целевая группа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24000" y="2420640"/>
            <a:ext cx="8820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ыргызстан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нистерство промышленности, торговли и туризма Республики Кыргызст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правление пограничных войск Республики Кыргызст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нистерство сельского хозяйства, водного хозяйства и перерабатывающей промышленности Республики Кыргызст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стоянный предствитель Министерство промышленности, торговли и туризма Кыргызстана в ВТ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нтр экономических исследован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7989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Целевая группа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4000" y="2349360"/>
            <a:ext cx="8820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лдо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аможенное управление Республики Молд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граничная служба  Республики Молд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нистерство экономики и торговли Республики Молд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нистерство сельского хозяйства и пищевой промышленности Республики Молд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оргово-промышленная палата Республики Молдова; МолдПро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тоянное представительство Республики Молдова в миссии ООН в Женев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89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Целевая группа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820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м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собое положение таможенных органов в стран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обходимость укрепления принципа верховности закон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кон о транзите грузов несовершенен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присоединение к ряду международных конвенций и соглашений (Женевская конвенция о свободном передвижении контейнеров, соглашение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MGS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цедура пересечения границ не упрощен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едоплата НДС на границ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аможенное сопровождение транзитных груз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возможность изменения электронной декларации, заполненной для предочистки товар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приятие оригинальной счет-фактуры- внутренний таможенный прейскуран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99640" y="1052640"/>
            <a:ext cx="7558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Соответствие статьям </a:t>
            </a:r>
            <a:br>
              <a:rPr sz="2000"/>
            </a:br>
            <a:r>
              <a:rPr b="1" lang="en-US" sz="2000" spc="-1" strike="noStrike">
                <a:solidFill>
                  <a:srgbClr val="a2dac5"/>
                </a:solidFill>
                <a:latin typeface="Tahoma"/>
              </a:rPr>
              <a:t>V, VIII, X GATT</a:t>
            </a:r>
            <a:br>
              <a:rPr sz="16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7640" cy="692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90800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820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руз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ребования статьи Х ГАТТ игнорированы полностью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пытка таможни установить всеобщий контроль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гнорирование принципа управления риском и избиратель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изкий профессиональный уровень таможенных служащи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ранзитная перевозка акцизных груз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ношение к предпринимателям- как к потенциальным преступника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приятие оригинальной счет-фактуры- внутренний таможенный прейскуран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закона об электронной подписи и электронных документа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координированного подхода к вопросам упрощения торговл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облема демаркации границ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облема Абхазии и Южной Осет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3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1600"/>
            </a:b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1600"/>
            </a:b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a2dac5"/>
                </a:solidFill>
                <a:latin typeface="Tahoma"/>
              </a:rPr>
              <a:t>Соответствие статьям </a:t>
            </a:r>
            <a:br>
              <a:rPr sz="1600"/>
            </a:br>
            <a:r>
              <a:rPr b="1" lang="en-US" sz="1600" spc="-1" strike="noStrike">
                <a:solidFill>
                  <a:srgbClr val="a2dac5"/>
                </a:solidFill>
                <a:latin typeface="Tahoma"/>
              </a:rPr>
              <a:t>V, VIII, X GATT</a:t>
            </a:r>
            <a:br>
              <a:rPr sz="1600"/>
            </a:br>
            <a:r>
              <a:rPr b="1" lang="ru-RU" sz="16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5:04:06Z</dcterms:created>
  <dc:creator>cam</dc:creator>
  <dc:description/>
  <dc:language>en-US</dc:language>
  <cp:lastModifiedBy>cam</cp:lastModifiedBy>
  <dcterms:modified xsi:type="dcterms:W3CDTF">2006-06-07T12:27:58Z</dcterms:modified>
  <cp:revision>17</cp:revision>
  <dc:subject/>
  <dc:title>Исследование и семинар для стран СНГ-членов ВТО для поддержки их участия в переговорах ВТО по вопросам содействия торговле Сроки и страны-участницы исследования</dc:title>
</cp:coreProperties>
</file>