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8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16.wmf" ContentType="image/x-wmf"/>
  <Override PartName="/ppt/media/image5.gif" ContentType="image/gi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68800" y="7934400"/>
            <a:ext cx="453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240" y="243000"/>
            <a:ext cx="654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000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WCO Orientation Program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8000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or Policy Makers 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orient1e.p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6440" y="9336240"/>
            <a:ext cx="474840" cy="456840"/>
            <a:chOff x="136440" y="9336240"/>
            <a:chExt cx="474840" cy="456840"/>
          </a:xfrm>
        </p:grpSpPr>
        <p:sp>
          <p:nvSpPr>
            <p:cNvPr id="160" name=""/>
            <p:cNvSpPr/>
            <p:nvPr/>
          </p:nvSpPr>
          <p:spPr>
            <a:xfrm>
              <a:off x="210960" y="9370440"/>
              <a:ext cx="356400" cy="385560"/>
            </a:xfrm>
            <a:custGeom>
              <a:avLst/>
              <a:gdLst/>
              <a:ahLst/>
              <a:rect l="l" t="t" r="r" b="b"/>
              <a:pathLst>
                <a:path w="230" h="238">
                  <a:moveTo>
                    <a:pt x="229" y="118"/>
                  </a:moveTo>
                  <a:lnTo>
                    <a:pt x="228" y="130"/>
                  </a:lnTo>
                  <a:lnTo>
                    <a:pt x="227" y="142"/>
                  </a:lnTo>
                  <a:lnTo>
                    <a:pt x="224" y="153"/>
                  </a:lnTo>
                  <a:lnTo>
                    <a:pt x="220" y="164"/>
                  </a:lnTo>
                  <a:lnTo>
                    <a:pt x="216" y="175"/>
                  </a:lnTo>
                  <a:lnTo>
                    <a:pt x="209" y="185"/>
                  </a:lnTo>
                  <a:lnTo>
                    <a:pt x="203" y="194"/>
                  </a:lnTo>
                  <a:lnTo>
                    <a:pt x="196" y="202"/>
                  </a:lnTo>
                  <a:lnTo>
                    <a:pt x="187" y="210"/>
                  </a:lnTo>
                  <a:lnTo>
                    <a:pt x="179" y="217"/>
                  </a:lnTo>
                  <a:lnTo>
                    <a:pt x="169" y="223"/>
                  </a:lnTo>
                  <a:lnTo>
                    <a:pt x="159" y="228"/>
                  </a:lnTo>
                  <a:lnTo>
                    <a:pt x="149" y="232"/>
                  </a:lnTo>
                  <a:lnTo>
                    <a:pt x="138" y="234"/>
                  </a:lnTo>
                  <a:lnTo>
                    <a:pt x="126" y="236"/>
                  </a:lnTo>
                  <a:lnTo>
                    <a:pt x="115" y="237"/>
                  </a:lnTo>
                  <a:lnTo>
                    <a:pt x="103" y="236"/>
                  </a:lnTo>
                  <a:lnTo>
                    <a:pt x="91" y="234"/>
                  </a:lnTo>
                  <a:lnTo>
                    <a:pt x="81" y="232"/>
                  </a:lnTo>
                  <a:lnTo>
                    <a:pt x="70" y="228"/>
                  </a:lnTo>
                  <a:lnTo>
                    <a:pt x="60" y="223"/>
                  </a:lnTo>
                  <a:lnTo>
                    <a:pt x="50" y="217"/>
                  </a:lnTo>
                  <a:lnTo>
                    <a:pt x="42" y="210"/>
                  </a:lnTo>
                  <a:lnTo>
                    <a:pt x="33" y="202"/>
                  </a:lnTo>
                  <a:lnTo>
                    <a:pt x="26" y="194"/>
                  </a:lnTo>
                  <a:lnTo>
                    <a:pt x="20" y="185"/>
                  </a:lnTo>
                  <a:lnTo>
                    <a:pt x="14" y="175"/>
                  </a:lnTo>
                  <a:lnTo>
                    <a:pt x="9" y="164"/>
                  </a:lnTo>
                  <a:lnTo>
                    <a:pt x="5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5"/>
                  </a:lnTo>
                  <a:lnTo>
                    <a:pt x="5" y="83"/>
                  </a:lnTo>
                  <a:lnTo>
                    <a:pt x="9" y="72"/>
                  </a:lnTo>
                  <a:lnTo>
                    <a:pt x="14" y="62"/>
                  </a:lnTo>
                  <a:lnTo>
                    <a:pt x="20" y="52"/>
                  </a:lnTo>
                  <a:lnTo>
                    <a:pt x="26" y="43"/>
                  </a:lnTo>
                  <a:lnTo>
                    <a:pt x="33" y="35"/>
                  </a:lnTo>
                  <a:lnTo>
                    <a:pt x="42" y="27"/>
                  </a:lnTo>
                  <a:lnTo>
                    <a:pt x="50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59" y="9"/>
                  </a:lnTo>
                  <a:lnTo>
                    <a:pt x="169" y="14"/>
                  </a:lnTo>
                  <a:lnTo>
                    <a:pt x="179" y="20"/>
                  </a:lnTo>
                  <a:lnTo>
                    <a:pt x="187" y="27"/>
                  </a:lnTo>
                  <a:lnTo>
                    <a:pt x="196" y="35"/>
                  </a:lnTo>
                  <a:lnTo>
                    <a:pt x="203" y="43"/>
                  </a:lnTo>
                  <a:lnTo>
                    <a:pt x="209" y="52"/>
                  </a:lnTo>
                  <a:lnTo>
                    <a:pt x="216" y="62"/>
                  </a:lnTo>
                  <a:lnTo>
                    <a:pt x="220" y="72"/>
                  </a:lnTo>
                  <a:lnTo>
                    <a:pt x="224" y="83"/>
                  </a:lnTo>
                  <a:lnTo>
                    <a:pt x="227" y="95"/>
                  </a:lnTo>
                  <a:lnTo>
                    <a:pt x="228" y="106"/>
                  </a:lnTo>
                  <a:lnTo>
                    <a:pt x="229" y="11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440" y="9336240"/>
              <a:ext cx="4748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080" y="9430200"/>
              <a:ext cx="255600" cy="265680"/>
            </a:xfrm>
            <a:custGeom>
              <a:avLst/>
              <a:gdLst/>
              <a:ahLst/>
              <a:rect l="l" t="t" r="r" b="b"/>
              <a:pathLst>
                <a:path w="165" h="164">
                  <a:moveTo>
                    <a:pt x="164" y="81"/>
                  </a:moveTo>
                  <a:lnTo>
                    <a:pt x="162" y="98"/>
                  </a:lnTo>
                  <a:lnTo>
                    <a:pt x="157" y="113"/>
                  </a:lnTo>
                  <a:lnTo>
                    <a:pt x="150" y="127"/>
                  </a:lnTo>
                  <a:lnTo>
                    <a:pt x="140" y="139"/>
                  </a:lnTo>
                  <a:lnTo>
                    <a:pt x="128" y="149"/>
                  </a:lnTo>
                  <a:lnTo>
                    <a:pt x="114" y="156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5" y="161"/>
                  </a:lnTo>
                  <a:lnTo>
                    <a:pt x="50" y="156"/>
                  </a:lnTo>
                  <a:lnTo>
                    <a:pt x="36" y="149"/>
                  </a:lnTo>
                  <a:lnTo>
                    <a:pt x="24" y="139"/>
                  </a:lnTo>
                  <a:lnTo>
                    <a:pt x="14" y="127"/>
                  </a:lnTo>
                  <a:lnTo>
                    <a:pt x="6" y="113"/>
                  </a:lnTo>
                  <a:lnTo>
                    <a:pt x="2" y="98"/>
                  </a:lnTo>
                  <a:lnTo>
                    <a:pt x="0" y="81"/>
                  </a:lnTo>
                  <a:lnTo>
                    <a:pt x="2" y="65"/>
                  </a:lnTo>
                  <a:lnTo>
                    <a:pt x="6" y="49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5" y="2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50" y="36"/>
                  </a:lnTo>
                  <a:lnTo>
                    <a:pt x="157" y="49"/>
                  </a:lnTo>
                  <a:lnTo>
                    <a:pt x="162" y="65"/>
                  </a:lnTo>
                  <a:lnTo>
                    <a:pt x="164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000" y="9428400"/>
              <a:ext cx="221760" cy="2480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42" y="76"/>
                  </a:moveTo>
                  <a:lnTo>
                    <a:pt x="140" y="91"/>
                  </a:lnTo>
                  <a:lnTo>
                    <a:pt x="136" y="106"/>
                  </a:lnTo>
                  <a:lnTo>
                    <a:pt x="130" y="118"/>
                  </a:lnTo>
                  <a:lnTo>
                    <a:pt x="121" y="129"/>
                  </a:lnTo>
                  <a:lnTo>
                    <a:pt x="111" y="139"/>
                  </a:lnTo>
                  <a:lnTo>
                    <a:pt x="99" y="146"/>
                  </a:lnTo>
                  <a:lnTo>
                    <a:pt x="85" y="150"/>
                  </a:lnTo>
                  <a:lnTo>
                    <a:pt x="71" y="152"/>
                  </a:lnTo>
                  <a:lnTo>
                    <a:pt x="57" y="150"/>
                  </a:lnTo>
                  <a:lnTo>
                    <a:pt x="43" y="146"/>
                  </a:lnTo>
                  <a:lnTo>
                    <a:pt x="31" y="139"/>
                  </a:lnTo>
                  <a:lnTo>
                    <a:pt x="21" y="129"/>
                  </a:lnTo>
                  <a:lnTo>
                    <a:pt x="12" y="118"/>
                  </a:lnTo>
                  <a:lnTo>
                    <a:pt x="6" y="106"/>
                  </a:lnTo>
                  <a:lnTo>
                    <a:pt x="2" y="91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6" y="46"/>
                  </a:lnTo>
                  <a:lnTo>
                    <a:pt x="12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5" y="2"/>
                  </a:lnTo>
                  <a:lnTo>
                    <a:pt x="99" y="6"/>
                  </a:lnTo>
                  <a:lnTo>
                    <a:pt x="111" y="13"/>
                  </a:lnTo>
                  <a:lnTo>
                    <a:pt x="121" y="22"/>
                  </a:lnTo>
                  <a:lnTo>
                    <a:pt x="130" y="34"/>
                  </a:lnTo>
                  <a:lnTo>
                    <a:pt x="136" y="46"/>
                  </a:lnTo>
                  <a:lnTo>
                    <a:pt x="140" y="61"/>
                  </a:lnTo>
                  <a:lnTo>
                    <a:pt x="142" y="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2560" y="9480240"/>
              <a:ext cx="134640" cy="1458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86" y="44"/>
                  </a:moveTo>
                  <a:lnTo>
                    <a:pt x="85" y="53"/>
                  </a:lnTo>
                  <a:lnTo>
                    <a:pt x="82" y="61"/>
                  </a:lnTo>
                  <a:lnTo>
                    <a:pt x="79" y="69"/>
                  </a:lnTo>
                  <a:lnTo>
                    <a:pt x="73" y="76"/>
                  </a:lnTo>
                  <a:lnTo>
                    <a:pt x="67" y="81"/>
                  </a:lnTo>
                  <a:lnTo>
                    <a:pt x="60" y="85"/>
                  </a:lnTo>
                  <a:lnTo>
                    <a:pt x="52" y="88"/>
                  </a:lnTo>
                  <a:lnTo>
                    <a:pt x="43" y="89"/>
                  </a:lnTo>
                  <a:lnTo>
                    <a:pt x="34" y="88"/>
                  </a:lnTo>
                  <a:lnTo>
                    <a:pt x="26" y="85"/>
                  </a:lnTo>
                  <a:lnTo>
                    <a:pt x="19" y="81"/>
                  </a:lnTo>
                  <a:lnTo>
                    <a:pt x="13" y="76"/>
                  </a:lnTo>
                  <a:lnTo>
                    <a:pt x="8" y="69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3" y="13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6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480" y="9423720"/>
              <a:ext cx="24480" cy="256320"/>
            </a:xfrm>
            <a:custGeom>
              <a:avLst/>
              <a:gdLst>
                <a:gd name="textAreaLeft" fmla="*/ 360 w 24480"/>
                <a:gd name="textAreaRight" fmla="*/ 24120 w 24480"/>
                <a:gd name="textAreaTop" fmla="*/ 360 h 256320"/>
                <a:gd name="textAreaBottom" fmla="*/ 255960 h 256320"/>
              </a:gdLst>
              <a:ahLst/>
              <a:rect l="textAreaLeft" t="textAreaTop" r="textAreaRight" b="textAreaBottom"/>
              <a:pathLst>
                <a:path w="21600" h="223200">
                  <a:moveTo>
                    <a:pt x="1750" y="0"/>
                  </a:moveTo>
                  <a:arcTo wR="1750" hR="1750" stAng="16200000" swAng="-5400000"/>
                  <a:lnTo>
                    <a:pt x="0" y="221450"/>
                  </a:lnTo>
                  <a:arcTo wR="1750" hR="1750" stAng="10800000" swAng="-5400000"/>
                  <a:lnTo>
                    <a:pt x="19850" y="223200"/>
                  </a:lnTo>
                  <a:arcTo wR="1750" hR="1750" stAng="5400000" swAng="-5400000"/>
                  <a:lnTo>
                    <a:pt x="21600" y="1750"/>
                  </a:lnTo>
                  <a:arcTo wR="1750" hR="17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6120" y="9751320"/>
              <a:ext cx="46080" cy="417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0"/>
                  </a:moveTo>
                  <a:lnTo>
                    <a:pt x="16" y="2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959280" y="9477360"/>
            <a:ext cx="2589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Bahamas"/>
              </a:rPr>
              <a:t>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Bahamas"/>
              </a:rPr>
              <a:t>WORLD CUSTOMS ORGANIZATION                                                                                                                                                                                                                         ORGANISATION MONDIALE DES DOUAN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392360" y="626760"/>
            <a:ext cx="2066760" cy="14317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960" y="1294920"/>
            <a:ext cx="3346200" cy="80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620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Japan Customs, since 1991, has conducted six surveys of the “Time Required for the Release of Goods” in close cooperation with other trade-related government agencies and privat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The survey indicates that the lead time for sea cargo was reduced 66% over ten years (1991-2001), from 7 days to 3.1 days. Customs clearance time for sea cargo was also reduced from 26.1 to 4.7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Based on the outcomes from these TRSs, this time we attempted to examine economic effects/impacts brought by shortening time required for release of importing-sea-car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EB1-0000-4137-A958-03044A35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E1E-AE1A-48A8-9AC9-43F3FF9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33D-F27D-4F96-BA82-454FF715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9D2-C140-4563-9136-704C9C54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3CE-802D-4119-90D7-3E55AE6F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77E1-A35B-4C7F-AF07-66FF185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A200-975E-4AF3-816D-D06E4DB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DA07-BAA0-48DF-90BF-65DB828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3DA6-7F66-478F-973B-FF4ECFB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D421-D27C-465D-9EE3-163E561F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90DC-A5A7-4885-B143-F97200B4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C1A-2434-4144-92C4-D4733236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023-9F1F-4900-9B96-999445E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D1E9-3CBD-40F2-B8D6-3724C6A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73E7-1425-4DC4-919E-D8A5E7BA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1585-200D-432E-99E6-AD08504A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F223-8E96-4C92-939C-688AC0C2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9BE-7952-48C6-9404-E97A56D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C91-0026-4F5F-AB4F-74F2AD90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22E-D6DB-4C55-AC65-2F6AEFA3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9A6-37FE-460F-BB33-0D12951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69C-6492-4E2D-AEDF-BFCCB66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317-D763-4359-819C-A6F508D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B0E-D146-477C-8C95-D1D1E5E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79556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114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9280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067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CFE-9796-4A83-8ACC-6FA33914C6F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79412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100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136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52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69236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8BC1-2743-4CA9-90AA-FAA1155DA4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205740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CO Time Release Study Gu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-- An analytical tool for TF--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21200" y="380880"/>
            <a:ext cx="1709640" cy="1185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3520" y="396252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CTAD/UNECE Wor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 November 2006, Gen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5105520"/>
            <a:ext cx="8210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datsugu Toni Matsuda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ld Customs Organization (W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F4F-0A71-420E-978F-96AA8F645B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Mode of transport? </a:t>
            </a: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ESA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85345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ED4-B757-4EE0-A4BC-92B2720F18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Control channel? 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3238560"/>
            <a:ext cx="11793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2494080"/>
            <a:ext cx="165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828800" y="2286000"/>
            <a:ext cx="2621520" cy="2509920"/>
            <a:chOff x="1828800" y="2286000"/>
            <a:chExt cx="2621520" cy="250992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2895480" y="2976480"/>
              <a:ext cx="13971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828800" y="3543480"/>
              <a:ext cx="914400" cy="685800"/>
            </a:xfrm>
            <a:prstGeom prst="rightArrow">
              <a:avLst>
                <a:gd name="adj1" fmla="val 50000"/>
                <a:gd name="adj2" fmla="val 33333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91640" y="2286000"/>
              <a:ext cx="18586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R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214520" y="1523880"/>
            <a:ext cx="5386680" cy="4454640"/>
            <a:chOff x="4214520" y="1523880"/>
            <a:chExt cx="5386680" cy="4454640"/>
          </a:xfrm>
        </p:grpSpPr>
        <p:sp>
          <p:nvSpPr>
            <p:cNvPr id="256" name=""/>
            <p:cNvSpPr/>
            <p:nvPr/>
          </p:nvSpPr>
          <p:spPr>
            <a:xfrm>
              <a:off x="4419720" y="3505320"/>
              <a:ext cx="990360" cy="723960"/>
            </a:xfrm>
            <a:prstGeom prst="rightArrow">
              <a:avLst>
                <a:gd name="adj1" fmla="val 45370"/>
                <a:gd name="adj2" fmla="val 21324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091000">
              <a:off x="4314960" y="2437920"/>
              <a:ext cx="1122120" cy="723960"/>
            </a:xfrm>
            <a:prstGeom prst="rightArrow">
              <a:avLst>
                <a:gd name="adj1" fmla="val 45370"/>
                <a:gd name="adj2" fmla="val 24161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306800">
              <a:off x="4371480" y="4723920"/>
              <a:ext cx="1008360" cy="723960"/>
            </a:xfrm>
            <a:prstGeom prst="rightArrow">
              <a:avLst>
                <a:gd name="adj1" fmla="val 45370"/>
                <a:gd name="adj2" fmla="val 21711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 flipH="1">
              <a:off x="5486400" y="48006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 flipH="1">
              <a:off x="5486400" y="32004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 flipH="1">
              <a:off x="5486040" y="1600200"/>
              <a:ext cx="12193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0" y="1523880"/>
              <a:ext cx="2286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Arial"/>
                </a:rPr>
                <a:t>Gre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Immediat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release subject t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duty pa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8000" y="3200400"/>
              <a:ext cx="27432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Arial"/>
                </a:rPr>
                <a:t>Yel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Documentary Check (e.g., OGA’s certificate, origin certificat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934320" y="4952880"/>
            <a:ext cx="297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Physical insp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(e.g., classification verification, check against smugg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B516-BA20-492E-AA48-8D39F80ABE0D}" type="slidenum">
              <a:t>11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85345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OGA intervention?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ESA)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8187-644D-42AA-8424-BAB11C0891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Other: Pre-arrival processing</a:t>
            </a:r>
            <a:r>
              <a:rPr b="0" lang="en-US" sz="41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SA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85345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h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5866-C957-4DDC-9CE5-BF5A5F6377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762120" y="1220760"/>
          <a:ext cx="8381880" cy="498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20760"/>
                    <a:ext cx="838188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534520" y="5562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(day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Rationale of delay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NAME)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286000"/>
            <a:ext cx="1676520" cy="1371600"/>
          </a:xfrm>
          <a:prstGeom prst="wedgeRoundRectCallout">
            <a:avLst>
              <a:gd name="adj1" fmla="val 66574"/>
              <a:gd name="adj2" fmla="val 48611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Customs receives the goods decla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1295280"/>
            <a:ext cx="2438640" cy="1143000"/>
          </a:xfrm>
          <a:prstGeom prst="wedgeRoundRectCallout">
            <a:avLst>
              <a:gd name="adj1" fmla="val 56379"/>
              <a:gd name="adj2" fmla="val 148194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Customs finishes necessary checks and requests to pay duty/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1295280"/>
            <a:ext cx="2438280" cy="1143000"/>
          </a:xfrm>
          <a:prstGeom prst="wedgeRoundRectCallout">
            <a:avLst>
              <a:gd name="adj1" fmla="val -56444"/>
              <a:gd name="adj2" fmla="val 149305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Trader starts seeking available money to pay duty/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2590920"/>
            <a:ext cx="1904760" cy="609480"/>
          </a:xfrm>
          <a:prstGeom prst="wedgeRoundRectCallout">
            <a:avLst>
              <a:gd name="adj1" fmla="val 49583"/>
              <a:gd name="adj2" fmla="val 109898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Trader pays duty/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1523880"/>
            <a:ext cx="1905120" cy="1219320"/>
          </a:xfrm>
          <a:prstGeom prst="wedgeRoundRectCallout">
            <a:avLst>
              <a:gd name="adj1" fmla="val -53416"/>
              <a:gd name="adj2" fmla="val 114972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Arial"/>
              </a:rPr>
              <a:t>Customs issues release per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F507-D2FA-41A1-B6DD-4CC014DE578E}" type="slidenum">
              <a:t>1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72428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WCO Time Release Gu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5943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48320" y="1295280"/>
            <a:ext cx="5105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Standardized gu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Cross border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rrival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Rel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+ Intervening stages (15 sta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nalytical (type of goods, modes of transport, other government agency intervention, TF measures, rationale of del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Not only for 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Not only time but also questionn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176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TO TFNG proposal (W/13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1B0-6E57-4F90-B594-F19E1C4C788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219320" y="1295280"/>
            <a:ext cx="754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Four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1. Preparation of th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2. Collection and compil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3. Analysis of data and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4. Action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CO CB/TA is availabl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subject to fund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Kenya, Malawi, Mozambique, Sri Lanka, Tanzania, Zambia (planned: Brazil, Nigeria, PNG and possibly Zimbabw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20000"/>
              </a:lnSpc>
              <a:spcBef>
                <a:spcPts val="4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T software is availabl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more user friendly version will be released so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178-A259-4288-89E6-1A4199C9F0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What is TRS fo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19320" y="1523880"/>
            <a:ext cx="754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dentify the bottlenecks in trade procedures in Customs and other agencies/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Design reform and modernization well addressing the bottlene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 persuasive indicator in front of the budget authority / donor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4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A criteria for progress of trade fac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166-E3B9-47C6-AD81-0A574AF9BE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55600" y="1066680"/>
            <a:ext cx="759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07920" y="22860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43000" y="1066680"/>
            <a:ext cx="784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Arial"/>
              </a:rPr>
              <a:t>Thank you!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39600" bIns="39600" anchor="t">
            <a:normAutofit fontScale="97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adatsugu Toni Matsudai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orld Customs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Rue du Marché 30, 1210 Bru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el : + 32 (0)2-209-935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Fax: + 32 (0)2-209-94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http://www.wcoomd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MS PGothic"/>
              </a:rPr>
              <a:t>e-mail: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MS PGothic"/>
              </a:rPr>
              <a:t>tadatsugu.matsudaira@wcoomd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868-D823-4818-A810-A13EC00F7066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Importance of National TF coordin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95280" y="1295280"/>
            <a:ext cx="7162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nternational Supply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Lack of awar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hat procedures are required for the trad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Where are the bottlenecks? By wh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20000"/>
              </a:lnSpc>
              <a:spcBef>
                <a:spcPts val="4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Lack of persuasive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o grasp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o obtain the effect of TF 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o mobilize internal/external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5410080"/>
            <a:ext cx="7620120" cy="7034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ime for the goods rele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4A3-07FE-4136-B4C3-77FC54C856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145728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Simple mode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1287720" cy="1447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 flipH="1">
            <a:off x="7314840" y="1600200"/>
            <a:ext cx="2336760" cy="1206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8080" y="5791320"/>
            <a:ext cx="2743200" cy="609480"/>
          </a:xfrm>
          <a:prstGeom prst="rightArrow">
            <a:avLst>
              <a:gd name="adj1" fmla="val 54167"/>
              <a:gd name="adj2" fmla="val 88038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5791320"/>
            <a:ext cx="2743200" cy="609480"/>
          </a:xfrm>
          <a:prstGeom prst="rightArrow">
            <a:avLst>
              <a:gd name="adj1" fmla="val 54167"/>
              <a:gd name="adj2" fmla="val 98957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5791320"/>
            <a:ext cx="2210040" cy="609480"/>
          </a:xfrm>
          <a:prstGeom prst="rightArrow">
            <a:avLst>
              <a:gd name="adj1" fmla="val 50000"/>
              <a:gd name="adj2" fmla="val 90653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429000"/>
            <a:ext cx="0" cy="304812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4648320"/>
            <a:ext cx="0" cy="18288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4952880"/>
            <a:ext cx="0" cy="16002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67680" y="2971800"/>
            <a:ext cx="0" cy="36576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640" y="4191120"/>
            <a:ext cx="1860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Arrival of vess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6760" y="4191120"/>
            <a:ext cx="1598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9960" y="4267080"/>
            <a:ext cx="15980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livery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Goods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he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060720" y="1239840"/>
            <a:ext cx="4025880" cy="188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C77-C8BF-4BE6-B77D-B3E4606D88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1457280" cy="160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Players (example)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1287720" cy="1447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791320"/>
            <a:ext cx="2743200" cy="609480"/>
          </a:xfrm>
          <a:prstGeom prst="rightArrow">
            <a:avLst>
              <a:gd name="adj1" fmla="val 54167"/>
              <a:gd name="adj2" fmla="val 88038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5791320"/>
            <a:ext cx="2743200" cy="609480"/>
          </a:xfrm>
          <a:prstGeom prst="rightArrow">
            <a:avLst>
              <a:gd name="adj1" fmla="val 54167"/>
              <a:gd name="adj2" fmla="val 98957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791320"/>
            <a:ext cx="2210040" cy="609480"/>
          </a:xfrm>
          <a:prstGeom prst="rightArrow">
            <a:avLst>
              <a:gd name="adj1" fmla="val 50000"/>
              <a:gd name="adj2" fmla="val 90653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429000"/>
            <a:ext cx="0" cy="304812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4648320"/>
            <a:ext cx="0" cy="18288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952880"/>
            <a:ext cx="0" cy="16002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67680" y="2971800"/>
            <a:ext cx="0" cy="365760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640" y="4191120"/>
            <a:ext cx="1860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Arrival of vess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038480"/>
            <a:ext cx="1600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Lodge im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cla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o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9960" y="4267080"/>
            <a:ext cx="15980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Obtain 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per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Delivery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Goods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The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295280"/>
            <a:ext cx="2133360" cy="762120"/>
          </a:xfrm>
          <a:prstGeom prst="wedgeRoundRectCallout">
            <a:avLst>
              <a:gd name="adj1" fmla="val -1560"/>
              <a:gd name="adj2" fmla="val 302083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Manifest from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sh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438280"/>
            <a:ext cx="2438280" cy="990720"/>
          </a:xfrm>
          <a:prstGeom prst="wedgeRoundRectCallout">
            <a:avLst>
              <a:gd name="adj1" fmla="val -4754"/>
              <a:gd name="adj2" fmla="val 107532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Import license from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Trade 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295280"/>
            <a:ext cx="3200400" cy="990720"/>
          </a:xfrm>
          <a:prstGeom prst="wedgeRoundRectCallout">
            <a:avLst>
              <a:gd name="adj1" fmla="val 11208"/>
              <a:gd name="adj2" fmla="val 227245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Technical conformity certificate from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Standard 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1143000"/>
            <a:ext cx="2514600" cy="990720"/>
          </a:xfrm>
          <a:prstGeom prst="wedgeRoundRectCallout">
            <a:avLst>
              <a:gd name="adj1" fmla="val 61930"/>
              <a:gd name="adj2" fmla="val 233814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Payment of the duty/tax by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impo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2514600"/>
            <a:ext cx="2438280" cy="685800"/>
          </a:xfrm>
          <a:prstGeom prst="wedgeRoundRectCallout">
            <a:avLst>
              <a:gd name="adj1" fmla="val 23240"/>
              <a:gd name="adj2" fmla="val 167361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Receipt issued by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2590920"/>
            <a:ext cx="2438640" cy="1066680"/>
          </a:xfrm>
          <a:prstGeom prst="wedgeRoundRectCallout">
            <a:avLst>
              <a:gd name="adj1" fmla="val 14907"/>
              <a:gd name="adj2" fmla="val 102527"/>
              <a:gd name="adj3" fmla="val 16667"/>
            </a:avLst>
          </a:prstGeom>
          <a:solidFill>
            <a:srgbClr val="003b7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Arial"/>
              </a:rPr>
              <a:t>Open the gate by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  <a:ea typeface="Arial"/>
              </a:rPr>
              <a:t>ware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187-AC97-4082-8B10-EB1312A98AAA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Points to n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28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Different play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Depends on the country, type of goods, mode of transport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One intervention often constitutes the precondition to the o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920" indent="-32292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nter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Service provider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rocess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User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rocessing time + wait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mporter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receive the goods arriv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16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MS PGothic"/>
              </a:rPr>
              <a:t>the country as soon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F21-29F6-4E47-AFE3-1213A9CDDC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Time Release Stu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609480" y="1752480"/>
          <a:ext cx="8610840" cy="4816440"/>
        </p:xfrm>
        <a:graphic>
          <a:graphicData uri="http://schemas.openxmlformats.org/drawingml/2006/table">
            <a:tbl>
              <a:tblPr/>
              <a:tblGrid>
                <a:gridCol w="4305600"/>
                <a:gridCol w="4305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rom arrival to goods release covering Customs and other agencies/ent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Cus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Mechanism to grasp waiting ti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process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wait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Data compilation by type of goods, mode of transport, control channel, other government agencies intervention, and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Simple compilation of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Mechanism to grasp the rationale of del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nly time sta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876240" y="1219320"/>
            <a:ext cx="800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Idea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     Ba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FB7-A030-4E04-835A-DDD39542C3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Customs only?</a:t>
            </a:r>
            <a:r>
              <a:rPr b="0" lang="en-US" sz="4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A/P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74880" y="4508640"/>
            <a:ext cx="79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0600" y="1371600"/>
          <a:ext cx="951228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00" y="1371600"/>
                    <a:ext cx="951228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2414400">
            <a:off x="5105520" y="685800"/>
            <a:ext cx="609480" cy="4724280"/>
          </a:xfrm>
          <a:prstGeom prst="ellipse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5574-A886-4B1D-AE40-ED5C9223E37E}" type="slidenum">
              <a:t>7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Processing time only?</a:t>
            </a:r>
            <a:r>
              <a:rPr b="0" lang="en-US" sz="4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533520" y="1722600"/>
            <a:ext cx="4324320" cy="4616280"/>
            <a:chOff x="533520" y="1722600"/>
            <a:chExt cx="4324320" cy="461628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33520" y="1722600"/>
              <a:ext cx="426708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63560" y="5257800"/>
              <a:ext cx="40942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New Customs mainframe ca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process 2,000 declaratio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within one minut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02120" y="1752480"/>
            <a:ext cx="5003280" cy="4586400"/>
            <a:chOff x="4902120" y="1752480"/>
            <a:chExt cx="5003280" cy="4586400"/>
          </a:xfrm>
        </p:grpSpPr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4902120" y="1752480"/>
              <a:ext cx="441972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131440" y="5257800"/>
              <a:ext cx="47739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No DTI. At least one full d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waiting time before input of th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data to the mainframe by Custom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60C-0CEC-49F3-B0D9-4F26C9CF3A50}" type="slidenum">
              <a:t>8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836640" y="1446120"/>
          <a:ext cx="8013600" cy="50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446120"/>
                    <a:ext cx="8013600" cy="50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066680" y="762120"/>
            <a:ext cx="8420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00"/>
                </a:solidFill>
                <a:uFillTx/>
                <a:latin typeface="Times New Roman"/>
                <a:ea typeface="MS PGothic"/>
              </a:rPr>
              <a:t>Waiting time only?</a:t>
            </a:r>
            <a:r>
              <a:rPr b="0" lang="en-US" sz="49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Times New Roman"/>
                <a:ea typeface="MS PGothic"/>
              </a:rPr>
              <a:t>(example: AMS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762120" cy="7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A56-EDDC-4537-B7FA-88F876D4F4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15:33:49Z</dcterms:created>
  <dc:creator/>
  <dc:description/>
  <dc:language>en-US</dc:language>
  <cp:lastModifiedBy>mata</cp:lastModifiedBy>
  <cp:lastPrinted>2005-11-06T18:27:24Z</cp:lastPrinted>
  <dcterms:modified xsi:type="dcterms:W3CDTF">2006-10-27T14:57:49Z</dcterms:modified>
  <cp:revision>842</cp:revision>
  <dc:subject/>
  <dc:title>WCO present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4461640</vt:r8>
  </property>
  <property fmtid="{D5CDD505-2E9C-101B-9397-08002B2CF9AE}" pid="3" name="_AuthorEmail">
    <vt:lpwstr>Tadatsugu.Matsudaira@wcoomd.org</vt:lpwstr>
  </property>
  <property fmtid="{D5CDD505-2E9C-101B-9397-08002B2CF9AE}" pid="4" name="_AuthorEmailDisplayName">
    <vt:lpwstr>Tadatsugu Matsudaira</vt:lpwstr>
  </property>
  <property fmtid="{D5CDD505-2E9C-101B-9397-08002B2CF9AE}" pid="5" name="_EmailSubject">
    <vt:lpwstr>UNCTAD/UNECE workshop for national and  regional trade facilitation bodies - PRESENTATIONS</vt:lpwstr>
  </property>
</Properties>
</file>