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8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16.wmf" ContentType="image/x-wmf"/>
  <Override PartName="/ppt/media/image5.gif" ContentType="image/gi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68800" y="7934400"/>
            <a:ext cx="453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240" y="243000"/>
            <a:ext cx="654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8000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WCO Orientation Program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8000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or Policy Makers 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orient1e.p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6440" y="9336240"/>
            <a:ext cx="474840" cy="456840"/>
            <a:chOff x="136440" y="9336240"/>
            <a:chExt cx="474840" cy="456840"/>
          </a:xfrm>
        </p:grpSpPr>
        <p:sp>
          <p:nvSpPr>
            <p:cNvPr id="160" name=""/>
            <p:cNvSpPr/>
            <p:nvPr/>
          </p:nvSpPr>
          <p:spPr>
            <a:xfrm>
              <a:off x="210960" y="9370440"/>
              <a:ext cx="356400" cy="385560"/>
            </a:xfrm>
            <a:custGeom>
              <a:avLst/>
              <a:gdLst/>
              <a:ahLst/>
              <a:rect l="l" t="t" r="r" b="b"/>
              <a:pathLst>
                <a:path w="230" h="238">
                  <a:moveTo>
                    <a:pt x="229" y="118"/>
                  </a:moveTo>
                  <a:lnTo>
                    <a:pt x="228" y="130"/>
                  </a:lnTo>
                  <a:lnTo>
                    <a:pt x="227" y="142"/>
                  </a:lnTo>
                  <a:lnTo>
                    <a:pt x="224" y="153"/>
                  </a:lnTo>
                  <a:lnTo>
                    <a:pt x="220" y="164"/>
                  </a:lnTo>
                  <a:lnTo>
                    <a:pt x="216" y="175"/>
                  </a:lnTo>
                  <a:lnTo>
                    <a:pt x="209" y="185"/>
                  </a:lnTo>
                  <a:lnTo>
                    <a:pt x="203" y="194"/>
                  </a:lnTo>
                  <a:lnTo>
                    <a:pt x="196" y="202"/>
                  </a:lnTo>
                  <a:lnTo>
                    <a:pt x="187" y="210"/>
                  </a:lnTo>
                  <a:lnTo>
                    <a:pt x="179" y="217"/>
                  </a:lnTo>
                  <a:lnTo>
                    <a:pt x="169" y="223"/>
                  </a:lnTo>
                  <a:lnTo>
                    <a:pt x="159" y="228"/>
                  </a:lnTo>
                  <a:lnTo>
                    <a:pt x="149" y="232"/>
                  </a:lnTo>
                  <a:lnTo>
                    <a:pt x="138" y="234"/>
                  </a:lnTo>
                  <a:lnTo>
                    <a:pt x="126" y="236"/>
                  </a:lnTo>
                  <a:lnTo>
                    <a:pt x="115" y="237"/>
                  </a:lnTo>
                  <a:lnTo>
                    <a:pt x="103" y="236"/>
                  </a:lnTo>
                  <a:lnTo>
                    <a:pt x="91" y="234"/>
                  </a:lnTo>
                  <a:lnTo>
                    <a:pt x="81" y="232"/>
                  </a:lnTo>
                  <a:lnTo>
                    <a:pt x="70" y="228"/>
                  </a:lnTo>
                  <a:lnTo>
                    <a:pt x="60" y="223"/>
                  </a:lnTo>
                  <a:lnTo>
                    <a:pt x="50" y="217"/>
                  </a:lnTo>
                  <a:lnTo>
                    <a:pt x="42" y="210"/>
                  </a:lnTo>
                  <a:lnTo>
                    <a:pt x="33" y="202"/>
                  </a:lnTo>
                  <a:lnTo>
                    <a:pt x="26" y="194"/>
                  </a:lnTo>
                  <a:lnTo>
                    <a:pt x="20" y="185"/>
                  </a:lnTo>
                  <a:lnTo>
                    <a:pt x="14" y="175"/>
                  </a:lnTo>
                  <a:lnTo>
                    <a:pt x="9" y="164"/>
                  </a:lnTo>
                  <a:lnTo>
                    <a:pt x="5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5"/>
                  </a:lnTo>
                  <a:lnTo>
                    <a:pt x="5" y="83"/>
                  </a:lnTo>
                  <a:lnTo>
                    <a:pt x="9" y="72"/>
                  </a:lnTo>
                  <a:lnTo>
                    <a:pt x="14" y="62"/>
                  </a:lnTo>
                  <a:lnTo>
                    <a:pt x="20" y="52"/>
                  </a:lnTo>
                  <a:lnTo>
                    <a:pt x="26" y="43"/>
                  </a:lnTo>
                  <a:lnTo>
                    <a:pt x="33" y="35"/>
                  </a:lnTo>
                  <a:lnTo>
                    <a:pt x="42" y="27"/>
                  </a:lnTo>
                  <a:lnTo>
                    <a:pt x="50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59" y="9"/>
                  </a:lnTo>
                  <a:lnTo>
                    <a:pt x="169" y="14"/>
                  </a:lnTo>
                  <a:lnTo>
                    <a:pt x="179" y="20"/>
                  </a:lnTo>
                  <a:lnTo>
                    <a:pt x="187" y="27"/>
                  </a:lnTo>
                  <a:lnTo>
                    <a:pt x="196" y="35"/>
                  </a:lnTo>
                  <a:lnTo>
                    <a:pt x="203" y="43"/>
                  </a:lnTo>
                  <a:lnTo>
                    <a:pt x="209" y="52"/>
                  </a:lnTo>
                  <a:lnTo>
                    <a:pt x="216" y="62"/>
                  </a:lnTo>
                  <a:lnTo>
                    <a:pt x="220" y="72"/>
                  </a:lnTo>
                  <a:lnTo>
                    <a:pt x="224" y="83"/>
                  </a:lnTo>
                  <a:lnTo>
                    <a:pt x="227" y="95"/>
                  </a:lnTo>
                  <a:lnTo>
                    <a:pt x="228" y="106"/>
                  </a:lnTo>
                  <a:lnTo>
                    <a:pt x="229" y="118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6440" y="9336240"/>
              <a:ext cx="4748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080" y="9430200"/>
              <a:ext cx="255600" cy="265680"/>
            </a:xfrm>
            <a:custGeom>
              <a:avLst/>
              <a:gdLst/>
              <a:ahLst/>
              <a:rect l="l" t="t" r="r" b="b"/>
              <a:pathLst>
                <a:path w="165" h="164">
                  <a:moveTo>
                    <a:pt x="164" y="81"/>
                  </a:moveTo>
                  <a:lnTo>
                    <a:pt x="162" y="98"/>
                  </a:lnTo>
                  <a:lnTo>
                    <a:pt x="157" y="113"/>
                  </a:lnTo>
                  <a:lnTo>
                    <a:pt x="150" y="127"/>
                  </a:lnTo>
                  <a:lnTo>
                    <a:pt x="140" y="139"/>
                  </a:lnTo>
                  <a:lnTo>
                    <a:pt x="128" y="149"/>
                  </a:lnTo>
                  <a:lnTo>
                    <a:pt x="114" y="156"/>
                  </a:lnTo>
                  <a:lnTo>
                    <a:pt x="98" y="161"/>
                  </a:lnTo>
                  <a:lnTo>
                    <a:pt x="82" y="163"/>
                  </a:lnTo>
                  <a:lnTo>
                    <a:pt x="65" y="161"/>
                  </a:lnTo>
                  <a:lnTo>
                    <a:pt x="50" y="156"/>
                  </a:lnTo>
                  <a:lnTo>
                    <a:pt x="36" y="149"/>
                  </a:lnTo>
                  <a:lnTo>
                    <a:pt x="24" y="139"/>
                  </a:lnTo>
                  <a:lnTo>
                    <a:pt x="14" y="127"/>
                  </a:lnTo>
                  <a:lnTo>
                    <a:pt x="6" y="113"/>
                  </a:lnTo>
                  <a:lnTo>
                    <a:pt x="2" y="98"/>
                  </a:lnTo>
                  <a:lnTo>
                    <a:pt x="0" y="81"/>
                  </a:lnTo>
                  <a:lnTo>
                    <a:pt x="2" y="65"/>
                  </a:lnTo>
                  <a:lnTo>
                    <a:pt x="6" y="49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6"/>
                  </a:lnTo>
                  <a:lnTo>
                    <a:pt x="65" y="2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6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50" y="36"/>
                  </a:lnTo>
                  <a:lnTo>
                    <a:pt x="157" y="49"/>
                  </a:lnTo>
                  <a:lnTo>
                    <a:pt x="162" y="65"/>
                  </a:lnTo>
                  <a:lnTo>
                    <a:pt x="164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000" y="9428400"/>
              <a:ext cx="221760" cy="2480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42" y="76"/>
                  </a:moveTo>
                  <a:lnTo>
                    <a:pt x="140" y="91"/>
                  </a:lnTo>
                  <a:lnTo>
                    <a:pt x="136" y="106"/>
                  </a:lnTo>
                  <a:lnTo>
                    <a:pt x="130" y="118"/>
                  </a:lnTo>
                  <a:lnTo>
                    <a:pt x="121" y="129"/>
                  </a:lnTo>
                  <a:lnTo>
                    <a:pt x="111" y="139"/>
                  </a:lnTo>
                  <a:lnTo>
                    <a:pt x="99" y="146"/>
                  </a:lnTo>
                  <a:lnTo>
                    <a:pt x="85" y="150"/>
                  </a:lnTo>
                  <a:lnTo>
                    <a:pt x="71" y="152"/>
                  </a:lnTo>
                  <a:lnTo>
                    <a:pt x="57" y="150"/>
                  </a:lnTo>
                  <a:lnTo>
                    <a:pt x="43" y="146"/>
                  </a:lnTo>
                  <a:lnTo>
                    <a:pt x="31" y="139"/>
                  </a:lnTo>
                  <a:lnTo>
                    <a:pt x="21" y="129"/>
                  </a:lnTo>
                  <a:lnTo>
                    <a:pt x="12" y="118"/>
                  </a:lnTo>
                  <a:lnTo>
                    <a:pt x="6" y="106"/>
                  </a:lnTo>
                  <a:lnTo>
                    <a:pt x="2" y="91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6" y="46"/>
                  </a:lnTo>
                  <a:lnTo>
                    <a:pt x="12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5" y="2"/>
                  </a:lnTo>
                  <a:lnTo>
                    <a:pt x="99" y="6"/>
                  </a:lnTo>
                  <a:lnTo>
                    <a:pt x="111" y="13"/>
                  </a:lnTo>
                  <a:lnTo>
                    <a:pt x="121" y="22"/>
                  </a:lnTo>
                  <a:lnTo>
                    <a:pt x="130" y="34"/>
                  </a:lnTo>
                  <a:lnTo>
                    <a:pt x="136" y="46"/>
                  </a:lnTo>
                  <a:lnTo>
                    <a:pt x="140" y="61"/>
                  </a:lnTo>
                  <a:lnTo>
                    <a:pt x="142" y="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2560" y="9480240"/>
              <a:ext cx="134640" cy="1458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86" y="44"/>
                  </a:moveTo>
                  <a:lnTo>
                    <a:pt x="85" y="53"/>
                  </a:lnTo>
                  <a:lnTo>
                    <a:pt x="82" y="61"/>
                  </a:lnTo>
                  <a:lnTo>
                    <a:pt x="79" y="69"/>
                  </a:lnTo>
                  <a:lnTo>
                    <a:pt x="73" y="76"/>
                  </a:lnTo>
                  <a:lnTo>
                    <a:pt x="67" y="81"/>
                  </a:lnTo>
                  <a:lnTo>
                    <a:pt x="60" y="85"/>
                  </a:lnTo>
                  <a:lnTo>
                    <a:pt x="52" y="88"/>
                  </a:lnTo>
                  <a:lnTo>
                    <a:pt x="43" y="89"/>
                  </a:lnTo>
                  <a:lnTo>
                    <a:pt x="34" y="88"/>
                  </a:lnTo>
                  <a:lnTo>
                    <a:pt x="26" y="85"/>
                  </a:lnTo>
                  <a:lnTo>
                    <a:pt x="19" y="81"/>
                  </a:lnTo>
                  <a:lnTo>
                    <a:pt x="13" y="76"/>
                  </a:lnTo>
                  <a:lnTo>
                    <a:pt x="8" y="69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3" y="13"/>
                  </a:lnTo>
                  <a:lnTo>
                    <a:pt x="79" y="19"/>
                  </a:lnTo>
                  <a:lnTo>
                    <a:pt x="82" y="27"/>
                  </a:lnTo>
                  <a:lnTo>
                    <a:pt x="85" y="35"/>
                  </a:lnTo>
                  <a:lnTo>
                    <a:pt x="86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480" y="9423720"/>
              <a:ext cx="24480" cy="256320"/>
            </a:xfrm>
            <a:custGeom>
              <a:avLst/>
              <a:gdLst>
                <a:gd name="textAreaLeft" fmla="*/ 360 w 24480"/>
                <a:gd name="textAreaRight" fmla="*/ 24120 w 24480"/>
                <a:gd name="textAreaTop" fmla="*/ 360 h 256320"/>
                <a:gd name="textAreaBottom" fmla="*/ 255960 h 256320"/>
              </a:gdLst>
              <a:ahLst/>
              <a:rect l="textAreaLeft" t="textAreaTop" r="textAreaRight" b="textAreaBottom"/>
              <a:pathLst>
                <a:path w="21600" h="223200">
                  <a:moveTo>
                    <a:pt x="1750" y="0"/>
                  </a:moveTo>
                  <a:arcTo wR="1750" hR="1750" stAng="16200000" swAng="-5400000"/>
                  <a:lnTo>
                    <a:pt x="0" y="221450"/>
                  </a:lnTo>
                  <a:arcTo wR="1750" hR="1750" stAng="10800000" swAng="-5400000"/>
                  <a:lnTo>
                    <a:pt x="19850" y="223200"/>
                  </a:lnTo>
                  <a:arcTo wR="1750" hR="1750" stAng="5400000" swAng="-5400000"/>
                  <a:lnTo>
                    <a:pt x="21600" y="1750"/>
                  </a:lnTo>
                  <a:arcTo wR="1750" hR="17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6120" y="9751320"/>
              <a:ext cx="46080" cy="417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0"/>
                  </a:moveTo>
                  <a:lnTo>
                    <a:pt x="16" y="2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959280" y="9477360"/>
            <a:ext cx="2589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Bahamas"/>
              </a:rPr>
              <a:t>                          </a:t>
            </a:r>
            <a:r>
              <a:rPr b="0" lang="en-GB" sz="900" spc="-1" strike="noStrike">
                <a:solidFill>
                  <a:srgbClr val="000000"/>
                </a:solidFill>
                <a:latin typeface="Bahamas"/>
              </a:rPr>
              <a:t>WORLD CUSTOMS ORGANIZATION                                                                                                                                                                                                                         ORGANISATION MONDIALE DES DOUAN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392360" y="626760"/>
            <a:ext cx="2066760" cy="14317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960" y="1294920"/>
            <a:ext cx="3346200" cy="80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634-283D-4C95-92E2-91E4D534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D1A-B51C-498F-A5CA-0EC9112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7F1-E833-46A4-ABA7-8EA5989D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8D9-7B91-43C1-8228-3C0B6C4F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734B-7581-4F63-89B4-5DFC74F9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1607-11EA-4665-9C23-2809935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1828-3C83-405E-AC50-2A35DA83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0C7-2F6A-461F-8D01-6BFCEB39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637F-CE31-4F33-A422-8212942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FAAA-6673-4995-9D50-C82ABB2C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4E7B-6BCD-404A-BDC2-3AADAE8C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D1D-4774-4659-B6D1-532926C5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7975-8758-45E1-826A-6CA3908D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C854-39A4-437A-9932-1C5A1682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FD5E-9EB2-4311-9EB9-67812556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8551-B1FC-4E9C-9E5A-53C1DEA6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D5C1-AAAF-43C0-AC2C-94EBD3A6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D9C-6BC5-4949-9503-A4AAFBBA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D1E-8A8D-4E20-AC10-5BD0EF8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BDD-EA5B-4DBF-8F9B-A072088B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153-E397-4521-9D96-A191877A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C80-6690-4FD3-B33A-013D6E35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8F5-975C-4024-9F63-F60E90B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7F2-1A4A-479A-B408-0257DD4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79556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114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9280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067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8868-88FA-4B89-AD8A-95A7CE2563A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79412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100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9136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052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69236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9C95-28BF-436F-9117-2ADC323A59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2057400"/>
            <a:ext cx="821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CO Time Release Study Gu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--- An analytical tool for TF--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21200" y="380880"/>
            <a:ext cx="1709640" cy="1185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33520" y="396252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CTAD/UNECE Wor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 November 2006, Gen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5105520"/>
            <a:ext cx="8210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datsugu Toni Matsudai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ld Customs Organization (WC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341-6132-49DB-A0E6-EDE3301DF6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Mode of transport?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ESA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762120" y="1220760"/>
          <a:ext cx="8381880" cy="498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20760"/>
                    <a:ext cx="838188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8534520" y="5257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(h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A9EC-905D-40D8-B008-E74673421F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Control channel? 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" y="3238560"/>
            <a:ext cx="1179360" cy="1295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2494080"/>
            <a:ext cx="165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G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828800" y="2286000"/>
            <a:ext cx="2621520" cy="2509920"/>
            <a:chOff x="1828800" y="2286000"/>
            <a:chExt cx="2621520" cy="2509920"/>
          </a:xfrm>
        </p:grpSpPr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2895480" y="2976480"/>
              <a:ext cx="13971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828800" y="3543480"/>
              <a:ext cx="914400" cy="685800"/>
            </a:xfrm>
            <a:prstGeom prst="rightArrow">
              <a:avLst>
                <a:gd name="adj1" fmla="val 50000"/>
                <a:gd name="adj2" fmla="val 33333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91640" y="2286000"/>
              <a:ext cx="18586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R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214520" y="1523880"/>
            <a:ext cx="5386680" cy="4454640"/>
            <a:chOff x="4214520" y="1523880"/>
            <a:chExt cx="5386680" cy="4454640"/>
          </a:xfrm>
        </p:grpSpPr>
        <p:sp>
          <p:nvSpPr>
            <p:cNvPr id="256" name=""/>
            <p:cNvSpPr/>
            <p:nvPr/>
          </p:nvSpPr>
          <p:spPr>
            <a:xfrm>
              <a:off x="4419720" y="3505320"/>
              <a:ext cx="990360" cy="723960"/>
            </a:xfrm>
            <a:prstGeom prst="rightArrow">
              <a:avLst>
                <a:gd name="adj1" fmla="val 45370"/>
                <a:gd name="adj2" fmla="val 21324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091000">
              <a:off x="4314960" y="2437920"/>
              <a:ext cx="1122120" cy="723960"/>
            </a:xfrm>
            <a:prstGeom prst="rightArrow">
              <a:avLst>
                <a:gd name="adj1" fmla="val 45370"/>
                <a:gd name="adj2" fmla="val 24161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306800">
              <a:off x="4371480" y="4723920"/>
              <a:ext cx="1008360" cy="723960"/>
            </a:xfrm>
            <a:prstGeom prst="rightArrow">
              <a:avLst>
                <a:gd name="adj1" fmla="val 45370"/>
                <a:gd name="adj2" fmla="val 21711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 flipH="1">
              <a:off x="5486400" y="4800600"/>
              <a:ext cx="1295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 flipH="1">
              <a:off x="5486400" y="3200400"/>
              <a:ext cx="1295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6"/>
            <a:stretch/>
          </p:blipFill>
          <p:spPr>
            <a:xfrm flipH="1">
              <a:off x="5486040" y="1600200"/>
              <a:ext cx="12193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0" y="1523880"/>
              <a:ext cx="2286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Arial"/>
                </a:rPr>
                <a:t>Gre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Immediat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release subject t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duty pa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8000" y="3200400"/>
              <a:ext cx="274320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Arial"/>
                </a:rPr>
                <a:t>Yel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Documentary Check (e.g., OGA’s certificate, origin certificat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934320" y="4952880"/>
            <a:ext cx="297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Physical insp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(e.g., classification verification, check against smugg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FF14-28F6-47D5-822C-B73EC2FBD450}" type="slidenum">
              <a:t>11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762120" y="1220760"/>
          <a:ext cx="8381880" cy="498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20760"/>
                    <a:ext cx="838188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8534520" y="5257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(h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OGA intervention?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ESA)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EAD4-9C4A-4B6E-ADCE-FEC86BF6D35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Other: Pre-arrival processing</a:t>
            </a:r>
            <a:r>
              <a:rPr b="0" lang="en-US" sz="41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SA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762120" y="1220760"/>
          <a:ext cx="8381880" cy="498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20760"/>
                    <a:ext cx="838188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8534520" y="5257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(h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43ED-88C8-49B0-A522-181134FC69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"/>
          <p:cNvGraphicFramePr/>
          <p:nvPr/>
        </p:nvGraphicFramePr>
        <p:xfrm>
          <a:off x="762120" y="1220760"/>
          <a:ext cx="8381880" cy="498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20760"/>
                    <a:ext cx="838188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534520" y="5562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(day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Rationale of delay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NAME)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286000"/>
            <a:ext cx="1676520" cy="1371600"/>
          </a:xfrm>
          <a:prstGeom prst="wedgeRoundRectCallout">
            <a:avLst>
              <a:gd name="adj1" fmla="val 66574"/>
              <a:gd name="adj2" fmla="val 48611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Customs receives the goods decla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1295280"/>
            <a:ext cx="2438640" cy="1143000"/>
          </a:xfrm>
          <a:prstGeom prst="wedgeRoundRectCallout">
            <a:avLst>
              <a:gd name="adj1" fmla="val 56379"/>
              <a:gd name="adj2" fmla="val 148194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Customs finishes necessary checks and requests to pay duty/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1295280"/>
            <a:ext cx="2438280" cy="1143000"/>
          </a:xfrm>
          <a:prstGeom prst="wedgeRoundRectCallout">
            <a:avLst>
              <a:gd name="adj1" fmla="val -56444"/>
              <a:gd name="adj2" fmla="val 149305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Trader starts seeking available money to pay duty/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2590920"/>
            <a:ext cx="1904760" cy="609480"/>
          </a:xfrm>
          <a:prstGeom prst="wedgeRoundRectCallout">
            <a:avLst>
              <a:gd name="adj1" fmla="val 49583"/>
              <a:gd name="adj2" fmla="val 109898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Trader pays duty/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1523880"/>
            <a:ext cx="1905120" cy="1219320"/>
          </a:xfrm>
          <a:prstGeom prst="wedgeRoundRectCallout">
            <a:avLst>
              <a:gd name="adj1" fmla="val -53416"/>
              <a:gd name="adj2" fmla="val 114972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Customs issues release per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55A6-EA21-4166-8C27-9B237E863A15}" type="slidenum">
              <a:t>14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724280" y="3808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WCO Time Release Gu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886200" cy="5943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48320" y="1295280"/>
            <a:ext cx="5105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Standardized gu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Cross border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Arrival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Rel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+ Intervening stages (15 stag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Analytical (type of goods, modes of transport, other government agency intervention, TF measures, rationale of del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Not only for 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Not only time but also questionn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TO TFNG proposal (W/13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C46-8AF4-4ED7-8907-DD9CBBBD60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219320" y="1295280"/>
            <a:ext cx="754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Four p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1. Preparation of th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2. Collection and compil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3. Analysis of data and recomme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4. Action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CO CB/TA is availabl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subject to fund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Kenya, Malawi, Mozambique, Sri Lanka, Tanzania, Zambia (planned: Brazil, Nigeria, PNG and possibly Zimbabw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20000"/>
              </a:lnSpc>
              <a:spcBef>
                <a:spcPts val="4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T software is availabl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more user friendly version will be released so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4E2-891C-4E48-8382-4CD0FD5F94D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What is TRS fo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19320" y="1523880"/>
            <a:ext cx="754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dentify the bottlenecks in trade procedures in Customs and other agencies/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Design reform and modernization well addressing the bottlene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A persuasive indicator in front of the budget authority / donor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4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A criteria for progress of trade facil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ADE-B10F-46F8-AFA5-C464FC6C951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55600" y="1066680"/>
            <a:ext cx="759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07920" y="22860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43000" y="1066680"/>
            <a:ext cx="784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Arial"/>
              </a:rPr>
              <a:t>Thank you!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39600" bIns="39600" anchor="t">
            <a:normAutofit fontScale="97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adatsugu Toni Matsudai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orld Customs 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Rue du Marché 30, 1210 Bru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el : + 32 (0)2-209-935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Fax: + 32 (0)2-209-94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http://www.wcoomd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Times New Roman"/>
                <a:ea typeface="MS PGothic"/>
              </a:rPr>
              <a:t>e-mail: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MS PGothic"/>
              </a:rPr>
              <a:t>tadatsugu.matsudaira@wcoomd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ECD-181F-4D9E-92A0-E888E2883E66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Importance of National TF coordin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95280" y="1295280"/>
            <a:ext cx="7162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nternational Supply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Lack of awar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hat procedures are required for the trad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here are the bottlenecks? By who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20000"/>
              </a:lnSpc>
              <a:spcBef>
                <a:spcPts val="4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Lack of persuasive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o grasp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o obtain the effect of TF 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o mobilize internal/external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5410080"/>
            <a:ext cx="7620120" cy="7034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ime for the goods rele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CB2-9AC8-47F9-A0B6-18A42D9E92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1457280" cy="1600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Simple model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867280" y="3429000"/>
            <a:ext cx="1287720" cy="1447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 flipH="1">
            <a:off x="7314840" y="1600200"/>
            <a:ext cx="2336760" cy="1206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38080" y="5791320"/>
            <a:ext cx="2743200" cy="609480"/>
          </a:xfrm>
          <a:prstGeom prst="rightArrow">
            <a:avLst>
              <a:gd name="adj1" fmla="val 54167"/>
              <a:gd name="adj2" fmla="val 88038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5791320"/>
            <a:ext cx="2743200" cy="609480"/>
          </a:xfrm>
          <a:prstGeom prst="rightArrow">
            <a:avLst>
              <a:gd name="adj1" fmla="val 54167"/>
              <a:gd name="adj2" fmla="val 98957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5791320"/>
            <a:ext cx="2210040" cy="609480"/>
          </a:xfrm>
          <a:prstGeom prst="rightArrow">
            <a:avLst>
              <a:gd name="adj1" fmla="val 50000"/>
              <a:gd name="adj2" fmla="val 90653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429000"/>
            <a:ext cx="0" cy="304812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4648320"/>
            <a:ext cx="0" cy="18288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4952880"/>
            <a:ext cx="0" cy="16002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67680" y="2971800"/>
            <a:ext cx="0" cy="36576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640" y="4191120"/>
            <a:ext cx="1860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Arrival of vess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Lodge im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o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6760" y="4191120"/>
            <a:ext cx="1598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Lodge im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o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Obtain 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per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9960" y="4267080"/>
            <a:ext cx="15980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Obtain 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per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livery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Goods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he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060720" y="1239840"/>
            <a:ext cx="4025880" cy="188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59A-D485-4F27-8241-B5B4767AAD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1457280" cy="1600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Players (example)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1287720" cy="1447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5791320"/>
            <a:ext cx="2743200" cy="609480"/>
          </a:xfrm>
          <a:prstGeom prst="rightArrow">
            <a:avLst>
              <a:gd name="adj1" fmla="val 54167"/>
              <a:gd name="adj2" fmla="val 88038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5791320"/>
            <a:ext cx="2743200" cy="609480"/>
          </a:xfrm>
          <a:prstGeom prst="rightArrow">
            <a:avLst>
              <a:gd name="adj1" fmla="val 54167"/>
              <a:gd name="adj2" fmla="val 98957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5791320"/>
            <a:ext cx="2210040" cy="609480"/>
          </a:xfrm>
          <a:prstGeom prst="rightArrow">
            <a:avLst>
              <a:gd name="adj1" fmla="val 50000"/>
              <a:gd name="adj2" fmla="val 90653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429000"/>
            <a:ext cx="0" cy="304812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4648320"/>
            <a:ext cx="0" cy="18288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952880"/>
            <a:ext cx="0" cy="16002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67680" y="2971800"/>
            <a:ext cx="0" cy="36576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640" y="4191120"/>
            <a:ext cx="1860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Arrival of vess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Lodge im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o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038480"/>
            <a:ext cx="16002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Lodge im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o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Obtain 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per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9960" y="4267080"/>
            <a:ext cx="15980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Obtain 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per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livery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Goods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he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295280"/>
            <a:ext cx="2133360" cy="762120"/>
          </a:xfrm>
          <a:prstGeom prst="wedgeRoundRectCallout">
            <a:avLst>
              <a:gd name="adj1" fmla="val -1560"/>
              <a:gd name="adj2" fmla="val 302083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Manifest from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sh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438280"/>
            <a:ext cx="2438280" cy="990720"/>
          </a:xfrm>
          <a:prstGeom prst="wedgeRoundRectCallout">
            <a:avLst>
              <a:gd name="adj1" fmla="val -4754"/>
              <a:gd name="adj2" fmla="val 107532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Import license from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Trade Bo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1295280"/>
            <a:ext cx="3200400" cy="990720"/>
          </a:xfrm>
          <a:prstGeom prst="wedgeRoundRectCallout">
            <a:avLst>
              <a:gd name="adj1" fmla="val 11208"/>
              <a:gd name="adj2" fmla="val 227245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Technical conformity certificate from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Standard Bo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1143000"/>
            <a:ext cx="2514600" cy="990720"/>
          </a:xfrm>
          <a:prstGeom prst="wedgeRoundRectCallout">
            <a:avLst>
              <a:gd name="adj1" fmla="val 61930"/>
              <a:gd name="adj2" fmla="val 233814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Payment of the duty/tax by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impo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2514600"/>
            <a:ext cx="2438280" cy="685800"/>
          </a:xfrm>
          <a:prstGeom prst="wedgeRoundRectCallout">
            <a:avLst>
              <a:gd name="adj1" fmla="val 23240"/>
              <a:gd name="adj2" fmla="val 167361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Receipt issued by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b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2590920"/>
            <a:ext cx="2438640" cy="1066680"/>
          </a:xfrm>
          <a:prstGeom prst="wedgeRoundRectCallout">
            <a:avLst>
              <a:gd name="adj1" fmla="val 14907"/>
              <a:gd name="adj2" fmla="val 102527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Open the gate by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wareho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469-53FB-4A39-AA37-EE9BD1D0DC14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Points to no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28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Different play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Depends on the country, type of goods, mode of transport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One intervention often constitutes the precondition to the oth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nter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Service provider 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processing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User 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processing time + waiting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mporter 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receive the goods arriv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he country as soon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D3D-B6FB-4A35-B1B6-DB1245B9F6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Time Release Stu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609480" y="1752480"/>
          <a:ext cx="8610840" cy="4816440"/>
        </p:xfrm>
        <a:graphic>
          <a:graphicData uri="http://schemas.openxmlformats.org/drawingml/2006/table">
            <a:tbl>
              <a:tblPr/>
              <a:tblGrid>
                <a:gridCol w="4305600"/>
                <a:gridCol w="4305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From arrival to goods release covering Customs and other agencies/ent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nly Cus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Mechanism to grasp waiting ti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nly processing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nly waiting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Data compilation by type of goods, mode of transport, control channel, other government agencies intervention, and 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Simple compilation of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Mechanism to grasp the rationale of del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nly time sta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876240" y="1219320"/>
            <a:ext cx="800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dea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     Bas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C41-FD89-498C-A402-CADE024EA1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Customs only?</a:t>
            </a:r>
            <a:r>
              <a:rPr b="0" lang="en-US" sz="49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0" lang="en-US" sz="33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A/P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0600" y="1371600"/>
          <a:ext cx="951228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00" y="1371600"/>
                    <a:ext cx="951228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2414400">
            <a:off x="5105520" y="685800"/>
            <a:ext cx="609480" cy="4724280"/>
          </a:xfrm>
          <a:prstGeom prst="ellipse">
            <a:avLst/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9A6-2127-4A02-91DC-A22B835E6D2E}" type="slidenum">
              <a:t>7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Processing time only?</a:t>
            </a:r>
            <a:r>
              <a:rPr b="0" lang="en-US" sz="49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533520" y="1722600"/>
            <a:ext cx="4324320" cy="4616280"/>
            <a:chOff x="533520" y="1722600"/>
            <a:chExt cx="4324320" cy="461628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33520" y="1722600"/>
              <a:ext cx="426708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63560" y="5257800"/>
              <a:ext cx="40942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New Customs mainframe ca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process 2,000 declaration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within one minut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02120" y="1752480"/>
            <a:ext cx="5003280" cy="4586400"/>
            <a:chOff x="4902120" y="1752480"/>
            <a:chExt cx="5003280" cy="4586400"/>
          </a:xfrm>
        </p:grpSpPr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4902120" y="1752480"/>
              <a:ext cx="441972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131440" y="5257800"/>
              <a:ext cx="47739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No DTI. At least one full da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waiting time before input of th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data to the mainframe by Custom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E8D-26C8-4145-8D20-FE33487E0113}" type="slidenum">
              <a:t>8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836640" y="1446120"/>
          <a:ext cx="8013600" cy="50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446120"/>
                    <a:ext cx="8013600" cy="50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Waiting time only?</a:t>
            </a:r>
            <a:r>
              <a:rPr b="0" lang="en-US" sz="49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0" lang="en-US" sz="33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AMS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A64-B71A-49B8-8591-CFB4E5C6B2F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15:33:49Z</dcterms:created>
  <dc:creator/>
  <dc:description/>
  <dc:language>en-US</dc:language>
  <cp:lastModifiedBy>mata</cp:lastModifiedBy>
  <cp:lastPrinted>2005-11-06T18:27:24Z</cp:lastPrinted>
  <dcterms:modified xsi:type="dcterms:W3CDTF">2006-10-27T14:57:49Z</dcterms:modified>
  <cp:revision>842</cp:revision>
  <dc:subject/>
  <dc:title>WCO present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4461640</vt:r8>
  </property>
  <property fmtid="{D5CDD505-2E9C-101B-9397-08002B2CF9AE}" pid="3" name="_AuthorEmail">
    <vt:lpwstr>Tadatsugu.Matsudaira@wcoomd.org</vt:lpwstr>
  </property>
  <property fmtid="{D5CDD505-2E9C-101B-9397-08002B2CF9AE}" pid="4" name="_AuthorEmailDisplayName">
    <vt:lpwstr>Tadatsugu Matsudaira</vt:lpwstr>
  </property>
  <property fmtid="{D5CDD505-2E9C-101B-9397-08002B2CF9AE}" pid="5" name="_EmailSubject">
    <vt:lpwstr>UNCTAD/UNECE workshop for national and  regional trade facilitation bodies - PRESENTATIONS</vt:lpwstr>
  </property>
</Properties>
</file>