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70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4222800"/>
            <a:ext cx="770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2160" y="220932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422280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2160" y="422280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24804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19360" y="2209320"/>
            <a:ext cx="24804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3960" y="2209320"/>
            <a:ext cx="24804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4222800"/>
            <a:ext cx="24804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19360" y="4222800"/>
            <a:ext cx="24804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3960" y="4222800"/>
            <a:ext cx="24804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2209320"/>
            <a:ext cx="770400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70400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37594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62160" y="2209320"/>
            <a:ext cx="37594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2160" y="2209320"/>
            <a:ext cx="37594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422280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37594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2160" y="220932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62160" y="422280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62160" y="2209320"/>
            <a:ext cx="37594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222800"/>
            <a:ext cx="770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2209320"/>
            <a:ext cx="770400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58960" indent="-38736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33440" indent="-40464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4116240" y="76320"/>
            <a:ext cx="989280" cy="8366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609480" y="1676520"/>
            <a:ext cx="0" cy="480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77120"/>
            <a:ext cx="6705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58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United N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Conference On Trade and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(UNCTA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952880" y="0"/>
            <a:ext cx="42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United N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Centre for Trade Facilitation and Electronic business (UN/CEFAC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47920" y="1219320"/>
            <a:ext cx="6629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447920"/>
            <a:ext cx="71629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UNCTAD/UNECE WORKSHO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engthening National and Regional Trade Facilitation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ene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1 October – 1 Nov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4267080"/>
            <a:ext cx="6553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UN/CEFACT Trade Facilitation Tools and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Gordon Cragge, Chair TBG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International trade Procedures Working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7543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/CEFACT SUPPLY CHAIN REFERENCE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38080" y="1600200"/>
            <a:ext cx="7848720" cy="4826160"/>
            <a:chOff x="838080" y="1600200"/>
            <a:chExt cx="7848720" cy="4826160"/>
          </a:xfrm>
        </p:grpSpPr>
        <p:sp>
          <p:nvSpPr>
            <p:cNvPr id="49" name=""/>
            <p:cNvSpPr/>
            <p:nvPr/>
          </p:nvSpPr>
          <p:spPr>
            <a:xfrm>
              <a:off x="838080" y="4267080"/>
              <a:ext cx="1676520" cy="21592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0080" indent="-100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e9ffff"/>
                  </a:solidFill>
                  <a:latin typeface="Arial"/>
                </a:rPr>
                <a:t>Commerc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e9ffff"/>
                  </a:solidFill>
                  <a:latin typeface="Arial"/>
                </a:rPr>
                <a:t>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e9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e9ffff"/>
                  </a:solidFill>
                  <a:latin typeface="Arial"/>
                </a:rPr>
                <a:t>Establish Contra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e9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e9ffff"/>
                  </a:solidFill>
                  <a:latin typeface="Arial"/>
                </a:rPr>
                <a:t>Order Goo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e9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e9ffff"/>
                  </a:solidFill>
                  <a:latin typeface="Arial"/>
                </a:rPr>
                <a:t>Advise On Deliv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e9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e9ffff"/>
                  </a:solidFill>
                  <a:latin typeface="Arial"/>
                </a:rPr>
                <a:t>Request Pay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55800" y="4267080"/>
              <a:ext cx="1816200" cy="21592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0080" indent="-100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e9ffff"/>
                  </a:solidFill>
                  <a:latin typeface="Arial"/>
                </a:rPr>
                <a:t>Trans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e9ffff"/>
                  </a:solidFill>
                  <a:latin typeface="Arial"/>
                </a:rPr>
                <a:t>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e9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e9ffff"/>
                  </a:solidFill>
                  <a:latin typeface="Arial"/>
                </a:rPr>
                <a:t>Establish Transport Contra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e9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e9ffff"/>
                  </a:solidFill>
                  <a:latin typeface="Arial"/>
                </a:rPr>
                <a:t>Collect,Transport and Deliver Goo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e9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e9ffff"/>
                  </a:solidFill>
                  <a:latin typeface="Arial"/>
                </a:rPr>
                <a:t>Provide Waybills, Goods Receipts Status repor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4267080"/>
              <a:ext cx="1905120" cy="21592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0080" indent="-100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e9ffff"/>
                  </a:solidFill>
                  <a:latin typeface="Arial"/>
                </a:rPr>
                <a:t>Regulat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e9ffff"/>
                  </a:solidFill>
                  <a:latin typeface="Arial"/>
                </a:rPr>
                <a:t>Procu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e9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e9ffff"/>
                  </a:solidFill>
                  <a:latin typeface="Arial"/>
                </a:rPr>
                <a:t>Obtain Import/Export Licences et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e9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e9ffff"/>
                  </a:solidFill>
                  <a:latin typeface="Arial"/>
                </a:rPr>
                <a:t>Provide Customs Declar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e9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e9ffff"/>
                  </a:solidFill>
                  <a:latin typeface="Arial"/>
                </a:rPr>
                <a:t>Provide Cargo Decla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e9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e9ffff"/>
                  </a:solidFill>
                  <a:latin typeface="Arial"/>
                </a:rPr>
                <a:t>Apply Trade Security Procedur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e9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e9ffff"/>
                  </a:solidFill>
                  <a:latin typeface="Arial"/>
                </a:rPr>
                <a:t>Clear Goods for Export/Im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934320" y="4267080"/>
              <a:ext cx="1739880" cy="21592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0080" indent="-100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e9ffff"/>
                  </a:solidFill>
                  <a:latin typeface="Arial"/>
                </a:rPr>
                <a:t>Financial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e9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e9ffff"/>
                  </a:solidFill>
                  <a:latin typeface="Arial"/>
                </a:rPr>
                <a:t>Provide Credit Ra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e9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e9ffff"/>
                  </a:solidFill>
                  <a:latin typeface="Arial"/>
                </a:rPr>
                <a:t>Provide Insura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e9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e9ffff"/>
                  </a:solidFill>
                  <a:latin typeface="Arial"/>
                </a:rPr>
                <a:t>Provide Cred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e9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e9ffff"/>
                  </a:solidFill>
                  <a:latin typeface="Arial"/>
                </a:rPr>
                <a:t>Execute Pay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e9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e9ffff"/>
                  </a:solidFill>
                  <a:latin typeface="Arial"/>
                </a:rPr>
                <a:t>Issue State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79280" y="3886200"/>
              <a:ext cx="133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INVOL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51640" y="2895480"/>
              <a:ext cx="1533600" cy="99072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08440" y="2895480"/>
              <a:ext cx="1533600" cy="99072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2895480"/>
              <a:ext cx="1532160" cy="990720"/>
            </a:xfrm>
            <a:custGeom>
              <a:avLst/>
              <a:gdLst>
                <a:gd name="textAreaLeft" fmla="*/ 0 w 1532160"/>
                <a:gd name="textAreaRight" fmla="*/ 1532520 w 153216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36840" y="2895480"/>
              <a:ext cx="1533600" cy="99072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180040" y="2895480"/>
              <a:ext cx="1533600" cy="99072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71600" y="3184560"/>
              <a:ext cx="10666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e9ffff"/>
                  </a:solidFill>
                  <a:latin typeface="Arial"/>
                </a:rPr>
                <a:t>Prepare F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e9ffff"/>
                  </a:solidFill>
                  <a:latin typeface="Arial"/>
                </a:rPr>
                <a:t>Ex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43200" y="32767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e9ffff"/>
                  </a:solidFill>
                  <a:latin typeface="Arial"/>
                </a:rPr>
                <a:t>Ex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91120" y="32767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e9ffff"/>
                  </a:solidFill>
                  <a:latin typeface="Arial"/>
                </a:rPr>
                <a:t>Trans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58000" y="32767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e9ffff"/>
                  </a:solidFill>
                  <a:latin typeface="Arial"/>
                </a:rPr>
                <a:t>Im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066680" y="2590920"/>
              <a:ext cx="3353040" cy="304560"/>
            </a:xfrm>
            <a:prstGeom prst="line">
              <a:avLst/>
            </a:prstGeom>
            <a:ln w="9360">
              <a:solidFill>
                <a:srgbClr val="e9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95680" y="2590920"/>
              <a:ext cx="3200400" cy="304560"/>
            </a:xfrm>
            <a:prstGeom prst="line">
              <a:avLst/>
            </a:prstGeom>
            <a:ln w="9360">
              <a:solidFill>
                <a:srgbClr val="db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1511280" cy="9907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00"/>
            </a:solidFill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86400" y="1600200"/>
              <a:ext cx="1511280" cy="9907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00"/>
            </a:solidFill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1960" y="1600200"/>
              <a:ext cx="1511280" cy="9907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00"/>
            </a:solidFill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62520" y="1905120"/>
              <a:ext cx="127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000" spc="-1" strike="noStrike">
                  <a:solidFill>
                    <a:srgbClr val="000000"/>
                  </a:solidFill>
                  <a:latin typeface="Arial"/>
                </a:rPr>
                <a:t>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38280" y="1943280"/>
              <a:ext cx="111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000" spc="-1" strike="noStrike">
                  <a:solidFill>
                    <a:srgbClr val="000000"/>
                  </a:solidFill>
                  <a:latin typeface="Arial"/>
                </a:rPr>
                <a:t>BU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15000" y="1936800"/>
              <a:ext cx="119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000" spc="-1" strike="noStrike">
                  <a:solidFill>
                    <a:srgbClr val="000000"/>
                  </a:solidFill>
                  <a:latin typeface="Arial"/>
                </a:rPr>
                <a:t>P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3184560"/>
              <a:ext cx="10666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e9ffff"/>
                  </a:solidFill>
                  <a:latin typeface="Arial"/>
                </a:rPr>
                <a:t>Prepare F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e9ffff"/>
                  </a:solidFill>
                  <a:latin typeface="Arial"/>
                </a:rPr>
                <a:t>Im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6154560" y="5867280"/>
              <a:ext cx="55116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8136000" y="5867280"/>
              <a:ext cx="55080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4021200" y="5867280"/>
              <a:ext cx="55080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4"/>
            <a:stretch/>
          </p:blipFill>
          <p:spPr>
            <a:xfrm>
              <a:off x="1963800" y="5867280"/>
              <a:ext cx="5508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743200" y="5791320"/>
            <a:ext cx="609588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4952880"/>
            <a:ext cx="6095880" cy="1600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4114800"/>
            <a:ext cx="4267080" cy="83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3276720"/>
            <a:ext cx="3047760" cy="838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2438280"/>
            <a:ext cx="198108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848720" y="1600200"/>
            <a:ext cx="990360" cy="838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502920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Process Analysis and Simpl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3187800"/>
            <a:ext cx="218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National Data Harm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230184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Cross Border Data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1676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gle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502920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siness/Political Process Collaboration Between Trader and Government (UN/CEFACT Rec 4, Rec 18), UN/CEFACT International Supply Chain Reference model, Unified Modeling Methodology, Global Facilitation Partnership for Trade and Transport Audit Method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423396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 Layout Key, UNTDED, TF Toolkit and Forms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327672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TDED, Core Component Library, UN LOCODE and code lists, UNeDocs, Rec 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2454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eDocs (+ WCO DM) = CBR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10560" y="1539720"/>
            <a:ext cx="110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c 33, 34,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39625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ocument Simplification and Standard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83808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53352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/CEFACT Trade Facili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ols and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81536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/CEFACT Standards and Recommend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 30 Recommendation, many of which are ISO Standards and included in the WTO TF Negot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mmendation 1 - UN Layout Key for Trade Documents (ISO 642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mmendation 25 - UN/EDIFACT (ISO 973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TDED (ISO 7372) – CCTS - WCO Customs data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mmendation 33 - Single Windo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eDocs - 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mmendation 4 on TF Struc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mmendation 18 – strategies and approa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le Window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051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952880" y="1676520"/>
          <a:ext cx="396252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76520"/>
                    <a:ext cx="39625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57200" y="592776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ne-stop solution offering official control with trade facil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676520"/>
          <a:ext cx="411480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676520"/>
                    <a:ext cx="41148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143000" y="1066680"/>
            <a:ext cx="2286000" cy="457200"/>
          </a:xfrm>
          <a:prstGeom prst="rect">
            <a:avLst/>
          </a:prstGeom>
          <a:solidFill>
            <a:srgbClr val="319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1066680"/>
            <a:ext cx="2286000" cy="457200"/>
          </a:xfrm>
          <a:prstGeom prst="rect">
            <a:avLst/>
          </a:prstGeom>
          <a:solidFill>
            <a:srgbClr val="319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7162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/CEFACT SW REPOS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5240" y="1980720"/>
            <a:ext cx="33544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inl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erm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uatema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ong Kong SAR (Chin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aurit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Ja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2971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alay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neg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ingap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 algn="just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wed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nited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han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57754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ttp://www.unece.org/cefact/single_window/welcome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08:44:50Z</dcterms:created>
  <dc:creator>Marchand</dc:creator>
  <dc:description/>
  <dc:language>en-US</dc:language>
  <cp:lastModifiedBy>ONU</cp:lastModifiedBy>
  <dcterms:modified xsi:type="dcterms:W3CDTF">2006-11-01T08:48:58Z</dcterms:modified>
  <cp:revision>949</cp:revision>
  <dc:subject/>
  <dc:title>United Nations Electronic Trade</dc:title>
</cp:coreProperties>
</file>