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4BA-0CDA-47FE-9475-337DB032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608-CD02-43D0-8F87-248E0C0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554-A1D5-4CA4-8DD3-64C50439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C81-3B17-4281-AE2A-4B9343F7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259-50B4-4B98-913E-CB5F465E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1779-F960-4087-96C0-46283FC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2B3-CEED-4F17-9651-CD7A115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AB58-0AB3-4D1E-ADAB-FE795C0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ED1D-5ADD-4F95-89ED-F06F00E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71D-90FF-4F21-8379-A28CD83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2BE2-4A73-4DCA-B3D9-D76737A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C82-DB24-41CB-96D3-FB5ED98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CAB8-6FCB-4979-B359-C319AE9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F74-8363-4C83-BFD3-58038A3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61BD-CEE7-4402-8672-F3C4B392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80AF-54B9-4587-BF8D-F406236D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C86B-21E9-49F0-ADCF-C8AD5DC0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A5D-13B4-4D40-853E-36FFFB62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02A-B837-4FA7-978B-8A79E1F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412-8BE2-4C63-85EE-BF48A6B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FA1-0513-4058-A952-791E30D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EDD-1DCC-49EF-86D7-22B9588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E69-DE63-4540-B244-00DE8BB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464-42FB-4FB5-A29B-D62E80D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28C-50CB-410A-83DD-FE13C1BC4E8A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81B-4C40-4B74-B6DC-13F1040C3C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0EF-6DC1-49D6-98EB-532B6BA22C46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B03-E7AA-4DE2-9F64-3B9852B006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368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trengthening National and Regional Trade Facilitation Organisation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6920" y="2097000"/>
            <a:ext cx="7239240" cy="38102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ff"/>
            </a:solidFill>
            <a:miter/>
          </a:ln>
          <a:effectLst>
            <a:outerShdw dist="197537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30"/>
                </a:solidFill>
                <a:latin typeface="Tahoma"/>
              </a:rPr>
              <a:t>Strengthening National and Regional Trade Facilitation Organis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30"/>
                </a:solidFill>
                <a:latin typeface="Tahoma"/>
              </a:rPr>
              <a:t>31 October – 1 November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87640" y="5985000"/>
            <a:ext cx="71280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871E-7621-45D8-B92E-B5ADB285FE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Pacific Islands Forum Region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Countries are members of the PIF (14 of which are Island count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FS delivers a range of regional public policy services – politics, law enforcement &amp; economics (includes trade polic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han Australia and New Zealand, global trade is not signifi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- biggest resources amongst island econo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F57-328E-4DFD-96DA-2B09D49E8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rade Facilitation – Development &amp; Objectiv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844640"/>
            <a:ext cx="80643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ndate: Political Statement : Trade Ministers agree that TF is key trade policy iss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tablishment of National TF Committees (NTFC)  essent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nership  - an integral element of T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TFC – to ensure trade facilitation polices consistent and seize the opportunities from regional/ international trade develop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llenge is to tailor national polices to the unique needs and realities of the individual cou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6B8-EF32-4522-83B3-BF0C427D1D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TFC Stru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79640" y="1952640"/>
            <a:ext cx="7453080" cy="4105080"/>
            <a:chOff x="1079640" y="1952640"/>
            <a:chExt cx="7453080" cy="4105080"/>
          </a:xfrm>
        </p:grpSpPr>
        <p:sp>
          <p:nvSpPr>
            <p:cNvPr id="118" name=""/>
            <p:cNvSpPr/>
            <p:nvPr/>
          </p:nvSpPr>
          <p:spPr>
            <a:xfrm>
              <a:off x="1308960" y="1952640"/>
              <a:ext cx="6879600" cy="22446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30"/>
                  </a:solidFill>
                  <a:latin typeface="Arial"/>
                </a:rPr>
                <a:t>National Trade Facilitation Committ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30"/>
                  </a:solidFill>
                  <a:latin typeface="Arial"/>
                </a:rPr>
                <a:t>(NTF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9640" y="4646160"/>
              <a:ext cx="7453080" cy="14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UB-COMMITTE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23e30"/>
                  </a:solidFill>
                  <a:latin typeface="Arial"/>
                </a:rPr>
                <a:t>Government agencies, Quarantine, Standards, Customs, Market Access, Transport, Freight Forwarders, Insurers Shipping, Airline, Port authority, Brokers, other specialised or industry specific groups (wholly Private sector sub-committees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652760" y="2850480"/>
              <a:ext cx="6191640" cy="1122120"/>
              <a:chOff x="1652760" y="2850480"/>
              <a:chExt cx="6191640" cy="1122120"/>
            </a:xfrm>
          </p:grpSpPr>
          <p:sp>
            <p:nvSpPr>
              <p:cNvPr id="121" name=""/>
              <p:cNvSpPr/>
              <p:nvPr/>
            </p:nvSpPr>
            <p:spPr>
              <a:xfrm>
                <a:off x="1652760" y="2850480"/>
                <a:ext cx="2923560" cy="1122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3e30"/>
                    </a:solidFill>
                    <a:latin typeface="Arial"/>
                  </a:rPr>
                  <a:t>INTER-DEPARTMENTA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3e30"/>
                    </a:solidFill>
                    <a:latin typeface="Arial"/>
                  </a:rPr>
                  <a:t>Policy Working Grou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92560" y="2850480"/>
                <a:ext cx="2751840" cy="1122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23e30"/>
                    </a:solidFill>
                    <a:latin typeface="Arial"/>
                  </a:rPr>
                  <a:t>GOVERNMENT and PRIVATE SEC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23e30"/>
                    </a:solidFill>
                    <a:latin typeface="Arial"/>
                  </a:rPr>
                  <a:t>Policy Working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748760" y="4197240"/>
              <a:ext cx="0" cy="4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BAF-1DE2-441B-8283-04B65213A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Tahoma"/>
              </a:rPr>
              <a:t>National Trade Facilitation Committees - theory and practice</a:t>
            </a: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ished by Ministerial Mand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ired by Ministers who can meet twice a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committees established and who meet as requi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r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nership between public and private s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vate sector related needs &amp; priorities be driving force for formulation of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grated approach of TF policy dem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cal commitment – regional/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ing support – demand driv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658-22ED-412D-ACD7-90C4E5080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ional Coordin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Trade Facilitation Programme (RTFP) – a five year program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ed by Australia and New Zea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main components – Customs, Quarantine and Standards &amp; Conformance  and Coordination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um Trade officials and Ministers meet every two years to review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F6-B710-49B2-A41A-1D88C40A5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unding and Sustainabilit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evel – Regional Trade Facilitation Forum, annual national consultations &amp; donor fund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level – some countries establish NTFCs funded primarily by national govts and supported by Forum Secretari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review ess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requisite cross-cutting reforms, programmes and activities drives the funding demand at this stage (funding for TF bodies are not the iss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D7E-2ADB-4237-9C74-CB07838E7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pporting agencies &amp; opportun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ia Customs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ific Plant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nessing support of the Pacific Islands Private Sector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66F-D62D-4CD4-A702-F22DBC04F1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RC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584-946D-427D-BFDC-487DD151A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mbueA</cp:lastModifiedBy>
  <dcterms:modified xsi:type="dcterms:W3CDTF">2006-11-01T08:32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