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AD9-1684-4FF4-9B63-39BFF3B0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8B4-A5A7-403E-85F5-7CC8F0C4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E11-8C7D-4119-83F4-81589130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F44-E70C-4E7F-9AAB-2C1ED6E2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5A23-7669-43DF-8774-9C118A09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2151-4D31-4070-8235-61E3F664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EFD5-93FF-4572-8BAC-AECD02EB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BA5F-595C-4FAC-B767-180B6E3B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9AAF-D491-4E93-860B-0A6F50DD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9B33-A42B-4972-9E2B-B3E9421B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B0F6-96EB-4B5A-AF66-C11F9186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180-AC07-4FC9-8DCF-E7C25226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B1A9-A52F-4C9D-A59D-81240B7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8666-50EB-47DF-8AEC-33FAE02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F0AB-6212-4DBB-96AE-FA35401A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16F9-3A33-467E-B1C9-7074C458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3E9A-756A-4C08-87B6-3D9DA9E9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4E7-6259-4E95-B3F4-F9717D2C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D3C-DD0A-4C00-9E3F-7BED9BD2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C85A-A1B1-478A-BF8B-C903A05A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604-F66E-4080-8627-0F689299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6E7-AA2E-4758-A3B6-40A114FF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862-7ED8-4869-8EC3-E2AB9866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87F-BEE3-487B-9A96-5E8EB0A7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6D3C-97AF-49E2-BADD-3808747D849C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5BD4-03DB-42F7-9558-36F2C33CE4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B7D-3410-4A52-943A-DE3D8E67EADB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C07F-F053-4B22-8BFF-6ABD0ECA48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040" y="368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trengthening National and Regional Trade Facilitation Organisation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86920" y="2097000"/>
            <a:ext cx="7239240" cy="38102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ffffff"/>
            </a:solidFill>
            <a:miter/>
          </a:ln>
          <a:effectLst>
            <a:outerShdw dist="197537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30"/>
                </a:solidFill>
                <a:latin typeface="Tahoma"/>
              </a:rPr>
              <a:t>Strengthening National and Regional Trade Facilitation Organis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30"/>
                </a:solidFill>
                <a:latin typeface="Tahoma"/>
              </a:rPr>
              <a:t>31 October – 1 November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87640" y="5985000"/>
            <a:ext cx="71280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C3A4-1B55-464F-B3F5-270C3C8B20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Pacific Islands Forum Region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Countries are members of the PIF (14 of which are Island countr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FS delivers a range of regional public policy services – politics, law enforcement &amp; economics (includes trade polic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than Australia and New Zealand, global trade is not signific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h - biggest resources amongst island econom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6C4-AFE9-43CC-BBF7-ADA749DED4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rade Facilitation – Development &amp; Objectiv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844640"/>
            <a:ext cx="806436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ndate: Political Statement : Trade Ministers agree that TF is key trade policy issu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stablishment of National TF Committees (NTFC)  essent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nership  - an integral element of T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TFC – to ensure trade facilitation polices consistent and seize the opportunities from regional/ international trade develop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allenge is to tailor national polices to the unique needs and realities of the individual coun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0CF-621D-4C7D-9BE7-18AAA0A52A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TFC Struc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79640" y="1952640"/>
            <a:ext cx="7453080" cy="4105080"/>
            <a:chOff x="1079640" y="1952640"/>
            <a:chExt cx="7453080" cy="4105080"/>
          </a:xfrm>
        </p:grpSpPr>
        <p:sp>
          <p:nvSpPr>
            <p:cNvPr id="118" name=""/>
            <p:cNvSpPr/>
            <p:nvPr/>
          </p:nvSpPr>
          <p:spPr>
            <a:xfrm>
              <a:off x="1308960" y="1952640"/>
              <a:ext cx="6879600" cy="22446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  <a:effectLst>
              <a:outerShdw dist="36147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23e30"/>
                  </a:solidFill>
                  <a:latin typeface="Arial"/>
                </a:rPr>
                <a:t>National Trade Facilitation Committ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23e30"/>
                  </a:solidFill>
                  <a:latin typeface="Arial"/>
                </a:rPr>
                <a:t>(NTFC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9640" y="4646160"/>
              <a:ext cx="7453080" cy="141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UB-COMMITTE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23e30"/>
                  </a:solidFill>
                  <a:latin typeface="Arial"/>
                </a:rPr>
                <a:t>Government agencies, Quarantine, Standards, Customs, Market Access, Transport, Freight Forwarders, Insurers Shipping, Airline, Port authority, Brokers, other specialised or industry specific groups (wholly Private sector sub-committees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652760" y="2850480"/>
              <a:ext cx="6191640" cy="1122120"/>
              <a:chOff x="1652760" y="2850480"/>
              <a:chExt cx="6191640" cy="1122120"/>
            </a:xfrm>
          </p:grpSpPr>
          <p:sp>
            <p:nvSpPr>
              <p:cNvPr id="121" name=""/>
              <p:cNvSpPr/>
              <p:nvPr/>
            </p:nvSpPr>
            <p:spPr>
              <a:xfrm>
                <a:off x="1652760" y="2850480"/>
                <a:ext cx="2923560" cy="1122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23e30"/>
                    </a:solidFill>
                    <a:latin typeface="Arial"/>
                  </a:rPr>
                  <a:t>INTER-DEPARTMENTA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23e30"/>
                    </a:solidFill>
                    <a:latin typeface="Arial"/>
                  </a:rPr>
                  <a:t>Policy Working Grou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092560" y="2850480"/>
                <a:ext cx="2751840" cy="1122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23e30"/>
                    </a:solidFill>
                    <a:latin typeface="Arial"/>
                  </a:rPr>
                  <a:t>GOVERNMENT and PRIVATE SEC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23e30"/>
                    </a:solidFill>
                    <a:latin typeface="Arial"/>
                  </a:rPr>
                  <a:t>Policy Working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748760" y="4197240"/>
              <a:ext cx="0" cy="44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710-C468-44C0-98A4-FD9C48B8D7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Tahoma"/>
              </a:rPr>
              <a:t>National Trade Facilitation Committees - theory and practice</a:t>
            </a:r>
            <a:endParaRPr b="1" lang="en-US" sz="3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ablished by Ministerial Mand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ired by Ministers who can meet twice a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committees established and who meet as requi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ular repor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nership between public and private s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vate sector related needs &amp; priorities be driving force for formulation of sol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grated approach of TF policy dema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tical commitment – regional/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ding support – demand driv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EC4-712C-4D2F-A81B-978C37908A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gional Coordin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Trade Facilitation Programme (RTFP) – a five year program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ed by Australia and New Zea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four main components – Customs, Quarantine and Standards &amp; Conformance  and Coordination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um Trade officials and Ministers meet every two years to review pro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61E-C6AD-46CA-AD6B-9BF5CC85D6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Funding and Sustainabilit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level – Regional Trade Facilitation Forum, annual national consultations &amp; donor fund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level – some countries establish NTFCs funded primarily by national govts and supported by Forum Secretari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ic review essent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requisite cross-cutting reforms, programmes and activities drives the funding demand at this stage (funding for TF bodies are not the issu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57B-CC50-48EC-850A-CEA5E90060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pporting agencies &amp; opportun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ania Customs Organi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cific Plant Organi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Organi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nessing support of the Pacific Islands Private Sector Organi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F48-AA2B-41DD-8B3D-1931ACFB33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RC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ific Islands Forum Secretari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E27-A68C-4BA3-859D-FABED29961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mbueA</cp:lastModifiedBy>
  <dcterms:modified xsi:type="dcterms:W3CDTF">2006-11-01T08:32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