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F7F3-02A3-48FF-B93C-4DC42AC74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6BF4-EA67-4E25-A29D-EFFA378B1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C8F9-CD54-4A33-8D6D-2CF926A94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0190-203B-4785-92B5-C5392C0D1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6BEC9-932D-44EC-8AEA-88F4FDA8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AFA96-06A7-4E09-94D2-B7B57825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60C9F-84A7-4254-A5FF-A5E59DC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2F173-872B-4148-9649-C29B5395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083A-7FA8-4B89-AF14-D1FA5505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0332-9E9E-4972-AD9F-CBF0186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9D88D-3077-4B50-AB73-B30AF66B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7738-42AA-4697-8A52-CD6F17756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EBB11-679D-465B-A766-59FAEC2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0ADF-EAD3-44D1-9F0E-7E09F32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00E10-64C9-43BD-B558-B697FAEC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23AB-748D-4278-87F7-849838BA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12E22-3507-4A86-8C68-07F95380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C3EC-B9B6-4987-94C3-AE62DEFD0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B2FD-B650-401F-BAFA-F6E9D3951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A33F-DDA0-4CDC-93FC-4E9B955D1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BE56-92CB-4922-A32D-8DEF1E619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D813-2EB0-4A40-B688-D6590895A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69D8-E5EE-4E6A-8DC0-CA545713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DF82-D219-4C10-A85E-89F713876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EF92-4CB8-40E4-B591-98BF31A901C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itle of present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 of presen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1981080"/>
            <a:ext cx="67816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/CEFACT Recommendation Number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rade Facilitation Bod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Butterly, Trade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Nations Economic Commission for Europe (UNE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10080" y="761760"/>
            <a:ext cx="37339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Opportunities ”today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ossible new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TO Trade Facilitation Negoti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Models – Single Wind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perless Trade – cross border data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urity and Trade Facili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ther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s Analysis – National/Regional trade (and Transport) facilitation strata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example of AP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the business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 technical assistance proj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public/private partnersh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best to respond to these opportunit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volution of Recommendation Number 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6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UNECE Working Party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implification and standardization of international trad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4 –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E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 Number 4 – National Trade Facilitation Organs – focus on tra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document alignm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use of codes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99 – Recommendation 4 revised by UN/CEFACT (publication in 2001 – ECE/TRADE/242) – National Trade Facilitation Bodies – stronger focus on ED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 - Guidelines to Recommendation Number 4 – Creating an Efficient Environment for Trade and Transport – UNCTAD and CEFACT. National Trad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ns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acilitation Committees (NTT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76560" y="804600"/>
            <a:ext cx="42670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 Orgs World W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20640" y="2744640"/>
            <a:ext cx="7904160" cy="1369800"/>
            <a:chOff x="620640" y="2744640"/>
            <a:chExt cx="7904160" cy="1369800"/>
          </a:xfrm>
        </p:grpSpPr>
        <p:grpSp>
          <p:nvGrpSpPr>
            <p:cNvPr id="87" name=""/>
            <p:cNvGrpSpPr/>
            <p:nvPr/>
          </p:nvGrpSpPr>
          <p:grpSpPr>
            <a:xfrm>
              <a:off x="625320" y="2749320"/>
              <a:ext cx="7894800" cy="1360440"/>
              <a:chOff x="625320" y="2749320"/>
              <a:chExt cx="7894800" cy="13604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625320" y="2749320"/>
                <a:ext cx="992160" cy="781200"/>
                <a:chOff x="625320" y="2749320"/>
                <a:chExt cx="992160" cy="7812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6480" y="2760480"/>
                  <a:ext cx="9698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urope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5320" y="2749320"/>
                  <a:ext cx="9921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617480" y="2749320"/>
                <a:ext cx="738360" cy="781200"/>
                <a:chOff x="1617480" y="2749320"/>
                <a:chExt cx="738360" cy="781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628640" y="2760480"/>
                  <a:ext cx="7160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s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617480" y="2749320"/>
                  <a:ext cx="7383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355840" y="2749320"/>
                <a:ext cx="738000" cy="781200"/>
                <a:chOff x="2355840" y="2749320"/>
                <a:chExt cx="738000" cy="781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366640" y="2760480"/>
                  <a:ext cx="7160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f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355840" y="2749320"/>
                  <a:ext cx="73800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093840" y="2749320"/>
                <a:ext cx="1079640" cy="781200"/>
                <a:chOff x="3093840" y="2749320"/>
                <a:chExt cx="1079640" cy="781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105000" y="2760480"/>
                  <a:ext cx="105732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uth Ame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93840" y="2749320"/>
                  <a:ext cx="107964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73480" y="2749320"/>
                <a:ext cx="1004760" cy="781200"/>
                <a:chOff x="4173480" y="2749320"/>
                <a:chExt cx="1004760" cy="7812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184640" y="2760480"/>
                  <a:ext cx="9824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rth Ame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73480" y="2749320"/>
                  <a:ext cx="10047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178240" y="2749320"/>
                <a:ext cx="1004760" cy="781200"/>
                <a:chOff x="5178240" y="2749320"/>
                <a:chExt cx="1004760" cy="7812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189400" y="2760480"/>
                  <a:ext cx="98280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178240" y="2749320"/>
                  <a:ext cx="10047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183000" y="2749320"/>
                <a:ext cx="871560" cy="781200"/>
                <a:chOff x="6183000" y="2749320"/>
                <a:chExt cx="871560" cy="781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194160" y="2760480"/>
                  <a:ext cx="84960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entral As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183000" y="2749320"/>
                  <a:ext cx="8715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054560" y="2749320"/>
                <a:ext cx="1465560" cy="781200"/>
                <a:chOff x="7054560" y="2749320"/>
                <a:chExt cx="1465560" cy="781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065720" y="2760480"/>
                  <a:ext cx="1443240" cy="77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ransition Econom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54560" y="2749320"/>
                  <a:ext cx="14655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25320" y="3541320"/>
                <a:ext cx="992160" cy="568440"/>
                <a:chOff x="625320" y="3541320"/>
                <a:chExt cx="992160" cy="5684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36480" y="3552480"/>
                  <a:ext cx="9698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25320" y="3541320"/>
                  <a:ext cx="9921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617480" y="3541320"/>
                <a:ext cx="738360" cy="568440"/>
                <a:chOff x="1617480" y="3541320"/>
                <a:chExt cx="738360" cy="568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628640" y="3552480"/>
                  <a:ext cx="716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17480" y="3541320"/>
                  <a:ext cx="7383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355840" y="3541320"/>
                <a:ext cx="738000" cy="568440"/>
                <a:chOff x="2355840" y="3541320"/>
                <a:chExt cx="738000" cy="568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366640" y="3552480"/>
                  <a:ext cx="716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355840" y="3541320"/>
                  <a:ext cx="73800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093840" y="3541320"/>
                <a:ext cx="1079640" cy="568440"/>
                <a:chOff x="3093840" y="3541320"/>
                <a:chExt cx="1079640" cy="568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05000" y="3552480"/>
                  <a:ext cx="105732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093840" y="3541320"/>
                  <a:ext cx="107964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173480" y="3541320"/>
                <a:ext cx="1004760" cy="568440"/>
                <a:chOff x="4173480" y="3541320"/>
                <a:chExt cx="1004760" cy="568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184640" y="3552480"/>
                  <a:ext cx="9824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73480" y="3541320"/>
                  <a:ext cx="10047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178240" y="3541320"/>
                <a:ext cx="1004760" cy="568440"/>
                <a:chOff x="5178240" y="3541320"/>
                <a:chExt cx="1004760" cy="568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89400" y="3552480"/>
                  <a:ext cx="98280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178240" y="3541320"/>
                  <a:ext cx="10047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83000" y="3541320"/>
                <a:ext cx="871560" cy="568440"/>
                <a:chOff x="6183000" y="3541320"/>
                <a:chExt cx="871560" cy="568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194160" y="3552480"/>
                  <a:ext cx="84960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83000" y="3541320"/>
                  <a:ext cx="8715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054560" y="3541320"/>
                <a:ext cx="1465560" cy="568440"/>
                <a:chOff x="7054560" y="3541320"/>
                <a:chExt cx="1465560" cy="568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065720" y="3552480"/>
                  <a:ext cx="14432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54560" y="3541320"/>
                  <a:ext cx="1465560" cy="56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620640" y="2744640"/>
              <a:ext cx="7904160" cy="136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70320" y="762120"/>
            <a:ext cx="39736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Structure and staff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828800"/>
                <a:gridCol w="1447560"/>
                <a:gridCol w="144792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81480" y="804600"/>
            <a:ext cx="35164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Financ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209680"/>
          <a:ext cx="7848720" cy="35816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0512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se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46640" y="761760"/>
            <a:ext cx="38973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Current fund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880" y="2514240"/>
            <a:ext cx="60199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cellent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y good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od (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or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y poor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 data give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81120" y="761760"/>
            <a:ext cx="37450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Main obstac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funding and ressources 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knowledge/information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cooperation between government and business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political will, adversing political structure and corruption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or infrastructure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7800" y="761760"/>
            <a:ext cx="35812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ProOrg Survey 2004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Main opportun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national cooperation and facilitation of procedures and documents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ublications, information, seminars and forums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oduction/extension of eCommerce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2960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9:03:42Z</dcterms:created>
  <dc:creator>D029024</dc:creator>
  <dc:description/>
  <dc:language>en-US</dc:language>
  <cp:lastModifiedBy>ONU</cp:lastModifiedBy>
  <dcterms:modified xsi:type="dcterms:W3CDTF">2006-10-31T08:43:56Z</dcterms:modified>
  <cp:revision>44</cp:revision>
  <dc:subject/>
  <dc:title>UN/CEFACT TMG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