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0876-1EB3-4461-A535-265FDCD90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53D0-0A53-42F6-9B74-BC953354A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33F3-C9BF-4DC9-BB14-5AB724BE4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010A-0A92-4014-A6CC-1514514E9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6C618-B42C-4B44-BACF-D5E90459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1C166-4BEF-4BCE-86D0-525AE137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43D96-81CE-40AA-A1A9-43035FC8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DDB93-E328-4FF4-AA1A-A274C64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48B01-D4B8-4C50-B8CF-7ED0BCAE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D9479-BCB5-44CA-893D-06A61C0F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81B65-D80B-4395-9143-E7D8D444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4719-78C5-4056-96A2-5A65A5E83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BAD12-A9F3-4622-8238-1AFF8C57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16F99-8DBD-41EC-8D1C-8D0E67F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4FDF3-EB90-4BE1-B04E-64B121E3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378AB-0727-425F-80B5-C3550237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ADB35-53E3-4B2B-9103-364CB0BF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E5F8-4914-4BDA-B98C-C86D0734E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458D-E3EE-4C03-B9CC-CBBCD727B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C73C-F1C6-4A65-97CC-0B0F068EA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B7AF-4E4E-4B2C-8030-C9D51D8E1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3784-9D0B-43FA-8D84-CDDF0CA69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839A-F0F9-42F5-8B9F-CB0FE156F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AC0B-9EF5-4E69-AE1A-B9B11290E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7B80-E450-4CB3-978A-5CE183D2805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title of presenta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name of presen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No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19320" y="1981080"/>
            <a:ext cx="67816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/CEFACT Recommendation Number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rade Facilitation Bod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Butterly, Trade Di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Nations Economic Commission for Europe (UNE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10080" y="761760"/>
            <a:ext cx="37339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w Opportunities ”today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ossible new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TO Trade Facilitation Negoti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Models – Single Wind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perless Trade – cross border data ex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curity and Trade Facilit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ther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eds Analysis – National/Regional trade (and Transport) facilitation strata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example of AP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the business ca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 u="sng">
                <a:solidFill>
                  <a:srgbClr val="000000"/>
                </a:solidFill>
                <a:uFillTx/>
                <a:latin typeface="Arial"/>
              </a:rPr>
              <a:t>driving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 technical assistance proje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public/private partnersh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best to respond to these opportuniti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4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volution of Recommendation Number 4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6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UNECE Working Party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implification and standardization of international trad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4 –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E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 Number 4 – National Trade Facilitation Organs – focus on trad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u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document alignm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use of codes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99 – Recommendation 4 revised by UN/CEFACT (publication in 2001 – ECE/TRADE/242) – National Trade Facilitation Bodies – stronger focus on ED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0 - Guidelines to Recommendation Number 4 – Creating an Efficient Environment for Trade and Transport – UNCTAD and CEFACT. National Trad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rans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acilitation Committees (NTTF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76560" y="804600"/>
            <a:ext cx="42670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 Orgs World W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20640" y="2744640"/>
            <a:ext cx="7904160" cy="1369800"/>
            <a:chOff x="620640" y="2744640"/>
            <a:chExt cx="7904160" cy="1369800"/>
          </a:xfrm>
        </p:grpSpPr>
        <p:grpSp>
          <p:nvGrpSpPr>
            <p:cNvPr id="87" name=""/>
            <p:cNvGrpSpPr/>
            <p:nvPr/>
          </p:nvGrpSpPr>
          <p:grpSpPr>
            <a:xfrm>
              <a:off x="625320" y="2749320"/>
              <a:ext cx="7894800" cy="1360440"/>
              <a:chOff x="625320" y="2749320"/>
              <a:chExt cx="7894800" cy="136044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625320" y="2749320"/>
                <a:ext cx="992160" cy="781200"/>
                <a:chOff x="625320" y="2749320"/>
                <a:chExt cx="992160" cy="7812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6480" y="2760480"/>
                  <a:ext cx="9698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urope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5320" y="2749320"/>
                  <a:ext cx="9921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617480" y="2749320"/>
                <a:ext cx="738360" cy="781200"/>
                <a:chOff x="1617480" y="2749320"/>
                <a:chExt cx="738360" cy="7812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628640" y="2760480"/>
                  <a:ext cx="7160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s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617480" y="2749320"/>
                  <a:ext cx="7383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355840" y="2749320"/>
                <a:ext cx="738000" cy="781200"/>
                <a:chOff x="2355840" y="2749320"/>
                <a:chExt cx="738000" cy="7812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366640" y="2760480"/>
                  <a:ext cx="7160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f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355840" y="2749320"/>
                  <a:ext cx="73800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093840" y="2749320"/>
                <a:ext cx="1079640" cy="781200"/>
                <a:chOff x="3093840" y="2749320"/>
                <a:chExt cx="1079640" cy="7812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105000" y="2760480"/>
                  <a:ext cx="105732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outh Ame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93840" y="2749320"/>
                  <a:ext cx="107964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73480" y="2749320"/>
                <a:ext cx="1004760" cy="781200"/>
                <a:chOff x="4173480" y="2749320"/>
                <a:chExt cx="1004760" cy="7812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184640" y="2760480"/>
                  <a:ext cx="9824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rth Ame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73480" y="2749320"/>
                  <a:ext cx="10047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178240" y="2749320"/>
                <a:ext cx="1004760" cy="781200"/>
                <a:chOff x="5178240" y="2749320"/>
                <a:chExt cx="1004760" cy="7812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189400" y="2760480"/>
                  <a:ext cx="98280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ot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178240" y="2749320"/>
                  <a:ext cx="10047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183000" y="2749320"/>
                <a:ext cx="871560" cy="781200"/>
                <a:chOff x="6183000" y="2749320"/>
                <a:chExt cx="871560" cy="7812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194160" y="2760480"/>
                  <a:ext cx="84960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entral As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183000" y="2749320"/>
                  <a:ext cx="8715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054560" y="2749320"/>
                <a:ext cx="1465560" cy="781200"/>
                <a:chOff x="7054560" y="2749320"/>
                <a:chExt cx="1465560" cy="781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065720" y="2760480"/>
                  <a:ext cx="14432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ransition Econom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54560" y="2749320"/>
                  <a:ext cx="14655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25320" y="3541320"/>
                <a:ext cx="992160" cy="568440"/>
                <a:chOff x="625320" y="3541320"/>
                <a:chExt cx="992160" cy="5684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36480" y="3552480"/>
                  <a:ext cx="9698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25320" y="3541320"/>
                  <a:ext cx="9921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617480" y="3541320"/>
                <a:ext cx="738360" cy="568440"/>
                <a:chOff x="1617480" y="3541320"/>
                <a:chExt cx="738360" cy="5684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628640" y="3552480"/>
                  <a:ext cx="716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17480" y="3541320"/>
                  <a:ext cx="7383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355840" y="3541320"/>
                <a:ext cx="738000" cy="568440"/>
                <a:chOff x="2355840" y="3541320"/>
                <a:chExt cx="738000" cy="568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366640" y="3552480"/>
                  <a:ext cx="716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355840" y="3541320"/>
                  <a:ext cx="73800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093840" y="3541320"/>
                <a:ext cx="1079640" cy="568440"/>
                <a:chOff x="3093840" y="3541320"/>
                <a:chExt cx="1079640" cy="5684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105000" y="3552480"/>
                  <a:ext cx="105732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093840" y="3541320"/>
                  <a:ext cx="107964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173480" y="3541320"/>
                <a:ext cx="1004760" cy="568440"/>
                <a:chOff x="4173480" y="3541320"/>
                <a:chExt cx="1004760" cy="5684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184640" y="3552480"/>
                  <a:ext cx="9824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173480" y="3541320"/>
                  <a:ext cx="10047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5178240" y="3541320"/>
                <a:ext cx="1004760" cy="568440"/>
                <a:chOff x="5178240" y="3541320"/>
                <a:chExt cx="1004760" cy="568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189400" y="3552480"/>
                  <a:ext cx="98280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178240" y="3541320"/>
                  <a:ext cx="10047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183000" y="3541320"/>
                <a:ext cx="871560" cy="568440"/>
                <a:chOff x="6183000" y="3541320"/>
                <a:chExt cx="871560" cy="5684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194160" y="3552480"/>
                  <a:ext cx="84960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83000" y="3541320"/>
                  <a:ext cx="8715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054560" y="3541320"/>
                <a:ext cx="1465560" cy="568440"/>
                <a:chOff x="7054560" y="3541320"/>
                <a:chExt cx="1465560" cy="568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065720" y="3552480"/>
                  <a:ext cx="14432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054560" y="3541320"/>
                  <a:ext cx="14655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>
              <a:off x="620640" y="2744640"/>
              <a:ext cx="7904160" cy="1369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70320" y="762120"/>
            <a:ext cx="39736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Structure and staff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981080"/>
          <a:ext cx="7772400" cy="432288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828800"/>
                <a:gridCol w="1447560"/>
                <a:gridCol w="144792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81480" y="804600"/>
            <a:ext cx="35164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Financ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209680"/>
          <a:ext cx="7848720" cy="35816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05120"/>
              </a:tblGrid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sect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46640" y="761760"/>
            <a:ext cx="38973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Current fund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6880" y="2514240"/>
            <a:ext cx="601992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cellent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y good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ood (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or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y poor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 data give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81120" y="761760"/>
            <a:ext cx="37450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Main obstacl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ck of funding and ressources (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ck of knowledge/information 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ck of cooperation between government and business 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ck of political will, adversing political structure and corruption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or infrastructure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57800" y="761760"/>
            <a:ext cx="35812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Main opportun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national cooperation and facilitation of procedures and documents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ublications, information, seminars and forums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roduction/extension of eCommerce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9:03:42Z</dcterms:created>
  <dc:creator>D029024</dc:creator>
  <dc:description/>
  <dc:language>en-US</dc:language>
  <cp:lastModifiedBy>ONU</cp:lastModifiedBy>
  <dcterms:modified xsi:type="dcterms:W3CDTF">2006-10-31T08:43:56Z</dcterms:modified>
  <cp:revision>44</cp:revision>
  <dc:subject/>
  <dc:title>UN/CEFACT TMG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