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882-3902-4572-AC61-6694FDADD4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93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39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93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39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116240" y="7632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onference On Trade and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(UNCT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entre for Trade Facilitation and Electronic business (UN/CEF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12193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447920"/>
            <a:ext cx="7162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UNCTAD/UNECE WORKSHO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ngthening National and Regional Trade Facilitatio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1 October – 1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86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ountry’s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2920" y="5373720"/>
            <a:ext cx="2160720" cy="8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the main challenges in your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77040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keep TF “alive” in the trade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ilitation vs.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Reduce complexity of business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627440"/>
            <a:ext cx="746604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ns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2641680"/>
            <a:ext cx="597708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alance security and T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and si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TF, build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TO nego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91400" y="2276640"/>
            <a:ext cx="2157480" cy="417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7704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for further in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ia Albar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d of Secretari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ia.albarello@kommers.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swepro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5483160"/>
            <a:ext cx="2160720" cy="898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5464080"/>
            <a:ext cx="2735280" cy="91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e and structure of SWEP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wedish Trade Procedures Council, created by government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6 representatives from business and 3 from public sector appointed by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3-years 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ecretariat hosted by National Board of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53132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WEPRO’s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mandate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, given by the Government,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sv-SE" sz="2800" spc="-1" strike="noStrike">
                <a:solidFill>
                  <a:srgbClr val="ffffff"/>
                </a:solidFill>
                <a:latin typeface="Arial"/>
              </a:rPr>
              <a:t>to promote simplification and efficiency in international trade procedures through active participation in the central international forums where these matters are address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591240" y="1341360"/>
            <a:ext cx="215748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rpose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4040" indent="-34956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main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s to provide a formal platform for discussion and exchang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4040" indent="-34956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ensure proper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participate in the internationa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identify key TF issues in Sweden and participate in policy consul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promote trade fac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activities of SWEPRO’s Secretari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oordination and promo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nalyses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rticipation in the internation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724280" y="2009880"/>
            <a:ext cx="441972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you determine your priorities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785680"/>
            <a:ext cx="4378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69000" y="2170080"/>
            <a:ext cx="215748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is the organization finan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2204640"/>
            <a:ext cx="77043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ecretariat</a:t>
            </a:r>
            <a:r>
              <a:rPr b="0" lang="sv-SE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budget from National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Board of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ouncil members </a:t>
            </a:r>
            <a:r>
              <a:rPr b="0" lang="sv-SE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each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357720"/>
            <a:ext cx="1511280" cy="287280"/>
          </a:xfrm>
          <a:prstGeom prst="rightArrow">
            <a:avLst>
              <a:gd name="adj1" fmla="val 50000"/>
              <a:gd name="adj2" fmla="val 131516"/>
            </a:avLst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797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opportunities for facilitating trade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574524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F high priority for Swe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11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of mind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rom control to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rom transaction to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nership and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11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781680" y="2133720"/>
            <a:ext cx="2157480" cy="431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challenges to implementing trade facilitation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887200"/>
            <a:ext cx="3729240" cy="30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ion cl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788000" y="2584440"/>
            <a:ext cx="388764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Marchand</dc:creator>
  <dc:description/>
  <dc:language>en-US</dc:language>
  <cp:lastModifiedBy>ONU</cp:lastModifiedBy>
  <dcterms:modified xsi:type="dcterms:W3CDTF">2006-10-31T10:12:25Z</dcterms:modified>
  <cp:revision>982</cp:revision>
  <dc:subject/>
  <dc:title>United Nations Electronic Trade</dc:title>
</cp:coreProperties>
</file>