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3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.jpeg" ContentType="image/jpeg"/>
  <Override PartName="/ppt/media/image5.png" ContentType="image/png"/>
  <Override PartName="/ppt/media/image10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639000" indent="-24552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982800" indent="-19656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375920" indent="-19656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1769040" indent="-19656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1769040" indent="-19656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1769040" indent="-19656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383240" y="6386400"/>
            <a:ext cx="1523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SITPR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Simplifying International Tra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itpro.org.uk/trade/animal.pdf" TargetMode="External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Times New Roman"/>
              </a:rPr>
              <a:t>SITPRO</a:t>
            </a:r>
            <a:br>
              <a:rPr sz="7500"/>
            </a:b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implifying International 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31240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 Narrow"/>
              </a:rPr>
              <a:t>Malcolm McKinnon                            Chief Executiv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UNCTAD/UNECE Symposium for National PRO Organisations                                                               Geneva, 31 October – 1 November 2006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cumentation syst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p Doc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e Doc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505320" y="2514600"/>
          <a:ext cx="1371600" cy="13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2514600"/>
                    <a:ext cx="13716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7" name=""/>
          <p:cNvGrpSpPr/>
          <p:nvPr/>
        </p:nvGrpSpPr>
        <p:grpSpPr>
          <a:xfrm>
            <a:off x="2971800" y="4572000"/>
            <a:ext cx="2971800" cy="1219320"/>
            <a:chOff x="2971800" y="4572000"/>
            <a:chExt cx="2971800" cy="1219320"/>
          </a:xfrm>
        </p:grpSpPr>
        <p:pic>
          <p:nvPicPr>
            <p:cNvPr id="68" name="" descr=""/>
            <p:cNvPicPr/>
            <p:nvPr/>
          </p:nvPicPr>
          <p:blipFill>
            <a:blip r:embed="rId4"/>
            <a:stretch/>
          </p:blipFill>
          <p:spPr>
            <a:xfrm>
              <a:off x="4862520" y="4572000"/>
              <a:ext cx="10810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4038480" y="4983120"/>
              <a:ext cx="76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038120" y="5254560"/>
              <a:ext cx="76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2971800" y="4572000"/>
              <a:ext cx="990720" cy="1219320"/>
              <a:chOff x="2971800" y="4572000"/>
              <a:chExt cx="990720" cy="1219320"/>
            </a:xfrm>
          </p:grpSpPr>
          <p:sp>
            <p:nvSpPr>
              <p:cNvPr id="72" name=""/>
              <p:cNvSpPr/>
              <p:nvPr/>
            </p:nvSpPr>
            <p:spPr>
              <a:xfrm>
                <a:off x="2971800" y="4572000"/>
                <a:ext cx="990720" cy="12193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3055680" y="4602600"/>
                <a:ext cx="410760" cy="203400"/>
                <a:chOff x="3055680" y="4602600"/>
                <a:chExt cx="410760" cy="20340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3055680" y="4602600"/>
                  <a:ext cx="410760" cy="203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116520" y="4641480"/>
                  <a:ext cx="289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134880" y="4698720"/>
                  <a:ext cx="289080" cy="11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134880" y="4765680"/>
                  <a:ext cx="303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3055680" y="4806000"/>
                <a:ext cx="410760" cy="234000"/>
                <a:chOff x="3055680" y="4806000"/>
                <a:chExt cx="410760" cy="23400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3055680" y="4806000"/>
                  <a:ext cx="410760" cy="234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116520" y="4850640"/>
                  <a:ext cx="289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134880" y="4916520"/>
                  <a:ext cx="289080" cy="13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134880" y="4993920"/>
                  <a:ext cx="303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3033720" y="5567040"/>
                <a:ext cx="494640" cy="175320"/>
                <a:chOff x="3033720" y="5567040"/>
                <a:chExt cx="494640" cy="17532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3033720" y="5567040"/>
                  <a:ext cx="494640" cy="1753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3106800" y="5600520"/>
                  <a:ext cx="347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129120" y="5649840"/>
                  <a:ext cx="347760" cy="1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3129120" y="5707800"/>
                  <a:ext cx="365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3503160" y="4630320"/>
                <a:ext cx="397080" cy="409680"/>
                <a:chOff x="3503160" y="4630320"/>
                <a:chExt cx="397080" cy="40968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3503160" y="4630320"/>
                  <a:ext cx="397080" cy="409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564360" y="4710960"/>
                  <a:ext cx="274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582360" y="4823640"/>
                  <a:ext cx="273240" cy="24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582360" y="4955760"/>
                  <a:ext cx="288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3033720" y="5098680"/>
                <a:ext cx="866160" cy="409680"/>
                <a:chOff x="3033720" y="5098680"/>
                <a:chExt cx="866160" cy="40968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3033720" y="5098680"/>
                  <a:ext cx="866160" cy="409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167280" y="5179680"/>
                  <a:ext cx="598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206520" y="5291640"/>
                  <a:ext cx="596520" cy="25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3206520" y="5423400"/>
                  <a:ext cx="628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3591000" y="5567040"/>
                <a:ext cx="309240" cy="203400"/>
                <a:chOff x="3591000" y="5567040"/>
                <a:chExt cx="309240" cy="2034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3591000" y="5567040"/>
                  <a:ext cx="309240" cy="203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3636720" y="5605920"/>
                  <a:ext cx="217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650400" y="5663160"/>
                  <a:ext cx="217440" cy="11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3650400" y="5730120"/>
                  <a:ext cx="228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TPRO – who are w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ut also TRADE PROCEDURE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505320" y="3124080"/>
            <a:ext cx="2146320" cy="1982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38080" y="3429000"/>
            <a:ext cx="1928880" cy="1673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>
            <a:off x="2895480" y="41911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TPRO – who are w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But also TRADE PROCEDUR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Expertise and advice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Helpdesk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Consultation and problem identification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Stakeholder groups’ own problem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Externally driven initiatives, eg Europe, WCO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Form opinions and recommend solutions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Single Window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Lobbying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zoom dir="ou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TPRO – who are w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nd INFLUENCE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3124080"/>
            <a:ext cx="2146320" cy="1982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838080" y="3429000"/>
            <a:ext cx="1928880" cy="1673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flipH="1">
            <a:off x="2895480" y="41911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4800600" y="1600200"/>
            <a:ext cx="1668600" cy="1303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8077320" y="2666880"/>
            <a:ext cx="707760" cy="492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6934320" y="2743200"/>
            <a:ext cx="903240" cy="399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6705720" y="1600200"/>
            <a:ext cx="1828800" cy="708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6019920" y="5334120"/>
            <a:ext cx="2422440" cy="857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9"/>
          <a:stretch/>
        </p:blipFill>
        <p:spPr>
          <a:xfrm>
            <a:off x="7238880" y="3505320"/>
            <a:ext cx="1565280" cy="182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0"/>
          <a:stretch/>
        </p:blipFill>
        <p:spPr>
          <a:xfrm>
            <a:off x="6248520" y="3962520"/>
            <a:ext cx="1828800" cy="1096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1"/>
          <a:stretch/>
        </p:blipFill>
        <p:spPr>
          <a:xfrm>
            <a:off x="5943600" y="320040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2"/>
          <a:stretch/>
        </p:blipFill>
        <p:spPr>
          <a:xfrm>
            <a:off x="8229600" y="4038480"/>
            <a:ext cx="571680" cy="879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3"/>
          <a:stretch/>
        </p:blipFill>
        <p:spPr>
          <a:xfrm>
            <a:off x="3657600" y="5486400"/>
            <a:ext cx="628560" cy="628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4"/>
          <a:stretch/>
        </p:blipFill>
        <p:spPr>
          <a:xfrm>
            <a:off x="4724280" y="5486400"/>
            <a:ext cx="628920" cy="628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5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500"/>
                            </p:stCondLst>
                            <p:childTnLst>
                              <p:par>
                                <p:cTn id="2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500"/>
                            </p:stCondLst>
                            <p:childTnLst>
                              <p:par>
                                <p:cTn id="2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TPRO - how do we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00280" y="1905120"/>
            <a:ext cx="7657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he Tip of the Iceberg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ree Helpdesk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ocedural Guidanc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Library of Briefing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untry Spotlight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ree Newsletter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181480" y="2971800"/>
            <a:ext cx="3330720" cy="788760"/>
            <a:chOff x="5181480" y="2971800"/>
            <a:chExt cx="3330720" cy="788760"/>
          </a:xfrm>
        </p:grpSpPr>
        <p:sp>
          <p:nvSpPr>
            <p:cNvPr id="129" name=""/>
            <p:cNvSpPr/>
            <p:nvPr/>
          </p:nvSpPr>
          <p:spPr>
            <a:xfrm>
              <a:off x="7716960" y="3321000"/>
              <a:ext cx="85680" cy="11268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60" y="70"/>
                  </a:moveTo>
                  <a:lnTo>
                    <a:pt x="55" y="46"/>
                  </a:lnTo>
                  <a:lnTo>
                    <a:pt x="44" y="0"/>
                  </a:lnTo>
                  <a:lnTo>
                    <a:pt x="13" y="0"/>
                  </a:lnTo>
                  <a:lnTo>
                    <a:pt x="4" y="46"/>
                  </a:lnTo>
                  <a:lnTo>
                    <a:pt x="0" y="70"/>
                  </a:lnTo>
                  <a:lnTo>
                    <a:pt x="60" y="7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12040" y="3443040"/>
              <a:ext cx="552600" cy="54000"/>
            </a:xfrm>
            <a:custGeom>
              <a:avLst/>
              <a:gdLst/>
              <a:ahLst/>
              <a:rect l="l" t="t" r="r" b="b"/>
              <a:pathLst>
                <a:path w="391" h="34">
                  <a:moveTo>
                    <a:pt x="390" y="33"/>
                  </a:moveTo>
                  <a:lnTo>
                    <a:pt x="372" y="0"/>
                  </a:lnTo>
                  <a:lnTo>
                    <a:pt x="15" y="0"/>
                  </a:lnTo>
                  <a:lnTo>
                    <a:pt x="0" y="33"/>
                  </a:lnTo>
                  <a:lnTo>
                    <a:pt x="390" y="33"/>
                  </a:lnTo>
                </a:path>
              </a:pathLst>
            </a:custGeom>
            <a:solidFill>
              <a:srgbClr val="6070c1"/>
            </a:solidFill>
            <a:ln cap="rnd" w="12600">
              <a:solidFill>
                <a:srgbClr val="6070c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35720" y="3503520"/>
              <a:ext cx="716040" cy="92160"/>
            </a:xfrm>
            <a:custGeom>
              <a:avLst/>
              <a:gdLst/>
              <a:ahLst/>
              <a:rect l="l" t="t" r="r" b="b"/>
              <a:pathLst>
                <a:path w="508" h="58">
                  <a:moveTo>
                    <a:pt x="0" y="0"/>
                  </a:moveTo>
                  <a:lnTo>
                    <a:pt x="40" y="57"/>
                  </a:lnTo>
                  <a:lnTo>
                    <a:pt x="250" y="52"/>
                  </a:lnTo>
                  <a:lnTo>
                    <a:pt x="306" y="35"/>
                  </a:lnTo>
                  <a:lnTo>
                    <a:pt x="363" y="23"/>
                  </a:lnTo>
                  <a:lnTo>
                    <a:pt x="392" y="24"/>
                  </a:lnTo>
                  <a:lnTo>
                    <a:pt x="422" y="31"/>
                  </a:lnTo>
                  <a:lnTo>
                    <a:pt x="447" y="41"/>
                  </a:lnTo>
                  <a:lnTo>
                    <a:pt x="470" y="56"/>
                  </a:lnTo>
                  <a:lnTo>
                    <a:pt x="507" y="0"/>
                  </a:lnTo>
                  <a:lnTo>
                    <a:pt x="0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12040" y="3591000"/>
              <a:ext cx="571680" cy="106200"/>
            </a:xfrm>
            <a:custGeom>
              <a:avLst/>
              <a:gdLst/>
              <a:ahLst/>
              <a:rect l="l" t="t" r="r" b="b"/>
              <a:pathLst>
                <a:path w="405" h="67">
                  <a:moveTo>
                    <a:pt x="182" y="18"/>
                  </a:moveTo>
                  <a:lnTo>
                    <a:pt x="0" y="26"/>
                  </a:lnTo>
                  <a:lnTo>
                    <a:pt x="23" y="66"/>
                  </a:lnTo>
                  <a:lnTo>
                    <a:pt x="375" y="66"/>
                  </a:lnTo>
                  <a:lnTo>
                    <a:pt x="404" y="15"/>
                  </a:lnTo>
                  <a:lnTo>
                    <a:pt x="354" y="0"/>
                  </a:lnTo>
                  <a:lnTo>
                    <a:pt x="266" y="1"/>
                  </a:lnTo>
                  <a:lnTo>
                    <a:pt x="182" y="18"/>
                  </a:lnTo>
                </a:path>
              </a:pathLst>
            </a:custGeom>
            <a:solidFill>
              <a:srgbClr val="666666"/>
            </a:solidFill>
            <a:ln cap="rnd"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81480" y="3548160"/>
              <a:ext cx="3330720" cy="212400"/>
            </a:xfrm>
            <a:custGeom>
              <a:avLst/>
              <a:gdLst/>
              <a:ahLst/>
              <a:rect l="l" t="t" r="r" b="b"/>
              <a:pathLst>
                <a:path w="2361" h="134">
                  <a:moveTo>
                    <a:pt x="0" y="98"/>
                  </a:moveTo>
                  <a:lnTo>
                    <a:pt x="75" y="75"/>
                  </a:lnTo>
                  <a:lnTo>
                    <a:pt x="99" y="75"/>
                  </a:lnTo>
                  <a:lnTo>
                    <a:pt x="118" y="133"/>
                  </a:lnTo>
                  <a:lnTo>
                    <a:pt x="132" y="122"/>
                  </a:lnTo>
                  <a:lnTo>
                    <a:pt x="160" y="98"/>
                  </a:lnTo>
                  <a:lnTo>
                    <a:pt x="184" y="92"/>
                  </a:lnTo>
                  <a:lnTo>
                    <a:pt x="217" y="104"/>
                  </a:lnTo>
                  <a:lnTo>
                    <a:pt x="269" y="110"/>
                  </a:lnTo>
                  <a:lnTo>
                    <a:pt x="312" y="87"/>
                  </a:lnTo>
                  <a:lnTo>
                    <a:pt x="331" y="81"/>
                  </a:lnTo>
                  <a:lnTo>
                    <a:pt x="355" y="75"/>
                  </a:lnTo>
                  <a:lnTo>
                    <a:pt x="455" y="87"/>
                  </a:lnTo>
                  <a:lnTo>
                    <a:pt x="516" y="98"/>
                  </a:lnTo>
                  <a:lnTo>
                    <a:pt x="596" y="70"/>
                  </a:lnTo>
                  <a:lnTo>
                    <a:pt x="691" y="46"/>
                  </a:lnTo>
                  <a:lnTo>
                    <a:pt x="734" y="52"/>
                  </a:lnTo>
                  <a:lnTo>
                    <a:pt x="809" y="58"/>
                  </a:lnTo>
                  <a:lnTo>
                    <a:pt x="923" y="46"/>
                  </a:lnTo>
                  <a:lnTo>
                    <a:pt x="1023" y="46"/>
                  </a:lnTo>
                  <a:lnTo>
                    <a:pt x="1075" y="58"/>
                  </a:lnTo>
                  <a:lnTo>
                    <a:pt x="1146" y="64"/>
                  </a:lnTo>
                  <a:lnTo>
                    <a:pt x="1283" y="70"/>
                  </a:lnTo>
                  <a:lnTo>
                    <a:pt x="1379" y="81"/>
                  </a:lnTo>
                  <a:lnTo>
                    <a:pt x="1455" y="64"/>
                  </a:lnTo>
                  <a:lnTo>
                    <a:pt x="1549" y="35"/>
                  </a:lnTo>
                  <a:lnTo>
                    <a:pt x="1601" y="29"/>
                  </a:lnTo>
                  <a:lnTo>
                    <a:pt x="1691" y="41"/>
                  </a:lnTo>
                  <a:lnTo>
                    <a:pt x="1800" y="35"/>
                  </a:lnTo>
                  <a:lnTo>
                    <a:pt x="1881" y="35"/>
                  </a:lnTo>
                  <a:lnTo>
                    <a:pt x="1981" y="11"/>
                  </a:lnTo>
                  <a:lnTo>
                    <a:pt x="2014" y="8"/>
                  </a:lnTo>
                  <a:lnTo>
                    <a:pt x="2070" y="15"/>
                  </a:lnTo>
                  <a:lnTo>
                    <a:pt x="2132" y="43"/>
                  </a:lnTo>
                  <a:lnTo>
                    <a:pt x="2184" y="17"/>
                  </a:lnTo>
                  <a:lnTo>
                    <a:pt x="2203" y="5"/>
                  </a:lnTo>
                  <a:lnTo>
                    <a:pt x="2232" y="0"/>
                  </a:lnTo>
                  <a:lnTo>
                    <a:pt x="2284" y="0"/>
                  </a:lnTo>
                  <a:lnTo>
                    <a:pt x="2298" y="5"/>
                  </a:lnTo>
                  <a:lnTo>
                    <a:pt x="2360" y="11"/>
                  </a:lnTo>
                </a:path>
              </a:pathLst>
            </a:custGeom>
            <a:noFill/>
            <a:ln cap="rnd" w="12600">
              <a:solidFill>
                <a:srgbClr val="66f7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88360" y="3459240"/>
              <a:ext cx="3492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7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23" y="17"/>
                  </a:lnTo>
                  <a:lnTo>
                    <a:pt x="0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64320" y="3459240"/>
              <a:ext cx="32040" cy="284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0" y="17"/>
                  </a:moveTo>
                  <a:lnTo>
                    <a:pt x="0" y="0"/>
                  </a:lnTo>
                  <a:lnTo>
                    <a:pt x="22" y="0"/>
                  </a:lnTo>
                  <a:lnTo>
                    <a:pt x="22" y="17"/>
                  </a:lnTo>
                  <a:lnTo>
                    <a:pt x="0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640640" y="3459240"/>
              <a:ext cx="31680" cy="284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0" y="17"/>
                  </a:moveTo>
                  <a:lnTo>
                    <a:pt x="0" y="0"/>
                  </a:lnTo>
                  <a:lnTo>
                    <a:pt x="22" y="0"/>
                  </a:lnTo>
                  <a:lnTo>
                    <a:pt x="22" y="17"/>
                  </a:lnTo>
                  <a:lnTo>
                    <a:pt x="0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716960" y="3459240"/>
              <a:ext cx="3312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7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23" y="17"/>
                  </a:lnTo>
                  <a:lnTo>
                    <a:pt x="0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792920" y="3459240"/>
              <a:ext cx="36720" cy="284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17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17"/>
                  </a:lnTo>
                  <a:lnTo>
                    <a:pt x="0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869240" y="3459240"/>
              <a:ext cx="3348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7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23" y="17"/>
                  </a:lnTo>
                  <a:lnTo>
                    <a:pt x="0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56360" y="3038400"/>
              <a:ext cx="2376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6" y="0"/>
                  </a:moveTo>
                  <a:lnTo>
                    <a:pt x="0" y="8"/>
                  </a:lnTo>
                  <a:lnTo>
                    <a:pt x="0" y="22"/>
                  </a:lnTo>
                  <a:lnTo>
                    <a:pt x="16" y="0"/>
                  </a:lnTo>
                </a:path>
              </a:pathLst>
            </a:custGeom>
            <a:solidFill>
              <a:srgbClr val="66f7ff"/>
            </a:solidFill>
            <a:ln cap="rnd" w="12600">
              <a:solidFill>
                <a:srgbClr val="6070c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6192720" y="2971800"/>
              <a:ext cx="1028880" cy="639720"/>
              <a:chOff x="6192720" y="2971800"/>
              <a:chExt cx="1028880" cy="63972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6192720" y="2971800"/>
                <a:ext cx="1028880" cy="639720"/>
                <a:chOff x="6192720" y="2971800"/>
                <a:chExt cx="1028880" cy="6397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6192720" y="2971800"/>
                  <a:ext cx="1028880" cy="639720"/>
                </a:xfrm>
                <a:custGeom>
                  <a:avLst/>
                  <a:gdLst/>
                  <a:ahLst/>
                  <a:rect l="l" t="t" r="r" b="b"/>
                  <a:pathLst>
                    <a:path w="729" h="403">
                      <a:moveTo>
                        <a:pt x="604" y="402"/>
                      </a:moveTo>
                      <a:lnTo>
                        <a:pt x="302" y="377"/>
                      </a:lnTo>
                      <a:lnTo>
                        <a:pt x="153" y="364"/>
                      </a:lnTo>
                      <a:lnTo>
                        <a:pt x="0" y="377"/>
                      </a:lnTo>
                      <a:lnTo>
                        <a:pt x="102" y="288"/>
                      </a:lnTo>
                      <a:lnTo>
                        <a:pt x="159" y="214"/>
                      </a:lnTo>
                      <a:lnTo>
                        <a:pt x="168" y="161"/>
                      </a:lnTo>
                      <a:lnTo>
                        <a:pt x="277" y="57"/>
                      </a:lnTo>
                      <a:lnTo>
                        <a:pt x="344" y="5"/>
                      </a:lnTo>
                      <a:lnTo>
                        <a:pt x="381" y="0"/>
                      </a:lnTo>
                      <a:lnTo>
                        <a:pt x="414" y="40"/>
                      </a:lnTo>
                      <a:lnTo>
                        <a:pt x="443" y="34"/>
                      </a:lnTo>
                      <a:lnTo>
                        <a:pt x="448" y="104"/>
                      </a:lnTo>
                      <a:lnTo>
                        <a:pt x="461" y="92"/>
                      </a:lnTo>
                      <a:lnTo>
                        <a:pt x="557" y="190"/>
                      </a:lnTo>
                      <a:lnTo>
                        <a:pt x="570" y="254"/>
                      </a:lnTo>
                      <a:lnTo>
                        <a:pt x="585" y="237"/>
                      </a:lnTo>
                      <a:lnTo>
                        <a:pt x="632" y="300"/>
                      </a:lnTo>
                      <a:lnTo>
                        <a:pt x="661" y="329"/>
                      </a:lnTo>
                      <a:lnTo>
                        <a:pt x="713" y="358"/>
                      </a:lnTo>
                      <a:lnTo>
                        <a:pt x="728" y="370"/>
                      </a:lnTo>
                      <a:lnTo>
                        <a:pt x="604" y="40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6070c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869880" y="3368520"/>
                  <a:ext cx="129600" cy="160560"/>
                </a:xfrm>
                <a:custGeom>
                  <a:avLst/>
                  <a:gdLst/>
                  <a:ahLst/>
                  <a:rect l="l" t="t" r="r" b="b"/>
                  <a:pathLst>
                    <a:path w="92" h="101">
                      <a:moveTo>
                        <a:pt x="91" y="0"/>
                      </a:moveTo>
                      <a:lnTo>
                        <a:pt x="47" y="63"/>
                      </a:lnTo>
                      <a:lnTo>
                        <a:pt x="0" y="100"/>
                      </a:lnTo>
                      <a:lnTo>
                        <a:pt x="32" y="41"/>
                      </a:lnTo>
                      <a:lnTo>
                        <a:pt x="91" y="0"/>
                      </a:lnTo>
                    </a:path>
                  </a:pathLst>
                </a:custGeom>
                <a:solidFill>
                  <a:srgbClr val="66f7ff"/>
                </a:solidFill>
                <a:ln cap="rnd" w="12600">
                  <a:solidFill>
                    <a:srgbClr val="66f7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622920" y="3135240"/>
                  <a:ext cx="201600" cy="190440"/>
                </a:xfrm>
                <a:custGeom>
                  <a:avLst/>
                  <a:gdLst/>
                  <a:ahLst/>
                  <a:rect l="l" t="t" r="r" b="b"/>
                  <a:pathLst>
                    <a:path w="143" h="120">
                      <a:moveTo>
                        <a:pt x="142" y="0"/>
                      </a:moveTo>
                      <a:lnTo>
                        <a:pt x="0" y="119"/>
                      </a:lnTo>
                      <a:lnTo>
                        <a:pt x="114" y="14"/>
                      </a:lnTo>
                      <a:lnTo>
                        <a:pt x="142" y="0"/>
                      </a:lnTo>
                    </a:path>
                  </a:pathLst>
                </a:custGeom>
                <a:solidFill>
                  <a:srgbClr val="66f7ff"/>
                </a:solidFill>
                <a:ln cap="rnd" w="12600">
                  <a:solidFill>
                    <a:srgbClr val="66f7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432480" y="3247920"/>
                  <a:ext cx="180360" cy="301680"/>
                </a:xfrm>
                <a:custGeom>
                  <a:avLst/>
                  <a:gdLst/>
                  <a:ahLst/>
                  <a:rect l="l" t="t" r="r" b="b"/>
                  <a:pathLst>
                    <a:path w="128" h="190">
                      <a:moveTo>
                        <a:pt x="0" y="44"/>
                      </a:moveTo>
                      <a:lnTo>
                        <a:pt x="6" y="0"/>
                      </a:lnTo>
                      <a:lnTo>
                        <a:pt x="79" y="88"/>
                      </a:lnTo>
                      <a:lnTo>
                        <a:pt x="92" y="111"/>
                      </a:lnTo>
                      <a:lnTo>
                        <a:pt x="127" y="189"/>
                      </a:lnTo>
                      <a:lnTo>
                        <a:pt x="75" y="85"/>
                      </a:lnTo>
                      <a:lnTo>
                        <a:pt x="0" y="44"/>
                      </a:lnTo>
                    </a:path>
                  </a:pathLst>
                </a:custGeom>
                <a:solidFill>
                  <a:srgbClr val="66f7ff"/>
                </a:solidFill>
                <a:ln cap="rnd" w="12600">
                  <a:solidFill>
                    <a:srgbClr val="66f7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"/>
              <p:cNvSpPr/>
              <p:nvPr/>
            </p:nvSpPr>
            <p:spPr>
              <a:xfrm>
                <a:off x="6422760" y="3324240"/>
                <a:ext cx="174960" cy="217440"/>
              </a:xfrm>
              <a:custGeom>
                <a:avLst/>
                <a:gdLst/>
                <a:ahLst/>
                <a:rect l="l" t="t" r="r" b="b"/>
                <a:pathLst>
                  <a:path w="124" h="137">
                    <a:moveTo>
                      <a:pt x="0" y="0"/>
                    </a:moveTo>
                    <a:lnTo>
                      <a:pt x="123" y="136"/>
                    </a:lnTo>
                    <a:lnTo>
                      <a:pt x="49" y="3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f7ff"/>
              </a:solidFill>
              <a:ln cap="rnd" w="12600">
                <a:solidFill>
                  <a:srgbClr val="66f7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TPRO Import Briefing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 Narrow"/>
                <a:hlinkClick r:id="rId2"/>
              </a:rPr>
              <a:t>  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1320840" y="1981080"/>
            <a:ext cx="2538360" cy="35816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5257800" y="1981080"/>
            <a:ext cx="2540160" cy="3581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TPRO New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ain quarterly publica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7500 copies issued free to UK and international traders and other contact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322280" y="1981080"/>
            <a:ext cx="2536920" cy="3581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TPRO - how do we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1452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4" marL="2057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Below the Waterline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ITPRO Boar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dvisory Group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put into trade policy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itiativ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search and analysis of current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nd proposed legislation and regulation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334120" y="2971800"/>
            <a:ext cx="3332160" cy="2008080"/>
            <a:chOff x="5334120" y="2971800"/>
            <a:chExt cx="3332160" cy="2008080"/>
          </a:xfrm>
        </p:grpSpPr>
        <p:sp>
          <p:nvSpPr>
            <p:cNvPr id="158" name=""/>
            <p:cNvSpPr/>
            <p:nvPr/>
          </p:nvSpPr>
          <p:spPr>
            <a:xfrm>
              <a:off x="6189840" y="2971800"/>
              <a:ext cx="1028520" cy="639720"/>
            </a:xfrm>
            <a:custGeom>
              <a:avLst/>
              <a:gdLst/>
              <a:ahLst/>
              <a:rect l="l" t="t" r="r" b="b"/>
              <a:pathLst>
                <a:path w="729" h="403">
                  <a:moveTo>
                    <a:pt x="604" y="402"/>
                  </a:moveTo>
                  <a:lnTo>
                    <a:pt x="302" y="377"/>
                  </a:lnTo>
                  <a:lnTo>
                    <a:pt x="153" y="364"/>
                  </a:lnTo>
                  <a:lnTo>
                    <a:pt x="0" y="377"/>
                  </a:lnTo>
                  <a:lnTo>
                    <a:pt x="102" y="288"/>
                  </a:lnTo>
                  <a:lnTo>
                    <a:pt x="159" y="214"/>
                  </a:lnTo>
                  <a:lnTo>
                    <a:pt x="168" y="161"/>
                  </a:lnTo>
                  <a:lnTo>
                    <a:pt x="277" y="57"/>
                  </a:lnTo>
                  <a:lnTo>
                    <a:pt x="344" y="5"/>
                  </a:lnTo>
                  <a:lnTo>
                    <a:pt x="381" y="0"/>
                  </a:lnTo>
                  <a:lnTo>
                    <a:pt x="414" y="40"/>
                  </a:lnTo>
                  <a:lnTo>
                    <a:pt x="443" y="34"/>
                  </a:lnTo>
                  <a:lnTo>
                    <a:pt x="448" y="104"/>
                  </a:lnTo>
                  <a:lnTo>
                    <a:pt x="461" y="92"/>
                  </a:lnTo>
                  <a:lnTo>
                    <a:pt x="557" y="190"/>
                  </a:lnTo>
                  <a:lnTo>
                    <a:pt x="570" y="254"/>
                  </a:lnTo>
                  <a:lnTo>
                    <a:pt x="585" y="237"/>
                  </a:lnTo>
                  <a:lnTo>
                    <a:pt x="632" y="300"/>
                  </a:lnTo>
                  <a:lnTo>
                    <a:pt x="661" y="329"/>
                  </a:lnTo>
                  <a:lnTo>
                    <a:pt x="713" y="358"/>
                  </a:lnTo>
                  <a:lnTo>
                    <a:pt x="728" y="370"/>
                  </a:lnTo>
                  <a:lnTo>
                    <a:pt x="604" y="40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6070c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713720" y="3321000"/>
              <a:ext cx="85680" cy="11268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60" y="70"/>
                  </a:moveTo>
                  <a:lnTo>
                    <a:pt x="55" y="46"/>
                  </a:lnTo>
                  <a:lnTo>
                    <a:pt x="44" y="0"/>
                  </a:lnTo>
                  <a:lnTo>
                    <a:pt x="13" y="0"/>
                  </a:lnTo>
                  <a:lnTo>
                    <a:pt x="4" y="46"/>
                  </a:lnTo>
                  <a:lnTo>
                    <a:pt x="0" y="70"/>
                  </a:lnTo>
                  <a:lnTo>
                    <a:pt x="60" y="7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08800" y="3443040"/>
              <a:ext cx="552600" cy="54000"/>
            </a:xfrm>
            <a:custGeom>
              <a:avLst/>
              <a:gdLst/>
              <a:ahLst/>
              <a:rect l="l" t="t" r="r" b="b"/>
              <a:pathLst>
                <a:path w="391" h="34">
                  <a:moveTo>
                    <a:pt x="390" y="33"/>
                  </a:moveTo>
                  <a:lnTo>
                    <a:pt x="372" y="0"/>
                  </a:lnTo>
                  <a:lnTo>
                    <a:pt x="15" y="0"/>
                  </a:lnTo>
                  <a:lnTo>
                    <a:pt x="0" y="33"/>
                  </a:lnTo>
                  <a:lnTo>
                    <a:pt x="390" y="33"/>
                  </a:lnTo>
                </a:path>
              </a:pathLst>
            </a:custGeom>
            <a:solidFill>
              <a:srgbClr val="6070c1"/>
            </a:solidFill>
            <a:ln cap="rnd" w="12600">
              <a:solidFill>
                <a:srgbClr val="6070c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377120" y="3503520"/>
              <a:ext cx="717480" cy="92160"/>
            </a:xfrm>
            <a:custGeom>
              <a:avLst/>
              <a:gdLst/>
              <a:ahLst/>
              <a:rect l="l" t="t" r="r" b="b"/>
              <a:pathLst>
                <a:path w="508" h="58">
                  <a:moveTo>
                    <a:pt x="0" y="0"/>
                  </a:moveTo>
                  <a:lnTo>
                    <a:pt x="40" y="57"/>
                  </a:lnTo>
                  <a:lnTo>
                    <a:pt x="250" y="52"/>
                  </a:lnTo>
                  <a:lnTo>
                    <a:pt x="306" y="35"/>
                  </a:lnTo>
                  <a:lnTo>
                    <a:pt x="363" y="23"/>
                  </a:lnTo>
                  <a:lnTo>
                    <a:pt x="392" y="24"/>
                  </a:lnTo>
                  <a:lnTo>
                    <a:pt x="422" y="31"/>
                  </a:lnTo>
                  <a:lnTo>
                    <a:pt x="447" y="41"/>
                  </a:lnTo>
                  <a:lnTo>
                    <a:pt x="470" y="56"/>
                  </a:lnTo>
                  <a:lnTo>
                    <a:pt x="507" y="0"/>
                  </a:lnTo>
                  <a:lnTo>
                    <a:pt x="0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446960" y="3591000"/>
              <a:ext cx="571680" cy="106200"/>
            </a:xfrm>
            <a:custGeom>
              <a:avLst/>
              <a:gdLst/>
              <a:ahLst/>
              <a:rect l="l" t="t" r="r" b="b"/>
              <a:pathLst>
                <a:path w="405" h="67">
                  <a:moveTo>
                    <a:pt x="182" y="18"/>
                  </a:moveTo>
                  <a:lnTo>
                    <a:pt x="0" y="26"/>
                  </a:lnTo>
                  <a:lnTo>
                    <a:pt x="23" y="66"/>
                  </a:lnTo>
                  <a:lnTo>
                    <a:pt x="375" y="66"/>
                  </a:lnTo>
                  <a:lnTo>
                    <a:pt x="404" y="15"/>
                  </a:lnTo>
                  <a:lnTo>
                    <a:pt x="354" y="0"/>
                  </a:lnTo>
                  <a:lnTo>
                    <a:pt x="266" y="1"/>
                  </a:lnTo>
                  <a:lnTo>
                    <a:pt x="182" y="18"/>
                  </a:lnTo>
                </a:path>
              </a:pathLst>
            </a:custGeom>
            <a:solidFill>
              <a:srgbClr val="666666"/>
            </a:solidFill>
            <a:ln cap="rnd"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34120" y="3547800"/>
              <a:ext cx="3332160" cy="212760"/>
            </a:xfrm>
            <a:custGeom>
              <a:avLst/>
              <a:gdLst/>
              <a:ahLst/>
              <a:rect l="l" t="t" r="r" b="b"/>
              <a:pathLst>
                <a:path w="2361" h="134">
                  <a:moveTo>
                    <a:pt x="0" y="98"/>
                  </a:moveTo>
                  <a:lnTo>
                    <a:pt x="75" y="75"/>
                  </a:lnTo>
                  <a:lnTo>
                    <a:pt x="99" y="75"/>
                  </a:lnTo>
                  <a:lnTo>
                    <a:pt x="118" y="133"/>
                  </a:lnTo>
                  <a:lnTo>
                    <a:pt x="132" y="122"/>
                  </a:lnTo>
                  <a:lnTo>
                    <a:pt x="160" y="98"/>
                  </a:lnTo>
                  <a:lnTo>
                    <a:pt x="184" y="92"/>
                  </a:lnTo>
                  <a:lnTo>
                    <a:pt x="217" y="104"/>
                  </a:lnTo>
                  <a:lnTo>
                    <a:pt x="269" y="110"/>
                  </a:lnTo>
                  <a:lnTo>
                    <a:pt x="312" y="87"/>
                  </a:lnTo>
                  <a:lnTo>
                    <a:pt x="331" y="81"/>
                  </a:lnTo>
                  <a:lnTo>
                    <a:pt x="355" y="75"/>
                  </a:lnTo>
                  <a:lnTo>
                    <a:pt x="455" y="87"/>
                  </a:lnTo>
                  <a:lnTo>
                    <a:pt x="516" y="98"/>
                  </a:lnTo>
                  <a:lnTo>
                    <a:pt x="596" y="70"/>
                  </a:lnTo>
                  <a:lnTo>
                    <a:pt x="691" y="46"/>
                  </a:lnTo>
                  <a:lnTo>
                    <a:pt x="734" y="52"/>
                  </a:lnTo>
                  <a:lnTo>
                    <a:pt x="809" y="58"/>
                  </a:lnTo>
                  <a:lnTo>
                    <a:pt x="923" y="46"/>
                  </a:lnTo>
                  <a:lnTo>
                    <a:pt x="1023" y="46"/>
                  </a:lnTo>
                  <a:lnTo>
                    <a:pt x="1075" y="58"/>
                  </a:lnTo>
                  <a:lnTo>
                    <a:pt x="1146" y="64"/>
                  </a:lnTo>
                  <a:lnTo>
                    <a:pt x="1283" y="70"/>
                  </a:lnTo>
                  <a:lnTo>
                    <a:pt x="1379" y="81"/>
                  </a:lnTo>
                  <a:lnTo>
                    <a:pt x="1455" y="64"/>
                  </a:lnTo>
                  <a:lnTo>
                    <a:pt x="1549" y="35"/>
                  </a:lnTo>
                  <a:lnTo>
                    <a:pt x="1601" y="29"/>
                  </a:lnTo>
                  <a:lnTo>
                    <a:pt x="1691" y="41"/>
                  </a:lnTo>
                  <a:lnTo>
                    <a:pt x="1800" y="35"/>
                  </a:lnTo>
                  <a:lnTo>
                    <a:pt x="1881" y="35"/>
                  </a:lnTo>
                  <a:lnTo>
                    <a:pt x="1981" y="11"/>
                  </a:lnTo>
                  <a:lnTo>
                    <a:pt x="2014" y="8"/>
                  </a:lnTo>
                  <a:lnTo>
                    <a:pt x="2070" y="15"/>
                  </a:lnTo>
                  <a:lnTo>
                    <a:pt x="2132" y="43"/>
                  </a:lnTo>
                  <a:lnTo>
                    <a:pt x="2184" y="17"/>
                  </a:lnTo>
                  <a:lnTo>
                    <a:pt x="2203" y="5"/>
                  </a:lnTo>
                  <a:lnTo>
                    <a:pt x="2232" y="0"/>
                  </a:lnTo>
                  <a:lnTo>
                    <a:pt x="2284" y="0"/>
                  </a:lnTo>
                  <a:lnTo>
                    <a:pt x="2298" y="5"/>
                  </a:lnTo>
                  <a:lnTo>
                    <a:pt x="2360" y="11"/>
                  </a:lnTo>
                </a:path>
              </a:pathLst>
            </a:custGeom>
            <a:noFill/>
            <a:ln cap="rnd" w="12600">
              <a:solidFill>
                <a:srgbClr val="66f7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561440" y="3459240"/>
              <a:ext cx="3312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7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23" y="17"/>
                  </a:lnTo>
                  <a:lnTo>
                    <a:pt x="0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37400" y="3459240"/>
              <a:ext cx="34920" cy="284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17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17"/>
                  </a:lnTo>
                  <a:lnTo>
                    <a:pt x="0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66000" y="3459240"/>
              <a:ext cx="3348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7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23" y="17"/>
                  </a:lnTo>
                  <a:lnTo>
                    <a:pt x="0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85120" y="3459240"/>
              <a:ext cx="34920" cy="284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17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17"/>
                  </a:lnTo>
                  <a:lnTo>
                    <a:pt x="0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94400" y="3368520"/>
              <a:ext cx="130320" cy="160560"/>
            </a:xfrm>
            <a:custGeom>
              <a:avLst/>
              <a:gdLst/>
              <a:ahLst/>
              <a:rect l="l" t="t" r="r" b="b"/>
              <a:pathLst>
                <a:path w="92" h="101">
                  <a:moveTo>
                    <a:pt x="91" y="0"/>
                  </a:moveTo>
                  <a:lnTo>
                    <a:pt x="47" y="63"/>
                  </a:lnTo>
                  <a:lnTo>
                    <a:pt x="0" y="100"/>
                  </a:lnTo>
                  <a:lnTo>
                    <a:pt x="32" y="41"/>
                  </a:lnTo>
                  <a:lnTo>
                    <a:pt x="91" y="0"/>
                  </a:lnTo>
                </a:path>
              </a:pathLst>
            </a:custGeom>
            <a:solidFill>
              <a:srgbClr val="66f7ff"/>
            </a:solidFill>
            <a:ln cap="rnd" w="12600">
              <a:solidFill>
                <a:srgbClr val="66f7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94400" y="3135240"/>
              <a:ext cx="201600" cy="190440"/>
            </a:xfrm>
            <a:custGeom>
              <a:avLst/>
              <a:gdLst/>
              <a:ahLst/>
              <a:rect l="l" t="t" r="r" b="b"/>
              <a:pathLst>
                <a:path w="143" h="120">
                  <a:moveTo>
                    <a:pt x="142" y="0"/>
                  </a:moveTo>
                  <a:lnTo>
                    <a:pt x="0" y="119"/>
                  </a:lnTo>
                  <a:lnTo>
                    <a:pt x="114" y="14"/>
                  </a:lnTo>
                  <a:lnTo>
                    <a:pt x="142" y="0"/>
                  </a:lnTo>
                </a:path>
              </a:pathLst>
            </a:custGeom>
            <a:solidFill>
              <a:srgbClr val="66f7ff"/>
            </a:solidFill>
            <a:ln cap="rnd" w="12600">
              <a:solidFill>
                <a:srgbClr val="66f7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97840" y="3038400"/>
              <a:ext cx="2376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6" y="0"/>
                  </a:moveTo>
                  <a:lnTo>
                    <a:pt x="0" y="8"/>
                  </a:lnTo>
                  <a:lnTo>
                    <a:pt x="0" y="22"/>
                  </a:lnTo>
                  <a:lnTo>
                    <a:pt x="16" y="0"/>
                  </a:lnTo>
                </a:path>
              </a:pathLst>
            </a:custGeom>
            <a:solidFill>
              <a:srgbClr val="66f7ff"/>
            </a:solidFill>
            <a:ln cap="rnd" w="12600">
              <a:solidFill>
                <a:srgbClr val="6070c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23000" y="3324240"/>
              <a:ext cx="174600" cy="217440"/>
            </a:xfrm>
            <a:custGeom>
              <a:avLst/>
              <a:gdLst/>
              <a:ahLst/>
              <a:rect l="l" t="t" r="r" b="b"/>
              <a:pathLst>
                <a:path w="124" h="137">
                  <a:moveTo>
                    <a:pt x="0" y="0"/>
                  </a:moveTo>
                  <a:lnTo>
                    <a:pt x="123" y="136"/>
                  </a:lnTo>
                  <a:lnTo>
                    <a:pt x="49" y="38"/>
                  </a:lnTo>
                  <a:lnTo>
                    <a:pt x="0" y="0"/>
                  </a:lnTo>
                </a:path>
              </a:pathLst>
            </a:custGeom>
            <a:solidFill>
              <a:srgbClr val="66f7ff"/>
            </a:solidFill>
            <a:ln cap="rnd" w="12600">
              <a:solidFill>
                <a:srgbClr val="66f7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799320" y="3247920"/>
              <a:ext cx="179280" cy="301680"/>
            </a:xfrm>
            <a:custGeom>
              <a:avLst/>
              <a:gdLst/>
              <a:ahLst/>
              <a:rect l="l" t="t" r="r" b="b"/>
              <a:pathLst>
                <a:path w="128" h="190">
                  <a:moveTo>
                    <a:pt x="0" y="44"/>
                  </a:moveTo>
                  <a:lnTo>
                    <a:pt x="6" y="0"/>
                  </a:lnTo>
                  <a:lnTo>
                    <a:pt x="79" y="88"/>
                  </a:lnTo>
                  <a:lnTo>
                    <a:pt x="92" y="111"/>
                  </a:lnTo>
                  <a:lnTo>
                    <a:pt x="127" y="189"/>
                  </a:lnTo>
                  <a:lnTo>
                    <a:pt x="75" y="85"/>
                  </a:lnTo>
                  <a:lnTo>
                    <a:pt x="0" y="44"/>
                  </a:lnTo>
                </a:path>
              </a:pathLst>
            </a:custGeom>
            <a:solidFill>
              <a:srgbClr val="66f7ff"/>
            </a:solidFill>
            <a:ln cap="rnd" w="12600">
              <a:solidFill>
                <a:srgbClr val="66f7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6037200" y="3692520"/>
              <a:ext cx="1217520" cy="1287360"/>
              <a:chOff x="6037200" y="3692520"/>
              <a:chExt cx="1217520" cy="1287360"/>
            </a:xfrm>
          </p:grpSpPr>
          <p:sp>
            <p:nvSpPr>
              <p:cNvPr id="174" name=""/>
              <p:cNvSpPr/>
              <p:nvPr/>
            </p:nvSpPr>
            <p:spPr>
              <a:xfrm>
                <a:off x="6075360" y="3692520"/>
                <a:ext cx="1179360" cy="1287360"/>
              </a:xfrm>
              <a:custGeom>
                <a:avLst/>
                <a:gdLst/>
                <a:ahLst/>
                <a:rect l="l" t="t" r="r" b="b"/>
                <a:pathLst>
                  <a:path w="835" h="811">
                    <a:moveTo>
                      <a:pt x="19" y="60"/>
                    </a:moveTo>
                    <a:lnTo>
                      <a:pt x="31" y="6"/>
                    </a:lnTo>
                    <a:lnTo>
                      <a:pt x="128" y="11"/>
                    </a:lnTo>
                    <a:lnTo>
                      <a:pt x="226" y="2"/>
                    </a:lnTo>
                    <a:lnTo>
                      <a:pt x="427" y="25"/>
                    </a:lnTo>
                    <a:lnTo>
                      <a:pt x="666" y="38"/>
                    </a:lnTo>
                    <a:lnTo>
                      <a:pt x="765" y="20"/>
                    </a:lnTo>
                    <a:lnTo>
                      <a:pt x="796" y="13"/>
                    </a:lnTo>
                    <a:lnTo>
                      <a:pt x="825" y="0"/>
                    </a:lnTo>
                    <a:lnTo>
                      <a:pt x="834" y="49"/>
                    </a:lnTo>
                    <a:lnTo>
                      <a:pt x="815" y="187"/>
                    </a:lnTo>
                    <a:lnTo>
                      <a:pt x="796" y="273"/>
                    </a:lnTo>
                    <a:lnTo>
                      <a:pt x="767" y="285"/>
                    </a:lnTo>
                    <a:lnTo>
                      <a:pt x="705" y="389"/>
                    </a:lnTo>
                    <a:lnTo>
                      <a:pt x="620" y="492"/>
                    </a:lnTo>
                    <a:lnTo>
                      <a:pt x="616" y="521"/>
                    </a:lnTo>
                    <a:lnTo>
                      <a:pt x="587" y="602"/>
                    </a:lnTo>
                    <a:lnTo>
                      <a:pt x="568" y="694"/>
                    </a:lnTo>
                    <a:lnTo>
                      <a:pt x="558" y="665"/>
                    </a:lnTo>
                    <a:lnTo>
                      <a:pt x="473" y="781"/>
                    </a:lnTo>
                    <a:lnTo>
                      <a:pt x="374" y="810"/>
                    </a:lnTo>
                    <a:lnTo>
                      <a:pt x="340" y="775"/>
                    </a:lnTo>
                    <a:lnTo>
                      <a:pt x="275" y="712"/>
                    </a:lnTo>
                    <a:lnTo>
                      <a:pt x="289" y="700"/>
                    </a:lnTo>
                    <a:lnTo>
                      <a:pt x="218" y="631"/>
                    </a:lnTo>
                    <a:lnTo>
                      <a:pt x="189" y="620"/>
                    </a:lnTo>
                    <a:lnTo>
                      <a:pt x="166" y="568"/>
                    </a:lnTo>
                    <a:lnTo>
                      <a:pt x="109" y="521"/>
                    </a:lnTo>
                    <a:lnTo>
                      <a:pt x="57" y="405"/>
                    </a:lnTo>
                    <a:lnTo>
                      <a:pt x="24" y="336"/>
                    </a:lnTo>
                    <a:lnTo>
                      <a:pt x="9" y="354"/>
                    </a:lnTo>
                    <a:lnTo>
                      <a:pt x="0" y="239"/>
                    </a:lnTo>
                    <a:lnTo>
                      <a:pt x="0" y="170"/>
                    </a:lnTo>
                    <a:lnTo>
                      <a:pt x="19" y="60"/>
                    </a:lnTo>
                  </a:path>
                </a:pathLst>
              </a:custGeom>
              <a:solidFill>
                <a:srgbClr val="66f7ff"/>
              </a:solidFill>
              <a:ln cap="rnd" w="12600">
                <a:solidFill>
                  <a:srgbClr val="6070c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037200" y="3925800"/>
                <a:ext cx="212040" cy="304920"/>
              </a:xfrm>
              <a:custGeom>
                <a:avLst/>
                <a:gdLst/>
                <a:ahLst/>
                <a:rect l="l" t="t" r="r" b="b"/>
                <a:pathLst>
                  <a:path w="150" h="192">
                    <a:moveTo>
                      <a:pt x="0" y="153"/>
                    </a:moveTo>
                    <a:lnTo>
                      <a:pt x="149" y="0"/>
                    </a:lnTo>
                    <a:lnTo>
                      <a:pt x="17" y="191"/>
                    </a:lnTo>
                    <a:lnTo>
                      <a:pt x="0" y="15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08720" y="4695840"/>
                <a:ext cx="128520" cy="228600"/>
              </a:xfrm>
              <a:custGeom>
                <a:avLst/>
                <a:gdLst/>
                <a:ahLst/>
                <a:rect l="l" t="t" r="r" b="b"/>
                <a:pathLst>
                  <a:path w="91" h="144">
                    <a:moveTo>
                      <a:pt x="0" y="57"/>
                    </a:moveTo>
                    <a:lnTo>
                      <a:pt x="29" y="0"/>
                    </a:lnTo>
                    <a:lnTo>
                      <a:pt x="90" y="143"/>
                    </a:lnTo>
                    <a:lnTo>
                      <a:pt x="0" y="5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654600" y="4419360"/>
                <a:ext cx="112680" cy="304920"/>
              </a:xfrm>
              <a:custGeom>
                <a:avLst/>
                <a:gdLst/>
                <a:ahLst/>
                <a:rect l="l" t="t" r="r" b="b"/>
                <a:pathLst>
                  <a:path w="80" h="192">
                    <a:moveTo>
                      <a:pt x="79" y="175"/>
                    </a:moveTo>
                    <a:lnTo>
                      <a:pt x="0" y="0"/>
                    </a:lnTo>
                    <a:lnTo>
                      <a:pt x="69" y="191"/>
                    </a:lnTo>
                    <a:lnTo>
                      <a:pt x="79" y="17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171120" y="4338360"/>
                <a:ext cx="72000" cy="203400"/>
              </a:xfrm>
              <a:custGeom>
                <a:avLst/>
                <a:gdLst/>
                <a:ahLst/>
                <a:rect l="l" t="t" r="r" b="b"/>
                <a:pathLst>
                  <a:path w="51" h="128">
                    <a:moveTo>
                      <a:pt x="50" y="127"/>
                    </a:moveTo>
                    <a:lnTo>
                      <a:pt x="0" y="0"/>
                    </a:lnTo>
                    <a:lnTo>
                      <a:pt x="36" y="116"/>
                    </a:lnTo>
                    <a:lnTo>
                      <a:pt x="50" y="12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7790040" y="3441600"/>
              <a:ext cx="3312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7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23" y="17"/>
                  </a:lnTo>
                  <a:lnTo>
                    <a:pt x="0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713720" y="3441600"/>
              <a:ext cx="34920" cy="284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17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17"/>
                  </a:lnTo>
                  <a:lnTo>
                    <a:pt x="0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495680" y="3352680"/>
            <a:ext cx="0" cy="254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SITPRO’s struc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1337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2514600"/>
            <a:ext cx="2133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76720" y="1679760"/>
            <a:ext cx="2514600" cy="4597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2340360"/>
            <a:ext cx="3352680" cy="39888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Communications Strate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48320" y="2340360"/>
            <a:ext cx="3352680" cy="39888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Finance and 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2975400"/>
            <a:ext cx="2514600" cy="39888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Advisory Counc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3606840"/>
            <a:ext cx="5257800" cy="2895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ADVISORY GROU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33720" y="4140360"/>
            <a:ext cx="1447560" cy="99036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Trade  Poli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33720" y="5359320"/>
            <a:ext cx="1447560" cy="9907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Single Wind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9880" y="4140360"/>
            <a:ext cx="1447920" cy="99036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European Strate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5359320"/>
            <a:ext cx="1447920" cy="9907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86400" y="4140360"/>
            <a:ext cx="1447920" cy="99036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e-Busin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86400" y="5359320"/>
            <a:ext cx="1447920" cy="9907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Ports and Bord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500"/>
                            </p:stCondLst>
                            <p:childTnLst>
                              <p:par>
                                <p:cTn id="2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500"/>
                            </p:stCondLst>
                            <p:childTnLst>
                              <p:par>
                                <p:cTn id="2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TPRO’s Business Priorit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1752480"/>
            <a:ext cx="3238560" cy="14400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W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352680"/>
            <a:ext cx="3238560" cy="14400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Euro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4952880"/>
            <a:ext cx="3238560" cy="14400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nternational Standards  (UNeDo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38760" y="1752480"/>
            <a:ext cx="3238560" cy="14400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ingle Wind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38760" y="3360600"/>
            <a:ext cx="3238560" cy="14400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rade and Secu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38760" y="4960800"/>
            <a:ext cx="3238560" cy="14400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Border Agency         Co-ord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TPRO – who are w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The UK’s trade facilitation agency – established in 1970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Sponsored by the UK Department of Trade and Industry (DTI) – UK Governmen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upported by British business &amp; industr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oard directorship drawn from across sectors in the international trade and payment proces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TO and other trade facilitation agreem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Main Aim:  WTO TF Agreement by end 2006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Headlines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Advice on text, supported by co-ordinated international lobbying and strategic planning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Boksburg Group – support for developing countries – and launch of website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Business Action for Africa – publication and promotion of private sector study on customs reform in Africa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Research scope for TF in services sector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TPRO Policy Guid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New WTO Guid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Planned new guides covering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Europe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UNeDocsUK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Single Window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324080" y="1981080"/>
            <a:ext cx="2531880" cy="3581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urop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Main Aim:  Support Commission’s customs modernisation Multi-Annual Strategic Pla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eadlines: 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New SITPRO Strategic Advisory Group on Europe to define UK trade positions on EU MASP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Input into EUROPRO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Strengthen links with other European PRO organisations, Duquesne Group and other European Trade Contact Group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Refine policy positions on AEO and develop influencing strategy on other key 2006 milestone issue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de and secur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Main Aim:  Continue to advance trade facilitation principles in the development of border security measur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Headlines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Publish and promote Chatham House/SITPRO report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Use this to lobby Government and international organisations (eg WCO) through work of Security Advisory Group;  in particular, deepen contacts with Department of Transport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K Single Windo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im:  Support implementation of Phase I in early 2007 in a form likely to be used by trader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eadlines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Work with project leaders Business.Gov to implement SITPRO vision of single window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Provide technical and industry support to project team through Single Window Advisory Group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Work with project team to publicise UK Single Window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Progress UN Recommendation 33 on Single Windows and help to expand  UN repository of Single Window case studie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UNeDocs - UNeDocsU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Aim:  Develop UNeDocsUK to point where it can be promoted as available for business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Headlines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Continued support for UNeDocs standards development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Work with countries such as Senegal, Australia, Malaysia and Pakistan to help them implement UNeDoc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Development of UNeDocsUK national standards including electronic versions of dangerous goods and standard shipping note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Promote UNeDocsUK demonstrating benefits to UK traders, including publication of Guide to UNeDocsUK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 / CEFAC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Aim:  Maintain SITPRO leadership within UN/CEFACT in support of UN standards for paper and electronic trade document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Headlines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Seek to adopt UNeDocs as international standard for e-document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Promote new Recommendations relating to development of national single window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Cultivate concept of international alliance of national PRO organisation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rts and bord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im:  Maintain Ports and Borders Group as national UK champion of reform of port and other border procedur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eadlines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Complete work on container seals initiative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Review trader consultation groups with a view to making them more effective through streamlining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Consider holding high-level Group attended by Minister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cens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im:  Implement new licensee agreement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eadlines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Implement new licensee agreement on 1 July 2006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Review effectiveness of licensee system based on take-up of new licensee agreement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Release design model for e-Documents to licensees at realistic fee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munica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Aim:  Develop new communications strategy leading to higher UK profil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Headlines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Develop media strategy including forward annual programme of announceables by SITPRO and its Advisory Group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Develop national awareness programme for SITPRO brand and activities, including programme of regional events – get out and about and be visible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Political and media lobbying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TPRO – who are w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e build the bridge between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rade Development and Trade Deliver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52480" y="3657600"/>
            <a:ext cx="5867640" cy="1828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SITPRO’s Staff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828800" y="1752480"/>
          <a:ext cx="5495760" cy="4629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1752480"/>
                    <a:ext cx="549576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SITPRO’s Fund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447920" y="2209680"/>
          <a:ext cx="6248160" cy="3611520"/>
        </p:xfrm>
        <a:graphic>
          <a:graphicData uri="http://schemas.openxmlformats.org/drawingml/2006/table">
            <a:tbl>
              <a:tblPr/>
              <a:tblGrid>
                <a:gridCol w="3124080"/>
                <a:gridCol w="3124080"/>
              </a:tblGrid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UR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006/07 (£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Arial Narrow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TI Grant-in-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00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Arial Narrow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icensee inco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0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Arial Narrow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ther inco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0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71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,000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Times New Roman"/>
              </a:rPr>
              <a:t>SITPRO</a:t>
            </a:r>
            <a:br>
              <a:rPr sz="7500"/>
            </a:b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implifying International 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31240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 Narrow"/>
              </a:rPr>
              <a:t>Tel:  +44 20 7215 8150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 Narrow"/>
              </a:rPr>
              <a:t>www.sitpro.org.uk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dissolv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TPRO – who are w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ur roots lie in DOCUMENT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505320" y="3124080"/>
            <a:ext cx="2146320" cy="1982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TPRO – who are w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ur roots lie in DOCUMENT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ITPRO forms”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- documentation aligned to UN Layout Key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Licensed commercial production of forms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omotion of documen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Narrow"/>
              </a:rPr>
              <a:t>standards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e’ve been doing this since 1970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igned paper docum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724280" y="1676520"/>
            <a:ext cx="3294360" cy="4647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143000" y="1676520"/>
            <a:ext cx="3254400" cy="4647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TPRO – who are w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Our roots lie in DOCUMENT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e-document standard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logical extension from paper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UNeDocs / UNeDocsUK– standards-based “library” of data to ensure effective paper and electronic data exchang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UNeDocsU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aster structur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ased on UNeDocs and     UN Trade Data Elements Directory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65160" y="1981080"/>
            <a:ext cx="3251160" cy="3581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UNeDocsU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Trade documents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Acknowledgement of ord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Commission note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Credit / debit notes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Invoice – order 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Packing list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Proforma invoice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Quotatio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ransport documents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Certificate of shipping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Bills of lading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Consignment notes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Dangerous goods note 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Export cargo shipping instructions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ea waybill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tandard shipping note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13:48:01Z</dcterms:created>
  <dc:creator>Gcragge</dc:creator>
  <dc:description/>
  <dc:language>en-US</dc:language>
  <cp:lastModifiedBy>ONU</cp:lastModifiedBy>
  <dcterms:modified xsi:type="dcterms:W3CDTF">2006-10-31T09:03:46Z</dcterms:modified>
  <cp:revision>42</cp:revision>
  <dc:subject/>
  <dc:title>SITPRO </dc:title>
</cp:coreProperties>
</file>