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50B39A4-80FA-4065-B7EC-48A3CF3E555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presentation uses only very little from the original file developed by Port of Ghent. 95% are newly developed by Jan Hoff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n.Hoffmann@unctad.org" TargetMode="External"/><Relationship Id="rId3" Type="http://schemas.openxmlformats.org/officeDocument/2006/relationships/hyperlink" Target="mailto:Patricia.Frutos@ties.itu.int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92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d4d4d"/>
                </a:solidFill>
                <a:uFillTx/>
                <a:latin typeface="Arial Narrow"/>
                <a:hlinkClick r:id="rId2"/>
              </a:rPr>
              <a:t>Jan.Hoffmann@unctad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d4d4d"/>
                </a:solidFill>
                <a:uFillTx/>
                <a:latin typeface="Arial Narrow"/>
                <a:hlinkClick r:id="rId3"/>
              </a:rPr>
              <a:t>Patricia.Frutos@ties.itu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 Narrow"/>
              </a:rPr>
              <a:t>Geneva, Octo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Negotiations on Trade Facilitation:</a:t>
            </a:r>
            <a:br>
              <a:rPr sz="4400"/>
            </a:b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Creating a support group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9640" y="-2908440"/>
            <a:ext cx="5382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19640" y="1981080"/>
            <a:ext cx="53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609480"/>
            <a:ext cx="0" cy="5340600"/>
          </a:xfrm>
          <a:prstGeom prst="line">
            <a:avLst/>
          </a:prstGeom>
          <a:ln w="38160">
            <a:solidFill>
              <a:srgbClr val="8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5950080"/>
            <a:ext cx="6588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38640" y="595008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sts of implementation,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920" y="78264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untry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92360" y="366840"/>
            <a:ext cx="4392360" cy="2666880"/>
            <a:chOff x="1692360" y="366840"/>
            <a:chExt cx="4392360" cy="2666880"/>
          </a:xfrm>
        </p:grpSpPr>
        <p:sp>
          <p:nvSpPr>
            <p:cNvPr id="93" name=""/>
            <p:cNvSpPr/>
            <p:nvPr/>
          </p:nvSpPr>
          <p:spPr>
            <a:xfrm>
              <a:off x="1692360" y="366840"/>
              <a:ext cx="4392360" cy="2666880"/>
            </a:xfrm>
            <a:prstGeom prst="leftArrowCallout">
              <a:avLst>
                <a:gd name="adj1" fmla="val 26678"/>
                <a:gd name="adj2" fmla="val 25000"/>
                <a:gd name="adj3" fmla="val 18613"/>
                <a:gd name="adj4" fmla="val 81614"/>
              </a:avLst>
            </a:prstGeom>
            <a:solidFill>
              <a:srgbClr val="4d4d4d"/>
            </a:solidFill>
            <a:ln w="0">
              <a:noFill/>
            </a:ln>
            <a:effectLst>
              <a:outerShdw dist="89604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556000" y="404640"/>
              <a:ext cx="3492360" cy="262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364000" y="2457360"/>
            <a:ext cx="3537000" cy="3456000"/>
            <a:chOff x="5364000" y="2457360"/>
            <a:chExt cx="3537000" cy="3456000"/>
          </a:xfrm>
        </p:grpSpPr>
        <p:sp>
          <p:nvSpPr>
            <p:cNvPr id="96" name=""/>
            <p:cNvSpPr/>
            <p:nvPr/>
          </p:nvSpPr>
          <p:spPr>
            <a:xfrm>
              <a:off x="5364000" y="2457360"/>
              <a:ext cx="3537000" cy="3456000"/>
            </a:xfrm>
            <a:prstGeom prst="downArrowCallout">
              <a:avLst>
                <a:gd name="adj1" fmla="val 24072"/>
                <a:gd name="adj2" fmla="val 23842"/>
                <a:gd name="adj3" fmla="val 14718"/>
                <a:gd name="adj4" fmla="val 7641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400720" y="2492280"/>
              <a:ext cx="3492360" cy="261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1069600">
            <a:off x="3338640" y="1589040"/>
            <a:ext cx="3708360" cy="2560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05440" y="-3517920"/>
            <a:ext cx="5382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05440" y="6346800"/>
            <a:ext cx="53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609480"/>
            <a:ext cx="0" cy="5340600"/>
          </a:xfrm>
          <a:prstGeom prst="line">
            <a:avLst/>
          </a:prstGeom>
          <a:ln w="38160">
            <a:solidFill>
              <a:srgbClr val="8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5950080"/>
            <a:ext cx="6588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8640" y="595008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Arial Narrow"/>
              </a:rPr>
              <a:t>Costs of implementation,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920" y="78264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Arial Narrow"/>
              </a:rPr>
              <a:t>Country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981080" y="3580560"/>
            <a:ext cx="2484720" cy="2133720"/>
          </a:xfrm>
          <a:prstGeom prst="verticalScroll">
            <a:avLst>
              <a:gd name="adj" fmla="val 21782"/>
            </a:avLst>
          </a:prstGeom>
          <a:solidFill>
            <a:srgbClr val="ff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-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Acco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95880" y="685080"/>
            <a:ext cx="2484720" cy="2057400"/>
          </a:xfrm>
          <a:prstGeom prst="verticalScroll">
            <a:avLst>
              <a:gd name="adj" fmla="val 21782"/>
            </a:avLst>
          </a:prstGeom>
          <a:solidFill>
            <a:srgbClr val="ff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Active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ubj. to.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T.A. , S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981080" y="685080"/>
            <a:ext cx="2484720" cy="2057400"/>
          </a:xfrm>
          <a:prstGeom prst="verticalScroll">
            <a:avLst>
              <a:gd name="adj" fmla="val 21782"/>
            </a:avLst>
          </a:prstGeom>
          <a:solidFill>
            <a:srgbClr val="00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Pro-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95880" y="3580560"/>
            <a:ext cx="2484720" cy="2133720"/>
          </a:xfrm>
          <a:prstGeom prst="verticalScroll">
            <a:avLst>
              <a:gd name="adj" fmla="val 21782"/>
            </a:avLst>
          </a:prstGeom>
          <a:solidFill>
            <a:srgbClr val="ff00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Passive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ubj. to 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8136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A Template of a Questionnaire …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4292640"/>
            <a:ext cx="9144000" cy="1774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0" y="1052640"/>
            <a:ext cx="4572000" cy="3429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15" name=""/>
          <p:cNvSpPr/>
          <p:nvPr/>
        </p:nvSpPr>
        <p:spPr>
          <a:xfrm flipH="1">
            <a:off x="2950920" y="1981080"/>
            <a:ext cx="1657080" cy="3571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50920" y="3681360"/>
            <a:ext cx="165708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681360"/>
            <a:ext cx="64764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020000" y="1665360"/>
            <a:ext cx="179280" cy="388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4292640"/>
            <a:ext cx="9144000" cy="1774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40000" y="1052640"/>
            <a:ext cx="4572000" cy="3429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950920" y="1981080"/>
            <a:ext cx="1657080" cy="3571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50920" y="3681360"/>
            <a:ext cx="165708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3681360"/>
            <a:ext cx="64764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20000" y="1665360"/>
            <a:ext cx="179280" cy="388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11717" t="26364" r="6156" b="12338"/>
          <a:stretch/>
        </p:blipFill>
        <p:spPr>
          <a:xfrm rot="21148200">
            <a:off x="358920" y="2312640"/>
            <a:ext cx="3282840" cy="1838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96000" y="173664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11717" t="26364" r="6156" b="12338"/>
          <a:stretch/>
        </p:blipFill>
        <p:spPr>
          <a:xfrm rot="21148200">
            <a:off x="358920" y="2312640"/>
            <a:ext cx="3282840" cy="1838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2360" y="3833640"/>
            <a:ext cx="8235720" cy="261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Suppor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2000" y="416736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1592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692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1640" y="570060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748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736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27840" y="41673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2360" y="3833640"/>
            <a:ext cx="8235720" cy="261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Suppor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2000" y="416736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92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692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1640" y="570060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748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736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7840" y="41673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62240" y="1854360"/>
            <a:ext cx="2309760" cy="2474640"/>
          </a:xfrm>
          <a:custGeom>
            <a:avLst/>
            <a:gdLst/>
            <a:ahLst/>
            <a:rect l="l" t="t" r="r" b="b"/>
            <a:pathLst>
              <a:path w="1342" h="1474">
                <a:moveTo>
                  <a:pt x="1342" y="0"/>
                </a:moveTo>
                <a:cubicBezTo>
                  <a:pt x="822" y="231"/>
                  <a:pt x="302" y="463"/>
                  <a:pt x="151" y="709"/>
                </a:cubicBezTo>
                <a:cubicBezTo>
                  <a:pt x="0" y="955"/>
                  <a:pt x="387" y="1347"/>
                  <a:pt x="434" y="147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240" y="234936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Methodology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eparation and sending of the questionnair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eetings of th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pport Grou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Posit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ent to the Miss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 Genev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 rot="588600">
            <a:off x="5040360" y="2997000"/>
            <a:ext cx="3870360" cy="29034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Initial Difficultie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tegration of the Grou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Knowledge of the negoti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Understanding of the methodolog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Benefit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Negotiating Posi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ordination btw. Public and Private Sect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ersonal rel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xchange of Id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terest in expanding the manda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crease of  knowledge of Customs issu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velop trust between the stakehol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omotes the institutional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Lesson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nstructive Attitud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atie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Prioritie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32400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mports/ Expor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rade partn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ommod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Mode of transpor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User / provid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ransit /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land-locked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64000" y="22536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00720" y="98100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13440" y="281628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95640" y="2097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211640" y="389736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97488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Trade and Transport Facilitation is </a:t>
            </a:r>
            <a:br>
              <a:rPr sz="4000"/>
            </a:b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“good business” for the countrie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t tends to have a high rate of retur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However, it requir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Infrastructure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Capacities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Initial investment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... Which developing countries may not necessarily be able to assume easily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Need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inancial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nstitutional chang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24360" y="4046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635280" y="2816280"/>
            <a:ext cx="4465800" cy="309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Negotiating position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s on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iorit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my own trade and service provi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receive assistance or special and differential treat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aking into account Annex 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42:23Z</dcterms:created>
  <dc:creator>DPAIS</dc:creator>
  <dc:description/>
  <dc:language>en-US</dc:language>
  <cp:lastModifiedBy>ONU</cp:lastModifiedBy>
  <dcterms:modified xsi:type="dcterms:W3CDTF">2006-10-31T08:35:34Z</dcterms:modified>
  <cp:revision>407</cp:revision>
  <dc:subject/>
  <dc:title>PowerPoint Presentation</dc:title>
</cp:coreProperties>
</file>