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E377E6A-7439-4A6D-8E1C-4C5D92144D9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presentation uses only very little from the original file developed by Port of Ghent. 95% are newly developed by Jan Hoff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an.Hoffmann@unctad.org" TargetMode="External"/><Relationship Id="rId3" Type="http://schemas.openxmlformats.org/officeDocument/2006/relationships/hyperlink" Target="mailto:Patricia.Frutos@ties.itu.int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92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d4d4d"/>
                </a:solidFill>
                <a:uFillTx/>
                <a:latin typeface="Arial Narrow"/>
                <a:hlinkClick r:id="rId2"/>
              </a:rPr>
              <a:t>Jan.Hoffmann@unctad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d4d4d"/>
                </a:solidFill>
                <a:uFillTx/>
                <a:latin typeface="Arial Narrow"/>
                <a:hlinkClick r:id="rId3"/>
              </a:rPr>
              <a:t>Patricia.Frutos@ties.itu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 Narrow"/>
              </a:rPr>
              <a:t>Geneva, Octo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Negotiations on Trade Facilitation:</a:t>
            </a:r>
            <a:br>
              <a:rPr sz="4400"/>
            </a:b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Creating a support group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9640" y="-2908440"/>
            <a:ext cx="53820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19640" y="1981080"/>
            <a:ext cx="53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609480"/>
            <a:ext cx="0" cy="5340600"/>
          </a:xfrm>
          <a:prstGeom prst="line">
            <a:avLst/>
          </a:prstGeom>
          <a:ln w="38160">
            <a:solidFill>
              <a:srgbClr val="8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5950080"/>
            <a:ext cx="6588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38640" y="595008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sts of implementation,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920" y="782640"/>
            <a:ext cx="15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untry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92360" y="366840"/>
            <a:ext cx="4392360" cy="2666880"/>
            <a:chOff x="1692360" y="366840"/>
            <a:chExt cx="4392360" cy="2666880"/>
          </a:xfrm>
        </p:grpSpPr>
        <p:sp>
          <p:nvSpPr>
            <p:cNvPr id="93" name=""/>
            <p:cNvSpPr/>
            <p:nvPr/>
          </p:nvSpPr>
          <p:spPr>
            <a:xfrm>
              <a:off x="1692360" y="366840"/>
              <a:ext cx="4392360" cy="2666880"/>
            </a:xfrm>
            <a:prstGeom prst="leftArrowCallout">
              <a:avLst>
                <a:gd name="adj1" fmla="val 26678"/>
                <a:gd name="adj2" fmla="val 25000"/>
                <a:gd name="adj3" fmla="val 18613"/>
                <a:gd name="adj4" fmla="val 81614"/>
              </a:avLst>
            </a:prstGeom>
            <a:solidFill>
              <a:srgbClr val="4d4d4d"/>
            </a:solidFill>
            <a:ln w="0">
              <a:noFill/>
            </a:ln>
            <a:effectLst>
              <a:outerShdw dist="89604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556000" y="404640"/>
              <a:ext cx="3492360" cy="262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5364000" y="2457360"/>
            <a:ext cx="3537000" cy="3456000"/>
            <a:chOff x="5364000" y="2457360"/>
            <a:chExt cx="3537000" cy="3456000"/>
          </a:xfrm>
        </p:grpSpPr>
        <p:sp>
          <p:nvSpPr>
            <p:cNvPr id="96" name=""/>
            <p:cNvSpPr/>
            <p:nvPr/>
          </p:nvSpPr>
          <p:spPr>
            <a:xfrm>
              <a:off x="5364000" y="2457360"/>
              <a:ext cx="3537000" cy="3456000"/>
            </a:xfrm>
            <a:prstGeom prst="downArrowCallout">
              <a:avLst>
                <a:gd name="adj1" fmla="val 24072"/>
                <a:gd name="adj2" fmla="val 23842"/>
                <a:gd name="adj3" fmla="val 14718"/>
                <a:gd name="adj4" fmla="val 7641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400720" y="2492280"/>
              <a:ext cx="3492360" cy="261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21069600">
            <a:off x="3338640" y="1589040"/>
            <a:ext cx="3708360" cy="2560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05440" y="-3517920"/>
            <a:ext cx="53820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05440" y="6346800"/>
            <a:ext cx="53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609480"/>
            <a:ext cx="0" cy="5340600"/>
          </a:xfrm>
          <a:prstGeom prst="line">
            <a:avLst/>
          </a:prstGeom>
          <a:ln w="38160">
            <a:solidFill>
              <a:srgbClr val="8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5950080"/>
            <a:ext cx="6588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8640" y="595008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Arial Narrow"/>
              </a:rPr>
              <a:t>Costs of implementation,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920" y="782640"/>
            <a:ext cx="15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Arial Narrow"/>
              </a:rPr>
              <a:t>Country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981080" y="3580560"/>
            <a:ext cx="2484720" cy="2133720"/>
          </a:xfrm>
          <a:prstGeom prst="verticalScroll">
            <a:avLst>
              <a:gd name="adj" fmla="val 21782"/>
            </a:avLst>
          </a:prstGeom>
          <a:solidFill>
            <a:srgbClr val="ffff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-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Accomo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95880" y="685080"/>
            <a:ext cx="2484720" cy="2057400"/>
          </a:xfrm>
          <a:prstGeom prst="verticalScroll">
            <a:avLst>
              <a:gd name="adj" fmla="val 21782"/>
            </a:avLst>
          </a:prstGeom>
          <a:solidFill>
            <a:srgbClr val="ffff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Active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subj. to.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T.A. , S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981080" y="685080"/>
            <a:ext cx="2484720" cy="2057400"/>
          </a:xfrm>
          <a:prstGeom prst="verticalScroll">
            <a:avLst>
              <a:gd name="adj" fmla="val 21782"/>
            </a:avLst>
          </a:prstGeom>
          <a:solidFill>
            <a:srgbClr val="00ff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+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Pro-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95880" y="3580560"/>
            <a:ext cx="2484720" cy="2133720"/>
          </a:xfrm>
          <a:prstGeom prst="verticalScroll">
            <a:avLst>
              <a:gd name="adj" fmla="val 21782"/>
            </a:avLst>
          </a:prstGeom>
          <a:solidFill>
            <a:srgbClr val="ff0000"/>
          </a:solidFill>
          <a:ln w="6480">
            <a:solidFill>
              <a:srgbClr val="990033"/>
            </a:solidFill>
            <a:miter/>
          </a:ln>
          <a:effectLst>
            <a:outerShdw dist="71785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-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Passive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subj. to </a:t>
            </a:r>
            <a:br>
              <a:rPr sz="2400"/>
            </a:br>
            <a:r>
              <a:rPr b="1" lang="es-GT" sz="2400" spc="-1" strike="noStrike">
                <a:solidFill>
                  <a:srgbClr val="000000"/>
                </a:solidFill>
                <a:latin typeface="Arial Narrow"/>
              </a:rPr>
              <a:t>S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881360"/>
            <a:ext cx="9144000" cy="4976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A Template of a Questionnaire …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4292640"/>
            <a:ext cx="9144000" cy="1774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0" y="1052640"/>
            <a:ext cx="4572000" cy="3429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15" name=""/>
          <p:cNvSpPr/>
          <p:nvPr/>
        </p:nvSpPr>
        <p:spPr>
          <a:xfrm flipH="1">
            <a:off x="2950920" y="1981080"/>
            <a:ext cx="1657080" cy="3571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50920" y="3681360"/>
            <a:ext cx="165708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3681360"/>
            <a:ext cx="64764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020000" y="1665360"/>
            <a:ext cx="179280" cy="388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4292640"/>
            <a:ext cx="9144000" cy="1774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40000" y="1052640"/>
            <a:ext cx="4572000" cy="3429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950920" y="1981080"/>
            <a:ext cx="1657080" cy="3571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50920" y="3681360"/>
            <a:ext cx="165708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3681360"/>
            <a:ext cx="647640" cy="2195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020000" y="1665360"/>
            <a:ext cx="179280" cy="388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11717" t="26364" r="6156" b="12338"/>
          <a:stretch/>
        </p:blipFill>
        <p:spPr>
          <a:xfrm rot="21148200">
            <a:off x="358920" y="2312640"/>
            <a:ext cx="3282840" cy="1838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796000" y="1736640"/>
            <a:ext cx="3097080" cy="232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11717" t="26364" r="6156" b="12338"/>
          <a:stretch/>
        </p:blipFill>
        <p:spPr>
          <a:xfrm rot="21148200">
            <a:off x="358920" y="2312640"/>
            <a:ext cx="3282840" cy="1838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2360" y="3833640"/>
            <a:ext cx="8235720" cy="261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Suppor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2000" y="416736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1592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692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41640" y="570060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748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736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27840" y="41673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2360" y="3833640"/>
            <a:ext cx="8235720" cy="261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Suppor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06640" y="368280"/>
            <a:ext cx="3284640" cy="117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1314360"/>
            <a:ext cx="215928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uay’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o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9272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51280" y="2322360"/>
            <a:ext cx="0" cy="1511280"/>
          </a:xfrm>
          <a:prstGeom prst="line">
            <a:avLst/>
          </a:prstGeom>
          <a:ln w="633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69800" y="2762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54520" y="2757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3833640"/>
            <a:ext cx="2159280" cy="100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oreign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2000" y="416736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92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3692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1640" y="570060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7480" y="53625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7360" y="5024520"/>
            <a:ext cx="126072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7840" y="4167360"/>
            <a:ext cx="1260360" cy="67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62240" y="1854360"/>
            <a:ext cx="2309760" cy="2474640"/>
          </a:xfrm>
          <a:custGeom>
            <a:avLst/>
            <a:gdLst/>
            <a:ahLst/>
            <a:rect l="l" t="t" r="r" b="b"/>
            <a:pathLst>
              <a:path w="1342" h="1474">
                <a:moveTo>
                  <a:pt x="1342" y="0"/>
                </a:moveTo>
                <a:cubicBezTo>
                  <a:pt x="822" y="231"/>
                  <a:pt x="302" y="463"/>
                  <a:pt x="151" y="709"/>
                </a:cubicBezTo>
                <a:cubicBezTo>
                  <a:pt x="0" y="955"/>
                  <a:pt x="387" y="1347"/>
                  <a:pt x="434" y="147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240" y="234936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Methodology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reparation and sending of the questionnair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eetings of th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upport Grou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ational Posit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ent to the Miss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 Genev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 rot="588600">
            <a:off x="5040360" y="2997000"/>
            <a:ext cx="3870360" cy="29034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Initial Difficultie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tegration of the Grou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Knowledge of the negoti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Understanding of the methodolog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ur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Benefit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ational Negotiating Posi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ordination btw. Public and Private Secto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ersonal rel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Exchange of Idea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terest in expanding the manda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ncrease of  knowledge of Customs issu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evelop trust between the stakehold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romotes the institutional cha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Lesson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nstructive Attitud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atie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Prioritie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32400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mports/ Expor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rade partn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ommod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Mode of transpor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User / provid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ransit /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land-locked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564000" y="22536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00720" y="98100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13440" y="281628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95640" y="2097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211640" y="389736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97488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33"/>
                </a:solidFill>
                <a:latin typeface="Arial Narrow"/>
              </a:rPr>
              <a:t>Trade and Transport Facilitation is </a:t>
            </a:r>
            <a:br>
              <a:rPr sz="4000"/>
            </a:br>
            <a:r>
              <a:rPr b="1" lang="en-GB" sz="4000" spc="-1" strike="noStrike">
                <a:solidFill>
                  <a:srgbClr val="990033"/>
                </a:solidFill>
                <a:latin typeface="Arial Narrow"/>
              </a:rPr>
              <a:t>“good business” for the countrie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t tends to have a high rate of retur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However, it require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Infrastructure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Capacities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Initial investment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... Which developing countries may not necessarily be able to assume easily</a:t>
            </a:r>
            <a:endParaRPr b="1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Arial Narrow"/>
              </a:rPr>
              <a:t>Needs</a:t>
            </a:r>
            <a:endParaRPr b="1" lang="en-US" sz="44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echnolog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Financial assista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nstitutional change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24360" y="40464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635280" y="2816280"/>
            <a:ext cx="4465800" cy="309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Priorities, Needs,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Narrow"/>
              </a:rPr>
              <a:t>and negotiating positions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24000"/>
          </a:blip>
          <a:srcRect l="0" t="0" r="13638" b="0"/>
          <a:stretch/>
        </p:blipFill>
        <p:spPr>
          <a:xfrm>
            <a:off x="4876920" y="18288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64000" y="2205000"/>
            <a:ext cx="2016360" cy="302436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1270" y="0"/>
                </a:moveTo>
                <a:cubicBezTo>
                  <a:pt x="854" y="193"/>
                  <a:pt x="439" y="386"/>
                  <a:pt x="227" y="703"/>
                </a:cubicBezTo>
                <a:cubicBezTo>
                  <a:pt x="15" y="1020"/>
                  <a:pt x="7" y="1462"/>
                  <a:pt x="0" y="1905"/>
                </a:cubicBezTo>
              </a:path>
            </a:pathLst>
          </a:custGeom>
          <a:noFill/>
          <a:ln cap="rnd" w="633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229360"/>
            <a:ext cx="216000" cy="21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2097000"/>
            <a:ext cx="21600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Negotiating </a:t>
            </a:r>
            <a:br>
              <a:rPr sz="3200"/>
            </a:br>
            <a:r>
              <a:rPr b="1" lang="en-GB" sz="3200" spc="-1" strike="noStrike" u="sng">
                <a:solidFill>
                  <a:srgbClr val="ffcc00"/>
                </a:solidFill>
                <a:uFillTx/>
                <a:latin typeface="Arial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Linking Geneva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d the Capi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Making the Support</a:t>
            </a:r>
            <a:br>
              <a:rPr sz="3200"/>
            </a:b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33"/>
                </a:solidFill>
                <a:latin typeface="Arial Narrow"/>
              </a:rPr>
              <a:t>Negotiating position</a:t>
            </a:r>
            <a:endParaRPr b="1" lang="en-US" sz="4000" spc="-1" strike="noStrike">
              <a:solidFill>
                <a:srgbClr val="9900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s on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iorit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my own trade and service provid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e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receive assistance or special and differential treatm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aking into account Annex D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42:23Z</dcterms:created>
  <dc:creator>DPAIS</dc:creator>
  <dc:description/>
  <dc:language>en-US</dc:language>
  <cp:lastModifiedBy>ONU</cp:lastModifiedBy>
  <dcterms:modified xsi:type="dcterms:W3CDTF">2006-10-31T08:35:34Z</dcterms:modified>
  <cp:revision>407</cp:revision>
  <dc:subject/>
  <dc:title>PowerPoint Presentation</dc:title>
</cp:coreProperties>
</file>