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723B1-A583-442D-BB10-17F46308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BEC8D-2224-4504-9A0C-80A233EA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D800F-A912-4A3E-BF5A-9B8912F2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5074F-C328-477F-A858-E52EEB49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4663D-87CA-475B-B490-C20CBC0D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F3E49-BB8D-47FA-BF7C-BFAB1E00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D3622-2A1F-4173-9DC4-E35721D1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7F736-1FAE-4EB3-87C5-6B0554DA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A020E-AFA2-416C-A45F-127A71B2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E6B60-9B43-4CA7-9ED8-0407724E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4979A-A934-47F4-B630-9EEC28DC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64DE1-FE8F-491B-95BF-6E171599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286000"/>
            <a:ext cx="567000" cy="327672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629080" y="63817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mic Sans MS"/>
              </a:rPr>
              <a:t>UNECE/UNCTAD Workshop 31 Oct – 1 Nov 200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755640" cy="68565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523880"/>
            <a:ext cx="755640" cy="838440"/>
          </a:xfrm>
          <a:prstGeom prst="rect">
            <a:avLst/>
          </a:prstGeom>
          <a:solidFill>
            <a:srgbClr val="5e6fd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4800600"/>
            <a:ext cx="519120" cy="152280"/>
          </a:xfrm>
          <a:prstGeom prst="rect">
            <a:avLst/>
          </a:prstGeom>
          <a:solidFill>
            <a:srgbClr val="00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5105520"/>
            <a:ext cx="519120" cy="152280"/>
          </a:xfrm>
          <a:prstGeom prst="rect">
            <a:avLst/>
          </a:prstGeom>
          <a:solidFill>
            <a:srgbClr val="00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5410080"/>
            <a:ext cx="519120" cy="152640"/>
          </a:xfrm>
          <a:prstGeom prst="rect">
            <a:avLst/>
          </a:prstGeom>
          <a:solidFill>
            <a:srgbClr val="00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67720" y="3587760"/>
            <a:ext cx="382680" cy="183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23" y="7"/>
                </a:moveTo>
                <a:arcTo wR="10800" hR="10800" stAng="-5520000" swAng="10920000"/>
                <a:lnTo>
                  <a:pt x="10800" y="10800"/>
                </a:lnTo>
                <a:close/>
              </a:path>
              <a:path fill="none" w="21600" h="21600">
                <a:moveTo>
                  <a:pt x="10423" y="7"/>
                </a:moveTo>
                <a:arcTo wR="10800" hR="10800" stAng="-5520000" swAng="10920000"/>
              </a:path>
            </a:pathLst>
          </a:custGeom>
          <a:solidFill>
            <a:srgbClr val="5e6fd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1066680"/>
            <a:ext cx="1066680" cy="990720"/>
          </a:xfrm>
          <a:prstGeom prst="ellipse">
            <a:avLst/>
          </a:prstGeom>
          <a:solidFill>
            <a:srgbClr val="00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62120" y="0"/>
            <a:ext cx="304560" cy="68565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35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38160" y="653400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4A93-358C-4891-8FF6-5DE781BD5DA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of 1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12360000">
            <a:off x="-294840" y="556920"/>
            <a:ext cx="6851520" cy="6632640"/>
          </a:xfrm>
          <a:prstGeom prst="diamond">
            <a:avLst/>
          </a:prstGeom>
          <a:gradFill rotWithShape="0">
            <a:gsLst>
              <a:gs pos="0">
                <a:srgbClr val="00354e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2360000">
            <a:off x="1101240" y="1909800"/>
            <a:ext cx="4057920" cy="39276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2360000">
            <a:off x="2050920" y="4074840"/>
            <a:ext cx="905040" cy="838080"/>
          </a:xfrm>
          <a:prstGeom prst="ellipse">
            <a:avLst/>
          </a:prstGeom>
          <a:solidFill>
            <a:srgbClr val="0066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74240" y="2873520"/>
            <a:ext cx="692640" cy="653040"/>
            <a:chOff x="3774240" y="2873520"/>
            <a:chExt cx="692640" cy="653040"/>
          </a:xfrm>
        </p:grpSpPr>
        <p:sp>
          <p:nvSpPr>
            <p:cNvPr id="55" name=""/>
            <p:cNvSpPr/>
            <p:nvPr/>
          </p:nvSpPr>
          <p:spPr>
            <a:xfrm rot="12360000">
              <a:off x="3766320" y="3249000"/>
              <a:ext cx="708120" cy="128520"/>
            </a:xfrm>
            <a:prstGeom prst="rect">
              <a:avLst/>
            </a:prstGeom>
            <a:solidFill>
              <a:srgbClr val="0066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86200" y="2873520"/>
              <a:ext cx="514440" cy="366480"/>
            </a:xfrm>
            <a:custGeom>
              <a:avLst/>
              <a:gdLst/>
              <a:ahLst/>
              <a:rect l="l" t="t" r="r" b="b"/>
              <a:pathLst>
                <a:path w="324" h="231">
                  <a:moveTo>
                    <a:pt x="321" y="226"/>
                  </a:moveTo>
                  <a:lnTo>
                    <a:pt x="287" y="123"/>
                  </a:lnTo>
                  <a:lnTo>
                    <a:pt x="53" y="9"/>
                  </a:lnTo>
                  <a:lnTo>
                    <a:pt x="35" y="0"/>
                  </a:lnTo>
                  <a:lnTo>
                    <a:pt x="0" y="72"/>
                  </a:lnTo>
                  <a:lnTo>
                    <a:pt x="323" y="230"/>
                  </a:lnTo>
                </a:path>
              </a:pathLst>
            </a:custGeom>
            <a:solidFill>
              <a:srgbClr val="0066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219320" y="1143000"/>
            <a:ext cx="7923240" cy="129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2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8292-D682-4DBE-9514-5B405F9B173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746440" y="4721760"/>
            <a:ext cx="875520" cy="745200"/>
            <a:chOff x="2746440" y="4721760"/>
            <a:chExt cx="875520" cy="745200"/>
          </a:xfrm>
        </p:grpSpPr>
        <p:sp>
          <p:nvSpPr>
            <p:cNvPr id="63" name=""/>
            <p:cNvSpPr/>
            <p:nvPr/>
          </p:nvSpPr>
          <p:spPr>
            <a:xfrm flipV="1" rot="13114800">
              <a:off x="2945520" y="4925880"/>
              <a:ext cx="707760" cy="146160"/>
            </a:xfrm>
            <a:prstGeom prst="rect">
              <a:avLst/>
            </a:prstGeom>
            <a:solidFill>
              <a:srgbClr val="0066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3874800">
              <a:off x="2787840" y="4936320"/>
              <a:ext cx="514440" cy="417240"/>
            </a:xfrm>
            <a:custGeom>
              <a:avLst/>
              <a:gdLst/>
              <a:ahLst/>
              <a:rect l="l" t="t" r="r" b="b"/>
              <a:pathLst>
                <a:path w="324" h="231">
                  <a:moveTo>
                    <a:pt x="321" y="226"/>
                  </a:moveTo>
                  <a:lnTo>
                    <a:pt x="287" y="123"/>
                  </a:lnTo>
                  <a:lnTo>
                    <a:pt x="53" y="9"/>
                  </a:lnTo>
                  <a:lnTo>
                    <a:pt x="35" y="0"/>
                  </a:lnTo>
                  <a:lnTo>
                    <a:pt x="0" y="72"/>
                  </a:lnTo>
                  <a:lnTo>
                    <a:pt x="323" y="230"/>
                  </a:lnTo>
                </a:path>
              </a:pathLst>
            </a:custGeom>
            <a:solidFill>
              <a:srgbClr val="0066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12189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rade &amp; Transport Facilitation Committee - Pakistan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JAVAID MANSO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Executive Secret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NTTF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524880" y="122400"/>
            <a:ext cx="3733920" cy="6613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nsert your company logo on this slid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the Insert Men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Picture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e your logo fil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resize the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anywhere inside the logo. The boxes that appear outside the logo are known as “resize handles.”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se to resize the object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 hold down the shift key before using the resize handles, you will maintain the proportions of the object you wish to resiz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30320" y="3048120"/>
            <a:ext cx="2343240" cy="1431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19320" y="6019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UNECE/UNCTAD Workshop 31 Oct – 1 Nov 20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10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450"/>
                            </p:stCondLst>
                            <p:childTnLst>
                              <p:par>
                                <p:cTn id="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15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95480" y="1644480"/>
            <a:ext cx="77724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MoU between MoC and PSC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Staff salary sharing as below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Office facilities provided by PSC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Budget limited to staff salary and limited office expenditur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After 3</a:t>
            </a:r>
            <a:r>
              <a:rPr b="0" lang="en-US" sz="22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year funds arranged through EDF grant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Funding of NTTFC Secretari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86000" y="2487600"/>
          <a:ext cx="4572000" cy="211788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1600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54e"/>
                          </a:solidFill>
                          <a:latin typeface="Arial"/>
                        </a:rPr>
                        <a:t>Year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54e"/>
                          </a:solidFill>
                          <a:latin typeface="Arial"/>
                        </a:rPr>
                        <a:t>Project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54e"/>
                          </a:solidFill>
                          <a:latin typeface="Arial"/>
                        </a:rPr>
                        <a:t>PSC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0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0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5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ubsequen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40"/>
                            </p:stCondLst>
                            <p:childTnLst>
                              <p:par>
                                <p:cTn id="2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40"/>
                            </p:stCondLst>
                            <p:childTnLst>
                              <p:par>
                                <p:cTn id="2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Performance of </a:t>
            </a: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NTTFC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1095480" y="1644480"/>
            <a:ext cx="77724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ods Declaration Form introduced as S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andard forms according to IMO FAL Conven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duction of Phytosanitary Certificate, Certificate of Origin and Commercial Invoice on UNL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rriage of Goods by Road Act and Carriage of Goods by Sea Act approved by Cabinet and presented to National Assemb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rriage by Air Act and Marine Insurance Act presented to Cabinet for approv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ld various training workshop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60"/>
                            </p:stCondLst>
                            <p:childTnLst>
                              <p:par>
                                <p:cTn id="3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erformance of NTTFC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1095480" y="1644480"/>
            <a:ext cx="77724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cuments produced for modernization of freight forwarding industry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tandard trading condition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inimum qualification standard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de of condu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ld seminars on International Standard Banking Practices and ICP 5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uidance provided for ratification of various conven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udy for refrigerated transport and cold storage of fresh produ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lped in implementation of security meas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34200" y="1447920"/>
            <a:ext cx="1009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aea"/>
                </a:solidFill>
                <a:latin typeface="Comic Sans MS"/>
              </a:rPr>
              <a:t>Continu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Difficulties in efficient functioning of NTTFC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1095480" y="1644480"/>
            <a:ext cx="77724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cisions of recommendatory nature required lengthy follow up for implement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luctance to accept chan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quent changes of Chairman and other key personn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nancial constraints of NTTFC Secretari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adequate professional contribution by members of Working Group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680"/>
                            </p:stCondLst>
                            <p:childTnLst>
                              <p:par>
                                <p:cTn id="3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reconditions fo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uccess and sustainability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1095480" y="1644480"/>
            <a:ext cx="75150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tical will and commitment at highest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rrect understanding and definition of public and private sector ro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wnership and commitment of key stakehol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mitted lead agen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presentation of concerned ministries and public &amp; private sector organizations at senior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68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reconditions fo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uccess and sustainability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1095480" y="1644480"/>
            <a:ext cx="77724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34200" y="1447920"/>
            <a:ext cx="1009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aea"/>
                </a:solidFill>
                <a:latin typeface="Comic Sans MS"/>
              </a:rPr>
              <a:t>Continu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1752480"/>
            <a:ext cx="7620120" cy="41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10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itutional arrangement for functioning on permanent ba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0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rong linkage with international trade facilitation institu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0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ior identification of key issues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0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velopment of a project with well defined objectives and action pl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reconditions fo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uccess and sustainability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1095480" y="1644480"/>
            <a:ext cx="77724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1720" indent="-531720">
              <a:lnSpc>
                <a:spcPct val="100000"/>
              </a:lnSpc>
              <a:spcBef>
                <a:spcPts val="2100"/>
              </a:spcBef>
              <a:buClr>
                <a:srgbClr val="6699ff"/>
              </a:buClr>
              <a:buFont typeface="Arial"/>
              <a:buChar char="•"/>
              <a:tabLst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1720" indent="-531720">
              <a:lnSpc>
                <a:spcPct val="100000"/>
              </a:lnSpc>
              <a:spcBef>
                <a:spcPts val="2100"/>
              </a:spcBef>
              <a:buClr>
                <a:srgbClr val="6699ff"/>
              </a:buClr>
              <a:buFont typeface="Arial"/>
              <a:buChar char="•"/>
              <a:tabLst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34200" y="1447920"/>
            <a:ext cx="1009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aea"/>
                </a:solidFill>
                <a:latin typeface="Comic Sans MS"/>
              </a:rPr>
              <a:t>Continu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1905120"/>
            <a:ext cx="7239240" cy="45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53880">
              <a:lnSpc>
                <a:spcPct val="100000"/>
              </a:lnSpc>
              <a:spcBef>
                <a:spcPts val="10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cal and financial support of international organizations to implement the pro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53880">
              <a:lnSpc>
                <a:spcPct val="100000"/>
              </a:lnSpc>
              <a:spcBef>
                <a:spcPts val="10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manent secretariat with experienced professionals rewarded at market r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53880">
              <a:lnSpc>
                <a:spcPct val="100000"/>
              </a:lnSpc>
              <a:spcBef>
                <a:spcPts val="10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und financial arrangement for running NTTFC Secretariat on permanent ba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53880">
              <a:lnSpc>
                <a:spcPct val="100000"/>
              </a:lnSpc>
              <a:spcBef>
                <a:spcPts val="10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53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680"/>
                            </p:stCondLst>
                            <p:childTnLst>
                              <p:par>
                                <p:cTn id="391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reconditions fo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uccess and sustainability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1095480" y="1644480"/>
            <a:ext cx="77724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ggested structur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eering Committee / Counc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rking Group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TTFC to play role of coordinator, facilitator and technical support provi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ecution by the concerned organiz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34200" y="1447920"/>
            <a:ext cx="1009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eaeaea"/>
                </a:solidFill>
                <a:latin typeface="Comic Sans MS"/>
              </a:rPr>
              <a:t>Continu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80"/>
                            </p:stCondLst>
                            <p:childTnLst>
                              <p:par>
                                <p:cTn id="4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276720" y="2743200"/>
            <a:ext cx="38098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ank you</a:t>
            </a:r>
            <a:endParaRPr b="0" i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ircl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set>
                                      <p:cBhvr>
                                        <p:cTn id="42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Background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95480" y="164412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989 - World Bank Workshop – PAKPRO establish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992-94 - UNCTAD Multimodal &amp; Trade Facilitation Worksho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995-96 - World Bank Logistics Cost Stud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998 – World Bank funded TTFP with technical support of UNCTAD approved and establishment of NTTFC notifi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001 – NTTFC Secretariat establish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ebruary 2002 - work on TTFP jumpstarts with Project Mobilization Worksho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une 2006 - TTFP conclud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d 2006 - TTF2 to comm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40"/>
                            </p:stCondLst>
                            <p:childTnLst>
                              <p:par>
                                <p:cTn id="47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TFP Objectiv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5120" y="1644120"/>
            <a:ext cx="7591320" cy="490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troduction of Single Administrative Docu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dernization of transport legis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ndard terms and conditions for contract of carriage of goo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dernization of freight forward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dernization of marine transport insur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reamlining of financial and banking provisions relating to foreign trad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TFP Objectiv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95120" y="1644120"/>
            <a:ext cx="7591320" cy="490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view of international conventions related to Customs, trade and transpor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stablishment of an operational trade poi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for promotion of refrigerator transport and cold storage of fresh proced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itutional strengthening of NTTF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velopment of local training managers in trade facili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34200" y="1447920"/>
            <a:ext cx="1009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aea"/>
                </a:solidFill>
                <a:latin typeface="Comic Sans MS"/>
              </a:rPr>
              <a:t>Continu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onstitution of NTTFC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95480" y="1644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nistry of Commer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nistry of Communica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nistry of Fina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nistry of Planning and Develop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entral Board of Revenu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ate Bank of Pakist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kistan Shippers Council of FPCC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ational Logistic Ce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arachi Port Tru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rt Qasim Author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NSC /National shipown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kistan Railway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ort Promotion Burea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14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kistan Horticulture Development and Export Boar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"/>
                            </p:stCondLst>
                            <p:childTnLst>
                              <p:par>
                                <p:cTn id="8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00"/>
                            </p:stCondLst>
                            <p:childTnLst>
                              <p:par>
                                <p:cTn id="9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800"/>
                            </p:stCondLst>
                            <p:childTnLst>
                              <p:par>
                                <p:cTn id="9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00"/>
                            </p:stCondLst>
                            <p:childTnLst>
                              <p:par>
                                <p:cTn id="9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800"/>
                            </p:stCondLst>
                            <p:childTnLst>
                              <p:par>
                                <p:cTn id="10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300"/>
                            </p:stCondLst>
                            <p:childTnLst>
                              <p:par>
                                <p:cTn id="10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800"/>
                            </p:stCondLst>
                            <p:childTnLst>
                              <p:par>
                                <p:cTn id="11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300"/>
                            </p:stCondLst>
                            <p:childTnLst>
                              <p:par>
                                <p:cTn id="11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800"/>
                            </p:stCondLst>
                            <p:childTnLst>
                              <p:par>
                                <p:cTn id="11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300"/>
                            </p:stCondLst>
                            <p:childTnLst>
                              <p:par>
                                <p:cTn id="12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800"/>
                            </p:stCondLst>
                            <p:childTnLst>
                              <p:par>
                                <p:cTn id="12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300"/>
                            </p:stCondLst>
                            <p:childTnLst>
                              <p:par>
                                <p:cTn id="13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800"/>
                            </p:stCondLst>
                            <p:childTnLst>
                              <p:par>
                                <p:cTn id="1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300"/>
                            </p:stCondLst>
                            <p:childTnLst>
                              <p:par>
                                <p:cTn id="13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onstitution of NTTFC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95480" y="1644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kistan International Airl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and Medium Enterprises Development Author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modal Transport Operato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PCCI, Karach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ance Association of Pakist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y Port Terminal Operato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ight Forwarders Associ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kistan Ship Agents Associ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akistan Shipping Associ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s Carriage Associ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kistan Bankers Associ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C Pakista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34200" y="1447920"/>
            <a:ext cx="1009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aea"/>
                </a:solidFill>
                <a:latin typeface="Comic Sans MS"/>
              </a:rPr>
              <a:t>Continu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NTTFC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erms of Referenc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95120" y="16441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6699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ntinuous review of the trade and transport procedures and systems with a view to update their simplification and harmonization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6699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Undertake coordination of efforts of concerned organizations in the field of facilitation of international trade and transport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6699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llect and disseminate information on international trade and transport formalities, procedures, documentation and related matters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6699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ursue the simplification and alignment of trade and transport documents on the basis of the United Nations layout key, including documents designed for use in computer and other automated systems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6699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mote the adoption of the standard trade and transport terminology and international codes for trade and transport legislation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2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420"/>
                            </p:stCondLst>
                            <p:childTnLst>
                              <p:par>
                                <p:cTn id="2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920"/>
                            </p:stCondLst>
                            <p:childTnLst>
                              <p:par>
                                <p:cTn id="2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420"/>
                            </p:stCondLst>
                            <p:childTnLst>
                              <p:par>
                                <p:cTn id="2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92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NTTFC Organisation Structure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95280" y="1535040"/>
          <a:ext cx="769644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35040"/>
                    <a:ext cx="769644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8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TFP Steering Committe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64771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irman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TTFC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irman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SC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esentative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rld Ban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esentative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NCT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80"/>
                            </p:stCondLst>
                            <p:childTnLst>
                              <p:par>
                                <p:cTn id="2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880"/>
                            </p:stCondLst>
                            <p:childTnLst>
                              <p:par>
                                <p:cTn id="2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880"/>
                            </p:stCondLst>
                            <p:childTnLst>
                              <p:par>
                                <p:cTn id="2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880"/>
                            </p:stCondLst>
                            <p:childTnLst>
                              <p:par>
                                <p:cTn id="2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05:03:13Z</dcterms:created>
  <dc:creator>رضوان اکبر علی</dc:creator>
  <dc:description/>
  <dc:language>en-US</dc:language>
  <cp:lastModifiedBy>JAWED MANSOOR</cp:lastModifiedBy>
  <dcterms:modified xsi:type="dcterms:W3CDTF">2006-10-27T10:46:49Z</dcterms:modified>
  <cp:revision>23</cp:revision>
  <dc:subject/>
  <dc:title>Trade &amp; Transport Facilitation Committee - Pakist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