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2269C6-AB44-4EDB-A47E-6C71DF36B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236508-F3C7-4CA0-9E5C-4983709B5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07C949-0629-4122-A9BD-B0E9212F4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93F340-314E-425A-8595-149D28407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F03885-C081-4493-95E6-D289E3033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F7D747-5D66-4967-8232-238416E3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81D29A-7BBD-4E11-BC4B-6B25D58E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D25F18-BB56-4CC0-A324-F47546B7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B17763-FCE8-4FD7-A71C-8EF9C949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9734F9-4A98-4FF0-916E-83DA6B738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C7DB76-398E-438C-AC88-F0CAA9DE5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2E10FE-0A2E-49BA-B036-1CF3CE322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2286000"/>
            <a:ext cx="567000" cy="327672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2629080" y="6381720"/>
            <a:ext cx="4952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Comic Sans MS"/>
              </a:rPr>
              <a:t>UNECE/UNCTAD Workshop 31 Oct – 1 Nov 200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755640" cy="685656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523880"/>
            <a:ext cx="755640" cy="838440"/>
          </a:xfrm>
          <a:prstGeom prst="rect">
            <a:avLst/>
          </a:prstGeom>
          <a:solidFill>
            <a:srgbClr val="5e6fd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4800600"/>
            <a:ext cx="519120" cy="152280"/>
          </a:xfrm>
          <a:prstGeom prst="rect">
            <a:avLst/>
          </a:prstGeom>
          <a:solidFill>
            <a:srgbClr val="00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5105520"/>
            <a:ext cx="519120" cy="152280"/>
          </a:xfrm>
          <a:prstGeom prst="rect">
            <a:avLst/>
          </a:prstGeom>
          <a:solidFill>
            <a:srgbClr val="00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5410080"/>
            <a:ext cx="519120" cy="152640"/>
          </a:xfrm>
          <a:prstGeom prst="rect">
            <a:avLst/>
          </a:prstGeom>
          <a:solidFill>
            <a:srgbClr val="00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567720" y="3587760"/>
            <a:ext cx="382680" cy="183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423" y="7"/>
                </a:moveTo>
                <a:arcTo wR="10800" hR="10800" stAng="-5520000" swAng="10920000"/>
                <a:lnTo>
                  <a:pt x="10800" y="10800"/>
                </a:lnTo>
                <a:close/>
              </a:path>
              <a:path fill="none" w="21600" h="21600">
                <a:moveTo>
                  <a:pt x="10423" y="7"/>
                </a:moveTo>
                <a:arcTo wR="10800" hR="10800" stAng="-5520000" swAng="10920000"/>
              </a:path>
            </a:pathLst>
          </a:custGeom>
          <a:solidFill>
            <a:srgbClr val="5e6fd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1066680"/>
            <a:ext cx="1066680" cy="990720"/>
          </a:xfrm>
          <a:prstGeom prst="ellipse">
            <a:avLst/>
          </a:prstGeom>
          <a:solidFill>
            <a:srgbClr val="00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762120" y="0"/>
            <a:ext cx="304560" cy="68565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354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-38160" y="653400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F02AC-226D-4851-8A94-4A6580B405CE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 of 19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 rot="12360000">
            <a:off x="-294840" y="556920"/>
            <a:ext cx="6851520" cy="6632640"/>
          </a:xfrm>
          <a:prstGeom prst="diamond">
            <a:avLst/>
          </a:prstGeom>
          <a:gradFill rotWithShape="0">
            <a:gsLst>
              <a:gs pos="0">
                <a:srgbClr val="00354e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2360000">
            <a:off x="1101240" y="1909800"/>
            <a:ext cx="4057920" cy="392760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2360000">
            <a:off x="2050920" y="4074840"/>
            <a:ext cx="905040" cy="838080"/>
          </a:xfrm>
          <a:prstGeom prst="ellipse">
            <a:avLst/>
          </a:prstGeom>
          <a:solidFill>
            <a:srgbClr val="006699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774240" y="2873520"/>
            <a:ext cx="692640" cy="653040"/>
            <a:chOff x="3774240" y="2873520"/>
            <a:chExt cx="692640" cy="653040"/>
          </a:xfrm>
        </p:grpSpPr>
        <p:sp>
          <p:nvSpPr>
            <p:cNvPr id="55" name=""/>
            <p:cNvSpPr/>
            <p:nvPr/>
          </p:nvSpPr>
          <p:spPr>
            <a:xfrm rot="12360000">
              <a:off x="3766320" y="3249000"/>
              <a:ext cx="708120" cy="128520"/>
            </a:xfrm>
            <a:prstGeom prst="rect">
              <a:avLst/>
            </a:prstGeom>
            <a:solidFill>
              <a:srgbClr val="0066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886200" y="2873520"/>
              <a:ext cx="514440" cy="366480"/>
            </a:xfrm>
            <a:custGeom>
              <a:avLst/>
              <a:gdLst/>
              <a:ahLst/>
              <a:rect l="l" t="t" r="r" b="b"/>
              <a:pathLst>
                <a:path w="324" h="231">
                  <a:moveTo>
                    <a:pt x="321" y="226"/>
                  </a:moveTo>
                  <a:lnTo>
                    <a:pt x="287" y="123"/>
                  </a:lnTo>
                  <a:lnTo>
                    <a:pt x="53" y="9"/>
                  </a:lnTo>
                  <a:lnTo>
                    <a:pt x="35" y="0"/>
                  </a:lnTo>
                  <a:lnTo>
                    <a:pt x="0" y="72"/>
                  </a:lnTo>
                  <a:lnTo>
                    <a:pt x="323" y="230"/>
                  </a:lnTo>
                </a:path>
              </a:pathLst>
            </a:custGeom>
            <a:solidFill>
              <a:srgbClr val="0066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219320" y="1143000"/>
            <a:ext cx="7923240" cy="129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2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1B809-E760-4998-9FCC-BC31C71A87E8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746440" y="4721760"/>
            <a:ext cx="875520" cy="745200"/>
            <a:chOff x="2746440" y="4721760"/>
            <a:chExt cx="875520" cy="745200"/>
          </a:xfrm>
        </p:grpSpPr>
        <p:sp>
          <p:nvSpPr>
            <p:cNvPr id="63" name=""/>
            <p:cNvSpPr/>
            <p:nvPr/>
          </p:nvSpPr>
          <p:spPr>
            <a:xfrm flipV="1" rot="13114800">
              <a:off x="2945520" y="4925880"/>
              <a:ext cx="707760" cy="146160"/>
            </a:xfrm>
            <a:prstGeom prst="rect">
              <a:avLst/>
            </a:prstGeom>
            <a:solidFill>
              <a:srgbClr val="0066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3874800">
              <a:off x="2787840" y="4936320"/>
              <a:ext cx="514440" cy="417240"/>
            </a:xfrm>
            <a:custGeom>
              <a:avLst/>
              <a:gdLst/>
              <a:ahLst/>
              <a:rect l="l" t="t" r="r" b="b"/>
              <a:pathLst>
                <a:path w="324" h="231">
                  <a:moveTo>
                    <a:pt x="321" y="226"/>
                  </a:moveTo>
                  <a:lnTo>
                    <a:pt x="287" y="123"/>
                  </a:lnTo>
                  <a:lnTo>
                    <a:pt x="53" y="9"/>
                  </a:lnTo>
                  <a:lnTo>
                    <a:pt x="35" y="0"/>
                  </a:lnTo>
                  <a:lnTo>
                    <a:pt x="0" y="72"/>
                  </a:lnTo>
                  <a:lnTo>
                    <a:pt x="323" y="230"/>
                  </a:lnTo>
                </a:path>
              </a:pathLst>
            </a:custGeom>
            <a:solidFill>
              <a:srgbClr val="0066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8960" y="12189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Black"/>
              </a:rPr>
              <a:t>Trade &amp; Transport Facilitation Committee - Pakistan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JAVAID MANSO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Executive Secretar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NTTFC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524880" y="122400"/>
            <a:ext cx="3733920" cy="66132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insert your company logo on this slid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the Insert Menu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Picture”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te your logo fil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resize the log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anywhere inside the logo. The boxes that appear outside the logo are known as “resize handles.”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these to resize the object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you hold down the shift key before using the resize handles, you will maintain the proportions of the object you wish to resize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30320" y="3048120"/>
            <a:ext cx="2343240" cy="14317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219320" y="60199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UNECE/UNCTAD Workshop 31 Oct – 1 Nov 2006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100"/>
                            </p:stCondLst>
                            <p:childTnLst>
                              <p:par>
                                <p:cTn id="2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450"/>
                            </p:stCondLst>
                            <p:childTnLst>
                              <p:par>
                                <p:cTn id="2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150"/>
                            </p:stCondLst>
                            <p:childTnLst>
                              <p:par>
                                <p:cTn id="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095480" y="1644480"/>
            <a:ext cx="777240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MoU between MoC and PSC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Staff salary sharing as below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Office facilities provided by PSC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Budget limited to staff salary and limited office expenditure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After 3</a:t>
            </a:r>
            <a:r>
              <a:rPr b="0" lang="en-US" sz="2200" spc="-1" strike="noStrike" baseline="30000">
                <a:solidFill>
                  <a:srgbClr val="eaeaea"/>
                </a:solidFill>
                <a:latin typeface="Arial"/>
              </a:rPr>
              <a:t>rd</a:t>
            </a: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 year funds arranged through EDF grant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Funding of NTTFC Secretari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286000" y="2487600"/>
          <a:ext cx="4572000" cy="2117880"/>
        </p:xfrm>
        <a:graphic>
          <a:graphicData uri="http://schemas.openxmlformats.org/drawingml/2006/table">
            <a:tbl>
              <a:tblPr/>
              <a:tblGrid>
                <a:gridCol w="1295280"/>
                <a:gridCol w="1676520"/>
                <a:gridCol w="16002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54e"/>
                          </a:solidFill>
                          <a:latin typeface="Arial"/>
                        </a:rPr>
                        <a:t>Year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54e"/>
                          </a:solidFill>
                          <a:latin typeface="Arial"/>
                        </a:rPr>
                        <a:t>Project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54e"/>
                          </a:solidFill>
                          <a:latin typeface="Arial"/>
                        </a:rPr>
                        <a:t>PSC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00%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80%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20%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45%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55%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2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ubsequent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00%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ircle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40"/>
                            </p:stCondLst>
                            <p:childTnLst>
                              <p:par>
                                <p:cTn id="2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40"/>
                            </p:stCondLst>
                            <p:childTnLst>
                              <p:par>
                                <p:cTn id="2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Performance of </a:t>
            </a: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NTTFC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0" name=""/>
          <p:cNvSpPr/>
          <p:nvPr/>
        </p:nvSpPr>
        <p:spPr>
          <a:xfrm>
            <a:off x="1095480" y="1644480"/>
            <a:ext cx="777240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oods Declaration Form introduced as SA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andard forms according to IMO FAL Conven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oduction of Phytosanitary Certificate, Certificate of Origin and Commercial Invoice on UNL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arriage of Goods by Road Act and Carriage of Goods by Sea Act approved by Cabinet and presented to National Assembl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arriage by Air Act and Marine Insurance Act presented to Cabinet for approv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ld various training workshop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760"/>
                            </p:stCondLst>
                            <p:childTnLst>
                              <p:par>
                                <p:cTn id="3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Performance of NTTFC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1095480" y="1644480"/>
            <a:ext cx="777240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ocuments produced for modernization of freight forwarding industry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tandard trading condition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inimum qualification standard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ode of condu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ld seminars on International Standard Banking Practices and ICP 50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uidance provided for ratification of various conventio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udy for refrigerated transport and cold storage of fresh produ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lped in implementation of security meas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134200" y="1447920"/>
            <a:ext cx="1009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eaeaea"/>
                </a:solidFill>
                <a:latin typeface="Comic Sans MS"/>
              </a:rPr>
              <a:t>Continue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Difficulties in efficient functioning of NTTFC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5" name=""/>
          <p:cNvSpPr/>
          <p:nvPr/>
        </p:nvSpPr>
        <p:spPr>
          <a:xfrm>
            <a:off x="1095480" y="1644480"/>
            <a:ext cx="777240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cisions of recommendatory nature required lengthy follow up for implement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luctance to accept chang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requent changes of Chairman and other key personn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inancial constraints of NTTFC Secretaria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adequate professional contribution by members of Working Group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680"/>
                            </p:stCondLst>
                            <p:childTnLst>
                              <p:par>
                                <p:cTn id="3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Preconditions for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success and sustainability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7" name=""/>
          <p:cNvSpPr/>
          <p:nvPr/>
        </p:nvSpPr>
        <p:spPr>
          <a:xfrm>
            <a:off x="1095480" y="1644480"/>
            <a:ext cx="751500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tical will and commitment at highest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rrect understanding and definition of public and private sector ro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wnership and commitment of key stakehold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mitted lead agenc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presentation of concerned ministries and public &amp; private sector organizations at senior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680"/>
                            </p:stCondLst>
                            <p:childTnLst>
                              <p:par>
                                <p:cTn id="3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Preconditions for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success and sustainability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9" name=""/>
          <p:cNvSpPr/>
          <p:nvPr/>
        </p:nvSpPr>
        <p:spPr>
          <a:xfrm>
            <a:off x="1095480" y="1644480"/>
            <a:ext cx="777240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134200" y="1447920"/>
            <a:ext cx="1009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eaeaea"/>
                </a:solidFill>
                <a:latin typeface="Comic Sans MS"/>
              </a:rPr>
              <a:t>Continue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95280" y="1752480"/>
            <a:ext cx="7620120" cy="41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spcBef>
                <a:spcPts val="10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itutional arrangement for functioning on permanent basi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0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rong linkage with international trade facilitation institut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0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ior identification of key issues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0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velopment of a project with well defined objectives and action pla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Preconditions for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success and sustainability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3" name=""/>
          <p:cNvSpPr/>
          <p:nvPr/>
        </p:nvSpPr>
        <p:spPr>
          <a:xfrm>
            <a:off x="1095480" y="1644480"/>
            <a:ext cx="777240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531720" indent="-531720">
              <a:lnSpc>
                <a:spcPct val="100000"/>
              </a:lnSpc>
              <a:spcBef>
                <a:spcPts val="2100"/>
              </a:spcBef>
              <a:buClr>
                <a:srgbClr val="6699ff"/>
              </a:buClr>
              <a:buFont typeface="Arial"/>
              <a:buChar char="•"/>
              <a:tabLst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531720" indent="-531720">
              <a:lnSpc>
                <a:spcPct val="100000"/>
              </a:lnSpc>
              <a:spcBef>
                <a:spcPts val="2100"/>
              </a:spcBef>
              <a:buClr>
                <a:srgbClr val="6699ff"/>
              </a:buClr>
              <a:buFont typeface="Arial"/>
              <a:buChar char="•"/>
              <a:tabLst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134200" y="1447920"/>
            <a:ext cx="1009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eaeaea"/>
                </a:solidFill>
                <a:latin typeface="Comic Sans MS"/>
              </a:rPr>
              <a:t>Continue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95280" y="1905120"/>
            <a:ext cx="7239240" cy="45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53880">
              <a:lnSpc>
                <a:spcPct val="100000"/>
              </a:lnSpc>
              <a:spcBef>
                <a:spcPts val="10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chnical and financial support of international organizations to implement the projec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-353880">
              <a:lnSpc>
                <a:spcPct val="100000"/>
              </a:lnSpc>
              <a:spcBef>
                <a:spcPts val="10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ermanent secretariat with experienced professionals rewarded at market rat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-353880">
              <a:lnSpc>
                <a:spcPct val="100000"/>
              </a:lnSpc>
              <a:spcBef>
                <a:spcPts val="10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ound financial arrangement for running NTTFC Secretariat on permanent basi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-353880">
              <a:lnSpc>
                <a:spcPct val="100000"/>
              </a:lnSpc>
              <a:spcBef>
                <a:spcPts val="10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-353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680"/>
                            </p:stCondLst>
                            <p:childTnLst>
                              <p:par>
                                <p:cTn id="391" nodeType="after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Preconditions for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success and sustainability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7" name=""/>
          <p:cNvSpPr/>
          <p:nvPr/>
        </p:nvSpPr>
        <p:spPr>
          <a:xfrm>
            <a:off x="1095480" y="1644480"/>
            <a:ext cx="777240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ggested structure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ember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eering Committee / Counci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orking Group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TTFC to play role of coordinator, facilitator and technical support provid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xecution by the concerned organizat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134200" y="1447920"/>
            <a:ext cx="1009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eaeaea"/>
                </a:solidFill>
                <a:latin typeface="Comic Sans MS"/>
              </a:rPr>
              <a:t>Continue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680"/>
                            </p:stCondLst>
                            <p:childTnLst>
                              <p:par>
                                <p:cTn id="40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276720" y="2743200"/>
            <a:ext cx="38098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ank you</a:t>
            </a:r>
            <a:endParaRPr b="0" i="1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circle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2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99ff"/>
                                      </p:to>
                                    </p:animClr>
                                    <p:set>
                                      <p:cBhvr>
                                        <p:cTn id="42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Background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95480" y="164412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1989 - World Bank Workshop – PAKPRO establish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1992-94 - UNCTAD Multimodal &amp; Trade Facilitation Workshop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1995-96 - World Bank Logistics Cost Stud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1998 – World Bank funded TTFP with technical support of UNCTAD approved and establishment of NTTFC notifi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2001 – NTTFC Secretariat establish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ebruary 2002 - work on TTFP jumpstarts with Project Mobilization Workshop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June 2006 - TTFP conclud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nd 2006 - TTF2 to comm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40"/>
                            </p:stCondLst>
                            <p:childTnLst>
                              <p:par>
                                <p:cTn id="47" nodeType="after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TTFP Objective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95120" y="1644120"/>
            <a:ext cx="7591320" cy="490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troduction of Single Administrative Docu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dernization of transport legisl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andard terms and conditions for contract of carriage of good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dernization of freight forward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dernization of marine transport insura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reamlining of financial and banking provisions relating to foreign trade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0"/>
                            </p:stCondLst>
                            <p:childTnLst>
                              <p:par>
                                <p:cTn id="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TTFP Objective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95120" y="1644120"/>
            <a:ext cx="7591320" cy="490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view of international conventions related to Customs, trade and transport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stablishment of an operational trade poi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y for promotion of refrigerator transport and cold storage of fresh procedur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itutional strengthening of NTTFC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velopment of local training managers in trade facilit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134200" y="1447920"/>
            <a:ext cx="1009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eaeaea"/>
                </a:solidFill>
                <a:latin typeface="Comic Sans MS"/>
              </a:rPr>
              <a:t>Continue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onstitution of NTTFC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95480" y="1644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414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inistry of Commer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14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inistry of Communicatio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14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inistry of Fina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14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inistry of Planning and Develop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14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entral Board of Revenu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14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ate Bank of Pakist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14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kistan Shippers Council of FPCC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14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ational Logistic Cel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14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Karachi Port Tru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14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ort Qasim Authorit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14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NSC /National shipowne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14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kistan Railway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14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xport Promotion Bureau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14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kistan Horticulture Development and Export Boar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800"/>
                            </p:stCondLst>
                            <p:childTnLst>
                              <p:par>
                                <p:cTn id="86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300"/>
                            </p:stCondLst>
                            <p:childTnLst>
                              <p:par>
                                <p:cTn id="90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800"/>
                            </p:stCondLst>
                            <p:childTnLst>
                              <p:par>
                                <p:cTn id="94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300"/>
                            </p:stCondLst>
                            <p:childTnLst>
                              <p:par>
                                <p:cTn id="98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800"/>
                            </p:stCondLst>
                            <p:childTnLst>
                              <p:par>
                                <p:cTn id="102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300"/>
                            </p:stCondLst>
                            <p:childTnLst>
                              <p:par>
                                <p:cTn id="106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800"/>
                            </p:stCondLst>
                            <p:childTnLst>
                              <p:par>
                                <p:cTn id="110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300"/>
                            </p:stCondLst>
                            <p:childTnLst>
                              <p:par>
                                <p:cTn id="114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800"/>
                            </p:stCondLst>
                            <p:childTnLst>
                              <p:par>
                                <p:cTn id="118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300"/>
                            </p:stCondLst>
                            <p:childTnLst>
                              <p:par>
                                <p:cTn id="122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800"/>
                            </p:stCondLst>
                            <p:childTnLst>
                              <p:par>
                                <p:cTn id="126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6300"/>
                            </p:stCondLst>
                            <p:childTnLst>
                              <p:par>
                                <p:cTn id="130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6800"/>
                            </p:stCondLst>
                            <p:childTnLst>
                              <p:par>
                                <p:cTn id="134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7300"/>
                            </p:stCondLst>
                            <p:childTnLst>
                              <p:par>
                                <p:cTn id="138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onstitution of NTTFC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95480" y="16441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kistan International Airlin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ll and Medium Enterprises Development Authorit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modal Transport Operato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PCCI, Karach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urance Association of Pakist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y Port Terminal Operato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ight Forwarders Associa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kistan Ship Agents Associa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Pakistan Shipping Associa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ods Carriage Associa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kistan Bankers Associa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C Pakistan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34200" y="1447920"/>
            <a:ext cx="1009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eaeaea"/>
                </a:solidFill>
                <a:latin typeface="Comic Sans MS"/>
              </a:rPr>
              <a:t>Continue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5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5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5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NTTFC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Terms of Referenc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95120" y="164412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7800" indent="-577800">
              <a:lnSpc>
                <a:spcPct val="80000"/>
              </a:lnSpc>
              <a:spcBef>
                <a:spcPts val="524"/>
              </a:spcBef>
              <a:spcAft>
                <a:spcPts val="788"/>
              </a:spcAft>
              <a:buClr>
                <a:srgbClr val="6699ff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Continuous review of the trade and transport procedures and systems with a view to update their simplification and harmonization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524"/>
              </a:spcBef>
              <a:spcAft>
                <a:spcPts val="788"/>
              </a:spcAft>
              <a:buClr>
                <a:srgbClr val="6699ff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Undertake coordination of efforts of concerned organizations in the field of facilitation of international trade and transport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524"/>
              </a:spcBef>
              <a:spcAft>
                <a:spcPts val="788"/>
              </a:spcAft>
              <a:buClr>
                <a:srgbClr val="6699ff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Collect and disseminate information on international trade and transport formalities, procedures, documentation and related matters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524"/>
              </a:spcBef>
              <a:spcAft>
                <a:spcPts val="788"/>
              </a:spcAft>
              <a:buClr>
                <a:srgbClr val="6699ff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ursue the simplification and alignment of trade and transport documents on the basis of the United Nations layout key, including documents designed for use in computer and other automated systems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524"/>
              </a:spcBef>
              <a:spcAft>
                <a:spcPts val="788"/>
              </a:spcAft>
              <a:buClr>
                <a:srgbClr val="6699ff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romote the adoption of the standard trade and transport terminology and international codes for trade and transport legislation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920"/>
                            </p:stCondLst>
                            <p:childTnLst>
                              <p:par>
                                <p:cTn id="20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420"/>
                            </p:stCondLst>
                            <p:childTnLst>
                              <p:par>
                                <p:cTn id="20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920"/>
                            </p:stCondLst>
                            <p:childTnLst>
                              <p:par>
                                <p:cTn id="2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420"/>
                            </p:stCondLst>
                            <p:childTnLst>
                              <p:par>
                                <p:cTn id="2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920"/>
                            </p:stCondLst>
                            <p:childTnLst>
                              <p:par>
                                <p:cTn id="2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Black"/>
              </a:rPr>
              <a:t>NTTFC Organisation Structure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295280" y="1535040"/>
          <a:ext cx="7696440" cy="478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535040"/>
                    <a:ext cx="7696440" cy="47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ircl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80"/>
                            </p:stCondLst>
                            <p:childTnLst>
                              <p:par>
                                <p:cTn id="2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TTFP Steering Committe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647712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hairman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TTFC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hairman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SC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presentative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orld Ban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presentative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NCTA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880"/>
                            </p:stCondLst>
                            <p:childTnLst>
                              <p:par>
                                <p:cTn id="25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880"/>
                            </p:stCondLst>
                            <p:childTnLst>
                              <p:par>
                                <p:cTn id="2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880"/>
                            </p:stCondLst>
                            <p:childTnLst>
                              <p:par>
                                <p:cTn id="2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880"/>
                            </p:stCondLst>
                            <p:childTnLst>
                              <p:par>
                                <p:cTn id="2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4T05:03:13Z</dcterms:created>
  <dc:creator>رضوان اکبر علی</dc:creator>
  <dc:description/>
  <dc:language>en-US</dc:language>
  <cp:lastModifiedBy>JAWED MANSOOR</cp:lastModifiedBy>
  <dcterms:modified xsi:type="dcterms:W3CDTF">2006-10-27T10:46:49Z</dcterms:modified>
  <cp:revision>23</cp:revision>
  <dc:subject/>
  <dc:title>Trade &amp; Transport Facilitation Committee - Pakista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