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93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39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93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39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116240" y="7632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onference On Trade and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(UNCT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2880" y="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entre for Trade Facilitation and Electronic business (UN/CEF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121932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odasce@wanadoo.fr" TargetMode="External"/><Relationship Id="rId2" Type="http://schemas.openxmlformats.org/officeDocument/2006/relationships/hyperlink" Target="http://www.odasce.asso.f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447920"/>
            <a:ext cx="7162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UNCTAD/UNECE WORKSHO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engthening National and Regional Trade Facilitatio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ne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1 October – 1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610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ountry’s experien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236000" y="4724280"/>
            <a:ext cx="1730160" cy="1697040"/>
            <a:chOff x="7236000" y="4724280"/>
            <a:chExt cx="1730160" cy="16970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7524720" y="5084640"/>
              <a:ext cx="12002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236000" y="4724280"/>
              <a:ext cx="173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Unicode MS"/>
                </a:rPr>
                <a:t>O.D.A.S.C.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opportunities for facilitating trade in you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82296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4040" indent="-3495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unctional terms, issues arise in the following 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94480" indent="-325800">
              <a:spcAft>
                <a:spcPts val="499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French customs IT system (Del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94480" indent="-325800">
              <a:spcAft>
                <a:spcPts val="499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s reform at EU level, particularly the Authorised Economic Operator scheme and its (promised) business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94480" indent="-325800">
              <a:spcAft>
                <a:spcPts val="499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nch interpretation of EU customs and tax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94480" indent="-325800">
              <a:spcAft>
                <a:spcPts val="499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ortion of competition (real or imagined) between French ports and those in neighbouring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94480" indent="-325800">
              <a:spcAft>
                <a:spcPts val="499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epressive approach to customs and tax controls in France, compared with best practice else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obstacles to implementing trade facilitation in you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824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iculty of achieving open and constructive dialogue with French administrations (was very tough, but is now improv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understanding by control agencies of business needs, priorities and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understanding by business of legitimate needs of control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the gendar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re the main challenges in your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solvent – funding is a constant wo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credible, with administrations and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the massive flow of information and keeping on top of constant regulatory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ompetitive in our train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ing adequate (or even good) relations with French administrative depar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ing time to get everything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ns for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040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improvements in our financial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ing membership and our training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our conference activities and opportunities for dia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our international connections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ing communications with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act for further inform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lyne IRIGARAY, General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DAS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9 rue du Faubourg Poissonniè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5009 PARIS  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l: +33 1 55 34 76 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dasce@wanadoo.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dasce.asso.f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236000" y="4724280"/>
            <a:ext cx="1730160" cy="1697040"/>
            <a:chOff x="7236000" y="4724280"/>
            <a:chExt cx="1730160" cy="169704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7524720" y="5084640"/>
              <a:ext cx="12002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236000" y="4724280"/>
              <a:ext cx="173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Unicode MS"/>
                </a:rPr>
                <a:t>O.D.A.S.C.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e and structure of the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ASCE is an Association under the French law of 1901 governing non-profit making bodies; it was set up in 19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irected by a Board elected by its members and managed by a permanent staff of three, based in P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date, purpose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m of ODASCE is to promote the simplification of trade procedures, trade facilitation and a maximum use of new technologies in both the public and private sectors – the global objective being the reduction of costs for the private sector and an improved dialogue between administrations and busines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activities of the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tivities in support of this broad aim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 of conferences (biennial Colloque; Club Clé-Doua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sion of training courses to members and non-members (chiefly French companies operating in France) on relevant trade, customs and tax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activities of the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volvement of members in ODASCE committees, looking at 1) Trade Facilitation, 2) Training, 3) International Affairs, 4) the Bi-annual Colloque, 5) Customs Management and Benchma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sion of trade-related information and support to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titution of a channel for dialogue with French and European rule-making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do you determine your priorities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DASCE Board, with the association’s members, decide on topics for discussion, training and dialogue with the administrations conce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emanating from French administrative bodies and the European Commission drive analyses, consultations and representative meetings with those we seek to infl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do you determine your priorities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can suggest issues for treatment through the committee structure or directly with Board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on with like-minded organisations in other countries enables ODASCE to join in broader trade facilitation initiatives and deb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is the organization financ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ASCE derives funds from members’ subscriptions, from charges for training courses delivered to members and non-members, and from conference rece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ASCE receives no subsidy or direct financial help from French government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in opportunities for facilitating trade in you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82296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guing with French administrative bodies (Customs, tax authorities, etc) for simpler procedures and the reduction of burdens on French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ation in the wider European Union debate about customs and trade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sing for multilateral solutions (eg via WTO, WCO and UNECE) to trade facilit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Marchand</dc:creator>
  <dc:description/>
  <dc:language>en-US</dc:language>
  <cp:lastModifiedBy>Peter Wilmott</cp:lastModifiedBy>
  <dcterms:modified xsi:type="dcterms:W3CDTF">2006-10-26T14:24:16Z</dcterms:modified>
  <cp:revision>950</cp:revision>
  <dc:subject/>
  <dc:title>United Nations Electronic Trade</dc:title>
</cp:coreProperties>
</file>