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6B9-5375-4EE6-8818-850A85D1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0BD-078A-42DB-BD0B-23491505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8EE-DA7A-4239-A7E6-1418A97C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524-A6C6-496A-B259-9F775EF5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D8E2-8732-42AB-AA94-C44BBD7D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CD1C-9016-44D1-A182-F7A03CB0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47D1-A7E3-47FF-ACF1-31C6828F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5BFA-08D5-4DE6-B983-955CE3A3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2345-6B20-4DE8-8832-620024B3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9935-9F71-4FB9-9D7F-C07368FB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51D7-2056-4245-8588-3F08BCF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C61-2681-458F-A668-EBD7615E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9321-FCCB-49A5-8BD2-C53EE56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18CD-67F3-42AC-8073-C0B0188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ADBF-61C5-4E5C-8922-D9CCB60A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1474-8D2C-4A25-AE6D-B81E84E8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2748-E7C8-4923-898E-B957680A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F87-8DAF-48B0-8DAB-7B747603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1A6-2FBA-4F29-BA80-ED119A86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B2D-1493-4906-AEF5-312FEFD5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4FD-90C9-4206-87B4-BCBB38A5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7BC-D844-4831-B0FD-9FCF278F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DD7-8682-4486-ABE7-847EB36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E79-1FCF-4F3F-81C3-844D3B7B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EE89-FCCF-4CD6-90B7-A243B57C23A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F3B-582C-4DE8-988A-E0123907A4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CFB3-57D8-42C9-852A-F2CDCCDA8E0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88B7-EB55-4C3B-B21E-225926FFA0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pkastrati@mete.gov.a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03640" y="457200"/>
            <a:ext cx="544680" cy="63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29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BP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TIONAL TRADE FACILITATION BO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73392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038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UNCTAD / UNECE Workshop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Strengthening National and Regional</a:t>
            </a:r>
            <a:br>
              <a:rPr sz="3000"/>
            </a:b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 Trade Facilitation Organizations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386-5994-4B34-A544-568096D82E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-co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00"/>
                </a:solidFill>
                <a:uFillTx/>
                <a:latin typeface="Arial"/>
              </a:rPr>
              <a:t>Active business community particip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Absolute necess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Qualified and structured particip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Awareness and willing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eed to prioritiz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See measurable results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6B4-BC19-4D05-A460-2EAFE6AC94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00"/>
                </a:solidFill>
                <a:uFillTx/>
                <a:latin typeface="Arial"/>
              </a:rPr>
              <a:t>Government involv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ecessary but insuffici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Build reliabilit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nsure implementation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Match business needs with appropriate timetabl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-co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EC9-92A4-4A83-A0AC-E916EFF5E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-co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nstitutional setup versus</a:t>
            </a:r>
            <a:r>
              <a:rPr b="0" lang="en-US" sz="3000" spc="-1" strike="noStrike" u="sng">
                <a:solidFill>
                  <a:srgbClr val="cc3399"/>
                </a:solidFill>
                <a:uFillTx/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sustainable mechan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 balanced relation is desirable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overnment involvement to promote solutions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3E8-98E2-401E-848E-473104706D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-co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rade facilitation, a priority for business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Albania, maybe N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T, for the G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is considered very import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is top priority agenda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rete arrangements undert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F77-94D9-4BCB-A166-E8F2390851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can be d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Revitalize ALBAPR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Show positive results to reestablish reliability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dentify stumbling blocks  to this process and introduce recommendations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troduce a sustainable agenda for Trade Facilitati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Match PRO-s agenda with Government agenda on trade facilitation issu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084-D1A6-4721-83C1-A508B8CCB4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2057040"/>
            <a:ext cx="854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ank you for your atten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4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4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sz="3400" spc="-1" strike="noStrike">
                <a:solidFill>
                  <a:srgbClr val="ffff00"/>
                </a:solidFill>
                <a:latin typeface="Arial"/>
              </a:rPr>
              <a:t>Pranvera Kastra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154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or for Trade Polic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istry of Economy, Trade and Energ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kastrati@mete.gov.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5DB-5607-476C-A308-CC4C733024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752480"/>
            <a:ext cx="74674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egal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 Decree 636, 8.10.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ype and stru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ublic-private organization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haired by: (i) Deputy Minister of Trade, later (ii) President of Union of CCI of Alba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omposed by governmental institution, with “mandator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ipation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(ii) business community, (iii) other institu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17B-67DA-4776-8172-6D195BD2C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rrent Structure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1680" y="1676160"/>
            <a:ext cx="854064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C04-0064-4B2C-839B-2000026F84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000" y="479520"/>
            <a:ext cx="53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date and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371600"/>
            <a:ext cx="876312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3399"/>
                </a:solidFill>
                <a:latin typeface="Arial"/>
              </a:rPr>
              <a:t>ALBAPRO is a consultative body on trade facilitation issu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</a:rPr>
              <a:t>Objectiv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opose to decision-makers tendencies and goals for trade facili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opose specific programs in trade facilitation are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xamine and simplify  trade procedures and method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dertake professional studies on trade facilitation and propose measures for implemen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ovide expertise to business community on international institution, rules and practices of trade facili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ncrease awareness in trade facilitation issues through publications, consultations and specific progra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825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ovide training on trade and transport facilitation concept, programs, etc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A55-4FB3-4B71-A0D9-81C0F6A668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stitutional Support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23880"/>
            <a:ext cx="85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sting struc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of Albania, 1998-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mbers, 2003 and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sitive and negative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level of pow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awareness by the GoA for the importance and the role of ALBAPR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ility and good ima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ce by high level chairmanship or “full control” by the Go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ce from political change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4D8-66F3-4868-BF99-D632156A35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ccesses-Failures-200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Suc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lement satisfactory TTFSE projec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ining almost 300 trade and transport operators trained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ducting a professional promotional campaig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upporting the process of TTFSE website develop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pable structure at regional &amp; international environ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ngthen knowledge of business commun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wareness and accountabil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</a:rPr>
              <a:t>Fail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generating other activities besides TTF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self-financing of the commit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594-F13F-445B-AEEC-9DEA7E1EF1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we stand no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BAPRO is virtual structure, almost inexisten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agenda and objectives of PRO-s remain  at stake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rade facilitation is gaining importance every day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overnment awareness remains the same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existent role of business community on trade facilitation issues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2DE-9F9C-4103-B241-61AE2C62C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key for success for Trade Facilitation Bodie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olitical will / commitment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Active business community participation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Government involvement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stitutional setup versus</a:t>
            </a:r>
            <a:r>
              <a:rPr b="0" lang="en-US" sz="31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sustainable mechanism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rade facilitation, a priority for business community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106-F095-4E5B-AB0F-0A2F42103D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2057400"/>
            <a:ext cx="8004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00"/>
                </a:solidFill>
                <a:uFillTx/>
                <a:latin typeface="Arial"/>
              </a:rPr>
              <a:t>Political will / commit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t is a “must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Should be considered as prerequisite for succ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Gain and maintain “momentum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7B6-75A8-46F1-B3EC-CDFEA9D2FA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9:36:01Z</dcterms:created>
  <dc:creator>Enis Hoxha</dc:creator>
  <dc:description/>
  <dc:language>en-US</dc:language>
  <cp:lastModifiedBy>ONU</cp:lastModifiedBy>
  <dcterms:modified xsi:type="dcterms:W3CDTF">2006-10-31T08:35:15Z</dcterms:modified>
  <cp:revision>64</cp:revision>
  <dc:subject/>
  <dc:title>Shqiperia dhe Procesi i hapjes nga Marreveshjet e Tregtise se Lire ne Rajon</dc:title>
</cp:coreProperties>
</file>