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40D-EF34-4407-8F9C-652A6A6B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D76-3B67-4E0B-B19F-1F6A99A5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7BF-5BAE-42C4-A26D-3AD0390D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BC6-CF4A-47D1-B64B-9E664A5E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288C-14C6-4B6E-B749-722BE6C4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A4E2-6652-44C1-A7E3-8FE45C69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D6ED-C9B3-49EF-A910-BA044993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55F4-00F2-4AAA-AA7F-BA3973FA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3E01-6093-4150-9DAE-2E138C8E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8295-AABA-4379-B723-C74CC8AA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B806-EF36-4C23-B2C6-12AC7FE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4F9-78BA-4184-B832-C5A69554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799F-4E1A-4395-A791-D02B45AB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5FC7-0012-4460-BAFF-B59B8B3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A57F-5816-4EE6-8059-8BEF4D2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1F90-B648-4F90-BDE6-41325DA0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F1E3-061B-4DD2-B977-78839BAB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6F8-1E03-4A24-BAD1-E7FAF036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FB8-32D4-4A3C-B67F-ED558D5A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DF5-0A95-4F3B-9FB0-52B32570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756-2C78-482B-BA8D-9A2C227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333-7A58-4E2F-83F2-EE75C9FA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B85-5FF3-4732-ADCC-ABC2D152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B4A-A1A8-41DD-A0AA-C3E2137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3E90-2088-4F99-B382-AF3FFCEB3ED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EC44-9FFA-4717-8D50-3D60D9ADDF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F911-9964-4F4D-9D27-EB168D503C1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538E-8025-4A92-B508-2B3B78102A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pkastrati@mete.gov.a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03640" y="457200"/>
            <a:ext cx="544680" cy="63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29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BP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TIONAL TRADE FACILITATION BO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73392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038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UNCTAD / UNECE Workshop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Strengthening National and Regional</a:t>
            </a:r>
            <a:br>
              <a:rPr sz="3000"/>
            </a:b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 Trade Facilitation Organizations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1B2-BD34-4B0B-94AC-9E46C13C12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-co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00"/>
                </a:solidFill>
                <a:uFillTx/>
                <a:latin typeface="Arial"/>
              </a:rPr>
              <a:t>Active business community particip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Absolute necess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Qualified and structured particip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Awareness and willing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eed to prioritiz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See measurable results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98B-4F6F-4274-93B0-7F8E35F84C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00"/>
                </a:solidFill>
                <a:uFillTx/>
                <a:latin typeface="Arial"/>
              </a:rPr>
              <a:t>Government involv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ecessary but insuffici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Build reliabilit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nsure implementation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Match business needs with appropriate timetabl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-co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240-4718-4630-9129-4E6F1317A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-co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nstitutional setup versus</a:t>
            </a:r>
            <a:r>
              <a:rPr b="0" lang="en-US" sz="3000" spc="-1" strike="noStrike" u="sng">
                <a:solidFill>
                  <a:srgbClr val="cc3399"/>
                </a:solidFill>
                <a:uFillTx/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sustainable mechan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 balanced relation is desirable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overnment involvement to promote solutions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7BF-CD74-4BF2-8564-EC3EE8486B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-co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rade facilitation, a priority for busines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Albania, maybe N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T, for the G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is considered very import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is top priority agenda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rete arrangements undert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5B4-9520-4DE8-AA09-56FC8185FE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can be d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Revitalize ALBAPR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Show positive results to reestablish reliability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dentify stumbling blocks  to this process and introduce recommendations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troduce a sustainable agenda for Trade Facilitati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62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Match PRO-s agenda with Government agenda on trade facilitation issu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09C-E494-4B00-9D48-FCA2EB767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2057040"/>
            <a:ext cx="854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4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4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sz="3400" spc="-1" strike="noStrike">
                <a:solidFill>
                  <a:srgbClr val="ffff00"/>
                </a:solidFill>
                <a:latin typeface="Arial"/>
              </a:rPr>
              <a:t>Pranvera Kastra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154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or for Trade Polic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istry of Economy, Trade and Energ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kastrati@mete.gov.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3CE-5363-498F-9C05-879969E99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752480"/>
            <a:ext cx="74674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egal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 Decree 636, 8.10.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ype and stru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ublic-private organiza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haired by: (i) Deputy Minister of Trade, later (ii) President of Union of CCI of Alb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omposed by governmental institution, with “mandator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ipation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(ii) business community, (iii) other institu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723-BA68-48C4-A641-F1907BE91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Structure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1680" y="1676160"/>
            <a:ext cx="854064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43D-C615-4185-AC6A-C8EF97F259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000" y="479520"/>
            <a:ext cx="53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date and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371600"/>
            <a:ext cx="876312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3399"/>
                </a:solidFill>
                <a:latin typeface="Arial"/>
              </a:rPr>
              <a:t>ALBAPRO is a consultative body on trade facilitation issu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</a:rPr>
              <a:t>Objectiv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pose to decision-makers tendencies and goals for trade facili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pose specific programs in trade facilitation are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xamine and simplify  trade procedures and method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dertake professional studies on trade facilitation and propose measures for implemen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vide expertise to business community on international institution, rules and practices of trade facili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51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ncrease awareness in trade facilitation issues through publications, consultations and specific progra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825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vide training on trade and transport facilitation concept, programs, etc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D51-29F4-462E-9988-BC0ACD0075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stitutional Support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85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sting struc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of Albania, 1998-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mbers, 2003 and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sitive and negative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level of pow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awareness by the GoA for the importance and the role of ALBAPR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ility and good ima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ce by high level chairmanship or “full control” by the Go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ce from political change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B61-625A-4D21-937A-9C3152078E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ccesses-Failures-200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Suc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lement satisfactory TTFSE projec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ining almost 300 trade and transport operators trained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ducting a professional promotional campaig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upporting the process of TTFSE website develop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pable structure at regional &amp; international environ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ngthen knowledge of business commun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wareness and accountabil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</a:rPr>
              <a:t>Fail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generating other activities besides TTF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self-financing of the commit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E30-AF0B-4FDA-A23C-0F1878B59D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we stand no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BAPRO is virtual structure, almost inexisten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agenda and objectives of PRO-s remain  at stake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rade facilitation is gaining importance every day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overnment awareness remains the same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existent role of business community on trade facilitation issues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ED1-642A-4CCA-9EC0-D50E608CB3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key for success for Trade Facilitation Bodie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olitical will / commitment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Active business community participation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Government involvement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stitutional setup versus</a:t>
            </a:r>
            <a:r>
              <a:rPr b="0" lang="en-US" sz="31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sustainable mechanism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rade facilitation, a priority for business community 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4BF-43DF-4310-A56F-5D5EF9CD81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answ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2057400"/>
            <a:ext cx="8004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00"/>
                </a:solidFill>
                <a:uFillTx/>
                <a:latin typeface="Arial"/>
              </a:rPr>
              <a:t>Political will / commit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t is a “must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Should be considered as prerequisite for succ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Gain and maintain “momentum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vember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D9C-533F-42B4-B4A8-350D63503F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9:36:01Z</dcterms:created>
  <dc:creator>Enis Hoxha</dc:creator>
  <dc:description/>
  <dc:language>en-US</dc:language>
  <cp:lastModifiedBy>ONU</cp:lastModifiedBy>
  <dcterms:modified xsi:type="dcterms:W3CDTF">2006-10-31T08:35:15Z</dcterms:modified>
  <cp:revision>64</cp:revision>
  <dc:subject/>
  <dc:title>Shqiperia dhe Procesi i hapjes nga Marreveshjet e Tregtise se Lire ne Rajon</dc:title>
</cp:coreProperties>
</file>