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20.jpeg" ContentType="image/jpeg"/>
  <Override PartName="/ppt/media/image39.wmf" ContentType="image/x-wmf"/>
  <Override PartName="/ppt/media/image41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2192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41920" y="942192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A21153-4B08-4DE3-B83C-1F567A33ED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41920" y="942192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27ED4-AB6C-4A0C-B9E4-2652E4503F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942192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719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to talk about quality – her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41920" y="942192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B5548C-1225-43AE-B247-D0AEA213C4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942192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719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ECE standards are recommend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ountries have transposed them into national la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a number of products they have served as the basis for quality standards in the European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number of Codex standards are based on UNECE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ECD scheme produces interpretative brochures for UNECE standards to harmonize their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41920" y="942192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3D9A26-DF54-468E-A5FF-2DDE17BA39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942192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7196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41920" y="942192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E75B84-944F-4678-9324-C2A7203865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942192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7196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41920" y="942192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125243-B267-4E2C-880A-98AE77413F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942192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719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ose to 100 standards have been adopted so far by the Agricultural S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you can see on the screen there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46 standards for fresh fruit and vege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17 for dry and dried fru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3 for seed, early and ware potato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3 for meat (standards for Pork, Beef and Poultry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5 for eggs and egg products and, fin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8 for cut flowers. …..CLIC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41920" y="942192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766898-50B0-4688-97FE-84B6104A47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942192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7196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5B15-9864-4561-B3D2-39DFE0BA0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8609-3C46-40C5-9694-D88973DF2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73D0-581B-4353-85E4-62395B197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520C-6AF2-4D63-9653-1E7F69E85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5E64-A4CB-4342-8059-56B6FE924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3955-CB91-430A-98FC-67E78F5AD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12FE-5BBE-4B63-AE95-793B3BBDF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3DDA-0525-477F-B8F8-8F1D780C4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C7E9-1849-49C0-97C0-7C8605D64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F244-FEEB-4634-A540-45FF11D10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5D80-A5BB-4110-AA47-3B19690FE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BB8A-561D-41E1-A73C-217F09C73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19760" y="6477120"/>
            <a:ext cx="152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1D99-9C4A-405F-9EBF-1DF0CB01371F}" type="slidenum">
              <a:rPr b="0" lang="en-US" sz="1400" spc="-1" strike="noStrike">
                <a:solidFill>
                  <a:srgbClr val="000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7120"/>
            <a:ext cx="9220320" cy="380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477120"/>
            <a:ext cx="6782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Arial"/>
              </a:rPr>
              <a:t>ЕЭК О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unlog1" descr=""/>
          <p:cNvPicPr/>
          <p:nvPr/>
        </p:nvPicPr>
        <p:blipFill>
          <a:blip r:embed="rId2"/>
          <a:stretch/>
        </p:blipFill>
        <p:spPr>
          <a:xfrm>
            <a:off x="0" y="6477120"/>
            <a:ext cx="380880" cy="311040"/>
          </a:xfrm>
          <a:prstGeom prst="rect">
            <a:avLst/>
          </a:prstGeom>
          <a:ln w="0">
            <a:noFill/>
          </a:ln>
        </p:spPr>
      </p:pic>
      <p:pic>
        <p:nvPicPr>
          <p:cNvPr id="7" name="unlog1" descr=""/>
          <p:cNvPicPr/>
          <p:nvPr/>
        </p:nvPicPr>
        <p:blipFill>
          <a:blip r:embed="rId3"/>
          <a:stretch/>
        </p:blipFill>
        <p:spPr>
          <a:xfrm>
            <a:off x="8077320" y="152280"/>
            <a:ext cx="91440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3852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160" y="3885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рджиния Крам-Март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вропейская экономическая комиссия Организации Объединенных Н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0"/>
                </a:solidFill>
                <a:latin typeface="Arial"/>
              </a:rPr>
              <a:t>ЕЭК ООН и стандарты качества сельскохозяйственной проду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B3D8-0AE2-4961-AEAA-03F597E2FA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Принципы разработки стандартов ЕЭК ООН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ять участие всех заинтересованных сторон (закупщиков, оптовых и розничных торговцев, производителей, потребителей и т.д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о участие других международных организаций для создания стандартов и отсутствия их повторной разрабо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страны-члены ООН могут участвовать на равных прав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я принимаются на основе консенсу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1F5E-C572-4C12-98EA-BB8B11334B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Страны-участницы</a:t>
            </a:r>
            <a:r>
              <a:rPr b="1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гентина, Австралия, Австрия, Бельгия, Боливия, Бразилия, Болгария, Камерун, Канада, Чили, Кот д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вуар, Кипр, Дания, Эстония, Финляндия, Франция, Германия, Грузия, Греция, Венгрия, Индия, Ирландия, Италия, Кения, Литва, Марокко, Нидерланды, Новая Зеландия, Польша, Португалия, Румыния, Российская Федерация, Словакия, Южная Африка, Испания, Швеция, Швейцария, Украина, Таиланд, Турция, Соединенное Королевство, Соединенные Штаты, Уругвай, Европейск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6DB6-1B53-440B-B5BB-B9A0570FE9E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57600" y="1295280"/>
            <a:ext cx="1523880" cy="11430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624a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ндар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ЭК О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3351600"/>
            <a:ext cx="1447920" cy="520200"/>
          </a:xfrm>
          <a:prstGeom prst="rect">
            <a:avLst/>
          </a:prstGeom>
          <a:gradFill rotWithShape="0">
            <a:gsLst>
              <a:gs pos="0">
                <a:srgbClr val="9292fe"/>
              </a:gs>
              <a:gs pos="50000">
                <a:srgbClr val="0000ff"/>
              </a:gs>
              <a:gs pos="100000">
                <a:srgbClr val="929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вропейская Комисс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367440"/>
            <a:ext cx="1447560" cy="520200"/>
          </a:xfrm>
          <a:prstGeom prst="rect">
            <a:avLst/>
          </a:prstGeom>
          <a:gradFill rotWithShape="0">
            <a:gsLst>
              <a:gs pos="0">
                <a:srgbClr val="fe8a8a"/>
              </a:gs>
              <a:gs pos="50000">
                <a:srgbClr val="ff0000"/>
              </a:gs>
              <a:gs pos="100000">
                <a:srgbClr val="fe8a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декс Алиментариу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4495680"/>
            <a:ext cx="1600200" cy="1067040"/>
          </a:xfrm>
          <a:prstGeom prst="ellipse">
            <a:avLst/>
          </a:prstGeom>
          <a:gradFill rotWithShape="0">
            <a:gsLst>
              <a:gs pos="0">
                <a:srgbClr val="9292fe"/>
              </a:gs>
              <a:gs pos="50000">
                <a:srgbClr val="0000ff"/>
              </a:gs>
              <a:gs pos="100000">
                <a:srgbClr val="929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онодательств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4648320"/>
            <a:ext cx="1523880" cy="914400"/>
          </a:xfrm>
          <a:prstGeom prst="ellipse">
            <a:avLst/>
          </a:prstGeom>
          <a:gradFill rotWithShape="0">
            <a:gsLst>
              <a:gs pos="0">
                <a:srgbClr val="fe8a8a"/>
              </a:gs>
              <a:gs pos="50000">
                <a:srgbClr val="ff0000"/>
              </a:gs>
              <a:gs pos="100000">
                <a:srgbClr val="fe8a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андарт Кодек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4648320"/>
            <a:ext cx="1371600" cy="914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50000">
                <a:srgbClr val="747474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яснитель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рошю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367440"/>
            <a:ext cx="1447560" cy="5202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747474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хема ОЭС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76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Применение стандартов ЕЭК ООН</a:t>
            </a:r>
            <a:r>
              <a:rPr b="1" lang="en-GB" sz="28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352680"/>
            <a:ext cx="144792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тель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648320"/>
            <a:ext cx="137160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циональн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752480" y="2057400"/>
            <a:ext cx="1981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85840" y="2362320"/>
            <a:ext cx="228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28600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2057400"/>
            <a:ext cx="2438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A433-1006-4D78-83F4-82EEDB9868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Применение стандартов ЕЭК ООН 2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услуг контроля ка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ение участников производственных цепей по стандартам качества (производство, оптовая продажа, импорт/экспорт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дрение графиков контр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ение международной аккредитации для национальных стандартов качества (в случае ЕС это было введено Кипром, Чешской Республикой, Венгрией, Индией, Израилем, Марокко, Словакией, Южной Африкой и Швейцари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19E0-3863-487B-997D-F80045CAB8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Ситуация сегодня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нок принадлежит потребителям и они обеспокоены проблемами качества и безопас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жность международных торговых сетей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ые предприятия розничной торговли работают в глобальных масштаб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ё больше и больше стран выходит на международный рын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ля создает свои собственные, более жесткие стандар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е технологии позволяют новые виды проверки ка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C38C-5A65-4238-BACB-B801D48CDC3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Зачем участвовать в стандартизации</a:t>
            </a:r>
            <a:r>
              <a:rPr b="1" lang="en-GB" sz="2800" spc="-1" strike="noStrike">
                <a:solidFill>
                  <a:srgbClr val="00009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нтеграции в международную торговую систему (способствовать и принимать реш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зработки стандартов местной продукции, международных стандартов для которой не существу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установления связей, обмена опытом, обу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6BC3-94A4-41A7-8DA6-E0D065CC3EF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Продукция, у которой есть будущее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окачественная продукция, которая соответствует высокой це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вижение «осведомленности о торговой марке» для местной продукции (контролируемые ярлыки происхождения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логически чистая продук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4DCE-474A-4058-9BE5-BB41A817C38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Продвижение стандартов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2362320" cy="1683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2362320" cy="1677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572000" y="1066680"/>
            <a:ext cx="2362320" cy="1673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858000" y="1077840"/>
            <a:ext cx="2362320" cy="1665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2743200"/>
            <a:ext cx="2362320" cy="1665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362320" y="2743200"/>
            <a:ext cx="2361960" cy="1681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724280" y="2732040"/>
            <a:ext cx="2362320" cy="1687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7086600" y="2746440"/>
            <a:ext cx="236232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0" y="4419720"/>
            <a:ext cx="2362320" cy="167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2362320" y="4419720"/>
            <a:ext cx="2361960" cy="167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4724280" y="4419720"/>
            <a:ext cx="2362320" cy="166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tretch/>
        </p:blipFill>
        <p:spPr>
          <a:xfrm>
            <a:off x="7086600" y="4419720"/>
            <a:ext cx="2362320" cy="166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5CBB-9F8E-4650-9960-F7D43BACF0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Пример</a:t>
            </a:r>
            <a:r>
              <a:rPr b="1" lang="en-GB" sz="2800" spc="-1" strike="noStrike">
                <a:solidFill>
                  <a:srgbClr val="00009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Кодировка говядины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55760" y="1066680"/>
            <a:ext cx="6264360" cy="1650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3505320" cy="1698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5800" y="4556160"/>
            <a:ext cx="85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1) 9123456789012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й Торговый Порядковый Номер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T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02) 000376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с Нетто в килограмм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002) 151111102051421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д ЕЭК/ООН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мясных туш и отруб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3) 00123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та убоя/упак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 123AB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ер парт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839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53440" y="0"/>
            <a:ext cx="79056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49A9-7BEF-4D7E-89CC-B30416CE981F}" type="slidenum">
              <a:t>18</a:t>
            </a:fld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Стандарты ЕЭК/ООН и информация о встречах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unece.org/trade/agr/welcome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76720" y="4572000"/>
            <a:ext cx="1512720" cy="1407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1657440" cy="1341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885960" cy="1627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362320" y="4800600"/>
            <a:ext cx="1065240" cy="11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8EDF-3EE3-4132-81B2-18531AE807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29000" y="3260160"/>
            <a:ext cx="22860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26240" y="2320200"/>
            <a:ext cx="33177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ощение торговых процедур и электронные деловые оп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446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йствиеторгов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580920"/>
            <a:ext cx="24382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соматери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4090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ы качества сельскохозяйственной проду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2286000" cy="1374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2819160" cy="156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867280" y="4114800"/>
            <a:ext cx="2514600" cy="155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457200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MT Extra Bold"/>
              </a:rPr>
              <a:t>П</a:t>
            </a:r>
            <a:r>
              <a:rPr b="1" lang="en-GB" sz="2400" spc="-1" strike="noStrike">
                <a:solidFill>
                  <a:srgbClr val="000000"/>
                </a:solidFill>
                <a:latin typeface="Times New Roman MT Extra Bold"/>
              </a:rPr>
              <a:t>олити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MT Extra Bold"/>
              </a:rPr>
              <a:t>а</a:t>
            </a:r>
            <a:r>
              <a:rPr b="1" lang="en-GB" sz="2400" spc="-1" strike="noStrike">
                <a:solidFill>
                  <a:srgbClr val="000000"/>
                </a:solidFill>
                <a:latin typeface="Times New Roman MT Extra Bold"/>
              </a:rPr>
              <a:t> в области стандартизации и сотрудничества по вопросам нормативного регулир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Отдел Торговли и Лесоматериалов ЕЭК О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964E-3DF6-4362-B262-E1EC7D57B4F6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Каковы цели создания стандартов ЕЭК ООН</a:t>
            </a:r>
            <a:r>
              <a:rPr b="1" lang="en-US" sz="2800" spc="-1" strike="noStrike">
                <a:solidFill>
                  <a:srgbClr val="00009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общий торговый язык для всех участников цепей постав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ощение справедливой международной торгов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бежание наличия некачественной продукции на рын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производителям в соответствии требованиям ры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доверие и развить рыночные возмож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ощрение производства высококачественной проду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прибыльности производ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интересов потреб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ичтожение технических барьеров для торгов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DF0D-E750-4EFF-8B7B-61507DE59DA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9480" y="838080"/>
          <a:ext cx="16765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16765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209680" y="295704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wis721 BlkEx BT"/>
              </a:rPr>
              <a:t>Сельскохозяйственные стандарты ЕЭК/О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37780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жие фрукты и овощ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866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йца и яичные продукт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2209680" cy="1535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76720" y="2133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хие и сушеные фрукт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56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67264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яс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07000" y="498276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занные цвет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010280" y="60948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62120" y="4114800"/>
            <a:ext cx="1904760" cy="1450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934320" y="3886200"/>
            <a:ext cx="160020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3276720" y="457200"/>
            <a:ext cx="2819160" cy="17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D72F-7924-44FC-99FC-3834268B2A03}" type="slidenum">
              <a:t>4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480" y="4191120"/>
            <a:ext cx="2819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0"/>
                </a:solidFill>
                <a:latin typeface="Times New Roman MT Extra Bold"/>
              </a:rPr>
              <a:t>ТОВАРНОЕ КАЧЕСТВО</a:t>
            </a:r>
            <a:endParaRPr b="1" lang="en-US" sz="16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76560" y="1219320"/>
            <a:ext cx="3733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нутренне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лость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та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728640" cy="797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2919240"/>
            <a:ext cx="1152360" cy="1071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1260360" cy="928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685800"/>
            <a:ext cx="3962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нешн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т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же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й в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аковк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522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Аспекты качественной пищи: Товарное кач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68FE-EF10-4177-8C4F-0D2407B3E587}" type="slidenum">
              <a:t>5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8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6240"/>
            <a:ext cx="61722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Стандарты ЕЭК ООН на свежие фрукты и овощи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133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оны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бло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уш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брико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ртишо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арж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клаж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окад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со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ника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луб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окко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юссель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пу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1447920"/>
            <a:ext cx="2514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чанная капу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ков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ветная капу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тайская капу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шня и череш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трус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гур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ба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льтивируе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ъедобные слад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шт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нх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жий инжи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сн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447920"/>
            <a:ext cx="2819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р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ук-пор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лат-латук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ндив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н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ы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пчатый лу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сики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тар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на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и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1523880"/>
            <a:ext cx="2895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д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бристый сельдер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рцио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пин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адкий стручков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ловый виногр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ма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рбу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корий-витлу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3400" y="0"/>
          <a:ext cx="10206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3400" y="0"/>
                    <a:ext cx="10206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4B16-2907-4453-9054-529DC3016E6B}" type="slidenum">
              <a:t>6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70102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0"/>
                </a:solidFill>
                <a:latin typeface="Arial"/>
              </a:rPr>
              <a:t>Стандарты ЕЭК/ООН на сухие и сушеные продукты </a:t>
            </a:r>
            <a:r>
              <a:rPr b="1" lang="en-GB" sz="2400" spc="-1" strike="noStrike">
                <a:solidFill>
                  <a:srgbClr val="00009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90"/>
                </a:solidFill>
                <a:latin typeface="Arial"/>
              </a:rPr>
              <a:t>фрукты)</a:t>
            </a:r>
            <a:endParaRPr b="1" lang="en-US" sz="24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752480"/>
            <a:ext cx="327672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блоки суш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брикосы суш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дра орехов кеш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ные фини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жир сушены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ю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щинные орехи в скорлуп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чищенные лещинные оре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ши суш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1676520"/>
            <a:ext cx="472464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чищенные от скорлупы и оболочки кедровые орех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чищенные от скорлупы и очищенные от скорлупы и оболочки фисташковые оре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чищенные фисташковые оре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адкий черносл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елушеный сладкий минда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адкий миндаль в скорлуп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дра грецких орех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ецкие орехи в скорлуп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1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8752-02F8-49A1-9DB1-4F2A72DE0D4C}" type="slidenum">
              <a:t>7</a:t>
            </a:fld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Times New Roman"/>
              </a:rPr>
              <a:t>ЦВЕТОВАЯ ДИАГРАММА ДЛЯ</a:t>
            </a:r>
            <a:br>
              <a:rPr sz="2800"/>
            </a:br>
            <a:r>
              <a:rPr b="1" lang="ru-RU" sz="2800" spc="-1" strike="noStrike">
                <a:solidFill>
                  <a:srgbClr val="000090"/>
                </a:solidFill>
                <a:latin typeface="Times New Roman"/>
              </a:rPr>
              <a:t>ЯДЕР ГРЕЦКОГО ОРЕХА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89320" y="1747800"/>
            <a:ext cx="846360" cy="995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56360" y="1666800"/>
            <a:ext cx="915840" cy="1076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99360" y="1600200"/>
            <a:ext cx="966600" cy="113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620120" y="1666800"/>
            <a:ext cx="915840" cy="1076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122720" y="3281400"/>
            <a:ext cx="885960" cy="1042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286240" y="3297240"/>
            <a:ext cx="893880" cy="1050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485040" y="3314880"/>
            <a:ext cx="874440" cy="1028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7704000" y="3348000"/>
            <a:ext cx="906480" cy="995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4219560" y="4844880"/>
            <a:ext cx="870120" cy="1022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5438880" y="4844880"/>
            <a:ext cx="869760" cy="1022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6603840" y="4800600"/>
            <a:ext cx="892440" cy="105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7800840" y="4816440"/>
            <a:ext cx="885960" cy="1050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1450080"/>
            <a:ext cx="3733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 «Экстра»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Равномерно светлоокрашенные ядра орехов с практическим отсутствием темно-соломенного и/или лимонно-желтого оттенков и отсутствием темно-коричневых т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4740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 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Ядра орехов по цвету не темнее светло-коричневого оттен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7260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 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Ядра орехов по цвету не темнее темно-коричневого оттенка. Более темные ядра орехов могут продаваться по данному классу с указанием цвета на упаков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7391520" y="0"/>
            <a:ext cx="1752480" cy="106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124A-80DE-4043-A620-6B9704AD97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Стандарты ЕЭК</a:t>
            </a:r>
            <a:r>
              <a:rPr b="1" lang="fr-FR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0"/>
                </a:solidFill>
                <a:latin typeface="Arial"/>
              </a:rPr>
              <a:t>ООН на Мясо</a:t>
            </a:r>
            <a:endParaRPr b="1" lang="en-US" sz="2800" spc="-1" strike="noStrike">
              <a:solidFill>
                <a:srgbClr val="00009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иные туши и отрубы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199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 – в настоящее время пересматрив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вяжьи туши и отрубы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– 200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раньи туши и отрубы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– 200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иное мясо и отрубы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200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ма /Альпа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2006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е планируемые стандарты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злятин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йк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ятин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53440" y="0"/>
            <a:ext cx="79056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FBD9-92C9-4C96-BBD0-774CF3A6DF2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8:58:40Z</dcterms:created>
  <dc:creator>Heilandtt</dc:creator>
  <dc:description/>
  <dc:language>en-US</dc:language>
  <cp:lastModifiedBy>renessans</cp:lastModifiedBy>
  <dcterms:modified xsi:type="dcterms:W3CDTF">2006-12-13T17:58:12Z</dcterms:modified>
  <cp:revision>103</cp:revision>
  <dc:subject/>
  <dc:title>PowerPoint Presentation</dc:title>
</cp:coreProperties>
</file>