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13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C9695BF-C0BE-4D9F-AB6E-7CC32A62F64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87440" y="495360"/>
            <a:ext cx="4292640" cy="32194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7520" y="3962160"/>
            <a:ext cx="54133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87440" y="495360"/>
            <a:ext cx="4292640" cy="32194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7520" y="3962160"/>
            <a:ext cx="54133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6440" y="470700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DED United Nations Trade Data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M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/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EFAC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Modelling Method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C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e Component 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DR Name and Desig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DIFACT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Data Interchange for Administration, Commerce, and Trans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ATA AWB IATA Airway B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IR electronic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ransit Internationa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outi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DR Naming and Desig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D Single Administrativ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ML Extended Markup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MM UN/CEFACT Modelling Method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ML eXtended Mark-up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CO World Customs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87440" y="495360"/>
            <a:ext cx="4292640" cy="32194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7520" y="3962160"/>
            <a:ext cx="54133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387440" y="495360"/>
            <a:ext cx="4292640" cy="32194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520" y="3962160"/>
            <a:ext cx="54133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87440" y="495360"/>
            <a:ext cx="4292640" cy="32194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77520" y="3962160"/>
            <a:ext cx="541332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52120" y="40453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19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120" y="4045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1920" y="4045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9760" y="1219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47400" y="1219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52120" y="4045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199760" y="4045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47400" y="40453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353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1920" y="1219320"/>
            <a:ext cx="353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52320" y="0"/>
            <a:ext cx="5791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1920" y="1219320"/>
            <a:ext cx="353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52120" y="4045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353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1920" y="4045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12193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52120" y="40453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384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84120" indent="-384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84120" indent="-3841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524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3640" y="1988640"/>
            <a:ext cx="6782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UN Work to Support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Implementation of International Standards for Trade Facilitation </a:t>
            </a:r>
            <a:br>
              <a:rPr sz="3200"/>
            </a:br>
            <a:br>
              <a:rPr sz="3200"/>
            </a:br>
            <a:br>
              <a:rPr sz="1600"/>
            </a:b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om Butterly</a:t>
            </a:r>
            <a:br>
              <a:rPr sz="1400"/>
            </a:b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Chief, Global Trade Solutions Section</a:t>
            </a:r>
            <a:br>
              <a:rPr sz="1400"/>
            </a:b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rade and Timber Division</a:t>
            </a:r>
            <a:br>
              <a:rPr sz="14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rade Development and Facilitation for Economies in Transition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Geneva, 27 October 2009</a:t>
            </a:r>
            <a:br>
              <a:rPr sz="20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40160" y="0"/>
            <a:ext cx="5703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ited Nations Economic Commission for Europ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mpacts of IT-based Trade Facilitation Measures in Thailand</a:t>
            </a:r>
            <a:br>
              <a:rPr sz="1900"/>
            </a:br>
            <a:r>
              <a:rPr b="0" lang="en-US" sz="1300" spc="-1" strike="noStrike">
                <a:solidFill>
                  <a:srgbClr val="c00000"/>
                </a:solidFill>
                <a:latin typeface="Arial"/>
              </a:rPr>
              <a:t>(through reform, and applying IT for Paperless Customs and NSW)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378000" y="714240"/>
            <a:ext cx="8305560" cy="4724640"/>
          </a:xfrm>
          <a:prstGeom prst="rect">
            <a:avLst/>
          </a:prstGeom>
          <a:ln w="0">
            <a:noFill/>
          </a:ln>
        </p:spPr>
      </p:pic>
      <p:sp>
        <p:nvSpPr>
          <p:cNvPr id="507" name="Oval 5"/>
          <p:cNvSpPr/>
          <p:nvPr/>
        </p:nvSpPr>
        <p:spPr>
          <a:xfrm>
            <a:off x="4572000" y="2643120"/>
            <a:ext cx="609480" cy="6098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6"/>
          <p:cNvSpPr/>
          <p:nvPr/>
        </p:nvSpPr>
        <p:spPr>
          <a:xfrm>
            <a:off x="7543800" y="2643120"/>
            <a:ext cx="609480" cy="6098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7"/>
          <p:cNvSpPr/>
          <p:nvPr/>
        </p:nvSpPr>
        <p:spPr>
          <a:xfrm>
            <a:off x="6095880" y="2643120"/>
            <a:ext cx="609840" cy="6098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ight Arrow 12"/>
          <p:cNvSpPr/>
          <p:nvPr/>
        </p:nvSpPr>
        <p:spPr>
          <a:xfrm>
            <a:off x="6772320" y="282564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ight Arrow 13"/>
          <p:cNvSpPr/>
          <p:nvPr/>
        </p:nvSpPr>
        <p:spPr>
          <a:xfrm>
            <a:off x="5257800" y="27957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14"/>
          <p:cNvSpPr/>
          <p:nvPr/>
        </p:nvSpPr>
        <p:spPr>
          <a:xfrm>
            <a:off x="7605720" y="1571760"/>
            <a:ext cx="609480" cy="6094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5"/>
          <p:cNvSpPr/>
          <p:nvPr/>
        </p:nvSpPr>
        <p:spPr>
          <a:xfrm>
            <a:off x="6095880" y="1571760"/>
            <a:ext cx="609840" cy="6094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Arrow 16"/>
          <p:cNvSpPr/>
          <p:nvPr/>
        </p:nvSpPr>
        <p:spPr>
          <a:xfrm>
            <a:off x="6772320" y="171468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4072320" y="6192720"/>
            <a:ext cx="4809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  <a:ea typeface="Tahoma"/>
              </a:rPr>
              <a:t>Data: World Bank, www.Doingbusiness.org Feb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7"/>
          <p:cNvSpPr/>
          <p:nvPr/>
        </p:nvSpPr>
        <p:spPr>
          <a:xfrm>
            <a:off x="7155000" y="6215040"/>
            <a:ext cx="198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4583-4AB5-43BE-BE4E-073CCCAB4444}" type="slidenum">
              <a:rPr b="0" lang="en-US" sz="1200" spc="-1" strike="noStrike">
                <a:solidFill>
                  <a:srgbClr val="b2b2b2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18"/>
          <p:cNvSpPr/>
          <p:nvPr/>
        </p:nvSpPr>
        <p:spPr>
          <a:xfrm>
            <a:off x="1005480" y="5357880"/>
            <a:ext cx="730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Verdana"/>
                <a:ea typeface="Tahoma"/>
              </a:rPr>
              <a:t>Transaction Cost reduction from 848 to 625 (~220 USD) per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Verdana"/>
                <a:ea typeface="Tahoma"/>
              </a:rPr>
              <a:t>(x 3.5 million TEU per year) = 770 Million USD transaction cost reduction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4572000" y="3214800"/>
            <a:ext cx="609480" cy="6094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7543800" y="3214800"/>
            <a:ext cx="609480" cy="6094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ight Arrow 22"/>
          <p:cNvSpPr/>
          <p:nvPr/>
        </p:nvSpPr>
        <p:spPr>
          <a:xfrm>
            <a:off x="5143680" y="3500280"/>
            <a:ext cx="2428560" cy="2858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3"/>
          <p:cNvSpPr/>
          <p:nvPr/>
        </p:nvSpPr>
        <p:spPr>
          <a:xfrm>
            <a:off x="878040" y="5857920"/>
            <a:ext cx="63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SMEs also benefit from the reduction of procedures and co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500040" y="6572160"/>
            <a:ext cx="7715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Tahoma"/>
                <a:ea typeface="Tahoma"/>
              </a:rPr>
              <a:t>National Workshop on Establishing a Single Window in Mongolia: </a:t>
            </a:r>
            <a:r>
              <a:rPr b="0" lang="en-AU" sz="1000" spc="-1" strike="noStrike">
                <a:solidFill>
                  <a:srgbClr val="b2b2b2"/>
                </a:solidFill>
                <a:latin typeface="Tahoma"/>
                <a:ea typeface="Tahoma"/>
              </a:rPr>
              <a:t>29 Sep.-1 Oct. 2009; Ulaanbatar, Mongoli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th Tranche UN Development Ac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ing Trade Competitiveness of Least-Developed Countries, Countries in Transition and Transit Countries through the Implementation of Single Window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: United Nations Development Account project (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2009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ies: Central, South and South East A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on previous UN Development Account Projects in Trade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 the work of the UNECE Regional Advisor on Trade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ings and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52120" y="1402920"/>
            <a:ext cx="723924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 and Worksh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preparatory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Next stakeholder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osium on regional capacity for 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 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workshop Mong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01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tional workshop Azerbai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010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ational workshop Camb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materials and 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orms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for electronic Documents for 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er guide on document simplification for 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uide to Business Process Analysis for 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in the trainer course for B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/CEFACT Capacity Building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29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CEFACT will develop implementation packages for specifi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9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will help countries to implement these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9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pecific emphasis on countries with economies in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999"/>
              </a:spcBef>
              <a:buClr>
                <a:srgbClr val="ff505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Need to get experts from transition economies to participate in the standards development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999"/>
              </a:spcBef>
              <a:buClr>
                <a:srgbClr val="ff505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UN/CEFACT Plenary 9 – 12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Mechanis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de Facilitation Bodies/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ing Roles – WTO, Single Window, Paperless Trade, Security, e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onal and Regional Strategies for Trade Facilitation – Benchmarks (National and Reg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ion in the standards developm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468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UNECE and UN/CEFACT Recommendations, codes, standards and publications are available for free on our website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unece.org/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unece.org/ce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mail: tom.butterly@une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antra on Trade Facili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6348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52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acilitation is goo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52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indow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o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52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International Standards is essential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525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85240" y="1052640"/>
            <a:ext cx="1058760" cy="92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77240" y="3357720"/>
            <a:ext cx="116676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085240" y="2205000"/>
            <a:ext cx="1058760" cy="92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eat thing about standard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1989000"/>
            <a:ext cx="8674920" cy="4076640"/>
            <a:chOff x="324000" y="1989000"/>
            <a:chExt cx="8674920" cy="4076640"/>
          </a:xfrm>
        </p:grpSpPr>
        <p:grpSp>
          <p:nvGrpSpPr>
            <p:cNvPr id="56" name=""/>
            <p:cNvGrpSpPr/>
            <p:nvPr/>
          </p:nvGrpSpPr>
          <p:grpSpPr>
            <a:xfrm>
              <a:off x="324000" y="2052720"/>
              <a:ext cx="1519920" cy="3503520"/>
              <a:chOff x="324000" y="2052720"/>
              <a:chExt cx="1519920" cy="3503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2052720"/>
                <a:ext cx="1519920" cy="81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" y="5100480"/>
                <a:ext cx="116172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4000" y="3965400"/>
                <a:ext cx="1519920" cy="81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" y="3186000"/>
                <a:ext cx="116172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7478640" y="2052720"/>
              <a:ext cx="1520280" cy="3503520"/>
              <a:chOff x="7478640" y="2052720"/>
              <a:chExt cx="1520280" cy="3503520"/>
            </a:xfrm>
          </p:grpSpPr>
          <p:pic>
            <p:nvPicPr>
              <p:cNvPr id="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78640" y="2052720"/>
                <a:ext cx="1520280" cy="81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560" y="5100480"/>
                <a:ext cx="11620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478640" y="3965400"/>
                <a:ext cx="1520280" cy="81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57560" y="3186000"/>
                <a:ext cx="116208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3767040" y="4719600"/>
              <a:ext cx="1058040" cy="673200"/>
              <a:chOff x="3767040" y="4719600"/>
              <a:chExt cx="1058040" cy="673200"/>
            </a:xfrm>
          </p:grpSpPr>
          <p:sp>
            <p:nvSpPr>
              <p:cNvPr id="67" name=""/>
              <p:cNvSpPr/>
              <p:nvPr/>
            </p:nvSpPr>
            <p:spPr>
              <a:xfrm>
                <a:off x="3793320" y="478368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05800">
                <a:off x="3844440" y="481824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7040" y="478656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38800" y="485352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71760" y="477540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793320" y="506520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55760" y="522432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296240" y="5033160"/>
                <a:ext cx="519120" cy="291960"/>
                <a:chOff x="4296240" y="5033160"/>
                <a:chExt cx="519120" cy="291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556520" y="503316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96240" y="519984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767040" y="471960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35160" y="4959000"/>
                <a:ext cx="70776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R-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601880" y="3944880"/>
              <a:ext cx="1057320" cy="673200"/>
              <a:chOff x="4601880" y="3944880"/>
              <a:chExt cx="105732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4628160" y="4008960"/>
                <a:ext cx="10310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505800">
                <a:off x="4679280" y="4043520"/>
                <a:ext cx="33264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71880" y="4011840"/>
                <a:ext cx="2527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73280" y="4078800"/>
                <a:ext cx="3362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06240" y="4000680"/>
                <a:ext cx="25956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28160" y="4290480"/>
                <a:ext cx="32220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90600" y="444960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5130720" y="4258440"/>
                <a:ext cx="518760" cy="291960"/>
                <a:chOff x="5130720" y="4258440"/>
                <a:chExt cx="518760" cy="2919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640" y="425844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130720" y="442512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4601880" y="3944880"/>
                <a:ext cx="10551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69640" y="4184280"/>
                <a:ext cx="7074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H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928480" y="5392800"/>
              <a:ext cx="1221840" cy="672840"/>
              <a:chOff x="5928480" y="5392800"/>
              <a:chExt cx="1221840" cy="672840"/>
            </a:xfrm>
          </p:grpSpPr>
          <p:sp>
            <p:nvSpPr>
              <p:cNvPr id="93" name=""/>
              <p:cNvSpPr/>
              <p:nvPr/>
            </p:nvSpPr>
            <p:spPr>
              <a:xfrm>
                <a:off x="5959080" y="5456880"/>
                <a:ext cx="119124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05800">
                <a:off x="6018120" y="549180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40240" y="5459760"/>
                <a:ext cx="29232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4280" y="552672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511320" y="544860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59080" y="5738040"/>
                <a:ext cx="37224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61840" y="589752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539400" y="5706000"/>
                <a:ext cx="599760" cy="291600"/>
                <a:chOff x="6539400" y="5706000"/>
                <a:chExt cx="599760" cy="2916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840000" y="57060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39400" y="587232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5928480" y="5392800"/>
                <a:ext cx="121932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22520" y="56318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C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781800" y="3627360"/>
              <a:ext cx="1058040" cy="673200"/>
              <a:chOff x="3781800" y="3627360"/>
              <a:chExt cx="1058040" cy="67320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8080" y="369144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05800">
                <a:off x="3859200" y="372600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51800" y="369432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53560" y="376128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86520" y="368316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8080" y="397296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70520" y="413208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311000" y="3940920"/>
                <a:ext cx="519120" cy="291960"/>
                <a:chOff x="4311000" y="3940920"/>
                <a:chExt cx="519120" cy="29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71280" y="394092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311000" y="410760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3781800" y="362736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49920" y="3866760"/>
                <a:ext cx="7077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679120" y="3246480"/>
              <a:ext cx="1713600" cy="673200"/>
              <a:chOff x="2679120" y="3246480"/>
              <a:chExt cx="1713600" cy="673200"/>
            </a:xfrm>
          </p:grpSpPr>
          <p:sp>
            <p:nvSpPr>
              <p:cNvPr id="119" name=""/>
              <p:cNvSpPr/>
              <p:nvPr/>
            </p:nvSpPr>
            <p:spPr>
              <a:xfrm>
                <a:off x="2721960" y="3310560"/>
                <a:ext cx="1670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05800">
                <a:off x="2804760" y="3345120"/>
                <a:ext cx="5392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16520" y="3313440"/>
                <a:ext cx="4096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66680" y="3380400"/>
                <a:ext cx="54468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96320" y="3302280"/>
                <a:ext cx="4208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1960" y="3592080"/>
                <a:ext cx="5223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46760" y="3751200"/>
                <a:ext cx="4186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535920" y="3560040"/>
                <a:ext cx="840960" cy="291960"/>
                <a:chOff x="3535920" y="3560040"/>
                <a:chExt cx="840960" cy="291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957480" y="3560040"/>
                  <a:ext cx="41940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535920" y="3726720"/>
                  <a:ext cx="41040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2679120" y="3246480"/>
                <a:ext cx="17100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51280" y="3485880"/>
                <a:ext cx="114624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setta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692880" y="2789280"/>
              <a:ext cx="1058040" cy="673200"/>
              <a:chOff x="3692880" y="2789280"/>
              <a:chExt cx="1058040" cy="673200"/>
            </a:xfrm>
          </p:grpSpPr>
          <p:sp>
            <p:nvSpPr>
              <p:cNvPr id="132" name=""/>
              <p:cNvSpPr/>
              <p:nvPr/>
            </p:nvSpPr>
            <p:spPr>
              <a:xfrm>
                <a:off x="3719160" y="285336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05800">
                <a:off x="3770280" y="288792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880" y="285624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64640" y="292320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97600" y="284508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19160" y="313488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81600" y="329400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4222080" y="3102840"/>
                <a:ext cx="519120" cy="291960"/>
                <a:chOff x="4222080" y="3102840"/>
                <a:chExt cx="519120" cy="2919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482360" y="310284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22080" y="326952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692880" y="278928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61000" y="3028680"/>
                <a:ext cx="7077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6400" y="2712960"/>
              <a:ext cx="1057320" cy="673200"/>
              <a:chOff x="2336400" y="2712960"/>
              <a:chExt cx="1057320" cy="673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362680" y="2777040"/>
                <a:ext cx="10310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05800">
                <a:off x="2413800" y="2811600"/>
                <a:ext cx="33264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06400" y="2779920"/>
                <a:ext cx="2527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07800" y="2846880"/>
                <a:ext cx="3362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40760" y="2768760"/>
                <a:ext cx="25956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62680" y="3058560"/>
                <a:ext cx="32220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5120" y="321768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2865240" y="3026520"/>
                <a:ext cx="518760" cy="291960"/>
                <a:chOff x="2865240" y="3026520"/>
                <a:chExt cx="518760" cy="291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125160" y="302652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65240" y="319320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336400" y="2712960"/>
                <a:ext cx="10551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504160" y="2952360"/>
                <a:ext cx="7074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170880" y="2141640"/>
              <a:ext cx="1058040" cy="672840"/>
              <a:chOff x="3170880" y="2141640"/>
              <a:chExt cx="1058040" cy="672840"/>
            </a:xfrm>
          </p:grpSpPr>
          <p:sp>
            <p:nvSpPr>
              <p:cNvPr id="158" name=""/>
              <p:cNvSpPr/>
              <p:nvPr/>
            </p:nvSpPr>
            <p:spPr>
              <a:xfrm>
                <a:off x="3197160" y="2205720"/>
                <a:ext cx="103176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05800">
                <a:off x="3248280" y="224028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40880" y="2208600"/>
                <a:ext cx="25308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42640" y="227556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75600" y="219744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97160" y="2486880"/>
                <a:ext cx="32256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59600" y="264636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3700080" y="2454840"/>
                <a:ext cx="519120" cy="291600"/>
                <a:chOff x="3700080" y="2454840"/>
                <a:chExt cx="519120" cy="291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960360" y="245484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700080" y="262116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170880" y="2141640"/>
                <a:ext cx="105588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40080" y="2380680"/>
                <a:ext cx="7063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764320" y="4211640"/>
              <a:ext cx="1594440" cy="733320"/>
              <a:chOff x="5764320" y="4211640"/>
              <a:chExt cx="1594440" cy="733320"/>
            </a:xfrm>
          </p:grpSpPr>
          <p:sp>
            <p:nvSpPr>
              <p:cNvPr id="171" name=""/>
              <p:cNvSpPr/>
              <p:nvPr/>
            </p:nvSpPr>
            <p:spPr>
              <a:xfrm>
                <a:off x="5804280" y="4281480"/>
                <a:ext cx="1554480" cy="6116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05800">
                <a:off x="5880960" y="4319280"/>
                <a:ext cx="501840" cy="28224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71480" y="4284720"/>
                <a:ext cx="381240" cy="1350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6280" y="4357800"/>
                <a:ext cx="506880" cy="23004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4640" y="4272480"/>
                <a:ext cx="391680" cy="12096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04280" y="4588200"/>
                <a:ext cx="486000" cy="1983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99560" y="4761360"/>
                <a:ext cx="389520" cy="12096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6561360" y="4553280"/>
                <a:ext cx="782280" cy="317880"/>
                <a:chOff x="6561360" y="4553280"/>
                <a:chExt cx="782280" cy="317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53400" y="4553280"/>
                  <a:ext cx="390240" cy="20052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561360" y="4734720"/>
                  <a:ext cx="381960" cy="13644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764320" y="4211640"/>
                <a:ext cx="1590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17400" y="4472280"/>
                <a:ext cx="10663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constr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749560" y="4922640"/>
              <a:ext cx="1058040" cy="673200"/>
              <a:chOff x="5749560" y="4922640"/>
              <a:chExt cx="1058040" cy="673200"/>
            </a:xfrm>
          </p:grpSpPr>
          <p:sp>
            <p:nvSpPr>
              <p:cNvPr id="184" name=""/>
              <p:cNvSpPr/>
              <p:nvPr/>
            </p:nvSpPr>
            <p:spPr>
              <a:xfrm>
                <a:off x="5775840" y="498672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05800">
                <a:off x="5826960" y="502128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19560" y="498960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1320" y="505656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54280" y="497844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75840" y="526824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38280" y="542736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6278760" y="5236200"/>
                <a:ext cx="519120" cy="291960"/>
                <a:chOff x="6278760" y="5236200"/>
                <a:chExt cx="519120" cy="291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539040" y="523620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278760" y="540288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5749560" y="492264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17680" y="5162040"/>
                <a:ext cx="70776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138640" y="3627360"/>
              <a:ext cx="1281600" cy="673200"/>
              <a:chOff x="5138640" y="3627360"/>
              <a:chExt cx="1281600" cy="673200"/>
            </a:xfrm>
          </p:grpSpPr>
          <p:sp>
            <p:nvSpPr>
              <p:cNvPr id="197" name=""/>
              <p:cNvSpPr/>
              <p:nvPr/>
            </p:nvSpPr>
            <p:spPr>
              <a:xfrm>
                <a:off x="5170680" y="3691440"/>
                <a:ext cx="12495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05800">
                <a:off x="5232600" y="3726360"/>
                <a:ext cx="4032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65880" y="3694320"/>
                <a:ext cx="30636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52240" y="3761280"/>
                <a:ext cx="40752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49920" y="3683160"/>
                <a:ext cx="3146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70680" y="3972960"/>
                <a:ext cx="39060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88560" y="4132080"/>
                <a:ext cx="31320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779440" y="3940920"/>
                <a:ext cx="628920" cy="291960"/>
                <a:chOff x="5779440" y="3940920"/>
                <a:chExt cx="628920" cy="2919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94800" y="3940920"/>
                  <a:ext cx="3135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79440" y="4107600"/>
                  <a:ext cx="3070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38640" y="3627360"/>
                <a:ext cx="12790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40960" y="3866760"/>
                <a:ext cx="86004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MD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62760" y="3056040"/>
              <a:ext cx="1192320" cy="672840"/>
              <a:chOff x="6062760" y="3056040"/>
              <a:chExt cx="1192320" cy="672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2640" y="3120120"/>
                <a:ext cx="116244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05800">
                <a:off x="6149520" y="3155040"/>
                <a:ext cx="37512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66960" y="3123000"/>
                <a:ext cx="28512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19480" y="3189960"/>
                <a:ext cx="37908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31200" y="3111840"/>
                <a:ext cx="29268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92640" y="3401280"/>
                <a:ext cx="36324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88200" y="3560760"/>
                <a:ext cx="2912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658920" y="3369240"/>
                <a:ext cx="585000" cy="291600"/>
                <a:chOff x="6658920" y="3369240"/>
                <a:chExt cx="585000" cy="2916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951960" y="3369240"/>
                  <a:ext cx="2919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58920" y="3535560"/>
                  <a:ext cx="2854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062760" y="3056040"/>
                <a:ext cx="118944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52120" y="3295080"/>
                <a:ext cx="7974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ID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974840" y="2916360"/>
              <a:ext cx="1057320" cy="672840"/>
              <a:chOff x="4974840" y="2916360"/>
              <a:chExt cx="1057320" cy="67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5001120" y="2980440"/>
                <a:ext cx="103104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05800">
                <a:off x="5052240" y="3015000"/>
                <a:ext cx="33264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44840" y="2983320"/>
                <a:ext cx="25272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46240" y="3050280"/>
                <a:ext cx="3362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79200" y="2972160"/>
                <a:ext cx="25956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1120" y="3261600"/>
                <a:ext cx="32220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63560" y="342108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503680" y="3229560"/>
                <a:ext cx="518760" cy="291600"/>
                <a:chOff x="5503680" y="3229560"/>
                <a:chExt cx="518760" cy="2916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763600" y="322956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503680" y="339588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974840" y="2916360"/>
                <a:ext cx="105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2600" y="3155400"/>
                <a:ext cx="7074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C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227920" y="2293920"/>
              <a:ext cx="1058040" cy="673200"/>
              <a:chOff x="5227920" y="2293920"/>
              <a:chExt cx="1058040" cy="673200"/>
            </a:xfrm>
          </p:grpSpPr>
          <p:sp>
            <p:nvSpPr>
              <p:cNvPr id="236" name=""/>
              <p:cNvSpPr/>
              <p:nvPr/>
            </p:nvSpPr>
            <p:spPr>
              <a:xfrm>
                <a:off x="5254200" y="235800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05800">
                <a:off x="5305320" y="239256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97920" y="236088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99680" y="242784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32640" y="234972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54200" y="263952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16640" y="279864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757120" y="2607480"/>
                <a:ext cx="519120" cy="291960"/>
                <a:chOff x="5757120" y="2607480"/>
                <a:chExt cx="519120" cy="2919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17400" y="260748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57120" y="277416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5227920" y="229392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96040" y="2533320"/>
                <a:ext cx="70776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eD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139640" y="2052720"/>
              <a:ext cx="1296360" cy="672840"/>
              <a:chOff x="4139640" y="2052720"/>
              <a:chExt cx="1296360" cy="672840"/>
            </a:xfrm>
          </p:grpSpPr>
          <p:sp>
            <p:nvSpPr>
              <p:cNvPr id="249" name=""/>
              <p:cNvSpPr/>
              <p:nvPr/>
            </p:nvSpPr>
            <p:spPr>
              <a:xfrm>
                <a:off x="4172040" y="2116800"/>
                <a:ext cx="126396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505800">
                <a:off x="4234680" y="2151720"/>
                <a:ext cx="4078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70480" y="2119680"/>
                <a:ext cx="30996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62600" y="2186640"/>
                <a:ext cx="4122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57760" y="2108520"/>
                <a:ext cx="318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72040" y="2397960"/>
                <a:ext cx="39528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93520" y="2557440"/>
                <a:ext cx="31680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4788000" y="2365920"/>
                <a:ext cx="636120" cy="291600"/>
                <a:chOff x="4788000" y="2365920"/>
                <a:chExt cx="636120" cy="2916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106960" y="2365920"/>
                  <a:ext cx="317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788000" y="2532240"/>
                  <a:ext cx="310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139640" y="2052720"/>
                <a:ext cx="129384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45560" y="2291760"/>
                <a:ext cx="86724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A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079240" y="4478400"/>
              <a:ext cx="1057320" cy="723960"/>
              <a:chOff x="5079240" y="4478400"/>
              <a:chExt cx="1057320" cy="723960"/>
            </a:xfrm>
          </p:grpSpPr>
          <p:sp>
            <p:nvSpPr>
              <p:cNvPr id="262" name=""/>
              <p:cNvSpPr/>
              <p:nvPr/>
            </p:nvSpPr>
            <p:spPr>
              <a:xfrm>
                <a:off x="5105520" y="4547520"/>
                <a:ext cx="1031040" cy="60408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5800">
                <a:off x="5156640" y="4584600"/>
                <a:ext cx="332640" cy="27864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49240" y="4550400"/>
                <a:ext cx="252720" cy="13356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50640" y="4622760"/>
                <a:ext cx="336240" cy="22716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3600" y="4538520"/>
                <a:ext cx="259560" cy="11952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05520" y="4849920"/>
                <a:ext cx="322200" cy="19584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7960" y="5021280"/>
                <a:ext cx="258480" cy="11916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608080" y="4815720"/>
                <a:ext cx="518760" cy="313920"/>
                <a:chOff x="5608080" y="4815720"/>
                <a:chExt cx="518760" cy="3139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868000" y="4815720"/>
                  <a:ext cx="258840" cy="19800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608080" y="4994640"/>
                  <a:ext cx="253440" cy="13500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079240" y="4478400"/>
                <a:ext cx="1055160" cy="7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7000" y="4735800"/>
                <a:ext cx="7074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ntra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45400" y="4224240"/>
              <a:ext cx="1236960" cy="673200"/>
              <a:chOff x="3245400" y="4224240"/>
              <a:chExt cx="1236960" cy="673200"/>
            </a:xfrm>
          </p:grpSpPr>
          <p:sp>
            <p:nvSpPr>
              <p:cNvPr id="275" name=""/>
              <p:cNvSpPr/>
              <p:nvPr/>
            </p:nvSpPr>
            <p:spPr>
              <a:xfrm>
                <a:off x="3276360" y="4288320"/>
                <a:ext cx="120600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505800">
                <a:off x="3336120" y="4323240"/>
                <a:ext cx="38916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61120" y="4291200"/>
                <a:ext cx="2959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30560" y="4358160"/>
                <a:ext cx="39348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35440" y="4280040"/>
                <a:ext cx="3038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360" y="4569840"/>
                <a:ext cx="37692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83080" y="4728960"/>
                <a:ext cx="30240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3863880" y="4537800"/>
                <a:ext cx="606960" cy="291960"/>
                <a:chOff x="3863880" y="4537800"/>
                <a:chExt cx="606960" cy="2919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168080" y="4537800"/>
                  <a:ext cx="3027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63880" y="4704480"/>
                  <a:ext cx="2962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3245400" y="4224240"/>
                <a:ext cx="123444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43400" y="4463640"/>
                <a:ext cx="82584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363200" y="3297240"/>
              <a:ext cx="1058040" cy="673200"/>
              <a:chOff x="4363200" y="3297240"/>
              <a:chExt cx="1058040" cy="673200"/>
            </a:xfrm>
          </p:grpSpPr>
          <p:sp>
            <p:nvSpPr>
              <p:cNvPr id="288" name=""/>
              <p:cNvSpPr/>
              <p:nvPr/>
            </p:nvSpPr>
            <p:spPr>
              <a:xfrm>
                <a:off x="4389480" y="336132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05800">
                <a:off x="4440600" y="339588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33200" y="336420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34960" y="343116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920" y="335304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89480" y="364284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1920" y="380196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4892400" y="3610800"/>
                <a:ext cx="519120" cy="291960"/>
                <a:chOff x="4892400" y="3610800"/>
                <a:chExt cx="519120" cy="2919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152680" y="361080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892400" y="377748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4363200" y="329724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31320" y="3536640"/>
                <a:ext cx="707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CB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321280" y="3868560"/>
              <a:ext cx="1058040" cy="673200"/>
              <a:chOff x="2321280" y="3868560"/>
              <a:chExt cx="1058040" cy="673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347560" y="393264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05800">
                <a:off x="2398680" y="396720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1280" y="393552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3040" y="400248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26000" y="392436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47560" y="421416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10000" y="437328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2850480" y="4182120"/>
                <a:ext cx="519120" cy="291960"/>
                <a:chOff x="2850480" y="4182120"/>
                <a:chExt cx="519120" cy="291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110760" y="418212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50480" y="434880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2321280" y="386856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89400" y="4107960"/>
                <a:ext cx="7077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L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631760" y="4998960"/>
              <a:ext cx="1147680" cy="673200"/>
              <a:chOff x="4631760" y="4998960"/>
              <a:chExt cx="1147680" cy="673200"/>
            </a:xfrm>
          </p:grpSpPr>
          <p:sp>
            <p:nvSpPr>
              <p:cNvPr id="314" name=""/>
              <p:cNvSpPr/>
              <p:nvPr/>
            </p:nvSpPr>
            <p:spPr>
              <a:xfrm>
                <a:off x="4660560" y="5063040"/>
                <a:ext cx="111888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05800">
                <a:off x="4715280" y="5097600"/>
                <a:ext cx="3610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24800" y="5065920"/>
                <a:ext cx="2743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60040" y="5132880"/>
                <a:ext cx="36468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78960" y="5054760"/>
                <a:ext cx="28188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60560" y="5344560"/>
                <a:ext cx="349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44960" y="5503680"/>
                <a:ext cx="280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205600" y="5312520"/>
                <a:ext cx="563040" cy="291960"/>
                <a:chOff x="5205600" y="5312520"/>
                <a:chExt cx="563040" cy="2919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487840" y="5312520"/>
                  <a:ext cx="28080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205600" y="5479200"/>
                  <a:ext cx="2750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4631760" y="4998960"/>
                <a:ext cx="11451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13920" y="5238360"/>
                <a:ext cx="7675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o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814400" y="3322440"/>
              <a:ext cx="1058040" cy="673200"/>
              <a:chOff x="1814400" y="3322440"/>
              <a:chExt cx="1058040" cy="673200"/>
            </a:xfrm>
          </p:grpSpPr>
          <p:sp>
            <p:nvSpPr>
              <p:cNvPr id="327" name=""/>
              <p:cNvSpPr/>
              <p:nvPr/>
            </p:nvSpPr>
            <p:spPr>
              <a:xfrm>
                <a:off x="1840680" y="3386520"/>
                <a:ext cx="103176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05800">
                <a:off x="1891800" y="3421080"/>
                <a:ext cx="33300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84400" y="3389400"/>
                <a:ext cx="25308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86160" y="3456360"/>
                <a:ext cx="33660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19120" y="3378240"/>
                <a:ext cx="25992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40680" y="3668040"/>
                <a:ext cx="32256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103120" y="382716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343600" y="3636000"/>
                <a:ext cx="519120" cy="291960"/>
                <a:chOff x="2343600" y="3636000"/>
                <a:chExt cx="519120" cy="2919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603880" y="3636000"/>
                  <a:ext cx="25884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43600" y="3802680"/>
                  <a:ext cx="25344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814400" y="3322440"/>
                <a:ext cx="105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2520" y="3561840"/>
                <a:ext cx="707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ID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037960" y="5151240"/>
              <a:ext cx="1221840" cy="673200"/>
              <a:chOff x="2037960" y="5151240"/>
              <a:chExt cx="1221840" cy="673200"/>
            </a:xfrm>
          </p:grpSpPr>
          <p:sp>
            <p:nvSpPr>
              <p:cNvPr id="340" name=""/>
              <p:cNvSpPr/>
              <p:nvPr/>
            </p:nvSpPr>
            <p:spPr>
              <a:xfrm>
                <a:off x="2068560" y="5215320"/>
                <a:ext cx="11912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505800">
                <a:off x="2127600" y="525024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49720" y="5218200"/>
                <a:ext cx="2923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13760" y="528516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0800" y="520704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68560" y="5496840"/>
                <a:ext cx="37224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71320" y="565596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2648880" y="5464800"/>
                <a:ext cx="599760" cy="291960"/>
                <a:chOff x="2648880" y="5464800"/>
                <a:chExt cx="599760" cy="291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949480" y="54648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48880" y="563148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2037960" y="5151240"/>
                <a:ext cx="12193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32000" y="53906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BR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05160" y="5138640"/>
              <a:ext cx="1221480" cy="673200"/>
              <a:chOff x="3305160" y="5138640"/>
              <a:chExt cx="1221480" cy="67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335760" y="5202720"/>
                <a:ext cx="119088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505800">
                <a:off x="3394440" y="523764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16920" y="5205600"/>
                <a:ext cx="29196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080600" y="527256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7640" y="5194440"/>
                <a:ext cx="29988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35760" y="5484240"/>
                <a:ext cx="37224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38520" y="564336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3916080" y="5452200"/>
                <a:ext cx="599400" cy="291960"/>
                <a:chOff x="3916080" y="5452200"/>
                <a:chExt cx="599400" cy="2919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216320" y="54522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16080" y="561888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3305160" y="5138640"/>
                <a:ext cx="12189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99200" y="53780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S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008080" y="1989000"/>
              <a:ext cx="1221840" cy="673200"/>
              <a:chOff x="2008080" y="1989000"/>
              <a:chExt cx="1221840" cy="673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038680" y="2053080"/>
                <a:ext cx="11912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05800">
                <a:off x="2097720" y="208800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19840" y="2055960"/>
                <a:ext cx="2923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83880" y="212292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590920" y="204480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38680" y="2334600"/>
                <a:ext cx="37224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41440" y="249372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2619000" y="2302560"/>
                <a:ext cx="599760" cy="291960"/>
                <a:chOff x="2619000" y="2302560"/>
                <a:chExt cx="599760" cy="2919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919600" y="230256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619000" y="246924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2008080" y="1989000"/>
                <a:ext cx="12193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01040" y="222840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814400" y="4249800"/>
              <a:ext cx="1221840" cy="672840"/>
              <a:chOff x="1814400" y="4249800"/>
              <a:chExt cx="1221840" cy="672840"/>
            </a:xfrm>
          </p:grpSpPr>
          <p:sp>
            <p:nvSpPr>
              <p:cNvPr id="379" name=""/>
              <p:cNvSpPr/>
              <p:nvPr/>
            </p:nvSpPr>
            <p:spPr>
              <a:xfrm>
                <a:off x="1845000" y="4313880"/>
                <a:ext cx="1191240" cy="5612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05800">
                <a:off x="1904040" y="434880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26160" y="4316760"/>
                <a:ext cx="292320" cy="12384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200" y="438372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97240" y="430560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45000" y="4595040"/>
                <a:ext cx="372240" cy="18180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147760" y="475452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425320" y="4563000"/>
                <a:ext cx="599760" cy="291600"/>
                <a:chOff x="2425320" y="4563000"/>
                <a:chExt cx="599760" cy="2916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725920" y="45630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25320" y="472932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1814400" y="4249800"/>
                <a:ext cx="121932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08440" y="44888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485080" y="4694040"/>
              <a:ext cx="1221840" cy="673200"/>
              <a:chOff x="2485080" y="4694040"/>
              <a:chExt cx="1221840" cy="673200"/>
            </a:xfrm>
          </p:grpSpPr>
          <p:sp>
            <p:nvSpPr>
              <p:cNvPr id="392" name=""/>
              <p:cNvSpPr/>
              <p:nvPr/>
            </p:nvSpPr>
            <p:spPr>
              <a:xfrm>
                <a:off x="2515680" y="4758120"/>
                <a:ext cx="11912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505800">
                <a:off x="2574720" y="479304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96840" y="4761000"/>
                <a:ext cx="2923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60880" y="482796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67920" y="474984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15680" y="5039640"/>
                <a:ext cx="37224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18440" y="519876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3096000" y="5007600"/>
                <a:ext cx="599760" cy="291960"/>
                <a:chOff x="3096000" y="5007600"/>
                <a:chExt cx="599760" cy="2919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396600" y="50076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096000" y="517428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2485080" y="4694040"/>
                <a:ext cx="12193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79120" y="49334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WIF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211800" y="2166840"/>
              <a:ext cx="1221840" cy="673200"/>
              <a:chOff x="6211800" y="2166840"/>
              <a:chExt cx="1221840" cy="673200"/>
            </a:xfrm>
          </p:grpSpPr>
          <p:sp>
            <p:nvSpPr>
              <p:cNvPr id="405" name=""/>
              <p:cNvSpPr/>
              <p:nvPr/>
            </p:nvSpPr>
            <p:spPr>
              <a:xfrm>
                <a:off x="6242400" y="2230920"/>
                <a:ext cx="1191240" cy="56160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05800">
                <a:off x="6301440" y="2265840"/>
                <a:ext cx="384480" cy="25920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23560" y="2233800"/>
                <a:ext cx="292320" cy="1242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87600" y="2300760"/>
                <a:ext cx="388440" cy="21132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94640" y="2222640"/>
                <a:ext cx="300240" cy="11124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42400" y="2512440"/>
                <a:ext cx="372240" cy="1821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45160" y="2671560"/>
                <a:ext cx="298440" cy="11088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6822720" y="2480400"/>
                <a:ext cx="599760" cy="291960"/>
                <a:chOff x="6822720" y="2480400"/>
                <a:chExt cx="599760" cy="291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123320" y="2480400"/>
                  <a:ext cx="299160" cy="18396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822720" y="2647080"/>
                  <a:ext cx="292680" cy="12528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211800" y="2166840"/>
                <a:ext cx="12193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05840" y="2406240"/>
                <a:ext cx="81720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ga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048000" y="3576600"/>
              <a:ext cx="1594080" cy="733320"/>
              <a:chOff x="6048000" y="3576600"/>
              <a:chExt cx="1594080" cy="733320"/>
            </a:xfrm>
          </p:grpSpPr>
          <p:sp>
            <p:nvSpPr>
              <p:cNvPr id="418" name=""/>
              <p:cNvSpPr/>
              <p:nvPr/>
            </p:nvSpPr>
            <p:spPr>
              <a:xfrm>
                <a:off x="6087960" y="3646440"/>
                <a:ext cx="1554120" cy="611640"/>
              </a:xfrm>
              <a:prstGeom prst="diamond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505800">
                <a:off x="6164640" y="3684240"/>
                <a:ext cx="501840" cy="282240"/>
              </a:xfrm>
              <a:custGeom>
                <a:avLst/>
                <a:gdLst/>
                <a:ahLst/>
                <a:rect l="l" t="t" r="r" b="b"/>
                <a:pathLst>
                  <a:path w="386" h="252">
                    <a:moveTo>
                      <a:pt x="0" y="252"/>
                    </a:moveTo>
                    <a:lnTo>
                      <a:pt x="1" y="242"/>
                    </a:lnTo>
                    <a:lnTo>
                      <a:pt x="5" y="232"/>
                    </a:lnTo>
                    <a:lnTo>
                      <a:pt x="8" y="220"/>
                    </a:lnTo>
                    <a:lnTo>
                      <a:pt x="12" y="209"/>
                    </a:lnTo>
                    <a:lnTo>
                      <a:pt x="15" y="199"/>
                    </a:lnTo>
                    <a:lnTo>
                      <a:pt x="20" y="189"/>
                    </a:lnTo>
                    <a:lnTo>
                      <a:pt x="24" y="178"/>
                    </a:lnTo>
                    <a:lnTo>
                      <a:pt x="29" y="168"/>
                    </a:lnTo>
                    <a:lnTo>
                      <a:pt x="34" y="160"/>
                    </a:lnTo>
                    <a:lnTo>
                      <a:pt x="41" y="149"/>
                    </a:lnTo>
                    <a:lnTo>
                      <a:pt x="46" y="139"/>
                    </a:lnTo>
                    <a:lnTo>
                      <a:pt x="53" y="130"/>
                    </a:lnTo>
                    <a:lnTo>
                      <a:pt x="60" y="122"/>
                    </a:lnTo>
                    <a:lnTo>
                      <a:pt x="67" y="113"/>
                    </a:lnTo>
                    <a:lnTo>
                      <a:pt x="75" y="105"/>
                    </a:lnTo>
                    <a:lnTo>
                      <a:pt x="82" y="96"/>
                    </a:lnTo>
                    <a:lnTo>
                      <a:pt x="91" y="87"/>
                    </a:lnTo>
                    <a:lnTo>
                      <a:pt x="98" y="81"/>
                    </a:lnTo>
                    <a:lnTo>
                      <a:pt x="106" y="74"/>
                    </a:lnTo>
                    <a:lnTo>
                      <a:pt x="116" y="67"/>
                    </a:lnTo>
                    <a:lnTo>
                      <a:pt x="125" y="60"/>
                    </a:lnTo>
                    <a:lnTo>
                      <a:pt x="134" y="53"/>
                    </a:lnTo>
                    <a:lnTo>
                      <a:pt x="144" y="48"/>
                    </a:lnTo>
                    <a:lnTo>
                      <a:pt x="154" y="41"/>
                    </a:lnTo>
                    <a:lnTo>
                      <a:pt x="163" y="36"/>
                    </a:lnTo>
                    <a:lnTo>
                      <a:pt x="173" y="31"/>
                    </a:lnTo>
                    <a:lnTo>
                      <a:pt x="183" y="26"/>
                    </a:lnTo>
                    <a:lnTo>
                      <a:pt x="194" y="22"/>
                    </a:lnTo>
                    <a:lnTo>
                      <a:pt x="206" y="19"/>
                    </a:lnTo>
                    <a:lnTo>
                      <a:pt x="216" y="15"/>
                    </a:lnTo>
                    <a:lnTo>
                      <a:pt x="226" y="12"/>
                    </a:lnTo>
                    <a:lnTo>
                      <a:pt x="238" y="9"/>
                    </a:lnTo>
                    <a:lnTo>
                      <a:pt x="248" y="7"/>
                    </a:lnTo>
                    <a:lnTo>
                      <a:pt x="260" y="5"/>
                    </a:lnTo>
                    <a:lnTo>
                      <a:pt x="271" y="3"/>
                    </a:lnTo>
                    <a:lnTo>
                      <a:pt x="283" y="2"/>
                    </a:lnTo>
                    <a:lnTo>
                      <a:pt x="295" y="2"/>
                    </a:lnTo>
                    <a:lnTo>
                      <a:pt x="305" y="0"/>
                    </a:lnTo>
                    <a:lnTo>
                      <a:pt x="317" y="0"/>
                    </a:lnTo>
                    <a:lnTo>
                      <a:pt x="329" y="2"/>
                    </a:lnTo>
                    <a:lnTo>
                      <a:pt x="339" y="2"/>
                    </a:lnTo>
                    <a:lnTo>
                      <a:pt x="351" y="3"/>
                    </a:lnTo>
                    <a:lnTo>
                      <a:pt x="363" y="5"/>
                    </a:lnTo>
                    <a:lnTo>
                      <a:pt x="374" y="7"/>
                    </a:lnTo>
                    <a:lnTo>
                      <a:pt x="386" y="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54800" y="3649680"/>
                <a:ext cx="381240" cy="135000"/>
              </a:xfrm>
              <a:custGeom>
                <a:avLst/>
                <a:gdLst/>
                <a:ahLst/>
                <a:rect l="l" t="t" r="r" b="b"/>
                <a:pathLst>
                  <a:path w="377" h="170">
                    <a:moveTo>
                      <a:pt x="3" y="170"/>
                    </a:moveTo>
                    <a:lnTo>
                      <a:pt x="2" y="161"/>
                    </a:lnTo>
                    <a:lnTo>
                      <a:pt x="0" y="153"/>
                    </a:lnTo>
                    <a:lnTo>
                      <a:pt x="0" y="143"/>
                    </a:lnTo>
                    <a:lnTo>
                      <a:pt x="2" y="132"/>
                    </a:lnTo>
                    <a:lnTo>
                      <a:pt x="3" y="124"/>
                    </a:lnTo>
                    <a:lnTo>
                      <a:pt x="5" y="115"/>
                    </a:lnTo>
                    <a:lnTo>
                      <a:pt x="8" y="107"/>
                    </a:lnTo>
                    <a:lnTo>
                      <a:pt x="14" y="96"/>
                    </a:lnTo>
                    <a:lnTo>
                      <a:pt x="17" y="89"/>
                    </a:lnTo>
                    <a:lnTo>
                      <a:pt x="24" y="81"/>
                    </a:lnTo>
                    <a:lnTo>
                      <a:pt x="29" y="72"/>
                    </a:lnTo>
                    <a:lnTo>
                      <a:pt x="36" y="65"/>
                    </a:lnTo>
                    <a:lnTo>
                      <a:pt x="43" y="57"/>
                    </a:lnTo>
                    <a:lnTo>
                      <a:pt x="51" y="50"/>
                    </a:lnTo>
                    <a:lnTo>
                      <a:pt x="60" y="45"/>
                    </a:lnTo>
                    <a:lnTo>
                      <a:pt x="70" y="38"/>
                    </a:lnTo>
                    <a:lnTo>
                      <a:pt x="79" y="33"/>
                    </a:lnTo>
                    <a:lnTo>
                      <a:pt x="89" y="26"/>
                    </a:lnTo>
                    <a:lnTo>
                      <a:pt x="101" y="23"/>
                    </a:lnTo>
                    <a:lnTo>
                      <a:pt x="111" y="17"/>
                    </a:lnTo>
                    <a:lnTo>
                      <a:pt x="123" y="14"/>
                    </a:lnTo>
                    <a:lnTo>
                      <a:pt x="137" y="11"/>
                    </a:lnTo>
                    <a:lnTo>
                      <a:pt x="149" y="7"/>
                    </a:lnTo>
                    <a:lnTo>
                      <a:pt x="163" y="5"/>
                    </a:lnTo>
                    <a:lnTo>
                      <a:pt x="177" y="4"/>
                    </a:lnTo>
                    <a:lnTo>
                      <a:pt x="190" y="2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7" y="0"/>
                    </a:lnTo>
                    <a:lnTo>
                      <a:pt x="261" y="2"/>
                    </a:lnTo>
                    <a:lnTo>
                      <a:pt x="276" y="4"/>
                    </a:lnTo>
                    <a:lnTo>
                      <a:pt x="291" y="5"/>
                    </a:lnTo>
                    <a:lnTo>
                      <a:pt x="305" y="7"/>
                    </a:lnTo>
                    <a:lnTo>
                      <a:pt x="321" y="11"/>
                    </a:lnTo>
                    <a:lnTo>
                      <a:pt x="334" y="14"/>
                    </a:lnTo>
                    <a:lnTo>
                      <a:pt x="348" y="19"/>
                    </a:lnTo>
                    <a:lnTo>
                      <a:pt x="363" y="24"/>
                    </a:lnTo>
                    <a:lnTo>
                      <a:pt x="377" y="2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59960" y="3722760"/>
                <a:ext cx="506880" cy="230040"/>
              </a:xfrm>
              <a:custGeom>
                <a:avLst/>
                <a:gdLst/>
                <a:ahLst/>
                <a:rect l="l" t="t" r="r" b="b"/>
                <a:pathLst>
                  <a:path w="405" h="223">
                    <a:moveTo>
                      <a:pt x="0" y="16"/>
                    </a:moveTo>
                    <a:lnTo>
                      <a:pt x="12" y="12"/>
                    </a:lnTo>
                    <a:lnTo>
                      <a:pt x="22" y="10"/>
                    </a:lnTo>
                    <a:lnTo>
                      <a:pt x="34" y="7"/>
                    </a:lnTo>
                    <a:lnTo>
                      <a:pt x="44" y="5"/>
                    </a:lnTo>
                    <a:lnTo>
                      <a:pt x="56" y="4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91" y="0"/>
                    </a:lnTo>
                    <a:lnTo>
                      <a:pt x="103" y="0"/>
                    </a:lnTo>
                    <a:lnTo>
                      <a:pt x="113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7" y="2"/>
                    </a:lnTo>
                    <a:lnTo>
                      <a:pt x="159" y="5"/>
                    </a:lnTo>
                    <a:lnTo>
                      <a:pt x="170" y="7"/>
                    </a:lnTo>
                    <a:lnTo>
                      <a:pt x="182" y="9"/>
                    </a:lnTo>
                    <a:lnTo>
                      <a:pt x="192" y="12"/>
                    </a:lnTo>
                    <a:lnTo>
                      <a:pt x="202" y="16"/>
                    </a:lnTo>
                    <a:lnTo>
                      <a:pt x="213" y="19"/>
                    </a:lnTo>
                    <a:lnTo>
                      <a:pt x="225" y="22"/>
                    </a:lnTo>
                    <a:lnTo>
                      <a:pt x="235" y="28"/>
                    </a:lnTo>
                    <a:lnTo>
                      <a:pt x="245" y="33"/>
                    </a:lnTo>
                    <a:lnTo>
                      <a:pt x="254" y="38"/>
                    </a:lnTo>
                    <a:lnTo>
                      <a:pt x="264" y="43"/>
                    </a:lnTo>
                    <a:lnTo>
                      <a:pt x="274" y="48"/>
                    </a:lnTo>
                    <a:lnTo>
                      <a:pt x="283" y="55"/>
                    </a:lnTo>
                    <a:lnTo>
                      <a:pt x="291" y="62"/>
                    </a:lnTo>
                    <a:lnTo>
                      <a:pt x="302" y="69"/>
                    </a:lnTo>
                    <a:lnTo>
                      <a:pt x="310" y="76"/>
                    </a:lnTo>
                    <a:lnTo>
                      <a:pt x="317" y="82"/>
                    </a:lnTo>
                    <a:lnTo>
                      <a:pt x="326" y="91"/>
                    </a:lnTo>
                    <a:lnTo>
                      <a:pt x="334" y="98"/>
                    </a:lnTo>
                    <a:lnTo>
                      <a:pt x="341" y="106"/>
                    </a:lnTo>
                    <a:lnTo>
                      <a:pt x="348" y="115"/>
                    </a:lnTo>
                    <a:lnTo>
                      <a:pt x="357" y="124"/>
                    </a:lnTo>
                    <a:lnTo>
                      <a:pt x="362" y="134"/>
                    </a:lnTo>
                    <a:lnTo>
                      <a:pt x="369" y="142"/>
                    </a:lnTo>
                    <a:lnTo>
                      <a:pt x="374" y="153"/>
                    </a:lnTo>
                    <a:lnTo>
                      <a:pt x="379" y="161"/>
                    </a:lnTo>
                    <a:lnTo>
                      <a:pt x="384" y="172"/>
                    </a:lnTo>
                    <a:lnTo>
                      <a:pt x="389" y="182"/>
                    </a:lnTo>
                    <a:lnTo>
                      <a:pt x="394" y="192"/>
                    </a:lnTo>
                    <a:lnTo>
                      <a:pt x="398" y="203"/>
                    </a:lnTo>
                    <a:lnTo>
                      <a:pt x="401" y="213"/>
                    </a:lnTo>
                    <a:lnTo>
                      <a:pt x="405" y="22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08320" y="3637440"/>
                <a:ext cx="391320" cy="12096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0" y="45"/>
                    </a:moveTo>
                    <a:lnTo>
                      <a:pt x="13" y="40"/>
                    </a:lnTo>
                    <a:lnTo>
                      <a:pt x="27" y="33"/>
                    </a:lnTo>
                    <a:lnTo>
                      <a:pt x="41" y="28"/>
                    </a:lnTo>
                    <a:lnTo>
                      <a:pt x="55" y="22"/>
                    </a:lnTo>
                    <a:lnTo>
                      <a:pt x="68" y="19"/>
                    </a:lnTo>
                    <a:lnTo>
                      <a:pt x="84" y="14"/>
                    </a:lnTo>
                    <a:lnTo>
                      <a:pt x="98" y="10"/>
                    </a:lnTo>
                    <a:lnTo>
                      <a:pt x="111" y="9"/>
                    </a:lnTo>
                    <a:lnTo>
                      <a:pt x="127" y="5"/>
                    </a:lnTo>
                    <a:lnTo>
                      <a:pt x="140" y="4"/>
                    </a:lnTo>
                    <a:lnTo>
                      <a:pt x="156" y="2"/>
                    </a:lnTo>
                    <a:lnTo>
                      <a:pt x="170" y="0"/>
                    </a:lnTo>
                    <a:lnTo>
                      <a:pt x="183" y="0"/>
                    </a:lnTo>
                    <a:lnTo>
                      <a:pt x="197" y="0"/>
                    </a:lnTo>
                    <a:lnTo>
                      <a:pt x="211" y="2"/>
                    </a:lnTo>
                    <a:lnTo>
                      <a:pt x="224" y="4"/>
                    </a:lnTo>
                    <a:lnTo>
                      <a:pt x="238" y="4"/>
                    </a:lnTo>
                    <a:lnTo>
                      <a:pt x="250" y="7"/>
                    </a:lnTo>
                    <a:lnTo>
                      <a:pt x="262" y="10"/>
                    </a:lnTo>
                    <a:lnTo>
                      <a:pt x="274" y="14"/>
                    </a:lnTo>
                    <a:lnTo>
                      <a:pt x="286" y="17"/>
                    </a:lnTo>
                    <a:lnTo>
                      <a:pt x="296" y="21"/>
                    </a:lnTo>
                    <a:lnTo>
                      <a:pt x="307" y="26"/>
                    </a:lnTo>
                    <a:lnTo>
                      <a:pt x="317" y="31"/>
                    </a:lnTo>
                    <a:lnTo>
                      <a:pt x="326" y="36"/>
                    </a:lnTo>
                    <a:lnTo>
                      <a:pt x="334" y="43"/>
                    </a:lnTo>
                    <a:lnTo>
                      <a:pt x="343" y="50"/>
                    </a:lnTo>
                    <a:lnTo>
                      <a:pt x="350" y="57"/>
                    </a:lnTo>
                    <a:lnTo>
                      <a:pt x="356" y="64"/>
                    </a:lnTo>
                    <a:lnTo>
                      <a:pt x="363" y="70"/>
                    </a:lnTo>
                    <a:lnTo>
                      <a:pt x="368" y="79"/>
                    </a:lnTo>
                    <a:lnTo>
                      <a:pt x="374" y="88"/>
                    </a:lnTo>
                    <a:lnTo>
                      <a:pt x="377" y="96"/>
                    </a:lnTo>
                    <a:lnTo>
                      <a:pt x="380" y="105"/>
                    </a:lnTo>
                    <a:lnTo>
                      <a:pt x="384" y="113"/>
                    </a:lnTo>
                    <a:lnTo>
                      <a:pt x="386" y="124"/>
                    </a:lnTo>
                    <a:lnTo>
                      <a:pt x="386" y="134"/>
                    </a:lnTo>
                    <a:lnTo>
                      <a:pt x="386" y="142"/>
                    </a:lnTo>
                    <a:lnTo>
                      <a:pt x="386" y="1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87960" y="3953160"/>
                <a:ext cx="486000" cy="198360"/>
              </a:xfrm>
              <a:custGeom>
                <a:avLst/>
                <a:gdLst/>
                <a:ahLst/>
                <a:rect l="l" t="t" r="r" b="b"/>
                <a:pathLst>
                  <a:path w="403" h="223">
                    <a:moveTo>
                      <a:pt x="403" y="207"/>
                    </a:moveTo>
                    <a:lnTo>
                      <a:pt x="393" y="211"/>
                    </a:lnTo>
                    <a:lnTo>
                      <a:pt x="381" y="212"/>
                    </a:lnTo>
                    <a:lnTo>
                      <a:pt x="371" y="216"/>
                    </a:lnTo>
                    <a:lnTo>
                      <a:pt x="359" y="217"/>
                    </a:lnTo>
                    <a:lnTo>
                      <a:pt x="348" y="219"/>
                    </a:lnTo>
                    <a:lnTo>
                      <a:pt x="336" y="221"/>
                    </a:lnTo>
                    <a:lnTo>
                      <a:pt x="324" y="223"/>
                    </a:lnTo>
                    <a:lnTo>
                      <a:pt x="314" y="223"/>
                    </a:lnTo>
                    <a:lnTo>
                      <a:pt x="302" y="223"/>
                    </a:lnTo>
                    <a:lnTo>
                      <a:pt x="290" y="223"/>
                    </a:lnTo>
                    <a:lnTo>
                      <a:pt x="280" y="223"/>
                    </a:lnTo>
                    <a:lnTo>
                      <a:pt x="268" y="221"/>
                    </a:lnTo>
                    <a:lnTo>
                      <a:pt x="258" y="221"/>
                    </a:lnTo>
                    <a:lnTo>
                      <a:pt x="246" y="217"/>
                    </a:lnTo>
                    <a:lnTo>
                      <a:pt x="234" y="216"/>
                    </a:lnTo>
                    <a:lnTo>
                      <a:pt x="223" y="214"/>
                    </a:lnTo>
                    <a:lnTo>
                      <a:pt x="213" y="211"/>
                    </a:lnTo>
                    <a:lnTo>
                      <a:pt x="201" y="207"/>
                    </a:lnTo>
                    <a:lnTo>
                      <a:pt x="191" y="204"/>
                    </a:lnTo>
                    <a:lnTo>
                      <a:pt x="180" y="200"/>
                    </a:lnTo>
                    <a:lnTo>
                      <a:pt x="170" y="195"/>
                    </a:lnTo>
                    <a:lnTo>
                      <a:pt x="160" y="190"/>
                    </a:lnTo>
                    <a:lnTo>
                      <a:pt x="150" y="185"/>
                    </a:lnTo>
                    <a:lnTo>
                      <a:pt x="141" y="180"/>
                    </a:lnTo>
                    <a:lnTo>
                      <a:pt x="131" y="175"/>
                    </a:lnTo>
                    <a:lnTo>
                      <a:pt x="120" y="168"/>
                    </a:lnTo>
                    <a:lnTo>
                      <a:pt x="112" y="161"/>
                    </a:lnTo>
                    <a:lnTo>
                      <a:pt x="103" y="154"/>
                    </a:lnTo>
                    <a:lnTo>
                      <a:pt x="95" y="147"/>
                    </a:lnTo>
                    <a:lnTo>
                      <a:pt x="86" y="140"/>
                    </a:lnTo>
                    <a:lnTo>
                      <a:pt x="78" y="133"/>
                    </a:lnTo>
                    <a:lnTo>
                      <a:pt x="71" y="125"/>
                    </a:lnTo>
                    <a:lnTo>
                      <a:pt x="64" y="116"/>
                    </a:lnTo>
                    <a:lnTo>
                      <a:pt x="55" y="108"/>
                    </a:lnTo>
                    <a:lnTo>
                      <a:pt x="48" y="99"/>
                    </a:lnTo>
                    <a:lnTo>
                      <a:pt x="42" y="89"/>
                    </a:lnTo>
                    <a:lnTo>
                      <a:pt x="36" y="80"/>
                    </a:lnTo>
                    <a:lnTo>
                      <a:pt x="31" y="70"/>
                    </a:lnTo>
                    <a:lnTo>
                      <a:pt x="24" y="61"/>
                    </a:lnTo>
                    <a:lnTo>
                      <a:pt x="21" y="51"/>
                    </a:lnTo>
                    <a:lnTo>
                      <a:pt x="16" y="41"/>
                    </a:lnTo>
                    <a:lnTo>
                      <a:pt x="11" y="31"/>
                    </a:lnTo>
                    <a:lnTo>
                      <a:pt x="7" y="20"/>
                    </a:lnTo>
                    <a:lnTo>
                      <a:pt x="2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83240" y="4126320"/>
                <a:ext cx="389520" cy="120960"/>
              </a:xfrm>
              <a:custGeom>
                <a:avLst/>
                <a:gdLst/>
                <a:ahLst/>
                <a:rect l="l" t="t" r="r" b="b"/>
                <a:pathLst>
                  <a:path w="386" h="153">
                    <a:moveTo>
                      <a:pt x="386" y="106"/>
                    </a:moveTo>
                    <a:lnTo>
                      <a:pt x="374" y="113"/>
                    </a:lnTo>
                    <a:lnTo>
                      <a:pt x="360" y="118"/>
                    </a:lnTo>
                    <a:lnTo>
                      <a:pt x="347" y="125"/>
                    </a:lnTo>
                    <a:lnTo>
                      <a:pt x="331" y="129"/>
                    </a:lnTo>
                    <a:lnTo>
                      <a:pt x="318" y="134"/>
                    </a:lnTo>
                    <a:lnTo>
                      <a:pt x="302" y="139"/>
                    </a:lnTo>
                    <a:lnTo>
                      <a:pt x="288" y="141"/>
                    </a:lnTo>
                    <a:lnTo>
                      <a:pt x="275" y="144"/>
                    </a:lnTo>
                    <a:lnTo>
                      <a:pt x="259" y="147"/>
                    </a:lnTo>
                    <a:lnTo>
                      <a:pt x="246" y="149"/>
                    </a:lnTo>
                    <a:lnTo>
                      <a:pt x="230" y="151"/>
                    </a:lnTo>
                    <a:lnTo>
                      <a:pt x="216" y="151"/>
                    </a:lnTo>
                    <a:lnTo>
                      <a:pt x="203" y="153"/>
                    </a:lnTo>
                    <a:lnTo>
                      <a:pt x="189" y="151"/>
                    </a:lnTo>
                    <a:lnTo>
                      <a:pt x="175" y="151"/>
                    </a:lnTo>
                    <a:lnTo>
                      <a:pt x="162" y="149"/>
                    </a:lnTo>
                    <a:lnTo>
                      <a:pt x="150" y="147"/>
                    </a:lnTo>
                    <a:lnTo>
                      <a:pt x="136" y="146"/>
                    </a:lnTo>
                    <a:lnTo>
                      <a:pt x="124" y="142"/>
                    </a:lnTo>
                    <a:lnTo>
                      <a:pt x="112" y="139"/>
                    </a:lnTo>
                    <a:lnTo>
                      <a:pt x="102" y="135"/>
                    </a:lnTo>
                    <a:lnTo>
                      <a:pt x="90" y="132"/>
                    </a:lnTo>
                    <a:lnTo>
                      <a:pt x="79" y="127"/>
                    </a:lnTo>
                    <a:lnTo>
                      <a:pt x="71" y="122"/>
                    </a:lnTo>
                    <a:lnTo>
                      <a:pt x="60" y="117"/>
                    </a:lnTo>
                    <a:lnTo>
                      <a:pt x="52" y="110"/>
                    </a:lnTo>
                    <a:lnTo>
                      <a:pt x="43" y="103"/>
                    </a:lnTo>
                    <a:lnTo>
                      <a:pt x="36" y="96"/>
                    </a:lnTo>
                    <a:lnTo>
                      <a:pt x="30" y="89"/>
                    </a:lnTo>
                    <a:lnTo>
                      <a:pt x="23" y="82"/>
                    </a:lnTo>
                    <a:lnTo>
                      <a:pt x="18" y="74"/>
                    </a:lnTo>
                    <a:lnTo>
                      <a:pt x="12" y="65"/>
                    </a:lnTo>
                    <a:lnTo>
                      <a:pt x="9" y="57"/>
                    </a:lnTo>
                    <a:lnTo>
                      <a:pt x="6" y="48"/>
                    </a:lnTo>
                    <a:lnTo>
                      <a:pt x="4" y="39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6845040" y="3918240"/>
                <a:ext cx="782280" cy="317880"/>
                <a:chOff x="6845040" y="3918240"/>
                <a:chExt cx="782280" cy="3178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237080" y="3918240"/>
                  <a:ext cx="390240" cy="200520"/>
                </a:xfrm>
                <a:custGeom>
                  <a:avLst/>
                  <a:gdLst/>
                  <a:ahLst/>
                  <a:rect l="l" t="t" r="r" b="b"/>
                  <a:pathLst>
                    <a:path w="386" h="252">
                      <a:moveTo>
                        <a:pt x="386" y="0"/>
                      </a:moveTo>
                      <a:lnTo>
                        <a:pt x="384" y="11"/>
                      </a:lnTo>
                      <a:lnTo>
                        <a:pt x="381" y="23"/>
                      </a:lnTo>
                      <a:lnTo>
                        <a:pt x="378" y="33"/>
                      </a:lnTo>
                      <a:lnTo>
                        <a:pt x="374" y="43"/>
                      </a:lnTo>
                      <a:lnTo>
                        <a:pt x="371" y="54"/>
                      </a:lnTo>
                      <a:lnTo>
                        <a:pt x="366" y="64"/>
                      </a:lnTo>
                      <a:lnTo>
                        <a:pt x="360" y="74"/>
                      </a:lnTo>
                      <a:lnTo>
                        <a:pt x="355" y="84"/>
                      </a:lnTo>
                      <a:lnTo>
                        <a:pt x="350" y="95"/>
                      </a:lnTo>
                      <a:lnTo>
                        <a:pt x="345" y="103"/>
                      </a:lnTo>
                      <a:lnTo>
                        <a:pt x="338" y="114"/>
                      </a:lnTo>
                      <a:lnTo>
                        <a:pt x="331" y="122"/>
                      </a:lnTo>
                      <a:lnTo>
                        <a:pt x="326" y="132"/>
                      </a:lnTo>
                      <a:lnTo>
                        <a:pt x="319" y="141"/>
                      </a:lnTo>
                      <a:lnTo>
                        <a:pt x="311" y="150"/>
                      </a:lnTo>
                      <a:lnTo>
                        <a:pt x="304" y="156"/>
                      </a:lnTo>
                      <a:lnTo>
                        <a:pt x="295" y="165"/>
                      </a:lnTo>
                      <a:lnTo>
                        <a:pt x="287" y="174"/>
                      </a:lnTo>
                      <a:lnTo>
                        <a:pt x="278" y="180"/>
                      </a:lnTo>
                      <a:lnTo>
                        <a:pt x="270" y="187"/>
                      </a:lnTo>
                      <a:lnTo>
                        <a:pt x="261" y="194"/>
                      </a:lnTo>
                      <a:lnTo>
                        <a:pt x="251" y="199"/>
                      </a:lnTo>
                      <a:lnTo>
                        <a:pt x="242" y="206"/>
                      </a:lnTo>
                      <a:lnTo>
                        <a:pt x="232" y="211"/>
                      </a:lnTo>
                      <a:lnTo>
                        <a:pt x="222" y="216"/>
                      </a:lnTo>
                      <a:lnTo>
                        <a:pt x="211" y="222"/>
                      </a:lnTo>
                      <a:lnTo>
                        <a:pt x="201" y="227"/>
                      </a:lnTo>
                      <a:lnTo>
                        <a:pt x="191" y="232"/>
                      </a:lnTo>
                      <a:lnTo>
                        <a:pt x="180" y="235"/>
                      </a:lnTo>
                      <a:lnTo>
                        <a:pt x="170" y="239"/>
                      </a:lnTo>
                      <a:lnTo>
                        <a:pt x="160" y="242"/>
                      </a:lnTo>
                      <a:lnTo>
                        <a:pt x="148" y="244"/>
                      </a:lnTo>
                      <a:lnTo>
                        <a:pt x="136" y="246"/>
                      </a:lnTo>
                      <a:lnTo>
                        <a:pt x="126" y="249"/>
                      </a:lnTo>
                      <a:lnTo>
                        <a:pt x="114" y="249"/>
                      </a:lnTo>
                      <a:lnTo>
                        <a:pt x="103" y="251"/>
                      </a:lnTo>
                      <a:lnTo>
                        <a:pt x="91" y="252"/>
                      </a:lnTo>
                      <a:lnTo>
                        <a:pt x="79" y="252"/>
                      </a:lnTo>
                      <a:lnTo>
                        <a:pt x="69" y="252"/>
                      </a:lnTo>
                      <a:lnTo>
                        <a:pt x="57" y="252"/>
                      </a:lnTo>
                      <a:lnTo>
                        <a:pt x="45" y="252"/>
                      </a:lnTo>
                      <a:lnTo>
                        <a:pt x="35" y="251"/>
                      </a:lnTo>
                      <a:lnTo>
                        <a:pt x="23" y="249"/>
                      </a:lnTo>
                      <a:lnTo>
                        <a:pt x="12" y="247"/>
                      </a:lnTo>
                      <a:lnTo>
                        <a:pt x="0" y="2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845040" y="4099680"/>
                  <a:ext cx="381960" cy="136440"/>
                </a:xfrm>
                <a:custGeom>
                  <a:avLst/>
                  <a:gdLst/>
                  <a:ahLst/>
                  <a:rect l="l" t="t" r="r" b="b"/>
                  <a:pathLst>
                    <a:path w="377" h="172">
                      <a:moveTo>
                        <a:pt x="374" y="0"/>
                      </a:moveTo>
                      <a:lnTo>
                        <a:pt x="375" y="9"/>
                      </a:lnTo>
                      <a:lnTo>
                        <a:pt x="377" y="19"/>
                      </a:lnTo>
                      <a:lnTo>
                        <a:pt x="377" y="28"/>
                      </a:lnTo>
                      <a:lnTo>
                        <a:pt x="375" y="38"/>
                      </a:lnTo>
                      <a:lnTo>
                        <a:pt x="374" y="47"/>
                      </a:lnTo>
                      <a:lnTo>
                        <a:pt x="372" y="57"/>
                      </a:lnTo>
                      <a:lnTo>
                        <a:pt x="368" y="66"/>
                      </a:lnTo>
                      <a:lnTo>
                        <a:pt x="363" y="74"/>
                      </a:lnTo>
                      <a:lnTo>
                        <a:pt x="360" y="83"/>
                      </a:lnTo>
                      <a:lnTo>
                        <a:pt x="353" y="91"/>
                      </a:lnTo>
                      <a:lnTo>
                        <a:pt x="348" y="100"/>
                      </a:lnTo>
                      <a:lnTo>
                        <a:pt x="341" y="107"/>
                      </a:lnTo>
                      <a:lnTo>
                        <a:pt x="334" y="114"/>
                      </a:lnTo>
                      <a:lnTo>
                        <a:pt x="326" y="120"/>
                      </a:lnTo>
                      <a:lnTo>
                        <a:pt x="317" y="127"/>
                      </a:lnTo>
                      <a:lnTo>
                        <a:pt x="307" y="132"/>
                      </a:lnTo>
                      <a:lnTo>
                        <a:pt x="298" y="139"/>
                      </a:lnTo>
                      <a:lnTo>
                        <a:pt x="288" y="144"/>
                      </a:lnTo>
                      <a:lnTo>
                        <a:pt x="276" y="150"/>
                      </a:lnTo>
                      <a:lnTo>
                        <a:pt x="266" y="155"/>
                      </a:lnTo>
                      <a:lnTo>
                        <a:pt x="254" y="158"/>
                      </a:lnTo>
                      <a:lnTo>
                        <a:pt x="240" y="162"/>
                      </a:lnTo>
                      <a:lnTo>
                        <a:pt x="228" y="165"/>
                      </a:lnTo>
                      <a:lnTo>
                        <a:pt x="214" y="167"/>
                      </a:lnTo>
                      <a:lnTo>
                        <a:pt x="200" y="168"/>
                      </a:lnTo>
                      <a:lnTo>
                        <a:pt x="187" y="170"/>
                      </a:lnTo>
                      <a:lnTo>
                        <a:pt x="173" y="172"/>
                      </a:lnTo>
                      <a:lnTo>
                        <a:pt x="159" y="172"/>
                      </a:lnTo>
                      <a:lnTo>
                        <a:pt x="146" y="172"/>
                      </a:lnTo>
                      <a:lnTo>
                        <a:pt x="130" y="170"/>
                      </a:lnTo>
                      <a:lnTo>
                        <a:pt x="116" y="170"/>
                      </a:lnTo>
                      <a:lnTo>
                        <a:pt x="101" y="168"/>
                      </a:lnTo>
                      <a:lnTo>
                        <a:pt x="86" y="165"/>
                      </a:lnTo>
                      <a:lnTo>
                        <a:pt x="72" y="163"/>
                      </a:lnTo>
                      <a:lnTo>
                        <a:pt x="56" y="160"/>
                      </a:lnTo>
                      <a:lnTo>
                        <a:pt x="43" y="156"/>
                      </a:lnTo>
                      <a:lnTo>
                        <a:pt x="29" y="153"/>
                      </a:lnTo>
                      <a:lnTo>
                        <a:pt x="13" y="148"/>
                      </a:lnTo>
                      <a:lnTo>
                        <a:pt x="0" y="14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6048000" y="3576600"/>
                <a:ext cx="1590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01080" y="3837240"/>
                <a:ext cx="10663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ler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1568520" y="2411280"/>
            <a:ext cx="5524560" cy="1168560"/>
            <a:chOff x="1568520" y="2411280"/>
            <a:chExt cx="5524560" cy="1168560"/>
          </a:xfrm>
        </p:grpSpPr>
        <p:sp>
          <p:nvSpPr>
            <p:cNvPr id="431" name=""/>
            <p:cNvSpPr/>
            <p:nvPr/>
          </p:nvSpPr>
          <p:spPr>
            <a:xfrm>
              <a:off x="1568520" y="2411280"/>
              <a:ext cx="5524560" cy="1168560"/>
            </a:xfrm>
            <a:prstGeom prst="rect">
              <a:avLst/>
            </a:prstGeom>
            <a:solidFill>
              <a:srgbClr val="00cc99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63640" y="2565360"/>
              <a:ext cx="261000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N/CEFACT Recommend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ingle Window (Rec 3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c: 6,11,12,14,18,22,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32440" y="2565360"/>
              <a:ext cx="51120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9320" y="2565360"/>
              <a:ext cx="63504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10280" y="2565360"/>
              <a:ext cx="62532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9960" y="2571840"/>
              <a:ext cx="33804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76320" y="282600"/>
            <a:ext cx="1380960" cy="6118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568520" y="3770280"/>
            <a:ext cx="5524560" cy="1141560"/>
            <a:chOff x="1568520" y="3770280"/>
            <a:chExt cx="5524560" cy="1141560"/>
          </a:xfrm>
        </p:grpSpPr>
        <p:sp>
          <p:nvSpPr>
            <p:cNvPr id="439" name=""/>
            <p:cNvSpPr/>
            <p:nvPr/>
          </p:nvSpPr>
          <p:spPr>
            <a:xfrm>
              <a:off x="1568520" y="3770280"/>
              <a:ext cx="5524560" cy="1141560"/>
            </a:xfrm>
            <a:prstGeom prst="rect">
              <a:avLst/>
            </a:prstGeom>
            <a:solidFill>
              <a:srgbClr val="00cc99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63640" y="4003560"/>
              <a:ext cx="1295640" cy="72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T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76720" y="4003560"/>
              <a:ext cx="1942920" cy="72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64000" y="4003560"/>
              <a:ext cx="1527480" cy="72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/EDI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ffffff"/>
                  </a:solidFill>
                  <a:latin typeface="Arial"/>
                </a:rPr>
                <a:t>Data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581120" y="765000"/>
            <a:ext cx="5524560" cy="1536840"/>
            <a:chOff x="1581120" y="765000"/>
            <a:chExt cx="5524560" cy="1536840"/>
          </a:xfrm>
        </p:grpSpPr>
        <p:sp>
          <p:nvSpPr>
            <p:cNvPr id="444" name=""/>
            <p:cNvSpPr/>
            <p:nvPr/>
          </p:nvSpPr>
          <p:spPr>
            <a:xfrm>
              <a:off x="1581120" y="765000"/>
              <a:ext cx="5524560" cy="1536840"/>
            </a:xfrm>
            <a:prstGeom prst="rect">
              <a:avLst/>
            </a:prstGeom>
            <a:solidFill>
              <a:srgbClr val="00cc99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76240" y="898200"/>
              <a:ext cx="5113440" cy="43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ngle Window, Paperless Trade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76240" y="1330200"/>
              <a:ext cx="5113440" cy="431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pacity building and projects by UN System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76240" y="1761840"/>
              <a:ext cx="5113440" cy="43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vised Kyoto Convention, WTO, eTIR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876720" y="264960"/>
            <a:ext cx="2121120" cy="6189840"/>
            <a:chOff x="6876720" y="264960"/>
            <a:chExt cx="2121120" cy="6189840"/>
          </a:xfrm>
        </p:grpSpPr>
        <p:sp>
          <p:nvSpPr>
            <p:cNvPr id="449" name=""/>
            <p:cNvSpPr/>
            <p:nvPr/>
          </p:nvSpPr>
          <p:spPr>
            <a:xfrm>
              <a:off x="7351560" y="284040"/>
              <a:ext cx="1646280" cy="6170760"/>
            </a:xfrm>
            <a:prstGeom prst="rect">
              <a:avLst/>
            </a:prstGeom>
            <a:solidFill>
              <a:srgbClr val="33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4720" y="836640"/>
              <a:ext cx="1346400" cy="136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wor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4720" y="2205000"/>
              <a:ext cx="1346400" cy="136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ML/ED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hema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per Fo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24720" y="3573360"/>
              <a:ext cx="1346400" cy="136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24720" y="4941720"/>
              <a:ext cx="1346400" cy="1368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us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91480" y="5516640"/>
              <a:ext cx="633240" cy="280800"/>
            </a:xfrm>
            <a:prstGeom prst="rightArrow">
              <a:avLst>
                <a:gd name="adj1" fmla="val 50000"/>
                <a:gd name="adj2" fmla="val 5637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1480" y="4221000"/>
              <a:ext cx="633240" cy="281160"/>
            </a:xfrm>
            <a:prstGeom prst="rightArrow">
              <a:avLst>
                <a:gd name="adj1" fmla="val 50000"/>
                <a:gd name="adj2" fmla="val 5630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6876720" y="2787120"/>
              <a:ext cx="633240" cy="281160"/>
            </a:xfrm>
            <a:prstGeom prst="rightArrow">
              <a:avLst>
                <a:gd name="adj1" fmla="val 50000"/>
                <a:gd name="adj2" fmla="val 5630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0800000">
              <a:off x="6891120" y="1413000"/>
              <a:ext cx="633240" cy="280800"/>
            </a:xfrm>
            <a:prstGeom prst="rightArrow">
              <a:avLst>
                <a:gd name="adj1" fmla="val 50000"/>
                <a:gd name="adj2" fmla="val 5637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53360" y="264960"/>
              <a:ext cx="1638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68520" y="5072040"/>
            <a:ext cx="5524560" cy="1166760"/>
            <a:chOff x="1568520" y="5072040"/>
            <a:chExt cx="5524560" cy="1166760"/>
          </a:xfrm>
        </p:grpSpPr>
        <p:sp>
          <p:nvSpPr>
            <p:cNvPr id="460" name=""/>
            <p:cNvSpPr/>
            <p:nvPr/>
          </p:nvSpPr>
          <p:spPr>
            <a:xfrm>
              <a:off x="1568520" y="5094360"/>
              <a:ext cx="5524560" cy="1144440"/>
            </a:xfrm>
            <a:prstGeom prst="rect">
              <a:avLst/>
            </a:prstGeom>
            <a:solidFill>
              <a:srgbClr val="00cc99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5308560"/>
              <a:ext cx="187164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 Layout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de lists Rec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80000" y="5308560"/>
              <a:ext cx="3111480" cy="792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M, CCTS, XML N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SO 9735(EDIFACT Syntax)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82840" y="5072040"/>
              <a:ext cx="987480" cy="276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3480" y="5072040"/>
              <a:ext cx="1800000" cy="276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s 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544760" y="0"/>
            <a:ext cx="55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CE Integrated Framework of Standards for Paperless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85680" y="25704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e Facilitation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1160" y="5111640"/>
            <a:ext cx="971280" cy="1143000"/>
          </a:xfrm>
          <a:prstGeom prst="rect">
            <a:avLst/>
          </a:prstGeom>
          <a:solidFill>
            <a:srgbClr val="00cc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9360" y="3772080"/>
            <a:ext cx="978120" cy="1143000"/>
          </a:xfrm>
          <a:prstGeom prst="rect">
            <a:avLst/>
          </a:prstGeom>
          <a:solidFill>
            <a:srgbClr val="00cc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2360" y="777960"/>
            <a:ext cx="1062000" cy="1515960"/>
          </a:xfrm>
          <a:prstGeom prst="rect">
            <a:avLst/>
          </a:prstGeom>
          <a:solidFill>
            <a:srgbClr val="00cc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ation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2360" y="2421000"/>
            <a:ext cx="976320" cy="1143000"/>
          </a:xfrm>
          <a:prstGeom prst="rect">
            <a:avLst/>
          </a:prstGeom>
          <a:solidFill>
            <a:srgbClr val="00cc99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t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352680" y="4952880"/>
            <a:ext cx="4248360" cy="1440000"/>
            <a:chOff x="3352680" y="4952880"/>
            <a:chExt cx="4248360" cy="1440000"/>
          </a:xfrm>
        </p:grpSpPr>
        <p:sp>
          <p:nvSpPr>
            <p:cNvPr id="474" name=""/>
            <p:cNvSpPr/>
            <p:nvPr/>
          </p:nvSpPr>
          <p:spPr>
            <a:xfrm>
              <a:off x="3352680" y="4952880"/>
              <a:ext cx="4248360" cy="1368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2680" y="5384880"/>
              <a:ext cx="388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re 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bXM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352680" y="3962520"/>
            <a:ext cx="4248360" cy="1368360"/>
            <a:chOff x="3352680" y="3962520"/>
            <a:chExt cx="4248360" cy="1368360"/>
          </a:xfrm>
        </p:grpSpPr>
        <p:sp>
          <p:nvSpPr>
            <p:cNvPr id="477" name=""/>
            <p:cNvSpPr/>
            <p:nvPr/>
          </p:nvSpPr>
          <p:spPr>
            <a:xfrm>
              <a:off x="3352680" y="3962520"/>
              <a:ext cx="4248360" cy="1368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2680" y="4538880"/>
              <a:ext cx="388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WCO Data Model, UNTD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8600" y="1219320"/>
            <a:ext cx="2933640" cy="2302920"/>
            <a:chOff x="228600" y="1219320"/>
            <a:chExt cx="2933640" cy="2302920"/>
          </a:xfrm>
        </p:grpSpPr>
        <p:sp>
          <p:nvSpPr>
            <p:cNvPr id="480" name=""/>
            <p:cNvSpPr/>
            <p:nvPr/>
          </p:nvSpPr>
          <p:spPr>
            <a:xfrm>
              <a:off x="228600" y="1371600"/>
              <a:ext cx="2448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 Unicode MS"/>
                  <a:ea typeface="Arial"/>
                </a:rPr>
                <a:t>National/ Subregional Policies and Implementation Strategi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76600" y="1219320"/>
              <a:ext cx="485640" cy="2302920"/>
            </a:xfrm>
            <a:prstGeom prst="downArrow">
              <a:avLst>
                <a:gd name="adj1" fmla="val 50000"/>
                <a:gd name="adj2" fmla="val 11855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68360" y="4017960"/>
            <a:ext cx="2644560" cy="2160720"/>
            <a:chOff x="468360" y="4017960"/>
            <a:chExt cx="2644560" cy="2160720"/>
          </a:xfrm>
        </p:grpSpPr>
        <p:sp>
          <p:nvSpPr>
            <p:cNvPr id="483" name=""/>
            <p:cNvSpPr/>
            <p:nvPr/>
          </p:nvSpPr>
          <p:spPr>
            <a:xfrm>
              <a:off x="468360" y="4365720"/>
              <a:ext cx="1942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 Unicode MS"/>
                  <a:ea typeface="Arial"/>
                </a:rPr>
                <a:t>International Standards and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27280" y="4017960"/>
              <a:ext cx="485640" cy="2160720"/>
            </a:xfrm>
            <a:prstGeom prst="upArrow">
              <a:avLst>
                <a:gd name="adj1" fmla="val 50000"/>
                <a:gd name="adj2" fmla="val 111231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6400800" y="6386400"/>
            <a:ext cx="1812960" cy="4716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352680" y="2971800"/>
            <a:ext cx="4248360" cy="136836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352680" y="1981080"/>
            <a:ext cx="4248360" cy="1440000"/>
            <a:chOff x="3352680" y="1981080"/>
            <a:chExt cx="4248360" cy="1440000"/>
          </a:xfrm>
        </p:grpSpPr>
        <p:sp>
          <p:nvSpPr>
            <p:cNvPr id="488" name=""/>
            <p:cNvSpPr/>
            <p:nvPr/>
          </p:nvSpPr>
          <p:spPr>
            <a:xfrm>
              <a:off x="3352680" y="1981080"/>
              <a:ext cx="4248360" cy="1368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2680" y="2413080"/>
              <a:ext cx="388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National Single Window Projec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352680" y="990720"/>
            <a:ext cx="4248360" cy="1368360"/>
            <a:chOff x="3352680" y="990720"/>
            <a:chExt cx="4248360" cy="1368360"/>
          </a:xfrm>
        </p:grpSpPr>
        <p:sp>
          <p:nvSpPr>
            <p:cNvPr id="491" name=""/>
            <p:cNvSpPr/>
            <p:nvPr/>
          </p:nvSpPr>
          <p:spPr>
            <a:xfrm>
              <a:off x="3352680" y="990720"/>
              <a:ext cx="4248360" cy="1368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279440"/>
              <a:ext cx="388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gional Single Window and Paperless Trading initia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352680" y="3581280"/>
            <a:ext cx="388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Unicode MS"/>
                <a:ea typeface="Arial"/>
              </a:rPr>
              <a:t>UN Network of Expe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618840" cy="604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28600" y="2286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bridge the gap between the policy framework &amp; the implementation at regional/national lev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4000" indent="0">
              <a:spcBef>
                <a:spcPts val="138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ccff"/>
                </a:solidFill>
                <a:latin typeface="Arial"/>
              </a:rPr>
              <a:t>www.unescap.org/unnex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8120" y="5486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unescap.org/unnex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057840" y="623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unescap.org/unnex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Network of Expert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Paperless Trade in Asia-Pacific reg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n ongoing community of knowledge and practice to facilitate the implementation of single window and paperless trade in the Asia-Pacific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35232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ing this gap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239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N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building 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knowledge and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of best practices and experience with their peers in other countries of the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794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4:50Z</dcterms:created>
  <dc:creator>Marchand</dc:creator>
  <dc:description/>
  <dc:language>en-US</dc:language>
  <cp:lastModifiedBy>Butterly</cp:lastModifiedBy>
  <dcterms:modified xsi:type="dcterms:W3CDTF">2009-10-27T13:37:55Z</dcterms:modified>
  <cp:revision>388</cp:revision>
  <dc:subject/>
  <dc:title>United Nations Electronic Trade</dc:title>
</cp:coreProperties>
</file>