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head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119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5867280"/>
            <a:ext cx="914400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22" descr="shrink_10_Horizontal_RGB_600"/>
          <p:cNvPicPr/>
          <p:nvPr/>
        </p:nvPicPr>
        <p:blipFill>
          <a:blip r:embed="rId3"/>
          <a:stretch/>
        </p:blipFill>
        <p:spPr>
          <a:xfrm>
            <a:off x="668160" y="6116760"/>
            <a:ext cx="2133720" cy="6397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24"/>
          <p:cNvSpPr/>
          <p:nvPr/>
        </p:nvSpPr>
        <p:spPr>
          <a:xfrm>
            <a:off x="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5"/>
          <p:cNvSpPr/>
          <p:nvPr/>
        </p:nvSpPr>
        <p:spPr>
          <a:xfrm>
            <a:off x="1800" y="2028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6"/>
          <p:cNvSpPr/>
          <p:nvPr/>
        </p:nvSpPr>
        <p:spPr>
          <a:xfrm>
            <a:off x="1800" y="2944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7"/>
          <p:cNvSpPr/>
          <p:nvPr/>
        </p:nvSpPr>
        <p:spPr>
          <a:xfrm>
            <a:off x="1800" y="3618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8"/>
          <p:cNvSpPr/>
          <p:nvPr/>
        </p:nvSpPr>
        <p:spPr>
          <a:xfrm>
            <a:off x="1800" y="43470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" descr="Carina logo culgmacedonia"/>
          <p:cNvPicPr/>
          <p:nvPr/>
        </p:nvPicPr>
        <p:blipFill>
          <a:blip r:embed="rId4"/>
          <a:stretch/>
        </p:blipFill>
        <p:spPr>
          <a:xfrm>
            <a:off x="7621560" y="6019920"/>
            <a:ext cx="838080" cy="7794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5" descr="head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119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1"/>
          <p:cNvSpPr/>
          <p:nvPr/>
        </p:nvSpPr>
        <p:spPr>
          <a:xfrm>
            <a:off x="0" y="5867280"/>
            <a:ext cx="9144000" cy="1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2" descr="shrink_10_Horizontal_RGB_600"/>
          <p:cNvPicPr/>
          <p:nvPr/>
        </p:nvPicPr>
        <p:blipFill>
          <a:blip r:embed="rId3"/>
          <a:stretch/>
        </p:blipFill>
        <p:spPr>
          <a:xfrm>
            <a:off x="668160" y="6116760"/>
            <a:ext cx="2133720" cy="639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4"/>
          <p:cNvSpPr/>
          <p:nvPr/>
        </p:nvSpPr>
        <p:spPr>
          <a:xfrm>
            <a:off x="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1800" y="2028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6"/>
          <p:cNvSpPr/>
          <p:nvPr/>
        </p:nvSpPr>
        <p:spPr>
          <a:xfrm>
            <a:off x="1800" y="2944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7"/>
          <p:cNvSpPr/>
          <p:nvPr/>
        </p:nvSpPr>
        <p:spPr>
          <a:xfrm>
            <a:off x="1800" y="3618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8"/>
          <p:cNvSpPr/>
          <p:nvPr/>
        </p:nvSpPr>
        <p:spPr>
          <a:xfrm>
            <a:off x="1800" y="43470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" descr="Carina logo culgmacedonia"/>
          <p:cNvPicPr/>
          <p:nvPr/>
        </p:nvPicPr>
        <p:blipFill>
          <a:blip r:embed="rId4"/>
          <a:stretch/>
        </p:blipFill>
        <p:spPr>
          <a:xfrm>
            <a:off x="7621560" y="6019920"/>
            <a:ext cx="838080" cy="77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im.gov.mk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xim.gov.mk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slavica.kutirov@customs.gov.mk" TargetMode="External"/><Relationship Id="rId2" Type="http://schemas.openxmlformats.org/officeDocument/2006/relationships/hyperlink" Target="http://www.customs.gov.mk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1219320" y="1676520"/>
            <a:ext cx="670536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ingle Window: benefits from an advanced trade facilitation tool and UN standards for a transition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www.exim.gov.m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avica KUTIR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ustoms Administration of the Republic of Maced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Conference for Trade Development and Facilitation for Economies in Trans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Geneva, 27 October 2009, Palais des 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lement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October 2007 – October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p on Data Harmonization and Standard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ment of Legal Frame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omplishment of Software and Hardware Proc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ion of Central Data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ment of Softwar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allation of Hardware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inings and Pro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unching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 November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Window for Licenses for Import, export and Tran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Goods and Tariff Quotas (EX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xim.gov.m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IM Functionalities </a:t>
            </a:r>
            <a:r>
              <a:rPr b="1" lang="mk-M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ngle frame for all required information for obtaining 66 different import, export or transit licenses and tariff qu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mk-MK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-application for licenses and on-line tracking the current status from the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-issuance of licenses from the GA and on-line monitoring of usage from Cust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1600" spc="-1" strike="noStrike">
                <a:solidFill>
                  <a:srgbClr val="000000"/>
                </a:solidFill>
                <a:latin typeface="Verdana"/>
              </a:rPr>
              <a:t>е -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pplications</a:t>
            </a:r>
            <a:r>
              <a:rPr b="1" lang="mk-MK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r customs quotas and on-line monitoring of al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1600" spc="-1" strike="noStrike">
                <a:solidFill>
                  <a:srgbClr val="000000"/>
                </a:solidFill>
                <a:latin typeface="Verdana"/>
              </a:rPr>
              <a:t>е –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onitoring of payments for administrative f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qual legal validity of electronic and paper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intouts of licenses and other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entral management of referenc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14264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IM U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4343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stoms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stry of in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stry of agri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hyto-sanitary Directo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Veterinary Directo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ate inspectorate for agri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ed and seed materials directo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ureau for medic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Food directo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ate sanitary and health inspecto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4114800" y="1371600"/>
            <a:ext cx="4191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38080" indent="-380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stry of econo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ureau for metr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stry of environment and    physical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stry of cul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irectorate for radiation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National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419720" y="4114800"/>
            <a:ext cx="41907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762480" indent="-346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Verdana"/>
                <a:ea typeface="Times New Roman"/>
              </a:rPr>
              <a:t>T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53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mpor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53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xpor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53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arr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53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rok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53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Freight Forw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480" indent="-346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1676520"/>
            <a:ext cx="4191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lvl="1" marL="645120" indent="-293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  <a:ea typeface="Times New Roman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5120" indent="-29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5228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chnology </a:t>
            </a:r>
            <a:r>
              <a:rPr b="1" lang="mk-M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3520" y="1066680"/>
          <a:ext cx="83818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83818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rvice availability 24 hours, 7 days a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reasing the efficiency of the licensing process and provide better legal 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ving of time and costs for businesses and government due to e-licenses process and more efficient use of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conditions for increasing collection of the revenues based on coordinated approach between PGA and efficient use of the recour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hanced security as a result of centralized approach to the cross border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ndardized and harmonized data and model structure, ready for more comprehensive exchange of information and coordinated risk assess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rther developmen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ork on improvement of the technical functionalities of EXIM system and inclusion of the new procedures and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eep on data harmonization and standardization of the current and new data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CO DM vers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Component Library (CC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mprovement of cross-border exchange of information providing interoperability with other information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 Customs Declaration Processing System (CD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terinarian Agency System (TRA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ystem for Transport Licen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ork on building of cooperation and coordinated risk assessment between cross-border GA and One Stop Shop control, based on the interoperability with other GA systems and Integrated Border Management system (ISIG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1523880"/>
            <a:ext cx="8458200" cy="41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ank you for your attention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lavica  KUTIR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IT Project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Phone: + 389 2 3293 9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E-mail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Verdana"/>
                <a:ea typeface="Times New Roman"/>
                <a:hlinkClick r:id="rId1"/>
              </a:rPr>
              <a:t>slavica.kutirov@customs.gov.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Customs Administration of the Republic of Maced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Verdana"/>
                <a:ea typeface="Times New Roman"/>
                <a:hlinkClick r:id="rId2"/>
              </a:rPr>
              <a:t>www.customs.gov.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Government of the Republic of Macedonia  launched the Project of introduction of a Single Window Environment in March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s Administration (MCA) was appointed as Leading agency and the</a:t>
            </a:r>
            <a:r>
              <a:rPr b="0" lang="mk-MK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ct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members of the Project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mk-MK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overnment Instit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AID</a:t>
            </a:r>
            <a:r>
              <a:rPr b="0" lang="mk-MK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tional Committee on</a:t>
            </a:r>
            <a:r>
              <a:rPr b="0" lang="mk-MK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istry of Information Soci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neral objec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 facilitate the trade introducing a single point for fulfilling of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ross-border requiremen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roving the efficiency and effectiveness of the official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tting costs (due to faster release of goods and better use of resour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r the Govern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roved trader com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re efficient use of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ordinated approach and cooperation between 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creasing the collection of the revenue y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hanced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roving the conditions for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r the Economic Operat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ster clearance and release of go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nsparent and predictable procedu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tting costs (reducing administrative burden and delays and more efficient use of resour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cept and frame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clude processes and documents directly related to import, export and transit of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mplement international standard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develop an Electronic Singl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gle entry point and paperless environment fo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btaining all licenses required for import, export and transit of go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ordinated cross-border control of licen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ectronic signature for verif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n system for further interconn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sis   (Mar 2007 – Jun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monization and Standardization (May 2007 – May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asibility study and Project plan (Jul 2007 – Sep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ation  (Oct 2007 – Oct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aunching  - 1 Nov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alys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March 2007 – June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ational Standards and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/CEFACT, Recommendation 33 and 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CO Data Model (based on UNTDED, International Code Standar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C Regulations and Decisions connected with e-Customs initi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periences of other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alyze the current situation in RM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0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16 GA responsible for issuing licenses in the cross border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No precise list of all of the various lic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Overlapping of the responsibilities of the 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Repeating the same annexes to every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Different data for the sam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GA had not e-processing of the lic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rmonization and standard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ay 2007 – May 200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ication of documents and data from each PG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tion of a PGA Data Fil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rst-stage harm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rm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te a Standardized Data Set (SDS 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elements were mapped according the WCO Data Model (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0) and its UNTDED equivalent in the WCO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ndardized Data Set (SDS 8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7924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easibility study and project 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July 2007 – September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comes from the Analyze of the current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posal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ticipated Government Authorities, processes and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monization and standardization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ectronic Single Window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gal aspects and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ne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 of all import, export and transit lice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lock schemes of different business processes for issuing of licenses in 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600" spc="-1" strike="noStrike">
                <a:solidFill>
                  <a:srgbClr val="000000"/>
                </a:solidFill>
                <a:latin typeface="Verdana"/>
              </a:rPr>
              <a:t>System description for softwar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13:56:16Z</dcterms:created>
  <dc:creator>Slavica Kutirov</dc:creator>
  <dc:description/>
  <dc:language>en-US</dc:language>
  <cp:lastModifiedBy>slavica kutirov</cp:lastModifiedBy>
  <dcterms:modified xsi:type="dcterms:W3CDTF">2009-10-25T08:19:10Z</dcterms:modified>
  <cp:revision>199</cp:revision>
  <dc:subject/>
  <dc:title>SW</dc:title>
</cp:coreProperties>
</file>