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A1A6-5EC6-4B99-B790-E9F6ECF71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A68B-CAC8-40DF-8337-C7ACB308C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5EC2-06E3-4E7B-B9C6-EA80859E5A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0AD9-E1A5-4AE1-AE9C-885F56EB7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7916-CF61-42FF-BF52-C09F0FCE9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33440" y="609480"/>
            <a:ext cx="3962520" cy="29718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142640" y="3886200"/>
            <a:ext cx="441972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A633-0703-4F0E-BF4B-E3B037D87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33440" y="609480"/>
            <a:ext cx="3962520" cy="2971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42640" y="3886200"/>
            <a:ext cx="441972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5D8E-19E6-4D26-9E3B-E7E4C6812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33440" y="609480"/>
            <a:ext cx="3962520" cy="2971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42640" y="3886200"/>
            <a:ext cx="441972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FEFE-BF73-4BC6-B851-257368604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323E-F564-441F-A310-F6A9846FA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B0C9-57DC-44B2-A1CA-3C678F923D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22E-690F-434B-A8B0-E65050AD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BE3-89C9-4ECB-82B5-B6CE8728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D22-A546-468B-847F-AC58EFF5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BB6-85DB-42CC-BC2D-AC601EEB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ACEC-9065-40B5-91FE-43494B4E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D819-E28D-43CA-B784-25F010B4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2AAC-41B6-4DE7-954B-E1AE3F81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42E4-093F-4CE5-A122-B27D3449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6DCD-51A8-4DB8-AB7C-69F77411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E6AC-5DDB-4C3F-9EAA-E3E00090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1378-D9A6-492E-9647-54FDD6A1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310-54E9-459A-9046-9337613B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9733-8EB4-4D50-9166-E5ABC864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569E-C95B-4082-9F6E-D20C1625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112C-796D-4F68-A0D5-E5F1F93F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357B-4233-48D6-9808-8A3802CF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791C-8A5E-4592-A7FC-7E76F8DF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7E0-CBB4-4434-AEC9-1377D483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D3B-5432-4AEB-9580-4C73446D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55F-13C9-4D0E-9B87-D9C7C196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3640" y="620640"/>
            <a:ext cx="36007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164-AB8D-40D8-850A-49D510A7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7AA-78BD-4703-A704-064A2286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43B-2FF0-40F2-900E-BB03D1FB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4C3-4BC6-41C8-BEA4-81AF02B1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95d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D7E4-5373-4581-BD3A-5F2AC63EE9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136000" cy="113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8764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4AFF-75AF-446E-950B-22A289AD98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2206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9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C381-A34A-4A73-B6EB-305833AC8C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600200"/>
            <a:ext cx="784692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alatino"/>
              </a:rPr>
              <a:t>Implementation of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Palatino"/>
              </a:rPr>
              <a:t>standards &amp; techniques in transition econo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Mike.Doran@bluewin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Chairman, UN/CEFACT Forum Managemen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692280"/>
            <a:ext cx="45320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6767-CB12-4075-ADF6-89BBF259D4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3640" y="813600"/>
            <a:ext cx="3600720" cy="33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UN/EDIFAC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67" name="Group 108"/>
          <p:cNvGrpSpPr/>
          <p:nvPr/>
        </p:nvGrpSpPr>
        <p:grpSpPr>
          <a:xfrm>
            <a:off x="1357200" y="1785960"/>
            <a:ext cx="6643440" cy="4698720"/>
            <a:chOff x="1357200" y="1785960"/>
            <a:chExt cx="6643440" cy="4698720"/>
          </a:xfrm>
        </p:grpSpPr>
        <p:sp>
          <p:nvSpPr>
            <p:cNvPr id="168" name="AutoShape 52"/>
            <p:cNvSpPr/>
            <p:nvPr/>
          </p:nvSpPr>
          <p:spPr>
            <a:xfrm>
              <a:off x="1477800" y="1785960"/>
              <a:ext cx="6283080" cy="46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3"/>
            <p:cNvSpPr/>
            <p:nvPr/>
          </p:nvSpPr>
          <p:spPr>
            <a:xfrm>
              <a:off x="1357200" y="1995120"/>
              <a:ext cx="6643440" cy="4489560"/>
            </a:xfrm>
            <a:prstGeom prst="rect">
              <a:avLst/>
            </a:prstGeom>
            <a:solidFill>
              <a:srgbClr val="ffffff"/>
            </a:solidFill>
            <a:ln w="7560">
              <a:solidFill>
                <a:srgbClr val="bb8c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4"/>
            <p:cNvSpPr/>
            <p:nvPr/>
          </p:nvSpPr>
          <p:spPr>
            <a:xfrm>
              <a:off x="2067840" y="2463120"/>
              <a:ext cx="4728960" cy="3605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5"/>
            <p:cNvSpPr/>
            <p:nvPr/>
          </p:nvSpPr>
          <p:spPr>
            <a:xfrm>
              <a:off x="2067840" y="55501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6"/>
            <p:cNvSpPr/>
            <p:nvPr/>
          </p:nvSpPr>
          <p:spPr>
            <a:xfrm>
              <a:off x="2067840" y="50353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57"/>
            <p:cNvSpPr/>
            <p:nvPr/>
          </p:nvSpPr>
          <p:spPr>
            <a:xfrm>
              <a:off x="2067840" y="45205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8"/>
            <p:cNvSpPr/>
            <p:nvPr/>
          </p:nvSpPr>
          <p:spPr>
            <a:xfrm>
              <a:off x="2067840" y="401256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59"/>
            <p:cNvSpPr/>
            <p:nvPr/>
          </p:nvSpPr>
          <p:spPr>
            <a:xfrm>
              <a:off x="2067840" y="349776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60"/>
            <p:cNvSpPr/>
            <p:nvPr/>
          </p:nvSpPr>
          <p:spPr>
            <a:xfrm>
              <a:off x="2067840" y="297936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61"/>
            <p:cNvSpPr/>
            <p:nvPr/>
          </p:nvSpPr>
          <p:spPr>
            <a:xfrm>
              <a:off x="2067840" y="24631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2"/>
            <p:cNvSpPr/>
            <p:nvPr/>
          </p:nvSpPr>
          <p:spPr>
            <a:xfrm>
              <a:off x="2067840" y="2463120"/>
              <a:ext cx="4728960" cy="3605040"/>
            </a:xfrm>
            <a:prstGeom prst="rect">
              <a:avLst/>
            </a:prstGeom>
            <a:noFill/>
            <a:ln w="7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63"/>
            <p:cNvSpPr/>
            <p:nvPr/>
          </p:nvSpPr>
          <p:spPr>
            <a:xfrm>
              <a:off x="2079000" y="2463120"/>
              <a:ext cx="0" cy="360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64"/>
            <p:cNvSpPr/>
            <p:nvPr/>
          </p:nvSpPr>
          <p:spPr>
            <a:xfrm>
              <a:off x="2046240" y="6068520"/>
              <a:ext cx="32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65"/>
            <p:cNvSpPr/>
            <p:nvPr/>
          </p:nvSpPr>
          <p:spPr>
            <a:xfrm>
              <a:off x="2022840" y="555012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66"/>
            <p:cNvSpPr/>
            <p:nvPr/>
          </p:nvSpPr>
          <p:spPr>
            <a:xfrm>
              <a:off x="2022840" y="503532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67"/>
            <p:cNvSpPr/>
            <p:nvPr/>
          </p:nvSpPr>
          <p:spPr>
            <a:xfrm>
              <a:off x="2022840" y="452052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68"/>
            <p:cNvSpPr/>
            <p:nvPr/>
          </p:nvSpPr>
          <p:spPr>
            <a:xfrm>
              <a:off x="2022840" y="401256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2022840" y="349776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2022840" y="297936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>
              <a:off x="2022840" y="2463120"/>
              <a:ext cx="34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2067840" y="6068520"/>
              <a:ext cx="4728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V="1">
              <a:off x="207900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74"/>
            <p:cNvSpPr/>
            <p:nvPr/>
          </p:nvSpPr>
          <p:spPr>
            <a:xfrm flipV="1">
              <a:off x="301608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5"/>
            <p:cNvSpPr/>
            <p:nvPr/>
          </p:nvSpPr>
          <p:spPr>
            <a:xfrm flipV="1">
              <a:off x="395712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6"/>
            <p:cNvSpPr/>
            <p:nvPr/>
          </p:nvSpPr>
          <p:spPr>
            <a:xfrm flipV="1">
              <a:off x="490752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77"/>
            <p:cNvSpPr/>
            <p:nvPr/>
          </p:nvSpPr>
          <p:spPr>
            <a:xfrm flipV="1">
              <a:off x="584856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8"/>
            <p:cNvSpPr/>
            <p:nvPr/>
          </p:nvSpPr>
          <p:spPr>
            <a:xfrm flipV="1">
              <a:off x="6796800" y="6068160"/>
              <a:ext cx="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9"/>
            <p:cNvSpPr/>
            <p:nvPr/>
          </p:nvSpPr>
          <p:spPr>
            <a:xfrm>
              <a:off x="2537640" y="3071160"/>
              <a:ext cx="3785760" cy="148392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1483920"/>
                <a:gd name="textAreaBottom" fmla="*/ 1484280 h 1483920"/>
              </a:gdLst>
              <a:ahLst/>
              <a:rect l="textAreaLeft" t="textAreaTop" r="textAreaRight" b="textAreaBottom"/>
              <a:pathLst>
                <a:path w="443" h="164">
                  <a:moveTo>
                    <a:pt x="0" y="164"/>
                  </a:moveTo>
                  <a:lnTo>
                    <a:pt x="111" y="147"/>
                  </a:lnTo>
                  <a:lnTo>
                    <a:pt x="222" y="74"/>
                  </a:lnTo>
                  <a:lnTo>
                    <a:pt x="332" y="34"/>
                  </a:lnTo>
                  <a:lnTo>
                    <a:pt x="443" y="0"/>
                  </a:ln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0"/>
            <p:cNvSpPr/>
            <p:nvPr/>
          </p:nvSpPr>
          <p:spPr>
            <a:xfrm>
              <a:off x="2537640" y="5408280"/>
              <a:ext cx="3785760" cy="58032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580320"/>
                <a:gd name="textAreaBottom" fmla="*/ 580680 h 580320"/>
              </a:gdLst>
              <a:ahLst/>
              <a:rect l="textAreaLeft" t="textAreaTop" r="textAreaRight" b="textAreaBottom"/>
              <a:pathLst>
                <a:path w="443" h="64">
                  <a:moveTo>
                    <a:pt x="0" y="64"/>
                  </a:moveTo>
                  <a:lnTo>
                    <a:pt x="111" y="63"/>
                  </a:lnTo>
                  <a:lnTo>
                    <a:pt x="222" y="43"/>
                  </a:lnTo>
                  <a:lnTo>
                    <a:pt x="332" y="12"/>
                  </a:lnTo>
                  <a:lnTo>
                    <a:pt x="443" y="0"/>
                  </a:lnTo>
                </a:path>
              </a:pathLst>
            </a:custGeom>
            <a:noFill/>
            <a:ln w="2232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1"/>
            <p:cNvSpPr/>
            <p:nvPr/>
          </p:nvSpPr>
          <p:spPr>
            <a:xfrm>
              <a:off x="2537640" y="4159440"/>
              <a:ext cx="3785760" cy="127512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1275120"/>
                <a:gd name="textAreaBottom" fmla="*/ 1275480 h 1275120"/>
              </a:gdLst>
              <a:ahLst/>
              <a:rect l="textAreaLeft" t="textAreaTop" r="textAreaRight" b="textAreaBottom"/>
              <a:pathLst>
                <a:path w="443" h="141">
                  <a:moveTo>
                    <a:pt x="0" y="141"/>
                  </a:moveTo>
                  <a:lnTo>
                    <a:pt x="111" y="97"/>
                  </a:lnTo>
                  <a:lnTo>
                    <a:pt x="222" y="64"/>
                  </a:lnTo>
                  <a:lnTo>
                    <a:pt x="332" y="46"/>
                  </a:lnTo>
                  <a:lnTo>
                    <a:pt x="443" y="0"/>
                  </a:ln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2"/>
            <p:cNvSpPr/>
            <p:nvPr/>
          </p:nvSpPr>
          <p:spPr>
            <a:xfrm>
              <a:off x="1933560" y="59940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3"/>
            <p:cNvSpPr/>
            <p:nvPr/>
          </p:nvSpPr>
          <p:spPr>
            <a:xfrm>
              <a:off x="1648800" y="54810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4"/>
            <p:cNvSpPr/>
            <p:nvPr/>
          </p:nvSpPr>
          <p:spPr>
            <a:xfrm>
              <a:off x="1648800" y="49644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4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648800" y="44496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6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6"/>
            <p:cNvSpPr/>
            <p:nvPr/>
          </p:nvSpPr>
          <p:spPr>
            <a:xfrm>
              <a:off x="1648800" y="39420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7"/>
            <p:cNvSpPr/>
            <p:nvPr/>
          </p:nvSpPr>
          <p:spPr>
            <a:xfrm>
              <a:off x="1592640" y="342360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1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592640" y="290880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1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9"/>
            <p:cNvSpPr/>
            <p:nvPr/>
          </p:nvSpPr>
          <p:spPr>
            <a:xfrm>
              <a:off x="1592640" y="239364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14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90"/>
            <p:cNvSpPr/>
            <p:nvPr/>
          </p:nvSpPr>
          <p:spPr>
            <a:xfrm>
              <a:off x="2434320" y="6168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1"/>
            <p:cNvSpPr/>
            <p:nvPr/>
          </p:nvSpPr>
          <p:spPr>
            <a:xfrm>
              <a:off x="3382560" y="6168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2"/>
            <p:cNvSpPr/>
            <p:nvPr/>
          </p:nvSpPr>
          <p:spPr>
            <a:xfrm>
              <a:off x="4334040" y="6168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3"/>
            <p:cNvSpPr/>
            <p:nvPr/>
          </p:nvSpPr>
          <p:spPr>
            <a:xfrm>
              <a:off x="5273640" y="6168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4"/>
            <p:cNvSpPr/>
            <p:nvPr/>
          </p:nvSpPr>
          <p:spPr>
            <a:xfrm>
              <a:off x="6178320" y="6168600"/>
              <a:ext cx="505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2009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Foreca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95"/>
            <p:cNvSpPr/>
            <p:nvPr/>
          </p:nvSpPr>
          <p:spPr>
            <a:xfrm flipV="1">
              <a:off x="5326560" y="2552400"/>
              <a:ext cx="0" cy="3330360"/>
            </a:xfrm>
            <a:prstGeom prst="line">
              <a:avLst/>
            </a:prstGeom>
            <a:ln w="1908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6"/>
            <p:cNvSpPr/>
            <p:nvPr/>
          </p:nvSpPr>
          <p:spPr>
            <a:xfrm>
              <a:off x="1373400" y="2100240"/>
              <a:ext cx="647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GS1 eCom adoption 2005 - 20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07"/>
            <p:cNvGrpSpPr/>
            <p:nvPr/>
          </p:nvGrpSpPr>
          <p:grpSpPr>
            <a:xfrm>
              <a:off x="6856200" y="4083480"/>
              <a:ext cx="1090080" cy="642240"/>
              <a:chOff x="6856200" y="4083480"/>
              <a:chExt cx="1090080" cy="642240"/>
            </a:xfrm>
          </p:grpSpPr>
          <p:sp>
            <p:nvSpPr>
              <p:cNvPr id="214" name="Rectangle 98"/>
              <p:cNvSpPr/>
              <p:nvPr/>
            </p:nvSpPr>
            <p:spPr>
              <a:xfrm>
                <a:off x="6856200" y="4083480"/>
                <a:ext cx="1090080" cy="642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bb8cc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99"/>
              <p:cNvSpPr/>
              <p:nvPr/>
            </p:nvSpPr>
            <p:spPr>
              <a:xfrm>
                <a:off x="6917040" y="4193640"/>
                <a:ext cx="284040" cy="0"/>
              </a:xfrm>
              <a:prstGeom prst="line">
                <a:avLst/>
              </a:prstGeom>
              <a:ln w="22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0"/>
              <p:cNvSpPr/>
              <p:nvPr/>
            </p:nvSpPr>
            <p:spPr>
              <a:xfrm>
                <a:off x="7257600" y="4114800"/>
                <a:ext cx="60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EANCOM</a:t>
                </a:r>
                <a:r>
                  <a:rPr b="0" lang="en-GB" sz="1000" spc="-1" strike="noStrike" baseline="30000">
                    <a:solidFill>
                      <a:srgbClr val="000000"/>
                    </a:solidFill>
                    <a:latin typeface="Verdana"/>
                    <a:ea typeface="Times New Roman"/>
                  </a:rPr>
                  <a:t>®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01"/>
              <p:cNvSpPr/>
              <p:nvPr/>
            </p:nvSpPr>
            <p:spPr>
              <a:xfrm>
                <a:off x="6917040" y="4410000"/>
                <a:ext cx="284040" cy="0"/>
              </a:xfrm>
              <a:prstGeom prst="line">
                <a:avLst/>
              </a:prstGeom>
              <a:ln w="2232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2"/>
              <p:cNvSpPr/>
              <p:nvPr/>
            </p:nvSpPr>
            <p:spPr>
              <a:xfrm>
                <a:off x="7261200" y="4328280"/>
                <a:ext cx="522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GS1 XM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03"/>
              <p:cNvSpPr/>
              <p:nvPr/>
            </p:nvSpPr>
            <p:spPr>
              <a:xfrm>
                <a:off x="6917040" y="4623840"/>
                <a:ext cx="284040" cy="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04"/>
              <p:cNvSpPr/>
              <p:nvPr/>
            </p:nvSpPr>
            <p:spPr>
              <a:xfrm>
                <a:off x="7264800" y="4541040"/>
                <a:ext cx="50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EB ED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106-D619-4681-B23B-8C95CA78DA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Palatino"/>
              </a:rPr>
              <a:t>UN/EDIFACT (ISO 97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Palatino"/>
              </a:rPr>
              <a:t>Customs</a:t>
            </a:r>
            <a:r>
              <a:rPr b="1" lang="de-CH" sz="1600" spc="-1" strike="noStrike">
                <a:solidFill>
                  <a:srgbClr val="000000"/>
                </a:solidFill>
                <a:latin typeface="Palatino"/>
              </a:rPr>
              <a:t>  </a:t>
            </a: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(</a:t>
            </a:r>
            <a:r>
              <a:rPr b="0" lang="de-CH" sz="1400" spc="-1" strike="noStrike">
                <a:solidFill>
                  <a:srgbClr val="000000"/>
                </a:solidFill>
                <a:latin typeface="Palatino"/>
              </a:rPr>
              <a:t>Source: EU-TAXUD</a:t>
            </a: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1" lang="de-CH" sz="16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175 Million Customs Declarations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480‘000 per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333 per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5.5 per 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Palatino"/>
              </a:rPr>
              <a:t>Fiscal Declarations</a:t>
            </a:r>
            <a:r>
              <a:rPr b="1" lang="de-CH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(</a:t>
            </a:r>
            <a:r>
              <a:rPr b="0" lang="de-CH" sz="1400" spc="-1" strike="noStrike">
                <a:solidFill>
                  <a:srgbClr val="000000"/>
                </a:solidFill>
                <a:latin typeface="Palatino"/>
              </a:rPr>
              <a:t>Source EDIFICAS, France</a:t>
            </a: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1987 - 1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2004 - 1 million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92% of VAT collected using 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45% of revenues collected by the French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Palatino"/>
              </a:rPr>
              <a:t>Benefit to the State</a:t>
            </a:r>
            <a:r>
              <a:rPr b="1" lang="de-CH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(</a:t>
            </a:r>
            <a:r>
              <a:rPr b="0" lang="de-CH" sz="1400" spc="-1" strike="noStrike">
                <a:solidFill>
                  <a:srgbClr val="000000"/>
                </a:solidFill>
                <a:latin typeface="Palatino"/>
              </a:rPr>
              <a:t>Source EDIFICAS, France</a:t>
            </a: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Palatino"/>
              </a:rPr>
              <a:t>Euros 100M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620640"/>
            <a:ext cx="51447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Some of the Benefit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2ED-C331-4AD7-A115-74E740DD820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3640" y="294120"/>
            <a:ext cx="3600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Business Standards Develop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usiness Proces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usiness Requirements Specifications-B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quirements Specification Mapping-R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re Component Technical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re Component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re Component Harmo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ming &amp;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hema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989-6F28-49F3-B0D1-4C7576CF4F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Trade Data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Element Directo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Palatino"/>
              </a:rPr>
              <a:t>United Nations Trade Data Elements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Palatino"/>
              </a:rPr>
              <a:t>International Standards Organisation ISO 73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Developed to provide a Directory to facilitate open interchange of data in international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Standard data element names with description of meaning (data value) and a specification of character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Supports and is fully consistent with Recommendation 1 – UN Layout Key for Trade Docu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Fully consistent with UN/EDI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Multimodal &amp; multisec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Technology &amp; syntax 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"/>
              </a:rPr>
              <a:t>ebXML Core Components Technical Specification compliant</a:t>
            </a:r>
            <a:r>
              <a:rPr b="1" lang="en-GB" sz="1800" spc="-1" strike="noStrike">
                <a:solidFill>
                  <a:srgbClr val="000000"/>
                </a:solidFill>
                <a:latin typeface="Palatin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778-3819-4916-B826-E25B3A88BE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743200" y="5791320"/>
            <a:ext cx="609588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4952880"/>
            <a:ext cx="609588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114800"/>
            <a:ext cx="426708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1320" y="3276720"/>
            <a:ext cx="304776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2438280"/>
            <a:ext cx="243828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43800" y="1600200"/>
            <a:ext cx="1295280" cy="838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5029200"/>
            <a:ext cx="239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Palatino"/>
              </a:rPr>
              <a:t>Process Analysis and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3187800"/>
            <a:ext cx="24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Palatino"/>
              </a:rPr>
              <a:t>National Data Harm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2286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Palatino"/>
              </a:rPr>
              <a:t>Cross Border Data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1676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Palatino"/>
              </a:rPr>
              <a:t>Sing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5105520"/>
            <a:ext cx="6095880" cy="15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usiness/Political Process - Collaboration Between Trader and Government (UN/CEFACT Rec. 4, Rec. 18)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UN/CEFACT International Supply Chain Reference model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Unified Modeling Methodology (UMM), Business Process Analysis Gu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lobal Facilitation Partnership for Trade and Transport (GFP) Audit Methodolog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4114800"/>
            <a:ext cx="4267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 Layout Key, Master Documen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TDED, TF Toolkit and Forms Reposi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32767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TDED, Core Component Library, UN LOCODE and code lis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24480" y="243828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Model based on International Standards Cooperation with W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6765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s 33, 35 SWReposit’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40384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Palatino"/>
              </a:rPr>
              <a:t>Document Simplification and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8380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2430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Implementing UN/CE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tandards &amp;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190512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Palatino"/>
              </a:rPr>
              <a:t>Note: Single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Palatino"/>
              </a:rPr>
              <a:t>Rec 34 unde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377-E640-4C19-A9EF-BBD00B44549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slow">
    <p:wipe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38120" y="620640"/>
            <a:ext cx="45658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Palatino"/>
              </a:rPr>
              <a:t>Single Window Defini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Palatino"/>
              </a:rPr>
              <a:t>UN/CEFACT Recommendation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Palatino"/>
              </a:rPr>
              <a:t>A facility that allows parties involved in trade and transport to lodge standardised information and documents with a single entry point to fulfil all import, export and transit related regulatory requirements.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Palatino"/>
              </a:rPr>
              <a:t>If information is electronic, then individual data elements should only be submitted once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220-84F3-4968-96B2-9D66C00E89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03240" y="763560"/>
            <a:ext cx="747864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Draft UN CEFACT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Palatino"/>
              </a:rPr>
              <a:t> Recommendation 34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3640" y="137124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0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</a:rPr>
              <a:t>Draft Recommendation </a:t>
            </a:r>
            <a:r>
              <a:rPr b="1" i="1" lang="en-GB" sz="2000" spc="-1" strike="noStrike">
                <a:solidFill>
                  <a:srgbClr val="000000"/>
                </a:solidFill>
                <a:latin typeface="Palatino"/>
              </a:rPr>
              <a:t>34</a:t>
            </a:r>
            <a:r>
              <a:rPr b="1" lang="en-GB" sz="20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</a:rPr>
              <a:t>Data Simplification and Standardization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Palatino"/>
              </a:rPr>
              <a:t>International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Palatino"/>
              </a:rPr>
              <a:t>Recomm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Palatino"/>
                <a:ea typeface="Times New Roman"/>
              </a:rPr>
              <a:t>Capturing</a:t>
            </a:r>
            <a:r>
              <a:rPr b="1" i="1" lang="en-US" sz="1800" spc="-1" strike="noStrike">
                <a:solidFill>
                  <a:srgbClr val="000000"/>
                </a:solidFill>
                <a:latin typeface="Palatino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Times New Roman"/>
              </a:rPr>
              <a:t>existing requirements into a national trade data 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Palatino"/>
                <a:ea typeface="Times New Roman"/>
              </a:rPr>
              <a:t>Defining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Times New Roman"/>
              </a:rPr>
              <a:t>the individual data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Palatino"/>
                <a:ea typeface="Times New Roman"/>
              </a:rPr>
              <a:t>Analyzing</a:t>
            </a:r>
            <a:r>
              <a:rPr b="1" i="1" lang="en-US" sz="1800" spc="-1" strike="noStrike">
                <a:solidFill>
                  <a:srgbClr val="000000"/>
                </a:solidFill>
                <a:latin typeface="Palatino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Times New Roman"/>
              </a:rPr>
              <a:t>the need for, and context of the data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80000"/>
              </a:lnSpc>
              <a:spcBef>
                <a:spcPts val="4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Palatino"/>
                <a:ea typeface="Times New Roman"/>
              </a:rPr>
              <a:t>Reconciling</a:t>
            </a:r>
            <a:r>
              <a:rPr b="1" lang="en-GB" sz="1800" spc="-1" strike="noStrike">
                <a:solidFill>
                  <a:srgbClr val="000000"/>
                </a:solidFill>
                <a:latin typeface="Palatino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Palatino"/>
                <a:ea typeface="Times New Roman"/>
              </a:rPr>
              <a:t>the national trade data inventory with international stand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PRODUCE A SIMPLIFIED, STANDARDIZED NATIONAL DATA SET FOR THE EXCHANGE OF INFORMATION WITH A SINGLE WINDOW FAC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Times New Roman"/>
              </a:rPr>
              <a:t>Status: Final drafting prior to submission to the UN/CEFACT Plenary for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48D-B88E-470E-BB67-48C79B4E5D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67080" y="620640"/>
            <a:ext cx="41911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UN/CEFACT Recommendation 35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UN/CEFACT Recommendation No 3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stablishing a Legal Framework for an International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ngl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Palatino"/>
              </a:rPr>
              <a:t>Current Status: Completed and submitted to the 15th </a:t>
            </a:r>
            <a:r>
              <a:rPr b="0" i="1" lang="en-AU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Palatino"/>
              </a:rPr>
              <a:t>UN/CEFACT Plenary (Geneva 9-14 November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Palatino"/>
              </a:rPr>
              <a:t>fo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278-CC3F-4195-834D-8AED8AEFA4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38120" y="620640"/>
            <a:ext cx="45658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Palatino"/>
              </a:rPr>
              <a:t>New eInvoice Standa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UN/CEFACT’s new eInvoic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o enhance links between busines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inancial supply ch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he United Nations Centre for Trade Facilitation and Electronic Business (UN/CEFACT) has published the Cross Industry Invoice (CII) Version 2.0 standard to enhance 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links between business and financial supply chains and enable cross-industry and cross-domain interoperability.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his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 common global standard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Palatino"/>
              </a:rPr>
              <a:t>is based on a set of business requirements from different industries and stakeholders in both the private and public sect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887-5740-44D3-BC9B-548959B03F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38120" y="620640"/>
            <a:ext cx="456588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Palatino"/>
              </a:rPr>
              <a:t>THANK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Palatino"/>
              </a:rPr>
              <a:t>FOR YOU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921-05A2-4B84-BD18-D8EC284226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19640" y="620640"/>
            <a:ext cx="51447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Mandat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844640"/>
            <a:ext cx="4224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UN Centre for Trade Facilitation and Electronic Business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 supports activities dedicated to improving the ability of business, trade and administrative organizations, from developed, developing and transitional economies, to exchange products and relevant services effectivel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3772080" cy="3686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580000" y="2957400"/>
            <a:ext cx="1727280" cy="5000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CorpID MyriadRg"/>
              </a:rPr>
              <a:t>UN/ECOS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1800" y="4102200"/>
            <a:ext cx="1726920" cy="5000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CorpID MyriadRg"/>
              </a:rPr>
              <a:t>UN/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1800" y="5345280"/>
            <a:ext cx="1726920" cy="5000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CorpID MyriadRg"/>
              </a:rPr>
              <a:t>UN/CE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38960" y="3478320"/>
            <a:ext cx="4680" cy="59364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4600440"/>
            <a:ext cx="6480" cy="700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1800" y="1844640"/>
            <a:ext cx="1726920" cy="5000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CorpID MyriadRg"/>
              </a:rPr>
              <a:t>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43640" y="2349360"/>
            <a:ext cx="4680" cy="594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2EE-F963-464D-80C5-FC2D0AD567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836280"/>
            <a:ext cx="62866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Mission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Palatino"/>
              </a:rPr>
              <a:t>UN/CEFACT’s Mission is to devel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Palatino"/>
              </a:rPr>
              <a:t>Simple, Transparent &amp; Effectiv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Palatino"/>
              </a:rPr>
              <a:t>For Global Business, through the developmen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Trade Facilitation Recommendations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E-Business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Palatino"/>
              </a:rPr>
              <a:t>UN/CEFACT has a Global Man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Participation in the UN/CEFACT Forum is open to all United Nations Member states. There are some 300 experts representing every region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DC9-0F25-4FF6-A8D7-B0BA4C938E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0" y="836280"/>
            <a:ext cx="62866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Trade Facilitation Strategy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UN/CEFACT takes a holistic approach to the International Trade Transa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Identifies ways to identify &amp; eliminate regulatory &amp; procedural barriers to trade through international best practices that cut red tape and reduce delays within and between countries &amp; enhances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Develops Trade Facilitation Recommendations &amp; eBusiness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Develops Capacity Building Programmes on trade facilitation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10D-8888-4E31-875C-10D7A3F155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11280" y="804600"/>
            <a:ext cx="614232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eBusiness Strateg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Palatino"/>
              </a:rPr>
              <a:t>Based on:</a:t>
            </a: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Cross-</a:t>
            </a:r>
            <a:r>
              <a:rPr b="0" lang="en-GB" sz="2400" spc="-1" strike="noStrike">
                <a:solidFill>
                  <a:srgbClr val="ff0000"/>
                </a:solidFill>
                <a:latin typeface="Palatino"/>
              </a:rPr>
              <a:t>sectoral</a:t>
            </a: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 analysis (to promote interoperability &amp; supply chain synchroni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Business process and information modeling (to capture </a:t>
            </a:r>
            <a:r>
              <a:rPr b="0" lang="en-GB" sz="2400" spc="-1" strike="noStrike">
                <a:solidFill>
                  <a:srgbClr val="ff0000"/>
                </a:solidFill>
                <a:latin typeface="Palatino"/>
              </a:rPr>
              <a:t>user</a:t>
            </a: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 requirements, independent of any specific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New technologies as they emerge (e.g., eXtensible Markup language (XML), webServices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alatino"/>
              </a:rPr>
              <a:t>International standards for enabling e-busines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95da5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isseminating results in an efficient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5AD-3E66-4CE9-AD38-E1DA26BED4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3640" y="620640"/>
            <a:ext cx="36007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Palatino"/>
              </a:rPr>
              <a:t>International Trade Transaction Proc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981080" y="2590200"/>
            <a:ext cx="1905120" cy="1143000"/>
          </a:xfrm>
          <a:custGeom>
            <a:avLst/>
            <a:gdLst>
              <a:gd name="textAreaLeft" fmla="*/ 0 w 1905120"/>
              <a:gd name="textAreaRight" fmla="*/ 1905480 w 190512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1960" y="2590920"/>
            <a:ext cx="1760760" cy="1143000"/>
          </a:xfrm>
          <a:custGeom>
            <a:avLst/>
            <a:gdLst>
              <a:gd name="textAreaLeft" fmla="*/ 0 w 1760760"/>
              <a:gd name="textAreaRight" fmla="*/ 1761120 w 17607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8480" y="2590920"/>
            <a:ext cx="1684440" cy="1143000"/>
          </a:xfrm>
          <a:custGeom>
            <a:avLst/>
            <a:gdLst>
              <a:gd name="textAreaLeft" fmla="*/ 0 w 1684440"/>
              <a:gd name="textAreaRight" fmla="*/ 1684800 w 16844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971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3048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2209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medi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809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5720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BookTBWA"/>
              </a:rPr>
              <a:t>The International Trade Transaction Process consi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800600"/>
            <a:ext cx="65530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International Supply Chains consist of </a:t>
            </a:r>
            <a:r>
              <a:rPr b="0" lang="en-US" sz="2000" spc="-1" strike="noStrike" u="sng">
                <a:solidFill>
                  <a:srgbClr val="e9ffff"/>
                </a:solidFill>
                <a:uFillTx/>
                <a:latin typeface="Times New Roman"/>
              </a:rPr>
              <a:t>integrated </a:t>
            </a: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and </a:t>
            </a:r>
            <a:r>
              <a:rPr b="0" lang="en-US" sz="2000" spc="-1" strike="noStrike" u="sng">
                <a:solidFill>
                  <a:srgbClr val="e9ffff"/>
                </a:solidFill>
                <a:uFillTx/>
                <a:latin typeface="Times New Roman"/>
              </a:rPr>
              <a:t>coordinated flows </a:t>
            </a:r>
            <a:r>
              <a:rPr b="0" lang="en-US" sz="2000" spc="-1" strike="noStrike">
                <a:solidFill>
                  <a:srgbClr val="e9ffff"/>
                </a:solidFill>
                <a:latin typeface="Times New Roman"/>
              </a:rPr>
              <a:t>of information, goods &amp;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UN/CEFACT International Supply Chain Referen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487760"/>
            <a:ext cx="609588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The International Trade Transaction Process consis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"/>
              </a:rPr>
              <a:t>integrated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&amp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Palatino"/>
              </a:rPr>
              <a:t>coordinated flows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of information, goods &amp; pa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133-EB10-4B7B-9434-53358448F1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6021360"/>
            <a:ext cx="58338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71640" y="1484280"/>
            <a:ext cx="7094520" cy="4989600"/>
            <a:chOff x="971640" y="1484280"/>
            <a:chExt cx="7094520" cy="4989600"/>
          </a:xfrm>
        </p:grpSpPr>
        <p:sp>
          <p:nvSpPr>
            <p:cNvPr id="125" name=""/>
            <p:cNvSpPr/>
            <p:nvPr/>
          </p:nvSpPr>
          <p:spPr>
            <a:xfrm>
              <a:off x="1001520" y="3883320"/>
              <a:ext cx="1511280" cy="2398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0080" indent="-100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mmerc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ocedu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stablish Contr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Order Goo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dvise On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equest Pay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ack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spe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ertif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ccredi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Warehous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66960" y="3883320"/>
              <a:ext cx="1511280" cy="2368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0080" indent="-100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ocedu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stablish Transport Contr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llect, Transport and Deliver Goo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ovide Waybills, Goods Receipts Status reports et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83160" y="3883320"/>
              <a:ext cx="1585800" cy="2368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0360" indent="-9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egulatory Procedu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Obtain Import/Export Licences et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ovide Customs Declar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ovide Cargo Decla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pply Trade Security Procedu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lear Goods for Export/Im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24560" y="3883320"/>
              <a:ext cx="1511280" cy="2354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0080" indent="-100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Financial Procedu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ovide Credit Ra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ovide Insur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ovide Fi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xecute Pay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00080" indent="-100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ssue Stat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49480" y="3546720"/>
              <a:ext cx="13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VOLV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56240" y="2509920"/>
              <a:ext cx="1533600" cy="99072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c345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a6e1e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13040" y="2509920"/>
              <a:ext cx="1533600" cy="99072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c345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a6e1e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71640" y="2509920"/>
              <a:ext cx="1531800" cy="990720"/>
            </a:xfrm>
            <a:custGeom>
              <a:avLst/>
              <a:gdLst>
                <a:gd name="textAreaLeft" fmla="*/ 0 w 1531800"/>
                <a:gd name="textAreaRight" fmla="*/ 1532160 w 15318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c345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a6e1e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1440" y="2509920"/>
              <a:ext cx="1533600" cy="99072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c345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a6e1e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84640" y="2509920"/>
              <a:ext cx="1533600" cy="99072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c345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a6e1e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04920" y="2662560"/>
              <a:ext cx="1066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epare for Expo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12880" y="285912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xpo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87800" y="285912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ranspo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27680" y="286092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mpo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68560" y="1484280"/>
              <a:ext cx="1511280" cy="82584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3a5ff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d9d8ec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13320" y="1484280"/>
              <a:ext cx="1511280" cy="80964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3a5ff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d9d8ec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6800" y="1484280"/>
              <a:ext cx="1511280" cy="82584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3a5ff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d9d8ec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57400" y="1729080"/>
              <a:ext cx="12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HI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65480" y="1729080"/>
              <a:ext cx="111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BU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72080" y="172116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17920" y="2660760"/>
              <a:ext cx="10670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epare for Impo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7515000" y="5791320"/>
              <a:ext cx="5511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3921120" y="5851800"/>
              <a:ext cx="5508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2120760" y="5923080"/>
              <a:ext cx="5508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5829120" y="5845320"/>
              <a:ext cx="53676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3492360" y="620640"/>
            <a:ext cx="51451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International Trade Transac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5480" y="6497640"/>
            <a:ext cx="436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Source: The UN/CEFACT International Supply Chain Reference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80A-E748-44FF-B1DD-C71B9267066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94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0"/>
            <a:ext cx="2057400" cy="762120"/>
          </a:xfrm>
          <a:prstGeom prst="wedgeRoundRectCallout">
            <a:avLst>
              <a:gd name="adj1" fmla="val 75078"/>
              <a:gd name="adj2" fmla="val 568750"/>
              <a:gd name="adj3" fmla="val 16667"/>
            </a:avLst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: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de of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0"/>
            <a:ext cx="1752480" cy="838080"/>
          </a:xfrm>
          <a:prstGeom prst="wedgeRoundRectCallout">
            <a:avLst>
              <a:gd name="adj1" fmla="val -23097"/>
              <a:gd name="adj2" fmla="val 507009"/>
              <a:gd name="adj3" fmla="val 16667"/>
            </a:avLst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/Lo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28600"/>
            <a:ext cx="2133720" cy="685800"/>
          </a:xfrm>
          <a:prstGeom prst="wedgeRoundRectCallout">
            <a:avLst>
              <a:gd name="adj1" fmla="val 46129"/>
              <a:gd name="adj2" fmla="val 447453"/>
              <a:gd name="adj3" fmla="val 16667"/>
            </a:avLst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O Country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0"/>
            <a:ext cx="1828800" cy="1066680"/>
          </a:xfrm>
          <a:prstGeom prst="wedgeRoundRectCallout">
            <a:avLst>
              <a:gd name="adj1" fmla="val -147657"/>
              <a:gd name="adj2" fmla="val 341962"/>
              <a:gd name="adj3" fmla="val 16667"/>
            </a:avLst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c: 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Payment Te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3962520"/>
            <a:ext cx="1981080" cy="685800"/>
          </a:xfrm>
          <a:prstGeom prst="wedgeRoundRectCallout">
            <a:avLst>
              <a:gd name="adj1" fmla="val -102805"/>
              <a:gd name="adj2" fmla="val 19212"/>
              <a:gd name="adj3" fmla="val 16667"/>
            </a:avLst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rrency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6248520"/>
            <a:ext cx="2133720" cy="609480"/>
          </a:xfrm>
          <a:prstGeom prst="wedgeRoundRectCallout">
            <a:avLst>
              <a:gd name="adj1" fmla="val -49851"/>
              <a:gd name="adj2" fmla="val -167449"/>
              <a:gd name="adj3" fmla="val 16667"/>
            </a:avLst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c:20 Units of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67280"/>
            <a:ext cx="2209680" cy="990720"/>
          </a:xfrm>
          <a:prstGeom prst="wedgeRoundRectCallout">
            <a:avLst>
              <a:gd name="adj1" fmla="val 44541"/>
              <a:gd name="adj2" fmla="val -197115"/>
              <a:gd name="adj3" fmla="val 16667"/>
            </a:avLst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: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ans of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5105520"/>
            <a:ext cx="1752480" cy="761760"/>
          </a:xfrm>
          <a:prstGeom prst="wedgeRoundRectCallout">
            <a:avLst>
              <a:gd name="adj1" fmla="val -114763"/>
              <a:gd name="adj2" fmla="val -33750"/>
              <a:gd name="adj3" fmla="val 16667"/>
            </a:avLst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mmodity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6019920"/>
            <a:ext cx="2057400" cy="838080"/>
          </a:xfrm>
          <a:prstGeom prst="wedgeRoundRectCallout">
            <a:avLst>
              <a:gd name="adj1" fmla="val 7407"/>
              <a:gd name="adj2" fmla="val -136740"/>
              <a:gd name="adj3" fmla="val 16667"/>
            </a:avLst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c: 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ackage C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E51-0FB1-450A-8490-678E33271FC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0E9C-00A4-4E7E-BD44-6C31B8FBD9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03640" y="722160"/>
            <a:ext cx="36007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Palatino"/>
              </a:rPr>
              <a:t>UN/EDIFA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Palatino"/>
              <a:buChar char="•"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MS PGothic"/>
              </a:rPr>
              <a:t>UN/EDIFACT is UN/CEFACT’s global standard for Electronic Data Exchange, E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Palatino"/>
              <a:buChar char="•"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MS PGothic"/>
              </a:rPr>
              <a:t>First published in 1988 – invoice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Palatino"/>
              <a:buChar char="•"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MS PGothic"/>
              </a:rPr>
              <a:t>Published twice a year – UN/EDIFACT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Palatino"/>
              <a:buChar char="•"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MS PGothic"/>
              </a:rPr>
              <a:t>Backwards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Palatino"/>
              <a:buChar char="•"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MS PGothic"/>
              </a:rPr>
              <a:t>Currently 208 message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8960" indent="-57312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Palatino"/>
              <a:buChar char="•"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MS PGothic"/>
              </a:rPr>
              <a:t>193 batch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8960" indent="-57312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Palatino"/>
              <a:buChar char="•"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MS PGothic"/>
              </a:rPr>
              <a:t>15 interactive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395da5"/>
              </a:buClr>
              <a:buFont typeface="Palatino"/>
              <a:buChar char="•"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"/>
                <a:ea typeface="MS PGothic"/>
              </a:rPr>
              <a:t>Most widely implemented international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de Development &amp; Facilitation for Transition Economies - Gen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745-355A-4C14-B453-302E5323F2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ober 20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Dobbing</dc:creator>
  <dc:description/>
  <dc:language>en-US</dc:language>
  <cp:lastModifiedBy>Butterly</cp:lastModifiedBy>
  <cp:lastPrinted>2007-11-14T13:51:21Z</cp:lastPrinted>
  <dcterms:modified xsi:type="dcterms:W3CDTF">2009-10-27T13:40:03Z</dcterms:modified>
  <cp:revision>267</cp:revision>
  <dc:subject/>
  <dc:title>SIBOS 2007 - UN/CEFACT</dc:title>
</cp:coreProperties>
</file>