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CE8197-03FE-4EB8-B26A-B2423077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475807-C40E-41FC-9629-2243B0BF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BE1007-6524-4DFB-86C4-EDBC7660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63DE16-B0E3-4695-A61D-7FEA0B81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71A545-B73A-43B8-AE58-94182C75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AEEE-BA15-4170-B901-7E7BF1479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8D67-3896-461B-8FAB-E5B7C39BA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CFD2-A1A5-45E1-96DD-537F66A59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2026-FA0A-49A0-81E7-16EEA7642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8D505-E4C0-446F-A882-621C57FC5B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EEEEF-1270-4105-99C0-5F575E6BA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3C16-0FB2-4D13-99BC-5C63695EE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9F769-44FF-46C2-BF7C-E94559FF67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140AB-68DD-4349-8843-037CFB831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E1778-D3D3-4ED5-8BE0-CDF4C3157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F071A-772C-4B39-B9EB-20F4F3231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27D4-57CB-4269-84B9-4FA9F4093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71F55-CDCE-498C-974C-A5F196503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1E4A7-9BB9-4B08-8541-2125C633C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006B5-4288-41B8-86FC-9C5B64F3B7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E3BB-F266-489E-B506-33EC21412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35D7-ED90-4A09-9807-1EF376F04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EB58-DCB0-4000-AF1E-EC3E19825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0E86-E29A-4D63-84DB-7E8B483C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586F-42C5-457C-B370-49DAB176F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01A2-D596-4D0D-B87D-D62AC7488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0CCC-5DC3-476A-9AA7-30FF69E8B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5A2E-1107-46BF-93ED-7170CE8C2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7DC7-10A8-4977-9B0B-7DFC197E8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07F-F1AC-4785-8715-018451C75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9E0A-393B-45A6-A798-3171C8096B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hyperlink" Target="http://www.undp.org/geneva/docs/trade-AFT%20web.pdf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772400" y="152280"/>
            <a:ext cx="1447920" cy="1752480"/>
            <a:chOff x="7772400" y="152280"/>
            <a:chExt cx="1447920" cy="1752480"/>
          </a:xfrm>
        </p:grpSpPr>
        <p:sp>
          <p:nvSpPr>
            <p:cNvPr id="106" name=""/>
            <p:cNvSpPr/>
            <p:nvPr/>
          </p:nvSpPr>
          <p:spPr>
            <a:xfrm>
              <a:off x="7772400" y="144756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8105760" y="152280"/>
              <a:ext cx="65736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5715000" y="4419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ek Cukrow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nomic Development and Poverty Reduction Advisor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P, Europe and the C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tislava Regional Cen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993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id for Trade (AfT) Roadmap for Central As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0492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PECIAL PROGRAMME FOR THE ECONOMIES OF CENTRAL ASIA (SPE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ject Working Group on Trade (Fourth ses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4920" y="629280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va, Switzerland, 26 October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05668-0F7C-40A0-9F56-F78B331158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Methodology in place</a:t>
            </a:r>
            <a:br>
              <a:rPr sz="2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Guide: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ow to Conduct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AfT Needs Assess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69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5956200" y="2235240"/>
            <a:ext cx="24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2262240" cy="318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066680" y="2678040"/>
            <a:ext cx="23432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612468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http://europeandcis.undp.org/poverty/trade/show/8BD35D19-F203-1EE9-B08767E3833D66C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7720" y="17780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al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42480" y="56530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65640" y="6124680"/>
            <a:ext cx="38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ww.undp.org/geneva/docs/trade-AFT%20web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A434-CD21-4195-9D48-606233C36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15228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National part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025640"/>
            <a:ext cx="8534520" cy="79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zerbaij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am Leader: Vagif Rustamov (Institute for Scientific Research on Economic Refor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Kazakh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ion of the team planned for November 2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Kyrgyz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 Lead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urzakov Ku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ajik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 Lead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hodjamakhmad Uma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urkmen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 Leader: Irina Su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itute of Strategic Planning and Economic Development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81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D881-B4C6-499D-AA55-859BF2FF09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National own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534520" cy="56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eparation of AfT Needs Assessments and identification of national priorities by local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stablishment of AfT Country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dvisory bodies and assure national ownersh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omposed of members of the government, representatives from the civil society and private sector, and development partn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o ensure effective coordination and buy-in among government agencies and other stakeholders; assess and validate the AfT Needs Assessments; monitor and encourage AfT Needs Assessment follow up 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ational consult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eer re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ational debate (roundtabl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86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2DAB-BF84-434F-9C2B-5C33C47A5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30492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143000"/>
            <a:ext cx="8534160" cy="56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evelopment of the drafts of AfT Needs Assess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ctober-December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rganization of national deb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ecember 2009/January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xpert mee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January/February 201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evelopment of AfT Regional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bruary-April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eparation of the Ministerial meeting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genda, key note speakers, background material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bruary-May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inisterial mee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y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91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3D4F-8697-4183-9C0B-1EDD32C4A1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30492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Urgent ne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86000"/>
            <a:ext cx="853416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omination of focal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n government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n international organization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96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F8A3-AE5C-4726-BE1C-83510B1980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80880" y="761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hank you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2971800"/>
            <a:ext cx="90676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ted Nations Development Program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ope and the Commonwealth of Independent Sta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tislava Regional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ff33"/>
                </a:solidFill>
                <a:latin typeface="Arial"/>
              </a:rPr>
              <a:t>http://europeandcis.undp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0120" y="1752480"/>
            <a:ext cx="380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ccff33"/>
                </a:solidFill>
                <a:uFillTx/>
                <a:latin typeface="Arial"/>
              </a:rPr>
              <a:t> </a:t>
            </a:r>
            <a:r>
              <a:rPr b="1" i="1" lang="en-GB" sz="2000" spc="-1" strike="noStrike" u="sng">
                <a:solidFill>
                  <a:srgbClr val="ccff33"/>
                </a:solidFill>
                <a:uFillTx/>
                <a:latin typeface="Arial"/>
              </a:rPr>
              <a:t>Jacek.Cukrowski@undp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202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533F-D540-43BD-9EAB-F355AD894D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76520"/>
            <a:ext cx="8077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bjectives and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ft Roadmap for SP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Financial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Division of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gress until the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Next steps and urgent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16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C510-982F-46FC-8110-2476D5BD3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entral Asia countries have been marginalized in the overall AfT discussion at the WT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In 2008 the Government of Azerbaijan proposed the initiative called: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“Aid for Trade (AfT) Roadmap for SPECA countries”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fT Needs Assessments in SPECA count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xperts meeting in Bishkek (Kyrgyzsta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Ministerial meeting in Baku (Azerbaija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trong commitment and support from international organizations and gover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UNDP, UNECE, UNESCAP, WTO, UNCTAD, ITC, EBRD, IDB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Government of Azerbaijan and Kyrgyzs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21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9650-27F0-4160-B1BB-E3F429F89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s of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fT Roadmap for SPE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rticulate </a:t>
            </a:r>
            <a:r>
              <a:rPr b="0" i="1" lang="en-US" sz="36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AfT national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and </a:t>
            </a:r>
            <a:r>
              <a:rPr b="0" i="1" lang="en-US" sz="36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regional priorities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for the SPECA countries with special reference to </a:t>
            </a:r>
            <a:r>
              <a:rPr b="0" i="1" lang="en-US" sz="36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the challenges and prospects during and after the global economic cris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26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AA15-C718-41FF-9D3B-6CC46075E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fT Roadmap for SPECA: a fra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200" y="342864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evelopment of national needs analysis to identify AfT priorit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fghani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Azerbaij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Kazakh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Kyrgyz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Tajiki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Turkmeni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Uzbekista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31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546120" y="2336760"/>
            <a:ext cx="1600200" cy="1143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2336760"/>
            <a:ext cx="1600200" cy="1143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37440" y="2336760"/>
            <a:ext cx="1600200" cy="11430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82880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reparatory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505320"/>
            <a:ext cx="42674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xperts me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to take stock of national and regional priorities and prepare for Ministerial mee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ishkek (Kyrgyzst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3581280"/>
            <a:ext cx="3124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Ministerial mee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to engage with development partners in an AfT regional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aku (Azerbaij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82880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inal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6600" y="591804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iming: Janu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/Februar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381600" y="5918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Timing: October 2009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        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Januar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55960" y="591804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iming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8672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1EA2-CFFF-41B6-893C-C50B11BE83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ancial sup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Islamic Development Bank (International Islamic Trade Finance Corporation -ITF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xpert meet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Ministerial con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UNDP (Regional Centre for Europe and the CI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Regional Project: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Wider Europe: AfT for Central Asia, South Caucasus and Western CIS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funded by the Government of Finl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reparatory proces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fT Needs Assessments in Azerbaijan, Kazakhstan, Kyrgyzstan, Tajikistan, Turkmenistan and Uzbekis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fT Regional Review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IT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Funding participation of the representatives of the private sector in Ministerial meeting (to be confirmed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47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AA0D-4B0E-447A-B821-67838EB7C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15228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ivision of responsibilities (1)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143000"/>
            <a:ext cx="84582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UND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lead the preparatory phase in cooperation with all stakeholders (AfT needs Assessment, AfT Regional Review, agenda of the meetin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ssist hosting governments in the organization of the logistics of the 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slamic Trade Finance Corporation (ITFC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ovide funds for the two meetings; sign co-invitations with the hosting Governments and organiz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Governments of Azerbaijan and Kyrgyz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rganize Ministerial and Expert meetings (in collaboration with ITFC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52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289080" y="6156360"/>
            <a:ext cx="847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As agreed on Preparatory and Consultative Meeting on: AfT Roadmap for SPECA, Bishkek, March 25-26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F7E6-EC36-498E-BCDB-468F90A18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5228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ivision of responsibilities (2)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001880"/>
            <a:ext cx="84582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ndeavour to engage the private sector and identify representatives from the private sector; organize a private sector forum during the Ministerial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UNECE and ESCA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ontinue to provide support for the SPECA intergovernmental mechanis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rganize a session on AfT at the SPECA PWG on Trade in Geneva (October 2009) and work with the national representatives both in the capitals and in Genev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he SPECA Project Working Group on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ovide institutional support for th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58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289080" y="6156360"/>
            <a:ext cx="847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As agreed on Preparatory and Consultative Meeting on: AfT Roadmap for SPECA, Bishkek, March 25-26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676-8C26-47DD-A399-AB6B0EEA07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5228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rogress until the 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184400"/>
            <a:ext cx="8763120" cy="63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eparatory and Consultative Meeting on: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fT Roadmap for SPEC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(Bishkek, March 25-26,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he overall concept developed and agreed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unding secured (UNDP/Finland and ITFC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nternational partners and the governments of the countries hosting the events com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eparatory process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zerbaijan and Turkmenistan: AfT Needs Assessments in advanced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Kazakhstan, Kyrgyzstan, Tajikistan: Local experts identified analysis on initial st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Uzbekistan: Letter to the government offering assistance sent in Septe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fghanistan -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400"/>
              </a:spcAft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05920" y="76320"/>
            <a:ext cx="990360" cy="1218600"/>
            <a:chOff x="8305920" y="76320"/>
            <a:chExt cx="990360" cy="1218600"/>
          </a:xfrm>
        </p:grpSpPr>
        <p:sp>
          <p:nvSpPr>
            <p:cNvPr id="164" name=""/>
            <p:cNvSpPr/>
            <p:nvPr/>
          </p:nvSpPr>
          <p:spPr>
            <a:xfrm>
              <a:off x="8305920" y="977040"/>
              <a:ext cx="99036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Myriad Pro"/>
                </a:rPr>
                <a:t>Europe and C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8533800" y="76320"/>
              <a:ext cx="449640" cy="90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DBF1-E038-451D-9EB1-08AC2438F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4:25:28Z</dcterms:created>
  <dc:creator>Jacek Cukrowski</dc:creator>
  <dc:description/>
  <dc:language>en-US</dc:language>
  <cp:lastModifiedBy>jacek.cukrowski</cp:lastModifiedBy>
  <dcterms:modified xsi:type="dcterms:W3CDTF">2009-10-24T07:20:43Z</dcterms:modified>
  <cp:revision>205</cp:revision>
  <dc:subject/>
  <dc:title>Trade</dc:title>
</cp:coreProperties>
</file>