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6926-B6CD-4597-ADF3-1FAED0C95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8DCA-A246-4631-8523-069F34789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10B2-2D77-4FD2-A462-96212A0AC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B61B-A553-44DF-8818-D3C2A464C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AA11B-BB28-4098-A991-8588C8D106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54A57-20DD-42EE-8804-72CF6E48C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5CCE2-EF3A-4A42-AE63-B5F3D11760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58966-4C1E-474C-972E-BED8BDC0BE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E2386-3F71-40FB-8774-E05444BAD1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AB233-165B-4C71-9DFB-EBF3736A90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DB6BA-D1F2-4FD5-B7B1-B087F33B3D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5F34-3097-439A-908C-C1E50A312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208E8-6E68-4C41-A209-B6284C2A6E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1A331-D7FA-411B-BD43-5F8A9DBF11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D25E3-686D-4109-9910-85A1D26FAE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C1FFF-B15A-437A-B65B-786780524D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2DE27-2E69-4839-B9CA-D8D8E1033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ED3C-7BD0-411C-91A8-A08500DD0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72AF-1850-488A-9A76-BD28E6C73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BE37-97DC-4575-BC5C-A0481169A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F4A4-2A60-411E-AD3A-3F1681DBB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7BB4-BF92-4615-BDEA-6DF60648D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86AF-16AD-4476-9034-40A9A3132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8678-05BE-4F46-8C9D-3CD56FB15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233F-D5E8-4835-A9F3-480C851051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013C-1D42-4F02-A7B1-E0B172E28B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hyperlink" Target="http://www.undp.org/geneva/docs/trade-AFT%20web.pdf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05760" y="152280"/>
            <a:ext cx="657360" cy="1295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15000" y="44197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ek Cukrows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onomic Development and Poverty Reduction Advisor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P, Europe and the C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tislava Regional Cen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46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id for Trade (AfT) Needs Assessment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61920" y="6216480"/>
            <a:ext cx="41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eneva, Switzerland, 26 October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04920"/>
            <a:ext cx="77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PECIAL PROGRAMME FOR THE ECONOMIES OF CENTRAL ASIA (SPE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ject Working Group on Trade (Fourth ses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C422B-5B2D-446D-87D1-A14A25562A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posed structure of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fT Needs Assess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676520"/>
            <a:ext cx="899172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(I) 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. short country background, key analytical question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(II) Macroeconomic and business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… </a:t>
            </a: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macroeconomic background (related to poverty, human development, trade and competitiveness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(III) Trade and investment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… </a:t>
            </a: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policies and trade and invest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dynamics, institutions, trade agreements and market access (WTO accession; trade negotiation strategy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(IV) Trade fac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… </a:t>
            </a: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customs procedures, transportation costs, red tapes and other behind-the-border barriers to trade… underlying causes of ineffici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(V) Sectoral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… </a:t>
            </a: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sectors where trade has the biggest an impact on poverty reduction and human develop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(VI) Trade policy impact assessment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… </a:t>
            </a: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impact of trade policy options on po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(VII) Conclusions and action matr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… </a:t>
            </a: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Recommendations in the form of an </a:t>
            </a:r>
            <a:r>
              <a:rPr b="1" lang="en-GB" sz="1600" spc="-1" strike="noStrike" u="sng">
                <a:solidFill>
                  <a:srgbClr val="ffcc00"/>
                </a:solidFill>
                <a:uFillTx/>
                <a:latin typeface="Arial"/>
              </a:rPr>
              <a:t>Action Matrix</a:t>
            </a:r>
            <a:r>
              <a:rPr b="0" lang="en-GB" sz="1600" spc="-1" strike="noStrike">
                <a:solidFill>
                  <a:srgbClr val="ffcc00"/>
                </a:solidFill>
                <a:latin typeface="Arial"/>
              </a:rPr>
              <a:t>. Highlight capacity gaps and propose actions and technical assistance projects to overcome weaknesses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F93E-FA04-4ECB-A88E-D2925B3207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tion Matri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447920"/>
            <a:ext cx="8763120" cy="37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Action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Desired outcome and target indica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Timeline for completion of a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Agencies involv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Required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Required donor sup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9920" y="5546880"/>
            <a:ext cx="620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Important issu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Action prior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Matching with trade related technical as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803A-3D12-471B-8767-E8948762E8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Current work on </a:t>
            </a:r>
            <a:r>
              <a:rPr b="1" i="1" lang="en-GB" sz="3600" spc="-1" strike="noStrike">
                <a:solidFill>
                  <a:srgbClr val="ffcc00"/>
                </a:solidFill>
                <a:latin typeface="Arial"/>
              </a:rPr>
              <a:t>AfT Needs Assessments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 in Europe and the C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1523880"/>
            <a:ext cx="8763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UNDP 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regional project: </a:t>
            </a:r>
            <a:r>
              <a:rPr b="0" i="1" lang="en-US" sz="2600" spc="-1" strike="noStrike">
                <a:solidFill>
                  <a:srgbClr val="ffcc00"/>
                </a:solidFill>
                <a:latin typeface="Arial"/>
              </a:rPr>
              <a:t>Wider Europe: AfT for Central Asia, South Caucasus and Western CIS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 (2009-201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cc00"/>
                </a:solidFill>
                <a:latin typeface="Arial"/>
                <a:ea typeface="Arial"/>
              </a:rPr>
              <a:t>Project financed by the Government of Finl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cc00"/>
                </a:solidFill>
                <a:latin typeface="Arial"/>
                <a:ea typeface="Arial"/>
              </a:rPr>
              <a:t>Component I: </a:t>
            </a:r>
            <a:r>
              <a:rPr b="0" i="1" lang="en-GB" sz="2200" spc="-1" strike="noStrike">
                <a:solidFill>
                  <a:srgbClr val="ffcc00"/>
                </a:solidFill>
                <a:latin typeface="Arial"/>
                <a:ea typeface="Arial"/>
              </a:rPr>
              <a:t>AfT in Central Asia: Identification of National and Regional Prior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606680" indent="-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Arial"/>
              </a:rPr>
              <a:t>Azerbaijan, Kazakhstan, Kyrgyzstan, Tajikistan, Turkmenistan – initiated (Uzbekistan –plan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606680" indent="-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Arial"/>
              </a:rPr>
              <a:t>AfT Road Map for SPECA Countries (Ministerial Conference planned for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cc00"/>
                </a:solidFill>
                <a:latin typeface="Arial"/>
                <a:ea typeface="Arial"/>
              </a:rPr>
              <a:t>Component III: </a:t>
            </a:r>
            <a:r>
              <a:rPr b="0" i="1" lang="en-GB" sz="2200" spc="-1" strike="noStrike">
                <a:solidFill>
                  <a:srgbClr val="ffcc00"/>
                </a:solidFill>
                <a:latin typeface="Arial"/>
                <a:ea typeface="Arial"/>
              </a:rPr>
              <a:t>AfT Needs Assessments in South Caucasus and Western CIS </a:t>
            </a:r>
            <a:r>
              <a:rPr b="0" lang="en-GB" sz="2200" spc="-1" strike="noStrike">
                <a:solidFill>
                  <a:srgbClr val="ffcc00"/>
                </a:solidFill>
                <a:latin typeface="Arial"/>
                <a:ea typeface="Arial"/>
              </a:rPr>
              <a:t>(planned for 201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606680" indent="-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Arial"/>
              </a:rPr>
              <a:t>Armenia, Belarus, Georgia, Moldova, Ukra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F2DB-6A8B-418E-B5AA-7786DCE07A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7617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Thank you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2133720"/>
            <a:ext cx="9068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P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ope and the CIS Bratislava Regional Cen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ff33"/>
                </a:solidFill>
                <a:latin typeface="Arial"/>
              </a:rPr>
              <a:t>http://europeandcis.undp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0120" y="1752480"/>
            <a:ext cx="38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ccff33"/>
                </a:solidFill>
                <a:uFillTx/>
                <a:latin typeface="Arial"/>
              </a:rPr>
              <a:t> </a:t>
            </a:r>
            <a:r>
              <a:rPr b="1" i="1" lang="en-GB" sz="2000" spc="-1" strike="noStrike" u="sng">
                <a:solidFill>
                  <a:srgbClr val="ccff33"/>
                </a:solidFill>
                <a:uFillTx/>
                <a:latin typeface="Arial"/>
              </a:rPr>
              <a:t>Jacek.Cukrowski@undp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2BA7-FCCF-4D91-B4C4-516FCAD280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676520"/>
            <a:ext cx="8077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Objectives of </a:t>
            </a:r>
            <a:r>
              <a:rPr b="0" i="1" lang="en-GB" sz="2800" spc="-1" strike="noStrike">
                <a:solidFill>
                  <a:srgbClr val="ffcc00"/>
                </a:solidFill>
                <a:latin typeface="Arial"/>
              </a:rPr>
              <a:t>AfT Needs Assess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ain focus and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The </a:t>
            </a:r>
            <a:r>
              <a:rPr b="0" i="1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roposed stru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urrent work on </a:t>
            </a:r>
            <a:r>
              <a:rPr b="0" i="1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ft Needs Assessments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in Europe and the C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240F-C921-4129-9908-C87A5DA24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320" y="152280"/>
            <a:ext cx="8762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omic Sans MS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Arial"/>
              </a:rPr>
              <a:t>Why Trade Needs Assess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124080"/>
            <a:ext cx="8458200" cy="34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dentify and overcome existing barriers to t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dentify the cost of adjusting to current or anticipated trade agreements / trade sh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Review country competitiveness and export performanc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ssess the impact of trade on poverty and human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ackle institutional and infrastructure capacity limi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uggest action plans to remove bottlenecks and seize opportunities for the po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1523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dentify a set of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olicy recommendations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echnical assistance needs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aimed at improving the contribution of trade 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to hum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5890-55CB-4D37-BDBB-0C11327F35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76320"/>
            <a:ext cx="8229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Main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mpact of trade on human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5560"/>
            <a:ext cx="838224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rade can be a powerful source of economic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…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but while broadly based economic growth is necessary for human development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it is not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uman development also requires enlarging people’s choices and opportunities—especially poor people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liberalizing trade does not ensure poverty reduction or human development, nor does it guarantee immediate economic growt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nature of resource allocation and social inclusion are important determinants of growth leading to poverty reduction and hum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for women and those participating in the informal sector, espec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56C6-67AC-432C-ADC8-DD34E6FBF6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255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t improves economic b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t broadens a range of human cho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…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ut there could be some short-term human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velopment risks that needs to be well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understood and countries need to be prepared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 minimize possible negative impact of trad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n selected social 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00"/>
                </a:solidFill>
                <a:latin typeface="Comic Sans MS"/>
              </a:rPr>
              <a:t>Main messages</a:t>
            </a:r>
            <a:br>
              <a:rPr sz="3600"/>
            </a:b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Opening trade is key for human development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F6EB-5E88-4617-A312-BF247DFDF5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152280"/>
            <a:ext cx="8229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Main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cc00"/>
                </a:solidFill>
                <a:latin typeface="Arial"/>
              </a:rPr>
              <a:t>Trade should be integrated into national development polic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341440"/>
            <a:ext cx="87631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Opportunities to use trade to reduce poverty and promote human development should be identifi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Human development risks related to trade shocks needs to be underst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uitable institutions need to be developed to ensure multi-stakeholder participation in trade policy de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4BA9-C699-4567-B4ED-44E3B21C2A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16812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rade and national development strategies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27160"/>
            <a:ext cx="838224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If trade is to serve as an engine of economic growth countries must develop </a:t>
            </a:r>
            <a:r>
              <a:rPr b="0" lang="en-US" sz="2600" spc="-1" strike="noStrike" u="sng">
                <a:solidFill>
                  <a:srgbClr val="ffcc00"/>
                </a:solidFill>
                <a:uFillTx/>
                <a:latin typeface="Arial"/>
              </a:rPr>
              <a:t>a multidimensional strategy for trade expa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Framed in an appropriate macroeconomic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Structural and social concerns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 should be treated equally with macroeconomic and financial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Trade reforms should be an integral part of comprehensive development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8BB8-39B0-4EEB-ABB1-DBB8E778A3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The Guide</a:t>
            </a:r>
            <a:br>
              <a:rPr sz="2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ow to Conduct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fT Needs Assess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5956200" y="1992240"/>
            <a:ext cx="247032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2262240" cy="318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6680" y="2830680"/>
            <a:ext cx="2343240" cy="3276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17720" y="19303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onal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42480" y="557388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15960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http://europeandcis.undp.org/poverty/trade/show/8BD35D19-F203-1EE9-B08767E3833D66C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13360" y="6159600"/>
            <a:ext cx="38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www.undp.org/geneva/docs/trade-AFT%20web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A7DA-A086-4B43-A519-74DFFFF614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ents of the Gu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41300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Trade Mainstrea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Trade and Human Develop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AfT Needs Assessment: Structure and Proc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5. Macroeconomic and Business Environ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6. Trade and Investment Poli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7. Trade Facilitation and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8. Sectoral Analy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9. Trade Policies: An Impact Assessment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. Final Remarks, Action Matrix and Launching th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534520" y="76320"/>
            <a:ext cx="449280" cy="901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6320" y="1854360"/>
            <a:ext cx="9067680" cy="1752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5626080"/>
            <a:ext cx="9067680" cy="1143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4208-0783-43E7-8611-4FF58B19C5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4:25:28Z</dcterms:created>
  <dc:creator>Jacek Cukrowski</dc:creator>
  <dc:description/>
  <dc:language>en-US</dc:language>
  <cp:lastModifiedBy>jacek.cukrowski</cp:lastModifiedBy>
  <dcterms:modified xsi:type="dcterms:W3CDTF">2009-10-24T15:05:50Z</dcterms:modified>
  <cp:revision>196</cp:revision>
  <dc:subject/>
  <dc:title>Trade</dc:title>
</cp:coreProperties>
</file>