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4775-FC41-47C8-B975-46945A4A3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8D38-8992-44D6-8026-E5E2A301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3AC7-1740-453F-95D3-8802F92C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CAC3-B2FC-4AC2-B4B4-86806D5CE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1C9A-A60D-40CB-AA0D-C84BAA36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32BF-04E6-4119-8522-56B9150E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7BCF-A725-4B98-9C08-034CA11A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AB0B-10AE-4A39-8D93-C82EC27A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1ED3-68E3-4A37-99BD-2BC8F46A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CF38-C397-427F-BBDC-9207334B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392D-0F80-40B5-8F73-151AF193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5228-79E9-47CC-B544-E8E7C5D7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D1B9-032D-4091-A3FC-96FF2445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49D5-5CE9-43D6-AAFE-25E4461E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AD8A-1E8A-466F-BFE4-2CE02A3F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DCED-25C7-4F18-A683-C184AD73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EF4E-EBB2-4502-8321-49339630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016C-AFEB-4BAF-9E09-BF953335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957A-2550-4199-9DBA-AFF7C6D2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5C50-49A5-440F-BFF7-CB74A62C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2557-B051-4F25-84FB-8B4B968F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2797-5EFC-4CD0-B7CA-78F20FD1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911B-56B0-469A-B9CA-80A5B84D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DA48-30CD-444F-AF9C-ECB93B3A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ddd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ddd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C486-CCB2-4483-A40C-190A40F6FD10}" type="slidenum">
              <a:rPr b="0" lang="en-GB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8"/>
          <a:stretch/>
        </p:blipFill>
        <p:spPr>
          <a:xfrm>
            <a:off x="152280" y="152280"/>
            <a:ext cx="571680" cy="6289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1828800"/>
            <a:ext cx="9144000" cy="1238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9"/>
          <a:stretch/>
        </p:blipFill>
        <p:spPr>
          <a:xfrm>
            <a:off x="8229600" y="152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ddd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ddd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98E2-D08B-47DC-9455-AC172CCF6DF1}" type="slidenum">
              <a:rPr b="0" lang="en-GB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352680"/>
            <a:ext cx="9144000" cy="1238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571680" cy="628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229600" y="152280"/>
            <a:ext cx="619200" cy="609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FD Implementation - Slovaki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8399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Milan Matusk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Water Protection Departmen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lovak Republic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FD Implement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Water Directives Transpositi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New Water Act Proposa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Bilateral Project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Twinning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lovakia – Denmark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trategic Document - Governmen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01ED-411C-4A98-A068-AECCC1B9AE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er Directives Transposi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wo steps approach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Water Directives except WFD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ifficulti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espect existing, working syste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ombine it with </a:t>
            </a:r>
            <a:r>
              <a:rPr b="0" lang="en-GB" sz="2800" spc="-1" strike="noStrike">
                <a:solidFill>
                  <a:srgbClr val="dddddd"/>
                </a:solidFill>
                <a:latin typeface="Times New Roman"/>
              </a:rPr>
              <a:t>WDs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requirement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ake wording of WDs digestable to Slovakian users of the new Water Ac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D3C3-CECE-44F6-B48A-388071A337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New Water Act Proposa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New Water Act Concep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ompositi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Water Use and Water Protectio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Flood Protectio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Water Supply and Sewerage system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9C21-B62C-4DA4-B2FD-0200A23760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Bilateral Projec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winning Project – Netherlands/Slovaki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ompetent Authoritie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iver Basin District/Sub-Basin District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onitoring System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Integrated Management – surface waters, groundwater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77EC-7194-44BD-8BC0-133C607CBA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Bilateral Projec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lovakia – Denmark Cooperati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Integration Approximation Strategy – Environmen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Implementation Plans – each Directiv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cenarios – Economic aspects – heavy investments Directive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WFD – General Implementation Strateg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E457-1C37-4CF8-AF79-59E4EC6F42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National Strateg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WFD – Information Pape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trategic Implementation Document to Cabine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ompetent Authorit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teering Bod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upplementary Institutional Framework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Obligations - Responsibilitie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6EE8-23E9-4401-ADAB-AF142DDD66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20:08:56Z</dcterms:created>
  <dc:creator>Matuska</dc:creator>
  <dc:description/>
  <dc:language>en-US</dc:language>
  <cp:lastModifiedBy>UNECE</cp:lastModifiedBy>
  <dcterms:modified xsi:type="dcterms:W3CDTF">2002-02-18T15:21:49Z</dcterms:modified>
  <cp:revision>5</cp:revision>
  <dc:subject/>
  <dc:title>WFD Implementation - Slovakia</dc:title>
</cp:coreProperties>
</file>