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474-AEB4-4A74-A4A1-37ED0F11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D6D-3598-4824-A524-17255B4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260-CD66-40D5-BAB2-D20CB175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D57-9FFD-4AC8-B8E1-55BC1D41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3952-B355-4C90-BE5A-D4E67043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802-1D48-4CEE-A221-8E4DEA5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856-B532-4882-85D9-3A55410B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2418-8E9A-4256-BE24-A005F673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073-24D9-4607-B70B-D79286C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DFE7-3D31-44B6-9D56-E31DBFA8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33D7-F764-479D-A857-A942500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5DD-85DE-45C1-9B13-B30C19C5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517-941F-488B-AD23-B42D33C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FB4-9A3C-49D3-9F8C-B69DC67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304B-5539-42FC-B093-1AD032BD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90B5-62E3-4757-9943-001FDE0E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E7DC-D53C-4174-AE13-2BF4528C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CCC-1048-4638-A32B-AFC8DC9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87C-35EA-45F9-B597-85EFC19B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FCB-BB4C-4FB2-9DD4-073795E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092-7406-4B91-A2A9-8C0F376A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25B-302E-40C4-9D31-2D9353DE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80F-DF63-44CF-9F4C-FDFF8C4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80B-BEEF-4890-A04D-4ACF473B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C35-454F-431A-8D04-5C8DE688C80D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152280" y="152280"/>
            <a:ext cx="571680" cy="628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828800"/>
            <a:ext cx="9144000" cy="123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8229600" y="152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678F-4484-4BFE-94D0-75A7844C1DF5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52680"/>
            <a:ext cx="9144000" cy="123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628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619200" cy="60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FD Implementation - Slovaki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lan Matusk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ater Protection Depart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vak Republic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FD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ater Directives Trans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w Water Act Propos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lateral Projec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winn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vakia – Denmar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tegic Document - Govern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F5C-8A39-4197-8F76-9D728DAD1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er Directives Transposi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wo steps approac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ater Directives except WF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fficulti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espect existing, working sys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bine it with 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WD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requiremen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ke wording of WDs digestable to Slovakian users of the new Water Ac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380-103B-46E0-9C38-AF4C55529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ew Water Act Propos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w Water Act Concep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ter Use and Water Protec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lood Protec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ter Supply and Sewerage system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283-3B52-44B3-BD19-AC6041B66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Bilateral Projec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winning Project – Netherlands/Slovaki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petent Authorit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iver Basin District/Sub-Basin Distric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itoring System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grated Management – surface waters, groundwater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500-03F1-4D99-8608-D7D20ECEB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Bilateral Projec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vakia – Denmark Cooper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gration Approximation Strategy – Environ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mplementation Plans – each Directi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cenarios – Economic aspects – heavy investments Directiv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FD – General Implementation Strateg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DA3-E159-47F8-A076-C244F5944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ational Strate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FD – Information Pap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tegic Implementation Document to Cabine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petent Authorit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ering Bod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upplementary Institutional Framewor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bligations - Responsibilit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5B0-E9E2-4636-BCFB-C8272055F2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20:08:56Z</dcterms:created>
  <dc:creator>Matuska</dc:creator>
  <dc:description/>
  <dc:language>en-US</dc:language>
  <cp:lastModifiedBy>UNECE</cp:lastModifiedBy>
  <dcterms:modified xsi:type="dcterms:W3CDTF">2002-02-18T15:21:49Z</dcterms:modified>
  <cp:revision>5</cp:revision>
  <dc:subject/>
  <dc:title>WFD Implementation - Slovakia</dc:title>
</cp:coreProperties>
</file>