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5EC-DC4B-4B19-8FDD-4E7B2A8F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72C-69B4-4262-83CF-3A790F28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496-0768-473A-92F7-1012312D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088-99A1-44D1-A116-26A275E2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E92E-3DA4-4172-AF4F-C79544D1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A2FF-1478-48A0-8133-B8958F97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DD69-CC28-4B3F-ACC5-5D81C2BB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0391-7CF6-42D5-807B-135C9849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6C66-102D-4889-B439-54A0B770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064F-696D-474A-86CB-61BF49C2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12A6-8470-4F83-B35C-34336A48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CB3-8BCC-4A4A-8344-5DC2FA83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394D-C09F-465A-9A10-B745EFA8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3A2-06DF-4CC4-8DB9-89D91DA3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BE61-7CE8-4AF5-89A7-CDDDA255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6AFC-F773-442B-AF29-8E522560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2DA2-3FC1-4A13-8F39-C40E0A6B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0B0-608F-44F9-92B8-3F92F8C5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226-7A7A-42FE-AA39-EBF29CDF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824-99E4-4E46-A9A7-8E8EFCD7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E3B-B6B2-4092-8E69-0741260B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729-942B-422C-9CD5-BA231514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69B-024A-4634-A037-DE5EB41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84E-5EFA-432A-8E63-5D5AD1F5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6A64-1598-4528-A28B-C428D4E88047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5270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1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4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A90-BB4C-45AA-83FB-6EA3A9460DCC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file:///C:/E%20U/Directives/W%20F%20D/Text%20Pr&#237;l/V&#253;ber%20pr&#237;loh/ANNEX%20VI.doc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Dokumenty/E%20U/Directives/W%20F%20D/Seminar%20Munich/Timeschedule/Annex4(old)-version2.rtf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Dokumenty/E%20U/Directives/W%20F%20D/Seminar%20Munich/Timeschedule/Annex5(old)%20-%20after-meeting%20version.rtf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696440" cy="20574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00"/>
                </a:solidFill>
                <a:latin typeface="Times New Roman"/>
              </a:rPr>
              <a:t>Water Framework Directive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ogramme of Measures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River Basin Management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905120" y="3581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ilan Matušk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inistry of the Environ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lovak Republic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ater Protection Depart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52704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4665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Shall ensure the necessary protection for the water bodies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o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identifi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 Narrow"/>
              </a:rPr>
              <a:t>To </a:t>
            </a:r>
            <a:r>
              <a:rPr b="1" lang="en-GB" sz="2800" spc="-1" strike="noStrike">
                <a:solidFill>
                  <a:srgbClr val="00cc00"/>
                </a:solidFill>
                <a:latin typeface="Arial Narrow"/>
              </a:rPr>
              <a:t>avoid deterioration </a:t>
            </a:r>
            <a:r>
              <a:rPr b="1" lang="en-US" sz="2800" spc="-1" strike="noStrike">
                <a:solidFill>
                  <a:srgbClr val="00cc00"/>
                </a:solidFill>
                <a:latin typeface="Arial Narrow"/>
              </a:rPr>
              <a:t>of</a:t>
            </a:r>
            <a:r>
              <a:rPr b="1" lang="en-GB" sz="2800" spc="-1" strike="noStrike">
                <a:solidFill>
                  <a:srgbClr val="00cc00"/>
                </a:solidFill>
                <a:latin typeface="Arial Narrow"/>
              </a:rPr>
              <a:t> their quality in order to reduce the level of purification treatment</a:t>
            </a: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 required in the production of drinking wate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cc00"/>
                </a:solidFill>
                <a:uFillTx/>
                <a:latin typeface="Arial Narrow"/>
              </a:rPr>
              <a:t>May</a:t>
            </a:r>
            <a:r>
              <a:rPr b="1" lang="en-GB" sz="2800" spc="-1" strike="noStrike">
                <a:solidFill>
                  <a:srgbClr val="00cc00"/>
                </a:solidFill>
                <a:latin typeface="Arial Narrow"/>
              </a:rPr>
              <a:t> establish safeguard zones for those </a:t>
            </a:r>
            <a:r>
              <a:rPr b="1" lang="en-US" sz="2800" spc="-1" strike="noStrike">
                <a:solidFill>
                  <a:srgbClr val="00cc00"/>
                </a:solidFill>
                <a:latin typeface="Arial Narrow"/>
              </a:rPr>
              <a:t>water </a:t>
            </a:r>
            <a:r>
              <a:rPr b="1" lang="en-GB" sz="2800" spc="-1" strike="noStrike">
                <a:solidFill>
                  <a:srgbClr val="00cc00"/>
                </a:solidFill>
                <a:latin typeface="Arial Narrow"/>
              </a:rPr>
              <a:t>bodi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9E7-A64B-41F9-8645-E24DD7C119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ddddd"/>
                </a:solidFill>
                <a:uFillTx/>
                <a:latin typeface="Arial Narrow"/>
              </a:rPr>
              <a:t>Water us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Measures to promote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an efficient and sustainable water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use 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– </a:t>
            </a:r>
            <a:r>
              <a:rPr b="0" lang="en-GB" sz="2800" spc="-1" strike="noStrike">
                <a:solidFill>
                  <a:srgbClr val="00cc00"/>
                </a:solidFill>
                <a:latin typeface="Arial Narrow"/>
              </a:rPr>
              <a:t>to avoid compromising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the achievement of </a:t>
            </a:r>
            <a:r>
              <a:rPr b="0" lang="en-GB" sz="2800" spc="-1" strike="noStrike">
                <a:solidFill>
                  <a:srgbClr val="00cc00"/>
                </a:solidFill>
                <a:latin typeface="Arial Narrow"/>
              </a:rPr>
              <a:t>the </a:t>
            </a:r>
            <a:r>
              <a:rPr b="0" lang="en-US" sz="2800" spc="-1" strike="noStrike">
                <a:solidFill>
                  <a:srgbClr val="00cc00"/>
                </a:solidFill>
                <a:latin typeface="Arial Narrow"/>
              </a:rPr>
              <a:t>environmental </a:t>
            </a:r>
            <a:r>
              <a:rPr b="0" lang="en-GB" sz="2800" spc="-1" strike="noStrike">
                <a:solidFill>
                  <a:srgbClr val="00cc00"/>
                </a:solidFill>
                <a:latin typeface="Arial Narrow"/>
              </a:rPr>
              <a:t>objectiv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Controls over the abstraction of fresh surface water and groundwater</a:t>
            </a: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Requirement of prior authorisation for abstraction and impoundment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CDE-FA82-400F-80A6-21DE50197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Controls, including a requirement for </a:t>
            </a:r>
            <a:r>
              <a:rPr b="1" lang="en-GB" sz="2800" spc="-1" strike="noStrike" u="sng">
                <a:solidFill>
                  <a:srgbClr val="f2456d"/>
                </a:solidFill>
                <a:uFillTx/>
                <a:latin typeface="Arial Narrow"/>
              </a:rPr>
              <a:t>prior authorisation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of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Artificial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recharge or augmentation of groundwater bodi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Injection, re-injec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Pollution point/diffuse sources</a:t>
            </a:r>
            <a:r>
              <a:rPr b="1" lang="en-GB" sz="28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A0C-35AF-4CD1-9C98-5A19FE4032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Controls to ensure</a:t>
            </a:r>
            <a:r>
              <a:rPr b="0" lang="en-GB" sz="36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Hydromorphological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conditions of the water bodies 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meet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good ecological potential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at least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artificial or heavily modified 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water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bodies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Any measures to prevent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significant losses of pollutants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and/or 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to reduce the impact of accidental pollution incidents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for example as a result of flood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)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309-A526-4093-A570-8EDAD58BEA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Supplementary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Design and implement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in addition to the basic measures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if necessary o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Narrow"/>
              </a:rPr>
              <a:t>Environmental </a:t>
            </a: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objectives</a:t>
            </a:r>
            <a:r>
              <a:rPr b="0" lang="en-US" sz="3200" spc="-1" strike="noStrike">
                <a:solidFill>
                  <a:srgbClr val="dddddd"/>
                </a:solidFill>
                <a:latin typeface="Arial Narrow"/>
              </a:rPr>
              <a:t> achievemen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Part </a:t>
            </a:r>
            <a:r>
              <a:rPr b="0" lang="en-US" sz="3200" spc="-1" strike="noStrike">
                <a:solidFill>
                  <a:srgbClr val="dddddd"/>
                </a:solidFill>
                <a:latin typeface="Arial Narrow"/>
              </a:rPr>
              <a:t> B Annex VI </a:t>
            </a: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contains a non-exclusive list of such measur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707-7632-4B06-958C-855C7108BF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Supplementary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Where monitoring or other data indicat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 Narrow"/>
              </a:rPr>
              <a:t>Environmental </a:t>
            </a:r>
            <a:r>
              <a:rPr b="0" lang="en-GB" sz="2800" spc="-1" strike="noStrike">
                <a:solidFill>
                  <a:srgbClr val="00cc00"/>
                </a:solidFill>
                <a:latin typeface="Arial Narrow"/>
              </a:rPr>
              <a:t>objectives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are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unlikely to be achiev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auses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of the possible failure are investigated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Relevant permits and authorisations are examined and reviewed as appropriate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810-CA1E-424C-9DC3-6600607AB2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Times New Roman"/>
              </a:rPr>
              <a:t>Measure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Programmes of measures 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shall be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established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at the latest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 Narrow"/>
              </a:rPr>
              <a:t>nine years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after the date of entry into force of this directiv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And all the measures 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shall be made operational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at the latest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 Narrow"/>
              </a:rPr>
              <a:t>twelve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Narrow"/>
              </a:rPr>
              <a:t>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 Narrow"/>
              </a:rPr>
              <a:t>years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after that da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7BD-25F8-4DF4-9DE7-8606F6A037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Times New Roman"/>
              </a:rPr>
              <a:t>Measure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Programmes of measures shall be reviewed, and if necessary updated at the latest </a:t>
            </a:r>
            <a:r>
              <a:rPr b="0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15</a:t>
            </a:r>
            <a:r>
              <a:rPr b="1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 </a:t>
            </a:r>
            <a:r>
              <a:rPr b="0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years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 after the date</a:t>
            </a:r>
            <a:r>
              <a:rPr b="0" lang="en-GB" sz="32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of entry into force of this directiv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And </a:t>
            </a:r>
            <a:r>
              <a:rPr b="0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every six years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thereaft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Any new or revised measures established under an updated programme shall be made operational 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within </a:t>
            </a:r>
            <a:r>
              <a:rPr b="0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three years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of their establish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D3C-0028-42A2-ACA1-40678B7DCC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Times New Roman"/>
              </a:rPr>
              <a:t>Measure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chieve environmental objectives at the latest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 Narrow"/>
                <a:ea typeface="Times New Roman"/>
              </a:rPr>
              <a:t>15 years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fter the date of entry into force of this Directiv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In implementing measures member states shall take all appropriate steps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not to increase pollution of marine wat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B20-8E86-4D73-A942-00F43559F7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ver Basin Management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osi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Member States Action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5FC-BE70-4A7D-B042-C45D6086CB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ogramme of Measure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ver Basin Management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egal Founda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entification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 Programme of Measur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iver Basin Management Plan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asis fo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ment of Programme of Measures &amp; River Basin Management Plan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-ordination process national/inter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ssues on the implementation related to water legisla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70E-DD84-4098-9EBE-2A61BE01F6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osition of RB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essures - surface water, groundwate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otected areas - identification, mappin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monitoring networks, programmes - map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nvironmental objectives - list, associated inf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conomic analysis of water use - summar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B23-9512-4E31-99DB-E8DC71E615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osition of RB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etailed programmes and management plans - registe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ogramme of measures - summar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ublic information and consultation measures - their results and the changes to the plan made as conseque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etent authorities - li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ntact points - procedure for obtaining inf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3C4-CBE7-4E11-95B2-5A16FDD936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RBMP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all be publish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9 yea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fter WFD entry into for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all be reviewed and updat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15 yea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fter …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6 yea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hereaft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383-19D0-45F0-91F0-15D5204962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RBD lying entirely within their territor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national RBD – ensure coordin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gle RBMP - lying entirely within Communit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ot possible coordination – RBMP falling within their territor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A79-98D1-4B49-9254-36B04667A5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BD extending beyond EU boundarie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Endeavou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for a single of the whole RB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f impossible – for portion of international RBD lying within territor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BMP may be supplemented by more detailed programmes and RBMPs – sub-basi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BC7-FA80-49AA-AAC6-2BA2F2E527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courage active involvement of all stakeholders (incl. public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duction, review, updating RBMP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ke available for comment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imetable for RBMPs produc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nterim overview of the significant water management issues identified  - at least two years before the beginning of the period to which the plans refer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raft copies – one year before …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2A5-93F3-47E1-8656-F1C2DC68B5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cess to background documents – on reque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 months available for commen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me procedure – updating RBMP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66E-A0F4-487A-912C-06198FCDCC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Basis for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velopment of PoMs &amp; RB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Different conditions in the stat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Three different groups of the states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States of the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first wav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States of member stat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second wav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Characteristics of the river basin distric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Review of the environmental impact of human activi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And economic analysis of water us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25E-AE1B-44BF-8AEC-688DB619BC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Basis for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velopment of PoMs &amp; RB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vironmental objectives – harmonized – intercalibration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easures –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Annex V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(Part A) – significant differen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pplied by Member States alread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ifferent status in the States in accession proces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n comparison with Member Stat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etween first and second wav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49C-917B-4161-A0A4-5F6176F17C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o-ordination Process National/Internationa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ll stakeholder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All sectors – water management, industry, agriculture…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State administration, local/regional governments, professional institutes, NGOs, public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r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ilaterall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Transboundary Commission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Competent Authorities – bilateral specific agreement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F5F-B774-43FE-B372-9316D8C011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Legal Found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l text of WF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Preambl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Article 4 Environmental objectives (Annex II, Annex V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Article 11 - Programme of Measures (Annex VI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85A-8D1A-44F6-B3E8-B05525DBA9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o-ordination Process National/Internationa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ultilaterally under umbrella of International Commissions of large river basins (Danube, Rhine, Elbe….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b-basin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whole River Basin District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echnical issu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pping – GIS based on EU system(?)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International – single map for entire River Basin Distric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National – compatible with international (?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1B1-8F7C-4C89-A3D2-E4EFADCABA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gal Aspects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Ms &amp; RBMP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posi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first phas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WDs in force before October 2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second phas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transposition of WF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Iteration process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o experience with implementatio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ost of consequences cannot be forese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In some cases not clear requirements of WFD before end of 2003 (Common Strategy, EU Working Groups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479-521A-40A0-83B3-FE731A4C73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gal Aspects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Ms &amp; RBMP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stitutional Framewor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Nation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teering Committe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Competent Authorit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Working Groups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Connection with EU Working Groups (Common Strategy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EC6-871B-4B55-AD2C-AC46312E9B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National Competent Authority, Environmental Inspectorates, Environmental Authorities, Local/Regional Government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r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International Competent Authority, European Commission (DG XI) – reporting, International Court (EU Member States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gal Aspects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Ms &amp; RBMP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120-5B65-46EB-8E48-7562DFBF05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Legal Found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Article 13 - River basin Management Plans (Annex VII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Article 14 - Public information and consulta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86F-E1D4-4F9F-843D-633B9B9AC9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ntifica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Programme of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ogramme of Measures tool for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chievement of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nvironmental objectiv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Gaps between present status and environmental objectives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ic”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measures</a:t>
            </a:r>
            <a:r>
              <a:rPr b="0" lang="en-US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States obligation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pplementary”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measur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Measures implement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A7B-52A3-4B7D-9C1B-4570709FB8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Basic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BINED APPROA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for point and diffuse sourc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the emission controls based on Best Available Techniques; 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the relevant emission limit values; 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in the case of diffuse impacts the controls including, as appropriate, Best Environmental Practi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452-B1B6-4707-B955-B7A6C7C805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Basic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Where a quality objective or quality standard requires stricter conditions then more stringent emission controls shall be set accordingl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EED-3EA8-487C-B979-A72D578296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stablishment of</a:t>
            </a:r>
            <a:r>
              <a:rPr b="0" lang="en-GB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cc00"/>
                </a:solidFill>
                <a:latin typeface="Times New Roman"/>
              </a:rPr>
              <a:t>Environmental quality standards</a:t>
            </a:r>
            <a:r>
              <a:rPr b="0" lang="en-GB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r </a:t>
            </a:r>
            <a:r>
              <a:rPr b="0" lang="en-GB" sz="3200" spc="-1" strike="noStrike">
                <a:solidFill>
                  <a:srgbClr val="dddddd"/>
                </a:solidFill>
                <a:latin typeface="Times New Roman"/>
              </a:rPr>
              <a:t>all surface wat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fected by discharges containing matters included </a:t>
            </a: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in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he first lis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priority substances</a:t>
            </a:r>
            <a:r>
              <a:rPr b="0" lang="en-GB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Controls on the principal sources of such discharges, based </a:t>
            </a:r>
            <a:r>
              <a:rPr b="0" i="1" lang="en-GB" sz="2800" spc="-1" strike="noStrike">
                <a:solidFill>
                  <a:srgbClr val="dddddd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 on consideration of all technical reduction option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2AC-D167-4474-96AB-BB2ED27D14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ddddd"/>
                </a:solidFill>
                <a:uFillTx/>
                <a:latin typeface="Arial Narrow"/>
              </a:rPr>
              <a:t>WATERS ABSTRACTED for DRINKING WAT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Identify, within each river basin district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All water bodies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(present/intended) – 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water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abstraction 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for human consumption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– over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10m³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day as an average or serving more than fifty persons,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Monitor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those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water 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bodies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providing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more than 100m</a:t>
            </a:r>
            <a:r>
              <a:rPr b="1" lang="en-GB" sz="2400" spc="-1" strike="noStrike" baseline="30000">
                <a:solidFill>
                  <a:srgbClr val="ff0000"/>
                </a:solidFill>
                <a:latin typeface="Arial Narrow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day as an averag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398-A838-497F-9581-1E1A7745A5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9T15:54:52Z</dcterms:created>
  <dc:creator>MŽPSR</dc:creator>
  <dc:description/>
  <dc:language>en-US</dc:language>
  <cp:lastModifiedBy>UNECE</cp:lastModifiedBy>
  <dcterms:modified xsi:type="dcterms:W3CDTF">2002-02-18T15:22:17Z</dcterms:modified>
  <cp:revision>51</cp:revision>
  <dc:subject/>
  <dc:title>Smernice EÚ v oblasti vôd  a vodné právo v SR</dc:title>
</cp:coreProperties>
</file>