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EB0C-5F67-460C-8538-619C5B119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11ED-5ED2-4B4E-B3E5-4139850C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063C-AF40-4D56-A7B5-5D1BCFC5A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29F3-C8FF-417A-B19E-435BA582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73A5-9C56-4B08-910D-013803BE7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C995-330D-4C32-A67B-EE6FD6A3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A5C4-8E13-4728-AF0A-FBC6831B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1293-3DBE-48AD-893A-27356839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AAA9-E42C-4025-B28A-01169FE4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7F65-32F0-4725-9787-C6392DE2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15B2-8CA2-4F51-BA8E-ABF0EC8B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314B-92BF-4BA1-82A7-27A42994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4818-4C1B-4226-B153-F8C1C49D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39BA-C2B7-4647-BAED-90794B7E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0BE3-5575-4BBC-9413-EF37C7ED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5035-DBCA-4D01-8F5C-FAD077D1A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37A0-0B48-423E-89D8-6EF798BC7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A01A-5F4E-48B1-B6DD-5723AC41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D175-E120-4673-B42C-35AC87D6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F07C-F85B-418A-8B18-B540D26E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3A13-DF6E-4A76-8816-75361B76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EF00-05B0-46A2-941D-59DA4536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367C-E7F4-4CE1-8998-9CCB78DE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D929-51CA-4866-BAC0-88EA6E59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2600" y="93600"/>
            <a:ext cx="9144000" cy="1677960"/>
            <a:chOff x="-12600" y="93600"/>
            <a:chExt cx="9144000" cy="1677960"/>
          </a:xfrm>
        </p:grpSpPr>
        <p:sp>
          <p:nvSpPr>
            <p:cNvPr id="1" name=""/>
            <p:cNvSpPr/>
            <p:nvPr/>
          </p:nvSpPr>
          <p:spPr>
            <a:xfrm>
              <a:off x="0" y="152388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73340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12600" y="93600"/>
              <a:ext cx="1322280" cy="1571760"/>
              <a:chOff x="-12600" y="93600"/>
              <a:chExt cx="1322280" cy="1571760"/>
            </a:xfrm>
          </p:grpSpPr>
          <p:sp>
            <p:nvSpPr>
              <p:cNvPr id="4" name=""/>
              <p:cNvSpPr/>
              <p:nvPr/>
            </p:nvSpPr>
            <p:spPr>
              <a:xfrm>
                <a:off x="-12600" y="936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-6480" y="3078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7320" y="336600"/>
                <a:ext cx="782640" cy="108756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49280" y="7412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ddd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ddd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A7D4-F171-4BB3-AB3B-E71F7E044AD1}" type="slidenum">
              <a:rPr b="0" lang="en-GB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8381880" y="228600"/>
            <a:ext cx="52704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-12600" y="1681200"/>
            <a:ext cx="9144000" cy="1766880"/>
            <a:chOff x="-12600" y="1681200"/>
            <a:chExt cx="9144000" cy="1766880"/>
          </a:xfrm>
        </p:grpSpPr>
        <p:sp>
          <p:nvSpPr>
            <p:cNvPr id="51" name=""/>
            <p:cNvSpPr/>
            <p:nvPr/>
          </p:nvSpPr>
          <p:spPr>
            <a:xfrm>
              <a:off x="0" y="320040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40992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-12600" y="1681200"/>
              <a:ext cx="1322280" cy="1571760"/>
              <a:chOff x="-12600" y="1681200"/>
              <a:chExt cx="1322280" cy="1571760"/>
            </a:xfrm>
          </p:grpSpPr>
          <p:sp>
            <p:nvSpPr>
              <p:cNvPr id="54" name=""/>
              <p:cNvSpPr/>
              <p:nvPr/>
            </p:nvSpPr>
            <p:spPr>
              <a:xfrm>
                <a:off x="-12600" y="16812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-6480" y="18954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57320" y="1924200"/>
                <a:ext cx="782640" cy="108720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49280" y="23288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ddd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ddd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EC4F-9D62-4EBE-BD90-45ED8C020259}" type="slidenum">
              <a:rPr b="0" lang="en-GB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file:///C:/E%20U/Directives/W%20F%20D/Text%20Pr&#237;l/V&#253;ber%20pr&#237;loh/ANNEX%20VI.doc" TargetMode="External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Dokumenty/E%20U/Directives/W%20F%20D/Seminar%20Munich/Timeschedule/Annex4(old)-version2.rtf" TargetMode="External"/><Relationship Id="rId4" Type="http://schemas.openxmlformats.org/officeDocument/2006/relationships/image" Target="../media/image4.png"/><Relationship Id="rId5" Type="http://schemas.openxmlformats.org/officeDocument/2006/relationships/hyperlink" Target="file:///Dokumenty/E%20U/Directives/W%20F%20D/Seminar%20Munich/Timeschedule/Annex5(old)%20-%20after-meeting%20version.rtf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7696440" cy="20574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00"/>
                </a:solidFill>
                <a:latin typeface="Times New Roman"/>
              </a:rPr>
              <a:t>Water Framework Directive</a:t>
            </a:r>
            <a:br>
              <a:rPr sz="4400"/>
            </a:b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Programme of Measures</a:t>
            </a:r>
            <a:br>
              <a:rPr sz="4400"/>
            </a:b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River Basin Management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905120" y="35812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ilan Matušk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inistry of the Environmen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lovak Republic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Water Protection Departmen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229600" y="5867280"/>
            <a:ext cx="527040" cy="457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04920" y="5791320"/>
            <a:ext cx="46656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Member Stat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 Narrow"/>
              </a:rPr>
              <a:t>Shall ensure the necessary protection for the water bodies 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so</a:t>
            </a:r>
            <a:r>
              <a:rPr b="0" lang="en-GB" sz="3200" spc="-1" strike="noStrike">
                <a:solidFill>
                  <a:srgbClr val="ff0000"/>
                </a:solidFill>
                <a:latin typeface="Arial Narrow"/>
              </a:rPr>
              <a:t> identified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 Narrow"/>
              </a:rPr>
              <a:t>To </a:t>
            </a:r>
            <a:r>
              <a:rPr b="1" lang="en-GB" sz="2800" spc="-1" strike="noStrike">
                <a:solidFill>
                  <a:srgbClr val="00cc00"/>
                </a:solidFill>
                <a:latin typeface="Arial Narrow"/>
              </a:rPr>
              <a:t>avoid deterioration </a:t>
            </a:r>
            <a:r>
              <a:rPr b="1" lang="en-US" sz="2800" spc="-1" strike="noStrike">
                <a:solidFill>
                  <a:srgbClr val="00cc00"/>
                </a:solidFill>
                <a:latin typeface="Arial Narrow"/>
              </a:rPr>
              <a:t>of</a:t>
            </a:r>
            <a:r>
              <a:rPr b="1" lang="en-GB" sz="2800" spc="-1" strike="noStrike">
                <a:solidFill>
                  <a:srgbClr val="00cc00"/>
                </a:solidFill>
                <a:latin typeface="Arial Narrow"/>
              </a:rPr>
              <a:t> their quality in order to reduce the level of purification treatment</a:t>
            </a:r>
            <a:r>
              <a:rPr b="1" lang="en-GB" sz="2800" spc="-1" strike="noStrike">
                <a:solidFill>
                  <a:srgbClr val="ff0000"/>
                </a:solidFill>
                <a:latin typeface="Arial Narrow"/>
              </a:rPr>
              <a:t> required in the production of drinking wate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00cc00"/>
                </a:solidFill>
                <a:uFillTx/>
                <a:latin typeface="Arial Narrow"/>
              </a:rPr>
              <a:t>May</a:t>
            </a:r>
            <a:r>
              <a:rPr b="1" lang="en-GB" sz="2800" spc="-1" strike="noStrike">
                <a:solidFill>
                  <a:srgbClr val="00cc00"/>
                </a:solidFill>
                <a:latin typeface="Arial Narrow"/>
              </a:rPr>
              <a:t> establish safeguard zones for those </a:t>
            </a:r>
            <a:r>
              <a:rPr b="1" lang="en-US" sz="2800" spc="-1" strike="noStrike">
                <a:solidFill>
                  <a:srgbClr val="00cc00"/>
                </a:solidFill>
                <a:latin typeface="Arial Narrow"/>
              </a:rPr>
              <a:t>water </a:t>
            </a:r>
            <a:r>
              <a:rPr b="1" lang="en-GB" sz="2800" spc="-1" strike="noStrike">
                <a:solidFill>
                  <a:srgbClr val="00cc00"/>
                </a:solidFill>
                <a:latin typeface="Arial Narrow"/>
              </a:rPr>
              <a:t>bodie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5981-D104-4F23-946A-AEB791F21F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Member Stat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dddddd"/>
                </a:solidFill>
                <a:uFillTx/>
                <a:latin typeface="Arial Narrow"/>
              </a:rPr>
              <a:t>Water us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 Narrow"/>
              </a:rPr>
              <a:t>Measures to promote </a:t>
            </a:r>
            <a:r>
              <a:rPr b="0" lang="en-GB" sz="2800" spc="-1" strike="noStrike">
                <a:solidFill>
                  <a:srgbClr val="ff0000"/>
                </a:solidFill>
                <a:latin typeface="Arial Narrow"/>
              </a:rPr>
              <a:t>an efficient and sustainable water</a:t>
            </a:r>
            <a:r>
              <a:rPr b="0" lang="en-GB" sz="2800" spc="-1" strike="noStrike">
                <a:solidFill>
                  <a:srgbClr val="dddddd"/>
                </a:solidFill>
                <a:latin typeface="Arial Narrow"/>
              </a:rPr>
              <a:t> use </a:t>
            </a: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– </a:t>
            </a:r>
            <a:r>
              <a:rPr b="0" lang="en-GB" sz="2800" spc="-1" strike="noStrike">
                <a:solidFill>
                  <a:srgbClr val="00cc00"/>
                </a:solidFill>
                <a:latin typeface="Arial Narrow"/>
              </a:rPr>
              <a:t>to avoid compromising</a:t>
            </a:r>
            <a:r>
              <a:rPr b="0" lang="en-GB" sz="2800" spc="-1" strike="noStrike">
                <a:solidFill>
                  <a:srgbClr val="dddddd"/>
                </a:solidFill>
                <a:latin typeface="Arial Narrow"/>
              </a:rPr>
              <a:t> the achievement of </a:t>
            </a:r>
            <a:r>
              <a:rPr b="0" lang="en-GB" sz="2800" spc="-1" strike="noStrike">
                <a:solidFill>
                  <a:srgbClr val="00cc00"/>
                </a:solidFill>
                <a:latin typeface="Arial Narrow"/>
              </a:rPr>
              <a:t>the </a:t>
            </a:r>
            <a:r>
              <a:rPr b="0" lang="en-US" sz="2800" spc="-1" strike="noStrike">
                <a:solidFill>
                  <a:srgbClr val="00cc00"/>
                </a:solidFill>
                <a:latin typeface="Arial Narrow"/>
              </a:rPr>
              <a:t>environmental </a:t>
            </a:r>
            <a:r>
              <a:rPr b="0" lang="en-GB" sz="2800" spc="-1" strike="noStrike">
                <a:solidFill>
                  <a:srgbClr val="00cc00"/>
                </a:solidFill>
                <a:latin typeface="Arial Narrow"/>
              </a:rPr>
              <a:t>objective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 Narrow"/>
              </a:rPr>
              <a:t>Controls over the abstraction of fresh surface water and groundwater</a:t>
            </a:r>
            <a:r>
              <a:rPr b="0" lang="en-GB" sz="3200" spc="-1" strike="noStrike">
                <a:solidFill>
                  <a:srgbClr val="dddddd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ddddd"/>
                </a:solidFill>
                <a:latin typeface="Arial Narrow"/>
              </a:rPr>
              <a:t>Requirement of prior authorisation for abstraction and impoundment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1503-FC88-4B94-9007-50E3EDD05B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Member Stat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 Narrow"/>
              </a:rPr>
              <a:t>Controls, including a requirement for </a:t>
            </a:r>
            <a:r>
              <a:rPr b="1" lang="en-GB" sz="2800" spc="-1" strike="noStrike" u="sng">
                <a:solidFill>
                  <a:srgbClr val="f2456d"/>
                </a:solidFill>
                <a:uFillTx/>
                <a:latin typeface="Arial Narrow"/>
              </a:rPr>
              <a:t>prior authorisation</a:t>
            </a:r>
            <a:r>
              <a:rPr b="0" lang="en-GB" sz="2800" spc="-1" strike="noStrike">
                <a:solidFill>
                  <a:srgbClr val="dddddd"/>
                </a:solidFill>
                <a:latin typeface="Arial Narrow"/>
              </a:rPr>
              <a:t> of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 Narrow"/>
              </a:rPr>
              <a:t>Artificial</a:t>
            </a:r>
            <a:r>
              <a:rPr b="1" lang="en-GB" sz="2400" spc="-1" strike="noStrike">
                <a:solidFill>
                  <a:srgbClr val="dddddd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dddddd"/>
                </a:solidFill>
                <a:latin typeface="Arial Narrow"/>
              </a:rPr>
              <a:t>recharge or augmentation of groundwater bodie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 Narrow"/>
              </a:rPr>
              <a:t>Injection, re-injectio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 Narrow"/>
              </a:rPr>
              <a:t>Pollution point/diffuse sources</a:t>
            </a:r>
            <a:r>
              <a:rPr b="1" lang="en-GB" sz="2800" spc="-1" strike="noStrike">
                <a:solidFill>
                  <a:srgbClr val="dddddd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027E-169E-4202-9C98-3AD50EC456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Member Stat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 Narrow"/>
              </a:rPr>
              <a:t>Controls to ensure</a:t>
            </a:r>
            <a:r>
              <a:rPr b="0" lang="en-GB" sz="3600" spc="-1" strike="noStrike">
                <a:solidFill>
                  <a:srgbClr val="dddddd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Hydromorphological </a:t>
            </a:r>
            <a:r>
              <a:rPr b="0" lang="en-GB" sz="2400" spc="-1" strike="noStrike">
                <a:solidFill>
                  <a:srgbClr val="dddddd"/>
                </a:solidFill>
                <a:latin typeface="Arial Narrow"/>
              </a:rPr>
              <a:t>conditions of the water bodies </a:t>
            </a: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meet</a:t>
            </a:r>
            <a:r>
              <a:rPr b="0" lang="en-GB" sz="2400" spc="-1" strike="noStrike">
                <a:solidFill>
                  <a:srgbClr val="dddddd"/>
                </a:solidFill>
                <a:latin typeface="Arial Narrow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Arial Narrow"/>
              </a:rPr>
              <a:t>good ecological potential</a:t>
            </a:r>
            <a:r>
              <a:rPr b="0" lang="en-GB" sz="2400" spc="-1" strike="noStrike">
                <a:solidFill>
                  <a:srgbClr val="dddddd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at least </a:t>
            </a:r>
            <a:r>
              <a:rPr b="0" lang="en-GB" sz="2400" spc="-1" strike="noStrike">
                <a:solidFill>
                  <a:srgbClr val="dddddd"/>
                </a:solidFill>
                <a:latin typeface="Arial Narrow"/>
              </a:rPr>
              <a:t>for 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artificial or heavily modified </a:t>
            </a:r>
            <a:r>
              <a:rPr b="0" lang="en-GB" sz="2400" spc="-1" strike="noStrike">
                <a:solidFill>
                  <a:srgbClr val="ff0000"/>
                </a:solidFill>
                <a:latin typeface="Arial Narrow"/>
              </a:rPr>
              <a:t>water </a:t>
            </a:r>
            <a:r>
              <a:rPr b="0" lang="en-GB" sz="2400" spc="-1" strike="noStrike">
                <a:solidFill>
                  <a:srgbClr val="dddddd"/>
                </a:solidFill>
                <a:latin typeface="Arial Narrow"/>
              </a:rPr>
              <a:t>bodies</a:t>
            </a:r>
            <a:r>
              <a:rPr b="0" lang="en-GB" sz="2800" spc="-1" strike="noStrike">
                <a:solidFill>
                  <a:srgbClr val="dddddd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 Narrow"/>
              </a:rPr>
              <a:t>Any measures to prevent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 Narrow"/>
              </a:rPr>
              <a:t>significant losses of pollutants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 Narrow"/>
              </a:rPr>
              <a:t>and/or </a:t>
            </a:r>
            <a:r>
              <a:rPr b="0" lang="en-GB" sz="2400" spc="-1" strike="noStrike">
                <a:solidFill>
                  <a:srgbClr val="ff0000"/>
                </a:solidFill>
                <a:latin typeface="Arial Narrow"/>
              </a:rPr>
              <a:t>to reduce the impact of accidental pollution incidents 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 Narrow"/>
              </a:rPr>
              <a:t>for example as a result of floods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)</a:t>
            </a:r>
            <a:r>
              <a:rPr b="0" lang="en-GB" sz="2800" spc="-1" strike="noStrike">
                <a:solidFill>
                  <a:srgbClr val="dddddd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5BDE-B3F8-4057-8C0A-190E414EBF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</a:rPr>
              <a:t>Supplementary Measur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ddddd"/>
                </a:solidFill>
                <a:latin typeface="Arial Narrow"/>
              </a:rPr>
              <a:t>Design and implement </a:t>
            </a:r>
            <a:r>
              <a:rPr b="0" lang="en-GB" sz="3200" spc="-1" strike="noStrike">
                <a:solidFill>
                  <a:srgbClr val="ff0000"/>
                </a:solidFill>
                <a:latin typeface="Arial Narrow"/>
              </a:rPr>
              <a:t>in addition to the basic measures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 if necessary o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 Narrow"/>
              </a:rPr>
              <a:t>Environmental </a:t>
            </a:r>
            <a:r>
              <a:rPr b="0" lang="en-GB" sz="3200" spc="-1" strike="noStrike">
                <a:solidFill>
                  <a:srgbClr val="dddddd"/>
                </a:solidFill>
                <a:latin typeface="Arial Narrow"/>
              </a:rPr>
              <a:t>objectives</a:t>
            </a:r>
            <a:r>
              <a:rPr b="0" lang="en-US" sz="3200" spc="-1" strike="noStrike">
                <a:solidFill>
                  <a:srgbClr val="dddddd"/>
                </a:solidFill>
                <a:latin typeface="Arial Narrow"/>
              </a:rPr>
              <a:t> achievement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ddddd"/>
                </a:solidFill>
                <a:latin typeface="Arial Narrow"/>
              </a:rPr>
              <a:t>Part </a:t>
            </a:r>
            <a:r>
              <a:rPr b="0" lang="en-US" sz="3200" spc="-1" strike="noStrike">
                <a:solidFill>
                  <a:srgbClr val="dddddd"/>
                </a:solidFill>
                <a:latin typeface="Arial Narrow"/>
              </a:rPr>
              <a:t> B Annex VI </a:t>
            </a:r>
            <a:r>
              <a:rPr b="0" lang="en-GB" sz="3200" spc="-1" strike="noStrike">
                <a:solidFill>
                  <a:srgbClr val="dddddd"/>
                </a:solidFill>
                <a:latin typeface="Arial Narrow"/>
              </a:rPr>
              <a:t>contains a non-exclusive list of such measur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95C1-CCF3-49C7-99C0-91AB4A8BA9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</a:rPr>
              <a:t>Supplementary Measur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ddddd"/>
                </a:solidFill>
                <a:latin typeface="Arial Narrow"/>
              </a:rPr>
              <a:t>Where monitoring or other data indicate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 Narrow"/>
              </a:rPr>
              <a:t>Environmental </a:t>
            </a:r>
            <a:r>
              <a:rPr b="0" lang="en-GB" sz="2800" spc="-1" strike="noStrike">
                <a:solidFill>
                  <a:srgbClr val="00cc00"/>
                </a:solidFill>
                <a:latin typeface="Arial Narrow"/>
              </a:rPr>
              <a:t>objectives</a:t>
            </a:r>
            <a:r>
              <a:rPr b="0" lang="en-GB" sz="2800" spc="-1" strike="noStrike">
                <a:solidFill>
                  <a:srgbClr val="dddddd"/>
                </a:solidFill>
                <a:latin typeface="Arial Narrow"/>
              </a:rPr>
              <a:t> are </a:t>
            </a:r>
            <a:r>
              <a:rPr b="0" lang="en-GB" sz="2800" spc="-1" strike="noStrike">
                <a:solidFill>
                  <a:srgbClr val="ff0000"/>
                </a:solidFill>
                <a:latin typeface="Arial Narrow"/>
              </a:rPr>
              <a:t>unlikely to be achieved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Causes </a:t>
            </a:r>
            <a:r>
              <a:rPr b="0" lang="en-GB" sz="2400" spc="-1" strike="noStrike">
                <a:solidFill>
                  <a:srgbClr val="dddddd"/>
                </a:solidFill>
                <a:latin typeface="Arial Narrow"/>
              </a:rPr>
              <a:t>of the possible failure are investigated</a:t>
            </a: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 Narrow"/>
              </a:rPr>
              <a:t>Relevant permits and authorisations are examined and reviewed as appropriate</a:t>
            </a:r>
            <a:r>
              <a:rPr b="1" lang="en-GB" sz="2400" spc="-1" strike="noStrike">
                <a:solidFill>
                  <a:srgbClr val="dddddd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3F32-F4E5-437B-9A35-8E56F32EF1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00"/>
                </a:solidFill>
                <a:latin typeface="Times New Roman"/>
              </a:rPr>
              <a:t>Measures Implement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 Narrow"/>
              </a:rPr>
              <a:t>Programmes of measures </a:t>
            </a:r>
            <a:r>
              <a:rPr b="0" lang="en-GB" sz="3200" spc="-1" strike="noStrike">
                <a:solidFill>
                  <a:srgbClr val="00cc00"/>
                </a:solidFill>
                <a:latin typeface="Arial Narrow"/>
              </a:rPr>
              <a:t>shall be</a:t>
            </a:r>
            <a:r>
              <a:rPr b="0" lang="en-GB" sz="32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GB" sz="3200" spc="-1" strike="noStrike">
                <a:solidFill>
                  <a:srgbClr val="00cc00"/>
                </a:solidFill>
                <a:latin typeface="Arial Narrow"/>
              </a:rPr>
              <a:t>established</a:t>
            </a:r>
            <a:r>
              <a:rPr b="0" lang="en-GB" sz="3200" spc="-1" strike="noStrike">
                <a:solidFill>
                  <a:srgbClr val="ff0000"/>
                </a:solidFill>
                <a:latin typeface="Arial Narrow"/>
              </a:rPr>
              <a:t> at the latest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 Narrow"/>
              </a:rPr>
              <a:t>nine years</a:t>
            </a:r>
            <a:r>
              <a:rPr b="0" lang="en-GB" sz="3200" spc="-1" strike="noStrike">
                <a:solidFill>
                  <a:srgbClr val="ff0000"/>
                </a:solidFill>
                <a:latin typeface="Arial Narrow"/>
              </a:rPr>
              <a:t> after the date of entry into force of this directive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 Narrow"/>
              </a:rPr>
              <a:t>And all the measures </a:t>
            </a:r>
            <a:r>
              <a:rPr b="0" lang="en-GB" sz="3200" spc="-1" strike="noStrike">
                <a:solidFill>
                  <a:srgbClr val="00cc00"/>
                </a:solidFill>
                <a:latin typeface="Arial Narrow"/>
              </a:rPr>
              <a:t>shall be made operational </a:t>
            </a:r>
            <a:r>
              <a:rPr b="0" lang="en-GB" sz="3200" spc="-1" strike="noStrike">
                <a:solidFill>
                  <a:srgbClr val="ff0000"/>
                </a:solidFill>
                <a:latin typeface="Arial Narrow"/>
              </a:rPr>
              <a:t>at the latest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 Narrow"/>
              </a:rPr>
              <a:t>twelve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 Narrow"/>
              </a:rPr>
              <a:t>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 Narrow"/>
              </a:rPr>
              <a:t>years</a:t>
            </a:r>
            <a:r>
              <a:rPr b="0" lang="en-GB" sz="3200" spc="-1" strike="noStrike">
                <a:solidFill>
                  <a:srgbClr val="ff0000"/>
                </a:solidFill>
                <a:latin typeface="Arial Narrow"/>
              </a:rPr>
              <a:t> after that dat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FDDD-44EA-4AE9-98E6-A9ED300D1D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00"/>
                </a:solidFill>
                <a:latin typeface="Times New Roman"/>
              </a:rPr>
              <a:t>Measures Implement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 Narrow"/>
              </a:rPr>
              <a:t>Programmes of measures shall be reviewed, and if necessary updated at the latest </a:t>
            </a:r>
            <a:r>
              <a:rPr b="0" lang="en-GB" sz="3200" spc="-1" strike="noStrike" u="sng">
                <a:solidFill>
                  <a:srgbClr val="00cc00"/>
                </a:solidFill>
                <a:uFillTx/>
                <a:latin typeface="Arial Narrow"/>
              </a:rPr>
              <a:t>15</a:t>
            </a:r>
            <a:r>
              <a:rPr b="1" lang="en-GB" sz="3200" spc="-1" strike="noStrike" u="sng">
                <a:solidFill>
                  <a:srgbClr val="00cc00"/>
                </a:solidFill>
                <a:uFillTx/>
                <a:latin typeface="Arial Narrow"/>
              </a:rPr>
              <a:t> </a:t>
            </a:r>
            <a:r>
              <a:rPr b="0" lang="en-GB" sz="3200" spc="-1" strike="noStrike" u="sng">
                <a:solidFill>
                  <a:srgbClr val="00cc00"/>
                </a:solidFill>
                <a:uFillTx/>
                <a:latin typeface="Arial Narrow"/>
              </a:rPr>
              <a:t>years</a:t>
            </a:r>
            <a:r>
              <a:rPr b="0" lang="en-GB" sz="3200" spc="-1" strike="noStrike">
                <a:solidFill>
                  <a:srgbClr val="00cc00"/>
                </a:solidFill>
                <a:latin typeface="Arial Narrow"/>
              </a:rPr>
              <a:t> after the date</a:t>
            </a:r>
            <a:r>
              <a:rPr b="0" lang="en-GB" sz="3200" spc="-1" strike="noStrike">
                <a:solidFill>
                  <a:srgbClr val="008000"/>
                </a:solidFill>
                <a:latin typeface="Arial Narrow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Arial Narrow"/>
              </a:rPr>
              <a:t>of entry into force of this directiv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 Narrow"/>
              </a:rPr>
              <a:t>And </a:t>
            </a:r>
            <a:r>
              <a:rPr b="0" lang="en-GB" sz="3200" spc="-1" strike="noStrike" u="sng">
                <a:solidFill>
                  <a:srgbClr val="00cc00"/>
                </a:solidFill>
                <a:uFillTx/>
                <a:latin typeface="Arial Narrow"/>
              </a:rPr>
              <a:t>every six years</a:t>
            </a:r>
            <a:r>
              <a:rPr b="0" lang="en-GB" sz="3200" spc="-1" strike="noStrike">
                <a:solidFill>
                  <a:srgbClr val="ff0000"/>
                </a:solidFill>
                <a:latin typeface="Arial Narrow"/>
              </a:rPr>
              <a:t> thereafte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 Narrow"/>
              </a:rPr>
              <a:t>Any new or revised measures established under an updated programme shall be made operational </a:t>
            </a:r>
            <a:r>
              <a:rPr b="0" lang="en-GB" sz="3200" spc="-1" strike="noStrike">
                <a:solidFill>
                  <a:srgbClr val="00cc00"/>
                </a:solidFill>
                <a:latin typeface="Arial Narrow"/>
              </a:rPr>
              <a:t>within </a:t>
            </a:r>
            <a:r>
              <a:rPr b="0" lang="en-GB" sz="3200" spc="-1" strike="noStrike" u="sng">
                <a:solidFill>
                  <a:srgbClr val="00cc00"/>
                </a:solidFill>
                <a:uFillTx/>
                <a:latin typeface="Arial Narrow"/>
              </a:rPr>
              <a:t>three years</a:t>
            </a:r>
            <a:r>
              <a:rPr b="0" lang="en-GB" sz="3200" spc="-1" strike="noStrike">
                <a:solidFill>
                  <a:srgbClr val="ff0000"/>
                </a:solidFill>
                <a:latin typeface="Arial Narrow"/>
              </a:rPr>
              <a:t> of their establishmen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C6F3-D4B2-4536-8655-D43F6C5B05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00"/>
                </a:solidFill>
                <a:latin typeface="Times New Roman"/>
              </a:rPr>
              <a:t>Measures Implement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Achieve environmental objectives at the latest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 </a:t>
            </a:r>
            <a:r>
              <a:rPr b="0" lang="en-US" sz="3200" spc="-1" strike="noStrike" u="sng">
                <a:solidFill>
                  <a:srgbClr val="00cc00"/>
                </a:solidFill>
                <a:uFillTx/>
                <a:latin typeface="Arial Narrow"/>
                <a:ea typeface="Times New Roman"/>
              </a:rPr>
              <a:t>15 years</a:t>
            </a:r>
            <a:r>
              <a:rPr b="0" lang="en-GB" sz="3200" spc="-1" strike="noStrike">
                <a:solidFill>
                  <a:srgbClr val="00cc00"/>
                </a:solidFill>
                <a:latin typeface="Arial Narrow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after the date of entry into force of this Directive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ddddd"/>
                </a:solidFill>
                <a:latin typeface="Arial Narrow"/>
              </a:rPr>
              <a:t>In implementing measures member states shall take all appropriate steps </a:t>
            </a:r>
            <a:r>
              <a:rPr b="0" lang="en-GB" sz="3200" spc="-1" strike="noStrike">
                <a:solidFill>
                  <a:srgbClr val="ff0000"/>
                </a:solidFill>
                <a:latin typeface="Arial Narrow"/>
              </a:rPr>
              <a:t>not to increase pollution of marine water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81EC-624C-4B4C-AC70-22FE09835B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iver Basin Management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mpositi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Implementati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Member States Action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EEAD-8E8F-4400-A01C-CC056B6589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Programme of Measure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iver Basin Management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egal Foundatio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dentification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f Programme of Measure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iver Basin Management Plan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Basis for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velopment of Programme of Measures &amp; River Basin Management Plan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-ordination process national/internationa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ssues on the implementation related to water legislatio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6058-DB8A-45BC-BE79-1A594B9AB5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osition of RBM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characteristic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pressures - surface water, groundwate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protected areas - identification, mapping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monitoring networks, programmes - map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environmental objectives - list, associated info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economic analysis of water use - summar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511A-A308-4A6C-9E66-BB62134663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osition of RBM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detailed programmes and management plans - registe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programme of measures - summar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public information and consultation measures - their results and the changes to the plan made as consequen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competent authorities - lis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contact points - procedure for obtaining info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CC81-D123-4B69-B0B6-CD02B8CD66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RBMPs Implement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hall be publishe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9 year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after WFD entry into for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hall be reviewed and update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15 year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after …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6 year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thereafte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45E0-EB3C-44E8-96FA-BC753779CA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Member States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 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r RBD lying entirely within their territor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ernational RBD – ensure coordinati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ingle RBMP - lying entirely within Communit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ot possible coordination – RBMP falling within their territor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DDA8-0982-4A39-9410-72DE3A476B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Member States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 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BD extending beyond EU boundaries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imes New Roman"/>
              </a:rPr>
              <a:t>Endeavour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for a single of the whole RBD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If impossible – for portion of international RBD lying within territor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BMP may be supplemented by more detailed programmes and RBMPs – sub-basin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9DCE-B325-4A21-B6AD-E29E28656BD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Member States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 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ncourage active involvement of all stakeholders (incl. public)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oduction, review, updating RBMP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ake available for comment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imetable for RBMPs productio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Interim overview of the significant water management issues identified  - at least two years before the beginning of the period to which the plans refer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Draft copies – one year before …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22C9-8880-4B68-8556-BCCFF2801A7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Member States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 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cess to background documents – on reques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 months available for comment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ame procedure – updating RBMPs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2BE5-170D-4AAF-B7AF-13B24C88574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Basis for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velopment of PoMs &amp; RBM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ddddd"/>
                </a:solidFill>
                <a:latin typeface="Arial Narrow"/>
                <a:ea typeface="Times New Roman"/>
              </a:rPr>
              <a:t>Different conditions in the stat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ddddd"/>
                </a:solidFill>
                <a:latin typeface="Arial Narrow"/>
                <a:ea typeface="Times New Roman"/>
              </a:rPr>
              <a:t>Three different groups of the states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imes New Roman"/>
              </a:rPr>
              <a:t>States of the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dddddd"/>
                </a:solidFill>
                <a:latin typeface="Times New Roman"/>
              </a:rPr>
              <a:t>first wave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imes New Roman"/>
              </a:rPr>
              <a:t>States of member state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dddddd"/>
                </a:solidFill>
                <a:latin typeface="Times New Roman"/>
              </a:rPr>
              <a:t>second wave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Times New Roman"/>
              </a:rPr>
              <a:t>Characteristics of the river basin distric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Times New Roman"/>
              </a:rPr>
              <a:t>Review of the environmental impact of human activit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Times New Roman"/>
              </a:rPr>
              <a:t>And economic analysis of water us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8919-8066-4EDD-843C-C422ECF2CB7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Basis for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velopment of PoMs &amp; RBM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nvironmental objectives – harmonized – intercalibration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Measures –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3"/>
              </a:rPr>
              <a:t>Annex VI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(Part A) – significant differenc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pplied by Member States alread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Different status in the States in accession proces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In comparison with Member State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Between first and second wav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7D12-1BBD-4B82-87CF-2B0EACEC5C3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o-ordination Process National/Internationa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tiona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ll stakeholder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 Narrow"/>
                <a:ea typeface="Times New Roman"/>
              </a:rPr>
              <a:t>All sectors – water management, industry, agriculture…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 Narrow"/>
                <a:ea typeface="Times New Roman"/>
              </a:rPr>
              <a:t>State administration, local/regional governments, professional institutes, NGOs, public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Internationa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Bilaterall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Transboundary Commissions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Competent Authorities – bilateral specific agreements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B4AD-1CC9-409A-A36E-62A293B0A69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Legal Found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l text of WFD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imes New Roman"/>
              </a:rPr>
              <a:t>Preambl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imes New Roman"/>
              </a:rPr>
              <a:t>Article 4 Environmental objectives (Annex II, Annex V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dddddd"/>
                </a:solidFill>
                <a:latin typeface="Times New Roman"/>
              </a:rPr>
              <a:t>Article 11 - Programme of Measures (Annex VI 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1ADE-C6C6-45C3-A0CE-CA083D1C1F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o-ordination Process National/Internationa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ultilaterally under umbrella of International Commissions of large river basins (Danube, Rhine, Elbe….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ub-basin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e whole River Basin District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echnical issu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apping – GIS based on EU system(?) 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  <a:ea typeface="Times New Roman"/>
              </a:rPr>
              <a:t>International – single map for entire River Basin Distric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  <a:ea typeface="Times New Roman"/>
              </a:rPr>
              <a:t>National – compatible with international (?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4183-879A-4102-9703-90F58304B5A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gal Aspects of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Ms &amp; RBMPs Implement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ranspositi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3"/>
              </a:rPr>
              <a:t>first phase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WDs in force before October 20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5"/>
              </a:rPr>
              <a:t>second phase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transposition of WFD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  <a:ea typeface="Times New Roman"/>
              </a:rPr>
              <a:t>Iteration process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No experience with implementatio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Most of consequences cannot be foresee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In some cases not clear requirements of WFD before end of 2003 (Common Strategy, EU Working Groups)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49CF-856C-4654-9393-FD013F6F795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gal Aspects of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Ms &amp; RBMPs Implement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Implementati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Institutional Framework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  <a:ea typeface="Times New Roman"/>
              </a:rPr>
              <a:t>National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teering Committe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Competent Authority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Working Groups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Connection with EU Working Groups (Common Strategy)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C6A7-1ACF-4C03-9861-B8480DDA220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Enforcemen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tiona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  <a:ea typeface="Times New Roman"/>
              </a:rPr>
              <a:t>National Competent Authority, Environmental Inspectorates, Environmental Authorities, Local/Regional Government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Internationa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  <a:ea typeface="Times New Roman"/>
              </a:rPr>
              <a:t>International Competent Authority, European Commission (DG XI) – reporting, International Court (EU Member States)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gal Aspects of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Ms &amp; RBMPs Implement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2319-9256-40A7-92C3-3F3414CA3B4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Legal Found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imes New Roman"/>
              </a:rPr>
              <a:t>Article 13 - River basin Management Plans (Annex VII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imes New Roman"/>
              </a:rPr>
              <a:t>Article 14 - Public information and consultatio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D199-AE75-4564-9516-16CE914D51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dentification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f Programme of Measur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rogramme of Measures tool for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chievement of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nvironmental objective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Gaps between present status and environmental objectives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sic”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measures</a:t>
            </a:r>
            <a:r>
              <a:rPr b="0" lang="en-US" sz="2400" spc="-1" strike="noStrike">
                <a:solidFill>
                  <a:srgbClr val="00cc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States obligations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pplementary”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measure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Measures implementati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9896-6A8F-4283-A52A-D129BA999A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</a:rPr>
              <a:t>Basic measur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COMBINED APPROACH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imes New Roman"/>
              </a:rPr>
              <a:t>for point and diffuse source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Times New Roman"/>
              </a:rPr>
              <a:t>the emission controls based on Best Available Techniques; o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Times New Roman"/>
              </a:rPr>
              <a:t>the relevant emission limit values; o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Times New Roman"/>
              </a:rPr>
              <a:t>in the case of diffuse impacts the controls including, as appropriate, Best Environmental Practic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4C64-5D6E-4449-A221-0A23A02730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</a:rPr>
              <a:t>Basic measur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imes New Roman"/>
              </a:rPr>
              <a:t>Where a quality objective or quality standard requires stricter conditions then more stringent emission controls shall be set accordingl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06B1-9891-4AF0-8CC2-5BC6933663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Member Stat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Establishment of</a:t>
            </a:r>
            <a:r>
              <a:rPr b="0" lang="en-GB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cc00"/>
                </a:solidFill>
                <a:latin typeface="Times New Roman"/>
              </a:rPr>
              <a:t>Environmental quality standards</a:t>
            </a:r>
            <a:r>
              <a:rPr b="0" lang="en-GB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r </a:t>
            </a:r>
            <a:r>
              <a:rPr b="0" lang="en-GB" sz="3200" spc="-1" strike="noStrike">
                <a:solidFill>
                  <a:srgbClr val="dddddd"/>
                </a:solidFill>
                <a:latin typeface="Times New Roman"/>
              </a:rPr>
              <a:t>all surface water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ffected by discharges containing matters included </a:t>
            </a:r>
            <a:r>
              <a:rPr b="0" lang="en-GB" sz="2400" spc="-1" strike="noStrike">
                <a:solidFill>
                  <a:srgbClr val="dddddd"/>
                </a:solidFill>
                <a:latin typeface="Times New Roman"/>
              </a:rPr>
              <a:t>in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the first lis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f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priority substances</a:t>
            </a:r>
            <a:r>
              <a:rPr b="0" lang="en-GB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imes New Roman"/>
              </a:rPr>
              <a:t>Controls on the principal sources of such discharges, based </a:t>
            </a:r>
            <a:r>
              <a:rPr b="0" i="1" lang="en-GB" sz="2800" spc="-1" strike="noStrike">
                <a:solidFill>
                  <a:srgbClr val="dddddd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dddddd"/>
                </a:solidFill>
                <a:latin typeface="Times New Roman"/>
              </a:rPr>
              <a:t> on consideration of all technical reduction option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5C4C-1AA5-47C9-8755-456353AA69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Member Stat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dddddd"/>
                </a:solidFill>
                <a:uFillTx/>
                <a:latin typeface="Arial Narrow"/>
              </a:rPr>
              <a:t>WATERS ABSTRACTED for DRINKING WATE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 Narrow"/>
              </a:rPr>
              <a:t>Identify, within each river basin district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ddddd"/>
                </a:solidFill>
                <a:latin typeface="Arial Narrow"/>
              </a:rPr>
              <a:t>All water bodies </a:t>
            </a: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(present/intended) – </a:t>
            </a:r>
            <a:r>
              <a:rPr b="1" lang="en-GB" sz="2400" spc="-1" strike="noStrike">
                <a:solidFill>
                  <a:srgbClr val="dddddd"/>
                </a:solidFill>
                <a:latin typeface="Arial Narrow"/>
              </a:rPr>
              <a:t>water </a:t>
            </a: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abstraction </a:t>
            </a:r>
            <a:r>
              <a:rPr b="1" lang="en-GB" sz="2400" spc="-1" strike="noStrike">
                <a:solidFill>
                  <a:srgbClr val="dddddd"/>
                </a:solidFill>
                <a:latin typeface="Arial Narrow"/>
              </a:rPr>
              <a:t>for human consumption </a:t>
            </a: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– over</a:t>
            </a:r>
            <a:r>
              <a:rPr b="1" lang="en-GB" sz="2400" spc="-1" strike="noStrike">
                <a:solidFill>
                  <a:srgbClr val="dddddd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 Narrow"/>
              </a:rPr>
              <a:t>10m³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/</a:t>
            </a:r>
            <a:r>
              <a:rPr b="1" lang="en-GB" sz="2400" spc="-1" strike="noStrike">
                <a:solidFill>
                  <a:srgbClr val="ff0000"/>
                </a:solidFill>
                <a:latin typeface="Arial Narrow"/>
              </a:rPr>
              <a:t>day as an average or serving more than fifty persons,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ddddd"/>
                </a:solidFill>
                <a:latin typeface="Arial Narrow"/>
              </a:rPr>
              <a:t>Monitor</a:t>
            </a: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dddddd"/>
                </a:solidFill>
                <a:latin typeface="Arial Narrow"/>
              </a:rPr>
              <a:t>those </a:t>
            </a: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water </a:t>
            </a:r>
            <a:r>
              <a:rPr b="1" lang="en-GB" sz="2400" spc="-1" strike="noStrike">
                <a:solidFill>
                  <a:srgbClr val="dddddd"/>
                </a:solidFill>
                <a:latin typeface="Arial Narrow"/>
              </a:rPr>
              <a:t>bodies </a:t>
            </a: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providing</a:t>
            </a:r>
            <a:r>
              <a:rPr b="1" lang="en-GB" sz="2400" spc="-1" strike="noStrike">
                <a:solidFill>
                  <a:srgbClr val="dddddd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 Narrow"/>
              </a:rPr>
              <a:t>more than 100m</a:t>
            </a:r>
            <a:r>
              <a:rPr b="1" lang="en-GB" sz="2400" spc="-1" strike="noStrike" baseline="30000">
                <a:solidFill>
                  <a:srgbClr val="ff0000"/>
                </a:solidFill>
                <a:latin typeface="Arial Narrow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/</a:t>
            </a:r>
            <a:r>
              <a:rPr b="1" lang="en-GB" sz="2400" spc="-1" strike="noStrike">
                <a:solidFill>
                  <a:srgbClr val="ff0000"/>
                </a:solidFill>
                <a:latin typeface="Arial Narrow"/>
              </a:rPr>
              <a:t>day as an averag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36C4-459A-4530-85AF-CBC485157C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9T15:54:52Z</dcterms:created>
  <dc:creator>MŽPSR</dc:creator>
  <dc:description/>
  <dc:language>en-US</dc:language>
  <cp:lastModifiedBy>UNECE</cp:lastModifiedBy>
  <dcterms:modified xsi:type="dcterms:W3CDTF">2002-02-18T15:22:17Z</dcterms:modified>
  <cp:revision>51</cp:revision>
  <dc:subject/>
  <dc:title>Smernice EÚ v oblasti vôd  a vodné právo v SR</dc:title>
</cp:coreProperties>
</file>