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</p:sldMasterIdLst>
  <p:sldIdLst>
    <p:sldId id="256" r:id="rId22"/>
    <p:sldId id="257" r:id="rId23"/>
    <p:sldId id="258" r:id="rId24"/>
    <p:sldId id="259" r:id="rId25"/>
    <p:sldId id="260" r:id="rId26"/>
    <p:sldId id="261" r:id="rId27"/>
    <p:sldId id="262" r:id="rId28"/>
    <p:sldId id="263" r:id="rId29"/>
    <p:sldId id="264" r:id="rId30"/>
    <p:sldId id="265" r:id="rId31"/>
    <p:sldId id="266" r:id="rId32"/>
    <p:sldId id="267" r:id="rId33"/>
    <p:sldId id="268" r:id="rId34"/>
    <p:sldId id="269" r:id="rId35"/>
    <p:sldId id="270" r:id="rId36"/>
    <p:sldId id="271" r:id="rId37"/>
    <p:sldId id="272" r:id="rId38"/>
    <p:sldId id="273" r:id="rId39"/>
    <p:sldId id="274" r:id="rId40"/>
  </p:sldIdLst>
  <p:sldSz cx="10161588" cy="6773863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" Target="slides/slide1.xml"/><Relationship Id="rId23" Type="http://schemas.openxmlformats.org/officeDocument/2006/relationships/slide" Target="slides/slide2.xml"/><Relationship Id="rId24" Type="http://schemas.openxmlformats.org/officeDocument/2006/relationships/slide" Target="slides/slide3.xml"/><Relationship Id="rId25" Type="http://schemas.openxmlformats.org/officeDocument/2006/relationships/slide" Target="slides/slide4.xml"/><Relationship Id="rId26" Type="http://schemas.openxmlformats.org/officeDocument/2006/relationships/slide" Target="slides/slide5.xml"/><Relationship Id="rId27" Type="http://schemas.openxmlformats.org/officeDocument/2006/relationships/slide" Target="slides/slide6.xml"/><Relationship Id="rId28" Type="http://schemas.openxmlformats.org/officeDocument/2006/relationships/slide" Target="slides/slide7.xml"/><Relationship Id="rId29" Type="http://schemas.openxmlformats.org/officeDocument/2006/relationships/slide" Target="slides/slide8.xml"/><Relationship Id="rId30" Type="http://schemas.openxmlformats.org/officeDocument/2006/relationships/slide" Target="slides/slide9.xml"/><Relationship Id="rId31" Type="http://schemas.openxmlformats.org/officeDocument/2006/relationships/slide" Target="slides/slide10.xml"/><Relationship Id="rId32" Type="http://schemas.openxmlformats.org/officeDocument/2006/relationships/slide" Target="slides/slide11.xml"/><Relationship Id="rId33" Type="http://schemas.openxmlformats.org/officeDocument/2006/relationships/slide" Target="slides/slide12.xml"/><Relationship Id="rId34" Type="http://schemas.openxmlformats.org/officeDocument/2006/relationships/slide" Target="slides/slide13.xml"/><Relationship Id="rId35" Type="http://schemas.openxmlformats.org/officeDocument/2006/relationships/slide" Target="slides/slide14.xml"/><Relationship Id="rId36" Type="http://schemas.openxmlformats.org/officeDocument/2006/relationships/slide" Target="slides/slide15.xml"/><Relationship Id="rId37" Type="http://schemas.openxmlformats.org/officeDocument/2006/relationships/slide" Target="slides/slide16.xml"/><Relationship Id="rId38" Type="http://schemas.openxmlformats.org/officeDocument/2006/relationships/slide" Target="slides/slide17.xml"/><Relationship Id="rId39" Type="http://schemas.openxmlformats.org/officeDocument/2006/relationships/slide" Target="slides/slide18.xml"/><Relationship Id="rId40" Type="http://schemas.openxmlformats.org/officeDocument/2006/relationships/slide" Target="slides/slide19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7960" y="270000"/>
            <a:ext cx="9145080" cy="113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7960" y="1584720"/>
            <a:ext cx="9145080" cy="18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7960" y="3637080"/>
            <a:ext cx="9145080" cy="18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7960" y="270000"/>
            <a:ext cx="9145080" cy="113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7960" y="1584720"/>
            <a:ext cx="4462560" cy="39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5194080" y="1584720"/>
            <a:ext cx="4462560" cy="39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07960" y="270000"/>
            <a:ext cx="9145080" cy="113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507960" y="270000"/>
            <a:ext cx="9145080" cy="524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7960" y="270000"/>
            <a:ext cx="9145080" cy="113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7960" y="1584720"/>
            <a:ext cx="4462560" cy="18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5194080" y="1584720"/>
            <a:ext cx="4462560" cy="39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507960" y="3637080"/>
            <a:ext cx="4462560" cy="18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7960" y="270000"/>
            <a:ext cx="9145080" cy="113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7960" y="1584720"/>
            <a:ext cx="4462560" cy="39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5194080" y="1584720"/>
            <a:ext cx="4462560" cy="18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194080" y="3637080"/>
            <a:ext cx="4462560" cy="18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7960" y="270000"/>
            <a:ext cx="9145080" cy="113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7960" y="1584720"/>
            <a:ext cx="4462560" cy="18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5194080" y="1584720"/>
            <a:ext cx="4462560" cy="18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507960" y="3637080"/>
            <a:ext cx="9145080" cy="18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7960" y="270000"/>
            <a:ext cx="9145080" cy="113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7960" y="1584720"/>
            <a:ext cx="9145080" cy="18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507960" y="3637080"/>
            <a:ext cx="9145080" cy="18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07960" y="270000"/>
            <a:ext cx="9145080" cy="113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07960" y="1584720"/>
            <a:ext cx="4462560" cy="18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5194080" y="1584720"/>
            <a:ext cx="4462560" cy="18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507960" y="3637080"/>
            <a:ext cx="4462560" cy="18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5194080" y="3637080"/>
            <a:ext cx="4462560" cy="18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07960" y="270000"/>
            <a:ext cx="9145080" cy="113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07960" y="1584720"/>
            <a:ext cx="2944440" cy="18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600000" y="1584720"/>
            <a:ext cx="2944440" cy="18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692040" y="1584720"/>
            <a:ext cx="2944440" cy="18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507960" y="3637080"/>
            <a:ext cx="2944440" cy="18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600000" y="3637080"/>
            <a:ext cx="2944440" cy="18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6692040" y="3637080"/>
            <a:ext cx="2944440" cy="18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7960" y="270000"/>
            <a:ext cx="9145080" cy="113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7960" y="1584720"/>
            <a:ext cx="4462560" cy="18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94080" y="1584720"/>
            <a:ext cx="4462560" cy="18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7960" y="3637080"/>
            <a:ext cx="4462560" cy="18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194080" y="3637080"/>
            <a:ext cx="4462560" cy="18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07960" y="270000"/>
            <a:ext cx="9145080" cy="113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ubTitle"/>
          </p:nvPr>
        </p:nvSpPr>
        <p:spPr>
          <a:xfrm>
            <a:off x="507960" y="1584720"/>
            <a:ext cx="9145080" cy="39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7960" y="270000"/>
            <a:ext cx="9145080" cy="113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7960" y="1584720"/>
            <a:ext cx="9145080" cy="39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07960" y="270000"/>
            <a:ext cx="9145080" cy="113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507960" y="1584720"/>
            <a:ext cx="4462560" cy="39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5194080" y="1584720"/>
            <a:ext cx="4462560" cy="39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507960" y="270000"/>
            <a:ext cx="9145080" cy="113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ubTitle"/>
          </p:nvPr>
        </p:nvSpPr>
        <p:spPr>
          <a:xfrm>
            <a:off x="507960" y="270000"/>
            <a:ext cx="9145080" cy="524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7960" y="270000"/>
            <a:ext cx="9145080" cy="113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7960" y="1584720"/>
            <a:ext cx="4462560" cy="18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5194080" y="1584720"/>
            <a:ext cx="4462560" cy="39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7960" y="3637080"/>
            <a:ext cx="4462560" cy="18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07960" y="270000"/>
            <a:ext cx="9145080" cy="113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07960" y="1584720"/>
            <a:ext cx="4462560" cy="39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194080" y="1584720"/>
            <a:ext cx="4462560" cy="18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5194080" y="3637080"/>
            <a:ext cx="4462560" cy="18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7960" y="270000"/>
            <a:ext cx="9145080" cy="113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507960" y="1584720"/>
            <a:ext cx="4462560" cy="18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5194080" y="1584720"/>
            <a:ext cx="4462560" cy="18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507960" y="3637080"/>
            <a:ext cx="9145080" cy="18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07960" y="270000"/>
            <a:ext cx="9145080" cy="113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507960" y="1584720"/>
            <a:ext cx="9145080" cy="18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507960" y="3637080"/>
            <a:ext cx="9145080" cy="18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07960" y="270000"/>
            <a:ext cx="9145080" cy="113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507960" y="1584720"/>
            <a:ext cx="4462560" cy="18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5194080" y="1584720"/>
            <a:ext cx="4462560" cy="18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507960" y="3637080"/>
            <a:ext cx="4462560" cy="18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5194080" y="3637080"/>
            <a:ext cx="4462560" cy="18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7960" y="270000"/>
            <a:ext cx="9145080" cy="113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7960" y="1584720"/>
            <a:ext cx="2944440" cy="18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600000" y="1584720"/>
            <a:ext cx="2944440" cy="18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692040" y="1584720"/>
            <a:ext cx="2944440" cy="18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7960" y="3637080"/>
            <a:ext cx="2944440" cy="18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600000" y="3637080"/>
            <a:ext cx="2944440" cy="18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692040" y="3637080"/>
            <a:ext cx="2944440" cy="18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507960" y="270000"/>
            <a:ext cx="9145080" cy="113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507960" y="1584720"/>
            <a:ext cx="2944440" cy="18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3600000" y="1584720"/>
            <a:ext cx="2944440" cy="18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6692040" y="1584720"/>
            <a:ext cx="2944440" cy="18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507960" y="3637080"/>
            <a:ext cx="2944440" cy="18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6"/>
          <p:cNvSpPr>
            <a:spLocks noGrp="1"/>
          </p:cNvSpPr>
          <p:nvPr>
            <p:ph/>
          </p:nvPr>
        </p:nvSpPr>
        <p:spPr>
          <a:xfrm>
            <a:off x="3600000" y="3637080"/>
            <a:ext cx="2944440" cy="18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7"/>
          <p:cNvSpPr>
            <a:spLocks noGrp="1"/>
          </p:cNvSpPr>
          <p:nvPr>
            <p:ph/>
          </p:nvPr>
        </p:nvSpPr>
        <p:spPr>
          <a:xfrm>
            <a:off x="6692040" y="3637080"/>
            <a:ext cx="2944440" cy="18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507960" y="270000"/>
            <a:ext cx="9145080" cy="113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subTitle"/>
          </p:nvPr>
        </p:nvSpPr>
        <p:spPr>
          <a:xfrm>
            <a:off x="507960" y="1584720"/>
            <a:ext cx="9145080" cy="39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507960" y="270000"/>
            <a:ext cx="9145080" cy="113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507960" y="1584720"/>
            <a:ext cx="9145080" cy="39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07960" y="270000"/>
            <a:ext cx="9145080" cy="113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507960" y="1584720"/>
            <a:ext cx="4462560" cy="39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5194080" y="1584720"/>
            <a:ext cx="4462560" cy="39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507960" y="270000"/>
            <a:ext cx="9145080" cy="113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ubTitle"/>
          </p:nvPr>
        </p:nvSpPr>
        <p:spPr>
          <a:xfrm>
            <a:off x="507960" y="270000"/>
            <a:ext cx="9145080" cy="524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7960" y="270000"/>
            <a:ext cx="9145080" cy="113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07960" y="1584720"/>
            <a:ext cx="4462560" cy="18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194080" y="1584720"/>
            <a:ext cx="4462560" cy="39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507960" y="3637080"/>
            <a:ext cx="4462560" cy="18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07960" y="270000"/>
            <a:ext cx="9145080" cy="113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507960" y="1584720"/>
            <a:ext cx="4462560" cy="39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5194080" y="1584720"/>
            <a:ext cx="4462560" cy="18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5194080" y="3637080"/>
            <a:ext cx="4462560" cy="18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07960" y="270000"/>
            <a:ext cx="9145080" cy="113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507960" y="1584720"/>
            <a:ext cx="4462560" cy="18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5194080" y="1584720"/>
            <a:ext cx="4462560" cy="18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507960" y="3637080"/>
            <a:ext cx="9145080" cy="18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7960" y="270000"/>
            <a:ext cx="9145080" cy="113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07960" y="1584720"/>
            <a:ext cx="9145080" cy="18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507960" y="3637080"/>
            <a:ext cx="9145080" cy="18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507960" y="270000"/>
            <a:ext cx="9145080" cy="113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507960" y="1584720"/>
            <a:ext cx="4462560" cy="18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5194080" y="1584720"/>
            <a:ext cx="4462560" cy="18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507960" y="3637080"/>
            <a:ext cx="4462560" cy="18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5194080" y="3637080"/>
            <a:ext cx="4462560" cy="18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7960" y="270000"/>
            <a:ext cx="9145080" cy="113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7960" y="1584720"/>
            <a:ext cx="2944440" cy="18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3600000" y="1584720"/>
            <a:ext cx="2944440" cy="18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692040" y="1584720"/>
            <a:ext cx="2944440" cy="18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507960" y="3637080"/>
            <a:ext cx="2944440" cy="18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6"/>
          <p:cNvSpPr>
            <a:spLocks noGrp="1"/>
          </p:cNvSpPr>
          <p:nvPr>
            <p:ph/>
          </p:nvPr>
        </p:nvSpPr>
        <p:spPr>
          <a:xfrm>
            <a:off x="3600000" y="3637080"/>
            <a:ext cx="2944440" cy="18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7"/>
          <p:cNvSpPr>
            <a:spLocks noGrp="1"/>
          </p:cNvSpPr>
          <p:nvPr>
            <p:ph/>
          </p:nvPr>
        </p:nvSpPr>
        <p:spPr>
          <a:xfrm>
            <a:off x="6692040" y="3637080"/>
            <a:ext cx="2944440" cy="18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7960" y="270000"/>
            <a:ext cx="9145080" cy="113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subTitle"/>
          </p:nvPr>
        </p:nvSpPr>
        <p:spPr>
          <a:xfrm>
            <a:off x="507960" y="1584720"/>
            <a:ext cx="9145080" cy="39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7960" y="270000"/>
            <a:ext cx="9145080" cy="113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7960" y="1584720"/>
            <a:ext cx="9145080" cy="39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07960" y="270000"/>
            <a:ext cx="9145080" cy="113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07960" y="1584720"/>
            <a:ext cx="4462560" cy="39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5194080" y="1584720"/>
            <a:ext cx="4462560" cy="39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7960" y="270000"/>
            <a:ext cx="9145080" cy="113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ubTitle"/>
          </p:nvPr>
        </p:nvSpPr>
        <p:spPr>
          <a:xfrm>
            <a:off x="507960" y="270000"/>
            <a:ext cx="9145080" cy="524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507960" y="270000"/>
            <a:ext cx="9145080" cy="113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507960" y="1584720"/>
            <a:ext cx="4462560" cy="18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5194080" y="1584720"/>
            <a:ext cx="4462560" cy="39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507960" y="3637080"/>
            <a:ext cx="4462560" cy="18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07960" y="270000"/>
            <a:ext cx="9145080" cy="113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507960" y="1584720"/>
            <a:ext cx="9145080" cy="39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07960" y="270000"/>
            <a:ext cx="9145080" cy="113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507960" y="1584720"/>
            <a:ext cx="4462560" cy="39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5194080" y="1584720"/>
            <a:ext cx="4462560" cy="18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5194080" y="3637080"/>
            <a:ext cx="4462560" cy="18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507960" y="270000"/>
            <a:ext cx="9145080" cy="113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507960" y="1584720"/>
            <a:ext cx="4462560" cy="18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5194080" y="1584720"/>
            <a:ext cx="4462560" cy="18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507960" y="3637080"/>
            <a:ext cx="9145080" cy="18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507960" y="270000"/>
            <a:ext cx="9145080" cy="113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507960" y="1584720"/>
            <a:ext cx="9145080" cy="18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507960" y="3637080"/>
            <a:ext cx="9145080" cy="18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7960" y="270000"/>
            <a:ext cx="9145080" cy="113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7960" y="1584720"/>
            <a:ext cx="4462560" cy="18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5194080" y="1584720"/>
            <a:ext cx="4462560" cy="18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07960" y="3637080"/>
            <a:ext cx="4462560" cy="18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5194080" y="3637080"/>
            <a:ext cx="4462560" cy="18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7960" y="270000"/>
            <a:ext cx="9145080" cy="113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7960" y="1584720"/>
            <a:ext cx="2944440" cy="18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3600000" y="1584720"/>
            <a:ext cx="2944440" cy="18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6692040" y="1584720"/>
            <a:ext cx="2944440" cy="18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507960" y="3637080"/>
            <a:ext cx="2944440" cy="18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6"/>
          <p:cNvSpPr>
            <a:spLocks noGrp="1"/>
          </p:cNvSpPr>
          <p:nvPr>
            <p:ph/>
          </p:nvPr>
        </p:nvSpPr>
        <p:spPr>
          <a:xfrm>
            <a:off x="3600000" y="3637080"/>
            <a:ext cx="2944440" cy="18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7"/>
          <p:cNvSpPr>
            <a:spLocks noGrp="1"/>
          </p:cNvSpPr>
          <p:nvPr>
            <p:ph/>
          </p:nvPr>
        </p:nvSpPr>
        <p:spPr>
          <a:xfrm>
            <a:off x="6692040" y="3637080"/>
            <a:ext cx="2944440" cy="18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07960" y="270000"/>
            <a:ext cx="9145080" cy="113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subTitle"/>
          </p:nvPr>
        </p:nvSpPr>
        <p:spPr>
          <a:xfrm>
            <a:off x="507960" y="1584720"/>
            <a:ext cx="9145080" cy="39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07960" y="270000"/>
            <a:ext cx="9145080" cy="113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07960" y="1584720"/>
            <a:ext cx="9145080" cy="39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507960" y="270000"/>
            <a:ext cx="9145080" cy="113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507960" y="1584720"/>
            <a:ext cx="4462560" cy="39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5194080" y="1584720"/>
            <a:ext cx="4462560" cy="39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07960" y="270000"/>
            <a:ext cx="9145080" cy="113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07960" y="270000"/>
            <a:ext cx="9145080" cy="113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07960" y="1584720"/>
            <a:ext cx="9145080" cy="39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ubTitle"/>
          </p:nvPr>
        </p:nvSpPr>
        <p:spPr>
          <a:xfrm>
            <a:off x="507960" y="270000"/>
            <a:ext cx="9145080" cy="524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507960" y="270000"/>
            <a:ext cx="9145080" cy="113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507960" y="1584720"/>
            <a:ext cx="4462560" cy="18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5194080" y="1584720"/>
            <a:ext cx="4462560" cy="39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507960" y="3637080"/>
            <a:ext cx="4462560" cy="18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507960" y="270000"/>
            <a:ext cx="9145080" cy="113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507960" y="1584720"/>
            <a:ext cx="4462560" cy="39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5194080" y="1584720"/>
            <a:ext cx="4462560" cy="18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5194080" y="3637080"/>
            <a:ext cx="4462560" cy="18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07960" y="270000"/>
            <a:ext cx="9145080" cy="113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507960" y="1584720"/>
            <a:ext cx="4462560" cy="18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5194080" y="1584720"/>
            <a:ext cx="4462560" cy="18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507960" y="3637080"/>
            <a:ext cx="9145080" cy="18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7960" y="270000"/>
            <a:ext cx="9145080" cy="113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507960" y="1584720"/>
            <a:ext cx="9145080" cy="18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507960" y="3637080"/>
            <a:ext cx="9145080" cy="18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507960" y="270000"/>
            <a:ext cx="9145080" cy="113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507960" y="1584720"/>
            <a:ext cx="4462560" cy="18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5194080" y="1584720"/>
            <a:ext cx="4462560" cy="18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507960" y="3637080"/>
            <a:ext cx="4462560" cy="18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5194080" y="3637080"/>
            <a:ext cx="4462560" cy="18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7960" y="270000"/>
            <a:ext cx="9145080" cy="113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7960" y="1584720"/>
            <a:ext cx="2944440" cy="18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3600000" y="1584720"/>
            <a:ext cx="2944440" cy="18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6692040" y="1584720"/>
            <a:ext cx="2944440" cy="18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507960" y="3637080"/>
            <a:ext cx="2944440" cy="18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6"/>
          <p:cNvSpPr>
            <a:spLocks noGrp="1"/>
          </p:cNvSpPr>
          <p:nvPr>
            <p:ph/>
          </p:nvPr>
        </p:nvSpPr>
        <p:spPr>
          <a:xfrm>
            <a:off x="3600000" y="3637080"/>
            <a:ext cx="2944440" cy="18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7"/>
          <p:cNvSpPr>
            <a:spLocks noGrp="1"/>
          </p:cNvSpPr>
          <p:nvPr>
            <p:ph/>
          </p:nvPr>
        </p:nvSpPr>
        <p:spPr>
          <a:xfrm>
            <a:off x="6692040" y="3637080"/>
            <a:ext cx="2944440" cy="18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7960" y="270000"/>
            <a:ext cx="9145080" cy="113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subTitle"/>
          </p:nvPr>
        </p:nvSpPr>
        <p:spPr>
          <a:xfrm>
            <a:off x="507960" y="1584720"/>
            <a:ext cx="9145080" cy="39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507960" y="270000"/>
            <a:ext cx="9145080" cy="113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507960" y="1584720"/>
            <a:ext cx="9145080" cy="39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07960" y="270000"/>
            <a:ext cx="9145080" cy="113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07960" y="1584720"/>
            <a:ext cx="4462560" cy="39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194080" y="1584720"/>
            <a:ext cx="4462560" cy="39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7960" y="270000"/>
            <a:ext cx="9145080" cy="113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7960" y="1584720"/>
            <a:ext cx="4462560" cy="39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5194080" y="1584720"/>
            <a:ext cx="4462560" cy="39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07960" y="270000"/>
            <a:ext cx="9145080" cy="113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ubTitle"/>
          </p:nvPr>
        </p:nvSpPr>
        <p:spPr>
          <a:xfrm>
            <a:off x="507960" y="270000"/>
            <a:ext cx="9145080" cy="524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7960" y="270000"/>
            <a:ext cx="9145080" cy="113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7960" y="1584720"/>
            <a:ext cx="4462560" cy="18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194080" y="1584720"/>
            <a:ext cx="4462560" cy="39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507960" y="3637080"/>
            <a:ext cx="4462560" cy="18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07960" y="270000"/>
            <a:ext cx="9145080" cy="113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507960" y="1584720"/>
            <a:ext cx="4462560" cy="39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5194080" y="1584720"/>
            <a:ext cx="4462560" cy="18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5194080" y="3637080"/>
            <a:ext cx="4462560" cy="18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7960" y="270000"/>
            <a:ext cx="9145080" cy="113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7960" y="1584720"/>
            <a:ext cx="4462560" cy="18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5194080" y="1584720"/>
            <a:ext cx="4462560" cy="18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507960" y="3637080"/>
            <a:ext cx="9145080" cy="18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507960" y="270000"/>
            <a:ext cx="9145080" cy="113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507960" y="1584720"/>
            <a:ext cx="9145080" cy="18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507960" y="3637080"/>
            <a:ext cx="9145080" cy="18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07960" y="270000"/>
            <a:ext cx="9145080" cy="113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507960" y="1584720"/>
            <a:ext cx="4462560" cy="18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5194080" y="1584720"/>
            <a:ext cx="4462560" cy="18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507960" y="3637080"/>
            <a:ext cx="4462560" cy="18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5194080" y="3637080"/>
            <a:ext cx="4462560" cy="18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507960" y="270000"/>
            <a:ext cx="9145080" cy="113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507960" y="1584720"/>
            <a:ext cx="2944440" cy="18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3600000" y="1584720"/>
            <a:ext cx="2944440" cy="18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6692040" y="1584720"/>
            <a:ext cx="2944440" cy="18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507960" y="3637080"/>
            <a:ext cx="2944440" cy="18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6"/>
          <p:cNvSpPr>
            <a:spLocks noGrp="1"/>
          </p:cNvSpPr>
          <p:nvPr>
            <p:ph/>
          </p:nvPr>
        </p:nvSpPr>
        <p:spPr>
          <a:xfrm>
            <a:off x="3600000" y="3637080"/>
            <a:ext cx="2944440" cy="18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7"/>
          <p:cNvSpPr>
            <a:spLocks noGrp="1"/>
          </p:cNvSpPr>
          <p:nvPr>
            <p:ph/>
          </p:nvPr>
        </p:nvSpPr>
        <p:spPr>
          <a:xfrm>
            <a:off x="6692040" y="3637080"/>
            <a:ext cx="2944440" cy="18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7960" y="270000"/>
            <a:ext cx="9145080" cy="113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507960" y="270000"/>
            <a:ext cx="9145080" cy="113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subTitle"/>
          </p:nvPr>
        </p:nvSpPr>
        <p:spPr>
          <a:xfrm>
            <a:off x="507960" y="1584720"/>
            <a:ext cx="9145080" cy="39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507960" y="270000"/>
            <a:ext cx="9145080" cy="113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507960" y="1584720"/>
            <a:ext cx="9145080" cy="39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507960" y="270000"/>
            <a:ext cx="9145080" cy="113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507960" y="1584720"/>
            <a:ext cx="4462560" cy="39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5194080" y="1584720"/>
            <a:ext cx="4462560" cy="39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7960" y="270000"/>
            <a:ext cx="9145080" cy="113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subTitle"/>
          </p:nvPr>
        </p:nvSpPr>
        <p:spPr>
          <a:xfrm>
            <a:off x="507960" y="270000"/>
            <a:ext cx="9145080" cy="524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7960" y="270000"/>
            <a:ext cx="9145080" cy="113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7960" y="1584720"/>
            <a:ext cx="4462560" cy="18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5194080" y="1584720"/>
            <a:ext cx="4462560" cy="39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7960" y="3637080"/>
            <a:ext cx="4462560" cy="18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7960" y="270000"/>
            <a:ext cx="9145080" cy="113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7960" y="1584720"/>
            <a:ext cx="4462560" cy="39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194080" y="1584720"/>
            <a:ext cx="4462560" cy="18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5194080" y="3637080"/>
            <a:ext cx="4462560" cy="18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507960" y="270000"/>
            <a:ext cx="9145080" cy="113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507960" y="1584720"/>
            <a:ext cx="4462560" cy="18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5194080" y="1584720"/>
            <a:ext cx="4462560" cy="18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507960" y="3637080"/>
            <a:ext cx="9145080" cy="18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7960" y="270000"/>
            <a:ext cx="9145080" cy="113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7960" y="1584720"/>
            <a:ext cx="9145080" cy="18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507960" y="3637080"/>
            <a:ext cx="9145080" cy="18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507960" y="270000"/>
            <a:ext cx="9145080" cy="113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507960" y="1584720"/>
            <a:ext cx="4462560" cy="18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5194080" y="1584720"/>
            <a:ext cx="4462560" cy="18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507960" y="3637080"/>
            <a:ext cx="4462560" cy="18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/>
          </p:nvPr>
        </p:nvSpPr>
        <p:spPr>
          <a:xfrm>
            <a:off x="5194080" y="3637080"/>
            <a:ext cx="4462560" cy="18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507960" y="270000"/>
            <a:ext cx="9145080" cy="524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07960" y="270000"/>
            <a:ext cx="9145080" cy="113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507960" y="1584720"/>
            <a:ext cx="2944440" cy="18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3600000" y="1584720"/>
            <a:ext cx="2944440" cy="18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6692040" y="1584720"/>
            <a:ext cx="2944440" cy="18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/>
          </p:nvPr>
        </p:nvSpPr>
        <p:spPr>
          <a:xfrm>
            <a:off x="507960" y="3637080"/>
            <a:ext cx="2944440" cy="18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6"/>
          <p:cNvSpPr>
            <a:spLocks noGrp="1"/>
          </p:cNvSpPr>
          <p:nvPr>
            <p:ph/>
          </p:nvPr>
        </p:nvSpPr>
        <p:spPr>
          <a:xfrm>
            <a:off x="3600000" y="3637080"/>
            <a:ext cx="2944440" cy="18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7"/>
          <p:cNvSpPr>
            <a:spLocks noGrp="1"/>
          </p:cNvSpPr>
          <p:nvPr>
            <p:ph/>
          </p:nvPr>
        </p:nvSpPr>
        <p:spPr>
          <a:xfrm>
            <a:off x="6692040" y="3637080"/>
            <a:ext cx="2944440" cy="18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7960" y="270000"/>
            <a:ext cx="9145080" cy="113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7960" y="1584720"/>
            <a:ext cx="9145080" cy="39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7960" y="270000"/>
            <a:ext cx="9145080" cy="113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7960" y="1584720"/>
            <a:ext cx="9145080" cy="39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7960" y="270000"/>
            <a:ext cx="9145080" cy="113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7960" y="1584720"/>
            <a:ext cx="4462560" cy="39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5194080" y="1584720"/>
            <a:ext cx="4462560" cy="39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7960" y="270000"/>
            <a:ext cx="9145080" cy="113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7960" y="270000"/>
            <a:ext cx="9145080" cy="524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7960" y="270000"/>
            <a:ext cx="9145080" cy="113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7960" y="1584720"/>
            <a:ext cx="4462560" cy="18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5194080" y="1584720"/>
            <a:ext cx="4462560" cy="39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7960" y="3637080"/>
            <a:ext cx="4462560" cy="18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7960" y="270000"/>
            <a:ext cx="9145080" cy="113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7960" y="1584720"/>
            <a:ext cx="4462560" cy="39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5194080" y="1584720"/>
            <a:ext cx="4462560" cy="18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5194080" y="3637080"/>
            <a:ext cx="4462560" cy="18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7960" y="270000"/>
            <a:ext cx="9145080" cy="113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7960" y="1584720"/>
            <a:ext cx="4462560" cy="18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5194080" y="1584720"/>
            <a:ext cx="4462560" cy="18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7960" y="3637080"/>
            <a:ext cx="9145080" cy="18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7960" y="270000"/>
            <a:ext cx="9145080" cy="113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7960" y="1584720"/>
            <a:ext cx="4462560" cy="18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94080" y="1584720"/>
            <a:ext cx="4462560" cy="39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07960" y="3637080"/>
            <a:ext cx="4462560" cy="18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7960" y="270000"/>
            <a:ext cx="9145080" cy="113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7960" y="1584720"/>
            <a:ext cx="9145080" cy="18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7960" y="3637080"/>
            <a:ext cx="9145080" cy="18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7960" y="270000"/>
            <a:ext cx="9145080" cy="113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7960" y="1584720"/>
            <a:ext cx="4462560" cy="18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5194080" y="1584720"/>
            <a:ext cx="4462560" cy="18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7960" y="3637080"/>
            <a:ext cx="4462560" cy="18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5194080" y="3637080"/>
            <a:ext cx="4462560" cy="18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7960" y="270000"/>
            <a:ext cx="9145080" cy="113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7960" y="1584720"/>
            <a:ext cx="2944440" cy="18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600000" y="1584720"/>
            <a:ext cx="2944440" cy="18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692040" y="1584720"/>
            <a:ext cx="2944440" cy="18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7960" y="3637080"/>
            <a:ext cx="2944440" cy="18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600000" y="3637080"/>
            <a:ext cx="2944440" cy="18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692040" y="3637080"/>
            <a:ext cx="2944440" cy="18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07960" y="270000"/>
            <a:ext cx="9145080" cy="113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507960" y="1584720"/>
            <a:ext cx="9145080" cy="39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07960" y="270000"/>
            <a:ext cx="9145080" cy="113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507960" y="1584720"/>
            <a:ext cx="9145080" cy="39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07960" y="270000"/>
            <a:ext cx="9145080" cy="113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507960" y="1584720"/>
            <a:ext cx="4462560" cy="39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5194080" y="1584720"/>
            <a:ext cx="4462560" cy="39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07960" y="270000"/>
            <a:ext cx="9145080" cy="113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507960" y="270000"/>
            <a:ext cx="9145080" cy="524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07960" y="270000"/>
            <a:ext cx="9145080" cy="113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507960" y="1584720"/>
            <a:ext cx="4462560" cy="18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5194080" y="1584720"/>
            <a:ext cx="4462560" cy="39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507960" y="3637080"/>
            <a:ext cx="4462560" cy="18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07960" y="270000"/>
            <a:ext cx="9145080" cy="113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507960" y="1584720"/>
            <a:ext cx="9145080" cy="39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7960" y="270000"/>
            <a:ext cx="9145080" cy="113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07960" y="1584720"/>
            <a:ext cx="4462560" cy="39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4080" y="1584720"/>
            <a:ext cx="4462560" cy="18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194080" y="3637080"/>
            <a:ext cx="4462560" cy="18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7960" y="270000"/>
            <a:ext cx="9145080" cy="113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507960" y="1584720"/>
            <a:ext cx="4462560" cy="39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5194080" y="1584720"/>
            <a:ext cx="4462560" cy="18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5194080" y="3637080"/>
            <a:ext cx="4462560" cy="18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7960" y="270000"/>
            <a:ext cx="9145080" cy="113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507960" y="1584720"/>
            <a:ext cx="4462560" cy="18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5194080" y="1584720"/>
            <a:ext cx="4462560" cy="18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507960" y="3637080"/>
            <a:ext cx="9145080" cy="18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507960" y="270000"/>
            <a:ext cx="9145080" cy="113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507960" y="1584720"/>
            <a:ext cx="9145080" cy="18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507960" y="3637080"/>
            <a:ext cx="9145080" cy="18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7960" y="270000"/>
            <a:ext cx="9145080" cy="113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7960" y="1584720"/>
            <a:ext cx="4462560" cy="18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5194080" y="1584720"/>
            <a:ext cx="4462560" cy="18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507960" y="3637080"/>
            <a:ext cx="4462560" cy="18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5194080" y="3637080"/>
            <a:ext cx="4462560" cy="18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7960" y="270000"/>
            <a:ext cx="9145080" cy="113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507960" y="1584720"/>
            <a:ext cx="2944440" cy="18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600000" y="1584720"/>
            <a:ext cx="2944440" cy="18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692040" y="1584720"/>
            <a:ext cx="2944440" cy="18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507960" y="3637080"/>
            <a:ext cx="2944440" cy="18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600000" y="3637080"/>
            <a:ext cx="2944440" cy="18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692040" y="3637080"/>
            <a:ext cx="2944440" cy="18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507960" y="270000"/>
            <a:ext cx="9145080" cy="113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subTitle"/>
          </p:nvPr>
        </p:nvSpPr>
        <p:spPr>
          <a:xfrm>
            <a:off x="507960" y="1584720"/>
            <a:ext cx="9145080" cy="39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507960" y="270000"/>
            <a:ext cx="9145080" cy="113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507960" y="1584720"/>
            <a:ext cx="9145080" cy="39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507960" y="270000"/>
            <a:ext cx="9145080" cy="113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507960" y="1584720"/>
            <a:ext cx="4462560" cy="39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5194080" y="1584720"/>
            <a:ext cx="4462560" cy="39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507960" y="270000"/>
            <a:ext cx="9145080" cy="113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7960" y="270000"/>
            <a:ext cx="9145080" cy="113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07960" y="1584720"/>
            <a:ext cx="4462560" cy="18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94080" y="1584720"/>
            <a:ext cx="4462560" cy="18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07960" y="3637080"/>
            <a:ext cx="9145080" cy="18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subTitle"/>
          </p:nvPr>
        </p:nvSpPr>
        <p:spPr>
          <a:xfrm>
            <a:off x="507960" y="270000"/>
            <a:ext cx="9145080" cy="524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507960" y="270000"/>
            <a:ext cx="9145080" cy="113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507960" y="1584720"/>
            <a:ext cx="4462560" cy="18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5194080" y="1584720"/>
            <a:ext cx="4462560" cy="39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507960" y="3637080"/>
            <a:ext cx="4462560" cy="18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7960" y="270000"/>
            <a:ext cx="9145080" cy="113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7960" y="1584720"/>
            <a:ext cx="4462560" cy="39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5194080" y="1584720"/>
            <a:ext cx="4462560" cy="18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5194080" y="3637080"/>
            <a:ext cx="4462560" cy="18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7960" y="270000"/>
            <a:ext cx="9145080" cy="113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7960" y="1584720"/>
            <a:ext cx="4462560" cy="18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5194080" y="1584720"/>
            <a:ext cx="4462560" cy="18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507960" y="3637080"/>
            <a:ext cx="9145080" cy="18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507960" y="270000"/>
            <a:ext cx="9145080" cy="113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507960" y="1584720"/>
            <a:ext cx="9145080" cy="18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507960" y="3637080"/>
            <a:ext cx="9145080" cy="18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507960" y="270000"/>
            <a:ext cx="9145080" cy="113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507960" y="1584720"/>
            <a:ext cx="4462560" cy="18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5194080" y="1584720"/>
            <a:ext cx="4462560" cy="18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507960" y="3637080"/>
            <a:ext cx="4462560" cy="18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5"/>
          <p:cNvSpPr>
            <a:spLocks noGrp="1"/>
          </p:cNvSpPr>
          <p:nvPr>
            <p:ph/>
          </p:nvPr>
        </p:nvSpPr>
        <p:spPr>
          <a:xfrm>
            <a:off x="5194080" y="3637080"/>
            <a:ext cx="4462560" cy="18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07960" y="270000"/>
            <a:ext cx="9145080" cy="113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507960" y="1584720"/>
            <a:ext cx="2944440" cy="18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3600000" y="1584720"/>
            <a:ext cx="2944440" cy="18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6692040" y="1584720"/>
            <a:ext cx="2944440" cy="18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507960" y="3637080"/>
            <a:ext cx="2944440" cy="18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6"/>
          <p:cNvSpPr>
            <a:spLocks noGrp="1"/>
          </p:cNvSpPr>
          <p:nvPr>
            <p:ph/>
          </p:nvPr>
        </p:nvSpPr>
        <p:spPr>
          <a:xfrm>
            <a:off x="3600000" y="3637080"/>
            <a:ext cx="2944440" cy="18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7"/>
          <p:cNvSpPr>
            <a:spLocks noGrp="1"/>
          </p:cNvSpPr>
          <p:nvPr>
            <p:ph/>
          </p:nvPr>
        </p:nvSpPr>
        <p:spPr>
          <a:xfrm>
            <a:off x="6692040" y="3637080"/>
            <a:ext cx="2944440" cy="18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507960" y="270000"/>
            <a:ext cx="9145080" cy="113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 type="subTitle"/>
          </p:nvPr>
        </p:nvSpPr>
        <p:spPr>
          <a:xfrm>
            <a:off x="507960" y="1584720"/>
            <a:ext cx="9145080" cy="39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507960" y="270000"/>
            <a:ext cx="9145080" cy="113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507960" y="1584720"/>
            <a:ext cx="9145080" cy="39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7960" y="270000"/>
            <a:ext cx="9145080" cy="113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07960" y="1584720"/>
            <a:ext cx="9145080" cy="18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7960" y="3637080"/>
            <a:ext cx="9145080" cy="18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7960" y="270000"/>
            <a:ext cx="9145080" cy="113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7960" y="1584720"/>
            <a:ext cx="4462560" cy="39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5194080" y="1584720"/>
            <a:ext cx="4462560" cy="39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507960" y="270000"/>
            <a:ext cx="9145080" cy="113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subTitle"/>
          </p:nvPr>
        </p:nvSpPr>
        <p:spPr>
          <a:xfrm>
            <a:off x="507960" y="270000"/>
            <a:ext cx="9145080" cy="524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507960" y="270000"/>
            <a:ext cx="9145080" cy="113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507960" y="1584720"/>
            <a:ext cx="4462560" cy="18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5194080" y="1584720"/>
            <a:ext cx="4462560" cy="39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507960" y="3637080"/>
            <a:ext cx="4462560" cy="18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507960" y="270000"/>
            <a:ext cx="9145080" cy="113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507960" y="1584720"/>
            <a:ext cx="4462560" cy="39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5194080" y="1584720"/>
            <a:ext cx="4462560" cy="18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5194080" y="3637080"/>
            <a:ext cx="4462560" cy="18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507960" y="270000"/>
            <a:ext cx="9145080" cy="113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507960" y="1584720"/>
            <a:ext cx="4462560" cy="18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5194080" y="1584720"/>
            <a:ext cx="4462560" cy="18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/>
          </p:nvPr>
        </p:nvSpPr>
        <p:spPr>
          <a:xfrm>
            <a:off x="507960" y="3637080"/>
            <a:ext cx="9145080" cy="18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7960" y="270000"/>
            <a:ext cx="9145080" cy="113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7960" y="1584720"/>
            <a:ext cx="9145080" cy="18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507960" y="3637080"/>
            <a:ext cx="9145080" cy="18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507960" y="270000"/>
            <a:ext cx="9145080" cy="113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507960" y="1584720"/>
            <a:ext cx="4462560" cy="18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5194080" y="1584720"/>
            <a:ext cx="4462560" cy="18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/>
          </p:nvPr>
        </p:nvSpPr>
        <p:spPr>
          <a:xfrm>
            <a:off x="507960" y="3637080"/>
            <a:ext cx="4462560" cy="18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5"/>
          <p:cNvSpPr>
            <a:spLocks noGrp="1"/>
          </p:cNvSpPr>
          <p:nvPr>
            <p:ph/>
          </p:nvPr>
        </p:nvSpPr>
        <p:spPr>
          <a:xfrm>
            <a:off x="5194080" y="3637080"/>
            <a:ext cx="4462560" cy="18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507960" y="270000"/>
            <a:ext cx="9145080" cy="113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507960" y="1584720"/>
            <a:ext cx="2944440" cy="18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3600000" y="1584720"/>
            <a:ext cx="2944440" cy="18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6692040" y="1584720"/>
            <a:ext cx="2944440" cy="18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5"/>
          <p:cNvSpPr>
            <a:spLocks noGrp="1"/>
          </p:cNvSpPr>
          <p:nvPr>
            <p:ph/>
          </p:nvPr>
        </p:nvSpPr>
        <p:spPr>
          <a:xfrm>
            <a:off x="507960" y="3637080"/>
            <a:ext cx="2944440" cy="18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6"/>
          <p:cNvSpPr>
            <a:spLocks noGrp="1"/>
          </p:cNvSpPr>
          <p:nvPr>
            <p:ph/>
          </p:nvPr>
        </p:nvSpPr>
        <p:spPr>
          <a:xfrm>
            <a:off x="3600000" y="3637080"/>
            <a:ext cx="2944440" cy="18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7"/>
          <p:cNvSpPr>
            <a:spLocks noGrp="1"/>
          </p:cNvSpPr>
          <p:nvPr>
            <p:ph/>
          </p:nvPr>
        </p:nvSpPr>
        <p:spPr>
          <a:xfrm>
            <a:off x="6692040" y="3637080"/>
            <a:ext cx="2944440" cy="18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7960" y="270000"/>
            <a:ext cx="9145080" cy="113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7960" y="1584720"/>
            <a:ext cx="4462560" cy="18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94080" y="1584720"/>
            <a:ext cx="4462560" cy="18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7960" y="3637080"/>
            <a:ext cx="4462560" cy="18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5194080" y="3637080"/>
            <a:ext cx="4462560" cy="18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7960" y="270000"/>
            <a:ext cx="9145080" cy="113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507960" y="1584720"/>
            <a:ext cx="9145080" cy="39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7960" y="270000"/>
            <a:ext cx="9145080" cy="113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7960" y="1584720"/>
            <a:ext cx="9145080" cy="39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507960" y="270000"/>
            <a:ext cx="9145080" cy="113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507960" y="1584720"/>
            <a:ext cx="4462560" cy="39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5194080" y="1584720"/>
            <a:ext cx="4462560" cy="39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7960" y="270000"/>
            <a:ext cx="9145080" cy="113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507960" y="270000"/>
            <a:ext cx="9145080" cy="524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7960" y="270000"/>
            <a:ext cx="9145080" cy="113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7960" y="1584720"/>
            <a:ext cx="4462560" cy="18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5194080" y="1584720"/>
            <a:ext cx="4462560" cy="39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507960" y="3637080"/>
            <a:ext cx="4462560" cy="18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507960" y="270000"/>
            <a:ext cx="9145080" cy="113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507960" y="1584720"/>
            <a:ext cx="4462560" cy="39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5194080" y="1584720"/>
            <a:ext cx="4462560" cy="18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5194080" y="3637080"/>
            <a:ext cx="4462560" cy="18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507960" y="270000"/>
            <a:ext cx="9145080" cy="113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507960" y="1584720"/>
            <a:ext cx="4462560" cy="18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5194080" y="1584720"/>
            <a:ext cx="4462560" cy="18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507960" y="3637080"/>
            <a:ext cx="9145080" cy="18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7960" y="270000"/>
            <a:ext cx="9145080" cy="113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507960" y="1584720"/>
            <a:ext cx="9145080" cy="18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507960" y="3637080"/>
            <a:ext cx="9145080" cy="18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507960" y="270000"/>
            <a:ext cx="9145080" cy="113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507960" y="1584720"/>
            <a:ext cx="4462560" cy="18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5194080" y="1584720"/>
            <a:ext cx="4462560" cy="18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507960" y="3637080"/>
            <a:ext cx="4462560" cy="18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5194080" y="3637080"/>
            <a:ext cx="4462560" cy="18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07960" y="270000"/>
            <a:ext cx="9145080" cy="113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07960" y="1584720"/>
            <a:ext cx="2944440" cy="18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600000" y="1584720"/>
            <a:ext cx="2944440" cy="18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692040" y="1584720"/>
            <a:ext cx="2944440" cy="18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07960" y="3637080"/>
            <a:ext cx="2944440" cy="18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600000" y="3637080"/>
            <a:ext cx="2944440" cy="18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692040" y="3637080"/>
            <a:ext cx="2944440" cy="18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7960" y="270000"/>
            <a:ext cx="9145080" cy="113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7960" y="1584720"/>
            <a:ext cx="2944440" cy="18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600000" y="1584720"/>
            <a:ext cx="2944440" cy="18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692040" y="1584720"/>
            <a:ext cx="2944440" cy="18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507960" y="3637080"/>
            <a:ext cx="2944440" cy="18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600000" y="3637080"/>
            <a:ext cx="2944440" cy="18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692040" y="3637080"/>
            <a:ext cx="2944440" cy="18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7960" y="270000"/>
            <a:ext cx="9145080" cy="113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507960" y="1584720"/>
            <a:ext cx="9145080" cy="39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07960" y="270000"/>
            <a:ext cx="9145080" cy="113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07960" y="1584720"/>
            <a:ext cx="9145080" cy="39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7960" y="270000"/>
            <a:ext cx="9145080" cy="113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07960" y="1584720"/>
            <a:ext cx="4462560" cy="39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194080" y="1584720"/>
            <a:ext cx="4462560" cy="39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7960" y="270000"/>
            <a:ext cx="9145080" cy="113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7960" y="270000"/>
            <a:ext cx="9145080" cy="113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507960" y="1584720"/>
            <a:ext cx="9145080" cy="39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507960" y="270000"/>
            <a:ext cx="9145080" cy="524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270000"/>
            <a:ext cx="9145080" cy="113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07960" y="1584720"/>
            <a:ext cx="4462560" cy="18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94080" y="1584720"/>
            <a:ext cx="4462560" cy="39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507960" y="3637080"/>
            <a:ext cx="4462560" cy="18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07960" y="270000"/>
            <a:ext cx="9145080" cy="113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07960" y="1584720"/>
            <a:ext cx="4462560" cy="39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194080" y="1584720"/>
            <a:ext cx="4462560" cy="18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194080" y="3637080"/>
            <a:ext cx="4462560" cy="18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7960" y="270000"/>
            <a:ext cx="9145080" cy="113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07960" y="1584720"/>
            <a:ext cx="4462560" cy="18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194080" y="1584720"/>
            <a:ext cx="4462560" cy="18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07960" y="3637080"/>
            <a:ext cx="9145080" cy="18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7960" y="270000"/>
            <a:ext cx="9145080" cy="113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7960" y="1584720"/>
            <a:ext cx="9145080" cy="18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07960" y="3637080"/>
            <a:ext cx="9145080" cy="18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07960" y="270000"/>
            <a:ext cx="9145080" cy="113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07960" y="1584720"/>
            <a:ext cx="4462560" cy="18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194080" y="1584720"/>
            <a:ext cx="4462560" cy="18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07960" y="3637080"/>
            <a:ext cx="4462560" cy="18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5194080" y="3637080"/>
            <a:ext cx="4462560" cy="18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7960" y="270000"/>
            <a:ext cx="9145080" cy="113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7960" y="1584720"/>
            <a:ext cx="2944440" cy="18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600000" y="1584720"/>
            <a:ext cx="2944440" cy="18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692040" y="1584720"/>
            <a:ext cx="2944440" cy="18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507960" y="3637080"/>
            <a:ext cx="2944440" cy="18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600000" y="3637080"/>
            <a:ext cx="2944440" cy="18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692040" y="3637080"/>
            <a:ext cx="2944440" cy="18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7960" y="270000"/>
            <a:ext cx="9145080" cy="113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507960" y="1584720"/>
            <a:ext cx="9145080" cy="39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7960" y="270000"/>
            <a:ext cx="9145080" cy="113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7960" y="1584720"/>
            <a:ext cx="9145080" cy="39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07960" y="270000"/>
            <a:ext cx="9145080" cy="113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07960" y="1584720"/>
            <a:ext cx="4462560" cy="39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194080" y="1584720"/>
            <a:ext cx="4462560" cy="39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7960" y="270000"/>
            <a:ext cx="9145080" cy="113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7960" y="1584720"/>
            <a:ext cx="4462560" cy="39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194080" y="1584720"/>
            <a:ext cx="4462560" cy="39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7960" y="270000"/>
            <a:ext cx="9145080" cy="113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507960" y="270000"/>
            <a:ext cx="9145080" cy="524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7960" y="270000"/>
            <a:ext cx="9145080" cy="113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7960" y="1584720"/>
            <a:ext cx="4462560" cy="18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194080" y="1584720"/>
            <a:ext cx="4462560" cy="39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07960" y="3637080"/>
            <a:ext cx="4462560" cy="18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7960" y="270000"/>
            <a:ext cx="9145080" cy="113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7960" y="1584720"/>
            <a:ext cx="4462560" cy="39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194080" y="1584720"/>
            <a:ext cx="4462560" cy="18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194080" y="3637080"/>
            <a:ext cx="4462560" cy="18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7960" y="270000"/>
            <a:ext cx="9145080" cy="113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7960" y="1584720"/>
            <a:ext cx="4462560" cy="18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194080" y="1584720"/>
            <a:ext cx="4462560" cy="18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507960" y="3637080"/>
            <a:ext cx="9145080" cy="18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7960" y="270000"/>
            <a:ext cx="9145080" cy="113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7960" y="1584720"/>
            <a:ext cx="9145080" cy="18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07960" y="3637080"/>
            <a:ext cx="9145080" cy="18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7960" y="270000"/>
            <a:ext cx="9145080" cy="113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7960" y="1584720"/>
            <a:ext cx="4462560" cy="18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194080" y="1584720"/>
            <a:ext cx="4462560" cy="18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7960" y="3637080"/>
            <a:ext cx="4462560" cy="18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5194080" y="3637080"/>
            <a:ext cx="4462560" cy="18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7960" y="270000"/>
            <a:ext cx="9145080" cy="113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7960" y="1584720"/>
            <a:ext cx="2944440" cy="18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600000" y="1584720"/>
            <a:ext cx="2944440" cy="18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692040" y="1584720"/>
            <a:ext cx="2944440" cy="18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507960" y="3637080"/>
            <a:ext cx="2944440" cy="18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600000" y="3637080"/>
            <a:ext cx="2944440" cy="18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692040" y="3637080"/>
            <a:ext cx="2944440" cy="18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7960" y="270000"/>
            <a:ext cx="9145080" cy="113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7960" y="270000"/>
            <a:ext cx="9145080" cy="113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507960" y="1584720"/>
            <a:ext cx="9145080" cy="39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7960" y="270000"/>
            <a:ext cx="9145080" cy="113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7960" y="1584720"/>
            <a:ext cx="9145080" cy="39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7960" y="270000"/>
            <a:ext cx="9145080" cy="113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7960" y="1584720"/>
            <a:ext cx="4462560" cy="39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5194080" y="1584720"/>
            <a:ext cx="4462560" cy="39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07960" y="270000"/>
            <a:ext cx="9145080" cy="113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507960" y="270000"/>
            <a:ext cx="9145080" cy="524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7960" y="270000"/>
            <a:ext cx="9145080" cy="113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7960" y="1584720"/>
            <a:ext cx="4462560" cy="18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194080" y="1584720"/>
            <a:ext cx="4462560" cy="39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07960" y="3637080"/>
            <a:ext cx="4462560" cy="18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07960" y="270000"/>
            <a:ext cx="9145080" cy="113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07960" y="1584720"/>
            <a:ext cx="4462560" cy="39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5194080" y="1584720"/>
            <a:ext cx="4462560" cy="18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5194080" y="3637080"/>
            <a:ext cx="4462560" cy="18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07960" y="270000"/>
            <a:ext cx="9145080" cy="113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07960" y="1584720"/>
            <a:ext cx="4462560" cy="18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5194080" y="1584720"/>
            <a:ext cx="4462560" cy="18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507960" y="3637080"/>
            <a:ext cx="9145080" cy="18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07960" y="270000"/>
            <a:ext cx="9145080" cy="113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07960" y="1584720"/>
            <a:ext cx="9145080" cy="18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507960" y="3637080"/>
            <a:ext cx="9145080" cy="18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7960" y="270000"/>
            <a:ext cx="9145080" cy="113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07960" y="1584720"/>
            <a:ext cx="4462560" cy="18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194080" y="1584720"/>
            <a:ext cx="4462560" cy="18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07960" y="3637080"/>
            <a:ext cx="4462560" cy="18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5194080" y="3637080"/>
            <a:ext cx="4462560" cy="18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507960" y="270000"/>
            <a:ext cx="9145080" cy="524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7960" y="270000"/>
            <a:ext cx="9145080" cy="113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07960" y="1584720"/>
            <a:ext cx="2944440" cy="18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600000" y="1584720"/>
            <a:ext cx="2944440" cy="18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692040" y="1584720"/>
            <a:ext cx="2944440" cy="18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507960" y="3637080"/>
            <a:ext cx="2944440" cy="18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600000" y="3637080"/>
            <a:ext cx="2944440" cy="18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692040" y="3637080"/>
            <a:ext cx="2944440" cy="18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7960" y="270000"/>
            <a:ext cx="9145080" cy="113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507960" y="1584720"/>
            <a:ext cx="9145080" cy="39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07960" y="270000"/>
            <a:ext cx="9145080" cy="113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07960" y="1584720"/>
            <a:ext cx="9145080" cy="39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07960" y="270000"/>
            <a:ext cx="9145080" cy="113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07960" y="1584720"/>
            <a:ext cx="4462560" cy="39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5194080" y="1584720"/>
            <a:ext cx="4462560" cy="39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7960" y="270000"/>
            <a:ext cx="9145080" cy="113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507960" y="270000"/>
            <a:ext cx="9145080" cy="524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7960" y="270000"/>
            <a:ext cx="9145080" cy="113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7960" y="1584720"/>
            <a:ext cx="4462560" cy="18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5194080" y="1584720"/>
            <a:ext cx="4462560" cy="39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7960" y="3637080"/>
            <a:ext cx="4462560" cy="18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7960" y="270000"/>
            <a:ext cx="9145080" cy="113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7960" y="1584720"/>
            <a:ext cx="4462560" cy="39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194080" y="1584720"/>
            <a:ext cx="4462560" cy="18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194080" y="3637080"/>
            <a:ext cx="4462560" cy="18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7960" y="270000"/>
            <a:ext cx="9145080" cy="113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7960" y="1584720"/>
            <a:ext cx="4462560" cy="18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194080" y="1584720"/>
            <a:ext cx="4462560" cy="18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507960" y="3637080"/>
            <a:ext cx="9145080" cy="18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7960" y="270000"/>
            <a:ext cx="9145080" cy="113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7960" y="1584720"/>
            <a:ext cx="4462560" cy="18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4080" y="1584720"/>
            <a:ext cx="4462560" cy="39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507960" y="3637080"/>
            <a:ext cx="4462560" cy="18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7960" y="270000"/>
            <a:ext cx="9145080" cy="113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7960" y="1584720"/>
            <a:ext cx="9145080" cy="18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507960" y="3637080"/>
            <a:ext cx="9145080" cy="18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07960" y="270000"/>
            <a:ext cx="9145080" cy="113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07960" y="1584720"/>
            <a:ext cx="4462560" cy="18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5194080" y="1584720"/>
            <a:ext cx="4462560" cy="18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507960" y="3637080"/>
            <a:ext cx="4462560" cy="18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5194080" y="3637080"/>
            <a:ext cx="4462560" cy="18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07960" y="270000"/>
            <a:ext cx="9145080" cy="113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07960" y="1584720"/>
            <a:ext cx="2944440" cy="18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600000" y="1584720"/>
            <a:ext cx="2944440" cy="18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692040" y="1584720"/>
            <a:ext cx="2944440" cy="18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507960" y="3637080"/>
            <a:ext cx="2944440" cy="18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600000" y="3637080"/>
            <a:ext cx="2944440" cy="18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692040" y="3637080"/>
            <a:ext cx="2944440" cy="18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07960" y="270000"/>
            <a:ext cx="9145080" cy="113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507960" y="1584720"/>
            <a:ext cx="9145080" cy="39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07960" y="270000"/>
            <a:ext cx="9145080" cy="113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507960" y="1584720"/>
            <a:ext cx="9145080" cy="39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07960" y="270000"/>
            <a:ext cx="9145080" cy="113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07960" y="1584720"/>
            <a:ext cx="4462560" cy="39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194080" y="1584720"/>
            <a:ext cx="4462560" cy="39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07960" y="270000"/>
            <a:ext cx="9145080" cy="113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507960" y="270000"/>
            <a:ext cx="9145080" cy="524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7960" y="270000"/>
            <a:ext cx="9145080" cy="113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7960" y="1584720"/>
            <a:ext cx="4462560" cy="18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5194080" y="1584720"/>
            <a:ext cx="4462560" cy="39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7960" y="3637080"/>
            <a:ext cx="4462560" cy="18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07960" y="270000"/>
            <a:ext cx="9145080" cy="113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07960" y="1584720"/>
            <a:ext cx="4462560" cy="39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94080" y="1584720"/>
            <a:ext cx="4462560" cy="18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94080" y="3637080"/>
            <a:ext cx="4462560" cy="18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7960" y="270000"/>
            <a:ext cx="9145080" cy="113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7960" y="1584720"/>
            <a:ext cx="4462560" cy="39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194080" y="1584720"/>
            <a:ext cx="4462560" cy="18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5194080" y="3637080"/>
            <a:ext cx="4462560" cy="18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7960" y="270000"/>
            <a:ext cx="9145080" cy="113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7960" y="1584720"/>
            <a:ext cx="4462560" cy="18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5194080" y="1584720"/>
            <a:ext cx="4462560" cy="18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07960" y="3637080"/>
            <a:ext cx="9145080" cy="18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7960" y="270000"/>
            <a:ext cx="9145080" cy="113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7960" y="1584720"/>
            <a:ext cx="9145080" cy="18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507960" y="3637080"/>
            <a:ext cx="9145080" cy="18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07960" y="270000"/>
            <a:ext cx="9145080" cy="113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507960" y="1584720"/>
            <a:ext cx="4462560" cy="18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5194080" y="1584720"/>
            <a:ext cx="4462560" cy="18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507960" y="3637080"/>
            <a:ext cx="4462560" cy="18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5194080" y="3637080"/>
            <a:ext cx="4462560" cy="18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07960" y="270000"/>
            <a:ext cx="9145080" cy="113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507960" y="1584720"/>
            <a:ext cx="2944440" cy="18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600000" y="1584720"/>
            <a:ext cx="2944440" cy="18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692040" y="1584720"/>
            <a:ext cx="2944440" cy="18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507960" y="3637080"/>
            <a:ext cx="2944440" cy="18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600000" y="3637080"/>
            <a:ext cx="2944440" cy="18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692040" y="3637080"/>
            <a:ext cx="2944440" cy="18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7960" y="270000"/>
            <a:ext cx="9145080" cy="113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507960" y="1584720"/>
            <a:ext cx="9145080" cy="39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7960" y="270000"/>
            <a:ext cx="9145080" cy="113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7960" y="1584720"/>
            <a:ext cx="9145080" cy="39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7960" y="270000"/>
            <a:ext cx="9145080" cy="113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7960" y="1584720"/>
            <a:ext cx="4462560" cy="39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194080" y="1584720"/>
            <a:ext cx="4462560" cy="39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7960" y="270000"/>
            <a:ext cx="9145080" cy="113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07960" y="270000"/>
            <a:ext cx="9145080" cy="113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07960" y="1584720"/>
            <a:ext cx="4462560" cy="18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4080" y="1584720"/>
            <a:ext cx="4462560" cy="18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7960" y="3637080"/>
            <a:ext cx="9145080" cy="18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507960" y="270000"/>
            <a:ext cx="9145080" cy="524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507960" y="270000"/>
            <a:ext cx="9145080" cy="113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507960" y="1584720"/>
            <a:ext cx="4462560" cy="18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5194080" y="1584720"/>
            <a:ext cx="4462560" cy="39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507960" y="3637080"/>
            <a:ext cx="4462560" cy="18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7960" y="270000"/>
            <a:ext cx="9145080" cy="113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07960" y="1584720"/>
            <a:ext cx="4462560" cy="39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5194080" y="1584720"/>
            <a:ext cx="4462560" cy="18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194080" y="3637080"/>
            <a:ext cx="4462560" cy="18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07960" y="270000"/>
            <a:ext cx="9145080" cy="113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07960" y="1584720"/>
            <a:ext cx="4462560" cy="18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5194080" y="1584720"/>
            <a:ext cx="4462560" cy="18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507960" y="3637080"/>
            <a:ext cx="9145080" cy="18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07960" y="270000"/>
            <a:ext cx="9145080" cy="113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507960" y="1584720"/>
            <a:ext cx="9145080" cy="18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507960" y="3637080"/>
            <a:ext cx="9145080" cy="18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07960" y="270000"/>
            <a:ext cx="9145080" cy="113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07960" y="1584720"/>
            <a:ext cx="4462560" cy="18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5194080" y="1584720"/>
            <a:ext cx="4462560" cy="18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507960" y="3637080"/>
            <a:ext cx="4462560" cy="18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5194080" y="3637080"/>
            <a:ext cx="4462560" cy="18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507960" y="270000"/>
            <a:ext cx="9145080" cy="113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507960" y="1584720"/>
            <a:ext cx="2944440" cy="18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600000" y="1584720"/>
            <a:ext cx="2944440" cy="18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692040" y="1584720"/>
            <a:ext cx="2944440" cy="18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507960" y="3637080"/>
            <a:ext cx="2944440" cy="18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600000" y="3637080"/>
            <a:ext cx="2944440" cy="18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692040" y="3637080"/>
            <a:ext cx="2944440" cy="18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07960" y="270000"/>
            <a:ext cx="9145080" cy="113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507960" y="1584720"/>
            <a:ext cx="9145080" cy="39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07960" y="270000"/>
            <a:ext cx="9145080" cy="113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07960" y="1584720"/>
            <a:ext cx="9145080" cy="39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0159920" cy="6772320"/>
          </a:xfrm>
          <a:prstGeom prst="rect">
            <a:avLst/>
          </a:prstGeom>
          <a:solidFill>
            <a:srgbClr val="12526e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1160640" y="5565600"/>
            <a:ext cx="841320" cy="790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7960" y="270000"/>
            <a:ext cx="9145080" cy="113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507960" y="1584720"/>
            <a:ext cx="9145080" cy="39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507960" y="270000"/>
            <a:ext cx="9145080" cy="113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507960" y="1584720"/>
            <a:ext cx="9145080" cy="39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07960" y="270000"/>
            <a:ext cx="9145080" cy="113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507960" y="1584720"/>
            <a:ext cx="9145080" cy="39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507960" y="270000"/>
            <a:ext cx="9145080" cy="113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507960" y="1584720"/>
            <a:ext cx="9145080" cy="39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507960" y="270000"/>
            <a:ext cx="9145080" cy="113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507960" y="1584720"/>
            <a:ext cx="9145080" cy="39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7960" y="270000"/>
            <a:ext cx="9145080" cy="113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507960" y="1584720"/>
            <a:ext cx="9145080" cy="39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507960" y="270000"/>
            <a:ext cx="9145080" cy="113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507960" y="1584720"/>
            <a:ext cx="9145080" cy="39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507960" y="270000"/>
            <a:ext cx="9145080" cy="113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507960" y="1584720"/>
            <a:ext cx="9145080" cy="39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507960" y="270000"/>
            <a:ext cx="9145080" cy="113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507960" y="1584720"/>
            <a:ext cx="9145080" cy="39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507960" y="270000"/>
            <a:ext cx="9145080" cy="113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 type="body"/>
          </p:nvPr>
        </p:nvSpPr>
        <p:spPr>
          <a:xfrm>
            <a:off x="507960" y="1584720"/>
            <a:ext cx="9145080" cy="39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7960" y="270000"/>
            <a:ext cx="9145080" cy="113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507960" y="1584720"/>
            <a:ext cx="9145080" cy="39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7960" y="270000"/>
            <a:ext cx="9145080" cy="113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507960" y="1584720"/>
            <a:ext cx="9145080" cy="39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7960" y="270000"/>
            <a:ext cx="9145080" cy="113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507960" y="1584720"/>
            <a:ext cx="9145080" cy="39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7960" y="270000"/>
            <a:ext cx="9145080" cy="113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507960" y="1584720"/>
            <a:ext cx="9145080" cy="39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7960" y="270000"/>
            <a:ext cx="9145080" cy="113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507960" y="1584720"/>
            <a:ext cx="9145080" cy="39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7960" y="270000"/>
            <a:ext cx="9145080" cy="113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507960" y="1584720"/>
            <a:ext cx="9145080" cy="39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07960" y="270000"/>
            <a:ext cx="9145080" cy="113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507960" y="1584720"/>
            <a:ext cx="9145080" cy="39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7960" y="270000"/>
            <a:ext cx="9145080" cy="113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507960" y="1584720"/>
            <a:ext cx="9145080" cy="39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07960" y="270000"/>
            <a:ext cx="9145080" cy="113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507960" y="1584720"/>
            <a:ext cx="9145080" cy="39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1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 txBox="1"/>
          <p:nvPr/>
        </p:nvSpPr>
        <p:spPr>
          <a:xfrm>
            <a:off x="2108160" y="1557360"/>
            <a:ext cx="6934320" cy="341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1" lang="en-US" sz="4000" spc="-1" strike="noStrike">
                <a:solidFill>
                  <a:srgbClr val="d6ff27"/>
                </a:solidFill>
                <a:latin typeface="Comic Sans MS"/>
                <a:ea typeface="Comic Sans MS"/>
              </a:rPr>
              <a:t>2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1" lang="en-US" sz="4000" spc="-1" strike="noStrike">
                <a:solidFill>
                  <a:srgbClr val="d6ff27"/>
                </a:solidFill>
                <a:latin typeface="Comic Sans MS"/>
                <a:ea typeface="Comic Sans MS"/>
              </a:rPr>
              <a:t>Principles of Guidelines on Monitoring and Assess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"/>
          <p:cNvSpPr/>
          <p:nvPr/>
        </p:nvSpPr>
        <p:spPr>
          <a:xfrm>
            <a:off x="1270080" y="3611520"/>
            <a:ext cx="6943680" cy="0"/>
          </a:xfrm>
          <a:prstGeom prst="line">
            <a:avLst/>
          </a:prstGeom>
          <a:ln w="38160">
            <a:solidFill>
              <a:srgbClr val="1a4e6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/>
          <p:cNvSpPr txBox="1"/>
          <p:nvPr/>
        </p:nvSpPr>
        <p:spPr>
          <a:xfrm>
            <a:off x="1608120" y="2859120"/>
            <a:ext cx="3471840" cy="601560"/>
          </a:xfrm>
          <a:prstGeom prst="rect">
            <a:avLst/>
          </a:prstGeom>
          <a:solidFill>
            <a:srgbClr val="f77664"/>
          </a:solidFill>
          <a:ln w="12600">
            <a:solidFill>
              <a:srgbClr val="1a4e67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20507"/>
                </a:solidFill>
                <a:latin typeface="Comic Sans MS"/>
                <a:ea typeface="Comic Sans MS"/>
              </a:rPr>
              <a:t>Bad stat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 txBox="1"/>
          <p:nvPr/>
        </p:nvSpPr>
        <p:spPr>
          <a:xfrm>
            <a:off x="5504040" y="2859120"/>
            <a:ext cx="2370240" cy="601560"/>
          </a:xfrm>
          <a:prstGeom prst="rect">
            <a:avLst/>
          </a:prstGeom>
          <a:solidFill>
            <a:srgbClr val="78dde2"/>
          </a:solidFill>
          <a:ln w="12600">
            <a:solidFill>
              <a:srgbClr val="1a4e67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20507"/>
                </a:solidFill>
                <a:latin typeface="Comic Sans MS"/>
                <a:ea typeface="Comic Sans MS"/>
              </a:rPr>
              <a:t>Good stat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"/>
          <p:cNvSpPr txBox="1"/>
          <p:nvPr/>
        </p:nvSpPr>
        <p:spPr>
          <a:xfrm>
            <a:off x="1523880" y="3913200"/>
            <a:ext cx="846000" cy="1203480"/>
          </a:xfrm>
          <a:prstGeom prst="rect">
            <a:avLst/>
          </a:prstGeom>
          <a:solidFill>
            <a:srgbClr val="f87f6f"/>
          </a:solidFill>
          <a:ln w="12600">
            <a:solidFill>
              <a:srgbClr val="1a4e67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20507"/>
                </a:solidFill>
                <a:latin typeface="Comic Sans MS"/>
                <a:ea typeface="Comic Sans MS"/>
              </a:rPr>
              <a:t>Ba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20507"/>
                </a:solidFill>
                <a:latin typeface="Comic Sans MS"/>
                <a:ea typeface="Comic Sans MS"/>
              </a:rPr>
              <a:t>stat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 txBox="1"/>
          <p:nvPr/>
        </p:nvSpPr>
        <p:spPr>
          <a:xfrm>
            <a:off x="2624040" y="3913200"/>
            <a:ext cx="932040" cy="1203480"/>
          </a:xfrm>
          <a:prstGeom prst="rect">
            <a:avLst/>
          </a:prstGeom>
          <a:solidFill>
            <a:srgbClr val="ffb84c"/>
          </a:solidFill>
          <a:ln w="12600">
            <a:solidFill>
              <a:srgbClr val="1a4e67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20507"/>
                </a:solidFill>
                <a:latin typeface="Comic Sans MS"/>
                <a:ea typeface="Comic Sans MS"/>
              </a:rPr>
              <a:t>Po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20507"/>
                </a:solidFill>
                <a:latin typeface="Comic Sans MS"/>
                <a:ea typeface="Comic Sans MS"/>
              </a:rPr>
              <a:t>stat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"/>
          <p:cNvSpPr txBox="1"/>
          <p:nvPr/>
        </p:nvSpPr>
        <p:spPr>
          <a:xfrm>
            <a:off x="3809880" y="3913200"/>
            <a:ext cx="1353960" cy="1203480"/>
          </a:xfrm>
          <a:prstGeom prst="rect">
            <a:avLst/>
          </a:prstGeom>
          <a:solidFill>
            <a:srgbClr val="ffff3b"/>
          </a:solidFill>
          <a:ln w="12600">
            <a:solidFill>
              <a:srgbClr val="1a4e67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20507"/>
                </a:solidFill>
                <a:latin typeface="Comic Sans MS"/>
                <a:ea typeface="Comic Sans MS"/>
              </a:rPr>
              <a:t>Modera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20507"/>
                </a:solidFill>
                <a:latin typeface="Comic Sans MS"/>
                <a:ea typeface="Comic Sans MS"/>
              </a:rPr>
              <a:t>stat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rgbClr val="020507"/>
                </a:solidFill>
                <a:latin typeface="Comic Sans MS"/>
                <a:ea typeface="Comic Sans MS"/>
              </a:rPr>
              <a:t>(differs moderatel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rgbClr val="020507"/>
                </a:solidFill>
                <a:latin typeface="Comic Sans MS"/>
                <a:ea typeface="Comic Sans MS"/>
              </a:rPr>
              <a:t>from type specific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rgbClr val="020507"/>
                </a:solidFill>
                <a:latin typeface="Comic Sans MS"/>
                <a:ea typeface="Comic Sans MS"/>
              </a:rPr>
              <a:t>condition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"/>
          <p:cNvSpPr txBox="1"/>
          <p:nvPr/>
        </p:nvSpPr>
        <p:spPr>
          <a:xfrm>
            <a:off x="5504040" y="3913200"/>
            <a:ext cx="1100160" cy="1203480"/>
          </a:xfrm>
          <a:prstGeom prst="rect">
            <a:avLst/>
          </a:prstGeom>
          <a:solidFill>
            <a:srgbClr val="86e571"/>
          </a:solidFill>
          <a:ln w="12600">
            <a:solidFill>
              <a:srgbClr val="1a4e67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20507"/>
                </a:solidFill>
                <a:latin typeface="Comic Sans MS"/>
                <a:ea typeface="Comic Sans MS"/>
              </a:rPr>
              <a:t>Goo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20507"/>
                </a:solidFill>
                <a:latin typeface="Comic Sans MS"/>
                <a:ea typeface="Comic Sans MS"/>
              </a:rPr>
              <a:t>stat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rgbClr val="020507"/>
                </a:solidFill>
                <a:latin typeface="Comic Sans MS"/>
                <a:ea typeface="Comic Sans MS"/>
              </a:rPr>
              <a:t>(slight change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rgbClr val="020507"/>
                </a:solidFill>
                <a:latin typeface="Comic Sans MS"/>
                <a:ea typeface="Comic Sans MS"/>
              </a:rPr>
              <a:t>from type spe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rgbClr val="020507"/>
                </a:solidFill>
                <a:latin typeface="Comic Sans MS"/>
                <a:ea typeface="Comic Sans MS"/>
              </a:rPr>
              <a:t>condition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"/>
          <p:cNvSpPr txBox="1"/>
          <p:nvPr/>
        </p:nvSpPr>
        <p:spPr>
          <a:xfrm>
            <a:off x="6943680" y="3913200"/>
            <a:ext cx="930240" cy="1203480"/>
          </a:xfrm>
          <a:prstGeom prst="rect">
            <a:avLst/>
          </a:prstGeom>
          <a:solidFill>
            <a:srgbClr val="78dde2"/>
          </a:solidFill>
          <a:ln w="12600">
            <a:solidFill>
              <a:srgbClr val="1a4e67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20507"/>
                </a:solidFill>
                <a:latin typeface="Comic Sans MS"/>
                <a:ea typeface="Comic Sans MS"/>
              </a:rPr>
              <a:t>Hig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20507"/>
                </a:solidFill>
                <a:latin typeface="Comic Sans MS"/>
                <a:ea typeface="Comic Sans MS"/>
              </a:rPr>
              <a:t>statu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rgbClr val="020507"/>
                </a:solidFill>
                <a:latin typeface="Comic Sans MS"/>
                <a:ea typeface="Comic Sans MS"/>
              </a:rPr>
              <a:t>(close t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rgbClr val="020507"/>
                </a:solidFill>
                <a:latin typeface="Comic Sans MS"/>
                <a:ea typeface="Comic Sans MS"/>
              </a:rPr>
              <a:t>undisturbed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rgbClr val="020507"/>
                </a:solidFill>
                <a:latin typeface="Comic Sans MS"/>
                <a:ea typeface="Comic Sans MS"/>
              </a:rPr>
              <a:t>condition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254160" y="1955880"/>
            <a:ext cx="2708280" cy="601560"/>
          </a:xfrm>
          <a:prstGeom prst="rect">
            <a:avLst/>
          </a:prstGeom>
          <a:solidFill>
            <a:srgbClr val="e3eafc"/>
          </a:solidFill>
          <a:ln w="12600">
            <a:solidFill>
              <a:srgbClr val="1a4e67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3d75d0"/>
                </a:solidFill>
                <a:latin typeface="Comic Sans MS"/>
                <a:ea typeface="Comic Sans MS"/>
              </a:rPr>
              <a:t>Chemical stat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 txBox="1"/>
          <p:nvPr/>
        </p:nvSpPr>
        <p:spPr>
          <a:xfrm>
            <a:off x="338040" y="5418000"/>
            <a:ext cx="2793960" cy="677880"/>
          </a:xfrm>
          <a:prstGeom prst="rect">
            <a:avLst/>
          </a:prstGeom>
          <a:solidFill>
            <a:srgbClr val="e3eafc"/>
          </a:solidFill>
          <a:ln w="12600">
            <a:solidFill>
              <a:srgbClr val="1a4e67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3d75d0"/>
                </a:solidFill>
                <a:latin typeface="Comic Sans MS"/>
                <a:ea typeface="Comic Sans MS"/>
              </a:rPr>
              <a:t>Ecological stat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5334120" y="2106720"/>
            <a:ext cx="0" cy="1353960"/>
          </a:xfrm>
          <a:prstGeom prst="line">
            <a:avLst/>
          </a:prstGeom>
          <a:ln w="76320">
            <a:solidFill>
              <a:srgbClr val="1a4e67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5334120" y="3687840"/>
            <a:ext cx="0" cy="1655640"/>
          </a:xfrm>
          <a:prstGeom prst="line">
            <a:avLst/>
          </a:prstGeom>
          <a:ln w="76320">
            <a:solidFill>
              <a:srgbClr val="1a4e67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6773760" y="3687840"/>
            <a:ext cx="0" cy="1655640"/>
          </a:xfrm>
          <a:prstGeom prst="line">
            <a:avLst/>
          </a:prstGeom>
          <a:ln w="76320">
            <a:solidFill>
              <a:srgbClr val="1a4e67"/>
            </a:solidFill>
            <a:custDash>
              <a:ds d="199528" sp="199528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8128080" y="3687840"/>
            <a:ext cx="0" cy="1655640"/>
          </a:xfrm>
          <a:prstGeom prst="line">
            <a:avLst/>
          </a:prstGeom>
          <a:ln w="76320">
            <a:solidFill>
              <a:srgbClr val="1a4e67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4572000" y="5267160"/>
            <a:ext cx="1270080" cy="622440"/>
          </a:xfrm>
          <a:prstGeom prst="rect">
            <a:avLst/>
          </a:prstGeom>
          <a:solidFill>
            <a:srgbClr val="fbfe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0033"/>
                </a:solidFill>
                <a:latin typeface="Comic Sans MS"/>
                <a:ea typeface="Comic Sans MS"/>
              </a:rPr>
              <a:t>targ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0033"/>
                </a:solidFill>
                <a:latin typeface="Comic Sans MS"/>
                <a:ea typeface="Comic Sans MS"/>
              </a:rPr>
              <a:t>stat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"/>
          <p:cNvSpPr txBox="1"/>
          <p:nvPr/>
        </p:nvSpPr>
        <p:spPr>
          <a:xfrm>
            <a:off x="6012000" y="5343480"/>
            <a:ext cx="1523880" cy="622440"/>
          </a:xfrm>
          <a:prstGeom prst="rect">
            <a:avLst/>
          </a:prstGeom>
          <a:solidFill>
            <a:srgbClr val="fbfe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0033"/>
                </a:solidFill>
                <a:latin typeface="Comic Sans MS"/>
                <a:ea typeface="Comic Sans MS"/>
              </a:rPr>
              <a:t>max. eco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0033"/>
                </a:solidFill>
                <a:latin typeface="Comic Sans MS"/>
                <a:ea typeface="Comic Sans MS"/>
              </a:rPr>
              <a:t>potent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/>
          <p:cNvSpPr txBox="1"/>
          <p:nvPr/>
        </p:nvSpPr>
        <p:spPr>
          <a:xfrm>
            <a:off x="7535880" y="5192640"/>
            <a:ext cx="1440000" cy="450720"/>
          </a:xfrm>
          <a:prstGeom prst="rect">
            <a:avLst/>
          </a:prstGeom>
          <a:solidFill>
            <a:srgbClr val="fbfe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0033"/>
                </a:solidFill>
                <a:latin typeface="Comic Sans MS"/>
                <a:ea typeface="Comic Sans MS"/>
              </a:rPr>
              <a:t>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>
            <a:off x="8467560" y="2859120"/>
            <a:ext cx="1353960" cy="601560"/>
          </a:xfrm>
          <a:prstGeom prst="rect">
            <a:avLst/>
          </a:prstGeom>
          <a:solidFill>
            <a:srgbClr val="fbfe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"/>
          <p:cNvSpPr txBox="1"/>
          <p:nvPr/>
        </p:nvSpPr>
        <p:spPr>
          <a:xfrm>
            <a:off x="84240" y="3913200"/>
            <a:ext cx="1100160" cy="527040"/>
          </a:xfrm>
          <a:prstGeom prst="rect">
            <a:avLst/>
          </a:prstGeom>
          <a:solidFill>
            <a:srgbClr val="fbfeff"/>
          </a:solidFill>
          <a:ln w="12600">
            <a:solidFill>
              <a:srgbClr val="1a4e67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1a4e67"/>
                </a:solidFill>
                <a:latin typeface="Times New Roman"/>
                <a:ea typeface="Times New Roman"/>
              </a:rPr>
              <a:t>bio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1a4e67"/>
                </a:solidFill>
                <a:latin typeface="Times New Roman"/>
                <a:ea typeface="Times New Roman"/>
              </a:rPr>
              <a:t>el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/>
          <p:cNvSpPr txBox="1"/>
          <p:nvPr/>
        </p:nvSpPr>
        <p:spPr>
          <a:xfrm>
            <a:off x="84240" y="4591080"/>
            <a:ext cx="1100160" cy="525600"/>
          </a:xfrm>
          <a:prstGeom prst="rect">
            <a:avLst/>
          </a:prstGeom>
          <a:solidFill>
            <a:srgbClr val="fbfeff"/>
          </a:solidFill>
          <a:ln w="12600">
            <a:solidFill>
              <a:srgbClr val="1a4e67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1a4e67"/>
                </a:solidFill>
                <a:latin typeface="Times New Roman"/>
                <a:ea typeface="Times New Roman"/>
              </a:rPr>
              <a:t>abio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1a4e67"/>
                </a:solidFill>
                <a:latin typeface="Times New Roman"/>
                <a:ea typeface="Times New Roman"/>
              </a:rPr>
              <a:t>el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1015920" y="4138560"/>
            <a:ext cx="676440" cy="0"/>
          </a:xfrm>
          <a:prstGeom prst="line">
            <a:avLst/>
          </a:prstGeom>
          <a:ln w="12600">
            <a:solidFill>
              <a:srgbClr val="1a4e67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>
            <a:off x="1015920" y="4890960"/>
            <a:ext cx="846360" cy="0"/>
          </a:xfrm>
          <a:prstGeom prst="line">
            <a:avLst/>
          </a:prstGeom>
          <a:ln w="12600">
            <a:solidFill>
              <a:srgbClr val="1a4e67"/>
            </a:solidFill>
            <a:custDash>
              <a:ds d="100000" sp="100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592200" y="1203480"/>
            <a:ext cx="88059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6666ff"/>
                </a:solidFill>
                <a:latin typeface="Comic Sans MS"/>
                <a:ea typeface="Comic Sans MS"/>
              </a:rPr>
              <a:t>Water-quality status = Chemical status + Ecological status / potent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 txBox="1"/>
          <p:nvPr/>
        </p:nvSpPr>
        <p:spPr>
          <a:xfrm>
            <a:off x="676440" y="149400"/>
            <a:ext cx="8467560" cy="903240"/>
          </a:xfrm>
          <a:prstGeom prst="rect">
            <a:avLst/>
          </a:prstGeom>
          <a:solidFill>
            <a:srgbClr val="e3eafc"/>
          </a:solidFill>
          <a:ln w="12600">
            <a:solidFill>
              <a:srgbClr val="1a4e67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i="1" lang="en-US" sz="2000" spc="-1" strike="noStrike">
                <a:solidFill>
                  <a:srgbClr val="040c0f"/>
                </a:solidFill>
                <a:latin typeface="Comic Sans MS"/>
                <a:ea typeface="Comic Sans MS"/>
              </a:rPr>
              <a:t>Figure 9.</a:t>
            </a:r>
            <a:r>
              <a:rPr b="0" lang="en-US" sz="2000" spc="-1" strike="noStrike">
                <a:solidFill>
                  <a:srgbClr val="040c0f"/>
                </a:solidFill>
                <a:latin typeface="Comic Sans MS"/>
                <a:ea typeface="Comic Sans MS"/>
              </a:rPr>
              <a:t>  Ecological assessment (classification &amp; present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40c0f"/>
                </a:solidFill>
                <a:latin typeface="Comic Sans MS"/>
                <a:ea typeface="Comic Sans MS"/>
              </a:rPr>
              <a:t>  </a:t>
            </a:r>
            <a:r>
              <a:rPr b="0" lang="en-US" sz="2000" spc="-1" strike="noStrike">
                <a:solidFill>
                  <a:srgbClr val="040c0f"/>
                </a:solidFill>
                <a:latin typeface="Comic Sans MS"/>
                <a:ea typeface="Comic Sans MS"/>
              </a:rPr>
              <a:t>according to EU Water Framework Direc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/>
          <p:cNvSpPr txBox="1"/>
          <p:nvPr/>
        </p:nvSpPr>
        <p:spPr>
          <a:xfrm>
            <a:off x="8194680" y="3144960"/>
            <a:ext cx="1731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1a4e67"/>
                </a:solidFill>
                <a:latin typeface="Comic Sans MS"/>
                <a:ea typeface="Comic Sans MS"/>
              </a:rPr>
              <a:t>yardsti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>
            <a:off x="8381880" y="3611520"/>
            <a:ext cx="1185840" cy="0"/>
          </a:xfrm>
          <a:prstGeom prst="line">
            <a:avLst/>
          </a:prstGeom>
          <a:ln w="38160">
            <a:solidFill>
              <a:srgbClr val="1a4e67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>
            <a:off x="6434280" y="3687840"/>
            <a:ext cx="1101600" cy="0"/>
          </a:xfrm>
          <a:prstGeom prst="line">
            <a:avLst/>
          </a:prstGeom>
          <a:ln w="25560">
            <a:solidFill>
              <a:srgbClr val="1a4e67"/>
            </a:solidFill>
            <a:custDash>
              <a:ds d="100000" sp="1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"/>
          <p:cNvSpPr txBox="1"/>
          <p:nvPr/>
        </p:nvSpPr>
        <p:spPr>
          <a:xfrm>
            <a:off x="762120" y="601560"/>
            <a:ext cx="8889840" cy="60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  <a:ea typeface="Comic Sans MS"/>
              </a:rPr>
              <a:t>ANALYSIS OF WATER  MANAGEMENT  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 txBox="1"/>
          <p:nvPr/>
        </p:nvSpPr>
        <p:spPr>
          <a:xfrm>
            <a:off x="1100160" y="1353960"/>
            <a:ext cx="804384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2400" spc="-1" strike="noStrike">
                <a:solidFill>
                  <a:srgbClr val="ffffcc"/>
                </a:solidFill>
                <a:latin typeface="Comic Sans MS"/>
                <a:ea typeface="Comic Sans MS"/>
              </a:rPr>
              <a:t>....... riparian countries need to </a:t>
            </a:r>
            <a:r>
              <a:rPr b="1" i="1" lang="en-US" sz="2400" spc="-1" strike="noStrike">
                <a:solidFill>
                  <a:srgbClr val="ffff00"/>
                </a:solidFill>
                <a:latin typeface="Comic Sans MS"/>
                <a:ea typeface="Comic Sans MS"/>
              </a:rPr>
              <a:t>individually</a:t>
            </a:r>
            <a:r>
              <a:rPr b="0" i="1" lang="en-US" sz="2400" spc="-1" strike="noStrike">
                <a:solidFill>
                  <a:srgbClr val="ffffcc"/>
                </a:solidFill>
                <a:latin typeface="Comic Sans MS"/>
                <a:ea typeface="Comic Sans MS"/>
              </a:rPr>
              <a:t> identif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en-US" sz="2400" spc="-1" strike="noStrike">
                <a:solidFill>
                  <a:srgbClr val="ffffcc"/>
                </a:solidFill>
                <a:latin typeface="Comic Sans MS"/>
                <a:ea typeface="Comic Sans MS"/>
              </a:rPr>
              <a:t>and </a:t>
            </a:r>
            <a:r>
              <a:rPr b="1" i="1" lang="en-US" sz="2400" spc="-1" strike="noStrike">
                <a:solidFill>
                  <a:srgbClr val="ffff00"/>
                </a:solidFill>
                <a:latin typeface="Comic Sans MS"/>
                <a:ea typeface="Comic Sans MS"/>
              </a:rPr>
              <a:t>collectively</a:t>
            </a:r>
            <a:r>
              <a:rPr b="0" i="1" lang="en-US" sz="2400" spc="-1" strike="noStrike">
                <a:solidFill>
                  <a:srgbClr val="ffffcc"/>
                </a:solidFill>
                <a:latin typeface="Comic Sans MS"/>
                <a:ea typeface="Comic Sans MS"/>
              </a:rPr>
              <a:t> agree up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"/>
          <p:cNvSpPr txBox="1"/>
          <p:nvPr/>
        </p:nvSpPr>
        <p:spPr>
          <a:xfrm>
            <a:off x="922320" y="2255760"/>
            <a:ext cx="7451640" cy="5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c0dced"/>
                </a:solidFill>
                <a:latin typeface="Comic Sans MS"/>
                <a:ea typeface="Comic Sans MS"/>
              </a:rPr>
              <a:t>a)  human 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  <a:ea typeface="Comic Sans MS"/>
              </a:rPr>
              <a:t>USES</a:t>
            </a:r>
            <a:r>
              <a:rPr b="0" lang="en-US" sz="2000" spc="-1" strike="noStrike">
                <a:solidFill>
                  <a:srgbClr val="c0dced"/>
                </a:solidFill>
                <a:latin typeface="Comic Sans MS"/>
                <a:ea typeface="Comic Sans MS"/>
              </a:rPr>
              <a:t> and ecological 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  <a:ea typeface="Comic Sans MS"/>
              </a:rPr>
              <a:t>FUNCTION</a:t>
            </a:r>
            <a:r>
              <a:rPr b="0" lang="en-US" sz="2000" spc="-1" strike="noStrike">
                <a:solidFill>
                  <a:srgbClr val="c0dced"/>
                </a:solidFill>
                <a:latin typeface="Comic Sans MS"/>
                <a:ea typeface="Comic Sans MS"/>
              </a:rPr>
              <a:t> of the river bas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"/>
          <p:cNvSpPr txBox="1"/>
          <p:nvPr/>
        </p:nvSpPr>
        <p:spPr>
          <a:xfrm>
            <a:off x="922320" y="2855880"/>
            <a:ext cx="67485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c0dced"/>
                </a:solidFill>
                <a:latin typeface="Comic Sans MS"/>
                <a:ea typeface="Comic Sans MS"/>
              </a:rPr>
              <a:t>b)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  <a:ea typeface="Comic Sans MS"/>
              </a:rPr>
              <a:t>  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  <a:ea typeface="Comic Sans MS"/>
              </a:rPr>
              <a:t>PROBLEMS</a:t>
            </a:r>
            <a:r>
              <a:rPr b="0" lang="en-US" sz="2000" spc="-1" strike="noStrike">
                <a:solidFill>
                  <a:srgbClr val="c0dced"/>
                </a:solidFill>
                <a:latin typeface="Comic Sans MS"/>
                <a:ea typeface="Comic Sans MS"/>
              </a:rPr>
              <a:t> </a:t>
            </a:r>
            <a:r>
              <a:rPr b="0" lang="en-US" sz="2000" spc="-1" strike="noStrike">
                <a:solidFill>
                  <a:srgbClr val="c0dced"/>
                </a:solidFill>
                <a:latin typeface="Comic Sans MS"/>
                <a:ea typeface="Comic Sans MS"/>
              </a:rPr>
              <a:t>which have impact on uses and fu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"/>
          <p:cNvSpPr txBox="1"/>
          <p:nvPr/>
        </p:nvSpPr>
        <p:spPr>
          <a:xfrm>
            <a:off x="820800" y="3456000"/>
            <a:ext cx="4716360" cy="3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c0dced"/>
                </a:solidFill>
                <a:latin typeface="Comic Sans MS"/>
                <a:ea typeface="Comic Sans MS"/>
              </a:rPr>
              <a:t>c)  existing and future 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  <a:ea typeface="Comic Sans MS"/>
              </a:rPr>
              <a:t>PRESS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"/>
          <p:cNvSpPr txBox="1"/>
          <p:nvPr/>
        </p:nvSpPr>
        <p:spPr>
          <a:xfrm>
            <a:off x="1006560" y="4057560"/>
            <a:ext cx="6207120" cy="3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c0dced"/>
                </a:solidFill>
                <a:latin typeface="Comic Sans MS"/>
                <a:ea typeface="Comic Sans MS"/>
              </a:rPr>
              <a:t>d)  impact of state of river on 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  <a:ea typeface="Comic Sans MS"/>
              </a:rPr>
              <a:t>RECEIVING WA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"/>
          <p:cNvSpPr txBox="1"/>
          <p:nvPr/>
        </p:nvSpPr>
        <p:spPr>
          <a:xfrm>
            <a:off x="1092240" y="4583160"/>
            <a:ext cx="668988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c0dced"/>
                </a:solidFill>
                <a:latin typeface="Comic Sans MS"/>
                <a:ea typeface="Comic Sans MS"/>
              </a:rPr>
              <a:t>e)  identify 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  <a:ea typeface="Comic Sans MS"/>
              </a:rPr>
              <a:t>MANAGEMENT TARGETS</a:t>
            </a:r>
            <a:r>
              <a:rPr b="0" lang="en-US" sz="2000" spc="-1" strike="noStrike">
                <a:solidFill>
                  <a:srgbClr val="c0dced"/>
                </a:solidFill>
                <a:latin typeface="Comic Sans MS"/>
                <a:ea typeface="Comic Sans MS"/>
              </a:rPr>
              <a:t> and quantify th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"/>
          <p:cNvSpPr txBox="1"/>
          <p:nvPr/>
        </p:nvSpPr>
        <p:spPr>
          <a:xfrm>
            <a:off x="676440" y="1366920"/>
            <a:ext cx="3979800" cy="826920"/>
          </a:xfrm>
          <a:prstGeom prst="rect">
            <a:avLst/>
          </a:prstGeom>
          <a:solidFill>
            <a:srgbClr val="33b272"/>
          </a:solidFill>
          <a:ln w="12600">
            <a:solidFill>
              <a:srgbClr val="9fede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  <a:ea typeface="Comic Sans MS"/>
              </a:rPr>
              <a:t>INVEN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 available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 txBox="1"/>
          <p:nvPr/>
        </p:nvSpPr>
        <p:spPr>
          <a:xfrm>
            <a:off x="676440" y="2419200"/>
            <a:ext cx="3979800" cy="727560"/>
          </a:xfrm>
          <a:prstGeom prst="rect">
            <a:avLst/>
          </a:prstGeom>
          <a:solidFill>
            <a:srgbClr val="33b272"/>
          </a:solidFill>
          <a:ln w="12600">
            <a:solidFill>
              <a:srgbClr val="9fede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  <a:ea typeface="Comic Sans MS"/>
              </a:rPr>
              <a:t>SURVE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if information is lac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676440" y="423720"/>
            <a:ext cx="3979800" cy="832680"/>
          </a:xfrm>
          <a:prstGeom prst="rect">
            <a:avLst/>
          </a:prstGeom>
          <a:solidFill>
            <a:srgbClr val="33b272"/>
          </a:solidFill>
          <a:ln w="12600">
            <a:solidFill>
              <a:srgbClr val="c0dced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identification of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  <a:ea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  <a:ea typeface="Comic Sans MS"/>
              </a:rPr>
              <a:t>USES /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 txBox="1"/>
          <p:nvPr/>
        </p:nvSpPr>
        <p:spPr>
          <a:xfrm>
            <a:off x="676440" y="3306600"/>
            <a:ext cx="3979800" cy="727560"/>
          </a:xfrm>
          <a:prstGeom prst="rect">
            <a:avLst/>
          </a:prstGeom>
          <a:solidFill>
            <a:srgbClr val="33b272"/>
          </a:solidFill>
          <a:ln w="12600">
            <a:solidFill>
              <a:srgbClr val="c0dced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  <a:ea typeface="Comic Sans MS"/>
              </a:rPr>
              <a:t>CRITERIA / TARGETS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for functions/uses and issu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 txBox="1"/>
          <p:nvPr/>
        </p:nvSpPr>
        <p:spPr>
          <a:xfrm>
            <a:off x="660240" y="4224240"/>
            <a:ext cx="3962520" cy="762120"/>
          </a:xfrm>
          <a:prstGeom prst="rect">
            <a:avLst/>
          </a:prstGeom>
          <a:solidFill>
            <a:srgbClr val="33b272"/>
          </a:solidFill>
          <a:ln w="12600">
            <a:solidFill>
              <a:srgbClr val="c0dced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  <a:ea typeface="Comic Sans MS"/>
              </a:rPr>
              <a:t>LEGIS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valuation of classification systems</a:t>
            </a:r>
            <a:r>
              <a:rPr b="0" lang="en-US" sz="1800" spc="-1" strike="noStrike">
                <a:solidFill>
                  <a:srgbClr val="c0dced"/>
                </a:solidFill>
                <a:latin typeface="Times New Roman"/>
                <a:ea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>
            <a:off x="4656240" y="905040"/>
            <a:ext cx="339480" cy="0"/>
          </a:xfrm>
          <a:prstGeom prst="line">
            <a:avLst/>
          </a:prstGeom>
          <a:ln w="12600">
            <a:solidFill>
              <a:srgbClr val="c0dce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>
            <a:off x="4699080" y="1862280"/>
            <a:ext cx="304560" cy="0"/>
          </a:xfrm>
          <a:prstGeom prst="line">
            <a:avLst/>
          </a:prstGeom>
          <a:ln w="12600">
            <a:solidFill>
              <a:srgbClr val="c0dce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"/>
          <p:cNvSpPr/>
          <p:nvPr/>
        </p:nvSpPr>
        <p:spPr>
          <a:xfrm>
            <a:off x="4656240" y="2782800"/>
            <a:ext cx="339480" cy="0"/>
          </a:xfrm>
          <a:prstGeom prst="line">
            <a:avLst/>
          </a:prstGeom>
          <a:ln w="12600">
            <a:solidFill>
              <a:srgbClr val="c0dce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>
            <a:off x="4656240" y="3683160"/>
            <a:ext cx="339480" cy="0"/>
          </a:xfrm>
          <a:prstGeom prst="line">
            <a:avLst/>
          </a:prstGeom>
          <a:ln w="12600">
            <a:solidFill>
              <a:srgbClr val="c0dce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>
            <a:off x="4622760" y="4681440"/>
            <a:ext cx="380880" cy="0"/>
          </a:xfrm>
          <a:prstGeom prst="line">
            <a:avLst/>
          </a:prstGeom>
          <a:ln w="12600">
            <a:solidFill>
              <a:srgbClr val="4dd1d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>
            <a:off x="5003640" y="947880"/>
            <a:ext cx="0" cy="3733560"/>
          </a:xfrm>
          <a:prstGeom prst="line">
            <a:avLst/>
          </a:prstGeom>
          <a:ln w="12600">
            <a:solidFill>
              <a:srgbClr val="c0dce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>
            <a:off x="5003640" y="3081240"/>
            <a:ext cx="1067040" cy="0"/>
          </a:xfrm>
          <a:prstGeom prst="line">
            <a:avLst/>
          </a:prstGeom>
          <a:ln w="12600">
            <a:solidFill>
              <a:srgbClr val="c0dce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"/>
          <p:cNvSpPr txBox="1"/>
          <p:nvPr/>
        </p:nvSpPr>
        <p:spPr>
          <a:xfrm>
            <a:off x="6070680" y="2568600"/>
            <a:ext cx="3809880" cy="977760"/>
          </a:xfrm>
          <a:prstGeom prst="rect">
            <a:avLst/>
          </a:prstGeom>
          <a:solidFill>
            <a:srgbClr val="33b272"/>
          </a:solidFill>
          <a:ln w="12600">
            <a:solidFill>
              <a:srgbClr val="c0dced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  <a:ea typeface="Comic Sans MS"/>
              </a:rPr>
              <a:t>ANALYSIS OF WA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  <a:ea typeface="Comic Sans MS"/>
              </a:rPr>
              <a:t>MANAGEMENT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>
            <a:off x="7713720" y="3699000"/>
            <a:ext cx="338400" cy="451080"/>
          </a:xfrm>
          <a:custGeom>
            <a:avLst/>
            <a:gdLst/>
            <a:ahLst/>
            <a:rect l="0" t="0" r="r" b="b"/>
            <a:pathLst>
              <a:path w="940" h="1253">
                <a:moveTo>
                  <a:pt x="0" y="417"/>
                </a:moveTo>
                <a:lnTo>
                  <a:pt x="0" y="835"/>
                </a:lnTo>
                <a:lnTo>
                  <a:pt x="658" y="835"/>
                </a:lnTo>
                <a:lnTo>
                  <a:pt x="658" y="1253"/>
                </a:lnTo>
                <a:lnTo>
                  <a:pt x="940" y="627"/>
                </a:lnTo>
                <a:lnTo>
                  <a:pt x="658" y="0"/>
                </a:lnTo>
                <a:lnTo>
                  <a:pt x="658" y="417"/>
                </a:lnTo>
                <a:lnTo>
                  <a:pt x="0" y="417"/>
                </a:lnTo>
                <a:close/>
              </a:path>
            </a:pathLst>
          </a:custGeom>
          <a:solidFill>
            <a:srgbClr val="9fede8"/>
          </a:solidFill>
          <a:ln w="12600">
            <a:solidFill>
              <a:srgbClr val="c0dced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"/>
          <p:cNvSpPr txBox="1"/>
          <p:nvPr/>
        </p:nvSpPr>
        <p:spPr>
          <a:xfrm>
            <a:off x="6189840" y="4149720"/>
            <a:ext cx="3471840" cy="903240"/>
          </a:xfrm>
          <a:prstGeom prst="rect">
            <a:avLst/>
          </a:prstGeom>
          <a:solidFill>
            <a:srgbClr val="ff6633"/>
          </a:solidFill>
          <a:ln w="12600">
            <a:solidFill>
              <a:srgbClr val="c0dced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  <a:ea typeface="Comic Sans MS"/>
              </a:rPr>
              <a:t>INFORM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  <a:ea typeface="Comic Sans MS"/>
              </a:rPr>
              <a:t>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"/>
          <p:cNvSpPr/>
          <p:nvPr/>
        </p:nvSpPr>
        <p:spPr>
          <a:xfrm>
            <a:off x="1346040" y="1023840"/>
            <a:ext cx="4281480" cy="4114800"/>
          </a:xfrm>
          <a:prstGeom prst="ellipse">
            <a:avLst/>
          </a:prstGeom>
          <a:solidFill>
            <a:srgbClr val="bdf3c9"/>
          </a:solidFill>
          <a:ln w="25560">
            <a:solidFill>
              <a:srgbClr val="4dd1d8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>
            <a:off x="2813040" y="1785960"/>
            <a:ext cx="4400640" cy="4159080"/>
          </a:xfrm>
          <a:prstGeom prst="ellipse">
            <a:avLst/>
          </a:prstGeom>
          <a:solidFill>
            <a:srgbClr val="e75827"/>
          </a:solidFill>
          <a:ln w="25560">
            <a:solidFill>
              <a:srgbClr val="ffff3b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"/>
          <p:cNvSpPr txBox="1"/>
          <p:nvPr/>
        </p:nvSpPr>
        <p:spPr>
          <a:xfrm>
            <a:off x="2101680" y="1508040"/>
            <a:ext cx="22924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c62833"/>
                </a:solidFill>
                <a:latin typeface="Comic Sans MS"/>
                <a:ea typeface="Comic Sans MS"/>
              </a:rPr>
              <a:t>BEST AVAILABLE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"/>
          <p:cNvSpPr txBox="1"/>
          <p:nvPr/>
        </p:nvSpPr>
        <p:spPr>
          <a:xfrm>
            <a:off x="2946240" y="3213000"/>
            <a:ext cx="21337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3b"/>
                </a:solidFill>
                <a:latin typeface="Comic Sans MS"/>
                <a:ea typeface="Comic Sans MS"/>
              </a:rPr>
              <a:t>BEST NEEDED INFORM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>
            <a:off x="4167360" y="1406520"/>
            <a:ext cx="3964320" cy="4993200"/>
          </a:xfrm>
          <a:custGeom>
            <a:avLst/>
            <a:gdLst/>
            <a:ahLst/>
            <a:rect l="0" t="0" r="r" b="b"/>
            <a:pathLst>
              <a:path w="11012" h="13870">
                <a:moveTo>
                  <a:pt x="11012" y="13870"/>
                </a:moveTo>
                <a:lnTo>
                  <a:pt x="11012" y="0"/>
                </a:lnTo>
                <a:lnTo>
                  <a:pt x="11012" y="0"/>
                </a:lnTo>
                <a:lnTo>
                  <a:pt x="11012" y="0"/>
                </a:lnTo>
                <a:cubicBezTo>
                  <a:pt x="9079" y="0"/>
                  <a:pt x="7180" y="641"/>
                  <a:pt x="5506" y="1858"/>
                </a:cubicBezTo>
                <a:cubicBezTo>
                  <a:pt x="3832" y="3076"/>
                  <a:pt x="2442" y="4826"/>
                  <a:pt x="1475" y="6935"/>
                </a:cubicBezTo>
                <a:cubicBezTo>
                  <a:pt x="511" y="9039"/>
                  <a:pt x="2" y="11425"/>
                  <a:pt x="0" y="13855"/>
                </a:cubicBezTo>
                <a:lnTo>
                  <a:pt x="11012" y="13870"/>
                </a:lnTo>
                <a:close/>
              </a:path>
            </a:pathLst>
          </a:custGeom>
          <a:solidFill>
            <a:srgbClr val="176689"/>
          </a:solidFill>
          <a:ln w="25560">
            <a:solidFill>
              <a:srgbClr val="4dd1d8"/>
            </a:solidFill>
            <a:custDash>
              <a:ds d="397183" sp="397183"/>
            </a:custDash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6408720" y="2557440"/>
            <a:ext cx="179856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e3eafc"/>
                </a:solidFill>
                <a:latin typeface="Comic Sans MS"/>
                <a:ea typeface="Comic Sans MS"/>
              </a:rPr>
              <a:t>UNKN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"/>
          <p:cNvSpPr txBox="1"/>
          <p:nvPr/>
        </p:nvSpPr>
        <p:spPr>
          <a:xfrm>
            <a:off x="5548320" y="3987720"/>
            <a:ext cx="156384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c0dced"/>
                </a:solidFill>
                <a:latin typeface="Comic Sans MS"/>
                <a:ea typeface="Comic Sans MS"/>
              </a:rPr>
              <a:t>UNKN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"/>
          <p:cNvSpPr txBox="1"/>
          <p:nvPr/>
        </p:nvSpPr>
        <p:spPr>
          <a:xfrm>
            <a:off x="5315040" y="5643720"/>
            <a:ext cx="171936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c0dced"/>
                </a:solidFill>
                <a:latin typeface="Comic Sans MS"/>
                <a:ea typeface="Comic Sans MS"/>
              </a:rPr>
              <a:t>UNKN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"/>
          <p:cNvSpPr/>
          <p:nvPr/>
        </p:nvSpPr>
        <p:spPr>
          <a:xfrm>
            <a:off x="7502400" y="2031840"/>
            <a:ext cx="782640" cy="676440"/>
          </a:xfrm>
          <a:prstGeom prst="line">
            <a:avLst/>
          </a:prstGeom>
          <a:ln w="12600">
            <a:solidFill>
              <a:srgbClr val="4dd1d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>
            <a:off x="6956280" y="2257560"/>
            <a:ext cx="390600" cy="299880"/>
          </a:xfrm>
          <a:prstGeom prst="line">
            <a:avLst/>
          </a:prstGeom>
          <a:ln w="12600">
            <a:solidFill>
              <a:srgbClr val="4dd1d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>
            <a:off x="6253200" y="2708280"/>
            <a:ext cx="1015920" cy="903240"/>
          </a:xfrm>
          <a:prstGeom prst="line">
            <a:avLst/>
          </a:prstGeom>
          <a:ln w="12600">
            <a:solidFill>
              <a:srgbClr val="4dd1d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>
            <a:off x="5861160" y="3235320"/>
            <a:ext cx="704880" cy="601560"/>
          </a:xfrm>
          <a:prstGeom prst="line">
            <a:avLst/>
          </a:prstGeom>
          <a:ln w="12600">
            <a:solidFill>
              <a:srgbClr val="4dd1d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>
            <a:off x="5548320" y="3762360"/>
            <a:ext cx="235080" cy="225360"/>
          </a:xfrm>
          <a:prstGeom prst="line">
            <a:avLst/>
          </a:prstGeom>
          <a:ln w="12600">
            <a:solidFill>
              <a:srgbClr val="4dd1d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>
            <a:off x="5315040" y="4363920"/>
            <a:ext cx="1171440" cy="1054080"/>
          </a:xfrm>
          <a:prstGeom prst="line">
            <a:avLst/>
          </a:prstGeom>
          <a:ln w="12600">
            <a:solidFill>
              <a:srgbClr val="4dd1d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>
            <a:off x="5157720" y="4967280"/>
            <a:ext cx="77760" cy="74520"/>
          </a:xfrm>
          <a:prstGeom prst="line">
            <a:avLst/>
          </a:prstGeom>
          <a:ln w="12600">
            <a:solidFill>
              <a:srgbClr val="4dd1d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>
            <a:off x="5470560" y="5267160"/>
            <a:ext cx="312840" cy="301680"/>
          </a:xfrm>
          <a:prstGeom prst="line">
            <a:avLst/>
          </a:prstGeom>
          <a:ln w="12600">
            <a:solidFill>
              <a:srgbClr val="4dd1d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>
            <a:off x="5002200" y="5794200"/>
            <a:ext cx="781200" cy="601920"/>
          </a:xfrm>
          <a:prstGeom prst="line">
            <a:avLst/>
          </a:prstGeom>
          <a:ln w="12600">
            <a:solidFill>
              <a:srgbClr val="4dd1d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>
            <a:off x="6095880" y="4289400"/>
            <a:ext cx="470160" cy="376200"/>
          </a:xfrm>
          <a:prstGeom prst="line">
            <a:avLst/>
          </a:prstGeom>
          <a:ln w="12600">
            <a:solidFill>
              <a:srgbClr val="4dd1d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"/>
          <p:cNvSpPr txBox="1"/>
          <p:nvPr/>
        </p:nvSpPr>
        <p:spPr>
          <a:xfrm>
            <a:off x="676440" y="1366920"/>
            <a:ext cx="3979800" cy="826920"/>
          </a:xfrm>
          <a:prstGeom prst="rect">
            <a:avLst/>
          </a:prstGeom>
          <a:solidFill>
            <a:srgbClr val="33b272"/>
          </a:solidFill>
          <a:ln w="12600">
            <a:solidFill>
              <a:srgbClr val="9fede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  <a:ea typeface="Comic Sans MS"/>
              </a:rPr>
              <a:t>INVEN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 available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"/>
          <p:cNvSpPr txBox="1"/>
          <p:nvPr/>
        </p:nvSpPr>
        <p:spPr>
          <a:xfrm>
            <a:off x="676440" y="2419200"/>
            <a:ext cx="3979800" cy="727560"/>
          </a:xfrm>
          <a:prstGeom prst="rect">
            <a:avLst/>
          </a:prstGeom>
          <a:solidFill>
            <a:srgbClr val="33b272"/>
          </a:solidFill>
          <a:ln w="12600">
            <a:solidFill>
              <a:srgbClr val="9fede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  <a:ea typeface="Comic Sans MS"/>
              </a:rPr>
              <a:t>SURVE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if information is lac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"/>
          <p:cNvSpPr txBox="1"/>
          <p:nvPr/>
        </p:nvSpPr>
        <p:spPr>
          <a:xfrm>
            <a:off x="676440" y="423720"/>
            <a:ext cx="3979800" cy="832680"/>
          </a:xfrm>
          <a:prstGeom prst="rect">
            <a:avLst/>
          </a:prstGeom>
          <a:solidFill>
            <a:srgbClr val="33b272"/>
          </a:solidFill>
          <a:ln w="12600">
            <a:solidFill>
              <a:srgbClr val="c0dced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identification of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  <a:ea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  <a:ea typeface="Comic Sans MS"/>
              </a:rPr>
              <a:t>USES /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"/>
          <p:cNvSpPr txBox="1"/>
          <p:nvPr/>
        </p:nvSpPr>
        <p:spPr>
          <a:xfrm>
            <a:off x="676440" y="3306600"/>
            <a:ext cx="3979800" cy="727560"/>
          </a:xfrm>
          <a:prstGeom prst="rect">
            <a:avLst/>
          </a:prstGeom>
          <a:solidFill>
            <a:srgbClr val="33b272"/>
          </a:solidFill>
          <a:ln w="12600">
            <a:solidFill>
              <a:srgbClr val="c0dced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  <a:ea typeface="Comic Sans MS"/>
              </a:rPr>
              <a:t>CRITERIA / TARGETS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for functions/uses and issu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"/>
          <p:cNvSpPr txBox="1"/>
          <p:nvPr/>
        </p:nvSpPr>
        <p:spPr>
          <a:xfrm>
            <a:off x="660240" y="4224240"/>
            <a:ext cx="3962520" cy="762120"/>
          </a:xfrm>
          <a:prstGeom prst="rect">
            <a:avLst/>
          </a:prstGeom>
          <a:solidFill>
            <a:srgbClr val="33b272"/>
          </a:solidFill>
          <a:ln w="12600">
            <a:solidFill>
              <a:srgbClr val="c0dced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  <a:ea typeface="Comic Sans MS"/>
              </a:rPr>
              <a:t>LEGIS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valuation of classification systems</a:t>
            </a:r>
            <a:r>
              <a:rPr b="0" lang="en-US" sz="1800" spc="-1" strike="noStrike">
                <a:solidFill>
                  <a:srgbClr val="c0dced"/>
                </a:solidFill>
                <a:latin typeface="Times New Roman"/>
                <a:ea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>
            <a:off x="4656240" y="905040"/>
            <a:ext cx="339480" cy="0"/>
          </a:xfrm>
          <a:prstGeom prst="line">
            <a:avLst/>
          </a:prstGeom>
          <a:ln w="12600">
            <a:solidFill>
              <a:srgbClr val="c0dce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>
            <a:off x="4699080" y="1862280"/>
            <a:ext cx="304560" cy="0"/>
          </a:xfrm>
          <a:prstGeom prst="line">
            <a:avLst/>
          </a:prstGeom>
          <a:ln w="12600">
            <a:solidFill>
              <a:srgbClr val="c0dce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>
            <a:off x="4656240" y="2782800"/>
            <a:ext cx="339480" cy="0"/>
          </a:xfrm>
          <a:prstGeom prst="line">
            <a:avLst/>
          </a:prstGeom>
          <a:ln w="12600">
            <a:solidFill>
              <a:srgbClr val="c0dce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"/>
          <p:cNvSpPr/>
          <p:nvPr/>
        </p:nvSpPr>
        <p:spPr>
          <a:xfrm>
            <a:off x="4656240" y="3683160"/>
            <a:ext cx="339480" cy="0"/>
          </a:xfrm>
          <a:prstGeom prst="line">
            <a:avLst/>
          </a:prstGeom>
          <a:ln w="12600">
            <a:solidFill>
              <a:srgbClr val="c0dce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"/>
          <p:cNvSpPr/>
          <p:nvPr/>
        </p:nvSpPr>
        <p:spPr>
          <a:xfrm>
            <a:off x="4622760" y="4681440"/>
            <a:ext cx="380880" cy="0"/>
          </a:xfrm>
          <a:prstGeom prst="line">
            <a:avLst/>
          </a:prstGeom>
          <a:ln w="12600">
            <a:solidFill>
              <a:srgbClr val="4dd1d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>
            <a:off x="5003640" y="947880"/>
            <a:ext cx="0" cy="3733560"/>
          </a:xfrm>
          <a:prstGeom prst="line">
            <a:avLst/>
          </a:prstGeom>
          <a:ln w="12600">
            <a:solidFill>
              <a:srgbClr val="c0dce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>
            <a:off x="5003640" y="3081240"/>
            <a:ext cx="1067040" cy="0"/>
          </a:xfrm>
          <a:prstGeom prst="line">
            <a:avLst/>
          </a:prstGeom>
          <a:ln w="12600">
            <a:solidFill>
              <a:srgbClr val="c0dce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"/>
          <p:cNvSpPr txBox="1"/>
          <p:nvPr/>
        </p:nvSpPr>
        <p:spPr>
          <a:xfrm>
            <a:off x="6070680" y="2568600"/>
            <a:ext cx="3809880" cy="977760"/>
          </a:xfrm>
          <a:prstGeom prst="rect">
            <a:avLst/>
          </a:prstGeom>
          <a:solidFill>
            <a:srgbClr val="33b272"/>
          </a:solidFill>
          <a:ln w="12600">
            <a:solidFill>
              <a:srgbClr val="c0dced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  <a:ea typeface="Comic Sans MS"/>
              </a:rPr>
              <a:t>ANALYSIS OF WA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  <a:ea typeface="Comic Sans MS"/>
              </a:rPr>
              <a:t>MANAGEMENT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>
            <a:off x="7713720" y="3699000"/>
            <a:ext cx="338400" cy="451080"/>
          </a:xfrm>
          <a:custGeom>
            <a:avLst/>
            <a:gdLst/>
            <a:ahLst/>
            <a:rect l="0" t="0" r="r" b="b"/>
            <a:pathLst>
              <a:path w="940" h="1253">
                <a:moveTo>
                  <a:pt x="0" y="417"/>
                </a:moveTo>
                <a:lnTo>
                  <a:pt x="0" y="835"/>
                </a:lnTo>
                <a:lnTo>
                  <a:pt x="658" y="835"/>
                </a:lnTo>
                <a:lnTo>
                  <a:pt x="658" y="1253"/>
                </a:lnTo>
                <a:lnTo>
                  <a:pt x="940" y="627"/>
                </a:lnTo>
                <a:lnTo>
                  <a:pt x="658" y="0"/>
                </a:lnTo>
                <a:lnTo>
                  <a:pt x="658" y="417"/>
                </a:lnTo>
                <a:lnTo>
                  <a:pt x="0" y="417"/>
                </a:lnTo>
                <a:close/>
              </a:path>
            </a:pathLst>
          </a:custGeom>
          <a:solidFill>
            <a:srgbClr val="9fede8"/>
          </a:solidFill>
          <a:ln w="12600">
            <a:solidFill>
              <a:srgbClr val="c0dced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/>
          <p:cNvSpPr txBox="1"/>
          <p:nvPr/>
        </p:nvSpPr>
        <p:spPr>
          <a:xfrm>
            <a:off x="6189840" y="4149720"/>
            <a:ext cx="3471840" cy="903240"/>
          </a:xfrm>
          <a:prstGeom prst="rect">
            <a:avLst/>
          </a:prstGeom>
          <a:solidFill>
            <a:srgbClr val="ff6633"/>
          </a:solidFill>
          <a:ln w="12600">
            <a:solidFill>
              <a:srgbClr val="c0dced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  <a:ea typeface="Comic Sans MS"/>
              </a:rPr>
              <a:t>INFORM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  <a:ea typeface="Comic Sans MS"/>
              </a:rPr>
              <a:t>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"/>
          <p:cNvSpPr/>
          <p:nvPr/>
        </p:nvSpPr>
        <p:spPr>
          <a:xfrm>
            <a:off x="0" y="0"/>
            <a:ext cx="10159920" cy="6772320"/>
          </a:xfrm>
          <a:prstGeom prst="rect">
            <a:avLst/>
          </a:prstGeom>
          <a:solidFill>
            <a:srgbClr val="fdfe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"/>
          <p:cNvSpPr txBox="1"/>
          <p:nvPr/>
        </p:nvSpPr>
        <p:spPr>
          <a:xfrm>
            <a:off x="1117440" y="1100160"/>
            <a:ext cx="2819520" cy="1371600"/>
          </a:xfrm>
          <a:prstGeom prst="rect">
            <a:avLst/>
          </a:prstGeom>
          <a:solidFill>
            <a:srgbClr val="3d75d0"/>
          </a:solidFill>
          <a:ln w="25560">
            <a:solidFill>
              <a:srgbClr val="ec1c06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2400" spc="-1" strike="noStrike">
                <a:solidFill>
                  <a:srgbClr val="fdfeff"/>
                </a:solidFill>
                <a:latin typeface="Comic Sans MS"/>
                <a:ea typeface="Comic Sans MS"/>
              </a:rPr>
              <a:t>Driving fo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"/>
          <p:cNvSpPr txBox="1"/>
          <p:nvPr/>
        </p:nvSpPr>
        <p:spPr>
          <a:xfrm>
            <a:off x="1346040" y="3233880"/>
            <a:ext cx="2514600" cy="1447920"/>
          </a:xfrm>
          <a:prstGeom prst="rect">
            <a:avLst/>
          </a:prstGeom>
          <a:solidFill>
            <a:srgbClr val="3d75d0"/>
          </a:solidFill>
          <a:ln w="25560">
            <a:solidFill>
              <a:srgbClr val="ec1c06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2400" spc="-1" strike="noStrike">
                <a:solidFill>
                  <a:srgbClr val="fdfeff"/>
                </a:solidFill>
                <a:latin typeface="Comic Sans MS"/>
                <a:ea typeface="Comic Sans MS"/>
              </a:rPr>
              <a:t>Pres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"/>
          <p:cNvSpPr txBox="1"/>
          <p:nvPr/>
        </p:nvSpPr>
        <p:spPr>
          <a:xfrm>
            <a:off x="3556080" y="4681440"/>
            <a:ext cx="2590920" cy="1371600"/>
          </a:xfrm>
          <a:prstGeom prst="rect">
            <a:avLst/>
          </a:prstGeom>
          <a:solidFill>
            <a:srgbClr val="3d75d0"/>
          </a:solidFill>
          <a:ln w="25560">
            <a:solidFill>
              <a:srgbClr val="ec1c06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2400" spc="-1" strike="noStrike">
                <a:solidFill>
                  <a:srgbClr val="fdfeff"/>
                </a:solidFill>
                <a:latin typeface="Comic Sans MS"/>
                <a:ea typeface="Comic Sans MS"/>
              </a:rPr>
              <a:t>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"/>
          <p:cNvSpPr txBox="1"/>
          <p:nvPr/>
        </p:nvSpPr>
        <p:spPr>
          <a:xfrm>
            <a:off x="6451560" y="3386160"/>
            <a:ext cx="2514600" cy="1447920"/>
          </a:xfrm>
          <a:prstGeom prst="rect">
            <a:avLst/>
          </a:prstGeom>
          <a:solidFill>
            <a:srgbClr val="3d75d0"/>
          </a:solidFill>
          <a:ln w="25560">
            <a:solidFill>
              <a:srgbClr val="ec1c06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2400" spc="-1" strike="noStrike">
                <a:solidFill>
                  <a:srgbClr val="fdfeff"/>
                </a:solidFill>
                <a:latin typeface="Comic Sans MS"/>
                <a:ea typeface="Comic Sans MS"/>
              </a:rPr>
              <a:t>Imp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"/>
          <p:cNvSpPr txBox="1"/>
          <p:nvPr/>
        </p:nvSpPr>
        <p:spPr>
          <a:xfrm>
            <a:off x="6222960" y="871560"/>
            <a:ext cx="2743200" cy="1600200"/>
          </a:xfrm>
          <a:prstGeom prst="rect">
            <a:avLst/>
          </a:prstGeom>
          <a:solidFill>
            <a:srgbClr val="3d75d0"/>
          </a:solidFill>
          <a:ln w="25560">
            <a:solidFill>
              <a:srgbClr val="ec1c06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2400" spc="-1" strike="noStrike">
                <a:solidFill>
                  <a:srgbClr val="fdfeff"/>
                </a:solidFill>
                <a:latin typeface="Comic Sans MS"/>
                <a:ea typeface="Comic Sans MS"/>
              </a:rPr>
              <a:t>Respon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"/>
          <p:cNvSpPr/>
          <p:nvPr/>
        </p:nvSpPr>
        <p:spPr>
          <a:xfrm flipH="1">
            <a:off x="4013280" y="1633680"/>
            <a:ext cx="2057400" cy="75960"/>
          </a:xfrm>
          <a:prstGeom prst="line">
            <a:avLst/>
          </a:prstGeom>
          <a:ln w="25560">
            <a:solidFill>
              <a:srgbClr val="ec1c0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 flipH="1">
            <a:off x="3860640" y="2243160"/>
            <a:ext cx="2514600" cy="1371600"/>
          </a:xfrm>
          <a:prstGeom prst="line">
            <a:avLst/>
          </a:prstGeom>
          <a:ln w="25560">
            <a:solidFill>
              <a:srgbClr val="ec1c0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 flipH="1">
            <a:off x="5384880" y="2471760"/>
            <a:ext cx="1523880" cy="2057400"/>
          </a:xfrm>
          <a:prstGeom prst="line">
            <a:avLst/>
          </a:prstGeom>
          <a:ln w="25560">
            <a:solidFill>
              <a:srgbClr val="ec1c0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"/>
          <p:cNvSpPr/>
          <p:nvPr/>
        </p:nvSpPr>
        <p:spPr>
          <a:xfrm flipV="1">
            <a:off x="6146640" y="4681440"/>
            <a:ext cx="609840" cy="381240"/>
          </a:xfrm>
          <a:prstGeom prst="line">
            <a:avLst/>
          </a:prstGeom>
          <a:ln w="25560">
            <a:solidFill>
              <a:srgbClr val="ec1c0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>
            <a:off x="7442280" y="2548080"/>
            <a:ext cx="152280" cy="761760"/>
          </a:xfrm>
          <a:prstGeom prst="line">
            <a:avLst/>
          </a:prstGeom>
          <a:ln w="25560">
            <a:solidFill>
              <a:srgbClr val="ec1c0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 flipH="1">
            <a:off x="7975440" y="2471760"/>
            <a:ext cx="152640" cy="838080"/>
          </a:xfrm>
          <a:prstGeom prst="line">
            <a:avLst/>
          </a:prstGeom>
          <a:ln w="25560">
            <a:solidFill>
              <a:srgbClr val="ec1c06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"/>
          <p:cNvSpPr/>
          <p:nvPr/>
        </p:nvSpPr>
        <p:spPr>
          <a:xfrm>
            <a:off x="1879560" y="2471760"/>
            <a:ext cx="228600" cy="838080"/>
          </a:xfrm>
          <a:prstGeom prst="line">
            <a:avLst/>
          </a:prstGeom>
          <a:ln w="25560">
            <a:solidFill>
              <a:srgbClr val="ec1c0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>
            <a:off x="3174840" y="4681440"/>
            <a:ext cx="533520" cy="381240"/>
          </a:xfrm>
          <a:prstGeom prst="line">
            <a:avLst/>
          </a:prstGeom>
          <a:ln w="25560">
            <a:solidFill>
              <a:srgbClr val="ec1c0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"/>
          <p:cNvSpPr txBox="1"/>
          <p:nvPr/>
        </p:nvSpPr>
        <p:spPr>
          <a:xfrm>
            <a:off x="3860640" y="1862280"/>
            <a:ext cx="2438280" cy="762120"/>
          </a:xfrm>
          <a:prstGeom prst="rect">
            <a:avLst/>
          </a:prstGeom>
          <a:solidFill>
            <a:srgbClr val="d6ff27"/>
          </a:solidFill>
          <a:ln w="12600">
            <a:solidFill>
              <a:srgbClr val="4dd1d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2400" spc="-1" strike="noStrike">
                <a:solidFill>
                  <a:srgbClr val="e11f29"/>
                </a:solidFill>
                <a:latin typeface="Comic Sans MS"/>
                <a:ea typeface="Comic Sans MS"/>
              </a:rPr>
              <a:t>Monito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1" lang="en-US" sz="2400" spc="-1" strike="noStrike">
                <a:solidFill>
                  <a:srgbClr val="e11f29"/>
                </a:solidFill>
                <a:latin typeface="Comic Sans MS"/>
                <a:ea typeface="Comic Sans MS"/>
              </a:rPr>
              <a:t>Survey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"/>
          <p:cNvSpPr txBox="1"/>
          <p:nvPr/>
        </p:nvSpPr>
        <p:spPr>
          <a:xfrm>
            <a:off x="3860640" y="3157560"/>
            <a:ext cx="2438280" cy="838080"/>
          </a:xfrm>
          <a:prstGeom prst="rect">
            <a:avLst/>
          </a:prstGeom>
          <a:solidFill>
            <a:srgbClr val="d6ff27"/>
          </a:solidFill>
          <a:ln w="12600">
            <a:solidFill>
              <a:srgbClr val="4dd1d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2400" spc="-1" strike="noStrike">
                <a:solidFill>
                  <a:srgbClr val="e11f29"/>
                </a:solidFill>
                <a:latin typeface="Comic Sans MS"/>
                <a:ea typeface="Comic Sans MS"/>
              </a:rPr>
              <a:t>Exper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1" lang="en-US" sz="2400" spc="-1" strike="noStrike">
                <a:solidFill>
                  <a:srgbClr val="e11f29"/>
                </a:solidFill>
                <a:latin typeface="Comic Sans MS"/>
                <a:ea typeface="Comic Sans MS"/>
              </a:rPr>
              <a:t>jud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"/>
          <p:cNvSpPr txBox="1"/>
          <p:nvPr/>
        </p:nvSpPr>
        <p:spPr>
          <a:xfrm>
            <a:off x="3936960" y="4605480"/>
            <a:ext cx="2362320" cy="609480"/>
          </a:xfrm>
          <a:prstGeom prst="rect">
            <a:avLst/>
          </a:prstGeom>
          <a:solidFill>
            <a:srgbClr val="d6ff27"/>
          </a:solidFill>
          <a:ln w="12600">
            <a:solidFill>
              <a:srgbClr val="4dd1d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2400" spc="-1" strike="noStrike">
                <a:solidFill>
                  <a:srgbClr val="e11f29"/>
                </a:solidFill>
                <a:latin typeface="Comic Sans MS"/>
                <a:ea typeface="Comic Sans MS"/>
              </a:rPr>
              <a:t>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 txBox="1"/>
          <p:nvPr/>
        </p:nvSpPr>
        <p:spPr>
          <a:xfrm>
            <a:off x="3936960" y="5748480"/>
            <a:ext cx="2362320" cy="457200"/>
          </a:xfrm>
          <a:prstGeom prst="rect">
            <a:avLst/>
          </a:prstGeom>
          <a:solidFill>
            <a:srgbClr val="d6ff27"/>
          </a:solidFill>
          <a:ln w="12600">
            <a:solidFill>
              <a:srgbClr val="4dd1d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2400" spc="-1" strike="noStrike">
                <a:solidFill>
                  <a:srgbClr val="e11f29"/>
                </a:solidFill>
                <a:latin typeface="Comic Sans MS"/>
                <a:ea typeface="Comic Sans MS"/>
              </a:rPr>
              <a:t>Other 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"/>
          <p:cNvSpPr/>
          <p:nvPr/>
        </p:nvSpPr>
        <p:spPr>
          <a:xfrm>
            <a:off x="1803240" y="2625120"/>
            <a:ext cx="1981440" cy="990000"/>
          </a:xfrm>
          <a:custGeom>
            <a:avLst/>
            <a:gdLst/>
            <a:ahLst/>
            <a:rect l="0" t="0" r="r" b="b"/>
            <a:pathLst>
              <a:path fill="none" w="5504" h="2750">
                <a:moveTo>
                  <a:pt x="0" y="2750"/>
                </a:moveTo>
                <a:lnTo>
                  <a:pt x="0" y="2750"/>
                </a:lnTo>
                <a:lnTo>
                  <a:pt x="0" y="2750"/>
                </a:lnTo>
                <a:cubicBezTo>
                  <a:pt x="966" y="2750"/>
                  <a:pt x="1915" y="2623"/>
                  <a:pt x="2752" y="2381"/>
                </a:cubicBezTo>
                <a:cubicBezTo>
                  <a:pt x="3589" y="2140"/>
                  <a:pt x="4284" y="1792"/>
                  <a:pt x="4767" y="1373"/>
                </a:cubicBezTo>
                <a:cubicBezTo>
                  <a:pt x="5249" y="956"/>
                  <a:pt x="5503" y="482"/>
                  <a:pt x="5504" y="0"/>
                </a:cubicBezTo>
              </a:path>
            </a:pathLst>
          </a:custGeom>
          <a:ln w="25560">
            <a:solidFill>
              <a:srgbClr val="4dd1d8"/>
            </a:solidFill>
            <a:round/>
            <a:tailEnd len="med" type="triangle" w="med"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"/>
          <p:cNvSpPr/>
          <p:nvPr/>
        </p:nvSpPr>
        <p:spPr>
          <a:xfrm>
            <a:off x="1347840" y="873360"/>
            <a:ext cx="2112840" cy="2131560"/>
          </a:xfrm>
          <a:custGeom>
            <a:avLst/>
            <a:gdLst/>
            <a:ahLst/>
            <a:rect l="0" t="0" r="r" b="b"/>
            <a:pathLst>
              <a:path fill="none" w="5869" h="5921">
                <a:moveTo>
                  <a:pt x="5869" y="0"/>
                </a:moveTo>
                <a:lnTo>
                  <a:pt x="5869" y="0"/>
                </a:lnTo>
                <a:cubicBezTo>
                  <a:pt x="4848" y="10"/>
                  <a:pt x="3847" y="283"/>
                  <a:pt x="2964" y="794"/>
                </a:cubicBezTo>
                <a:cubicBezTo>
                  <a:pt x="2062" y="1314"/>
                  <a:pt x="1314" y="2063"/>
                  <a:pt x="794" y="2964"/>
                </a:cubicBezTo>
                <a:cubicBezTo>
                  <a:pt x="275" y="3863"/>
                  <a:pt x="1" y="4883"/>
                  <a:pt x="0" y="5921"/>
                </a:cubicBezTo>
              </a:path>
            </a:pathLst>
          </a:custGeom>
          <a:ln w="25560">
            <a:solidFill>
              <a:srgbClr val="4dd1d8"/>
            </a:solidFill>
            <a:round/>
            <a:tailEnd len="med" type="triangle" w="med"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"/>
          <p:cNvSpPr/>
          <p:nvPr/>
        </p:nvSpPr>
        <p:spPr>
          <a:xfrm>
            <a:off x="6832440" y="949320"/>
            <a:ext cx="1829160" cy="2057760"/>
          </a:xfrm>
          <a:custGeom>
            <a:avLst/>
            <a:gdLst/>
            <a:ahLst/>
            <a:rect l="0" t="0" r="r" b="b"/>
            <a:pathLst>
              <a:path fill="none" w="5081" h="5716">
                <a:moveTo>
                  <a:pt x="5081" y="5716"/>
                </a:moveTo>
                <a:lnTo>
                  <a:pt x="5081" y="5716"/>
                </a:lnTo>
                <a:lnTo>
                  <a:pt x="5081" y="5716"/>
                </a:lnTo>
                <a:cubicBezTo>
                  <a:pt x="5081" y="4713"/>
                  <a:pt x="4846" y="3727"/>
                  <a:pt x="4400" y="2858"/>
                </a:cubicBezTo>
                <a:cubicBezTo>
                  <a:pt x="3954" y="1989"/>
                  <a:pt x="3313" y="1267"/>
                  <a:pt x="2540" y="766"/>
                </a:cubicBezTo>
                <a:cubicBezTo>
                  <a:pt x="1768" y="264"/>
                  <a:pt x="892" y="0"/>
                  <a:pt x="0" y="0"/>
                </a:cubicBezTo>
              </a:path>
            </a:pathLst>
          </a:custGeom>
          <a:ln w="25560">
            <a:solidFill>
              <a:srgbClr val="4dd1d8"/>
            </a:solidFill>
            <a:round/>
            <a:tailEnd len="med" type="triangle" w="med"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"/>
          <p:cNvSpPr txBox="1"/>
          <p:nvPr/>
        </p:nvSpPr>
        <p:spPr>
          <a:xfrm>
            <a:off x="127080" y="3157560"/>
            <a:ext cx="1905120" cy="762120"/>
          </a:xfrm>
          <a:prstGeom prst="rect">
            <a:avLst/>
          </a:prstGeom>
          <a:solidFill>
            <a:srgbClr val="d6ff27"/>
          </a:solidFill>
          <a:ln w="12600">
            <a:solidFill>
              <a:srgbClr val="4dd1d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2400" spc="-1" strike="noStrike">
                <a:solidFill>
                  <a:srgbClr val="12526e"/>
                </a:solidFill>
                <a:latin typeface="Comic Sans MS"/>
                <a:ea typeface="Comic Sans MS"/>
              </a:rPr>
              <a:t>Inform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1" lang="en-US" sz="2400" spc="-1" strike="noStrike">
                <a:solidFill>
                  <a:srgbClr val="12526e"/>
                </a:solidFill>
                <a:latin typeface="Comic Sans MS"/>
                <a:ea typeface="Comic Sans MS"/>
              </a:rPr>
              <a:t>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"/>
          <p:cNvSpPr/>
          <p:nvPr/>
        </p:nvSpPr>
        <p:spPr>
          <a:xfrm>
            <a:off x="1271520" y="4071960"/>
            <a:ext cx="2667240" cy="1905480"/>
          </a:xfrm>
          <a:custGeom>
            <a:avLst/>
            <a:gdLst/>
            <a:ahLst/>
            <a:rect l="0" t="0" r="r" b="b"/>
            <a:pathLst>
              <a:path fill="none" w="7409" h="5293">
                <a:moveTo>
                  <a:pt x="0" y="0"/>
                </a:moveTo>
                <a:lnTo>
                  <a:pt x="0" y="0"/>
                </a:lnTo>
                <a:cubicBezTo>
                  <a:pt x="0" y="929"/>
                  <a:pt x="342" y="1842"/>
                  <a:pt x="993" y="2647"/>
                </a:cubicBezTo>
                <a:cubicBezTo>
                  <a:pt x="1643" y="3451"/>
                  <a:pt x="2578" y="4119"/>
                  <a:pt x="3705" y="4584"/>
                </a:cubicBezTo>
                <a:cubicBezTo>
                  <a:pt x="4831" y="5048"/>
                  <a:pt x="6108" y="5293"/>
                  <a:pt x="7409" y="5293"/>
                </a:cubicBezTo>
              </a:path>
            </a:pathLst>
          </a:custGeom>
          <a:ln w="25560">
            <a:solidFill>
              <a:srgbClr val="4dd1d8"/>
            </a:solidFill>
            <a:round/>
            <a:tailEnd len="med" type="triangle" w="med"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"/>
          <p:cNvSpPr/>
          <p:nvPr/>
        </p:nvSpPr>
        <p:spPr>
          <a:xfrm>
            <a:off x="1500120" y="3995640"/>
            <a:ext cx="2286360" cy="762480"/>
          </a:xfrm>
          <a:custGeom>
            <a:avLst/>
            <a:gdLst/>
            <a:ahLst/>
            <a:rect l="0" t="0" r="r" b="b"/>
            <a:pathLst>
              <a:path fill="none" w="6351" h="2118">
                <a:moveTo>
                  <a:pt x="0" y="0"/>
                </a:moveTo>
                <a:lnTo>
                  <a:pt x="0" y="0"/>
                </a:lnTo>
                <a:cubicBezTo>
                  <a:pt x="0" y="372"/>
                  <a:pt x="293" y="737"/>
                  <a:pt x="851" y="1059"/>
                </a:cubicBezTo>
                <a:cubicBezTo>
                  <a:pt x="1408" y="1381"/>
                  <a:pt x="2210" y="1648"/>
                  <a:pt x="3176" y="1834"/>
                </a:cubicBezTo>
                <a:cubicBezTo>
                  <a:pt x="4141" y="2020"/>
                  <a:pt x="5236" y="2118"/>
                  <a:pt x="6351" y="2118"/>
                </a:cubicBezTo>
              </a:path>
            </a:pathLst>
          </a:custGeom>
          <a:ln w="25560">
            <a:solidFill>
              <a:srgbClr val="4dd1d8"/>
            </a:solidFill>
            <a:round/>
            <a:tailEnd len="med" type="triangle" w="med"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"/>
          <p:cNvSpPr/>
          <p:nvPr/>
        </p:nvSpPr>
        <p:spPr>
          <a:xfrm>
            <a:off x="2108160" y="3614760"/>
            <a:ext cx="1676880" cy="152640"/>
          </a:xfrm>
          <a:custGeom>
            <a:avLst/>
            <a:gdLst/>
            <a:ahLst/>
            <a:rect l="0" t="0" r="r" b="b"/>
            <a:pathLst>
              <a:path fill="none" w="4658" h="424">
                <a:moveTo>
                  <a:pt x="0" y="424"/>
                </a:moveTo>
                <a:lnTo>
                  <a:pt x="0" y="424"/>
                </a:lnTo>
                <a:lnTo>
                  <a:pt x="0" y="424"/>
                </a:lnTo>
                <a:cubicBezTo>
                  <a:pt x="818" y="424"/>
                  <a:pt x="1621" y="404"/>
                  <a:pt x="2329" y="367"/>
                </a:cubicBezTo>
                <a:cubicBezTo>
                  <a:pt x="3037" y="330"/>
                  <a:pt x="3625" y="276"/>
                  <a:pt x="4034" y="211"/>
                </a:cubicBezTo>
                <a:cubicBezTo>
                  <a:pt x="4441" y="147"/>
                  <a:pt x="4656" y="74"/>
                  <a:pt x="4658" y="0"/>
                </a:cubicBezTo>
              </a:path>
            </a:pathLst>
          </a:custGeom>
          <a:ln w="25560">
            <a:solidFill>
              <a:srgbClr val="4dd1d8"/>
            </a:solidFill>
            <a:round/>
            <a:tailEnd len="med" type="triangle" w="med"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"/>
          <p:cNvSpPr/>
          <p:nvPr/>
        </p:nvSpPr>
        <p:spPr>
          <a:xfrm>
            <a:off x="6375240" y="3997800"/>
            <a:ext cx="2286360" cy="1903320"/>
          </a:xfrm>
          <a:custGeom>
            <a:avLst/>
            <a:gdLst/>
            <a:ahLst/>
            <a:rect l="0" t="0" r="r" b="b"/>
            <a:pathLst>
              <a:path fill="none" w="6351" h="5287">
                <a:moveTo>
                  <a:pt x="0" y="5287"/>
                </a:moveTo>
                <a:lnTo>
                  <a:pt x="0" y="5287"/>
                </a:lnTo>
                <a:cubicBezTo>
                  <a:pt x="1115" y="5287"/>
                  <a:pt x="2210" y="5042"/>
                  <a:pt x="3175" y="4578"/>
                </a:cubicBezTo>
                <a:cubicBezTo>
                  <a:pt x="4141" y="4113"/>
                  <a:pt x="4942" y="3445"/>
                  <a:pt x="5500" y="2640"/>
                </a:cubicBezTo>
                <a:cubicBezTo>
                  <a:pt x="6056" y="1838"/>
                  <a:pt x="6350" y="927"/>
                  <a:pt x="6351" y="0"/>
                </a:cubicBezTo>
              </a:path>
            </a:pathLst>
          </a:custGeom>
          <a:ln w="25560">
            <a:solidFill>
              <a:srgbClr val="4dd1d8"/>
            </a:solidFill>
            <a:round/>
            <a:tailEnd len="med" type="triangle" w="med"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"/>
          <p:cNvSpPr/>
          <p:nvPr/>
        </p:nvSpPr>
        <p:spPr>
          <a:xfrm>
            <a:off x="6451560" y="3996720"/>
            <a:ext cx="1981440" cy="761400"/>
          </a:xfrm>
          <a:custGeom>
            <a:avLst/>
            <a:gdLst/>
            <a:ahLst/>
            <a:rect l="0" t="0" r="r" b="b"/>
            <a:pathLst>
              <a:path fill="none" w="5504" h="2115">
                <a:moveTo>
                  <a:pt x="0" y="2115"/>
                </a:moveTo>
                <a:lnTo>
                  <a:pt x="0" y="2115"/>
                </a:lnTo>
                <a:lnTo>
                  <a:pt x="0" y="2115"/>
                </a:lnTo>
                <a:cubicBezTo>
                  <a:pt x="966" y="2115"/>
                  <a:pt x="1915" y="2017"/>
                  <a:pt x="2752" y="1831"/>
                </a:cubicBezTo>
                <a:cubicBezTo>
                  <a:pt x="3589" y="1646"/>
                  <a:pt x="4284" y="1378"/>
                  <a:pt x="4767" y="1056"/>
                </a:cubicBezTo>
                <a:cubicBezTo>
                  <a:pt x="5249" y="735"/>
                  <a:pt x="5503" y="371"/>
                  <a:pt x="5504" y="0"/>
                </a:cubicBezTo>
              </a:path>
            </a:pathLst>
          </a:custGeom>
          <a:ln w="25560">
            <a:solidFill>
              <a:srgbClr val="4dd1d8"/>
            </a:solidFill>
            <a:round/>
            <a:tailEnd len="med" type="triangle" w="med"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"/>
          <p:cNvSpPr/>
          <p:nvPr/>
        </p:nvSpPr>
        <p:spPr>
          <a:xfrm>
            <a:off x="6375240" y="3538800"/>
            <a:ext cx="1600560" cy="152640"/>
          </a:xfrm>
          <a:custGeom>
            <a:avLst/>
            <a:gdLst/>
            <a:ahLst/>
            <a:rect l="0" t="0" r="r" b="b"/>
            <a:pathLst>
              <a:path fill="none" w="4446" h="424">
                <a:moveTo>
                  <a:pt x="0" y="424"/>
                </a:moveTo>
                <a:lnTo>
                  <a:pt x="0" y="424"/>
                </a:lnTo>
                <a:cubicBezTo>
                  <a:pt x="780" y="424"/>
                  <a:pt x="1547" y="404"/>
                  <a:pt x="2223" y="367"/>
                </a:cubicBezTo>
                <a:cubicBezTo>
                  <a:pt x="2899" y="330"/>
                  <a:pt x="3460" y="276"/>
                  <a:pt x="3850" y="211"/>
                </a:cubicBezTo>
                <a:cubicBezTo>
                  <a:pt x="4239" y="147"/>
                  <a:pt x="4444" y="74"/>
                  <a:pt x="4446" y="0"/>
                </a:cubicBezTo>
              </a:path>
            </a:pathLst>
          </a:custGeom>
          <a:ln w="25560">
            <a:solidFill>
              <a:srgbClr val="4dd1d8"/>
            </a:solidFill>
            <a:round/>
            <a:tailEnd len="med" type="triangle" w="med"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"/>
          <p:cNvSpPr/>
          <p:nvPr/>
        </p:nvSpPr>
        <p:spPr>
          <a:xfrm>
            <a:off x="6224760" y="2624040"/>
            <a:ext cx="1600560" cy="686160"/>
          </a:xfrm>
          <a:custGeom>
            <a:avLst/>
            <a:gdLst/>
            <a:ahLst/>
            <a:rect l="0" t="0" r="r" b="b"/>
            <a:pathLst>
              <a:path fill="none" w="4446" h="1906">
                <a:moveTo>
                  <a:pt x="0" y="0"/>
                </a:moveTo>
                <a:lnTo>
                  <a:pt x="0" y="0"/>
                </a:lnTo>
                <a:cubicBezTo>
                  <a:pt x="0" y="335"/>
                  <a:pt x="205" y="663"/>
                  <a:pt x="596" y="953"/>
                </a:cubicBezTo>
                <a:cubicBezTo>
                  <a:pt x="986" y="1243"/>
                  <a:pt x="1547" y="1483"/>
                  <a:pt x="2223" y="1651"/>
                </a:cubicBezTo>
                <a:cubicBezTo>
                  <a:pt x="2899" y="1818"/>
                  <a:pt x="3666" y="1906"/>
                  <a:pt x="4446" y="1906"/>
                </a:cubicBezTo>
              </a:path>
            </a:pathLst>
          </a:custGeom>
          <a:ln w="25560">
            <a:solidFill>
              <a:srgbClr val="4dd1d8"/>
            </a:solidFill>
            <a:round/>
            <a:tailEnd len="med" type="triangle" w="med"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"/>
          <p:cNvSpPr txBox="1"/>
          <p:nvPr/>
        </p:nvSpPr>
        <p:spPr>
          <a:xfrm>
            <a:off x="7975440" y="3157560"/>
            <a:ext cx="1981080" cy="762120"/>
          </a:xfrm>
          <a:prstGeom prst="rect">
            <a:avLst/>
          </a:prstGeom>
          <a:solidFill>
            <a:srgbClr val="d6ff27"/>
          </a:solidFill>
          <a:ln w="12600">
            <a:solidFill>
              <a:srgbClr val="4dd1d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2400" spc="-1" strike="noStrike">
                <a:solidFill>
                  <a:srgbClr val="12526e"/>
                </a:solidFill>
                <a:latin typeface="Comic Sans MS"/>
                <a:ea typeface="Comic Sans MS"/>
              </a:rPr>
              <a:t>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1" lang="en-US" sz="2400" spc="-1" strike="noStrike">
                <a:solidFill>
                  <a:srgbClr val="12526e"/>
                </a:solidFill>
                <a:latin typeface="Comic Sans MS"/>
                <a:ea typeface="Comic Sans MS"/>
              </a:rPr>
              <a:t>utilis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"/>
          <p:cNvSpPr/>
          <p:nvPr/>
        </p:nvSpPr>
        <p:spPr>
          <a:xfrm>
            <a:off x="4927680" y="2700360"/>
            <a:ext cx="0" cy="304920"/>
          </a:xfrm>
          <a:prstGeom prst="line">
            <a:avLst/>
          </a:prstGeom>
          <a:ln w="12600">
            <a:solidFill>
              <a:srgbClr val="4dd1d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"/>
          <p:cNvSpPr/>
          <p:nvPr/>
        </p:nvSpPr>
        <p:spPr>
          <a:xfrm>
            <a:off x="4927680" y="4148280"/>
            <a:ext cx="0" cy="380880"/>
          </a:xfrm>
          <a:prstGeom prst="line">
            <a:avLst/>
          </a:prstGeom>
          <a:ln w="12600">
            <a:solidFill>
              <a:srgbClr val="4dd1d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"/>
          <p:cNvSpPr/>
          <p:nvPr/>
        </p:nvSpPr>
        <p:spPr>
          <a:xfrm>
            <a:off x="4927680" y="5367240"/>
            <a:ext cx="0" cy="304920"/>
          </a:xfrm>
          <a:prstGeom prst="line">
            <a:avLst/>
          </a:prstGeom>
          <a:ln w="12600">
            <a:solidFill>
              <a:srgbClr val="4dd1d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"/>
          <p:cNvSpPr/>
          <p:nvPr/>
        </p:nvSpPr>
        <p:spPr>
          <a:xfrm>
            <a:off x="5156280" y="2700360"/>
            <a:ext cx="0" cy="304920"/>
          </a:xfrm>
          <a:prstGeom prst="line">
            <a:avLst/>
          </a:prstGeom>
          <a:ln w="12600">
            <a:solidFill>
              <a:srgbClr val="4dd1d8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"/>
          <p:cNvSpPr/>
          <p:nvPr/>
        </p:nvSpPr>
        <p:spPr>
          <a:xfrm>
            <a:off x="5156280" y="4148280"/>
            <a:ext cx="0" cy="380880"/>
          </a:xfrm>
          <a:prstGeom prst="line">
            <a:avLst/>
          </a:prstGeom>
          <a:ln w="12600">
            <a:solidFill>
              <a:srgbClr val="4dd1d8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"/>
          <p:cNvSpPr/>
          <p:nvPr/>
        </p:nvSpPr>
        <p:spPr>
          <a:xfrm>
            <a:off x="5156280" y="5367240"/>
            <a:ext cx="0" cy="304920"/>
          </a:xfrm>
          <a:prstGeom prst="line">
            <a:avLst/>
          </a:prstGeom>
          <a:ln w="12600">
            <a:solidFill>
              <a:srgbClr val="4dd1d8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"/>
          <p:cNvSpPr/>
          <p:nvPr/>
        </p:nvSpPr>
        <p:spPr>
          <a:xfrm>
            <a:off x="3556080" y="414360"/>
            <a:ext cx="3200400" cy="990720"/>
          </a:xfrm>
          <a:prstGeom prst="ellipse">
            <a:avLst/>
          </a:prstGeom>
          <a:solidFill>
            <a:srgbClr val="cc6600"/>
          </a:solidFill>
          <a:ln w="12600">
            <a:solidFill>
              <a:srgbClr val="4dd1d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"/>
          <p:cNvSpPr txBox="1"/>
          <p:nvPr/>
        </p:nvSpPr>
        <p:spPr>
          <a:xfrm>
            <a:off x="3708360" y="719280"/>
            <a:ext cx="3048120" cy="74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d6ff27"/>
                </a:solidFill>
                <a:latin typeface="Comic Sans MS"/>
                <a:ea typeface="Comic Sans MS"/>
              </a:rPr>
              <a:t>Water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"/>
          <p:cNvSpPr/>
          <p:nvPr/>
        </p:nvSpPr>
        <p:spPr>
          <a:xfrm>
            <a:off x="1281240" y="1428840"/>
            <a:ext cx="4432320" cy="3327480"/>
          </a:xfrm>
          <a:prstGeom prst="ellipse">
            <a:avLst/>
          </a:prstGeom>
          <a:noFill/>
          <a:ln w="25560">
            <a:solidFill>
              <a:srgbClr val="d6ff27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"/>
          <p:cNvSpPr/>
          <p:nvPr/>
        </p:nvSpPr>
        <p:spPr>
          <a:xfrm>
            <a:off x="2525760" y="1149480"/>
            <a:ext cx="2249640" cy="457200"/>
          </a:xfrm>
          <a:prstGeom prst="rect">
            <a:avLst/>
          </a:prstGeom>
          <a:solidFill>
            <a:srgbClr val="e11f2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"/>
          <p:cNvSpPr txBox="1"/>
          <p:nvPr/>
        </p:nvSpPr>
        <p:spPr>
          <a:xfrm>
            <a:off x="2548080" y="1222200"/>
            <a:ext cx="21049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1800" spc="-1" strike="noStrike">
                <a:solidFill>
                  <a:srgbClr val="d6ff27"/>
                </a:solidFill>
                <a:latin typeface="Comic Sans MS"/>
                <a:ea typeface="Comic Sans MS"/>
              </a:rPr>
              <a:t>information nee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"/>
          <p:cNvSpPr/>
          <p:nvPr/>
        </p:nvSpPr>
        <p:spPr>
          <a:xfrm>
            <a:off x="2525760" y="4527720"/>
            <a:ext cx="2249640" cy="457200"/>
          </a:xfrm>
          <a:prstGeom prst="rect">
            <a:avLst/>
          </a:prstGeom>
          <a:solidFill>
            <a:srgbClr val="e11f2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"/>
          <p:cNvSpPr txBox="1"/>
          <p:nvPr/>
        </p:nvSpPr>
        <p:spPr>
          <a:xfrm>
            <a:off x="2548080" y="4600440"/>
            <a:ext cx="214488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1800" spc="-1" strike="noStrike">
                <a:solidFill>
                  <a:srgbClr val="d6ff27"/>
                </a:solidFill>
                <a:latin typeface="Comic Sans MS"/>
                <a:ea typeface="Comic Sans MS"/>
              </a:rPr>
              <a:t>information supp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"/>
          <p:cNvSpPr/>
          <p:nvPr/>
        </p:nvSpPr>
        <p:spPr>
          <a:xfrm>
            <a:off x="5357880" y="2851200"/>
            <a:ext cx="2998800" cy="457200"/>
          </a:xfrm>
          <a:prstGeom prst="rect">
            <a:avLst/>
          </a:prstGeom>
          <a:solidFill>
            <a:srgbClr val="e11f2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"/>
          <p:cNvSpPr txBox="1"/>
          <p:nvPr/>
        </p:nvSpPr>
        <p:spPr>
          <a:xfrm>
            <a:off x="5506920" y="2924280"/>
            <a:ext cx="281304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1800" spc="-1" strike="noStrike">
                <a:solidFill>
                  <a:srgbClr val="d6ff27"/>
                </a:solidFill>
                <a:latin typeface="Comic Sans MS"/>
                <a:ea typeface="Comic Sans MS"/>
              </a:rPr>
              <a:t>monitoring &amp; assess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"/>
          <p:cNvSpPr/>
          <p:nvPr/>
        </p:nvSpPr>
        <p:spPr>
          <a:xfrm>
            <a:off x="431640" y="2571840"/>
            <a:ext cx="2284560" cy="990720"/>
          </a:xfrm>
          <a:prstGeom prst="ellipse">
            <a:avLst/>
          </a:prstGeom>
          <a:solidFill>
            <a:srgbClr val="e11f2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"/>
          <p:cNvSpPr txBox="1"/>
          <p:nvPr/>
        </p:nvSpPr>
        <p:spPr>
          <a:xfrm>
            <a:off x="507960" y="2924280"/>
            <a:ext cx="243828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1800" spc="-1" strike="noStrike">
                <a:solidFill>
                  <a:srgbClr val="d6ff27"/>
                </a:solidFill>
                <a:latin typeface="Comic Sans MS"/>
                <a:ea typeface="Comic Sans MS"/>
              </a:rPr>
              <a:t>water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"/>
          <p:cNvSpPr txBox="1"/>
          <p:nvPr/>
        </p:nvSpPr>
        <p:spPr>
          <a:xfrm>
            <a:off x="5494320" y="1324080"/>
            <a:ext cx="307188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techniq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       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statis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methodolo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"/>
          <p:cNvSpPr txBox="1"/>
          <p:nvPr/>
        </p:nvSpPr>
        <p:spPr>
          <a:xfrm>
            <a:off x="5392800" y="4041720"/>
            <a:ext cx="316224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    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co-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            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legis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organis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"/>
          <p:cNvSpPr/>
          <p:nvPr/>
        </p:nvSpPr>
        <p:spPr>
          <a:xfrm flipV="1">
            <a:off x="2168640" y="1609560"/>
            <a:ext cx="371520" cy="154080"/>
          </a:xfrm>
          <a:prstGeom prst="line">
            <a:avLst/>
          </a:prstGeom>
          <a:ln w="25560">
            <a:solidFill>
              <a:srgbClr val="d6ff27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 flipH="1" flipV="1">
            <a:off x="1384200" y="3565440"/>
            <a:ext cx="162000" cy="268200"/>
          </a:xfrm>
          <a:prstGeom prst="line">
            <a:avLst/>
          </a:prstGeom>
          <a:ln w="25560">
            <a:solidFill>
              <a:srgbClr val="d6ff27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 flipH="1">
            <a:off x="4622760" y="4368960"/>
            <a:ext cx="276120" cy="163440"/>
          </a:xfrm>
          <a:prstGeom prst="line">
            <a:avLst/>
          </a:prstGeom>
          <a:ln w="25560">
            <a:solidFill>
              <a:srgbClr val="d6ff27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"/>
          <p:cNvSpPr/>
          <p:nvPr/>
        </p:nvSpPr>
        <p:spPr>
          <a:xfrm>
            <a:off x="5597640" y="2590920"/>
            <a:ext cx="104760" cy="290520"/>
          </a:xfrm>
          <a:prstGeom prst="line">
            <a:avLst/>
          </a:prstGeom>
          <a:ln w="25560">
            <a:solidFill>
              <a:srgbClr val="d6ff27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"/>
          <p:cNvSpPr/>
          <p:nvPr/>
        </p:nvSpPr>
        <p:spPr>
          <a:xfrm>
            <a:off x="5878440" y="1670040"/>
            <a:ext cx="0" cy="1181160"/>
          </a:xfrm>
          <a:prstGeom prst="line">
            <a:avLst/>
          </a:prstGeom>
          <a:ln w="255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"/>
          <p:cNvSpPr/>
          <p:nvPr/>
        </p:nvSpPr>
        <p:spPr>
          <a:xfrm>
            <a:off x="6551640" y="1962000"/>
            <a:ext cx="0" cy="889200"/>
          </a:xfrm>
          <a:prstGeom prst="line">
            <a:avLst/>
          </a:prstGeom>
          <a:ln w="255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"/>
          <p:cNvSpPr/>
          <p:nvPr/>
        </p:nvSpPr>
        <p:spPr>
          <a:xfrm>
            <a:off x="7491240" y="2216160"/>
            <a:ext cx="0" cy="635040"/>
          </a:xfrm>
          <a:prstGeom prst="line">
            <a:avLst/>
          </a:prstGeom>
          <a:ln w="255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"/>
          <p:cNvSpPr/>
          <p:nvPr/>
        </p:nvSpPr>
        <p:spPr>
          <a:xfrm flipV="1">
            <a:off x="5891040" y="3321000"/>
            <a:ext cx="0" cy="1181160"/>
          </a:xfrm>
          <a:prstGeom prst="line">
            <a:avLst/>
          </a:prstGeom>
          <a:ln w="255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"/>
          <p:cNvSpPr/>
          <p:nvPr/>
        </p:nvSpPr>
        <p:spPr>
          <a:xfrm flipV="1">
            <a:off x="6589800" y="3321000"/>
            <a:ext cx="0" cy="939960"/>
          </a:xfrm>
          <a:prstGeom prst="line">
            <a:avLst/>
          </a:prstGeom>
          <a:ln w="255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"/>
          <p:cNvSpPr/>
          <p:nvPr/>
        </p:nvSpPr>
        <p:spPr>
          <a:xfrm flipV="1">
            <a:off x="7504200" y="3321000"/>
            <a:ext cx="0" cy="635040"/>
          </a:xfrm>
          <a:prstGeom prst="line">
            <a:avLst/>
          </a:prstGeom>
          <a:ln w="255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"/>
          <p:cNvSpPr txBox="1"/>
          <p:nvPr/>
        </p:nvSpPr>
        <p:spPr>
          <a:xfrm>
            <a:off x="8296200" y="752400"/>
            <a:ext cx="11606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d6ff27"/>
                </a:solidFill>
                <a:latin typeface="Comic Sans MS"/>
                <a:ea typeface="Comic Sans MS"/>
              </a:rPr>
              <a:t>techni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d6ff27"/>
                </a:solidFill>
                <a:latin typeface="Comic Sans MS"/>
                <a:ea typeface="Comic Sans MS"/>
              </a:rPr>
              <a:t>asp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"/>
          <p:cNvSpPr txBox="1"/>
          <p:nvPr/>
        </p:nvSpPr>
        <p:spPr>
          <a:xfrm>
            <a:off x="7985160" y="4740120"/>
            <a:ext cx="14796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d6ff27"/>
                </a:solidFill>
                <a:latin typeface="Comic Sans MS"/>
                <a:ea typeface="Comic Sans MS"/>
              </a:rPr>
              <a:t>institu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d6ff27"/>
                </a:solidFill>
                <a:latin typeface="Comic Sans MS"/>
                <a:ea typeface="Comic Sans MS"/>
              </a:rPr>
              <a:t>asp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"/>
          <p:cNvSpPr/>
          <p:nvPr/>
        </p:nvSpPr>
        <p:spPr>
          <a:xfrm>
            <a:off x="3632040" y="2243160"/>
            <a:ext cx="2438280" cy="1295280"/>
          </a:xfrm>
          <a:prstGeom prst="rect">
            <a:avLst/>
          </a:prstGeom>
          <a:noFill/>
          <a:ln w="25560">
            <a:solidFill>
              <a:srgbClr val="4bd0d9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"/>
          <p:cNvSpPr/>
          <p:nvPr/>
        </p:nvSpPr>
        <p:spPr>
          <a:xfrm>
            <a:off x="5308560" y="3691080"/>
            <a:ext cx="685800" cy="1066680"/>
          </a:xfrm>
          <a:prstGeom prst="line">
            <a:avLst/>
          </a:prstGeom>
          <a:ln w="12600">
            <a:solidFill>
              <a:srgbClr val="4dd1d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>
            <a:off x="4927680" y="4834080"/>
            <a:ext cx="2286000" cy="685800"/>
          </a:xfrm>
          <a:prstGeom prst="rect">
            <a:avLst/>
          </a:prstGeom>
          <a:noFill/>
          <a:ln w="12600">
            <a:solidFill>
              <a:srgbClr val="4dd1d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"/>
          <p:cNvSpPr txBox="1"/>
          <p:nvPr/>
        </p:nvSpPr>
        <p:spPr>
          <a:xfrm>
            <a:off x="4851360" y="4986360"/>
            <a:ext cx="2438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technical asp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"/>
          <p:cNvSpPr/>
          <p:nvPr/>
        </p:nvSpPr>
        <p:spPr>
          <a:xfrm flipH="1">
            <a:off x="3632040" y="3614760"/>
            <a:ext cx="762120" cy="1143000"/>
          </a:xfrm>
          <a:prstGeom prst="line">
            <a:avLst/>
          </a:prstGeom>
          <a:ln w="12600">
            <a:solidFill>
              <a:srgbClr val="4bd0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"/>
          <p:cNvSpPr/>
          <p:nvPr/>
        </p:nvSpPr>
        <p:spPr>
          <a:xfrm>
            <a:off x="2336760" y="4834080"/>
            <a:ext cx="2057400" cy="685800"/>
          </a:xfrm>
          <a:prstGeom prst="rect">
            <a:avLst/>
          </a:prstGeom>
          <a:noFill/>
          <a:ln w="12600">
            <a:solidFill>
              <a:srgbClr val="4dd1d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"/>
          <p:cNvSpPr txBox="1"/>
          <p:nvPr/>
        </p:nvSpPr>
        <p:spPr>
          <a:xfrm>
            <a:off x="2184480" y="4834080"/>
            <a:ext cx="2362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f1ffb3"/>
                </a:solidFill>
                <a:latin typeface="Comic Sans MS"/>
                <a:ea typeface="Comic Sans MS"/>
              </a:rPr>
              <a:t>assessment strate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"/>
          <p:cNvSpPr/>
          <p:nvPr/>
        </p:nvSpPr>
        <p:spPr>
          <a:xfrm flipH="1">
            <a:off x="2870280" y="3614760"/>
            <a:ext cx="838080" cy="533520"/>
          </a:xfrm>
          <a:prstGeom prst="line">
            <a:avLst/>
          </a:prstGeom>
          <a:ln w="12600">
            <a:solidFill>
              <a:srgbClr val="4dd1d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"/>
          <p:cNvSpPr/>
          <p:nvPr/>
        </p:nvSpPr>
        <p:spPr>
          <a:xfrm>
            <a:off x="1117440" y="3614760"/>
            <a:ext cx="1676520" cy="914400"/>
          </a:xfrm>
          <a:prstGeom prst="rect">
            <a:avLst/>
          </a:prstGeom>
          <a:noFill/>
          <a:ln w="12600">
            <a:solidFill>
              <a:srgbClr val="4dd1d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"/>
          <p:cNvSpPr txBox="1"/>
          <p:nvPr/>
        </p:nvSpPr>
        <p:spPr>
          <a:xfrm>
            <a:off x="3784680" y="2319480"/>
            <a:ext cx="220968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d3f30e"/>
                </a:solidFill>
                <a:latin typeface="Comic Sans MS"/>
                <a:ea typeface="Comic Sans MS"/>
              </a:rPr>
              <a:t>Monitoring and assessment of  transboundary waters</a:t>
            </a:r>
            <a:r>
              <a:rPr b="0" lang="en-US" sz="1800" spc="-1" strike="noStrike">
                <a:solidFill>
                  <a:srgbClr val="d3f30e"/>
                </a:solidFill>
                <a:latin typeface="Syntax"/>
                <a:ea typeface="Syntax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"/>
          <p:cNvSpPr txBox="1"/>
          <p:nvPr/>
        </p:nvSpPr>
        <p:spPr>
          <a:xfrm>
            <a:off x="1117440" y="3614760"/>
            <a:ext cx="1676520" cy="93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f1ffb3"/>
                </a:solidFill>
                <a:latin typeface="Comic Sans MS"/>
                <a:ea typeface="Comic Sans MS"/>
              </a:rPr>
              <a:t>specified information nee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"/>
          <p:cNvSpPr/>
          <p:nvPr/>
        </p:nvSpPr>
        <p:spPr>
          <a:xfrm flipH="1" flipV="1">
            <a:off x="5765760" y="3614760"/>
            <a:ext cx="990720" cy="457200"/>
          </a:xfrm>
          <a:prstGeom prst="line">
            <a:avLst/>
          </a:prstGeom>
          <a:ln w="12600">
            <a:solidFill>
              <a:srgbClr val="4dd1d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"/>
          <p:cNvSpPr/>
          <p:nvPr/>
        </p:nvSpPr>
        <p:spPr>
          <a:xfrm>
            <a:off x="6832440" y="3767040"/>
            <a:ext cx="2133720" cy="838080"/>
          </a:xfrm>
          <a:prstGeom prst="rect">
            <a:avLst/>
          </a:prstGeom>
          <a:noFill/>
          <a:ln w="12600">
            <a:solidFill>
              <a:srgbClr val="4dd1d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"/>
          <p:cNvSpPr txBox="1"/>
          <p:nvPr/>
        </p:nvSpPr>
        <p:spPr>
          <a:xfrm>
            <a:off x="6832440" y="3767040"/>
            <a:ext cx="213372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1ffb3"/>
                </a:solidFill>
                <a:latin typeface="Comic Sans MS"/>
                <a:ea typeface="Comic Sans MS"/>
              </a:rPr>
              <a:t>legislation: realistic norms and standards</a:t>
            </a:r>
            <a:r>
              <a:rPr b="0" lang="en-US" sz="1800" spc="-1" strike="noStrike">
                <a:solidFill>
                  <a:srgbClr val="f1ffb3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"/>
          <p:cNvSpPr/>
          <p:nvPr/>
        </p:nvSpPr>
        <p:spPr>
          <a:xfrm>
            <a:off x="4851360" y="1405080"/>
            <a:ext cx="0" cy="761760"/>
          </a:xfrm>
          <a:prstGeom prst="line">
            <a:avLst/>
          </a:prstGeom>
          <a:ln w="12600">
            <a:solidFill>
              <a:srgbClr val="4dd1d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"/>
          <p:cNvSpPr/>
          <p:nvPr/>
        </p:nvSpPr>
        <p:spPr>
          <a:xfrm>
            <a:off x="3708360" y="719280"/>
            <a:ext cx="2286000" cy="609480"/>
          </a:xfrm>
          <a:prstGeom prst="rect">
            <a:avLst/>
          </a:prstGeom>
          <a:noFill/>
          <a:ln w="12600">
            <a:solidFill>
              <a:srgbClr val="4dd1d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"/>
          <p:cNvSpPr txBox="1"/>
          <p:nvPr/>
        </p:nvSpPr>
        <p:spPr>
          <a:xfrm>
            <a:off x="3860640" y="719280"/>
            <a:ext cx="19810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d3832d"/>
                </a:solidFill>
                <a:latin typeface="Comic Sans MS"/>
                <a:ea typeface="Comic Sans MS"/>
              </a:rPr>
              <a:t>agreements on co-ope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"/>
          <p:cNvSpPr/>
          <p:nvPr/>
        </p:nvSpPr>
        <p:spPr>
          <a:xfrm>
            <a:off x="2793960" y="2014560"/>
            <a:ext cx="762120" cy="380880"/>
          </a:xfrm>
          <a:prstGeom prst="line">
            <a:avLst/>
          </a:prstGeom>
          <a:ln w="12600">
            <a:solidFill>
              <a:srgbClr val="4dd1d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"/>
          <p:cNvSpPr/>
          <p:nvPr/>
        </p:nvSpPr>
        <p:spPr>
          <a:xfrm>
            <a:off x="1041480" y="1176480"/>
            <a:ext cx="1981080" cy="762120"/>
          </a:xfrm>
          <a:prstGeom prst="rect">
            <a:avLst/>
          </a:prstGeom>
          <a:noFill/>
          <a:ln w="12600">
            <a:solidFill>
              <a:srgbClr val="4dd1d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"/>
          <p:cNvSpPr txBox="1"/>
          <p:nvPr/>
        </p:nvSpPr>
        <p:spPr>
          <a:xfrm>
            <a:off x="965160" y="1252440"/>
            <a:ext cx="20574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e4813f"/>
                </a:solidFill>
                <a:latin typeface="Comic Sans MS"/>
                <a:ea typeface="Comic Sans MS"/>
              </a:rPr>
              <a:t>defined responsib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"/>
          <p:cNvSpPr/>
          <p:nvPr/>
        </p:nvSpPr>
        <p:spPr>
          <a:xfrm>
            <a:off x="2489040" y="2852640"/>
            <a:ext cx="1067040" cy="0"/>
          </a:xfrm>
          <a:prstGeom prst="line">
            <a:avLst/>
          </a:prstGeom>
          <a:ln w="12600">
            <a:solidFill>
              <a:srgbClr val="4dd1d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"/>
          <p:cNvSpPr/>
          <p:nvPr/>
        </p:nvSpPr>
        <p:spPr>
          <a:xfrm>
            <a:off x="660240" y="2471760"/>
            <a:ext cx="1752480" cy="762120"/>
          </a:xfrm>
          <a:prstGeom prst="rect">
            <a:avLst/>
          </a:prstGeom>
          <a:noFill/>
          <a:ln w="12600">
            <a:solidFill>
              <a:srgbClr val="4bd0d9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"/>
          <p:cNvSpPr txBox="1"/>
          <p:nvPr/>
        </p:nvSpPr>
        <p:spPr>
          <a:xfrm>
            <a:off x="584280" y="2548080"/>
            <a:ext cx="19810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e4813f"/>
                </a:solidFill>
                <a:latin typeface="Comic Sans MS"/>
                <a:ea typeface="Comic Sans MS"/>
              </a:rPr>
              <a:t>existance of policy pl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"/>
          <p:cNvSpPr/>
          <p:nvPr/>
        </p:nvSpPr>
        <p:spPr>
          <a:xfrm flipH="1">
            <a:off x="6222960" y="2928960"/>
            <a:ext cx="1066680" cy="0"/>
          </a:xfrm>
          <a:prstGeom prst="line">
            <a:avLst/>
          </a:prstGeom>
          <a:ln w="12600">
            <a:solidFill>
              <a:srgbClr val="4dd1d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"/>
          <p:cNvSpPr/>
          <p:nvPr/>
        </p:nvSpPr>
        <p:spPr>
          <a:xfrm>
            <a:off x="7365960" y="2624040"/>
            <a:ext cx="1981080" cy="685800"/>
          </a:xfrm>
          <a:prstGeom prst="rect">
            <a:avLst/>
          </a:prstGeom>
          <a:noFill/>
          <a:ln w="12600">
            <a:solidFill>
              <a:srgbClr val="4dd1d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"/>
          <p:cNvSpPr txBox="1"/>
          <p:nvPr/>
        </p:nvSpPr>
        <p:spPr>
          <a:xfrm>
            <a:off x="7213680" y="2624040"/>
            <a:ext cx="2286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e4813f"/>
                </a:solidFill>
                <a:latin typeface="Comic Sans MS"/>
                <a:ea typeface="Comic Sans MS"/>
              </a:rPr>
              <a:t>access to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"/>
          <p:cNvSpPr/>
          <p:nvPr/>
        </p:nvSpPr>
        <p:spPr>
          <a:xfrm flipH="1">
            <a:off x="6146640" y="2090880"/>
            <a:ext cx="762120" cy="457200"/>
          </a:xfrm>
          <a:prstGeom prst="line">
            <a:avLst/>
          </a:prstGeom>
          <a:ln w="12600">
            <a:solidFill>
              <a:srgbClr val="4dd1d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"/>
          <p:cNvSpPr/>
          <p:nvPr/>
        </p:nvSpPr>
        <p:spPr>
          <a:xfrm>
            <a:off x="6603840" y="1100160"/>
            <a:ext cx="1981080" cy="914400"/>
          </a:xfrm>
          <a:prstGeom prst="rect">
            <a:avLst/>
          </a:prstGeom>
          <a:noFill/>
          <a:ln w="12600">
            <a:solidFill>
              <a:srgbClr val="4dd1d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"/>
          <p:cNvSpPr txBox="1"/>
          <p:nvPr/>
        </p:nvSpPr>
        <p:spPr>
          <a:xfrm>
            <a:off x="6603840" y="1100160"/>
            <a:ext cx="1981080" cy="93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e4813f"/>
                </a:solidFill>
                <a:latin typeface="Comic Sans MS"/>
                <a:ea typeface="Comic Sans MS"/>
              </a:rPr>
              <a:t>confidence between institu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"/>
          <p:cNvSpPr/>
          <p:nvPr/>
        </p:nvSpPr>
        <p:spPr>
          <a:xfrm>
            <a:off x="0" y="0"/>
            <a:ext cx="10159920" cy="6772320"/>
          </a:xfrm>
          <a:prstGeom prst="rect">
            <a:avLst/>
          </a:prstGeom>
          <a:solidFill>
            <a:srgbClr val="fafdfe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"/>
          <p:cNvSpPr txBox="1"/>
          <p:nvPr/>
        </p:nvSpPr>
        <p:spPr>
          <a:xfrm>
            <a:off x="1270080" y="566640"/>
            <a:ext cx="8458200" cy="69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0" lang="en-US" sz="4400" spc="-1" strike="noStrike">
                <a:solidFill>
                  <a:srgbClr val="ffff00"/>
                </a:solidFill>
                <a:latin typeface="Syntax"/>
                <a:ea typeface="Syntax"/>
              </a:rPr>
              <a:t>GUIDEL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 txBox="1"/>
          <p:nvPr/>
        </p:nvSpPr>
        <p:spPr>
          <a:xfrm>
            <a:off x="1498680" y="1481040"/>
            <a:ext cx="8534520" cy="405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Monotype Sorts"/>
              <a:buChar char=""/>
            </a:pPr>
            <a:r>
              <a:rPr b="0" lang="en-US" sz="4000" spc="-1" strike="noStrike">
                <a:solidFill>
                  <a:srgbClr val="c0dced"/>
                </a:solidFill>
                <a:latin typeface="Syntax"/>
                <a:ea typeface="Syntax"/>
              </a:rPr>
              <a:t> </a:t>
            </a:r>
            <a:r>
              <a:rPr b="0" lang="en-US" sz="4000" spc="-1" strike="noStrike">
                <a:solidFill>
                  <a:srgbClr val="c0dced"/>
                </a:solidFill>
                <a:latin typeface="Syntax"/>
                <a:ea typeface="Syntax"/>
              </a:rPr>
              <a:t>not legally bind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Monotype Sorts"/>
              <a:buChar char=""/>
            </a:pPr>
            <a:r>
              <a:rPr b="0" lang="en-US" sz="4000" spc="-1" strike="noStrike">
                <a:solidFill>
                  <a:srgbClr val="c0dced"/>
                </a:solidFill>
                <a:latin typeface="Syntax"/>
                <a:ea typeface="Syntax"/>
              </a:rPr>
              <a:t> </a:t>
            </a:r>
            <a:r>
              <a:rPr b="0" lang="en-US" sz="4000" spc="-1" strike="noStrike">
                <a:solidFill>
                  <a:srgbClr val="c0dced"/>
                </a:solidFill>
                <a:latin typeface="Syntax"/>
                <a:ea typeface="Syntax"/>
              </a:rPr>
              <a:t>strategic charact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Monotype Sorts"/>
              <a:buChar char=""/>
            </a:pPr>
            <a:r>
              <a:rPr b="0" lang="en-US" sz="4000" spc="-1" strike="noStrike">
                <a:solidFill>
                  <a:srgbClr val="c0dced"/>
                </a:solidFill>
                <a:latin typeface="Syntax"/>
                <a:ea typeface="Syntax"/>
              </a:rPr>
              <a:t> </a:t>
            </a:r>
            <a:r>
              <a:rPr b="0" lang="en-US" sz="4000" spc="-1" strike="noStrike">
                <a:solidFill>
                  <a:srgbClr val="c0dced"/>
                </a:solidFill>
                <a:latin typeface="Syntax"/>
                <a:ea typeface="Syntax"/>
              </a:rPr>
              <a:t>relation to policy making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Monotype Sorts"/>
              <a:buChar char=""/>
            </a:pPr>
            <a:r>
              <a:rPr b="0" lang="en-US" sz="4000" spc="-1" strike="noStrike">
                <a:solidFill>
                  <a:srgbClr val="c0dced"/>
                </a:solidFill>
                <a:latin typeface="Syntax"/>
                <a:ea typeface="Syntax"/>
              </a:rPr>
              <a:t> </a:t>
            </a:r>
            <a:r>
              <a:rPr b="0" lang="en-US" sz="4000" spc="-1" strike="noStrike">
                <a:solidFill>
                  <a:srgbClr val="c0dced"/>
                </a:solidFill>
                <a:latin typeface="Syntax"/>
                <a:ea typeface="Syntax"/>
              </a:rPr>
              <a:t>priority sett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Monotype Sorts"/>
              <a:buChar char=""/>
            </a:pPr>
            <a:r>
              <a:rPr b="0" lang="en-US" sz="4000" spc="-1" strike="noStrike">
                <a:solidFill>
                  <a:srgbClr val="c0dced"/>
                </a:solidFill>
                <a:latin typeface="Syntax"/>
                <a:ea typeface="Syntax"/>
              </a:rPr>
              <a:t> </a:t>
            </a:r>
            <a:r>
              <a:rPr b="0" lang="en-US" sz="4000" spc="-1" strike="noStrike">
                <a:solidFill>
                  <a:srgbClr val="c0dced"/>
                </a:solidFill>
                <a:latin typeface="Syntax"/>
                <a:ea typeface="Syntax"/>
              </a:rPr>
              <a:t>step wise approach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"/>
          <p:cNvSpPr/>
          <p:nvPr/>
        </p:nvSpPr>
        <p:spPr>
          <a:xfrm>
            <a:off x="3008160" y="1403280"/>
            <a:ext cx="4254480" cy="4254480"/>
          </a:xfrm>
          <a:prstGeom prst="ellipse">
            <a:avLst/>
          </a:prstGeom>
          <a:noFill/>
          <a:ln w="25560">
            <a:solidFill>
              <a:srgbClr val="d6ff27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5834160" y="1486080"/>
            <a:ext cx="177840" cy="184320"/>
          </a:xfrm>
          <a:prstGeom prst="rect">
            <a:avLst/>
          </a:prstGeom>
          <a:solidFill>
            <a:srgbClr val="12526e"/>
          </a:solidFill>
          <a:ln w="12600">
            <a:solidFill>
              <a:srgbClr val="12526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6869160" y="2317680"/>
            <a:ext cx="177840" cy="184320"/>
          </a:xfrm>
          <a:prstGeom prst="rect">
            <a:avLst/>
          </a:prstGeom>
          <a:solidFill>
            <a:srgbClr val="12526e"/>
          </a:solidFill>
          <a:ln w="12600">
            <a:solidFill>
              <a:srgbClr val="12526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7155000" y="3213000"/>
            <a:ext cx="177840" cy="184320"/>
          </a:xfrm>
          <a:prstGeom prst="rect">
            <a:avLst/>
          </a:prstGeom>
          <a:solidFill>
            <a:srgbClr val="12526e"/>
          </a:solidFill>
          <a:ln w="12600">
            <a:solidFill>
              <a:srgbClr val="12526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7059600" y="4076640"/>
            <a:ext cx="177840" cy="184320"/>
          </a:xfrm>
          <a:prstGeom prst="rect">
            <a:avLst/>
          </a:prstGeom>
          <a:solidFill>
            <a:srgbClr val="12526e"/>
          </a:solidFill>
          <a:ln w="12600">
            <a:solidFill>
              <a:srgbClr val="12526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3516480" y="2000160"/>
            <a:ext cx="177840" cy="184320"/>
          </a:xfrm>
          <a:prstGeom prst="rect">
            <a:avLst/>
          </a:prstGeom>
          <a:solidFill>
            <a:srgbClr val="12526e"/>
          </a:solidFill>
          <a:ln w="12600">
            <a:solidFill>
              <a:srgbClr val="12526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3002040" y="2863800"/>
            <a:ext cx="177840" cy="184320"/>
          </a:xfrm>
          <a:prstGeom prst="rect">
            <a:avLst/>
          </a:prstGeom>
          <a:solidFill>
            <a:srgbClr val="12526e"/>
          </a:solidFill>
          <a:ln w="12600">
            <a:solidFill>
              <a:srgbClr val="12526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3294000" y="4610160"/>
            <a:ext cx="177840" cy="184320"/>
          </a:xfrm>
          <a:prstGeom prst="rect">
            <a:avLst/>
          </a:prstGeom>
          <a:solidFill>
            <a:srgbClr val="12526e"/>
          </a:solidFill>
          <a:ln w="12600">
            <a:solidFill>
              <a:srgbClr val="12526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6513480" y="4959360"/>
            <a:ext cx="177840" cy="184320"/>
          </a:xfrm>
          <a:prstGeom prst="rect">
            <a:avLst/>
          </a:prstGeom>
          <a:solidFill>
            <a:srgbClr val="12526e"/>
          </a:solidFill>
          <a:ln w="12600">
            <a:solidFill>
              <a:srgbClr val="12526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2944800" y="3714840"/>
            <a:ext cx="177840" cy="184320"/>
          </a:xfrm>
          <a:prstGeom prst="rect">
            <a:avLst/>
          </a:prstGeom>
          <a:solidFill>
            <a:srgbClr val="12526e"/>
          </a:solidFill>
          <a:ln w="12600">
            <a:solidFill>
              <a:srgbClr val="12526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4475160" y="5492880"/>
            <a:ext cx="177840" cy="184320"/>
          </a:xfrm>
          <a:prstGeom prst="rect">
            <a:avLst/>
          </a:prstGeom>
          <a:solidFill>
            <a:srgbClr val="12526e"/>
          </a:solidFill>
          <a:ln w="12600">
            <a:solidFill>
              <a:srgbClr val="12526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4075200" y="5581800"/>
            <a:ext cx="2324160" cy="355680"/>
          </a:xfrm>
          <a:prstGeom prst="rect">
            <a:avLst/>
          </a:prstGeom>
          <a:solidFill>
            <a:srgbClr val="e11f2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 txBox="1"/>
          <p:nvPr/>
        </p:nvSpPr>
        <p:spPr>
          <a:xfrm>
            <a:off x="4059360" y="5591160"/>
            <a:ext cx="234324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0" lang="en-US" sz="1800" spc="-1" strike="noStrike">
                <a:solidFill>
                  <a:srgbClr val="d6ff27"/>
                </a:solidFill>
                <a:latin typeface="Comic Sans MS"/>
                <a:ea typeface="Comic Sans MS"/>
              </a:rPr>
              <a:t>Laboratory 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5878440" y="4705200"/>
            <a:ext cx="2324160" cy="355680"/>
          </a:xfrm>
          <a:prstGeom prst="rect">
            <a:avLst/>
          </a:prstGeom>
          <a:solidFill>
            <a:srgbClr val="e11f2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 txBox="1"/>
          <p:nvPr/>
        </p:nvSpPr>
        <p:spPr>
          <a:xfrm>
            <a:off x="5875200" y="4727520"/>
            <a:ext cx="236844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0" lang="en-US" sz="1800" spc="-1" strike="noStrike">
                <a:solidFill>
                  <a:srgbClr val="d6ff27"/>
                </a:solidFill>
                <a:latin typeface="Comic Sans MS"/>
                <a:ea typeface="Comic Sans MS"/>
              </a:rPr>
              <a:t>Data hand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6462720" y="3828960"/>
            <a:ext cx="2324160" cy="355680"/>
          </a:xfrm>
          <a:prstGeom prst="rect">
            <a:avLst/>
          </a:prstGeom>
          <a:solidFill>
            <a:srgbClr val="e11f2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 txBox="1"/>
          <p:nvPr/>
        </p:nvSpPr>
        <p:spPr>
          <a:xfrm>
            <a:off x="6459480" y="3851280"/>
            <a:ext cx="236844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0" lang="en-US" sz="1800" spc="-1" strike="noStrike">
                <a:solidFill>
                  <a:srgbClr val="d6ff27"/>
                </a:solidFill>
                <a:latin typeface="Comic Sans MS"/>
                <a:ea typeface="Comic Sans MS"/>
              </a:rPr>
              <a:t>Data 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6373800" y="2952720"/>
            <a:ext cx="2324160" cy="355680"/>
          </a:xfrm>
          <a:prstGeom prst="rect">
            <a:avLst/>
          </a:prstGeom>
          <a:solidFill>
            <a:srgbClr val="e11f2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2336760" y="4705200"/>
            <a:ext cx="2209680" cy="355680"/>
          </a:xfrm>
          <a:prstGeom prst="rect">
            <a:avLst/>
          </a:prstGeom>
          <a:solidFill>
            <a:srgbClr val="e11f2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 txBox="1"/>
          <p:nvPr/>
        </p:nvSpPr>
        <p:spPr>
          <a:xfrm>
            <a:off x="6370560" y="2975040"/>
            <a:ext cx="236844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0" lang="en-US" sz="1800" spc="-1" strike="noStrike">
                <a:solidFill>
                  <a:srgbClr val="d6ff27"/>
                </a:solidFill>
                <a:latin typeface="Comic Sans MS"/>
                <a:ea typeface="Comic Sans MS"/>
              </a:rPr>
              <a:t>Repor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 txBox="1"/>
          <p:nvPr/>
        </p:nvSpPr>
        <p:spPr>
          <a:xfrm>
            <a:off x="1727280" y="4727520"/>
            <a:ext cx="32767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0" lang="en-US" sz="1800" spc="-1" strike="noStrike">
                <a:solidFill>
                  <a:srgbClr val="d6ff27"/>
                </a:solidFill>
                <a:latin typeface="Comic Sans MS"/>
                <a:ea typeface="Comic Sans MS"/>
              </a:rPr>
              <a:t>Sample col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1498680" y="3828960"/>
            <a:ext cx="2666880" cy="355680"/>
          </a:xfrm>
          <a:prstGeom prst="rect">
            <a:avLst/>
          </a:prstGeom>
          <a:solidFill>
            <a:srgbClr val="e11f2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3252960" y="4508640"/>
            <a:ext cx="123480" cy="203040"/>
          </a:xfrm>
          <a:prstGeom prst="line">
            <a:avLst/>
          </a:prstGeom>
          <a:ln w="25560">
            <a:solidFill>
              <a:srgbClr val="d6ff27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4363920" y="5502240"/>
            <a:ext cx="225720" cy="79560"/>
          </a:xfrm>
          <a:prstGeom prst="line">
            <a:avLst/>
          </a:prstGeom>
          <a:ln w="25560">
            <a:solidFill>
              <a:srgbClr val="d6ff27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21960" bIns="21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 flipH="1" flipV="1">
            <a:off x="7243920" y="3308400"/>
            <a:ext cx="6120" cy="231840"/>
          </a:xfrm>
          <a:prstGeom prst="line">
            <a:avLst/>
          </a:prstGeom>
          <a:ln w="25560">
            <a:solidFill>
              <a:srgbClr val="d6ff27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7061040" y="2700360"/>
            <a:ext cx="228600" cy="228600"/>
          </a:xfrm>
          <a:prstGeom prst="rect">
            <a:avLst/>
          </a:prstGeom>
          <a:solidFill>
            <a:srgbClr val="12526e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 flipV="1">
            <a:off x="7062840" y="4191120"/>
            <a:ext cx="92160" cy="206280"/>
          </a:xfrm>
          <a:prstGeom prst="line">
            <a:avLst/>
          </a:prstGeom>
          <a:ln w="25560">
            <a:solidFill>
              <a:srgbClr val="d6ff27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 flipV="1">
            <a:off x="6424560" y="5067360"/>
            <a:ext cx="177840" cy="142920"/>
          </a:xfrm>
          <a:prstGeom prst="line">
            <a:avLst/>
          </a:prstGeom>
          <a:ln w="25560">
            <a:solidFill>
              <a:srgbClr val="d6ff27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 txBox="1"/>
          <p:nvPr/>
        </p:nvSpPr>
        <p:spPr>
          <a:xfrm>
            <a:off x="1938240" y="847800"/>
            <a:ext cx="261792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3600" spc="-1" strike="noStrike">
                <a:solidFill>
                  <a:srgbClr val="d6ff27"/>
                </a:solidFill>
                <a:latin typeface="Comic Sans MS"/>
                <a:ea typeface="Comic Sans MS"/>
              </a:rPr>
              <a:t>Monitoring</a:t>
            </a:r>
            <a:r>
              <a:rPr b="0" lang="en-US" sz="3600" spc="-1" strike="noStrike">
                <a:solidFill>
                  <a:srgbClr val="4dd1d8"/>
                </a:solidFill>
                <a:latin typeface="Comic Sans MS"/>
                <a:ea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 txBox="1"/>
          <p:nvPr/>
        </p:nvSpPr>
        <p:spPr>
          <a:xfrm>
            <a:off x="1498680" y="3843360"/>
            <a:ext cx="320040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d6ff27"/>
                </a:solidFill>
                <a:latin typeface="Comic Sans MS"/>
                <a:ea typeface="Comic Sans MS"/>
              </a:rPr>
              <a:t>Monitoring program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2641680" y="1405080"/>
            <a:ext cx="3276720" cy="2362320"/>
          </a:xfrm>
          <a:prstGeom prst="rect">
            <a:avLst/>
          </a:prstGeom>
          <a:solidFill>
            <a:srgbClr val="12526e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5537160" y="1328760"/>
            <a:ext cx="2057400" cy="1447920"/>
          </a:xfrm>
          <a:prstGeom prst="rect">
            <a:avLst/>
          </a:prstGeom>
          <a:solidFill>
            <a:srgbClr val="12526e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"/>
          <p:cNvSpPr/>
          <p:nvPr/>
        </p:nvSpPr>
        <p:spPr>
          <a:xfrm>
            <a:off x="3008160" y="1403280"/>
            <a:ext cx="4254480" cy="4254480"/>
          </a:xfrm>
          <a:prstGeom prst="ellipse">
            <a:avLst/>
          </a:prstGeom>
          <a:noFill/>
          <a:ln w="25560">
            <a:solidFill>
              <a:srgbClr val="d6ff27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>
            <a:off x="5834160" y="1486080"/>
            <a:ext cx="177840" cy="184320"/>
          </a:xfrm>
          <a:prstGeom prst="rect">
            <a:avLst/>
          </a:prstGeom>
          <a:solidFill>
            <a:srgbClr val="12526e"/>
          </a:solidFill>
          <a:ln w="12600">
            <a:solidFill>
              <a:srgbClr val="12526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6869160" y="2317680"/>
            <a:ext cx="177840" cy="184320"/>
          </a:xfrm>
          <a:prstGeom prst="rect">
            <a:avLst/>
          </a:prstGeom>
          <a:solidFill>
            <a:srgbClr val="12526e"/>
          </a:solidFill>
          <a:ln w="12600">
            <a:solidFill>
              <a:srgbClr val="12526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7155000" y="3213000"/>
            <a:ext cx="177840" cy="184320"/>
          </a:xfrm>
          <a:prstGeom prst="rect">
            <a:avLst/>
          </a:prstGeom>
          <a:solidFill>
            <a:srgbClr val="12526e"/>
          </a:solidFill>
          <a:ln w="12600">
            <a:solidFill>
              <a:srgbClr val="12526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7059600" y="4076640"/>
            <a:ext cx="177840" cy="184320"/>
          </a:xfrm>
          <a:prstGeom prst="rect">
            <a:avLst/>
          </a:prstGeom>
          <a:solidFill>
            <a:srgbClr val="12526e"/>
          </a:solidFill>
          <a:ln w="12600">
            <a:solidFill>
              <a:srgbClr val="12526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3516480" y="2000160"/>
            <a:ext cx="177840" cy="184320"/>
          </a:xfrm>
          <a:prstGeom prst="rect">
            <a:avLst/>
          </a:prstGeom>
          <a:solidFill>
            <a:srgbClr val="12526e"/>
          </a:solidFill>
          <a:ln w="12600">
            <a:solidFill>
              <a:srgbClr val="12526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3002040" y="2863800"/>
            <a:ext cx="177840" cy="184320"/>
          </a:xfrm>
          <a:prstGeom prst="rect">
            <a:avLst/>
          </a:prstGeom>
          <a:solidFill>
            <a:srgbClr val="12526e"/>
          </a:solidFill>
          <a:ln w="12600">
            <a:solidFill>
              <a:srgbClr val="12526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2944800" y="3714840"/>
            <a:ext cx="177840" cy="184320"/>
          </a:xfrm>
          <a:prstGeom prst="rect">
            <a:avLst/>
          </a:prstGeom>
          <a:solidFill>
            <a:srgbClr val="12526e"/>
          </a:solidFill>
          <a:ln w="12600">
            <a:solidFill>
              <a:srgbClr val="12526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3294000" y="4610160"/>
            <a:ext cx="177840" cy="184320"/>
          </a:xfrm>
          <a:prstGeom prst="rect">
            <a:avLst/>
          </a:prstGeom>
          <a:solidFill>
            <a:srgbClr val="12526e"/>
          </a:solidFill>
          <a:ln w="12600">
            <a:solidFill>
              <a:srgbClr val="12526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6513480" y="4959360"/>
            <a:ext cx="177840" cy="184320"/>
          </a:xfrm>
          <a:prstGeom prst="rect">
            <a:avLst/>
          </a:prstGeom>
          <a:solidFill>
            <a:srgbClr val="12526e"/>
          </a:solidFill>
          <a:ln w="12600">
            <a:solidFill>
              <a:srgbClr val="12526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4475160" y="5492880"/>
            <a:ext cx="177840" cy="184320"/>
          </a:xfrm>
          <a:prstGeom prst="rect">
            <a:avLst/>
          </a:prstGeom>
          <a:solidFill>
            <a:srgbClr val="12526e"/>
          </a:solidFill>
          <a:ln w="12600">
            <a:solidFill>
              <a:srgbClr val="12526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3784680" y="1200240"/>
            <a:ext cx="2525760" cy="355680"/>
          </a:xfrm>
          <a:prstGeom prst="rect">
            <a:avLst/>
          </a:prstGeom>
          <a:solidFill>
            <a:srgbClr val="ffff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5689440" y="2076480"/>
            <a:ext cx="2666880" cy="355680"/>
          </a:xfrm>
          <a:prstGeom prst="rect">
            <a:avLst/>
          </a:prstGeom>
          <a:solidFill>
            <a:srgbClr val="ffff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 txBox="1"/>
          <p:nvPr/>
        </p:nvSpPr>
        <p:spPr>
          <a:xfrm>
            <a:off x="5689440" y="2098800"/>
            <a:ext cx="266688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e75827"/>
                </a:solidFill>
                <a:latin typeface="Comic Sans MS"/>
                <a:ea typeface="Comic Sans MS"/>
              </a:rPr>
              <a:t>Information utilis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4075200" y="5581800"/>
            <a:ext cx="2324160" cy="355680"/>
          </a:xfrm>
          <a:prstGeom prst="rect">
            <a:avLst/>
          </a:prstGeom>
          <a:solidFill>
            <a:srgbClr val="e11f2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 txBox="1"/>
          <p:nvPr/>
        </p:nvSpPr>
        <p:spPr>
          <a:xfrm>
            <a:off x="3860640" y="1209600"/>
            <a:ext cx="243828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800" spc="-1" strike="noStrike">
                <a:solidFill>
                  <a:srgbClr val="e75827"/>
                </a:solidFill>
                <a:latin typeface="Comic Sans MS"/>
                <a:ea typeface="Comic Sans MS"/>
              </a:rPr>
              <a:t>Water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 txBox="1"/>
          <p:nvPr/>
        </p:nvSpPr>
        <p:spPr>
          <a:xfrm>
            <a:off x="4059360" y="5591160"/>
            <a:ext cx="234324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0" lang="en-US" sz="1800" spc="-1" strike="noStrike">
                <a:solidFill>
                  <a:srgbClr val="d6ff27"/>
                </a:solidFill>
                <a:latin typeface="Comic Sans MS"/>
                <a:ea typeface="Comic Sans MS"/>
              </a:rPr>
              <a:t>Laboratory 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5878440" y="4705200"/>
            <a:ext cx="2324160" cy="355680"/>
          </a:xfrm>
          <a:prstGeom prst="rect">
            <a:avLst/>
          </a:prstGeom>
          <a:solidFill>
            <a:srgbClr val="e11f2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 txBox="1"/>
          <p:nvPr/>
        </p:nvSpPr>
        <p:spPr>
          <a:xfrm>
            <a:off x="5875200" y="4727520"/>
            <a:ext cx="236844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0" lang="en-US" sz="1800" spc="-1" strike="noStrike">
                <a:solidFill>
                  <a:srgbClr val="d6ff27"/>
                </a:solidFill>
                <a:latin typeface="Comic Sans MS"/>
                <a:ea typeface="Comic Sans MS"/>
              </a:rPr>
              <a:t>Data hand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6462720" y="3828960"/>
            <a:ext cx="2324160" cy="355680"/>
          </a:xfrm>
          <a:prstGeom prst="rect">
            <a:avLst/>
          </a:prstGeom>
          <a:solidFill>
            <a:srgbClr val="e11f2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 txBox="1"/>
          <p:nvPr/>
        </p:nvSpPr>
        <p:spPr>
          <a:xfrm>
            <a:off x="6459480" y="3851280"/>
            <a:ext cx="236844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0" lang="en-US" sz="1800" spc="-1" strike="noStrike">
                <a:solidFill>
                  <a:srgbClr val="d6ff27"/>
                </a:solidFill>
                <a:latin typeface="Comic Sans MS"/>
                <a:ea typeface="Comic Sans MS"/>
              </a:rPr>
              <a:t>Data 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6373800" y="2952720"/>
            <a:ext cx="2324160" cy="355680"/>
          </a:xfrm>
          <a:prstGeom prst="rect">
            <a:avLst/>
          </a:prstGeom>
          <a:solidFill>
            <a:srgbClr val="e11f2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 txBox="1"/>
          <p:nvPr/>
        </p:nvSpPr>
        <p:spPr>
          <a:xfrm>
            <a:off x="6370560" y="2975040"/>
            <a:ext cx="236844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0" lang="en-US" sz="1800" spc="-1" strike="noStrike">
                <a:solidFill>
                  <a:srgbClr val="d6ff27"/>
                </a:solidFill>
                <a:latin typeface="Comic Sans MS"/>
                <a:ea typeface="Comic Sans MS"/>
              </a:rPr>
              <a:t>Repor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2284560" y="2076480"/>
            <a:ext cx="2324160" cy="355680"/>
          </a:xfrm>
          <a:prstGeom prst="rect">
            <a:avLst/>
          </a:prstGeom>
          <a:solidFill>
            <a:srgbClr val="ffff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 txBox="1"/>
          <p:nvPr/>
        </p:nvSpPr>
        <p:spPr>
          <a:xfrm>
            <a:off x="2184480" y="2098800"/>
            <a:ext cx="246528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e75827"/>
                </a:solidFill>
                <a:latin typeface="Comic Sans MS"/>
                <a:ea typeface="Comic Sans MS"/>
              </a:rPr>
              <a:t>Information nee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2336760" y="4705200"/>
            <a:ext cx="2209680" cy="355680"/>
          </a:xfrm>
          <a:prstGeom prst="rect">
            <a:avLst/>
          </a:prstGeom>
          <a:solidFill>
            <a:srgbClr val="e11f2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 txBox="1"/>
          <p:nvPr/>
        </p:nvSpPr>
        <p:spPr>
          <a:xfrm>
            <a:off x="1727280" y="4727520"/>
            <a:ext cx="32767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0" lang="en-US" sz="1800" spc="-1" strike="noStrike">
                <a:solidFill>
                  <a:srgbClr val="d6ff27"/>
                </a:solidFill>
                <a:latin typeface="Comic Sans MS"/>
                <a:ea typeface="Comic Sans MS"/>
              </a:rPr>
              <a:t>Sample col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1498680" y="3828960"/>
            <a:ext cx="2666880" cy="355680"/>
          </a:xfrm>
          <a:prstGeom prst="rect">
            <a:avLst/>
          </a:prstGeom>
          <a:solidFill>
            <a:srgbClr val="e11f2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1727280" y="2952720"/>
            <a:ext cx="2438280" cy="355680"/>
          </a:xfrm>
          <a:prstGeom prst="rect">
            <a:avLst/>
          </a:prstGeom>
          <a:solidFill>
            <a:srgbClr val="ffff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 txBox="1"/>
          <p:nvPr/>
        </p:nvSpPr>
        <p:spPr>
          <a:xfrm>
            <a:off x="1498680" y="2975040"/>
            <a:ext cx="297180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e75827"/>
                </a:solidFill>
                <a:latin typeface="Comic Sans MS"/>
                <a:ea typeface="Comic Sans MS"/>
              </a:rPr>
              <a:t>Assessment strate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 flipH="1">
            <a:off x="3602160" y="1920960"/>
            <a:ext cx="155520" cy="152280"/>
          </a:xfrm>
          <a:prstGeom prst="line">
            <a:avLst/>
          </a:prstGeom>
          <a:ln w="25560">
            <a:solidFill>
              <a:srgbClr val="d6ff27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 flipH="1">
            <a:off x="3110040" y="2717640"/>
            <a:ext cx="69840" cy="222480"/>
          </a:xfrm>
          <a:prstGeom prst="line">
            <a:avLst/>
          </a:prstGeom>
          <a:ln w="25560">
            <a:solidFill>
              <a:srgbClr val="d6ff27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3021120" y="3581280"/>
            <a:ext cx="19080" cy="235080"/>
          </a:xfrm>
          <a:prstGeom prst="line">
            <a:avLst/>
          </a:prstGeom>
          <a:ln w="25560">
            <a:solidFill>
              <a:srgbClr val="d6ff27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3252960" y="4508640"/>
            <a:ext cx="123480" cy="203040"/>
          </a:xfrm>
          <a:prstGeom prst="line">
            <a:avLst/>
          </a:prstGeom>
          <a:ln w="25560">
            <a:solidFill>
              <a:srgbClr val="d6ff27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4363920" y="5502240"/>
            <a:ext cx="225720" cy="79560"/>
          </a:xfrm>
          <a:prstGeom prst="line">
            <a:avLst/>
          </a:prstGeom>
          <a:ln w="25560">
            <a:solidFill>
              <a:srgbClr val="d6ff27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21960" bIns="21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 flipH="1" flipV="1">
            <a:off x="5897520" y="1555920"/>
            <a:ext cx="209520" cy="98280"/>
          </a:xfrm>
          <a:prstGeom prst="line">
            <a:avLst/>
          </a:prstGeom>
          <a:ln w="25560">
            <a:solidFill>
              <a:srgbClr val="d6ff27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40680" bIns="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 flipH="1" flipV="1">
            <a:off x="6939000" y="2425680"/>
            <a:ext cx="111240" cy="196920"/>
          </a:xfrm>
          <a:prstGeom prst="line">
            <a:avLst/>
          </a:prstGeom>
          <a:ln w="25560">
            <a:solidFill>
              <a:srgbClr val="d6ff27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 flipH="1" flipV="1">
            <a:off x="7243920" y="3308400"/>
            <a:ext cx="6120" cy="231840"/>
          </a:xfrm>
          <a:prstGeom prst="line">
            <a:avLst/>
          </a:prstGeom>
          <a:ln w="25560">
            <a:solidFill>
              <a:srgbClr val="d6ff27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 flipV="1">
            <a:off x="7062840" y="4191120"/>
            <a:ext cx="92160" cy="206280"/>
          </a:xfrm>
          <a:prstGeom prst="line">
            <a:avLst/>
          </a:prstGeom>
          <a:ln w="25560">
            <a:solidFill>
              <a:srgbClr val="d6ff27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 flipV="1">
            <a:off x="6424560" y="5067360"/>
            <a:ext cx="177840" cy="142920"/>
          </a:xfrm>
          <a:prstGeom prst="line">
            <a:avLst/>
          </a:prstGeom>
          <a:ln w="25560">
            <a:solidFill>
              <a:srgbClr val="d6ff27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 txBox="1"/>
          <p:nvPr/>
        </p:nvSpPr>
        <p:spPr>
          <a:xfrm>
            <a:off x="1176480" y="237960"/>
            <a:ext cx="374184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3600" spc="-1" strike="noStrike">
                <a:solidFill>
                  <a:srgbClr val="d6ff27"/>
                </a:solidFill>
                <a:latin typeface="Comic Sans MS"/>
                <a:ea typeface="Comic Sans MS"/>
              </a:rPr>
              <a:t>Monitoring</a:t>
            </a:r>
            <a:r>
              <a:rPr b="0" lang="en-US" sz="3600" spc="-1" strike="noStrike">
                <a:solidFill>
                  <a:srgbClr val="4dd1d8"/>
                </a:solidFill>
                <a:latin typeface="Comic Sans MS"/>
                <a:ea typeface="Comic Sans MS"/>
              </a:rPr>
              <a:t> </a:t>
            </a:r>
            <a:r>
              <a:rPr b="0" lang="en-US" sz="3600" spc="-1" strike="noStrike">
                <a:solidFill>
                  <a:srgbClr val="d6ff27"/>
                </a:solidFill>
                <a:latin typeface="Comic Sans MS"/>
                <a:ea typeface="Comic Sans MS"/>
              </a:rPr>
              <a:t>Cyc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 txBox="1"/>
          <p:nvPr/>
        </p:nvSpPr>
        <p:spPr>
          <a:xfrm>
            <a:off x="1498680" y="3843360"/>
            <a:ext cx="320040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d6ff27"/>
                </a:solidFill>
                <a:latin typeface="Comic Sans MS"/>
                <a:ea typeface="Comic Sans MS"/>
              </a:rPr>
              <a:t>Monitoring program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"/>
          <p:cNvSpPr txBox="1"/>
          <p:nvPr/>
        </p:nvSpPr>
        <p:spPr>
          <a:xfrm>
            <a:off x="2946240" y="871560"/>
            <a:ext cx="3429000" cy="102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6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d6ff27"/>
                </a:solidFill>
                <a:latin typeface="Comic Sans MS"/>
                <a:ea typeface="Comic Sans MS"/>
              </a:rPr>
              <a:t>fun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d6ff27"/>
                </a:solidFill>
                <a:latin typeface="Comic Sans MS"/>
                <a:ea typeface="Comic Sans MS"/>
              </a:rPr>
              <a:t>u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 txBox="1"/>
          <p:nvPr/>
        </p:nvSpPr>
        <p:spPr>
          <a:xfrm>
            <a:off x="1041480" y="4376880"/>
            <a:ext cx="251460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d6ff27"/>
                </a:solidFill>
                <a:latin typeface="Comic Sans MS"/>
                <a:ea typeface="Comic Sans MS"/>
              </a:rPr>
              <a:t>proble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 txBox="1"/>
          <p:nvPr/>
        </p:nvSpPr>
        <p:spPr>
          <a:xfrm>
            <a:off x="6527880" y="4376880"/>
            <a:ext cx="251460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d6ff27"/>
                </a:solidFill>
                <a:latin typeface="Comic Sans MS"/>
                <a:ea typeface="Comic Sans MS"/>
              </a:rPr>
              <a:t>meas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2598840" y="2202840"/>
            <a:ext cx="1488600" cy="1875960"/>
          </a:xfrm>
          <a:custGeom>
            <a:avLst/>
            <a:gdLst/>
            <a:ahLst/>
            <a:rect l="0" t="0" r="r" b="b"/>
            <a:pathLst>
              <a:path w="4135" h="5211">
                <a:moveTo>
                  <a:pt x="4135" y="252"/>
                </a:moveTo>
                <a:lnTo>
                  <a:pt x="3812" y="0"/>
                </a:lnTo>
                <a:lnTo>
                  <a:pt x="1030" y="3559"/>
                </a:lnTo>
                <a:lnTo>
                  <a:pt x="706" y="3306"/>
                </a:lnTo>
                <a:lnTo>
                  <a:pt x="0" y="5211"/>
                </a:lnTo>
                <a:lnTo>
                  <a:pt x="1677" y="4065"/>
                </a:lnTo>
                <a:lnTo>
                  <a:pt x="1354" y="3811"/>
                </a:lnTo>
                <a:lnTo>
                  <a:pt x="4135" y="252"/>
                </a:lnTo>
                <a:close/>
              </a:path>
            </a:pathLst>
          </a:custGeom>
          <a:solidFill>
            <a:srgbClr val="1e8c99"/>
          </a:solidFill>
          <a:ln w="12600">
            <a:solidFill>
              <a:srgbClr val="4dd1d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5298840" y="2212560"/>
            <a:ext cx="1630080" cy="1863000"/>
          </a:xfrm>
          <a:custGeom>
            <a:avLst/>
            <a:gdLst/>
            <a:ahLst/>
            <a:rect l="0" t="0" r="r" b="b"/>
            <a:pathLst>
              <a:path w="4528" h="5175">
                <a:moveTo>
                  <a:pt x="4285" y="5175"/>
                </a:moveTo>
                <a:lnTo>
                  <a:pt x="4528" y="4964"/>
                </a:lnTo>
                <a:lnTo>
                  <a:pt x="1442" y="1415"/>
                </a:lnTo>
                <a:lnTo>
                  <a:pt x="1686" y="1203"/>
                </a:lnTo>
                <a:lnTo>
                  <a:pt x="0" y="0"/>
                </a:lnTo>
                <a:lnTo>
                  <a:pt x="957" y="1837"/>
                </a:lnTo>
                <a:lnTo>
                  <a:pt x="1200" y="1626"/>
                </a:lnTo>
                <a:lnTo>
                  <a:pt x="4285" y="5175"/>
                </a:lnTo>
                <a:close/>
              </a:path>
            </a:pathLst>
          </a:custGeom>
          <a:solidFill>
            <a:srgbClr val="1e8c99"/>
          </a:solidFill>
          <a:ln w="12600">
            <a:solidFill>
              <a:srgbClr val="4dd1d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3710160" y="4452840"/>
            <a:ext cx="2362680" cy="381240"/>
          </a:xfrm>
          <a:custGeom>
            <a:avLst/>
            <a:gdLst/>
            <a:ahLst/>
            <a:rect l="0" t="0" r="r" b="b"/>
            <a:pathLst>
              <a:path w="6563" h="1059">
                <a:moveTo>
                  <a:pt x="0" y="352"/>
                </a:moveTo>
                <a:lnTo>
                  <a:pt x="0" y="705"/>
                </a:lnTo>
                <a:lnTo>
                  <a:pt x="4594" y="705"/>
                </a:lnTo>
                <a:lnTo>
                  <a:pt x="4594" y="1059"/>
                </a:lnTo>
                <a:lnTo>
                  <a:pt x="6563" y="530"/>
                </a:lnTo>
                <a:lnTo>
                  <a:pt x="4594" y="0"/>
                </a:lnTo>
                <a:lnTo>
                  <a:pt x="4594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1e8c99"/>
          </a:solidFill>
          <a:ln w="12600">
            <a:solidFill>
              <a:srgbClr val="4dd1d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3" name=""/>
          <p:cNvGrpSpPr/>
          <p:nvPr/>
        </p:nvGrpSpPr>
        <p:grpSpPr>
          <a:xfrm>
            <a:off x="1828800" y="1252440"/>
            <a:ext cx="6299280" cy="4192560"/>
            <a:chOff x="1828800" y="1252440"/>
            <a:chExt cx="6299280" cy="4192560"/>
          </a:xfrm>
        </p:grpSpPr>
        <p:sp>
          <p:nvSpPr>
            <p:cNvPr id="844" name=""/>
            <p:cNvSpPr/>
            <p:nvPr/>
          </p:nvSpPr>
          <p:spPr>
            <a:xfrm>
              <a:off x="2949480" y="1252440"/>
              <a:ext cx="5032440" cy="3854520"/>
            </a:xfrm>
            <a:prstGeom prst="rect">
              <a:avLst/>
            </a:prstGeom>
            <a:solidFill>
              <a:srgbClr val="c0dced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4232160" y="1260360"/>
              <a:ext cx="0" cy="3838680"/>
            </a:xfrm>
            <a:prstGeom prst="line">
              <a:avLst/>
            </a:prstGeom>
            <a:ln w="12600">
              <a:solidFill>
                <a:srgbClr val="e11f2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495760" y="1260360"/>
              <a:ext cx="0" cy="3838680"/>
            </a:xfrm>
            <a:prstGeom prst="line">
              <a:avLst/>
            </a:prstGeom>
            <a:ln w="12600">
              <a:solidFill>
                <a:srgbClr val="e11f2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780240" y="1260360"/>
              <a:ext cx="0" cy="3838680"/>
            </a:xfrm>
            <a:prstGeom prst="line">
              <a:avLst/>
            </a:prstGeom>
            <a:ln w="12600">
              <a:solidFill>
                <a:srgbClr val="e11f2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978680" y="1260360"/>
              <a:ext cx="0" cy="3838680"/>
            </a:xfrm>
            <a:prstGeom prst="line">
              <a:avLst/>
            </a:prstGeom>
            <a:ln w="12600">
              <a:solidFill>
                <a:srgbClr val="e11f2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3225960" y="1711440"/>
              <a:ext cx="4397760" cy="3146760"/>
            </a:xfrm>
            <a:custGeom>
              <a:avLst/>
              <a:gdLst/>
              <a:ahLst/>
              <a:rect l="0" t="0" r="r" b="b"/>
              <a:pathLst>
                <a:path fill="none" w="12216" h="8741">
                  <a:moveTo>
                    <a:pt x="0" y="8741"/>
                  </a:moveTo>
                  <a:lnTo>
                    <a:pt x="308" y="8657"/>
                  </a:lnTo>
                  <a:lnTo>
                    <a:pt x="547" y="8577"/>
                  </a:lnTo>
                  <a:lnTo>
                    <a:pt x="957" y="8445"/>
                  </a:lnTo>
                  <a:lnTo>
                    <a:pt x="1371" y="8291"/>
                  </a:lnTo>
                  <a:lnTo>
                    <a:pt x="1782" y="8110"/>
                  </a:lnTo>
                  <a:lnTo>
                    <a:pt x="2174" y="7955"/>
                  </a:lnTo>
                  <a:lnTo>
                    <a:pt x="2487" y="7792"/>
                  </a:lnTo>
                  <a:lnTo>
                    <a:pt x="2792" y="7620"/>
                  </a:lnTo>
                  <a:lnTo>
                    <a:pt x="2977" y="7404"/>
                  </a:lnTo>
                  <a:lnTo>
                    <a:pt x="3110" y="7249"/>
                  </a:lnTo>
                  <a:lnTo>
                    <a:pt x="3344" y="6936"/>
                  </a:lnTo>
                  <a:lnTo>
                    <a:pt x="3657" y="6548"/>
                  </a:lnTo>
                  <a:lnTo>
                    <a:pt x="3887" y="6076"/>
                  </a:lnTo>
                  <a:lnTo>
                    <a:pt x="4196" y="5524"/>
                  </a:lnTo>
                  <a:lnTo>
                    <a:pt x="4434" y="5061"/>
                  </a:lnTo>
                  <a:lnTo>
                    <a:pt x="4738" y="4461"/>
                  </a:lnTo>
                  <a:lnTo>
                    <a:pt x="4972" y="3908"/>
                  </a:lnTo>
                  <a:lnTo>
                    <a:pt x="5215" y="3101"/>
                  </a:lnTo>
                  <a:lnTo>
                    <a:pt x="5360" y="2550"/>
                  </a:lnTo>
                  <a:lnTo>
                    <a:pt x="5440" y="2157"/>
                  </a:lnTo>
                  <a:lnTo>
                    <a:pt x="5523" y="1844"/>
                  </a:lnTo>
                  <a:lnTo>
                    <a:pt x="5598" y="1455"/>
                  </a:lnTo>
                  <a:lnTo>
                    <a:pt x="5678" y="1217"/>
                  </a:lnTo>
                  <a:lnTo>
                    <a:pt x="5753" y="908"/>
                  </a:lnTo>
                  <a:lnTo>
                    <a:pt x="5854" y="648"/>
                  </a:lnTo>
                  <a:lnTo>
                    <a:pt x="5987" y="361"/>
                  </a:lnTo>
                  <a:lnTo>
                    <a:pt x="6141" y="176"/>
                  </a:lnTo>
                  <a:lnTo>
                    <a:pt x="6379" y="52"/>
                  </a:lnTo>
                  <a:lnTo>
                    <a:pt x="6613" y="0"/>
                  </a:lnTo>
                  <a:lnTo>
                    <a:pt x="6842" y="52"/>
                  </a:lnTo>
                  <a:lnTo>
                    <a:pt x="7076" y="277"/>
                  </a:lnTo>
                  <a:lnTo>
                    <a:pt x="7204" y="595"/>
                  </a:lnTo>
                  <a:lnTo>
                    <a:pt x="7306" y="908"/>
                  </a:lnTo>
                  <a:lnTo>
                    <a:pt x="7385" y="1147"/>
                  </a:lnTo>
                  <a:lnTo>
                    <a:pt x="7469" y="1455"/>
                  </a:lnTo>
                  <a:lnTo>
                    <a:pt x="7544" y="1844"/>
                  </a:lnTo>
                  <a:lnTo>
                    <a:pt x="7623" y="2241"/>
                  </a:lnTo>
                  <a:lnTo>
                    <a:pt x="7698" y="2629"/>
                  </a:lnTo>
                  <a:lnTo>
                    <a:pt x="7778" y="3026"/>
                  </a:lnTo>
                  <a:lnTo>
                    <a:pt x="7853" y="3436"/>
                  </a:lnTo>
                  <a:lnTo>
                    <a:pt x="7985" y="3878"/>
                  </a:lnTo>
                  <a:lnTo>
                    <a:pt x="8170" y="4323"/>
                  </a:lnTo>
                  <a:lnTo>
                    <a:pt x="8408" y="4717"/>
                  </a:lnTo>
                  <a:lnTo>
                    <a:pt x="8633" y="5004"/>
                  </a:lnTo>
                  <a:lnTo>
                    <a:pt x="9044" y="5317"/>
                  </a:lnTo>
                  <a:lnTo>
                    <a:pt x="9490" y="5582"/>
                  </a:lnTo>
                  <a:lnTo>
                    <a:pt x="9962" y="5838"/>
                  </a:lnTo>
                  <a:lnTo>
                    <a:pt x="10218" y="5952"/>
                  </a:lnTo>
                  <a:lnTo>
                    <a:pt x="10580" y="6076"/>
                  </a:lnTo>
                  <a:lnTo>
                    <a:pt x="11356" y="6310"/>
                  </a:lnTo>
                  <a:lnTo>
                    <a:pt x="12216" y="6548"/>
                  </a:lnTo>
                </a:path>
              </a:pathLst>
            </a:custGeom>
            <a:ln w="25560">
              <a:solidFill>
                <a:srgbClr val="25c14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"/>
            <p:cNvSpPr txBox="1"/>
            <p:nvPr/>
          </p:nvSpPr>
          <p:spPr>
            <a:xfrm>
              <a:off x="1828800" y="1273320"/>
              <a:ext cx="984240" cy="476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</a:pPr>
              <a:r>
                <a:rPr b="0" lang="en-US" sz="1400" spc="-1" strike="noStrike">
                  <a:solidFill>
                    <a:srgbClr val="ffffff"/>
                  </a:solidFill>
                  <a:latin typeface="Syntax"/>
                  <a:ea typeface="Syntax"/>
                </a:rPr>
                <a:t>politic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</a:pPr>
              <a:r>
                <a:rPr b="0" lang="en-US" sz="1400" spc="-1" strike="noStrike">
                  <a:solidFill>
                    <a:srgbClr val="ffffff"/>
                  </a:solidFill>
                  <a:latin typeface="Syntax"/>
                  <a:ea typeface="Syntax"/>
                </a:rPr>
                <a:t>importan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2262240" y="2003400"/>
              <a:ext cx="0" cy="10270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"/>
            <p:cNvSpPr txBox="1"/>
            <p:nvPr/>
          </p:nvSpPr>
          <p:spPr>
            <a:xfrm>
              <a:off x="7628040" y="5160960"/>
              <a:ext cx="500040" cy="284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90000"/>
                </a:lnSpc>
              </a:pPr>
              <a:r>
                <a:rPr b="0" lang="en-US" sz="1400" spc="-1" strike="noStrike">
                  <a:solidFill>
                    <a:srgbClr val="ffffff"/>
                  </a:solidFill>
                  <a:latin typeface="Syntax"/>
                  <a:ea typeface="Syntax"/>
                </a:rPr>
                <a:t>tim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"/>
            <p:cNvSpPr/>
            <p:nvPr/>
          </p:nvSpPr>
          <p:spPr>
            <a:xfrm flipH="1">
              <a:off x="6132600" y="5369040"/>
              <a:ext cx="10922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4" name=""/>
          <p:cNvSpPr txBox="1"/>
          <p:nvPr/>
        </p:nvSpPr>
        <p:spPr>
          <a:xfrm>
            <a:off x="3170160" y="700200"/>
            <a:ext cx="928800" cy="42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1200" spc="-1" strike="noStrike">
                <a:solidFill>
                  <a:srgbClr val="d6ff27"/>
                </a:solidFill>
                <a:latin typeface="Syntax"/>
                <a:ea typeface="Syntax"/>
              </a:rPr>
              <a:t>Probl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0" lang="en-US" sz="1200" spc="-1" strike="noStrike">
                <a:solidFill>
                  <a:srgbClr val="d6ff27"/>
                </a:solidFill>
                <a:latin typeface="Syntax"/>
                <a:ea typeface="Syntax"/>
              </a:rPr>
              <a:t>Recogn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 txBox="1"/>
          <p:nvPr/>
        </p:nvSpPr>
        <p:spPr>
          <a:xfrm>
            <a:off x="4371840" y="700200"/>
            <a:ext cx="938160" cy="42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1200" spc="-1" strike="noStrike">
                <a:solidFill>
                  <a:srgbClr val="d6ff27"/>
                </a:solidFill>
                <a:latin typeface="Syntax"/>
                <a:ea typeface="Syntax"/>
              </a:rPr>
              <a:t>Poli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0" lang="en-US" sz="1200" spc="-1" strike="noStrike">
                <a:solidFill>
                  <a:srgbClr val="d6ff27"/>
                </a:solidFill>
                <a:latin typeface="Syntax"/>
                <a:ea typeface="Syntax"/>
              </a:rPr>
              <a:t>Form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 txBox="1"/>
          <p:nvPr/>
        </p:nvSpPr>
        <p:spPr>
          <a:xfrm>
            <a:off x="5537160" y="700200"/>
            <a:ext cx="1295280" cy="42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1200" spc="-1" strike="noStrike">
                <a:solidFill>
                  <a:srgbClr val="d6ff27"/>
                </a:solidFill>
                <a:latin typeface="Syntax"/>
                <a:ea typeface="Syntax"/>
              </a:rPr>
              <a:t>Poli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0" lang="en-US" sz="1200" spc="-1" strike="noStrike">
                <a:solidFill>
                  <a:srgbClr val="d6ff27"/>
                </a:solidFill>
                <a:latin typeface="Syntax"/>
                <a:ea typeface="Syntax"/>
              </a:rPr>
              <a:t>Implem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 txBox="1"/>
          <p:nvPr/>
        </p:nvSpPr>
        <p:spPr>
          <a:xfrm>
            <a:off x="6993000" y="700200"/>
            <a:ext cx="844560" cy="42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1200" spc="-1" strike="noStrike">
                <a:solidFill>
                  <a:srgbClr val="d6ff27"/>
                </a:solidFill>
                <a:latin typeface="Syntax"/>
                <a:ea typeface="Syntax"/>
              </a:rPr>
              <a:t>Results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0" lang="en-US" sz="1200" spc="-1" strike="noStrike">
                <a:solidFill>
                  <a:srgbClr val="d6ff27"/>
                </a:solidFill>
                <a:latin typeface="Syntax"/>
                <a:ea typeface="Syntax"/>
              </a:rPr>
              <a:t>Eval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 txBox="1"/>
          <p:nvPr/>
        </p:nvSpPr>
        <p:spPr>
          <a:xfrm>
            <a:off x="1149480" y="5303880"/>
            <a:ext cx="3527280" cy="16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20000"/>
              </a:lnSpc>
            </a:pPr>
            <a:r>
              <a:rPr b="0" lang="en-US" sz="4000" spc="-1" strike="noStrike">
                <a:solidFill>
                  <a:srgbClr val="4dd1d8"/>
                </a:solidFill>
                <a:latin typeface="Syntax Bold"/>
                <a:ea typeface="Syntax Bold"/>
              </a:rPr>
              <a:t>Policy life-cyc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"/>
          <p:cNvSpPr txBox="1"/>
          <p:nvPr/>
        </p:nvSpPr>
        <p:spPr>
          <a:xfrm>
            <a:off x="5568840" y="4170240"/>
            <a:ext cx="2940120" cy="239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Syntax"/>
                <a:ea typeface="Syntax"/>
              </a:rPr>
              <a:t>Research, environmental behavour, risk assessment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Syntax"/>
                <a:ea typeface="Syntax"/>
              </a:rPr>
              <a:t>Inventories, surveys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Syntax"/>
                <a:ea typeface="Syntax"/>
              </a:rPr>
              <a:t>Definition of criteria and target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Syntax"/>
                <a:ea typeface="Syntax"/>
              </a:rPr>
              <a:t>Monitoring temporal tren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Syntax"/>
                <a:ea typeface="Syntax"/>
              </a:rPr>
              <a:t>spatial distrib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Syntax"/>
                <a:ea typeface="Syntax"/>
              </a:rPr>
              <a:t>Compliance monito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2028960" y="4276800"/>
            <a:ext cx="1003320" cy="176040"/>
          </a:xfrm>
          <a:prstGeom prst="rect">
            <a:avLst/>
          </a:prstGeom>
          <a:solidFill>
            <a:srgbClr val="e11f29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2381400" y="4753080"/>
            <a:ext cx="1003320" cy="157320"/>
          </a:xfrm>
          <a:prstGeom prst="rect">
            <a:avLst/>
          </a:prstGeom>
          <a:solidFill>
            <a:srgbClr val="e11f29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2793960" y="5214960"/>
            <a:ext cx="914400" cy="152280"/>
          </a:xfrm>
          <a:prstGeom prst="rect">
            <a:avLst/>
          </a:prstGeom>
          <a:solidFill>
            <a:srgbClr val="e11f29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3314880" y="5672160"/>
            <a:ext cx="1503360" cy="152280"/>
          </a:xfrm>
          <a:prstGeom prst="rect">
            <a:avLst/>
          </a:prstGeom>
          <a:solidFill>
            <a:srgbClr val="e11f29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4124160" y="6149880"/>
            <a:ext cx="1295280" cy="131760"/>
          </a:xfrm>
          <a:prstGeom prst="rect">
            <a:avLst/>
          </a:prstGeom>
          <a:solidFill>
            <a:srgbClr val="e11f29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"/>
          <p:cNvGrpSpPr/>
          <p:nvPr/>
        </p:nvGrpSpPr>
        <p:grpSpPr>
          <a:xfrm>
            <a:off x="750960" y="793800"/>
            <a:ext cx="4927680" cy="3166920"/>
            <a:chOff x="750960" y="793800"/>
            <a:chExt cx="4927680" cy="3166920"/>
          </a:xfrm>
        </p:grpSpPr>
        <p:sp>
          <p:nvSpPr>
            <p:cNvPr id="866" name=""/>
            <p:cNvSpPr/>
            <p:nvPr/>
          </p:nvSpPr>
          <p:spPr>
            <a:xfrm>
              <a:off x="1836720" y="793800"/>
              <a:ext cx="3733920" cy="2840040"/>
            </a:xfrm>
            <a:prstGeom prst="rect">
              <a:avLst/>
            </a:prstGeom>
            <a:solidFill>
              <a:srgbClr val="c0dced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2789280" y="798480"/>
              <a:ext cx="0" cy="2832120"/>
            </a:xfrm>
            <a:prstGeom prst="line">
              <a:avLst/>
            </a:prstGeom>
            <a:ln w="12600">
              <a:solidFill>
                <a:srgbClr val="e11f2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3724200" y="798480"/>
              <a:ext cx="0" cy="2832120"/>
            </a:xfrm>
            <a:prstGeom prst="line">
              <a:avLst/>
            </a:prstGeom>
            <a:ln w="12600">
              <a:solidFill>
                <a:srgbClr val="e11f2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4678200" y="798480"/>
              <a:ext cx="0" cy="2832120"/>
            </a:xfrm>
            <a:prstGeom prst="line">
              <a:avLst/>
            </a:prstGeom>
            <a:ln w="12600">
              <a:solidFill>
                <a:srgbClr val="e11f2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5565600" y="798480"/>
              <a:ext cx="0" cy="2832120"/>
            </a:xfrm>
            <a:prstGeom prst="line">
              <a:avLst/>
            </a:prstGeom>
            <a:ln w="12600">
              <a:solidFill>
                <a:srgbClr val="e11f2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041560" y="1131840"/>
              <a:ext cx="3262680" cy="2321280"/>
            </a:xfrm>
            <a:custGeom>
              <a:avLst/>
              <a:gdLst/>
              <a:ahLst/>
              <a:rect l="0" t="0" r="r" b="b"/>
              <a:pathLst>
                <a:path fill="none" w="9063" h="6448">
                  <a:moveTo>
                    <a:pt x="0" y="6448"/>
                  </a:moveTo>
                  <a:lnTo>
                    <a:pt x="229" y="6386"/>
                  </a:lnTo>
                  <a:lnTo>
                    <a:pt x="405" y="6328"/>
                  </a:lnTo>
                  <a:lnTo>
                    <a:pt x="710" y="6231"/>
                  </a:lnTo>
                  <a:lnTo>
                    <a:pt x="1019" y="6117"/>
                  </a:lnTo>
                  <a:lnTo>
                    <a:pt x="1323" y="5984"/>
                  </a:lnTo>
                  <a:lnTo>
                    <a:pt x="1614" y="5869"/>
                  </a:lnTo>
                  <a:lnTo>
                    <a:pt x="1848" y="5750"/>
                  </a:lnTo>
                  <a:lnTo>
                    <a:pt x="2073" y="5622"/>
                  </a:lnTo>
                  <a:lnTo>
                    <a:pt x="2210" y="5463"/>
                  </a:lnTo>
                  <a:lnTo>
                    <a:pt x="2308" y="5349"/>
                  </a:lnTo>
                  <a:lnTo>
                    <a:pt x="2484" y="5119"/>
                  </a:lnTo>
                  <a:lnTo>
                    <a:pt x="2714" y="4832"/>
                  </a:lnTo>
                  <a:lnTo>
                    <a:pt x="2886" y="4484"/>
                  </a:lnTo>
                  <a:lnTo>
                    <a:pt x="3115" y="4078"/>
                  </a:lnTo>
                  <a:lnTo>
                    <a:pt x="3292" y="3734"/>
                  </a:lnTo>
                  <a:lnTo>
                    <a:pt x="3517" y="3292"/>
                  </a:lnTo>
                  <a:lnTo>
                    <a:pt x="3689" y="2885"/>
                  </a:lnTo>
                  <a:lnTo>
                    <a:pt x="3870" y="2290"/>
                  </a:lnTo>
                  <a:lnTo>
                    <a:pt x="3980" y="1884"/>
                  </a:lnTo>
                  <a:lnTo>
                    <a:pt x="4037" y="1592"/>
                  </a:lnTo>
                  <a:lnTo>
                    <a:pt x="4099" y="1363"/>
                  </a:lnTo>
                  <a:lnTo>
                    <a:pt x="4156" y="1076"/>
                  </a:lnTo>
                  <a:lnTo>
                    <a:pt x="4214" y="900"/>
                  </a:lnTo>
                  <a:lnTo>
                    <a:pt x="4271" y="670"/>
                  </a:lnTo>
                  <a:lnTo>
                    <a:pt x="4346" y="480"/>
                  </a:lnTo>
                  <a:lnTo>
                    <a:pt x="4443" y="269"/>
                  </a:lnTo>
                  <a:lnTo>
                    <a:pt x="4558" y="132"/>
                  </a:lnTo>
                  <a:lnTo>
                    <a:pt x="4734" y="39"/>
                  </a:lnTo>
                  <a:lnTo>
                    <a:pt x="4906" y="0"/>
                  </a:lnTo>
                  <a:lnTo>
                    <a:pt x="5079" y="39"/>
                  </a:lnTo>
                  <a:lnTo>
                    <a:pt x="5251" y="207"/>
                  </a:lnTo>
                  <a:lnTo>
                    <a:pt x="5348" y="441"/>
                  </a:lnTo>
                  <a:lnTo>
                    <a:pt x="5423" y="670"/>
                  </a:lnTo>
                  <a:lnTo>
                    <a:pt x="5480" y="847"/>
                  </a:lnTo>
                  <a:lnTo>
                    <a:pt x="5542" y="1076"/>
                  </a:lnTo>
                  <a:lnTo>
                    <a:pt x="5599" y="1363"/>
                  </a:lnTo>
                  <a:lnTo>
                    <a:pt x="5657" y="1654"/>
                  </a:lnTo>
                  <a:lnTo>
                    <a:pt x="5714" y="1941"/>
                  </a:lnTo>
                  <a:lnTo>
                    <a:pt x="5771" y="2232"/>
                  </a:lnTo>
                  <a:lnTo>
                    <a:pt x="5829" y="2537"/>
                  </a:lnTo>
                  <a:lnTo>
                    <a:pt x="5926" y="2863"/>
                  </a:lnTo>
                  <a:lnTo>
                    <a:pt x="6062" y="3190"/>
                  </a:lnTo>
                  <a:lnTo>
                    <a:pt x="6239" y="3482"/>
                  </a:lnTo>
                  <a:lnTo>
                    <a:pt x="6407" y="3694"/>
                  </a:lnTo>
                  <a:lnTo>
                    <a:pt x="6711" y="3923"/>
                  </a:lnTo>
                  <a:lnTo>
                    <a:pt x="7043" y="4118"/>
                  </a:lnTo>
                  <a:lnTo>
                    <a:pt x="7391" y="4307"/>
                  </a:lnTo>
                  <a:lnTo>
                    <a:pt x="7581" y="4391"/>
                  </a:lnTo>
                  <a:lnTo>
                    <a:pt x="7850" y="4484"/>
                  </a:lnTo>
                  <a:lnTo>
                    <a:pt x="8428" y="4656"/>
                  </a:lnTo>
                  <a:lnTo>
                    <a:pt x="9063" y="4832"/>
                  </a:lnTo>
                </a:path>
              </a:pathLst>
            </a:custGeom>
            <a:ln w="25560">
              <a:solidFill>
                <a:srgbClr val="25c14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"/>
            <p:cNvSpPr txBox="1"/>
            <p:nvPr/>
          </p:nvSpPr>
          <p:spPr>
            <a:xfrm>
              <a:off x="750960" y="809640"/>
              <a:ext cx="984240" cy="476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90000"/>
                </a:lnSpc>
              </a:pPr>
              <a:r>
                <a:rPr b="0" lang="en-US" sz="1400" spc="-1" strike="noStrike">
                  <a:solidFill>
                    <a:srgbClr val="ffffff"/>
                  </a:solidFill>
                  <a:latin typeface="Syntax"/>
                  <a:ea typeface="Syntax"/>
                </a:rPr>
                <a:t>politic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90000"/>
                </a:lnSpc>
              </a:pPr>
              <a:r>
                <a:rPr b="0" lang="en-US" sz="1400" spc="-1" strike="noStrike">
                  <a:solidFill>
                    <a:srgbClr val="ffffff"/>
                  </a:solidFill>
                  <a:latin typeface="Syntax"/>
                  <a:ea typeface="Syntax"/>
                </a:rPr>
                <a:t>importan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1325520" y="1347840"/>
              <a:ext cx="0" cy="7570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"/>
            <p:cNvSpPr txBox="1"/>
            <p:nvPr/>
          </p:nvSpPr>
          <p:spPr>
            <a:xfrm>
              <a:off x="5178600" y="3676680"/>
              <a:ext cx="500040" cy="284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90000"/>
                </a:lnSpc>
              </a:pPr>
              <a:r>
                <a:rPr b="0" lang="en-US" sz="1400" spc="-1" strike="noStrike">
                  <a:solidFill>
                    <a:srgbClr val="ffffff"/>
                  </a:solidFill>
                  <a:latin typeface="Syntax"/>
                  <a:ea typeface="Syntax"/>
                </a:rPr>
                <a:t>tim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"/>
            <p:cNvSpPr/>
            <p:nvPr/>
          </p:nvSpPr>
          <p:spPr>
            <a:xfrm flipH="1">
              <a:off x="4197240" y="3828960"/>
              <a:ext cx="8114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6" name=""/>
          <p:cNvSpPr txBox="1"/>
          <p:nvPr/>
        </p:nvSpPr>
        <p:spPr>
          <a:xfrm>
            <a:off x="1798560" y="395280"/>
            <a:ext cx="928800" cy="42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1200" spc="-1" strike="noStrike">
                <a:solidFill>
                  <a:srgbClr val="d6ff27"/>
                </a:solidFill>
                <a:latin typeface="Syntax"/>
                <a:ea typeface="Syntax"/>
              </a:rPr>
              <a:t>Probl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0" lang="en-US" sz="1200" spc="-1" strike="noStrike">
                <a:solidFill>
                  <a:srgbClr val="d6ff27"/>
                </a:solidFill>
                <a:latin typeface="Syntax"/>
                <a:ea typeface="Syntax"/>
              </a:rPr>
              <a:t>Recogn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 txBox="1"/>
          <p:nvPr/>
        </p:nvSpPr>
        <p:spPr>
          <a:xfrm>
            <a:off x="2771640" y="395280"/>
            <a:ext cx="903240" cy="42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1200" spc="-1" strike="noStrike">
                <a:solidFill>
                  <a:srgbClr val="d6ff27"/>
                </a:solidFill>
                <a:latin typeface="Syntax"/>
                <a:ea typeface="Syntax"/>
              </a:rPr>
              <a:t>Poli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0" lang="en-US" sz="1200" spc="-1" strike="noStrike">
                <a:solidFill>
                  <a:srgbClr val="d6ff27"/>
                </a:solidFill>
                <a:latin typeface="Syntax"/>
                <a:ea typeface="Syntax"/>
              </a:rPr>
              <a:t>form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"/>
          <p:cNvSpPr txBox="1"/>
          <p:nvPr/>
        </p:nvSpPr>
        <p:spPr>
          <a:xfrm>
            <a:off x="3632040" y="395280"/>
            <a:ext cx="1371600" cy="42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1200" spc="-1" strike="noStrike">
                <a:solidFill>
                  <a:srgbClr val="d6ff27"/>
                </a:solidFill>
                <a:latin typeface="Syntax"/>
                <a:ea typeface="Syntax"/>
              </a:rPr>
              <a:t>Poli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0" lang="en-US" sz="1200" spc="-1" strike="noStrike">
                <a:solidFill>
                  <a:srgbClr val="d6ff27"/>
                </a:solidFill>
                <a:latin typeface="Syntax"/>
                <a:ea typeface="Syntax"/>
              </a:rPr>
              <a:t>Implem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"/>
          <p:cNvSpPr txBox="1"/>
          <p:nvPr/>
        </p:nvSpPr>
        <p:spPr>
          <a:xfrm>
            <a:off x="4782960" y="395280"/>
            <a:ext cx="819000" cy="42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1200" spc="-1" strike="noStrike">
                <a:solidFill>
                  <a:srgbClr val="d6ff27"/>
                </a:solidFill>
                <a:latin typeface="Syntax"/>
                <a:ea typeface="Syntax"/>
              </a:rPr>
              <a:t>Results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0" lang="en-US" sz="1200" spc="-1" strike="noStrike">
                <a:solidFill>
                  <a:srgbClr val="d6ff27"/>
                </a:solidFill>
                <a:latin typeface="Syntax"/>
                <a:ea typeface="Syntax"/>
              </a:rPr>
              <a:t>eval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"/>
          <p:cNvSpPr txBox="1"/>
          <p:nvPr/>
        </p:nvSpPr>
        <p:spPr>
          <a:xfrm>
            <a:off x="6102360" y="579600"/>
            <a:ext cx="3527280" cy="16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20000"/>
              </a:lnSpc>
            </a:pPr>
            <a:r>
              <a:rPr b="0" lang="en-US" sz="4000" spc="-1" strike="noStrike">
                <a:solidFill>
                  <a:srgbClr val="4dd1d8"/>
                </a:solidFill>
                <a:latin typeface="Syntax Bold"/>
                <a:ea typeface="Syntax Bold"/>
              </a:rPr>
              <a:t>Policy life-cyc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"/>
          <p:cNvSpPr txBox="1"/>
          <p:nvPr/>
        </p:nvSpPr>
        <p:spPr>
          <a:xfrm>
            <a:off x="1422360" y="828720"/>
            <a:ext cx="4910040" cy="752400"/>
          </a:xfrm>
          <a:prstGeom prst="rect">
            <a:avLst/>
          </a:prstGeom>
          <a:solidFill>
            <a:srgbClr val="ff6633"/>
          </a:solidFill>
          <a:ln w="12600">
            <a:solidFill>
              <a:srgbClr val="ffff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  <a:ea typeface="Comic Sans MS"/>
              </a:rPr>
              <a:t>USES / FUN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3876840" y="1730520"/>
            <a:ext cx="0" cy="752400"/>
          </a:xfrm>
          <a:prstGeom prst="line">
            <a:avLst/>
          </a:prstGeom>
          <a:ln w="25560">
            <a:solidFill>
              <a:srgbClr val="c0dced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"/>
          <p:cNvSpPr txBox="1"/>
          <p:nvPr/>
        </p:nvSpPr>
        <p:spPr>
          <a:xfrm>
            <a:off x="2352600" y="2708280"/>
            <a:ext cx="2963880" cy="83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i="1" lang="en-US" sz="24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user 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i="1" lang="en-US" sz="24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(criteri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5130720" y="3084480"/>
            <a:ext cx="846360" cy="0"/>
          </a:xfrm>
          <a:prstGeom prst="line">
            <a:avLst/>
          </a:prstGeom>
          <a:ln w="25560">
            <a:solidFill>
              <a:srgbClr val="c0dced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"/>
          <p:cNvSpPr txBox="1"/>
          <p:nvPr/>
        </p:nvSpPr>
        <p:spPr>
          <a:xfrm>
            <a:off x="6164280" y="2631960"/>
            <a:ext cx="3301920" cy="752400"/>
          </a:xfrm>
          <a:prstGeom prst="rect">
            <a:avLst/>
          </a:prstGeom>
          <a:solidFill>
            <a:srgbClr val="ff6633"/>
          </a:solidFill>
          <a:ln w="12600">
            <a:solidFill>
              <a:srgbClr val="ffff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  <a:ea typeface="Comic Sans MS"/>
              </a:rPr>
              <a:t>PROBL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3876840" y="3684600"/>
            <a:ext cx="0" cy="754200"/>
          </a:xfrm>
          <a:prstGeom prst="line">
            <a:avLst/>
          </a:prstGeom>
          <a:ln w="25560">
            <a:solidFill>
              <a:srgbClr val="c0dced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"/>
          <p:cNvSpPr txBox="1"/>
          <p:nvPr/>
        </p:nvSpPr>
        <p:spPr>
          <a:xfrm>
            <a:off x="2606760" y="4665600"/>
            <a:ext cx="2371680" cy="5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i="1" lang="en-US" sz="24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targ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4867200" y="4890960"/>
            <a:ext cx="1185840" cy="0"/>
          </a:xfrm>
          <a:prstGeom prst="line">
            <a:avLst/>
          </a:prstGeom>
          <a:ln w="25560">
            <a:solidFill>
              <a:srgbClr val="c0dced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 txBox="1"/>
          <p:nvPr/>
        </p:nvSpPr>
        <p:spPr>
          <a:xfrm>
            <a:off x="6164280" y="4438800"/>
            <a:ext cx="3301920" cy="752400"/>
          </a:xfrm>
          <a:prstGeom prst="rect">
            <a:avLst/>
          </a:prstGeom>
          <a:solidFill>
            <a:srgbClr val="ff6633"/>
          </a:solidFill>
          <a:ln w="12600">
            <a:solidFill>
              <a:srgbClr val="c0dced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  <a:ea typeface="Comic Sans MS"/>
              </a:rPr>
              <a:t>MEAS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"/>
          <p:cNvSpPr/>
          <p:nvPr/>
        </p:nvSpPr>
        <p:spPr>
          <a:xfrm>
            <a:off x="1778040" y="3611520"/>
            <a:ext cx="7535880" cy="0"/>
          </a:xfrm>
          <a:prstGeom prst="line">
            <a:avLst/>
          </a:prstGeom>
          <a:ln w="12600">
            <a:solidFill>
              <a:srgbClr val="c0dce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1778040" y="3460680"/>
            <a:ext cx="254160" cy="301680"/>
          </a:xfrm>
          <a:prstGeom prst="rect">
            <a:avLst/>
          </a:prstGeom>
          <a:solidFill>
            <a:srgbClr val="c0dced"/>
          </a:solidFill>
          <a:ln w="12600">
            <a:solidFill>
              <a:srgbClr val="c0dced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7790040" y="3537000"/>
            <a:ext cx="0" cy="150840"/>
          </a:xfrm>
          <a:prstGeom prst="line">
            <a:avLst/>
          </a:prstGeom>
          <a:ln w="12600">
            <a:solidFill>
              <a:srgbClr val="c0dce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6012000" y="3537000"/>
            <a:ext cx="0" cy="150840"/>
          </a:xfrm>
          <a:prstGeom prst="line">
            <a:avLst/>
          </a:prstGeom>
          <a:ln w="12600">
            <a:solidFill>
              <a:srgbClr val="c0dce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6012000" y="3836880"/>
            <a:ext cx="0" cy="1054080"/>
          </a:xfrm>
          <a:prstGeom prst="line">
            <a:avLst/>
          </a:prstGeom>
          <a:ln w="12600">
            <a:solidFill>
              <a:srgbClr val="c0dced"/>
            </a:solidFill>
            <a:custDash>
              <a:ds d="100000" sp="1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7790040" y="3762360"/>
            <a:ext cx="0" cy="1204920"/>
          </a:xfrm>
          <a:prstGeom prst="line">
            <a:avLst/>
          </a:prstGeom>
          <a:ln w="12600">
            <a:solidFill>
              <a:srgbClr val="c0dced"/>
            </a:solidFill>
            <a:custDash>
              <a:ds d="100000" sp="1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"/>
          <p:cNvSpPr txBox="1"/>
          <p:nvPr/>
        </p:nvSpPr>
        <p:spPr>
          <a:xfrm>
            <a:off x="1270080" y="3987720"/>
            <a:ext cx="1353960" cy="903240"/>
          </a:xfrm>
          <a:prstGeom prst="rect">
            <a:avLst/>
          </a:prstGeom>
          <a:solidFill>
            <a:srgbClr val="c0dced"/>
          </a:solidFill>
          <a:ln w="12600">
            <a:solidFill>
              <a:srgbClr val="3333cc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3333cc"/>
                </a:solidFill>
                <a:latin typeface="Comic Sans MS"/>
                <a:ea typeface="Comic Sans MS"/>
              </a:rPr>
              <a:t>actu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3333cc"/>
                </a:solidFill>
                <a:latin typeface="Comic Sans MS"/>
                <a:ea typeface="Comic Sans MS"/>
              </a:rPr>
              <a:t>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"/>
          <p:cNvSpPr txBox="1"/>
          <p:nvPr/>
        </p:nvSpPr>
        <p:spPr>
          <a:xfrm>
            <a:off x="8508960" y="2106720"/>
            <a:ext cx="1600200" cy="832680"/>
          </a:xfrm>
          <a:prstGeom prst="rect">
            <a:avLst/>
          </a:prstGeom>
          <a:solidFill>
            <a:srgbClr val="c0dced"/>
          </a:solidFill>
          <a:ln w="12600">
            <a:solidFill>
              <a:srgbClr val="c0dced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  <a:ea typeface="Comic Sans MS"/>
              </a:rPr>
              <a:t>re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  <a:ea typeface="Comic Sans MS"/>
              </a:rPr>
              <a:t>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 flipV="1">
            <a:off x="6012000" y="2181240"/>
            <a:ext cx="0" cy="1054080"/>
          </a:xfrm>
          <a:prstGeom prst="line">
            <a:avLst/>
          </a:prstGeom>
          <a:ln w="12600">
            <a:solidFill>
              <a:srgbClr val="c0dced"/>
            </a:solidFill>
            <a:custDash>
              <a:ds d="100000" sp="1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 flipV="1">
            <a:off x="7790040" y="2179800"/>
            <a:ext cx="0" cy="1204920"/>
          </a:xfrm>
          <a:prstGeom prst="line">
            <a:avLst/>
          </a:prstGeom>
          <a:ln w="12600">
            <a:solidFill>
              <a:srgbClr val="c0dced"/>
            </a:solidFill>
            <a:custDash>
              <a:ds d="100000" sp="1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9313920" y="3537000"/>
            <a:ext cx="0" cy="150840"/>
          </a:xfrm>
          <a:prstGeom prst="line">
            <a:avLst/>
          </a:prstGeom>
          <a:ln w="12600">
            <a:solidFill>
              <a:srgbClr val="c0dce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9313920" y="2935440"/>
            <a:ext cx="0" cy="525240"/>
          </a:xfrm>
          <a:prstGeom prst="line">
            <a:avLst/>
          </a:prstGeom>
          <a:ln w="12600">
            <a:solidFill>
              <a:srgbClr val="c0dced"/>
            </a:solidFill>
            <a:custDash>
              <a:ds d="100000" sp="1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 txBox="1"/>
          <p:nvPr/>
        </p:nvSpPr>
        <p:spPr>
          <a:xfrm>
            <a:off x="7027920" y="1052640"/>
            <a:ext cx="1523880" cy="903240"/>
          </a:xfrm>
          <a:prstGeom prst="rect">
            <a:avLst/>
          </a:prstGeom>
          <a:solidFill>
            <a:srgbClr val="3333cc"/>
          </a:solidFill>
          <a:ln w="12600">
            <a:solidFill>
              <a:srgbClr val="c0dced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cc00"/>
                </a:solidFill>
                <a:latin typeface="Comic Sans MS"/>
                <a:ea typeface="Comic Sans MS"/>
              </a:rPr>
              <a:t>no-eff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cc00"/>
                </a:solidFill>
                <a:latin typeface="Comic Sans MS"/>
                <a:ea typeface="Comic Sans MS"/>
              </a:rPr>
              <a:t>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-1110600" y="-1847880"/>
            <a:ext cx="5466240" cy="3654720"/>
          </a:xfrm>
          <a:custGeom>
            <a:avLst/>
            <a:gdLst/>
            <a:ahLst/>
            <a:rect l="0" t="0" r="r" b="b"/>
            <a:pathLst>
              <a:path fill="none" w="15184" h="10152">
                <a:moveTo>
                  <a:pt x="10141" y="10152"/>
                </a:moveTo>
                <a:lnTo>
                  <a:pt x="15184" y="3483"/>
                </a:lnTo>
                <a:lnTo>
                  <a:pt x="15184" y="3483"/>
                </a:lnTo>
                <a:cubicBezTo>
                  <a:pt x="15180" y="3480"/>
                  <a:pt x="15177" y="3477"/>
                  <a:pt x="15173" y="3474"/>
                </a:cubicBezTo>
                <a:cubicBezTo>
                  <a:pt x="13392" y="2132"/>
                  <a:pt x="11410" y="1122"/>
                  <a:pt x="9426" y="546"/>
                </a:cubicBezTo>
                <a:cubicBezTo>
                  <a:pt x="7441" y="-31"/>
                  <a:pt x="5525" y="-153"/>
                  <a:pt x="3870" y="191"/>
                </a:cubicBezTo>
                <a:cubicBezTo>
                  <a:pt x="2218" y="534"/>
                  <a:pt x="883" y="1330"/>
                  <a:pt x="0" y="2498"/>
                </a:cubicBezTo>
              </a:path>
            </a:pathLst>
          </a:custGeom>
          <a:ln w="25560">
            <a:solidFill>
              <a:srgbClr val="c0dced"/>
            </a:solidFill>
            <a:round/>
            <a:headEnd len="med" type="triangle" w="med"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"/>
          <p:cNvSpPr txBox="1"/>
          <p:nvPr/>
        </p:nvSpPr>
        <p:spPr>
          <a:xfrm>
            <a:off x="7197840" y="5192640"/>
            <a:ext cx="1184400" cy="752400"/>
          </a:xfrm>
          <a:prstGeom prst="rect">
            <a:avLst/>
          </a:prstGeom>
          <a:solidFill>
            <a:srgbClr val="3333cc"/>
          </a:solidFill>
          <a:ln w="12600">
            <a:solidFill>
              <a:srgbClr val="c0dced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cc00"/>
                </a:solidFill>
                <a:latin typeface="Comic Sans MS"/>
                <a:ea typeface="Comic Sans MS"/>
              </a:rPr>
              <a:t>tar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cc00"/>
                </a:solidFill>
                <a:latin typeface="Comic Sans MS"/>
                <a:ea typeface="Comic Sans MS"/>
              </a:rPr>
              <a:t>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 txBox="1"/>
          <p:nvPr/>
        </p:nvSpPr>
        <p:spPr>
          <a:xfrm>
            <a:off x="5334120" y="1052640"/>
            <a:ext cx="1353960" cy="1042560"/>
          </a:xfrm>
          <a:prstGeom prst="rect">
            <a:avLst/>
          </a:prstGeom>
          <a:solidFill>
            <a:srgbClr val="ffcc00"/>
          </a:solidFill>
          <a:ln w="12600">
            <a:solidFill>
              <a:srgbClr val="c0dced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3333cc"/>
                </a:solidFill>
                <a:latin typeface="Comic Sans MS"/>
                <a:ea typeface="Comic Sans MS"/>
              </a:rPr>
              <a:t>max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3333cc"/>
                </a:solidFill>
                <a:latin typeface="Comic Sans MS"/>
                <a:ea typeface="Comic Sans MS"/>
              </a:rPr>
              <a:t>allowab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3333cc"/>
                </a:solidFill>
                <a:latin typeface="Comic Sans MS"/>
                <a:ea typeface="Comic Sans MS"/>
              </a:rPr>
              <a:t>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263160" y="-465480"/>
            <a:ext cx="3641040" cy="2861640"/>
          </a:xfrm>
          <a:custGeom>
            <a:avLst/>
            <a:gdLst/>
            <a:ahLst/>
            <a:rect l="0" t="0" r="r" b="b"/>
            <a:pathLst>
              <a:path fill="none" w="10114" h="7949">
                <a:moveTo>
                  <a:pt x="6356" y="7949"/>
                </a:moveTo>
                <a:lnTo>
                  <a:pt x="10114" y="2283"/>
                </a:lnTo>
                <a:lnTo>
                  <a:pt x="10114" y="2283"/>
                </a:lnTo>
                <a:cubicBezTo>
                  <a:pt x="9240" y="1588"/>
                  <a:pt x="8287" y="1031"/>
                  <a:pt x="7303" y="641"/>
                </a:cubicBezTo>
                <a:cubicBezTo>
                  <a:pt x="5917" y="92"/>
                  <a:pt x="4513" y="-109"/>
                  <a:pt x="3230" y="57"/>
                </a:cubicBezTo>
                <a:cubicBezTo>
                  <a:pt x="1950" y="223"/>
                  <a:pt x="836" y="749"/>
                  <a:pt x="0" y="1582"/>
                </a:cubicBezTo>
              </a:path>
            </a:pathLst>
          </a:custGeom>
          <a:ln w="25560">
            <a:solidFill>
              <a:srgbClr val="ffcc00"/>
            </a:solidFill>
            <a:round/>
            <a:headEnd len="med" type="triangle" w="med"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"/>
          <p:cNvSpPr txBox="1"/>
          <p:nvPr/>
        </p:nvSpPr>
        <p:spPr>
          <a:xfrm>
            <a:off x="5504040" y="5192640"/>
            <a:ext cx="1100160" cy="752400"/>
          </a:xfrm>
          <a:prstGeom prst="rect">
            <a:avLst/>
          </a:prstGeom>
          <a:solidFill>
            <a:srgbClr val="ffcc00"/>
          </a:solidFill>
          <a:ln w="12600">
            <a:solidFill>
              <a:srgbClr val="c0dced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3333cc"/>
                </a:solidFill>
                <a:latin typeface="Comic Sans MS"/>
                <a:ea typeface="Comic Sans MS"/>
              </a:rPr>
              <a:t>lim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3333cc"/>
                </a:solidFill>
                <a:latin typeface="Comic Sans MS"/>
                <a:ea typeface="Comic Sans MS"/>
              </a:rPr>
              <a:t>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"/>
          <p:cNvSpPr txBox="1"/>
          <p:nvPr/>
        </p:nvSpPr>
        <p:spPr>
          <a:xfrm>
            <a:off x="507960" y="450720"/>
            <a:ext cx="363996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2800" spc="-1" strike="noStrike">
                <a:solidFill>
                  <a:srgbClr val="ffcc00"/>
                </a:solidFill>
                <a:latin typeface="Comic Sans MS"/>
                <a:ea typeface="Comic Sans MS"/>
              </a:rPr>
              <a:t>QUALIT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i="1" lang="en-US" sz="2800" spc="-1" strike="noStrike">
                <a:solidFill>
                  <a:srgbClr val="ffcc00"/>
                </a:solidFill>
                <a:latin typeface="Comic Sans MS"/>
                <a:ea typeface="Comic Sans MS"/>
              </a:rPr>
              <a:t>CRIT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driaan</dc:creator>
  <dc:description/>
  <dc:language>en-US</dc:language>
  <cp:lastModifiedBy>UNECE</cp:lastModifiedBy>
  <cp:revision>0</cp:revision>
  <dc:subject/>
  <dc:title>Geen diatitel</dc:title>
</cp:coreProperties>
</file>