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150-6A8F-4B8A-A5E9-220C741F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950-843B-4292-A794-DB9E2B2D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4F2-7356-4251-9C21-D2789232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851-29B6-432F-90A2-4F43BBA9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B076-50E3-452B-8B96-B3D738FD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DEF1-E93F-495C-8BA7-FDF5ECAD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90E2-5F05-49B4-A4C5-D1BDB51F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018-6435-45C8-A799-460FE1BA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EB4-DD72-43D9-A6D4-94187D3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CCF1-EAFA-43BA-A0C0-EC8D87E0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CCEE-D16C-4D9E-843E-8280934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A6C-7BE9-4F25-AB7C-AB6F3E2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0BF-5F5A-4086-A368-7437771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6C27-9B81-4937-B02C-7B3349FB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E644-9FE8-4447-A265-18EC1909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AFE2-56C7-4049-99FA-F95FDBAC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3884-053E-4512-95EE-667FFE39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A12-21C1-4E28-AA6D-D6412982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0AB-EB01-4B51-ACC7-5B1D7B5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6C6-8CF0-46D6-A44B-BD4E9926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115-DB21-4087-8D95-9B5594A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CD9-5553-450C-A1CD-3C5F749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1FA-1CB8-42B0-A88B-E318F8C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1A5-57CE-425C-8678-D9C0112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93CC-B8B7-4DC2-95BC-E8C8D78F2EC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2D3-7698-499A-8F74-3779D2A5A6E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31880" y="1114560"/>
            <a:ext cx="8298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Pilot projec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on transboundary river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under the UN/ECE Water Conv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838080"/>
            <a:ext cx="807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Functions and uses of Kura ri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057400"/>
            <a:ext cx="6248520" cy="37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rinking water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rrigation (80% of all water us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dustrial water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ydro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380880"/>
            <a:ext cx="6477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Problems of Kura ri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222200"/>
            <a:ext cx="76960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pollution by municipal and industrial wast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serious loads of suspended solids, organic compounds, nutrients, oil products, heavy metals, high contents of pesticides, bacteriological pol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accidental pollution in Georgia, Armenia, Azerbaij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conditions too bad for survival of flora and fa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overexpenditure of water for irrigation by not effective irrigation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water use for drinking water in rural areas from open surface water or from shallow ground water because of weak water supply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685800"/>
            <a:ext cx="7620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What information is needed for Kura riv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080" y="1440"/>
            <a:ext cx="9097920" cy="6855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280" y="609480"/>
            <a:ext cx="7696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omic Sans MS"/>
              </a:rPr>
              <a:t>Pilot projects                   transboundary ri</a:t>
            </a:r>
            <a:r>
              <a:rPr b="0" lang="nl-NL" sz="4400" spc="-1" strike="noStrike">
                <a:solidFill>
                  <a:srgbClr val="3c0eca"/>
                </a:solidFill>
                <a:latin typeface="Comic Sans MS"/>
              </a:rPr>
              <a:t>ve</a:t>
            </a:r>
            <a:r>
              <a:rPr b="0" lang="nl-NL" sz="4400" spc="-1" strike="noStrike">
                <a:solidFill>
                  <a:srgbClr val="ffff00"/>
                </a:solidFill>
                <a:latin typeface="Comic Sans MS"/>
              </a:rPr>
              <a:t>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7800" y="4492800"/>
            <a:ext cx="105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Ip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3600" y="47941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M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03600" y="4046400"/>
            <a:ext cx="2125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Latorica/Uz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4111560"/>
            <a:ext cx="125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Mor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4210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038c"/>
                </a:solidFill>
                <a:latin typeface="Comic Sans MS"/>
              </a:rPr>
              <a:t>B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533520"/>
            <a:ext cx="98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f30e"/>
                </a:solidFill>
                <a:latin typeface="Times New Roman"/>
              </a:rPr>
              <a:t>To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4343400"/>
            <a:ext cx="98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f30e"/>
                </a:solidFill>
                <a:latin typeface="Times New Roman"/>
              </a:rPr>
              <a:t>K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3200400"/>
            <a:ext cx="236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f30e"/>
                </a:solidFill>
                <a:latin typeface="Times New Roman"/>
              </a:rPr>
              <a:t>Severski Do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49280" y="1500120"/>
            <a:ext cx="779472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Morava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Czech Republic/Slovak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Ipoly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Slovakia/Hung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Mures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Romania/Hung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Latorica/Uzh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Ukraine/Slovak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Bug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Ukraine/Belarus/Po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Tobol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Kazkstan/Russian Fed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Kura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Georgia/Azerbaijan (Armen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Severski Donets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Russia/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8160" y="496800"/>
            <a:ext cx="6308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fe"/>
                </a:solidFill>
                <a:latin typeface="Comic Sans MS"/>
              </a:rPr>
              <a:t>PILOT PROJE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6858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Comic Sans MS"/>
              </a:rPr>
              <a:t>OBJECTIVES of pilot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96252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demonstrate 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application of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assist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countries with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review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523880"/>
            <a:ext cx="7620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initiate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transboundary co-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support countries in transition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approximation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EU environmental legislation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realise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effective and sustainable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monitor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and assessmen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LOT PROJECT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371600"/>
            <a:ext cx="6019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CORE GROUP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start: early 19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participants: pilot project leaders + advi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meeting 2 x per year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3526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ACTIVITIES of Core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preparation of proje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preparation of 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discussion on progress of pil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evaluation of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41008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Comic Sans MS"/>
              </a:rPr>
              <a:t>STEERING COMMITTEE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per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685800"/>
            <a:ext cx="7467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PROJECT HISTORY  Kura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ject first proposed under UN/ECE Water Convention in March 199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MOU pilot project KURA signed in  September 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ject proposal submitted to EU/TACIS programme: March 1998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posal accepted by TACIS in 199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drafting of TOR 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ject proposals submitted by consultants before  1 March 200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expected start of project in 2nd half of 200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43200" y="0"/>
            <a:ext cx="6095880" cy="74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Memorandum of Understand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among the Ministry of Environment of Georgia an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the State Committee for Ecology and Natural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of Azerbaijan Re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On Collaboration in the Development and 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of the Joint Pilot Project on Monitoring and Assess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in the Mtkvari/Kura river bas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The Ministry of Environment of Georgia and the State Committee for Ecology and Natural Resources of Azerbaijan Republ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recognising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 the importance of Collaboration in the field of environmental protec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considering 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already the agreement on Collaboration in Environmental Protection between the Government of Georgia and the Government of Azerbaijan which is signed in 18.02.97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recalling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 the article 6, the Parties recognise the significance of the Mtkvari/Kura river and will join their efforts with the aim to protect its basin from the pollution, and also rational use of water resourc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recalling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 the pertinent provisions of Article 13, the Parties will organise regular meetings on high level of the competent bodies which are responsible for this Agre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agreed upon the follow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1. To harmonise the approaches to the water quality monitoring and assessment of the river Mtkvari/Ku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2. To develop and implement the joint pilot project on implementation of the Guidelines on Water Quality Monitoring and Assessment of Transboundary Rivers developed by the UN/ECE Task Force on Monitoring and Assessment in the river Mtkvari/K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n behalf of the Ministry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n behalf of the State Committe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f Environment of Georgia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for Ecology and Natural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f Azerbaij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M.Sharabidze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T. Ismailo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Deputy Minister 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First Deputy Chair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343400"/>
            <a:ext cx="259092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Times New Roman"/>
              </a:rPr>
              <a:t>M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pilot project river K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52680" y="1144440"/>
            <a:ext cx="4114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pilot pro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ACTIVI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306360"/>
            <a:ext cx="5359320" cy="403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65040" y="517680"/>
            <a:ext cx="5273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INCEPTION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agreement countries (MO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financ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project organis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6560" y="2498760"/>
            <a:ext cx="5808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PREPARATORY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water management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inven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evaluation of 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information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recommendations fo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562720"/>
            <a:ext cx="464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MPLEMENTATION 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5960" y="1390680"/>
            <a:ext cx="3568680" cy="82548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of available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960" y="2455920"/>
            <a:ext cx="3568680" cy="67320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if information is lac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960" y="436680"/>
            <a:ext cx="3568680" cy="74916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identification of</a:t>
            </a: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USES /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960" y="3354480"/>
            <a:ext cx="3568680" cy="67464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CRITERIA / TARGETS</a:t>
            </a: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for functions/uses and issu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560" y="4284720"/>
            <a:ext cx="3552840" cy="75888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evaluation of classification system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91764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29280" y="1886040"/>
            <a:ext cx="27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8177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7288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0880" y="4740120"/>
            <a:ext cx="342720" cy="0"/>
          </a:xfrm>
          <a:prstGeom prst="line">
            <a:avLst/>
          </a:prstGeom>
          <a:ln w="12600">
            <a:solidFill>
              <a:srgbClr val="4dd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3600" y="960480"/>
            <a:ext cx="0" cy="37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3600" y="3121200"/>
            <a:ext cx="96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1640" y="2608200"/>
            <a:ext cx="3797280" cy="97632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NALYSIS OF WA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NAGEMENT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3751200"/>
            <a:ext cx="292320" cy="444600"/>
          </a:xfrm>
          <a:prstGeom prst="downArrow">
            <a:avLst>
              <a:gd name="adj1" fmla="val 50000"/>
              <a:gd name="adj2" fmla="val 76054"/>
            </a:avLst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6760" y="4208400"/>
            <a:ext cx="3111480" cy="901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driaan</dc:creator>
  <dc:description/>
  <dc:language>en-US</dc:language>
  <cp:lastModifiedBy>UNECE</cp:lastModifiedBy>
  <cp:lastPrinted>1998-09-22T10:20:41Z</cp:lastPrinted>
  <dcterms:modified xsi:type="dcterms:W3CDTF">2002-02-19T06:42:33Z</dcterms:modified>
  <cp:revision>55</cp:revision>
  <dc:subject/>
  <dc:title>Geen diatitel</dc:title>
</cp:coreProperties>
</file>