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315-A4F4-4A51-8A87-7C605A84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267-6C95-4470-A927-7CFEFD9A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D39-CBB9-42A1-BAE0-8F4C8501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5A6-F3A0-4A57-904E-17A39FA7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78DD-72F8-48A4-A8D3-F572B0B1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F69E-7DDC-4857-860A-7CE77229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67B-67B7-49B6-A227-59FABE7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AC80-8E1F-4340-B223-7DC8020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5C4-6A19-406E-BF1E-58197EA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BE6-1DD9-40B6-AF59-DAB079C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807F-6905-48BD-AF55-9744F2C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265-A36B-47CF-BFE0-9B2ABE4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4F4F-7C3A-457E-B327-4BCCA73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C36-A52C-420E-8D9B-EF89770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D08-B00A-4E69-93A6-4523802D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F0B1-6DE5-449F-9D98-776B8414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2E33-3BCC-42AE-9C10-49F522A5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17C-1074-49E7-89BE-EB843D4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7B4-0D75-4A19-9189-6AA56ED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87A-5213-4BFE-8787-04A8B4C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C76-FE44-4168-A5C1-5F3C2A15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6A6-AFDC-4C3F-BADF-5650CE1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395-3CE7-4AA2-A604-FA5F96C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554-D20C-47AD-A7B5-EB03281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9AB6-18DF-4393-866D-B101246C8B8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D64-9ACB-4475-BA79-199039A2ECC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99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103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108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5562720"/>
            <a:ext cx="8582040" cy="362880"/>
            <a:chOff x="380880" y="5562720"/>
            <a:chExt cx="8582040" cy="362880"/>
          </a:xfrm>
        </p:grpSpPr>
        <p:sp>
          <p:nvSpPr>
            <p:cNvPr id="113" name=""/>
            <p:cNvSpPr/>
            <p:nvPr/>
          </p:nvSpPr>
          <p:spPr>
            <a:xfrm>
              <a:off x="380880" y="5562720"/>
              <a:ext cx="358164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itrat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5562720"/>
              <a:ext cx="327672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P in 3 phases (200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0120" y="5562720"/>
              <a:ext cx="1342800" cy="33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1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2080" y="5562720"/>
            <a:ext cx="6336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gramme started in 2001, full implementation in 2012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2000" y="6248520"/>
            <a:ext cx="3663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8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28600"/>
            <a:ext cx="728028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ction plans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f the nitrate dire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00200" y="1219320"/>
            <a:ext cx="5715000" cy="3885840"/>
            <a:chOff x="1600200" y="1219320"/>
            <a:chExt cx="5715000" cy="3885840"/>
          </a:xfrm>
        </p:grpSpPr>
        <p:sp>
          <p:nvSpPr>
            <p:cNvPr id="120" name=""/>
            <p:cNvSpPr/>
            <p:nvPr/>
          </p:nvSpPr>
          <p:spPr>
            <a:xfrm>
              <a:off x="1662120" y="1344240"/>
              <a:ext cx="5653080" cy="3760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600200" y="1219320"/>
              <a:ext cx="5593320" cy="38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124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128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133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880" y="5562720"/>
            <a:ext cx="8582040" cy="362880"/>
            <a:chOff x="380880" y="5562720"/>
            <a:chExt cx="8582040" cy="362880"/>
          </a:xfrm>
        </p:grpSpPr>
        <p:sp>
          <p:nvSpPr>
            <p:cNvPr id="138" name=""/>
            <p:cNvSpPr/>
            <p:nvPr/>
          </p:nvSpPr>
          <p:spPr>
            <a:xfrm>
              <a:off x="380880" y="5562720"/>
              <a:ext cx="358164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itrat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5562720"/>
              <a:ext cx="327672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P in 3 phases (200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0120" y="5562720"/>
              <a:ext cx="1342800" cy="33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1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0880" y="6172200"/>
            <a:ext cx="8570880" cy="387000"/>
            <a:chOff x="380880" y="6172200"/>
            <a:chExt cx="8570880" cy="387000"/>
          </a:xfrm>
        </p:grpSpPr>
        <p:sp>
          <p:nvSpPr>
            <p:cNvPr id="142" name=""/>
            <p:cNvSpPr/>
            <p:nvPr/>
          </p:nvSpPr>
          <p:spPr>
            <a:xfrm>
              <a:off x="380880" y="6172200"/>
              <a:ext cx="3581640" cy="362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Groundwater protect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6191280"/>
              <a:ext cx="3276720" cy="362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remediation (1996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0120" y="6172200"/>
              <a:ext cx="1331640" cy="387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hu-HU" sz="1800" spc="-1" strike="noStrike">
                  <a:solidFill>
                    <a:srgbClr val="ffffcc"/>
                  </a:solidFill>
                  <a:latin typeface="Arial Narrow"/>
                </a:rPr>
                <a:t>cont.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80880"/>
            <a:ext cx="6324840" cy="8690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49"/>
                </a:solidFill>
                <a:latin typeface="Arial"/>
              </a:rPr>
              <a:t>Economical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49"/>
                </a:solidFill>
                <a:latin typeface="Arial"/>
              </a:rPr>
              <a:t>cost reco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560" y="1523880"/>
            <a:ext cx="8126280" cy="188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ent situa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Water prices cover the operational and maintenance cos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(development costs can also be includ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igh water prices are subsidi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1360" y="3505320"/>
            <a:ext cx="612864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Water resources fe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according to the type of the water resour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5120" y="4495680"/>
            <a:ext cx="509400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and            to the type of the water 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257800"/>
            <a:ext cx="380628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olluter pay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.g.  waste water fine 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267080"/>
            <a:ext cx="3047760" cy="1761480"/>
          </a:xfrm>
          <a:prstGeom prst="rect">
            <a:avLst/>
          </a:prstGeom>
          <a:noFill/>
          <a:ln w="9360">
            <a:solidFill>
              <a:srgbClr val="bfffbf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medicinal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therm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karsti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confined ground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shallow ground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bank filtered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surface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5029200"/>
            <a:ext cx="3047760" cy="2004840"/>
          </a:xfrm>
          <a:prstGeom prst="rect">
            <a:avLst/>
          </a:prstGeom>
          <a:noFill/>
          <a:ln w="9360">
            <a:solidFill>
              <a:srgbClr val="bfffbf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therapeuti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drinking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bath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animal farm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fishe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irrig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hydroenerg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ONEY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286000" cy="2286000"/>
          </a:xfrm>
          <a:prstGeom prst="rect">
            <a:avLst/>
          </a:prstGeom>
          <a:ln w="57240">
            <a:solidFill>
              <a:srgbClr val="cc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68600" y="533520"/>
            <a:ext cx="3617280" cy="4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HOW TO PROCEED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8400" y="4343400"/>
            <a:ext cx="211644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66"/>
                </a:solidFill>
                <a:latin typeface="Times New Roman"/>
              </a:rPr>
              <a:t>EFFICIENCY</a:t>
            </a:r>
            <a:r>
              <a:rPr b="1" i="1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9960" y="2438280"/>
            <a:ext cx="22093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66"/>
                </a:solidFill>
                <a:latin typeface="Times New Roman"/>
              </a:rPr>
              <a:t>RATION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4320" y="5486400"/>
            <a:ext cx="5540760" cy="103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CO - OP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AT EU AND DANUB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143000"/>
            <a:ext cx="2171880" cy="3276720"/>
            <a:chOff x="1295280" y="1143000"/>
            <a:chExt cx="2171880" cy="3276720"/>
          </a:xfrm>
        </p:grpSpPr>
        <p:sp>
          <p:nvSpPr>
            <p:cNvPr id="158" name=""/>
            <p:cNvSpPr/>
            <p:nvPr/>
          </p:nvSpPr>
          <p:spPr>
            <a:xfrm>
              <a:off x="1295280" y="2209680"/>
              <a:ext cx="1739880" cy="635040"/>
            </a:xfrm>
            <a:custGeom>
              <a:avLst/>
              <a:gdLst/>
              <a:ahLst/>
              <a:rect l="l" t="t" r="r" b="b"/>
              <a:pathLst>
                <a:path w="1096" h="400">
                  <a:moveTo>
                    <a:pt x="16" y="344"/>
                  </a:moveTo>
                  <a:cubicBezTo>
                    <a:pt x="24" y="360"/>
                    <a:pt x="16" y="384"/>
                    <a:pt x="64" y="392"/>
                  </a:cubicBezTo>
                  <a:cubicBezTo>
                    <a:pt x="112" y="400"/>
                    <a:pt x="208" y="400"/>
                    <a:pt x="304" y="392"/>
                  </a:cubicBezTo>
                  <a:cubicBezTo>
                    <a:pt x="400" y="384"/>
                    <a:pt x="536" y="368"/>
                    <a:pt x="640" y="344"/>
                  </a:cubicBezTo>
                  <a:cubicBezTo>
                    <a:pt x="744" y="320"/>
                    <a:pt x="856" y="288"/>
                    <a:pt x="928" y="248"/>
                  </a:cubicBezTo>
                  <a:cubicBezTo>
                    <a:pt x="1000" y="208"/>
                    <a:pt x="1048" y="136"/>
                    <a:pt x="1072" y="104"/>
                  </a:cubicBezTo>
                  <a:cubicBezTo>
                    <a:pt x="1096" y="72"/>
                    <a:pt x="1088" y="72"/>
                    <a:pt x="1072" y="56"/>
                  </a:cubicBezTo>
                  <a:cubicBezTo>
                    <a:pt x="1056" y="40"/>
                    <a:pt x="1024" y="16"/>
                    <a:pt x="976" y="8"/>
                  </a:cubicBezTo>
                  <a:cubicBezTo>
                    <a:pt x="928" y="0"/>
                    <a:pt x="864" y="0"/>
                    <a:pt x="784" y="8"/>
                  </a:cubicBezTo>
                  <a:cubicBezTo>
                    <a:pt x="704" y="16"/>
                    <a:pt x="592" y="32"/>
                    <a:pt x="496" y="56"/>
                  </a:cubicBezTo>
                  <a:cubicBezTo>
                    <a:pt x="400" y="80"/>
                    <a:pt x="272" y="128"/>
                    <a:pt x="208" y="152"/>
                  </a:cubicBezTo>
                  <a:cubicBezTo>
                    <a:pt x="144" y="176"/>
                    <a:pt x="144" y="176"/>
                    <a:pt x="112" y="200"/>
                  </a:cubicBezTo>
                  <a:cubicBezTo>
                    <a:pt x="80" y="224"/>
                    <a:pt x="32" y="272"/>
                    <a:pt x="16" y="296"/>
                  </a:cubicBezTo>
                  <a:cubicBezTo>
                    <a:pt x="0" y="320"/>
                    <a:pt x="8" y="328"/>
                    <a:pt x="16" y="344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1523880" y="1143000"/>
              <a:ext cx="13813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828800" y="2362320"/>
              <a:ext cx="851040" cy="317520"/>
            </a:xfrm>
            <a:custGeom>
              <a:avLst/>
              <a:gdLst/>
              <a:ahLst/>
              <a:rect l="l" t="t" r="r" b="b"/>
              <a:pathLst>
                <a:path w="536" h="200">
                  <a:moveTo>
                    <a:pt x="192" y="48"/>
                  </a:moveTo>
                  <a:cubicBezTo>
                    <a:pt x="132" y="60"/>
                    <a:pt x="72" y="72"/>
                    <a:pt x="48" y="96"/>
                  </a:cubicBezTo>
                  <a:cubicBezTo>
                    <a:pt x="24" y="120"/>
                    <a:pt x="0" y="184"/>
                    <a:pt x="48" y="192"/>
                  </a:cubicBezTo>
                  <a:cubicBezTo>
                    <a:pt x="96" y="200"/>
                    <a:pt x="256" y="168"/>
                    <a:pt x="336" y="144"/>
                  </a:cubicBezTo>
                  <a:cubicBezTo>
                    <a:pt x="416" y="120"/>
                    <a:pt x="520" y="72"/>
                    <a:pt x="528" y="48"/>
                  </a:cubicBezTo>
                  <a:cubicBezTo>
                    <a:pt x="536" y="24"/>
                    <a:pt x="460" y="12"/>
                    <a:pt x="384" y="0"/>
                  </a:cubicBezTo>
                </a:path>
              </a:pathLst>
            </a:custGeom>
            <a:noFill/>
            <a:ln w="284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2362320"/>
              <a:ext cx="647640" cy="253800"/>
            </a:xfrm>
            <a:custGeom>
              <a:avLst/>
              <a:gdLst/>
              <a:ahLst/>
              <a:rect l="l" t="t" r="r" b="b"/>
              <a:pathLst>
                <a:path w="408" h="160">
                  <a:moveTo>
                    <a:pt x="112" y="56"/>
                  </a:moveTo>
                  <a:cubicBezTo>
                    <a:pt x="72" y="72"/>
                    <a:pt x="32" y="88"/>
                    <a:pt x="16" y="104"/>
                  </a:cubicBezTo>
                  <a:cubicBezTo>
                    <a:pt x="0" y="120"/>
                    <a:pt x="0" y="144"/>
                    <a:pt x="16" y="152"/>
                  </a:cubicBezTo>
                  <a:cubicBezTo>
                    <a:pt x="32" y="160"/>
                    <a:pt x="64" y="160"/>
                    <a:pt x="112" y="152"/>
                  </a:cubicBezTo>
                  <a:cubicBezTo>
                    <a:pt x="160" y="144"/>
                    <a:pt x="256" y="120"/>
                    <a:pt x="304" y="104"/>
                  </a:cubicBezTo>
                  <a:cubicBezTo>
                    <a:pt x="352" y="88"/>
                    <a:pt x="392" y="72"/>
                    <a:pt x="400" y="56"/>
                  </a:cubicBezTo>
                  <a:cubicBezTo>
                    <a:pt x="408" y="40"/>
                    <a:pt x="376" y="16"/>
                    <a:pt x="352" y="8"/>
                  </a:cubicBezTo>
                  <a:cubicBezTo>
                    <a:pt x="328" y="0"/>
                    <a:pt x="292" y="4"/>
                    <a:pt x="256" y="8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2514600"/>
              <a:ext cx="253800" cy="22860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12" y="0"/>
                  </a:moveTo>
                  <a:cubicBezTo>
                    <a:pt x="72" y="16"/>
                    <a:pt x="32" y="32"/>
                    <a:pt x="16" y="48"/>
                  </a:cubicBezTo>
                  <a:cubicBezTo>
                    <a:pt x="0" y="64"/>
                    <a:pt x="0" y="88"/>
                    <a:pt x="16" y="96"/>
                  </a:cubicBezTo>
                  <a:cubicBezTo>
                    <a:pt x="32" y="104"/>
                    <a:pt x="88" y="96"/>
                    <a:pt x="112" y="96"/>
                  </a:cubicBezTo>
                  <a:cubicBezTo>
                    <a:pt x="136" y="96"/>
                    <a:pt x="148" y="96"/>
                    <a:pt x="160" y="96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2743200"/>
              <a:ext cx="253800" cy="763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16" y="0"/>
                  </a:moveTo>
                  <a:cubicBezTo>
                    <a:pt x="8" y="20"/>
                    <a:pt x="0" y="40"/>
                    <a:pt x="16" y="48"/>
                  </a:cubicBezTo>
                  <a:cubicBezTo>
                    <a:pt x="32" y="56"/>
                    <a:pt x="88" y="48"/>
                    <a:pt x="112" y="48"/>
                  </a:cubicBezTo>
                  <a:cubicBezTo>
                    <a:pt x="136" y="48"/>
                    <a:pt x="148" y="48"/>
                    <a:pt x="160" y="48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286000"/>
              <a:ext cx="2171880" cy="2133720"/>
            </a:xfrm>
            <a:custGeom>
              <a:avLst/>
              <a:gdLst/>
              <a:ahLst/>
              <a:rect l="l" t="t" r="r" b="b"/>
              <a:pathLst>
                <a:path w="1368" h="1344">
                  <a:moveTo>
                    <a:pt x="16" y="296"/>
                  </a:moveTo>
                  <a:cubicBezTo>
                    <a:pt x="16" y="240"/>
                    <a:pt x="32" y="336"/>
                    <a:pt x="64" y="344"/>
                  </a:cubicBezTo>
                  <a:cubicBezTo>
                    <a:pt x="96" y="352"/>
                    <a:pt x="152" y="344"/>
                    <a:pt x="208" y="344"/>
                  </a:cubicBezTo>
                  <a:cubicBezTo>
                    <a:pt x="264" y="344"/>
                    <a:pt x="328" y="352"/>
                    <a:pt x="400" y="344"/>
                  </a:cubicBezTo>
                  <a:cubicBezTo>
                    <a:pt x="472" y="336"/>
                    <a:pt x="552" y="320"/>
                    <a:pt x="640" y="296"/>
                  </a:cubicBezTo>
                  <a:cubicBezTo>
                    <a:pt x="728" y="272"/>
                    <a:pt x="856" y="240"/>
                    <a:pt x="928" y="200"/>
                  </a:cubicBezTo>
                  <a:cubicBezTo>
                    <a:pt x="1000" y="160"/>
                    <a:pt x="1048" y="88"/>
                    <a:pt x="1072" y="56"/>
                  </a:cubicBezTo>
                  <a:cubicBezTo>
                    <a:pt x="1096" y="24"/>
                    <a:pt x="1064" y="0"/>
                    <a:pt x="1072" y="8"/>
                  </a:cubicBezTo>
                  <a:cubicBezTo>
                    <a:pt x="1080" y="16"/>
                    <a:pt x="1104" y="32"/>
                    <a:pt x="1120" y="104"/>
                  </a:cubicBezTo>
                  <a:cubicBezTo>
                    <a:pt x="1136" y="176"/>
                    <a:pt x="1152" y="360"/>
                    <a:pt x="1168" y="440"/>
                  </a:cubicBezTo>
                  <a:cubicBezTo>
                    <a:pt x="1184" y="520"/>
                    <a:pt x="1192" y="504"/>
                    <a:pt x="1216" y="584"/>
                  </a:cubicBezTo>
                  <a:cubicBezTo>
                    <a:pt x="1240" y="664"/>
                    <a:pt x="1288" y="840"/>
                    <a:pt x="1312" y="920"/>
                  </a:cubicBezTo>
                  <a:cubicBezTo>
                    <a:pt x="1336" y="1000"/>
                    <a:pt x="1368" y="1016"/>
                    <a:pt x="1360" y="1064"/>
                  </a:cubicBezTo>
                  <a:cubicBezTo>
                    <a:pt x="1352" y="1112"/>
                    <a:pt x="1328" y="1168"/>
                    <a:pt x="1264" y="1208"/>
                  </a:cubicBezTo>
                  <a:cubicBezTo>
                    <a:pt x="1200" y="1248"/>
                    <a:pt x="1120" y="1288"/>
                    <a:pt x="976" y="1304"/>
                  </a:cubicBezTo>
                  <a:cubicBezTo>
                    <a:pt x="832" y="1320"/>
                    <a:pt x="552" y="1304"/>
                    <a:pt x="400" y="1304"/>
                  </a:cubicBezTo>
                  <a:cubicBezTo>
                    <a:pt x="248" y="1304"/>
                    <a:pt x="128" y="1344"/>
                    <a:pt x="64" y="1304"/>
                  </a:cubicBezTo>
                  <a:cubicBezTo>
                    <a:pt x="0" y="1264"/>
                    <a:pt x="16" y="1168"/>
                    <a:pt x="16" y="1064"/>
                  </a:cubicBezTo>
                  <a:cubicBezTo>
                    <a:pt x="16" y="960"/>
                    <a:pt x="64" y="808"/>
                    <a:pt x="64" y="680"/>
                  </a:cubicBezTo>
                  <a:cubicBezTo>
                    <a:pt x="64" y="552"/>
                    <a:pt x="16" y="352"/>
                    <a:pt x="16" y="296"/>
                  </a:cubicBez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830240" y="1752480"/>
            <a:ext cx="7887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040" y="3505320"/>
            <a:ext cx="84672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505320"/>
            <a:ext cx="14547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water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2280" y="4876920"/>
            <a:ext cx="3200400" cy="1828800"/>
            <a:chOff x="152280" y="4876920"/>
            <a:chExt cx="3200400" cy="1828800"/>
          </a:xfrm>
        </p:grpSpPr>
        <p:sp>
          <p:nvSpPr>
            <p:cNvPr id="169" name=""/>
            <p:cNvSpPr/>
            <p:nvPr/>
          </p:nvSpPr>
          <p:spPr>
            <a:xfrm>
              <a:off x="152280" y="4876920"/>
              <a:ext cx="3200400" cy="1828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70" name="Bigmap" descr=""/>
            <p:cNvPicPr/>
            <p:nvPr/>
          </p:nvPicPr>
          <p:blipFill>
            <a:blip r:embed="rId5"/>
            <a:stretch/>
          </p:blipFill>
          <p:spPr>
            <a:xfrm>
              <a:off x="228600" y="4952880"/>
              <a:ext cx="304812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7:53Z</dcterms:modified>
  <cp:revision>82</cp:revision>
  <dc:subject/>
  <dc:title>General</dc:title>
</cp:coreProperties>
</file>