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3BA-C6D1-4A72-B9F9-BCDD9176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6A4-5F19-4C13-8AD2-62FB69D7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F24-4598-416E-AF68-C909E15B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BA0-0CC0-4538-9375-A41EA7C7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AF7B-F80B-4D80-8126-CDD9D2B2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3BFB-93FB-440C-8244-4E76D33D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DCFB-8C42-479A-825E-501BC372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6B50-0706-4B0B-B3F8-2003B4F5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20AE-264E-442A-8292-DF4DF9DF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7029-ADAA-4A7F-A4FD-F902DAC4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4D69-06A1-4D56-83E5-68CAA8D4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D438-7275-48CF-8086-9EC0518D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871D-814B-4DF4-86DB-EA3AF2FC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D47B-4C02-4165-AC86-FAF238E0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748C-2AF4-471E-8E0D-B6003EB9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6AE5-6CD7-4F2D-9E35-D26B8C28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B4AB-2905-46DB-869D-502A9DCA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3169-9B3D-4191-B68C-14C5146C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54D4-87DD-41A5-BAC2-D6B03962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839-7070-4131-A0C5-AE8ACD07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494-38CE-43B0-A830-4A480144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292-27B4-4847-B818-30D4ABFE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7AB-72A7-4569-AF3D-1479C4BB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281-358C-453D-8E9E-CCC44537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E760-0506-4D63-B7AE-AB982AAB97A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6C81-B3BA-43B8-A811-5AC53E0FC3A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533520"/>
            <a:ext cx="7280280" cy="10141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progress in technical 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national programmes or action plan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0880" y="3352680"/>
            <a:ext cx="8582040" cy="972720"/>
            <a:chOff x="380880" y="3352680"/>
            <a:chExt cx="8582040" cy="972720"/>
          </a:xfrm>
        </p:grpSpPr>
        <p:sp>
          <p:nvSpPr>
            <p:cNvPr id="99" name=""/>
            <p:cNvSpPr/>
            <p:nvPr/>
          </p:nvSpPr>
          <p:spPr>
            <a:xfrm>
              <a:off x="380880" y="3352680"/>
              <a:ext cx="3581640" cy="972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Urban waste wate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62320" y="3352680"/>
              <a:ext cx="3229200" cy="972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NP for development of sewer and treatment facilities (1998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0120" y="3352680"/>
              <a:ext cx="1342800" cy="966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25 %/ 201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80880" y="2514600"/>
            <a:ext cx="8610840" cy="685800"/>
            <a:chOff x="380880" y="2514600"/>
            <a:chExt cx="8610840" cy="685800"/>
          </a:xfrm>
        </p:grpSpPr>
        <p:sp>
          <p:nvSpPr>
            <p:cNvPr id="103" name=""/>
            <p:cNvSpPr/>
            <p:nvPr/>
          </p:nvSpPr>
          <p:spPr>
            <a:xfrm>
              <a:off x="380880" y="2514600"/>
              <a:ext cx="358164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EU Directiv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62320" y="2514600"/>
              <a:ext cx="322920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NP or NAP (start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20120" y="2514600"/>
              <a:ext cx="129528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Status/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deadlin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0880" y="3200400"/>
              <a:ext cx="861084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80880" y="4419720"/>
            <a:ext cx="8610840" cy="972720"/>
            <a:chOff x="380880" y="4419720"/>
            <a:chExt cx="8610840" cy="972720"/>
          </a:xfrm>
        </p:grpSpPr>
        <p:sp>
          <p:nvSpPr>
            <p:cNvPr id="108" name=""/>
            <p:cNvSpPr/>
            <p:nvPr/>
          </p:nvSpPr>
          <p:spPr>
            <a:xfrm>
              <a:off x="7620120" y="4724280"/>
              <a:ext cx="1371600" cy="661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20 % / 2009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0880" y="4419720"/>
              <a:ext cx="3581640" cy="9727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Drinking wate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14800" y="4419720"/>
              <a:ext cx="3276720" cy="9727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cc"/>
                  </a:solidFill>
                  <a:latin typeface="Arial"/>
                </a:rPr>
                <a:t>Source</a:t>
              </a: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 protection(1997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Improvement of drinking water quality (2001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0120" y="4419720"/>
              <a:ext cx="1371600" cy="606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70 % / 2003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0880" y="5562720"/>
            <a:ext cx="8582040" cy="362880"/>
            <a:chOff x="380880" y="5562720"/>
            <a:chExt cx="8582040" cy="362880"/>
          </a:xfrm>
        </p:grpSpPr>
        <p:sp>
          <p:nvSpPr>
            <p:cNvPr id="113" name=""/>
            <p:cNvSpPr/>
            <p:nvPr/>
          </p:nvSpPr>
          <p:spPr>
            <a:xfrm>
              <a:off x="380880" y="5562720"/>
              <a:ext cx="3581640" cy="362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Nitrate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14800" y="5562720"/>
              <a:ext cx="3276720" cy="362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N</a:t>
              </a:r>
              <a:r>
                <a:rPr b="1" lang="hu-HU" sz="20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P in 3 phases (200</a:t>
              </a:r>
              <a:r>
                <a:rPr b="1" lang="hu-HU" sz="2000" spc="-1" strike="noStrike">
                  <a:solidFill>
                    <a:srgbClr val="ffffcc"/>
                  </a:solidFill>
                  <a:latin typeface="Arial"/>
                </a:rPr>
                <a:t>1</a:t>
              </a: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0120" y="5562720"/>
              <a:ext cx="1342800" cy="33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 </a:t>
              </a: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20 % / 201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42080" y="5562720"/>
            <a:ext cx="633600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programme started in 2001, full implementation in 2012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2000" y="6248520"/>
            <a:ext cx="366300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estimated costs: 80 million Eur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28600"/>
            <a:ext cx="7280280" cy="8254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Action plans for the implementa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of the nitrate direct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00200" y="1219320"/>
            <a:ext cx="5715000" cy="3885840"/>
            <a:chOff x="1600200" y="1219320"/>
            <a:chExt cx="5715000" cy="3885840"/>
          </a:xfrm>
        </p:grpSpPr>
        <p:sp>
          <p:nvSpPr>
            <p:cNvPr id="120" name=""/>
            <p:cNvSpPr/>
            <p:nvPr/>
          </p:nvSpPr>
          <p:spPr>
            <a:xfrm>
              <a:off x="1662120" y="1344240"/>
              <a:ext cx="5653080" cy="3760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1600200" y="1219320"/>
              <a:ext cx="5593320" cy="381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533520"/>
            <a:ext cx="7280280" cy="10141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progress in technical 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national programmes or action plan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80880" y="3352680"/>
            <a:ext cx="8582040" cy="972720"/>
            <a:chOff x="380880" y="3352680"/>
            <a:chExt cx="8582040" cy="972720"/>
          </a:xfrm>
        </p:grpSpPr>
        <p:sp>
          <p:nvSpPr>
            <p:cNvPr id="124" name=""/>
            <p:cNvSpPr/>
            <p:nvPr/>
          </p:nvSpPr>
          <p:spPr>
            <a:xfrm>
              <a:off x="380880" y="3352680"/>
              <a:ext cx="3581640" cy="972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Urban waste wate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62320" y="3352680"/>
              <a:ext cx="3229200" cy="972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NP for development of sewer and treatment facilities (1998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0120" y="3352680"/>
              <a:ext cx="1342800" cy="966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25 %/ 201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80880" y="2514600"/>
            <a:ext cx="8610840" cy="685800"/>
            <a:chOff x="380880" y="2514600"/>
            <a:chExt cx="8610840" cy="685800"/>
          </a:xfrm>
        </p:grpSpPr>
        <p:sp>
          <p:nvSpPr>
            <p:cNvPr id="128" name=""/>
            <p:cNvSpPr/>
            <p:nvPr/>
          </p:nvSpPr>
          <p:spPr>
            <a:xfrm>
              <a:off x="380880" y="2514600"/>
              <a:ext cx="358164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EU Directiv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62320" y="2514600"/>
              <a:ext cx="322920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NP or NAP (start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0120" y="2514600"/>
              <a:ext cx="1295280" cy="544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Status/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99"/>
                  </a:solidFill>
                  <a:latin typeface="Arial"/>
                </a:rPr>
                <a:t>deadlin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3200400"/>
              <a:ext cx="861084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80880" y="4419720"/>
            <a:ext cx="8610840" cy="972720"/>
            <a:chOff x="380880" y="4419720"/>
            <a:chExt cx="8610840" cy="972720"/>
          </a:xfrm>
        </p:grpSpPr>
        <p:sp>
          <p:nvSpPr>
            <p:cNvPr id="133" name=""/>
            <p:cNvSpPr/>
            <p:nvPr/>
          </p:nvSpPr>
          <p:spPr>
            <a:xfrm>
              <a:off x="7620120" y="4724280"/>
              <a:ext cx="1371600" cy="661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 algn="ct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20 % / 2009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880" y="4419720"/>
              <a:ext cx="3581640" cy="9727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Drinking wate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4800" y="4419720"/>
              <a:ext cx="3276720" cy="9727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cc"/>
                  </a:solidFill>
                  <a:latin typeface="Arial"/>
                </a:rPr>
                <a:t>Source</a:t>
              </a: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 protection(1997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Improvement of drinking water quality (2001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20120" y="4419720"/>
              <a:ext cx="1371600" cy="606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70 % / 2003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0880" y="5562720"/>
            <a:ext cx="8582040" cy="362880"/>
            <a:chOff x="380880" y="5562720"/>
            <a:chExt cx="8582040" cy="362880"/>
          </a:xfrm>
        </p:grpSpPr>
        <p:sp>
          <p:nvSpPr>
            <p:cNvPr id="138" name=""/>
            <p:cNvSpPr/>
            <p:nvPr/>
          </p:nvSpPr>
          <p:spPr>
            <a:xfrm>
              <a:off x="380880" y="5562720"/>
              <a:ext cx="3581640" cy="362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Nitrate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5562720"/>
              <a:ext cx="3276720" cy="362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N</a:t>
              </a:r>
              <a:r>
                <a:rPr b="1" lang="hu-HU" sz="20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P in 3 phases (200</a:t>
              </a:r>
              <a:r>
                <a:rPr b="1" lang="hu-HU" sz="2000" spc="-1" strike="noStrike">
                  <a:solidFill>
                    <a:srgbClr val="ffffcc"/>
                  </a:solidFill>
                  <a:latin typeface="Arial"/>
                </a:rPr>
                <a:t>1</a:t>
              </a: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0120" y="5562720"/>
              <a:ext cx="1342800" cy="33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 </a:t>
              </a: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20 % / 201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80880" y="6172200"/>
            <a:ext cx="8570880" cy="387000"/>
            <a:chOff x="380880" y="6172200"/>
            <a:chExt cx="8570880" cy="387000"/>
          </a:xfrm>
        </p:grpSpPr>
        <p:sp>
          <p:nvSpPr>
            <p:cNvPr id="142" name=""/>
            <p:cNvSpPr/>
            <p:nvPr/>
          </p:nvSpPr>
          <p:spPr>
            <a:xfrm>
              <a:off x="380880" y="6172200"/>
              <a:ext cx="3581640" cy="3628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Groundwater protectio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14800" y="6191280"/>
              <a:ext cx="3276720" cy="3628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NP for remediation (1996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0120" y="6172200"/>
              <a:ext cx="1331640" cy="387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22001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 Narrow"/>
                </a:rPr>
                <a:t> </a:t>
              </a:r>
              <a:r>
                <a:rPr b="1" lang="hu-HU" sz="1800" spc="-1" strike="noStrike">
                  <a:solidFill>
                    <a:srgbClr val="ffffcc"/>
                  </a:solidFill>
                  <a:latin typeface="Arial Narrow"/>
                </a:rPr>
                <a:t>cont.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3880" y="380880"/>
            <a:ext cx="6324840" cy="86904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49"/>
                </a:solidFill>
                <a:latin typeface="Arial"/>
              </a:rPr>
              <a:t>Economical anal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49"/>
                </a:solidFill>
                <a:latin typeface="Arial"/>
              </a:rPr>
              <a:t>cost reco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9560" y="1523880"/>
            <a:ext cx="8126280" cy="188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Present situatio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Water prices cover the operational and maintenance cost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(development costs can also be included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high water prices are subsidis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1360" y="3505320"/>
            <a:ext cx="6128640" cy="78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Water resources fe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according to the type of the water resour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5120" y="4495680"/>
            <a:ext cx="5094000" cy="78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and            to the type of the water u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5257800"/>
            <a:ext cx="3806280" cy="78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Polluter pay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e.g.  waste water fine …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4267080"/>
            <a:ext cx="3047760" cy="1761480"/>
          </a:xfrm>
          <a:prstGeom prst="rect">
            <a:avLst/>
          </a:prstGeom>
          <a:noFill/>
          <a:ln w="9360">
            <a:solidFill>
              <a:srgbClr val="bfffbf"/>
            </a:solidFill>
            <a:miter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medicinal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therma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karstic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confined groundwa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shallow groundwa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bank filtered wa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surface wa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5029200"/>
            <a:ext cx="3047760" cy="2004840"/>
          </a:xfrm>
          <a:prstGeom prst="rect">
            <a:avLst/>
          </a:prstGeom>
          <a:noFill/>
          <a:ln w="9360">
            <a:solidFill>
              <a:srgbClr val="bfffbf"/>
            </a:solidFill>
            <a:miter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t">
            <a:spAutoFit/>
          </a:bodyPr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therapeutic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drinking wa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bath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animal farm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fisher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irrig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cc"/>
                </a:solidFill>
                <a:latin typeface="Times New Roman"/>
              </a:rPr>
              <a:t>hydroenerg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MONEY" descr=""/>
          <p:cNvPicPr/>
          <p:nvPr/>
        </p:nvPicPr>
        <p:blipFill>
          <a:blip r:embed="rId2"/>
          <a:stretch/>
        </p:blipFill>
        <p:spPr>
          <a:xfrm>
            <a:off x="5715000" y="1371600"/>
            <a:ext cx="2286000" cy="2286000"/>
          </a:xfrm>
          <a:prstGeom prst="rect">
            <a:avLst/>
          </a:prstGeom>
          <a:ln w="57240">
            <a:solidFill>
              <a:srgbClr val="ccfff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768600" y="533520"/>
            <a:ext cx="3617280" cy="4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66"/>
                </a:solidFill>
                <a:latin typeface="Times New Roman"/>
              </a:rPr>
              <a:t>HOW TO PROCEED 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8400" y="4343400"/>
            <a:ext cx="2116440" cy="4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66"/>
                </a:solidFill>
                <a:latin typeface="Times New Roman"/>
              </a:rPr>
              <a:t>EFFICIENCY</a:t>
            </a:r>
            <a:r>
              <a:rPr b="1" i="1" lang="hu-H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9960" y="2438280"/>
            <a:ext cx="2209320" cy="4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66"/>
                </a:solidFill>
                <a:latin typeface="Times New Roman"/>
              </a:rPr>
              <a:t>RATIONAL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04320" y="5486400"/>
            <a:ext cx="5540760" cy="103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CO - OPERAT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AT EU AND DANUB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295280" y="1143000"/>
            <a:ext cx="2171880" cy="3276720"/>
            <a:chOff x="1295280" y="1143000"/>
            <a:chExt cx="2171880" cy="3276720"/>
          </a:xfrm>
        </p:grpSpPr>
        <p:sp>
          <p:nvSpPr>
            <p:cNvPr id="158" name=""/>
            <p:cNvSpPr/>
            <p:nvPr/>
          </p:nvSpPr>
          <p:spPr>
            <a:xfrm>
              <a:off x="1295280" y="2209680"/>
              <a:ext cx="1739880" cy="635040"/>
            </a:xfrm>
            <a:custGeom>
              <a:avLst/>
              <a:gdLst/>
              <a:ahLst/>
              <a:rect l="l" t="t" r="r" b="b"/>
              <a:pathLst>
                <a:path w="1096" h="400">
                  <a:moveTo>
                    <a:pt x="16" y="344"/>
                  </a:moveTo>
                  <a:cubicBezTo>
                    <a:pt x="24" y="360"/>
                    <a:pt x="16" y="384"/>
                    <a:pt x="64" y="392"/>
                  </a:cubicBezTo>
                  <a:cubicBezTo>
                    <a:pt x="112" y="400"/>
                    <a:pt x="208" y="400"/>
                    <a:pt x="304" y="392"/>
                  </a:cubicBezTo>
                  <a:cubicBezTo>
                    <a:pt x="400" y="384"/>
                    <a:pt x="536" y="368"/>
                    <a:pt x="640" y="344"/>
                  </a:cubicBezTo>
                  <a:cubicBezTo>
                    <a:pt x="744" y="320"/>
                    <a:pt x="856" y="288"/>
                    <a:pt x="928" y="248"/>
                  </a:cubicBezTo>
                  <a:cubicBezTo>
                    <a:pt x="1000" y="208"/>
                    <a:pt x="1048" y="136"/>
                    <a:pt x="1072" y="104"/>
                  </a:cubicBezTo>
                  <a:cubicBezTo>
                    <a:pt x="1096" y="72"/>
                    <a:pt x="1088" y="72"/>
                    <a:pt x="1072" y="56"/>
                  </a:cubicBezTo>
                  <a:cubicBezTo>
                    <a:pt x="1056" y="40"/>
                    <a:pt x="1024" y="16"/>
                    <a:pt x="976" y="8"/>
                  </a:cubicBezTo>
                  <a:cubicBezTo>
                    <a:pt x="928" y="0"/>
                    <a:pt x="864" y="0"/>
                    <a:pt x="784" y="8"/>
                  </a:cubicBezTo>
                  <a:cubicBezTo>
                    <a:pt x="704" y="16"/>
                    <a:pt x="592" y="32"/>
                    <a:pt x="496" y="56"/>
                  </a:cubicBezTo>
                  <a:cubicBezTo>
                    <a:pt x="400" y="80"/>
                    <a:pt x="272" y="128"/>
                    <a:pt x="208" y="152"/>
                  </a:cubicBezTo>
                  <a:cubicBezTo>
                    <a:pt x="144" y="176"/>
                    <a:pt x="144" y="176"/>
                    <a:pt x="112" y="200"/>
                  </a:cubicBezTo>
                  <a:cubicBezTo>
                    <a:pt x="80" y="224"/>
                    <a:pt x="32" y="272"/>
                    <a:pt x="16" y="296"/>
                  </a:cubicBezTo>
                  <a:cubicBezTo>
                    <a:pt x="0" y="320"/>
                    <a:pt x="8" y="328"/>
                    <a:pt x="16" y="344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1523880" y="1143000"/>
              <a:ext cx="138132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828800" y="2362320"/>
              <a:ext cx="851040" cy="317520"/>
            </a:xfrm>
            <a:custGeom>
              <a:avLst/>
              <a:gdLst/>
              <a:ahLst/>
              <a:rect l="l" t="t" r="r" b="b"/>
              <a:pathLst>
                <a:path w="536" h="200">
                  <a:moveTo>
                    <a:pt x="192" y="48"/>
                  </a:moveTo>
                  <a:cubicBezTo>
                    <a:pt x="132" y="60"/>
                    <a:pt x="72" y="72"/>
                    <a:pt x="48" y="96"/>
                  </a:cubicBezTo>
                  <a:cubicBezTo>
                    <a:pt x="24" y="120"/>
                    <a:pt x="0" y="184"/>
                    <a:pt x="48" y="192"/>
                  </a:cubicBezTo>
                  <a:cubicBezTo>
                    <a:pt x="96" y="200"/>
                    <a:pt x="256" y="168"/>
                    <a:pt x="336" y="144"/>
                  </a:cubicBezTo>
                  <a:cubicBezTo>
                    <a:pt x="416" y="120"/>
                    <a:pt x="520" y="72"/>
                    <a:pt x="528" y="48"/>
                  </a:cubicBezTo>
                  <a:cubicBezTo>
                    <a:pt x="536" y="24"/>
                    <a:pt x="460" y="12"/>
                    <a:pt x="384" y="0"/>
                  </a:cubicBezTo>
                </a:path>
              </a:pathLst>
            </a:custGeom>
            <a:noFill/>
            <a:ln w="284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05120" y="2362320"/>
              <a:ext cx="647640" cy="253800"/>
            </a:xfrm>
            <a:custGeom>
              <a:avLst/>
              <a:gdLst/>
              <a:ahLst/>
              <a:rect l="l" t="t" r="r" b="b"/>
              <a:pathLst>
                <a:path w="408" h="160">
                  <a:moveTo>
                    <a:pt x="112" y="56"/>
                  </a:moveTo>
                  <a:cubicBezTo>
                    <a:pt x="72" y="72"/>
                    <a:pt x="32" y="88"/>
                    <a:pt x="16" y="104"/>
                  </a:cubicBezTo>
                  <a:cubicBezTo>
                    <a:pt x="0" y="120"/>
                    <a:pt x="0" y="144"/>
                    <a:pt x="16" y="152"/>
                  </a:cubicBezTo>
                  <a:cubicBezTo>
                    <a:pt x="32" y="160"/>
                    <a:pt x="64" y="160"/>
                    <a:pt x="112" y="152"/>
                  </a:cubicBezTo>
                  <a:cubicBezTo>
                    <a:pt x="160" y="144"/>
                    <a:pt x="256" y="120"/>
                    <a:pt x="304" y="104"/>
                  </a:cubicBezTo>
                  <a:cubicBezTo>
                    <a:pt x="352" y="88"/>
                    <a:pt x="392" y="72"/>
                    <a:pt x="400" y="56"/>
                  </a:cubicBezTo>
                  <a:cubicBezTo>
                    <a:pt x="408" y="40"/>
                    <a:pt x="376" y="16"/>
                    <a:pt x="352" y="8"/>
                  </a:cubicBezTo>
                  <a:cubicBezTo>
                    <a:pt x="328" y="0"/>
                    <a:pt x="292" y="4"/>
                    <a:pt x="256" y="8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76520" y="2514600"/>
              <a:ext cx="253800" cy="228600"/>
            </a:xfrm>
            <a:custGeom>
              <a:avLst/>
              <a:gdLst/>
              <a:ahLst/>
              <a:rect l="l" t="t" r="r" b="b"/>
              <a:pathLst>
                <a:path w="160" h="104">
                  <a:moveTo>
                    <a:pt x="112" y="0"/>
                  </a:moveTo>
                  <a:cubicBezTo>
                    <a:pt x="72" y="16"/>
                    <a:pt x="32" y="32"/>
                    <a:pt x="16" y="48"/>
                  </a:cubicBezTo>
                  <a:cubicBezTo>
                    <a:pt x="0" y="64"/>
                    <a:pt x="0" y="88"/>
                    <a:pt x="16" y="96"/>
                  </a:cubicBezTo>
                  <a:cubicBezTo>
                    <a:pt x="32" y="104"/>
                    <a:pt x="88" y="96"/>
                    <a:pt x="112" y="96"/>
                  </a:cubicBezTo>
                  <a:cubicBezTo>
                    <a:pt x="136" y="96"/>
                    <a:pt x="148" y="96"/>
                    <a:pt x="160" y="96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47920" y="2743200"/>
              <a:ext cx="253800" cy="76320"/>
            </a:xfrm>
            <a:custGeom>
              <a:avLst/>
              <a:gdLst/>
              <a:ahLst/>
              <a:rect l="l" t="t" r="r" b="b"/>
              <a:pathLst>
                <a:path w="160" h="56">
                  <a:moveTo>
                    <a:pt x="16" y="0"/>
                  </a:moveTo>
                  <a:cubicBezTo>
                    <a:pt x="8" y="20"/>
                    <a:pt x="0" y="40"/>
                    <a:pt x="16" y="48"/>
                  </a:cubicBezTo>
                  <a:cubicBezTo>
                    <a:pt x="32" y="56"/>
                    <a:pt x="88" y="48"/>
                    <a:pt x="112" y="48"/>
                  </a:cubicBezTo>
                  <a:cubicBezTo>
                    <a:pt x="136" y="48"/>
                    <a:pt x="148" y="48"/>
                    <a:pt x="160" y="48"/>
                  </a:cubicBezTo>
                </a:path>
              </a:pathLst>
            </a:custGeom>
            <a:noFill/>
            <a:ln w="1908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5280" y="2286000"/>
              <a:ext cx="2171880" cy="2133720"/>
            </a:xfrm>
            <a:custGeom>
              <a:avLst/>
              <a:gdLst/>
              <a:ahLst/>
              <a:rect l="l" t="t" r="r" b="b"/>
              <a:pathLst>
                <a:path w="1368" h="1344">
                  <a:moveTo>
                    <a:pt x="16" y="296"/>
                  </a:moveTo>
                  <a:cubicBezTo>
                    <a:pt x="16" y="240"/>
                    <a:pt x="32" y="336"/>
                    <a:pt x="64" y="344"/>
                  </a:cubicBezTo>
                  <a:cubicBezTo>
                    <a:pt x="96" y="352"/>
                    <a:pt x="152" y="344"/>
                    <a:pt x="208" y="344"/>
                  </a:cubicBezTo>
                  <a:cubicBezTo>
                    <a:pt x="264" y="344"/>
                    <a:pt x="328" y="352"/>
                    <a:pt x="400" y="344"/>
                  </a:cubicBezTo>
                  <a:cubicBezTo>
                    <a:pt x="472" y="336"/>
                    <a:pt x="552" y="320"/>
                    <a:pt x="640" y="296"/>
                  </a:cubicBezTo>
                  <a:cubicBezTo>
                    <a:pt x="728" y="272"/>
                    <a:pt x="856" y="240"/>
                    <a:pt x="928" y="200"/>
                  </a:cubicBezTo>
                  <a:cubicBezTo>
                    <a:pt x="1000" y="160"/>
                    <a:pt x="1048" y="88"/>
                    <a:pt x="1072" y="56"/>
                  </a:cubicBezTo>
                  <a:cubicBezTo>
                    <a:pt x="1096" y="24"/>
                    <a:pt x="1064" y="0"/>
                    <a:pt x="1072" y="8"/>
                  </a:cubicBezTo>
                  <a:cubicBezTo>
                    <a:pt x="1080" y="16"/>
                    <a:pt x="1104" y="32"/>
                    <a:pt x="1120" y="104"/>
                  </a:cubicBezTo>
                  <a:cubicBezTo>
                    <a:pt x="1136" y="176"/>
                    <a:pt x="1152" y="360"/>
                    <a:pt x="1168" y="440"/>
                  </a:cubicBezTo>
                  <a:cubicBezTo>
                    <a:pt x="1184" y="520"/>
                    <a:pt x="1192" y="504"/>
                    <a:pt x="1216" y="584"/>
                  </a:cubicBezTo>
                  <a:cubicBezTo>
                    <a:pt x="1240" y="664"/>
                    <a:pt x="1288" y="840"/>
                    <a:pt x="1312" y="920"/>
                  </a:cubicBezTo>
                  <a:cubicBezTo>
                    <a:pt x="1336" y="1000"/>
                    <a:pt x="1368" y="1016"/>
                    <a:pt x="1360" y="1064"/>
                  </a:cubicBezTo>
                  <a:cubicBezTo>
                    <a:pt x="1352" y="1112"/>
                    <a:pt x="1328" y="1168"/>
                    <a:pt x="1264" y="1208"/>
                  </a:cubicBezTo>
                  <a:cubicBezTo>
                    <a:pt x="1200" y="1248"/>
                    <a:pt x="1120" y="1288"/>
                    <a:pt x="976" y="1304"/>
                  </a:cubicBezTo>
                  <a:cubicBezTo>
                    <a:pt x="832" y="1320"/>
                    <a:pt x="552" y="1304"/>
                    <a:pt x="400" y="1304"/>
                  </a:cubicBezTo>
                  <a:cubicBezTo>
                    <a:pt x="248" y="1304"/>
                    <a:pt x="128" y="1344"/>
                    <a:pt x="64" y="1304"/>
                  </a:cubicBezTo>
                  <a:cubicBezTo>
                    <a:pt x="0" y="1264"/>
                    <a:pt x="16" y="1168"/>
                    <a:pt x="16" y="1064"/>
                  </a:cubicBezTo>
                  <a:cubicBezTo>
                    <a:pt x="16" y="960"/>
                    <a:pt x="64" y="808"/>
                    <a:pt x="64" y="680"/>
                  </a:cubicBezTo>
                  <a:cubicBezTo>
                    <a:pt x="64" y="552"/>
                    <a:pt x="16" y="352"/>
                    <a:pt x="16" y="296"/>
                  </a:cubicBez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830240" y="1752480"/>
            <a:ext cx="78876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040" y="3505320"/>
            <a:ext cx="84672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ff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3505320"/>
            <a:ext cx="1454760" cy="36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ff"/>
                </a:solidFill>
                <a:latin typeface="Arial"/>
              </a:rPr>
              <a:t>waterbod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52280" y="4876920"/>
            <a:ext cx="3200400" cy="1828800"/>
            <a:chOff x="152280" y="4876920"/>
            <a:chExt cx="3200400" cy="1828800"/>
          </a:xfrm>
        </p:grpSpPr>
        <p:sp>
          <p:nvSpPr>
            <p:cNvPr id="169" name=""/>
            <p:cNvSpPr/>
            <p:nvPr/>
          </p:nvSpPr>
          <p:spPr>
            <a:xfrm>
              <a:off x="152280" y="4876920"/>
              <a:ext cx="3200400" cy="18288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70" name="Bigmap" descr=""/>
            <p:cNvPicPr/>
            <p:nvPr/>
          </p:nvPicPr>
          <p:blipFill>
            <a:blip r:embed="rId5"/>
            <a:stretch/>
          </p:blipFill>
          <p:spPr>
            <a:xfrm>
              <a:off x="228600" y="4952880"/>
              <a:ext cx="3048120" cy="170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17:16:20Z</dcterms:created>
  <dc:creator>Clement</dc:creator>
  <dc:description/>
  <dc:language>en-US</dc:language>
  <cp:lastModifiedBy>UNECE</cp:lastModifiedBy>
  <dcterms:modified xsi:type="dcterms:W3CDTF">2002-02-19T06:27:53Z</dcterms:modified>
  <cp:revision>82</cp:revision>
  <dc:subject/>
  <dc:title>General</dc:title>
</cp:coreProperties>
</file>