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0DF-8A27-40C8-9672-D7AEC429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DC6-DF0D-403E-8B3A-32C02CD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7D4-D5CF-4B94-B413-902F5E3B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C86-2F2E-46CF-A26B-3BE92828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BCFF-068E-44FD-B631-3F05983E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510B-1AE7-42F3-8B3E-4A2A456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2BE-B55B-4B76-9207-9205EDA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10A3-9BBD-479D-851F-BCB6AAB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4A3-E85D-436D-B3E9-2D162477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CE29-88CA-431D-8152-5A806CFD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2B12-2A7D-4AEA-9562-DBAA76E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F2F-9C49-4D08-A292-7B887EB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FB88-7437-45EB-99F4-A6DAE68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722-BAA0-4FDF-A7E4-605903D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167-219F-474C-B7CF-9A6581B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818D-FE58-4569-8BB0-EDDEACA5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83B-94DD-46B6-ABD7-258B58CC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378-E01B-493D-9D15-8AF7213D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785-1192-4A00-9534-611BB76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2D9-3E47-49F9-BCE9-EB62BD7F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D17-D9C1-4F90-B801-113A0C48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CD1-1ECA-48AF-932A-1C370CA5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6D8-FDF4-4F19-9550-5E68B15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0E5-C961-4BA3-873D-71B5122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F38-080A-4A21-BB54-FE760C0174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D08-E021-4F9A-B752-D67B1E03C0B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14440" y="1496880"/>
            <a:ext cx="6499080" cy="6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Existing monitoring network is sufficient for quantity, b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omprehensive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development is needed for qual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880"/>
            <a:ext cx="5562720" cy="90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Monitoring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vizmin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5029200" cy="362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</p:pic>
      <p:sp>
        <p:nvSpPr>
          <p:cNvPr id="100" name=""/>
          <p:cNvSpPr/>
          <p:nvPr/>
        </p:nvSpPr>
        <p:spPr>
          <a:xfrm>
            <a:off x="5181480" y="2895480"/>
            <a:ext cx="3962520" cy="21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Groundwater quality monitoring: production wells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observation wells around vulnerable well fie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and pollution 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ufficient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for shallow gr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w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ater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70680" y="5257800"/>
            <a:ext cx="77490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blem in arsenic, ammonium, organic content, iron and mangane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800" y="6019920"/>
            <a:ext cx="627228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gramme started in 2001, full implementation in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73560" y="6324480"/>
            <a:ext cx="37911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stimated costs: 500 million 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80880"/>
            <a:ext cx="7280280" cy="825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ction plans for the implement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of the drinking water dire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mo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5334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880"/>
            <a:ext cx="5562720" cy="90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Monitoring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91320"/>
            <a:ext cx="769644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reliminary design of the development is in cou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1905120"/>
            <a:ext cx="4724280" cy="3352680"/>
            <a:chOff x="2133720" y="1905120"/>
            <a:chExt cx="4724280" cy="3352680"/>
          </a:xfrm>
        </p:grpSpPr>
        <p:grpSp>
          <p:nvGrpSpPr>
            <p:cNvPr id="104" name=""/>
            <p:cNvGrpSpPr/>
            <p:nvPr/>
          </p:nvGrpSpPr>
          <p:grpSpPr>
            <a:xfrm>
              <a:off x="2133720" y="1905120"/>
              <a:ext cx="4724280" cy="3352680"/>
              <a:chOff x="2133720" y="1905120"/>
              <a:chExt cx="4724280" cy="3352680"/>
            </a:xfrm>
          </p:grpSpPr>
          <p:graphicFrame>
            <p:nvGraphicFramePr>
              <p:cNvPr id="105" name=""/>
              <p:cNvGraphicFramePr/>
              <p:nvPr/>
            </p:nvGraphicFramePr>
            <p:xfrm>
              <a:off x="2133720" y="2514600"/>
              <a:ext cx="4724280" cy="272412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133720" y="2514600"/>
                        <a:ext cx="4724280" cy="272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" name=""/>
              <p:cNvSpPr/>
              <p:nvPr/>
            </p:nvSpPr>
            <p:spPr>
              <a:xfrm>
                <a:off x="3733920" y="1905120"/>
                <a:ext cx="3124080" cy="5446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Development 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neede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1905120"/>
                <a:ext cx="0" cy="3352680"/>
              </a:xfrm>
              <a:prstGeom prst="line">
                <a:avLst/>
              </a:prstGeom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33720" y="1905120"/>
                <a:ext cx="2057400" cy="5446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Element 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220011"/>
                    </a:solidFill>
                    <a:latin typeface="Arial"/>
                  </a:rPr>
                  <a:t>of the monitoring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51560" y="3733920"/>
                <a:ext cx="956520" cy="3013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cc00"/>
                    </a:solidFill>
                    <a:latin typeface="Arial"/>
                  </a:rPr>
                  <a:t>medium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09680" y="2895480"/>
                <a:ext cx="1905120" cy="271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10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220011"/>
                    </a:solidFill>
                    <a:latin typeface="Arial"/>
                  </a:rPr>
                  <a:t>River m</a:t>
                </a:r>
                <a:r>
                  <a:rPr b="1" lang="en-GB" sz="1400" spc="-1" strike="noStrike">
                    <a:solidFill>
                      <a:srgbClr val="220011"/>
                    </a:solidFill>
                    <a:latin typeface="Arial"/>
                  </a:rPr>
                  <a:t>orphology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586040" y="3325680"/>
              <a:ext cx="1192680" cy="301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3300"/>
                  </a:solidFill>
                  <a:latin typeface="Arial"/>
                </a:rPr>
                <a:t>significa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52640" y="4572000"/>
              <a:ext cx="1192680" cy="301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3300"/>
                  </a:solidFill>
                  <a:latin typeface="Arial"/>
                </a:rPr>
                <a:t>significa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80880"/>
            <a:ext cx="6019920" cy="9111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ADMINISTRATIVE   SET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5181480"/>
            <a:ext cx="404244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Legal harmonisation: 2002 -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0" y="2057400"/>
            <a:ext cx="4572000" cy="1219320"/>
            <a:chOff x="2286000" y="2057400"/>
            <a:chExt cx="4572000" cy="1219320"/>
          </a:xfrm>
        </p:grpSpPr>
        <p:sp>
          <p:nvSpPr>
            <p:cNvPr id="119" name=""/>
            <p:cNvSpPr/>
            <p:nvPr/>
          </p:nvSpPr>
          <p:spPr>
            <a:xfrm>
              <a:off x="2286000" y="2057400"/>
              <a:ext cx="4572000" cy="1219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0880" y="2209680"/>
              <a:ext cx="4300200" cy="78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cc"/>
                  </a:solidFill>
                  <a:latin typeface="Times New Roman"/>
                </a:rPr>
                <a:t>Interministerial Committee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cc"/>
                  </a:solidFill>
                  <a:latin typeface="Times New Roman"/>
                </a:rPr>
                <a:t>for the implementation of WF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080" y="1523880"/>
            <a:ext cx="16239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2920" y="1295280"/>
            <a:ext cx="2369160" cy="6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Transport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Water Manag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20400" y="2057400"/>
            <a:ext cx="6736680" cy="1839960"/>
            <a:chOff x="1220400" y="2057400"/>
            <a:chExt cx="6736680" cy="1839960"/>
          </a:xfrm>
        </p:grpSpPr>
        <p:sp>
          <p:nvSpPr>
            <p:cNvPr id="124" name=""/>
            <p:cNvSpPr/>
            <p:nvPr/>
          </p:nvSpPr>
          <p:spPr>
            <a:xfrm>
              <a:off x="3584880" y="3352680"/>
              <a:ext cx="1877040" cy="5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Agriculture and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Rural Developme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7480" y="2133720"/>
              <a:ext cx="76608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Health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5760" y="3352680"/>
              <a:ext cx="135720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Home Affai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7560" y="3429000"/>
              <a:ext cx="151560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Foreign Affai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0400" y="2895480"/>
              <a:ext cx="99468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Econom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89120" y="2895480"/>
              <a:ext cx="86796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Fin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7200" y="2057400"/>
              <a:ext cx="777960" cy="301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Times New Roman"/>
                </a:rPr>
                <a:t>Justi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600200" y="4038480"/>
            <a:ext cx="184320" cy="42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267080"/>
            <a:ext cx="685800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Governmental Decision:   in October 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2560" y="4800600"/>
            <a:ext cx="467208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trategic document for Hungary:  200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3280" y="6019920"/>
            <a:ext cx="41292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ompetent Authority: 2002 -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18600" y="5638680"/>
            <a:ext cx="68328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Units for water management: ???  Danube vs. water bod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21840" y="6496200"/>
            <a:ext cx="451188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Institutional background: 2002 -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685800"/>
            <a:ext cx="6324480" cy="11620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rogramme of mea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33920"/>
            <a:ext cx="580392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Legislation within the frame of the WF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8200" y="4724280"/>
            <a:ext cx="596700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National programmes for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362320"/>
            <a:ext cx="646560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reparatory activity as the basis of the future programme of mea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09680" y="1295280"/>
            <a:ext cx="4648320" cy="838440"/>
            <a:chOff x="2209680" y="1295280"/>
            <a:chExt cx="4648320" cy="838440"/>
          </a:xfrm>
        </p:grpSpPr>
        <p:sp>
          <p:nvSpPr>
            <p:cNvPr id="142" name=""/>
            <p:cNvSpPr/>
            <p:nvPr/>
          </p:nvSpPr>
          <p:spPr>
            <a:xfrm>
              <a:off x="2438280" y="1295280"/>
              <a:ext cx="2895840" cy="7077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legisl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1295280"/>
              <a:ext cx="1066680" cy="702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2133720"/>
              <a:ext cx="46483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38280" y="2209680"/>
            <a:ext cx="4114800" cy="271080"/>
            <a:chOff x="2438280" y="2209680"/>
            <a:chExt cx="4114800" cy="271080"/>
          </a:xfrm>
        </p:grpSpPr>
        <p:sp>
          <p:nvSpPr>
            <p:cNvPr id="146" name=""/>
            <p:cNvSpPr/>
            <p:nvPr/>
          </p:nvSpPr>
          <p:spPr>
            <a:xfrm>
              <a:off x="2438280" y="220968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Urban waste wate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22096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9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438280" y="3581280"/>
            <a:ext cx="4114800" cy="271080"/>
            <a:chOff x="2438280" y="3581280"/>
            <a:chExt cx="4114800" cy="271080"/>
          </a:xfrm>
        </p:grpSpPr>
        <p:sp>
          <p:nvSpPr>
            <p:cNvPr id="149" name=""/>
            <p:cNvSpPr/>
            <p:nvPr/>
          </p:nvSpPr>
          <p:spPr>
            <a:xfrm>
              <a:off x="2438280" y="3581280"/>
              <a:ext cx="2895840" cy="265320"/>
            </a:xfrm>
            <a:prstGeom prst="rect">
              <a:avLst/>
            </a:prstGeom>
            <a:solidFill>
              <a:srgbClr val="02b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Quality of bathing w.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35812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9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438280" y="4911840"/>
            <a:ext cx="4114800" cy="271080"/>
            <a:chOff x="2438280" y="4911840"/>
            <a:chExt cx="4114800" cy="271080"/>
          </a:xfrm>
        </p:grpSpPr>
        <p:sp>
          <p:nvSpPr>
            <p:cNvPr id="152" name=""/>
            <p:cNvSpPr/>
            <p:nvPr/>
          </p:nvSpPr>
          <p:spPr>
            <a:xfrm>
              <a:off x="2438280" y="4911840"/>
              <a:ext cx="2895840" cy="2653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Prot. of groundwate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491184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438280" y="2666880"/>
            <a:ext cx="4114800" cy="271080"/>
            <a:chOff x="2438280" y="2666880"/>
            <a:chExt cx="4114800" cy="271080"/>
          </a:xfrm>
        </p:grpSpPr>
        <p:sp>
          <p:nvSpPr>
            <p:cNvPr id="155" name=""/>
            <p:cNvSpPr/>
            <p:nvPr/>
          </p:nvSpPr>
          <p:spPr>
            <a:xfrm>
              <a:off x="2438280" y="266688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Nitrat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666880"/>
              <a:ext cx="1066680" cy="2710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38280" y="4495680"/>
            <a:ext cx="4114800" cy="271080"/>
            <a:chOff x="2438280" y="4495680"/>
            <a:chExt cx="4114800" cy="271080"/>
          </a:xfrm>
        </p:grpSpPr>
        <p:sp>
          <p:nvSpPr>
            <p:cNvPr id="158" name=""/>
            <p:cNvSpPr/>
            <p:nvPr/>
          </p:nvSpPr>
          <p:spPr>
            <a:xfrm>
              <a:off x="2438280" y="4495680"/>
              <a:ext cx="2895840" cy="265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s Surface Water Quality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6400" y="4495680"/>
              <a:ext cx="1066680" cy="271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5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38280" y="5791320"/>
            <a:ext cx="4114800" cy="271080"/>
            <a:chOff x="2438280" y="5791320"/>
            <a:chExt cx="4114800" cy="271080"/>
          </a:xfrm>
        </p:grpSpPr>
        <p:sp>
          <p:nvSpPr>
            <p:cNvPr id="161" name=""/>
            <p:cNvSpPr/>
            <p:nvPr/>
          </p:nvSpPr>
          <p:spPr>
            <a:xfrm>
              <a:off x="2438280" y="5791320"/>
              <a:ext cx="2895840" cy="265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Shellfish wa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579132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438280" y="5334120"/>
            <a:ext cx="4114800" cy="271080"/>
            <a:chOff x="2438280" y="5334120"/>
            <a:chExt cx="4114800" cy="271080"/>
          </a:xfrm>
        </p:grpSpPr>
        <p:sp>
          <p:nvSpPr>
            <p:cNvPr id="164" name=""/>
            <p:cNvSpPr/>
            <p:nvPr/>
          </p:nvSpPr>
          <p:spPr>
            <a:xfrm>
              <a:off x="2438280" y="5334120"/>
              <a:ext cx="2895840" cy="265320"/>
            </a:xfrm>
            <a:prstGeom prst="rect">
              <a:avLst/>
            </a:prstGeom>
            <a:solidFill>
              <a:srgbClr val="02b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Fish wa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5334120"/>
              <a:ext cx="1066680" cy="271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5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38280" y="3124080"/>
            <a:ext cx="4114800" cy="271080"/>
            <a:chOff x="2438280" y="3124080"/>
            <a:chExt cx="4114800" cy="271080"/>
          </a:xfrm>
        </p:grpSpPr>
        <p:sp>
          <p:nvSpPr>
            <p:cNvPr id="167" name=""/>
            <p:cNvSpPr/>
            <p:nvPr/>
          </p:nvSpPr>
          <p:spPr>
            <a:xfrm>
              <a:off x="2438280" y="312408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Dangerous subst. + 7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31240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9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38280" y="4038480"/>
            <a:ext cx="4114800" cy="271080"/>
            <a:chOff x="2438280" y="4038480"/>
            <a:chExt cx="4114800" cy="271080"/>
          </a:xfrm>
        </p:grpSpPr>
        <p:sp>
          <p:nvSpPr>
            <p:cNvPr id="170" name=""/>
            <p:cNvSpPr/>
            <p:nvPr/>
          </p:nvSpPr>
          <p:spPr>
            <a:xfrm>
              <a:off x="2438280" y="4038480"/>
              <a:ext cx="2895840" cy="265320"/>
            </a:xfrm>
            <a:prstGeom prst="rect">
              <a:avLst/>
            </a:prstGeom>
            <a:solidFill>
              <a:srgbClr val="240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s Drinking wate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4038480"/>
              <a:ext cx="1066680" cy="271080"/>
            </a:xfrm>
            <a:prstGeom prst="rect">
              <a:avLst/>
            </a:prstGeom>
            <a:solidFill>
              <a:srgbClr val="b4f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9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47920" y="380880"/>
            <a:ext cx="6226200" cy="8326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legal harmonis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water related EU legislation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80880"/>
            <a:ext cx="6226200" cy="8326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legal harmonis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other referred EU legislation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295280"/>
            <a:ext cx="4648320" cy="838440"/>
            <a:chOff x="2209680" y="1295280"/>
            <a:chExt cx="4648320" cy="838440"/>
          </a:xfrm>
        </p:grpSpPr>
        <p:sp>
          <p:nvSpPr>
            <p:cNvPr id="175" name=""/>
            <p:cNvSpPr/>
            <p:nvPr/>
          </p:nvSpPr>
          <p:spPr>
            <a:xfrm>
              <a:off x="2438280" y="1295280"/>
              <a:ext cx="2895840" cy="7077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legisl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1295280"/>
              <a:ext cx="1066680" cy="702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2133720"/>
              <a:ext cx="46483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438280" y="2286000"/>
            <a:ext cx="4191120" cy="271080"/>
            <a:chOff x="2438280" y="2286000"/>
            <a:chExt cx="4191120" cy="271080"/>
          </a:xfrm>
        </p:grpSpPr>
        <p:sp>
          <p:nvSpPr>
            <p:cNvPr id="179" name=""/>
            <p:cNvSpPr/>
            <p:nvPr/>
          </p:nvSpPr>
          <p:spPr>
            <a:xfrm>
              <a:off x="2438280" y="2286000"/>
              <a:ext cx="2895840" cy="26532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Report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2286000"/>
              <a:ext cx="1066680" cy="271080"/>
            </a:xfrm>
            <a:prstGeom prst="rect">
              <a:avLst/>
            </a:pr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8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5486400"/>
            <a:ext cx="4191120" cy="271080"/>
            <a:chOff x="2438280" y="5486400"/>
            <a:chExt cx="4191120" cy="271080"/>
          </a:xfrm>
        </p:grpSpPr>
        <p:sp>
          <p:nvSpPr>
            <p:cNvPr id="182" name=""/>
            <p:cNvSpPr/>
            <p:nvPr/>
          </p:nvSpPr>
          <p:spPr>
            <a:xfrm>
              <a:off x="2438280" y="5486400"/>
              <a:ext cx="2895840" cy="265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Sewage Sludg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62720" y="548640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438280" y="2743200"/>
            <a:ext cx="4191120" cy="271080"/>
            <a:chOff x="2438280" y="2743200"/>
            <a:chExt cx="4191120" cy="271080"/>
          </a:xfrm>
        </p:grpSpPr>
        <p:sp>
          <p:nvSpPr>
            <p:cNvPr id="185" name=""/>
            <p:cNvSpPr/>
            <p:nvPr/>
          </p:nvSpPr>
          <p:spPr>
            <a:xfrm>
              <a:off x="2438280" y="2743200"/>
              <a:ext cx="2895840" cy="2653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IPPC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2743200"/>
              <a:ext cx="1066680" cy="271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00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38280" y="5029200"/>
            <a:ext cx="4191120" cy="271080"/>
            <a:chOff x="2438280" y="5029200"/>
            <a:chExt cx="4191120" cy="271080"/>
          </a:xfrm>
        </p:grpSpPr>
        <p:sp>
          <p:nvSpPr>
            <p:cNvPr id="188" name=""/>
            <p:cNvSpPr/>
            <p:nvPr/>
          </p:nvSpPr>
          <p:spPr>
            <a:xfrm>
              <a:off x="2438280" y="5029200"/>
              <a:ext cx="2895840" cy="26532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Env. Impact Ass.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502920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38280" y="5943600"/>
            <a:ext cx="4191120" cy="271080"/>
            <a:chOff x="2438280" y="5943600"/>
            <a:chExt cx="4191120" cy="271080"/>
          </a:xfrm>
        </p:grpSpPr>
        <p:sp>
          <p:nvSpPr>
            <p:cNvPr id="191" name=""/>
            <p:cNvSpPr/>
            <p:nvPr/>
          </p:nvSpPr>
          <p:spPr>
            <a:xfrm>
              <a:off x="2438280" y="5943600"/>
              <a:ext cx="2895840" cy="265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ec. Transboundary Wa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2720" y="5943600"/>
              <a:ext cx="1066680" cy="27108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100%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38280" y="6324480"/>
            <a:ext cx="4191120" cy="270000"/>
            <a:chOff x="2438280" y="6324480"/>
            <a:chExt cx="4191120" cy="270000"/>
          </a:xfrm>
        </p:grpSpPr>
        <p:sp>
          <p:nvSpPr>
            <p:cNvPr id="194" name=""/>
            <p:cNvSpPr/>
            <p:nvPr/>
          </p:nvSpPr>
          <p:spPr>
            <a:xfrm>
              <a:off x="2438280" y="6324480"/>
              <a:ext cx="2895840" cy="265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ec. Protection of Se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62720" y="6324480"/>
              <a:ext cx="1066680" cy="270000"/>
            </a:xfrm>
            <a:prstGeom prst="rect">
              <a:avLst/>
            </a:prstGeom>
            <a:solidFill>
              <a:srgbClr val="36e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438280" y="3200400"/>
            <a:ext cx="4191120" cy="271080"/>
            <a:chOff x="2438280" y="3200400"/>
            <a:chExt cx="4191120" cy="271080"/>
          </a:xfrm>
        </p:grpSpPr>
        <p:sp>
          <p:nvSpPr>
            <p:cNvPr id="197" name=""/>
            <p:cNvSpPr/>
            <p:nvPr/>
          </p:nvSpPr>
          <p:spPr>
            <a:xfrm>
              <a:off x="2438280" y="3200400"/>
              <a:ext cx="2895840" cy="265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Pesticide (Risk. Ass.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3200400"/>
              <a:ext cx="1066680" cy="271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70 %/. 200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38280" y="4114800"/>
            <a:ext cx="4191120" cy="271080"/>
            <a:chOff x="2438280" y="4114800"/>
            <a:chExt cx="4191120" cy="271080"/>
          </a:xfrm>
        </p:grpSpPr>
        <p:sp>
          <p:nvSpPr>
            <p:cNvPr id="200" name=""/>
            <p:cNvSpPr/>
            <p:nvPr/>
          </p:nvSpPr>
          <p:spPr>
            <a:xfrm>
              <a:off x="2438280" y="4114800"/>
              <a:ext cx="2895840" cy="265320"/>
            </a:xfrm>
            <a:prstGeom prst="rect">
              <a:avLst/>
            </a:prstGeom>
            <a:solidFill>
              <a:srgbClr val="00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s. Habitat and bird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4114800"/>
              <a:ext cx="1066680" cy="271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6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4572000"/>
            <a:ext cx="4191120" cy="271080"/>
            <a:chOff x="2438280" y="4572000"/>
            <a:chExt cx="4191120" cy="271080"/>
          </a:xfrm>
        </p:grpSpPr>
        <p:sp>
          <p:nvSpPr>
            <p:cNvPr id="203" name=""/>
            <p:cNvSpPr/>
            <p:nvPr/>
          </p:nvSpPr>
          <p:spPr>
            <a:xfrm>
              <a:off x="2438280" y="4572000"/>
              <a:ext cx="2895840" cy="2653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 Seves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2720" y="4572000"/>
              <a:ext cx="1066680" cy="271080"/>
            </a:xfrm>
            <a:prstGeom prst="rect">
              <a:avLst/>
            </a:prstGeom>
            <a:solidFill>
              <a:srgbClr val="fff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80 %/</a:t>
              </a: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 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2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438280" y="3657600"/>
            <a:ext cx="4191120" cy="271080"/>
            <a:chOff x="2438280" y="3657600"/>
            <a:chExt cx="4191120" cy="271080"/>
          </a:xfrm>
        </p:grpSpPr>
        <p:sp>
          <p:nvSpPr>
            <p:cNvPr id="206" name=""/>
            <p:cNvSpPr/>
            <p:nvPr/>
          </p:nvSpPr>
          <p:spPr>
            <a:xfrm>
              <a:off x="2438280" y="3657600"/>
              <a:ext cx="2895840" cy="26532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Dir. Risk Assessme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3657600"/>
              <a:ext cx="1066680" cy="271080"/>
            </a:xfrm>
            <a:prstGeom prst="rect">
              <a:avLst/>
            </a:prstGeom>
            <a:solidFill>
              <a:srgbClr val="44f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cc"/>
                  </a:solidFill>
                  <a:latin typeface="Arial Narrow"/>
                </a:rPr>
                <a:t>100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 Narrow"/>
                </a:rPr>
                <a:t>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210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214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975880" y="2260440"/>
            <a:ext cx="183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52280"/>
            <a:ext cx="6783120" cy="789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Action plan for the implement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of the urban water directiv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9960" y="6324480"/>
            <a:ext cx="410364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stimated costs: 3300 million 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16000" y="5105520"/>
            <a:ext cx="7691040" cy="1505880"/>
            <a:chOff x="216000" y="5105520"/>
            <a:chExt cx="7691040" cy="1505880"/>
          </a:xfrm>
        </p:grpSpPr>
        <p:sp>
          <p:nvSpPr>
            <p:cNvPr id="222" name=""/>
            <p:cNvSpPr/>
            <p:nvPr/>
          </p:nvSpPr>
          <p:spPr>
            <a:xfrm>
              <a:off x="216000" y="5105520"/>
              <a:ext cx="5587920" cy="36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programme started in 1996,   appr. 25 % is done,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62640" y="5638680"/>
              <a:ext cx="3344400" cy="972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2008 (1998): sensitive areas,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2010 (2003): &gt; 15000 p.e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Times New Roman"/>
                </a:rPr>
                <a:t>2015 (2005): &gt; 2000 p.e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" y="1066680"/>
            <a:ext cx="5257440" cy="3733200"/>
            <a:chOff x="228600" y="1066680"/>
            <a:chExt cx="5257440" cy="3733200"/>
          </a:xfrm>
        </p:grpSpPr>
        <p:sp>
          <p:nvSpPr>
            <p:cNvPr id="225" name=""/>
            <p:cNvSpPr/>
            <p:nvPr/>
          </p:nvSpPr>
          <p:spPr>
            <a:xfrm>
              <a:off x="228600" y="2933280"/>
              <a:ext cx="342864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legal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harmonis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1183320"/>
              <a:ext cx="5257440" cy="361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685800" y="1248840"/>
            <a:ext cx="4624200" cy="332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1248840"/>
                      <a:ext cx="4624200" cy="33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228600" y="1066680"/>
              <a:ext cx="5257440" cy="392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660033"/>
                  </a:solidFill>
                  <a:latin typeface="Arial"/>
                </a:rPr>
                <a:t>Classification of settlement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660033"/>
                  </a:solidFill>
                  <a:latin typeface="Arial"/>
                </a:rPr>
                <a:t>by ratio of the population connected to sewer system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9080" y="3628440"/>
              <a:ext cx="1395000" cy="6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79080" y="4401000"/>
              <a:ext cx="1268640" cy="19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50280" y="3562920"/>
              <a:ext cx="1328040" cy="19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2209680"/>
            <a:ext cx="3886200" cy="2971800"/>
            <a:chOff x="4952880" y="2209680"/>
            <a:chExt cx="3886200" cy="2971800"/>
          </a:xfrm>
        </p:grpSpPr>
        <p:graphicFrame>
          <p:nvGraphicFramePr>
            <p:cNvPr id="234" name=""/>
            <p:cNvGraphicFramePr/>
            <p:nvPr/>
          </p:nvGraphicFramePr>
          <p:xfrm>
            <a:off x="4952880" y="2584440"/>
            <a:ext cx="3886200" cy="25970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584440"/>
                      <a:ext cx="3886200" cy="25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6" name=""/>
            <p:cNvSpPr/>
            <p:nvPr/>
          </p:nvSpPr>
          <p:spPr>
            <a:xfrm>
              <a:off x="4952880" y="2209680"/>
              <a:ext cx="3809880" cy="42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660033"/>
                  </a:solidFill>
                  <a:latin typeface="Arial"/>
                </a:rPr>
                <a:t>Level of water service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660033"/>
                  </a:solidFill>
                  <a:latin typeface="Arial"/>
                </a:rPr>
                <a:t>in different classes of settlement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239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243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80880" y="4419720"/>
            <a:ext cx="8610840" cy="972720"/>
            <a:chOff x="380880" y="4419720"/>
            <a:chExt cx="8610840" cy="972720"/>
          </a:xfrm>
        </p:grpSpPr>
        <p:sp>
          <p:nvSpPr>
            <p:cNvPr id="248" name=""/>
            <p:cNvSpPr/>
            <p:nvPr/>
          </p:nvSpPr>
          <p:spPr>
            <a:xfrm>
              <a:off x="7620120" y="4724280"/>
              <a:ext cx="1371600" cy="661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09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4419720"/>
              <a:ext cx="358164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rinking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4800" y="4419720"/>
              <a:ext cx="327672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protection(1997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Improvement of drinking water quality (2001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0120" y="4419720"/>
              <a:ext cx="1371600" cy="60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70 % / 200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7:16:20Z</dcterms:created>
  <dc:creator>Clement</dc:creator>
  <dc:description/>
  <dc:language>en-US</dc:language>
  <cp:lastModifiedBy>UNECE</cp:lastModifiedBy>
  <dcterms:modified xsi:type="dcterms:W3CDTF">2002-02-19T06:27:14Z</dcterms:modified>
  <cp:revision>84</cp:revision>
  <dc:subject/>
  <dc:title>General</dc:title>
</cp:coreProperties>
</file>