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C74C-4A65-4503-9CDE-1DB663C43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CB5C-7050-4161-A40B-8F83220A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CBA7-1628-43F1-9392-19049BB4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8003-A738-47E6-B26D-7B7F6FC85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D08F-DF82-4C61-9028-2CF767619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F397-EB72-4360-9919-7A414E7B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7162-8098-4A83-BA16-CC51DF64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A98B-D4D4-4A19-BACF-D0B41441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7A28-52F2-4AD8-83CF-71159860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72BA-4F49-4128-91AD-261DC235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3637-E3F0-4D67-B4EA-C0075B75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173C-3C9D-4EF1-B1D4-3032787E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2875-1A30-4A0C-8BF8-21A7F6F7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B5F2-F928-4E82-9207-4E36532C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0093-1CE9-451F-8834-6ABF929D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221E-EC5A-4EC7-87A5-DBBDA8B9D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8F63-9BD3-4AA4-8E53-354F69D22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C3C0-56D1-477C-9838-87E9304D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ACC0-8960-4B6E-8D54-96B3CADD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32E5-9757-4FB1-BB95-73F815B6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C4BE-5CE3-4283-8750-B516A41F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5C96-CEB4-418E-B626-B11876DF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4BF2-5256-4E0C-BD39-CA857163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D248-59D7-4362-93B3-86942EBA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63C4-686E-4B25-9FA3-2AD24A542E2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2F93-032E-411F-8CF4-E9AD5E53C61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14440" y="1496880"/>
            <a:ext cx="6499080" cy="66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Existing monitoring network is sufficient for quantity, bu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comprehensive</a:t>
            </a: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 development is needed for qualit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0880"/>
            <a:ext cx="5562720" cy="90792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Monitoring network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9" name="vizmin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5029200" cy="3627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220011"/>
            </a:outerShdw>
          </a:effectLst>
        </p:spPr>
      </p:pic>
      <p:sp>
        <p:nvSpPr>
          <p:cNvPr id="100" name=""/>
          <p:cNvSpPr/>
          <p:nvPr/>
        </p:nvSpPr>
        <p:spPr>
          <a:xfrm>
            <a:off x="5181480" y="2895480"/>
            <a:ext cx="3962520" cy="219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Groundwater quality monitoring: production wells and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observation wells around vulnerable well field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and pollution sourc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not </a:t>
            </a: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sufficient</a:t>
            </a: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 for shallow gr</a:t>
            </a: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w</a:t>
            </a: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ater</a:t>
            </a: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70680" y="5257800"/>
            <a:ext cx="7749000" cy="36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Problem in arsenic, ammonium, organic content, iron and mangane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7800" y="6019920"/>
            <a:ext cx="6272280" cy="36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programme started in 2001, full implementation in 200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73560" y="6324480"/>
            <a:ext cx="3791160" cy="36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estimated costs: 500 million Eur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14400" y="380880"/>
            <a:ext cx="7280280" cy="82548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Action plans for the implementatio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of the drinking water directi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6" name="mo" descr=""/>
          <p:cNvPicPr/>
          <p:nvPr/>
        </p:nvPicPr>
        <p:blipFill>
          <a:blip r:embed="rId2"/>
          <a:stretch/>
        </p:blipFill>
        <p:spPr>
          <a:xfrm>
            <a:off x="1981080" y="1371600"/>
            <a:ext cx="5334120" cy="38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52480" y="380880"/>
            <a:ext cx="5562720" cy="90792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Monitoring network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5791320"/>
            <a:ext cx="7696440" cy="42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</a:rPr>
              <a:t>Preliminary design of the development is in cour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133720" y="1905120"/>
            <a:ext cx="4724280" cy="3352680"/>
            <a:chOff x="2133720" y="1905120"/>
            <a:chExt cx="4724280" cy="3352680"/>
          </a:xfrm>
        </p:grpSpPr>
        <p:grpSp>
          <p:nvGrpSpPr>
            <p:cNvPr id="104" name=""/>
            <p:cNvGrpSpPr/>
            <p:nvPr/>
          </p:nvGrpSpPr>
          <p:grpSpPr>
            <a:xfrm>
              <a:off x="2133720" y="1905120"/>
              <a:ext cx="4724280" cy="3352680"/>
              <a:chOff x="2133720" y="1905120"/>
              <a:chExt cx="4724280" cy="3352680"/>
            </a:xfrm>
          </p:grpSpPr>
          <p:graphicFrame>
            <p:nvGraphicFramePr>
              <p:cNvPr id="105" name=""/>
              <p:cNvGraphicFramePr/>
              <p:nvPr/>
            </p:nvGraphicFramePr>
            <p:xfrm>
              <a:off x="2133720" y="2514600"/>
              <a:ext cx="4724280" cy="272412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06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2133720" y="2514600"/>
                        <a:ext cx="4724280" cy="272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7" name=""/>
              <p:cNvSpPr/>
              <p:nvPr/>
            </p:nvSpPr>
            <p:spPr>
              <a:xfrm>
                <a:off x="3733920" y="1905120"/>
                <a:ext cx="3124080" cy="5446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10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220011"/>
                    </a:solidFill>
                    <a:latin typeface="Arial"/>
                  </a:rPr>
                  <a:t>Development 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220011"/>
                    </a:solidFill>
                    <a:latin typeface="Arial"/>
                  </a:rPr>
                  <a:t>neede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572000" y="1905120"/>
                <a:ext cx="0" cy="3352680"/>
              </a:xfrm>
              <a:prstGeom prst="line">
                <a:avLst/>
              </a:prstGeom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10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133720" y="1905120"/>
                <a:ext cx="2057400" cy="5446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10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220011"/>
                    </a:solidFill>
                    <a:latin typeface="Arial"/>
                  </a:rPr>
                  <a:t>Element 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220011"/>
                    </a:solidFill>
                    <a:latin typeface="Arial"/>
                  </a:rPr>
                  <a:t>of the monitoring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51560" y="3733920"/>
                <a:ext cx="956520" cy="3013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10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cc00"/>
                    </a:solidFill>
                    <a:latin typeface="Arial"/>
                  </a:rPr>
                  <a:t>medium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209680" y="2895480"/>
                <a:ext cx="1905120" cy="2710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10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220011"/>
                    </a:solidFill>
                    <a:latin typeface="Arial"/>
                  </a:rPr>
                  <a:t>River m</a:t>
                </a:r>
                <a:r>
                  <a:rPr b="1" lang="en-GB" sz="1400" spc="-1" strike="noStrike">
                    <a:solidFill>
                      <a:srgbClr val="220011"/>
                    </a:solidFill>
                    <a:latin typeface="Arial"/>
                  </a:rPr>
                  <a:t>orphology</a:t>
                </a:r>
                <a:endParaRPr b="0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4586040" y="3325680"/>
              <a:ext cx="1192680" cy="301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3300"/>
                  </a:solidFill>
                  <a:latin typeface="Arial"/>
                </a:rPr>
                <a:t>significan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52640" y="4572000"/>
              <a:ext cx="1192680" cy="301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3300"/>
                  </a:solidFill>
                  <a:latin typeface="Arial"/>
                </a:rPr>
                <a:t>significan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380880"/>
            <a:ext cx="6019920" cy="91116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99"/>
                </a:solidFill>
                <a:latin typeface="Arial"/>
              </a:rPr>
              <a:t>ADMINISTRATIVE   SETU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24000" y="5181480"/>
            <a:ext cx="4042440" cy="36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Legal harmonisation: 2002 - 2003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286000" y="2057400"/>
            <a:ext cx="4572000" cy="1219320"/>
            <a:chOff x="2286000" y="2057400"/>
            <a:chExt cx="4572000" cy="1219320"/>
          </a:xfrm>
        </p:grpSpPr>
        <p:sp>
          <p:nvSpPr>
            <p:cNvPr id="119" name=""/>
            <p:cNvSpPr/>
            <p:nvPr/>
          </p:nvSpPr>
          <p:spPr>
            <a:xfrm>
              <a:off x="2286000" y="2057400"/>
              <a:ext cx="4572000" cy="12193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60880" y="2209680"/>
              <a:ext cx="4300200" cy="789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cc"/>
                  </a:solidFill>
                  <a:latin typeface="Times New Roman"/>
                </a:rPr>
                <a:t>Interministerial Committee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cc"/>
                  </a:solidFill>
                  <a:latin typeface="Times New Roman"/>
                </a:rPr>
                <a:t>for the implementation of WFD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257080" y="1523880"/>
            <a:ext cx="1623960" cy="36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Environme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2920" y="1295280"/>
            <a:ext cx="2369160" cy="66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Transport and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Water Manageme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20400" y="2057400"/>
            <a:ext cx="6736680" cy="1839960"/>
            <a:chOff x="1220400" y="2057400"/>
            <a:chExt cx="6736680" cy="1839960"/>
          </a:xfrm>
        </p:grpSpPr>
        <p:sp>
          <p:nvSpPr>
            <p:cNvPr id="124" name=""/>
            <p:cNvSpPr/>
            <p:nvPr/>
          </p:nvSpPr>
          <p:spPr>
            <a:xfrm>
              <a:off x="3584880" y="3352680"/>
              <a:ext cx="1877040" cy="544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Times New Roman"/>
                </a:rPr>
                <a:t>Agriculture and 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Times New Roman"/>
                </a:rPr>
                <a:t>Rural Developmen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27480" y="2133720"/>
              <a:ext cx="766080" cy="301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Times New Roman"/>
                </a:rPr>
                <a:t>Health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85760" y="3352680"/>
              <a:ext cx="1357200" cy="301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Times New Roman"/>
                </a:rPr>
                <a:t>Home Affair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47560" y="3429000"/>
              <a:ext cx="1515600" cy="301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Times New Roman"/>
                </a:rPr>
                <a:t>Foreign Affair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20400" y="2895480"/>
              <a:ext cx="994680" cy="301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Times New Roman"/>
                </a:rPr>
                <a:t>Econom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89120" y="2895480"/>
              <a:ext cx="867960" cy="301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Times New Roman"/>
                </a:rPr>
                <a:t>Finance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37200" y="2057400"/>
              <a:ext cx="777960" cy="301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Times New Roman"/>
                </a:rPr>
                <a:t>Justice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600200" y="4038480"/>
            <a:ext cx="184320" cy="42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4267080"/>
            <a:ext cx="6858000" cy="42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Governmental Decision:   in October 200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22560" y="4800600"/>
            <a:ext cx="4672080" cy="36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Strategic document for Hungary:  2002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23280" y="6019920"/>
            <a:ext cx="4129200" cy="36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Competent Authority: 2002 - 2003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18600" y="5638680"/>
            <a:ext cx="6832800" cy="36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Units for water management: ???  Danube vs. water bodi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21840" y="6496200"/>
            <a:ext cx="4511880" cy="36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Institutional background: 2002 - 2003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447920" y="685800"/>
            <a:ext cx="6324480" cy="116208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99"/>
                </a:solidFill>
                <a:latin typeface="Arial"/>
              </a:rPr>
              <a:t>Programme of measu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79640" y="3733920"/>
            <a:ext cx="5803920" cy="42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Legislation within the frame of the WF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78200" y="4724280"/>
            <a:ext cx="5967000" cy="42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National programmes for implement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2362320"/>
            <a:ext cx="6465600" cy="78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</a:rPr>
              <a:t>Preparatory activity as the basis of the future programme of measu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2209680" y="1295280"/>
            <a:ext cx="4648320" cy="838440"/>
            <a:chOff x="2209680" y="1295280"/>
            <a:chExt cx="4648320" cy="838440"/>
          </a:xfrm>
        </p:grpSpPr>
        <p:sp>
          <p:nvSpPr>
            <p:cNvPr id="142" name=""/>
            <p:cNvSpPr/>
            <p:nvPr/>
          </p:nvSpPr>
          <p:spPr>
            <a:xfrm>
              <a:off x="2438280" y="1295280"/>
              <a:ext cx="2895840" cy="7077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EU legislati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86400" y="1295280"/>
              <a:ext cx="1066680" cy="7023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Status/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deadline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09680" y="2133720"/>
              <a:ext cx="4648320" cy="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438280" y="2209680"/>
            <a:ext cx="4114800" cy="271080"/>
            <a:chOff x="2438280" y="2209680"/>
            <a:chExt cx="4114800" cy="271080"/>
          </a:xfrm>
        </p:grpSpPr>
        <p:sp>
          <p:nvSpPr>
            <p:cNvPr id="146" name=""/>
            <p:cNvSpPr/>
            <p:nvPr/>
          </p:nvSpPr>
          <p:spPr>
            <a:xfrm>
              <a:off x="2438280" y="2209680"/>
              <a:ext cx="2895840" cy="26532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cc"/>
                  </a:solidFill>
                  <a:latin typeface="Arial"/>
                </a:rPr>
                <a:t>Dir. Urban waste water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86400" y="2209680"/>
              <a:ext cx="1066680" cy="271080"/>
            </a:xfrm>
            <a:prstGeom prst="rect">
              <a:avLst/>
            </a:prstGeom>
            <a:solidFill>
              <a:srgbClr val="b4f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90 %/</a:t>
              </a:r>
              <a:r>
                <a:rPr b="1" lang="hu-HU" sz="1400" spc="-1" strike="noStrike">
                  <a:solidFill>
                    <a:srgbClr val="ffffcc"/>
                  </a:solidFill>
                  <a:latin typeface="Arial Narrow"/>
                </a:rPr>
                <a:t>    </a:t>
              </a: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2001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438280" y="3581280"/>
            <a:ext cx="4114800" cy="271080"/>
            <a:chOff x="2438280" y="3581280"/>
            <a:chExt cx="4114800" cy="271080"/>
          </a:xfrm>
        </p:grpSpPr>
        <p:sp>
          <p:nvSpPr>
            <p:cNvPr id="149" name=""/>
            <p:cNvSpPr/>
            <p:nvPr/>
          </p:nvSpPr>
          <p:spPr>
            <a:xfrm>
              <a:off x="2438280" y="3581280"/>
              <a:ext cx="2895840" cy="265320"/>
            </a:xfrm>
            <a:prstGeom prst="rect">
              <a:avLst/>
            </a:prstGeom>
            <a:solidFill>
              <a:srgbClr val="02b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cc"/>
                  </a:solidFill>
                  <a:latin typeface="Arial"/>
                </a:rPr>
                <a:t>Dir. Quality of bathing w.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86400" y="3581280"/>
              <a:ext cx="1066680" cy="271080"/>
            </a:xfrm>
            <a:prstGeom prst="rect">
              <a:avLst/>
            </a:prstGeom>
            <a:solidFill>
              <a:srgbClr val="b4f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90 %/</a:t>
              </a:r>
              <a:r>
                <a:rPr b="1" lang="hu-HU" sz="1400" spc="-1" strike="noStrike">
                  <a:solidFill>
                    <a:srgbClr val="ffffcc"/>
                  </a:solidFill>
                  <a:latin typeface="Arial Narrow"/>
                </a:rPr>
                <a:t>   </a:t>
              </a: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2001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438280" y="4911840"/>
            <a:ext cx="4114800" cy="271080"/>
            <a:chOff x="2438280" y="4911840"/>
            <a:chExt cx="4114800" cy="271080"/>
          </a:xfrm>
        </p:grpSpPr>
        <p:sp>
          <p:nvSpPr>
            <p:cNvPr id="152" name=""/>
            <p:cNvSpPr/>
            <p:nvPr/>
          </p:nvSpPr>
          <p:spPr>
            <a:xfrm>
              <a:off x="2438280" y="4911840"/>
              <a:ext cx="2895840" cy="26532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cc"/>
                  </a:solidFill>
                  <a:latin typeface="Arial"/>
                </a:rPr>
                <a:t>Dir. Prot. of groundwater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86400" y="4911840"/>
              <a:ext cx="1066680" cy="271080"/>
            </a:xfrm>
            <a:prstGeom prst="rect">
              <a:avLst/>
            </a:prstGeom>
            <a:solidFill>
              <a:srgbClr val="36e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100% 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2438280" y="2666880"/>
            <a:ext cx="4114800" cy="271080"/>
            <a:chOff x="2438280" y="2666880"/>
            <a:chExt cx="4114800" cy="271080"/>
          </a:xfrm>
        </p:grpSpPr>
        <p:sp>
          <p:nvSpPr>
            <p:cNvPr id="155" name=""/>
            <p:cNvSpPr/>
            <p:nvPr/>
          </p:nvSpPr>
          <p:spPr>
            <a:xfrm>
              <a:off x="2438280" y="2666880"/>
              <a:ext cx="2895840" cy="26532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cc"/>
                  </a:solidFill>
                  <a:latin typeface="Arial"/>
                </a:rPr>
                <a:t>Dir. Nitrate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86400" y="2666880"/>
              <a:ext cx="1066680" cy="27108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100% 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438280" y="4495680"/>
            <a:ext cx="4114800" cy="271080"/>
            <a:chOff x="2438280" y="4495680"/>
            <a:chExt cx="4114800" cy="271080"/>
          </a:xfrm>
        </p:grpSpPr>
        <p:sp>
          <p:nvSpPr>
            <p:cNvPr id="158" name=""/>
            <p:cNvSpPr/>
            <p:nvPr/>
          </p:nvSpPr>
          <p:spPr>
            <a:xfrm>
              <a:off x="2438280" y="4495680"/>
              <a:ext cx="2895840" cy="2653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cc"/>
                  </a:solidFill>
                  <a:latin typeface="Arial"/>
                </a:rPr>
                <a:t>Dir.s Surface Water Quality 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86400" y="4495680"/>
              <a:ext cx="1066680" cy="2710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cc"/>
                  </a:solidFill>
                  <a:latin typeface="Arial Narrow"/>
                </a:rPr>
                <a:t>5</a:t>
              </a: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0 %/</a:t>
              </a:r>
              <a:r>
                <a:rPr b="1" lang="hu-HU" sz="1400" spc="-1" strike="noStrike">
                  <a:solidFill>
                    <a:srgbClr val="ffffcc"/>
                  </a:solidFill>
                  <a:latin typeface="Arial Narrow"/>
                </a:rPr>
                <a:t>   </a:t>
              </a: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200</a:t>
              </a:r>
              <a:r>
                <a:rPr b="1" lang="hu-HU" sz="1400" spc="-1" strike="noStrike">
                  <a:solidFill>
                    <a:srgbClr val="ffffcc"/>
                  </a:solidFill>
                  <a:latin typeface="Arial Narrow"/>
                </a:rPr>
                <a:t>1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438280" y="5791320"/>
            <a:ext cx="4114800" cy="271080"/>
            <a:chOff x="2438280" y="5791320"/>
            <a:chExt cx="4114800" cy="271080"/>
          </a:xfrm>
        </p:grpSpPr>
        <p:sp>
          <p:nvSpPr>
            <p:cNvPr id="161" name=""/>
            <p:cNvSpPr/>
            <p:nvPr/>
          </p:nvSpPr>
          <p:spPr>
            <a:xfrm>
              <a:off x="2438280" y="5791320"/>
              <a:ext cx="2895840" cy="26532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cc"/>
                  </a:solidFill>
                  <a:latin typeface="Arial"/>
                </a:rPr>
                <a:t>Dir. Shellfish water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86400" y="5791320"/>
              <a:ext cx="1066680" cy="271080"/>
            </a:xfrm>
            <a:prstGeom prst="rect">
              <a:avLst/>
            </a:prstGeom>
            <a:solidFill>
              <a:srgbClr val="36e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  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438280" y="5334120"/>
            <a:ext cx="4114800" cy="271080"/>
            <a:chOff x="2438280" y="5334120"/>
            <a:chExt cx="4114800" cy="271080"/>
          </a:xfrm>
        </p:grpSpPr>
        <p:sp>
          <p:nvSpPr>
            <p:cNvPr id="164" name=""/>
            <p:cNvSpPr/>
            <p:nvPr/>
          </p:nvSpPr>
          <p:spPr>
            <a:xfrm>
              <a:off x="2438280" y="5334120"/>
              <a:ext cx="2895840" cy="265320"/>
            </a:xfrm>
            <a:prstGeom prst="rect">
              <a:avLst/>
            </a:prstGeom>
            <a:solidFill>
              <a:srgbClr val="02b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cc"/>
                  </a:solidFill>
                  <a:latin typeface="Arial"/>
                </a:rPr>
                <a:t>Dir. Fish water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86400" y="5334120"/>
              <a:ext cx="1066680" cy="2710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cc"/>
                  </a:solidFill>
                  <a:latin typeface="Arial Narrow"/>
                </a:rPr>
                <a:t>5</a:t>
              </a: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0 %/</a:t>
              </a:r>
              <a:r>
                <a:rPr b="1" lang="hu-HU" sz="1400" spc="-1" strike="noStrike">
                  <a:solidFill>
                    <a:srgbClr val="ffffcc"/>
                  </a:solidFill>
                  <a:latin typeface="Arial Narrow"/>
                </a:rPr>
                <a:t>   </a:t>
              </a: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200</a:t>
              </a:r>
              <a:r>
                <a:rPr b="1" lang="hu-HU" sz="1400" spc="-1" strike="noStrike">
                  <a:solidFill>
                    <a:srgbClr val="ffffcc"/>
                  </a:solidFill>
                  <a:latin typeface="Arial Narrow"/>
                </a:rPr>
                <a:t>1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438280" y="3124080"/>
            <a:ext cx="4114800" cy="271080"/>
            <a:chOff x="2438280" y="3124080"/>
            <a:chExt cx="4114800" cy="271080"/>
          </a:xfrm>
        </p:grpSpPr>
        <p:sp>
          <p:nvSpPr>
            <p:cNvPr id="167" name=""/>
            <p:cNvSpPr/>
            <p:nvPr/>
          </p:nvSpPr>
          <p:spPr>
            <a:xfrm>
              <a:off x="2438280" y="3124080"/>
              <a:ext cx="2895840" cy="26532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cc"/>
                  </a:solidFill>
                  <a:latin typeface="Arial"/>
                </a:rPr>
                <a:t>Dir. Dangerous subst. + 7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86400" y="3124080"/>
              <a:ext cx="1066680" cy="271080"/>
            </a:xfrm>
            <a:prstGeom prst="rect">
              <a:avLst/>
            </a:prstGeom>
            <a:solidFill>
              <a:srgbClr val="b4f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cc"/>
                  </a:solidFill>
                  <a:latin typeface="Arial Narrow"/>
                </a:rPr>
                <a:t>9</a:t>
              </a: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0 %/</a:t>
              </a:r>
              <a:r>
                <a:rPr b="1" lang="hu-HU" sz="1400" spc="-1" strike="noStrike">
                  <a:solidFill>
                    <a:srgbClr val="ffffcc"/>
                  </a:solidFill>
                  <a:latin typeface="Arial Narrow"/>
                </a:rPr>
                <a:t>   </a:t>
              </a: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2001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438280" y="4038480"/>
            <a:ext cx="4114800" cy="271080"/>
            <a:chOff x="2438280" y="4038480"/>
            <a:chExt cx="4114800" cy="271080"/>
          </a:xfrm>
        </p:grpSpPr>
        <p:sp>
          <p:nvSpPr>
            <p:cNvPr id="170" name=""/>
            <p:cNvSpPr/>
            <p:nvPr/>
          </p:nvSpPr>
          <p:spPr>
            <a:xfrm>
              <a:off x="2438280" y="4038480"/>
              <a:ext cx="2895840" cy="265320"/>
            </a:xfrm>
            <a:prstGeom prst="rect">
              <a:avLst/>
            </a:prstGeom>
            <a:solidFill>
              <a:srgbClr val="240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cc"/>
                  </a:solidFill>
                  <a:latin typeface="Arial"/>
                </a:rPr>
                <a:t>Dir.s Drinking water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86400" y="4038480"/>
              <a:ext cx="1066680" cy="271080"/>
            </a:xfrm>
            <a:prstGeom prst="rect">
              <a:avLst/>
            </a:prstGeom>
            <a:solidFill>
              <a:srgbClr val="b4f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90 %/</a:t>
              </a:r>
              <a:r>
                <a:rPr b="1" lang="hu-HU" sz="1400" spc="-1" strike="noStrike">
                  <a:solidFill>
                    <a:srgbClr val="ffffcc"/>
                  </a:solidFill>
                  <a:latin typeface="Arial Narrow"/>
                </a:rPr>
                <a:t>   </a:t>
              </a: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2001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447920" y="380880"/>
            <a:ext cx="6226200" cy="83268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progress in legal harmonis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99"/>
                </a:solidFill>
                <a:latin typeface="Arial"/>
              </a:rPr>
              <a:t>water related EU legislation</a:t>
            </a: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447920" y="380880"/>
            <a:ext cx="6226200" cy="83268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99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progress in legal harmonis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99"/>
                </a:solidFill>
                <a:latin typeface="Arial"/>
              </a:rPr>
              <a:t>other referred EU legislation</a:t>
            </a: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209680" y="1295280"/>
            <a:ext cx="4648320" cy="838440"/>
            <a:chOff x="2209680" y="1295280"/>
            <a:chExt cx="4648320" cy="838440"/>
          </a:xfrm>
        </p:grpSpPr>
        <p:sp>
          <p:nvSpPr>
            <p:cNvPr id="175" name=""/>
            <p:cNvSpPr/>
            <p:nvPr/>
          </p:nvSpPr>
          <p:spPr>
            <a:xfrm>
              <a:off x="2438280" y="1295280"/>
              <a:ext cx="2895840" cy="707760"/>
            </a:xfrm>
            <a:prstGeom prst="rect">
              <a:avLst/>
            </a:prstGeom>
            <a:noFill/>
            <a:ln w="9360">
              <a:solidFill>
                <a:srgbClr val="ffff99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EU legislati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62720" y="1295280"/>
              <a:ext cx="1066680" cy="702360"/>
            </a:xfrm>
            <a:prstGeom prst="rect">
              <a:avLst/>
            </a:prstGeom>
            <a:noFill/>
            <a:ln w="9360">
              <a:solidFill>
                <a:srgbClr val="ffff99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Status/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deadline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09680" y="2133720"/>
              <a:ext cx="4648320" cy="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438280" y="2286000"/>
            <a:ext cx="4191120" cy="271080"/>
            <a:chOff x="2438280" y="2286000"/>
            <a:chExt cx="4191120" cy="271080"/>
          </a:xfrm>
        </p:grpSpPr>
        <p:sp>
          <p:nvSpPr>
            <p:cNvPr id="179" name=""/>
            <p:cNvSpPr/>
            <p:nvPr/>
          </p:nvSpPr>
          <p:spPr>
            <a:xfrm>
              <a:off x="2438280" y="2286000"/>
              <a:ext cx="2895840" cy="265320"/>
            </a:xfrm>
            <a:prstGeom prst="rect">
              <a:avLst/>
            </a:prstGeom>
            <a:solidFill>
              <a:srgbClr val="ffb5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cc"/>
                  </a:solidFill>
                  <a:latin typeface="Arial"/>
                </a:rPr>
                <a:t>Dir. Reporting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62720" y="2286000"/>
              <a:ext cx="1066680" cy="271080"/>
            </a:xfrm>
            <a:prstGeom prst="rect">
              <a:avLst/>
            </a:prstGeom>
            <a:solidFill>
              <a:srgbClr val="b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80 %/</a:t>
              </a:r>
              <a:r>
                <a:rPr b="1" lang="hu-HU" sz="1400" spc="-1" strike="noStrike">
                  <a:solidFill>
                    <a:srgbClr val="ffffcc"/>
                  </a:solidFill>
                  <a:latin typeface="Arial Narrow"/>
                </a:rPr>
                <a:t>  </a:t>
              </a: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200</a:t>
              </a:r>
              <a:r>
                <a:rPr b="1" lang="hu-HU" sz="1400" spc="-1" strike="noStrike">
                  <a:solidFill>
                    <a:srgbClr val="ffffcc"/>
                  </a:solidFill>
                  <a:latin typeface="Arial Narrow"/>
                </a:rPr>
                <a:t>2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438280" y="5486400"/>
            <a:ext cx="4191120" cy="271080"/>
            <a:chOff x="2438280" y="5486400"/>
            <a:chExt cx="4191120" cy="271080"/>
          </a:xfrm>
        </p:grpSpPr>
        <p:sp>
          <p:nvSpPr>
            <p:cNvPr id="182" name=""/>
            <p:cNvSpPr/>
            <p:nvPr/>
          </p:nvSpPr>
          <p:spPr>
            <a:xfrm>
              <a:off x="2438280" y="5486400"/>
              <a:ext cx="2895840" cy="265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cc"/>
                  </a:solidFill>
                  <a:latin typeface="Arial"/>
                </a:rPr>
                <a:t>Sewage Sludge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62720" y="5486400"/>
              <a:ext cx="1066680" cy="271080"/>
            </a:xfrm>
            <a:prstGeom prst="rect">
              <a:avLst/>
            </a:prstGeom>
            <a:solidFill>
              <a:srgbClr val="36e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100% 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438280" y="2743200"/>
            <a:ext cx="4191120" cy="271080"/>
            <a:chOff x="2438280" y="2743200"/>
            <a:chExt cx="4191120" cy="271080"/>
          </a:xfrm>
        </p:grpSpPr>
        <p:sp>
          <p:nvSpPr>
            <p:cNvPr id="185" name=""/>
            <p:cNvSpPr/>
            <p:nvPr/>
          </p:nvSpPr>
          <p:spPr>
            <a:xfrm>
              <a:off x="2438280" y="2743200"/>
              <a:ext cx="2895840" cy="26532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cc"/>
                  </a:solidFill>
                  <a:latin typeface="Arial"/>
                </a:rPr>
                <a:t>Dir. IPPC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62720" y="2743200"/>
              <a:ext cx="1066680" cy="271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cc"/>
                  </a:solidFill>
                  <a:latin typeface="Arial Narrow"/>
                </a:rPr>
                <a:t>100 </a:t>
              </a: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%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438280" y="5029200"/>
            <a:ext cx="4191120" cy="271080"/>
            <a:chOff x="2438280" y="5029200"/>
            <a:chExt cx="4191120" cy="271080"/>
          </a:xfrm>
        </p:grpSpPr>
        <p:sp>
          <p:nvSpPr>
            <p:cNvPr id="188" name=""/>
            <p:cNvSpPr/>
            <p:nvPr/>
          </p:nvSpPr>
          <p:spPr>
            <a:xfrm>
              <a:off x="2438280" y="5029200"/>
              <a:ext cx="2895840" cy="265320"/>
            </a:xfrm>
            <a:prstGeom prst="rect">
              <a:avLst/>
            </a:prstGeom>
            <a:solidFill>
              <a:srgbClr val="ffb5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cc"/>
                  </a:solidFill>
                  <a:latin typeface="Arial"/>
                </a:rPr>
                <a:t>Dir. Env. Impact Ass.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62720" y="5029200"/>
              <a:ext cx="1066680" cy="271080"/>
            </a:xfrm>
            <a:prstGeom prst="rect">
              <a:avLst/>
            </a:prstGeom>
            <a:solidFill>
              <a:srgbClr val="36e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100% 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2438280" y="5943600"/>
            <a:ext cx="4191120" cy="271080"/>
            <a:chOff x="2438280" y="5943600"/>
            <a:chExt cx="4191120" cy="271080"/>
          </a:xfrm>
        </p:grpSpPr>
        <p:sp>
          <p:nvSpPr>
            <p:cNvPr id="191" name=""/>
            <p:cNvSpPr/>
            <p:nvPr/>
          </p:nvSpPr>
          <p:spPr>
            <a:xfrm>
              <a:off x="2438280" y="5943600"/>
              <a:ext cx="2895840" cy="2653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cc"/>
                  </a:solidFill>
                  <a:latin typeface="Arial"/>
                </a:rPr>
                <a:t>Dec. Transboundary Water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562720" y="5943600"/>
              <a:ext cx="1066680" cy="271080"/>
            </a:xfrm>
            <a:prstGeom prst="rect">
              <a:avLst/>
            </a:prstGeom>
            <a:solidFill>
              <a:srgbClr val="36e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100% 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2438280" y="6324480"/>
            <a:ext cx="4191120" cy="270000"/>
            <a:chOff x="2438280" y="6324480"/>
            <a:chExt cx="4191120" cy="270000"/>
          </a:xfrm>
        </p:grpSpPr>
        <p:sp>
          <p:nvSpPr>
            <p:cNvPr id="194" name=""/>
            <p:cNvSpPr/>
            <p:nvPr/>
          </p:nvSpPr>
          <p:spPr>
            <a:xfrm>
              <a:off x="2438280" y="6324480"/>
              <a:ext cx="2895840" cy="26532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cc"/>
                  </a:solidFill>
                  <a:latin typeface="Arial"/>
                </a:rPr>
                <a:t>Dec. Protection of Se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62720" y="6324480"/>
              <a:ext cx="1066680" cy="270000"/>
            </a:xfrm>
            <a:prstGeom prst="rect">
              <a:avLst/>
            </a:prstGeom>
            <a:solidFill>
              <a:srgbClr val="36e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2438280" y="3200400"/>
            <a:ext cx="4191120" cy="271080"/>
            <a:chOff x="2438280" y="3200400"/>
            <a:chExt cx="4191120" cy="271080"/>
          </a:xfrm>
        </p:grpSpPr>
        <p:sp>
          <p:nvSpPr>
            <p:cNvPr id="197" name=""/>
            <p:cNvSpPr/>
            <p:nvPr/>
          </p:nvSpPr>
          <p:spPr>
            <a:xfrm>
              <a:off x="2438280" y="3200400"/>
              <a:ext cx="2895840" cy="26532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cc"/>
                  </a:solidFill>
                  <a:latin typeface="Arial"/>
                </a:rPr>
                <a:t>Dir. Pesticide (Risk. Ass.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62720" y="3200400"/>
              <a:ext cx="1066680" cy="2710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70 %/. 2002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2438280" y="4114800"/>
            <a:ext cx="4191120" cy="271080"/>
            <a:chOff x="2438280" y="4114800"/>
            <a:chExt cx="4191120" cy="271080"/>
          </a:xfrm>
        </p:grpSpPr>
        <p:sp>
          <p:nvSpPr>
            <p:cNvPr id="200" name=""/>
            <p:cNvSpPr/>
            <p:nvPr/>
          </p:nvSpPr>
          <p:spPr>
            <a:xfrm>
              <a:off x="2438280" y="4114800"/>
              <a:ext cx="2895840" cy="265320"/>
            </a:xfrm>
            <a:prstGeom prst="rect">
              <a:avLst/>
            </a:prstGeom>
            <a:solidFill>
              <a:srgbClr val="00b2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cc"/>
                  </a:solidFill>
                  <a:latin typeface="Arial"/>
                </a:rPr>
                <a:t>Dirs. Habitat and bird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62720" y="4114800"/>
              <a:ext cx="1066680" cy="2710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60 %/</a:t>
              </a:r>
              <a:r>
                <a:rPr b="1" lang="hu-HU" sz="1400" spc="-1" strike="noStrike">
                  <a:solidFill>
                    <a:srgbClr val="ffffcc"/>
                  </a:solidFill>
                  <a:latin typeface="Arial Narrow"/>
                </a:rPr>
                <a:t>  </a:t>
              </a: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200</a:t>
              </a:r>
              <a:r>
                <a:rPr b="1" lang="hu-HU" sz="1400" spc="-1" strike="noStrike">
                  <a:solidFill>
                    <a:srgbClr val="ffffcc"/>
                  </a:solidFill>
                  <a:latin typeface="Arial Narrow"/>
                </a:rPr>
                <a:t>2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438280" y="4572000"/>
            <a:ext cx="4191120" cy="271080"/>
            <a:chOff x="2438280" y="4572000"/>
            <a:chExt cx="4191120" cy="271080"/>
          </a:xfrm>
        </p:grpSpPr>
        <p:sp>
          <p:nvSpPr>
            <p:cNvPr id="203" name=""/>
            <p:cNvSpPr/>
            <p:nvPr/>
          </p:nvSpPr>
          <p:spPr>
            <a:xfrm>
              <a:off x="2438280" y="4572000"/>
              <a:ext cx="2895840" cy="26532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cc"/>
                  </a:solidFill>
                  <a:latin typeface="Arial"/>
                </a:rPr>
                <a:t>Dir Seveso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562720" y="4572000"/>
              <a:ext cx="1066680" cy="271080"/>
            </a:xfrm>
            <a:prstGeom prst="rect">
              <a:avLst/>
            </a:prstGeom>
            <a:solidFill>
              <a:srgbClr val="fff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80 %/</a:t>
              </a:r>
              <a:r>
                <a:rPr b="1" lang="hu-HU" sz="1400" spc="-1" strike="noStrike">
                  <a:solidFill>
                    <a:srgbClr val="ffffcc"/>
                  </a:solidFill>
                  <a:latin typeface="Arial Narrow"/>
                </a:rPr>
                <a:t>  </a:t>
              </a: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2001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438280" y="3657600"/>
            <a:ext cx="4191120" cy="271080"/>
            <a:chOff x="2438280" y="3657600"/>
            <a:chExt cx="4191120" cy="271080"/>
          </a:xfrm>
        </p:grpSpPr>
        <p:sp>
          <p:nvSpPr>
            <p:cNvPr id="206" name=""/>
            <p:cNvSpPr/>
            <p:nvPr/>
          </p:nvSpPr>
          <p:spPr>
            <a:xfrm>
              <a:off x="2438280" y="3657600"/>
              <a:ext cx="2895840" cy="265320"/>
            </a:xfrm>
            <a:prstGeom prst="rect">
              <a:avLst/>
            </a:prstGeom>
            <a:solidFill>
              <a:srgbClr val="ffb5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cc"/>
                  </a:solidFill>
                  <a:latin typeface="Arial"/>
                </a:rPr>
                <a:t>Dir. Risk Assessmen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62720" y="3657600"/>
              <a:ext cx="1066680" cy="271080"/>
            </a:xfrm>
            <a:prstGeom prst="rect">
              <a:avLst/>
            </a:prstGeom>
            <a:solidFill>
              <a:srgbClr val="44f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cc"/>
                  </a:solidFill>
                  <a:latin typeface="Arial Narrow"/>
                </a:rPr>
                <a:t>100</a:t>
              </a: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%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990720" y="533520"/>
            <a:ext cx="7280280" cy="101412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progress in technical implement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99"/>
                </a:solidFill>
                <a:latin typeface="Arial"/>
              </a:rPr>
              <a:t>national programmes or action plan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3352680"/>
            <a:ext cx="8582040" cy="972720"/>
            <a:chOff x="380880" y="3352680"/>
            <a:chExt cx="8582040" cy="972720"/>
          </a:xfrm>
        </p:grpSpPr>
        <p:sp>
          <p:nvSpPr>
            <p:cNvPr id="210" name=""/>
            <p:cNvSpPr/>
            <p:nvPr/>
          </p:nvSpPr>
          <p:spPr>
            <a:xfrm>
              <a:off x="380880" y="3352680"/>
              <a:ext cx="3581640" cy="9727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Urban waste water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62320" y="3352680"/>
              <a:ext cx="3229200" cy="9727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NP for development of sewer and treatment facilities (1998)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20120" y="3352680"/>
              <a:ext cx="1342800" cy="9662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cc"/>
                  </a:solidFill>
                  <a:latin typeface="Arial Narrow"/>
                </a:rPr>
                <a:t>25 %/ 2015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80880" y="2514600"/>
            <a:ext cx="8610840" cy="685800"/>
            <a:chOff x="380880" y="2514600"/>
            <a:chExt cx="8610840" cy="685800"/>
          </a:xfrm>
        </p:grpSpPr>
        <p:sp>
          <p:nvSpPr>
            <p:cNvPr id="214" name=""/>
            <p:cNvSpPr/>
            <p:nvPr/>
          </p:nvSpPr>
          <p:spPr>
            <a:xfrm>
              <a:off x="380880" y="2514600"/>
              <a:ext cx="3581640" cy="5446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EU Directive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62320" y="2514600"/>
              <a:ext cx="3229200" cy="5446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NP or NAP (start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20120" y="2514600"/>
              <a:ext cx="1295280" cy="5446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Status/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deadline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80880" y="3200400"/>
              <a:ext cx="861084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8975880" y="2260440"/>
            <a:ext cx="1839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152280"/>
            <a:ext cx="6783120" cy="78948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99"/>
                </a:solidFill>
                <a:latin typeface="Arial"/>
              </a:rPr>
              <a:t>Action plan for the implementatio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99"/>
                </a:solidFill>
                <a:latin typeface="Arial"/>
              </a:rPr>
              <a:t>of the urban water directiv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9960" y="6324480"/>
            <a:ext cx="4103640" cy="36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estimated costs: 3300 million EUR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16000" y="5105520"/>
            <a:ext cx="7691040" cy="1505880"/>
            <a:chOff x="216000" y="5105520"/>
            <a:chExt cx="7691040" cy="1505880"/>
          </a:xfrm>
        </p:grpSpPr>
        <p:sp>
          <p:nvSpPr>
            <p:cNvPr id="222" name=""/>
            <p:cNvSpPr/>
            <p:nvPr/>
          </p:nvSpPr>
          <p:spPr>
            <a:xfrm>
              <a:off x="216000" y="5105520"/>
              <a:ext cx="5587920" cy="362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cc"/>
                  </a:solidFill>
                  <a:latin typeface="Times New Roman"/>
                </a:rPr>
                <a:t>programme started in 1996,   appr. 25 % is done,</a:t>
              </a:r>
              <a:r>
                <a:rPr b="1" lang="hu-HU" sz="20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562640" y="5638680"/>
              <a:ext cx="3344400" cy="972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cc"/>
                  </a:solidFill>
                  <a:latin typeface="Times New Roman"/>
                </a:rPr>
                <a:t>2008 (1998): sensitive areas,  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cc"/>
                  </a:solidFill>
                  <a:latin typeface="Times New Roman"/>
                </a:rPr>
                <a:t>2010 (2003): &gt; 15000 p.e.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cc"/>
                  </a:solidFill>
                  <a:latin typeface="Times New Roman"/>
                </a:rPr>
                <a:t>2015 (2005): &gt; 2000 p.e.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28600" y="1066680"/>
            <a:ext cx="5257440" cy="3733200"/>
            <a:chOff x="228600" y="1066680"/>
            <a:chExt cx="5257440" cy="3733200"/>
          </a:xfrm>
        </p:grpSpPr>
        <p:sp>
          <p:nvSpPr>
            <p:cNvPr id="225" name=""/>
            <p:cNvSpPr/>
            <p:nvPr/>
          </p:nvSpPr>
          <p:spPr>
            <a:xfrm>
              <a:off x="228600" y="2933280"/>
              <a:ext cx="3428640" cy="580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cc"/>
                  </a:solidFill>
                  <a:latin typeface="Arial"/>
                </a:rPr>
                <a:t>legal 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cc"/>
                  </a:solidFill>
                  <a:latin typeface="Arial"/>
                </a:rPr>
                <a:t>harmonisati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8600" y="1183320"/>
              <a:ext cx="5257440" cy="361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aphicFrame>
          <p:nvGraphicFramePr>
            <p:cNvPr id="227" name=""/>
            <p:cNvGraphicFramePr/>
            <p:nvPr/>
          </p:nvGraphicFramePr>
          <p:xfrm>
            <a:off x="685800" y="1248840"/>
            <a:ext cx="4624200" cy="33224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85800" y="1248840"/>
                      <a:ext cx="4624200" cy="33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9" name=""/>
            <p:cNvSpPr/>
            <p:nvPr/>
          </p:nvSpPr>
          <p:spPr>
            <a:xfrm>
              <a:off x="228600" y="1066680"/>
              <a:ext cx="5257440" cy="392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660033"/>
                  </a:solidFill>
                  <a:latin typeface="Arial"/>
                </a:rPr>
                <a:t>Classification of settlements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660033"/>
                  </a:solidFill>
                  <a:latin typeface="Arial"/>
                </a:rPr>
                <a:t>by ratio of the population connected to sewer system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79080" y="3628440"/>
              <a:ext cx="1395000" cy="63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79080" y="4401000"/>
              <a:ext cx="1268640" cy="192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50280" y="3562920"/>
              <a:ext cx="1328040" cy="194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4952880" y="2209680"/>
            <a:ext cx="3886200" cy="2971800"/>
            <a:chOff x="4952880" y="2209680"/>
            <a:chExt cx="3886200" cy="2971800"/>
          </a:xfrm>
        </p:grpSpPr>
        <p:graphicFrame>
          <p:nvGraphicFramePr>
            <p:cNvPr id="234" name=""/>
            <p:cNvGraphicFramePr/>
            <p:nvPr/>
          </p:nvGraphicFramePr>
          <p:xfrm>
            <a:off x="4952880" y="2584440"/>
            <a:ext cx="3886200" cy="259704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23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952880" y="2584440"/>
                      <a:ext cx="3886200" cy="259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6" name=""/>
            <p:cNvSpPr/>
            <p:nvPr/>
          </p:nvSpPr>
          <p:spPr>
            <a:xfrm>
              <a:off x="4952880" y="2209680"/>
              <a:ext cx="3809880" cy="423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660033"/>
                  </a:solidFill>
                  <a:latin typeface="Arial"/>
                </a:rPr>
                <a:t>Level of water services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660033"/>
                  </a:solidFill>
                  <a:latin typeface="Arial"/>
                </a:rPr>
                <a:t>in different classes of settlements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990720" y="533520"/>
            <a:ext cx="7280280" cy="101412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progress in technical implement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99"/>
                </a:solidFill>
                <a:latin typeface="Arial"/>
              </a:rPr>
              <a:t>national programmes or action plan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80880" y="3352680"/>
            <a:ext cx="8582040" cy="972720"/>
            <a:chOff x="380880" y="3352680"/>
            <a:chExt cx="8582040" cy="972720"/>
          </a:xfrm>
        </p:grpSpPr>
        <p:sp>
          <p:nvSpPr>
            <p:cNvPr id="239" name=""/>
            <p:cNvSpPr/>
            <p:nvPr/>
          </p:nvSpPr>
          <p:spPr>
            <a:xfrm>
              <a:off x="380880" y="3352680"/>
              <a:ext cx="3581640" cy="9727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Urban waste water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62320" y="3352680"/>
              <a:ext cx="3229200" cy="9727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NP for development of sewer and treatment facilities (1998)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20120" y="3352680"/>
              <a:ext cx="1342800" cy="9662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cc"/>
                  </a:solidFill>
                  <a:latin typeface="Arial Narrow"/>
                </a:rPr>
                <a:t>25 %/ 2015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80880" y="2514600"/>
            <a:ext cx="8610840" cy="685800"/>
            <a:chOff x="380880" y="2514600"/>
            <a:chExt cx="8610840" cy="685800"/>
          </a:xfrm>
        </p:grpSpPr>
        <p:sp>
          <p:nvSpPr>
            <p:cNvPr id="243" name=""/>
            <p:cNvSpPr/>
            <p:nvPr/>
          </p:nvSpPr>
          <p:spPr>
            <a:xfrm>
              <a:off x="380880" y="2514600"/>
              <a:ext cx="3581640" cy="5446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EU Directive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62320" y="2514600"/>
              <a:ext cx="3229200" cy="5446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NP or NAP (start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20120" y="2514600"/>
              <a:ext cx="1295280" cy="5446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Status/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deadline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0880" y="3200400"/>
              <a:ext cx="861084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80880" y="4419720"/>
            <a:ext cx="8610840" cy="972720"/>
            <a:chOff x="380880" y="4419720"/>
            <a:chExt cx="8610840" cy="972720"/>
          </a:xfrm>
        </p:grpSpPr>
        <p:sp>
          <p:nvSpPr>
            <p:cNvPr id="248" name=""/>
            <p:cNvSpPr/>
            <p:nvPr/>
          </p:nvSpPr>
          <p:spPr>
            <a:xfrm>
              <a:off x="7620120" y="4724280"/>
              <a:ext cx="1371600" cy="6613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 algn="ct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cc"/>
                  </a:solidFill>
                  <a:latin typeface="Arial Narrow"/>
                </a:rPr>
                <a:t>20 % / 2009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0880" y="4419720"/>
              <a:ext cx="3581640" cy="97272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Drinking water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114800" y="4419720"/>
              <a:ext cx="3276720" cy="97272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cc"/>
                  </a:solidFill>
                  <a:latin typeface="Arial"/>
                </a:rPr>
                <a:t>Source</a:t>
              </a: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 protection(1997)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Improvement of drinking water quality (2001)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0120" y="4419720"/>
              <a:ext cx="1371600" cy="606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cc"/>
                  </a:solidFill>
                  <a:latin typeface="Arial Narrow"/>
                </a:rPr>
                <a:t>70 % / 2003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17:16:20Z</dcterms:created>
  <dc:creator>Clement</dc:creator>
  <dc:description/>
  <dc:language>en-US</dc:language>
  <cp:lastModifiedBy>UNECE</cp:lastModifiedBy>
  <dcterms:modified xsi:type="dcterms:W3CDTF">2002-02-19T06:27:14Z</dcterms:modified>
  <cp:revision>84</cp:revision>
  <dc:subject/>
  <dc:title>General</dc:title>
</cp:coreProperties>
</file>