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28E-18F1-46E0-9225-252BCD43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6A8-625F-4127-BA02-614827B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CBA-8D66-410F-AAA6-2BF4A50E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F78-2C7C-40E2-BD8E-F62182BC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92B3-1BCF-42C7-9DAE-2022DBBD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D9AE-29B4-450E-8C5E-0699C63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3822-B86C-4283-B369-03E9585D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E10-05B6-400C-89B4-AB3D18F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4A5-E1FF-4BBB-9361-E793BE03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AD99-8ABD-49A7-9C8A-AC730C26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C69D-4358-4661-BBE0-FB476F8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231-0973-4FB2-A9C2-3C2A46E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D3A6-8EFF-4176-9DC1-2697036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2790-F89A-491A-92AD-4C61623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1E2-9876-455E-84FB-E15C53C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BCB9-4A9E-4208-8D4A-E675A37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FF6-8407-4A57-AA38-CE8E7BA5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D6B-7920-4423-83E0-B13BBC8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0D6-D54E-487E-BF60-268BBAD8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9D2-575D-49FB-B334-1B150BE7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F98-151E-4B49-9511-0961784B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3F5-AC45-400B-B96B-2C621ED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FC5-C319-4CD4-A99E-E7F4251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936-7414-401E-BA14-BE5398B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928-C33E-44E5-B97C-2953779CA5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9D3A-960A-4AC7-B698-5549CBDABD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fbf3f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igmap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2811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228600"/>
            <a:ext cx="6858000" cy="144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OF THE</a:t>
            </a:r>
            <a:br>
              <a:rPr sz="3200"/>
            </a:br>
            <a:r>
              <a:rPr b="0" lang="hu-HU" sz="3200" spc="-1" strike="noStrike">
                <a:solidFill>
                  <a:srgbClr val="ffff99"/>
                </a:solidFill>
                <a:latin typeface="Arial"/>
              </a:rPr>
              <a:t>WATER FRAMEWORK DIRECTIVE  IN  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NGAR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181480"/>
            <a:ext cx="3962520" cy="1149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cc"/>
                </a:solidFill>
                <a:latin typeface="Times New Roman"/>
              </a:rPr>
              <a:t>Eszter  HAVAS-SZILÁGYI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Ministry of Trans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nd Water Manag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181480"/>
            <a:ext cx="4114800" cy="11365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László BALÁSHÁZ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Ministry for Enviro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llwater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5410080" cy="3827520"/>
          </a:xfrm>
          <a:prstGeom prst="rect">
            <a:avLst/>
          </a:prstGeom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</p:pic>
      <p:sp>
        <p:nvSpPr>
          <p:cNvPr id="225" name=""/>
          <p:cNvSpPr/>
          <p:nvPr/>
        </p:nvSpPr>
        <p:spPr>
          <a:xfrm>
            <a:off x="1414440" y="1496880"/>
            <a:ext cx="6499080" cy="6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Existing monitoring network is sufficient for quantity, b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omprehensiv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development is needed for qual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2895480"/>
            <a:ext cx="3429000" cy="24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Surface water quality monitoring: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at the border and  in lar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and medium river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not detailed enoug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in small water courses and lak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80880"/>
            <a:ext cx="5562720" cy="90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Monitoring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228600"/>
            <a:ext cx="7010640" cy="9417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WATER BODIES AND MONITORING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05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5181480"/>
              <a:ext cx="2209680" cy="1676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4419720"/>
              <a:ext cx="206280" cy="556920"/>
            </a:xfrm>
            <a:prstGeom prst="downArrow">
              <a:avLst>
                <a:gd name="adj1" fmla="val 50000"/>
                <a:gd name="adj2" fmla="val 6749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11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s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3e3e3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7e7e7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17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124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6680" y="3792600"/>
              <a:ext cx="204156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228600"/>
            <a:ext cx="7010640" cy="13075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IDENTIFICATION AND CHARACTERIS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OF THE WATER BODIES</a:t>
            </a:r>
            <a:r>
              <a:rPr b="1" lang="hu-H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32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5181480"/>
              <a:ext cx="2209680" cy="16765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8320" y="4419720"/>
              <a:ext cx="206280" cy="556920"/>
            </a:xfrm>
            <a:prstGeom prst="downArrow">
              <a:avLst>
                <a:gd name="adj1" fmla="val 50000"/>
                <a:gd name="adj2" fmla="val 6749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38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References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44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151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3792600"/>
              <a:ext cx="204156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228600"/>
            <a:ext cx="7543800" cy="1242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Ty</a:t>
            </a: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logy</a:t>
            </a: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eliminary designation of surface water bo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360" y="1447920"/>
            <a:ext cx="4536360" cy="19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water cour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geologic charac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size of the catchment are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travel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time from origin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small flow/average 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066680"/>
          <a:ext cx="7162560" cy="54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66680"/>
                    <a:ext cx="71625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00400" y="1981080"/>
            <a:ext cx="3525840" cy="4289400"/>
          </a:xfrm>
          <a:custGeom>
            <a:avLst/>
            <a:gdLst/>
            <a:ahLst/>
            <a:rect l="l" t="t" r="r" b="b"/>
            <a:pathLst>
              <a:path w="4464" h="5184">
                <a:moveTo>
                  <a:pt x="1008" y="2880"/>
                </a:moveTo>
                <a:lnTo>
                  <a:pt x="1152" y="3024"/>
                </a:lnTo>
                <a:lnTo>
                  <a:pt x="1296" y="3024"/>
                </a:lnTo>
                <a:lnTo>
                  <a:pt x="1296" y="3168"/>
                </a:lnTo>
                <a:lnTo>
                  <a:pt x="1296" y="3312"/>
                </a:lnTo>
                <a:lnTo>
                  <a:pt x="1296" y="3456"/>
                </a:lnTo>
                <a:lnTo>
                  <a:pt x="1584" y="3600"/>
                </a:lnTo>
                <a:lnTo>
                  <a:pt x="1872" y="3744"/>
                </a:lnTo>
                <a:lnTo>
                  <a:pt x="2016" y="3888"/>
                </a:lnTo>
                <a:lnTo>
                  <a:pt x="2304" y="3744"/>
                </a:lnTo>
                <a:lnTo>
                  <a:pt x="2304" y="3600"/>
                </a:lnTo>
                <a:lnTo>
                  <a:pt x="2304" y="3312"/>
                </a:lnTo>
                <a:lnTo>
                  <a:pt x="2448" y="3024"/>
                </a:lnTo>
                <a:lnTo>
                  <a:pt x="2736" y="2736"/>
                </a:lnTo>
                <a:lnTo>
                  <a:pt x="3168" y="2592"/>
                </a:lnTo>
                <a:lnTo>
                  <a:pt x="3456" y="2592"/>
                </a:lnTo>
                <a:lnTo>
                  <a:pt x="3744" y="2736"/>
                </a:lnTo>
                <a:lnTo>
                  <a:pt x="3744" y="2592"/>
                </a:lnTo>
                <a:lnTo>
                  <a:pt x="3600" y="2304"/>
                </a:lnTo>
                <a:lnTo>
                  <a:pt x="3456" y="2160"/>
                </a:lnTo>
                <a:lnTo>
                  <a:pt x="3312" y="1872"/>
                </a:lnTo>
                <a:lnTo>
                  <a:pt x="3024" y="1584"/>
                </a:lnTo>
                <a:lnTo>
                  <a:pt x="2880" y="1152"/>
                </a:lnTo>
                <a:lnTo>
                  <a:pt x="2736" y="864"/>
                </a:lnTo>
                <a:lnTo>
                  <a:pt x="2880" y="720"/>
                </a:lnTo>
                <a:lnTo>
                  <a:pt x="3024" y="432"/>
                </a:lnTo>
                <a:lnTo>
                  <a:pt x="2880" y="288"/>
                </a:lnTo>
                <a:lnTo>
                  <a:pt x="2880" y="0"/>
                </a:lnTo>
                <a:lnTo>
                  <a:pt x="3456" y="432"/>
                </a:lnTo>
                <a:lnTo>
                  <a:pt x="3456" y="864"/>
                </a:lnTo>
                <a:lnTo>
                  <a:pt x="3888" y="1008"/>
                </a:lnTo>
                <a:lnTo>
                  <a:pt x="4032" y="2016"/>
                </a:lnTo>
                <a:lnTo>
                  <a:pt x="4176" y="2016"/>
                </a:lnTo>
                <a:lnTo>
                  <a:pt x="4464" y="3024"/>
                </a:lnTo>
                <a:lnTo>
                  <a:pt x="4032" y="3168"/>
                </a:lnTo>
                <a:lnTo>
                  <a:pt x="3600" y="3600"/>
                </a:lnTo>
                <a:lnTo>
                  <a:pt x="3888" y="3888"/>
                </a:lnTo>
                <a:lnTo>
                  <a:pt x="2880" y="4752"/>
                </a:lnTo>
                <a:lnTo>
                  <a:pt x="2304" y="4752"/>
                </a:lnTo>
                <a:lnTo>
                  <a:pt x="2016" y="5184"/>
                </a:lnTo>
                <a:lnTo>
                  <a:pt x="1728" y="5184"/>
                </a:lnTo>
                <a:lnTo>
                  <a:pt x="1440" y="5040"/>
                </a:lnTo>
                <a:lnTo>
                  <a:pt x="1296" y="4752"/>
                </a:lnTo>
                <a:lnTo>
                  <a:pt x="864" y="4896"/>
                </a:lnTo>
                <a:lnTo>
                  <a:pt x="0" y="4176"/>
                </a:lnTo>
                <a:lnTo>
                  <a:pt x="288" y="3744"/>
                </a:lnTo>
                <a:lnTo>
                  <a:pt x="720" y="3456"/>
                </a:lnTo>
                <a:lnTo>
                  <a:pt x="576" y="3312"/>
                </a:lnTo>
                <a:lnTo>
                  <a:pt x="720" y="3168"/>
                </a:lnTo>
                <a:lnTo>
                  <a:pt x="1008" y="288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971800"/>
            <a:ext cx="868320" cy="1380960"/>
          </a:xfrm>
          <a:custGeom>
            <a:avLst/>
            <a:gdLst/>
            <a:ahLst/>
            <a:rect l="l" t="t" r="r" b="b"/>
            <a:pathLst>
              <a:path w="1100" h="1670">
                <a:moveTo>
                  <a:pt x="0" y="1670"/>
                </a:moveTo>
                <a:cubicBezTo>
                  <a:pt x="48" y="1638"/>
                  <a:pt x="19" y="1654"/>
                  <a:pt x="90" y="1630"/>
                </a:cubicBezTo>
                <a:cubicBezTo>
                  <a:pt x="113" y="1622"/>
                  <a:pt x="130" y="1603"/>
                  <a:pt x="150" y="1590"/>
                </a:cubicBezTo>
                <a:cubicBezTo>
                  <a:pt x="160" y="1583"/>
                  <a:pt x="180" y="1570"/>
                  <a:pt x="180" y="1570"/>
                </a:cubicBezTo>
                <a:cubicBezTo>
                  <a:pt x="187" y="1560"/>
                  <a:pt x="191" y="1548"/>
                  <a:pt x="200" y="1540"/>
                </a:cubicBezTo>
                <a:cubicBezTo>
                  <a:pt x="218" y="1524"/>
                  <a:pt x="260" y="1500"/>
                  <a:pt x="260" y="1500"/>
                </a:cubicBezTo>
                <a:cubicBezTo>
                  <a:pt x="297" y="1445"/>
                  <a:pt x="259" y="1488"/>
                  <a:pt x="310" y="1460"/>
                </a:cubicBezTo>
                <a:cubicBezTo>
                  <a:pt x="331" y="1448"/>
                  <a:pt x="370" y="1420"/>
                  <a:pt x="370" y="1420"/>
                </a:cubicBezTo>
                <a:cubicBezTo>
                  <a:pt x="377" y="1410"/>
                  <a:pt x="380" y="1397"/>
                  <a:pt x="390" y="1390"/>
                </a:cubicBezTo>
                <a:cubicBezTo>
                  <a:pt x="401" y="1382"/>
                  <a:pt x="417" y="1384"/>
                  <a:pt x="430" y="1380"/>
                </a:cubicBezTo>
                <a:cubicBezTo>
                  <a:pt x="461" y="1371"/>
                  <a:pt x="492" y="1354"/>
                  <a:pt x="520" y="1340"/>
                </a:cubicBezTo>
                <a:cubicBezTo>
                  <a:pt x="540" y="1330"/>
                  <a:pt x="560" y="1321"/>
                  <a:pt x="580" y="1310"/>
                </a:cubicBezTo>
                <a:cubicBezTo>
                  <a:pt x="612" y="1292"/>
                  <a:pt x="636" y="1261"/>
                  <a:pt x="670" y="1250"/>
                </a:cubicBezTo>
                <a:cubicBezTo>
                  <a:pt x="700" y="1240"/>
                  <a:pt x="704" y="1242"/>
                  <a:pt x="730" y="1220"/>
                </a:cubicBezTo>
                <a:cubicBezTo>
                  <a:pt x="807" y="1156"/>
                  <a:pt x="716" y="1220"/>
                  <a:pt x="790" y="1170"/>
                </a:cubicBezTo>
                <a:cubicBezTo>
                  <a:pt x="824" y="1119"/>
                  <a:pt x="841" y="1061"/>
                  <a:pt x="890" y="1020"/>
                </a:cubicBezTo>
                <a:cubicBezTo>
                  <a:pt x="943" y="976"/>
                  <a:pt x="896" y="1020"/>
                  <a:pt x="950" y="990"/>
                </a:cubicBezTo>
                <a:cubicBezTo>
                  <a:pt x="971" y="978"/>
                  <a:pt x="1010" y="950"/>
                  <a:pt x="1010" y="950"/>
                </a:cubicBezTo>
                <a:cubicBezTo>
                  <a:pt x="1017" y="929"/>
                  <a:pt x="1033" y="911"/>
                  <a:pt x="1040" y="890"/>
                </a:cubicBezTo>
                <a:cubicBezTo>
                  <a:pt x="1058" y="835"/>
                  <a:pt x="1060" y="767"/>
                  <a:pt x="1070" y="710"/>
                </a:cubicBezTo>
                <a:cubicBezTo>
                  <a:pt x="1074" y="687"/>
                  <a:pt x="1075" y="663"/>
                  <a:pt x="1080" y="640"/>
                </a:cubicBezTo>
                <a:cubicBezTo>
                  <a:pt x="1085" y="613"/>
                  <a:pt x="1100" y="560"/>
                  <a:pt x="1100" y="560"/>
                </a:cubicBezTo>
                <a:cubicBezTo>
                  <a:pt x="1097" y="510"/>
                  <a:pt x="1097" y="460"/>
                  <a:pt x="1090" y="410"/>
                </a:cubicBezTo>
                <a:cubicBezTo>
                  <a:pt x="1082" y="357"/>
                  <a:pt x="1059" y="333"/>
                  <a:pt x="1030" y="290"/>
                </a:cubicBezTo>
                <a:cubicBezTo>
                  <a:pt x="1024" y="281"/>
                  <a:pt x="974" y="201"/>
                  <a:pt x="970" y="200"/>
                </a:cubicBezTo>
                <a:cubicBezTo>
                  <a:pt x="960" y="197"/>
                  <a:pt x="949" y="195"/>
                  <a:pt x="940" y="190"/>
                </a:cubicBezTo>
                <a:cubicBezTo>
                  <a:pt x="837" y="133"/>
                  <a:pt x="918" y="163"/>
                  <a:pt x="850" y="140"/>
                </a:cubicBezTo>
                <a:cubicBezTo>
                  <a:pt x="777" y="67"/>
                  <a:pt x="688" y="45"/>
                  <a:pt x="590" y="20"/>
                </a:cubicBezTo>
                <a:cubicBezTo>
                  <a:pt x="580" y="13"/>
                  <a:pt x="560" y="0"/>
                  <a:pt x="5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76520"/>
            <a:ext cx="149040" cy="1000080"/>
          </a:xfrm>
          <a:custGeom>
            <a:avLst/>
            <a:gdLst/>
            <a:ahLst/>
            <a:rect l="l" t="t" r="r" b="b"/>
            <a:pathLst>
              <a:path w="190" h="1210">
                <a:moveTo>
                  <a:pt x="190" y="1210"/>
                </a:moveTo>
                <a:cubicBezTo>
                  <a:pt x="157" y="1160"/>
                  <a:pt x="142" y="1025"/>
                  <a:pt x="130" y="960"/>
                </a:cubicBezTo>
                <a:cubicBezTo>
                  <a:pt x="119" y="898"/>
                  <a:pt x="122" y="916"/>
                  <a:pt x="100" y="850"/>
                </a:cubicBezTo>
                <a:cubicBezTo>
                  <a:pt x="97" y="840"/>
                  <a:pt x="90" y="820"/>
                  <a:pt x="90" y="820"/>
                </a:cubicBezTo>
                <a:cubicBezTo>
                  <a:pt x="83" y="770"/>
                  <a:pt x="76" y="727"/>
                  <a:pt x="60" y="680"/>
                </a:cubicBezTo>
                <a:cubicBezTo>
                  <a:pt x="49" y="539"/>
                  <a:pt x="23" y="408"/>
                  <a:pt x="0" y="270"/>
                </a:cubicBezTo>
                <a:cubicBezTo>
                  <a:pt x="3" y="233"/>
                  <a:pt x="2" y="196"/>
                  <a:pt x="10" y="160"/>
                </a:cubicBezTo>
                <a:cubicBezTo>
                  <a:pt x="13" y="148"/>
                  <a:pt x="25" y="141"/>
                  <a:pt x="30" y="130"/>
                </a:cubicBezTo>
                <a:cubicBezTo>
                  <a:pt x="52" y="81"/>
                  <a:pt x="51" y="39"/>
                  <a:pt x="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440" y="3429000"/>
            <a:ext cx="3764160" cy="838080"/>
            <a:chOff x="5257440" y="3429000"/>
            <a:chExt cx="3764160" cy="838080"/>
          </a:xfrm>
        </p:grpSpPr>
        <p:sp>
          <p:nvSpPr>
            <p:cNvPr id="165" name=""/>
            <p:cNvSpPr/>
            <p:nvPr/>
          </p:nvSpPr>
          <p:spPr>
            <a:xfrm flipH="1">
              <a:off x="5257440" y="3809880"/>
              <a:ext cx="1066680" cy="15264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24480" y="3429000"/>
              <a:ext cx="2697120" cy="838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200 m, siliceous, &g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30 days - 1 year, 20 - 5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000000"/>
                  </a:solidFill>
                  <a:latin typeface="Arial"/>
                </a:rPr>
                <a:t>heavily modified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1640" y="5486040"/>
            <a:ext cx="4420080" cy="975240"/>
            <a:chOff x="4571640" y="5486040"/>
            <a:chExt cx="4420080" cy="975240"/>
          </a:xfrm>
        </p:grpSpPr>
        <p:sp>
          <p:nvSpPr>
            <p:cNvPr id="168" name=""/>
            <p:cNvSpPr/>
            <p:nvPr/>
          </p:nvSpPr>
          <p:spPr>
            <a:xfrm>
              <a:off x="6324480" y="5715000"/>
              <a:ext cx="2667240" cy="746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Group 1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gt; 200 m, siliceous, &l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1 day,  &lt; 2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571640" y="5486040"/>
              <a:ext cx="1676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486400" y="3505320"/>
            <a:ext cx="487440" cy="334800"/>
          </a:xfrm>
          <a:custGeom>
            <a:avLst/>
            <a:gdLst/>
            <a:ahLst/>
            <a:rect l="l" t="t" r="r" b="b"/>
            <a:pathLst>
              <a:path w="617" h="405">
                <a:moveTo>
                  <a:pt x="603" y="403"/>
                </a:moveTo>
                <a:cubicBezTo>
                  <a:pt x="514" y="344"/>
                  <a:pt x="617" y="405"/>
                  <a:pt x="383" y="373"/>
                </a:cubicBezTo>
                <a:cubicBezTo>
                  <a:pt x="371" y="371"/>
                  <a:pt x="364" y="358"/>
                  <a:pt x="353" y="353"/>
                </a:cubicBezTo>
                <a:cubicBezTo>
                  <a:pt x="333" y="343"/>
                  <a:pt x="292" y="337"/>
                  <a:pt x="273" y="333"/>
                </a:cubicBezTo>
                <a:cubicBezTo>
                  <a:pt x="199" y="284"/>
                  <a:pt x="196" y="192"/>
                  <a:pt x="123" y="143"/>
                </a:cubicBezTo>
                <a:cubicBezTo>
                  <a:pt x="116" y="133"/>
                  <a:pt x="111" y="121"/>
                  <a:pt x="103" y="113"/>
                </a:cubicBezTo>
                <a:cubicBezTo>
                  <a:pt x="95" y="105"/>
                  <a:pt x="81" y="102"/>
                  <a:pt x="73" y="93"/>
                </a:cubicBezTo>
                <a:cubicBezTo>
                  <a:pt x="66" y="85"/>
                  <a:pt x="70" y="70"/>
                  <a:pt x="63" y="63"/>
                </a:cubicBezTo>
                <a:cubicBezTo>
                  <a:pt x="0" y="0"/>
                  <a:pt x="3" y="50"/>
                  <a:pt x="3" y="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19440" y="2209680"/>
            <a:ext cx="3572280" cy="1447920"/>
            <a:chOff x="5419440" y="2209680"/>
            <a:chExt cx="3572280" cy="1447920"/>
          </a:xfrm>
        </p:grpSpPr>
        <p:sp>
          <p:nvSpPr>
            <p:cNvPr id="172" name=""/>
            <p:cNvSpPr/>
            <p:nvPr/>
          </p:nvSpPr>
          <p:spPr>
            <a:xfrm>
              <a:off x="6324480" y="2209680"/>
              <a:ext cx="266724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Like group 2., bu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000000"/>
                  </a:solidFill>
                  <a:latin typeface="Arial"/>
                </a:rPr>
                <a:t>critical water qual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562720" y="2590920"/>
              <a:ext cx="7617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9440" y="3195720"/>
              <a:ext cx="68580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4038480"/>
            <a:ext cx="3409920" cy="22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lak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geologic charac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ffffcc"/>
                </a:solidFill>
                <a:latin typeface="Times New Roman"/>
              </a:rPr>
              <a:t>average dep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esidence 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water level fluctu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28840" y="4495680"/>
            <a:ext cx="3962880" cy="914400"/>
            <a:chOff x="5028840" y="4495680"/>
            <a:chExt cx="3962880" cy="914400"/>
          </a:xfrm>
        </p:grpSpPr>
        <p:sp>
          <p:nvSpPr>
            <p:cNvPr id="177" name=""/>
            <p:cNvSpPr/>
            <p:nvPr/>
          </p:nvSpPr>
          <p:spPr>
            <a:xfrm>
              <a:off x="6324480" y="4648320"/>
              <a:ext cx="266724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Group 2.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200 m, siliceous, &lt; 100 km</a:t>
              </a:r>
              <a:r>
                <a:rPr b="1" lang="hu-HU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&lt; 1 - 3 day,  &lt; 20 %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028840" y="4495680"/>
              <a:ext cx="1219320" cy="4572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95680" y="4419720"/>
            <a:ext cx="254160" cy="533160"/>
          </a:xfrm>
          <a:custGeom>
            <a:avLst/>
            <a:gdLst/>
            <a:ahLst/>
            <a:rect l="l" t="t" r="r" b="b"/>
            <a:pathLst>
              <a:path w="160" h="336">
                <a:moveTo>
                  <a:pt x="152" y="0"/>
                </a:moveTo>
                <a:cubicBezTo>
                  <a:pt x="144" y="0"/>
                  <a:pt x="120" y="40"/>
                  <a:pt x="104" y="48"/>
                </a:cubicBezTo>
                <a:cubicBezTo>
                  <a:pt x="88" y="56"/>
                  <a:pt x="64" y="32"/>
                  <a:pt x="56" y="48"/>
                </a:cubicBezTo>
                <a:cubicBezTo>
                  <a:pt x="48" y="64"/>
                  <a:pt x="56" y="120"/>
                  <a:pt x="56" y="144"/>
                </a:cubicBezTo>
                <a:cubicBezTo>
                  <a:pt x="56" y="168"/>
                  <a:pt x="56" y="168"/>
                  <a:pt x="56" y="192"/>
                </a:cubicBezTo>
                <a:cubicBezTo>
                  <a:pt x="56" y="216"/>
                  <a:pt x="64" y="264"/>
                  <a:pt x="56" y="288"/>
                </a:cubicBezTo>
                <a:cubicBezTo>
                  <a:pt x="48" y="312"/>
                  <a:pt x="0" y="336"/>
                  <a:pt x="8" y="336"/>
                </a:cubicBezTo>
                <a:cubicBezTo>
                  <a:pt x="16" y="336"/>
                  <a:pt x="88" y="312"/>
                  <a:pt x="104" y="288"/>
                </a:cubicBezTo>
                <a:cubicBezTo>
                  <a:pt x="120" y="264"/>
                  <a:pt x="96" y="216"/>
                  <a:pt x="104" y="192"/>
                </a:cubicBezTo>
                <a:cubicBezTo>
                  <a:pt x="112" y="168"/>
                  <a:pt x="144" y="168"/>
                  <a:pt x="152" y="144"/>
                </a:cubicBezTo>
                <a:cubicBezTo>
                  <a:pt x="160" y="120"/>
                  <a:pt x="152" y="72"/>
                  <a:pt x="152" y="48"/>
                </a:cubicBezTo>
                <a:cubicBezTo>
                  <a:pt x="152" y="24"/>
                  <a:pt x="160" y="0"/>
                  <a:pt x="152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43200"/>
            <a:ext cx="254160" cy="270000"/>
          </a:xfrm>
          <a:custGeom>
            <a:avLst/>
            <a:gdLst/>
            <a:ahLst/>
            <a:rect l="l" t="t" r="r" b="b"/>
            <a:pathLst>
              <a:path w="160" h="170">
                <a:moveTo>
                  <a:pt x="42" y="9"/>
                </a:moveTo>
                <a:cubicBezTo>
                  <a:pt x="0" y="53"/>
                  <a:pt x="39" y="92"/>
                  <a:pt x="78" y="118"/>
                </a:cubicBezTo>
                <a:cubicBezTo>
                  <a:pt x="95" y="170"/>
                  <a:pt x="111" y="156"/>
                  <a:pt x="160" y="146"/>
                </a:cubicBezTo>
                <a:cubicBezTo>
                  <a:pt x="153" y="104"/>
                  <a:pt x="151" y="71"/>
                  <a:pt x="124" y="37"/>
                </a:cubicBezTo>
                <a:cubicBezTo>
                  <a:pt x="107" y="16"/>
                  <a:pt x="51" y="0"/>
                  <a:pt x="51" y="0"/>
                </a:cubicBezTo>
                <a:cubicBezTo>
                  <a:pt x="18" y="11"/>
                  <a:pt x="15" y="9"/>
                  <a:pt x="42" y="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geologia" descr=""/>
          <p:cNvPicPr/>
          <p:nvPr/>
        </p:nvPicPr>
        <p:blipFill>
          <a:blip r:embed="rId2"/>
          <a:stretch/>
        </p:blipFill>
        <p:spPr>
          <a:xfrm>
            <a:off x="-4038480" y="0"/>
            <a:ext cx="13411080" cy="9850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90720" y="228600"/>
            <a:ext cx="6933960" cy="7963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Preliminary designation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groundwater bo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9000" y="1447920"/>
            <a:ext cx="6163560" cy="19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Draft proposal for groundwater bodi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type of the aquif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ub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su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face catchment (without abstrac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&gt; &lt; 30 </a:t>
            </a:r>
            <a:r>
              <a:rPr b="1" lang="hu-HU" sz="20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C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flow regime (downward, upward or intermedi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other aspec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81080" y="457200"/>
            <a:ext cx="5029200" cy="9417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52680" y="3100320"/>
            <a:ext cx="2362320" cy="3757680"/>
            <a:chOff x="3352680" y="3100320"/>
            <a:chExt cx="2362320" cy="3757680"/>
          </a:xfrm>
        </p:grpSpPr>
        <p:sp>
          <p:nvSpPr>
            <p:cNvPr id="186" name=""/>
            <p:cNvSpPr/>
            <p:nvPr/>
          </p:nvSpPr>
          <p:spPr>
            <a:xfrm>
              <a:off x="3352680" y="3100320"/>
              <a:ext cx="2362320" cy="37576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dentific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3786120"/>
              <a:ext cx="2209680" cy="574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fdfd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esignation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5029200"/>
              <a:ext cx="2210040" cy="1676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haracterisation,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Assessment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of actual status,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Preliminary setting of env. objectiv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44956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9200" y="4343400"/>
              <a:ext cx="206280" cy="557280"/>
            </a:xfrm>
            <a:prstGeom prst="downArrow">
              <a:avLst>
                <a:gd name="adj1" fmla="val 50000"/>
                <a:gd name="adj2" fmla="val 6753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38680" y="3124080"/>
            <a:ext cx="2819520" cy="2971800"/>
            <a:chOff x="5638680" y="3124080"/>
            <a:chExt cx="2819520" cy="2971800"/>
          </a:xfrm>
        </p:grpSpPr>
        <p:sp>
          <p:nvSpPr>
            <p:cNvPr id="192" name=""/>
            <p:cNvSpPr/>
            <p:nvPr/>
          </p:nvSpPr>
          <p:spPr>
            <a:xfrm>
              <a:off x="5867280" y="3124080"/>
              <a:ext cx="2590920" cy="297180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969696"/>
                </a:gs>
                <a:gs pos="100000">
                  <a:srgbClr val="3f3f3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References for ecological stat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3809880"/>
              <a:ext cx="2286000" cy="592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Typology 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5334120"/>
              <a:ext cx="2286000" cy="609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2e2e2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Reference areas, indicator parameter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6600" y="457200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419724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00240" y="1378080"/>
            <a:ext cx="4224240" cy="1822320"/>
            <a:chOff x="2100240" y="1378080"/>
            <a:chExt cx="4224240" cy="1822320"/>
          </a:xfrm>
        </p:grpSpPr>
        <p:sp>
          <p:nvSpPr>
            <p:cNvPr id="198" name=""/>
            <p:cNvSpPr/>
            <p:nvPr/>
          </p:nvSpPr>
          <p:spPr>
            <a:xfrm>
              <a:off x="2666880" y="1378080"/>
              <a:ext cx="3657600" cy="1593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99ffcc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Data bases and process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71800" y="1758960"/>
              <a:ext cx="2971800" cy="48888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fo on the actual status of water bod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800" y="2368440"/>
              <a:ext cx="2971800" cy="5270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fo on the human activiti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3400" y="2819520"/>
              <a:ext cx="274680" cy="380880"/>
            </a:xfrm>
            <a:prstGeom prst="downArrow">
              <a:avLst>
                <a:gd name="adj1" fmla="val 50000"/>
                <a:gd name="adj2" fmla="val 3466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7600">
              <a:off x="5862600" y="2666880"/>
              <a:ext cx="380880" cy="273240"/>
            </a:xfrm>
            <a:prstGeom prst="rightArrow">
              <a:avLst>
                <a:gd name="adj1" fmla="val 50000"/>
                <a:gd name="adj2" fmla="val 3484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358000">
              <a:off x="2133360" y="2742840"/>
              <a:ext cx="460080" cy="272880"/>
            </a:xfrm>
            <a:prstGeom prst="rightArrow">
              <a:avLst>
                <a:gd name="adj1" fmla="val 50000"/>
                <a:gd name="adj2" fmla="val 4215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3124080"/>
            <a:ext cx="2667240" cy="2989440"/>
            <a:chOff x="838080" y="3124080"/>
            <a:chExt cx="2667240" cy="2989440"/>
          </a:xfrm>
        </p:grpSpPr>
        <p:sp>
          <p:nvSpPr>
            <p:cNvPr id="205" name=""/>
            <p:cNvSpPr/>
            <p:nvPr/>
          </p:nvSpPr>
          <p:spPr>
            <a:xfrm>
              <a:off x="838080" y="3124080"/>
              <a:ext cx="2421000" cy="2989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b8fec7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220011"/>
                  </a:solidFill>
                  <a:latin typeface="Arial"/>
                </a:rPr>
                <a:t>Collection of  informa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6680" y="3809880"/>
              <a:ext cx="2041560" cy="6098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Survey and first surveillanc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6680" y="4724280"/>
              <a:ext cx="2041560" cy="6066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5486400"/>
              <a:ext cx="2041560" cy="52704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cc"/>
                  </a:solidFill>
                  <a:latin typeface="Arial"/>
                </a:rPr>
                <a:t>Additional data on human activit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5640" y="4197240"/>
              <a:ext cx="409680" cy="274680"/>
            </a:xfrm>
            <a:prstGeom prst="leftArrow">
              <a:avLst>
                <a:gd name="adj1" fmla="val 50000"/>
                <a:gd name="adj2" fmla="val 37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4419720"/>
              <a:ext cx="119160" cy="230040"/>
            </a:xfrm>
            <a:prstGeom prst="downArrow">
              <a:avLst>
                <a:gd name="adj1" fmla="val 50000"/>
                <a:gd name="adj2" fmla="val 4826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2480" y="152280"/>
            <a:ext cx="5562720" cy="1207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vailable inform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nd informatic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00200"/>
            <a:ext cx="7619760" cy="22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formation for characterisation is availab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xcep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ydromorphology of small water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biological parame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micropollu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657600"/>
            <a:ext cx="8076960" cy="11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sures and imp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ventory of pollution sources exists, but not compl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source protection - assessment of pollution sourc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52480" y="380880"/>
            <a:ext cx="556272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Source protec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assessment of pollution 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05120" y="1981080"/>
            <a:ext cx="5333760" cy="3426120"/>
            <a:chOff x="1905120" y="1981080"/>
            <a:chExt cx="5333760" cy="3426120"/>
          </a:xfrm>
        </p:grpSpPr>
        <p:pic>
          <p:nvPicPr>
            <p:cNvPr id="216" name="vedter" descr=""/>
            <p:cNvPicPr/>
            <p:nvPr/>
          </p:nvPicPr>
          <p:blipFill>
            <a:blip r:embed="rId2"/>
            <a:stretch/>
          </p:blipFill>
          <p:spPr>
            <a:xfrm>
              <a:off x="1905120" y="1981080"/>
              <a:ext cx="5333760" cy="3426120"/>
            </a:xfrm>
            <a:prstGeom prst="rect">
              <a:avLst/>
            </a:prstGeom>
            <a:ln w="9360">
              <a:solidFill>
                <a:srgbClr val="99ffcc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</p:pic>
        <p:sp>
          <p:nvSpPr>
            <p:cNvPr id="217" name=""/>
            <p:cNvSpPr/>
            <p:nvPr/>
          </p:nvSpPr>
          <p:spPr>
            <a:xfrm>
              <a:off x="5011560" y="4596120"/>
              <a:ext cx="2168280" cy="36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220011"/>
                  </a:solidFill>
                  <a:latin typeface="Arial"/>
                </a:rPr>
                <a:t>source for future exploi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220011"/>
                  </a:solidFill>
                  <a:latin typeface="Arial"/>
                </a:rPr>
                <a:t>source in oper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988640" y="1219320"/>
            <a:ext cx="5366880" cy="97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Drinking water supply 95 % from groundwa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tected areas:  8 % of the country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97120" y="5562720"/>
            <a:ext cx="7648200" cy="97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Until now appr. 1500  potential pollution sources have been assesse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at 230 vulnerable well fie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lanned until 2010 appr. 3000 pollution sources at 700 well field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1600200"/>
            <a:ext cx="7619760" cy="22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formation for characterisation is availab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xcep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ydromorphology of small water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biological parame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micropollu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657600"/>
            <a:ext cx="8153640" cy="11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sures and impa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inventory of pollution sources exists, but not compl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source protection - assessment of pollution 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3160" y="5181480"/>
            <a:ext cx="68191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Feasibility study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on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 GIS based information syst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52280"/>
            <a:ext cx="5562720" cy="1207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vailable inform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nd informatic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6:33Z</dcterms:modified>
  <cp:revision>84</cp:revision>
  <dc:subject/>
  <dc:title>General</dc:title>
</cp:coreProperties>
</file>