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589F-6EE0-4B2E-BC73-503CEB55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D49A-0552-452D-8B01-62C7D150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AAC3-DF50-4858-BD91-279C2C57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7F46-13C3-4392-9C44-E5D7799A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B087-00E6-44EA-A1FA-CE348F2B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20D1-478D-45F9-893D-DFA9FD9A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8226-B204-4A1E-997B-CF65C9E9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9150-9C10-42FB-B07D-A4597A5D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E6CD-CBA0-4002-B779-D9A8B277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7AC4-97FD-4EF1-A48F-07E451D9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5572-5FA6-4D7B-A9E1-83E79552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B97B-1375-440C-BC80-F2706F27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1CBA-5502-4259-9112-211AF970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A15A-EE76-41C6-AEDF-A3CB1497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6296-E648-43FE-B2C6-15160649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F8A0-FAA9-4063-9C19-1B7DFED6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58F0-FC25-47A5-BB8C-3CE1AEC0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C1A5-5086-4ED5-B6B6-7E53C856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58ED-8BA3-480B-AE34-2586A23E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465C-090B-40DC-8DBB-31BF4BFE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D1CC-B99F-4495-9C82-232F7759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288C-4434-4705-862E-50669697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60EE-8928-4A69-B516-DCF83622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5779-AE3F-4BB4-AE40-B919E7DE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94CB-175F-406F-99E0-2D72A826F4C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5369-3F52-46FD-8381-E56556D0C5A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fbf3f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igmap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5029200" cy="2811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66680" y="228600"/>
            <a:ext cx="6858000" cy="14479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MPLEMENTATION OF THE</a:t>
            </a:r>
            <a:br>
              <a:rPr sz="3200"/>
            </a:br>
            <a:r>
              <a:rPr b="0" lang="hu-HU" sz="3200" spc="-1" strike="noStrike">
                <a:solidFill>
                  <a:srgbClr val="ffff99"/>
                </a:solidFill>
                <a:latin typeface="Arial"/>
              </a:rPr>
              <a:t>WATER FRAMEWORK DIRECTIVE  IN  H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UNGAR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5181480"/>
            <a:ext cx="3962520" cy="114948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ffcc"/>
                </a:solidFill>
                <a:latin typeface="Times New Roman"/>
              </a:rPr>
              <a:t>Eszter  HAVAS-SZILÁGYI</a:t>
            </a: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Ministry of Transpor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and Water Manage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181480"/>
            <a:ext cx="4114800" cy="11365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László BALÁSHÁZ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Ministry for Environ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allwater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5410080" cy="3827520"/>
          </a:xfrm>
          <a:prstGeom prst="rect">
            <a:avLst/>
          </a:prstGeom>
          <a:ln w="9360">
            <a:solidFill>
              <a:srgbClr val="99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</p:pic>
      <p:sp>
        <p:nvSpPr>
          <p:cNvPr id="225" name=""/>
          <p:cNvSpPr/>
          <p:nvPr/>
        </p:nvSpPr>
        <p:spPr>
          <a:xfrm>
            <a:off x="1414440" y="1496880"/>
            <a:ext cx="6499080" cy="66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Existing monitoring network is sufficient for quantity, bu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comprehensive</a:t>
            </a: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 development is needed for qualit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15000" y="2895480"/>
            <a:ext cx="3429000" cy="249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Surface water quality monitoring: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at the border and  in larg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and medium rivers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not detailed enough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in small water courses and lake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52480" y="380880"/>
            <a:ext cx="5562720" cy="9079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Monitoring networ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6680" y="228600"/>
            <a:ext cx="7010640" cy="94176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99"/>
                </a:solidFill>
                <a:latin typeface="Arial"/>
              </a:rPr>
              <a:t>WATER BODIES AND MONITORING</a:t>
            </a:r>
            <a:r>
              <a:rPr b="1" lang="hu-H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352680" y="3100320"/>
            <a:ext cx="2362320" cy="3757680"/>
            <a:chOff x="3352680" y="3100320"/>
            <a:chExt cx="2362320" cy="3757680"/>
          </a:xfrm>
        </p:grpSpPr>
        <p:sp>
          <p:nvSpPr>
            <p:cNvPr id="105" name=""/>
            <p:cNvSpPr/>
            <p:nvPr/>
          </p:nvSpPr>
          <p:spPr>
            <a:xfrm>
              <a:off x="3352680" y="3100320"/>
              <a:ext cx="2362320" cy="3757680"/>
            </a:xfrm>
            <a:prstGeom prst="rect">
              <a:avLst/>
            </a:prstGeom>
            <a:gradFill rotWithShape="0">
              <a:gsLst>
                <a:gs pos="0">
                  <a:srgbClr val="515151"/>
                </a:gs>
                <a:gs pos="50000">
                  <a:srgbClr val="969696"/>
                </a:gs>
                <a:gs pos="100000">
                  <a:srgbClr val="515151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Identification of water bodi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29000" y="3786120"/>
              <a:ext cx="2209680" cy="5749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cecec"/>
                </a:gs>
                <a:gs pos="100000">
                  <a:srgbClr val="c0c0c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220011"/>
                  </a:solidFill>
                  <a:latin typeface="Arial"/>
                </a:rPr>
                <a:t>Designation of water bodi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9000" y="5181480"/>
              <a:ext cx="2209680" cy="16765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cecec"/>
                </a:gs>
                <a:gs pos="100000">
                  <a:srgbClr val="c0c0c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220011"/>
                  </a:solidFill>
                  <a:latin typeface="Arial"/>
                </a:rPr>
                <a:t>Characterisation,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220011"/>
                  </a:solidFill>
                  <a:latin typeface="Arial"/>
                </a:rPr>
                <a:t>Assessment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220011"/>
                  </a:solidFill>
                  <a:latin typeface="Arial"/>
                </a:rPr>
                <a:t>of actual status,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220011"/>
                  </a:solidFill>
                  <a:latin typeface="Arial"/>
                </a:rPr>
                <a:t>Preliminary setting of env. objectiv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91120" y="4495680"/>
              <a:ext cx="228600" cy="609840"/>
            </a:xfrm>
            <a:prstGeom prst="upArrow">
              <a:avLst>
                <a:gd name="adj1" fmla="val 50000"/>
                <a:gd name="adj2" fmla="val 66693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48320" y="4419720"/>
              <a:ext cx="206280" cy="556920"/>
            </a:xfrm>
            <a:prstGeom prst="downArrow">
              <a:avLst>
                <a:gd name="adj1" fmla="val 50000"/>
                <a:gd name="adj2" fmla="val 67496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638680" y="3124080"/>
            <a:ext cx="2819520" cy="2971800"/>
            <a:chOff x="5638680" y="3124080"/>
            <a:chExt cx="2819520" cy="2971800"/>
          </a:xfrm>
        </p:grpSpPr>
        <p:sp>
          <p:nvSpPr>
            <p:cNvPr id="111" name=""/>
            <p:cNvSpPr/>
            <p:nvPr/>
          </p:nvSpPr>
          <p:spPr>
            <a:xfrm>
              <a:off x="5867280" y="3124080"/>
              <a:ext cx="2590920" cy="29718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References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for ecological statu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19920" y="3809880"/>
              <a:ext cx="2286000" cy="5922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3e3e3"/>
                </a:gs>
                <a:gs pos="100000">
                  <a:srgbClr val="c0c0c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220011"/>
                  </a:solidFill>
                  <a:latin typeface="Arial"/>
                </a:rPr>
                <a:t>Typology  of water bodi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19920" y="5334120"/>
              <a:ext cx="2286000" cy="6094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7e7e7"/>
                </a:gs>
                <a:gs pos="100000">
                  <a:srgbClr val="c0c0c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220011"/>
                  </a:solidFill>
                  <a:latin typeface="Arial"/>
                </a:rPr>
                <a:t>Reference areas, indicator parameter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86600" y="4572000"/>
              <a:ext cx="152280" cy="533520"/>
            </a:xfrm>
            <a:prstGeom prst="downArrow">
              <a:avLst>
                <a:gd name="adj1" fmla="val 50000"/>
                <a:gd name="adj2" fmla="val 87589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38680" y="4197240"/>
              <a:ext cx="381240" cy="304920"/>
            </a:xfrm>
            <a:prstGeom prst="leftArrow">
              <a:avLst>
                <a:gd name="adj1" fmla="val 50000"/>
                <a:gd name="adj2" fmla="val 3125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100240" y="1378080"/>
            <a:ext cx="4224240" cy="1822320"/>
            <a:chOff x="2100240" y="1378080"/>
            <a:chExt cx="4224240" cy="1822320"/>
          </a:xfrm>
        </p:grpSpPr>
        <p:sp>
          <p:nvSpPr>
            <p:cNvPr id="117" name=""/>
            <p:cNvSpPr/>
            <p:nvPr/>
          </p:nvSpPr>
          <p:spPr>
            <a:xfrm>
              <a:off x="2666880" y="1378080"/>
              <a:ext cx="3657600" cy="1593720"/>
            </a:xfrm>
            <a:prstGeom prst="rect">
              <a:avLst/>
            </a:prstGeom>
            <a:gradFill rotWithShape="0">
              <a:gsLst>
                <a:gs pos="0">
                  <a:srgbClr val="3f3f3f"/>
                </a:gs>
                <a:gs pos="50000">
                  <a:srgbClr val="969696"/>
                </a:gs>
                <a:gs pos="100000">
                  <a:srgbClr val="3f3f3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Data bases and processing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71800" y="1758960"/>
              <a:ext cx="2971800" cy="4888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Info on the actual status of water bodi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2368440"/>
              <a:ext cx="2971800" cy="527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Info on the human activiti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43400" y="2819520"/>
              <a:ext cx="274680" cy="380880"/>
            </a:xfrm>
            <a:prstGeom prst="downArrow">
              <a:avLst>
                <a:gd name="adj1" fmla="val 50000"/>
                <a:gd name="adj2" fmla="val 34666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257600">
              <a:off x="5862600" y="2666880"/>
              <a:ext cx="380880" cy="273240"/>
            </a:xfrm>
            <a:prstGeom prst="rightArrow">
              <a:avLst>
                <a:gd name="adj1" fmla="val 50000"/>
                <a:gd name="adj2" fmla="val 34848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0358000">
              <a:off x="2133360" y="2742840"/>
              <a:ext cx="460080" cy="272880"/>
            </a:xfrm>
            <a:prstGeom prst="rightArrow">
              <a:avLst>
                <a:gd name="adj1" fmla="val 50000"/>
                <a:gd name="adj2" fmla="val 4215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838080" y="3124080"/>
            <a:ext cx="2667240" cy="2989440"/>
            <a:chOff x="838080" y="3124080"/>
            <a:chExt cx="2667240" cy="2989440"/>
          </a:xfrm>
        </p:grpSpPr>
        <p:sp>
          <p:nvSpPr>
            <p:cNvPr id="124" name=""/>
            <p:cNvSpPr/>
            <p:nvPr/>
          </p:nvSpPr>
          <p:spPr>
            <a:xfrm>
              <a:off x="838080" y="3124080"/>
              <a:ext cx="2421000" cy="2989440"/>
            </a:xfrm>
            <a:prstGeom prst="rect">
              <a:avLst/>
            </a:prstGeom>
            <a:gradFill rotWithShape="0">
              <a:gsLst>
                <a:gs pos="0">
                  <a:srgbClr val="515151"/>
                </a:gs>
                <a:gs pos="50000">
                  <a:srgbClr val="969696"/>
                </a:gs>
                <a:gs pos="100000">
                  <a:srgbClr val="515151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Collection of  informati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66680" y="3792600"/>
              <a:ext cx="2041560" cy="6094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fdfdf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Survey and first surveillanc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66680" y="4724280"/>
              <a:ext cx="2041560" cy="6066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fdfdf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Investigative monitoring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66680" y="5486400"/>
              <a:ext cx="2041560" cy="527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Additional data on human activit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95640" y="4197240"/>
              <a:ext cx="409680" cy="274680"/>
            </a:xfrm>
            <a:prstGeom prst="leftArrow">
              <a:avLst>
                <a:gd name="adj1" fmla="val 50000"/>
                <a:gd name="adj2" fmla="val 3728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81080" y="4419720"/>
              <a:ext cx="119160" cy="230040"/>
            </a:xfrm>
            <a:prstGeom prst="downArrow">
              <a:avLst>
                <a:gd name="adj1" fmla="val 50000"/>
                <a:gd name="adj2" fmla="val 48263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66680" y="228600"/>
            <a:ext cx="7010640" cy="13075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99"/>
                </a:solidFill>
                <a:latin typeface="Arial"/>
              </a:rPr>
              <a:t>IDENTIFICATION AND CHARACTERISATIO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99"/>
                </a:solidFill>
                <a:latin typeface="Arial"/>
              </a:rPr>
              <a:t>OF THE WATER BODIES</a:t>
            </a:r>
            <a:r>
              <a:rPr b="1" lang="hu-H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352680" y="3100320"/>
            <a:ext cx="2362320" cy="3757680"/>
            <a:chOff x="3352680" y="3100320"/>
            <a:chExt cx="2362320" cy="3757680"/>
          </a:xfrm>
        </p:grpSpPr>
        <p:sp>
          <p:nvSpPr>
            <p:cNvPr id="132" name=""/>
            <p:cNvSpPr/>
            <p:nvPr/>
          </p:nvSpPr>
          <p:spPr>
            <a:xfrm>
              <a:off x="3352680" y="3100320"/>
              <a:ext cx="2362320" cy="37576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b8fec7"/>
                </a:gs>
                <a:gs pos="100000">
                  <a:srgbClr val="00cc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220011"/>
                  </a:solidFill>
                  <a:latin typeface="Arial"/>
                </a:rPr>
                <a:t>Identification of water bodi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29000" y="3786120"/>
              <a:ext cx="2209680" cy="57492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Designation of water bodi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29000" y="5181480"/>
              <a:ext cx="2209680" cy="167652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Characterisation,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Assessment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of actual status,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Preliminary setting of env. objectiv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91120" y="4495680"/>
              <a:ext cx="228600" cy="609840"/>
            </a:xfrm>
            <a:prstGeom prst="upArrow">
              <a:avLst>
                <a:gd name="adj1" fmla="val 50000"/>
                <a:gd name="adj2" fmla="val 66693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48320" y="4419720"/>
              <a:ext cx="206280" cy="556920"/>
            </a:xfrm>
            <a:prstGeom prst="downArrow">
              <a:avLst>
                <a:gd name="adj1" fmla="val 50000"/>
                <a:gd name="adj2" fmla="val 67496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638680" y="3124080"/>
            <a:ext cx="2819520" cy="2971800"/>
            <a:chOff x="5638680" y="3124080"/>
            <a:chExt cx="2819520" cy="2971800"/>
          </a:xfrm>
        </p:grpSpPr>
        <p:sp>
          <p:nvSpPr>
            <p:cNvPr id="138" name=""/>
            <p:cNvSpPr/>
            <p:nvPr/>
          </p:nvSpPr>
          <p:spPr>
            <a:xfrm>
              <a:off x="5867280" y="3124080"/>
              <a:ext cx="2590920" cy="29718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b8fec7"/>
                </a:gs>
                <a:gs pos="100000">
                  <a:srgbClr val="00cc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References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for ecological statu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19920" y="3809880"/>
              <a:ext cx="2286000" cy="59220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Typology  of water bodi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19920" y="5334120"/>
              <a:ext cx="2286000" cy="60948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Reference areas, indicator parameter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86600" y="4572000"/>
              <a:ext cx="152280" cy="533520"/>
            </a:xfrm>
            <a:prstGeom prst="downArrow">
              <a:avLst>
                <a:gd name="adj1" fmla="val 50000"/>
                <a:gd name="adj2" fmla="val 87589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38680" y="4197240"/>
              <a:ext cx="381240" cy="304920"/>
            </a:xfrm>
            <a:prstGeom prst="leftArrow">
              <a:avLst>
                <a:gd name="adj1" fmla="val 50000"/>
                <a:gd name="adj2" fmla="val 3125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100240" y="1378080"/>
            <a:ext cx="4224240" cy="1822320"/>
            <a:chOff x="2100240" y="1378080"/>
            <a:chExt cx="4224240" cy="1822320"/>
          </a:xfrm>
        </p:grpSpPr>
        <p:sp>
          <p:nvSpPr>
            <p:cNvPr id="144" name=""/>
            <p:cNvSpPr/>
            <p:nvPr/>
          </p:nvSpPr>
          <p:spPr>
            <a:xfrm>
              <a:off x="2666880" y="1378080"/>
              <a:ext cx="3657600" cy="1593720"/>
            </a:xfrm>
            <a:prstGeom prst="rect">
              <a:avLst/>
            </a:prstGeom>
            <a:gradFill rotWithShape="0">
              <a:gsLst>
                <a:gs pos="0">
                  <a:srgbClr val="3f3f3f"/>
                </a:gs>
                <a:gs pos="50000">
                  <a:srgbClr val="969696"/>
                </a:gs>
                <a:gs pos="100000">
                  <a:srgbClr val="3f3f3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Data bases and processing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1800" y="1758960"/>
              <a:ext cx="2971800" cy="4888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Info on the actual status of water bodi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368440"/>
              <a:ext cx="2971800" cy="527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Info on the human activiti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43400" y="2819520"/>
              <a:ext cx="274680" cy="380880"/>
            </a:xfrm>
            <a:prstGeom prst="downArrow">
              <a:avLst>
                <a:gd name="adj1" fmla="val 50000"/>
                <a:gd name="adj2" fmla="val 34666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257600">
              <a:off x="5862600" y="2666880"/>
              <a:ext cx="380880" cy="273240"/>
            </a:xfrm>
            <a:prstGeom prst="rightArrow">
              <a:avLst>
                <a:gd name="adj1" fmla="val 50000"/>
                <a:gd name="adj2" fmla="val 34848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0358000">
              <a:off x="2133360" y="2742840"/>
              <a:ext cx="460080" cy="272880"/>
            </a:xfrm>
            <a:prstGeom prst="rightArrow">
              <a:avLst>
                <a:gd name="adj1" fmla="val 50000"/>
                <a:gd name="adj2" fmla="val 4215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838080" y="3124080"/>
            <a:ext cx="2667240" cy="2989440"/>
            <a:chOff x="838080" y="3124080"/>
            <a:chExt cx="2667240" cy="2989440"/>
          </a:xfrm>
        </p:grpSpPr>
        <p:sp>
          <p:nvSpPr>
            <p:cNvPr id="151" name=""/>
            <p:cNvSpPr/>
            <p:nvPr/>
          </p:nvSpPr>
          <p:spPr>
            <a:xfrm>
              <a:off x="838080" y="3124080"/>
              <a:ext cx="2421000" cy="2989440"/>
            </a:xfrm>
            <a:prstGeom prst="rect">
              <a:avLst/>
            </a:prstGeom>
            <a:gradFill rotWithShape="0">
              <a:gsLst>
                <a:gs pos="0">
                  <a:srgbClr val="515151"/>
                </a:gs>
                <a:gs pos="50000">
                  <a:srgbClr val="969696"/>
                </a:gs>
                <a:gs pos="100000">
                  <a:srgbClr val="515151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Collection of  informati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66680" y="3792600"/>
              <a:ext cx="2041560" cy="6094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fdfdf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Survey and first surveillanc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66680" y="4724280"/>
              <a:ext cx="2041560" cy="6066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fdfdf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Investigative monitoring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5486400"/>
              <a:ext cx="2041560" cy="527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Additional data on human activit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95640" y="4197240"/>
              <a:ext cx="409680" cy="274680"/>
            </a:xfrm>
            <a:prstGeom prst="leftArrow">
              <a:avLst>
                <a:gd name="adj1" fmla="val 50000"/>
                <a:gd name="adj2" fmla="val 3728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81080" y="4419720"/>
              <a:ext cx="119160" cy="230040"/>
            </a:xfrm>
            <a:prstGeom prst="downArrow">
              <a:avLst>
                <a:gd name="adj1" fmla="val 50000"/>
                <a:gd name="adj2" fmla="val 48263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90720" y="228600"/>
            <a:ext cx="7543800" cy="12427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Ty</a:t>
            </a:r>
            <a:r>
              <a:rPr b="1" lang="hu-HU" sz="2400" spc="-1" strike="noStrike">
                <a:solidFill>
                  <a:srgbClr val="ffff99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ology</a:t>
            </a:r>
            <a:r>
              <a:rPr b="1" lang="hu-HU" sz="24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99"/>
                </a:solidFill>
                <a:latin typeface="Arial"/>
              </a:rPr>
              <a:t>preliminary designation of surface water bo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360" y="1447920"/>
            <a:ext cx="4536360" cy="19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Draft proposal for water cours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altitud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geologic charac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size of the catchment are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travel</a:t>
            </a: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  time from origin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small flow/average flo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447920" y="1066680"/>
          <a:ext cx="7162560" cy="544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066680"/>
                    <a:ext cx="7162560" cy="54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200400" y="1981080"/>
            <a:ext cx="3525840" cy="4289400"/>
          </a:xfrm>
          <a:custGeom>
            <a:avLst/>
            <a:gdLst/>
            <a:ahLst/>
            <a:rect l="l" t="t" r="r" b="b"/>
            <a:pathLst>
              <a:path w="4464" h="5184">
                <a:moveTo>
                  <a:pt x="1008" y="2880"/>
                </a:moveTo>
                <a:lnTo>
                  <a:pt x="1152" y="3024"/>
                </a:lnTo>
                <a:lnTo>
                  <a:pt x="1296" y="3024"/>
                </a:lnTo>
                <a:lnTo>
                  <a:pt x="1296" y="3168"/>
                </a:lnTo>
                <a:lnTo>
                  <a:pt x="1296" y="3312"/>
                </a:lnTo>
                <a:lnTo>
                  <a:pt x="1296" y="3456"/>
                </a:lnTo>
                <a:lnTo>
                  <a:pt x="1584" y="3600"/>
                </a:lnTo>
                <a:lnTo>
                  <a:pt x="1872" y="3744"/>
                </a:lnTo>
                <a:lnTo>
                  <a:pt x="2016" y="3888"/>
                </a:lnTo>
                <a:lnTo>
                  <a:pt x="2304" y="3744"/>
                </a:lnTo>
                <a:lnTo>
                  <a:pt x="2304" y="3600"/>
                </a:lnTo>
                <a:lnTo>
                  <a:pt x="2304" y="3312"/>
                </a:lnTo>
                <a:lnTo>
                  <a:pt x="2448" y="3024"/>
                </a:lnTo>
                <a:lnTo>
                  <a:pt x="2736" y="2736"/>
                </a:lnTo>
                <a:lnTo>
                  <a:pt x="3168" y="2592"/>
                </a:lnTo>
                <a:lnTo>
                  <a:pt x="3456" y="2592"/>
                </a:lnTo>
                <a:lnTo>
                  <a:pt x="3744" y="2736"/>
                </a:lnTo>
                <a:lnTo>
                  <a:pt x="3744" y="2592"/>
                </a:lnTo>
                <a:lnTo>
                  <a:pt x="3600" y="2304"/>
                </a:lnTo>
                <a:lnTo>
                  <a:pt x="3456" y="2160"/>
                </a:lnTo>
                <a:lnTo>
                  <a:pt x="3312" y="1872"/>
                </a:lnTo>
                <a:lnTo>
                  <a:pt x="3024" y="1584"/>
                </a:lnTo>
                <a:lnTo>
                  <a:pt x="2880" y="1152"/>
                </a:lnTo>
                <a:lnTo>
                  <a:pt x="2736" y="864"/>
                </a:lnTo>
                <a:lnTo>
                  <a:pt x="2880" y="720"/>
                </a:lnTo>
                <a:lnTo>
                  <a:pt x="3024" y="432"/>
                </a:lnTo>
                <a:lnTo>
                  <a:pt x="2880" y="288"/>
                </a:lnTo>
                <a:lnTo>
                  <a:pt x="2880" y="0"/>
                </a:lnTo>
                <a:lnTo>
                  <a:pt x="3456" y="432"/>
                </a:lnTo>
                <a:lnTo>
                  <a:pt x="3456" y="864"/>
                </a:lnTo>
                <a:lnTo>
                  <a:pt x="3888" y="1008"/>
                </a:lnTo>
                <a:lnTo>
                  <a:pt x="4032" y="2016"/>
                </a:lnTo>
                <a:lnTo>
                  <a:pt x="4176" y="2016"/>
                </a:lnTo>
                <a:lnTo>
                  <a:pt x="4464" y="3024"/>
                </a:lnTo>
                <a:lnTo>
                  <a:pt x="4032" y="3168"/>
                </a:lnTo>
                <a:lnTo>
                  <a:pt x="3600" y="3600"/>
                </a:lnTo>
                <a:lnTo>
                  <a:pt x="3888" y="3888"/>
                </a:lnTo>
                <a:lnTo>
                  <a:pt x="2880" y="4752"/>
                </a:lnTo>
                <a:lnTo>
                  <a:pt x="2304" y="4752"/>
                </a:lnTo>
                <a:lnTo>
                  <a:pt x="2016" y="5184"/>
                </a:lnTo>
                <a:lnTo>
                  <a:pt x="1728" y="5184"/>
                </a:lnTo>
                <a:lnTo>
                  <a:pt x="1440" y="5040"/>
                </a:lnTo>
                <a:lnTo>
                  <a:pt x="1296" y="4752"/>
                </a:lnTo>
                <a:lnTo>
                  <a:pt x="864" y="4896"/>
                </a:lnTo>
                <a:lnTo>
                  <a:pt x="0" y="4176"/>
                </a:lnTo>
                <a:lnTo>
                  <a:pt x="288" y="3744"/>
                </a:lnTo>
                <a:lnTo>
                  <a:pt x="720" y="3456"/>
                </a:lnTo>
                <a:lnTo>
                  <a:pt x="576" y="3312"/>
                </a:lnTo>
                <a:lnTo>
                  <a:pt x="720" y="3168"/>
                </a:lnTo>
                <a:lnTo>
                  <a:pt x="1008" y="2880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2971800"/>
            <a:ext cx="868320" cy="1380960"/>
          </a:xfrm>
          <a:custGeom>
            <a:avLst/>
            <a:gdLst/>
            <a:ahLst/>
            <a:rect l="l" t="t" r="r" b="b"/>
            <a:pathLst>
              <a:path w="1100" h="1670">
                <a:moveTo>
                  <a:pt x="0" y="1670"/>
                </a:moveTo>
                <a:cubicBezTo>
                  <a:pt x="48" y="1638"/>
                  <a:pt x="19" y="1654"/>
                  <a:pt x="90" y="1630"/>
                </a:cubicBezTo>
                <a:cubicBezTo>
                  <a:pt x="113" y="1622"/>
                  <a:pt x="130" y="1603"/>
                  <a:pt x="150" y="1590"/>
                </a:cubicBezTo>
                <a:cubicBezTo>
                  <a:pt x="160" y="1583"/>
                  <a:pt x="180" y="1570"/>
                  <a:pt x="180" y="1570"/>
                </a:cubicBezTo>
                <a:cubicBezTo>
                  <a:pt x="187" y="1560"/>
                  <a:pt x="191" y="1548"/>
                  <a:pt x="200" y="1540"/>
                </a:cubicBezTo>
                <a:cubicBezTo>
                  <a:pt x="218" y="1524"/>
                  <a:pt x="260" y="1500"/>
                  <a:pt x="260" y="1500"/>
                </a:cubicBezTo>
                <a:cubicBezTo>
                  <a:pt x="297" y="1445"/>
                  <a:pt x="259" y="1488"/>
                  <a:pt x="310" y="1460"/>
                </a:cubicBezTo>
                <a:cubicBezTo>
                  <a:pt x="331" y="1448"/>
                  <a:pt x="370" y="1420"/>
                  <a:pt x="370" y="1420"/>
                </a:cubicBezTo>
                <a:cubicBezTo>
                  <a:pt x="377" y="1410"/>
                  <a:pt x="380" y="1397"/>
                  <a:pt x="390" y="1390"/>
                </a:cubicBezTo>
                <a:cubicBezTo>
                  <a:pt x="401" y="1382"/>
                  <a:pt x="417" y="1384"/>
                  <a:pt x="430" y="1380"/>
                </a:cubicBezTo>
                <a:cubicBezTo>
                  <a:pt x="461" y="1371"/>
                  <a:pt x="492" y="1354"/>
                  <a:pt x="520" y="1340"/>
                </a:cubicBezTo>
                <a:cubicBezTo>
                  <a:pt x="540" y="1330"/>
                  <a:pt x="560" y="1321"/>
                  <a:pt x="580" y="1310"/>
                </a:cubicBezTo>
                <a:cubicBezTo>
                  <a:pt x="612" y="1292"/>
                  <a:pt x="636" y="1261"/>
                  <a:pt x="670" y="1250"/>
                </a:cubicBezTo>
                <a:cubicBezTo>
                  <a:pt x="700" y="1240"/>
                  <a:pt x="704" y="1242"/>
                  <a:pt x="730" y="1220"/>
                </a:cubicBezTo>
                <a:cubicBezTo>
                  <a:pt x="807" y="1156"/>
                  <a:pt x="716" y="1220"/>
                  <a:pt x="790" y="1170"/>
                </a:cubicBezTo>
                <a:cubicBezTo>
                  <a:pt x="824" y="1119"/>
                  <a:pt x="841" y="1061"/>
                  <a:pt x="890" y="1020"/>
                </a:cubicBezTo>
                <a:cubicBezTo>
                  <a:pt x="943" y="976"/>
                  <a:pt x="896" y="1020"/>
                  <a:pt x="950" y="990"/>
                </a:cubicBezTo>
                <a:cubicBezTo>
                  <a:pt x="971" y="978"/>
                  <a:pt x="1010" y="950"/>
                  <a:pt x="1010" y="950"/>
                </a:cubicBezTo>
                <a:cubicBezTo>
                  <a:pt x="1017" y="929"/>
                  <a:pt x="1033" y="911"/>
                  <a:pt x="1040" y="890"/>
                </a:cubicBezTo>
                <a:cubicBezTo>
                  <a:pt x="1058" y="835"/>
                  <a:pt x="1060" y="767"/>
                  <a:pt x="1070" y="710"/>
                </a:cubicBezTo>
                <a:cubicBezTo>
                  <a:pt x="1074" y="687"/>
                  <a:pt x="1075" y="663"/>
                  <a:pt x="1080" y="640"/>
                </a:cubicBezTo>
                <a:cubicBezTo>
                  <a:pt x="1085" y="613"/>
                  <a:pt x="1100" y="560"/>
                  <a:pt x="1100" y="560"/>
                </a:cubicBezTo>
                <a:cubicBezTo>
                  <a:pt x="1097" y="510"/>
                  <a:pt x="1097" y="460"/>
                  <a:pt x="1090" y="410"/>
                </a:cubicBezTo>
                <a:cubicBezTo>
                  <a:pt x="1082" y="357"/>
                  <a:pt x="1059" y="333"/>
                  <a:pt x="1030" y="290"/>
                </a:cubicBezTo>
                <a:cubicBezTo>
                  <a:pt x="1024" y="281"/>
                  <a:pt x="974" y="201"/>
                  <a:pt x="970" y="200"/>
                </a:cubicBezTo>
                <a:cubicBezTo>
                  <a:pt x="960" y="197"/>
                  <a:pt x="949" y="195"/>
                  <a:pt x="940" y="190"/>
                </a:cubicBezTo>
                <a:cubicBezTo>
                  <a:pt x="837" y="133"/>
                  <a:pt x="918" y="163"/>
                  <a:pt x="850" y="140"/>
                </a:cubicBezTo>
                <a:cubicBezTo>
                  <a:pt x="777" y="67"/>
                  <a:pt x="688" y="45"/>
                  <a:pt x="590" y="20"/>
                </a:cubicBezTo>
                <a:cubicBezTo>
                  <a:pt x="580" y="13"/>
                  <a:pt x="560" y="0"/>
                  <a:pt x="56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1676520"/>
            <a:ext cx="149040" cy="1000080"/>
          </a:xfrm>
          <a:custGeom>
            <a:avLst/>
            <a:gdLst/>
            <a:ahLst/>
            <a:rect l="l" t="t" r="r" b="b"/>
            <a:pathLst>
              <a:path w="190" h="1210">
                <a:moveTo>
                  <a:pt x="190" y="1210"/>
                </a:moveTo>
                <a:cubicBezTo>
                  <a:pt x="157" y="1160"/>
                  <a:pt x="142" y="1025"/>
                  <a:pt x="130" y="960"/>
                </a:cubicBezTo>
                <a:cubicBezTo>
                  <a:pt x="119" y="898"/>
                  <a:pt x="122" y="916"/>
                  <a:pt x="100" y="850"/>
                </a:cubicBezTo>
                <a:cubicBezTo>
                  <a:pt x="97" y="840"/>
                  <a:pt x="90" y="820"/>
                  <a:pt x="90" y="820"/>
                </a:cubicBezTo>
                <a:cubicBezTo>
                  <a:pt x="83" y="770"/>
                  <a:pt x="76" y="727"/>
                  <a:pt x="60" y="680"/>
                </a:cubicBezTo>
                <a:cubicBezTo>
                  <a:pt x="49" y="539"/>
                  <a:pt x="23" y="408"/>
                  <a:pt x="0" y="270"/>
                </a:cubicBezTo>
                <a:cubicBezTo>
                  <a:pt x="3" y="233"/>
                  <a:pt x="2" y="196"/>
                  <a:pt x="10" y="160"/>
                </a:cubicBezTo>
                <a:cubicBezTo>
                  <a:pt x="13" y="148"/>
                  <a:pt x="25" y="141"/>
                  <a:pt x="30" y="130"/>
                </a:cubicBezTo>
                <a:cubicBezTo>
                  <a:pt x="52" y="81"/>
                  <a:pt x="51" y="39"/>
                  <a:pt x="9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257440" y="3429000"/>
            <a:ext cx="3764160" cy="838080"/>
            <a:chOff x="5257440" y="3429000"/>
            <a:chExt cx="3764160" cy="838080"/>
          </a:xfrm>
        </p:grpSpPr>
        <p:sp>
          <p:nvSpPr>
            <p:cNvPr id="165" name=""/>
            <p:cNvSpPr/>
            <p:nvPr/>
          </p:nvSpPr>
          <p:spPr>
            <a:xfrm flipH="1">
              <a:off x="5257440" y="3809880"/>
              <a:ext cx="1066680" cy="152640"/>
            </a:xfrm>
            <a:prstGeom prst="line">
              <a:avLst/>
            </a:prstGeom>
            <a:ln w="28440">
              <a:solidFill>
                <a:srgbClr val="22001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24480" y="3429000"/>
              <a:ext cx="2697120" cy="8380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Arial"/>
                </a:rPr>
                <a:t>&lt; 200 m, siliceous, &gt; 100 km</a:t>
              </a:r>
              <a:r>
                <a:rPr b="1" lang="hu-HU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Arial"/>
                </a:rPr>
                <a:t>30 days - 1 year, 20 - 50 %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600" spc="-1" strike="noStrike">
                  <a:solidFill>
                    <a:srgbClr val="000000"/>
                  </a:solidFill>
                  <a:latin typeface="Arial"/>
                </a:rPr>
                <a:t>heavily modified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571640" y="5486040"/>
            <a:ext cx="4420080" cy="975240"/>
            <a:chOff x="4571640" y="5486040"/>
            <a:chExt cx="4420080" cy="975240"/>
          </a:xfrm>
        </p:grpSpPr>
        <p:sp>
          <p:nvSpPr>
            <p:cNvPr id="168" name=""/>
            <p:cNvSpPr/>
            <p:nvPr/>
          </p:nvSpPr>
          <p:spPr>
            <a:xfrm>
              <a:off x="6324480" y="5715000"/>
              <a:ext cx="2667240" cy="746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Arial"/>
                </a:rPr>
                <a:t>Group 1.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Arial"/>
                </a:rPr>
                <a:t>&gt; 200 m, siliceous, &lt; 100 km</a:t>
              </a:r>
              <a:r>
                <a:rPr b="1" lang="hu-HU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Arial"/>
                </a:rPr>
                <a:t>&lt; 1 day,  &lt; 20 %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571640" y="5486040"/>
              <a:ext cx="167652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5486400" y="3505320"/>
            <a:ext cx="487440" cy="334800"/>
          </a:xfrm>
          <a:custGeom>
            <a:avLst/>
            <a:gdLst/>
            <a:ahLst/>
            <a:rect l="l" t="t" r="r" b="b"/>
            <a:pathLst>
              <a:path w="617" h="405">
                <a:moveTo>
                  <a:pt x="603" y="403"/>
                </a:moveTo>
                <a:cubicBezTo>
                  <a:pt x="514" y="344"/>
                  <a:pt x="617" y="405"/>
                  <a:pt x="383" y="373"/>
                </a:cubicBezTo>
                <a:cubicBezTo>
                  <a:pt x="371" y="371"/>
                  <a:pt x="364" y="358"/>
                  <a:pt x="353" y="353"/>
                </a:cubicBezTo>
                <a:cubicBezTo>
                  <a:pt x="333" y="343"/>
                  <a:pt x="292" y="337"/>
                  <a:pt x="273" y="333"/>
                </a:cubicBezTo>
                <a:cubicBezTo>
                  <a:pt x="199" y="284"/>
                  <a:pt x="196" y="192"/>
                  <a:pt x="123" y="143"/>
                </a:cubicBezTo>
                <a:cubicBezTo>
                  <a:pt x="116" y="133"/>
                  <a:pt x="111" y="121"/>
                  <a:pt x="103" y="113"/>
                </a:cubicBezTo>
                <a:cubicBezTo>
                  <a:pt x="95" y="105"/>
                  <a:pt x="81" y="102"/>
                  <a:pt x="73" y="93"/>
                </a:cubicBezTo>
                <a:cubicBezTo>
                  <a:pt x="66" y="85"/>
                  <a:pt x="70" y="70"/>
                  <a:pt x="63" y="63"/>
                </a:cubicBezTo>
                <a:cubicBezTo>
                  <a:pt x="0" y="0"/>
                  <a:pt x="3" y="50"/>
                  <a:pt x="3" y="1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419440" y="2209680"/>
            <a:ext cx="3572280" cy="1447920"/>
            <a:chOff x="5419440" y="2209680"/>
            <a:chExt cx="3572280" cy="1447920"/>
          </a:xfrm>
        </p:grpSpPr>
        <p:sp>
          <p:nvSpPr>
            <p:cNvPr id="172" name=""/>
            <p:cNvSpPr/>
            <p:nvPr/>
          </p:nvSpPr>
          <p:spPr>
            <a:xfrm>
              <a:off x="6324480" y="2209680"/>
              <a:ext cx="2667240" cy="6858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Like group 2., bu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600" spc="-1" strike="noStrike">
                  <a:solidFill>
                    <a:srgbClr val="000000"/>
                  </a:solidFill>
                  <a:latin typeface="Arial"/>
                </a:rPr>
                <a:t>critical water qualit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5562720" y="2590920"/>
              <a:ext cx="7617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5419440" y="3195720"/>
              <a:ext cx="685800" cy="4572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0" y="4038480"/>
            <a:ext cx="3409920" cy="225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Draft proposal for lak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altitud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geologic charac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surfac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average dept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residence  tim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water level fluctu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028840" y="4495680"/>
            <a:ext cx="3962880" cy="914400"/>
            <a:chOff x="5028840" y="4495680"/>
            <a:chExt cx="3962880" cy="914400"/>
          </a:xfrm>
        </p:grpSpPr>
        <p:sp>
          <p:nvSpPr>
            <p:cNvPr id="177" name=""/>
            <p:cNvSpPr/>
            <p:nvPr/>
          </p:nvSpPr>
          <p:spPr>
            <a:xfrm>
              <a:off x="6324480" y="4648320"/>
              <a:ext cx="2667240" cy="761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Arial"/>
                </a:rPr>
                <a:t>Group 2.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Arial"/>
                </a:rPr>
                <a:t>&lt; 200 m, siliceous, &lt; 100 km</a:t>
              </a:r>
              <a:r>
                <a:rPr b="1" lang="hu-HU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Arial"/>
                </a:rPr>
                <a:t>&lt; 1 - 3 day,  &lt; 20 %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5028840" y="4495680"/>
              <a:ext cx="1219320" cy="457200"/>
            </a:xfrm>
            <a:prstGeom prst="line">
              <a:avLst/>
            </a:prstGeom>
            <a:ln w="28440">
              <a:solidFill>
                <a:srgbClr val="22001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495680" y="4419720"/>
            <a:ext cx="254160" cy="533160"/>
          </a:xfrm>
          <a:custGeom>
            <a:avLst/>
            <a:gdLst/>
            <a:ahLst/>
            <a:rect l="l" t="t" r="r" b="b"/>
            <a:pathLst>
              <a:path w="160" h="336">
                <a:moveTo>
                  <a:pt x="152" y="0"/>
                </a:moveTo>
                <a:cubicBezTo>
                  <a:pt x="144" y="0"/>
                  <a:pt x="120" y="40"/>
                  <a:pt x="104" y="48"/>
                </a:cubicBezTo>
                <a:cubicBezTo>
                  <a:pt x="88" y="56"/>
                  <a:pt x="64" y="32"/>
                  <a:pt x="56" y="48"/>
                </a:cubicBezTo>
                <a:cubicBezTo>
                  <a:pt x="48" y="64"/>
                  <a:pt x="56" y="120"/>
                  <a:pt x="56" y="144"/>
                </a:cubicBezTo>
                <a:cubicBezTo>
                  <a:pt x="56" y="168"/>
                  <a:pt x="56" y="168"/>
                  <a:pt x="56" y="192"/>
                </a:cubicBezTo>
                <a:cubicBezTo>
                  <a:pt x="56" y="216"/>
                  <a:pt x="64" y="264"/>
                  <a:pt x="56" y="288"/>
                </a:cubicBezTo>
                <a:cubicBezTo>
                  <a:pt x="48" y="312"/>
                  <a:pt x="0" y="336"/>
                  <a:pt x="8" y="336"/>
                </a:cubicBezTo>
                <a:cubicBezTo>
                  <a:pt x="16" y="336"/>
                  <a:pt x="88" y="312"/>
                  <a:pt x="104" y="288"/>
                </a:cubicBezTo>
                <a:cubicBezTo>
                  <a:pt x="120" y="264"/>
                  <a:pt x="96" y="216"/>
                  <a:pt x="104" y="192"/>
                </a:cubicBezTo>
                <a:cubicBezTo>
                  <a:pt x="112" y="168"/>
                  <a:pt x="144" y="168"/>
                  <a:pt x="152" y="144"/>
                </a:cubicBezTo>
                <a:cubicBezTo>
                  <a:pt x="160" y="120"/>
                  <a:pt x="152" y="72"/>
                  <a:pt x="152" y="48"/>
                </a:cubicBezTo>
                <a:cubicBezTo>
                  <a:pt x="152" y="24"/>
                  <a:pt x="160" y="0"/>
                  <a:pt x="152" y="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52880" y="2743200"/>
            <a:ext cx="254160" cy="270000"/>
          </a:xfrm>
          <a:custGeom>
            <a:avLst/>
            <a:gdLst/>
            <a:ahLst/>
            <a:rect l="l" t="t" r="r" b="b"/>
            <a:pathLst>
              <a:path w="160" h="170">
                <a:moveTo>
                  <a:pt x="42" y="9"/>
                </a:moveTo>
                <a:cubicBezTo>
                  <a:pt x="0" y="53"/>
                  <a:pt x="39" y="92"/>
                  <a:pt x="78" y="118"/>
                </a:cubicBezTo>
                <a:cubicBezTo>
                  <a:pt x="95" y="170"/>
                  <a:pt x="111" y="156"/>
                  <a:pt x="160" y="146"/>
                </a:cubicBezTo>
                <a:cubicBezTo>
                  <a:pt x="153" y="104"/>
                  <a:pt x="151" y="71"/>
                  <a:pt x="124" y="37"/>
                </a:cubicBezTo>
                <a:cubicBezTo>
                  <a:pt x="107" y="16"/>
                  <a:pt x="51" y="0"/>
                  <a:pt x="51" y="0"/>
                </a:cubicBezTo>
                <a:cubicBezTo>
                  <a:pt x="18" y="11"/>
                  <a:pt x="15" y="9"/>
                  <a:pt x="42" y="9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geologia" descr=""/>
          <p:cNvPicPr/>
          <p:nvPr/>
        </p:nvPicPr>
        <p:blipFill>
          <a:blip r:embed="rId2"/>
          <a:stretch/>
        </p:blipFill>
        <p:spPr>
          <a:xfrm>
            <a:off x="-4038480" y="0"/>
            <a:ext cx="13411080" cy="98503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90720" y="228600"/>
            <a:ext cx="6933960" cy="7963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99"/>
                </a:solidFill>
                <a:latin typeface="Arial"/>
              </a:rPr>
              <a:t>Preliminary designation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99"/>
                </a:solidFill>
                <a:latin typeface="Arial"/>
              </a:rPr>
              <a:t>groundwater bo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-9000" y="1447920"/>
            <a:ext cx="6163560" cy="19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Draft proposal for groundwater bodi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type of the aquif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ub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su</a:t>
            </a: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rface catchment (without abstraction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&gt; &lt; 30 </a:t>
            </a:r>
            <a:r>
              <a:rPr b="1" lang="hu-HU" sz="2000" spc="-1" strike="noStrike" baseline="30000">
                <a:solidFill>
                  <a:srgbClr val="ffffcc"/>
                </a:solidFill>
                <a:latin typeface="Times New Roman"/>
              </a:rPr>
              <a:t>o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C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flow regime (downward, upward or intermedi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r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other aspec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981080" y="457200"/>
            <a:ext cx="5029200" cy="94176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99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352680" y="3100320"/>
            <a:ext cx="2362320" cy="3757680"/>
            <a:chOff x="3352680" y="3100320"/>
            <a:chExt cx="2362320" cy="3757680"/>
          </a:xfrm>
        </p:grpSpPr>
        <p:sp>
          <p:nvSpPr>
            <p:cNvPr id="186" name=""/>
            <p:cNvSpPr/>
            <p:nvPr/>
          </p:nvSpPr>
          <p:spPr>
            <a:xfrm>
              <a:off x="3352680" y="3100320"/>
              <a:ext cx="2362320" cy="375768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Identification of water bodi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29000" y="3786120"/>
              <a:ext cx="2209680" cy="5749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fdfdf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220011"/>
                  </a:solidFill>
                  <a:latin typeface="Arial"/>
                </a:rPr>
                <a:t>Designation of water bodi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52680" y="5029200"/>
              <a:ext cx="2210040" cy="1676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2e2e2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220011"/>
                  </a:solidFill>
                  <a:latin typeface="Arial"/>
                </a:rPr>
                <a:t>Characterisation,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220011"/>
                  </a:solidFill>
                  <a:latin typeface="Arial"/>
                </a:rPr>
                <a:t>Assessment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220011"/>
                  </a:solidFill>
                  <a:latin typeface="Arial"/>
                </a:rPr>
                <a:t>of actual status,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220011"/>
                  </a:solidFill>
                  <a:latin typeface="Arial"/>
                </a:rPr>
                <a:t>Preliminary setting of env. objectiv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1120" y="4495680"/>
              <a:ext cx="228600" cy="609840"/>
            </a:xfrm>
            <a:prstGeom prst="upArrow">
              <a:avLst>
                <a:gd name="adj1" fmla="val 50000"/>
                <a:gd name="adj2" fmla="val 66693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29200" y="4343400"/>
              <a:ext cx="206280" cy="557280"/>
            </a:xfrm>
            <a:prstGeom prst="downArrow">
              <a:avLst>
                <a:gd name="adj1" fmla="val 50000"/>
                <a:gd name="adj2" fmla="val 67539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638680" y="3124080"/>
            <a:ext cx="2819520" cy="2971800"/>
            <a:chOff x="5638680" y="3124080"/>
            <a:chExt cx="2819520" cy="2971800"/>
          </a:xfrm>
        </p:grpSpPr>
        <p:sp>
          <p:nvSpPr>
            <p:cNvPr id="192" name=""/>
            <p:cNvSpPr/>
            <p:nvPr/>
          </p:nvSpPr>
          <p:spPr>
            <a:xfrm>
              <a:off x="5867280" y="3124080"/>
              <a:ext cx="2590920" cy="2971800"/>
            </a:xfrm>
            <a:prstGeom prst="rect">
              <a:avLst/>
            </a:prstGeom>
            <a:gradFill rotWithShape="0">
              <a:gsLst>
                <a:gs pos="0">
                  <a:srgbClr val="3f3f3f"/>
                </a:gs>
                <a:gs pos="50000">
                  <a:srgbClr val="969696"/>
                </a:gs>
                <a:gs pos="100000">
                  <a:srgbClr val="3f3f3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References for ecological statu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19920" y="3809880"/>
              <a:ext cx="2286000" cy="5922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2e2e2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Typology  of water bodi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19920" y="5334120"/>
              <a:ext cx="2286000" cy="6094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2e2e2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Reference areas, indicator parameter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86600" y="4572000"/>
              <a:ext cx="152280" cy="533520"/>
            </a:xfrm>
            <a:prstGeom prst="downArrow">
              <a:avLst>
                <a:gd name="adj1" fmla="val 50000"/>
                <a:gd name="adj2" fmla="val 87589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38680" y="4197240"/>
              <a:ext cx="381240" cy="304920"/>
            </a:xfrm>
            <a:prstGeom prst="leftArrow">
              <a:avLst>
                <a:gd name="adj1" fmla="val 50000"/>
                <a:gd name="adj2" fmla="val 3125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100240" y="1378080"/>
            <a:ext cx="4224240" cy="1822320"/>
            <a:chOff x="2100240" y="1378080"/>
            <a:chExt cx="4224240" cy="1822320"/>
          </a:xfrm>
        </p:grpSpPr>
        <p:sp>
          <p:nvSpPr>
            <p:cNvPr id="198" name=""/>
            <p:cNvSpPr/>
            <p:nvPr/>
          </p:nvSpPr>
          <p:spPr>
            <a:xfrm>
              <a:off x="2666880" y="1378080"/>
              <a:ext cx="3657600" cy="15937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99ffcc"/>
                </a:gs>
                <a:gs pos="100000">
                  <a:srgbClr val="00cc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220011"/>
                  </a:solidFill>
                  <a:latin typeface="Arial"/>
                </a:rPr>
                <a:t>Data bases and processing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71800" y="1758960"/>
              <a:ext cx="2971800" cy="48888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Info on the actual status of water bodi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71800" y="2368440"/>
              <a:ext cx="2971800" cy="52704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Info on the human activiti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43400" y="2819520"/>
              <a:ext cx="274680" cy="380880"/>
            </a:xfrm>
            <a:prstGeom prst="downArrow">
              <a:avLst>
                <a:gd name="adj1" fmla="val 50000"/>
                <a:gd name="adj2" fmla="val 34666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257600">
              <a:off x="5862600" y="2666880"/>
              <a:ext cx="380880" cy="273240"/>
            </a:xfrm>
            <a:prstGeom prst="rightArrow">
              <a:avLst>
                <a:gd name="adj1" fmla="val 50000"/>
                <a:gd name="adj2" fmla="val 34848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358000">
              <a:off x="2133360" y="2742840"/>
              <a:ext cx="460080" cy="272880"/>
            </a:xfrm>
            <a:prstGeom prst="rightArrow">
              <a:avLst>
                <a:gd name="adj1" fmla="val 50000"/>
                <a:gd name="adj2" fmla="val 4215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838080" y="3124080"/>
            <a:ext cx="2667240" cy="2989440"/>
            <a:chOff x="838080" y="3124080"/>
            <a:chExt cx="2667240" cy="2989440"/>
          </a:xfrm>
        </p:grpSpPr>
        <p:sp>
          <p:nvSpPr>
            <p:cNvPr id="205" name=""/>
            <p:cNvSpPr/>
            <p:nvPr/>
          </p:nvSpPr>
          <p:spPr>
            <a:xfrm>
              <a:off x="838080" y="3124080"/>
              <a:ext cx="2421000" cy="29894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b8fec7"/>
                </a:gs>
                <a:gs pos="100000">
                  <a:srgbClr val="00cc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220011"/>
                  </a:solidFill>
                  <a:latin typeface="Arial"/>
                </a:rPr>
                <a:t>Collection of  informati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66680" y="3809880"/>
              <a:ext cx="2041560" cy="60984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Survey and first surveillanc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66680" y="4724280"/>
              <a:ext cx="2041560" cy="60660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Investigative monitoring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66680" y="5486400"/>
              <a:ext cx="2041560" cy="52704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Additional data on human activit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95640" y="4197240"/>
              <a:ext cx="409680" cy="274680"/>
            </a:xfrm>
            <a:prstGeom prst="leftArrow">
              <a:avLst>
                <a:gd name="adj1" fmla="val 50000"/>
                <a:gd name="adj2" fmla="val 3728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81080" y="4419720"/>
              <a:ext cx="119160" cy="230040"/>
            </a:xfrm>
            <a:prstGeom prst="downArrow">
              <a:avLst>
                <a:gd name="adj1" fmla="val 50000"/>
                <a:gd name="adj2" fmla="val 48263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752480" y="152280"/>
            <a:ext cx="5562720" cy="12078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Available informatio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and informatic issu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1600200"/>
            <a:ext cx="7619760" cy="225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Information for characterisation is available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except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hydromorphology of small water cour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biological parameter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micropolluta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3657600"/>
            <a:ext cx="8076960" cy="115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Pressures and impa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inventory of pollution sources exists, but not comple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source protection - assessment of pollution sourc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752480" y="380880"/>
            <a:ext cx="5562720" cy="82548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99"/>
                </a:solidFill>
                <a:latin typeface="Arial"/>
              </a:rPr>
              <a:t>Source protectio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99"/>
                </a:solidFill>
                <a:latin typeface="Arial"/>
              </a:rPr>
              <a:t>assessment of pollution sour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905120" y="1981080"/>
            <a:ext cx="5333760" cy="3426120"/>
            <a:chOff x="1905120" y="1981080"/>
            <a:chExt cx="5333760" cy="3426120"/>
          </a:xfrm>
        </p:grpSpPr>
        <p:pic>
          <p:nvPicPr>
            <p:cNvPr id="216" name="vedter" descr=""/>
            <p:cNvPicPr/>
            <p:nvPr/>
          </p:nvPicPr>
          <p:blipFill>
            <a:blip r:embed="rId2"/>
            <a:stretch/>
          </p:blipFill>
          <p:spPr>
            <a:xfrm>
              <a:off x="1905120" y="1981080"/>
              <a:ext cx="5333760" cy="3426120"/>
            </a:xfrm>
            <a:prstGeom prst="rect">
              <a:avLst/>
            </a:prstGeom>
            <a:ln w="9360">
              <a:solidFill>
                <a:srgbClr val="99ffcc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</p:pic>
        <p:sp>
          <p:nvSpPr>
            <p:cNvPr id="217" name=""/>
            <p:cNvSpPr/>
            <p:nvPr/>
          </p:nvSpPr>
          <p:spPr>
            <a:xfrm>
              <a:off x="5011560" y="4596120"/>
              <a:ext cx="2168280" cy="3625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220011"/>
                  </a:solidFill>
                  <a:latin typeface="Arial"/>
                </a:rPr>
                <a:t>source for future exploitation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220011"/>
                  </a:solidFill>
                  <a:latin typeface="Arial"/>
                </a:rPr>
                <a:t>source in operation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988640" y="1219320"/>
            <a:ext cx="5366880" cy="97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Drinking water supply 95 % from groundwa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Protected areas:  8 % of the country,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97120" y="5562720"/>
            <a:ext cx="7648200" cy="97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Until now appr. 1500  potential pollution sources have been assesse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at 230 vulnerable well field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Planned until 2010 appr. 3000 pollution sources at 700 well field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62120" y="1600200"/>
            <a:ext cx="7619760" cy="225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Information for characterisation is available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except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hydromorphology of small water cour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biological parameter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micropolluta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3657600"/>
            <a:ext cx="8153640" cy="115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Pressures and impa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inventory of pollution sources exists, but not comple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source protection - assessment of pollution sour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3160" y="5181480"/>
            <a:ext cx="6819120" cy="42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Feasibility study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on</a:t>
            </a: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 GIS based information system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152280"/>
            <a:ext cx="5562720" cy="12078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Available informatio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and informatic issu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17:16:20Z</dcterms:created>
  <dc:creator>Clement</dc:creator>
  <dc:description/>
  <dc:language>en-US</dc:language>
  <cp:lastModifiedBy>UNECE</cp:lastModifiedBy>
  <dcterms:modified xsi:type="dcterms:W3CDTF">2002-02-19T06:26:33Z</dcterms:modified>
  <cp:revision>84</cp:revision>
  <dc:subject/>
  <dc:title>General</dc:title>
</cp:coreProperties>
</file>