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85840" y="55044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Times New Roman"/>
              </a:rPr>
              <a:t>German Guidebook on the Implementation of the EC Water Framework</a:t>
            </a: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000099"/>
                </a:solidFill>
                <a:latin typeface="Times New Roman"/>
              </a:rPr>
              <a:t>Directiv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Harald Irm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mplementation of WF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The WFD cannot be applied directly,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it is a „framework“ directiv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Preparatory work deals with all technical and scientific questions important for different levels: </a:t>
            </a: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european</a:t>
            </a:r>
            <a:br>
              <a:rPr sz="3200"/>
            </a:b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national</a:t>
            </a:r>
            <a:br>
              <a:rPr sz="3200"/>
            </a:b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river basin</a:t>
            </a:r>
            <a:br>
              <a:rPr sz="3200"/>
            </a:b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sub basi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21932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Assistance for the Implementation of the WFD in German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handbook using a loose leaf guidance system for updating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4 Parts: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. Introduction and project management plan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2. Legal implementation *)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3. Guidelines for the technical implementation,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preparatory work and steps towards the RBMP 4. Additional technical paper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*) not part of this presentation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120" y="495000"/>
            <a:ext cx="8839080" cy="76212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Handbook Part 1: Project Management Plan (PMP)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The whole WFD was analyzed and more than 150 tasks addresse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Tasks of different character</a:t>
            </a:r>
            <a:br>
              <a:rPr sz="2800"/>
            </a:br>
            <a:r>
              <a:rPr b="0" lang="de-DE" sz="2000" spc="-1" strike="noStrike">
                <a:solidFill>
                  <a:srgbClr val="000099"/>
                </a:solidFill>
                <a:latin typeface="Times New Roman"/>
              </a:rPr>
              <a:t>a) important on European level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Times New Roman"/>
              </a:rPr>
              <a:t>b) important for Germany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Times New Roman"/>
              </a:rPr>
              <a:t>c) important for the river basin district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Times New Roman"/>
              </a:rPr>
              <a:t>d) important for a sub-basi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The tasks of a) and b) within the first 5 years where addressed to special working group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The PMP will be revised acc. to the steps forwar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34160" cy="95076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Times New Roman"/>
              </a:rPr>
              <a:t>Important tasks/question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significant anthopogenic pressures on surface wate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quantification of diffuse sourc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classification of surface water </a:t>
            </a: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body typ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establishment of reference condition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methods of analysis and evaluation for each of the biological paramete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„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heavily modified water body“ delimitation from „normal“ water bod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34160" cy="95076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Times New Roman"/>
              </a:rPr>
              <a:t>Important tasks/question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interrelations between surface water body and groundwater, water management measures and techniqu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economic analysi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public information and consult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which measure in which case of deficiency is appropriat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extrapolation of measures and quality of a water body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35480" y="2690640"/>
            <a:ext cx="2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47680"/>
            <a:ext cx="8534160" cy="10476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Guideline for Technical Implementation of WFD,</a:t>
            </a:r>
            <a:br>
              <a:rPr sz="3200"/>
            </a:b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preparatory work and steps toward RBMP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Important tasks coming out of WFD were analyzed and described as follows: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. Reference to the WFD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2. Description of the task and correlation to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other tasks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3. What is available and need not be worked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work out again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4. What has to be done to fulfill the task in detai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- a step by step approach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5. Still ope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Handbook Part 3: Table of Conten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. Necessary action/work to be completed until </a:t>
            </a: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2004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.1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Surface Waters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.1.1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General description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de-DE" sz="28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.1.2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Classification of surface water body types </a:t>
            </a:r>
            <a:r>
              <a:rPr b="1" lang="de-DE" sz="28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.1.3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Establishment of type-specific reference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conditions for surface water body types  </a:t>
            </a: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2002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.1.4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Establishment of significant anthropogenic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pressures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Jan.02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.1.5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Assessing the impact of pressures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2002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Handbook Part 3: Table of Conten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.2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Groundwater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.2.1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Initial characterization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.2.2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Detailed descrip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.2.3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Assessing the impact of human activities on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groundwat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.3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Protected areas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.4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Economic analysis of water use       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Jan.02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Protected Areas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Mapping of protected areas (acc. WFD)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abstraction of wat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economically important speci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nutrient-sensitive / sensitive areas, vulnerable zon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protection of species and habita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designated bathing water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85840"/>
            <a:ext cx="8534160" cy="100944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Handbook Part 3: Table of Contents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Necessary action/work to be completed until </a:t>
            </a: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2006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2.1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Monitoring and presentation of surface water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status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de-DE" sz="28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2.2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Monitoring and presentation of the status of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groundwater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de-DE" sz="28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2.3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Additional monitoring requirements for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surface waters in protected areas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2002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Times New Roman"/>
              </a:rPr>
              <a:t>Table of Conten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  Introduc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2  Who is doing what to prepare the implementation?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- 16 states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- 10 river basin districts with sub-basins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- pilot projects (regional scale)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- groups to be involved and coordinate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3  Handbook: Assistance for the implementation of      the WF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4  Further action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85840"/>
            <a:ext cx="8534160" cy="100944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Handbook Part 3: Table of Contents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3. Environmental objectives based on article 4 for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- surface water bodies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- groundwater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- protected areas, especially in cases of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article 4, § 3,4,5 and 6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4. Public information and consultation (Art. 14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85840"/>
            <a:ext cx="8534160" cy="100944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Public Information and Consul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Objectives: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Creation of confidence between planner and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public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Development of problem- consciousness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for the participation in the planning process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Joint aims and measures and improvement of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public acceptance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Information about common targets and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measures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Mobilization of active suppor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Public Information and Consultation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3624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Implementation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schedule of WFD lays down only minimum activities in public information and consult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public participation has to be practised in different levels (regional, local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consultation-date necessary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continuous process (initial planning process, up to date activities, implementation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close to the peopl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open-result process, continuity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use modern information instrum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Handbook Part 3: Table of Conten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5.  Necessary action/work to be completed until </a:t>
            </a: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2009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5.1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Analysis and presentation of the results of the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monitoring programm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5.2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Deficit analysis of objectiv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5.3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Plan of measur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5.4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Register of any detailed programmes and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mangement plans for river basin distric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Handbook Part 3: Table of Conten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5.5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Summary of public information and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consultation measur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5.6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Records concering costs to be recovered for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water servic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5.7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Summary of all activities and results in the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management plan for the RB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7320" y="550440"/>
            <a:ext cx="8744040" cy="6858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Handbook Part 4: Working papers on specific topic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1) When is a pressure and anthropogenic impact significant for the status of a body of surface water?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2) Significant quantitative water abstraction from surface wate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3) Significant elements in water flow regulation, including water transfers, in the case of surface wate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4) When is a morphological alteration in a body of surface water significant to its status review?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5) List of „other significant anthropogenic impacts on the status of surface waters“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320" y="550440"/>
            <a:ext cx="8744040" cy="6858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Handbook Part 4: Working papers on specific topic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6) Estimation and extrapolation of the identified pressures on the quality of surface wa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7) Requirements for designation as heavily modified and artificial bodies of wa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8) Other working papers 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the compiling of protected area registe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the development of programmes to monitor bodies of 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criteria for excemption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basic map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averaging/trend reversal in groundwater secto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reference conditions for water body typ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766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09360"/>
            <a:ext cx="86104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Handbook shoul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Marlett"/>
                <a:ea typeface="Marlett"/>
              </a:rPr>
              <a:t>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combine all articles and annex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Marlett"/>
                <a:ea typeface="Marlett"/>
              </a:rPr>
              <a:t>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lead to a logical step by step approach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Marlett"/>
                <a:ea typeface="Marlett"/>
              </a:rPr>
              <a:t>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be understood easily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Marlett"/>
                <a:ea typeface="Marlett"/>
              </a:rPr>
              <a:t>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describe all tasks which are a must for the RBMP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34160" cy="95076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The draft of the handbook will be discussed with experts from all levels and pilot projects in Germany and abroad to exchange experience.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The guidance documents of EC-expert groups will be incorporated.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The next edition of the handbook will be available in Jan. 2002.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Times New Roman"/>
              </a:rPr>
              <a:t>The 16 States of German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647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840" y="264600"/>
            <a:ext cx="8534160" cy="6858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Times New Roman"/>
              </a:rPr>
              <a:t>River Basin District in German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5" name="Flussgebiete-D" descr=""/>
          <p:cNvPicPr/>
          <p:nvPr/>
        </p:nvPicPr>
        <p:blipFill>
          <a:blip r:embed="rId1"/>
          <a:srcRect l="3759" t="1907" r="12030" b="19938"/>
          <a:stretch/>
        </p:blipFill>
        <p:spPr>
          <a:xfrm>
            <a:off x="2514600" y="1143000"/>
            <a:ext cx="41623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97308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mplementation of WFD in German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. </a:t>
            </a: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Federal Govermen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- basic law, international cooper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States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- execution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LAWA (Joint Water Commission of the States)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- coordination between the States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4. </a:t>
            </a: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Working group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- working out technical standards/documents for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the handbook for technical implement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Times New Roman"/>
              </a:rPr>
              <a:t>Groups to be involv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Conference of Environmental Ministers of the 16 Stat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Plenary session of the Joint Water Commission of the States (LAWA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LAWA working groups</a:t>
            </a:r>
            <a:br>
              <a:rPr sz="2800"/>
            </a:br>
            <a:r>
              <a:rPr b="0" lang="de-DE" sz="2000" spc="-1" strike="noStrike">
                <a:solidFill>
                  <a:srgbClr val="000099"/>
                </a:solidFill>
                <a:latin typeface="Times New Roman"/>
              </a:rPr>
              <a:t>1. Data and GIS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Times New Roman"/>
              </a:rPr>
              <a:t>2. Surface waters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Times New Roman"/>
              </a:rPr>
              <a:t>3. Groundwater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Times New Roman"/>
              </a:rPr>
              <a:t>4. BAT including sewage treatment</a:t>
            </a:r>
            <a:br>
              <a:rPr sz="2000"/>
            </a:br>
            <a:r>
              <a:rPr b="0" lang="de-DE" sz="2000" spc="-1" strike="noStrike">
                <a:solidFill>
                  <a:srgbClr val="000099"/>
                </a:solidFill>
                <a:latin typeface="Times New Roman"/>
              </a:rPr>
              <a:t>5. Legal affair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10 River Basin Districts (national and international cooperation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68580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Times New Roman"/>
              </a:rPr>
              <a:t>River Basin Management Plan (RBMP</a:t>
            </a: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3 levels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a) whole River Basin District: general planning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and coordination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b) important tributaries: regional planning on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state‘s level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c) small tributaries: working level, detailed local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plann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Result: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 u="sng">
                <a:solidFill>
                  <a:srgbClr val="000099"/>
                </a:solidFill>
                <a:uFillTx/>
                <a:latin typeface="Times New Roman"/>
              </a:rPr>
              <a:t>one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RBMP, composed from coordinated regional and local plan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858520" cy="85896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Times New Roman"/>
              </a:rPr>
              <a:t>Rhine River Basin District - Planned Working Area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3508" t="2080" r="13031" b="25313"/>
          <a:stretch/>
        </p:blipFill>
        <p:spPr>
          <a:xfrm>
            <a:off x="2400480" y="1219320"/>
            <a:ext cx="4298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550440"/>
            <a:ext cx="8534160" cy="973080"/>
          </a:xfrm>
          <a:prstGeom prst="rect">
            <a:avLst/>
          </a:prstGeom>
          <a:solidFill>
            <a:srgbClr val="6699ff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Times New Roman"/>
              </a:rPr>
              <a:t>Proposed Structure for the RBMP Rhei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Part A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general, superior side constraints for the whole river basin distric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Part B</a:t>
            </a:r>
            <a:br>
              <a:rPr sz="2800"/>
            </a:b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details of RBMP</a:t>
            </a: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concerning each working area, sum of part B covers the river basin distric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Part A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Part B</a:t>
            </a:r>
            <a:r>
              <a:rPr b="0" lang="de-DE" sz="2800" spc="-1" strike="noStrike">
                <a:solidFill>
                  <a:srgbClr val="000099"/>
                </a:solidFill>
                <a:latin typeface="Times New Roman"/>
              </a:rPr>
              <a:t> form the Management Plan of the River Basin Distric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08:15:25Z</dcterms:created>
  <dc:creator>Referenz</dc:creator>
  <dc:description/>
  <dc:language>en-US</dc:language>
  <cp:lastModifiedBy>UNECE</cp:lastModifiedBy>
  <cp:lastPrinted>2001-10-12T13:46:13Z</cp:lastPrinted>
  <dcterms:modified xsi:type="dcterms:W3CDTF">2002-02-18T15:23:53Z</dcterms:modified>
  <cp:revision>136</cp:revision>
  <dc:subject/>
  <dc:title>German Guidebook on the implementation of the EC Water Framework Directive</dc:title>
</cp:coreProperties>
</file>