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324480" y="6400800"/>
            <a:ext cx="2422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b3b900"/>
                </a:solidFill>
                <a:latin typeface="Arial"/>
                <a:ea typeface="Arial"/>
              </a:rPr>
              <a:t>Author: P. Stros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71600" y="1371600"/>
            <a:ext cx="8278560" cy="4876920"/>
            <a:chOff x="471600" y="1371600"/>
            <a:chExt cx="8278560" cy="4876920"/>
          </a:xfrm>
        </p:grpSpPr>
        <p:sp>
          <p:nvSpPr>
            <p:cNvPr id="3" name=""/>
            <p:cNvSpPr/>
            <p:nvPr/>
          </p:nvSpPr>
          <p:spPr>
            <a:xfrm>
              <a:off x="471600" y="1371600"/>
              <a:ext cx="8278560" cy="0"/>
            </a:xfrm>
            <a:prstGeom prst="line">
              <a:avLst/>
            </a:prstGeom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71600" y="6248520"/>
              <a:ext cx="8278560" cy="0"/>
            </a:xfrm>
            <a:prstGeom prst="line">
              <a:avLst/>
            </a:prstGeom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 txBox="1"/>
          <p:nvPr/>
        </p:nvSpPr>
        <p:spPr>
          <a:xfrm>
            <a:off x="1982880" y="992160"/>
            <a:ext cx="48736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European Commission - DG ENV.A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473040" y="274680"/>
            <a:ext cx="1450800" cy="9828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400880" y="285840"/>
            <a:ext cx="1324080" cy="8953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 txBox="1"/>
          <p:nvPr/>
        </p:nvSpPr>
        <p:spPr>
          <a:xfrm>
            <a:off x="457200" y="6400800"/>
            <a:ext cx="2819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b3b900"/>
                </a:solidFill>
                <a:latin typeface="Arial"/>
                <a:ea typeface="Arial"/>
              </a:rPr>
              <a:t>The Water Framework Dir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3276720" y="6400800"/>
            <a:ext cx="2819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b3b900"/>
                </a:solidFill>
                <a:latin typeface="Arial"/>
                <a:ea typeface="Arial"/>
              </a:rPr>
              <a:t>Bratislava, October 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0"/>
            <a:ext cx="7772400" cy="182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Which role for economics in the Water Framework Directive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81080" y="5029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Pierre Stros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DG 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981080" y="30492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PROPOSED ACTIVITIES OF THE WATECO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30592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Review of experience and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Identify the role of economics in the WF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Develop draft guidance for implementing the economic elements of the WF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Test (including virtual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Review draft based on testing and interactions with stakeholders and r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Endorsement by the EU water dir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Us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30592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Review of experience and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Identify the role of economics in the WF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Develop draft guidance for implementing the economic elements of the WF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Test (including virtual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Review draft based on testing and interactions with stakeholders and r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Endorsement by the EU water dir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Us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81080" y="30492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FORTHCOM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30592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Finalising test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6 national experiences, one international ba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entral and Eastern Europ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Interacting with other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eavily modified water bodies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(UK/DE): experts worksh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mpacts and pressures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(UK/DE),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est practices in river basin planning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Presenting preliminary work and getting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ocal stakeholders: as part of the testing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orkshop targeted to Central and Eastern Europe experts (November 19 &amp; 20, Budap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Presenting draft guidance and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ille Conference, March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981080" y="30492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FOR MO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30592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Pierre Stros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DG Environment, Sustainable Development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BU-5 4/1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Rue de la loi 200 - B-1049 Brussels -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Tel. +32 2 296 87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Fax. +32 2 296 95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Email pierre.strosser@cec.eu.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295280" y="2819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any thanks for your attentio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981080" y="30492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DO ECONOMICS HAVE  HAVE A ROLE IN WATER POLICY AND MANAG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971800" y="1676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Water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09680"/>
            <a:ext cx="1913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ndustr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632640" y="4419720"/>
            <a:ext cx="1901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Gover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e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472428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nv. 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86200" y="5257800"/>
            <a:ext cx="123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781680" y="2209680"/>
            <a:ext cx="130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2280" y="3276720"/>
            <a:ext cx="20606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Water 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172200" y="3276720"/>
            <a:ext cx="25909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onsumer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133720" y="2133720"/>
            <a:ext cx="4726080" cy="2973600"/>
            <a:chOff x="2133720" y="2133720"/>
            <a:chExt cx="4726080" cy="2973600"/>
          </a:xfrm>
        </p:grpSpPr>
        <p:sp>
          <p:nvSpPr>
            <p:cNvPr id="60" name=""/>
            <p:cNvSpPr/>
            <p:nvPr/>
          </p:nvSpPr>
          <p:spPr>
            <a:xfrm>
              <a:off x="2308320" y="2544840"/>
              <a:ext cx="678240" cy="508320"/>
            </a:xfrm>
            <a:custGeom>
              <a:avLst/>
              <a:gdLst/>
              <a:ahLst/>
              <a:rect l="0" t="0" r="r" b="b"/>
              <a:pathLst>
                <a:path w="1884" h="1412">
                  <a:moveTo>
                    <a:pt x="1677" y="708"/>
                  </a:moveTo>
                  <a:lnTo>
                    <a:pt x="1557" y="885"/>
                  </a:lnTo>
                  <a:lnTo>
                    <a:pt x="234" y="0"/>
                  </a:lnTo>
                  <a:lnTo>
                    <a:pt x="335" y="322"/>
                  </a:lnTo>
                  <a:lnTo>
                    <a:pt x="0" y="353"/>
                  </a:lnTo>
                  <a:lnTo>
                    <a:pt x="1322" y="1235"/>
                  </a:lnTo>
                  <a:lnTo>
                    <a:pt x="1207" y="1412"/>
                  </a:lnTo>
                  <a:lnTo>
                    <a:pt x="1884" y="1354"/>
                  </a:lnTo>
                  <a:lnTo>
                    <a:pt x="1677" y="708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90760" y="4336920"/>
              <a:ext cx="662400" cy="522720"/>
            </a:xfrm>
            <a:custGeom>
              <a:avLst/>
              <a:gdLst/>
              <a:ahLst/>
              <a:rect l="0" t="0" r="r" b="b"/>
              <a:pathLst>
                <a:path w="1840" h="1452">
                  <a:moveTo>
                    <a:pt x="1159" y="0"/>
                  </a:moveTo>
                  <a:lnTo>
                    <a:pt x="1287" y="168"/>
                  </a:lnTo>
                  <a:lnTo>
                    <a:pt x="0" y="1112"/>
                  </a:lnTo>
                  <a:lnTo>
                    <a:pt x="340" y="1125"/>
                  </a:lnTo>
                  <a:lnTo>
                    <a:pt x="251" y="1452"/>
                  </a:lnTo>
                  <a:lnTo>
                    <a:pt x="1535" y="514"/>
                  </a:lnTo>
                  <a:lnTo>
                    <a:pt x="1664" y="686"/>
                  </a:lnTo>
                  <a:lnTo>
                    <a:pt x="1840" y="26"/>
                  </a:lnTo>
                  <a:lnTo>
                    <a:pt x="1159" y="0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67080" y="2133720"/>
              <a:ext cx="306720" cy="763920"/>
            </a:xfrm>
            <a:custGeom>
              <a:avLst/>
              <a:gdLst/>
              <a:ahLst/>
              <a:rect l="0" t="0" r="r" b="b"/>
              <a:pathLst>
                <a:path w="852" h="2122">
                  <a:moveTo>
                    <a:pt x="852" y="1591"/>
                  </a:moveTo>
                  <a:lnTo>
                    <a:pt x="639" y="1591"/>
                  </a:lnTo>
                  <a:lnTo>
                    <a:pt x="634" y="0"/>
                  </a:lnTo>
                  <a:lnTo>
                    <a:pt x="421" y="265"/>
                  </a:lnTo>
                  <a:lnTo>
                    <a:pt x="208" y="0"/>
                  </a:lnTo>
                  <a:lnTo>
                    <a:pt x="212" y="1591"/>
                  </a:lnTo>
                  <a:lnTo>
                    <a:pt x="0" y="1591"/>
                  </a:lnTo>
                  <a:lnTo>
                    <a:pt x="430" y="2122"/>
                  </a:lnTo>
                  <a:lnTo>
                    <a:pt x="852" y="1591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43400" y="4343400"/>
              <a:ext cx="306720" cy="763920"/>
            </a:xfrm>
            <a:custGeom>
              <a:avLst/>
              <a:gdLst/>
              <a:ahLst/>
              <a:rect l="0" t="0" r="r" b="b"/>
              <a:pathLst>
                <a:path w="852" h="2122">
                  <a:moveTo>
                    <a:pt x="0" y="530"/>
                  </a:moveTo>
                  <a:lnTo>
                    <a:pt x="212" y="530"/>
                  </a:lnTo>
                  <a:lnTo>
                    <a:pt x="212" y="2122"/>
                  </a:lnTo>
                  <a:lnTo>
                    <a:pt x="425" y="1856"/>
                  </a:lnTo>
                  <a:lnTo>
                    <a:pt x="639" y="2122"/>
                  </a:lnTo>
                  <a:lnTo>
                    <a:pt x="639" y="530"/>
                  </a:lnTo>
                  <a:lnTo>
                    <a:pt x="852" y="530"/>
                  </a:lnTo>
                  <a:lnTo>
                    <a:pt x="425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00840" y="2554200"/>
              <a:ext cx="689400" cy="497160"/>
            </a:xfrm>
            <a:custGeom>
              <a:avLst/>
              <a:gdLst/>
              <a:ahLst/>
              <a:rect l="0" t="0" r="r" b="b"/>
              <a:pathLst>
                <a:path w="1915" h="1381">
                  <a:moveTo>
                    <a:pt x="677" y="1381"/>
                  </a:moveTo>
                  <a:lnTo>
                    <a:pt x="562" y="1199"/>
                  </a:lnTo>
                  <a:lnTo>
                    <a:pt x="1915" y="358"/>
                  </a:lnTo>
                  <a:lnTo>
                    <a:pt x="1579" y="318"/>
                  </a:lnTo>
                  <a:lnTo>
                    <a:pt x="1694" y="0"/>
                  </a:lnTo>
                  <a:lnTo>
                    <a:pt x="340" y="837"/>
                  </a:lnTo>
                  <a:lnTo>
                    <a:pt x="225" y="659"/>
                  </a:lnTo>
                  <a:lnTo>
                    <a:pt x="0" y="1301"/>
                  </a:lnTo>
                  <a:lnTo>
                    <a:pt x="677" y="1381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16600" y="4268880"/>
              <a:ext cx="702000" cy="483120"/>
            </a:xfrm>
            <a:custGeom>
              <a:avLst/>
              <a:gdLst/>
              <a:ahLst/>
              <a:rect l="0" t="0" r="r" b="b"/>
              <a:pathLst>
                <a:path w="1950" h="1342">
                  <a:moveTo>
                    <a:pt x="251" y="739"/>
                  </a:moveTo>
                  <a:lnTo>
                    <a:pt x="357" y="554"/>
                  </a:lnTo>
                  <a:lnTo>
                    <a:pt x="1742" y="1342"/>
                  </a:lnTo>
                  <a:lnTo>
                    <a:pt x="1618" y="1028"/>
                  </a:lnTo>
                  <a:lnTo>
                    <a:pt x="1950" y="974"/>
                  </a:lnTo>
                  <a:lnTo>
                    <a:pt x="565" y="185"/>
                  </a:lnTo>
                  <a:lnTo>
                    <a:pt x="671" y="0"/>
                  </a:lnTo>
                  <a:lnTo>
                    <a:pt x="0" y="106"/>
                  </a:lnTo>
                  <a:lnTo>
                    <a:pt x="251" y="739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3033720" y="3033720"/>
              <a:ext cx="2924280" cy="124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Yes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economics have a role to play!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3581280"/>
              <a:ext cx="763920" cy="306720"/>
            </a:xfrm>
            <a:custGeom>
              <a:avLst/>
              <a:gdLst/>
              <a:ahLst/>
              <a:rect l="0" t="0" r="r" b="b"/>
              <a:pathLst>
                <a:path w="2122" h="852">
                  <a:moveTo>
                    <a:pt x="1591" y="0"/>
                  </a:moveTo>
                  <a:lnTo>
                    <a:pt x="1591" y="212"/>
                  </a:lnTo>
                  <a:lnTo>
                    <a:pt x="0" y="212"/>
                  </a:lnTo>
                  <a:lnTo>
                    <a:pt x="265" y="425"/>
                  </a:lnTo>
                  <a:lnTo>
                    <a:pt x="0" y="639"/>
                  </a:lnTo>
                  <a:lnTo>
                    <a:pt x="1591" y="639"/>
                  </a:lnTo>
                  <a:lnTo>
                    <a:pt x="1591" y="852"/>
                  </a:lnTo>
                  <a:lnTo>
                    <a:pt x="2122" y="425"/>
                  </a:lnTo>
                  <a:lnTo>
                    <a:pt x="1591" y="0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95880" y="3506760"/>
              <a:ext cx="763920" cy="306720"/>
            </a:xfrm>
            <a:custGeom>
              <a:avLst/>
              <a:gdLst/>
              <a:ahLst/>
              <a:rect l="0" t="0" r="r" b="b"/>
              <a:pathLst>
                <a:path w="2122" h="852">
                  <a:moveTo>
                    <a:pt x="534" y="852"/>
                  </a:moveTo>
                  <a:lnTo>
                    <a:pt x="530" y="639"/>
                  </a:lnTo>
                  <a:lnTo>
                    <a:pt x="2122" y="630"/>
                  </a:lnTo>
                  <a:lnTo>
                    <a:pt x="1856" y="416"/>
                  </a:lnTo>
                  <a:lnTo>
                    <a:pt x="2122" y="203"/>
                  </a:lnTo>
                  <a:lnTo>
                    <a:pt x="530" y="212"/>
                  </a:lnTo>
                  <a:lnTo>
                    <a:pt x="525" y="0"/>
                  </a:lnTo>
                  <a:lnTo>
                    <a:pt x="0" y="425"/>
                  </a:lnTo>
                  <a:lnTo>
                    <a:pt x="534" y="852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 txBox="1"/>
          <p:nvPr/>
        </p:nvSpPr>
        <p:spPr>
          <a:xfrm>
            <a:off x="609480" y="14479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981080" y="30492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LOOKING BACK AT RECENT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30592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1970-1980s: the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polluter pays principl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as basic policy principle (e.g. Trea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1990s: the recognition of the role of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ublin, Rio (1992): the economic dimension of water recognised - From the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olluter pays principle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to the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ser pays principle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- Water scarcity or financial scarc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2000: the Water Framework Directive that clearly integ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cepts (e.g. the polluter pays principle) - Approaches (e.g. cost-effectiveness analysis) - Instruments (e.g. charging and pri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in EU water policy (a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premièr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in the field of environmental poli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981080" y="30492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THE TWO “ECONOMIC STARS” OF THE WATER FRAMEWORK DI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30592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Water pricing and charging (Article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centive to more sustainable use of water resou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ecovery of the costs of water services (all costs and three uses: agriculture, industry, househol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sidering the social, economic and environmental impacts (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adequate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centive and cost-recovery, derog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ransparency (river basin management pl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The economic analysis of water uses (Article 5 &amp; Annex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 support the development of water pricing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 assess trends in water demand and water 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 identify measures for achieving the environmental objectives of the Water Framework Directive in the most cost-effective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981080" y="30492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…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. AND THE HIDDEN SIDE OF THE MO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30592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Designation of heavily modified water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mparing existing modifications with altern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sproportionat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Justification of time dero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Justification of objective dero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xisting activities and mod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new activities and mod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because of disproportionate costs/disproportionately expensiv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Other economic instruments (e.g. tradable quo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Penalties (proportionate, effec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050920" y="2343240"/>
            <a:ext cx="4673520" cy="2476440"/>
            <a:chOff x="2050920" y="2343240"/>
            <a:chExt cx="4673520" cy="2476440"/>
          </a:xfrm>
        </p:grpSpPr>
        <p:sp>
          <p:nvSpPr>
            <p:cNvPr id="77" name=""/>
            <p:cNvSpPr/>
            <p:nvPr/>
          </p:nvSpPr>
          <p:spPr>
            <a:xfrm>
              <a:off x="2190600" y="2343240"/>
              <a:ext cx="4533840" cy="2476440"/>
            </a:xfrm>
            <a:prstGeom prst="ellipse">
              <a:avLst/>
            </a:prstGeom>
            <a:noFill/>
            <a:ln w="25560">
              <a:solidFill>
                <a:srgbClr val="0000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50920" y="3498840"/>
              <a:ext cx="317880" cy="165600"/>
            </a:xfrm>
            <a:custGeom>
              <a:avLst/>
              <a:gdLst/>
              <a:ahLst/>
              <a:rect l="0" t="0" r="r" b="b"/>
              <a:pathLst>
                <a:path w="883" h="460">
                  <a:moveTo>
                    <a:pt x="0" y="460"/>
                  </a:moveTo>
                  <a:lnTo>
                    <a:pt x="883" y="460"/>
                  </a:lnTo>
                  <a:lnTo>
                    <a:pt x="441" y="0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0000c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54600" y="2486880"/>
              <a:ext cx="219600" cy="283320"/>
            </a:xfrm>
            <a:custGeom>
              <a:avLst/>
              <a:gdLst/>
              <a:ahLst/>
              <a:rect l="0" t="0" r="r" b="b"/>
              <a:pathLst>
                <a:path w="610" h="787">
                  <a:moveTo>
                    <a:pt x="0" y="0"/>
                  </a:moveTo>
                  <a:lnTo>
                    <a:pt x="401" y="787"/>
                  </a:lnTo>
                  <a:lnTo>
                    <a:pt x="6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0000c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56400" y="4489200"/>
              <a:ext cx="226800" cy="260280"/>
            </a:xfrm>
            <a:custGeom>
              <a:avLst/>
              <a:gdLst/>
              <a:ahLst/>
              <a:rect l="0" t="0" r="r" b="b"/>
              <a:pathLst>
                <a:path w="630" h="723">
                  <a:moveTo>
                    <a:pt x="122" y="723"/>
                  </a:moveTo>
                  <a:lnTo>
                    <a:pt x="630" y="0"/>
                  </a:lnTo>
                  <a:lnTo>
                    <a:pt x="0" y="98"/>
                  </a:lnTo>
                  <a:lnTo>
                    <a:pt x="122" y="723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0000c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27160" y="2415600"/>
              <a:ext cx="228600" cy="246960"/>
            </a:xfrm>
            <a:custGeom>
              <a:avLst/>
              <a:gdLst/>
              <a:ahLst/>
              <a:rect l="0" t="0" r="r" b="b"/>
              <a:pathLst>
                <a:path w="635" h="686">
                  <a:moveTo>
                    <a:pt x="557" y="0"/>
                  </a:moveTo>
                  <a:lnTo>
                    <a:pt x="0" y="686"/>
                  </a:lnTo>
                  <a:lnTo>
                    <a:pt x="635" y="632"/>
                  </a:lnTo>
                  <a:lnTo>
                    <a:pt x="557" y="0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0000c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99280" y="4043520"/>
              <a:ext cx="280800" cy="220680"/>
            </a:xfrm>
            <a:custGeom>
              <a:avLst/>
              <a:gdLst/>
              <a:ahLst/>
              <a:rect l="0" t="0" r="r" b="b"/>
              <a:pathLst>
                <a:path w="780" h="613">
                  <a:moveTo>
                    <a:pt x="780" y="415"/>
                  </a:moveTo>
                  <a:lnTo>
                    <a:pt x="0" y="0"/>
                  </a:lnTo>
                  <a:lnTo>
                    <a:pt x="174" y="613"/>
                  </a:lnTo>
                  <a:lnTo>
                    <a:pt x="780" y="415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0000c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 txBox="1"/>
          <p:nvPr/>
        </p:nvSpPr>
        <p:spPr>
          <a:xfrm>
            <a:off x="1981080" y="30492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…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INTEGRATED INTO THE OVERALL POLICY DEVELOPMENT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2273400"/>
            <a:ext cx="1930320" cy="3873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492360" y="2273400"/>
            <a:ext cx="193032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efining 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29360" y="2809800"/>
            <a:ext cx="2174760" cy="631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229360" y="2809800"/>
            <a:ext cx="21747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ssessing main pressures and 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62520" y="3416400"/>
            <a:ext cx="2251080" cy="631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762520" y="3416400"/>
            <a:ext cx="225108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dentifying key water management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30800" y="4330800"/>
            <a:ext cx="2068560" cy="631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330800" y="4330800"/>
            <a:ext cx="20685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dentifying possible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1960" y="4791240"/>
            <a:ext cx="2174760" cy="631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171960" y="4791240"/>
            <a:ext cx="21747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eveloping river basi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87600" y="3797280"/>
            <a:ext cx="1714680" cy="631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87600" y="3797280"/>
            <a:ext cx="171468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mplementing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82680" y="3130560"/>
            <a:ext cx="1641600" cy="3873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82680" y="3130560"/>
            <a:ext cx="1641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39880" y="2806560"/>
            <a:ext cx="1641600" cy="3873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739880" y="2806560"/>
            <a:ext cx="1641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140360" y="1403280"/>
            <a:ext cx="2805120" cy="988920"/>
            <a:chOff x="4140360" y="1403280"/>
            <a:chExt cx="2805120" cy="9889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140360" y="1403280"/>
              <a:ext cx="2805120" cy="9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 txBox="1"/>
            <p:nvPr/>
          </p:nvSpPr>
          <p:spPr>
            <a:xfrm>
              <a:off x="5073480" y="1563840"/>
              <a:ext cx="1638360" cy="425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Heavily modified, objective derog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099120" y="1886040"/>
            <a:ext cx="3021120" cy="1063800"/>
            <a:chOff x="6099120" y="1886040"/>
            <a:chExt cx="3021120" cy="106380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6099120" y="1886040"/>
              <a:ext cx="302112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 txBox="1"/>
            <p:nvPr/>
          </p:nvSpPr>
          <p:spPr>
            <a:xfrm>
              <a:off x="7248600" y="2046240"/>
              <a:ext cx="1638360" cy="63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Economic analysis of water uses, existing pricing polic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1880" y="4834080"/>
            <a:ext cx="3632040" cy="1066680"/>
            <a:chOff x="5411880" y="4834080"/>
            <a:chExt cx="3632040" cy="1066680"/>
          </a:xfrm>
        </p:grpSpPr>
        <p:pic>
          <p:nvPicPr>
            <p:cNvPr id="107" name="" descr=""/>
            <p:cNvPicPr/>
            <p:nvPr/>
          </p:nvPicPr>
          <p:blipFill>
            <a:blip r:embed="rId3"/>
            <a:stretch/>
          </p:blipFill>
          <p:spPr>
            <a:xfrm>
              <a:off x="5411880" y="4834080"/>
              <a:ext cx="3632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 txBox="1"/>
            <p:nvPr/>
          </p:nvSpPr>
          <p:spPr>
            <a:xfrm>
              <a:off x="6505560" y="5075280"/>
              <a:ext cx="2305080" cy="63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Unitary costs of measures, impact of new prices, economic impact of meas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79360" y="4917960"/>
            <a:ext cx="3038400" cy="1351080"/>
            <a:chOff x="279360" y="4917960"/>
            <a:chExt cx="3038400" cy="1351080"/>
          </a:xfrm>
        </p:grpSpPr>
        <p:pic>
          <p:nvPicPr>
            <p:cNvPr id="110" name="" descr=""/>
            <p:cNvPicPr/>
            <p:nvPr/>
          </p:nvPicPr>
          <p:blipFill>
            <a:blip r:embed="rId4"/>
            <a:stretch/>
          </p:blipFill>
          <p:spPr>
            <a:xfrm>
              <a:off x="279360" y="4917960"/>
              <a:ext cx="303840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 txBox="1"/>
            <p:nvPr/>
          </p:nvSpPr>
          <p:spPr>
            <a:xfrm>
              <a:off x="485640" y="5443560"/>
              <a:ext cx="2228760" cy="63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Cost-effectiveness analysis, pricing and cost-recovery, derog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1680" y="1752480"/>
            <a:ext cx="2809800" cy="795240"/>
            <a:chOff x="31680" y="1752480"/>
            <a:chExt cx="2809800" cy="795240"/>
          </a:xfrm>
        </p:grpSpPr>
        <p:pic>
          <p:nvPicPr>
            <p:cNvPr id="113" name="" descr=""/>
            <p:cNvPicPr/>
            <p:nvPr/>
          </p:nvPicPr>
          <p:blipFill>
            <a:blip r:embed="rId5"/>
            <a:stretch/>
          </p:blipFill>
          <p:spPr>
            <a:xfrm>
              <a:off x="31680" y="1752480"/>
              <a:ext cx="280980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 txBox="1"/>
            <p:nvPr/>
          </p:nvSpPr>
          <p:spPr>
            <a:xfrm>
              <a:off x="237960" y="1913040"/>
              <a:ext cx="16383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Penal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981080" y="30492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KEY CHALLENGES FOR IMPLEMENTING THE  ECONOMIC ELEMENTS OF WF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23880"/>
            <a:ext cx="830592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Shifting the political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rom water pricing to the economic analy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Clarifying the role of economics in the WF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rom Annex III to guidance for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Integrating economics with “the re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rom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esearch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economics to useful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operational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econ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Developing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rom economic experts to water experts and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Ensuring adequate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rom compliance deadlines to water management ti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Feeding into the policy developm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inking with Article 14: information, consultation,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981080" y="30492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TACKLING THESE CHALLENGES: THE ROLE OF THE WATECO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30592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October 2000 - Economics identified as priority area by the EU water dir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December 2000 - Launching the “economics/water framework directive” (WATECO) working group in the context of the Common Implementatio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Objectives - Development of guidance on the economics analysis (targeted to the 2004 WFD requireme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Deadline - Guidance document expected mid-2002 (Spanish Presid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981080" y="30492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WHO IS IN THE WATECO GROU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30592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Experts from EU Member States (lead: France, the Commi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Representative from selected accession countries and focal point organisations (e.g. REC, ICP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Representative from stakeholder organisations (e.g. water suppliers, environmental NG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9"/>
              </a:buClr>
              <a:buSzPct val="59000"/>
              <a:buFont typeface="Monotype Sorts"/>
              <a:buChar char=""/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Other EU institutions according to issues discussed (e.g. Eurostat, Joint Research Cen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os Bezirtzoglou</dc:creator>
  <dc:description/>
  <dc:language>en-US</dc:language>
  <cp:lastModifiedBy>UNECE</cp:lastModifiedBy>
  <cp:revision>0</cp:revision>
  <dc:subject/>
  <dc:title>Color Slide Template CE DG XI French</dc:title>
</cp:coreProperties>
</file>