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99331-6F10-4041-88BE-06BA11694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31DDE-3F7E-40AF-8614-B397ABB67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3F9AC-3750-4102-B2AC-751CFF9E0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99070-C48F-4E52-A198-5AB98A71E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8B8CD-D077-43D6-833B-60FD3C4B2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CABAF-8379-4D27-8A3E-346AF7592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73E63-C00A-483C-B98F-98FEC448D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27413-CDD3-4F32-86BA-A54384AFD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3FF5F-0445-403D-A2AA-BAEBA8B76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4083D-F2C2-4449-B33C-8D2346CA0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66CD5-77DE-4FA3-A6CC-2D2B6EA7A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83ABA-8CA6-4B06-B43F-E34CD32A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04064-F790-4993-B4BA-9580F594F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EA1C6-23C5-4BD8-B5E9-76292BFC6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FDA90-0462-43F8-B46B-D53EA58AF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6D81D-B597-4234-8FD4-135200F1C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FDDB4-8329-4BA9-B86D-B555B7209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DF880-B078-4B59-8F69-867502E56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3532C-7D18-4811-BA12-33FAC8DA9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97B3B-6D04-42F9-A2D9-B776CDAA0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AD957-83BB-4FAD-A939-C9AAB6E02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F0D97-7F8B-4D7C-BE48-22FD72ECB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6E5CC-2636-4A51-AAAB-9E9470404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488D4-87E2-4E8F-96F8-798E3564A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525B-0479-450D-8123-4C1EE9D8491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275B-6CDD-48CB-A66E-20A339CD04D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1692360"/>
            <a:ext cx="8610480" cy="17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00"/>
                </a:solidFill>
                <a:latin typeface="Tahoma"/>
              </a:rPr>
              <a:t>International Context for PRTRs </a:t>
            </a:r>
            <a:endParaRPr b="1" lang="en-US" sz="4600" spc="-1" strike="noStrike">
              <a:solidFill>
                <a:srgbClr val="eaeaea"/>
              </a:solidFill>
              <a:latin typeface="Tahoma"/>
            </a:endParaRPr>
          </a:p>
        </p:txBody>
      </p:sp>
      <p:sp>
        <p:nvSpPr>
          <p:cNvPr id="11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im Willis, Director</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P Chemic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Basel Convention</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57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tion deals with wast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boundary movem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vironmentally sound management</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RTR c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 materials balance at the facility level (e.g., on-site/off-site waste transfer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e where facilities can apply waste minimization techniqu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e waste management facilities that need atten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tockholm Convention</a:t>
            </a:r>
            <a:endParaRPr b="1" lang="en-US" sz="4400" spc="-1" strike="noStrike">
              <a:solidFill>
                <a:srgbClr val="eaeaea"/>
              </a:solidFill>
              <a:latin typeface="Tahoma"/>
            </a:endParaRPr>
          </a:p>
        </p:txBody>
      </p:sp>
      <p:sp>
        <p:nvSpPr>
          <p:cNvPr id="130" name="PlaceHolder 2"/>
          <p:cNvSpPr>
            <a:spLocks noGrp="1"/>
          </p:cNvSpPr>
          <p:nvPr>
            <p:ph/>
          </p:nvPr>
        </p:nvSpPr>
        <p:spPr>
          <a:xfrm>
            <a:off x="1066320" y="1980720"/>
            <a:ext cx="7543800" cy="449604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tion deals with releases of PO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 10 paragraph 5 – </a:t>
            </a:r>
            <a:r>
              <a:rPr b="0" i="1" lang="en-US" sz="2800" spc="-1" strike="noStrike">
                <a:solidFill>
                  <a:srgbClr val="ff99ff"/>
                </a:solidFill>
                <a:latin typeface="Tahoma"/>
              </a:rPr>
              <a:t>“</a:t>
            </a:r>
            <a:r>
              <a:rPr b="0" i="1" lang="en-GB" sz="2800" spc="-1" strike="noStrike">
                <a:solidFill>
                  <a:srgbClr val="ff99ff"/>
                </a:solidFill>
                <a:latin typeface="Tahoma"/>
              </a:rPr>
              <a:t>Each Party shall give sympathetic consideration to developing mechanisms, such as pollutant release and transfer registers, for the collection and dissemination of information on estimates of the annual quantities of the chemicals listed in Annex A, B or C that are released or disposed o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tockholm Convention (2)</a:t>
            </a:r>
            <a:endParaRPr b="1" lang="en-US" sz="4400" spc="-1" strike="noStrike">
              <a:solidFill>
                <a:srgbClr val="eaeaea"/>
              </a:solidFill>
              <a:latin typeface="Tahoma"/>
            </a:endParaRPr>
          </a:p>
        </p:txBody>
      </p:sp>
      <p:sp>
        <p:nvSpPr>
          <p:cNvPr id="132" name="PlaceHolder 2"/>
          <p:cNvSpPr>
            <a:spLocks noGrp="1"/>
          </p:cNvSpPr>
          <p:nvPr>
            <p:ph/>
          </p:nvPr>
        </p:nvSpPr>
        <p:spPr>
          <a:xfrm>
            <a:off x="1066320" y="1980720"/>
            <a:ext cx="75438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ases of dioxins/furan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lease estimate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rgets for Best Available Techniques and Best Environmental Practices (BAT/BEP)</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y-related releases of POPs pesticid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ntities of POPs in wast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 monitoring and assuranc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s for research, development and monitoring (Article 11)</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stakeholder involvemen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ional Implementation Plans (NIPs) (Article 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rosscutting Issu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ingle tool can be used for many MEAs – in addition to national us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help create a more integrated environmental programme</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leveraging</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ing public involvement and stakeholder participatio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also help regional agreements, e.g., Cartegena Conven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Funding mechanisms</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ateral assistance</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lateral fund (ozone)</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Environment Facility (Stockholm Convention, FCCC)</a:t>
            </a:r>
            <a:endParaRPr b="0" lang="en-US" sz="32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PRTRs integrated into projects</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 General Chemicals Management »</a:t>
            </a:r>
            <a:endParaRPr b="0" lang="en-US" sz="28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Tahoma"/>
              </a:rPr>
              <a:t>Basel technical cooperation trust fun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ummary</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TRs should – first and foremost – be designed to meet national priorities, </a:t>
            </a:r>
            <a:r>
              <a:rPr b="0" lang="en-US" sz="2400" spc="-1" strike="noStrike">
                <a:solidFill>
                  <a:srgbClr val="f81238"/>
                </a:solidFill>
                <a:latin typeface="Tahoma"/>
              </a:rPr>
              <a:t>bu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an also support country goals in implementing MEA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ckholm Convention explicitly refers to PRTRs and PRTRs should be considered as part of the Stockholm Convention NIP</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ahoma"/>
              </a:rPr>
              <a:t>External sources of funding are likely to be extremely limited, and tapping in would require imagination and creativity</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ahoma"/>
              </a:rPr>
              <a:t>Unless a PRTR is a political priority, progress is likely to be very lim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hapter 19 of Agenda 21</a:t>
            </a:r>
            <a:endParaRPr b="1" lang="en-US" sz="4400" spc="-1" strike="noStrike">
              <a:solidFill>
                <a:srgbClr val="eaeaea"/>
              </a:solidFill>
              <a:latin typeface="Tahoma"/>
            </a:endParaRPr>
          </a:p>
        </p:txBody>
      </p:sp>
      <p:sp>
        <p:nvSpPr>
          <p:cNvPr id="112"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issions inventories/right-to-know referred to in several programme areas -</a:t>
            </a:r>
            <a:endParaRPr b="0" lang="en-US" sz="28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gramme area C</a:t>
            </a:r>
            <a:r>
              <a:rPr b="0" lang="en-US" sz="2400" spc="-1" strike="noStrike">
                <a:solidFill>
                  <a:srgbClr val="ffffff"/>
                </a:solidFill>
                <a:latin typeface="Tahoma"/>
              </a:rPr>
              <a:t> calls on governments and intergovernmental organizations to “improve databases and information systems on toxic chemicals, such as emission inventory programmes”</a:t>
            </a:r>
            <a:endParaRPr b="0" lang="en-US" sz="24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gramme area D</a:t>
            </a:r>
            <a:r>
              <a:rPr b="0" lang="en-US" sz="2400" spc="-1" strike="noStrike">
                <a:solidFill>
                  <a:srgbClr val="ffffff"/>
                </a:solidFill>
                <a:latin typeface="Tahoma"/>
              </a:rPr>
              <a:t> calls on governments to “adopt, on a voluntary basis, community right-to-know programmes… and reporting on annual routine emissions of toxic chemicals to the environment”</a:t>
            </a:r>
            <a:endParaRPr b="0" lang="en-US" sz="24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gramme area E</a:t>
            </a:r>
            <a:r>
              <a:rPr b="0" lang="en-US" sz="2400" spc="-1" strike="noStrike">
                <a:solidFill>
                  <a:srgbClr val="ffffff"/>
                </a:solidFill>
                <a:latin typeface="Tahoma"/>
              </a:rPr>
              <a:t> calls on governments to “consider adoption of community right-to-know program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Activities since Rio</a:t>
            </a:r>
            <a:endParaRPr b="1" lang="en-US" sz="4400" spc="-1" strike="noStrike">
              <a:solidFill>
                <a:srgbClr val="eaeaea"/>
              </a:solidFill>
              <a:latin typeface="Tahoma"/>
            </a:endParaRPr>
          </a:p>
        </p:txBody>
      </p:sp>
      <p:sp>
        <p:nvSpPr>
          <p:cNvPr id="114"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ECD Guidance for Government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OMC PRTR Coordinating Group</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IFCS endorsemen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based projects (UNEP, UNITA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ECE Aarhus Conventi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Regional initiatives, e.g., North America, European Uni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Training/workshops/conferenc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WSSD – encourages « development of coherent and integrated information on chemicals, such as through national pollutant release and transfer register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an PRTRs be relevant to MEAs implementation?</a:t>
            </a: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real Protocol (ozon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tterdam Convention (PIC)</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mework Convention on Climate Change (FCCC)</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l Convention (was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holm Convention (persistent organic polluta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Key PRTR Elements</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Right-to Know</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Environmental Releases, e.g.,</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ground Injectio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nd</a:t>
            </a:r>
            <a:endParaRPr b="0" lang="en-US" sz="24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tes, e.g.,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site releas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site relea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ssible MEA Elements where PRTRs can Help</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issions inventori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 balance and track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 inform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ance monitor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ance assistan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private partnership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Montreal Protocol</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aty deals with direct phase-outs of ODSs</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direct” usefulness of a PRTR</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RTR can provide “supporting” uses, e.g.,</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sible compliance monitoring or assurance tool</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ifferent look – i.e. ODS environmental releases, as opposed to amounts manufactured or us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Rotterdam Convention</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tion deals with trade in dangerous pesticides and industrial chemical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direct” usefulness of a PRT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RTR can provid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p in getting a broader view of PIC chemicals (facility releas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 monitoring and assuranc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keholder engagement</a:t>
            </a:r>
            <a:endParaRPr b="0" lang="en-US" sz="24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related to Article 15 “regist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Framework Convention on Climate Change (FCCC)</a:t>
            </a:r>
            <a:endParaRPr b="1" lang="en-US" sz="4000" spc="-1" strike="noStrike">
              <a:solidFill>
                <a:srgbClr val="eaeaea"/>
              </a:solidFill>
              <a:latin typeface="Tahoma"/>
            </a:endParaRPr>
          </a:p>
        </p:txBody>
      </p:sp>
      <p:sp>
        <p:nvSpPr>
          <p:cNvPr id="126" name="PlaceHolder 2"/>
          <p:cNvSpPr>
            <a:spLocks noGrp="1"/>
          </p:cNvSpPr>
          <p:nvPr>
            <p:ph/>
          </p:nvPr>
        </p:nvSpPr>
        <p:spPr>
          <a:xfrm>
            <a:off x="1066320" y="1980720"/>
            <a:ext cx="7543800" cy="449604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ntion deals with global warming</a:t>
            </a:r>
            <a:endParaRPr b="0" lang="en-US" sz="3200" spc="-1" strike="noStrike">
              <a:solidFill>
                <a:srgbClr val="ffffff"/>
              </a:solidFill>
              <a:latin typeface="Tahoma"/>
            </a:endParaRPr>
          </a:p>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vers greenhouse gases, esp. through its Kyoto Protocol</a:t>
            </a:r>
            <a:endParaRPr b="0" lang="en-US" sz="3200" spc="-1" strike="noStrike">
              <a:solidFill>
                <a:srgbClr val="ffffff"/>
              </a:solidFill>
              <a:latin typeface="Tahoma"/>
            </a:endParaRPr>
          </a:p>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TR can provide:</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ease inventories for GHGs</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rgets for clean development and energy efficiency opportunities </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c/stakeholder involve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01:31Z</dcterms:created>
  <dc:creator>Jim</dc:creator>
  <dc:description/>
  <dc:language>en-US</dc:language>
  <cp:lastModifiedBy>Stanley-Jones</cp:lastModifiedBy>
  <dcterms:modified xsi:type="dcterms:W3CDTF">2006-03-15T16:59:51Z</dcterms:modified>
  <cp:revision>10</cp:revision>
  <dc:subject/>
  <dc:title>PRTRs and the Multilateral Environmental Agreements  (MEAs)</dc:title>
</cp:coreProperties>
</file>