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3508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33640" y="0"/>
            <a:ext cx="293544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-1800" y="9408600"/>
            <a:ext cx="293508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3833640" y="9408600"/>
            <a:ext cx="293544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B25D8E76-D1B7-493E-878B-3407867C2CF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 Secretary-General Kofi Ann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cently described the drafting as having global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a 'giant step forward in the development of international law in this field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the first legally binding UN instrument to address the issues covered by what we might call environmental democracy in a detailed and systematic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retary General: Rio +10 meeting: examine the global relevance of the Convetion prinic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116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irement for p.a. to actively disseminate certain types of information. In a transparant and accessible way f.I. by public registers and li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tegories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take steps in developing a Pollutant Release and Transfer Regi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es must publish and disseminate state of the environ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13F7-04DD-4E19-91DA-AC1A0D345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243E-1CF2-496A-AFFF-8DA831EA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869B-DC55-4BD4-B4CA-CA04FE8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5F4A-231A-4440-9923-9ADA9B396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B85A-DB5B-4C3F-91D4-804EB91C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71731-4E30-4859-9120-F56F18A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57EB-8AF6-45B3-BA0B-AFA6BA96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4AF5A-7BBF-422A-95EF-21EFB47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E5992-B600-4011-B863-A22FDD6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D92DC-4C6F-4EA9-863C-63F99A1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90B8-B219-4A02-B945-13383E6B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B5B8-150F-47F4-98DA-B16281EA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0AFFE-AAB2-45AD-AA94-546E531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D2897-9CC0-486A-9963-06AFB9F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641C-119C-4C21-9801-C6C6ADB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C0A1B-01E2-4E93-A32B-3B68C21E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8D9F2-7EC1-4E66-8D54-F9FE890D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A0E7-F77C-45E8-835F-38CFB4A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0611-92EE-4236-8FC6-07A1E83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7C56-5499-4977-99DC-FFB1603E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45F4-393F-4FA8-BA9E-BED8FD84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5629-77B5-4F71-97CC-9C66CE51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D36B-99BA-4F65-B7E2-B9A557B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9006-9559-45B5-BF9D-81F1E2D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spcBef>
                <a:spcPts val="55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3" marL="160344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451F-B56A-4CA2-B918-075BCEA1B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9907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2560" cy="380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D0CC-DD1C-4AAB-A32B-C415187DA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11736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371600" indent="3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" y="1655640"/>
            <a:ext cx="873468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 the implementation of requirements of the PRTR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rotocol to the Aarhus Convention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720" y="3738600"/>
            <a:ext cx="823464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ichael Stanley-J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al Information Management Offi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nvironment, Housing and Land Management Di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WORKSHOP ON ENVIRONMENTAL MONITOR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AND REPORTING BY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ENTERPRI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4-6 September 2006,</a:t>
            </a:r>
            <a:r>
              <a:rPr b="1" lang="cs-CZ" sz="16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lang="en-US" sz="1600" spc="-1" strike="noStrike">
                <a:solidFill>
                  <a:srgbClr val="ffff66"/>
                </a:solidFill>
                <a:latin typeface="Arial Unicode MS"/>
              </a:rPr>
              <a:t>Warsaw, 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38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772080" y="214200"/>
            <a:ext cx="1600200" cy="13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06160" y="1450800"/>
            <a:ext cx="746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. Institution to manage the national PRTR system (art. 2, para.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. Structure for inter-agency coord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. Appropriate systems for enforcement (art. 3, para. 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Collection, validation and management of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4. Collection of data submitted by owners or operators of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acilities  (art. 7, paras. 2 and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5. Assessment of the quality of the data collected in ter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letenes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redibilit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(art. 10, para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6. Collection of information on releases from diffuse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art. 7, para. 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8. Development and management of a register compris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 structured, computerized database able to maintai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or 10 reporting years (art. 4, para. (j) and art. 5, para. 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9. Dissemination of information and training (arts. 8, 11 and 15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0880" y="371520"/>
            <a:ext cx="759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lements explicitly set forth in the Protoc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r implicit in it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920D-1B9B-4068-AAD0-EE6109A849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asic obligation of operator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2360" y="17924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9040" y="1555920"/>
            <a:ext cx="76377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submit the information specified with resp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o those pollutants and waste for which threshol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were exc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ach Party decides with respect to a particular pollu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apply either a release threshold or a manufactur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ocess or use (MPU) threshold will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acility operators do not choose under which requi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pollutant threshold or MPU) to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84EB-7D5B-49A4-9018-FC7C3C0870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5600" y="133200"/>
            <a:ext cx="8338680" cy="71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requirements of operators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ticle 7 - continued)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Party shall requi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f facilities specifi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annex I 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lease any pollutant specified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in annex II in quantities excee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pplicable threshold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hazardous waste exceeding 2 tons per 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other waste exceeding 2,000 tons per year, where the Party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pted for waste-specific reporting (as in the European Un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ransfer off-site any pollutant specified in annex II in waste wa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estined for waste-water treatment in quantities exceeding the applica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ndertake one or more activities specified in annex I at or abo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employee threshold specified in annex I,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nufacture, process or uses any pollutant specified in annex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09E8-9977-4D2F-A62E-B69221868D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4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pecific reporting elem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9920" y="1039680"/>
            <a:ext cx="774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treet addres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geographical locatio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ctivities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f the reporting fac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Name of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wner or operato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, as appropriate,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umerical identifier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of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specified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released to the environmen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both in aggregate and according to whether release is to air, 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ater, or to land, including underground inj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i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</a:t>
            </a:r>
            <a:r>
              <a:rPr b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f each pollutant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in the report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year, distinguishing between amounts for disposal and for recovery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name and address of facility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mount of waste transferred off-si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distinguishing betwe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azardous waste and other waste, for any operations, indica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hether waste is destined for recovery or dispos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d f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transboundary movements of hazardous wast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name an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address of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recover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or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dispos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ctual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site receiving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h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8367-9396-4224-BE45-A2BBB69735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porting element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9800" y="1459080"/>
            <a:ext cx="7859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mount of each specified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pollutant in waste water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transferred off-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ype of </a:t>
            </a:r>
            <a:r>
              <a:rPr b="1" i="1" lang="en-US" sz="1800" spc="-1" strike="noStrike" u="sng">
                <a:solidFill>
                  <a:srgbClr val="ffff66"/>
                </a:solidFill>
                <a:uFillTx/>
                <a:latin typeface="Arial"/>
              </a:rPr>
              <a:t>methodology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used to derive information on amount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dicating whether based on measurement, calculation or est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(M, C,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formation to include releases and transfers from routine and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xtraordinary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Owners or operators to be required to collect releases and transf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ata needed “with appropriate frequency”, an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ecords of the data from which the reported information was deri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ust be kept available for the competent authorities for 5 year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cluding description of M, C or 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A6B7-4B67-4179-8DF7-D59B774BFC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essment 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Article 10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7360" y="1684440"/>
            <a:ext cx="841032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are to assure the quality of the inform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re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Quality assessment of data duty of the Parties, in particular as to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ompleteness – consistency –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aking into account guidelines developed by the M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raft </a:t>
            </a: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uidance to implementation of the Protocol on PRT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enultimate version released 31 July 2006 available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web sites of  UNECE Working Group on PRTRs and WG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A353-0028-4473-82AB-4A01D5B6A3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est Available Information’ (BAI) standard</a:t>
            </a:r>
            <a:br>
              <a:rPr sz="28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article 9, para. 2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1040" y="1822320"/>
            <a:ext cx="8168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wners or operators of facilities required to ensure the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information they report and to use “best available information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est available information’ may inclu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itor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mission facto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ss bal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qu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rect monitoring or other calc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gineering judgments, an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ther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b. EU adopting more stringent guidance on B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963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9A93-BF2C-4DE5-8226-348C073B9C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uality assurance and control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3480" y="1593720"/>
            <a:ext cx="83534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alibration and maintenance of the monitoring syst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Use of recognized quality management syste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iodic checks by an external accredited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ertification of instruments and personnel u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recognized certification sc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Elements for guidelines on strengthening environmen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itoring and reporting by enterpris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a 36 (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ECE/CEP/AC.10/2006/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6C2F-3E3C-4E6A-9FBD-BD6C38B1788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Valid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920" y="1284120"/>
            <a:ext cx="85212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here appropriate, validation should be done in ac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internationally approved methodolog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.g. ISO, European Committee for Standardization (C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However, in some cases, national or sector method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may be superior to Internationally-approved on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or such approval may be pending (“HOT ISSUE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Validation of data may be more easily achievable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responsibility is delegated to local or regional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author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r to the regional or local offices of national authoriti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nce they will b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closer to the operator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and are more lik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o have an overview of their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Guidance on validation is evolv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1C99-B7E0-433A-A305-FAB86740AB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ext steps for Protocol’s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uture implementa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834920"/>
            <a:ext cx="86040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ting up the Protocol’s institutional architecture: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ules of procedure and compliance review mechanism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inancial arrangeme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echnical assistance mechanism,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7640" indent="-236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cooperation and reporting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ernational PRTR Coordinating Group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260360" indent="-228600">
              <a:lnSpc>
                <a:spcPct val="90000"/>
              </a:lnSpc>
              <a:spcBef>
                <a:spcPts val="1125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AICM / ICCM etc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pletion of technical guidance on implementation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Further guidance on dissemination of PRTR information  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or data users’ guide suggested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DEC9-57E5-4E37-8CBC-D81C5886060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UNECE Convention on Access to Information, Public Participation in Decision-making and Access to Justice in Environmental Matte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25 June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1998 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doption of the Convention at the 4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, Aarhus, Denmark. Signed by 39 countries and the </a:t>
            </a:r>
            <a:r>
              <a:rPr b="0" lang="fr-CH" sz="20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uropean Communi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0 Oct </a:t>
            </a:r>
            <a:r>
              <a:rPr b="1" lang="fr-CH" sz="18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01-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Entry into force of the Conven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1 May 2003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-  Adoption of the </a:t>
            </a:r>
            <a:r>
              <a:rPr b="0" i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Protocol on PRTRs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t extra-ordinary    meeting of the Parties, within the framework of the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en-GB" sz="20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Ministerial “Environment for Europe” Conferenc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(Kiev, Ukraine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440" y="285480"/>
            <a:ext cx="783756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From the Aarhus Convention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to the Protocol on PRTRs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BD0E-C96E-4025-A25E-B3246ABEEB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ssible future appl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Pan-European Environment and Health Information System (Environment-for-Europe Ministerial Conference / WHO Europe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mmercial property management information systems (“due diligence” research, e.g. Environment Agency of England and Wales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Integration into Global Reporting Initiative, Socially Responsible Investment (SRI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),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and evolving ISO standards and OECD guidelines 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AICM national performance tracking under ICCM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onvergence of regional PRTR systems (North American </a:t>
            </a:r>
            <a:r>
              <a:rPr b="1" i="1" lang="en-US" sz="2200" spc="-1" strike="noStrike">
                <a:solidFill>
                  <a:srgbClr val="ffff66"/>
                </a:solidFill>
                <a:latin typeface="Arial"/>
              </a:rPr>
              <a:t>Taking Stock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, European PRTR, East Asia?)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C6CD-837E-4170-85EE-76F2D24F4C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TR success story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r the 10-year period from 1988 to 1997, atmospheric emissions of some 260 known carcinogens and reproductive toxins from  the United States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oxics Release Inventory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ing facilities have been reduced by approximately 85% in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tate of California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, and by some 42% in the rest of the country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.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., for all chemicals listed in California as known to cause either cancer or reproductive toxicity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reported as air emissions under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RI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 ).”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From P. Sand (2002)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EEB6-0867-4111-BFA2-0698F9DF03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33240" y="2209680"/>
            <a:ext cx="8060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MORE INFORMATION AVAILABLE ON THE AARHUS CONVENTION WEB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www.unece.org/env/pp/pr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arhus Clearing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http://aarhusclearinghouse.unece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0440" y="477720"/>
            <a:ext cx="1581120" cy="14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B971-2123-45B2-A722-0AD06CAA5D80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0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66"/>
                </a:solidFill>
                <a:latin typeface="Arial"/>
              </a:rPr>
              <a:t>Status of Convention Ratificat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8160" y="1246320"/>
            <a:ext cx="2997360" cy="443232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4240" y="1222200"/>
            <a:ext cx="2952720" cy="4395960"/>
          </a:xfrm>
          <a:prstGeom prst="rect">
            <a:avLst/>
          </a:prstGeom>
          <a:solidFill>
            <a:srgbClr val="0000c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2000" y="1311120"/>
            <a:ext cx="27464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ba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rm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zerbaij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Belar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elgi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Bulg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ypr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Czech Republ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Denmar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Esto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in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rmer Yugosla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p. of Macedon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France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Hung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Kazakhst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1080" y="1235160"/>
            <a:ext cx="26449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Kyrgyz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atv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ithu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Luxembourg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Mal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Moldova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, Rep.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etherl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Norwa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Portu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Roma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Slovak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loven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Swe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Tajikistan</a:t>
            </a: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66"/>
                </a:solidFill>
                <a:latin typeface="Arial"/>
              </a:rPr>
              <a:t>Turkmenist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kr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United King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European Community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9880" y="5819760"/>
            <a:ext cx="855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Convention total = 39 Parties (PRTR </a:t>
            </a:r>
            <a:r>
              <a:rPr b="1" lang="cs-CZ" sz="1600" spc="-1" strike="noStrike">
                <a:solidFill>
                  <a:srgbClr val="ffff66"/>
                </a:solidFill>
                <a:latin typeface="Arial"/>
              </a:rPr>
              <a:t>Protocol</a:t>
            </a: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37 Signatories, including Germany, Iceland, Ireland, Serbia &amp; Montenegro. Protocol Parties as 1 Sep 2006 indicated by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  <a:ea typeface="Arial"/>
              </a:rPr>
              <a:t>*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49CC-47B3-4394-A7B5-EDC343ECC5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Access to information provision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2800" y="1461600"/>
            <a:ext cx="79200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Arial"/>
              </a:rPr>
              <a:t>Selected features of Convention article 5 “</a:t>
            </a:r>
            <a:r>
              <a:rPr b="1" lang="en-GB" sz="1800" spc="-1" strike="noStrike" u="sng">
                <a:solidFill>
                  <a:srgbClr val="ffff66"/>
                </a:solidFill>
                <a:uFillTx/>
                <a:latin typeface="Arial"/>
              </a:rPr>
              <a:t>Active Dissemination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en-GB" sz="16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Transparency and accessibility of information system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mmediate dissemination of information in cases of imminent threat to health or environmen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Sufficient product information to ensure informed environmental choice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Pollutant release and transfer registers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 Narrow"/>
              </a:rPr>
              <a:t>Increased access to information through Interne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80920" indent="-2268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Article 5, paragraph 3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each Party to ensure that environmental Information progressively becomes available In electronic databases which are easily 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ccessible</a:t>
            </a:r>
            <a:r>
              <a:rPr b="1" i="1" lang="id-ID" sz="1600" spc="-1" strike="noStrike">
                <a:solidFill>
                  <a:srgbClr val="ffff66"/>
                </a:solidFill>
                <a:latin typeface="Arial"/>
              </a:rPr>
              <a:t> t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o the public through public telecommunication networks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F5E4-5521-46BB-A78D-9EFC90F8FA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egal basis of PRTR Protocol in Aarhus Convention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7240" y="161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egal basis: article 5, para. 9 and article 10, para. 2 (e) and (i) of the Aarhus Convention, requiring each Party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 take steps to establish progressively ... a coherent, nationwide system of pollution inventories or registers on a structured, computerized and publicly accessible database compiled through standardized reporting.” (art. 5, para. 9) 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into account international processes and developments, including the elaboration of an appropriate instrument concerning pollution release and transfer registers or inventories ….” (art. 10, para. 2(i) )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6185-D1D4-440E-A2A5-AF58B3BED9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76440" y="1531800"/>
            <a:ext cx="8262720" cy="55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and pollutants cov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General obligations placed on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bligations placed on owners /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ments of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Quality assessment and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ste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Possible applications (not requir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1400" y="534960"/>
            <a:ext cx="70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Requirements of Protocol on PRT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BC8F-5951-4767-B986-502AE97E01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acilitie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03480" y="161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acilities covered (annex I) include: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hermal power stations and refine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Mining and metallurgical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Chemical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Waste and waste-water management plant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Paper and timber industrie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tensive livestock production and aquaculture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Food and beverage production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Textiles, Tanneries, Shipbuilding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DC2B-AFE3-4E36-B0E7-A054468B2F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llutants covere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Pollutants covered (annex II) include: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Greenhouse gas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cid rain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Ozone-depleting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Heavy metal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Certain carcinogens, such as dioxin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OTAL:  86 pollutant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.B. National registers may include additional facilities and substances, e.g. European Union includes 91 individual substances or groups of substances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B106-29E8-4CC0-A2E5-C9A3B4CD71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overnment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2400" y="1360080"/>
            <a:ext cx="6905880" cy="38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Chooses among various technical options for     the design of a central, publicly accessibly register to determine the institutional framework required for ensuring a coordinated system of information flow to it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Sets forth the rights and responsibilities of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various key players, e.g.</a:t>
            </a: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obligation of pollutant-emitting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faciliti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report, and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right of the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general public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to participate in decisions concerning PRTRs</a:t>
            </a:r>
            <a:endParaRPr b="1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21:04:29Z</dcterms:created>
  <dc:creator>Milly</dc:creator>
  <dc:description/>
  <dc:language>en-US</dc:language>
  <cp:lastModifiedBy>FLENSBORG</cp:lastModifiedBy>
  <cp:lastPrinted>2000-12-08T07:30:52Z</cp:lastPrinted>
  <dcterms:modified xsi:type="dcterms:W3CDTF">2006-09-04T15:49:43Z</dcterms:modified>
  <cp:revision>384</cp:revision>
  <dc:subject/>
  <dc:title>No Slide Title</dc:title>
</cp:coreProperties>
</file>