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3508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33640" y="0"/>
            <a:ext cx="293544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-1800" y="9408600"/>
            <a:ext cx="293508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3833640" y="9408600"/>
            <a:ext cx="293544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075E5965-FA4A-439B-A6DB-658EB047369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 Secretary-General Kofi Ann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cently described the drafting as having global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a 'giant step forward in the development of international law in this field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the first legally binding UN instrument to address the issues covered by what we might call environmental democracy in a detailed and systematic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cretary General: Rio +10 meeting: examine the global relevance of the Convetion prinic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quirement for p.a. to actively disseminate certain types of information. In a transparant and accessible way f.I. by public registers and li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tegories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take steps in developing a Pollutant Release and Transfer Regi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of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publish and disseminate state of the environment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7DA7-C212-4F49-BF54-CAFCD50833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E38C-9A25-4951-AEBF-E1B77AF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B315-9DAF-48FE-9DCA-087F8FD6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FCDC-A623-4106-8D43-15114C071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93862-B5DA-42B4-A0C0-20040C15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4EB8F-17A2-48E6-8DC6-7226828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C9E3F-7F24-49FC-AD34-E62BD44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FE38-8FF9-4D29-A84A-9D8D3F1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48035-5921-4549-B1B4-98049B4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3515E-7AE8-4570-A206-A98444CF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0EF2-6912-4B4D-971D-F49E883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E657-462C-424B-B2FD-87255871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446C4-9F26-4F9B-BA00-3A21AA7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ED21E-30E0-4F57-A820-6FC0611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C0945-3B35-4AC9-8960-453961A5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BF304-4669-4A48-A71B-043363F5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81539-2149-46B0-96F3-474C9294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ABBE-FFCF-44B0-A1E2-CF7A742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1146-513D-4FC0-9D11-338DED99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48DE-E1C5-4138-82FC-BC50DBAB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298E-5347-45C1-8870-E4B65751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CA71-740F-470F-B111-588971C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E54A-8D01-4CCC-8967-64B1EA1C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E031-6AEB-4F34-8621-0934FFC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55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3" marL="160344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500-CA75-454B-9F3C-32FB646DC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01000" y="5562720"/>
            <a:ext cx="9907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2560" cy="380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4AA-15C7-4411-B808-0A97C22D0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914400" indent="11736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371600" indent="3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" y="1655640"/>
            <a:ext cx="873468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n the implementation of requirements of the PRTR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rotocol to the Aarhus Convention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720" y="3738600"/>
            <a:ext cx="823464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ichael Stanley-J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al Information Management Offi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, Housing and Land Management Di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Nations Economic Commission for Eur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WORKSHOP ON ENVIRONMENTAL MONITOR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AND REPORTING BY</a:t>
            </a:r>
            <a:r>
              <a:rPr b="1" lang="cs-CZ" sz="16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ENTERPRI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4-6 September 2006,</a:t>
            </a:r>
            <a:r>
              <a:rPr b="1" lang="cs-CZ" sz="16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Warsaw, Po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3856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772080" y="214200"/>
            <a:ext cx="1600200" cy="13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06160" y="1450800"/>
            <a:ext cx="746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. Institution to manage the national PRTR system (art. 2, para.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. Structure for inter-agency coord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. Appropriate systems for enforcement (art. 3, para.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Collection, validation and management of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. Collection of data submitted by owners or operators of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acilities  (art. 7, paras. 2 and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5. Assessment of the quality of the data collected in ter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letenes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redibilit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(art. 10, para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6. Collection of information on releases from diffuse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art. 7, para. 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8. Development and management of a register compris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 structured, computerized database able to maintai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or 10 reporting years (art. 4, para. (j) and art. 5, para. 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9. Dissemination of information and training (arts. 8, 11 and 15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0880" y="371520"/>
            <a:ext cx="759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lements explicitly set forth in the Protoc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r implicit in its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F4DF-06B7-4D1C-ACC4-4A1CB7C1AE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asic obligation of operato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2360" y="179244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9040" y="1555920"/>
            <a:ext cx="76377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submit the information specified with resp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those pollutants and waste for which threshol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were exc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ach Party decides with respect to a particular pollu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apply either a release threshold or a manufactur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rocess or use (MPU) threshold will be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acility operators do not choose under which requi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pollutant threshold or MPU) to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92E4-36AE-4004-AE33-F0D14A328C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5600" y="133200"/>
            <a:ext cx="833868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requirements of operators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rticle 7 - continued)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Party shall requir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perato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f facilities specifi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 annex I 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lease any pollutant specified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hazardous waste exceeding 2 tons per y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other waste exceeding 2,000 tons per year, where the Party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pted for waste-specific reporting (as in the European Un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specified in annex II in waste wa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stined for waste-water treatment in quantities exceeding the applica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dertake one or more activities specified in annex I at or abo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employee threshold specified in annex I,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anufacture, process or uses any pollutant specified in annex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E231-E9E0-406B-9B1D-23EA71D42AD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4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pecific reporting ele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9920" y="1039680"/>
            <a:ext cx="774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treet addres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geographical location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ctivitie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the reporting fac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Name of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wner or operato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, as appropriate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umerical identifier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f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specified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released to the environmen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both in aggregate and according to whether release is to air, 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ater, or to land, including underground inj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i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in the repor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year, distinguishing between amounts for disposal and for recovery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 and address of facility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of waste 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distinguishing betwe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azardous waste and other waste, for any operations, indica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hether waste is destined for recovery or dispos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f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boundary movements of hazardous was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name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ddress of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recover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dispos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ctual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ite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8F0B-76BD-4528-AD51-EE17DF58160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elements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800" y="1459080"/>
            <a:ext cx="7859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mount of 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 in waste wat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ransferred off-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ype of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methodolog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used to derive information on amount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dicating whether based on measurement, calculation or esti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M, C,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formation to include releases and transfers from routine and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xtraordinary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wners or operators to be required to collect releases and transf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ata needed “with appropriate frequency”, and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cords of the data from which the reported information was deri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ust be kept available for the competent authorities for 5 year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cluding description of M, C or 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B3BF-2B85-4FC1-A2F9-3242E05B0A7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essment 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Article 10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7360" y="1684440"/>
            <a:ext cx="841032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are to assure the quality of the inform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Quality assessment of data duty of the Parties, in particular as to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completeness – consistency – 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aking into account guidelines developed by the M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raft </a:t>
            </a: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uidance to implementation of the Protocol on PRT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nultimate version released 31 July 2006 available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eb sites of  UNECE Working Group on PRTRs and WG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3C5B-C21B-4A78-B7D0-3EC64733B7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est Available Information’ (BAI) standard</a:t>
            </a:r>
            <a:br>
              <a:rPr sz="28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article 9, para. 2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1040" y="1822320"/>
            <a:ext cx="816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of facilities required to ensure the qua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f information they report and to use “best available information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st available information’ may inclu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nitor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mission facto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ass ba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qu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direct monitoring or other calc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gineering judgments, and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ther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b. EU adopting more stringent guidance on B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26B5-3815-40C7-8288-EC596A6F417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urance and contro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3480" y="1593720"/>
            <a:ext cx="83534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alibration and maintenance of the monitoring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Use of recognized quality management syste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iodic checks by an external accredited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ertification of instruments and personnel u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cognized certification sc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Elements for guidelines on strengthening environmen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itoring and reporting by enterprises,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a 36 (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ECE/CEP/AC.10/2006/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E3F0-8B36-4B5E-9D32-8EEE8990080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alid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920" y="1284120"/>
            <a:ext cx="85212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ere appropriate, validation should be done in ac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ith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internationally approved method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.g. ISO, European Committee for Standardization (C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However, in some cases, national or sector method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may be superior to Internationally-approved on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r such approval may be pending (“HOT ISSUE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alidation of data may be more easily achievable i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responsibility is delegated to local or regional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author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r to the regional or local offices of national authoriti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nce they will b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closer to the operator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and are more lik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have an overview of their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Guidance on validation is evolv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E12B-724E-4F6A-92D7-0018BA644FC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2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ext steps for Protocol’s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uture implement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834920"/>
            <a:ext cx="86040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ting up the Protocol’s institutional architecture: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ules of procedure and compliance review mechanism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inancial arrangeme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echnical assistance mechanism,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cooperation and reporting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PRTR Coordinating Group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AICM / ICCM etc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pletion of technical guidance on implementation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urther guidance on dissemination of PRTR information  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or data users’ guide suggested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182D-6A2B-412A-B5FD-78B93AAB21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UNECE Convention on Access to Information, Public Participation in Decision-making and Access to Justice in Environmental Matte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5 June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1998 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Adoption of the Convention at the 4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, Aarhus, Denmark. Signed by 39 countries and the </a:t>
            </a:r>
            <a:r>
              <a:rPr b="0" lang="fr-CH" sz="20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uropean Communi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0 Oct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01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Entry into force of the Conven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1 May 2003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-  Adoption of the </a:t>
            </a:r>
            <a:r>
              <a:rPr b="0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Protocol on PRTRs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at extra-ordinary    meeting of the Parties, within the framework of the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(Kiev, Ukraine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440" y="285480"/>
            <a:ext cx="783756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From the Aarhus Convention</a:t>
            </a: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to the Protocol on PRTRs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BFA4-0718-4D41-8981-F8A3F2EDF3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ssible future appl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Pan-European Environment and Health Information System (Environment-for-Europe Ministerial Conference / WHO Europe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mercial property management information systems (“due diligence” research, e.g. Environment Agency of England and Wales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ntegration into Global Reporting Initiative, Socially Responsible Investment (SRI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),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and evolving ISO standards and OECD guidelines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AICM national performance tracking under ICCM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nvergence of regional PRTR systems (North American 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Taking Stock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, European PRTR, East Asia?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5B94-73B2-4824-A661-8CFE520E41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 success sto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r the 10-year period from 1988 to 1997, atmospheric emissions of some 260 known carcinogens and reproductive toxins from  the United States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oxics Release Inventor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ing facilities have been reduced by approximately 85% in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tate of California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and by some 42% in the rest of the country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.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., for all chemicals listed in California as known to cause either cancer or reproductive toxicity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ed as air emissions under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RI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).”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From P. Sand (2002)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D724-5470-4E1A-92EB-8FC53820BD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33240" y="2209680"/>
            <a:ext cx="80600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MORE INFORMATION AVAILABLE ON THE AARHUS CONVENTION WEB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www.unece.org/env/pp/pr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arhus Clearing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aarhusclearinghouse.unece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0440" y="477720"/>
            <a:ext cx="1581120" cy="14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154F-300C-49A3-8BF3-3C33936EDBFA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0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66"/>
                </a:solidFill>
                <a:latin typeface="Arial"/>
              </a:rPr>
              <a:t>Status of Convention Ratif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8160" y="1246320"/>
            <a:ext cx="2997360" cy="443232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4240" y="1222200"/>
            <a:ext cx="2952720" cy="439596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2000" y="1311120"/>
            <a:ext cx="27464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lba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rm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zerbaij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Belar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elgi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ulg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ypr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zech Republ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Denmar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Esto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in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ormer Yugosla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p. of Macedo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nce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ree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Hung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Ita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Kazakhst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1080" y="1235160"/>
            <a:ext cx="26449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Kyrgyz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atv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ithu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uxembourg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Mal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oldova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, Rep.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etherl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orwa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rtu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Slovak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lov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p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we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Tajikistan</a:t>
            </a: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Turkmeni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kra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King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uropean Community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9880" y="5819760"/>
            <a:ext cx="855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Convention total = 39 Parties (PRTR 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Protocol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37 Signatories, including Germany, Iceland, Ireland, Serbia &amp; Montenegro. Protocol Parties as 1 Sep 2006 indicated by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B95A-108E-4640-94C7-DE9948DCBB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Access to information provis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2800" y="1461600"/>
            <a:ext cx="79200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Arial"/>
              </a:rPr>
              <a:t>Selected features of Convention article 5 “</a:t>
            </a:r>
            <a:r>
              <a:rPr b="1" lang="en-GB" sz="1800" spc="-1" strike="noStrike" u="sng">
                <a:solidFill>
                  <a:srgbClr val="ffff66"/>
                </a:solidFill>
                <a:uFillTx/>
                <a:latin typeface="Arial"/>
              </a:rPr>
              <a:t>Active Dissemination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1" lang="en-GB" sz="16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Transparency and accessibility of information system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mmediate dissemination of information in cases of imminent threat to health or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Sufficient product information to ensure informed environmental choic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Pollutant release and transfer registe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ncreased access to information through Interne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880920" indent="-2268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Article 5, paragraph 3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each Party to ensure that environmental Information progressively becomes available In electronic databases which are easily 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ccessible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 t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o the public through public telecommunication networks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F1E1-6409-456C-81B3-52592D9A01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egal basis of PRTR Protocol in Aarhus Conven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Legal basis: article 5, para. 9 and article 10, para. 2 (e) and (i) of the Aarhus Convention, requiring each Par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 take steps to establish progressively ... a coherent, nationwide system of pollution inventories or registers on a structured, computerized and publicly accessible database compiled through standardized reporting.” (art. 5, para. 9)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into account international processes and developments, including the elaboration of an appropriate instrument concerning pollution release and transfer registers or inventories ….” (art. 10, para. 2(i) 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B3E5-E081-432C-A95B-40BAC85244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76440" y="1531800"/>
            <a:ext cx="826272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and pollutants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General obligations placed on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bligations placed on owners / 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ments of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Quality assessment and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ste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ossible applications (not requir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1400" y="534960"/>
            <a:ext cx="70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Requirements of Protocol on PRT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CA16-213E-4058-8FCC-B26949DA9E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acilitie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03480" y="161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covered (annex I) include: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hermal power stations and refine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Mining and metallurgical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Chemical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Waste and waste-water management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Paper and timber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ntensive livestock production and aquacultur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od and beverage produc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extiles, Tanneries, Shipbuilding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1A5B-0F47-4FF5-949A-C6A2844A95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llutant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Pollutants covered (annex II) include: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Greenhouse gas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cid rain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Ozone-depleting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Heavy metal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Certain carcinogens, such as dioxi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OTAL:  86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.B. National registers may include additional facilities and substances, e.g. European Union includes 91 individual substances or groups of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81A1-7094-4AB7-B974-D79D0ADDA2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overnmen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2400" y="1360080"/>
            <a:ext cx="6905880" cy="38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hooses among various technical options for     the design of a central, publicly accessibly register to determine the institutional framework required for ensuring a coordinated system of information flow to i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s forth the rights and responsibilities of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various key players, e.g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obligation of pollutant-emitting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facil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report, an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right of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eneral public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participate in decisions concerning PRT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21:04:29Z</dcterms:created>
  <dc:creator>Milly</dc:creator>
  <dc:description/>
  <dc:language>en-US</dc:language>
  <cp:lastModifiedBy>FLENSBORG</cp:lastModifiedBy>
  <cp:lastPrinted>2000-12-08T07:30:52Z</cp:lastPrinted>
  <dcterms:modified xsi:type="dcterms:W3CDTF">2006-09-04T15:49:43Z</dcterms:modified>
  <cp:revision>384</cp:revision>
  <dc:subject/>
  <dc:title>No Slide Title</dc:title>
</cp:coreProperties>
</file>