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532-5272-4A2E-9F02-C359FCD4EED0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25440" y="6335640"/>
            <a:ext cx="3557520" cy="40716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00" spc="-1" strike="noStrike">
                <a:solidFill>
                  <a:srgbClr val="000000"/>
                </a:solidFill>
                <a:latin typeface="Arial"/>
              </a:rPr>
              <a:t>Introduction SwissPRTR</a:t>
            </a: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May 2009</a:t>
            </a:r>
            <a:br>
              <a:rPr sz="900"/>
            </a:b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Ch. Mo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27000" y="387360"/>
            <a:ext cx="198288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bafu.admin.ch/chemikalien/prtr/index.html?lang=en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Georg.Karlaganis@bafu.admin.ch" TargetMode="External"/><Relationship Id="rId2" Type="http://schemas.openxmlformats.org/officeDocument/2006/relationships/hyperlink" Target="mailto:Christoph.Moor@bafu.admin.ch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Arial"/>
              </a:rPr>
              <a:t>An overview on SwissPRTR</a:t>
            </a:r>
            <a:br>
              <a:rPr sz="4800"/>
            </a:br>
            <a:br>
              <a:rPr sz="4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ollutant Release and Transfer Regi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85560" y="5299200"/>
            <a:ext cx="742932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81640" y="819000"/>
            <a:ext cx="310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Division Substances, Soil, Bio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What has to be repor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ases of 86 pollutants (listed on next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o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86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waste &gt;2000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ransfer of hazardous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te &gt; 2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451560" y="4295880"/>
            <a:ext cx="2692440" cy="14270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453360" y="5767560"/>
            <a:ext cx="26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rial"/>
              </a:rPr>
              <a:t>Waste water treatment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187280" y="4272120"/>
            <a:ext cx="7042320" cy="20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ata hand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85920" y="3500280"/>
            <a:ext cx="767880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ies enter the data into internet databas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acilities are responsible for the data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ntry by facil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alidation by regional author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alidation by federal author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xport for public datab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835280" y="1413000"/>
            <a:ext cx="1800000" cy="1800000"/>
            <a:chOff x="1835280" y="1413000"/>
            <a:chExt cx="1800000" cy="1800000"/>
          </a:xfrm>
        </p:grpSpPr>
        <p:sp>
          <p:nvSpPr>
            <p:cNvPr id="582" name=""/>
            <p:cNvSpPr/>
            <p:nvPr/>
          </p:nvSpPr>
          <p:spPr>
            <a:xfrm>
              <a:off x="1836720" y="1486080"/>
              <a:ext cx="1511280" cy="1726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5280" y="1846440"/>
              <a:ext cx="1368360" cy="288720"/>
            </a:xfrm>
            <a:prstGeom prst="rightArrow">
              <a:avLst>
                <a:gd name="adj1" fmla="val 50000"/>
                <a:gd name="adj2" fmla="val 118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14130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31640" y="1447920"/>
            <a:ext cx="2232360" cy="1765080"/>
            <a:chOff x="3131640" y="1447920"/>
            <a:chExt cx="2232360" cy="1765080"/>
          </a:xfrm>
        </p:grpSpPr>
        <p:sp>
          <p:nvSpPr>
            <p:cNvPr id="586" name=""/>
            <p:cNvSpPr/>
            <p:nvPr/>
          </p:nvSpPr>
          <p:spPr>
            <a:xfrm>
              <a:off x="3419640" y="1484280"/>
              <a:ext cx="1511280" cy="1728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19640" y="1846440"/>
              <a:ext cx="1368360" cy="288720"/>
            </a:xfrm>
            <a:prstGeom prst="rightArrow">
              <a:avLst>
                <a:gd name="adj1" fmla="val 50000"/>
                <a:gd name="adj2" fmla="val 118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35280" y="144792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Can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5400000">
              <a:off x="3203640" y="2059560"/>
              <a:ext cx="432000" cy="57636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16720" y="1484280"/>
            <a:ext cx="2050920" cy="1728720"/>
            <a:chOff x="6516720" y="1484280"/>
            <a:chExt cx="2050920" cy="1728720"/>
          </a:xfrm>
        </p:grpSpPr>
        <p:sp>
          <p:nvSpPr>
            <p:cNvPr id="591" name=""/>
            <p:cNvSpPr/>
            <p:nvPr/>
          </p:nvSpPr>
          <p:spPr>
            <a:xfrm>
              <a:off x="6588000" y="1484280"/>
              <a:ext cx="1511280" cy="1728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16720" y="1773360"/>
              <a:ext cx="20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PR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330360" y="1413000"/>
            <a:ext cx="3329280" cy="1790640"/>
            <a:chOff x="3330360" y="1413000"/>
            <a:chExt cx="3329280" cy="1790640"/>
          </a:xfrm>
        </p:grpSpPr>
        <p:sp>
          <p:nvSpPr>
            <p:cNvPr id="594" name=""/>
            <p:cNvSpPr/>
            <p:nvPr/>
          </p:nvSpPr>
          <p:spPr>
            <a:xfrm>
              <a:off x="5003640" y="1474920"/>
              <a:ext cx="1511640" cy="1728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03640" y="1844640"/>
              <a:ext cx="1368720" cy="289080"/>
            </a:xfrm>
            <a:prstGeom prst="rightArrow">
              <a:avLst>
                <a:gd name="adj1" fmla="val 50000"/>
                <a:gd name="adj2" fmla="val 1183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18200" y="141300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330360" y="2131920"/>
              <a:ext cx="2014200" cy="936720"/>
              <a:chOff x="3330360" y="2131920"/>
              <a:chExt cx="2014200" cy="9367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3330000" y="2779560"/>
                <a:ext cx="1726920" cy="289080"/>
              </a:xfrm>
              <a:prstGeom prst="rightArrow">
                <a:avLst>
                  <a:gd name="adj1" fmla="val 50000"/>
                  <a:gd name="adj2" fmla="val 149346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4588920" y="2239920"/>
                <a:ext cx="863640" cy="647640"/>
              </a:xfrm>
              <a:prstGeom prst="blockArc">
                <a:avLst>
                  <a:gd name="adj1" fmla="val 10645919"/>
                  <a:gd name="adj2" fmla="val 154081"/>
                  <a:gd name="adj3" fmla="val 1724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10120" y="2852640"/>
                <a:ext cx="3240" cy="1382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297080" y="324000"/>
            <a:ext cx="7461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8360" y="1052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5092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0364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5964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1200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56000" y="1052640"/>
            <a:ext cx="57636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08720" y="1052640"/>
            <a:ext cx="576000" cy="496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80000" y="1052640"/>
            <a:ext cx="5760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8472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36000" y="1052640"/>
            <a:ext cx="5760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8836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7280" y="1052640"/>
            <a:ext cx="57636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6920" y="1052640"/>
            <a:ext cx="813780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0920" y="1052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2050920" y="1052640"/>
            <a:ext cx="22338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4356000" y="1052640"/>
            <a:ext cx="22338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5"/>
          <p:cNvSpPr/>
          <p:nvPr/>
        </p:nvSpPr>
        <p:spPr>
          <a:xfrm>
            <a:off x="6659640" y="1052640"/>
            <a:ext cx="22334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2124000" y="1413000"/>
            <a:ext cx="43200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85128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327492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269892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442764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6156360" y="1414440"/>
            <a:ext cx="43164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558000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500364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6732720" y="1413000"/>
            <a:ext cx="4316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8461440" y="1413000"/>
            <a:ext cx="431640" cy="2887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5"/>
          <p:cNvSpPr/>
          <p:nvPr/>
        </p:nvSpPr>
        <p:spPr>
          <a:xfrm>
            <a:off x="788508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7308720" y="1414440"/>
            <a:ext cx="432000" cy="2890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533520" y="1916280"/>
            <a:ext cx="213336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rting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4"/>
          <p:cNvSpPr/>
          <p:nvPr/>
        </p:nvSpPr>
        <p:spPr>
          <a:xfrm>
            <a:off x="533520" y="4027320"/>
            <a:ext cx="287964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validation by auth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533520" y="5084640"/>
            <a:ext cx="342900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blication on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33"/>
          <p:cNvSpPr/>
          <p:nvPr/>
        </p:nvSpPr>
        <p:spPr>
          <a:xfrm>
            <a:off x="533520" y="2971800"/>
            <a:ext cx="2895480" cy="2286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entry by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3"/>
          <p:cNvSpPr/>
          <p:nvPr/>
        </p:nvSpPr>
        <p:spPr>
          <a:xfrm>
            <a:off x="826920" y="2781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826920" y="386064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826920" y="494172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2050920" y="2349360"/>
            <a:ext cx="2233800" cy="142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2"/>
          <p:cNvSpPr/>
          <p:nvPr/>
        </p:nvSpPr>
        <p:spPr>
          <a:xfrm>
            <a:off x="4356000" y="3429000"/>
            <a:ext cx="107964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2"/>
          <p:cNvSpPr/>
          <p:nvPr/>
        </p:nvSpPr>
        <p:spPr>
          <a:xfrm>
            <a:off x="5508720" y="4508640"/>
            <a:ext cx="107928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6659640" y="5589720"/>
            <a:ext cx="504720" cy="1443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32"/>
          <p:cNvSpPr/>
          <p:nvPr/>
        </p:nvSpPr>
        <p:spPr>
          <a:xfrm>
            <a:off x="4356000" y="2349360"/>
            <a:ext cx="2233800" cy="14292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32"/>
          <p:cNvSpPr/>
          <p:nvPr/>
        </p:nvSpPr>
        <p:spPr>
          <a:xfrm>
            <a:off x="6661080" y="3429000"/>
            <a:ext cx="1079640" cy="14436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32"/>
          <p:cNvSpPr/>
          <p:nvPr/>
        </p:nvSpPr>
        <p:spPr>
          <a:xfrm>
            <a:off x="7813800" y="4508640"/>
            <a:ext cx="1079280" cy="144360"/>
          </a:xfrm>
          <a:prstGeom prst="rect">
            <a:avLst/>
          </a:prstGeom>
          <a:solidFill>
            <a:srgbClr val="ed181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2"/>
          <p:cNvSpPr/>
          <p:nvPr/>
        </p:nvSpPr>
        <p:spPr>
          <a:xfrm>
            <a:off x="6659640" y="2349360"/>
            <a:ext cx="2233440" cy="1429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2"/>
          <p:cNvSpPr/>
          <p:nvPr/>
        </p:nvSpPr>
        <p:spPr>
          <a:xfrm>
            <a:off x="2050920" y="3429000"/>
            <a:ext cx="107964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2"/>
          <p:cNvSpPr/>
          <p:nvPr/>
        </p:nvSpPr>
        <p:spPr>
          <a:xfrm>
            <a:off x="3203640" y="4508640"/>
            <a:ext cx="107928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4354560" y="5589720"/>
            <a:ext cx="504720" cy="14436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10280" y="1052640"/>
            <a:ext cx="0" cy="4897440"/>
          </a:xfrm>
          <a:prstGeom prst="line">
            <a:avLst/>
          </a:prstGeom>
          <a:ln w="38160">
            <a:solidFill>
              <a:srgbClr val="ed181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8"/>
          <p:cNvSpPr/>
          <p:nvPr/>
        </p:nvSpPr>
        <p:spPr>
          <a:xfrm>
            <a:off x="539640" y="5445000"/>
            <a:ext cx="1827360" cy="2160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blic access 1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Access for the public: expla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31654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Glossary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for pollutants and technic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Explanatio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of register and data in „FAQ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mments on </a:t>
            </a: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actual data, changes and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eneral information on the purpose of the PR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rcRect l="2952" t="12920" r="2952" b="10336"/>
          <a:stretch/>
        </p:blipFill>
        <p:spPr>
          <a:xfrm>
            <a:off x="5464080" y="3908520"/>
            <a:ext cx="3022560" cy="24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5" name="" descr=""/>
          <p:cNvPicPr/>
          <p:nvPr/>
        </p:nvPicPr>
        <p:blipFill>
          <a:blip r:embed="rId2"/>
          <a:srcRect l="542" t="15097" r="24646" b="2646"/>
          <a:stretch/>
        </p:blipFill>
        <p:spPr>
          <a:xfrm>
            <a:off x="4459320" y="874800"/>
            <a:ext cx="4378320" cy="2901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260360" y="5811840"/>
            <a:ext cx="41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Arial"/>
              </a:rPr>
              <a:t>Internet site and printed f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atabase query: selection b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293840" y="961920"/>
            <a:ext cx="6697800" cy="53625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5815080" y="239544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15080" y="323208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cility and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15080" y="406728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5080" y="5133960"/>
            <a:ext cx="27223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eld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2"/>
          </p:cNvPr>
          <p:cNvSpPr/>
          <p:nvPr/>
        </p:nvSpPr>
        <p:spPr>
          <a:xfrm>
            <a:off x="428760" y="4340160"/>
            <a:ext cx="641160" cy="292320"/>
          </a:xfrm>
          <a:custGeom>
            <a:avLst/>
            <a:gdLst>
              <a:gd name="textAreaLeft" fmla="*/ 18720 w 641160"/>
              <a:gd name="textAreaRight" fmla="*/ 622440 w 641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47345" h="21600">
                <a:moveTo>
                  <a:pt x="0" y="0"/>
                </a:moveTo>
                <a:lnTo>
                  <a:pt x="47345" y="0"/>
                </a:lnTo>
                <a:lnTo>
                  <a:pt x="47345" y="21600"/>
                </a:lnTo>
                <a:lnTo>
                  <a:pt x="0" y="21600"/>
                </a:lnTo>
                <a:close/>
              </a:path>
              <a:path fill="lightenLess" w="47345" h="21600">
                <a:moveTo>
                  <a:pt x="0" y="0"/>
                </a:moveTo>
                <a:lnTo>
                  <a:pt x="47345" y="0"/>
                </a:lnTo>
                <a:lnTo>
                  <a:pt x="45945" y="1400"/>
                </a:lnTo>
                <a:lnTo>
                  <a:pt x="1400" y="1400"/>
                </a:lnTo>
                <a:close/>
              </a:path>
              <a:path fill="darken" w="47345" h="21600">
                <a:moveTo>
                  <a:pt x="47345" y="0"/>
                </a:moveTo>
                <a:lnTo>
                  <a:pt x="47345" y="21600"/>
                </a:lnTo>
                <a:lnTo>
                  <a:pt x="45945" y="20200"/>
                </a:lnTo>
                <a:lnTo>
                  <a:pt x="45945" y="1400"/>
                </a:lnTo>
                <a:close/>
              </a:path>
              <a:path fill="darkenLess" w="47345" h="21600">
                <a:moveTo>
                  <a:pt x="47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5" y="20200"/>
                </a:lnTo>
                <a:close/>
              </a:path>
              <a:path fill="lighten" w="47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sults in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293840" y="961920"/>
            <a:ext cx="6697800" cy="536256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913360" y="2752560"/>
            <a:ext cx="2722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lection by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13360" y="4851360"/>
            <a:ext cx="29638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ta table, can be s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285920" y="966960"/>
            <a:ext cx="6697440" cy="53625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oftware for geographical 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935680" y="203832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p fo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35680" y="4460760"/>
            <a:ext cx="27432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verview table for selected area;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ith links to dat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TR as an international commi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zerland takes part in the following bo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Working group on PR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PRTR Coordinating Group (UNITAR, UNEP, UNE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CD Task force on PR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ering committee for the UNITAR Projec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POPs monitoring, reporting and information dissemination using PRT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46136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Contacts SwissPRT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1116000" y="1052640"/>
            <a:ext cx="750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ederal Office for the Environment FOEN, CH- 3003 B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f. Dr. Georg Karlagan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org.Karlaganis@bafu.admin.ch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Tel. +41 79 415 99 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r. Christoph M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ristoph.Moor@bafu.admin.ch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Tel. +41 31 322 93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187280" y="551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omepage:   </a:t>
            </a:r>
            <a:r>
              <a:rPr b="0" lang="de-CH" sz="2000" spc="-1" strike="noStrike">
                <a:solidFill>
                  <a:srgbClr val="ed181e"/>
                </a:solidFill>
                <a:latin typeface="Arial"/>
              </a:rPr>
              <a:t>www.environment-switzerland.ch/swisspr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1187280" y="5013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elpmail:      </a:t>
            </a:r>
            <a:r>
              <a:rPr b="0" lang="de-CH" sz="2000" spc="-1" strike="noStrike">
                <a:solidFill>
                  <a:srgbClr val="333399"/>
                </a:solidFill>
                <a:latin typeface="Arial"/>
              </a:rPr>
              <a:t>swissprtr@bafu.admin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Definition and Sco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4226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is Switzerland’s publicly accessibl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Pollutant Release and Transfer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t provides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releases of specific pollutants to air, water o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transfers of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764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n transfers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61000" y="1305000"/>
            <a:ext cx="2422440" cy="191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61000" y="3322800"/>
            <a:ext cx="2422440" cy="1361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61000" y="4789440"/>
            <a:ext cx="2422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the publ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transparency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allows the identification of national, regional and local correlations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nvironmental awarenes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facilitates participation in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nvironment-related decision-making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encourages communication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elps to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reduce releas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of pollutants and thus provides sustainable support to 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precautionar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industrial fac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contribute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transparency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ing a basis for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management decisions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mproving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eco-efficiency and productivity</a:t>
            </a:r>
            <a:br>
              <a:rPr sz="2400"/>
            </a:b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mpliance with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social responsibiliti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in relation to employees and the general public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sustainable development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of production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Benefits for author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SwissPRTR 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basis for devising long-term strategi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nd instruments for the control of releases of pollutants as well as transfers of waste and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CH" sz="2400" spc="-1" strike="noStrike">
                <a:solidFill>
                  <a:srgbClr val="ed181e"/>
                </a:solidFill>
                <a:latin typeface="Arial"/>
              </a:rPr>
              <a:t>management instrument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that contributes to the sustainable management of pollutant releases, transfers of waste and transfers of pollutants in wast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4035600"/>
            <a:ext cx="7920" cy="4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0520" y="4097160"/>
            <a:ext cx="3240" cy="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0520" y="4097160"/>
            <a:ext cx="3240" cy="6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1960" y="1709640"/>
            <a:ext cx="5541840" cy="3996000"/>
            <a:chOff x="831960" y="1709640"/>
            <a:chExt cx="5541840" cy="3996000"/>
          </a:xfrm>
        </p:grpSpPr>
        <p:sp>
          <p:nvSpPr>
            <p:cNvPr id="101" name=""/>
            <p:cNvSpPr/>
            <p:nvPr/>
          </p:nvSpPr>
          <p:spPr>
            <a:xfrm>
              <a:off x="3895920" y="4943160"/>
              <a:ext cx="960480" cy="56376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36960" y="4955760"/>
              <a:ext cx="874800" cy="51300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36960" y="4960800"/>
              <a:ext cx="874800" cy="512640"/>
            </a:xfrm>
            <a:custGeom>
              <a:avLst/>
              <a:gdLst/>
              <a:ahLst/>
              <a:rect l="l" t="t" r="r" b="b"/>
              <a:pathLst>
                <a:path w="1381" h="807">
                  <a:moveTo>
                    <a:pt x="689" y="0"/>
                  </a:moveTo>
                  <a:lnTo>
                    <a:pt x="654" y="0"/>
                  </a:lnTo>
                  <a:lnTo>
                    <a:pt x="619" y="2"/>
                  </a:lnTo>
                  <a:lnTo>
                    <a:pt x="584" y="3"/>
                  </a:lnTo>
                  <a:lnTo>
                    <a:pt x="551" y="7"/>
                  </a:lnTo>
                  <a:lnTo>
                    <a:pt x="518" y="12"/>
                  </a:lnTo>
                  <a:lnTo>
                    <a:pt x="485" y="17"/>
                  </a:lnTo>
                  <a:lnTo>
                    <a:pt x="453" y="24"/>
                  </a:lnTo>
                  <a:lnTo>
                    <a:pt x="421" y="31"/>
                  </a:lnTo>
                  <a:lnTo>
                    <a:pt x="390" y="40"/>
                  </a:lnTo>
                  <a:lnTo>
                    <a:pt x="360" y="49"/>
                  </a:lnTo>
                  <a:lnTo>
                    <a:pt x="332" y="58"/>
                  </a:lnTo>
                  <a:lnTo>
                    <a:pt x="304" y="68"/>
                  </a:lnTo>
                  <a:lnTo>
                    <a:pt x="276" y="80"/>
                  </a:lnTo>
                  <a:lnTo>
                    <a:pt x="250" y="91"/>
                  </a:lnTo>
                  <a:lnTo>
                    <a:pt x="225" y="105"/>
                  </a:lnTo>
                  <a:lnTo>
                    <a:pt x="201" y="117"/>
                  </a:lnTo>
                  <a:lnTo>
                    <a:pt x="178" y="131"/>
                  </a:lnTo>
                  <a:lnTo>
                    <a:pt x="157" y="147"/>
                  </a:lnTo>
                  <a:lnTo>
                    <a:pt x="136" y="161"/>
                  </a:lnTo>
                  <a:lnTo>
                    <a:pt x="117" y="177"/>
                  </a:lnTo>
                  <a:lnTo>
                    <a:pt x="99" y="194"/>
                  </a:lnTo>
                  <a:lnTo>
                    <a:pt x="82" y="212"/>
                  </a:lnTo>
                  <a:lnTo>
                    <a:pt x="66" y="227"/>
                  </a:lnTo>
                  <a:lnTo>
                    <a:pt x="54" y="247"/>
                  </a:lnTo>
                  <a:lnTo>
                    <a:pt x="40" y="264"/>
                  </a:lnTo>
                  <a:lnTo>
                    <a:pt x="29" y="283"/>
                  </a:lnTo>
                  <a:lnTo>
                    <a:pt x="21" y="303"/>
                  </a:lnTo>
                  <a:lnTo>
                    <a:pt x="14" y="322"/>
                  </a:lnTo>
                  <a:lnTo>
                    <a:pt x="7" y="341"/>
                  </a:lnTo>
                  <a:lnTo>
                    <a:pt x="3" y="362"/>
                  </a:lnTo>
                  <a:lnTo>
                    <a:pt x="1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1" y="434"/>
                  </a:lnTo>
                  <a:lnTo>
                    <a:pt x="3" y="444"/>
                  </a:lnTo>
                  <a:lnTo>
                    <a:pt x="7" y="465"/>
                  </a:lnTo>
                  <a:lnTo>
                    <a:pt x="14" y="485"/>
                  </a:lnTo>
                  <a:lnTo>
                    <a:pt x="21" y="504"/>
                  </a:lnTo>
                  <a:lnTo>
                    <a:pt x="29" y="523"/>
                  </a:lnTo>
                  <a:lnTo>
                    <a:pt x="40" y="542"/>
                  </a:lnTo>
                  <a:lnTo>
                    <a:pt x="54" y="560"/>
                  </a:lnTo>
                  <a:lnTo>
                    <a:pt x="66" y="579"/>
                  </a:lnTo>
                  <a:lnTo>
                    <a:pt x="82" y="597"/>
                  </a:lnTo>
                  <a:lnTo>
                    <a:pt x="99" y="612"/>
                  </a:lnTo>
                  <a:lnTo>
                    <a:pt x="117" y="630"/>
                  </a:lnTo>
                  <a:lnTo>
                    <a:pt x="136" y="646"/>
                  </a:lnTo>
                  <a:lnTo>
                    <a:pt x="157" y="660"/>
                  </a:lnTo>
                  <a:lnTo>
                    <a:pt x="178" y="675"/>
                  </a:lnTo>
                  <a:lnTo>
                    <a:pt x="201" y="689"/>
                  </a:lnTo>
                  <a:lnTo>
                    <a:pt x="225" y="702"/>
                  </a:lnTo>
                  <a:lnTo>
                    <a:pt x="250" y="716"/>
                  </a:lnTo>
                  <a:lnTo>
                    <a:pt x="276" y="726"/>
                  </a:lnTo>
                  <a:lnTo>
                    <a:pt x="304" y="738"/>
                  </a:lnTo>
                  <a:lnTo>
                    <a:pt x="332" y="749"/>
                  </a:lnTo>
                  <a:lnTo>
                    <a:pt x="360" y="758"/>
                  </a:lnTo>
                  <a:lnTo>
                    <a:pt x="390" y="766"/>
                  </a:lnTo>
                  <a:lnTo>
                    <a:pt x="421" y="775"/>
                  </a:lnTo>
                  <a:lnTo>
                    <a:pt x="453" y="782"/>
                  </a:lnTo>
                  <a:lnTo>
                    <a:pt x="485" y="789"/>
                  </a:lnTo>
                  <a:lnTo>
                    <a:pt x="518" y="794"/>
                  </a:lnTo>
                  <a:lnTo>
                    <a:pt x="551" y="800"/>
                  </a:lnTo>
                  <a:lnTo>
                    <a:pt x="584" y="803"/>
                  </a:lnTo>
                  <a:lnTo>
                    <a:pt x="619" y="805"/>
                  </a:lnTo>
                  <a:lnTo>
                    <a:pt x="654" y="807"/>
                  </a:lnTo>
                  <a:lnTo>
                    <a:pt x="689" y="807"/>
                  </a:lnTo>
                  <a:lnTo>
                    <a:pt x="726" y="807"/>
                  </a:lnTo>
                  <a:lnTo>
                    <a:pt x="761" y="805"/>
                  </a:lnTo>
                  <a:lnTo>
                    <a:pt x="794" y="803"/>
                  </a:lnTo>
                  <a:lnTo>
                    <a:pt x="829" y="800"/>
                  </a:lnTo>
                  <a:lnTo>
                    <a:pt x="863" y="794"/>
                  </a:lnTo>
                  <a:lnTo>
                    <a:pt x="896" y="789"/>
                  </a:lnTo>
                  <a:lnTo>
                    <a:pt x="927" y="782"/>
                  </a:lnTo>
                  <a:lnTo>
                    <a:pt x="959" y="775"/>
                  </a:lnTo>
                  <a:lnTo>
                    <a:pt x="989" y="768"/>
                  </a:lnTo>
                  <a:lnTo>
                    <a:pt x="1018" y="758"/>
                  </a:lnTo>
                  <a:lnTo>
                    <a:pt x="1048" y="749"/>
                  </a:lnTo>
                  <a:lnTo>
                    <a:pt x="1076" y="738"/>
                  </a:lnTo>
                  <a:lnTo>
                    <a:pt x="1102" y="726"/>
                  </a:lnTo>
                  <a:lnTo>
                    <a:pt x="1129" y="716"/>
                  </a:lnTo>
                  <a:lnTo>
                    <a:pt x="1155" y="702"/>
                  </a:lnTo>
                  <a:lnTo>
                    <a:pt x="1178" y="689"/>
                  </a:lnTo>
                  <a:lnTo>
                    <a:pt x="1200" y="675"/>
                  </a:lnTo>
                  <a:lnTo>
                    <a:pt x="1223" y="660"/>
                  </a:lnTo>
                  <a:lnTo>
                    <a:pt x="1244" y="646"/>
                  </a:lnTo>
                  <a:lnTo>
                    <a:pt x="1263" y="630"/>
                  </a:lnTo>
                  <a:lnTo>
                    <a:pt x="1281" y="612"/>
                  </a:lnTo>
                  <a:lnTo>
                    <a:pt x="1297" y="597"/>
                  </a:lnTo>
                  <a:lnTo>
                    <a:pt x="1312" y="579"/>
                  </a:lnTo>
                  <a:lnTo>
                    <a:pt x="1326" y="560"/>
                  </a:lnTo>
                  <a:lnTo>
                    <a:pt x="1339" y="542"/>
                  </a:lnTo>
                  <a:lnTo>
                    <a:pt x="1349" y="523"/>
                  </a:lnTo>
                  <a:lnTo>
                    <a:pt x="1360" y="504"/>
                  </a:lnTo>
                  <a:lnTo>
                    <a:pt x="1367" y="485"/>
                  </a:lnTo>
                  <a:lnTo>
                    <a:pt x="1372" y="465"/>
                  </a:lnTo>
                  <a:lnTo>
                    <a:pt x="1377" y="444"/>
                  </a:lnTo>
                  <a:lnTo>
                    <a:pt x="1379" y="434"/>
                  </a:lnTo>
                  <a:lnTo>
                    <a:pt x="1381" y="423"/>
                  </a:lnTo>
                  <a:lnTo>
                    <a:pt x="1381" y="413"/>
                  </a:lnTo>
                  <a:lnTo>
                    <a:pt x="1381" y="404"/>
                  </a:lnTo>
                  <a:lnTo>
                    <a:pt x="1381" y="394"/>
                  </a:lnTo>
                  <a:lnTo>
                    <a:pt x="1381" y="383"/>
                  </a:lnTo>
                  <a:lnTo>
                    <a:pt x="1379" y="373"/>
                  </a:lnTo>
                  <a:lnTo>
                    <a:pt x="1377" y="362"/>
                  </a:lnTo>
                  <a:lnTo>
                    <a:pt x="1372" y="341"/>
                  </a:lnTo>
                  <a:lnTo>
                    <a:pt x="1367" y="322"/>
                  </a:lnTo>
                  <a:lnTo>
                    <a:pt x="1360" y="303"/>
                  </a:lnTo>
                  <a:lnTo>
                    <a:pt x="1349" y="283"/>
                  </a:lnTo>
                  <a:lnTo>
                    <a:pt x="1339" y="264"/>
                  </a:lnTo>
                  <a:lnTo>
                    <a:pt x="1326" y="247"/>
                  </a:lnTo>
                  <a:lnTo>
                    <a:pt x="1312" y="227"/>
                  </a:lnTo>
                  <a:lnTo>
                    <a:pt x="1297" y="212"/>
                  </a:lnTo>
                  <a:lnTo>
                    <a:pt x="1281" y="194"/>
                  </a:lnTo>
                  <a:lnTo>
                    <a:pt x="1263" y="177"/>
                  </a:lnTo>
                  <a:lnTo>
                    <a:pt x="1244" y="161"/>
                  </a:lnTo>
                  <a:lnTo>
                    <a:pt x="1223" y="147"/>
                  </a:lnTo>
                  <a:lnTo>
                    <a:pt x="1200" y="131"/>
                  </a:lnTo>
                  <a:lnTo>
                    <a:pt x="1178" y="117"/>
                  </a:lnTo>
                  <a:lnTo>
                    <a:pt x="1155" y="105"/>
                  </a:lnTo>
                  <a:lnTo>
                    <a:pt x="1129" y="91"/>
                  </a:lnTo>
                  <a:lnTo>
                    <a:pt x="1102" y="80"/>
                  </a:lnTo>
                  <a:lnTo>
                    <a:pt x="1076" y="68"/>
                  </a:lnTo>
                  <a:lnTo>
                    <a:pt x="1048" y="58"/>
                  </a:lnTo>
                  <a:lnTo>
                    <a:pt x="1018" y="49"/>
                  </a:lnTo>
                  <a:lnTo>
                    <a:pt x="989" y="38"/>
                  </a:lnTo>
                  <a:lnTo>
                    <a:pt x="959" y="31"/>
                  </a:lnTo>
                  <a:lnTo>
                    <a:pt x="927" y="24"/>
                  </a:lnTo>
                  <a:lnTo>
                    <a:pt x="896" y="17"/>
                  </a:lnTo>
                  <a:lnTo>
                    <a:pt x="863" y="12"/>
                  </a:lnTo>
                  <a:lnTo>
                    <a:pt x="829" y="7"/>
                  </a:lnTo>
                  <a:lnTo>
                    <a:pt x="794" y="3"/>
                  </a:lnTo>
                  <a:lnTo>
                    <a:pt x="759" y="2"/>
                  </a:lnTo>
                  <a:lnTo>
                    <a:pt x="724" y="0"/>
                  </a:lnTo>
                  <a:lnTo>
                    <a:pt x="689" y="0"/>
                  </a:lnTo>
                </a:path>
              </a:pathLst>
            </a:custGeom>
            <a:noFill/>
            <a:ln w="4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65680" y="4925880"/>
              <a:ext cx="10414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960" y="2543040"/>
              <a:ext cx="5487840" cy="1203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440" y="3862080"/>
              <a:ext cx="5487840" cy="1230480"/>
            </a:xfrm>
            <a:prstGeom prst="rect">
              <a:avLst/>
            </a:prstGeom>
            <a:solidFill>
              <a:srgbClr val="c5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8080" y="2866680"/>
              <a:ext cx="3411360" cy="2152800"/>
            </a:xfrm>
            <a:custGeom>
              <a:avLst/>
              <a:gdLst/>
              <a:ahLst/>
              <a:rect l="l" t="t" r="r" b="b"/>
              <a:pathLst>
                <a:path w="5372" h="3392">
                  <a:moveTo>
                    <a:pt x="1500" y="513"/>
                  </a:moveTo>
                  <a:lnTo>
                    <a:pt x="1369" y="587"/>
                  </a:lnTo>
                  <a:lnTo>
                    <a:pt x="1264" y="613"/>
                  </a:lnTo>
                  <a:lnTo>
                    <a:pt x="1143" y="734"/>
                  </a:lnTo>
                  <a:lnTo>
                    <a:pt x="916" y="1169"/>
                  </a:lnTo>
                  <a:lnTo>
                    <a:pt x="767" y="1019"/>
                  </a:lnTo>
                  <a:lnTo>
                    <a:pt x="679" y="1064"/>
                  </a:lnTo>
                  <a:lnTo>
                    <a:pt x="604" y="1229"/>
                  </a:lnTo>
                  <a:lnTo>
                    <a:pt x="545" y="1274"/>
                  </a:lnTo>
                  <a:lnTo>
                    <a:pt x="543" y="1441"/>
                  </a:lnTo>
                  <a:lnTo>
                    <a:pt x="438" y="1560"/>
                  </a:lnTo>
                  <a:lnTo>
                    <a:pt x="182" y="1959"/>
                  </a:lnTo>
                  <a:lnTo>
                    <a:pt x="226" y="2055"/>
                  </a:lnTo>
                  <a:lnTo>
                    <a:pt x="0" y="2234"/>
                  </a:lnTo>
                  <a:lnTo>
                    <a:pt x="0" y="2472"/>
                  </a:lnTo>
                  <a:lnTo>
                    <a:pt x="135" y="2533"/>
                  </a:lnTo>
                  <a:lnTo>
                    <a:pt x="282" y="2487"/>
                  </a:lnTo>
                  <a:lnTo>
                    <a:pt x="389" y="2414"/>
                  </a:lnTo>
                  <a:lnTo>
                    <a:pt x="405" y="2274"/>
                  </a:lnTo>
                  <a:lnTo>
                    <a:pt x="448" y="2116"/>
                  </a:lnTo>
                  <a:lnTo>
                    <a:pt x="629" y="2064"/>
                  </a:lnTo>
                  <a:lnTo>
                    <a:pt x="763" y="2074"/>
                  </a:lnTo>
                  <a:lnTo>
                    <a:pt x="898" y="2029"/>
                  </a:lnTo>
                  <a:lnTo>
                    <a:pt x="984" y="2136"/>
                  </a:lnTo>
                  <a:lnTo>
                    <a:pt x="1089" y="2190"/>
                  </a:lnTo>
                  <a:lnTo>
                    <a:pt x="1135" y="2234"/>
                  </a:lnTo>
                  <a:lnTo>
                    <a:pt x="1073" y="2566"/>
                  </a:lnTo>
                  <a:lnTo>
                    <a:pt x="1177" y="2762"/>
                  </a:lnTo>
                  <a:lnTo>
                    <a:pt x="1250" y="2929"/>
                  </a:lnTo>
                  <a:lnTo>
                    <a:pt x="1250" y="2995"/>
                  </a:lnTo>
                  <a:lnTo>
                    <a:pt x="1429" y="3133"/>
                  </a:lnTo>
                  <a:lnTo>
                    <a:pt x="1579" y="3140"/>
                  </a:lnTo>
                  <a:lnTo>
                    <a:pt x="1682" y="3102"/>
                  </a:lnTo>
                  <a:lnTo>
                    <a:pt x="1787" y="3060"/>
                  </a:lnTo>
                  <a:lnTo>
                    <a:pt x="1905" y="3021"/>
                  </a:lnTo>
                  <a:lnTo>
                    <a:pt x="1936" y="3067"/>
                  </a:lnTo>
                  <a:lnTo>
                    <a:pt x="2025" y="3076"/>
                  </a:lnTo>
                  <a:lnTo>
                    <a:pt x="2085" y="3195"/>
                  </a:lnTo>
                  <a:lnTo>
                    <a:pt x="2129" y="3226"/>
                  </a:lnTo>
                  <a:lnTo>
                    <a:pt x="2204" y="3280"/>
                  </a:lnTo>
                  <a:lnTo>
                    <a:pt x="2295" y="3245"/>
                  </a:lnTo>
                  <a:lnTo>
                    <a:pt x="2367" y="3107"/>
                  </a:lnTo>
                  <a:lnTo>
                    <a:pt x="2414" y="3021"/>
                  </a:lnTo>
                  <a:lnTo>
                    <a:pt x="2489" y="2957"/>
                  </a:lnTo>
                  <a:lnTo>
                    <a:pt x="2519" y="2964"/>
                  </a:lnTo>
                  <a:lnTo>
                    <a:pt x="2519" y="2929"/>
                  </a:lnTo>
                  <a:lnTo>
                    <a:pt x="2563" y="2836"/>
                  </a:lnTo>
                  <a:lnTo>
                    <a:pt x="2519" y="2659"/>
                  </a:lnTo>
                  <a:lnTo>
                    <a:pt x="2565" y="2578"/>
                  </a:lnTo>
                  <a:lnTo>
                    <a:pt x="2685" y="2585"/>
                  </a:lnTo>
                  <a:lnTo>
                    <a:pt x="2745" y="2547"/>
                  </a:lnTo>
                  <a:lnTo>
                    <a:pt x="2834" y="2400"/>
                  </a:lnTo>
                  <a:lnTo>
                    <a:pt x="2894" y="2295"/>
                  </a:lnTo>
                  <a:lnTo>
                    <a:pt x="2923" y="2340"/>
                  </a:lnTo>
                  <a:lnTo>
                    <a:pt x="2923" y="2533"/>
                  </a:lnTo>
                  <a:lnTo>
                    <a:pt x="2831" y="2738"/>
                  </a:lnTo>
                  <a:lnTo>
                    <a:pt x="2846" y="2832"/>
                  </a:lnTo>
                  <a:lnTo>
                    <a:pt x="2951" y="2902"/>
                  </a:lnTo>
                  <a:lnTo>
                    <a:pt x="3011" y="2990"/>
                  </a:lnTo>
                  <a:lnTo>
                    <a:pt x="3100" y="3060"/>
                  </a:lnTo>
                  <a:lnTo>
                    <a:pt x="3188" y="3147"/>
                  </a:lnTo>
                  <a:lnTo>
                    <a:pt x="3293" y="3153"/>
                  </a:lnTo>
                  <a:lnTo>
                    <a:pt x="3338" y="3214"/>
                  </a:lnTo>
                  <a:lnTo>
                    <a:pt x="3382" y="3300"/>
                  </a:lnTo>
                  <a:lnTo>
                    <a:pt x="3382" y="3392"/>
                  </a:lnTo>
                  <a:lnTo>
                    <a:pt x="3501" y="3385"/>
                  </a:lnTo>
                  <a:lnTo>
                    <a:pt x="3562" y="3357"/>
                  </a:lnTo>
                  <a:lnTo>
                    <a:pt x="3606" y="3373"/>
                  </a:lnTo>
                  <a:lnTo>
                    <a:pt x="3786" y="2832"/>
                  </a:lnTo>
                  <a:lnTo>
                    <a:pt x="3965" y="2743"/>
                  </a:lnTo>
                  <a:lnTo>
                    <a:pt x="3968" y="2426"/>
                  </a:lnTo>
                  <a:lnTo>
                    <a:pt x="4056" y="2407"/>
                  </a:lnTo>
                  <a:lnTo>
                    <a:pt x="4101" y="2465"/>
                  </a:lnTo>
                  <a:lnTo>
                    <a:pt x="4145" y="2547"/>
                  </a:lnTo>
                  <a:lnTo>
                    <a:pt x="4145" y="2671"/>
                  </a:lnTo>
                  <a:lnTo>
                    <a:pt x="4220" y="2759"/>
                  </a:lnTo>
                  <a:lnTo>
                    <a:pt x="4324" y="2832"/>
                  </a:lnTo>
                  <a:lnTo>
                    <a:pt x="4518" y="2843"/>
                  </a:lnTo>
                  <a:lnTo>
                    <a:pt x="4592" y="2778"/>
                  </a:lnTo>
                  <a:lnTo>
                    <a:pt x="4649" y="2851"/>
                  </a:lnTo>
                  <a:lnTo>
                    <a:pt x="4649" y="2909"/>
                  </a:lnTo>
                  <a:lnTo>
                    <a:pt x="4742" y="3002"/>
                  </a:lnTo>
                  <a:lnTo>
                    <a:pt x="4814" y="3002"/>
                  </a:lnTo>
                  <a:lnTo>
                    <a:pt x="4905" y="3055"/>
                  </a:lnTo>
                  <a:lnTo>
                    <a:pt x="4949" y="3028"/>
                  </a:lnTo>
                  <a:lnTo>
                    <a:pt x="5008" y="2929"/>
                  </a:lnTo>
                  <a:lnTo>
                    <a:pt x="4994" y="2804"/>
                  </a:lnTo>
                  <a:lnTo>
                    <a:pt x="4952" y="2724"/>
                  </a:lnTo>
                  <a:lnTo>
                    <a:pt x="4877" y="2638"/>
                  </a:lnTo>
                  <a:lnTo>
                    <a:pt x="4831" y="2538"/>
                  </a:lnTo>
                  <a:lnTo>
                    <a:pt x="4816" y="2426"/>
                  </a:lnTo>
                  <a:lnTo>
                    <a:pt x="4863" y="2414"/>
                  </a:lnTo>
                  <a:lnTo>
                    <a:pt x="4968" y="2326"/>
                  </a:lnTo>
                  <a:lnTo>
                    <a:pt x="5043" y="2340"/>
                  </a:lnTo>
                  <a:lnTo>
                    <a:pt x="5115" y="2414"/>
                  </a:lnTo>
                  <a:lnTo>
                    <a:pt x="5131" y="2445"/>
                  </a:lnTo>
                  <a:lnTo>
                    <a:pt x="5325" y="2459"/>
                  </a:lnTo>
                  <a:lnTo>
                    <a:pt x="5325" y="2407"/>
                  </a:lnTo>
                  <a:lnTo>
                    <a:pt x="5370" y="2379"/>
                  </a:lnTo>
                  <a:lnTo>
                    <a:pt x="5327" y="2326"/>
                  </a:lnTo>
                  <a:lnTo>
                    <a:pt x="5327" y="2202"/>
                  </a:lnTo>
                  <a:lnTo>
                    <a:pt x="5265" y="2129"/>
                  </a:lnTo>
                  <a:lnTo>
                    <a:pt x="5285" y="1905"/>
                  </a:lnTo>
                  <a:lnTo>
                    <a:pt x="5372" y="1885"/>
                  </a:lnTo>
                  <a:lnTo>
                    <a:pt x="5372" y="1754"/>
                  </a:lnTo>
                  <a:lnTo>
                    <a:pt x="5328" y="1672"/>
                  </a:lnTo>
                  <a:lnTo>
                    <a:pt x="5223" y="1665"/>
                  </a:lnTo>
                  <a:lnTo>
                    <a:pt x="5075" y="1712"/>
                  </a:lnTo>
                  <a:lnTo>
                    <a:pt x="4910" y="1700"/>
                  </a:lnTo>
                  <a:lnTo>
                    <a:pt x="4746" y="1660"/>
                  </a:lnTo>
                  <a:lnTo>
                    <a:pt x="4704" y="1588"/>
                  </a:lnTo>
                  <a:lnTo>
                    <a:pt x="4539" y="1534"/>
                  </a:lnTo>
                  <a:lnTo>
                    <a:pt x="4287" y="1514"/>
                  </a:lnTo>
                  <a:lnTo>
                    <a:pt x="4348" y="1283"/>
                  </a:lnTo>
                  <a:lnTo>
                    <a:pt x="4378" y="1136"/>
                  </a:lnTo>
                  <a:lnTo>
                    <a:pt x="4467" y="998"/>
                  </a:lnTo>
                  <a:lnTo>
                    <a:pt x="4529" y="958"/>
                  </a:lnTo>
                  <a:lnTo>
                    <a:pt x="4558" y="798"/>
                  </a:lnTo>
                  <a:lnTo>
                    <a:pt x="4574" y="667"/>
                  </a:lnTo>
                  <a:lnTo>
                    <a:pt x="4499" y="648"/>
                  </a:lnTo>
                  <a:lnTo>
                    <a:pt x="4423" y="613"/>
                  </a:lnTo>
                  <a:lnTo>
                    <a:pt x="4336" y="606"/>
                  </a:lnTo>
                  <a:lnTo>
                    <a:pt x="4199" y="455"/>
                  </a:lnTo>
                  <a:lnTo>
                    <a:pt x="4024" y="398"/>
                  </a:lnTo>
                  <a:lnTo>
                    <a:pt x="3933" y="343"/>
                  </a:lnTo>
                  <a:lnTo>
                    <a:pt x="3830" y="258"/>
                  </a:lnTo>
                  <a:lnTo>
                    <a:pt x="3755" y="177"/>
                  </a:lnTo>
                  <a:lnTo>
                    <a:pt x="3636" y="216"/>
                  </a:lnTo>
                  <a:lnTo>
                    <a:pt x="3517" y="203"/>
                  </a:lnTo>
                  <a:lnTo>
                    <a:pt x="3485" y="170"/>
                  </a:lnTo>
                  <a:lnTo>
                    <a:pt x="3485" y="58"/>
                  </a:lnTo>
                  <a:lnTo>
                    <a:pt x="3442" y="11"/>
                  </a:lnTo>
                  <a:lnTo>
                    <a:pt x="3217" y="0"/>
                  </a:lnTo>
                  <a:lnTo>
                    <a:pt x="3217" y="305"/>
                  </a:lnTo>
                  <a:lnTo>
                    <a:pt x="2979" y="289"/>
                  </a:lnTo>
                  <a:lnTo>
                    <a:pt x="2859" y="231"/>
                  </a:lnTo>
                  <a:lnTo>
                    <a:pt x="2757" y="277"/>
                  </a:lnTo>
                  <a:lnTo>
                    <a:pt x="2577" y="308"/>
                  </a:lnTo>
                  <a:lnTo>
                    <a:pt x="2489" y="238"/>
                  </a:lnTo>
                  <a:lnTo>
                    <a:pt x="2430" y="258"/>
                  </a:lnTo>
                  <a:lnTo>
                    <a:pt x="2264" y="289"/>
                  </a:lnTo>
                  <a:lnTo>
                    <a:pt x="2143" y="191"/>
                  </a:lnTo>
                  <a:lnTo>
                    <a:pt x="2085" y="231"/>
                  </a:lnTo>
                  <a:lnTo>
                    <a:pt x="2053" y="308"/>
                  </a:lnTo>
                  <a:lnTo>
                    <a:pt x="1948" y="317"/>
                  </a:lnTo>
                  <a:lnTo>
                    <a:pt x="1891" y="370"/>
                  </a:lnTo>
                  <a:lnTo>
                    <a:pt x="1772" y="363"/>
                  </a:lnTo>
                  <a:lnTo>
                    <a:pt x="1726" y="305"/>
                  </a:lnTo>
                  <a:lnTo>
                    <a:pt x="1639" y="251"/>
                  </a:lnTo>
                  <a:lnTo>
                    <a:pt x="1563" y="203"/>
                  </a:lnTo>
                  <a:lnTo>
                    <a:pt x="1520" y="177"/>
                  </a:lnTo>
                  <a:lnTo>
                    <a:pt x="1443" y="231"/>
                  </a:lnTo>
                  <a:lnTo>
                    <a:pt x="1353" y="286"/>
                  </a:lnTo>
                  <a:lnTo>
                    <a:pt x="1353" y="417"/>
                  </a:lnTo>
                  <a:lnTo>
                    <a:pt x="1441" y="424"/>
                  </a:lnTo>
                  <a:lnTo>
                    <a:pt x="1548" y="489"/>
                  </a:lnTo>
                  <a:lnTo>
                    <a:pt x="1500" y="513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4840" y="2862000"/>
              <a:ext cx="3419640" cy="2162160"/>
            </a:xfrm>
            <a:custGeom>
              <a:avLst/>
              <a:gdLst/>
              <a:ahLst/>
              <a:rect l="l" t="t" r="r" b="b"/>
              <a:pathLst>
                <a:path w="5386" h="3405">
                  <a:moveTo>
                    <a:pt x="1511" y="527"/>
                  </a:moveTo>
                  <a:lnTo>
                    <a:pt x="1511" y="527"/>
                  </a:lnTo>
                  <a:lnTo>
                    <a:pt x="1507" y="527"/>
                  </a:lnTo>
                  <a:lnTo>
                    <a:pt x="1506" y="527"/>
                  </a:lnTo>
                  <a:lnTo>
                    <a:pt x="1502" y="525"/>
                  </a:lnTo>
                  <a:lnTo>
                    <a:pt x="1500" y="524"/>
                  </a:lnTo>
                  <a:lnTo>
                    <a:pt x="1500" y="520"/>
                  </a:lnTo>
                  <a:lnTo>
                    <a:pt x="1500" y="518"/>
                  </a:lnTo>
                  <a:lnTo>
                    <a:pt x="1502" y="517"/>
                  </a:lnTo>
                  <a:lnTo>
                    <a:pt x="1504" y="515"/>
                  </a:lnTo>
                  <a:lnTo>
                    <a:pt x="1504" y="515"/>
                  </a:lnTo>
                  <a:lnTo>
                    <a:pt x="1507" y="513"/>
                  </a:lnTo>
                  <a:lnTo>
                    <a:pt x="1509" y="513"/>
                  </a:lnTo>
                  <a:lnTo>
                    <a:pt x="1513" y="515"/>
                  </a:lnTo>
                  <a:lnTo>
                    <a:pt x="1514" y="517"/>
                  </a:lnTo>
                  <a:lnTo>
                    <a:pt x="1514" y="520"/>
                  </a:lnTo>
                  <a:lnTo>
                    <a:pt x="1514" y="522"/>
                  </a:lnTo>
                  <a:lnTo>
                    <a:pt x="1513" y="525"/>
                  </a:lnTo>
                  <a:lnTo>
                    <a:pt x="1511" y="527"/>
                  </a:lnTo>
                  <a:lnTo>
                    <a:pt x="1511" y="527"/>
                  </a:lnTo>
                  <a:close/>
                  <a:moveTo>
                    <a:pt x="1486" y="541"/>
                  </a:moveTo>
                  <a:lnTo>
                    <a:pt x="1486" y="541"/>
                  </a:lnTo>
                  <a:lnTo>
                    <a:pt x="1483" y="541"/>
                  </a:lnTo>
                  <a:lnTo>
                    <a:pt x="1479" y="541"/>
                  </a:lnTo>
                  <a:lnTo>
                    <a:pt x="1478" y="541"/>
                  </a:lnTo>
                  <a:lnTo>
                    <a:pt x="1476" y="538"/>
                  </a:lnTo>
                  <a:lnTo>
                    <a:pt x="1474" y="536"/>
                  </a:lnTo>
                  <a:lnTo>
                    <a:pt x="1476" y="532"/>
                  </a:lnTo>
                  <a:lnTo>
                    <a:pt x="1476" y="531"/>
                  </a:lnTo>
                  <a:lnTo>
                    <a:pt x="1479" y="529"/>
                  </a:lnTo>
                  <a:lnTo>
                    <a:pt x="1479" y="529"/>
                  </a:lnTo>
                  <a:lnTo>
                    <a:pt x="1481" y="527"/>
                  </a:lnTo>
                  <a:lnTo>
                    <a:pt x="1485" y="527"/>
                  </a:lnTo>
                  <a:lnTo>
                    <a:pt x="1486" y="529"/>
                  </a:lnTo>
                  <a:lnTo>
                    <a:pt x="1488" y="531"/>
                  </a:lnTo>
                  <a:lnTo>
                    <a:pt x="1490" y="534"/>
                  </a:lnTo>
                  <a:lnTo>
                    <a:pt x="1490" y="536"/>
                  </a:lnTo>
                  <a:lnTo>
                    <a:pt x="1488" y="539"/>
                  </a:lnTo>
                  <a:lnTo>
                    <a:pt x="1486" y="541"/>
                  </a:lnTo>
                  <a:lnTo>
                    <a:pt x="1486" y="541"/>
                  </a:lnTo>
                  <a:close/>
                  <a:moveTo>
                    <a:pt x="1460" y="555"/>
                  </a:moveTo>
                  <a:lnTo>
                    <a:pt x="1460" y="555"/>
                  </a:lnTo>
                  <a:lnTo>
                    <a:pt x="1457" y="555"/>
                  </a:lnTo>
                  <a:lnTo>
                    <a:pt x="1455" y="555"/>
                  </a:lnTo>
                  <a:lnTo>
                    <a:pt x="1453" y="555"/>
                  </a:lnTo>
                  <a:lnTo>
                    <a:pt x="1451" y="552"/>
                  </a:lnTo>
                  <a:lnTo>
                    <a:pt x="1450" y="550"/>
                  </a:lnTo>
                  <a:lnTo>
                    <a:pt x="1450" y="546"/>
                  </a:lnTo>
                  <a:lnTo>
                    <a:pt x="1451" y="545"/>
                  </a:lnTo>
                  <a:lnTo>
                    <a:pt x="1453" y="543"/>
                  </a:lnTo>
                  <a:lnTo>
                    <a:pt x="1453" y="543"/>
                  </a:lnTo>
                  <a:lnTo>
                    <a:pt x="1457" y="541"/>
                  </a:lnTo>
                  <a:lnTo>
                    <a:pt x="1458" y="541"/>
                  </a:lnTo>
                  <a:lnTo>
                    <a:pt x="1462" y="543"/>
                  </a:lnTo>
                  <a:lnTo>
                    <a:pt x="1464" y="545"/>
                  </a:lnTo>
                  <a:lnTo>
                    <a:pt x="1464" y="548"/>
                  </a:lnTo>
                  <a:lnTo>
                    <a:pt x="1464" y="550"/>
                  </a:lnTo>
                  <a:lnTo>
                    <a:pt x="1462" y="553"/>
                  </a:lnTo>
                  <a:lnTo>
                    <a:pt x="1460" y="555"/>
                  </a:lnTo>
                  <a:lnTo>
                    <a:pt x="1460" y="555"/>
                  </a:lnTo>
                  <a:close/>
                  <a:moveTo>
                    <a:pt x="1436" y="569"/>
                  </a:moveTo>
                  <a:lnTo>
                    <a:pt x="1436" y="569"/>
                  </a:lnTo>
                  <a:lnTo>
                    <a:pt x="1432" y="569"/>
                  </a:lnTo>
                  <a:lnTo>
                    <a:pt x="1429" y="569"/>
                  </a:lnTo>
                  <a:lnTo>
                    <a:pt x="1427" y="569"/>
                  </a:lnTo>
                  <a:lnTo>
                    <a:pt x="1425" y="566"/>
                  </a:lnTo>
                  <a:lnTo>
                    <a:pt x="1425" y="564"/>
                  </a:lnTo>
                  <a:lnTo>
                    <a:pt x="1425" y="560"/>
                  </a:lnTo>
                  <a:lnTo>
                    <a:pt x="1427" y="559"/>
                  </a:lnTo>
                  <a:lnTo>
                    <a:pt x="1429" y="557"/>
                  </a:lnTo>
                  <a:lnTo>
                    <a:pt x="1429" y="557"/>
                  </a:lnTo>
                  <a:lnTo>
                    <a:pt x="1430" y="555"/>
                  </a:lnTo>
                  <a:lnTo>
                    <a:pt x="1434" y="555"/>
                  </a:lnTo>
                  <a:lnTo>
                    <a:pt x="1436" y="557"/>
                  </a:lnTo>
                  <a:lnTo>
                    <a:pt x="1437" y="559"/>
                  </a:lnTo>
                  <a:lnTo>
                    <a:pt x="1439" y="562"/>
                  </a:lnTo>
                  <a:lnTo>
                    <a:pt x="1439" y="564"/>
                  </a:lnTo>
                  <a:lnTo>
                    <a:pt x="1437" y="567"/>
                  </a:lnTo>
                  <a:lnTo>
                    <a:pt x="1436" y="569"/>
                  </a:lnTo>
                  <a:lnTo>
                    <a:pt x="1436" y="569"/>
                  </a:lnTo>
                  <a:close/>
                  <a:moveTo>
                    <a:pt x="1409" y="583"/>
                  </a:moveTo>
                  <a:lnTo>
                    <a:pt x="1409" y="583"/>
                  </a:lnTo>
                  <a:lnTo>
                    <a:pt x="1406" y="583"/>
                  </a:lnTo>
                  <a:lnTo>
                    <a:pt x="1404" y="583"/>
                  </a:lnTo>
                  <a:lnTo>
                    <a:pt x="1402" y="583"/>
                  </a:lnTo>
                  <a:lnTo>
                    <a:pt x="1401" y="580"/>
                  </a:lnTo>
                  <a:lnTo>
                    <a:pt x="1399" y="578"/>
                  </a:lnTo>
                  <a:lnTo>
                    <a:pt x="1399" y="574"/>
                  </a:lnTo>
                  <a:lnTo>
                    <a:pt x="1401" y="573"/>
                  </a:lnTo>
                  <a:lnTo>
                    <a:pt x="1402" y="571"/>
                  </a:lnTo>
                  <a:lnTo>
                    <a:pt x="1402" y="571"/>
                  </a:lnTo>
                  <a:lnTo>
                    <a:pt x="1406" y="569"/>
                  </a:lnTo>
                  <a:lnTo>
                    <a:pt x="1408" y="569"/>
                  </a:lnTo>
                  <a:lnTo>
                    <a:pt x="1411" y="571"/>
                  </a:lnTo>
                  <a:lnTo>
                    <a:pt x="1413" y="574"/>
                  </a:lnTo>
                  <a:lnTo>
                    <a:pt x="1413" y="576"/>
                  </a:lnTo>
                  <a:lnTo>
                    <a:pt x="1413" y="580"/>
                  </a:lnTo>
                  <a:lnTo>
                    <a:pt x="1411" y="581"/>
                  </a:lnTo>
                  <a:lnTo>
                    <a:pt x="1409" y="583"/>
                  </a:lnTo>
                  <a:lnTo>
                    <a:pt x="1409" y="583"/>
                  </a:lnTo>
                  <a:close/>
                  <a:moveTo>
                    <a:pt x="1385" y="597"/>
                  </a:moveTo>
                  <a:lnTo>
                    <a:pt x="1385" y="597"/>
                  </a:lnTo>
                  <a:lnTo>
                    <a:pt x="1381" y="597"/>
                  </a:lnTo>
                  <a:lnTo>
                    <a:pt x="1380" y="597"/>
                  </a:lnTo>
                  <a:lnTo>
                    <a:pt x="1376" y="597"/>
                  </a:lnTo>
                  <a:lnTo>
                    <a:pt x="1374" y="594"/>
                  </a:lnTo>
                  <a:lnTo>
                    <a:pt x="1374" y="592"/>
                  </a:lnTo>
                  <a:lnTo>
                    <a:pt x="1374" y="588"/>
                  </a:lnTo>
                  <a:lnTo>
                    <a:pt x="1376" y="587"/>
                  </a:lnTo>
                  <a:lnTo>
                    <a:pt x="1378" y="585"/>
                  </a:lnTo>
                  <a:lnTo>
                    <a:pt x="1378" y="585"/>
                  </a:lnTo>
                  <a:lnTo>
                    <a:pt x="1380" y="583"/>
                  </a:lnTo>
                  <a:lnTo>
                    <a:pt x="1383" y="585"/>
                  </a:lnTo>
                  <a:lnTo>
                    <a:pt x="1385" y="585"/>
                  </a:lnTo>
                  <a:lnTo>
                    <a:pt x="1387" y="588"/>
                  </a:lnTo>
                  <a:lnTo>
                    <a:pt x="1388" y="590"/>
                  </a:lnTo>
                  <a:lnTo>
                    <a:pt x="1388" y="594"/>
                  </a:lnTo>
                  <a:lnTo>
                    <a:pt x="1387" y="595"/>
                  </a:lnTo>
                  <a:lnTo>
                    <a:pt x="1385" y="597"/>
                  </a:lnTo>
                  <a:lnTo>
                    <a:pt x="1385" y="597"/>
                  </a:lnTo>
                  <a:close/>
                  <a:moveTo>
                    <a:pt x="1355" y="606"/>
                  </a:moveTo>
                  <a:lnTo>
                    <a:pt x="1355" y="606"/>
                  </a:lnTo>
                  <a:lnTo>
                    <a:pt x="1352" y="606"/>
                  </a:lnTo>
                  <a:lnTo>
                    <a:pt x="1350" y="606"/>
                  </a:lnTo>
                  <a:lnTo>
                    <a:pt x="1348" y="604"/>
                  </a:lnTo>
                  <a:lnTo>
                    <a:pt x="1346" y="601"/>
                  </a:lnTo>
                  <a:lnTo>
                    <a:pt x="1346" y="599"/>
                  </a:lnTo>
                  <a:lnTo>
                    <a:pt x="1346" y="595"/>
                  </a:lnTo>
                  <a:lnTo>
                    <a:pt x="1350" y="594"/>
                  </a:lnTo>
                  <a:lnTo>
                    <a:pt x="1352" y="592"/>
                  </a:lnTo>
                  <a:lnTo>
                    <a:pt x="1352" y="592"/>
                  </a:lnTo>
                  <a:lnTo>
                    <a:pt x="1355" y="592"/>
                  </a:lnTo>
                  <a:lnTo>
                    <a:pt x="1357" y="594"/>
                  </a:lnTo>
                  <a:lnTo>
                    <a:pt x="1359" y="595"/>
                  </a:lnTo>
                  <a:lnTo>
                    <a:pt x="1360" y="597"/>
                  </a:lnTo>
                  <a:lnTo>
                    <a:pt x="1360" y="601"/>
                  </a:lnTo>
                  <a:lnTo>
                    <a:pt x="1360" y="602"/>
                  </a:lnTo>
                  <a:lnTo>
                    <a:pt x="1359" y="606"/>
                  </a:lnTo>
                  <a:lnTo>
                    <a:pt x="1355" y="606"/>
                  </a:lnTo>
                  <a:lnTo>
                    <a:pt x="1355" y="606"/>
                  </a:lnTo>
                  <a:close/>
                  <a:moveTo>
                    <a:pt x="1327" y="613"/>
                  </a:moveTo>
                  <a:lnTo>
                    <a:pt x="1327" y="613"/>
                  </a:lnTo>
                  <a:lnTo>
                    <a:pt x="1324" y="613"/>
                  </a:lnTo>
                  <a:lnTo>
                    <a:pt x="1322" y="613"/>
                  </a:lnTo>
                  <a:lnTo>
                    <a:pt x="1320" y="611"/>
                  </a:lnTo>
                  <a:lnTo>
                    <a:pt x="1318" y="608"/>
                  </a:lnTo>
                  <a:lnTo>
                    <a:pt x="1318" y="606"/>
                  </a:lnTo>
                  <a:lnTo>
                    <a:pt x="1318" y="602"/>
                  </a:lnTo>
                  <a:lnTo>
                    <a:pt x="1322" y="601"/>
                  </a:lnTo>
                  <a:lnTo>
                    <a:pt x="1324" y="599"/>
                  </a:lnTo>
                  <a:lnTo>
                    <a:pt x="1324" y="599"/>
                  </a:lnTo>
                  <a:lnTo>
                    <a:pt x="1327" y="599"/>
                  </a:lnTo>
                  <a:lnTo>
                    <a:pt x="1329" y="601"/>
                  </a:lnTo>
                  <a:lnTo>
                    <a:pt x="1331" y="602"/>
                  </a:lnTo>
                  <a:lnTo>
                    <a:pt x="1332" y="606"/>
                  </a:lnTo>
                  <a:lnTo>
                    <a:pt x="1332" y="608"/>
                  </a:lnTo>
                  <a:lnTo>
                    <a:pt x="1332" y="609"/>
                  </a:lnTo>
                  <a:lnTo>
                    <a:pt x="1331" y="613"/>
                  </a:lnTo>
                  <a:lnTo>
                    <a:pt x="1327" y="613"/>
                  </a:lnTo>
                  <a:lnTo>
                    <a:pt x="1327" y="613"/>
                  </a:lnTo>
                  <a:close/>
                  <a:moveTo>
                    <a:pt x="1299" y="622"/>
                  </a:moveTo>
                  <a:lnTo>
                    <a:pt x="1299" y="622"/>
                  </a:lnTo>
                  <a:lnTo>
                    <a:pt x="1296" y="622"/>
                  </a:lnTo>
                  <a:lnTo>
                    <a:pt x="1294" y="620"/>
                  </a:lnTo>
                  <a:lnTo>
                    <a:pt x="1292" y="618"/>
                  </a:lnTo>
                  <a:lnTo>
                    <a:pt x="1290" y="615"/>
                  </a:lnTo>
                  <a:lnTo>
                    <a:pt x="1290" y="613"/>
                  </a:lnTo>
                  <a:lnTo>
                    <a:pt x="1290" y="609"/>
                  </a:lnTo>
                  <a:lnTo>
                    <a:pt x="1292" y="608"/>
                  </a:lnTo>
                  <a:lnTo>
                    <a:pt x="1296" y="608"/>
                  </a:lnTo>
                  <a:lnTo>
                    <a:pt x="1296" y="608"/>
                  </a:lnTo>
                  <a:lnTo>
                    <a:pt x="1299" y="606"/>
                  </a:lnTo>
                  <a:lnTo>
                    <a:pt x="1301" y="608"/>
                  </a:lnTo>
                  <a:lnTo>
                    <a:pt x="1303" y="609"/>
                  </a:lnTo>
                  <a:lnTo>
                    <a:pt x="1304" y="613"/>
                  </a:lnTo>
                  <a:lnTo>
                    <a:pt x="1304" y="615"/>
                  </a:lnTo>
                  <a:lnTo>
                    <a:pt x="1304" y="618"/>
                  </a:lnTo>
                  <a:lnTo>
                    <a:pt x="1303" y="620"/>
                  </a:lnTo>
                  <a:lnTo>
                    <a:pt x="1299" y="622"/>
                  </a:lnTo>
                  <a:lnTo>
                    <a:pt x="1299" y="622"/>
                  </a:lnTo>
                  <a:close/>
                  <a:moveTo>
                    <a:pt x="1275" y="627"/>
                  </a:moveTo>
                  <a:lnTo>
                    <a:pt x="1275" y="627"/>
                  </a:lnTo>
                  <a:lnTo>
                    <a:pt x="1273" y="629"/>
                  </a:lnTo>
                  <a:lnTo>
                    <a:pt x="1269" y="629"/>
                  </a:lnTo>
                  <a:lnTo>
                    <a:pt x="1266" y="629"/>
                  </a:lnTo>
                  <a:lnTo>
                    <a:pt x="1264" y="627"/>
                  </a:lnTo>
                  <a:lnTo>
                    <a:pt x="1262" y="623"/>
                  </a:lnTo>
                  <a:lnTo>
                    <a:pt x="1262" y="622"/>
                  </a:lnTo>
                  <a:lnTo>
                    <a:pt x="1262" y="618"/>
                  </a:lnTo>
                  <a:lnTo>
                    <a:pt x="1264" y="616"/>
                  </a:lnTo>
                  <a:lnTo>
                    <a:pt x="1264" y="616"/>
                  </a:lnTo>
                  <a:lnTo>
                    <a:pt x="1268" y="615"/>
                  </a:lnTo>
                  <a:lnTo>
                    <a:pt x="1269" y="615"/>
                  </a:lnTo>
                  <a:lnTo>
                    <a:pt x="1273" y="615"/>
                  </a:lnTo>
                  <a:lnTo>
                    <a:pt x="1275" y="616"/>
                  </a:lnTo>
                  <a:lnTo>
                    <a:pt x="1276" y="618"/>
                  </a:lnTo>
                  <a:lnTo>
                    <a:pt x="1276" y="622"/>
                  </a:lnTo>
                  <a:lnTo>
                    <a:pt x="1276" y="623"/>
                  </a:lnTo>
                  <a:lnTo>
                    <a:pt x="1275" y="627"/>
                  </a:lnTo>
                  <a:lnTo>
                    <a:pt x="1275" y="627"/>
                  </a:lnTo>
                  <a:close/>
                  <a:moveTo>
                    <a:pt x="1254" y="648"/>
                  </a:moveTo>
                  <a:lnTo>
                    <a:pt x="1254" y="648"/>
                  </a:lnTo>
                  <a:lnTo>
                    <a:pt x="1252" y="648"/>
                  </a:lnTo>
                  <a:lnTo>
                    <a:pt x="1248" y="650"/>
                  </a:lnTo>
                  <a:lnTo>
                    <a:pt x="1247" y="648"/>
                  </a:lnTo>
                  <a:lnTo>
                    <a:pt x="1243" y="646"/>
                  </a:lnTo>
                  <a:lnTo>
                    <a:pt x="1241" y="644"/>
                  </a:lnTo>
                  <a:lnTo>
                    <a:pt x="1241" y="641"/>
                  </a:lnTo>
                  <a:lnTo>
                    <a:pt x="1243" y="639"/>
                  </a:lnTo>
                  <a:lnTo>
                    <a:pt x="1245" y="637"/>
                  </a:lnTo>
                  <a:lnTo>
                    <a:pt x="1245" y="637"/>
                  </a:lnTo>
                  <a:lnTo>
                    <a:pt x="1247" y="636"/>
                  </a:lnTo>
                  <a:lnTo>
                    <a:pt x="1248" y="634"/>
                  </a:lnTo>
                  <a:lnTo>
                    <a:pt x="1252" y="636"/>
                  </a:lnTo>
                  <a:lnTo>
                    <a:pt x="1254" y="637"/>
                  </a:lnTo>
                  <a:lnTo>
                    <a:pt x="1255" y="639"/>
                  </a:lnTo>
                  <a:lnTo>
                    <a:pt x="1255" y="643"/>
                  </a:lnTo>
                  <a:lnTo>
                    <a:pt x="1255" y="644"/>
                  </a:lnTo>
                  <a:lnTo>
                    <a:pt x="1254" y="648"/>
                  </a:lnTo>
                  <a:lnTo>
                    <a:pt x="1254" y="648"/>
                  </a:lnTo>
                  <a:close/>
                  <a:moveTo>
                    <a:pt x="1234" y="667"/>
                  </a:moveTo>
                  <a:lnTo>
                    <a:pt x="1234" y="667"/>
                  </a:lnTo>
                  <a:lnTo>
                    <a:pt x="1231" y="669"/>
                  </a:lnTo>
                  <a:lnTo>
                    <a:pt x="1229" y="669"/>
                  </a:lnTo>
                  <a:lnTo>
                    <a:pt x="1226" y="669"/>
                  </a:lnTo>
                  <a:lnTo>
                    <a:pt x="1224" y="667"/>
                  </a:lnTo>
                  <a:lnTo>
                    <a:pt x="1222" y="665"/>
                  </a:lnTo>
                  <a:lnTo>
                    <a:pt x="1220" y="662"/>
                  </a:lnTo>
                  <a:lnTo>
                    <a:pt x="1222" y="658"/>
                  </a:lnTo>
                  <a:lnTo>
                    <a:pt x="1224" y="657"/>
                  </a:lnTo>
                  <a:lnTo>
                    <a:pt x="1224" y="657"/>
                  </a:lnTo>
                  <a:lnTo>
                    <a:pt x="1226" y="655"/>
                  </a:lnTo>
                  <a:lnTo>
                    <a:pt x="1229" y="655"/>
                  </a:lnTo>
                  <a:lnTo>
                    <a:pt x="1231" y="655"/>
                  </a:lnTo>
                  <a:lnTo>
                    <a:pt x="1234" y="657"/>
                  </a:lnTo>
                  <a:lnTo>
                    <a:pt x="1234" y="660"/>
                  </a:lnTo>
                  <a:lnTo>
                    <a:pt x="1236" y="662"/>
                  </a:lnTo>
                  <a:lnTo>
                    <a:pt x="1234" y="665"/>
                  </a:lnTo>
                  <a:lnTo>
                    <a:pt x="1234" y="667"/>
                  </a:lnTo>
                  <a:lnTo>
                    <a:pt x="1234" y="667"/>
                  </a:lnTo>
                  <a:close/>
                  <a:moveTo>
                    <a:pt x="1213" y="688"/>
                  </a:moveTo>
                  <a:lnTo>
                    <a:pt x="1213" y="688"/>
                  </a:lnTo>
                  <a:lnTo>
                    <a:pt x="1210" y="690"/>
                  </a:lnTo>
                  <a:lnTo>
                    <a:pt x="1208" y="690"/>
                  </a:lnTo>
                  <a:lnTo>
                    <a:pt x="1205" y="690"/>
                  </a:lnTo>
                  <a:lnTo>
                    <a:pt x="1203" y="688"/>
                  </a:lnTo>
                  <a:lnTo>
                    <a:pt x="1201" y="685"/>
                  </a:lnTo>
                  <a:lnTo>
                    <a:pt x="1201" y="683"/>
                  </a:lnTo>
                  <a:lnTo>
                    <a:pt x="1201" y="679"/>
                  </a:lnTo>
                  <a:lnTo>
                    <a:pt x="1203" y="678"/>
                  </a:lnTo>
                  <a:lnTo>
                    <a:pt x="1203" y="678"/>
                  </a:lnTo>
                  <a:lnTo>
                    <a:pt x="1205" y="676"/>
                  </a:lnTo>
                  <a:lnTo>
                    <a:pt x="1208" y="676"/>
                  </a:lnTo>
                  <a:lnTo>
                    <a:pt x="1212" y="676"/>
                  </a:lnTo>
                  <a:lnTo>
                    <a:pt x="1213" y="678"/>
                  </a:lnTo>
                  <a:lnTo>
                    <a:pt x="1215" y="679"/>
                  </a:lnTo>
                  <a:lnTo>
                    <a:pt x="1215" y="683"/>
                  </a:lnTo>
                  <a:lnTo>
                    <a:pt x="1215" y="685"/>
                  </a:lnTo>
                  <a:lnTo>
                    <a:pt x="1213" y="688"/>
                  </a:lnTo>
                  <a:lnTo>
                    <a:pt x="1213" y="688"/>
                  </a:lnTo>
                  <a:close/>
                  <a:moveTo>
                    <a:pt x="1192" y="709"/>
                  </a:moveTo>
                  <a:lnTo>
                    <a:pt x="1192" y="709"/>
                  </a:lnTo>
                  <a:lnTo>
                    <a:pt x="1191" y="709"/>
                  </a:lnTo>
                  <a:lnTo>
                    <a:pt x="1187" y="711"/>
                  </a:lnTo>
                  <a:lnTo>
                    <a:pt x="1184" y="709"/>
                  </a:lnTo>
                  <a:lnTo>
                    <a:pt x="1182" y="707"/>
                  </a:lnTo>
                  <a:lnTo>
                    <a:pt x="1180" y="706"/>
                  </a:lnTo>
                  <a:lnTo>
                    <a:pt x="1180" y="702"/>
                  </a:lnTo>
                  <a:lnTo>
                    <a:pt x="1180" y="700"/>
                  </a:lnTo>
                  <a:lnTo>
                    <a:pt x="1182" y="699"/>
                  </a:lnTo>
                  <a:lnTo>
                    <a:pt x="1182" y="699"/>
                  </a:lnTo>
                  <a:lnTo>
                    <a:pt x="1185" y="697"/>
                  </a:lnTo>
                  <a:lnTo>
                    <a:pt x="1187" y="695"/>
                  </a:lnTo>
                  <a:lnTo>
                    <a:pt x="1191" y="697"/>
                  </a:lnTo>
                  <a:lnTo>
                    <a:pt x="1192" y="699"/>
                  </a:lnTo>
                  <a:lnTo>
                    <a:pt x="1194" y="700"/>
                  </a:lnTo>
                  <a:lnTo>
                    <a:pt x="1194" y="704"/>
                  </a:lnTo>
                  <a:lnTo>
                    <a:pt x="1194" y="706"/>
                  </a:lnTo>
                  <a:lnTo>
                    <a:pt x="1192" y="709"/>
                  </a:lnTo>
                  <a:lnTo>
                    <a:pt x="1192" y="709"/>
                  </a:lnTo>
                  <a:close/>
                  <a:moveTo>
                    <a:pt x="1171" y="728"/>
                  </a:moveTo>
                  <a:lnTo>
                    <a:pt x="1171" y="728"/>
                  </a:lnTo>
                  <a:lnTo>
                    <a:pt x="1170" y="730"/>
                  </a:lnTo>
                  <a:lnTo>
                    <a:pt x="1166" y="730"/>
                  </a:lnTo>
                  <a:lnTo>
                    <a:pt x="1164" y="730"/>
                  </a:lnTo>
                  <a:lnTo>
                    <a:pt x="1163" y="728"/>
                  </a:lnTo>
                  <a:lnTo>
                    <a:pt x="1161" y="727"/>
                  </a:lnTo>
                  <a:lnTo>
                    <a:pt x="1159" y="723"/>
                  </a:lnTo>
                  <a:lnTo>
                    <a:pt x="1161" y="720"/>
                  </a:lnTo>
                  <a:lnTo>
                    <a:pt x="1163" y="718"/>
                  </a:lnTo>
                  <a:lnTo>
                    <a:pt x="1163" y="718"/>
                  </a:lnTo>
                  <a:lnTo>
                    <a:pt x="1164" y="716"/>
                  </a:lnTo>
                  <a:lnTo>
                    <a:pt x="1168" y="716"/>
                  </a:lnTo>
                  <a:lnTo>
                    <a:pt x="1170" y="716"/>
                  </a:lnTo>
                  <a:lnTo>
                    <a:pt x="1173" y="718"/>
                  </a:lnTo>
                  <a:lnTo>
                    <a:pt x="1173" y="721"/>
                  </a:lnTo>
                  <a:lnTo>
                    <a:pt x="1175" y="723"/>
                  </a:lnTo>
                  <a:lnTo>
                    <a:pt x="1173" y="727"/>
                  </a:lnTo>
                  <a:lnTo>
                    <a:pt x="1171" y="728"/>
                  </a:lnTo>
                  <a:lnTo>
                    <a:pt x="1171" y="728"/>
                  </a:lnTo>
                  <a:close/>
                  <a:moveTo>
                    <a:pt x="1154" y="748"/>
                  </a:moveTo>
                  <a:lnTo>
                    <a:pt x="1154" y="748"/>
                  </a:lnTo>
                  <a:lnTo>
                    <a:pt x="1152" y="751"/>
                  </a:lnTo>
                  <a:lnTo>
                    <a:pt x="1150" y="751"/>
                  </a:lnTo>
                  <a:lnTo>
                    <a:pt x="1147" y="751"/>
                  </a:lnTo>
                  <a:lnTo>
                    <a:pt x="1145" y="751"/>
                  </a:lnTo>
                  <a:lnTo>
                    <a:pt x="1142" y="749"/>
                  </a:lnTo>
                  <a:lnTo>
                    <a:pt x="1142" y="748"/>
                  </a:lnTo>
                  <a:lnTo>
                    <a:pt x="1140" y="744"/>
                  </a:lnTo>
                  <a:lnTo>
                    <a:pt x="1142" y="741"/>
                  </a:lnTo>
                  <a:lnTo>
                    <a:pt x="1142" y="741"/>
                  </a:lnTo>
                  <a:lnTo>
                    <a:pt x="1143" y="739"/>
                  </a:lnTo>
                  <a:lnTo>
                    <a:pt x="1145" y="737"/>
                  </a:lnTo>
                  <a:lnTo>
                    <a:pt x="1149" y="737"/>
                  </a:lnTo>
                  <a:lnTo>
                    <a:pt x="1152" y="739"/>
                  </a:lnTo>
                  <a:lnTo>
                    <a:pt x="1154" y="741"/>
                  </a:lnTo>
                  <a:lnTo>
                    <a:pt x="1154" y="742"/>
                  </a:lnTo>
                  <a:lnTo>
                    <a:pt x="1156" y="746"/>
                  </a:lnTo>
                  <a:lnTo>
                    <a:pt x="1154" y="748"/>
                  </a:lnTo>
                  <a:lnTo>
                    <a:pt x="1154" y="748"/>
                  </a:lnTo>
                  <a:close/>
                  <a:moveTo>
                    <a:pt x="1142" y="774"/>
                  </a:moveTo>
                  <a:lnTo>
                    <a:pt x="1142" y="774"/>
                  </a:lnTo>
                  <a:lnTo>
                    <a:pt x="1138" y="776"/>
                  </a:lnTo>
                  <a:lnTo>
                    <a:pt x="1136" y="777"/>
                  </a:lnTo>
                  <a:lnTo>
                    <a:pt x="1133" y="777"/>
                  </a:lnTo>
                  <a:lnTo>
                    <a:pt x="1131" y="777"/>
                  </a:lnTo>
                  <a:lnTo>
                    <a:pt x="1129" y="776"/>
                  </a:lnTo>
                  <a:lnTo>
                    <a:pt x="1128" y="772"/>
                  </a:lnTo>
                  <a:lnTo>
                    <a:pt x="1128" y="770"/>
                  </a:lnTo>
                  <a:lnTo>
                    <a:pt x="1128" y="767"/>
                  </a:lnTo>
                  <a:lnTo>
                    <a:pt x="1128" y="767"/>
                  </a:lnTo>
                  <a:lnTo>
                    <a:pt x="1129" y="765"/>
                  </a:lnTo>
                  <a:lnTo>
                    <a:pt x="1133" y="763"/>
                  </a:lnTo>
                  <a:lnTo>
                    <a:pt x="1135" y="763"/>
                  </a:lnTo>
                  <a:lnTo>
                    <a:pt x="1138" y="763"/>
                  </a:lnTo>
                  <a:lnTo>
                    <a:pt x="1140" y="765"/>
                  </a:lnTo>
                  <a:lnTo>
                    <a:pt x="1142" y="769"/>
                  </a:lnTo>
                  <a:lnTo>
                    <a:pt x="1142" y="770"/>
                  </a:lnTo>
                  <a:lnTo>
                    <a:pt x="1142" y="774"/>
                  </a:lnTo>
                  <a:lnTo>
                    <a:pt x="1142" y="774"/>
                  </a:lnTo>
                  <a:close/>
                  <a:moveTo>
                    <a:pt x="1128" y="800"/>
                  </a:moveTo>
                  <a:lnTo>
                    <a:pt x="1128" y="800"/>
                  </a:lnTo>
                  <a:lnTo>
                    <a:pt x="1126" y="802"/>
                  </a:lnTo>
                  <a:lnTo>
                    <a:pt x="1122" y="804"/>
                  </a:lnTo>
                  <a:lnTo>
                    <a:pt x="1121" y="804"/>
                  </a:lnTo>
                  <a:lnTo>
                    <a:pt x="1117" y="802"/>
                  </a:lnTo>
                  <a:lnTo>
                    <a:pt x="1115" y="800"/>
                  </a:lnTo>
                  <a:lnTo>
                    <a:pt x="1113" y="798"/>
                  </a:lnTo>
                  <a:lnTo>
                    <a:pt x="1113" y="795"/>
                  </a:lnTo>
                  <a:lnTo>
                    <a:pt x="1115" y="793"/>
                  </a:lnTo>
                  <a:lnTo>
                    <a:pt x="1115" y="793"/>
                  </a:lnTo>
                  <a:lnTo>
                    <a:pt x="1117" y="791"/>
                  </a:lnTo>
                  <a:lnTo>
                    <a:pt x="1119" y="790"/>
                  </a:lnTo>
                  <a:lnTo>
                    <a:pt x="1121" y="790"/>
                  </a:lnTo>
                  <a:lnTo>
                    <a:pt x="1124" y="790"/>
                  </a:lnTo>
                  <a:lnTo>
                    <a:pt x="1126" y="791"/>
                  </a:lnTo>
                  <a:lnTo>
                    <a:pt x="1128" y="793"/>
                  </a:lnTo>
                  <a:lnTo>
                    <a:pt x="1128" y="797"/>
                  </a:lnTo>
                  <a:lnTo>
                    <a:pt x="1128" y="800"/>
                  </a:lnTo>
                  <a:lnTo>
                    <a:pt x="1128" y="800"/>
                  </a:lnTo>
                  <a:close/>
                  <a:moveTo>
                    <a:pt x="1113" y="825"/>
                  </a:moveTo>
                  <a:lnTo>
                    <a:pt x="1113" y="825"/>
                  </a:lnTo>
                  <a:lnTo>
                    <a:pt x="1112" y="828"/>
                  </a:lnTo>
                  <a:lnTo>
                    <a:pt x="1110" y="828"/>
                  </a:lnTo>
                  <a:lnTo>
                    <a:pt x="1106" y="828"/>
                  </a:lnTo>
                  <a:lnTo>
                    <a:pt x="1105" y="828"/>
                  </a:lnTo>
                  <a:lnTo>
                    <a:pt x="1101" y="826"/>
                  </a:lnTo>
                  <a:lnTo>
                    <a:pt x="1101" y="825"/>
                  </a:lnTo>
                  <a:lnTo>
                    <a:pt x="1099" y="821"/>
                  </a:lnTo>
                  <a:lnTo>
                    <a:pt x="1101" y="818"/>
                  </a:lnTo>
                  <a:lnTo>
                    <a:pt x="1101" y="818"/>
                  </a:lnTo>
                  <a:lnTo>
                    <a:pt x="1103" y="816"/>
                  </a:lnTo>
                  <a:lnTo>
                    <a:pt x="1105" y="814"/>
                  </a:lnTo>
                  <a:lnTo>
                    <a:pt x="1108" y="814"/>
                  </a:lnTo>
                  <a:lnTo>
                    <a:pt x="1112" y="816"/>
                  </a:lnTo>
                  <a:lnTo>
                    <a:pt x="1113" y="818"/>
                  </a:lnTo>
                  <a:lnTo>
                    <a:pt x="1115" y="819"/>
                  </a:lnTo>
                  <a:lnTo>
                    <a:pt x="1115" y="823"/>
                  </a:lnTo>
                  <a:lnTo>
                    <a:pt x="1113" y="825"/>
                  </a:lnTo>
                  <a:lnTo>
                    <a:pt x="1113" y="825"/>
                  </a:lnTo>
                  <a:close/>
                  <a:moveTo>
                    <a:pt x="1101" y="851"/>
                  </a:moveTo>
                  <a:lnTo>
                    <a:pt x="1101" y="851"/>
                  </a:lnTo>
                  <a:lnTo>
                    <a:pt x="1099" y="853"/>
                  </a:lnTo>
                  <a:lnTo>
                    <a:pt x="1096" y="854"/>
                  </a:lnTo>
                  <a:lnTo>
                    <a:pt x="1092" y="854"/>
                  </a:lnTo>
                  <a:lnTo>
                    <a:pt x="1091" y="854"/>
                  </a:lnTo>
                  <a:lnTo>
                    <a:pt x="1089" y="853"/>
                  </a:lnTo>
                  <a:lnTo>
                    <a:pt x="1087" y="849"/>
                  </a:lnTo>
                  <a:lnTo>
                    <a:pt x="1087" y="847"/>
                  </a:lnTo>
                  <a:lnTo>
                    <a:pt x="1087" y="844"/>
                  </a:lnTo>
                  <a:lnTo>
                    <a:pt x="1087" y="844"/>
                  </a:lnTo>
                  <a:lnTo>
                    <a:pt x="1089" y="842"/>
                  </a:lnTo>
                  <a:lnTo>
                    <a:pt x="1092" y="840"/>
                  </a:lnTo>
                  <a:lnTo>
                    <a:pt x="1094" y="840"/>
                  </a:lnTo>
                  <a:lnTo>
                    <a:pt x="1098" y="840"/>
                  </a:lnTo>
                  <a:lnTo>
                    <a:pt x="1099" y="842"/>
                  </a:lnTo>
                  <a:lnTo>
                    <a:pt x="1101" y="846"/>
                  </a:lnTo>
                  <a:lnTo>
                    <a:pt x="1101" y="847"/>
                  </a:lnTo>
                  <a:lnTo>
                    <a:pt x="1101" y="851"/>
                  </a:lnTo>
                  <a:lnTo>
                    <a:pt x="1101" y="851"/>
                  </a:lnTo>
                  <a:close/>
                  <a:moveTo>
                    <a:pt x="1087" y="877"/>
                  </a:moveTo>
                  <a:lnTo>
                    <a:pt x="1087" y="877"/>
                  </a:lnTo>
                  <a:lnTo>
                    <a:pt x="1085" y="879"/>
                  </a:lnTo>
                  <a:lnTo>
                    <a:pt x="1082" y="881"/>
                  </a:lnTo>
                  <a:lnTo>
                    <a:pt x="1080" y="881"/>
                  </a:lnTo>
                  <a:lnTo>
                    <a:pt x="1077" y="879"/>
                  </a:lnTo>
                  <a:lnTo>
                    <a:pt x="1075" y="877"/>
                  </a:lnTo>
                  <a:lnTo>
                    <a:pt x="1073" y="875"/>
                  </a:lnTo>
                  <a:lnTo>
                    <a:pt x="1073" y="872"/>
                  </a:lnTo>
                  <a:lnTo>
                    <a:pt x="1075" y="870"/>
                  </a:lnTo>
                  <a:lnTo>
                    <a:pt x="1075" y="870"/>
                  </a:lnTo>
                  <a:lnTo>
                    <a:pt x="1077" y="868"/>
                  </a:lnTo>
                  <a:lnTo>
                    <a:pt x="1078" y="867"/>
                  </a:lnTo>
                  <a:lnTo>
                    <a:pt x="1080" y="867"/>
                  </a:lnTo>
                  <a:lnTo>
                    <a:pt x="1084" y="867"/>
                  </a:lnTo>
                  <a:lnTo>
                    <a:pt x="1085" y="868"/>
                  </a:lnTo>
                  <a:lnTo>
                    <a:pt x="1087" y="870"/>
                  </a:lnTo>
                  <a:lnTo>
                    <a:pt x="1087" y="874"/>
                  </a:lnTo>
                  <a:lnTo>
                    <a:pt x="1087" y="877"/>
                  </a:lnTo>
                  <a:lnTo>
                    <a:pt x="1087" y="877"/>
                  </a:lnTo>
                  <a:close/>
                  <a:moveTo>
                    <a:pt x="1073" y="902"/>
                  </a:moveTo>
                  <a:lnTo>
                    <a:pt x="1073" y="902"/>
                  </a:lnTo>
                  <a:lnTo>
                    <a:pt x="1071" y="905"/>
                  </a:lnTo>
                  <a:lnTo>
                    <a:pt x="1070" y="905"/>
                  </a:lnTo>
                  <a:lnTo>
                    <a:pt x="1066" y="905"/>
                  </a:lnTo>
                  <a:lnTo>
                    <a:pt x="1064" y="905"/>
                  </a:lnTo>
                  <a:lnTo>
                    <a:pt x="1061" y="903"/>
                  </a:lnTo>
                  <a:lnTo>
                    <a:pt x="1061" y="900"/>
                  </a:lnTo>
                  <a:lnTo>
                    <a:pt x="1059" y="898"/>
                  </a:lnTo>
                  <a:lnTo>
                    <a:pt x="1061" y="895"/>
                  </a:lnTo>
                  <a:lnTo>
                    <a:pt x="1061" y="895"/>
                  </a:lnTo>
                  <a:lnTo>
                    <a:pt x="1063" y="893"/>
                  </a:lnTo>
                  <a:lnTo>
                    <a:pt x="1064" y="891"/>
                  </a:lnTo>
                  <a:lnTo>
                    <a:pt x="1068" y="891"/>
                  </a:lnTo>
                  <a:lnTo>
                    <a:pt x="1071" y="893"/>
                  </a:lnTo>
                  <a:lnTo>
                    <a:pt x="1073" y="895"/>
                  </a:lnTo>
                  <a:lnTo>
                    <a:pt x="1075" y="896"/>
                  </a:lnTo>
                  <a:lnTo>
                    <a:pt x="1075" y="900"/>
                  </a:lnTo>
                  <a:lnTo>
                    <a:pt x="1073" y="902"/>
                  </a:lnTo>
                  <a:lnTo>
                    <a:pt x="1073" y="902"/>
                  </a:lnTo>
                  <a:close/>
                  <a:moveTo>
                    <a:pt x="1061" y="928"/>
                  </a:moveTo>
                  <a:lnTo>
                    <a:pt x="1061" y="928"/>
                  </a:lnTo>
                  <a:lnTo>
                    <a:pt x="1059" y="930"/>
                  </a:lnTo>
                  <a:lnTo>
                    <a:pt x="1056" y="931"/>
                  </a:lnTo>
                  <a:lnTo>
                    <a:pt x="1054" y="931"/>
                  </a:lnTo>
                  <a:lnTo>
                    <a:pt x="1050" y="931"/>
                  </a:lnTo>
                  <a:lnTo>
                    <a:pt x="1049" y="930"/>
                  </a:lnTo>
                  <a:lnTo>
                    <a:pt x="1047" y="926"/>
                  </a:lnTo>
                  <a:lnTo>
                    <a:pt x="1047" y="924"/>
                  </a:lnTo>
                  <a:lnTo>
                    <a:pt x="1047" y="921"/>
                  </a:lnTo>
                  <a:lnTo>
                    <a:pt x="1047" y="921"/>
                  </a:lnTo>
                  <a:lnTo>
                    <a:pt x="1049" y="919"/>
                  </a:lnTo>
                  <a:lnTo>
                    <a:pt x="1052" y="917"/>
                  </a:lnTo>
                  <a:lnTo>
                    <a:pt x="1054" y="917"/>
                  </a:lnTo>
                  <a:lnTo>
                    <a:pt x="1057" y="917"/>
                  </a:lnTo>
                  <a:lnTo>
                    <a:pt x="1059" y="919"/>
                  </a:lnTo>
                  <a:lnTo>
                    <a:pt x="1061" y="923"/>
                  </a:lnTo>
                  <a:lnTo>
                    <a:pt x="1061" y="924"/>
                  </a:lnTo>
                  <a:lnTo>
                    <a:pt x="1061" y="928"/>
                  </a:lnTo>
                  <a:lnTo>
                    <a:pt x="1061" y="928"/>
                  </a:lnTo>
                  <a:close/>
                  <a:moveTo>
                    <a:pt x="1047" y="954"/>
                  </a:moveTo>
                  <a:lnTo>
                    <a:pt x="1047" y="954"/>
                  </a:lnTo>
                  <a:lnTo>
                    <a:pt x="1045" y="956"/>
                  </a:lnTo>
                  <a:lnTo>
                    <a:pt x="1042" y="958"/>
                  </a:lnTo>
                  <a:lnTo>
                    <a:pt x="1040" y="958"/>
                  </a:lnTo>
                  <a:lnTo>
                    <a:pt x="1036" y="956"/>
                  </a:lnTo>
                  <a:lnTo>
                    <a:pt x="1035" y="954"/>
                  </a:lnTo>
                  <a:lnTo>
                    <a:pt x="1033" y="952"/>
                  </a:lnTo>
                  <a:lnTo>
                    <a:pt x="1033" y="949"/>
                  </a:lnTo>
                  <a:lnTo>
                    <a:pt x="1035" y="947"/>
                  </a:lnTo>
                  <a:lnTo>
                    <a:pt x="1035" y="947"/>
                  </a:lnTo>
                  <a:lnTo>
                    <a:pt x="1036" y="945"/>
                  </a:lnTo>
                  <a:lnTo>
                    <a:pt x="1038" y="944"/>
                  </a:lnTo>
                  <a:lnTo>
                    <a:pt x="1042" y="944"/>
                  </a:lnTo>
                  <a:lnTo>
                    <a:pt x="1043" y="944"/>
                  </a:lnTo>
                  <a:lnTo>
                    <a:pt x="1047" y="945"/>
                  </a:lnTo>
                  <a:lnTo>
                    <a:pt x="1047" y="947"/>
                  </a:lnTo>
                  <a:lnTo>
                    <a:pt x="1047" y="951"/>
                  </a:lnTo>
                  <a:lnTo>
                    <a:pt x="1047" y="954"/>
                  </a:lnTo>
                  <a:lnTo>
                    <a:pt x="1047" y="954"/>
                  </a:lnTo>
                  <a:close/>
                  <a:moveTo>
                    <a:pt x="1033" y="979"/>
                  </a:moveTo>
                  <a:lnTo>
                    <a:pt x="1033" y="979"/>
                  </a:lnTo>
                  <a:lnTo>
                    <a:pt x="1031" y="982"/>
                  </a:lnTo>
                  <a:lnTo>
                    <a:pt x="1029" y="982"/>
                  </a:lnTo>
                  <a:lnTo>
                    <a:pt x="1026" y="982"/>
                  </a:lnTo>
                  <a:lnTo>
                    <a:pt x="1024" y="982"/>
                  </a:lnTo>
                  <a:lnTo>
                    <a:pt x="1021" y="980"/>
                  </a:lnTo>
                  <a:lnTo>
                    <a:pt x="1021" y="977"/>
                  </a:lnTo>
                  <a:lnTo>
                    <a:pt x="1019" y="975"/>
                  </a:lnTo>
                  <a:lnTo>
                    <a:pt x="1021" y="972"/>
                  </a:lnTo>
                  <a:lnTo>
                    <a:pt x="1021" y="972"/>
                  </a:lnTo>
                  <a:lnTo>
                    <a:pt x="1022" y="970"/>
                  </a:lnTo>
                  <a:lnTo>
                    <a:pt x="1024" y="968"/>
                  </a:lnTo>
                  <a:lnTo>
                    <a:pt x="1028" y="968"/>
                  </a:lnTo>
                  <a:lnTo>
                    <a:pt x="1031" y="970"/>
                  </a:lnTo>
                  <a:lnTo>
                    <a:pt x="1033" y="972"/>
                  </a:lnTo>
                  <a:lnTo>
                    <a:pt x="1035" y="973"/>
                  </a:lnTo>
                  <a:lnTo>
                    <a:pt x="1035" y="977"/>
                  </a:lnTo>
                  <a:lnTo>
                    <a:pt x="1033" y="979"/>
                  </a:lnTo>
                  <a:lnTo>
                    <a:pt x="1033" y="979"/>
                  </a:lnTo>
                  <a:close/>
                  <a:moveTo>
                    <a:pt x="1021" y="1005"/>
                  </a:moveTo>
                  <a:lnTo>
                    <a:pt x="1021" y="1005"/>
                  </a:lnTo>
                  <a:lnTo>
                    <a:pt x="1019" y="1007"/>
                  </a:lnTo>
                  <a:lnTo>
                    <a:pt x="1015" y="1008"/>
                  </a:lnTo>
                  <a:lnTo>
                    <a:pt x="1014" y="1008"/>
                  </a:lnTo>
                  <a:lnTo>
                    <a:pt x="1010" y="1008"/>
                  </a:lnTo>
                  <a:lnTo>
                    <a:pt x="1008" y="1007"/>
                  </a:lnTo>
                  <a:lnTo>
                    <a:pt x="1007" y="1003"/>
                  </a:lnTo>
                  <a:lnTo>
                    <a:pt x="1007" y="1001"/>
                  </a:lnTo>
                  <a:lnTo>
                    <a:pt x="1007" y="998"/>
                  </a:lnTo>
                  <a:lnTo>
                    <a:pt x="1007" y="998"/>
                  </a:lnTo>
                  <a:lnTo>
                    <a:pt x="1008" y="996"/>
                  </a:lnTo>
                  <a:lnTo>
                    <a:pt x="1012" y="994"/>
                  </a:lnTo>
                  <a:lnTo>
                    <a:pt x="1014" y="994"/>
                  </a:lnTo>
                  <a:lnTo>
                    <a:pt x="1017" y="994"/>
                  </a:lnTo>
                  <a:lnTo>
                    <a:pt x="1019" y="996"/>
                  </a:lnTo>
                  <a:lnTo>
                    <a:pt x="1021" y="1000"/>
                  </a:lnTo>
                  <a:lnTo>
                    <a:pt x="1021" y="1001"/>
                  </a:lnTo>
                  <a:lnTo>
                    <a:pt x="1021" y="1005"/>
                  </a:lnTo>
                  <a:lnTo>
                    <a:pt x="1021" y="1005"/>
                  </a:lnTo>
                  <a:close/>
                  <a:moveTo>
                    <a:pt x="1007" y="1031"/>
                  </a:moveTo>
                  <a:lnTo>
                    <a:pt x="1007" y="1031"/>
                  </a:lnTo>
                  <a:lnTo>
                    <a:pt x="1005" y="1033"/>
                  </a:lnTo>
                  <a:lnTo>
                    <a:pt x="1001" y="1035"/>
                  </a:lnTo>
                  <a:lnTo>
                    <a:pt x="1000" y="1035"/>
                  </a:lnTo>
                  <a:lnTo>
                    <a:pt x="996" y="1033"/>
                  </a:lnTo>
                  <a:lnTo>
                    <a:pt x="994" y="1031"/>
                  </a:lnTo>
                  <a:lnTo>
                    <a:pt x="993" y="1029"/>
                  </a:lnTo>
                  <a:lnTo>
                    <a:pt x="993" y="1026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96" y="1022"/>
                  </a:lnTo>
                  <a:lnTo>
                    <a:pt x="998" y="1021"/>
                  </a:lnTo>
                  <a:lnTo>
                    <a:pt x="1001" y="1021"/>
                  </a:lnTo>
                  <a:lnTo>
                    <a:pt x="1003" y="1021"/>
                  </a:lnTo>
                  <a:lnTo>
                    <a:pt x="1007" y="1022"/>
                  </a:lnTo>
                  <a:lnTo>
                    <a:pt x="1007" y="1024"/>
                  </a:lnTo>
                  <a:lnTo>
                    <a:pt x="1007" y="1028"/>
                  </a:lnTo>
                  <a:lnTo>
                    <a:pt x="1007" y="1031"/>
                  </a:lnTo>
                  <a:lnTo>
                    <a:pt x="1007" y="1031"/>
                  </a:lnTo>
                  <a:close/>
                  <a:moveTo>
                    <a:pt x="993" y="1056"/>
                  </a:moveTo>
                  <a:lnTo>
                    <a:pt x="993" y="1056"/>
                  </a:lnTo>
                  <a:lnTo>
                    <a:pt x="991" y="1059"/>
                  </a:lnTo>
                  <a:lnTo>
                    <a:pt x="989" y="1059"/>
                  </a:lnTo>
                  <a:lnTo>
                    <a:pt x="986" y="1059"/>
                  </a:lnTo>
                  <a:lnTo>
                    <a:pt x="984" y="1059"/>
                  </a:lnTo>
                  <a:lnTo>
                    <a:pt x="980" y="1057"/>
                  </a:lnTo>
                  <a:lnTo>
                    <a:pt x="980" y="1054"/>
                  </a:lnTo>
                  <a:lnTo>
                    <a:pt x="979" y="1052"/>
                  </a:lnTo>
                  <a:lnTo>
                    <a:pt x="980" y="1049"/>
                  </a:lnTo>
                  <a:lnTo>
                    <a:pt x="980" y="1049"/>
                  </a:lnTo>
                  <a:lnTo>
                    <a:pt x="982" y="1047"/>
                  </a:lnTo>
                  <a:lnTo>
                    <a:pt x="984" y="1045"/>
                  </a:lnTo>
                  <a:lnTo>
                    <a:pt x="987" y="1045"/>
                  </a:lnTo>
                  <a:lnTo>
                    <a:pt x="991" y="1047"/>
                  </a:lnTo>
                  <a:lnTo>
                    <a:pt x="993" y="1049"/>
                  </a:lnTo>
                  <a:lnTo>
                    <a:pt x="994" y="1050"/>
                  </a:lnTo>
                  <a:lnTo>
                    <a:pt x="994" y="1054"/>
                  </a:lnTo>
                  <a:lnTo>
                    <a:pt x="993" y="1056"/>
                  </a:lnTo>
                  <a:lnTo>
                    <a:pt x="993" y="1056"/>
                  </a:lnTo>
                  <a:close/>
                  <a:moveTo>
                    <a:pt x="980" y="1082"/>
                  </a:moveTo>
                  <a:lnTo>
                    <a:pt x="980" y="1082"/>
                  </a:lnTo>
                  <a:lnTo>
                    <a:pt x="979" y="1084"/>
                  </a:lnTo>
                  <a:lnTo>
                    <a:pt x="975" y="1085"/>
                  </a:lnTo>
                  <a:lnTo>
                    <a:pt x="973" y="1085"/>
                  </a:lnTo>
                  <a:lnTo>
                    <a:pt x="970" y="1085"/>
                  </a:lnTo>
                  <a:lnTo>
                    <a:pt x="968" y="1084"/>
                  </a:lnTo>
                  <a:lnTo>
                    <a:pt x="966" y="1080"/>
                  </a:lnTo>
                  <a:lnTo>
                    <a:pt x="966" y="1078"/>
                  </a:lnTo>
                  <a:lnTo>
                    <a:pt x="966" y="1075"/>
                  </a:lnTo>
                  <a:lnTo>
                    <a:pt x="966" y="1075"/>
                  </a:lnTo>
                  <a:lnTo>
                    <a:pt x="968" y="1073"/>
                  </a:lnTo>
                  <a:lnTo>
                    <a:pt x="972" y="1071"/>
                  </a:lnTo>
                  <a:lnTo>
                    <a:pt x="973" y="1071"/>
                  </a:lnTo>
                  <a:lnTo>
                    <a:pt x="977" y="1071"/>
                  </a:lnTo>
                  <a:lnTo>
                    <a:pt x="979" y="1073"/>
                  </a:lnTo>
                  <a:lnTo>
                    <a:pt x="980" y="1077"/>
                  </a:lnTo>
                  <a:lnTo>
                    <a:pt x="980" y="1078"/>
                  </a:lnTo>
                  <a:lnTo>
                    <a:pt x="980" y="1082"/>
                  </a:lnTo>
                  <a:lnTo>
                    <a:pt x="980" y="1082"/>
                  </a:lnTo>
                  <a:close/>
                  <a:moveTo>
                    <a:pt x="966" y="1108"/>
                  </a:moveTo>
                  <a:lnTo>
                    <a:pt x="966" y="1108"/>
                  </a:lnTo>
                  <a:lnTo>
                    <a:pt x="965" y="1110"/>
                  </a:lnTo>
                  <a:lnTo>
                    <a:pt x="961" y="1112"/>
                  </a:lnTo>
                  <a:lnTo>
                    <a:pt x="959" y="1112"/>
                  </a:lnTo>
                  <a:lnTo>
                    <a:pt x="956" y="1110"/>
                  </a:lnTo>
                  <a:lnTo>
                    <a:pt x="954" y="1108"/>
                  </a:lnTo>
                  <a:lnTo>
                    <a:pt x="952" y="1106"/>
                  </a:lnTo>
                  <a:lnTo>
                    <a:pt x="952" y="1103"/>
                  </a:lnTo>
                  <a:lnTo>
                    <a:pt x="954" y="1101"/>
                  </a:lnTo>
                  <a:lnTo>
                    <a:pt x="954" y="1101"/>
                  </a:lnTo>
                  <a:lnTo>
                    <a:pt x="956" y="1099"/>
                  </a:lnTo>
                  <a:lnTo>
                    <a:pt x="958" y="1098"/>
                  </a:lnTo>
                  <a:lnTo>
                    <a:pt x="961" y="1098"/>
                  </a:lnTo>
                  <a:lnTo>
                    <a:pt x="963" y="1098"/>
                  </a:lnTo>
                  <a:lnTo>
                    <a:pt x="966" y="1099"/>
                  </a:lnTo>
                  <a:lnTo>
                    <a:pt x="966" y="1101"/>
                  </a:lnTo>
                  <a:lnTo>
                    <a:pt x="966" y="1105"/>
                  </a:lnTo>
                  <a:lnTo>
                    <a:pt x="966" y="1108"/>
                  </a:lnTo>
                  <a:lnTo>
                    <a:pt x="966" y="1108"/>
                  </a:lnTo>
                  <a:close/>
                  <a:moveTo>
                    <a:pt x="952" y="1133"/>
                  </a:moveTo>
                  <a:lnTo>
                    <a:pt x="952" y="1133"/>
                  </a:lnTo>
                  <a:lnTo>
                    <a:pt x="951" y="1136"/>
                  </a:lnTo>
                  <a:lnTo>
                    <a:pt x="949" y="1136"/>
                  </a:lnTo>
                  <a:lnTo>
                    <a:pt x="945" y="1136"/>
                  </a:lnTo>
                  <a:lnTo>
                    <a:pt x="944" y="1136"/>
                  </a:lnTo>
                  <a:lnTo>
                    <a:pt x="942" y="1134"/>
                  </a:lnTo>
                  <a:lnTo>
                    <a:pt x="940" y="1131"/>
                  </a:lnTo>
                  <a:lnTo>
                    <a:pt x="940" y="1129"/>
                  </a:lnTo>
                  <a:lnTo>
                    <a:pt x="940" y="1126"/>
                  </a:lnTo>
                  <a:lnTo>
                    <a:pt x="940" y="1126"/>
                  </a:lnTo>
                  <a:lnTo>
                    <a:pt x="942" y="1124"/>
                  </a:lnTo>
                  <a:lnTo>
                    <a:pt x="944" y="1122"/>
                  </a:lnTo>
                  <a:lnTo>
                    <a:pt x="947" y="1122"/>
                  </a:lnTo>
                  <a:lnTo>
                    <a:pt x="951" y="1124"/>
                  </a:lnTo>
                  <a:lnTo>
                    <a:pt x="952" y="1126"/>
                  </a:lnTo>
                  <a:lnTo>
                    <a:pt x="954" y="1127"/>
                  </a:lnTo>
                  <a:lnTo>
                    <a:pt x="954" y="1131"/>
                  </a:lnTo>
                  <a:lnTo>
                    <a:pt x="952" y="1133"/>
                  </a:lnTo>
                  <a:lnTo>
                    <a:pt x="952" y="1133"/>
                  </a:lnTo>
                  <a:close/>
                  <a:moveTo>
                    <a:pt x="940" y="1159"/>
                  </a:moveTo>
                  <a:lnTo>
                    <a:pt x="940" y="1159"/>
                  </a:lnTo>
                  <a:lnTo>
                    <a:pt x="938" y="1161"/>
                  </a:lnTo>
                  <a:lnTo>
                    <a:pt x="935" y="1162"/>
                  </a:lnTo>
                  <a:lnTo>
                    <a:pt x="933" y="1162"/>
                  </a:lnTo>
                  <a:lnTo>
                    <a:pt x="930" y="1162"/>
                  </a:lnTo>
                  <a:lnTo>
                    <a:pt x="928" y="1161"/>
                  </a:lnTo>
                  <a:lnTo>
                    <a:pt x="926" y="1157"/>
                  </a:lnTo>
                  <a:lnTo>
                    <a:pt x="926" y="1155"/>
                  </a:lnTo>
                  <a:lnTo>
                    <a:pt x="926" y="1152"/>
                  </a:lnTo>
                  <a:lnTo>
                    <a:pt x="926" y="1152"/>
                  </a:lnTo>
                  <a:lnTo>
                    <a:pt x="928" y="1150"/>
                  </a:lnTo>
                  <a:lnTo>
                    <a:pt x="931" y="1148"/>
                  </a:lnTo>
                  <a:lnTo>
                    <a:pt x="933" y="1148"/>
                  </a:lnTo>
                  <a:lnTo>
                    <a:pt x="937" y="1148"/>
                  </a:lnTo>
                  <a:lnTo>
                    <a:pt x="938" y="1150"/>
                  </a:lnTo>
                  <a:lnTo>
                    <a:pt x="940" y="1154"/>
                  </a:lnTo>
                  <a:lnTo>
                    <a:pt x="940" y="1155"/>
                  </a:lnTo>
                  <a:lnTo>
                    <a:pt x="940" y="1159"/>
                  </a:lnTo>
                  <a:lnTo>
                    <a:pt x="940" y="1159"/>
                  </a:lnTo>
                  <a:close/>
                  <a:moveTo>
                    <a:pt x="914" y="1178"/>
                  </a:moveTo>
                  <a:lnTo>
                    <a:pt x="914" y="1178"/>
                  </a:lnTo>
                  <a:lnTo>
                    <a:pt x="912" y="1176"/>
                  </a:lnTo>
                  <a:lnTo>
                    <a:pt x="912" y="1173"/>
                  </a:lnTo>
                  <a:lnTo>
                    <a:pt x="912" y="1171"/>
                  </a:lnTo>
                  <a:lnTo>
                    <a:pt x="914" y="1169"/>
                  </a:lnTo>
                  <a:lnTo>
                    <a:pt x="916" y="1168"/>
                  </a:lnTo>
                  <a:lnTo>
                    <a:pt x="919" y="1166"/>
                  </a:lnTo>
                  <a:lnTo>
                    <a:pt x="921" y="1168"/>
                  </a:lnTo>
                  <a:lnTo>
                    <a:pt x="924" y="1169"/>
                  </a:lnTo>
                  <a:lnTo>
                    <a:pt x="924" y="1169"/>
                  </a:lnTo>
                  <a:lnTo>
                    <a:pt x="926" y="1171"/>
                  </a:lnTo>
                  <a:lnTo>
                    <a:pt x="926" y="1175"/>
                  </a:lnTo>
                  <a:lnTo>
                    <a:pt x="926" y="1176"/>
                  </a:lnTo>
                  <a:lnTo>
                    <a:pt x="924" y="1180"/>
                  </a:lnTo>
                  <a:lnTo>
                    <a:pt x="921" y="1180"/>
                  </a:lnTo>
                  <a:lnTo>
                    <a:pt x="919" y="1182"/>
                  </a:lnTo>
                  <a:lnTo>
                    <a:pt x="916" y="1180"/>
                  </a:lnTo>
                  <a:lnTo>
                    <a:pt x="914" y="1178"/>
                  </a:lnTo>
                  <a:lnTo>
                    <a:pt x="914" y="1178"/>
                  </a:lnTo>
                  <a:close/>
                  <a:moveTo>
                    <a:pt x="893" y="1159"/>
                  </a:moveTo>
                  <a:lnTo>
                    <a:pt x="893" y="1159"/>
                  </a:lnTo>
                  <a:lnTo>
                    <a:pt x="891" y="1155"/>
                  </a:lnTo>
                  <a:lnTo>
                    <a:pt x="891" y="1154"/>
                  </a:lnTo>
                  <a:lnTo>
                    <a:pt x="891" y="1150"/>
                  </a:lnTo>
                  <a:lnTo>
                    <a:pt x="893" y="1148"/>
                  </a:lnTo>
                  <a:lnTo>
                    <a:pt x="896" y="1147"/>
                  </a:lnTo>
                  <a:lnTo>
                    <a:pt x="898" y="1145"/>
                  </a:lnTo>
                  <a:lnTo>
                    <a:pt x="902" y="1147"/>
                  </a:lnTo>
                  <a:lnTo>
                    <a:pt x="903" y="1148"/>
                  </a:lnTo>
                  <a:lnTo>
                    <a:pt x="903" y="1148"/>
                  </a:lnTo>
                  <a:lnTo>
                    <a:pt x="905" y="1150"/>
                  </a:lnTo>
                  <a:lnTo>
                    <a:pt x="905" y="1154"/>
                  </a:lnTo>
                  <a:lnTo>
                    <a:pt x="905" y="1155"/>
                  </a:lnTo>
                  <a:lnTo>
                    <a:pt x="903" y="1159"/>
                  </a:lnTo>
                  <a:lnTo>
                    <a:pt x="902" y="1161"/>
                  </a:lnTo>
                  <a:lnTo>
                    <a:pt x="898" y="1161"/>
                  </a:lnTo>
                  <a:lnTo>
                    <a:pt x="896" y="1161"/>
                  </a:lnTo>
                  <a:lnTo>
                    <a:pt x="893" y="1159"/>
                  </a:lnTo>
                  <a:lnTo>
                    <a:pt x="893" y="1159"/>
                  </a:lnTo>
                  <a:close/>
                  <a:moveTo>
                    <a:pt x="874" y="1138"/>
                  </a:moveTo>
                  <a:lnTo>
                    <a:pt x="874" y="1138"/>
                  </a:lnTo>
                  <a:lnTo>
                    <a:pt x="872" y="1134"/>
                  </a:lnTo>
                  <a:lnTo>
                    <a:pt x="870" y="1133"/>
                  </a:lnTo>
                  <a:lnTo>
                    <a:pt x="872" y="1129"/>
                  </a:lnTo>
                  <a:lnTo>
                    <a:pt x="874" y="1127"/>
                  </a:lnTo>
                  <a:lnTo>
                    <a:pt x="875" y="1126"/>
                  </a:lnTo>
                  <a:lnTo>
                    <a:pt x="879" y="1126"/>
                  </a:lnTo>
                  <a:lnTo>
                    <a:pt x="881" y="1126"/>
                  </a:lnTo>
                  <a:lnTo>
                    <a:pt x="884" y="1127"/>
                  </a:lnTo>
                  <a:lnTo>
                    <a:pt x="884" y="1127"/>
                  </a:lnTo>
                  <a:lnTo>
                    <a:pt x="886" y="1129"/>
                  </a:lnTo>
                  <a:lnTo>
                    <a:pt x="886" y="1133"/>
                  </a:lnTo>
                  <a:lnTo>
                    <a:pt x="886" y="1134"/>
                  </a:lnTo>
                  <a:lnTo>
                    <a:pt x="884" y="1138"/>
                  </a:lnTo>
                  <a:lnTo>
                    <a:pt x="881" y="1140"/>
                  </a:lnTo>
                  <a:lnTo>
                    <a:pt x="879" y="1140"/>
                  </a:lnTo>
                  <a:lnTo>
                    <a:pt x="875" y="1140"/>
                  </a:lnTo>
                  <a:lnTo>
                    <a:pt x="874" y="1138"/>
                  </a:lnTo>
                  <a:lnTo>
                    <a:pt x="874" y="1138"/>
                  </a:lnTo>
                  <a:close/>
                  <a:moveTo>
                    <a:pt x="853" y="1117"/>
                  </a:moveTo>
                  <a:lnTo>
                    <a:pt x="853" y="1117"/>
                  </a:lnTo>
                  <a:lnTo>
                    <a:pt x="851" y="1113"/>
                  </a:lnTo>
                  <a:lnTo>
                    <a:pt x="851" y="1112"/>
                  </a:lnTo>
                  <a:lnTo>
                    <a:pt x="851" y="1108"/>
                  </a:lnTo>
                  <a:lnTo>
                    <a:pt x="853" y="1106"/>
                  </a:lnTo>
                  <a:lnTo>
                    <a:pt x="856" y="1105"/>
                  </a:lnTo>
                  <a:lnTo>
                    <a:pt x="858" y="1105"/>
                  </a:lnTo>
                  <a:lnTo>
                    <a:pt x="861" y="1105"/>
                  </a:lnTo>
                  <a:lnTo>
                    <a:pt x="863" y="1106"/>
                  </a:lnTo>
                  <a:lnTo>
                    <a:pt x="863" y="1106"/>
                  </a:lnTo>
                  <a:lnTo>
                    <a:pt x="865" y="1108"/>
                  </a:lnTo>
                  <a:lnTo>
                    <a:pt x="865" y="1112"/>
                  </a:lnTo>
                  <a:lnTo>
                    <a:pt x="865" y="1115"/>
                  </a:lnTo>
                  <a:lnTo>
                    <a:pt x="863" y="1117"/>
                  </a:lnTo>
                  <a:lnTo>
                    <a:pt x="861" y="1119"/>
                  </a:lnTo>
                  <a:lnTo>
                    <a:pt x="858" y="1119"/>
                  </a:lnTo>
                  <a:lnTo>
                    <a:pt x="854" y="1119"/>
                  </a:lnTo>
                  <a:lnTo>
                    <a:pt x="853" y="1117"/>
                  </a:lnTo>
                  <a:lnTo>
                    <a:pt x="853" y="1117"/>
                  </a:lnTo>
                  <a:close/>
                  <a:moveTo>
                    <a:pt x="833" y="1096"/>
                  </a:moveTo>
                  <a:lnTo>
                    <a:pt x="833" y="1096"/>
                  </a:lnTo>
                  <a:lnTo>
                    <a:pt x="832" y="1094"/>
                  </a:lnTo>
                  <a:lnTo>
                    <a:pt x="830" y="1091"/>
                  </a:lnTo>
                  <a:lnTo>
                    <a:pt x="832" y="1087"/>
                  </a:lnTo>
                  <a:lnTo>
                    <a:pt x="833" y="1085"/>
                  </a:lnTo>
                  <a:lnTo>
                    <a:pt x="835" y="1084"/>
                  </a:lnTo>
                  <a:lnTo>
                    <a:pt x="839" y="1084"/>
                  </a:lnTo>
                  <a:lnTo>
                    <a:pt x="840" y="1084"/>
                  </a:lnTo>
                  <a:lnTo>
                    <a:pt x="844" y="1085"/>
                  </a:lnTo>
                  <a:lnTo>
                    <a:pt x="844" y="1085"/>
                  </a:lnTo>
                  <a:lnTo>
                    <a:pt x="844" y="1089"/>
                  </a:lnTo>
                  <a:lnTo>
                    <a:pt x="846" y="1091"/>
                  </a:lnTo>
                  <a:lnTo>
                    <a:pt x="844" y="1094"/>
                  </a:lnTo>
                  <a:lnTo>
                    <a:pt x="844" y="1096"/>
                  </a:lnTo>
                  <a:lnTo>
                    <a:pt x="840" y="1098"/>
                  </a:lnTo>
                  <a:lnTo>
                    <a:pt x="839" y="1098"/>
                  </a:lnTo>
                  <a:lnTo>
                    <a:pt x="835" y="1098"/>
                  </a:lnTo>
                  <a:lnTo>
                    <a:pt x="833" y="1096"/>
                  </a:lnTo>
                  <a:lnTo>
                    <a:pt x="833" y="1096"/>
                  </a:lnTo>
                  <a:close/>
                  <a:moveTo>
                    <a:pt x="812" y="1075"/>
                  </a:moveTo>
                  <a:lnTo>
                    <a:pt x="812" y="1075"/>
                  </a:lnTo>
                  <a:lnTo>
                    <a:pt x="811" y="1073"/>
                  </a:lnTo>
                  <a:lnTo>
                    <a:pt x="811" y="1070"/>
                  </a:lnTo>
                  <a:lnTo>
                    <a:pt x="811" y="1068"/>
                  </a:lnTo>
                  <a:lnTo>
                    <a:pt x="812" y="1064"/>
                  </a:lnTo>
                  <a:lnTo>
                    <a:pt x="816" y="1063"/>
                  </a:lnTo>
                  <a:lnTo>
                    <a:pt x="818" y="1063"/>
                  </a:lnTo>
                  <a:lnTo>
                    <a:pt x="821" y="1063"/>
                  </a:lnTo>
                  <a:lnTo>
                    <a:pt x="823" y="1064"/>
                  </a:lnTo>
                  <a:lnTo>
                    <a:pt x="823" y="1064"/>
                  </a:lnTo>
                  <a:lnTo>
                    <a:pt x="825" y="1068"/>
                  </a:lnTo>
                  <a:lnTo>
                    <a:pt x="825" y="1070"/>
                  </a:lnTo>
                  <a:lnTo>
                    <a:pt x="825" y="1073"/>
                  </a:lnTo>
                  <a:lnTo>
                    <a:pt x="823" y="1075"/>
                  </a:lnTo>
                  <a:lnTo>
                    <a:pt x="821" y="1077"/>
                  </a:lnTo>
                  <a:lnTo>
                    <a:pt x="818" y="1077"/>
                  </a:lnTo>
                  <a:lnTo>
                    <a:pt x="814" y="1077"/>
                  </a:lnTo>
                  <a:lnTo>
                    <a:pt x="812" y="1075"/>
                  </a:lnTo>
                  <a:lnTo>
                    <a:pt x="812" y="1075"/>
                  </a:lnTo>
                  <a:close/>
                  <a:moveTo>
                    <a:pt x="793" y="1054"/>
                  </a:moveTo>
                  <a:lnTo>
                    <a:pt x="793" y="1054"/>
                  </a:lnTo>
                  <a:lnTo>
                    <a:pt x="791" y="1052"/>
                  </a:lnTo>
                  <a:lnTo>
                    <a:pt x="790" y="1049"/>
                  </a:lnTo>
                  <a:lnTo>
                    <a:pt x="791" y="1047"/>
                  </a:lnTo>
                  <a:lnTo>
                    <a:pt x="793" y="1043"/>
                  </a:lnTo>
                  <a:lnTo>
                    <a:pt x="795" y="1042"/>
                  </a:lnTo>
                  <a:lnTo>
                    <a:pt x="798" y="1042"/>
                  </a:lnTo>
                  <a:lnTo>
                    <a:pt x="800" y="1043"/>
                  </a:lnTo>
                  <a:lnTo>
                    <a:pt x="804" y="1045"/>
                  </a:lnTo>
                  <a:lnTo>
                    <a:pt x="804" y="1045"/>
                  </a:lnTo>
                  <a:lnTo>
                    <a:pt x="804" y="1047"/>
                  </a:lnTo>
                  <a:lnTo>
                    <a:pt x="805" y="1049"/>
                  </a:lnTo>
                  <a:lnTo>
                    <a:pt x="804" y="1052"/>
                  </a:lnTo>
                  <a:lnTo>
                    <a:pt x="802" y="1054"/>
                  </a:lnTo>
                  <a:lnTo>
                    <a:pt x="800" y="1056"/>
                  </a:lnTo>
                  <a:lnTo>
                    <a:pt x="797" y="1056"/>
                  </a:lnTo>
                  <a:lnTo>
                    <a:pt x="795" y="1056"/>
                  </a:lnTo>
                  <a:lnTo>
                    <a:pt x="793" y="1054"/>
                  </a:lnTo>
                  <a:lnTo>
                    <a:pt x="793" y="1054"/>
                  </a:lnTo>
                  <a:close/>
                  <a:moveTo>
                    <a:pt x="772" y="1033"/>
                  </a:moveTo>
                  <a:lnTo>
                    <a:pt x="772" y="1033"/>
                  </a:lnTo>
                  <a:lnTo>
                    <a:pt x="770" y="1031"/>
                  </a:lnTo>
                  <a:lnTo>
                    <a:pt x="770" y="1028"/>
                  </a:lnTo>
                  <a:lnTo>
                    <a:pt x="770" y="1026"/>
                  </a:lnTo>
                  <a:lnTo>
                    <a:pt x="772" y="1024"/>
                  </a:lnTo>
                  <a:lnTo>
                    <a:pt x="774" y="1022"/>
                  </a:lnTo>
                  <a:lnTo>
                    <a:pt x="777" y="1021"/>
                  </a:lnTo>
                  <a:lnTo>
                    <a:pt x="781" y="1022"/>
                  </a:lnTo>
                  <a:lnTo>
                    <a:pt x="783" y="1024"/>
                  </a:lnTo>
                  <a:lnTo>
                    <a:pt x="783" y="1024"/>
                  </a:lnTo>
                  <a:lnTo>
                    <a:pt x="784" y="1026"/>
                  </a:lnTo>
                  <a:lnTo>
                    <a:pt x="784" y="1029"/>
                  </a:lnTo>
                  <a:lnTo>
                    <a:pt x="784" y="1031"/>
                  </a:lnTo>
                  <a:lnTo>
                    <a:pt x="783" y="1035"/>
                  </a:lnTo>
                  <a:lnTo>
                    <a:pt x="779" y="1035"/>
                  </a:lnTo>
                  <a:lnTo>
                    <a:pt x="777" y="1036"/>
                  </a:lnTo>
                  <a:lnTo>
                    <a:pt x="774" y="1035"/>
                  </a:lnTo>
                  <a:lnTo>
                    <a:pt x="772" y="1033"/>
                  </a:lnTo>
                  <a:lnTo>
                    <a:pt x="772" y="1033"/>
                  </a:lnTo>
                  <a:close/>
                  <a:moveTo>
                    <a:pt x="756" y="1043"/>
                  </a:moveTo>
                  <a:lnTo>
                    <a:pt x="756" y="1043"/>
                  </a:lnTo>
                  <a:lnTo>
                    <a:pt x="753" y="1045"/>
                  </a:lnTo>
                  <a:lnTo>
                    <a:pt x="749" y="1043"/>
                  </a:lnTo>
                  <a:lnTo>
                    <a:pt x="748" y="1043"/>
                  </a:lnTo>
                  <a:lnTo>
                    <a:pt x="746" y="1040"/>
                  </a:lnTo>
                  <a:lnTo>
                    <a:pt x="746" y="1038"/>
                  </a:lnTo>
                  <a:lnTo>
                    <a:pt x="746" y="1035"/>
                  </a:lnTo>
                  <a:lnTo>
                    <a:pt x="748" y="1033"/>
                  </a:lnTo>
                  <a:lnTo>
                    <a:pt x="749" y="1031"/>
                  </a:lnTo>
                  <a:lnTo>
                    <a:pt x="749" y="1031"/>
                  </a:lnTo>
                  <a:lnTo>
                    <a:pt x="753" y="1029"/>
                  </a:lnTo>
                  <a:lnTo>
                    <a:pt x="755" y="1031"/>
                  </a:lnTo>
                  <a:lnTo>
                    <a:pt x="758" y="1031"/>
                  </a:lnTo>
                  <a:lnTo>
                    <a:pt x="760" y="1035"/>
                  </a:lnTo>
                  <a:lnTo>
                    <a:pt x="760" y="1036"/>
                  </a:lnTo>
                  <a:lnTo>
                    <a:pt x="760" y="1040"/>
                  </a:lnTo>
                  <a:lnTo>
                    <a:pt x="758" y="1042"/>
                  </a:lnTo>
                  <a:lnTo>
                    <a:pt x="756" y="1043"/>
                  </a:lnTo>
                  <a:lnTo>
                    <a:pt x="756" y="1043"/>
                  </a:lnTo>
                  <a:close/>
                  <a:moveTo>
                    <a:pt x="730" y="1057"/>
                  </a:moveTo>
                  <a:lnTo>
                    <a:pt x="730" y="1057"/>
                  </a:lnTo>
                  <a:lnTo>
                    <a:pt x="727" y="1057"/>
                  </a:lnTo>
                  <a:lnTo>
                    <a:pt x="725" y="1057"/>
                  </a:lnTo>
                  <a:lnTo>
                    <a:pt x="723" y="1056"/>
                  </a:lnTo>
                  <a:lnTo>
                    <a:pt x="721" y="1054"/>
                  </a:lnTo>
                  <a:lnTo>
                    <a:pt x="720" y="1050"/>
                  </a:lnTo>
                  <a:lnTo>
                    <a:pt x="720" y="1049"/>
                  </a:lnTo>
                  <a:lnTo>
                    <a:pt x="721" y="1047"/>
                  </a:lnTo>
                  <a:lnTo>
                    <a:pt x="723" y="1045"/>
                  </a:lnTo>
                  <a:lnTo>
                    <a:pt x="723" y="1045"/>
                  </a:lnTo>
                  <a:lnTo>
                    <a:pt x="727" y="1043"/>
                  </a:lnTo>
                  <a:lnTo>
                    <a:pt x="728" y="1043"/>
                  </a:lnTo>
                  <a:lnTo>
                    <a:pt x="732" y="1045"/>
                  </a:lnTo>
                  <a:lnTo>
                    <a:pt x="734" y="1047"/>
                  </a:lnTo>
                  <a:lnTo>
                    <a:pt x="734" y="1050"/>
                  </a:lnTo>
                  <a:lnTo>
                    <a:pt x="734" y="1052"/>
                  </a:lnTo>
                  <a:lnTo>
                    <a:pt x="732" y="1056"/>
                  </a:lnTo>
                  <a:lnTo>
                    <a:pt x="730" y="1057"/>
                  </a:lnTo>
                  <a:lnTo>
                    <a:pt x="730" y="1057"/>
                  </a:lnTo>
                  <a:close/>
                  <a:moveTo>
                    <a:pt x="704" y="1071"/>
                  </a:moveTo>
                  <a:lnTo>
                    <a:pt x="704" y="1071"/>
                  </a:lnTo>
                  <a:lnTo>
                    <a:pt x="702" y="1071"/>
                  </a:lnTo>
                  <a:lnTo>
                    <a:pt x="699" y="1071"/>
                  </a:lnTo>
                  <a:lnTo>
                    <a:pt x="697" y="1070"/>
                  </a:lnTo>
                  <a:lnTo>
                    <a:pt x="695" y="1068"/>
                  </a:lnTo>
                  <a:lnTo>
                    <a:pt x="693" y="1064"/>
                  </a:lnTo>
                  <a:lnTo>
                    <a:pt x="695" y="1063"/>
                  </a:lnTo>
                  <a:lnTo>
                    <a:pt x="695" y="1059"/>
                  </a:lnTo>
                  <a:lnTo>
                    <a:pt x="699" y="1057"/>
                  </a:lnTo>
                  <a:lnTo>
                    <a:pt x="699" y="1057"/>
                  </a:lnTo>
                  <a:lnTo>
                    <a:pt x="700" y="1057"/>
                  </a:lnTo>
                  <a:lnTo>
                    <a:pt x="704" y="1057"/>
                  </a:lnTo>
                  <a:lnTo>
                    <a:pt x="706" y="1059"/>
                  </a:lnTo>
                  <a:lnTo>
                    <a:pt x="707" y="1061"/>
                  </a:lnTo>
                  <a:lnTo>
                    <a:pt x="709" y="1064"/>
                  </a:lnTo>
                  <a:lnTo>
                    <a:pt x="707" y="1066"/>
                  </a:lnTo>
                  <a:lnTo>
                    <a:pt x="707" y="1070"/>
                  </a:lnTo>
                  <a:lnTo>
                    <a:pt x="704" y="1071"/>
                  </a:lnTo>
                  <a:lnTo>
                    <a:pt x="704" y="1071"/>
                  </a:lnTo>
                  <a:close/>
                  <a:moveTo>
                    <a:pt x="688" y="1087"/>
                  </a:moveTo>
                  <a:lnTo>
                    <a:pt x="688" y="1087"/>
                  </a:lnTo>
                  <a:lnTo>
                    <a:pt x="686" y="1089"/>
                  </a:lnTo>
                  <a:lnTo>
                    <a:pt x="683" y="1091"/>
                  </a:lnTo>
                  <a:lnTo>
                    <a:pt x="681" y="1091"/>
                  </a:lnTo>
                  <a:lnTo>
                    <a:pt x="678" y="1091"/>
                  </a:lnTo>
                  <a:lnTo>
                    <a:pt x="676" y="1089"/>
                  </a:lnTo>
                  <a:lnTo>
                    <a:pt x="674" y="1085"/>
                  </a:lnTo>
                  <a:lnTo>
                    <a:pt x="674" y="1084"/>
                  </a:lnTo>
                  <a:lnTo>
                    <a:pt x="676" y="1080"/>
                  </a:lnTo>
                  <a:lnTo>
                    <a:pt x="676" y="1080"/>
                  </a:lnTo>
                  <a:lnTo>
                    <a:pt x="678" y="1078"/>
                  </a:lnTo>
                  <a:lnTo>
                    <a:pt x="679" y="1077"/>
                  </a:lnTo>
                  <a:lnTo>
                    <a:pt x="681" y="1077"/>
                  </a:lnTo>
                  <a:lnTo>
                    <a:pt x="685" y="1077"/>
                  </a:lnTo>
                  <a:lnTo>
                    <a:pt x="686" y="1078"/>
                  </a:lnTo>
                  <a:lnTo>
                    <a:pt x="688" y="1080"/>
                  </a:lnTo>
                  <a:lnTo>
                    <a:pt x="688" y="1084"/>
                  </a:lnTo>
                  <a:lnTo>
                    <a:pt x="688" y="1087"/>
                  </a:lnTo>
                  <a:lnTo>
                    <a:pt x="688" y="1087"/>
                  </a:lnTo>
                  <a:close/>
                  <a:moveTo>
                    <a:pt x="676" y="1113"/>
                  </a:moveTo>
                  <a:lnTo>
                    <a:pt x="676" y="1113"/>
                  </a:lnTo>
                  <a:lnTo>
                    <a:pt x="674" y="1115"/>
                  </a:lnTo>
                  <a:lnTo>
                    <a:pt x="671" y="1117"/>
                  </a:lnTo>
                  <a:lnTo>
                    <a:pt x="669" y="1117"/>
                  </a:lnTo>
                  <a:lnTo>
                    <a:pt x="665" y="1117"/>
                  </a:lnTo>
                  <a:lnTo>
                    <a:pt x="664" y="1115"/>
                  </a:lnTo>
                  <a:lnTo>
                    <a:pt x="662" y="1112"/>
                  </a:lnTo>
                  <a:lnTo>
                    <a:pt x="662" y="1110"/>
                  </a:lnTo>
                  <a:lnTo>
                    <a:pt x="664" y="1106"/>
                  </a:lnTo>
                  <a:lnTo>
                    <a:pt x="664" y="1106"/>
                  </a:lnTo>
                  <a:lnTo>
                    <a:pt x="665" y="1105"/>
                  </a:lnTo>
                  <a:lnTo>
                    <a:pt x="667" y="1103"/>
                  </a:lnTo>
                  <a:lnTo>
                    <a:pt x="669" y="1103"/>
                  </a:lnTo>
                  <a:lnTo>
                    <a:pt x="672" y="1103"/>
                  </a:lnTo>
                  <a:lnTo>
                    <a:pt x="674" y="1105"/>
                  </a:lnTo>
                  <a:lnTo>
                    <a:pt x="676" y="1106"/>
                  </a:lnTo>
                  <a:lnTo>
                    <a:pt x="676" y="1110"/>
                  </a:lnTo>
                  <a:lnTo>
                    <a:pt x="676" y="1113"/>
                  </a:lnTo>
                  <a:lnTo>
                    <a:pt x="676" y="1113"/>
                  </a:lnTo>
                  <a:close/>
                  <a:moveTo>
                    <a:pt x="664" y="1140"/>
                  </a:moveTo>
                  <a:lnTo>
                    <a:pt x="664" y="1140"/>
                  </a:lnTo>
                  <a:lnTo>
                    <a:pt x="662" y="1141"/>
                  </a:lnTo>
                  <a:lnTo>
                    <a:pt x="658" y="1143"/>
                  </a:lnTo>
                  <a:lnTo>
                    <a:pt x="657" y="1143"/>
                  </a:lnTo>
                  <a:lnTo>
                    <a:pt x="653" y="1143"/>
                  </a:lnTo>
                  <a:lnTo>
                    <a:pt x="651" y="1141"/>
                  </a:lnTo>
                  <a:lnTo>
                    <a:pt x="650" y="1138"/>
                  </a:lnTo>
                  <a:lnTo>
                    <a:pt x="650" y="1136"/>
                  </a:lnTo>
                  <a:lnTo>
                    <a:pt x="651" y="1133"/>
                  </a:lnTo>
                  <a:lnTo>
                    <a:pt x="651" y="1133"/>
                  </a:lnTo>
                  <a:lnTo>
                    <a:pt x="653" y="1131"/>
                  </a:lnTo>
                  <a:lnTo>
                    <a:pt x="655" y="1129"/>
                  </a:lnTo>
                  <a:lnTo>
                    <a:pt x="657" y="1129"/>
                  </a:lnTo>
                  <a:lnTo>
                    <a:pt x="660" y="1129"/>
                  </a:lnTo>
                  <a:lnTo>
                    <a:pt x="662" y="1131"/>
                  </a:lnTo>
                  <a:lnTo>
                    <a:pt x="664" y="1133"/>
                  </a:lnTo>
                  <a:lnTo>
                    <a:pt x="664" y="1136"/>
                  </a:lnTo>
                  <a:lnTo>
                    <a:pt x="664" y="1140"/>
                  </a:lnTo>
                  <a:lnTo>
                    <a:pt x="664" y="1140"/>
                  </a:lnTo>
                  <a:close/>
                  <a:moveTo>
                    <a:pt x="651" y="1166"/>
                  </a:moveTo>
                  <a:lnTo>
                    <a:pt x="651" y="1166"/>
                  </a:lnTo>
                  <a:lnTo>
                    <a:pt x="650" y="1168"/>
                  </a:lnTo>
                  <a:lnTo>
                    <a:pt x="646" y="1169"/>
                  </a:lnTo>
                  <a:lnTo>
                    <a:pt x="644" y="1169"/>
                  </a:lnTo>
                  <a:lnTo>
                    <a:pt x="641" y="1169"/>
                  </a:lnTo>
                  <a:lnTo>
                    <a:pt x="639" y="1168"/>
                  </a:lnTo>
                  <a:lnTo>
                    <a:pt x="637" y="1164"/>
                  </a:lnTo>
                  <a:lnTo>
                    <a:pt x="637" y="1162"/>
                  </a:lnTo>
                  <a:lnTo>
                    <a:pt x="639" y="1159"/>
                  </a:lnTo>
                  <a:lnTo>
                    <a:pt x="639" y="1159"/>
                  </a:lnTo>
                  <a:lnTo>
                    <a:pt x="641" y="1157"/>
                  </a:lnTo>
                  <a:lnTo>
                    <a:pt x="643" y="1155"/>
                  </a:lnTo>
                  <a:lnTo>
                    <a:pt x="644" y="1155"/>
                  </a:lnTo>
                  <a:lnTo>
                    <a:pt x="648" y="1155"/>
                  </a:lnTo>
                  <a:lnTo>
                    <a:pt x="650" y="1157"/>
                  </a:lnTo>
                  <a:lnTo>
                    <a:pt x="651" y="1159"/>
                  </a:lnTo>
                  <a:lnTo>
                    <a:pt x="651" y="1162"/>
                  </a:lnTo>
                  <a:lnTo>
                    <a:pt x="651" y="1166"/>
                  </a:lnTo>
                  <a:lnTo>
                    <a:pt x="651" y="1166"/>
                  </a:lnTo>
                  <a:close/>
                  <a:moveTo>
                    <a:pt x="639" y="1192"/>
                  </a:moveTo>
                  <a:lnTo>
                    <a:pt x="639" y="1192"/>
                  </a:lnTo>
                  <a:lnTo>
                    <a:pt x="637" y="1194"/>
                  </a:lnTo>
                  <a:lnTo>
                    <a:pt x="636" y="1196"/>
                  </a:lnTo>
                  <a:lnTo>
                    <a:pt x="632" y="1196"/>
                  </a:lnTo>
                  <a:lnTo>
                    <a:pt x="629" y="1196"/>
                  </a:lnTo>
                  <a:lnTo>
                    <a:pt x="627" y="1194"/>
                  </a:lnTo>
                  <a:lnTo>
                    <a:pt x="625" y="1190"/>
                  </a:lnTo>
                  <a:lnTo>
                    <a:pt x="625" y="1189"/>
                  </a:lnTo>
                  <a:lnTo>
                    <a:pt x="627" y="1185"/>
                  </a:lnTo>
                  <a:lnTo>
                    <a:pt x="627" y="1185"/>
                  </a:lnTo>
                  <a:lnTo>
                    <a:pt x="629" y="1183"/>
                  </a:lnTo>
                  <a:lnTo>
                    <a:pt x="630" y="1182"/>
                  </a:lnTo>
                  <a:lnTo>
                    <a:pt x="632" y="1182"/>
                  </a:lnTo>
                  <a:lnTo>
                    <a:pt x="636" y="1182"/>
                  </a:lnTo>
                  <a:lnTo>
                    <a:pt x="637" y="1183"/>
                  </a:lnTo>
                  <a:lnTo>
                    <a:pt x="639" y="1185"/>
                  </a:lnTo>
                  <a:lnTo>
                    <a:pt x="639" y="1189"/>
                  </a:lnTo>
                  <a:lnTo>
                    <a:pt x="639" y="1192"/>
                  </a:lnTo>
                  <a:lnTo>
                    <a:pt x="639" y="1192"/>
                  </a:lnTo>
                  <a:close/>
                  <a:moveTo>
                    <a:pt x="627" y="1218"/>
                  </a:moveTo>
                  <a:lnTo>
                    <a:pt x="627" y="1218"/>
                  </a:lnTo>
                  <a:lnTo>
                    <a:pt x="625" y="1220"/>
                  </a:lnTo>
                  <a:lnTo>
                    <a:pt x="623" y="1222"/>
                  </a:lnTo>
                  <a:lnTo>
                    <a:pt x="620" y="1222"/>
                  </a:lnTo>
                  <a:lnTo>
                    <a:pt x="616" y="1222"/>
                  </a:lnTo>
                  <a:lnTo>
                    <a:pt x="615" y="1220"/>
                  </a:lnTo>
                  <a:lnTo>
                    <a:pt x="613" y="1217"/>
                  </a:lnTo>
                  <a:lnTo>
                    <a:pt x="613" y="1215"/>
                  </a:lnTo>
                  <a:lnTo>
                    <a:pt x="615" y="1211"/>
                  </a:lnTo>
                  <a:lnTo>
                    <a:pt x="615" y="1211"/>
                  </a:lnTo>
                  <a:lnTo>
                    <a:pt x="616" y="1210"/>
                  </a:lnTo>
                  <a:lnTo>
                    <a:pt x="618" y="1208"/>
                  </a:lnTo>
                  <a:lnTo>
                    <a:pt x="620" y="1208"/>
                  </a:lnTo>
                  <a:lnTo>
                    <a:pt x="623" y="1208"/>
                  </a:lnTo>
                  <a:lnTo>
                    <a:pt x="625" y="1210"/>
                  </a:lnTo>
                  <a:lnTo>
                    <a:pt x="627" y="1211"/>
                  </a:lnTo>
                  <a:lnTo>
                    <a:pt x="627" y="1215"/>
                  </a:lnTo>
                  <a:lnTo>
                    <a:pt x="627" y="1218"/>
                  </a:lnTo>
                  <a:lnTo>
                    <a:pt x="627" y="1218"/>
                  </a:lnTo>
                  <a:close/>
                  <a:moveTo>
                    <a:pt x="611" y="1245"/>
                  </a:moveTo>
                  <a:lnTo>
                    <a:pt x="611" y="1245"/>
                  </a:lnTo>
                  <a:lnTo>
                    <a:pt x="608" y="1246"/>
                  </a:lnTo>
                  <a:lnTo>
                    <a:pt x="604" y="1246"/>
                  </a:lnTo>
                  <a:lnTo>
                    <a:pt x="602" y="1245"/>
                  </a:lnTo>
                  <a:lnTo>
                    <a:pt x="601" y="1243"/>
                  </a:lnTo>
                  <a:lnTo>
                    <a:pt x="599" y="1241"/>
                  </a:lnTo>
                  <a:lnTo>
                    <a:pt x="599" y="1238"/>
                  </a:lnTo>
                  <a:lnTo>
                    <a:pt x="599" y="1236"/>
                  </a:lnTo>
                  <a:lnTo>
                    <a:pt x="602" y="1234"/>
                  </a:lnTo>
                  <a:lnTo>
                    <a:pt x="602" y="1234"/>
                  </a:lnTo>
                  <a:lnTo>
                    <a:pt x="604" y="1232"/>
                  </a:lnTo>
                  <a:lnTo>
                    <a:pt x="608" y="1232"/>
                  </a:lnTo>
                  <a:lnTo>
                    <a:pt x="609" y="1232"/>
                  </a:lnTo>
                  <a:lnTo>
                    <a:pt x="611" y="1234"/>
                  </a:lnTo>
                  <a:lnTo>
                    <a:pt x="613" y="1238"/>
                  </a:lnTo>
                  <a:lnTo>
                    <a:pt x="613" y="1239"/>
                  </a:lnTo>
                  <a:lnTo>
                    <a:pt x="613" y="1243"/>
                  </a:lnTo>
                  <a:lnTo>
                    <a:pt x="611" y="1245"/>
                  </a:lnTo>
                  <a:lnTo>
                    <a:pt x="611" y="1245"/>
                  </a:lnTo>
                  <a:close/>
                  <a:moveTo>
                    <a:pt x="588" y="1262"/>
                  </a:moveTo>
                  <a:lnTo>
                    <a:pt x="588" y="1262"/>
                  </a:lnTo>
                  <a:lnTo>
                    <a:pt x="585" y="1264"/>
                  </a:lnTo>
                  <a:lnTo>
                    <a:pt x="581" y="1264"/>
                  </a:lnTo>
                  <a:lnTo>
                    <a:pt x="580" y="1262"/>
                  </a:lnTo>
                  <a:lnTo>
                    <a:pt x="578" y="1260"/>
                  </a:lnTo>
                  <a:lnTo>
                    <a:pt x="576" y="1259"/>
                  </a:lnTo>
                  <a:lnTo>
                    <a:pt x="576" y="1255"/>
                  </a:lnTo>
                  <a:lnTo>
                    <a:pt x="576" y="1253"/>
                  </a:lnTo>
                  <a:lnTo>
                    <a:pt x="580" y="1252"/>
                  </a:lnTo>
                  <a:lnTo>
                    <a:pt x="580" y="1252"/>
                  </a:lnTo>
                  <a:lnTo>
                    <a:pt x="581" y="1250"/>
                  </a:lnTo>
                  <a:lnTo>
                    <a:pt x="585" y="1250"/>
                  </a:lnTo>
                  <a:lnTo>
                    <a:pt x="587" y="1250"/>
                  </a:lnTo>
                  <a:lnTo>
                    <a:pt x="588" y="1253"/>
                  </a:lnTo>
                  <a:lnTo>
                    <a:pt x="590" y="1255"/>
                  </a:lnTo>
                  <a:lnTo>
                    <a:pt x="590" y="1257"/>
                  </a:lnTo>
                  <a:lnTo>
                    <a:pt x="590" y="1260"/>
                  </a:lnTo>
                  <a:lnTo>
                    <a:pt x="588" y="1262"/>
                  </a:lnTo>
                  <a:lnTo>
                    <a:pt x="588" y="1262"/>
                  </a:lnTo>
                  <a:close/>
                  <a:moveTo>
                    <a:pt x="564" y="1280"/>
                  </a:moveTo>
                  <a:lnTo>
                    <a:pt x="564" y="1280"/>
                  </a:lnTo>
                  <a:lnTo>
                    <a:pt x="562" y="1281"/>
                  </a:lnTo>
                  <a:lnTo>
                    <a:pt x="559" y="1281"/>
                  </a:lnTo>
                  <a:lnTo>
                    <a:pt x="557" y="1281"/>
                  </a:lnTo>
                  <a:lnTo>
                    <a:pt x="555" y="1280"/>
                  </a:lnTo>
                  <a:lnTo>
                    <a:pt x="553" y="1276"/>
                  </a:lnTo>
                  <a:lnTo>
                    <a:pt x="553" y="1273"/>
                  </a:lnTo>
                  <a:lnTo>
                    <a:pt x="553" y="1271"/>
                  </a:lnTo>
                  <a:lnTo>
                    <a:pt x="557" y="1269"/>
                  </a:lnTo>
                  <a:lnTo>
                    <a:pt x="557" y="1269"/>
                  </a:lnTo>
                  <a:lnTo>
                    <a:pt x="559" y="1267"/>
                  </a:lnTo>
                  <a:lnTo>
                    <a:pt x="560" y="1267"/>
                  </a:lnTo>
                  <a:lnTo>
                    <a:pt x="564" y="1267"/>
                  </a:lnTo>
                  <a:lnTo>
                    <a:pt x="566" y="1271"/>
                  </a:lnTo>
                  <a:lnTo>
                    <a:pt x="567" y="1273"/>
                  </a:lnTo>
                  <a:lnTo>
                    <a:pt x="567" y="1276"/>
                  </a:lnTo>
                  <a:lnTo>
                    <a:pt x="566" y="1278"/>
                  </a:lnTo>
                  <a:lnTo>
                    <a:pt x="564" y="1280"/>
                  </a:lnTo>
                  <a:lnTo>
                    <a:pt x="564" y="1280"/>
                  </a:lnTo>
                  <a:close/>
                  <a:moveTo>
                    <a:pt x="559" y="1299"/>
                  </a:moveTo>
                  <a:lnTo>
                    <a:pt x="559" y="1299"/>
                  </a:lnTo>
                  <a:lnTo>
                    <a:pt x="557" y="1302"/>
                  </a:lnTo>
                  <a:lnTo>
                    <a:pt x="555" y="1304"/>
                  </a:lnTo>
                  <a:lnTo>
                    <a:pt x="553" y="1306"/>
                  </a:lnTo>
                  <a:lnTo>
                    <a:pt x="552" y="1306"/>
                  </a:lnTo>
                  <a:lnTo>
                    <a:pt x="548" y="1306"/>
                  </a:lnTo>
                  <a:lnTo>
                    <a:pt x="546" y="1304"/>
                  </a:lnTo>
                  <a:lnTo>
                    <a:pt x="545" y="1302"/>
                  </a:lnTo>
                  <a:lnTo>
                    <a:pt x="545" y="1299"/>
                  </a:lnTo>
                  <a:lnTo>
                    <a:pt x="545" y="1299"/>
                  </a:lnTo>
                  <a:lnTo>
                    <a:pt x="545" y="1295"/>
                  </a:lnTo>
                  <a:lnTo>
                    <a:pt x="546" y="1294"/>
                  </a:lnTo>
                  <a:lnTo>
                    <a:pt x="548" y="1292"/>
                  </a:lnTo>
                  <a:lnTo>
                    <a:pt x="552" y="1292"/>
                  </a:lnTo>
                  <a:lnTo>
                    <a:pt x="553" y="1292"/>
                  </a:lnTo>
                  <a:lnTo>
                    <a:pt x="557" y="1294"/>
                  </a:lnTo>
                  <a:lnTo>
                    <a:pt x="557" y="1297"/>
                  </a:lnTo>
                  <a:lnTo>
                    <a:pt x="559" y="1299"/>
                  </a:lnTo>
                  <a:lnTo>
                    <a:pt x="559" y="1299"/>
                  </a:lnTo>
                  <a:close/>
                  <a:moveTo>
                    <a:pt x="559" y="1329"/>
                  </a:moveTo>
                  <a:lnTo>
                    <a:pt x="559" y="1329"/>
                  </a:lnTo>
                  <a:lnTo>
                    <a:pt x="557" y="1331"/>
                  </a:lnTo>
                  <a:lnTo>
                    <a:pt x="555" y="1334"/>
                  </a:lnTo>
                  <a:lnTo>
                    <a:pt x="553" y="1334"/>
                  </a:lnTo>
                  <a:lnTo>
                    <a:pt x="552" y="1336"/>
                  </a:lnTo>
                  <a:lnTo>
                    <a:pt x="548" y="1334"/>
                  </a:lnTo>
                  <a:lnTo>
                    <a:pt x="546" y="1332"/>
                  </a:lnTo>
                  <a:lnTo>
                    <a:pt x="545" y="1331"/>
                  </a:lnTo>
                  <a:lnTo>
                    <a:pt x="543" y="1329"/>
                  </a:lnTo>
                  <a:lnTo>
                    <a:pt x="543" y="1329"/>
                  </a:lnTo>
                  <a:lnTo>
                    <a:pt x="545" y="1325"/>
                  </a:lnTo>
                  <a:lnTo>
                    <a:pt x="546" y="1323"/>
                  </a:lnTo>
                  <a:lnTo>
                    <a:pt x="548" y="1322"/>
                  </a:lnTo>
                  <a:lnTo>
                    <a:pt x="552" y="1322"/>
                  </a:lnTo>
                  <a:lnTo>
                    <a:pt x="553" y="1322"/>
                  </a:lnTo>
                  <a:lnTo>
                    <a:pt x="555" y="1323"/>
                  </a:lnTo>
                  <a:lnTo>
                    <a:pt x="557" y="1325"/>
                  </a:lnTo>
                  <a:lnTo>
                    <a:pt x="559" y="1329"/>
                  </a:lnTo>
                  <a:lnTo>
                    <a:pt x="559" y="1329"/>
                  </a:lnTo>
                  <a:close/>
                  <a:moveTo>
                    <a:pt x="559" y="1357"/>
                  </a:moveTo>
                  <a:lnTo>
                    <a:pt x="559" y="1357"/>
                  </a:lnTo>
                  <a:lnTo>
                    <a:pt x="557" y="1360"/>
                  </a:lnTo>
                  <a:lnTo>
                    <a:pt x="555" y="1362"/>
                  </a:lnTo>
                  <a:lnTo>
                    <a:pt x="553" y="1364"/>
                  </a:lnTo>
                  <a:lnTo>
                    <a:pt x="550" y="1364"/>
                  </a:lnTo>
                  <a:lnTo>
                    <a:pt x="548" y="1364"/>
                  </a:lnTo>
                  <a:lnTo>
                    <a:pt x="545" y="1362"/>
                  </a:lnTo>
                  <a:lnTo>
                    <a:pt x="545" y="1360"/>
                  </a:lnTo>
                  <a:lnTo>
                    <a:pt x="543" y="1357"/>
                  </a:lnTo>
                  <a:lnTo>
                    <a:pt x="543" y="1357"/>
                  </a:lnTo>
                  <a:lnTo>
                    <a:pt x="545" y="1353"/>
                  </a:lnTo>
                  <a:lnTo>
                    <a:pt x="546" y="1352"/>
                  </a:lnTo>
                  <a:lnTo>
                    <a:pt x="548" y="1350"/>
                  </a:lnTo>
                  <a:lnTo>
                    <a:pt x="552" y="1350"/>
                  </a:lnTo>
                  <a:lnTo>
                    <a:pt x="553" y="1350"/>
                  </a:lnTo>
                  <a:lnTo>
                    <a:pt x="555" y="1352"/>
                  </a:lnTo>
                  <a:lnTo>
                    <a:pt x="557" y="1355"/>
                  </a:lnTo>
                  <a:lnTo>
                    <a:pt x="559" y="1357"/>
                  </a:lnTo>
                  <a:lnTo>
                    <a:pt x="559" y="1357"/>
                  </a:lnTo>
                  <a:close/>
                  <a:moveTo>
                    <a:pt x="557" y="1387"/>
                  </a:moveTo>
                  <a:lnTo>
                    <a:pt x="557" y="1387"/>
                  </a:lnTo>
                  <a:lnTo>
                    <a:pt x="557" y="1388"/>
                  </a:lnTo>
                  <a:lnTo>
                    <a:pt x="555" y="1392"/>
                  </a:lnTo>
                  <a:lnTo>
                    <a:pt x="553" y="1394"/>
                  </a:lnTo>
                  <a:lnTo>
                    <a:pt x="550" y="1394"/>
                  </a:lnTo>
                  <a:lnTo>
                    <a:pt x="548" y="1392"/>
                  </a:lnTo>
                  <a:lnTo>
                    <a:pt x="545" y="1392"/>
                  </a:lnTo>
                  <a:lnTo>
                    <a:pt x="543" y="1388"/>
                  </a:lnTo>
                  <a:lnTo>
                    <a:pt x="543" y="1387"/>
                  </a:lnTo>
                  <a:lnTo>
                    <a:pt x="543" y="1387"/>
                  </a:lnTo>
                  <a:lnTo>
                    <a:pt x="543" y="1383"/>
                  </a:lnTo>
                  <a:lnTo>
                    <a:pt x="545" y="1381"/>
                  </a:lnTo>
                  <a:lnTo>
                    <a:pt x="548" y="1380"/>
                  </a:lnTo>
                  <a:lnTo>
                    <a:pt x="550" y="1380"/>
                  </a:lnTo>
                  <a:lnTo>
                    <a:pt x="553" y="1380"/>
                  </a:lnTo>
                  <a:lnTo>
                    <a:pt x="555" y="1381"/>
                  </a:lnTo>
                  <a:lnTo>
                    <a:pt x="557" y="1383"/>
                  </a:lnTo>
                  <a:lnTo>
                    <a:pt x="557" y="1387"/>
                  </a:lnTo>
                  <a:lnTo>
                    <a:pt x="557" y="1387"/>
                  </a:lnTo>
                  <a:close/>
                  <a:moveTo>
                    <a:pt x="557" y="1415"/>
                  </a:moveTo>
                  <a:lnTo>
                    <a:pt x="557" y="1415"/>
                  </a:lnTo>
                  <a:lnTo>
                    <a:pt x="557" y="1418"/>
                  </a:lnTo>
                  <a:lnTo>
                    <a:pt x="555" y="1420"/>
                  </a:lnTo>
                  <a:lnTo>
                    <a:pt x="553" y="1422"/>
                  </a:lnTo>
                  <a:lnTo>
                    <a:pt x="550" y="1423"/>
                  </a:lnTo>
                  <a:lnTo>
                    <a:pt x="546" y="1422"/>
                  </a:lnTo>
                  <a:lnTo>
                    <a:pt x="545" y="1420"/>
                  </a:lnTo>
                  <a:lnTo>
                    <a:pt x="543" y="1418"/>
                  </a:lnTo>
                  <a:lnTo>
                    <a:pt x="543" y="1415"/>
                  </a:lnTo>
                  <a:lnTo>
                    <a:pt x="543" y="1415"/>
                  </a:lnTo>
                  <a:lnTo>
                    <a:pt x="543" y="1413"/>
                  </a:lnTo>
                  <a:lnTo>
                    <a:pt x="545" y="1409"/>
                  </a:lnTo>
                  <a:lnTo>
                    <a:pt x="546" y="1408"/>
                  </a:lnTo>
                  <a:lnTo>
                    <a:pt x="550" y="1408"/>
                  </a:lnTo>
                  <a:lnTo>
                    <a:pt x="553" y="1408"/>
                  </a:lnTo>
                  <a:lnTo>
                    <a:pt x="555" y="1409"/>
                  </a:lnTo>
                  <a:lnTo>
                    <a:pt x="557" y="1413"/>
                  </a:lnTo>
                  <a:lnTo>
                    <a:pt x="557" y="1415"/>
                  </a:lnTo>
                  <a:lnTo>
                    <a:pt x="557" y="1415"/>
                  </a:lnTo>
                  <a:close/>
                  <a:moveTo>
                    <a:pt x="557" y="1444"/>
                  </a:moveTo>
                  <a:lnTo>
                    <a:pt x="557" y="1444"/>
                  </a:lnTo>
                  <a:lnTo>
                    <a:pt x="557" y="1446"/>
                  </a:lnTo>
                  <a:lnTo>
                    <a:pt x="555" y="1450"/>
                  </a:lnTo>
                  <a:lnTo>
                    <a:pt x="552" y="1451"/>
                  </a:lnTo>
                  <a:lnTo>
                    <a:pt x="550" y="1451"/>
                  </a:lnTo>
                  <a:lnTo>
                    <a:pt x="546" y="1451"/>
                  </a:lnTo>
                  <a:lnTo>
                    <a:pt x="545" y="1450"/>
                  </a:lnTo>
                  <a:lnTo>
                    <a:pt x="543" y="1446"/>
                  </a:lnTo>
                  <a:lnTo>
                    <a:pt x="543" y="1444"/>
                  </a:lnTo>
                  <a:lnTo>
                    <a:pt x="543" y="1444"/>
                  </a:lnTo>
                  <a:lnTo>
                    <a:pt x="543" y="1441"/>
                  </a:lnTo>
                  <a:lnTo>
                    <a:pt x="545" y="1439"/>
                  </a:lnTo>
                  <a:lnTo>
                    <a:pt x="546" y="1437"/>
                  </a:lnTo>
                  <a:lnTo>
                    <a:pt x="550" y="1437"/>
                  </a:lnTo>
                  <a:lnTo>
                    <a:pt x="553" y="1437"/>
                  </a:lnTo>
                  <a:lnTo>
                    <a:pt x="555" y="1439"/>
                  </a:lnTo>
                  <a:lnTo>
                    <a:pt x="557" y="1441"/>
                  </a:lnTo>
                  <a:lnTo>
                    <a:pt x="557" y="1444"/>
                  </a:lnTo>
                  <a:lnTo>
                    <a:pt x="557" y="1444"/>
                  </a:lnTo>
                  <a:close/>
                  <a:moveTo>
                    <a:pt x="538" y="1472"/>
                  </a:moveTo>
                  <a:lnTo>
                    <a:pt x="538" y="1472"/>
                  </a:lnTo>
                  <a:lnTo>
                    <a:pt x="536" y="1474"/>
                  </a:lnTo>
                  <a:lnTo>
                    <a:pt x="532" y="1474"/>
                  </a:lnTo>
                  <a:lnTo>
                    <a:pt x="531" y="1474"/>
                  </a:lnTo>
                  <a:lnTo>
                    <a:pt x="529" y="1472"/>
                  </a:lnTo>
                  <a:lnTo>
                    <a:pt x="527" y="1469"/>
                  </a:lnTo>
                  <a:lnTo>
                    <a:pt x="525" y="1467"/>
                  </a:lnTo>
                  <a:lnTo>
                    <a:pt x="525" y="1464"/>
                  </a:lnTo>
                  <a:lnTo>
                    <a:pt x="527" y="1462"/>
                  </a:lnTo>
                  <a:lnTo>
                    <a:pt x="527" y="1462"/>
                  </a:lnTo>
                  <a:lnTo>
                    <a:pt x="531" y="1460"/>
                  </a:lnTo>
                  <a:lnTo>
                    <a:pt x="532" y="1460"/>
                  </a:lnTo>
                  <a:lnTo>
                    <a:pt x="536" y="1460"/>
                  </a:lnTo>
                  <a:lnTo>
                    <a:pt x="538" y="1462"/>
                  </a:lnTo>
                  <a:lnTo>
                    <a:pt x="539" y="1464"/>
                  </a:lnTo>
                  <a:lnTo>
                    <a:pt x="539" y="1467"/>
                  </a:lnTo>
                  <a:lnTo>
                    <a:pt x="539" y="1469"/>
                  </a:lnTo>
                  <a:lnTo>
                    <a:pt x="538" y="1472"/>
                  </a:lnTo>
                  <a:lnTo>
                    <a:pt x="538" y="1472"/>
                  </a:lnTo>
                  <a:close/>
                  <a:moveTo>
                    <a:pt x="520" y="1493"/>
                  </a:moveTo>
                  <a:lnTo>
                    <a:pt x="520" y="1493"/>
                  </a:lnTo>
                  <a:lnTo>
                    <a:pt x="517" y="1495"/>
                  </a:lnTo>
                  <a:lnTo>
                    <a:pt x="515" y="1495"/>
                  </a:lnTo>
                  <a:lnTo>
                    <a:pt x="511" y="1495"/>
                  </a:lnTo>
                  <a:lnTo>
                    <a:pt x="510" y="1493"/>
                  </a:lnTo>
                  <a:lnTo>
                    <a:pt x="508" y="1492"/>
                  </a:lnTo>
                  <a:lnTo>
                    <a:pt x="506" y="1488"/>
                  </a:lnTo>
                  <a:lnTo>
                    <a:pt x="506" y="1486"/>
                  </a:lnTo>
                  <a:lnTo>
                    <a:pt x="508" y="1483"/>
                  </a:lnTo>
                  <a:lnTo>
                    <a:pt x="508" y="1483"/>
                  </a:lnTo>
                  <a:lnTo>
                    <a:pt x="511" y="1481"/>
                  </a:lnTo>
                  <a:lnTo>
                    <a:pt x="513" y="1481"/>
                  </a:lnTo>
                  <a:lnTo>
                    <a:pt x="517" y="1481"/>
                  </a:lnTo>
                  <a:lnTo>
                    <a:pt x="518" y="1483"/>
                  </a:lnTo>
                  <a:lnTo>
                    <a:pt x="520" y="1485"/>
                  </a:lnTo>
                  <a:lnTo>
                    <a:pt x="520" y="1488"/>
                  </a:lnTo>
                  <a:lnTo>
                    <a:pt x="520" y="1492"/>
                  </a:lnTo>
                  <a:lnTo>
                    <a:pt x="520" y="1493"/>
                  </a:lnTo>
                  <a:lnTo>
                    <a:pt x="520" y="1493"/>
                  </a:lnTo>
                  <a:close/>
                  <a:moveTo>
                    <a:pt x="501" y="1514"/>
                  </a:moveTo>
                  <a:lnTo>
                    <a:pt x="501" y="1514"/>
                  </a:lnTo>
                  <a:lnTo>
                    <a:pt x="497" y="1516"/>
                  </a:lnTo>
                  <a:lnTo>
                    <a:pt x="496" y="1518"/>
                  </a:lnTo>
                  <a:lnTo>
                    <a:pt x="492" y="1516"/>
                  </a:lnTo>
                  <a:lnTo>
                    <a:pt x="490" y="1516"/>
                  </a:lnTo>
                  <a:lnTo>
                    <a:pt x="489" y="1513"/>
                  </a:lnTo>
                  <a:lnTo>
                    <a:pt x="487" y="1511"/>
                  </a:lnTo>
                  <a:lnTo>
                    <a:pt x="487" y="1507"/>
                  </a:lnTo>
                  <a:lnTo>
                    <a:pt x="489" y="1506"/>
                  </a:lnTo>
                  <a:lnTo>
                    <a:pt x="489" y="1506"/>
                  </a:lnTo>
                  <a:lnTo>
                    <a:pt x="492" y="1504"/>
                  </a:lnTo>
                  <a:lnTo>
                    <a:pt x="494" y="1502"/>
                  </a:lnTo>
                  <a:lnTo>
                    <a:pt x="497" y="1504"/>
                  </a:lnTo>
                  <a:lnTo>
                    <a:pt x="499" y="1506"/>
                  </a:lnTo>
                  <a:lnTo>
                    <a:pt x="501" y="1507"/>
                  </a:lnTo>
                  <a:lnTo>
                    <a:pt x="503" y="1509"/>
                  </a:lnTo>
                  <a:lnTo>
                    <a:pt x="501" y="1513"/>
                  </a:lnTo>
                  <a:lnTo>
                    <a:pt x="501" y="1514"/>
                  </a:lnTo>
                  <a:lnTo>
                    <a:pt x="501" y="1514"/>
                  </a:lnTo>
                  <a:close/>
                  <a:moveTo>
                    <a:pt x="482" y="1537"/>
                  </a:moveTo>
                  <a:lnTo>
                    <a:pt x="482" y="1537"/>
                  </a:lnTo>
                  <a:lnTo>
                    <a:pt x="478" y="1539"/>
                  </a:lnTo>
                  <a:lnTo>
                    <a:pt x="476" y="1539"/>
                  </a:lnTo>
                  <a:lnTo>
                    <a:pt x="473" y="1539"/>
                  </a:lnTo>
                  <a:lnTo>
                    <a:pt x="471" y="1537"/>
                  </a:lnTo>
                  <a:lnTo>
                    <a:pt x="469" y="1535"/>
                  </a:lnTo>
                  <a:lnTo>
                    <a:pt x="468" y="1532"/>
                  </a:lnTo>
                  <a:lnTo>
                    <a:pt x="468" y="1530"/>
                  </a:lnTo>
                  <a:lnTo>
                    <a:pt x="469" y="1527"/>
                  </a:lnTo>
                  <a:lnTo>
                    <a:pt x="469" y="1527"/>
                  </a:lnTo>
                  <a:lnTo>
                    <a:pt x="473" y="1525"/>
                  </a:lnTo>
                  <a:lnTo>
                    <a:pt x="475" y="1525"/>
                  </a:lnTo>
                  <a:lnTo>
                    <a:pt x="478" y="1525"/>
                  </a:lnTo>
                  <a:lnTo>
                    <a:pt x="480" y="1527"/>
                  </a:lnTo>
                  <a:lnTo>
                    <a:pt x="482" y="1528"/>
                  </a:lnTo>
                  <a:lnTo>
                    <a:pt x="483" y="1532"/>
                  </a:lnTo>
                  <a:lnTo>
                    <a:pt x="482" y="1534"/>
                  </a:lnTo>
                  <a:lnTo>
                    <a:pt x="482" y="1537"/>
                  </a:lnTo>
                  <a:lnTo>
                    <a:pt x="482" y="1537"/>
                  </a:lnTo>
                  <a:close/>
                  <a:moveTo>
                    <a:pt x="462" y="1558"/>
                  </a:moveTo>
                  <a:lnTo>
                    <a:pt x="462" y="1558"/>
                  </a:lnTo>
                  <a:lnTo>
                    <a:pt x="459" y="1560"/>
                  </a:lnTo>
                  <a:lnTo>
                    <a:pt x="457" y="1562"/>
                  </a:lnTo>
                  <a:lnTo>
                    <a:pt x="454" y="1560"/>
                  </a:lnTo>
                  <a:lnTo>
                    <a:pt x="452" y="1560"/>
                  </a:lnTo>
                  <a:lnTo>
                    <a:pt x="450" y="1556"/>
                  </a:lnTo>
                  <a:lnTo>
                    <a:pt x="448" y="1555"/>
                  </a:lnTo>
                  <a:lnTo>
                    <a:pt x="450" y="1551"/>
                  </a:lnTo>
                  <a:lnTo>
                    <a:pt x="452" y="1549"/>
                  </a:lnTo>
                  <a:lnTo>
                    <a:pt x="452" y="1549"/>
                  </a:lnTo>
                  <a:lnTo>
                    <a:pt x="454" y="1548"/>
                  </a:lnTo>
                  <a:lnTo>
                    <a:pt x="455" y="1546"/>
                  </a:lnTo>
                  <a:lnTo>
                    <a:pt x="459" y="1546"/>
                  </a:lnTo>
                  <a:lnTo>
                    <a:pt x="461" y="1548"/>
                  </a:lnTo>
                  <a:lnTo>
                    <a:pt x="462" y="1551"/>
                  </a:lnTo>
                  <a:lnTo>
                    <a:pt x="464" y="1553"/>
                  </a:lnTo>
                  <a:lnTo>
                    <a:pt x="462" y="1556"/>
                  </a:lnTo>
                  <a:lnTo>
                    <a:pt x="462" y="1558"/>
                  </a:lnTo>
                  <a:lnTo>
                    <a:pt x="462" y="1558"/>
                  </a:lnTo>
                  <a:close/>
                  <a:moveTo>
                    <a:pt x="445" y="1581"/>
                  </a:moveTo>
                  <a:lnTo>
                    <a:pt x="445" y="1581"/>
                  </a:lnTo>
                  <a:lnTo>
                    <a:pt x="443" y="1583"/>
                  </a:lnTo>
                  <a:lnTo>
                    <a:pt x="440" y="1583"/>
                  </a:lnTo>
                  <a:lnTo>
                    <a:pt x="438" y="1583"/>
                  </a:lnTo>
                  <a:lnTo>
                    <a:pt x="434" y="1583"/>
                  </a:lnTo>
                  <a:lnTo>
                    <a:pt x="433" y="1581"/>
                  </a:lnTo>
                  <a:lnTo>
                    <a:pt x="431" y="1577"/>
                  </a:lnTo>
                  <a:lnTo>
                    <a:pt x="431" y="1576"/>
                  </a:lnTo>
                  <a:lnTo>
                    <a:pt x="433" y="1572"/>
                  </a:lnTo>
                  <a:lnTo>
                    <a:pt x="433" y="1572"/>
                  </a:lnTo>
                  <a:lnTo>
                    <a:pt x="434" y="1570"/>
                  </a:lnTo>
                  <a:lnTo>
                    <a:pt x="438" y="1569"/>
                  </a:lnTo>
                  <a:lnTo>
                    <a:pt x="440" y="1569"/>
                  </a:lnTo>
                  <a:lnTo>
                    <a:pt x="443" y="1570"/>
                  </a:lnTo>
                  <a:lnTo>
                    <a:pt x="445" y="1572"/>
                  </a:lnTo>
                  <a:lnTo>
                    <a:pt x="445" y="1576"/>
                  </a:lnTo>
                  <a:lnTo>
                    <a:pt x="445" y="1577"/>
                  </a:lnTo>
                  <a:lnTo>
                    <a:pt x="445" y="1581"/>
                  </a:lnTo>
                  <a:lnTo>
                    <a:pt x="445" y="1581"/>
                  </a:lnTo>
                  <a:close/>
                  <a:moveTo>
                    <a:pt x="429" y="1605"/>
                  </a:moveTo>
                  <a:lnTo>
                    <a:pt x="429" y="1605"/>
                  </a:lnTo>
                  <a:lnTo>
                    <a:pt x="427" y="1607"/>
                  </a:lnTo>
                  <a:lnTo>
                    <a:pt x="424" y="1607"/>
                  </a:lnTo>
                  <a:lnTo>
                    <a:pt x="422" y="1607"/>
                  </a:lnTo>
                  <a:lnTo>
                    <a:pt x="419" y="1607"/>
                  </a:lnTo>
                  <a:lnTo>
                    <a:pt x="417" y="1605"/>
                  </a:lnTo>
                  <a:lnTo>
                    <a:pt x="415" y="1602"/>
                  </a:lnTo>
                  <a:lnTo>
                    <a:pt x="415" y="1600"/>
                  </a:lnTo>
                  <a:lnTo>
                    <a:pt x="417" y="1597"/>
                  </a:lnTo>
                  <a:lnTo>
                    <a:pt x="417" y="1597"/>
                  </a:lnTo>
                  <a:lnTo>
                    <a:pt x="419" y="1595"/>
                  </a:lnTo>
                  <a:lnTo>
                    <a:pt x="422" y="1593"/>
                  </a:lnTo>
                  <a:lnTo>
                    <a:pt x="424" y="1593"/>
                  </a:lnTo>
                  <a:lnTo>
                    <a:pt x="427" y="1595"/>
                  </a:lnTo>
                  <a:lnTo>
                    <a:pt x="429" y="1597"/>
                  </a:lnTo>
                  <a:lnTo>
                    <a:pt x="429" y="1598"/>
                  </a:lnTo>
                  <a:lnTo>
                    <a:pt x="429" y="1602"/>
                  </a:lnTo>
                  <a:lnTo>
                    <a:pt x="429" y="1605"/>
                  </a:lnTo>
                  <a:lnTo>
                    <a:pt x="429" y="1605"/>
                  </a:lnTo>
                  <a:close/>
                  <a:moveTo>
                    <a:pt x="413" y="1630"/>
                  </a:moveTo>
                  <a:lnTo>
                    <a:pt x="413" y="1630"/>
                  </a:lnTo>
                  <a:lnTo>
                    <a:pt x="412" y="1632"/>
                  </a:lnTo>
                  <a:lnTo>
                    <a:pt x="408" y="1632"/>
                  </a:lnTo>
                  <a:lnTo>
                    <a:pt x="406" y="1632"/>
                  </a:lnTo>
                  <a:lnTo>
                    <a:pt x="403" y="1632"/>
                  </a:lnTo>
                  <a:lnTo>
                    <a:pt x="401" y="1630"/>
                  </a:lnTo>
                  <a:lnTo>
                    <a:pt x="399" y="1626"/>
                  </a:lnTo>
                  <a:lnTo>
                    <a:pt x="399" y="1623"/>
                  </a:lnTo>
                  <a:lnTo>
                    <a:pt x="401" y="1621"/>
                  </a:lnTo>
                  <a:lnTo>
                    <a:pt x="401" y="1621"/>
                  </a:lnTo>
                  <a:lnTo>
                    <a:pt x="403" y="1619"/>
                  </a:lnTo>
                  <a:lnTo>
                    <a:pt x="406" y="1618"/>
                  </a:lnTo>
                  <a:lnTo>
                    <a:pt x="408" y="1618"/>
                  </a:lnTo>
                  <a:lnTo>
                    <a:pt x="412" y="1619"/>
                  </a:lnTo>
                  <a:lnTo>
                    <a:pt x="413" y="1621"/>
                  </a:lnTo>
                  <a:lnTo>
                    <a:pt x="415" y="1623"/>
                  </a:lnTo>
                  <a:lnTo>
                    <a:pt x="415" y="1626"/>
                  </a:lnTo>
                  <a:lnTo>
                    <a:pt x="413" y="1630"/>
                  </a:lnTo>
                  <a:lnTo>
                    <a:pt x="413" y="1630"/>
                  </a:lnTo>
                  <a:close/>
                  <a:moveTo>
                    <a:pt x="398" y="1654"/>
                  </a:moveTo>
                  <a:lnTo>
                    <a:pt x="398" y="1654"/>
                  </a:lnTo>
                  <a:lnTo>
                    <a:pt x="396" y="1656"/>
                  </a:lnTo>
                  <a:lnTo>
                    <a:pt x="392" y="1656"/>
                  </a:lnTo>
                  <a:lnTo>
                    <a:pt x="391" y="1656"/>
                  </a:lnTo>
                  <a:lnTo>
                    <a:pt x="387" y="1656"/>
                  </a:lnTo>
                  <a:lnTo>
                    <a:pt x="385" y="1653"/>
                  </a:lnTo>
                  <a:lnTo>
                    <a:pt x="384" y="1651"/>
                  </a:lnTo>
                  <a:lnTo>
                    <a:pt x="384" y="1647"/>
                  </a:lnTo>
                  <a:lnTo>
                    <a:pt x="385" y="1646"/>
                  </a:lnTo>
                  <a:lnTo>
                    <a:pt x="385" y="1646"/>
                  </a:lnTo>
                  <a:lnTo>
                    <a:pt x="387" y="1644"/>
                  </a:lnTo>
                  <a:lnTo>
                    <a:pt x="391" y="1642"/>
                  </a:lnTo>
                  <a:lnTo>
                    <a:pt x="392" y="1642"/>
                  </a:lnTo>
                  <a:lnTo>
                    <a:pt x="396" y="1644"/>
                  </a:lnTo>
                  <a:lnTo>
                    <a:pt x="398" y="1646"/>
                  </a:lnTo>
                  <a:lnTo>
                    <a:pt x="399" y="1647"/>
                  </a:lnTo>
                  <a:lnTo>
                    <a:pt x="399" y="1651"/>
                  </a:lnTo>
                  <a:lnTo>
                    <a:pt x="398" y="1654"/>
                  </a:lnTo>
                  <a:lnTo>
                    <a:pt x="398" y="1654"/>
                  </a:lnTo>
                  <a:close/>
                  <a:moveTo>
                    <a:pt x="382" y="1677"/>
                  </a:moveTo>
                  <a:lnTo>
                    <a:pt x="382" y="1677"/>
                  </a:lnTo>
                  <a:lnTo>
                    <a:pt x="380" y="1679"/>
                  </a:lnTo>
                  <a:lnTo>
                    <a:pt x="377" y="1681"/>
                  </a:lnTo>
                  <a:lnTo>
                    <a:pt x="375" y="1681"/>
                  </a:lnTo>
                  <a:lnTo>
                    <a:pt x="371" y="1681"/>
                  </a:lnTo>
                  <a:lnTo>
                    <a:pt x="370" y="1677"/>
                  </a:lnTo>
                  <a:lnTo>
                    <a:pt x="370" y="1675"/>
                  </a:lnTo>
                  <a:lnTo>
                    <a:pt x="370" y="1672"/>
                  </a:lnTo>
                  <a:lnTo>
                    <a:pt x="370" y="1670"/>
                  </a:lnTo>
                  <a:lnTo>
                    <a:pt x="370" y="1670"/>
                  </a:lnTo>
                  <a:lnTo>
                    <a:pt x="371" y="1668"/>
                  </a:lnTo>
                  <a:lnTo>
                    <a:pt x="375" y="1667"/>
                  </a:lnTo>
                  <a:lnTo>
                    <a:pt x="377" y="1667"/>
                  </a:lnTo>
                  <a:lnTo>
                    <a:pt x="380" y="1668"/>
                  </a:lnTo>
                  <a:lnTo>
                    <a:pt x="382" y="1670"/>
                  </a:lnTo>
                  <a:lnTo>
                    <a:pt x="384" y="1672"/>
                  </a:lnTo>
                  <a:lnTo>
                    <a:pt x="384" y="1675"/>
                  </a:lnTo>
                  <a:lnTo>
                    <a:pt x="382" y="1677"/>
                  </a:lnTo>
                  <a:lnTo>
                    <a:pt x="382" y="1677"/>
                  </a:lnTo>
                  <a:close/>
                  <a:moveTo>
                    <a:pt x="366" y="1702"/>
                  </a:moveTo>
                  <a:lnTo>
                    <a:pt x="366" y="1702"/>
                  </a:lnTo>
                  <a:lnTo>
                    <a:pt x="364" y="1703"/>
                  </a:lnTo>
                  <a:lnTo>
                    <a:pt x="361" y="1705"/>
                  </a:lnTo>
                  <a:lnTo>
                    <a:pt x="359" y="1705"/>
                  </a:lnTo>
                  <a:lnTo>
                    <a:pt x="357" y="1705"/>
                  </a:lnTo>
                  <a:lnTo>
                    <a:pt x="354" y="1702"/>
                  </a:lnTo>
                  <a:lnTo>
                    <a:pt x="354" y="1700"/>
                  </a:lnTo>
                  <a:lnTo>
                    <a:pt x="354" y="1696"/>
                  </a:lnTo>
                  <a:lnTo>
                    <a:pt x="354" y="1695"/>
                  </a:lnTo>
                  <a:lnTo>
                    <a:pt x="354" y="1695"/>
                  </a:lnTo>
                  <a:lnTo>
                    <a:pt x="356" y="1693"/>
                  </a:lnTo>
                  <a:lnTo>
                    <a:pt x="359" y="1691"/>
                  </a:lnTo>
                  <a:lnTo>
                    <a:pt x="361" y="1691"/>
                  </a:lnTo>
                  <a:lnTo>
                    <a:pt x="364" y="1693"/>
                  </a:lnTo>
                  <a:lnTo>
                    <a:pt x="366" y="1695"/>
                  </a:lnTo>
                  <a:lnTo>
                    <a:pt x="368" y="1696"/>
                  </a:lnTo>
                  <a:lnTo>
                    <a:pt x="368" y="1700"/>
                  </a:lnTo>
                  <a:lnTo>
                    <a:pt x="366" y="1702"/>
                  </a:lnTo>
                  <a:lnTo>
                    <a:pt x="366" y="1702"/>
                  </a:lnTo>
                  <a:close/>
                  <a:moveTo>
                    <a:pt x="350" y="1726"/>
                  </a:moveTo>
                  <a:lnTo>
                    <a:pt x="350" y="1726"/>
                  </a:lnTo>
                  <a:lnTo>
                    <a:pt x="349" y="1728"/>
                  </a:lnTo>
                  <a:lnTo>
                    <a:pt x="347" y="1730"/>
                  </a:lnTo>
                  <a:lnTo>
                    <a:pt x="343" y="1730"/>
                  </a:lnTo>
                  <a:lnTo>
                    <a:pt x="342" y="1728"/>
                  </a:lnTo>
                  <a:lnTo>
                    <a:pt x="338" y="1726"/>
                  </a:lnTo>
                  <a:lnTo>
                    <a:pt x="338" y="1724"/>
                  </a:lnTo>
                  <a:lnTo>
                    <a:pt x="338" y="1721"/>
                  </a:lnTo>
                  <a:lnTo>
                    <a:pt x="338" y="1719"/>
                  </a:lnTo>
                  <a:lnTo>
                    <a:pt x="338" y="1719"/>
                  </a:lnTo>
                  <a:lnTo>
                    <a:pt x="340" y="1716"/>
                  </a:lnTo>
                  <a:lnTo>
                    <a:pt x="343" y="1716"/>
                  </a:lnTo>
                  <a:lnTo>
                    <a:pt x="345" y="1716"/>
                  </a:lnTo>
                  <a:lnTo>
                    <a:pt x="349" y="1717"/>
                  </a:lnTo>
                  <a:lnTo>
                    <a:pt x="350" y="1719"/>
                  </a:lnTo>
                  <a:lnTo>
                    <a:pt x="352" y="1721"/>
                  </a:lnTo>
                  <a:lnTo>
                    <a:pt x="352" y="1724"/>
                  </a:lnTo>
                  <a:lnTo>
                    <a:pt x="350" y="1726"/>
                  </a:lnTo>
                  <a:lnTo>
                    <a:pt x="350" y="1726"/>
                  </a:lnTo>
                  <a:close/>
                  <a:moveTo>
                    <a:pt x="335" y="1751"/>
                  </a:moveTo>
                  <a:lnTo>
                    <a:pt x="335" y="1751"/>
                  </a:lnTo>
                  <a:lnTo>
                    <a:pt x="333" y="1752"/>
                  </a:lnTo>
                  <a:lnTo>
                    <a:pt x="331" y="1754"/>
                  </a:lnTo>
                  <a:lnTo>
                    <a:pt x="328" y="1754"/>
                  </a:lnTo>
                  <a:lnTo>
                    <a:pt x="326" y="1752"/>
                  </a:lnTo>
                  <a:lnTo>
                    <a:pt x="322" y="1751"/>
                  </a:lnTo>
                  <a:lnTo>
                    <a:pt x="322" y="1749"/>
                  </a:lnTo>
                  <a:lnTo>
                    <a:pt x="322" y="1745"/>
                  </a:lnTo>
                  <a:lnTo>
                    <a:pt x="322" y="1744"/>
                  </a:lnTo>
                  <a:lnTo>
                    <a:pt x="322" y="1744"/>
                  </a:lnTo>
                  <a:lnTo>
                    <a:pt x="324" y="1740"/>
                  </a:lnTo>
                  <a:lnTo>
                    <a:pt x="328" y="1740"/>
                  </a:lnTo>
                  <a:lnTo>
                    <a:pt x="331" y="1740"/>
                  </a:lnTo>
                  <a:lnTo>
                    <a:pt x="333" y="1740"/>
                  </a:lnTo>
                  <a:lnTo>
                    <a:pt x="335" y="1744"/>
                  </a:lnTo>
                  <a:lnTo>
                    <a:pt x="336" y="1745"/>
                  </a:lnTo>
                  <a:lnTo>
                    <a:pt x="336" y="1749"/>
                  </a:lnTo>
                  <a:lnTo>
                    <a:pt x="335" y="1751"/>
                  </a:lnTo>
                  <a:lnTo>
                    <a:pt x="335" y="1751"/>
                  </a:lnTo>
                  <a:close/>
                  <a:moveTo>
                    <a:pt x="319" y="1775"/>
                  </a:moveTo>
                  <a:lnTo>
                    <a:pt x="319" y="1775"/>
                  </a:lnTo>
                  <a:lnTo>
                    <a:pt x="317" y="1777"/>
                  </a:lnTo>
                  <a:lnTo>
                    <a:pt x="315" y="1779"/>
                  </a:lnTo>
                  <a:lnTo>
                    <a:pt x="312" y="1779"/>
                  </a:lnTo>
                  <a:lnTo>
                    <a:pt x="310" y="1777"/>
                  </a:lnTo>
                  <a:lnTo>
                    <a:pt x="307" y="1775"/>
                  </a:lnTo>
                  <a:lnTo>
                    <a:pt x="307" y="1773"/>
                  </a:lnTo>
                  <a:lnTo>
                    <a:pt x="307" y="1770"/>
                  </a:lnTo>
                  <a:lnTo>
                    <a:pt x="308" y="1768"/>
                  </a:lnTo>
                  <a:lnTo>
                    <a:pt x="308" y="1768"/>
                  </a:lnTo>
                  <a:lnTo>
                    <a:pt x="310" y="1765"/>
                  </a:lnTo>
                  <a:lnTo>
                    <a:pt x="312" y="1765"/>
                  </a:lnTo>
                  <a:lnTo>
                    <a:pt x="315" y="1765"/>
                  </a:lnTo>
                  <a:lnTo>
                    <a:pt x="317" y="1765"/>
                  </a:lnTo>
                  <a:lnTo>
                    <a:pt x="319" y="1766"/>
                  </a:lnTo>
                  <a:lnTo>
                    <a:pt x="321" y="1770"/>
                  </a:lnTo>
                  <a:lnTo>
                    <a:pt x="321" y="1772"/>
                  </a:lnTo>
                  <a:lnTo>
                    <a:pt x="319" y="1775"/>
                  </a:lnTo>
                  <a:lnTo>
                    <a:pt x="319" y="1775"/>
                  </a:lnTo>
                  <a:close/>
                  <a:moveTo>
                    <a:pt x="303" y="1800"/>
                  </a:moveTo>
                  <a:lnTo>
                    <a:pt x="303" y="1800"/>
                  </a:lnTo>
                  <a:lnTo>
                    <a:pt x="301" y="1801"/>
                  </a:lnTo>
                  <a:lnTo>
                    <a:pt x="300" y="1803"/>
                  </a:lnTo>
                  <a:lnTo>
                    <a:pt x="296" y="1803"/>
                  </a:lnTo>
                  <a:lnTo>
                    <a:pt x="294" y="1801"/>
                  </a:lnTo>
                  <a:lnTo>
                    <a:pt x="293" y="1800"/>
                  </a:lnTo>
                  <a:lnTo>
                    <a:pt x="291" y="1796"/>
                  </a:lnTo>
                  <a:lnTo>
                    <a:pt x="291" y="1794"/>
                  </a:lnTo>
                  <a:lnTo>
                    <a:pt x="293" y="1793"/>
                  </a:lnTo>
                  <a:lnTo>
                    <a:pt x="293" y="1793"/>
                  </a:lnTo>
                  <a:lnTo>
                    <a:pt x="294" y="1789"/>
                  </a:lnTo>
                  <a:lnTo>
                    <a:pt x="296" y="1789"/>
                  </a:lnTo>
                  <a:lnTo>
                    <a:pt x="300" y="1789"/>
                  </a:lnTo>
                  <a:lnTo>
                    <a:pt x="301" y="1789"/>
                  </a:lnTo>
                  <a:lnTo>
                    <a:pt x="303" y="1791"/>
                  </a:lnTo>
                  <a:lnTo>
                    <a:pt x="305" y="1794"/>
                  </a:lnTo>
                  <a:lnTo>
                    <a:pt x="305" y="1796"/>
                  </a:lnTo>
                  <a:lnTo>
                    <a:pt x="303" y="1800"/>
                  </a:lnTo>
                  <a:lnTo>
                    <a:pt x="303" y="1800"/>
                  </a:lnTo>
                  <a:close/>
                  <a:moveTo>
                    <a:pt x="289" y="1824"/>
                  </a:moveTo>
                  <a:lnTo>
                    <a:pt x="289" y="1824"/>
                  </a:lnTo>
                  <a:lnTo>
                    <a:pt x="286" y="1826"/>
                  </a:lnTo>
                  <a:lnTo>
                    <a:pt x="284" y="1828"/>
                  </a:lnTo>
                  <a:lnTo>
                    <a:pt x="280" y="1828"/>
                  </a:lnTo>
                  <a:lnTo>
                    <a:pt x="279" y="1826"/>
                  </a:lnTo>
                  <a:lnTo>
                    <a:pt x="277" y="1824"/>
                  </a:lnTo>
                  <a:lnTo>
                    <a:pt x="275" y="1821"/>
                  </a:lnTo>
                  <a:lnTo>
                    <a:pt x="275" y="1819"/>
                  </a:lnTo>
                  <a:lnTo>
                    <a:pt x="277" y="1815"/>
                  </a:lnTo>
                  <a:lnTo>
                    <a:pt x="277" y="1815"/>
                  </a:lnTo>
                  <a:lnTo>
                    <a:pt x="279" y="1814"/>
                  </a:lnTo>
                  <a:lnTo>
                    <a:pt x="280" y="1814"/>
                  </a:lnTo>
                  <a:lnTo>
                    <a:pt x="284" y="1814"/>
                  </a:lnTo>
                  <a:lnTo>
                    <a:pt x="286" y="1814"/>
                  </a:lnTo>
                  <a:lnTo>
                    <a:pt x="287" y="1815"/>
                  </a:lnTo>
                  <a:lnTo>
                    <a:pt x="289" y="1819"/>
                  </a:lnTo>
                  <a:lnTo>
                    <a:pt x="289" y="1821"/>
                  </a:lnTo>
                  <a:lnTo>
                    <a:pt x="289" y="1824"/>
                  </a:lnTo>
                  <a:lnTo>
                    <a:pt x="289" y="1824"/>
                  </a:lnTo>
                  <a:close/>
                  <a:moveTo>
                    <a:pt x="273" y="1849"/>
                  </a:moveTo>
                  <a:lnTo>
                    <a:pt x="273" y="1849"/>
                  </a:lnTo>
                  <a:lnTo>
                    <a:pt x="270" y="1850"/>
                  </a:lnTo>
                  <a:lnTo>
                    <a:pt x="268" y="1852"/>
                  </a:lnTo>
                  <a:lnTo>
                    <a:pt x="265" y="1852"/>
                  </a:lnTo>
                  <a:lnTo>
                    <a:pt x="263" y="1850"/>
                  </a:lnTo>
                  <a:lnTo>
                    <a:pt x="261" y="1849"/>
                  </a:lnTo>
                  <a:lnTo>
                    <a:pt x="259" y="1845"/>
                  </a:lnTo>
                  <a:lnTo>
                    <a:pt x="259" y="1843"/>
                  </a:lnTo>
                  <a:lnTo>
                    <a:pt x="261" y="1840"/>
                  </a:lnTo>
                  <a:lnTo>
                    <a:pt x="261" y="1840"/>
                  </a:lnTo>
                  <a:lnTo>
                    <a:pt x="263" y="1838"/>
                  </a:lnTo>
                  <a:lnTo>
                    <a:pt x="265" y="1836"/>
                  </a:lnTo>
                  <a:lnTo>
                    <a:pt x="268" y="1836"/>
                  </a:lnTo>
                  <a:lnTo>
                    <a:pt x="270" y="1838"/>
                  </a:lnTo>
                  <a:lnTo>
                    <a:pt x="272" y="1840"/>
                  </a:lnTo>
                  <a:lnTo>
                    <a:pt x="273" y="1843"/>
                  </a:lnTo>
                  <a:lnTo>
                    <a:pt x="273" y="1845"/>
                  </a:lnTo>
                  <a:lnTo>
                    <a:pt x="273" y="1849"/>
                  </a:lnTo>
                  <a:lnTo>
                    <a:pt x="273" y="1849"/>
                  </a:lnTo>
                  <a:close/>
                  <a:moveTo>
                    <a:pt x="258" y="1873"/>
                  </a:moveTo>
                  <a:lnTo>
                    <a:pt x="258" y="1873"/>
                  </a:lnTo>
                  <a:lnTo>
                    <a:pt x="254" y="1875"/>
                  </a:lnTo>
                  <a:lnTo>
                    <a:pt x="252" y="1877"/>
                  </a:lnTo>
                  <a:lnTo>
                    <a:pt x="249" y="1877"/>
                  </a:lnTo>
                  <a:lnTo>
                    <a:pt x="247" y="1875"/>
                  </a:lnTo>
                  <a:lnTo>
                    <a:pt x="245" y="1873"/>
                  </a:lnTo>
                  <a:lnTo>
                    <a:pt x="244" y="1870"/>
                  </a:lnTo>
                  <a:lnTo>
                    <a:pt x="244" y="1868"/>
                  </a:lnTo>
                  <a:lnTo>
                    <a:pt x="245" y="1864"/>
                  </a:lnTo>
                  <a:lnTo>
                    <a:pt x="245" y="1864"/>
                  </a:lnTo>
                  <a:lnTo>
                    <a:pt x="247" y="1863"/>
                  </a:lnTo>
                  <a:lnTo>
                    <a:pt x="249" y="1861"/>
                  </a:lnTo>
                  <a:lnTo>
                    <a:pt x="252" y="1861"/>
                  </a:lnTo>
                  <a:lnTo>
                    <a:pt x="256" y="1863"/>
                  </a:lnTo>
                  <a:lnTo>
                    <a:pt x="258" y="1864"/>
                  </a:lnTo>
                  <a:lnTo>
                    <a:pt x="258" y="1868"/>
                  </a:lnTo>
                  <a:lnTo>
                    <a:pt x="258" y="1870"/>
                  </a:lnTo>
                  <a:lnTo>
                    <a:pt x="258" y="1873"/>
                  </a:lnTo>
                  <a:lnTo>
                    <a:pt x="258" y="1873"/>
                  </a:lnTo>
                  <a:close/>
                  <a:moveTo>
                    <a:pt x="242" y="1898"/>
                  </a:moveTo>
                  <a:lnTo>
                    <a:pt x="242" y="1898"/>
                  </a:lnTo>
                  <a:lnTo>
                    <a:pt x="238" y="1899"/>
                  </a:lnTo>
                  <a:lnTo>
                    <a:pt x="237" y="1899"/>
                  </a:lnTo>
                  <a:lnTo>
                    <a:pt x="233" y="1899"/>
                  </a:lnTo>
                  <a:lnTo>
                    <a:pt x="231" y="1899"/>
                  </a:lnTo>
                  <a:lnTo>
                    <a:pt x="230" y="1898"/>
                  </a:lnTo>
                  <a:lnTo>
                    <a:pt x="228" y="1894"/>
                  </a:lnTo>
                  <a:lnTo>
                    <a:pt x="228" y="1892"/>
                  </a:lnTo>
                  <a:lnTo>
                    <a:pt x="230" y="1889"/>
                  </a:lnTo>
                  <a:lnTo>
                    <a:pt x="230" y="1889"/>
                  </a:lnTo>
                  <a:lnTo>
                    <a:pt x="231" y="1887"/>
                  </a:lnTo>
                  <a:lnTo>
                    <a:pt x="233" y="1885"/>
                  </a:lnTo>
                  <a:lnTo>
                    <a:pt x="237" y="1885"/>
                  </a:lnTo>
                  <a:lnTo>
                    <a:pt x="240" y="1887"/>
                  </a:lnTo>
                  <a:lnTo>
                    <a:pt x="242" y="1889"/>
                  </a:lnTo>
                  <a:lnTo>
                    <a:pt x="242" y="1892"/>
                  </a:lnTo>
                  <a:lnTo>
                    <a:pt x="242" y="1894"/>
                  </a:lnTo>
                  <a:lnTo>
                    <a:pt x="242" y="1898"/>
                  </a:lnTo>
                  <a:lnTo>
                    <a:pt x="242" y="1898"/>
                  </a:lnTo>
                  <a:close/>
                  <a:moveTo>
                    <a:pt x="226" y="1922"/>
                  </a:moveTo>
                  <a:lnTo>
                    <a:pt x="226" y="1922"/>
                  </a:lnTo>
                  <a:lnTo>
                    <a:pt x="224" y="1924"/>
                  </a:lnTo>
                  <a:lnTo>
                    <a:pt x="221" y="1924"/>
                  </a:lnTo>
                  <a:lnTo>
                    <a:pt x="217" y="1924"/>
                  </a:lnTo>
                  <a:lnTo>
                    <a:pt x="216" y="1924"/>
                  </a:lnTo>
                  <a:lnTo>
                    <a:pt x="214" y="1922"/>
                  </a:lnTo>
                  <a:lnTo>
                    <a:pt x="212" y="1919"/>
                  </a:lnTo>
                  <a:lnTo>
                    <a:pt x="212" y="1917"/>
                  </a:lnTo>
                  <a:lnTo>
                    <a:pt x="214" y="1913"/>
                  </a:lnTo>
                  <a:lnTo>
                    <a:pt x="214" y="1913"/>
                  </a:lnTo>
                  <a:lnTo>
                    <a:pt x="216" y="1912"/>
                  </a:lnTo>
                  <a:lnTo>
                    <a:pt x="217" y="1910"/>
                  </a:lnTo>
                  <a:lnTo>
                    <a:pt x="221" y="1910"/>
                  </a:lnTo>
                  <a:lnTo>
                    <a:pt x="224" y="1912"/>
                  </a:lnTo>
                  <a:lnTo>
                    <a:pt x="226" y="1913"/>
                  </a:lnTo>
                  <a:lnTo>
                    <a:pt x="226" y="1915"/>
                  </a:lnTo>
                  <a:lnTo>
                    <a:pt x="226" y="1919"/>
                  </a:lnTo>
                  <a:lnTo>
                    <a:pt x="226" y="1922"/>
                  </a:lnTo>
                  <a:lnTo>
                    <a:pt x="226" y="1922"/>
                  </a:lnTo>
                  <a:close/>
                  <a:moveTo>
                    <a:pt x="210" y="1947"/>
                  </a:moveTo>
                  <a:lnTo>
                    <a:pt x="210" y="1947"/>
                  </a:lnTo>
                  <a:lnTo>
                    <a:pt x="209" y="1948"/>
                  </a:lnTo>
                  <a:lnTo>
                    <a:pt x="205" y="1948"/>
                  </a:lnTo>
                  <a:lnTo>
                    <a:pt x="203" y="1948"/>
                  </a:lnTo>
                  <a:lnTo>
                    <a:pt x="200" y="1948"/>
                  </a:lnTo>
                  <a:lnTo>
                    <a:pt x="198" y="1947"/>
                  </a:lnTo>
                  <a:lnTo>
                    <a:pt x="196" y="1943"/>
                  </a:lnTo>
                  <a:lnTo>
                    <a:pt x="196" y="1940"/>
                  </a:lnTo>
                  <a:lnTo>
                    <a:pt x="198" y="1938"/>
                  </a:lnTo>
                  <a:lnTo>
                    <a:pt x="198" y="1938"/>
                  </a:lnTo>
                  <a:lnTo>
                    <a:pt x="200" y="1936"/>
                  </a:lnTo>
                  <a:lnTo>
                    <a:pt x="202" y="1934"/>
                  </a:lnTo>
                  <a:lnTo>
                    <a:pt x="205" y="1934"/>
                  </a:lnTo>
                  <a:lnTo>
                    <a:pt x="209" y="1936"/>
                  </a:lnTo>
                  <a:lnTo>
                    <a:pt x="210" y="1938"/>
                  </a:lnTo>
                  <a:lnTo>
                    <a:pt x="210" y="1940"/>
                  </a:lnTo>
                  <a:lnTo>
                    <a:pt x="210" y="1943"/>
                  </a:lnTo>
                  <a:lnTo>
                    <a:pt x="210" y="1947"/>
                  </a:lnTo>
                  <a:lnTo>
                    <a:pt x="210" y="1947"/>
                  </a:lnTo>
                  <a:close/>
                  <a:moveTo>
                    <a:pt x="196" y="1964"/>
                  </a:moveTo>
                  <a:lnTo>
                    <a:pt x="196" y="1964"/>
                  </a:lnTo>
                  <a:lnTo>
                    <a:pt x="196" y="1966"/>
                  </a:lnTo>
                  <a:lnTo>
                    <a:pt x="196" y="1969"/>
                  </a:lnTo>
                  <a:lnTo>
                    <a:pt x="195" y="1971"/>
                  </a:lnTo>
                  <a:lnTo>
                    <a:pt x="193" y="1973"/>
                  </a:lnTo>
                  <a:lnTo>
                    <a:pt x="189" y="1973"/>
                  </a:lnTo>
                  <a:lnTo>
                    <a:pt x="188" y="1973"/>
                  </a:lnTo>
                  <a:lnTo>
                    <a:pt x="184" y="1971"/>
                  </a:lnTo>
                  <a:lnTo>
                    <a:pt x="184" y="1969"/>
                  </a:lnTo>
                  <a:lnTo>
                    <a:pt x="184" y="1969"/>
                  </a:lnTo>
                  <a:lnTo>
                    <a:pt x="182" y="1966"/>
                  </a:lnTo>
                  <a:lnTo>
                    <a:pt x="182" y="1964"/>
                  </a:lnTo>
                  <a:lnTo>
                    <a:pt x="184" y="1961"/>
                  </a:lnTo>
                  <a:lnTo>
                    <a:pt x="188" y="1961"/>
                  </a:lnTo>
                  <a:lnTo>
                    <a:pt x="189" y="1959"/>
                  </a:lnTo>
                  <a:lnTo>
                    <a:pt x="193" y="1959"/>
                  </a:lnTo>
                  <a:lnTo>
                    <a:pt x="195" y="1961"/>
                  </a:lnTo>
                  <a:lnTo>
                    <a:pt x="196" y="1964"/>
                  </a:lnTo>
                  <a:lnTo>
                    <a:pt x="196" y="1964"/>
                  </a:lnTo>
                  <a:close/>
                  <a:moveTo>
                    <a:pt x="209" y="1990"/>
                  </a:moveTo>
                  <a:lnTo>
                    <a:pt x="209" y="1990"/>
                  </a:lnTo>
                  <a:lnTo>
                    <a:pt x="209" y="1992"/>
                  </a:lnTo>
                  <a:lnTo>
                    <a:pt x="209" y="1996"/>
                  </a:lnTo>
                  <a:lnTo>
                    <a:pt x="207" y="1997"/>
                  </a:lnTo>
                  <a:lnTo>
                    <a:pt x="205" y="1999"/>
                  </a:lnTo>
                  <a:lnTo>
                    <a:pt x="202" y="1999"/>
                  </a:lnTo>
                  <a:lnTo>
                    <a:pt x="200" y="1999"/>
                  </a:lnTo>
                  <a:lnTo>
                    <a:pt x="196" y="1997"/>
                  </a:lnTo>
                  <a:lnTo>
                    <a:pt x="195" y="1996"/>
                  </a:lnTo>
                  <a:lnTo>
                    <a:pt x="195" y="1996"/>
                  </a:lnTo>
                  <a:lnTo>
                    <a:pt x="195" y="1992"/>
                  </a:lnTo>
                  <a:lnTo>
                    <a:pt x="195" y="1990"/>
                  </a:lnTo>
                  <a:lnTo>
                    <a:pt x="196" y="1987"/>
                  </a:lnTo>
                  <a:lnTo>
                    <a:pt x="198" y="1987"/>
                  </a:lnTo>
                  <a:lnTo>
                    <a:pt x="202" y="1985"/>
                  </a:lnTo>
                  <a:lnTo>
                    <a:pt x="203" y="1985"/>
                  </a:lnTo>
                  <a:lnTo>
                    <a:pt x="207" y="1987"/>
                  </a:lnTo>
                  <a:lnTo>
                    <a:pt x="209" y="1990"/>
                  </a:lnTo>
                  <a:lnTo>
                    <a:pt x="209" y="1990"/>
                  </a:lnTo>
                  <a:close/>
                  <a:moveTo>
                    <a:pt x="221" y="2017"/>
                  </a:moveTo>
                  <a:lnTo>
                    <a:pt x="221" y="2017"/>
                  </a:lnTo>
                  <a:lnTo>
                    <a:pt x="221" y="2018"/>
                  </a:lnTo>
                  <a:lnTo>
                    <a:pt x="221" y="2022"/>
                  </a:lnTo>
                  <a:lnTo>
                    <a:pt x="219" y="2024"/>
                  </a:lnTo>
                  <a:lnTo>
                    <a:pt x="217" y="2025"/>
                  </a:lnTo>
                  <a:lnTo>
                    <a:pt x="214" y="2025"/>
                  </a:lnTo>
                  <a:lnTo>
                    <a:pt x="210" y="2025"/>
                  </a:lnTo>
                  <a:lnTo>
                    <a:pt x="209" y="2024"/>
                  </a:lnTo>
                  <a:lnTo>
                    <a:pt x="207" y="2022"/>
                  </a:lnTo>
                  <a:lnTo>
                    <a:pt x="207" y="2022"/>
                  </a:lnTo>
                  <a:lnTo>
                    <a:pt x="207" y="2018"/>
                  </a:lnTo>
                  <a:lnTo>
                    <a:pt x="207" y="2017"/>
                  </a:lnTo>
                  <a:lnTo>
                    <a:pt x="209" y="2015"/>
                  </a:lnTo>
                  <a:lnTo>
                    <a:pt x="210" y="2013"/>
                  </a:lnTo>
                  <a:lnTo>
                    <a:pt x="214" y="2011"/>
                  </a:lnTo>
                  <a:lnTo>
                    <a:pt x="216" y="2011"/>
                  </a:lnTo>
                  <a:lnTo>
                    <a:pt x="219" y="2013"/>
                  </a:lnTo>
                  <a:lnTo>
                    <a:pt x="221" y="2017"/>
                  </a:lnTo>
                  <a:lnTo>
                    <a:pt x="221" y="2017"/>
                  </a:lnTo>
                  <a:close/>
                  <a:moveTo>
                    <a:pt x="233" y="2043"/>
                  </a:moveTo>
                  <a:lnTo>
                    <a:pt x="233" y="2043"/>
                  </a:lnTo>
                  <a:lnTo>
                    <a:pt x="233" y="2045"/>
                  </a:lnTo>
                  <a:lnTo>
                    <a:pt x="233" y="2048"/>
                  </a:lnTo>
                  <a:lnTo>
                    <a:pt x="231" y="2050"/>
                  </a:lnTo>
                  <a:lnTo>
                    <a:pt x="230" y="2052"/>
                  </a:lnTo>
                  <a:lnTo>
                    <a:pt x="226" y="2053"/>
                  </a:lnTo>
                  <a:lnTo>
                    <a:pt x="223" y="2052"/>
                  </a:lnTo>
                  <a:lnTo>
                    <a:pt x="221" y="2050"/>
                  </a:lnTo>
                  <a:lnTo>
                    <a:pt x="219" y="2048"/>
                  </a:lnTo>
                  <a:lnTo>
                    <a:pt x="219" y="2048"/>
                  </a:lnTo>
                  <a:lnTo>
                    <a:pt x="219" y="2045"/>
                  </a:lnTo>
                  <a:lnTo>
                    <a:pt x="219" y="2043"/>
                  </a:lnTo>
                  <a:lnTo>
                    <a:pt x="221" y="2041"/>
                  </a:lnTo>
                  <a:lnTo>
                    <a:pt x="223" y="2039"/>
                  </a:lnTo>
                  <a:lnTo>
                    <a:pt x="226" y="2038"/>
                  </a:lnTo>
                  <a:lnTo>
                    <a:pt x="228" y="2039"/>
                  </a:lnTo>
                  <a:lnTo>
                    <a:pt x="231" y="2039"/>
                  </a:lnTo>
                  <a:lnTo>
                    <a:pt x="233" y="2043"/>
                  </a:lnTo>
                  <a:lnTo>
                    <a:pt x="233" y="2043"/>
                  </a:lnTo>
                  <a:close/>
                  <a:moveTo>
                    <a:pt x="230" y="2074"/>
                  </a:moveTo>
                  <a:lnTo>
                    <a:pt x="230" y="2074"/>
                  </a:lnTo>
                  <a:lnTo>
                    <a:pt x="226" y="2076"/>
                  </a:lnTo>
                  <a:lnTo>
                    <a:pt x="224" y="2076"/>
                  </a:lnTo>
                  <a:lnTo>
                    <a:pt x="221" y="2074"/>
                  </a:lnTo>
                  <a:lnTo>
                    <a:pt x="219" y="2073"/>
                  </a:lnTo>
                  <a:lnTo>
                    <a:pt x="217" y="2071"/>
                  </a:lnTo>
                  <a:lnTo>
                    <a:pt x="217" y="2067"/>
                  </a:lnTo>
                  <a:lnTo>
                    <a:pt x="219" y="2066"/>
                  </a:lnTo>
                  <a:lnTo>
                    <a:pt x="221" y="2064"/>
                  </a:lnTo>
                  <a:lnTo>
                    <a:pt x="221" y="2064"/>
                  </a:lnTo>
                  <a:lnTo>
                    <a:pt x="223" y="2062"/>
                  </a:lnTo>
                  <a:lnTo>
                    <a:pt x="226" y="2062"/>
                  </a:lnTo>
                  <a:lnTo>
                    <a:pt x="228" y="2062"/>
                  </a:lnTo>
                  <a:lnTo>
                    <a:pt x="231" y="2064"/>
                  </a:lnTo>
                  <a:lnTo>
                    <a:pt x="231" y="2067"/>
                  </a:lnTo>
                  <a:lnTo>
                    <a:pt x="231" y="2069"/>
                  </a:lnTo>
                  <a:lnTo>
                    <a:pt x="231" y="2073"/>
                  </a:lnTo>
                  <a:lnTo>
                    <a:pt x="230" y="2074"/>
                  </a:lnTo>
                  <a:lnTo>
                    <a:pt x="230" y="2074"/>
                  </a:lnTo>
                  <a:close/>
                  <a:moveTo>
                    <a:pt x="207" y="2092"/>
                  </a:moveTo>
                  <a:lnTo>
                    <a:pt x="207" y="2092"/>
                  </a:lnTo>
                  <a:lnTo>
                    <a:pt x="203" y="2094"/>
                  </a:lnTo>
                  <a:lnTo>
                    <a:pt x="202" y="2094"/>
                  </a:lnTo>
                  <a:lnTo>
                    <a:pt x="198" y="2094"/>
                  </a:lnTo>
                  <a:lnTo>
                    <a:pt x="196" y="2092"/>
                  </a:lnTo>
                  <a:lnTo>
                    <a:pt x="195" y="2088"/>
                  </a:lnTo>
                  <a:lnTo>
                    <a:pt x="195" y="2085"/>
                  </a:lnTo>
                  <a:lnTo>
                    <a:pt x="196" y="2083"/>
                  </a:lnTo>
                  <a:lnTo>
                    <a:pt x="198" y="2081"/>
                  </a:lnTo>
                  <a:lnTo>
                    <a:pt x="198" y="2081"/>
                  </a:lnTo>
                  <a:lnTo>
                    <a:pt x="200" y="2080"/>
                  </a:lnTo>
                  <a:lnTo>
                    <a:pt x="203" y="2080"/>
                  </a:lnTo>
                  <a:lnTo>
                    <a:pt x="205" y="2080"/>
                  </a:lnTo>
                  <a:lnTo>
                    <a:pt x="209" y="2083"/>
                  </a:lnTo>
                  <a:lnTo>
                    <a:pt x="209" y="2085"/>
                  </a:lnTo>
                  <a:lnTo>
                    <a:pt x="209" y="2088"/>
                  </a:lnTo>
                  <a:lnTo>
                    <a:pt x="209" y="2090"/>
                  </a:lnTo>
                  <a:lnTo>
                    <a:pt x="207" y="2092"/>
                  </a:lnTo>
                  <a:lnTo>
                    <a:pt x="207" y="2092"/>
                  </a:lnTo>
                  <a:close/>
                  <a:moveTo>
                    <a:pt x="184" y="2111"/>
                  </a:moveTo>
                  <a:lnTo>
                    <a:pt x="184" y="2111"/>
                  </a:lnTo>
                  <a:lnTo>
                    <a:pt x="181" y="2111"/>
                  </a:lnTo>
                  <a:lnTo>
                    <a:pt x="179" y="2111"/>
                  </a:lnTo>
                  <a:lnTo>
                    <a:pt x="175" y="2111"/>
                  </a:lnTo>
                  <a:lnTo>
                    <a:pt x="174" y="2109"/>
                  </a:lnTo>
                  <a:lnTo>
                    <a:pt x="172" y="2106"/>
                  </a:lnTo>
                  <a:lnTo>
                    <a:pt x="172" y="2104"/>
                  </a:lnTo>
                  <a:lnTo>
                    <a:pt x="174" y="2101"/>
                  </a:lnTo>
                  <a:lnTo>
                    <a:pt x="175" y="2099"/>
                  </a:lnTo>
                  <a:lnTo>
                    <a:pt x="175" y="2099"/>
                  </a:lnTo>
                  <a:lnTo>
                    <a:pt x="177" y="2097"/>
                  </a:lnTo>
                  <a:lnTo>
                    <a:pt x="181" y="2097"/>
                  </a:lnTo>
                  <a:lnTo>
                    <a:pt x="182" y="2099"/>
                  </a:lnTo>
                  <a:lnTo>
                    <a:pt x="186" y="2101"/>
                  </a:lnTo>
                  <a:lnTo>
                    <a:pt x="186" y="2102"/>
                  </a:lnTo>
                  <a:lnTo>
                    <a:pt x="186" y="2106"/>
                  </a:lnTo>
                  <a:lnTo>
                    <a:pt x="186" y="2108"/>
                  </a:lnTo>
                  <a:lnTo>
                    <a:pt x="184" y="2111"/>
                  </a:lnTo>
                  <a:lnTo>
                    <a:pt x="184" y="2111"/>
                  </a:lnTo>
                  <a:close/>
                  <a:moveTo>
                    <a:pt x="161" y="2129"/>
                  </a:moveTo>
                  <a:lnTo>
                    <a:pt x="161" y="2129"/>
                  </a:lnTo>
                  <a:lnTo>
                    <a:pt x="158" y="2130"/>
                  </a:lnTo>
                  <a:lnTo>
                    <a:pt x="156" y="2130"/>
                  </a:lnTo>
                  <a:lnTo>
                    <a:pt x="153" y="2129"/>
                  </a:lnTo>
                  <a:lnTo>
                    <a:pt x="151" y="2127"/>
                  </a:lnTo>
                  <a:lnTo>
                    <a:pt x="149" y="2123"/>
                  </a:lnTo>
                  <a:lnTo>
                    <a:pt x="149" y="2122"/>
                  </a:lnTo>
                  <a:lnTo>
                    <a:pt x="151" y="2118"/>
                  </a:lnTo>
                  <a:lnTo>
                    <a:pt x="153" y="2116"/>
                  </a:lnTo>
                  <a:lnTo>
                    <a:pt x="153" y="2116"/>
                  </a:lnTo>
                  <a:lnTo>
                    <a:pt x="154" y="2116"/>
                  </a:lnTo>
                  <a:lnTo>
                    <a:pt x="158" y="2115"/>
                  </a:lnTo>
                  <a:lnTo>
                    <a:pt x="160" y="2116"/>
                  </a:lnTo>
                  <a:lnTo>
                    <a:pt x="163" y="2118"/>
                  </a:lnTo>
                  <a:lnTo>
                    <a:pt x="163" y="2120"/>
                  </a:lnTo>
                  <a:lnTo>
                    <a:pt x="163" y="2123"/>
                  </a:lnTo>
                  <a:lnTo>
                    <a:pt x="163" y="2127"/>
                  </a:lnTo>
                  <a:lnTo>
                    <a:pt x="161" y="2129"/>
                  </a:lnTo>
                  <a:lnTo>
                    <a:pt x="161" y="2129"/>
                  </a:lnTo>
                  <a:close/>
                  <a:moveTo>
                    <a:pt x="139" y="2146"/>
                  </a:moveTo>
                  <a:lnTo>
                    <a:pt x="139" y="2146"/>
                  </a:lnTo>
                  <a:lnTo>
                    <a:pt x="135" y="2148"/>
                  </a:lnTo>
                  <a:lnTo>
                    <a:pt x="133" y="2148"/>
                  </a:lnTo>
                  <a:lnTo>
                    <a:pt x="130" y="2146"/>
                  </a:lnTo>
                  <a:lnTo>
                    <a:pt x="128" y="2144"/>
                  </a:lnTo>
                  <a:lnTo>
                    <a:pt x="126" y="2143"/>
                  </a:lnTo>
                  <a:lnTo>
                    <a:pt x="126" y="2139"/>
                  </a:lnTo>
                  <a:lnTo>
                    <a:pt x="128" y="2137"/>
                  </a:lnTo>
                  <a:lnTo>
                    <a:pt x="130" y="2136"/>
                  </a:lnTo>
                  <a:lnTo>
                    <a:pt x="130" y="2136"/>
                  </a:lnTo>
                  <a:lnTo>
                    <a:pt x="132" y="2134"/>
                  </a:lnTo>
                  <a:lnTo>
                    <a:pt x="135" y="2134"/>
                  </a:lnTo>
                  <a:lnTo>
                    <a:pt x="137" y="2134"/>
                  </a:lnTo>
                  <a:lnTo>
                    <a:pt x="140" y="2136"/>
                  </a:lnTo>
                  <a:lnTo>
                    <a:pt x="140" y="2139"/>
                  </a:lnTo>
                  <a:lnTo>
                    <a:pt x="140" y="2141"/>
                  </a:lnTo>
                  <a:lnTo>
                    <a:pt x="140" y="2144"/>
                  </a:lnTo>
                  <a:lnTo>
                    <a:pt x="139" y="2146"/>
                  </a:lnTo>
                  <a:lnTo>
                    <a:pt x="139" y="2146"/>
                  </a:lnTo>
                  <a:close/>
                  <a:moveTo>
                    <a:pt x="116" y="2164"/>
                  </a:moveTo>
                  <a:lnTo>
                    <a:pt x="116" y="2164"/>
                  </a:lnTo>
                  <a:lnTo>
                    <a:pt x="112" y="2165"/>
                  </a:lnTo>
                  <a:lnTo>
                    <a:pt x="111" y="2165"/>
                  </a:lnTo>
                  <a:lnTo>
                    <a:pt x="107" y="2165"/>
                  </a:lnTo>
                  <a:lnTo>
                    <a:pt x="105" y="2164"/>
                  </a:lnTo>
                  <a:lnTo>
                    <a:pt x="104" y="2160"/>
                  </a:lnTo>
                  <a:lnTo>
                    <a:pt x="104" y="2157"/>
                  </a:lnTo>
                  <a:lnTo>
                    <a:pt x="105" y="2155"/>
                  </a:lnTo>
                  <a:lnTo>
                    <a:pt x="107" y="2153"/>
                  </a:lnTo>
                  <a:lnTo>
                    <a:pt x="107" y="2153"/>
                  </a:lnTo>
                  <a:lnTo>
                    <a:pt x="109" y="2151"/>
                  </a:lnTo>
                  <a:lnTo>
                    <a:pt x="112" y="2151"/>
                  </a:lnTo>
                  <a:lnTo>
                    <a:pt x="116" y="2151"/>
                  </a:lnTo>
                  <a:lnTo>
                    <a:pt x="118" y="2155"/>
                  </a:lnTo>
                  <a:lnTo>
                    <a:pt x="118" y="2157"/>
                  </a:lnTo>
                  <a:lnTo>
                    <a:pt x="119" y="2160"/>
                  </a:lnTo>
                  <a:lnTo>
                    <a:pt x="118" y="2162"/>
                  </a:lnTo>
                  <a:lnTo>
                    <a:pt x="116" y="2164"/>
                  </a:lnTo>
                  <a:lnTo>
                    <a:pt x="116" y="2164"/>
                  </a:lnTo>
                  <a:close/>
                  <a:moveTo>
                    <a:pt x="93" y="2183"/>
                  </a:moveTo>
                  <a:lnTo>
                    <a:pt x="93" y="2183"/>
                  </a:lnTo>
                  <a:lnTo>
                    <a:pt x="90" y="2183"/>
                  </a:lnTo>
                  <a:lnTo>
                    <a:pt x="88" y="2183"/>
                  </a:lnTo>
                  <a:lnTo>
                    <a:pt x="84" y="2183"/>
                  </a:lnTo>
                  <a:lnTo>
                    <a:pt x="83" y="2181"/>
                  </a:lnTo>
                  <a:lnTo>
                    <a:pt x="81" y="2178"/>
                  </a:lnTo>
                  <a:lnTo>
                    <a:pt x="81" y="2176"/>
                  </a:lnTo>
                  <a:lnTo>
                    <a:pt x="83" y="2172"/>
                  </a:lnTo>
                  <a:lnTo>
                    <a:pt x="84" y="2171"/>
                  </a:lnTo>
                  <a:lnTo>
                    <a:pt x="84" y="2171"/>
                  </a:lnTo>
                  <a:lnTo>
                    <a:pt x="86" y="2169"/>
                  </a:lnTo>
                  <a:lnTo>
                    <a:pt x="90" y="2169"/>
                  </a:lnTo>
                  <a:lnTo>
                    <a:pt x="93" y="2171"/>
                  </a:lnTo>
                  <a:lnTo>
                    <a:pt x="95" y="2172"/>
                  </a:lnTo>
                  <a:lnTo>
                    <a:pt x="95" y="2174"/>
                  </a:lnTo>
                  <a:lnTo>
                    <a:pt x="97" y="2178"/>
                  </a:lnTo>
                  <a:lnTo>
                    <a:pt x="95" y="2179"/>
                  </a:lnTo>
                  <a:lnTo>
                    <a:pt x="93" y="2183"/>
                  </a:lnTo>
                  <a:lnTo>
                    <a:pt x="93" y="2183"/>
                  </a:lnTo>
                  <a:close/>
                  <a:moveTo>
                    <a:pt x="70" y="2200"/>
                  </a:moveTo>
                  <a:lnTo>
                    <a:pt x="70" y="2200"/>
                  </a:lnTo>
                  <a:lnTo>
                    <a:pt x="67" y="2202"/>
                  </a:lnTo>
                  <a:lnTo>
                    <a:pt x="65" y="2202"/>
                  </a:lnTo>
                  <a:lnTo>
                    <a:pt x="62" y="2200"/>
                  </a:lnTo>
                  <a:lnTo>
                    <a:pt x="60" y="2199"/>
                  </a:lnTo>
                  <a:lnTo>
                    <a:pt x="60" y="2197"/>
                  </a:lnTo>
                  <a:lnTo>
                    <a:pt x="58" y="2193"/>
                  </a:lnTo>
                  <a:lnTo>
                    <a:pt x="60" y="2190"/>
                  </a:lnTo>
                  <a:lnTo>
                    <a:pt x="62" y="2188"/>
                  </a:lnTo>
                  <a:lnTo>
                    <a:pt x="62" y="2188"/>
                  </a:lnTo>
                  <a:lnTo>
                    <a:pt x="63" y="2188"/>
                  </a:lnTo>
                  <a:lnTo>
                    <a:pt x="67" y="2186"/>
                  </a:lnTo>
                  <a:lnTo>
                    <a:pt x="70" y="2188"/>
                  </a:lnTo>
                  <a:lnTo>
                    <a:pt x="72" y="2190"/>
                  </a:lnTo>
                  <a:lnTo>
                    <a:pt x="74" y="2193"/>
                  </a:lnTo>
                  <a:lnTo>
                    <a:pt x="74" y="2195"/>
                  </a:lnTo>
                  <a:lnTo>
                    <a:pt x="72" y="2199"/>
                  </a:lnTo>
                  <a:lnTo>
                    <a:pt x="70" y="2200"/>
                  </a:lnTo>
                  <a:lnTo>
                    <a:pt x="70" y="2200"/>
                  </a:lnTo>
                  <a:close/>
                  <a:moveTo>
                    <a:pt x="48" y="2218"/>
                  </a:moveTo>
                  <a:lnTo>
                    <a:pt x="48" y="2218"/>
                  </a:lnTo>
                  <a:lnTo>
                    <a:pt x="46" y="2220"/>
                  </a:lnTo>
                  <a:lnTo>
                    <a:pt x="42" y="2220"/>
                  </a:lnTo>
                  <a:lnTo>
                    <a:pt x="39" y="2218"/>
                  </a:lnTo>
                  <a:lnTo>
                    <a:pt x="37" y="2216"/>
                  </a:lnTo>
                  <a:lnTo>
                    <a:pt x="37" y="2214"/>
                  </a:lnTo>
                  <a:lnTo>
                    <a:pt x="35" y="2211"/>
                  </a:lnTo>
                  <a:lnTo>
                    <a:pt x="37" y="2209"/>
                  </a:lnTo>
                  <a:lnTo>
                    <a:pt x="39" y="2207"/>
                  </a:lnTo>
                  <a:lnTo>
                    <a:pt x="39" y="2207"/>
                  </a:lnTo>
                  <a:lnTo>
                    <a:pt x="41" y="2206"/>
                  </a:lnTo>
                  <a:lnTo>
                    <a:pt x="44" y="2206"/>
                  </a:lnTo>
                  <a:lnTo>
                    <a:pt x="46" y="2206"/>
                  </a:lnTo>
                  <a:lnTo>
                    <a:pt x="49" y="2207"/>
                  </a:lnTo>
                  <a:lnTo>
                    <a:pt x="51" y="2211"/>
                  </a:lnTo>
                  <a:lnTo>
                    <a:pt x="51" y="2213"/>
                  </a:lnTo>
                  <a:lnTo>
                    <a:pt x="49" y="2216"/>
                  </a:lnTo>
                  <a:lnTo>
                    <a:pt x="48" y="2218"/>
                  </a:lnTo>
                  <a:lnTo>
                    <a:pt x="48" y="2218"/>
                  </a:lnTo>
                  <a:close/>
                  <a:moveTo>
                    <a:pt x="25" y="2235"/>
                  </a:moveTo>
                  <a:lnTo>
                    <a:pt x="25" y="2235"/>
                  </a:lnTo>
                  <a:lnTo>
                    <a:pt x="23" y="2237"/>
                  </a:lnTo>
                  <a:lnTo>
                    <a:pt x="20" y="2237"/>
                  </a:lnTo>
                  <a:lnTo>
                    <a:pt x="18" y="2237"/>
                  </a:lnTo>
                  <a:lnTo>
                    <a:pt x="14" y="2235"/>
                  </a:lnTo>
                  <a:lnTo>
                    <a:pt x="14" y="2232"/>
                  </a:lnTo>
                  <a:lnTo>
                    <a:pt x="13" y="2230"/>
                  </a:lnTo>
                  <a:lnTo>
                    <a:pt x="14" y="2227"/>
                  </a:lnTo>
                  <a:lnTo>
                    <a:pt x="16" y="2225"/>
                  </a:lnTo>
                  <a:lnTo>
                    <a:pt x="16" y="2225"/>
                  </a:lnTo>
                  <a:lnTo>
                    <a:pt x="18" y="2223"/>
                  </a:lnTo>
                  <a:lnTo>
                    <a:pt x="21" y="2223"/>
                  </a:lnTo>
                  <a:lnTo>
                    <a:pt x="23" y="2223"/>
                  </a:lnTo>
                  <a:lnTo>
                    <a:pt x="27" y="2227"/>
                  </a:lnTo>
                  <a:lnTo>
                    <a:pt x="28" y="2228"/>
                  </a:lnTo>
                  <a:lnTo>
                    <a:pt x="28" y="2232"/>
                  </a:lnTo>
                  <a:lnTo>
                    <a:pt x="27" y="2234"/>
                  </a:lnTo>
                  <a:lnTo>
                    <a:pt x="25" y="2235"/>
                  </a:lnTo>
                  <a:lnTo>
                    <a:pt x="25" y="2235"/>
                  </a:lnTo>
                  <a:close/>
                  <a:moveTo>
                    <a:pt x="16" y="2253"/>
                  </a:moveTo>
                  <a:lnTo>
                    <a:pt x="16" y="2253"/>
                  </a:lnTo>
                  <a:lnTo>
                    <a:pt x="14" y="2256"/>
                  </a:lnTo>
                  <a:lnTo>
                    <a:pt x="13" y="2258"/>
                  </a:lnTo>
                  <a:lnTo>
                    <a:pt x="11" y="2260"/>
                  </a:lnTo>
                  <a:lnTo>
                    <a:pt x="7" y="2260"/>
                  </a:lnTo>
                  <a:lnTo>
                    <a:pt x="6" y="2260"/>
                  </a:lnTo>
                  <a:lnTo>
                    <a:pt x="2" y="2258"/>
                  </a:lnTo>
                  <a:lnTo>
                    <a:pt x="2" y="2256"/>
                  </a:lnTo>
                  <a:lnTo>
                    <a:pt x="0" y="2253"/>
                  </a:lnTo>
                  <a:lnTo>
                    <a:pt x="0" y="2253"/>
                  </a:lnTo>
                  <a:lnTo>
                    <a:pt x="2" y="2249"/>
                  </a:lnTo>
                  <a:lnTo>
                    <a:pt x="2" y="2248"/>
                  </a:lnTo>
                  <a:lnTo>
                    <a:pt x="6" y="2246"/>
                  </a:lnTo>
                  <a:lnTo>
                    <a:pt x="9" y="2246"/>
                  </a:lnTo>
                  <a:lnTo>
                    <a:pt x="11" y="2246"/>
                  </a:lnTo>
                  <a:lnTo>
                    <a:pt x="13" y="2248"/>
                  </a:lnTo>
                  <a:lnTo>
                    <a:pt x="14" y="2251"/>
                  </a:lnTo>
                  <a:lnTo>
                    <a:pt x="16" y="2253"/>
                  </a:lnTo>
                  <a:lnTo>
                    <a:pt x="16" y="2253"/>
                  </a:lnTo>
                  <a:close/>
                  <a:moveTo>
                    <a:pt x="14" y="2283"/>
                  </a:moveTo>
                  <a:lnTo>
                    <a:pt x="14" y="2283"/>
                  </a:lnTo>
                  <a:lnTo>
                    <a:pt x="14" y="2284"/>
                  </a:lnTo>
                  <a:lnTo>
                    <a:pt x="13" y="2288"/>
                  </a:lnTo>
                  <a:lnTo>
                    <a:pt x="11" y="2288"/>
                  </a:lnTo>
                  <a:lnTo>
                    <a:pt x="7" y="2290"/>
                  </a:lnTo>
                  <a:lnTo>
                    <a:pt x="6" y="2288"/>
                  </a:lnTo>
                  <a:lnTo>
                    <a:pt x="2" y="2288"/>
                  </a:lnTo>
                  <a:lnTo>
                    <a:pt x="0" y="2284"/>
                  </a:lnTo>
                  <a:lnTo>
                    <a:pt x="0" y="2283"/>
                  </a:lnTo>
                  <a:lnTo>
                    <a:pt x="0" y="2283"/>
                  </a:lnTo>
                  <a:lnTo>
                    <a:pt x="0" y="2279"/>
                  </a:lnTo>
                  <a:lnTo>
                    <a:pt x="2" y="2277"/>
                  </a:lnTo>
                  <a:lnTo>
                    <a:pt x="6" y="2276"/>
                  </a:lnTo>
                  <a:lnTo>
                    <a:pt x="7" y="2276"/>
                  </a:lnTo>
                  <a:lnTo>
                    <a:pt x="11" y="2276"/>
                  </a:lnTo>
                  <a:lnTo>
                    <a:pt x="13" y="2277"/>
                  </a:lnTo>
                  <a:lnTo>
                    <a:pt x="14" y="2279"/>
                  </a:lnTo>
                  <a:lnTo>
                    <a:pt x="14" y="2283"/>
                  </a:lnTo>
                  <a:lnTo>
                    <a:pt x="14" y="2283"/>
                  </a:lnTo>
                  <a:close/>
                  <a:moveTo>
                    <a:pt x="14" y="2311"/>
                  </a:moveTo>
                  <a:lnTo>
                    <a:pt x="14" y="2311"/>
                  </a:lnTo>
                  <a:lnTo>
                    <a:pt x="14" y="2314"/>
                  </a:lnTo>
                  <a:lnTo>
                    <a:pt x="13" y="2316"/>
                  </a:lnTo>
                  <a:lnTo>
                    <a:pt x="11" y="2318"/>
                  </a:lnTo>
                  <a:lnTo>
                    <a:pt x="7" y="2318"/>
                  </a:lnTo>
                  <a:lnTo>
                    <a:pt x="4" y="2318"/>
                  </a:lnTo>
                  <a:lnTo>
                    <a:pt x="2" y="2316"/>
                  </a:lnTo>
                  <a:lnTo>
                    <a:pt x="0" y="2314"/>
                  </a:lnTo>
                  <a:lnTo>
                    <a:pt x="0" y="2311"/>
                  </a:lnTo>
                  <a:lnTo>
                    <a:pt x="0" y="2311"/>
                  </a:lnTo>
                  <a:lnTo>
                    <a:pt x="0" y="2309"/>
                  </a:lnTo>
                  <a:lnTo>
                    <a:pt x="2" y="2305"/>
                  </a:lnTo>
                  <a:lnTo>
                    <a:pt x="6" y="2304"/>
                  </a:lnTo>
                  <a:lnTo>
                    <a:pt x="7" y="2304"/>
                  </a:lnTo>
                  <a:lnTo>
                    <a:pt x="11" y="2304"/>
                  </a:lnTo>
                  <a:lnTo>
                    <a:pt x="13" y="2305"/>
                  </a:lnTo>
                  <a:lnTo>
                    <a:pt x="14" y="2309"/>
                  </a:lnTo>
                  <a:lnTo>
                    <a:pt x="14" y="2311"/>
                  </a:lnTo>
                  <a:lnTo>
                    <a:pt x="14" y="2311"/>
                  </a:lnTo>
                  <a:close/>
                  <a:moveTo>
                    <a:pt x="14" y="2340"/>
                  </a:moveTo>
                  <a:lnTo>
                    <a:pt x="14" y="2340"/>
                  </a:lnTo>
                  <a:lnTo>
                    <a:pt x="14" y="2342"/>
                  </a:lnTo>
                  <a:lnTo>
                    <a:pt x="13" y="2346"/>
                  </a:lnTo>
                  <a:lnTo>
                    <a:pt x="11" y="2347"/>
                  </a:lnTo>
                  <a:lnTo>
                    <a:pt x="7" y="2347"/>
                  </a:lnTo>
                  <a:lnTo>
                    <a:pt x="4" y="2347"/>
                  </a:lnTo>
                  <a:lnTo>
                    <a:pt x="2" y="2346"/>
                  </a:lnTo>
                  <a:lnTo>
                    <a:pt x="0" y="2342"/>
                  </a:lnTo>
                  <a:lnTo>
                    <a:pt x="0" y="2340"/>
                  </a:lnTo>
                  <a:lnTo>
                    <a:pt x="0" y="2340"/>
                  </a:lnTo>
                  <a:lnTo>
                    <a:pt x="0" y="2337"/>
                  </a:lnTo>
                  <a:lnTo>
                    <a:pt x="2" y="2335"/>
                  </a:lnTo>
                  <a:lnTo>
                    <a:pt x="4" y="2333"/>
                  </a:lnTo>
                  <a:lnTo>
                    <a:pt x="7" y="2333"/>
                  </a:lnTo>
                  <a:lnTo>
                    <a:pt x="11" y="2333"/>
                  </a:lnTo>
                  <a:lnTo>
                    <a:pt x="13" y="2335"/>
                  </a:lnTo>
                  <a:lnTo>
                    <a:pt x="14" y="2337"/>
                  </a:lnTo>
                  <a:lnTo>
                    <a:pt x="14" y="2340"/>
                  </a:lnTo>
                  <a:lnTo>
                    <a:pt x="14" y="2340"/>
                  </a:lnTo>
                  <a:close/>
                  <a:moveTo>
                    <a:pt x="14" y="2368"/>
                  </a:moveTo>
                  <a:lnTo>
                    <a:pt x="14" y="2368"/>
                  </a:lnTo>
                  <a:lnTo>
                    <a:pt x="14" y="2372"/>
                  </a:lnTo>
                  <a:lnTo>
                    <a:pt x="13" y="2374"/>
                  </a:lnTo>
                  <a:lnTo>
                    <a:pt x="9" y="2375"/>
                  </a:lnTo>
                  <a:lnTo>
                    <a:pt x="7" y="2377"/>
                  </a:lnTo>
                  <a:lnTo>
                    <a:pt x="4" y="2375"/>
                  </a:lnTo>
                  <a:lnTo>
                    <a:pt x="2" y="2374"/>
                  </a:lnTo>
                  <a:lnTo>
                    <a:pt x="0" y="2372"/>
                  </a:lnTo>
                  <a:lnTo>
                    <a:pt x="0" y="2368"/>
                  </a:lnTo>
                  <a:lnTo>
                    <a:pt x="0" y="2368"/>
                  </a:lnTo>
                  <a:lnTo>
                    <a:pt x="0" y="2367"/>
                  </a:lnTo>
                  <a:lnTo>
                    <a:pt x="2" y="2363"/>
                  </a:lnTo>
                  <a:lnTo>
                    <a:pt x="4" y="2361"/>
                  </a:lnTo>
                  <a:lnTo>
                    <a:pt x="7" y="2361"/>
                  </a:lnTo>
                  <a:lnTo>
                    <a:pt x="11" y="2363"/>
                  </a:lnTo>
                  <a:lnTo>
                    <a:pt x="13" y="2363"/>
                  </a:lnTo>
                  <a:lnTo>
                    <a:pt x="14" y="2367"/>
                  </a:lnTo>
                  <a:lnTo>
                    <a:pt x="14" y="2368"/>
                  </a:lnTo>
                  <a:lnTo>
                    <a:pt x="14" y="2368"/>
                  </a:lnTo>
                  <a:close/>
                  <a:moveTo>
                    <a:pt x="14" y="2398"/>
                  </a:moveTo>
                  <a:lnTo>
                    <a:pt x="14" y="2398"/>
                  </a:lnTo>
                  <a:lnTo>
                    <a:pt x="14" y="2402"/>
                  </a:lnTo>
                  <a:lnTo>
                    <a:pt x="13" y="2403"/>
                  </a:lnTo>
                  <a:lnTo>
                    <a:pt x="9" y="2405"/>
                  </a:lnTo>
                  <a:lnTo>
                    <a:pt x="7" y="2405"/>
                  </a:lnTo>
                  <a:lnTo>
                    <a:pt x="4" y="2405"/>
                  </a:lnTo>
                  <a:lnTo>
                    <a:pt x="2" y="2403"/>
                  </a:lnTo>
                  <a:lnTo>
                    <a:pt x="0" y="2400"/>
                  </a:lnTo>
                  <a:lnTo>
                    <a:pt x="0" y="2398"/>
                  </a:lnTo>
                  <a:lnTo>
                    <a:pt x="0" y="2398"/>
                  </a:lnTo>
                  <a:lnTo>
                    <a:pt x="0" y="2395"/>
                  </a:lnTo>
                  <a:lnTo>
                    <a:pt x="2" y="2393"/>
                  </a:lnTo>
                  <a:lnTo>
                    <a:pt x="4" y="2391"/>
                  </a:lnTo>
                  <a:lnTo>
                    <a:pt x="7" y="2391"/>
                  </a:lnTo>
                  <a:lnTo>
                    <a:pt x="9" y="2391"/>
                  </a:lnTo>
                  <a:lnTo>
                    <a:pt x="13" y="2393"/>
                  </a:lnTo>
                  <a:lnTo>
                    <a:pt x="14" y="2395"/>
                  </a:lnTo>
                  <a:lnTo>
                    <a:pt x="14" y="2398"/>
                  </a:lnTo>
                  <a:lnTo>
                    <a:pt x="14" y="2398"/>
                  </a:lnTo>
                  <a:close/>
                  <a:moveTo>
                    <a:pt x="14" y="2428"/>
                  </a:moveTo>
                  <a:lnTo>
                    <a:pt x="14" y="2428"/>
                  </a:lnTo>
                  <a:lnTo>
                    <a:pt x="13" y="2430"/>
                  </a:lnTo>
                  <a:lnTo>
                    <a:pt x="13" y="2431"/>
                  </a:lnTo>
                  <a:lnTo>
                    <a:pt x="9" y="2433"/>
                  </a:lnTo>
                  <a:lnTo>
                    <a:pt x="7" y="2435"/>
                  </a:lnTo>
                  <a:lnTo>
                    <a:pt x="4" y="2433"/>
                  </a:lnTo>
                  <a:lnTo>
                    <a:pt x="2" y="2431"/>
                  </a:lnTo>
                  <a:lnTo>
                    <a:pt x="0" y="2430"/>
                  </a:lnTo>
                  <a:lnTo>
                    <a:pt x="0" y="2426"/>
                  </a:lnTo>
                  <a:lnTo>
                    <a:pt x="0" y="2426"/>
                  </a:lnTo>
                  <a:lnTo>
                    <a:pt x="0" y="2424"/>
                  </a:lnTo>
                  <a:lnTo>
                    <a:pt x="2" y="2421"/>
                  </a:lnTo>
                  <a:lnTo>
                    <a:pt x="4" y="2421"/>
                  </a:lnTo>
                  <a:lnTo>
                    <a:pt x="7" y="2419"/>
                  </a:lnTo>
                  <a:lnTo>
                    <a:pt x="9" y="2421"/>
                  </a:lnTo>
                  <a:lnTo>
                    <a:pt x="13" y="2423"/>
                  </a:lnTo>
                  <a:lnTo>
                    <a:pt x="13" y="2424"/>
                  </a:lnTo>
                  <a:lnTo>
                    <a:pt x="14" y="2428"/>
                  </a:lnTo>
                  <a:lnTo>
                    <a:pt x="14" y="2428"/>
                  </a:lnTo>
                  <a:close/>
                  <a:moveTo>
                    <a:pt x="14" y="2456"/>
                  </a:moveTo>
                  <a:lnTo>
                    <a:pt x="14" y="2456"/>
                  </a:lnTo>
                  <a:lnTo>
                    <a:pt x="13" y="2459"/>
                  </a:lnTo>
                  <a:lnTo>
                    <a:pt x="11" y="2461"/>
                  </a:lnTo>
                  <a:lnTo>
                    <a:pt x="9" y="2463"/>
                  </a:lnTo>
                  <a:lnTo>
                    <a:pt x="7" y="2463"/>
                  </a:lnTo>
                  <a:lnTo>
                    <a:pt x="4" y="2463"/>
                  </a:lnTo>
                  <a:lnTo>
                    <a:pt x="2" y="2461"/>
                  </a:lnTo>
                  <a:lnTo>
                    <a:pt x="0" y="2458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0" y="2452"/>
                  </a:lnTo>
                  <a:lnTo>
                    <a:pt x="2" y="2451"/>
                  </a:lnTo>
                  <a:lnTo>
                    <a:pt x="4" y="2449"/>
                  </a:lnTo>
                  <a:lnTo>
                    <a:pt x="7" y="2449"/>
                  </a:lnTo>
                  <a:lnTo>
                    <a:pt x="9" y="2449"/>
                  </a:lnTo>
                  <a:lnTo>
                    <a:pt x="13" y="2451"/>
                  </a:lnTo>
                  <a:lnTo>
                    <a:pt x="13" y="2452"/>
                  </a:lnTo>
                  <a:lnTo>
                    <a:pt x="14" y="2456"/>
                  </a:lnTo>
                  <a:lnTo>
                    <a:pt x="14" y="2456"/>
                  </a:lnTo>
                  <a:close/>
                  <a:moveTo>
                    <a:pt x="14" y="2475"/>
                  </a:moveTo>
                  <a:lnTo>
                    <a:pt x="14" y="2475"/>
                  </a:lnTo>
                  <a:lnTo>
                    <a:pt x="18" y="2477"/>
                  </a:lnTo>
                  <a:lnTo>
                    <a:pt x="18" y="2479"/>
                  </a:lnTo>
                  <a:lnTo>
                    <a:pt x="20" y="2480"/>
                  </a:lnTo>
                  <a:lnTo>
                    <a:pt x="18" y="2484"/>
                  </a:lnTo>
                  <a:lnTo>
                    <a:pt x="16" y="2486"/>
                  </a:lnTo>
                  <a:lnTo>
                    <a:pt x="14" y="2487"/>
                  </a:lnTo>
                  <a:lnTo>
                    <a:pt x="13" y="2489"/>
                  </a:lnTo>
                  <a:lnTo>
                    <a:pt x="9" y="2487"/>
                  </a:lnTo>
                  <a:lnTo>
                    <a:pt x="9" y="2487"/>
                  </a:lnTo>
                  <a:lnTo>
                    <a:pt x="7" y="2486"/>
                  </a:lnTo>
                  <a:lnTo>
                    <a:pt x="6" y="2484"/>
                  </a:lnTo>
                  <a:lnTo>
                    <a:pt x="4" y="2480"/>
                  </a:lnTo>
                  <a:lnTo>
                    <a:pt x="6" y="2479"/>
                  </a:lnTo>
                  <a:lnTo>
                    <a:pt x="7" y="2475"/>
                  </a:lnTo>
                  <a:lnTo>
                    <a:pt x="9" y="2475"/>
                  </a:lnTo>
                  <a:lnTo>
                    <a:pt x="13" y="2473"/>
                  </a:lnTo>
                  <a:lnTo>
                    <a:pt x="14" y="2475"/>
                  </a:lnTo>
                  <a:lnTo>
                    <a:pt x="14" y="2475"/>
                  </a:lnTo>
                  <a:close/>
                  <a:moveTo>
                    <a:pt x="41" y="2487"/>
                  </a:moveTo>
                  <a:lnTo>
                    <a:pt x="41" y="2487"/>
                  </a:lnTo>
                  <a:lnTo>
                    <a:pt x="44" y="2487"/>
                  </a:lnTo>
                  <a:lnTo>
                    <a:pt x="44" y="2491"/>
                  </a:lnTo>
                  <a:lnTo>
                    <a:pt x="46" y="2493"/>
                  </a:lnTo>
                  <a:lnTo>
                    <a:pt x="46" y="2496"/>
                  </a:lnTo>
                  <a:lnTo>
                    <a:pt x="44" y="2498"/>
                  </a:lnTo>
                  <a:lnTo>
                    <a:pt x="41" y="2500"/>
                  </a:lnTo>
                  <a:lnTo>
                    <a:pt x="39" y="2500"/>
                  </a:lnTo>
                  <a:lnTo>
                    <a:pt x="35" y="2500"/>
                  </a:lnTo>
                  <a:lnTo>
                    <a:pt x="35" y="2500"/>
                  </a:lnTo>
                  <a:lnTo>
                    <a:pt x="34" y="2498"/>
                  </a:lnTo>
                  <a:lnTo>
                    <a:pt x="32" y="2496"/>
                  </a:lnTo>
                  <a:lnTo>
                    <a:pt x="32" y="2493"/>
                  </a:lnTo>
                  <a:lnTo>
                    <a:pt x="32" y="2491"/>
                  </a:lnTo>
                  <a:lnTo>
                    <a:pt x="34" y="2487"/>
                  </a:lnTo>
                  <a:lnTo>
                    <a:pt x="35" y="2486"/>
                  </a:lnTo>
                  <a:lnTo>
                    <a:pt x="39" y="2486"/>
                  </a:lnTo>
                  <a:lnTo>
                    <a:pt x="41" y="2487"/>
                  </a:lnTo>
                  <a:lnTo>
                    <a:pt x="41" y="2487"/>
                  </a:lnTo>
                  <a:close/>
                  <a:moveTo>
                    <a:pt x="67" y="2498"/>
                  </a:moveTo>
                  <a:lnTo>
                    <a:pt x="67" y="2498"/>
                  </a:lnTo>
                  <a:lnTo>
                    <a:pt x="70" y="2500"/>
                  </a:lnTo>
                  <a:lnTo>
                    <a:pt x="72" y="2503"/>
                  </a:lnTo>
                  <a:lnTo>
                    <a:pt x="72" y="2505"/>
                  </a:lnTo>
                  <a:lnTo>
                    <a:pt x="72" y="2508"/>
                  </a:lnTo>
                  <a:lnTo>
                    <a:pt x="70" y="2510"/>
                  </a:lnTo>
                  <a:lnTo>
                    <a:pt x="67" y="2512"/>
                  </a:lnTo>
                  <a:lnTo>
                    <a:pt x="65" y="2512"/>
                  </a:lnTo>
                  <a:lnTo>
                    <a:pt x="62" y="2512"/>
                  </a:lnTo>
                  <a:lnTo>
                    <a:pt x="62" y="2512"/>
                  </a:lnTo>
                  <a:lnTo>
                    <a:pt x="60" y="2510"/>
                  </a:lnTo>
                  <a:lnTo>
                    <a:pt x="58" y="2508"/>
                  </a:lnTo>
                  <a:lnTo>
                    <a:pt x="58" y="2505"/>
                  </a:lnTo>
                  <a:lnTo>
                    <a:pt x="58" y="2503"/>
                  </a:lnTo>
                  <a:lnTo>
                    <a:pt x="60" y="2500"/>
                  </a:lnTo>
                  <a:lnTo>
                    <a:pt x="62" y="2498"/>
                  </a:lnTo>
                  <a:lnTo>
                    <a:pt x="65" y="2498"/>
                  </a:lnTo>
                  <a:lnTo>
                    <a:pt x="67" y="2498"/>
                  </a:lnTo>
                  <a:lnTo>
                    <a:pt x="67" y="2498"/>
                  </a:lnTo>
                  <a:close/>
                  <a:moveTo>
                    <a:pt x="95" y="2510"/>
                  </a:moveTo>
                  <a:lnTo>
                    <a:pt x="95" y="2510"/>
                  </a:lnTo>
                  <a:lnTo>
                    <a:pt x="97" y="2512"/>
                  </a:lnTo>
                  <a:lnTo>
                    <a:pt x="98" y="2514"/>
                  </a:lnTo>
                  <a:lnTo>
                    <a:pt x="98" y="2517"/>
                  </a:lnTo>
                  <a:lnTo>
                    <a:pt x="98" y="2521"/>
                  </a:lnTo>
                  <a:lnTo>
                    <a:pt x="97" y="2522"/>
                  </a:lnTo>
                  <a:lnTo>
                    <a:pt x="93" y="2524"/>
                  </a:lnTo>
                  <a:lnTo>
                    <a:pt x="91" y="2524"/>
                  </a:lnTo>
                  <a:lnTo>
                    <a:pt x="88" y="2524"/>
                  </a:lnTo>
                  <a:lnTo>
                    <a:pt x="88" y="2524"/>
                  </a:lnTo>
                  <a:lnTo>
                    <a:pt x="86" y="2522"/>
                  </a:lnTo>
                  <a:lnTo>
                    <a:pt x="84" y="2521"/>
                  </a:lnTo>
                  <a:lnTo>
                    <a:pt x="84" y="2517"/>
                  </a:lnTo>
                  <a:lnTo>
                    <a:pt x="84" y="2514"/>
                  </a:lnTo>
                  <a:lnTo>
                    <a:pt x="86" y="2512"/>
                  </a:lnTo>
                  <a:lnTo>
                    <a:pt x="88" y="2510"/>
                  </a:lnTo>
                  <a:lnTo>
                    <a:pt x="91" y="2510"/>
                  </a:lnTo>
                  <a:lnTo>
                    <a:pt x="95" y="2510"/>
                  </a:lnTo>
                  <a:lnTo>
                    <a:pt x="95" y="2510"/>
                  </a:lnTo>
                  <a:close/>
                  <a:moveTo>
                    <a:pt x="121" y="2522"/>
                  </a:moveTo>
                  <a:lnTo>
                    <a:pt x="121" y="2522"/>
                  </a:lnTo>
                  <a:lnTo>
                    <a:pt x="123" y="2524"/>
                  </a:lnTo>
                  <a:lnTo>
                    <a:pt x="125" y="2526"/>
                  </a:lnTo>
                  <a:lnTo>
                    <a:pt x="125" y="2529"/>
                  </a:lnTo>
                  <a:lnTo>
                    <a:pt x="125" y="2533"/>
                  </a:lnTo>
                  <a:lnTo>
                    <a:pt x="123" y="2535"/>
                  </a:lnTo>
                  <a:lnTo>
                    <a:pt x="119" y="2536"/>
                  </a:lnTo>
                  <a:lnTo>
                    <a:pt x="118" y="2536"/>
                  </a:lnTo>
                  <a:lnTo>
                    <a:pt x="114" y="2536"/>
                  </a:lnTo>
                  <a:lnTo>
                    <a:pt x="114" y="2536"/>
                  </a:lnTo>
                  <a:lnTo>
                    <a:pt x="112" y="2535"/>
                  </a:lnTo>
                  <a:lnTo>
                    <a:pt x="111" y="2531"/>
                  </a:lnTo>
                  <a:lnTo>
                    <a:pt x="111" y="2529"/>
                  </a:lnTo>
                  <a:lnTo>
                    <a:pt x="111" y="2526"/>
                  </a:lnTo>
                  <a:lnTo>
                    <a:pt x="112" y="2524"/>
                  </a:lnTo>
                  <a:lnTo>
                    <a:pt x="114" y="2522"/>
                  </a:lnTo>
                  <a:lnTo>
                    <a:pt x="118" y="2522"/>
                  </a:lnTo>
                  <a:lnTo>
                    <a:pt x="121" y="2522"/>
                  </a:lnTo>
                  <a:lnTo>
                    <a:pt x="121" y="2522"/>
                  </a:lnTo>
                  <a:close/>
                  <a:moveTo>
                    <a:pt x="142" y="2533"/>
                  </a:moveTo>
                  <a:lnTo>
                    <a:pt x="142" y="2533"/>
                  </a:lnTo>
                  <a:lnTo>
                    <a:pt x="144" y="2533"/>
                  </a:lnTo>
                  <a:lnTo>
                    <a:pt x="147" y="2533"/>
                  </a:lnTo>
                  <a:lnTo>
                    <a:pt x="149" y="2535"/>
                  </a:lnTo>
                  <a:lnTo>
                    <a:pt x="151" y="2538"/>
                  </a:lnTo>
                  <a:lnTo>
                    <a:pt x="151" y="2540"/>
                  </a:lnTo>
                  <a:lnTo>
                    <a:pt x="151" y="2543"/>
                  </a:lnTo>
                  <a:lnTo>
                    <a:pt x="149" y="2545"/>
                  </a:lnTo>
                  <a:lnTo>
                    <a:pt x="146" y="2547"/>
                  </a:lnTo>
                  <a:lnTo>
                    <a:pt x="146" y="2547"/>
                  </a:lnTo>
                  <a:lnTo>
                    <a:pt x="144" y="2547"/>
                  </a:lnTo>
                  <a:lnTo>
                    <a:pt x="140" y="2547"/>
                  </a:lnTo>
                  <a:lnTo>
                    <a:pt x="139" y="2545"/>
                  </a:lnTo>
                  <a:lnTo>
                    <a:pt x="137" y="2542"/>
                  </a:lnTo>
                  <a:lnTo>
                    <a:pt x="137" y="2540"/>
                  </a:lnTo>
                  <a:lnTo>
                    <a:pt x="137" y="2536"/>
                  </a:lnTo>
                  <a:lnTo>
                    <a:pt x="139" y="2535"/>
                  </a:lnTo>
                  <a:lnTo>
                    <a:pt x="142" y="2533"/>
                  </a:lnTo>
                  <a:lnTo>
                    <a:pt x="142" y="2533"/>
                  </a:lnTo>
                  <a:close/>
                  <a:moveTo>
                    <a:pt x="170" y="2524"/>
                  </a:moveTo>
                  <a:lnTo>
                    <a:pt x="170" y="2524"/>
                  </a:lnTo>
                  <a:lnTo>
                    <a:pt x="172" y="2524"/>
                  </a:lnTo>
                  <a:lnTo>
                    <a:pt x="175" y="2524"/>
                  </a:lnTo>
                  <a:lnTo>
                    <a:pt x="177" y="2526"/>
                  </a:lnTo>
                  <a:lnTo>
                    <a:pt x="179" y="2529"/>
                  </a:lnTo>
                  <a:lnTo>
                    <a:pt x="179" y="2531"/>
                  </a:lnTo>
                  <a:lnTo>
                    <a:pt x="179" y="2535"/>
                  </a:lnTo>
                  <a:lnTo>
                    <a:pt x="177" y="2536"/>
                  </a:lnTo>
                  <a:lnTo>
                    <a:pt x="174" y="2538"/>
                  </a:lnTo>
                  <a:lnTo>
                    <a:pt x="174" y="2538"/>
                  </a:lnTo>
                  <a:lnTo>
                    <a:pt x="170" y="2538"/>
                  </a:lnTo>
                  <a:lnTo>
                    <a:pt x="168" y="2538"/>
                  </a:lnTo>
                  <a:lnTo>
                    <a:pt x="167" y="2536"/>
                  </a:lnTo>
                  <a:lnTo>
                    <a:pt x="165" y="2533"/>
                  </a:lnTo>
                  <a:lnTo>
                    <a:pt x="165" y="2531"/>
                  </a:lnTo>
                  <a:lnTo>
                    <a:pt x="165" y="2528"/>
                  </a:lnTo>
                  <a:lnTo>
                    <a:pt x="167" y="2526"/>
                  </a:lnTo>
                  <a:lnTo>
                    <a:pt x="170" y="2524"/>
                  </a:lnTo>
                  <a:lnTo>
                    <a:pt x="170" y="2524"/>
                  </a:lnTo>
                  <a:close/>
                  <a:moveTo>
                    <a:pt x="196" y="2515"/>
                  </a:moveTo>
                  <a:lnTo>
                    <a:pt x="196" y="2515"/>
                  </a:lnTo>
                  <a:lnTo>
                    <a:pt x="200" y="2515"/>
                  </a:lnTo>
                  <a:lnTo>
                    <a:pt x="202" y="2515"/>
                  </a:lnTo>
                  <a:lnTo>
                    <a:pt x="205" y="2517"/>
                  </a:lnTo>
                  <a:lnTo>
                    <a:pt x="207" y="2521"/>
                  </a:lnTo>
                  <a:lnTo>
                    <a:pt x="207" y="2522"/>
                  </a:lnTo>
                  <a:lnTo>
                    <a:pt x="205" y="2526"/>
                  </a:lnTo>
                  <a:lnTo>
                    <a:pt x="203" y="2528"/>
                  </a:lnTo>
                  <a:lnTo>
                    <a:pt x="202" y="2529"/>
                  </a:lnTo>
                  <a:lnTo>
                    <a:pt x="202" y="2529"/>
                  </a:lnTo>
                  <a:lnTo>
                    <a:pt x="198" y="2529"/>
                  </a:lnTo>
                  <a:lnTo>
                    <a:pt x="196" y="2529"/>
                  </a:lnTo>
                  <a:lnTo>
                    <a:pt x="193" y="2528"/>
                  </a:lnTo>
                  <a:lnTo>
                    <a:pt x="193" y="2524"/>
                  </a:lnTo>
                  <a:lnTo>
                    <a:pt x="191" y="2522"/>
                  </a:lnTo>
                  <a:lnTo>
                    <a:pt x="193" y="2519"/>
                  </a:lnTo>
                  <a:lnTo>
                    <a:pt x="195" y="2517"/>
                  </a:lnTo>
                  <a:lnTo>
                    <a:pt x="196" y="2515"/>
                  </a:lnTo>
                  <a:lnTo>
                    <a:pt x="196" y="2515"/>
                  </a:lnTo>
                  <a:close/>
                  <a:moveTo>
                    <a:pt x="224" y="2507"/>
                  </a:moveTo>
                  <a:lnTo>
                    <a:pt x="224" y="2507"/>
                  </a:lnTo>
                  <a:lnTo>
                    <a:pt x="228" y="2507"/>
                  </a:lnTo>
                  <a:lnTo>
                    <a:pt x="230" y="2507"/>
                  </a:lnTo>
                  <a:lnTo>
                    <a:pt x="231" y="2508"/>
                  </a:lnTo>
                  <a:lnTo>
                    <a:pt x="233" y="2512"/>
                  </a:lnTo>
                  <a:lnTo>
                    <a:pt x="233" y="2514"/>
                  </a:lnTo>
                  <a:lnTo>
                    <a:pt x="233" y="2517"/>
                  </a:lnTo>
                  <a:lnTo>
                    <a:pt x="231" y="2519"/>
                  </a:lnTo>
                  <a:lnTo>
                    <a:pt x="230" y="2521"/>
                  </a:lnTo>
                  <a:lnTo>
                    <a:pt x="230" y="2521"/>
                  </a:lnTo>
                  <a:lnTo>
                    <a:pt x="226" y="2521"/>
                  </a:lnTo>
                  <a:lnTo>
                    <a:pt x="223" y="2521"/>
                  </a:lnTo>
                  <a:lnTo>
                    <a:pt x="221" y="2519"/>
                  </a:lnTo>
                  <a:lnTo>
                    <a:pt x="219" y="2515"/>
                  </a:lnTo>
                  <a:lnTo>
                    <a:pt x="219" y="2514"/>
                  </a:lnTo>
                  <a:lnTo>
                    <a:pt x="221" y="2510"/>
                  </a:lnTo>
                  <a:lnTo>
                    <a:pt x="223" y="2508"/>
                  </a:lnTo>
                  <a:lnTo>
                    <a:pt x="224" y="2507"/>
                  </a:lnTo>
                  <a:lnTo>
                    <a:pt x="224" y="2507"/>
                  </a:lnTo>
                  <a:close/>
                  <a:moveTo>
                    <a:pt x="252" y="2498"/>
                  </a:moveTo>
                  <a:lnTo>
                    <a:pt x="252" y="2498"/>
                  </a:lnTo>
                  <a:lnTo>
                    <a:pt x="254" y="2498"/>
                  </a:lnTo>
                  <a:lnTo>
                    <a:pt x="258" y="2498"/>
                  </a:lnTo>
                  <a:lnTo>
                    <a:pt x="259" y="2500"/>
                  </a:lnTo>
                  <a:lnTo>
                    <a:pt x="261" y="2503"/>
                  </a:lnTo>
                  <a:lnTo>
                    <a:pt x="261" y="2505"/>
                  </a:lnTo>
                  <a:lnTo>
                    <a:pt x="261" y="2508"/>
                  </a:lnTo>
                  <a:lnTo>
                    <a:pt x="259" y="2510"/>
                  </a:lnTo>
                  <a:lnTo>
                    <a:pt x="258" y="2512"/>
                  </a:lnTo>
                  <a:lnTo>
                    <a:pt x="258" y="2512"/>
                  </a:lnTo>
                  <a:lnTo>
                    <a:pt x="254" y="2512"/>
                  </a:lnTo>
                  <a:lnTo>
                    <a:pt x="251" y="2512"/>
                  </a:lnTo>
                  <a:lnTo>
                    <a:pt x="249" y="2510"/>
                  </a:lnTo>
                  <a:lnTo>
                    <a:pt x="247" y="2507"/>
                  </a:lnTo>
                  <a:lnTo>
                    <a:pt x="247" y="2505"/>
                  </a:lnTo>
                  <a:lnTo>
                    <a:pt x="247" y="2501"/>
                  </a:lnTo>
                  <a:lnTo>
                    <a:pt x="249" y="2500"/>
                  </a:lnTo>
                  <a:lnTo>
                    <a:pt x="252" y="2498"/>
                  </a:lnTo>
                  <a:lnTo>
                    <a:pt x="252" y="2498"/>
                  </a:lnTo>
                  <a:close/>
                  <a:moveTo>
                    <a:pt x="280" y="2489"/>
                  </a:moveTo>
                  <a:lnTo>
                    <a:pt x="280" y="2489"/>
                  </a:lnTo>
                  <a:lnTo>
                    <a:pt x="282" y="2489"/>
                  </a:lnTo>
                  <a:lnTo>
                    <a:pt x="286" y="2489"/>
                  </a:lnTo>
                  <a:lnTo>
                    <a:pt x="287" y="2491"/>
                  </a:lnTo>
                  <a:lnTo>
                    <a:pt x="289" y="2494"/>
                  </a:lnTo>
                  <a:lnTo>
                    <a:pt x="289" y="2496"/>
                  </a:lnTo>
                  <a:lnTo>
                    <a:pt x="289" y="2500"/>
                  </a:lnTo>
                  <a:lnTo>
                    <a:pt x="287" y="2501"/>
                  </a:lnTo>
                  <a:lnTo>
                    <a:pt x="284" y="2503"/>
                  </a:lnTo>
                  <a:lnTo>
                    <a:pt x="284" y="2503"/>
                  </a:lnTo>
                  <a:lnTo>
                    <a:pt x="282" y="2503"/>
                  </a:lnTo>
                  <a:lnTo>
                    <a:pt x="279" y="2503"/>
                  </a:lnTo>
                  <a:lnTo>
                    <a:pt x="277" y="2501"/>
                  </a:lnTo>
                  <a:lnTo>
                    <a:pt x="275" y="2498"/>
                  </a:lnTo>
                  <a:lnTo>
                    <a:pt x="275" y="2496"/>
                  </a:lnTo>
                  <a:lnTo>
                    <a:pt x="275" y="2493"/>
                  </a:lnTo>
                  <a:lnTo>
                    <a:pt x="277" y="2491"/>
                  </a:lnTo>
                  <a:lnTo>
                    <a:pt x="280" y="2489"/>
                  </a:lnTo>
                  <a:lnTo>
                    <a:pt x="280" y="2489"/>
                  </a:lnTo>
                  <a:close/>
                  <a:moveTo>
                    <a:pt x="303" y="2475"/>
                  </a:moveTo>
                  <a:lnTo>
                    <a:pt x="303" y="2475"/>
                  </a:lnTo>
                  <a:lnTo>
                    <a:pt x="305" y="2475"/>
                  </a:lnTo>
                  <a:lnTo>
                    <a:pt x="308" y="2475"/>
                  </a:lnTo>
                  <a:lnTo>
                    <a:pt x="310" y="2475"/>
                  </a:lnTo>
                  <a:lnTo>
                    <a:pt x="312" y="2477"/>
                  </a:lnTo>
                  <a:lnTo>
                    <a:pt x="314" y="2480"/>
                  </a:lnTo>
                  <a:lnTo>
                    <a:pt x="314" y="2482"/>
                  </a:lnTo>
                  <a:lnTo>
                    <a:pt x="314" y="2486"/>
                  </a:lnTo>
                  <a:lnTo>
                    <a:pt x="312" y="2487"/>
                  </a:lnTo>
                  <a:lnTo>
                    <a:pt x="312" y="2487"/>
                  </a:lnTo>
                  <a:lnTo>
                    <a:pt x="308" y="2489"/>
                  </a:lnTo>
                  <a:lnTo>
                    <a:pt x="305" y="2489"/>
                  </a:lnTo>
                  <a:lnTo>
                    <a:pt x="303" y="2487"/>
                  </a:lnTo>
                  <a:lnTo>
                    <a:pt x="301" y="2486"/>
                  </a:lnTo>
                  <a:lnTo>
                    <a:pt x="300" y="2484"/>
                  </a:lnTo>
                  <a:lnTo>
                    <a:pt x="300" y="2480"/>
                  </a:lnTo>
                  <a:lnTo>
                    <a:pt x="300" y="2479"/>
                  </a:lnTo>
                  <a:lnTo>
                    <a:pt x="303" y="2475"/>
                  </a:lnTo>
                  <a:lnTo>
                    <a:pt x="303" y="2475"/>
                  </a:lnTo>
                  <a:close/>
                  <a:moveTo>
                    <a:pt x="326" y="2459"/>
                  </a:moveTo>
                  <a:lnTo>
                    <a:pt x="326" y="2459"/>
                  </a:lnTo>
                  <a:lnTo>
                    <a:pt x="329" y="2458"/>
                  </a:lnTo>
                  <a:lnTo>
                    <a:pt x="331" y="2458"/>
                  </a:lnTo>
                  <a:lnTo>
                    <a:pt x="335" y="2459"/>
                  </a:lnTo>
                  <a:lnTo>
                    <a:pt x="336" y="2461"/>
                  </a:lnTo>
                  <a:lnTo>
                    <a:pt x="338" y="2463"/>
                  </a:lnTo>
                  <a:lnTo>
                    <a:pt x="338" y="2466"/>
                  </a:lnTo>
                  <a:lnTo>
                    <a:pt x="336" y="2468"/>
                  </a:lnTo>
                  <a:lnTo>
                    <a:pt x="335" y="2472"/>
                  </a:lnTo>
                  <a:lnTo>
                    <a:pt x="335" y="2472"/>
                  </a:lnTo>
                  <a:lnTo>
                    <a:pt x="333" y="2472"/>
                  </a:lnTo>
                  <a:lnTo>
                    <a:pt x="329" y="2472"/>
                  </a:lnTo>
                  <a:lnTo>
                    <a:pt x="328" y="2472"/>
                  </a:lnTo>
                  <a:lnTo>
                    <a:pt x="324" y="2470"/>
                  </a:lnTo>
                  <a:lnTo>
                    <a:pt x="324" y="2466"/>
                  </a:lnTo>
                  <a:lnTo>
                    <a:pt x="324" y="2465"/>
                  </a:lnTo>
                  <a:lnTo>
                    <a:pt x="324" y="2461"/>
                  </a:lnTo>
                  <a:lnTo>
                    <a:pt x="326" y="2459"/>
                  </a:lnTo>
                  <a:lnTo>
                    <a:pt x="326" y="2459"/>
                  </a:lnTo>
                  <a:close/>
                  <a:moveTo>
                    <a:pt x="350" y="2444"/>
                  </a:moveTo>
                  <a:lnTo>
                    <a:pt x="350" y="2444"/>
                  </a:lnTo>
                  <a:lnTo>
                    <a:pt x="352" y="2442"/>
                  </a:lnTo>
                  <a:lnTo>
                    <a:pt x="356" y="2442"/>
                  </a:lnTo>
                  <a:lnTo>
                    <a:pt x="357" y="2442"/>
                  </a:lnTo>
                  <a:lnTo>
                    <a:pt x="361" y="2445"/>
                  </a:lnTo>
                  <a:lnTo>
                    <a:pt x="361" y="2447"/>
                  </a:lnTo>
                  <a:lnTo>
                    <a:pt x="361" y="2451"/>
                  </a:lnTo>
                  <a:lnTo>
                    <a:pt x="361" y="2452"/>
                  </a:lnTo>
                  <a:lnTo>
                    <a:pt x="359" y="2454"/>
                  </a:lnTo>
                  <a:lnTo>
                    <a:pt x="359" y="2454"/>
                  </a:lnTo>
                  <a:lnTo>
                    <a:pt x="356" y="2456"/>
                  </a:lnTo>
                  <a:lnTo>
                    <a:pt x="354" y="2456"/>
                  </a:lnTo>
                  <a:lnTo>
                    <a:pt x="350" y="2456"/>
                  </a:lnTo>
                  <a:lnTo>
                    <a:pt x="349" y="2454"/>
                  </a:lnTo>
                  <a:lnTo>
                    <a:pt x="347" y="2451"/>
                  </a:lnTo>
                  <a:lnTo>
                    <a:pt x="347" y="2447"/>
                  </a:lnTo>
                  <a:lnTo>
                    <a:pt x="349" y="2445"/>
                  </a:lnTo>
                  <a:lnTo>
                    <a:pt x="350" y="2444"/>
                  </a:lnTo>
                  <a:lnTo>
                    <a:pt x="350" y="2444"/>
                  </a:lnTo>
                  <a:close/>
                  <a:moveTo>
                    <a:pt x="375" y="2426"/>
                  </a:moveTo>
                  <a:lnTo>
                    <a:pt x="375" y="2426"/>
                  </a:lnTo>
                  <a:lnTo>
                    <a:pt x="377" y="2426"/>
                  </a:lnTo>
                  <a:lnTo>
                    <a:pt x="380" y="2426"/>
                  </a:lnTo>
                  <a:lnTo>
                    <a:pt x="382" y="2426"/>
                  </a:lnTo>
                  <a:lnTo>
                    <a:pt x="384" y="2428"/>
                  </a:lnTo>
                  <a:lnTo>
                    <a:pt x="385" y="2431"/>
                  </a:lnTo>
                  <a:lnTo>
                    <a:pt x="385" y="2433"/>
                  </a:lnTo>
                  <a:lnTo>
                    <a:pt x="385" y="2437"/>
                  </a:lnTo>
                  <a:lnTo>
                    <a:pt x="384" y="2438"/>
                  </a:lnTo>
                  <a:lnTo>
                    <a:pt x="384" y="2438"/>
                  </a:lnTo>
                  <a:lnTo>
                    <a:pt x="380" y="2440"/>
                  </a:lnTo>
                  <a:lnTo>
                    <a:pt x="377" y="2440"/>
                  </a:lnTo>
                  <a:lnTo>
                    <a:pt x="375" y="2438"/>
                  </a:lnTo>
                  <a:lnTo>
                    <a:pt x="373" y="2437"/>
                  </a:lnTo>
                  <a:lnTo>
                    <a:pt x="371" y="2435"/>
                  </a:lnTo>
                  <a:lnTo>
                    <a:pt x="371" y="2431"/>
                  </a:lnTo>
                  <a:lnTo>
                    <a:pt x="371" y="2430"/>
                  </a:lnTo>
                  <a:lnTo>
                    <a:pt x="375" y="2426"/>
                  </a:lnTo>
                  <a:lnTo>
                    <a:pt x="375" y="2426"/>
                  </a:lnTo>
                  <a:close/>
                  <a:moveTo>
                    <a:pt x="389" y="2412"/>
                  </a:moveTo>
                  <a:lnTo>
                    <a:pt x="389" y="2412"/>
                  </a:lnTo>
                  <a:lnTo>
                    <a:pt x="391" y="2409"/>
                  </a:lnTo>
                  <a:lnTo>
                    <a:pt x="392" y="2407"/>
                  </a:lnTo>
                  <a:lnTo>
                    <a:pt x="394" y="2405"/>
                  </a:lnTo>
                  <a:lnTo>
                    <a:pt x="398" y="2405"/>
                  </a:lnTo>
                  <a:lnTo>
                    <a:pt x="399" y="2407"/>
                  </a:lnTo>
                  <a:lnTo>
                    <a:pt x="401" y="2409"/>
                  </a:lnTo>
                  <a:lnTo>
                    <a:pt x="403" y="2410"/>
                  </a:lnTo>
                  <a:lnTo>
                    <a:pt x="405" y="2414"/>
                  </a:lnTo>
                  <a:lnTo>
                    <a:pt x="405" y="2414"/>
                  </a:lnTo>
                  <a:lnTo>
                    <a:pt x="403" y="2416"/>
                  </a:lnTo>
                  <a:lnTo>
                    <a:pt x="401" y="2417"/>
                  </a:lnTo>
                  <a:lnTo>
                    <a:pt x="398" y="2419"/>
                  </a:lnTo>
                  <a:lnTo>
                    <a:pt x="396" y="2421"/>
                  </a:lnTo>
                  <a:lnTo>
                    <a:pt x="392" y="2419"/>
                  </a:lnTo>
                  <a:lnTo>
                    <a:pt x="391" y="2417"/>
                  </a:lnTo>
                  <a:lnTo>
                    <a:pt x="389" y="2414"/>
                  </a:lnTo>
                  <a:lnTo>
                    <a:pt x="389" y="2412"/>
                  </a:lnTo>
                  <a:lnTo>
                    <a:pt x="389" y="2412"/>
                  </a:lnTo>
                  <a:close/>
                  <a:moveTo>
                    <a:pt x="392" y="2384"/>
                  </a:moveTo>
                  <a:lnTo>
                    <a:pt x="392" y="2384"/>
                  </a:lnTo>
                  <a:lnTo>
                    <a:pt x="394" y="2381"/>
                  </a:lnTo>
                  <a:lnTo>
                    <a:pt x="396" y="2379"/>
                  </a:lnTo>
                  <a:lnTo>
                    <a:pt x="398" y="2377"/>
                  </a:lnTo>
                  <a:lnTo>
                    <a:pt x="401" y="2377"/>
                  </a:lnTo>
                  <a:lnTo>
                    <a:pt x="403" y="2377"/>
                  </a:lnTo>
                  <a:lnTo>
                    <a:pt x="405" y="2379"/>
                  </a:lnTo>
                  <a:lnTo>
                    <a:pt x="406" y="2382"/>
                  </a:lnTo>
                  <a:lnTo>
                    <a:pt x="406" y="2384"/>
                  </a:lnTo>
                  <a:lnTo>
                    <a:pt x="406" y="2384"/>
                  </a:lnTo>
                  <a:lnTo>
                    <a:pt x="406" y="2388"/>
                  </a:lnTo>
                  <a:lnTo>
                    <a:pt x="405" y="2389"/>
                  </a:lnTo>
                  <a:lnTo>
                    <a:pt x="401" y="2391"/>
                  </a:lnTo>
                  <a:lnTo>
                    <a:pt x="399" y="2391"/>
                  </a:lnTo>
                  <a:lnTo>
                    <a:pt x="396" y="2391"/>
                  </a:lnTo>
                  <a:lnTo>
                    <a:pt x="394" y="2389"/>
                  </a:lnTo>
                  <a:lnTo>
                    <a:pt x="392" y="2386"/>
                  </a:lnTo>
                  <a:lnTo>
                    <a:pt x="392" y="2384"/>
                  </a:lnTo>
                  <a:lnTo>
                    <a:pt x="392" y="2384"/>
                  </a:lnTo>
                  <a:close/>
                  <a:moveTo>
                    <a:pt x="396" y="2354"/>
                  </a:moveTo>
                  <a:lnTo>
                    <a:pt x="396" y="2354"/>
                  </a:lnTo>
                  <a:lnTo>
                    <a:pt x="396" y="2351"/>
                  </a:lnTo>
                  <a:lnTo>
                    <a:pt x="398" y="2349"/>
                  </a:lnTo>
                  <a:lnTo>
                    <a:pt x="401" y="2347"/>
                  </a:lnTo>
                  <a:lnTo>
                    <a:pt x="403" y="2347"/>
                  </a:lnTo>
                  <a:lnTo>
                    <a:pt x="406" y="2349"/>
                  </a:lnTo>
                  <a:lnTo>
                    <a:pt x="408" y="2351"/>
                  </a:lnTo>
                  <a:lnTo>
                    <a:pt x="410" y="2353"/>
                  </a:lnTo>
                  <a:lnTo>
                    <a:pt x="410" y="2356"/>
                  </a:lnTo>
                  <a:lnTo>
                    <a:pt x="410" y="2356"/>
                  </a:lnTo>
                  <a:lnTo>
                    <a:pt x="410" y="2358"/>
                  </a:lnTo>
                  <a:lnTo>
                    <a:pt x="408" y="2361"/>
                  </a:lnTo>
                  <a:lnTo>
                    <a:pt x="405" y="2361"/>
                  </a:lnTo>
                  <a:lnTo>
                    <a:pt x="403" y="2363"/>
                  </a:lnTo>
                  <a:lnTo>
                    <a:pt x="399" y="2361"/>
                  </a:lnTo>
                  <a:lnTo>
                    <a:pt x="398" y="2360"/>
                  </a:lnTo>
                  <a:lnTo>
                    <a:pt x="396" y="2358"/>
                  </a:lnTo>
                  <a:lnTo>
                    <a:pt x="396" y="2354"/>
                  </a:lnTo>
                  <a:lnTo>
                    <a:pt x="396" y="2354"/>
                  </a:lnTo>
                  <a:close/>
                  <a:moveTo>
                    <a:pt x="399" y="2326"/>
                  </a:moveTo>
                  <a:lnTo>
                    <a:pt x="399" y="2326"/>
                  </a:lnTo>
                  <a:lnTo>
                    <a:pt x="399" y="2323"/>
                  </a:lnTo>
                  <a:lnTo>
                    <a:pt x="401" y="2321"/>
                  </a:lnTo>
                  <a:lnTo>
                    <a:pt x="405" y="2319"/>
                  </a:lnTo>
                  <a:lnTo>
                    <a:pt x="406" y="2319"/>
                  </a:lnTo>
                  <a:lnTo>
                    <a:pt x="410" y="2319"/>
                  </a:lnTo>
                  <a:lnTo>
                    <a:pt x="412" y="2321"/>
                  </a:lnTo>
                  <a:lnTo>
                    <a:pt x="413" y="2325"/>
                  </a:lnTo>
                  <a:lnTo>
                    <a:pt x="413" y="2326"/>
                  </a:lnTo>
                  <a:lnTo>
                    <a:pt x="413" y="2326"/>
                  </a:lnTo>
                  <a:lnTo>
                    <a:pt x="412" y="2330"/>
                  </a:lnTo>
                  <a:lnTo>
                    <a:pt x="410" y="2332"/>
                  </a:lnTo>
                  <a:lnTo>
                    <a:pt x="408" y="2333"/>
                  </a:lnTo>
                  <a:lnTo>
                    <a:pt x="405" y="2333"/>
                  </a:lnTo>
                  <a:lnTo>
                    <a:pt x="403" y="2333"/>
                  </a:lnTo>
                  <a:lnTo>
                    <a:pt x="399" y="2332"/>
                  </a:lnTo>
                  <a:lnTo>
                    <a:pt x="399" y="2328"/>
                  </a:lnTo>
                  <a:lnTo>
                    <a:pt x="399" y="2326"/>
                  </a:lnTo>
                  <a:lnTo>
                    <a:pt x="399" y="2326"/>
                  </a:lnTo>
                  <a:close/>
                  <a:moveTo>
                    <a:pt x="403" y="2297"/>
                  </a:moveTo>
                  <a:lnTo>
                    <a:pt x="403" y="2297"/>
                  </a:lnTo>
                  <a:lnTo>
                    <a:pt x="403" y="2293"/>
                  </a:lnTo>
                  <a:lnTo>
                    <a:pt x="405" y="2291"/>
                  </a:lnTo>
                  <a:lnTo>
                    <a:pt x="406" y="2291"/>
                  </a:lnTo>
                  <a:lnTo>
                    <a:pt x="410" y="2290"/>
                  </a:lnTo>
                  <a:lnTo>
                    <a:pt x="413" y="2291"/>
                  </a:lnTo>
                  <a:lnTo>
                    <a:pt x="415" y="2293"/>
                  </a:lnTo>
                  <a:lnTo>
                    <a:pt x="417" y="2295"/>
                  </a:lnTo>
                  <a:lnTo>
                    <a:pt x="417" y="2298"/>
                  </a:lnTo>
                  <a:lnTo>
                    <a:pt x="417" y="2298"/>
                  </a:lnTo>
                  <a:lnTo>
                    <a:pt x="415" y="2302"/>
                  </a:lnTo>
                  <a:lnTo>
                    <a:pt x="413" y="2304"/>
                  </a:lnTo>
                  <a:lnTo>
                    <a:pt x="412" y="2304"/>
                  </a:lnTo>
                  <a:lnTo>
                    <a:pt x="408" y="2305"/>
                  </a:lnTo>
                  <a:lnTo>
                    <a:pt x="405" y="2304"/>
                  </a:lnTo>
                  <a:lnTo>
                    <a:pt x="403" y="2302"/>
                  </a:lnTo>
                  <a:lnTo>
                    <a:pt x="403" y="2300"/>
                  </a:lnTo>
                  <a:lnTo>
                    <a:pt x="403" y="2297"/>
                  </a:lnTo>
                  <a:lnTo>
                    <a:pt x="403" y="2297"/>
                  </a:lnTo>
                  <a:close/>
                  <a:moveTo>
                    <a:pt x="408" y="2267"/>
                  </a:moveTo>
                  <a:lnTo>
                    <a:pt x="408" y="2267"/>
                  </a:lnTo>
                  <a:lnTo>
                    <a:pt x="408" y="2265"/>
                  </a:lnTo>
                  <a:lnTo>
                    <a:pt x="410" y="2263"/>
                  </a:lnTo>
                  <a:lnTo>
                    <a:pt x="413" y="2262"/>
                  </a:lnTo>
                  <a:lnTo>
                    <a:pt x="417" y="2262"/>
                  </a:lnTo>
                  <a:lnTo>
                    <a:pt x="419" y="2263"/>
                  </a:lnTo>
                  <a:lnTo>
                    <a:pt x="420" y="2265"/>
                  </a:lnTo>
                  <a:lnTo>
                    <a:pt x="422" y="2269"/>
                  </a:lnTo>
                  <a:lnTo>
                    <a:pt x="422" y="2270"/>
                  </a:lnTo>
                  <a:lnTo>
                    <a:pt x="422" y="2270"/>
                  </a:lnTo>
                  <a:lnTo>
                    <a:pt x="420" y="2274"/>
                  </a:lnTo>
                  <a:lnTo>
                    <a:pt x="419" y="2276"/>
                  </a:lnTo>
                  <a:lnTo>
                    <a:pt x="415" y="2276"/>
                  </a:lnTo>
                  <a:lnTo>
                    <a:pt x="413" y="2276"/>
                  </a:lnTo>
                  <a:lnTo>
                    <a:pt x="410" y="2276"/>
                  </a:lnTo>
                  <a:lnTo>
                    <a:pt x="408" y="2272"/>
                  </a:lnTo>
                  <a:lnTo>
                    <a:pt x="406" y="2270"/>
                  </a:lnTo>
                  <a:lnTo>
                    <a:pt x="408" y="2267"/>
                  </a:lnTo>
                  <a:lnTo>
                    <a:pt x="408" y="2267"/>
                  </a:lnTo>
                  <a:close/>
                  <a:moveTo>
                    <a:pt x="415" y="2239"/>
                  </a:moveTo>
                  <a:lnTo>
                    <a:pt x="415" y="2239"/>
                  </a:lnTo>
                  <a:lnTo>
                    <a:pt x="417" y="2237"/>
                  </a:lnTo>
                  <a:lnTo>
                    <a:pt x="419" y="2235"/>
                  </a:lnTo>
                  <a:lnTo>
                    <a:pt x="420" y="2234"/>
                  </a:lnTo>
                  <a:lnTo>
                    <a:pt x="424" y="2234"/>
                  </a:lnTo>
                  <a:lnTo>
                    <a:pt x="427" y="2235"/>
                  </a:lnTo>
                  <a:lnTo>
                    <a:pt x="429" y="2237"/>
                  </a:lnTo>
                  <a:lnTo>
                    <a:pt x="429" y="2241"/>
                  </a:lnTo>
                  <a:lnTo>
                    <a:pt x="429" y="2244"/>
                  </a:lnTo>
                  <a:lnTo>
                    <a:pt x="429" y="2244"/>
                  </a:lnTo>
                  <a:lnTo>
                    <a:pt x="427" y="2246"/>
                  </a:lnTo>
                  <a:lnTo>
                    <a:pt x="426" y="2248"/>
                  </a:lnTo>
                  <a:lnTo>
                    <a:pt x="422" y="2248"/>
                  </a:lnTo>
                  <a:lnTo>
                    <a:pt x="420" y="2248"/>
                  </a:lnTo>
                  <a:lnTo>
                    <a:pt x="417" y="2248"/>
                  </a:lnTo>
                  <a:lnTo>
                    <a:pt x="415" y="2244"/>
                  </a:lnTo>
                  <a:lnTo>
                    <a:pt x="415" y="2242"/>
                  </a:lnTo>
                  <a:lnTo>
                    <a:pt x="415" y="2239"/>
                  </a:lnTo>
                  <a:lnTo>
                    <a:pt x="415" y="2239"/>
                  </a:lnTo>
                  <a:close/>
                  <a:moveTo>
                    <a:pt x="424" y="2211"/>
                  </a:moveTo>
                  <a:lnTo>
                    <a:pt x="424" y="2211"/>
                  </a:lnTo>
                  <a:lnTo>
                    <a:pt x="424" y="2209"/>
                  </a:lnTo>
                  <a:lnTo>
                    <a:pt x="426" y="2207"/>
                  </a:lnTo>
                  <a:lnTo>
                    <a:pt x="429" y="2206"/>
                  </a:lnTo>
                  <a:lnTo>
                    <a:pt x="433" y="2207"/>
                  </a:lnTo>
                  <a:lnTo>
                    <a:pt x="434" y="2207"/>
                  </a:lnTo>
                  <a:lnTo>
                    <a:pt x="436" y="2209"/>
                  </a:lnTo>
                  <a:lnTo>
                    <a:pt x="438" y="2213"/>
                  </a:lnTo>
                  <a:lnTo>
                    <a:pt x="438" y="2216"/>
                  </a:lnTo>
                  <a:lnTo>
                    <a:pt x="438" y="2216"/>
                  </a:lnTo>
                  <a:lnTo>
                    <a:pt x="436" y="2218"/>
                  </a:lnTo>
                  <a:lnTo>
                    <a:pt x="433" y="2220"/>
                  </a:lnTo>
                  <a:lnTo>
                    <a:pt x="431" y="2221"/>
                  </a:lnTo>
                  <a:lnTo>
                    <a:pt x="427" y="2221"/>
                  </a:lnTo>
                  <a:lnTo>
                    <a:pt x="426" y="2220"/>
                  </a:lnTo>
                  <a:lnTo>
                    <a:pt x="424" y="2216"/>
                  </a:lnTo>
                  <a:lnTo>
                    <a:pt x="422" y="2214"/>
                  </a:lnTo>
                  <a:lnTo>
                    <a:pt x="424" y="2211"/>
                  </a:lnTo>
                  <a:lnTo>
                    <a:pt x="424" y="2211"/>
                  </a:lnTo>
                  <a:close/>
                  <a:moveTo>
                    <a:pt x="431" y="2185"/>
                  </a:moveTo>
                  <a:lnTo>
                    <a:pt x="431" y="2183"/>
                  </a:lnTo>
                  <a:lnTo>
                    <a:pt x="433" y="2181"/>
                  </a:lnTo>
                  <a:lnTo>
                    <a:pt x="434" y="2179"/>
                  </a:lnTo>
                  <a:lnTo>
                    <a:pt x="436" y="2178"/>
                  </a:lnTo>
                  <a:lnTo>
                    <a:pt x="440" y="2179"/>
                  </a:lnTo>
                  <a:lnTo>
                    <a:pt x="443" y="2179"/>
                  </a:lnTo>
                  <a:lnTo>
                    <a:pt x="445" y="2181"/>
                  </a:lnTo>
                  <a:lnTo>
                    <a:pt x="445" y="2185"/>
                  </a:lnTo>
                  <a:lnTo>
                    <a:pt x="445" y="2188"/>
                  </a:lnTo>
                  <a:lnTo>
                    <a:pt x="445" y="2188"/>
                  </a:lnTo>
                  <a:lnTo>
                    <a:pt x="443" y="2190"/>
                  </a:lnTo>
                  <a:lnTo>
                    <a:pt x="441" y="2192"/>
                  </a:lnTo>
                  <a:lnTo>
                    <a:pt x="438" y="2193"/>
                  </a:lnTo>
                  <a:lnTo>
                    <a:pt x="436" y="2193"/>
                  </a:lnTo>
                  <a:lnTo>
                    <a:pt x="433" y="2192"/>
                  </a:lnTo>
                  <a:lnTo>
                    <a:pt x="431" y="2188"/>
                  </a:lnTo>
                  <a:lnTo>
                    <a:pt x="431" y="2186"/>
                  </a:lnTo>
                  <a:lnTo>
                    <a:pt x="431" y="2185"/>
                  </a:lnTo>
                  <a:lnTo>
                    <a:pt x="431" y="2185"/>
                  </a:lnTo>
                  <a:close/>
                  <a:moveTo>
                    <a:pt x="438" y="2157"/>
                  </a:moveTo>
                  <a:lnTo>
                    <a:pt x="438" y="2157"/>
                  </a:lnTo>
                  <a:lnTo>
                    <a:pt x="440" y="2153"/>
                  </a:lnTo>
                  <a:lnTo>
                    <a:pt x="441" y="2151"/>
                  </a:lnTo>
                  <a:lnTo>
                    <a:pt x="445" y="2150"/>
                  </a:lnTo>
                  <a:lnTo>
                    <a:pt x="447" y="2151"/>
                  </a:lnTo>
                  <a:lnTo>
                    <a:pt x="450" y="2151"/>
                  </a:lnTo>
                  <a:lnTo>
                    <a:pt x="452" y="2155"/>
                  </a:lnTo>
                  <a:lnTo>
                    <a:pt x="452" y="2157"/>
                  </a:lnTo>
                  <a:lnTo>
                    <a:pt x="452" y="2160"/>
                  </a:lnTo>
                  <a:lnTo>
                    <a:pt x="452" y="2160"/>
                  </a:lnTo>
                  <a:lnTo>
                    <a:pt x="452" y="2162"/>
                  </a:lnTo>
                  <a:lnTo>
                    <a:pt x="448" y="2164"/>
                  </a:lnTo>
                  <a:lnTo>
                    <a:pt x="447" y="2165"/>
                  </a:lnTo>
                  <a:lnTo>
                    <a:pt x="443" y="2165"/>
                  </a:lnTo>
                  <a:lnTo>
                    <a:pt x="441" y="2164"/>
                  </a:lnTo>
                  <a:lnTo>
                    <a:pt x="440" y="2162"/>
                  </a:lnTo>
                  <a:lnTo>
                    <a:pt x="438" y="2158"/>
                  </a:lnTo>
                  <a:lnTo>
                    <a:pt x="438" y="2157"/>
                  </a:lnTo>
                  <a:lnTo>
                    <a:pt x="438" y="2157"/>
                  </a:lnTo>
                  <a:close/>
                  <a:moveTo>
                    <a:pt x="447" y="2129"/>
                  </a:moveTo>
                  <a:lnTo>
                    <a:pt x="447" y="2129"/>
                  </a:lnTo>
                  <a:lnTo>
                    <a:pt x="447" y="2125"/>
                  </a:lnTo>
                  <a:lnTo>
                    <a:pt x="450" y="2123"/>
                  </a:lnTo>
                  <a:lnTo>
                    <a:pt x="452" y="2122"/>
                  </a:lnTo>
                  <a:lnTo>
                    <a:pt x="455" y="2123"/>
                  </a:lnTo>
                  <a:lnTo>
                    <a:pt x="457" y="2123"/>
                  </a:lnTo>
                  <a:lnTo>
                    <a:pt x="459" y="2127"/>
                  </a:lnTo>
                  <a:lnTo>
                    <a:pt x="461" y="2129"/>
                  </a:lnTo>
                  <a:lnTo>
                    <a:pt x="461" y="2132"/>
                  </a:lnTo>
                  <a:lnTo>
                    <a:pt x="461" y="2132"/>
                  </a:lnTo>
                  <a:lnTo>
                    <a:pt x="459" y="2134"/>
                  </a:lnTo>
                  <a:lnTo>
                    <a:pt x="457" y="2136"/>
                  </a:lnTo>
                  <a:lnTo>
                    <a:pt x="454" y="2137"/>
                  </a:lnTo>
                  <a:lnTo>
                    <a:pt x="452" y="2137"/>
                  </a:lnTo>
                  <a:lnTo>
                    <a:pt x="448" y="2136"/>
                  </a:lnTo>
                  <a:lnTo>
                    <a:pt x="447" y="2134"/>
                  </a:lnTo>
                  <a:lnTo>
                    <a:pt x="447" y="2130"/>
                  </a:lnTo>
                  <a:lnTo>
                    <a:pt x="447" y="2129"/>
                  </a:lnTo>
                  <a:lnTo>
                    <a:pt x="447" y="2129"/>
                  </a:lnTo>
                  <a:close/>
                  <a:moveTo>
                    <a:pt x="475" y="2111"/>
                  </a:moveTo>
                  <a:lnTo>
                    <a:pt x="475" y="2111"/>
                  </a:lnTo>
                  <a:lnTo>
                    <a:pt x="476" y="2109"/>
                  </a:lnTo>
                  <a:lnTo>
                    <a:pt x="480" y="2111"/>
                  </a:lnTo>
                  <a:lnTo>
                    <a:pt x="482" y="2113"/>
                  </a:lnTo>
                  <a:lnTo>
                    <a:pt x="483" y="2115"/>
                  </a:lnTo>
                  <a:lnTo>
                    <a:pt x="483" y="2118"/>
                  </a:lnTo>
                  <a:lnTo>
                    <a:pt x="483" y="2120"/>
                  </a:lnTo>
                  <a:lnTo>
                    <a:pt x="482" y="2123"/>
                  </a:lnTo>
                  <a:lnTo>
                    <a:pt x="478" y="2123"/>
                  </a:lnTo>
                  <a:lnTo>
                    <a:pt x="478" y="2123"/>
                  </a:lnTo>
                  <a:lnTo>
                    <a:pt x="476" y="2123"/>
                  </a:lnTo>
                  <a:lnTo>
                    <a:pt x="473" y="2123"/>
                  </a:lnTo>
                  <a:lnTo>
                    <a:pt x="471" y="2122"/>
                  </a:lnTo>
                  <a:lnTo>
                    <a:pt x="469" y="2120"/>
                  </a:lnTo>
                  <a:lnTo>
                    <a:pt x="469" y="2116"/>
                  </a:lnTo>
                  <a:lnTo>
                    <a:pt x="469" y="2113"/>
                  </a:lnTo>
                  <a:lnTo>
                    <a:pt x="471" y="2111"/>
                  </a:lnTo>
                  <a:lnTo>
                    <a:pt x="475" y="2111"/>
                  </a:lnTo>
                  <a:lnTo>
                    <a:pt x="475" y="2111"/>
                  </a:lnTo>
                  <a:close/>
                  <a:moveTo>
                    <a:pt x="503" y="2102"/>
                  </a:moveTo>
                  <a:lnTo>
                    <a:pt x="503" y="2102"/>
                  </a:lnTo>
                  <a:lnTo>
                    <a:pt x="504" y="2102"/>
                  </a:lnTo>
                  <a:lnTo>
                    <a:pt x="508" y="2102"/>
                  </a:lnTo>
                  <a:lnTo>
                    <a:pt x="510" y="2104"/>
                  </a:lnTo>
                  <a:lnTo>
                    <a:pt x="511" y="2108"/>
                  </a:lnTo>
                  <a:lnTo>
                    <a:pt x="511" y="2109"/>
                  </a:lnTo>
                  <a:lnTo>
                    <a:pt x="511" y="2113"/>
                  </a:lnTo>
                  <a:lnTo>
                    <a:pt x="510" y="2115"/>
                  </a:lnTo>
                  <a:lnTo>
                    <a:pt x="506" y="2116"/>
                  </a:lnTo>
                  <a:lnTo>
                    <a:pt x="506" y="2116"/>
                  </a:lnTo>
                  <a:lnTo>
                    <a:pt x="504" y="2116"/>
                  </a:lnTo>
                  <a:lnTo>
                    <a:pt x="501" y="2115"/>
                  </a:lnTo>
                  <a:lnTo>
                    <a:pt x="499" y="2113"/>
                  </a:lnTo>
                  <a:lnTo>
                    <a:pt x="497" y="2111"/>
                  </a:lnTo>
                  <a:lnTo>
                    <a:pt x="497" y="2108"/>
                  </a:lnTo>
                  <a:lnTo>
                    <a:pt x="497" y="2106"/>
                  </a:lnTo>
                  <a:lnTo>
                    <a:pt x="499" y="2104"/>
                  </a:lnTo>
                  <a:lnTo>
                    <a:pt x="503" y="2102"/>
                  </a:lnTo>
                  <a:lnTo>
                    <a:pt x="503" y="2102"/>
                  </a:lnTo>
                  <a:close/>
                  <a:moveTo>
                    <a:pt x="531" y="2094"/>
                  </a:moveTo>
                  <a:lnTo>
                    <a:pt x="531" y="2094"/>
                  </a:lnTo>
                  <a:lnTo>
                    <a:pt x="532" y="2094"/>
                  </a:lnTo>
                  <a:lnTo>
                    <a:pt x="536" y="2094"/>
                  </a:lnTo>
                  <a:lnTo>
                    <a:pt x="538" y="2095"/>
                  </a:lnTo>
                  <a:lnTo>
                    <a:pt x="539" y="2099"/>
                  </a:lnTo>
                  <a:lnTo>
                    <a:pt x="539" y="2101"/>
                  </a:lnTo>
                  <a:lnTo>
                    <a:pt x="539" y="2104"/>
                  </a:lnTo>
                  <a:lnTo>
                    <a:pt x="538" y="2106"/>
                  </a:lnTo>
                  <a:lnTo>
                    <a:pt x="534" y="2108"/>
                  </a:lnTo>
                  <a:lnTo>
                    <a:pt x="534" y="2108"/>
                  </a:lnTo>
                  <a:lnTo>
                    <a:pt x="531" y="2108"/>
                  </a:lnTo>
                  <a:lnTo>
                    <a:pt x="529" y="2108"/>
                  </a:lnTo>
                  <a:lnTo>
                    <a:pt x="527" y="2106"/>
                  </a:lnTo>
                  <a:lnTo>
                    <a:pt x="525" y="2102"/>
                  </a:lnTo>
                  <a:lnTo>
                    <a:pt x="525" y="2101"/>
                  </a:lnTo>
                  <a:lnTo>
                    <a:pt x="525" y="2097"/>
                  </a:lnTo>
                  <a:lnTo>
                    <a:pt x="527" y="2095"/>
                  </a:lnTo>
                  <a:lnTo>
                    <a:pt x="531" y="2094"/>
                  </a:lnTo>
                  <a:lnTo>
                    <a:pt x="531" y="2094"/>
                  </a:lnTo>
                  <a:close/>
                  <a:moveTo>
                    <a:pt x="559" y="2085"/>
                  </a:moveTo>
                  <a:lnTo>
                    <a:pt x="559" y="2085"/>
                  </a:lnTo>
                  <a:lnTo>
                    <a:pt x="560" y="2085"/>
                  </a:lnTo>
                  <a:lnTo>
                    <a:pt x="564" y="2087"/>
                  </a:lnTo>
                  <a:lnTo>
                    <a:pt x="566" y="2088"/>
                  </a:lnTo>
                  <a:lnTo>
                    <a:pt x="567" y="2090"/>
                  </a:lnTo>
                  <a:lnTo>
                    <a:pt x="567" y="2094"/>
                  </a:lnTo>
                  <a:lnTo>
                    <a:pt x="566" y="2095"/>
                  </a:lnTo>
                  <a:lnTo>
                    <a:pt x="564" y="2097"/>
                  </a:lnTo>
                  <a:lnTo>
                    <a:pt x="562" y="2099"/>
                  </a:lnTo>
                  <a:lnTo>
                    <a:pt x="562" y="2099"/>
                  </a:lnTo>
                  <a:lnTo>
                    <a:pt x="559" y="2099"/>
                  </a:lnTo>
                  <a:lnTo>
                    <a:pt x="557" y="2099"/>
                  </a:lnTo>
                  <a:lnTo>
                    <a:pt x="553" y="2097"/>
                  </a:lnTo>
                  <a:lnTo>
                    <a:pt x="553" y="2095"/>
                  </a:lnTo>
                  <a:lnTo>
                    <a:pt x="553" y="2092"/>
                  </a:lnTo>
                  <a:lnTo>
                    <a:pt x="553" y="2088"/>
                  </a:lnTo>
                  <a:lnTo>
                    <a:pt x="555" y="2087"/>
                  </a:lnTo>
                  <a:lnTo>
                    <a:pt x="559" y="2085"/>
                  </a:lnTo>
                  <a:lnTo>
                    <a:pt x="559" y="2085"/>
                  </a:lnTo>
                  <a:close/>
                  <a:moveTo>
                    <a:pt x="585" y="2078"/>
                  </a:moveTo>
                  <a:lnTo>
                    <a:pt x="585" y="2078"/>
                  </a:lnTo>
                  <a:lnTo>
                    <a:pt x="588" y="2076"/>
                  </a:lnTo>
                  <a:lnTo>
                    <a:pt x="590" y="2078"/>
                  </a:lnTo>
                  <a:lnTo>
                    <a:pt x="594" y="2080"/>
                  </a:lnTo>
                  <a:lnTo>
                    <a:pt x="595" y="2081"/>
                  </a:lnTo>
                  <a:lnTo>
                    <a:pt x="595" y="2085"/>
                  </a:lnTo>
                  <a:lnTo>
                    <a:pt x="594" y="2087"/>
                  </a:lnTo>
                  <a:lnTo>
                    <a:pt x="592" y="2090"/>
                  </a:lnTo>
                  <a:lnTo>
                    <a:pt x="590" y="2092"/>
                  </a:lnTo>
                  <a:lnTo>
                    <a:pt x="590" y="2092"/>
                  </a:lnTo>
                  <a:lnTo>
                    <a:pt x="587" y="2092"/>
                  </a:lnTo>
                  <a:lnTo>
                    <a:pt x="585" y="2090"/>
                  </a:lnTo>
                  <a:lnTo>
                    <a:pt x="581" y="2088"/>
                  </a:lnTo>
                  <a:lnTo>
                    <a:pt x="581" y="2087"/>
                  </a:lnTo>
                  <a:lnTo>
                    <a:pt x="580" y="2083"/>
                  </a:lnTo>
                  <a:lnTo>
                    <a:pt x="581" y="2081"/>
                  </a:lnTo>
                  <a:lnTo>
                    <a:pt x="583" y="2078"/>
                  </a:lnTo>
                  <a:lnTo>
                    <a:pt x="585" y="2078"/>
                  </a:lnTo>
                  <a:lnTo>
                    <a:pt x="585" y="2078"/>
                  </a:lnTo>
                  <a:close/>
                  <a:moveTo>
                    <a:pt x="613" y="2069"/>
                  </a:moveTo>
                  <a:lnTo>
                    <a:pt x="613" y="2069"/>
                  </a:lnTo>
                  <a:lnTo>
                    <a:pt x="616" y="2069"/>
                  </a:lnTo>
                  <a:lnTo>
                    <a:pt x="618" y="2069"/>
                  </a:lnTo>
                  <a:lnTo>
                    <a:pt x="620" y="2071"/>
                  </a:lnTo>
                  <a:lnTo>
                    <a:pt x="622" y="2074"/>
                  </a:lnTo>
                  <a:lnTo>
                    <a:pt x="622" y="2076"/>
                  </a:lnTo>
                  <a:lnTo>
                    <a:pt x="622" y="2080"/>
                  </a:lnTo>
                  <a:lnTo>
                    <a:pt x="620" y="2081"/>
                  </a:lnTo>
                  <a:lnTo>
                    <a:pt x="618" y="2083"/>
                  </a:lnTo>
                  <a:lnTo>
                    <a:pt x="618" y="2083"/>
                  </a:lnTo>
                  <a:lnTo>
                    <a:pt x="615" y="2083"/>
                  </a:lnTo>
                  <a:lnTo>
                    <a:pt x="611" y="2083"/>
                  </a:lnTo>
                  <a:lnTo>
                    <a:pt x="609" y="2081"/>
                  </a:lnTo>
                  <a:lnTo>
                    <a:pt x="609" y="2078"/>
                  </a:lnTo>
                  <a:lnTo>
                    <a:pt x="608" y="2074"/>
                  </a:lnTo>
                  <a:lnTo>
                    <a:pt x="609" y="2073"/>
                  </a:lnTo>
                  <a:lnTo>
                    <a:pt x="611" y="2071"/>
                  </a:lnTo>
                  <a:lnTo>
                    <a:pt x="613" y="2069"/>
                  </a:lnTo>
                  <a:lnTo>
                    <a:pt x="613" y="2069"/>
                  </a:lnTo>
                  <a:close/>
                  <a:moveTo>
                    <a:pt x="644" y="2064"/>
                  </a:moveTo>
                  <a:lnTo>
                    <a:pt x="644" y="2064"/>
                  </a:lnTo>
                  <a:lnTo>
                    <a:pt x="646" y="2064"/>
                  </a:lnTo>
                  <a:lnTo>
                    <a:pt x="650" y="2066"/>
                  </a:lnTo>
                  <a:lnTo>
                    <a:pt x="650" y="2069"/>
                  </a:lnTo>
                  <a:lnTo>
                    <a:pt x="651" y="2071"/>
                  </a:lnTo>
                  <a:lnTo>
                    <a:pt x="650" y="2074"/>
                  </a:lnTo>
                  <a:lnTo>
                    <a:pt x="648" y="2076"/>
                  </a:lnTo>
                  <a:lnTo>
                    <a:pt x="646" y="2078"/>
                  </a:lnTo>
                  <a:lnTo>
                    <a:pt x="643" y="2078"/>
                  </a:lnTo>
                  <a:lnTo>
                    <a:pt x="643" y="2078"/>
                  </a:lnTo>
                  <a:lnTo>
                    <a:pt x="639" y="2078"/>
                  </a:lnTo>
                  <a:lnTo>
                    <a:pt x="637" y="2076"/>
                  </a:lnTo>
                  <a:lnTo>
                    <a:pt x="636" y="2073"/>
                  </a:lnTo>
                  <a:lnTo>
                    <a:pt x="636" y="2071"/>
                  </a:lnTo>
                  <a:lnTo>
                    <a:pt x="637" y="2067"/>
                  </a:lnTo>
                  <a:lnTo>
                    <a:pt x="639" y="2066"/>
                  </a:lnTo>
                  <a:lnTo>
                    <a:pt x="641" y="2064"/>
                  </a:lnTo>
                  <a:lnTo>
                    <a:pt x="644" y="2064"/>
                  </a:lnTo>
                  <a:lnTo>
                    <a:pt x="644" y="2064"/>
                  </a:lnTo>
                  <a:close/>
                  <a:moveTo>
                    <a:pt x="672" y="2066"/>
                  </a:moveTo>
                  <a:lnTo>
                    <a:pt x="672" y="2066"/>
                  </a:lnTo>
                  <a:lnTo>
                    <a:pt x="676" y="2067"/>
                  </a:lnTo>
                  <a:lnTo>
                    <a:pt x="678" y="2069"/>
                  </a:lnTo>
                  <a:lnTo>
                    <a:pt x="679" y="2071"/>
                  </a:lnTo>
                  <a:lnTo>
                    <a:pt x="679" y="2074"/>
                  </a:lnTo>
                  <a:lnTo>
                    <a:pt x="679" y="2076"/>
                  </a:lnTo>
                  <a:lnTo>
                    <a:pt x="678" y="2078"/>
                  </a:lnTo>
                  <a:lnTo>
                    <a:pt x="674" y="2080"/>
                  </a:lnTo>
                  <a:lnTo>
                    <a:pt x="672" y="2081"/>
                  </a:lnTo>
                  <a:lnTo>
                    <a:pt x="672" y="2081"/>
                  </a:lnTo>
                  <a:lnTo>
                    <a:pt x="669" y="2080"/>
                  </a:lnTo>
                  <a:lnTo>
                    <a:pt x="667" y="2078"/>
                  </a:lnTo>
                  <a:lnTo>
                    <a:pt x="665" y="2076"/>
                  </a:lnTo>
                  <a:lnTo>
                    <a:pt x="665" y="2073"/>
                  </a:lnTo>
                  <a:lnTo>
                    <a:pt x="665" y="2069"/>
                  </a:lnTo>
                  <a:lnTo>
                    <a:pt x="667" y="2067"/>
                  </a:lnTo>
                  <a:lnTo>
                    <a:pt x="671" y="2066"/>
                  </a:lnTo>
                  <a:lnTo>
                    <a:pt x="672" y="2066"/>
                  </a:lnTo>
                  <a:lnTo>
                    <a:pt x="672" y="2066"/>
                  </a:lnTo>
                  <a:close/>
                  <a:moveTo>
                    <a:pt x="702" y="2069"/>
                  </a:moveTo>
                  <a:lnTo>
                    <a:pt x="702" y="2069"/>
                  </a:lnTo>
                  <a:lnTo>
                    <a:pt x="704" y="2069"/>
                  </a:lnTo>
                  <a:lnTo>
                    <a:pt x="707" y="2071"/>
                  </a:lnTo>
                  <a:lnTo>
                    <a:pt x="707" y="2073"/>
                  </a:lnTo>
                  <a:lnTo>
                    <a:pt x="709" y="2076"/>
                  </a:lnTo>
                  <a:lnTo>
                    <a:pt x="707" y="2080"/>
                  </a:lnTo>
                  <a:lnTo>
                    <a:pt x="706" y="2081"/>
                  </a:lnTo>
                  <a:lnTo>
                    <a:pt x="704" y="2083"/>
                  </a:lnTo>
                  <a:lnTo>
                    <a:pt x="700" y="2083"/>
                  </a:lnTo>
                  <a:lnTo>
                    <a:pt x="700" y="2083"/>
                  </a:lnTo>
                  <a:lnTo>
                    <a:pt x="697" y="2081"/>
                  </a:lnTo>
                  <a:lnTo>
                    <a:pt x="695" y="2080"/>
                  </a:lnTo>
                  <a:lnTo>
                    <a:pt x="693" y="2078"/>
                  </a:lnTo>
                  <a:lnTo>
                    <a:pt x="693" y="2074"/>
                  </a:lnTo>
                  <a:lnTo>
                    <a:pt x="695" y="2073"/>
                  </a:lnTo>
                  <a:lnTo>
                    <a:pt x="697" y="2071"/>
                  </a:lnTo>
                  <a:lnTo>
                    <a:pt x="699" y="2069"/>
                  </a:lnTo>
                  <a:lnTo>
                    <a:pt x="702" y="2069"/>
                  </a:lnTo>
                  <a:lnTo>
                    <a:pt x="702" y="2069"/>
                  </a:lnTo>
                  <a:close/>
                  <a:moveTo>
                    <a:pt x="730" y="2071"/>
                  </a:moveTo>
                  <a:lnTo>
                    <a:pt x="730" y="2071"/>
                  </a:lnTo>
                  <a:lnTo>
                    <a:pt x="734" y="2073"/>
                  </a:lnTo>
                  <a:lnTo>
                    <a:pt x="735" y="2074"/>
                  </a:lnTo>
                  <a:lnTo>
                    <a:pt x="737" y="2076"/>
                  </a:lnTo>
                  <a:lnTo>
                    <a:pt x="737" y="2080"/>
                  </a:lnTo>
                  <a:lnTo>
                    <a:pt x="737" y="2081"/>
                  </a:lnTo>
                  <a:lnTo>
                    <a:pt x="735" y="2083"/>
                  </a:lnTo>
                  <a:lnTo>
                    <a:pt x="732" y="2085"/>
                  </a:lnTo>
                  <a:lnTo>
                    <a:pt x="730" y="2085"/>
                  </a:lnTo>
                  <a:lnTo>
                    <a:pt x="730" y="2085"/>
                  </a:lnTo>
                  <a:lnTo>
                    <a:pt x="727" y="2085"/>
                  </a:lnTo>
                  <a:lnTo>
                    <a:pt x="725" y="2083"/>
                  </a:lnTo>
                  <a:lnTo>
                    <a:pt x="723" y="2081"/>
                  </a:lnTo>
                  <a:lnTo>
                    <a:pt x="723" y="2078"/>
                  </a:lnTo>
                  <a:lnTo>
                    <a:pt x="723" y="2074"/>
                  </a:lnTo>
                  <a:lnTo>
                    <a:pt x="725" y="2073"/>
                  </a:lnTo>
                  <a:lnTo>
                    <a:pt x="728" y="2071"/>
                  </a:lnTo>
                  <a:lnTo>
                    <a:pt x="730" y="2071"/>
                  </a:lnTo>
                  <a:lnTo>
                    <a:pt x="730" y="2071"/>
                  </a:lnTo>
                  <a:close/>
                  <a:moveTo>
                    <a:pt x="760" y="2074"/>
                  </a:moveTo>
                  <a:lnTo>
                    <a:pt x="760" y="2074"/>
                  </a:lnTo>
                  <a:lnTo>
                    <a:pt x="762" y="2074"/>
                  </a:lnTo>
                  <a:lnTo>
                    <a:pt x="763" y="2076"/>
                  </a:lnTo>
                  <a:lnTo>
                    <a:pt x="765" y="2078"/>
                  </a:lnTo>
                  <a:lnTo>
                    <a:pt x="767" y="2081"/>
                  </a:lnTo>
                  <a:lnTo>
                    <a:pt x="765" y="2085"/>
                  </a:lnTo>
                  <a:lnTo>
                    <a:pt x="763" y="2087"/>
                  </a:lnTo>
                  <a:lnTo>
                    <a:pt x="762" y="2088"/>
                  </a:lnTo>
                  <a:lnTo>
                    <a:pt x="758" y="2088"/>
                  </a:lnTo>
                  <a:lnTo>
                    <a:pt x="758" y="2088"/>
                  </a:lnTo>
                  <a:lnTo>
                    <a:pt x="755" y="2087"/>
                  </a:lnTo>
                  <a:lnTo>
                    <a:pt x="753" y="2085"/>
                  </a:lnTo>
                  <a:lnTo>
                    <a:pt x="751" y="2083"/>
                  </a:lnTo>
                  <a:lnTo>
                    <a:pt x="751" y="2080"/>
                  </a:lnTo>
                  <a:lnTo>
                    <a:pt x="753" y="2078"/>
                  </a:lnTo>
                  <a:lnTo>
                    <a:pt x="755" y="2076"/>
                  </a:lnTo>
                  <a:lnTo>
                    <a:pt x="756" y="2074"/>
                  </a:lnTo>
                  <a:lnTo>
                    <a:pt x="760" y="2074"/>
                  </a:lnTo>
                  <a:lnTo>
                    <a:pt x="760" y="2074"/>
                  </a:lnTo>
                  <a:close/>
                  <a:moveTo>
                    <a:pt x="784" y="2071"/>
                  </a:moveTo>
                  <a:lnTo>
                    <a:pt x="784" y="2071"/>
                  </a:lnTo>
                  <a:lnTo>
                    <a:pt x="786" y="2069"/>
                  </a:lnTo>
                  <a:lnTo>
                    <a:pt x="790" y="2071"/>
                  </a:lnTo>
                  <a:lnTo>
                    <a:pt x="791" y="2071"/>
                  </a:lnTo>
                  <a:lnTo>
                    <a:pt x="793" y="2074"/>
                  </a:lnTo>
                  <a:lnTo>
                    <a:pt x="793" y="2076"/>
                  </a:lnTo>
                  <a:lnTo>
                    <a:pt x="793" y="2080"/>
                  </a:lnTo>
                  <a:lnTo>
                    <a:pt x="791" y="2081"/>
                  </a:lnTo>
                  <a:lnTo>
                    <a:pt x="790" y="2083"/>
                  </a:lnTo>
                  <a:lnTo>
                    <a:pt x="790" y="2083"/>
                  </a:lnTo>
                  <a:lnTo>
                    <a:pt x="786" y="2083"/>
                  </a:lnTo>
                  <a:lnTo>
                    <a:pt x="784" y="2083"/>
                  </a:lnTo>
                  <a:lnTo>
                    <a:pt x="781" y="2081"/>
                  </a:lnTo>
                  <a:lnTo>
                    <a:pt x="781" y="2080"/>
                  </a:lnTo>
                  <a:lnTo>
                    <a:pt x="779" y="2076"/>
                  </a:lnTo>
                  <a:lnTo>
                    <a:pt x="781" y="2074"/>
                  </a:lnTo>
                  <a:lnTo>
                    <a:pt x="781" y="2071"/>
                  </a:lnTo>
                  <a:lnTo>
                    <a:pt x="784" y="2071"/>
                  </a:lnTo>
                  <a:lnTo>
                    <a:pt x="784" y="2071"/>
                  </a:lnTo>
                  <a:close/>
                  <a:moveTo>
                    <a:pt x="812" y="2060"/>
                  </a:moveTo>
                  <a:lnTo>
                    <a:pt x="812" y="2060"/>
                  </a:lnTo>
                  <a:lnTo>
                    <a:pt x="814" y="2060"/>
                  </a:lnTo>
                  <a:lnTo>
                    <a:pt x="818" y="2060"/>
                  </a:lnTo>
                  <a:lnTo>
                    <a:pt x="819" y="2062"/>
                  </a:lnTo>
                  <a:lnTo>
                    <a:pt x="821" y="2064"/>
                  </a:lnTo>
                  <a:lnTo>
                    <a:pt x="821" y="2067"/>
                  </a:lnTo>
                  <a:lnTo>
                    <a:pt x="821" y="2069"/>
                  </a:lnTo>
                  <a:lnTo>
                    <a:pt x="819" y="2073"/>
                  </a:lnTo>
                  <a:lnTo>
                    <a:pt x="816" y="2074"/>
                  </a:lnTo>
                  <a:lnTo>
                    <a:pt x="816" y="2074"/>
                  </a:lnTo>
                  <a:lnTo>
                    <a:pt x="814" y="2074"/>
                  </a:lnTo>
                  <a:lnTo>
                    <a:pt x="811" y="2074"/>
                  </a:lnTo>
                  <a:lnTo>
                    <a:pt x="809" y="2073"/>
                  </a:lnTo>
                  <a:lnTo>
                    <a:pt x="807" y="2069"/>
                  </a:lnTo>
                  <a:lnTo>
                    <a:pt x="807" y="2067"/>
                  </a:lnTo>
                  <a:lnTo>
                    <a:pt x="807" y="2064"/>
                  </a:lnTo>
                  <a:lnTo>
                    <a:pt x="809" y="2062"/>
                  </a:lnTo>
                  <a:lnTo>
                    <a:pt x="812" y="2060"/>
                  </a:lnTo>
                  <a:lnTo>
                    <a:pt x="812" y="2060"/>
                  </a:lnTo>
                  <a:close/>
                  <a:moveTo>
                    <a:pt x="839" y="2052"/>
                  </a:moveTo>
                  <a:lnTo>
                    <a:pt x="839" y="2052"/>
                  </a:lnTo>
                  <a:lnTo>
                    <a:pt x="842" y="2050"/>
                  </a:lnTo>
                  <a:lnTo>
                    <a:pt x="844" y="2052"/>
                  </a:lnTo>
                  <a:lnTo>
                    <a:pt x="847" y="2053"/>
                  </a:lnTo>
                  <a:lnTo>
                    <a:pt x="849" y="2055"/>
                  </a:lnTo>
                  <a:lnTo>
                    <a:pt x="849" y="2059"/>
                  </a:lnTo>
                  <a:lnTo>
                    <a:pt x="847" y="2060"/>
                  </a:lnTo>
                  <a:lnTo>
                    <a:pt x="846" y="2062"/>
                  </a:lnTo>
                  <a:lnTo>
                    <a:pt x="844" y="2064"/>
                  </a:lnTo>
                  <a:lnTo>
                    <a:pt x="844" y="2064"/>
                  </a:lnTo>
                  <a:lnTo>
                    <a:pt x="840" y="2066"/>
                  </a:lnTo>
                  <a:lnTo>
                    <a:pt x="839" y="2064"/>
                  </a:lnTo>
                  <a:lnTo>
                    <a:pt x="837" y="2062"/>
                  </a:lnTo>
                  <a:lnTo>
                    <a:pt x="835" y="2060"/>
                  </a:lnTo>
                  <a:lnTo>
                    <a:pt x="833" y="2057"/>
                  </a:lnTo>
                  <a:lnTo>
                    <a:pt x="835" y="2055"/>
                  </a:lnTo>
                  <a:lnTo>
                    <a:pt x="837" y="2052"/>
                  </a:lnTo>
                  <a:lnTo>
                    <a:pt x="839" y="2052"/>
                  </a:lnTo>
                  <a:lnTo>
                    <a:pt x="839" y="2052"/>
                  </a:lnTo>
                  <a:close/>
                  <a:moveTo>
                    <a:pt x="867" y="2041"/>
                  </a:moveTo>
                  <a:lnTo>
                    <a:pt x="867" y="2041"/>
                  </a:lnTo>
                  <a:lnTo>
                    <a:pt x="868" y="2041"/>
                  </a:lnTo>
                  <a:lnTo>
                    <a:pt x="872" y="2041"/>
                  </a:lnTo>
                  <a:lnTo>
                    <a:pt x="874" y="2043"/>
                  </a:lnTo>
                  <a:lnTo>
                    <a:pt x="875" y="2046"/>
                  </a:lnTo>
                  <a:lnTo>
                    <a:pt x="875" y="2048"/>
                  </a:lnTo>
                  <a:lnTo>
                    <a:pt x="875" y="2052"/>
                  </a:lnTo>
                  <a:lnTo>
                    <a:pt x="874" y="2053"/>
                  </a:lnTo>
                  <a:lnTo>
                    <a:pt x="872" y="2055"/>
                  </a:lnTo>
                  <a:lnTo>
                    <a:pt x="872" y="2055"/>
                  </a:lnTo>
                  <a:lnTo>
                    <a:pt x="868" y="2055"/>
                  </a:lnTo>
                  <a:lnTo>
                    <a:pt x="865" y="2055"/>
                  </a:lnTo>
                  <a:lnTo>
                    <a:pt x="863" y="2053"/>
                  </a:lnTo>
                  <a:lnTo>
                    <a:pt x="861" y="2052"/>
                  </a:lnTo>
                  <a:lnTo>
                    <a:pt x="861" y="2048"/>
                  </a:lnTo>
                  <a:lnTo>
                    <a:pt x="861" y="2045"/>
                  </a:lnTo>
                  <a:lnTo>
                    <a:pt x="863" y="2043"/>
                  </a:lnTo>
                  <a:lnTo>
                    <a:pt x="867" y="2041"/>
                  </a:lnTo>
                  <a:lnTo>
                    <a:pt x="867" y="2041"/>
                  </a:lnTo>
                  <a:close/>
                  <a:moveTo>
                    <a:pt x="893" y="2032"/>
                  </a:moveTo>
                  <a:lnTo>
                    <a:pt x="893" y="2032"/>
                  </a:lnTo>
                  <a:lnTo>
                    <a:pt x="896" y="2032"/>
                  </a:lnTo>
                  <a:lnTo>
                    <a:pt x="898" y="2032"/>
                  </a:lnTo>
                  <a:lnTo>
                    <a:pt x="902" y="2034"/>
                  </a:lnTo>
                  <a:lnTo>
                    <a:pt x="903" y="2036"/>
                  </a:lnTo>
                  <a:lnTo>
                    <a:pt x="903" y="2039"/>
                  </a:lnTo>
                  <a:lnTo>
                    <a:pt x="903" y="2041"/>
                  </a:lnTo>
                  <a:lnTo>
                    <a:pt x="902" y="2045"/>
                  </a:lnTo>
                  <a:lnTo>
                    <a:pt x="898" y="2046"/>
                  </a:lnTo>
                  <a:lnTo>
                    <a:pt x="898" y="2046"/>
                  </a:lnTo>
                  <a:lnTo>
                    <a:pt x="896" y="2046"/>
                  </a:lnTo>
                  <a:lnTo>
                    <a:pt x="893" y="2045"/>
                  </a:lnTo>
                  <a:lnTo>
                    <a:pt x="891" y="2043"/>
                  </a:lnTo>
                  <a:lnTo>
                    <a:pt x="889" y="2041"/>
                  </a:lnTo>
                  <a:lnTo>
                    <a:pt x="889" y="2038"/>
                  </a:lnTo>
                  <a:lnTo>
                    <a:pt x="889" y="2036"/>
                  </a:lnTo>
                  <a:lnTo>
                    <a:pt x="891" y="2034"/>
                  </a:lnTo>
                  <a:lnTo>
                    <a:pt x="893" y="2032"/>
                  </a:lnTo>
                  <a:lnTo>
                    <a:pt x="893" y="2032"/>
                  </a:lnTo>
                  <a:close/>
                  <a:moveTo>
                    <a:pt x="923" y="2046"/>
                  </a:moveTo>
                  <a:lnTo>
                    <a:pt x="923" y="2046"/>
                  </a:lnTo>
                  <a:lnTo>
                    <a:pt x="924" y="2048"/>
                  </a:lnTo>
                  <a:lnTo>
                    <a:pt x="924" y="2052"/>
                  </a:lnTo>
                  <a:lnTo>
                    <a:pt x="924" y="2053"/>
                  </a:lnTo>
                  <a:lnTo>
                    <a:pt x="923" y="2057"/>
                  </a:lnTo>
                  <a:lnTo>
                    <a:pt x="919" y="2059"/>
                  </a:lnTo>
                  <a:lnTo>
                    <a:pt x="916" y="2059"/>
                  </a:lnTo>
                  <a:lnTo>
                    <a:pt x="914" y="2057"/>
                  </a:lnTo>
                  <a:lnTo>
                    <a:pt x="912" y="2055"/>
                  </a:lnTo>
                  <a:lnTo>
                    <a:pt x="912" y="2055"/>
                  </a:lnTo>
                  <a:lnTo>
                    <a:pt x="910" y="2053"/>
                  </a:lnTo>
                  <a:lnTo>
                    <a:pt x="910" y="2050"/>
                  </a:lnTo>
                  <a:lnTo>
                    <a:pt x="910" y="2048"/>
                  </a:lnTo>
                  <a:lnTo>
                    <a:pt x="912" y="2045"/>
                  </a:lnTo>
                  <a:lnTo>
                    <a:pt x="916" y="2045"/>
                  </a:lnTo>
                  <a:lnTo>
                    <a:pt x="917" y="2045"/>
                  </a:lnTo>
                  <a:lnTo>
                    <a:pt x="921" y="2045"/>
                  </a:lnTo>
                  <a:lnTo>
                    <a:pt x="923" y="2046"/>
                  </a:lnTo>
                  <a:lnTo>
                    <a:pt x="923" y="2046"/>
                  </a:lnTo>
                  <a:close/>
                  <a:moveTo>
                    <a:pt x="942" y="2069"/>
                  </a:moveTo>
                  <a:lnTo>
                    <a:pt x="942" y="2069"/>
                  </a:lnTo>
                  <a:lnTo>
                    <a:pt x="942" y="2071"/>
                  </a:lnTo>
                  <a:lnTo>
                    <a:pt x="942" y="2074"/>
                  </a:lnTo>
                  <a:lnTo>
                    <a:pt x="942" y="2076"/>
                  </a:lnTo>
                  <a:lnTo>
                    <a:pt x="940" y="2080"/>
                  </a:lnTo>
                  <a:lnTo>
                    <a:pt x="937" y="2080"/>
                  </a:lnTo>
                  <a:lnTo>
                    <a:pt x="935" y="2081"/>
                  </a:lnTo>
                  <a:lnTo>
                    <a:pt x="931" y="2080"/>
                  </a:lnTo>
                  <a:lnTo>
                    <a:pt x="930" y="2078"/>
                  </a:lnTo>
                  <a:lnTo>
                    <a:pt x="930" y="2078"/>
                  </a:lnTo>
                  <a:lnTo>
                    <a:pt x="928" y="2076"/>
                  </a:lnTo>
                  <a:lnTo>
                    <a:pt x="928" y="2073"/>
                  </a:lnTo>
                  <a:lnTo>
                    <a:pt x="928" y="2071"/>
                  </a:lnTo>
                  <a:lnTo>
                    <a:pt x="931" y="2067"/>
                  </a:lnTo>
                  <a:lnTo>
                    <a:pt x="933" y="2066"/>
                  </a:lnTo>
                  <a:lnTo>
                    <a:pt x="937" y="2066"/>
                  </a:lnTo>
                  <a:lnTo>
                    <a:pt x="938" y="2067"/>
                  </a:lnTo>
                  <a:lnTo>
                    <a:pt x="942" y="2069"/>
                  </a:lnTo>
                  <a:lnTo>
                    <a:pt x="942" y="2069"/>
                  </a:lnTo>
                  <a:close/>
                  <a:moveTo>
                    <a:pt x="959" y="2092"/>
                  </a:moveTo>
                  <a:lnTo>
                    <a:pt x="959" y="2092"/>
                  </a:lnTo>
                  <a:lnTo>
                    <a:pt x="961" y="2094"/>
                  </a:lnTo>
                  <a:lnTo>
                    <a:pt x="961" y="2097"/>
                  </a:lnTo>
                  <a:lnTo>
                    <a:pt x="959" y="2099"/>
                  </a:lnTo>
                  <a:lnTo>
                    <a:pt x="958" y="2102"/>
                  </a:lnTo>
                  <a:lnTo>
                    <a:pt x="956" y="2102"/>
                  </a:lnTo>
                  <a:lnTo>
                    <a:pt x="952" y="2102"/>
                  </a:lnTo>
                  <a:lnTo>
                    <a:pt x="951" y="2102"/>
                  </a:lnTo>
                  <a:lnTo>
                    <a:pt x="947" y="2101"/>
                  </a:lnTo>
                  <a:lnTo>
                    <a:pt x="947" y="2101"/>
                  </a:lnTo>
                  <a:lnTo>
                    <a:pt x="947" y="2099"/>
                  </a:lnTo>
                  <a:lnTo>
                    <a:pt x="947" y="2095"/>
                  </a:lnTo>
                  <a:lnTo>
                    <a:pt x="947" y="2092"/>
                  </a:lnTo>
                  <a:lnTo>
                    <a:pt x="949" y="2090"/>
                  </a:lnTo>
                  <a:lnTo>
                    <a:pt x="951" y="2088"/>
                  </a:lnTo>
                  <a:lnTo>
                    <a:pt x="954" y="2088"/>
                  </a:lnTo>
                  <a:lnTo>
                    <a:pt x="956" y="2090"/>
                  </a:lnTo>
                  <a:lnTo>
                    <a:pt x="959" y="2092"/>
                  </a:lnTo>
                  <a:lnTo>
                    <a:pt x="959" y="2092"/>
                  </a:lnTo>
                  <a:close/>
                  <a:moveTo>
                    <a:pt x="977" y="2115"/>
                  </a:moveTo>
                  <a:lnTo>
                    <a:pt x="977" y="2115"/>
                  </a:lnTo>
                  <a:lnTo>
                    <a:pt x="979" y="2116"/>
                  </a:lnTo>
                  <a:lnTo>
                    <a:pt x="979" y="2120"/>
                  </a:lnTo>
                  <a:lnTo>
                    <a:pt x="979" y="2122"/>
                  </a:lnTo>
                  <a:lnTo>
                    <a:pt x="977" y="2125"/>
                  </a:lnTo>
                  <a:lnTo>
                    <a:pt x="973" y="2125"/>
                  </a:lnTo>
                  <a:lnTo>
                    <a:pt x="970" y="2125"/>
                  </a:lnTo>
                  <a:lnTo>
                    <a:pt x="968" y="2125"/>
                  </a:lnTo>
                  <a:lnTo>
                    <a:pt x="966" y="2123"/>
                  </a:lnTo>
                  <a:lnTo>
                    <a:pt x="966" y="2123"/>
                  </a:lnTo>
                  <a:lnTo>
                    <a:pt x="965" y="2120"/>
                  </a:lnTo>
                  <a:lnTo>
                    <a:pt x="965" y="2118"/>
                  </a:lnTo>
                  <a:lnTo>
                    <a:pt x="965" y="2115"/>
                  </a:lnTo>
                  <a:lnTo>
                    <a:pt x="966" y="2113"/>
                  </a:lnTo>
                  <a:lnTo>
                    <a:pt x="970" y="2111"/>
                  </a:lnTo>
                  <a:lnTo>
                    <a:pt x="972" y="2111"/>
                  </a:lnTo>
                  <a:lnTo>
                    <a:pt x="975" y="2113"/>
                  </a:lnTo>
                  <a:lnTo>
                    <a:pt x="977" y="2115"/>
                  </a:lnTo>
                  <a:lnTo>
                    <a:pt x="977" y="2115"/>
                  </a:lnTo>
                  <a:close/>
                  <a:moveTo>
                    <a:pt x="996" y="2137"/>
                  </a:moveTo>
                  <a:lnTo>
                    <a:pt x="996" y="2137"/>
                  </a:lnTo>
                  <a:lnTo>
                    <a:pt x="996" y="2139"/>
                  </a:lnTo>
                  <a:lnTo>
                    <a:pt x="996" y="2143"/>
                  </a:lnTo>
                  <a:lnTo>
                    <a:pt x="996" y="2144"/>
                  </a:lnTo>
                  <a:lnTo>
                    <a:pt x="994" y="2148"/>
                  </a:lnTo>
                  <a:lnTo>
                    <a:pt x="991" y="2148"/>
                  </a:lnTo>
                  <a:lnTo>
                    <a:pt x="989" y="2148"/>
                  </a:lnTo>
                  <a:lnTo>
                    <a:pt x="986" y="2148"/>
                  </a:lnTo>
                  <a:lnTo>
                    <a:pt x="984" y="2146"/>
                  </a:lnTo>
                  <a:lnTo>
                    <a:pt x="984" y="2146"/>
                  </a:lnTo>
                  <a:lnTo>
                    <a:pt x="982" y="2143"/>
                  </a:lnTo>
                  <a:lnTo>
                    <a:pt x="982" y="2141"/>
                  </a:lnTo>
                  <a:lnTo>
                    <a:pt x="982" y="2137"/>
                  </a:lnTo>
                  <a:lnTo>
                    <a:pt x="986" y="2136"/>
                  </a:lnTo>
                  <a:lnTo>
                    <a:pt x="987" y="2134"/>
                  </a:lnTo>
                  <a:lnTo>
                    <a:pt x="991" y="2134"/>
                  </a:lnTo>
                  <a:lnTo>
                    <a:pt x="993" y="2134"/>
                  </a:lnTo>
                  <a:lnTo>
                    <a:pt x="996" y="2137"/>
                  </a:lnTo>
                  <a:lnTo>
                    <a:pt x="996" y="2137"/>
                  </a:lnTo>
                  <a:close/>
                  <a:moveTo>
                    <a:pt x="1019" y="2148"/>
                  </a:moveTo>
                  <a:lnTo>
                    <a:pt x="1019" y="2150"/>
                  </a:lnTo>
                  <a:lnTo>
                    <a:pt x="1021" y="2151"/>
                  </a:lnTo>
                  <a:lnTo>
                    <a:pt x="1022" y="2153"/>
                  </a:lnTo>
                  <a:lnTo>
                    <a:pt x="1022" y="2155"/>
                  </a:lnTo>
                  <a:lnTo>
                    <a:pt x="1021" y="2158"/>
                  </a:lnTo>
                  <a:lnTo>
                    <a:pt x="1019" y="2160"/>
                  </a:lnTo>
                  <a:lnTo>
                    <a:pt x="1017" y="2162"/>
                  </a:lnTo>
                  <a:lnTo>
                    <a:pt x="1014" y="2162"/>
                  </a:lnTo>
                  <a:lnTo>
                    <a:pt x="1012" y="2162"/>
                  </a:lnTo>
                  <a:lnTo>
                    <a:pt x="1012" y="2162"/>
                  </a:lnTo>
                  <a:lnTo>
                    <a:pt x="1010" y="2160"/>
                  </a:lnTo>
                  <a:lnTo>
                    <a:pt x="1008" y="2157"/>
                  </a:lnTo>
                  <a:lnTo>
                    <a:pt x="1008" y="2155"/>
                  </a:lnTo>
                  <a:lnTo>
                    <a:pt x="1008" y="2151"/>
                  </a:lnTo>
                  <a:lnTo>
                    <a:pt x="1010" y="2150"/>
                  </a:lnTo>
                  <a:lnTo>
                    <a:pt x="1012" y="2148"/>
                  </a:lnTo>
                  <a:lnTo>
                    <a:pt x="1015" y="2148"/>
                  </a:lnTo>
                  <a:lnTo>
                    <a:pt x="1019" y="2148"/>
                  </a:lnTo>
                  <a:lnTo>
                    <a:pt x="1019" y="2148"/>
                  </a:lnTo>
                  <a:close/>
                  <a:moveTo>
                    <a:pt x="1043" y="2162"/>
                  </a:moveTo>
                  <a:lnTo>
                    <a:pt x="1043" y="2162"/>
                  </a:lnTo>
                  <a:lnTo>
                    <a:pt x="1047" y="2164"/>
                  </a:lnTo>
                  <a:lnTo>
                    <a:pt x="1047" y="2165"/>
                  </a:lnTo>
                  <a:lnTo>
                    <a:pt x="1047" y="2169"/>
                  </a:lnTo>
                  <a:lnTo>
                    <a:pt x="1047" y="2172"/>
                  </a:lnTo>
                  <a:lnTo>
                    <a:pt x="1045" y="2174"/>
                  </a:lnTo>
                  <a:lnTo>
                    <a:pt x="1043" y="2176"/>
                  </a:lnTo>
                  <a:lnTo>
                    <a:pt x="1040" y="2176"/>
                  </a:lnTo>
                  <a:lnTo>
                    <a:pt x="1038" y="2174"/>
                  </a:lnTo>
                  <a:lnTo>
                    <a:pt x="1038" y="2174"/>
                  </a:lnTo>
                  <a:lnTo>
                    <a:pt x="1035" y="2172"/>
                  </a:lnTo>
                  <a:lnTo>
                    <a:pt x="1035" y="2171"/>
                  </a:lnTo>
                  <a:lnTo>
                    <a:pt x="1033" y="2167"/>
                  </a:lnTo>
                  <a:lnTo>
                    <a:pt x="1035" y="2165"/>
                  </a:lnTo>
                  <a:lnTo>
                    <a:pt x="1036" y="2162"/>
                  </a:lnTo>
                  <a:lnTo>
                    <a:pt x="1038" y="2162"/>
                  </a:lnTo>
                  <a:lnTo>
                    <a:pt x="1042" y="2160"/>
                  </a:lnTo>
                  <a:lnTo>
                    <a:pt x="1043" y="2162"/>
                  </a:lnTo>
                  <a:lnTo>
                    <a:pt x="1043" y="2162"/>
                  </a:lnTo>
                  <a:close/>
                  <a:moveTo>
                    <a:pt x="1070" y="2176"/>
                  </a:moveTo>
                  <a:lnTo>
                    <a:pt x="1070" y="2176"/>
                  </a:lnTo>
                  <a:lnTo>
                    <a:pt x="1071" y="2178"/>
                  </a:lnTo>
                  <a:lnTo>
                    <a:pt x="1073" y="2179"/>
                  </a:lnTo>
                  <a:lnTo>
                    <a:pt x="1073" y="2181"/>
                  </a:lnTo>
                  <a:lnTo>
                    <a:pt x="1073" y="2185"/>
                  </a:lnTo>
                  <a:lnTo>
                    <a:pt x="1071" y="2186"/>
                  </a:lnTo>
                  <a:lnTo>
                    <a:pt x="1068" y="2188"/>
                  </a:lnTo>
                  <a:lnTo>
                    <a:pt x="1066" y="2188"/>
                  </a:lnTo>
                  <a:lnTo>
                    <a:pt x="1063" y="2188"/>
                  </a:lnTo>
                  <a:lnTo>
                    <a:pt x="1063" y="2188"/>
                  </a:lnTo>
                  <a:lnTo>
                    <a:pt x="1061" y="2186"/>
                  </a:lnTo>
                  <a:lnTo>
                    <a:pt x="1059" y="2183"/>
                  </a:lnTo>
                  <a:lnTo>
                    <a:pt x="1059" y="2181"/>
                  </a:lnTo>
                  <a:lnTo>
                    <a:pt x="1061" y="2178"/>
                  </a:lnTo>
                  <a:lnTo>
                    <a:pt x="1063" y="2176"/>
                  </a:lnTo>
                  <a:lnTo>
                    <a:pt x="1064" y="2174"/>
                  </a:lnTo>
                  <a:lnTo>
                    <a:pt x="1066" y="2174"/>
                  </a:lnTo>
                  <a:lnTo>
                    <a:pt x="1070" y="2176"/>
                  </a:lnTo>
                  <a:lnTo>
                    <a:pt x="1070" y="2176"/>
                  </a:lnTo>
                  <a:close/>
                  <a:moveTo>
                    <a:pt x="1096" y="2188"/>
                  </a:moveTo>
                  <a:lnTo>
                    <a:pt x="1096" y="2188"/>
                  </a:lnTo>
                  <a:lnTo>
                    <a:pt x="1098" y="2190"/>
                  </a:lnTo>
                  <a:lnTo>
                    <a:pt x="1099" y="2192"/>
                  </a:lnTo>
                  <a:lnTo>
                    <a:pt x="1099" y="2195"/>
                  </a:lnTo>
                  <a:lnTo>
                    <a:pt x="1099" y="2199"/>
                  </a:lnTo>
                  <a:lnTo>
                    <a:pt x="1098" y="2200"/>
                  </a:lnTo>
                  <a:lnTo>
                    <a:pt x="1094" y="2202"/>
                  </a:lnTo>
                  <a:lnTo>
                    <a:pt x="1092" y="2202"/>
                  </a:lnTo>
                  <a:lnTo>
                    <a:pt x="1089" y="2200"/>
                  </a:lnTo>
                  <a:lnTo>
                    <a:pt x="1089" y="2200"/>
                  </a:lnTo>
                  <a:lnTo>
                    <a:pt x="1087" y="2199"/>
                  </a:lnTo>
                  <a:lnTo>
                    <a:pt x="1085" y="2197"/>
                  </a:lnTo>
                  <a:lnTo>
                    <a:pt x="1085" y="2193"/>
                  </a:lnTo>
                  <a:lnTo>
                    <a:pt x="1085" y="2192"/>
                  </a:lnTo>
                  <a:lnTo>
                    <a:pt x="1087" y="2190"/>
                  </a:lnTo>
                  <a:lnTo>
                    <a:pt x="1091" y="2188"/>
                  </a:lnTo>
                  <a:lnTo>
                    <a:pt x="1092" y="2188"/>
                  </a:lnTo>
                  <a:lnTo>
                    <a:pt x="1096" y="2188"/>
                  </a:lnTo>
                  <a:lnTo>
                    <a:pt x="1096" y="2188"/>
                  </a:lnTo>
                  <a:close/>
                  <a:moveTo>
                    <a:pt x="1119" y="2209"/>
                  </a:moveTo>
                  <a:lnTo>
                    <a:pt x="1119" y="2209"/>
                  </a:lnTo>
                  <a:lnTo>
                    <a:pt x="1121" y="2211"/>
                  </a:lnTo>
                  <a:lnTo>
                    <a:pt x="1121" y="2213"/>
                  </a:lnTo>
                  <a:lnTo>
                    <a:pt x="1121" y="2216"/>
                  </a:lnTo>
                  <a:lnTo>
                    <a:pt x="1119" y="2218"/>
                  </a:lnTo>
                  <a:lnTo>
                    <a:pt x="1117" y="2220"/>
                  </a:lnTo>
                  <a:lnTo>
                    <a:pt x="1113" y="2221"/>
                  </a:lnTo>
                  <a:lnTo>
                    <a:pt x="1112" y="2220"/>
                  </a:lnTo>
                  <a:lnTo>
                    <a:pt x="1108" y="2220"/>
                  </a:lnTo>
                  <a:lnTo>
                    <a:pt x="1108" y="2220"/>
                  </a:lnTo>
                  <a:lnTo>
                    <a:pt x="1106" y="2216"/>
                  </a:lnTo>
                  <a:lnTo>
                    <a:pt x="1106" y="2214"/>
                  </a:lnTo>
                  <a:lnTo>
                    <a:pt x="1106" y="2211"/>
                  </a:lnTo>
                  <a:lnTo>
                    <a:pt x="1108" y="2209"/>
                  </a:lnTo>
                  <a:lnTo>
                    <a:pt x="1112" y="2207"/>
                  </a:lnTo>
                  <a:lnTo>
                    <a:pt x="1113" y="2206"/>
                  </a:lnTo>
                  <a:lnTo>
                    <a:pt x="1117" y="2207"/>
                  </a:lnTo>
                  <a:lnTo>
                    <a:pt x="1119" y="2209"/>
                  </a:lnTo>
                  <a:lnTo>
                    <a:pt x="1119" y="2209"/>
                  </a:lnTo>
                  <a:close/>
                  <a:moveTo>
                    <a:pt x="1140" y="2228"/>
                  </a:moveTo>
                  <a:lnTo>
                    <a:pt x="1140" y="2228"/>
                  </a:lnTo>
                  <a:lnTo>
                    <a:pt x="1142" y="2230"/>
                  </a:lnTo>
                  <a:lnTo>
                    <a:pt x="1142" y="2234"/>
                  </a:lnTo>
                  <a:lnTo>
                    <a:pt x="1142" y="2235"/>
                  </a:lnTo>
                  <a:lnTo>
                    <a:pt x="1140" y="2239"/>
                  </a:lnTo>
                  <a:lnTo>
                    <a:pt x="1138" y="2241"/>
                  </a:lnTo>
                  <a:lnTo>
                    <a:pt x="1135" y="2241"/>
                  </a:lnTo>
                  <a:lnTo>
                    <a:pt x="1133" y="2241"/>
                  </a:lnTo>
                  <a:lnTo>
                    <a:pt x="1129" y="2239"/>
                  </a:lnTo>
                  <a:lnTo>
                    <a:pt x="1129" y="2239"/>
                  </a:lnTo>
                  <a:lnTo>
                    <a:pt x="1128" y="2237"/>
                  </a:lnTo>
                  <a:lnTo>
                    <a:pt x="1128" y="2234"/>
                  </a:lnTo>
                  <a:lnTo>
                    <a:pt x="1128" y="2230"/>
                  </a:lnTo>
                  <a:lnTo>
                    <a:pt x="1129" y="2228"/>
                  </a:lnTo>
                  <a:lnTo>
                    <a:pt x="1133" y="2227"/>
                  </a:lnTo>
                  <a:lnTo>
                    <a:pt x="1135" y="2227"/>
                  </a:lnTo>
                  <a:lnTo>
                    <a:pt x="1138" y="2227"/>
                  </a:lnTo>
                  <a:lnTo>
                    <a:pt x="1140" y="2228"/>
                  </a:lnTo>
                  <a:lnTo>
                    <a:pt x="1140" y="2228"/>
                  </a:lnTo>
                  <a:close/>
                  <a:moveTo>
                    <a:pt x="1145" y="2262"/>
                  </a:moveTo>
                  <a:lnTo>
                    <a:pt x="1145" y="2262"/>
                  </a:lnTo>
                  <a:lnTo>
                    <a:pt x="1145" y="2263"/>
                  </a:lnTo>
                  <a:lnTo>
                    <a:pt x="1142" y="2265"/>
                  </a:lnTo>
                  <a:lnTo>
                    <a:pt x="1140" y="2267"/>
                  </a:lnTo>
                  <a:lnTo>
                    <a:pt x="1136" y="2267"/>
                  </a:lnTo>
                  <a:lnTo>
                    <a:pt x="1135" y="2265"/>
                  </a:lnTo>
                  <a:lnTo>
                    <a:pt x="1133" y="2263"/>
                  </a:lnTo>
                  <a:lnTo>
                    <a:pt x="1131" y="2260"/>
                  </a:lnTo>
                  <a:lnTo>
                    <a:pt x="1131" y="2258"/>
                  </a:lnTo>
                  <a:lnTo>
                    <a:pt x="1131" y="2258"/>
                  </a:lnTo>
                  <a:lnTo>
                    <a:pt x="1133" y="2255"/>
                  </a:lnTo>
                  <a:lnTo>
                    <a:pt x="1135" y="2253"/>
                  </a:lnTo>
                  <a:lnTo>
                    <a:pt x="1136" y="2253"/>
                  </a:lnTo>
                  <a:lnTo>
                    <a:pt x="1140" y="2253"/>
                  </a:lnTo>
                  <a:lnTo>
                    <a:pt x="1142" y="2253"/>
                  </a:lnTo>
                  <a:lnTo>
                    <a:pt x="1143" y="2255"/>
                  </a:lnTo>
                  <a:lnTo>
                    <a:pt x="1145" y="2258"/>
                  </a:lnTo>
                  <a:lnTo>
                    <a:pt x="1145" y="2262"/>
                  </a:lnTo>
                  <a:lnTo>
                    <a:pt x="1145" y="2262"/>
                  </a:lnTo>
                  <a:close/>
                  <a:moveTo>
                    <a:pt x="1140" y="2290"/>
                  </a:moveTo>
                  <a:lnTo>
                    <a:pt x="1140" y="2290"/>
                  </a:lnTo>
                  <a:lnTo>
                    <a:pt x="1140" y="2291"/>
                  </a:lnTo>
                  <a:lnTo>
                    <a:pt x="1136" y="2293"/>
                  </a:lnTo>
                  <a:lnTo>
                    <a:pt x="1135" y="2295"/>
                  </a:lnTo>
                  <a:lnTo>
                    <a:pt x="1131" y="2295"/>
                  </a:lnTo>
                  <a:lnTo>
                    <a:pt x="1129" y="2293"/>
                  </a:lnTo>
                  <a:lnTo>
                    <a:pt x="1128" y="2291"/>
                  </a:lnTo>
                  <a:lnTo>
                    <a:pt x="1126" y="2290"/>
                  </a:lnTo>
                  <a:lnTo>
                    <a:pt x="1126" y="2286"/>
                  </a:lnTo>
                  <a:lnTo>
                    <a:pt x="1126" y="2286"/>
                  </a:lnTo>
                  <a:lnTo>
                    <a:pt x="1128" y="2284"/>
                  </a:lnTo>
                  <a:lnTo>
                    <a:pt x="1129" y="2281"/>
                  </a:lnTo>
                  <a:lnTo>
                    <a:pt x="1131" y="2281"/>
                  </a:lnTo>
                  <a:lnTo>
                    <a:pt x="1135" y="2281"/>
                  </a:lnTo>
                  <a:lnTo>
                    <a:pt x="1136" y="2281"/>
                  </a:lnTo>
                  <a:lnTo>
                    <a:pt x="1138" y="2284"/>
                  </a:lnTo>
                  <a:lnTo>
                    <a:pt x="1140" y="2286"/>
                  </a:lnTo>
                  <a:lnTo>
                    <a:pt x="1140" y="2290"/>
                  </a:lnTo>
                  <a:lnTo>
                    <a:pt x="1140" y="2290"/>
                  </a:lnTo>
                  <a:close/>
                  <a:moveTo>
                    <a:pt x="1135" y="2318"/>
                  </a:moveTo>
                  <a:lnTo>
                    <a:pt x="1135" y="2318"/>
                  </a:lnTo>
                  <a:lnTo>
                    <a:pt x="1135" y="2321"/>
                  </a:lnTo>
                  <a:lnTo>
                    <a:pt x="1131" y="2323"/>
                  </a:lnTo>
                  <a:lnTo>
                    <a:pt x="1129" y="2323"/>
                  </a:lnTo>
                  <a:lnTo>
                    <a:pt x="1126" y="2323"/>
                  </a:lnTo>
                  <a:lnTo>
                    <a:pt x="1124" y="2323"/>
                  </a:lnTo>
                  <a:lnTo>
                    <a:pt x="1122" y="2319"/>
                  </a:lnTo>
                  <a:lnTo>
                    <a:pt x="1121" y="2318"/>
                  </a:lnTo>
                  <a:lnTo>
                    <a:pt x="1121" y="2314"/>
                  </a:lnTo>
                  <a:lnTo>
                    <a:pt x="1121" y="2314"/>
                  </a:lnTo>
                  <a:lnTo>
                    <a:pt x="1122" y="2312"/>
                  </a:lnTo>
                  <a:lnTo>
                    <a:pt x="1124" y="2311"/>
                  </a:lnTo>
                  <a:lnTo>
                    <a:pt x="1126" y="2309"/>
                  </a:lnTo>
                  <a:lnTo>
                    <a:pt x="1129" y="2309"/>
                  </a:lnTo>
                  <a:lnTo>
                    <a:pt x="1133" y="2311"/>
                  </a:lnTo>
                  <a:lnTo>
                    <a:pt x="1135" y="2312"/>
                  </a:lnTo>
                  <a:lnTo>
                    <a:pt x="1135" y="2314"/>
                  </a:lnTo>
                  <a:lnTo>
                    <a:pt x="1135" y="2318"/>
                  </a:lnTo>
                  <a:lnTo>
                    <a:pt x="1135" y="2318"/>
                  </a:lnTo>
                  <a:close/>
                  <a:moveTo>
                    <a:pt x="1129" y="2346"/>
                  </a:moveTo>
                  <a:lnTo>
                    <a:pt x="1129" y="2346"/>
                  </a:lnTo>
                  <a:lnTo>
                    <a:pt x="1129" y="2349"/>
                  </a:lnTo>
                  <a:lnTo>
                    <a:pt x="1126" y="2351"/>
                  </a:lnTo>
                  <a:lnTo>
                    <a:pt x="1124" y="2353"/>
                  </a:lnTo>
                  <a:lnTo>
                    <a:pt x="1121" y="2353"/>
                  </a:lnTo>
                  <a:lnTo>
                    <a:pt x="1119" y="2351"/>
                  </a:lnTo>
                  <a:lnTo>
                    <a:pt x="1117" y="2349"/>
                  </a:lnTo>
                  <a:lnTo>
                    <a:pt x="1115" y="2346"/>
                  </a:lnTo>
                  <a:lnTo>
                    <a:pt x="1115" y="2344"/>
                  </a:lnTo>
                  <a:lnTo>
                    <a:pt x="1115" y="2344"/>
                  </a:lnTo>
                  <a:lnTo>
                    <a:pt x="1117" y="2340"/>
                  </a:lnTo>
                  <a:lnTo>
                    <a:pt x="1119" y="2339"/>
                  </a:lnTo>
                  <a:lnTo>
                    <a:pt x="1121" y="2339"/>
                  </a:lnTo>
                  <a:lnTo>
                    <a:pt x="1124" y="2339"/>
                  </a:lnTo>
                  <a:lnTo>
                    <a:pt x="1128" y="2339"/>
                  </a:lnTo>
                  <a:lnTo>
                    <a:pt x="1129" y="2340"/>
                  </a:lnTo>
                  <a:lnTo>
                    <a:pt x="1129" y="2344"/>
                  </a:lnTo>
                  <a:lnTo>
                    <a:pt x="1129" y="2346"/>
                  </a:lnTo>
                  <a:lnTo>
                    <a:pt x="1129" y="2346"/>
                  </a:lnTo>
                  <a:close/>
                  <a:moveTo>
                    <a:pt x="1124" y="2375"/>
                  </a:moveTo>
                  <a:lnTo>
                    <a:pt x="1124" y="2375"/>
                  </a:lnTo>
                  <a:lnTo>
                    <a:pt x="1124" y="2377"/>
                  </a:lnTo>
                  <a:lnTo>
                    <a:pt x="1121" y="2379"/>
                  </a:lnTo>
                  <a:lnTo>
                    <a:pt x="1119" y="2381"/>
                  </a:lnTo>
                  <a:lnTo>
                    <a:pt x="1115" y="2381"/>
                  </a:lnTo>
                  <a:lnTo>
                    <a:pt x="1113" y="2379"/>
                  </a:lnTo>
                  <a:lnTo>
                    <a:pt x="1112" y="2377"/>
                  </a:lnTo>
                  <a:lnTo>
                    <a:pt x="1110" y="2375"/>
                  </a:lnTo>
                  <a:lnTo>
                    <a:pt x="1110" y="2372"/>
                  </a:lnTo>
                  <a:lnTo>
                    <a:pt x="1110" y="2372"/>
                  </a:lnTo>
                  <a:lnTo>
                    <a:pt x="1112" y="2368"/>
                  </a:lnTo>
                  <a:lnTo>
                    <a:pt x="1113" y="2367"/>
                  </a:lnTo>
                  <a:lnTo>
                    <a:pt x="1115" y="2367"/>
                  </a:lnTo>
                  <a:lnTo>
                    <a:pt x="1119" y="2367"/>
                  </a:lnTo>
                  <a:lnTo>
                    <a:pt x="1122" y="2367"/>
                  </a:lnTo>
                  <a:lnTo>
                    <a:pt x="1124" y="2368"/>
                  </a:lnTo>
                  <a:lnTo>
                    <a:pt x="1124" y="2372"/>
                  </a:lnTo>
                  <a:lnTo>
                    <a:pt x="1124" y="2375"/>
                  </a:lnTo>
                  <a:lnTo>
                    <a:pt x="1124" y="2375"/>
                  </a:lnTo>
                  <a:close/>
                  <a:moveTo>
                    <a:pt x="1119" y="2403"/>
                  </a:moveTo>
                  <a:lnTo>
                    <a:pt x="1119" y="2403"/>
                  </a:lnTo>
                  <a:lnTo>
                    <a:pt x="1119" y="2405"/>
                  </a:lnTo>
                  <a:lnTo>
                    <a:pt x="1115" y="2407"/>
                  </a:lnTo>
                  <a:lnTo>
                    <a:pt x="1113" y="2409"/>
                  </a:lnTo>
                  <a:lnTo>
                    <a:pt x="1110" y="2409"/>
                  </a:lnTo>
                  <a:lnTo>
                    <a:pt x="1108" y="2407"/>
                  </a:lnTo>
                  <a:lnTo>
                    <a:pt x="1106" y="2405"/>
                  </a:lnTo>
                  <a:lnTo>
                    <a:pt x="1105" y="2403"/>
                  </a:lnTo>
                  <a:lnTo>
                    <a:pt x="1105" y="2400"/>
                  </a:lnTo>
                  <a:lnTo>
                    <a:pt x="1105" y="2400"/>
                  </a:lnTo>
                  <a:lnTo>
                    <a:pt x="1106" y="2398"/>
                  </a:lnTo>
                  <a:lnTo>
                    <a:pt x="1108" y="2396"/>
                  </a:lnTo>
                  <a:lnTo>
                    <a:pt x="1110" y="2395"/>
                  </a:lnTo>
                  <a:lnTo>
                    <a:pt x="1113" y="2395"/>
                  </a:lnTo>
                  <a:lnTo>
                    <a:pt x="1117" y="2396"/>
                  </a:lnTo>
                  <a:lnTo>
                    <a:pt x="1119" y="2398"/>
                  </a:lnTo>
                  <a:lnTo>
                    <a:pt x="1119" y="2400"/>
                  </a:lnTo>
                  <a:lnTo>
                    <a:pt x="1119" y="2403"/>
                  </a:lnTo>
                  <a:lnTo>
                    <a:pt x="1119" y="2403"/>
                  </a:lnTo>
                  <a:close/>
                  <a:moveTo>
                    <a:pt x="1113" y="2431"/>
                  </a:moveTo>
                  <a:lnTo>
                    <a:pt x="1113" y="2431"/>
                  </a:lnTo>
                  <a:lnTo>
                    <a:pt x="1113" y="2435"/>
                  </a:lnTo>
                  <a:lnTo>
                    <a:pt x="1110" y="2437"/>
                  </a:lnTo>
                  <a:lnTo>
                    <a:pt x="1108" y="2437"/>
                  </a:lnTo>
                  <a:lnTo>
                    <a:pt x="1105" y="2437"/>
                  </a:lnTo>
                  <a:lnTo>
                    <a:pt x="1103" y="2437"/>
                  </a:lnTo>
                  <a:lnTo>
                    <a:pt x="1101" y="2435"/>
                  </a:lnTo>
                  <a:lnTo>
                    <a:pt x="1099" y="2431"/>
                  </a:lnTo>
                  <a:lnTo>
                    <a:pt x="1099" y="2430"/>
                  </a:lnTo>
                  <a:lnTo>
                    <a:pt x="1099" y="2430"/>
                  </a:lnTo>
                  <a:lnTo>
                    <a:pt x="1101" y="2426"/>
                  </a:lnTo>
                  <a:lnTo>
                    <a:pt x="1103" y="2424"/>
                  </a:lnTo>
                  <a:lnTo>
                    <a:pt x="1105" y="2423"/>
                  </a:lnTo>
                  <a:lnTo>
                    <a:pt x="1108" y="2423"/>
                  </a:lnTo>
                  <a:lnTo>
                    <a:pt x="1112" y="2424"/>
                  </a:lnTo>
                  <a:lnTo>
                    <a:pt x="1113" y="2426"/>
                  </a:lnTo>
                  <a:lnTo>
                    <a:pt x="1113" y="2428"/>
                  </a:lnTo>
                  <a:lnTo>
                    <a:pt x="1113" y="2431"/>
                  </a:lnTo>
                  <a:lnTo>
                    <a:pt x="1113" y="2431"/>
                  </a:lnTo>
                  <a:close/>
                  <a:moveTo>
                    <a:pt x="1108" y="2459"/>
                  </a:moveTo>
                  <a:lnTo>
                    <a:pt x="1108" y="2459"/>
                  </a:lnTo>
                  <a:lnTo>
                    <a:pt x="1108" y="2463"/>
                  </a:lnTo>
                  <a:lnTo>
                    <a:pt x="1105" y="2465"/>
                  </a:lnTo>
                  <a:lnTo>
                    <a:pt x="1103" y="2466"/>
                  </a:lnTo>
                  <a:lnTo>
                    <a:pt x="1099" y="2466"/>
                  </a:lnTo>
                  <a:lnTo>
                    <a:pt x="1098" y="2465"/>
                  </a:lnTo>
                  <a:lnTo>
                    <a:pt x="1096" y="2463"/>
                  </a:lnTo>
                  <a:lnTo>
                    <a:pt x="1094" y="2459"/>
                  </a:lnTo>
                  <a:lnTo>
                    <a:pt x="1094" y="2458"/>
                  </a:lnTo>
                  <a:lnTo>
                    <a:pt x="1094" y="2458"/>
                  </a:lnTo>
                  <a:lnTo>
                    <a:pt x="1096" y="2454"/>
                  </a:lnTo>
                  <a:lnTo>
                    <a:pt x="1098" y="2452"/>
                  </a:lnTo>
                  <a:lnTo>
                    <a:pt x="1099" y="2452"/>
                  </a:lnTo>
                  <a:lnTo>
                    <a:pt x="1103" y="2452"/>
                  </a:lnTo>
                  <a:lnTo>
                    <a:pt x="1106" y="2452"/>
                  </a:lnTo>
                  <a:lnTo>
                    <a:pt x="1108" y="2454"/>
                  </a:lnTo>
                  <a:lnTo>
                    <a:pt x="1108" y="2458"/>
                  </a:lnTo>
                  <a:lnTo>
                    <a:pt x="1108" y="2459"/>
                  </a:lnTo>
                  <a:lnTo>
                    <a:pt x="1108" y="2459"/>
                  </a:lnTo>
                  <a:close/>
                  <a:moveTo>
                    <a:pt x="1103" y="2489"/>
                  </a:moveTo>
                  <a:lnTo>
                    <a:pt x="1103" y="2489"/>
                  </a:lnTo>
                  <a:lnTo>
                    <a:pt x="1103" y="2491"/>
                  </a:lnTo>
                  <a:lnTo>
                    <a:pt x="1099" y="2493"/>
                  </a:lnTo>
                  <a:lnTo>
                    <a:pt x="1098" y="2494"/>
                  </a:lnTo>
                  <a:lnTo>
                    <a:pt x="1094" y="2494"/>
                  </a:lnTo>
                  <a:lnTo>
                    <a:pt x="1092" y="2493"/>
                  </a:lnTo>
                  <a:lnTo>
                    <a:pt x="1091" y="2491"/>
                  </a:lnTo>
                  <a:lnTo>
                    <a:pt x="1089" y="2489"/>
                  </a:lnTo>
                  <a:lnTo>
                    <a:pt x="1089" y="2486"/>
                  </a:lnTo>
                  <a:lnTo>
                    <a:pt x="1089" y="2486"/>
                  </a:lnTo>
                  <a:lnTo>
                    <a:pt x="1091" y="2482"/>
                  </a:lnTo>
                  <a:lnTo>
                    <a:pt x="1092" y="2480"/>
                  </a:lnTo>
                  <a:lnTo>
                    <a:pt x="1094" y="2480"/>
                  </a:lnTo>
                  <a:lnTo>
                    <a:pt x="1098" y="2480"/>
                  </a:lnTo>
                  <a:lnTo>
                    <a:pt x="1101" y="2480"/>
                  </a:lnTo>
                  <a:lnTo>
                    <a:pt x="1103" y="2482"/>
                  </a:lnTo>
                  <a:lnTo>
                    <a:pt x="1103" y="2486"/>
                  </a:lnTo>
                  <a:lnTo>
                    <a:pt x="1103" y="2489"/>
                  </a:lnTo>
                  <a:lnTo>
                    <a:pt x="1103" y="2489"/>
                  </a:lnTo>
                  <a:close/>
                  <a:moveTo>
                    <a:pt x="1098" y="2517"/>
                  </a:moveTo>
                  <a:lnTo>
                    <a:pt x="1098" y="2517"/>
                  </a:lnTo>
                  <a:lnTo>
                    <a:pt x="1098" y="2519"/>
                  </a:lnTo>
                  <a:lnTo>
                    <a:pt x="1094" y="2521"/>
                  </a:lnTo>
                  <a:lnTo>
                    <a:pt x="1092" y="2522"/>
                  </a:lnTo>
                  <a:lnTo>
                    <a:pt x="1091" y="2522"/>
                  </a:lnTo>
                  <a:lnTo>
                    <a:pt x="1087" y="2522"/>
                  </a:lnTo>
                  <a:lnTo>
                    <a:pt x="1085" y="2519"/>
                  </a:lnTo>
                  <a:lnTo>
                    <a:pt x="1084" y="2517"/>
                  </a:lnTo>
                  <a:lnTo>
                    <a:pt x="1084" y="2514"/>
                  </a:lnTo>
                  <a:lnTo>
                    <a:pt x="1084" y="2514"/>
                  </a:lnTo>
                  <a:lnTo>
                    <a:pt x="1085" y="2512"/>
                  </a:lnTo>
                  <a:lnTo>
                    <a:pt x="1087" y="2510"/>
                  </a:lnTo>
                  <a:lnTo>
                    <a:pt x="1089" y="2508"/>
                  </a:lnTo>
                  <a:lnTo>
                    <a:pt x="1092" y="2508"/>
                  </a:lnTo>
                  <a:lnTo>
                    <a:pt x="1096" y="2510"/>
                  </a:lnTo>
                  <a:lnTo>
                    <a:pt x="1098" y="2512"/>
                  </a:lnTo>
                  <a:lnTo>
                    <a:pt x="1098" y="2514"/>
                  </a:lnTo>
                  <a:lnTo>
                    <a:pt x="1098" y="2517"/>
                  </a:lnTo>
                  <a:lnTo>
                    <a:pt x="1098" y="2517"/>
                  </a:lnTo>
                  <a:close/>
                  <a:moveTo>
                    <a:pt x="1092" y="2545"/>
                  </a:moveTo>
                  <a:lnTo>
                    <a:pt x="1092" y="2545"/>
                  </a:lnTo>
                  <a:lnTo>
                    <a:pt x="1092" y="2549"/>
                  </a:lnTo>
                  <a:lnTo>
                    <a:pt x="1091" y="2550"/>
                  </a:lnTo>
                  <a:lnTo>
                    <a:pt x="1087" y="2550"/>
                  </a:lnTo>
                  <a:lnTo>
                    <a:pt x="1085" y="2552"/>
                  </a:lnTo>
                  <a:lnTo>
                    <a:pt x="1082" y="2550"/>
                  </a:lnTo>
                  <a:lnTo>
                    <a:pt x="1080" y="2549"/>
                  </a:lnTo>
                  <a:lnTo>
                    <a:pt x="1078" y="2545"/>
                  </a:lnTo>
                  <a:lnTo>
                    <a:pt x="1078" y="2543"/>
                  </a:lnTo>
                  <a:lnTo>
                    <a:pt x="1078" y="2543"/>
                  </a:lnTo>
                  <a:lnTo>
                    <a:pt x="1080" y="2540"/>
                  </a:lnTo>
                  <a:lnTo>
                    <a:pt x="1082" y="2538"/>
                  </a:lnTo>
                  <a:lnTo>
                    <a:pt x="1084" y="2536"/>
                  </a:lnTo>
                  <a:lnTo>
                    <a:pt x="1087" y="2536"/>
                  </a:lnTo>
                  <a:lnTo>
                    <a:pt x="1091" y="2538"/>
                  </a:lnTo>
                  <a:lnTo>
                    <a:pt x="1092" y="2540"/>
                  </a:lnTo>
                  <a:lnTo>
                    <a:pt x="1092" y="2543"/>
                  </a:lnTo>
                  <a:lnTo>
                    <a:pt x="1092" y="2545"/>
                  </a:lnTo>
                  <a:lnTo>
                    <a:pt x="1092" y="2545"/>
                  </a:lnTo>
                  <a:close/>
                  <a:moveTo>
                    <a:pt x="1087" y="2570"/>
                  </a:moveTo>
                  <a:lnTo>
                    <a:pt x="1087" y="2570"/>
                  </a:lnTo>
                  <a:lnTo>
                    <a:pt x="1087" y="2571"/>
                  </a:lnTo>
                  <a:lnTo>
                    <a:pt x="1087" y="2575"/>
                  </a:lnTo>
                  <a:lnTo>
                    <a:pt x="1087" y="2577"/>
                  </a:lnTo>
                  <a:lnTo>
                    <a:pt x="1084" y="2578"/>
                  </a:lnTo>
                  <a:lnTo>
                    <a:pt x="1082" y="2580"/>
                  </a:lnTo>
                  <a:lnTo>
                    <a:pt x="1078" y="2580"/>
                  </a:lnTo>
                  <a:lnTo>
                    <a:pt x="1077" y="2578"/>
                  </a:lnTo>
                  <a:lnTo>
                    <a:pt x="1075" y="2577"/>
                  </a:lnTo>
                  <a:lnTo>
                    <a:pt x="1075" y="2577"/>
                  </a:lnTo>
                  <a:lnTo>
                    <a:pt x="1073" y="2573"/>
                  </a:lnTo>
                  <a:lnTo>
                    <a:pt x="1073" y="2570"/>
                  </a:lnTo>
                  <a:lnTo>
                    <a:pt x="1075" y="2568"/>
                  </a:lnTo>
                  <a:lnTo>
                    <a:pt x="1078" y="2566"/>
                  </a:lnTo>
                  <a:lnTo>
                    <a:pt x="1080" y="2564"/>
                  </a:lnTo>
                  <a:lnTo>
                    <a:pt x="1084" y="2566"/>
                  </a:lnTo>
                  <a:lnTo>
                    <a:pt x="1085" y="2566"/>
                  </a:lnTo>
                  <a:lnTo>
                    <a:pt x="1087" y="2570"/>
                  </a:lnTo>
                  <a:lnTo>
                    <a:pt x="1087" y="2570"/>
                  </a:lnTo>
                  <a:close/>
                  <a:moveTo>
                    <a:pt x="1101" y="2594"/>
                  </a:moveTo>
                  <a:lnTo>
                    <a:pt x="1101" y="2594"/>
                  </a:lnTo>
                  <a:lnTo>
                    <a:pt x="1101" y="2598"/>
                  </a:lnTo>
                  <a:lnTo>
                    <a:pt x="1101" y="2601"/>
                  </a:lnTo>
                  <a:lnTo>
                    <a:pt x="1099" y="2603"/>
                  </a:lnTo>
                  <a:lnTo>
                    <a:pt x="1098" y="2605"/>
                  </a:lnTo>
                  <a:lnTo>
                    <a:pt x="1094" y="2605"/>
                  </a:lnTo>
                  <a:lnTo>
                    <a:pt x="1092" y="2605"/>
                  </a:lnTo>
                  <a:lnTo>
                    <a:pt x="1089" y="2605"/>
                  </a:lnTo>
                  <a:lnTo>
                    <a:pt x="1087" y="2601"/>
                  </a:lnTo>
                  <a:lnTo>
                    <a:pt x="1087" y="2601"/>
                  </a:lnTo>
                  <a:lnTo>
                    <a:pt x="1087" y="2599"/>
                  </a:lnTo>
                  <a:lnTo>
                    <a:pt x="1087" y="2596"/>
                  </a:lnTo>
                  <a:lnTo>
                    <a:pt x="1089" y="2594"/>
                  </a:lnTo>
                  <a:lnTo>
                    <a:pt x="1091" y="2592"/>
                  </a:lnTo>
                  <a:lnTo>
                    <a:pt x="1094" y="2591"/>
                  </a:lnTo>
                  <a:lnTo>
                    <a:pt x="1096" y="2591"/>
                  </a:lnTo>
                  <a:lnTo>
                    <a:pt x="1099" y="2592"/>
                  </a:lnTo>
                  <a:lnTo>
                    <a:pt x="1101" y="2594"/>
                  </a:lnTo>
                  <a:lnTo>
                    <a:pt x="1101" y="2594"/>
                  </a:lnTo>
                  <a:close/>
                  <a:moveTo>
                    <a:pt x="1113" y="2620"/>
                  </a:moveTo>
                  <a:lnTo>
                    <a:pt x="1113" y="2620"/>
                  </a:lnTo>
                  <a:lnTo>
                    <a:pt x="1115" y="2624"/>
                  </a:lnTo>
                  <a:lnTo>
                    <a:pt x="1115" y="2626"/>
                  </a:lnTo>
                  <a:lnTo>
                    <a:pt x="1113" y="2629"/>
                  </a:lnTo>
                  <a:lnTo>
                    <a:pt x="1112" y="2631"/>
                  </a:lnTo>
                  <a:lnTo>
                    <a:pt x="1108" y="2631"/>
                  </a:lnTo>
                  <a:lnTo>
                    <a:pt x="1105" y="2631"/>
                  </a:lnTo>
                  <a:lnTo>
                    <a:pt x="1103" y="2629"/>
                  </a:lnTo>
                  <a:lnTo>
                    <a:pt x="1101" y="2627"/>
                  </a:lnTo>
                  <a:lnTo>
                    <a:pt x="1101" y="2627"/>
                  </a:lnTo>
                  <a:lnTo>
                    <a:pt x="1101" y="2624"/>
                  </a:lnTo>
                  <a:lnTo>
                    <a:pt x="1101" y="2622"/>
                  </a:lnTo>
                  <a:lnTo>
                    <a:pt x="1103" y="2619"/>
                  </a:lnTo>
                  <a:lnTo>
                    <a:pt x="1105" y="2617"/>
                  </a:lnTo>
                  <a:lnTo>
                    <a:pt x="1106" y="2617"/>
                  </a:lnTo>
                  <a:lnTo>
                    <a:pt x="1110" y="2617"/>
                  </a:lnTo>
                  <a:lnTo>
                    <a:pt x="1112" y="2619"/>
                  </a:lnTo>
                  <a:lnTo>
                    <a:pt x="1113" y="2620"/>
                  </a:lnTo>
                  <a:lnTo>
                    <a:pt x="1113" y="2620"/>
                  </a:lnTo>
                  <a:close/>
                  <a:moveTo>
                    <a:pt x="1128" y="2647"/>
                  </a:moveTo>
                  <a:lnTo>
                    <a:pt x="1128" y="2647"/>
                  </a:lnTo>
                  <a:lnTo>
                    <a:pt x="1128" y="2648"/>
                  </a:lnTo>
                  <a:lnTo>
                    <a:pt x="1128" y="2652"/>
                  </a:lnTo>
                  <a:lnTo>
                    <a:pt x="1128" y="2654"/>
                  </a:lnTo>
                  <a:lnTo>
                    <a:pt x="1124" y="2655"/>
                  </a:lnTo>
                  <a:lnTo>
                    <a:pt x="1122" y="2657"/>
                  </a:lnTo>
                  <a:lnTo>
                    <a:pt x="1119" y="2657"/>
                  </a:lnTo>
                  <a:lnTo>
                    <a:pt x="1117" y="2655"/>
                  </a:lnTo>
                  <a:lnTo>
                    <a:pt x="1115" y="2654"/>
                  </a:lnTo>
                  <a:lnTo>
                    <a:pt x="1115" y="2654"/>
                  </a:lnTo>
                  <a:lnTo>
                    <a:pt x="1113" y="2650"/>
                  </a:lnTo>
                  <a:lnTo>
                    <a:pt x="1113" y="2647"/>
                  </a:lnTo>
                  <a:lnTo>
                    <a:pt x="1115" y="2645"/>
                  </a:lnTo>
                  <a:lnTo>
                    <a:pt x="1119" y="2643"/>
                  </a:lnTo>
                  <a:lnTo>
                    <a:pt x="1121" y="2641"/>
                  </a:lnTo>
                  <a:lnTo>
                    <a:pt x="1124" y="2643"/>
                  </a:lnTo>
                  <a:lnTo>
                    <a:pt x="1126" y="2643"/>
                  </a:lnTo>
                  <a:lnTo>
                    <a:pt x="1128" y="2647"/>
                  </a:lnTo>
                  <a:lnTo>
                    <a:pt x="1128" y="2647"/>
                  </a:lnTo>
                  <a:close/>
                  <a:moveTo>
                    <a:pt x="1142" y="2671"/>
                  </a:moveTo>
                  <a:lnTo>
                    <a:pt x="1142" y="2671"/>
                  </a:lnTo>
                  <a:lnTo>
                    <a:pt x="1142" y="2675"/>
                  </a:lnTo>
                  <a:lnTo>
                    <a:pt x="1142" y="2676"/>
                  </a:lnTo>
                  <a:lnTo>
                    <a:pt x="1140" y="2680"/>
                  </a:lnTo>
                  <a:lnTo>
                    <a:pt x="1138" y="2682"/>
                  </a:lnTo>
                  <a:lnTo>
                    <a:pt x="1135" y="2682"/>
                  </a:lnTo>
                  <a:lnTo>
                    <a:pt x="1133" y="2682"/>
                  </a:lnTo>
                  <a:lnTo>
                    <a:pt x="1129" y="2682"/>
                  </a:lnTo>
                  <a:lnTo>
                    <a:pt x="1128" y="2678"/>
                  </a:lnTo>
                  <a:lnTo>
                    <a:pt x="1128" y="2678"/>
                  </a:lnTo>
                  <a:lnTo>
                    <a:pt x="1128" y="2676"/>
                  </a:lnTo>
                  <a:lnTo>
                    <a:pt x="1128" y="2673"/>
                  </a:lnTo>
                  <a:lnTo>
                    <a:pt x="1129" y="2671"/>
                  </a:lnTo>
                  <a:lnTo>
                    <a:pt x="1131" y="2669"/>
                  </a:lnTo>
                  <a:lnTo>
                    <a:pt x="1135" y="2668"/>
                  </a:lnTo>
                  <a:lnTo>
                    <a:pt x="1136" y="2668"/>
                  </a:lnTo>
                  <a:lnTo>
                    <a:pt x="1140" y="2669"/>
                  </a:lnTo>
                  <a:lnTo>
                    <a:pt x="1142" y="2671"/>
                  </a:lnTo>
                  <a:lnTo>
                    <a:pt x="1142" y="2671"/>
                  </a:lnTo>
                  <a:close/>
                  <a:moveTo>
                    <a:pt x="1154" y="2697"/>
                  </a:moveTo>
                  <a:lnTo>
                    <a:pt x="1154" y="2697"/>
                  </a:lnTo>
                  <a:lnTo>
                    <a:pt x="1156" y="2701"/>
                  </a:lnTo>
                  <a:lnTo>
                    <a:pt x="1156" y="2703"/>
                  </a:lnTo>
                  <a:lnTo>
                    <a:pt x="1154" y="2706"/>
                  </a:lnTo>
                  <a:lnTo>
                    <a:pt x="1152" y="2708"/>
                  </a:lnTo>
                  <a:lnTo>
                    <a:pt x="1149" y="2708"/>
                  </a:lnTo>
                  <a:lnTo>
                    <a:pt x="1145" y="2708"/>
                  </a:lnTo>
                  <a:lnTo>
                    <a:pt x="1143" y="2706"/>
                  </a:lnTo>
                  <a:lnTo>
                    <a:pt x="1142" y="2704"/>
                  </a:lnTo>
                  <a:lnTo>
                    <a:pt x="1142" y="2704"/>
                  </a:lnTo>
                  <a:lnTo>
                    <a:pt x="1142" y="2701"/>
                  </a:lnTo>
                  <a:lnTo>
                    <a:pt x="1142" y="2699"/>
                  </a:lnTo>
                  <a:lnTo>
                    <a:pt x="1143" y="2696"/>
                  </a:lnTo>
                  <a:lnTo>
                    <a:pt x="1145" y="2694"/>
                  </a:lnTo>
                  <a:lnTo>
                    <a:pt x="1147" y="2694"/>
                  </a:lnTo>
                  <a:lnTo>
                    <a:pt x="1150" y="2694"/>
                  </a:lnTo>
                  <a:lnTo>
                    <a:pt x="1152" y="2696"/>
                  </a:lnTo>
                  <a:lnTo>
                    <a:pt x="1154" y="2697"/>
                  </a:lnTo>
                  <a:lnTo>
                    <a:pt x="1154" y="2697"/>
                  </a:lnTo>
                  <a:close/>
                  <a:moveTo>
                    <a:pt x="1168" y="2724"/>
                  </a:moveTo>
                  <a:lnTo>
                    <a:pt x="1168" y="2724"/>
                  </a:lnTo>
                  <a:lnTo>
                    <a:pt x="1168" y="2725"/>
                  </a:lnTo>
                  <a:lnTo>
                    <a:pt x="1168" y="2729"/>
                  </a:lnTo>
                  <a:lnTo>
                    <a:pt x="1168" y="2731"/>
                  </a:lnTo>
                  <a:lnTo>
                    <a:pt x="1164" y="2732"/>
                  </a:lnTo>
                  <a:lnTo>
                    <a:pt x="1163" y="2734"/>
                  </a:lnTo>
                  <a:lnTo>
                    <a:pt x="1159" y="2734"/>
                  </a:lnTo>
                  <a:lnTo>
                    <a:pt x="1157" y="2732"/>
                  </a:lnTo>
                  <a:lnTo>
                    <a:pt x="1156" y="2731"/>
                  </a:lnTo>
                  <a:lnTo>
                    <a:pt x="1156" y="2731"/>
                  </a:lnTo>
                  <a:lnTo>
                    <a:pt x="1154" y="2727"/>
                  </a:lnTo>
                  <a:lnTo>
                    <a:pt x="1154" y="2724"/>
                  </a:lnTo>
                  <a:lnTo>
                    <a:pt x="1156" y="2722"/>
                  </a:lnTo>
                  <a:lnTo>
                    <a:pt x="1159" y="2720"/>
                  </a:lnTo>
                  <a:lnTo>
                    <a:pt x="1161" y="2718"/>
                  </a:lnTo>
                  <a:lnTo>
                    <a:pt x="1164" y="2720"/>
                  </a:lnTo>
                  <a:lnTo>
                    <a:pt x="1166" y="2720"/>
                  </a:lnTo>
                  <a:lnTo>
                    <a:pt x="1168" y="2724"/>
                  </a:lnTo>
                  <a:lnTo>
                    <a:pt x="1168" y="2724"/>
                  </a:lnTo>
                  <a:close/>
                  <a:moveTo>
                    <a:pt x="1182" y="2748"/>
                  </a:moveTo>
                  <a:lnTo>
                    <a:pt x="1182" y="2748"/>
                  </a:lnTo>
                  <a:lnTo>
                    <a:pt x="1182" y="2752"/>
                  </a:lnTo>
                  <a:lnTo>
                    <a:pt x="1182" y="2753"/>
                  </a:lnTo>
                  <a:lnTo>
                    <a:pt x="1180" y="2757"/>
                  </a:lnTo>
                  <a:lnTo>
                    <a:pt x="1178" y="2759"/>
                  </a:lnTo>
                  <a:lnTo>
                    <a:pt x="1175" y="2759"/>
                  </a:lnTo>
                  <a:lnTo>
                    <a:pt x="1173" y="2759"/>
                  </a:lnTo>
                  <a:lnTo>
                    <a:pt x="1170" y="2757"/>
                  </a:lnTo>
                  <a:lnTo>
                    <a:pt x="1168" y="2755"/>
                  </a:lnTo>
                  <a:lnTo>
                    <a:pt x="1168" y="2755"/>
                  </a:lnTo>
                  <a:lnTo>
                    <a:pt x="1168" y="2752"/>
                  </a:lnTo>
                  <a:lnTo>
                    <a:pt x="1168" y="2750"/>
                  </a:lnTo>
                  <a:lnTo>
                    <a:pt x="1170" y="2748"/>
                  </a:lnTo>
                  <a:lnTo>
                    <a:pt x="1171" y="2746"/>
                  </a:lnTo>
                  <a:lnTo>
                    <a:pt x="1175" y="2745"/>
                  </a:lnTo>
                  <a:lnTo>
                    <a:pt x="1177" y="2745"/>
                  </a:lnTo>
                  <a:lnTo>
                    <a:pt x="1180" y="2746"/>
                  </a:lnTo>
                  <a:lnTo>
                    <a:pt x="1182" y="2748"/>
                  </a:lnTo>
                  <a:lnTo>
                    <a:pt x="1182" y="2748"/>
                  </a:lnTo>
                  <a:close/>
                  <a:moveTo>
                    <a:pt x="1194" y="2776"/>
                  </a:moveTo>
                  <a:lnTo>
                    <a:pt x="1194" y="2776"/>
                  </a:lnTo>
                  <a:lnTo>
                    <a:pt x="1194" y="2778"/>
                  </a:lnTo>
                  <a:lnTo>
                    <a:pt x="1194" y="2781"/>
                  </a:lnTo>
                  <a:lnTo>
                    <a:pt x="1192" y="2783"/>
                  </a:lnTo>
                  <a:lnTo>
                    <a:pt x="1191" y="2785"/>
                  </a:lnTo>
                  <a:lnTo>
                    <a:pt x="1187" y="2785"/>
                  </a:lnTo>
                  <a:lnTo>
                    <a:pt x="1185" y="2785"/>
                  </a:lnTo>
                  <a:lnTo>
                    <a:pt x="1182" y="2783"/>
                  </a:lnTo>
                  <a:lnTo>
                    <a:pt x="1182" y="2781"/>
                  </a:lnTo>
                  <a:lnTo>
                    <a:pt x="1182" y="2781"/>
                  </a:lnTo>
                  <a:lnTo>
                    <a:pt x="1180" y="2778"/>
                  </a:lnTo>
                  <a:lnTo>
                    <a:pt x="1180" y="2776"/>
                  </a:lnTo>
                  <a:lnTo>
                    <a:pt x="1182" y="2773"/>
                  </a:lnTo>
                  <a:lnTo>
                    <a:pt x="1185" y="2771"/>
                  </a:lnTo>
                  <a:lnTo>
                    <a:pt x="1187" y="2771"/>
                  </a:lnTo>
                  <a:lnTo>
                    <a:pt x="1191" y="2771"/>
                  </a:lnTo>
                  <a:lnTo>
                    <a:pt x="1192" y="2773"/>
                  </a:lnTo>
                  <a:lnTo>
                    <a:pt x="1194" y="2776"/>
                  </a:lnTo>
                  <a:lnTo>
                    <a:pt x="1194" y="2776"/>
                  </a:lnTo>
                  <a:close/>
                  <a:moveTo>
                    <a:pt x="1206" y="2802"/>
                  </a:moveTo>
                  <a:lnTo>
                    <a:pt x="1206" y="2802"/>
                  </a:lnTo>
                  <a:lnTo>
                    <a:pt x="1206" y="2804"/>
                  </a:lnTo>
                  <a:lnTo>
                    <a:pt x="1206" y="2808"/>
                  </a:lnTo>
                  <a:lnTo>
                    <a:pt x="1205" y="2809"/>
                  </a:lnTo>
                  <a:lnTo>
                    <a:pt x="1203" y="2811"/>
                  </a:lnTo>
                  <a:lnTo>
                    <a:pt x="1199" y="2811"/>
                  </a:lnTo>
                  <a:lnTo>
                    <a:pt x="1196" y="2811"/>
                  </a:lnTo>
                  <a:lnTo>
                    <a:pt x="1194" y="2809"/>
                  </a:lnTo>
                  <a:lnTo>
                    <a:pt x="1192" y="2808"/>
                  </a:lnTo>
                  <a:lnTo>
                    <a:pt x="1192" y="2808"/>
                  </a:lnTo>
                  <a:lnTo>
                    <a:pt x="1192" y="2804"/>
                  </a:lnTo>
                  <a:lnTo>
                    <a:pt x="1192" y="2802"/>
                  </a:lnTo>
                  <a:lnTo>
                    <a:pt x="1194" y="2799"/>
                  </a:lnTo>
                  <a:lnTo>
                    <a:pt x="1196" y="2799"/>
                  </a:lnTo>
                  <a:lnTo>
                    <a:pt x="1199" y="2797"/>
                  </a:lnTo>
                  <a:lnTo>
                    <a:pt x="1201" y="2797"/>
                  </a:lnTo>
                  <a:lnTo>
                    <a:pt x="1205" y="2799"/>
                  </a:lnTo>
                  <a:lnTo>
                    <a:pt x="1206" y="2802"/>
                  </a:lnTo>
                  <a:lnTo>
                    <a:pt x="1206" y="2802"/>
                  </a:lnTo>
                  <a:close/>
                  <a:moveTo>
                    <a:pt x="1219" y="2829"/>
                  </a:moveTo>
                  <a:lnTo>
                    <a:pt x="1219" y="2829"/>
                  </a:lnTo>
                  <a:lnTo>
                    <a:pt x="1219" y="2830"/>
                  </a:lnTo>
                  <a:lnTo>
                    <a:pt x="1217" y="2834"/>
                  </a:lnTo>
                  <a:lnTo>
                    <a:pt x="1217" y="2836"/>
                  </a:lnTo>
                  <a:lnTo>
                    <a:pt x="1213" y="2837"/>
                  </a:lnTo>
                  <a:lnTo>
                    <a:pt x="1212" y="2837"/>
                  </a:lnTo>
                  <a:lnTo>
                    <a:pt x="1208" y="2837"/>
                  </a:lnTo>
                  <a:lnTo>
                    <a:pt x="1206" y="2836"/>
                  </a:lnTo>
                  <a:lnTo>
                    <a:pt x="1205" y="2834"/>
                  </a:lnTo>
                  <a:lnTo>
                    <a:pt x="1205" y="2834"/>
                  </a:lnTo>
                  <a:lnTo>
                    <a:pt x="1205" y="2830"/>
                  </a:lnTo>
                  <a:lnTo>
                    <a:pt x="1205" y="2829"/>
                  </a:lnTo>
                  <a:lnTo>
                    <a:pt x="1206" y="2825"/>
                  </a:lnTo>
                  <a:lnTo>
                    <a:pt x="1208" y="2825"/>
                  </a:lnTo>
                  <a:lnTo>
                    <a:pt x="1212" y="2823"/>
                  </a:lnTo>
                  <a:lnTo>
                    <a:pt x="1213" y="2823"/>
                  </a:lnTo>
                  <a:lnTo>
                    <a:pt x="1217" y="2825"/>
                  </a:lnTo>
                  <a:lnTo>
                    <a:pt x="1219" y="2829"/>
                  </a:lnTo>
                  <a:lnTo>
                    <a:pt x="1219" y="2829"/>
                  </a:lnTo>
                  <a:close/>
                  <a:moveTo>
                    <a:pt x="1229" y="2855"/>
                  </a:moveTo>
                  <a:lnTo>
                    <a:pt x="1229" y="2855"/>
                  </a:lnTo>
                  <a:lnTo>
                    <a:pt x="1229" y="2857"/>
                  </a:lnTo>
                  <a:lnTo>
                    <a:pt x="1229" y="2860"/>
                  </a:lnTo>
                  <a:lnTo>
                    <a:pt x="1227" y="2862"/>
                  </a:lnTo>
                  <a:lnTo>
                    <a:pt x="1226" y="2864"/>
                  </a:lnTo>
                  <a:lnTo>
                    <a:pt x="1222" y="2865"/>
                  </a:lnTo>
                  <a:lnTo>
                    <a:pt x="1220" y="2864"/>
                  </a:lnTo>
                  <a:lnTo>
                    <a:pt x="1217" y="2862"/>
                  </a:lnTo>
                  <a:lnTo>
                    <a:pt x="1217" y="2860"/>
                  </a:lnTo>
                  <a:lnTo>
                    <a:pt x="1217" y="2860"/>
                  </a:lnTo>
                  <a:lnTo>
                    <a:pt x="1215" y="2857"/>
                  </a:lnTo>
                  <a:lnTo>
                    <a:pt x="1215" y="2855"/>
                  </a:lnTo>
                  <a:lnTo>
                    <a:pt x="1217" y="2853"/>
                  </a:lnTo>
                  <a:lnTo>
                    <a:pt x="1220" y="2851"/>
                  </a:lnTo>
                  <a:lnTo>
                    <a:pt x="1222" y="2850"/>
                  </a:lnTo>
                  <a:lnTo>
                    <a:pt x="1226" y="2851"/>
                  </a:lnTo>
                  <a:lnTo>
                    <a:pt x="1227" y="2851"/>
                  </a:lnTo>
                  <a:lnTo>
                    <a:pt x="1229" y="2855"/>
                  </a:lnTo>
                  <a:lnTo>
                    <a:pt x="1229" y="2855"/>
                  </a:lnTo>
                  <a:close/>
                  <a:moveTo>
                    <a:pt x="1241" y="2881"/>
                  </a:moveTo>
                  <a:lnTo>
                    <a:pt x="1241" y="2881"/>
                  </a:lnTo>
                  <a:lnTo>
                    <a:pt x="1241" y="2885"/>
                  </a:lnTo>
                  <a:lnTo>
                    <a:pt x="1241" y="2886"/>
                  </a:lnTo>
                  <a:lnTo>
                    <a:pt x="1240" y="2890"/>
                  </a:lnTo>
                  <a:lnTo>
                    <a:pt x="1238" y="2892"/>
                  </a:lnTo>
                  <a:lnTo>
                    <a:pt x="1234" y="2892"/>
                  </a:lnTo>
                  <a:lnTo>
                    <a:pt x="1231" y="2890"/>
                  </a:lnTo>
                  <a:lnTo>
                    <a:pt x="1229" y="2890"/>
                  </a:lnTo>
                  <a:lnTo>
                    <a:pt x="1227" y="2886"/>
                  </a:lnTo>
                  <a:lnTo>
                    <a:pt x="1227" y="2886"/>
                  </a:lnTo>
                  <a:lnTo>
                    <a:pt x="1227" y="2885"/>
                  </a:lnTo>
                  <a:lnTo>
                    <a:pt x="1227" y="2881"/>
                  </a:lnTo>
                  <a:lnTo>
                    <a:pt x="1229" y="2879"/>
                  </a:lnTo>
                  <a:lnTo>
                    <a:pt x="1231" y="2878"/>
                  </a:lnTo>
                  <a:lnTo>
                    <a:pt x="1234" y="2876"/>
                  </a:lnTo>
                  <a:lnTo>
                    <a:pt x="1236" y="2878"/>
                  </a:lnTo>
                  <a:lnTo>
                    <a:pt x="1240" y="2879"/>
                  </a:lnTo>
                  <a:lnTo>
                    <a:pt x="1241" y="2881"/>
                  </a:lnTo>
                  <a:lnTo>
                    <a:pt x="1241" y="2881"/>
                  </a:lnTo>
                  <a:close/>
                  <a:moveTo>
                    <a:pt x="1254" y="2907"/>
                  </a:moveTo>
                  <a:lnTo>
                    <a:pt x="1254" y="2907"/>
                  </a:lnTo>
                  <a:lnTo>
                    <a:pt x="1254" y="2911"/>
                  </a:lnTo>
                  <a:lnTo>
                    <a:pt x="1252" y="2913"/>
                  </a:lnTo>
                  <a:lnTo>
                    <a:pt x="1252" y="2916"/>
                  </a:lnTo>
                  <a:lnTo>
                    <a:pt x="1248" y="2918"/>
                  </a:lnTo>
                  <a:lnTo>
                    <a:pt x="1247" y="2918"/>
                  </a:lnTo>
                  <a:lnTo>
                    <a:pt x="1243" y="2918"/>
                  </a:lnTo>
                  <a:lnTo>
                    <a:pt x="1241" y="2916"/>
                  </a:lnTo>
                  <a:lnTo>
                    <a:pt x="1240" y="2915"/>
                  </a:lnTo>
                  <a:lnTo>
                    <a:pt x="1240" y="2915"/>
                  </a:lnTo>
                  <a:lnTo>
                    <a:pt x="1238" y="2911"/>
                  </a:lnTo>
                  <a:lnTo>
                    <a:pt x="1240" y="2907"/>
                  </a:lnTo>
                  <a:lnTo>
                    <a:pt x="1241" y="2906"/>
                  </a:lnTo>
                  <a:lnTo>
                    <a:pt x="1243" y="2904"/>
                  </a:lnTo>
                  <a:lnTo>
                    <a:pt x="1247" y="2904"/>
                  </a:lnTo>
                  <a:lnTo>
                    <a:pt x="1248" y="2904"/>
                  </a:lnTo>
                  <a:lnTo>
                    <a:pt x="1252" y="2906"/>
                  </a:lnTo>
                  <a:lnTo>
                    <a:pt x="1254" y="2907"/>
                  </a:lnTo>
                  <a:lnTo>
                    <a:pt x="1254" y="2907"/>
                  </a:lnTo>
                  <a:close/>
                  <a:moveTo>
                    <a:pt x="1264" y="2937"/>
                  </a:moveTo>
                  <a:lnTo>
                    <a:pt x="1264" y="2937"/>
                  </a:lnTo>
                  <a:lnTo>
                    <a:pt x="1264" y="2941"/>
                  </a:lnTo>
                  <a:lnTo>
                    <a:pt x="1262" y="2943"/>
                  </a:lnTo>
                  <a:lnTo>
                    <a:pt x="1259" y="2944"/>
                  </a:lnTo>
                  <a:lnTo>
                    <a:pt x="1257" y="2944"/>
                  </a:lnTo>
                  <a:lnTo>
                    <a:pt x="1254" y="2944"/>
                  </a:lnTo>
                  <a:lnTo>
                    <a:pt x="1252" y="2943"/>
                  </a:lnTo>
                  <a:lnTo>
                    <a:pt x="1250" y="2941"/>
                  </a:lnTo>
                  <a:lnTo>
                    <a:pt x="1250" y="2937"/>
                  </a:lnTo>
                  <a:lnTo>
                    <a:pt x="1250" y="2937"/>
                  </a:lnTo>
                  <a:lnTo>
                    <a:pt x="1250" y="2934"/>
                  </a:lnTo>
                  <a:lnTo>
                    <a:pt x="1252" y="2932"/>
                  </a:lnTo>
                  <a:lnTo>
                    <a:pt x="1254" y="2930"/>
                  </a:lnTo>
                  <a:lnTo>
                    <a:pt x="1257" y="2930"/>
                  </a:lnTo>
                  <a:lnTo>
                    <a:pt x="1259" y="2930"/>
                  </a:lnTo>
                  <a:lnTo>
                    <a:pt x="1262" y="2932"/>
                  </a:lnTo>
                  <a:lnTo>
                    <a:pt x="1264" y="2934"/>
                  </a:lnTo>
                  <a:lnTo>
                    <a:pt x="1264" y="2937"/>
                  </a:lnTo>
                  <a:lnTo>
                    <a:pt x="1264" y="2937"/>
                  </a:lnTo>
                  <a:close/>
                  <a:moveTo>
                    <a:pt x="1264" y="2967"/>
                  </a:moveTo>
                  <a:lnTo>
                    <a:pt x="1264" y="2967"/>
                  </a:lnTo>
                  <a:lnTo>
                    <a:pt x="1264" y="2969"/>
                  </a:lnTo>
                  <a:lnTo>
                    <a:pt x="1262" y="2971"/>
                  </a:lnTo>
                  <a:lnTo>
                    <a:pt x="1259" y="2972"/>
                  </a:lnTo>
                  <a:lnTo>
                    <a:pt x="1257" y="2974"/>
                  </a:lnTo>
                  <a:lnTo>
                    <a:pt x="1254" y="2972"/>
                  </a:lnTo>
                  <a:lnTo>
                    <a:pt x="1252" y="2971"/>
                  </a:lnTo>
                  <a:lnTo>
                    <a:pt x="1250" y="2969"/>
                  </a:lnTo>
                  <a:lnTo>
                    <a:pt x="1250" y="2967"/>
                  </a:lnTo>
                  <a:lnTo>
                    <a:pt x="1250" y="2967"/>
                  </a:lnTo>
                  <a:lnTo>
                    <a:pt x="1250" y="2964"/>
                  </a:lnTo>
                  <a:lnTo>
                    <a:pt x="1252" y="2962"/>
                  </a:lnTo>
                  <a:lnTo>
                    <a:pt x="1254" y="2960"/>
                  </a:lnTo>
                  <a:lnTo>
                    <a:pt x="1257" y="2960"/>
                  </a:lnTo>
                  <a:lnTo>
                    <a:pt x="1259" y="2960"/>
                  </a:lnTo>
                  <a:lnTo>
                    <a:pt x="1262" y="2962"/>
                  </a:lnTo>
                  <a:lnTo>
                    <a:pt x="1264" y="2964"/>
                  </a:lnTo>
                  <a:lnTo>
                    <a:pt x="1264" y="2967"/>
                  </a:lnTo>
                  <a:lnTo>
                    <a:pt x="1264" y="2967"/>
                  </a:lnTo>
                  <a:close/>
                  <a:moveTo>
                    <a:pt x="1264" y="2995"/>
                  </a:moveTo>
                  <a:lnTo>
                    <a:pt x="1264" y="2995"/>
                  </a:lnTo>
                  <a:lnTo>
                    <a:pt x="1264" y="2999"/>
                  </a:lnTo>
                  <a:lnTo>
                    <a:pt x="1262" y="3000"/>
                  </a:lnTo>
                  <a:lnTo>
                    <a:pt x="1259" y="3002"/>
                  </a:lnTo>
                  <a:lnTo>
                    <a:pt x="1257" y="3002"/>
                  </a:lnTo>
                  <a:lnTo>
                    <a:pt x="1254" y="3002"/>
                  </a:lnTo>
                  <a:lnTo>
                    <a:pt x="1252" y="3000"/>
                  </a:lnTo>
                  <a:lnTo>
                    <a:pt x="1250" y="2999"/>
                  </a:lnTo>
                  <a:lnTo>
                    <a:pt x="1250" y="2995"/>
                  </a:lnTo>
                  <a:lnTo>
                    <a:pt x="1250" y="2995"/>
                  </a:lnTo>
                  <a:lnTo>
                    <a:pt x="1250" y="2992"/>
                  </a:lnTo>
                  <a:lnTo>
                    <a:pt x="1252" y="2990"/>
                  </a:lnTo>
                  <a:lnTo>
                    <a:pt x="1254" y="2988"/>
                  </a:lnTo>
                  <a:lnTo>
                    <a:pt x="1257" y="2988"/>
                  </a:lnTo>
                  <a:lnTo>
                    <a:pt x="1259" y="2988"/>
                  </a:lnTo>
                  <a:lnTo>
                    <a:pt x="1262" y="2990"/>
                  </a:lnTo>
                  <a:lnTo>
                    <a:pt x="1264" y="2992"/>
                  </a:lnTo>
                  <a:lnTo>
                    <a:pt x="1264" y="2995"/>
                  </a:lnTo>
                  <a:lnTo>
                    <a:pt x="1264" y="2995"/>
                  </a:lnTo>
                  <a:close/>
                  <a:moveTo>
                    <a:pt x="1280" y="3009"/>
                  </a:moveTo>
                  <a:lnTo>
                    <a:pt x="1280" y="3009"/>
                  </a:lnTo>
                  <a:lnTo>
                    <a:pt x="1282" y="3013"/>
                  </a:lnTo>
                  <a:lnTo>
                    <a:pt x="1282" y="3014"/>
                  </a:lnTo>
                  <a:lnTo>
                    <a:pt x="1282" y="3018"/>
                  </a:lnTo>
                  <a:lnTo>
                    <a:pt x="1282" y="3020"/>
                  </a:lnTo>
                  <a:lnTo>
                    <a:pt x="1278" y="3021"/>
                  </a:lnTo>
                  <a:lnTo>
                    <a:pt x="1276" y="3023"/>
                  </a:lnTo>
                  <a:lnTo>
                    <a:pt x="1273" y="3023"/>
                  </a:lnTo>
                  <a:lnTo>
                    <a:pt x="1271" y="3021"/>
                  </a:lnTo>
                  <a:lnTo>
                    <a:pt x="1271" y="3021"/>
                  </a:lnTo>
                  <a:lnTo>
                    <a:pt x="1269" y="3020"/>
                  </a:lnTo>
                  <a:lnTo>
                    <a:pt x="1268" y="3016"/>
                  </a:lnTo>
                  <a:lnTo>
                    <a:pt x="1268" y="3014"/>
                  </a:lnTo>
                  <a:lnTo>
                    <a:pt x="1269" y="3011"/>
                  </a:lnTo>
                  <a:lnTo>
                    <a:pt x="1271" y="3009"/>
                  </a:lnTo>
                  <a:lnTo>
                    <a:pt x="1275" y="3009"/>
                  </a:lnTo>
                  <a:lnTo>
                    <a:pt x="1276" y="3009"/>
                  </a:lnTo>
                  <a:lnTo>
                    <a:pt x="1280" y="3009"/>
                  </a:lnTo>
                  <a:lnTo>
                    <a:pt x="1280" y="3009"/>
                  </a:lnTo>
                  <a:close/>
                  <a:moveTo>
                    <a:pt x="1303" y="3028"/>
                  </a:moveTo>
                  <a:lnTo>
                    <a:pt x="1303" y="3028"/>
                  </a:lnTo>
                  <a:lnTo>
                    <a:pt x="1304" y="3030"/>
                  </a:lnTo>
                  <a:lnTo>
                    <a:pt x="1304" y="3032"/>
                  </a:lnTo>
                  <a:lnTo>
                    <a:pt x="1304" y="3035"/>
                  </a:lnTo>
                  <a:lnTo>
                    <a:pt x="1304" y="3037"/>
                  </a:lnTo>
                  <a:lnTo>
                    <a:pt x="1301" y="3039"/>
                  </a:lnTo>
                  <a:lnTo>
                    <a:pt x="1299" y="3041"/>
                  </a:lnTo>
                  <a:lnTo>
                    <a:pt x="1296" y="3041"/>
                  </a:lnTo>
                  <a:lnTo>
                    <a:pt x="1294" y="3039"/>
                  </a:lnTo>
                  <a:lnTo>
                    <a:pt x="1294" y="3039"/>
                  </a:lnTo>
                  <a:lnTo>
                    <a:pt x="1292" y="3037"/>
                  </a:lnTo>
                  <a:lnTo>
                    <a:pt x="1290" y="3034"/>
                  </a:lnTo>
                  <a:lnTo>
                    <a:pt x="1290" y="3032"/>
                  </a:lnTo>
                  <a:lnTo>
                    <a:pt x="1292" y="3028"/>
                  </a:lnTo>
                  <a:lnTo>
                    <a:pt x="1294" y="3027"/>
                  </a:lnTo>
                  <a:lnTo>
                    <a:pt x="1297" y="3027"/>
                  </a:lnTo>
                  <a:lnTo>
                    <a:pt x="1299" y="3027"/>
                  </a:lnTo>
                  <a:lnTo>
                    <a:pt x="1303" y="3028"/>
                  </a:lnTo>
                  <a:lnTo>
                    <a:pt x="1303" y="3028"/>
                  </a:lnTo>
                  <a:close/>
                  <a:moveTo>
                    <a:pt x="1325" y="3046"/>
                  </a:moveTo>
                  <a:lnTo>
                    <a:pt x="1325" y="3046"/>
                  </a:lnTo>
                  <a:lnTo>
                    <a:pt x="1327" y="3048"/>
                  </a:lnTo>
                  <a:lnTo>
                    <a:pt x="1327" y="3049"/>
                  </a:lnTo>
                  <a:lnTo>
                    <a:pt x="1327" y="3053"/>
                  </a:lnTo>
                  <a:lnTo>
                    <a:pt x="1327" y="3056"/>
                  </a:lnTo>
                  <a:lnTo>
                    <a:pt x="1324" y="3058"/>
                  </a:lnTo>
                  <a:lnTo>
                    <a:pt x="1322" y="3058"/>
                  </a:lnTo>
                  <a:lnTo>
                    <a:pt x="1318" y="3058"/>
                  </a:lnTo>
                  <a:lnTo>
                    <a:pt x="1317" y="3056"/>
                  </a:lnTo>
                  <a:lnTo>
                    <a:pt x="1317" y="3056"/>
                  </a:lnTo>
                  <a:lnTo>
                    <a:pt x="1315" y="3055"/>
                  </a:lnTo>
                  <a:lnTo>
                    <a:pt x="1313" y="3051"/>
                  </a:lnTo>
                  <a:lnTo>
                    <a:pt x="1313" y="3049"/>
                  </a:lnTo>
                  <a:lnTo>
                    <a:pt x="1315" y="3048"/>
                  </a:lnTo>
                  <a:lnTo>
                    <a:pt x="1317" y="3044"/>
                  </a:lnTo>
                  <a:lnTo>
                    <a:pt x="1320" y="3044"/>
                  </a:lnTo>
                  <a:lnTo>
                    <a:pt x="1322" y="3044"/>
                  </a:lnTo>
                  <a:lnTo>
                    <a:pt x="1325" y="3046"/>
                  </a:lnTo>
                  <a:lnTo>
                    <a:pt x="1325" y="3046"/>
                  </a:lnTo>
                  <a:close/>
                  <a:moveTo>
                    <a:pt x="1348" y="3063"/>
                  </a:moveTo>
                  <a:lnTo>
                    <a:pt x="1348" y="3063"/>
                  </a:lnTo>
                  <a:lnTo>
                    <a:pt x="1350" y="3065"/>
                  </a:lnTo>
                  <a:lnTo>
                    <a:pt x="1350" y="3069"/>
                  </a:lnTo>
                  <a:lnTo>
                    <a:pt x="1350" y="3070"/>
                  </a:lnTo>
                  <a:lnTo>
                    <a:pt x="1350" y="3074"/>
                  </a:lnTo>
                  <a:lnTo>
                    <a:pt x="1346" y="3076"/>
                  </a:lnTo>
                  <a:lnTo>
                    <a:pt x="1345" y="3076"/>
                  </a:lnTo>
                  <a:lnTo>
                    <a:pt x="1341" y="3076"/>
                  </a:lnTo>
                  <a:lnTo>
                    <a:pt x="1339" y="3076"/>
                  </a:lnTo>
                  <a:lnTo>
                    <a:pt x="1339" y="3076"/>
                  </a:lnTo>
                  <a:lnTo>
                    <a:pt x="1338" y="3072"/>
                  </a:lnTo>
                  <a:lnTo>
                    <a:pt x="1336" y="3070"/>
                  </a:lnTo>
                  <a:lnTo>
                    <a:pt x="1336" y="3067"/>
                  </a:lnTo>
                  <a:lnTo>
                    <a:pt x="1338" y="3065"/>
                  </a:lnTo>
                  <a:lnTo>
                    <a:pt x="1339" y="3062"/>
                  </a:lnTo>
                  <a:lnTo>
                    <a:pt x="1343" y="3062"/>
                  </a:lnTo>
                  <a:lnTo>
                    <a:pt x="1345" y="3062"/>
                  </a:lnTo>
                  <a:lnTo>
                    <a:pt x="1348" y="3063"/>
                  </a:lnTo>
                  <a:lnTo>
                    <a:pt x="1348" y="3063"/>
                  </a:lnTo>
                  <a:close/>
                  <a:moveTo>
                    <a:pt x="1371" y="3081"/>
                  </a:moveTo>
                  <a:lnTo>
                    <a:pt x="1371" y="3081"/>
                  </a:lnTo>
                  <a:lnTo>
                    <a:pt x="1373" y="3083"/>
                  </a:lnTo>
                  <a:lnTo>
                    <a:pt x="1373" y="3086"/>
                  </a:lnTo>
                  <a:lnTo>
                    <a:pt x="1373" y="3088"/>
                  </a:lnTo>
                  <a:lnTo>
                    <a:pt x="1373" y="3091"/>
                  </a:lnTo>
                  <a:lnTo>
                    <a:pt x="1369" y="3093"/>
                  </a:lnTo>
                  <a:lnTo>
                    <a:pt x="1367" y="3093"/>
                  </a:lnTo>
                  <a:lnTo>
                    <a:pt x="1364" y="3093"/>
                  </a:lnTo>
                  <a:lnTo>
                    <a:pt x="1362" y="3093"/>
                  </a:lnTo>
                  <a:lnTo>
                    <a:pt x="1362" y="3093"/>
                  </a:lnTo>
                  <a:lnTo>
                    <a:pt x="1360" y="3090"/>
                  </a:lnTo>
                  <a:lnTo>
                    <a:pt x="1359" y="3088"/>
                  </a:lnTo>
                  <a:lnTo>
                    <a:pt x="1359" y="3084"/>
                  </a:lnTo>
                  <a:lnTo>
                    <a:pt x="1360" y="3083"/>
                  </a:lnTo>
                  <a:lnTo>
                    <a:pt x="1362" y="3081"/>
                  </a:lnTo>
                  <a:lnTo>
                    <a:pt x="1366" y="3079"/>
                  </a:lnTo>
                  <a:lnTo>
                    <a:pt x="1367" y="3079"/>
                  </a:lnTo>
                  <a:lnTo>
                    <a:pt x="1371" y="3081"/>
                  </a:lnTo>
                  <a:lnTo>
                    <a:pt x="1371" y="3081"/>
                  </a:lnTo>
                  <a:close/>
                  <a:moveTo>
                    <a:pt x="1394" y="3098"/>
                  </a:moveTo>
                  <a:lnTo>
                    <a:pt x="1394" y="3098"/>
                  </a:lnTo>
                  <a:lnTo>
                    <a:pt x="1395" y="3100"/>
                  </a:lnTo>
                  <a:lnTo>
                    <a:pt x="1397" y="3104"/>
                  </a:lnTo>
                  <a:lnTo>
                    <a:pt x="1395" y="3105"/>
                  </a:lnTo>
                  <a:lnTo>
                    <a:pt x="1395" y="3109"/>
                  </a:lnTo>
                  <a:lnTo>
                    <a:pt x="1392" y="3111"/>
                  </a:lnTo>
                  <a:lnTo>
                    <a:pt x="1390" y="3112"/>
                  </a:lnTo>
                  <a:lnTo>
                    <a:pt x="1387" y="3111"/>
                  </a:lnTo>
                  <a:lnTo>
                    <a:pt x="1385" y="3111"/>
                  </a:lnTo>
                  <a:lnTo>
                    <a:pt x="1385" y="3111"/>
                  </a:lnTo>
                  <a:lnTo>
                    <a:pt x="1383" y="3107"/>
                  </a:lnTo>
                  <a:lnTo>
                    <a:pt x="1381" y="3105"/>
                  </a:lnTo>
                  <a:lnTo>
                    <a:pt x="1381" y="3102"/>
                  </a:lnTo>
                  <a:lnTo>
                    <a:pt x="1383" y="3100"/>
                  </a:lnTo>
                  <a:lnTo>
                    <a:pt x="1385" y="3098"/>
                  </a:lnTo>
                  <a:lnTo>
                    <a:pt x="1388" y="3097"/>
                  </a:lnTo>
                  <a:lnTo>
                    <a:pt x="1390" y="3097"/>
                  </a:lnTo>
                  <a:lnTo>
                    <a:pt x="1394" y="3098"/>
                  </a:lnTo>
                  <a:lnTo>
                    <a:pt x="1394" y="3098"/>
                  </a:lnTo>
                  <a:close/>
                  <a:moveTo>
                    <a:pt x="1416" y="3116"/>
                  </a:moveTo>
                  <a:lnTo>
                    <a:pt x="1416" y="3116"/>
                  </a:lnTo>
                  <a:lnTo>
                    <a:pt x="1418" y="3119"/>
                  </a:lnTo>
                  <a:lnTo>
                    <a:pt x="1420" y="3121"/>
                  </a:lnTo>
                  <a:lnTo>
                    <a:pt x="1418" y="3125"/>
                  </a:lnTo>
                  <a:lnTo>
                    <a:pt x="1418" y="3126"/>
                  </a:lnTo>
                  <a:lnTo>
                    <a:pt x="1415" y="3128"/>
                  </a:lnTo>
                  <a:lnTo>
                    <a:pt x="1413" y="3130"/>
                  </a:lnTo>
                  <a:lnTo>
                    <a:pt x="1409" y="3130"/>
                  </a:lnTo>
                  <a:lnTo>
                    <a:pt x="1408" y="3128"/>
                  </a:lnTo>
                  <a:lnTo>
                    <a:pt x="1408" y="3128"/>
                  </a:lnTo>
                  <a:lnTo>
                    <a:pt x="1406" y="3126"/>
                  </a:lnTo>
                  <a:lnTo>
                    <a:pt x="1404" y="3123"/>
                  </a:lnTo>
                  <a:lnTo>
                    <a:pt x="1404" y="3121"/>
                  </a:lnTo>
                  <a:lnTo>
                    <a:pt x="1406" y="3118"/>
                  </a:lnTo>
                  <a:lnTo>
                    <a:pt x="1408" y="3116"/>
                  </a:lnTo>
                  <a:lnTo>
                    <a:pt x="1411" y="3116"/>
                  </a:lnTo>
                  <a:lnTo>
                    <a:pt x="1413" y="3116"/>
                  </a:lnTo>
                  <a:lnTo>
                    <a:pt x="1416" y="3116"/>
                  </a:lnTo>
                  <a:lnTo>
                    <a:pt x="1416" y="3116"/>
                  </a:lnTo>
                  <a:close/>
                  <a:moveTo>
                    <a:pt x="1439" y="3135"/>
                  </a:moveTo>
                  <a:lnTo>
                    <a:pt x="1439" y="3135"/>
                  </a:lnTo>
                  <a:lnTo>
                    <a:pt x="1441" y="3137"/>
                  </a:lnTo>
                  <a:lnTo>
                    <a:pt x="1443" y="3139"/>
                  </a:lnTo>
                  <a:lnTo>
                    <a:pt x="1443" y="3142"/>
                  </a:lnTo>
                  <a:lnTo>
                    <a:pt x="1441" y="3144"/>
                  </a:lnTo>
                  <a:lnTo>
                    <a:pt x="1439" y="3146"/>
                  </a:lnTo>
                  <a:lnTo>
                    <a:pt x="1436" y="3147"/>
                  </a:lnTo>
                  <a:lnTo>
                    <a:pt x="1432" y="3147"/>
                  </a:lnTo>
                  <a:lnTo>
                    <a:pt x="1430" y="3146"/>
                  </a:lnTo>
                  <a:lnTo>
                    <a:pt x="1430" y="3146"/>
                  </a:lnTo>
                  <a:lnTo>
                    <a:pt x="1429" y="3144"/>
                  </a:lnTo>
                  <a:lnTo>
                    <a:pt x="1427" y="3140"/>
                  </a:lnTo>
                  <a:lnTo>
                    <a:pt x="1429" y="3139"/>
                  </a:lnTo>
                  <a:lnTo>
                    <a:pt x="1429" y="3135"/>
                  </a:lnTo>
                  <a:lnTo>
                    <a:pt x="1430" y="3133"/>
                  </a:lnTo>
                  <a:lnTo>
                    <a:pt x="1434" y="3133"/>
                  </a:lnTo>
                  <a:lnTo>
                    <a:pt x="1437" y="3133"/>
                  </a:lnTo>
                  <a:lnTo>
                    <a:pt x="1439" y="3135"/>
                  </a:lnTo>
                  <a:lnTo>
                    <a:pt x="1439" y="3135"/>
                  </a:lnTo>
                  <a:close/>
                  <a:moveTo>
                    <a:pt x="1464" y="3135"/>
                  </a:moveTo>
                  <a:lnTo>
                    <a:pt x="1464" y="3135"/>
                  </a:lnTo>
                  <a:lnTo>
                    <a:pt x="1467" y="3135"/>
                  </a:lnTo>
                  <a:lnTo>
                    <a:pt x="1469" y="3137"/>
                  </a:lnTo>
                  <a:lnTo>
                    <a:pt x="1471" y="3139"/>
                  </a:lnTo>
                  <a:lnTo>
                    <a:pt x="1471" y="3142"/>
                  </a:lnTo>
                  <a:lnTo>
                    <a:pt x="1471" y="3144"/>
                  </a:lnTo>
                  <a:lnTo>
                    <a:pt x="1469" y="3147"/>
                  </a:lnTo>
                  <a:lnTo>
                    <a:pt x="1465" y="3147"/>
                  </a:lnTo>
                  <a:lnTo>
                    <a:pt x="1464" y="3149"/>
                  </a:lnTo>
                  <a:lnTo>
                    <a:pt x="1464" y="3149"/>
                  </a:lnTo>
                  <a:lnTo>
                    <a:pt x="1460" y="3147"/>
                  </a:lnTo>
                  <a:lnTo>
                    <a:pt x="1458" y="3146"/>
                  </a:lnTo>
                  <a:lnTo>
                    <a:pt x="1457" y="3144"/>
                  </a:lnTo>
                  <a:lnTo>
                    <a:pt x="1457" y="3142"/>
                  </a:lnTo>
                  <a:lnTo>
                    <a:pt x="1457" y="3139"/>
                  </a:lnTo>
                  <a:lnTo>
                    <a:pt x="1458" y="3137"/>
                  </a:lnTo>
                  <a:lnTo>
                    <a:pt x="1460" y="3135"/>
                  </a:lnTo>
                  <a:lnTo>
                    <a:pt x="1464" y="3135"/>
                  </a:lnTo>
                  <a:lnTo>
                    <a:pt x="1464" y="3135"/>
                  </a:lnTo>
                  <a:close/>
                  <a:moveTo>
                    <a:pt x="1493" y="3137"/>
                  </a:moveTo>
                  <a:lnTo>
                    <a:pt x="1493" y="3137"/>
                  </a:lnTo>
                  <a:lnTo>
                    <a:pt x="1495" y="3137"/>
                  </a:lnTo>
                  <a:lnTo>
                    <a:pt x="1499" y="3139"/>
                  </a:lnTo>
                  <a:lnTo>
                    <a:pt x="1499" y="3140"/>
                  </a:lnTo>
                  <a:lnTo>
                    <a:pt x="1500" y="3144"/>
                  </a:lnTo>
                  <a:lnTo>
                    <a:pt x="1499" y="3146"/>
                  </a:lnTo>
                  <a:lnTo>
                    <a:pt x="1497" y="3149"/>
                  </a:lnTo>
                  <a:lnTo>
                    <a:pt x="1495" y="3149"/>
                  </a:lnTo>
                  <a:lnTo>
                    <a:pt x="1493" y="3151"/>
                  </a:lnTo>
                  <a:lnTo>
                    <a:pt x="1493" y="3151"/>
                  </a:lnTo>
                  <a:lnTo>
                    <a:pt x="1490" y="3149"/>
                  </a:lnTo>
                  <a:lnTo>
                    <a:pt x="1486" y="3147"/>
                  </a:lnTo>
                  <a:lnTo>
                    <a:pt x="1486" y="3146"/>
                  </a:lnTo>
                  <a:lnTo>
                    <a:pt x="1485" y="3144"/>
                  </a:lnTo>
                  <a:lnTo>
                    <a:pt x="1486" y="3140"/>
                  </a:lnTo>
                  <a:lnTo>
                    <a:pt x="1488" y="3137"/>
                  </a:lnTo>
                  <a:lnTo>
                    <a:pt x="1490" y="3137"/>
                  </a:lnTo>
                  <a:lnTo>
                    <a:pt x="1493" y="3137"/>
                  </a:lnTo>
                  <a:lnTo>
                    <a:pt x="1493" y="3137"/>
                  </a:lnTo>
                  <a:close/>
                  <a:moveTo>
                    <a:pt x="1521" y="3137"/>
                  </a:moveTo>
                  <a:lnTo>
                    <a:pt x="1521" y="3137"/>
                  </a:lnTo>
                  <a:lnTo>
                    <a:pt x="1525" y="3139"/>
                  </a:lnTo>
                  <a:lnTo>
                    <a:pt x="1527" y="3140"/>
                  </a:lnTo>
                  <a:lnTo>
                    <a:pt x="1528" y="3142"/>
                  </a:lnTo>
                  <a:lnTo>
                    <a:pt x="1528" y="3146"/>
                  </a:lnTo>
                  <a:lnTo>
                    <a:pt x="1528" y="3147"/>
                  </a:lnTo>
                  <a:lnTo>
                    <a:pt x="1527" y="3149"/>
                  </a:lnTo>
                  <a:lnTo>
                    <a:pt x="1525" y="3151"/>
                  </a:lnTo>
                  <a:lnTo>
                    <a:pt x="1521" y="3153"/>
                  </a:lnTo>
                  <a:lnTo>
                    <a:pt x="1521" y="3153"/>
                  </a:lnTo>
                  <a:lnTo>
                    <a:pt x="1518" y="3151"/>
                  </a:lnTo>
                  <a:lnTo>
                    <a:pt x="1516" y="3149"/>
                  </a:lnTo>
                  <a:lnTo>
                    <a:pt x="1514" y="3147"/>
                  </a:lnTo>
                  <a:lnTo>
                    <a:pt x="1514" y="3144"/>
                  </a:lnTo>
                  <a:lnTo>
                    <a:pt x="1514" y="3142"/>
                  </a:lnTo>
                  <a:lnTo>
                    <a:pt x="1516" y="3139"/>
                  </a:lnTo>
                  <a:lnTo>
                    <a:pt x="1520" y="3139"/>
                  </a:lnTo>
                  <a:lnTo>
                    <a:pt x="1521" y="3137"/>
                  </a:lnTo>
                  <a:lnTo>
                    <a:pt x="1521" y="3137"/>
                  </a:lnTo>
                  <a:close/>
                  <a:moveTo>
                    <a:pt x="1551" y="3139"/>
                  </a:moveTo>
                  <a:lnTo>
                    <a:pt x="1551" y="3139"/>
                  </a:lnTo>
                  <a:lnTo>
                    <a:pt x="1553" y="3139"/>
                  </a:lnTo>
                  <a:lnTo>
                    <a:pt x="1556" y="3140"/>
                  </a:lnTo>
                  <a:lnTo>
                    <a:pt x="1556" y="3144"/>
                  </a:lnTo>
                  <a:lnTo>
                    <a:pt x="1558" y="3146"/>
                  </a:lnTo>
                  <a:lnTo>
                    <a:pt x="1556" y="3149"/>
                  </a:lnTo>
                  <a:lnTo>
                    <a:pt x="1555" y="3151"/>
                  </a:lnTo>
                  <a:lnTo>
                    <a:pt x="1553" y="3153"/>
                  </a:lnTo>
                  <a:lnTo>
                    <a:pt x="1551" y="3153"/>
                  </a:lnTo>
                  <a:lnTo>
                    <a:pt x="1551" y="3153"/>
                  </a:lnTo>
                  <a:lnTo>
                    <a:pt x="1548" y="3153"/>
                  </a:lnTo>
                  <a:lnTo>
                    <a:pt x="1546" y="3151"/>
                  </a:lnTo>
                  <a:lnTo>
                    <a:pt x="1544" y="3149"/>
                  </a:lnTo>
                  <a:lnTo>
                    <a:pt x="1544" y="3146"/>
                  </a:lnTo>
                  <a:lnTo>
                    <a:pt x="1544" y="3142"/>
                  </a:lnTo>
                  <a:lnTo>
                    <a:pt x="1546" y="3140"/>
                  </a:lnTo>
                  <a:lnTo>
                    <a:pt x="1548" y="3139"/>
                  </a:lnTo>
                  <a:lnTo>
                    <a:pt x="1551" y="3139"/>
                  </a:lnTo>
                  <a:lnTo>
                    <a:pt x="1551" y="3139"/>
                  </a:lnTo>
                  <a:close/>
                  <a:moveTo>
                    <a:pt x="1579" y="3140"/>
                  </a:moveTo>
                  <a:lnTo>
                    <a:pt x="1579" y="3140"/>
                  </a:lnTo>
                  <a:lnTo>
                    <a:pt x="1583" y="3140"/>
                  </a:lnTo>
                  <a:lnTo>
                    <a:pt x="1584" y="3142"/>
                  </a:lnTo>
                  <a:lnTo>
                    <a:pt x="1586" y="3146"/>
                  </a:lnTo>
                  <a:lnTo>
                    <a:pt x="1586" y="3147"/>
                  </a:lnTo>
                  <a:lnTo>
                    <a:pt x="1586" y="3151"/>
                  </a:lnTo>
                  <a:lnTo>
                    <a:pt x="1584" y="3153"/>
                  </a:lnTo>
                  <a:lnTo>
                    <a:pt x="1583" y="3154"/>
                  </a:lnTo>
                  <a:lnTo>
                    <a:pt x="1579" y="3154"/>
                  </a:lnTo>
                  <a:lnTo>
                    <a:pt x="1579" y="3154"/>
                  </a:lnTo>
                  <a:lnTo>
                    <a:pt x="1576" y="3154"/>
                  </a:lnTo>
                  <a:lnTo>
                    <a:pt x="1574" y="3153"/>
                  </a:lnTo>
                  <a:lnTo>
                    <a:pt x="1572" y="3151"/>
                  </a:lnTo>
                  <a:lnTo>
                    <a:pt x="1572" y="3147"/>
                  </a:lnTo>
                  <a:lnTo>
                    <a:pt x="1572" y="3144"/>
                  </a:lnTo>
                  <a:lnTo>
                    <a:pt x="1574" y="3142"/>
                  </a:lnTo>
                  <a:lnTo>
                    <a:pt x="1577" y="3140"/>
                  </a:lnTo>
                  <a:lnTo>
                    <a:pt x="1579" y="3140"/>
                  </a:lnTo>
                  <a:lnTo>
                    <a:pt x="1579" y="3140"/>
                  </a:lnTo>
                  <a:close/>
                  <a:moveTo>
                    <a:pt x="1604" y="3133"/>
                  </a:moveTo>
                  <a:lnTo>
                    <a:pt x="1604" y="3133"/>
                  </a:lnTo>
                  <a:lnTo>
                    <a:pt x="1607" y="3132"/>
                  </a:lnTo>
                  <a:lnTo>
                    <a:pt x="1609" y="3133"/>
                  </a:lnTo>
                  <a:lnTo>
                    <a:pt x="1612" y="3135"/>
                  </a:lnTo>
                  <a:lnTo>
                    <a:pt x="1614" y="3137"/>
                  </a:lnTo>
                  <a:lnTo>
                    <a:pt x="1614" y="3140"/>
                  </a:lnTo>
                  <a:lnTo>
                    <a:pt x="1614" y="3142"/>
                  </a:lnTo>
                  <a:lnTo>
                    <a:pt x="1612" y="3146"/>
                  </a:lnTo>
                  <a:lnTo>
                    <a:pt x="1609" y="3147"/>
                  </a:lnTo>
                  <a:lnTo>
                    <a:pt x="1609" y="3147"/>
                  </a:lnTo>
                  <a:lnTo>
                    <a:pt x="1607" y="3147"/>
                  </a:lnTo>
                  <a:lnTo>
                    <a:pt x="1604" y="3146"/>
                  </a:lnTo>
                  <a:lnTo>
                    <a:pt x="1602" y="3146"/>
                  </a:lnTo>
                  <a:lnTo>
                    <a:pt x="1600" y="3142"/>
                  </a:lnTo>
                  <a:lnTo>
                    <a:pt x="1600" y="3140"/>
                  </a:lnTo>
                  <a:lnTo>
                    <a:pt x="1600" y="3137"/>
                  </a:lnTo>
                  <a:lnTo>
                    <a:pt x="1602" y="3135"/>
                  </a:lnTo>
                  <a:lnTo>
                    <a:pt x="1604" y="3133"/>
                  </a:lnTo>
                  <a:lnTo>
                    <a:pt x="1604" y="3133"/>
                  </a:lnTo>
                  <a:close/>
                  <a:moveTo>
                    <a:pt x="1632" y="3123"/>
                  </a:moveTo>
                  <a:lnTo>
                    <a:pt x="1632" y="3123"/>
                  </a:lnTo>
                  <a:lnTo>
                    <a:pt x="1633" y="3123"/>
                  </a:lnTo>
                  <a:lnTo>
                    <a:pt x="1637" y="3123"/>
                  </a:lnTo>
                  <a:lnTo>
                    <a:pt x="1639" y="3125"/>
                  </a:lnTo>
                  <a:lnTo>
                    <a:pt x="1640" y="3126"/>
                  </a:lnTo>
                  <a:lnTo>
                    <a:pt x="1640" y="3130"/>
                  </a:lnTo>
                  <a:lnTo>
                    <a:pt x="1640" y="3132"/>
                  </a:lnTo>
                  <a:lnTo>
                    <a:pt x="1639" y="3135"/>
                  </a:lnTo>
                  <a:lnTo>
                    <a:pt x="1637" y="3137"/>
                  </a:lnTo>
                  <a:lnTo>
                    <a:pt x="1637" y="3137"/>
                  </a:lnTo>
                  <a:lnTo>
                    <a:pt x="1633" y="3137"/>
                  </a:lnTo>
                  <a:lnTo>
                    <a:pt x="1632" y="3137"/>
                  </a:lnTo>
                  <a:lnTo>
                    <a:pt x="1628" y="3135"/>
                  </a:lnTo>
                  <a:lnTo>
                    <a:pt x="1628" y="3132"/>
                  </a:lnTo>
                  <a:lnTo>
                    <a:pt x="1626" y="3130"/>
                  </a:lnTo>
                  <a:lnTo>
                    <a:pt x="1626" y="3126"/>
                  </a:lnTo>
                  <a:lnTo>
                    <a:pt x="1628" y="3125"/>
                  </a:lnTo>
                  <a:lnTo>
                    <a:pt x="1632" y="3123"/>
                  </a:lnTo>
                  <a:lnTo>
                    <a:pt x="1632" y="3123"/>
                  </a:lnTo>
                  <a:close/>
                  <a:moveTo>
                    <a:pt x="1658" y="3112"/>
                  </a:moveTo>
                  <a:lnTo>
                    <a:pt x="1658" y="3112"/>
                  </a:lnTo>
                  <a:lnTo>
                    <a:pt x="1661" y="3112"/>
                  </a:lnTo>
                  <a:lnTo>
                    <a:pt x="1663" y="3112"/>
                  </a:lnTo>
                  <a:lnTo>
                    <a:pt x="1667" y="3114"/>
                  </a:lnTo>
                  <a:lnTo>
                    <a:pt x="1668" y="3116"/>
                  </a:lnTo>
                  <a:lnTo>
                    <a:pt x="1668" y="3119"/>
                  </a:lnTo>
                  <a:lnTo>
                    <a:pt x="1668" y="3121"/>
                  </a:lnTo>
                  <a:lnTo>
                    <a:pt x="1667" y="3125"/>
                  </a:lnTo>
                  <a:lnTo>
                    <a:pt x="1663" y="3126"/>
                  </a:lnTo>
                  <a:lnTo>
                    <a:pt x="1663" y="3126"/>
                  </a:lnTo>
                  <a:lnTo>
                    <a:pt x="1661" y="3126"/>
                  </a:lnTo>
                  <a:lnTo>
                    <a:pt x="1658" y="3126"/>
                  </a:lnTo>
                  <a:lnTo>
                    <a:pt x="1656" y="3125"/>
                  </a:lnTo>
                  <a:lnTo>
                    <a:pt x="1654" y="3123"/>
                  </a:lnTo>
                  <a:lnTo>
                    <a:pt x="1654" y="3119"/>
                  </a:lnTo>
                  <a:lnTo>
                    <a:pt x="1654" y="3116"/>
                  </a:lnTo>
                  <a:lnTo>
                    <a:pt x="1656" y="3114"/>
                  </a:lnTo>
                  <a:lnTo>
                    <a:pt x="1658" y="3112"/>
                  </a:lnTo>
                  <a:lnTo>
                    <a:pt x="1658" y="3112"/>
                  </a:lnTo>
                  <a:close/>
                  <a:moveTo>
                    <a:pt x="1686" y="3102"/>
                  </a:moveTo>
                  <a:lnTo>
                    <a:pt x="1686" y="3102"/>
                  </a:lnTo>
                  <a:lnTo>
                    <a:pt x="1688" y="3102"/>
                  </a:lnTo>
                  <a:lnTo>
                    <a:pt x="1691" y="3102"/>
                  </a:lnTo>
                  <a:lnTo>
                    <a:pt x="1693" y="3104"/>
                  </a:lnTo>
                  <a:lnTo>
                    <a:pt x="1695" y="3105"/>
                  </a:lnTo>
                  <a:lnTo>
                    <a:pt x="1695" y="3109"/>
                  </a:lnTo>
                  <a:lnTo>
                    <a:pt x="1695" y="3111"/>
                  </a:lnTo>
                  <a:lnTo>
                    <a:pt x="1693" y="3114"/>
                  </a:lnTo>
                  <a:lnTo>
                    <a:pt x="1691" y="3116"/>
                  </a:lnTo>
                  <a:lnTo>
                    <a:pt x="1691" y="3116"/>
                  </a:lnTo>
                  <a:lnTo>
                    <a:pt x="1688" y="3116"/>
                  </a:lnTo>
                  <a:lnTo>
                    <a:pt x="1686" y="3116"/>
                  </a:lnTo>
                  <a:lnTo>
                    <a:pt x="1682" y="3114"/>
                  </a:lnTo>
                  <a:lnTo>
                    <a:pt x="1681" y="3112"/>
                  </a:lnTo>
                  <a:lnTo>
                    <a:pt x="1681" y="3109"/>
                  </a:lnTo>
                  <a:lnTo>
                    <a:pt x="1681" y="3105"/>
                  </a:lnTo>
                  <a:lnTo>
                    <a:pt x="1682" y="3104"/>
                  </a:lnTo>
                  <a:lnTo>
                    <a:pt x="1686" y="3102"/>
                  </a:lnTo>
                  <a:lnTo>
                    <a:pt x="1686" y="3102"/>
                  </a:lnTo>
                  <a:close/>
                  <a:moveTo>
                    <a:pt x="1712" y="3091"/>
                  </a:moveTo>
                  <a:lnTo>
                    <a:pt x="1712" y="3091"/>
                  </a:lnTo>
                  <a:lnTo>
                    <a:pt x="1716" y="3091"/>
                  </a:lnTo>
                  <a:lnTo>
                    <a:pt x="1717" y="3091"/>
                  </a:lnTo>
                  <a:lnTo>
                    <a:pt x="1719" y="3093"/>
                  </a:lnTo>
                  <a:lnTo>
                    <a:pt x="1721" y="3095"/>
                  </a:lnTo>
                  <a:lnTo>
                    <a:pt x="1723" y="3098"/>
                  </a:lnTo>
                  <a:lnTo>
                    <a:pt x="1721" y="3100"/>
                  </a:lnTo>
                  <a:lnTo>
                    <a:pt x="1721" y="3104"/>
                  </a:lnTo>
                  <a:lnTo>
                    <a:pt x="1717" y="3105"/>
                  </a:lnTo>
                  <a:lnTo>
                    <a:pt x="1717" y="3105"/>
                  </a:lnTo>
                  <a:lnTo>
                    <a:pt x="1716" y="3105"/>
                  </a:lnTo>
                  <a:lnTo>
                    <a:pt x="1712" y="3105"/>
                  </a:lnTo>
                  <a:lnTo>
                    <a:pt x="1710" y="3104"/>
                  </a:lnTo>
                  <a:lnTo>
                    <a:pt x="1709" y="3102"/>
                  </a:lnTo>
                  <a:lnTo>
                    <a:pt x="1707" y="3098"/>
                  </a:lnTo>
                  <a:lnTo>
                    <a:pt x="1709" y="3095"/>
                  </a:lnTo>
                  <a:lnTo>
                    <a:pt x="1710" y="3093"/>
                  </a:lnTo>
                  <a:lnTo>
                    <a:pt x="1712" y="3091"/>
                  </a:lnTo>
                  <a:lnTo>
                    <a:pt x="1712" y="3091"/>
                  </a:lnTo>
                  <a:close/>
                  <a:moveTo>
                    <a:pt x="1738" y="3081"/>
                  </a:moveTo>
                  <a:lnTo>
                    <a:pt x="1738" y="3081"/>
                  </a:lnTo>
                  <a:lnTo>
                    <a:pt x="1742" y="3081"/>
                  </a:lnTo>
                  <a:lnTo>
                    <a:pt x="1744" y="3081"/>
                  </a:lnTo>
                  <a:lnTo>
                    <a:pt x="1747" y="3083"/>
                  </a:lnTo>
                  <a:lnTo>
                    <a:pt x="1749" y="3084"/>
                  </a:lnTo>
                  <a:lnTo>
                    <a:pt x="1749" y="3088"/>
                  </a:lnTo>
                  <a:lnTo>
                    <a:pt x="1749" y="3090"/>
                  </a:lnTo>
                  <a:lnTo>
                    <a:pt x="1747" y="3093"/>
                  </a:lnTo>
                  <a:lnTo>
                    <a:pt x="1745" y="3095"/>
                  </a:lnTo>
                  <a:lnTo>
                    <a:pt x="1745" y="3095"/>
                  </a:lnTo>
                  <a:lnTo>
                    <a:pt x="1742" y="3095"/>
                  </a:lnTo>
                  <a:lnTo>
                    <a:pt x="1738" y="3095"/>
                  </a:lnTo>
                  <a:lnTo>
                    <a:pt x="1737" y="3093"/>
                  </a:lnTo>
                  <a:lnTo>
                    <a:pt x="1735" y="3091"/>
                  </a:lnTo>
                  <a:lnTo>
                    <a:pt x="1735" y="3088"/>
                  </a:lnTo>
                  <a:lnTo>
                    <a:pt x="1735" y="3084"/>
                  </a:lnTo>
                  <a:lnTo>
                    <a:pt x="1737" y="3083"/>
                  </a:lnTo>
                  <a:lnTo>
                    <a:pt x="1738" y="3081"/>
                  </a:lnTo>
                  <a:lnTo>
                    <a:pt x="1738" y="3081"/>
                  </a:lnTo>
                  <a:close/>
                  <a:moveTo>
                    <a:pt x="1766" y="3070"/>
                  </a:moveTo>
                  <a:lnTo>
                    <a:pt x="1766" y="3070"/>
                  </a:lnTo>
                  <a:lnTo>
                    <a:pt x="1768" y="3070"/>
                  </a:lnTo>
                  <a:lnTo>
                    <a:pt x="1772" y="3070"/>
                  </a:lnTo>
                  <a:lnTo>
                    <a:pt x="1773" y="3072"/>
                  </a:lnTo>
                  <a:lnTo>
                    <a:pt x="1775" y="3074"/>
                  </a:lnTo>
                  <a:lnTo>
                    <a:pt x="1777" y="3077"/>
                  </a:lnTo>
                  <a:lnTo>
                    <a:pt x="1775" y="3079"/>
                  </a:lnTo>
                  <a:lnTo>
                    <a:pt x="1773" y="3083"/>
                  </a:lnTo>
                  <a:lnTo>
                    <a:pt x="1772" y="3084"/>
                  </a:lnTo>
                  <a:lnTo>
                    <a:pt x="1772" y="3084"/>
                  </a:lnTo>
                  <a:lnTo>
                    <a:pt x="1768" y="3084"/>
                  </a:lnTo>
                  <a:lnTo>
                    <a:pt x="1766" y="3084"/>
                  </a:lnTo>
                  <a:lnTo>
                    <a:pt x="1763" y="3083"/>
                  </a:lnTo>
                  <a:lnTo>
                    <a:pt x="1763" y="3079"/>
                  </a:lnTo>
                  <a:lnTo>
                    <a:pt x="1761" y="3077"/>
                  </a:lnTo>
                  <a:lnTo>
                    <a:pt x="1761" y="3074"/>
                  </a:lnTo>
                  <a:lnTo>
                    <a:pt x="1763" y="3072"/>
                  </a:lnTo>
                  <a:lnTo>
                    <a:pt x="1766" y="3070"/>
                  </a:lnTo>
                  <a:lnTo>
                    <a:pt x="1766" y="3070"/>
                  </a:lnTo>
                  <a:close/>
                  <a:moveTo>
                    <a:pt x="1794" y="3060"/>
                  </a:moveTo>
                  <a:lnTo>
                    <a:pt x="1794" y="3060"/>
                  </a:lnTo>
                  <a:lnTo>
                    <a:pt x="1796" y="3060"/>
                  </a:lnTo>
                  <a:lnTo>
                    <a:pt x="1800" y="3060"/>
                  </a:lnTo>
                  <a:lnTo>
                    <a:pt x="1801" y="3062"/>
                  </a:lnTo>
                  <a:lnTo>
                    <a:pt x="1803" y="3065"/>
                  </a:lnTo>
                  <a:lnTo>
                    <a:pt x="1803" y="3067"/>
                  </a:lnTo>
                  <a:lnTo>
                    <a:pt x="1803" y="3070"/>
                  </a:lnTo>
                  <a:lnTo>
                    <a:pt x="1801" y="3072"/>
                  </a:lnTo>
                  <a:lnTo>
                    <a:pt x="1798" y="3074"/>
                  </a:lnTo>
                  <a:lnTo>
                    <a:pt x="1798" y="3074"/>
                  </a:lnTo>
                  <a:lnTo>
                    <a:pt x="1794" y="3074"/>
                  </a:lnTo>
                  <a:lnTo>
                    <a:pt x="1793" y="3074"/>
                  </a:lnTo>
                  <a:lnTo>
                    <a:pt x="1791" y="3072"/>
                  </a:lnTo>
                  <a:lnTo>
                    <a:pt x="1789" y="3069"/>
                  </a:lnTo>
                  <a:lnTo>
                    <a:pt x="1789" y="3065"/>
                  </a:lnTo>
                  <a:lnTo>
                    <a:pt x="1789" y="3063"/>
                  </a:lnTo>
                  <a:lnTo>
                    <a:pt x="1791" y="3062"/>
                  </a:lnTo>
                  <a:lnTo>
                    <a:pt x="1794" y="3060"/>
                  </a:lnTo>
                  <a:lnTo>
                    <a:pt x="1794" y="3060"/>
                  </a:lnTo>
                  <a:close/>
                  <a:moveTo>
                    <a:pt x="1821" y="3051"/>
                  </a:moveTo>
                  <a:lnTo>
                    <a:pt x="1821" y="3051"/>
                  </a:lnTo>
                  <a:lnTo>
                    <a:pt x="1824" y="3051"/>
                  </a:lnTo>
                  <a:lnTo>
                    <a:pt x="1826" y="3051"/>
                  </a:lnTo>
                  <a:lnTo>
                    <a:pt x="1829" y="3053"/>
                  </a:lnTo>
                  <a:lnTo>
                    <a:pt x="1829" y="3055"/>
                  </a:lnTo>
                  <a:lnTo>
                    <a:pt x="1831" y="3058"/>
                  </a:lnTo>
                  <a:lnTo>
                    <a:pt x="1829" y="3060"/>
                  </a:lnTo>
                  <a:lnTo>
                    <a:pt x="1828" y="3063"/>
                  </a:lnTo>
                  <a:lnTo>
                    <a:pt x="1826" y="3065"/>
                  </a:lnTo>
                  <a:lnTo>
                    <a:pt x="1826" y="3065"/>
                  </a:lnTo>
                  <a:lnTo>
                    <a:pt x="1822" y="3065"/>
                  </a:lnTo>
                  <a:lnTo>
                    <a:pt x="1821" y="3063"/>
                  </a:lnTo>
                  <a:lnTo>
                    <a:pt x="1817" y="3062"/>
                  </a:lnTo>
                  <a:lnTo>
                    <a:pt x="1817" y="3060"/>
                  </a:lnTo>
                  <a:lnTo>
                    <a:pt x="1815" y="3056"/>
                  </a:lnTo>
                  <a:lnTo>
                    <a:pt x="1817" y="3055"/>
                  </a:lnTo>
                  <a:lnTo>
                    <a:pt x="1819" y="3053"/>
                  </a:lnTo>
                  <a:lnTo>
                    <a:pt x="1821" y="3051"/>
                  </a:lnTo>
                  <a:lnTo>
                    <a:pt x="1821" y="3051"/>
                  </a:lnTo>
                  <a:close/>
                  <a:moveTo>
                    <a:pt x="1849" y="3042"/>
                  </a:moveTo>
                  <a:lnTo>
                    <a:pt x="1849" y="3042"/>
                  </a:lnTo>
                  <a:lnTo>
                    <a:pt x="1850" y="3041"/>
                  </a:lnTo>
                  <a:lnTo>
                    <a:pt x="1854" y="3042"/>
                  </a:lnTo>
                  <a:lnTo>
                    <a:pt x="1856" y="3044"/>
                  </a:lnTo>
                  <a:lnTo>
                    <a:pt x="1857" y="3046"/>
                  </a:lnTo>
                  <a:lnTo>
                    <a:pt x="1857" y="3049"/>
                  </a:lnTo>
                  <a:lnTo>
                    <a:pt x="1857" y="3051"/>
                  </a:lnTo>
                  <a:lnTo>
                    <a:pt x="1856" y="3053"/>
                  </a:lnTo>
                  <a:lnTo>
                    <a:pt x="1854" y="3055"/>
                  </a:lnTo>
                  <a:lnTo>
                    <a:pt x="1854" y="3055"/>
                  </a:lnTo>
                  <a:lnTo>
                    <a:pt x="1850" y="3056"/>
                  </a:lnTo>
                  <a:lnTo>
                    <a:pt x="1847" y="3055"/>
                  </a:lnTo>
                  <a:lnTo>
                    <a:pt x="1845" y="3053"/>
                  </a:lnTo>
                  <a:lnTo>
                    <a:pt x="1843" y="3051"/>
                  </a:lnTo>
                  <a:lnTo>
                    <a:pt x="1843" y="3048"/>
                  </a:lnTo>
                  <a:lnTo>
                    <a:pt x="1843" y="3046"/>
                  </a:lnTo>
                  <a:lnTo>
                    <a:pt x="1845" y="3042"/>
                  </a:lnTo>
                  <a:lnTo>
                    <a:pt x="1849" y="3042"/>
                  </a:lnTo>
                  <a:lnTo>
                    <a:pt x="1849" y="3042"/>
                  </a:lnTo>
                  <a:close/>
                  <a:moveTo>
                    <a:pt x="1877" y="3034"/>
                  </a:moveTo>
                  <a:lnTo>
                    <a:pt x="1877" y="3034"/>
                  </a:lnTo>
                  <a:lnTo>
                    <a:pt x="1878" y="3032"/>
                  </a:lnTo>
                  <a:lnTo>
                    <a:pt x="1882" y="3034"/>
                  </a:lnTo>
                  <a:lnTo>
                    <a:pt x="1884" y="3035"/>
                  </a:lnTo>
                  <a:lnTo>
                    <a:pt x="1885" y="3037"/>
                  </a:lnTo>
                  <a:lnTo>
                    <a:pt x="1885" y="3041"/>
                  </a:lnTo>
                  <a:lnTo>
                    <a:pt x="1885" y="3042"/>
                  </a:lnTo>
                  <a:lnTo>
                    <a:pt x="1884" y="3044"/>
                  </a:lnTo>
                  <a:lnTo>
                    <a:pt x="1880" y="3046"/>
                  </a:lnTo>
                  <a:lnTo>
                    <a:pt x="1880" y="3046"/>
                  </a:lnTo>
                  <a:lnTo>
                    <a:pt x="1878" y="3046"/>
                  </a:lnTo>
                  <a:lnTo>
                    <a:pt x="1875" y="3046"/>
                  </a:lnTo>
                  <a:lnTo>
                    <a:pt x="1873" y="3044"/>
                  </a:lnTo>
                  <a:lnTo>
                    <a:pt x="1871" y="3042"/>
                  </a:lnTo>
                  <a:lnTo>
                    <a:pt x="1871" y="3039"/>
                  </a:lnTo>
                  <a:lnTo>
                    <a:pt x="1871" y="3035"/>
                  </a:lnTo>
                  <a:lnTo>
                    <a:pt x="1873" y="3034"/>
                  </a:lnTo>
                  <a:lnTo>
                    <a:pt x="1877" y="3034"/>
                  </a:lnTo>
                  <a:lnTo>
                    <a:pt x="1877" y="3034"/>
                  </a:lnTo>
                  <a:close/>
                  <a:moveTo>
                    <a:pt x="1903" y="3023"/>
                  </a:moveTo>
                  <a:lnTo>
                    <a:pt x="1903" y="3023"/>
                  </a:lnTo>
                  <a:lnTo>
                    <a:pt x="1906" y="3023"/>
                  </a:lnTo>
                  <a:lnTo>
                    <a:pt x="1908" y="3023"/>
                  </a:lnTo>
                  <a:lnTo>
                    <a:pt x="1912" y="3025"/>
                  </a:lnTo>
                  <a:lnTo>
                    <a:pt x="1913" y="3028"/>
                  </a:lnTo>
                  <a:lnTo>
                    <a:pt x="1913" y="3030"/>
                  </a:lnTo>
                  <a:lnTo>
                    <a:pt x="1912" y="3034"/>
                  </a:lnTo>
                  <a:lnTo>
                    <a:pt x="1910" y="3035"/>
                  </a:lnTo>
                  <a:lnTo>
                    <a:pt x="1908" y="3037"/>
                  </a:lnTo>
                  <a:lnTo>
                    <a:pt x="1908" y="3037"/>
                  </a:lnTo>
                  <a:lnTo>
                    <a:pt x="1905" y="3037"/>
                  </a:lnTo>
                  <a:lnTo>
                    <a:pt x="1903" y="3037"/>
                  </a:lnTo>
                  <a:lnTo>
                    <a:pt x="1901" y="3035"/>
                  </a:lnTo>
                  <a:lnTo>
                    <a:pt x="1899" y="3034"/>
                  </a:lnTo>
                  <a:lnTo>
                    <a:pt x="1899" y="3030"/>
                  </a:lnTo>
                  <a:lnTo>
                    <a:pt x="1899" y="3027"/>
                  </a:lnTo>
                  <a:lnTo>
                    <a:pt x="1901" y="3025"/>
                  </a:lnTo>
                  <a:lnTo>
                    <a:pt x="1903" y="3023"/>
                  </a:lnTo>
                  <a:lnTo>
                    <a:pt x="1903" y="3023"/>
                  </a:lnTo>
                  <a:close/>
                  <a:moveTo>
                    <a:pt x="1931" y="3044"/>
                  </a:moveTo>
                  <a:lnTo>
                    <a:pt x="1931" y="3044"/>
                  </a:lnTo>
                  <a:lnTo>
                    <a:pt x="1931" y="3046"/>
                  </a:lnTo>
                  <a:lnTo>
                    <a:pt x="1931" y="3049"/>
                  </a:lnTo>
                  <a:lnTo>
                    <a:pt x="1931" y="3051"/>
                  </a:lnTo>
                  <a:lnTo>
                    <a:pt x="1929" y="3053"/>
                  </a:lnTo>
                  <a:lnTo>
                    <a:pt x="1926" y="3055"/>
                  </a:lnTo>
                  <a:lnTo>
                    <a:pt x="1922" y="3055"/>
                  </a:lnTo>
                  <a:lnTo>
                    <a:pt x="1920" y="3053"/>
                  </a:lnTo>
                  <a:lnTo>
                    <a:pt x="1919" y="3051"/>
                  </a:lnTo>
                  <a:lnTo>
                    <a:pt x="1919" y="3051"/>
                  </a:lnTo>
                  <a:lnTo>
                    <a:pt x="1917" y="3049"/>
                  </a:lnTo>
                  <a:lnTo>
                    <a:pt x="1917" y="3046"/>
                  </a:lnTo>
                  <a:lnTo>
                    <a:pt x="1919" y="3042"/>
                  </a:lnTo>
                  <a:lnTo>
                    <a:pt x="1920" y="3041"/>
                  </a:lnTo>
                  <a:lnTo>
                    <a:pt x="1924" y="3041"/>
                  </a:lnTo>
                  <a:lnTo>
                    <a:pt x="1926" y="3041"/>
                  </a:lnTo>
                  <a:lnTo>
                    <a:pt x="1929" y="3041"/>
                  </a:lnTo>
                  <a:lnTo>
                    <a:pt x="1931" y="3044"/>
                  </a:lnTo>
                  <a:lnTo>
                    <a:pt x="1931" y="3044"/>
                  </a:lnTo>
                  <a:close/>
                  <a:moveTo>
                    <a:pt x="1947" y="3067"/>
                  </a:moveTo>
                  <a:lnTo>
                    <a:pt x="1947" y="3067"/>
                  </a:lnTo>
                  <a:lnTo>
                    <a:pt x="1948" y="3070"/>
                  </a:lnTo>
                  <a:lnTo>
                    <a:pt x="1948" y="3072"/>
                  </a:lnTo>
                  <a:lnTo>
                    <a:pt x="1947" y="3076"/>
                  </a:lnTo>
                  <a:lnTo>
                    <a:pt x="1945" y="3077"/>
                  </a:lnTo>
                  <a:lnTo>
                    <a:pt x="1941" y="3079"/>
                  </a:lnTo>
                  <a:lnTo>
                    <a:pt x="1940" y="3079"/>
                  </a:lnTo>
                  <a:lnTo>
                    <a:pt x="1936" y="3077"/>
                  </a:lnTo>
                  <a:lnTo>
                    <a:pt x="1934" y="3076"/>
                  </a:lnTo>
                  <a:lnTo>
                    <a:pt x="1934" y="3076"/>
                  </a:lnTo>
                  <a:lnTo>
                    <a:pt x="1933" y="3072"/>
                  </a:lnTo>
                  <a:lnTo>
                    <a:pt x="1933" y="3070"/>
                  </a:lnTo>
                  <a:lnTo>
                    <a:pt x="1934" y="3067"/>
                  </a:lnTo>
                  <a:lnTo>
                    <a:pt x="1936" y="3065"/>
                  </a:lnTo>
                  <a:lnTo>
                    <a:pt x="1940" y="3063"/>
                  </a:lnTo>
                  <a:lnTo>
                    <a:pt x="1941" y="3065"/>
                  </a:lnTo>
                  <a:lnTo>
                    <a:pt x="1945" y="3065"/>
                  </a:lnTo>
                  <a:lnTo>
                    <a:pt x="1947" y="3067"/>
                  </a:lnTo>
                  <a:lnTo>
                    <a:pt x="1947" y="3067"/>
                  </a:lnTo>
                  <a:close/>
                  <a:moveTo>
                    <a:pt x="1968" y="3069"/>
                  </a:moveTo>
                  <a:lnTo>
                    <a:pt x="1968" y="3069"/>
                  </a:lnTo>
                  <a:lnTo>
                    <a:pt x="1971" y="3070"/>
                  </a:lnTo>
                  <a:lnTo>
                    <a:pt x="1973" y="3072"/>
                  </a:lnTo>
                  <a:lnTo>
                    <a:pt x="1975" y="3074"/>
                  </a:lnTo>
                  <a:lnTo>
                    <a:pt x="1975" y="3077"/>
                  </a:lnTo>
                  <a:lnTo>
                    <a:pt x="1975" y="3079"/>
                  </a:lnTo>
                  <a:lnTo>
                    <a:pt x="1973" y="3083"/>
                  </a:lnTo>
                  <a:lnTo>
                    <a:pt x="1969" y="3083"/>
                  </a:lnTo>
                  <a:lnTo>
                    <a:pt x="1968" y="3084"/>
                  </a:lnTo>
                  <a:lnTo>
                    <a:pt x="1968" y="3084"/>
                  </a:lnTo>
                  <a:lnTo>
                    <a:pt x="1964" y="3083"/>
                  </a:lnTo>
                  <a:lnTo>
                    <a:pt x="1962" y="3081"/>
                  </a:lnTo>
                  <a:lnTo>
                    <a:pt x="1961" y="3079"/>
                  </a:lnTo>
                  <a:lnTo>
                    <a:pt x="1961" y="3076"/>
                  </a:lnTo>
                  <a:lnTo>
                    <a:pt x="1961" y="3074"/>
                  </a:lnTo>
                  <a:lnTo>
                    <a:pt x="1962" y="3070"/>
                  </a:lnTo>
                  <a:lnTo>
                    <a:pt x="1966" y="3070"/>
                  </a:lnTo>
                  <a:lnTo>
                    <a:pt x="1968" y="3069"/>
                  </a:lnTo>
                  <a:lnTo>
                    <a:pt x="1968" y="3069"/>
                  </a:lnTo>
                  <a:close/>
                  <a:moveTo>
                    <a:pt x="1997" y="3072"/>
                  </a:moveTo>
                  <a:lnTo>
                    <a:pt x="1997" y="3072"/>
                  </a:lnTo>
                  <a:lnTo>
                    <a:pt x="1999" y="3072"/>
                  </a:lnTo>
                  <a:lnTo>
                    <a:pt x="2003" y="3074"/>
                  </a:lnTo>
                  <a:lnTo>
                    <a:pt x="2003" y="3077"/>
                  </a:lnTo>
                  <a:lnTo>
                    <a:pt x="2004" y="3079"/>
                  </a:lnTo>
                  <a:lnTo>
                    <a:pt x="2003" y="3083"/>
                  </a:lnTo>
                  <a:lnTo>
                    <a:pt x="2001" y="3084"/>
                  </a:lnTo>
                  <a:lnTo>
                    <a:pt x="1999" y="3086"/>
                  </a:lnTo>
                  <a:lnTo>
                    <a:pt x="1996" y="3086"/>
                  </a:lnTo>
                  <a:lnTo>
                    <a:pt x="1996" y="3086"/>
                  </a:lnTo>
                  <a:lnTo>
                    <a:pt x="1994" y="3086"/>
                  </a:lnTo>
                  <a:lnTo>
                    <a:pt x="1990" y="3084"/>
                  </a:lnTo>
                  <a:lnTo>
                    <a:pt x="1990" y="3081"/>
                  </a:lnTo>
                  <a:lnTo>
                    <a:pt x="1989" y="3079"/>
                  </a:lnTo>
                  <a:lnTo>
                    <a:pt x="1990" y="3076"/>
                  </a:lnTo>
                  <a:lnTo>
                    <a:pt x="1992" y="3074"/>
                  </a:lnTo>
                  <a:lnTo>
                    <a:pt x="1994" y="3072"/>
                  </a:lnTo>
                  <a:lnTo>
                    <a:pt x="1997" y="3072"/>
                  </a:lnTo>
                  <a:lnTo>
                    <a:pt x="1997" y="3072"/>
                  </a:lnTo>
                  <a:close/>
                  <a:moveTo>
                    <a:pt x="2025" y="3074"/>
                  </a:moveTo>
                  <a:lnTo>
                    <a:pt x="2025" y="3074"/>
                  </a:lnTo>
                  <a:lnTo>
                    <a:pt x="2029" y="3076"/>
                  </a:lnTo>
                  <a:lnTo>
                    <a:pt x="2031" y="3077"/>
                  </a:lnTo>
                  <a:lnTo>
                    <a:pt x="2032" y="3079"/>
                  </a:lnTo>
                  <a:lnTo>
                    <a:pt x="2032" y="3083"/>
                  </a:lnTo>
                  <a:lnTo>
                    <a:pt x="2032" y="3084"/>
                  </a:lnTo>
                  <a:lnTo>
                    <a:pt x="2031" y="3086"/>
                  </a:lnTo>
                  <a:lnTo>
                    <a:pt x="2027" y="3088"/>
                  </a:lnTo>
                  <a:lnTo>
                    <a:pt x="2025" y="3090"/>
                  </a:lnTo>
                  <a:lnTo>
                    <a:pt x="2025" y="3090"/>
                  </a:lnTo>
                  <a:lnTo>
                    <a:pt x="2022" y="3088"/>
                  </a:lnTo>
                  <a:lnTo>
                    <a:pt x="2020" y="3086"/>
                  </a:lnTo>
                  <a:lnTo>
                    <a:pt x="2018" y="3084"/>
                  </a:lnTo>
                  <a:lnTo>
                    <a:pt x="2018" y="3081"/>
                  </a:lnTo>
                  <a:lnTo>
                    <a:pt x="2018" y="3077"/>
                  </a:lnTo>
                  <a:lnTo>
                    <a:pt x="2020" y="3076"/>
                  </a:lnTo>
                  <a:lnTo>
                    <a:pt x="2024" y="3074"/>
                  </a:lnTo>
                  <a:lnTo>
                    <a:pt x="2025" y="3074"/>
                  </a:lnTo>
                  <a:lnTo>
                    <a:pt x="2025" y="3074"/>
                  </a:lnTo>
                  <a:close/>
                  <a:moveTo>
                    <a:pt x="2048" y="3098"/>
                  </a:moveTo>
                  <a:lnTo>
                    <a:pt x="2048" y="3098"/>
                  </a:lnTo>
                  <a:lnTo>
                    <a:pt x="2048" y="3102"/>
                  </a:lnTo>
                  <a:lnTo>
                    <a:pt x="2048" y="3105"/>
                  </a:lnTo>
                  <a:lnTo>
                    <a:pt x="2048" y="3107"/>
                  </a:lnTo>
                  <a:lnTo>
                    <a:pt x="2045" y="3109"/>
                  </a:lnTo>
                  <a:lnTo>
                    <a:pt x="2043" y="3109"/>
                  </a:lnTo>
                  <a:lnTo>
                    <a:pt x="2039" y="3109"/>
                  </a:lnTo>
                  <a:lnTo>
                    <a:pt x="2038" y="3107"/>
                  </a:lnTo>
                  <a:lnTo>
                    <a:pt x="2036" y="3105"/>
                  </a:lnTo>
                  <a:lnTo>
                    <a:pt x="2036" y="3105"/>
                  </a:lnTo>
                  <a:lnTo>
                    <a:pt x="2034" y="3102"/>
                  </a:lnTo>
                  <a:lnTo>
                    <a:pt x="2036" y="3100"/>
                  </a:lnTo>
                  <a:lnTo>
                    <a:pt x="2036" y="3098"/>
                  </a:lnTo>
                  <a:lnTo>
                    <a:pt x="2039" y="3097"/>
                  </a:lnTo>
                  <a:lnTo>
                    <a:pt x="2041" y="3095"/>
                  </a:lnTo>
                  <a:lnTo>
                    <a:pt x="2045" y="3095"/>
                  </a:lnTo>
                  <a:lnTo>
                    <a:pt x="2046" y="3097"/>
                  </a:lnTo>
                  <a:lnTo>
                    <a:pt x="2048" y="3098"/>
                  </a:lnTo>
                  <a:lnTo>
                    <a:pt x="2048" y="3098"/>
                  </a:lnTo>
                  <a:close/>
                  <a:moveTo>
                    <a:pt x="2062" y="3125"/>
                  </a:moveTo>
                  <a:lnTo>
                    <a:pt x="2062" y="3125"/>
                  </a:lnTo>
                  <a:lnTo>
                    <a:pt x="2062" y="3128"/>
                  </a:lnTo>
                  <a:lnTo>
                    <a:pt x="2062" y="3130"/>
                  </a:lnTo>
                  <a:lnTo>
                    <a:pt x="2060" y="3133"/>
                  </a:lnTo>
                  <a:lnTo>
                    <a:pt x="2059" y="3135"/>
                  </a:lnTo>
                  <a:lnTo>
                    <a:pt x="2055" y="3135"/>
                  </a:lnTo>
                  <a:lnTo>
                    <a:pt x="2052" y="3135"/>
                  </a:lnTo>
                  <a:lnTo>
                    <a:pt x="2050" y="3133"/>
                  </a:lnTo>
                  <a:lnTo>
                    <a:pt x="2048" y="3132"/>
                  </a:lnTo>
                  <a:lnTo>
                    <a:pt x="2048" y="3132"/>
                  </a:lnTo>
                  <a:lnTo>
                    <a:pt x="2048" y="3128"/>
                  </a:lnTo>
                  <a:lnTo>
                    <a:pt x="2048" y="3126"/>
                  </a:lnTo>
                  <a:lnTo>
                    <a:pt x="2050" y="3123"/>
                  </a:lnTo>
                  <a:lnTo>
                    <a:pt x="2052" y="3121"/>
                  </a:lnTo>
                  <a:lnTo>
                    <a:pt x="2055" y="3121"/>
                  </a:lnTo>
                  <a:lnTo>
                    <a:pt x="2057" y="3121"/>
                  </a:lnTo>
                  <a:lnTo>
                    <a:pt x="2060" y="3123"/>
                  </a:lnTo>
                  <a:lnTo>
                    <a:pt x="2062" y="3125"/>
                  </a:lnTo>
                  <a:lnTo>
                    <a:pt x="2062" y="3125"/>
                  </a:lnTo>
                  <a:close/>
                  <a:moveTo>
                    <a:pt x="2074" y="3151"/>
                  </a:moveTo>
                  <a:lnTo>
                    <a:pt x="2074" y="3151"/>
                  </a:lnTo>
                  <a:lnTo>
                    <a:pt x="2074" y="3154"/>
                  </a:lnTo>
                  <a:lnTo>
                    <a:pt x="2074" y="3156"/>
                  </a:lnTo>
                  <a:lnTo>
                    <a:pt x="2073" y="3160"/>
                  </a:lnTo>
                  <a:lnTo>
                    <a:pt x="2071" y="3161"/>
                  </a:lnTo>
                  <a:lnTo>
                    <a:pt x="2067" y="3161"/>
                  </a:lnTo>
                  <a:lnTo>
                    <a:pt x="2066" y="3161"/>
                  </a:lnTo>
                  <a:lnTo>
                    <a:pt x="2064" y="3160"/>
                  </a:lnTo>
                  <a:lnTo>
                    <a:pt x="2062" y="3158"/>
                  </a:lnTo>
                  <a:lnTo>
                    <a:pt x="2062" y="3158"/>
                  </a:lnTo>
                  <a:lnTo>
                    <a:pt x="2060" y="3154"/>
                  </a:lnTo>
                  <a:lnTo>
                    <a:pt x="2060" y="3153"/>
                  </a:lnTo>
                  <a:lnTo>
                    <a:pt x="2062" y="3149"/>
                  </a:lnTo>
                  <a:lnTo>
                    <a:pt x="2064" y="3147"/>
                  </a:lnTo>
                  <a:lnTo>
                    <a:pt x="2067" y="3147"/>
                  </a:lnTo>
                  <a:lnTo>
                    <a:pt x="2069" y="3147"/>
                  </a:lnTo>
                  <a:lnTo>
                    <a:pt x="2073" y="3149"/>
                  </a:lnTo>
                  <a:lnTo>
                    <a:pt x="2074" y="3151"/>
                  </a:lnTo>
                  <a:lnTo>
                    <a:pt x="2074" y="3151"/>
                  </a:lnTo>
                  <a:close/>
                  <a:moveTo>
                    <a:pt x="2087" y="3177"/>
                  </a:moveTo>
                  <a:lnTo>
                    <a:pt x="2087" y="3177"/>
                  </a:lnTo>
                  <a:lnTo>
                    <a:pt x="2088" y="3179"/>
                  </a:lnTo>
                  <a:lnTo>
                    <a:pt x="2087" y="3182"/>
                  </a:lnTo>
                  <a:lnTo>
                    <a:pt x="2087" y="3184"/>
                  </a:lnTo>
                  <a:lnTo>
                    <a:pt x="2083" y="3186"/>
                  </a:lnTo>
                  <a:lnTo>
                    <a:pt x="2081" y="3188"/>
                  </a:lnTo>
                  <a:lnTo>
                    <a:pt x="2078" y="3188"/>
                  </a:lnTo>
                  <a:lnTo>
                    <a:pt x="2076" y="3186"/>
                  </a:lnTo>
                  <a:lnTo>
                    <a:pt x="2074" y="3184"/>
                  </a:lnTo>
                  <a:lnTo>
                    <a:pt x="2074" y="3184"/>
                  </a:lnTo>
                  <a:lnTo>
                    <a:pt x="2073" y="3181"/>
                  </a:lnTo>
                  <a:lnTo>
                    <a:pt x="2074" y="3177"/>
                  </a:lnTo>
                  <a:lnTo>
                    <a:pt x="2074" y="3175"/>
                  </a:lnTo>
                  <a:lnTo>
                    <a:pt x="2078" y="3174"/>
                  </a:lnTo>
                  <a:lnTo>
                    <a:pt x="2080" y="3174"/>
                  </a:lnTo>
                  <a:lnTo>
                    <a:pt x="2083" y="3174"/>
                  </a:lnTo>
                  <a:lnTo>
                    <a:pt x="2085" y="3175"/>
                  </a:lnTo>
                  <a:lnTo>
                    <a:pt x="2087" y="3177"/>
                  </a:lnTo>
                  <a:lnTo>
                    <a:pt x="2087" y="3177"/>
                  </a:lnTo>
                  <a:close/>
                  <a:moveTo>
                    <a:pt x="2099" y="3198"/>
                  </a:moveTo>
                  <a:lnTo>
                    <a:pt x="2099" y="3198"/>
                  </a:lnTo>
                  <a:lnTo>
                    <a:pt x="2101" y="3200"/>
                  </a:lnTo>
                  <a:lnTo>
                    <a:pt x="2102" y="3203"/>
                  </a:lnTo>
                  <a:lnTo>
                    <a:pt x="2102" y="3205"/>
                  </a:lnTo>
                  <a:lnTo>
                    <a:pt x="2101" y="3209"/>
                  </a:lnTo>
                  <a:lnTo>
                    <a:pt x="2099" y="3210"/>
                  </a:lnTo>
                  <a:lnTo>
                    <a:pt x="2097" y="3212"/>
                  </a:lnTo>
                  <a:lnTo>
                    <a:pt x="2094" y="3212"/>
                  </a:lnTo>
                  <a:lnTo>
                    <a:pt x="2092" y="3210"/>
                  </a:lnTo>
                  <a:lnTo>
                    <a:pt x="2092" y="3210"/>
                  </a:lnTo>
                  <a:lnTo>
                    <a:pt x="2088" y="3209"/>
                  </a:lnTo>
                  <a:lnTo>
                    <a:pt x="2088" y="3205"/>
                  </a:lnTo>
                  <a:lnTo>
                    <a:pt x="2088" y="3203"/>
                  </a:lnTo>
                  <a:lnTo>
                    <a:pt x="2090" y="3200"/>
                  </a:lnTo>
                  <a:lnTo>
                    <a:pt x="2092" y="3198"/>
                  </a:lnTo>
                  <a:lnTo>
                    <a:pt x="2094" y="3196"/>
                  </a:lnTo>
                  <a:lnTo>
                    <a:pt x="2097" y="3198"/>
                  </a:lnTo>
                  <a:lnTo>
                    <a:pt x="2099" y="3198"/>
                  </a:lnTo>
                  <a:lnTo>
                    <a:pt x="2099" y="3198"/>
                  </a:lnTo>
                  <a:close/>
                  <a:moveTo>
                    <a:pt x="2123" y="3216"/>
                  </a:moveTo>
                  <a:lnTo>
                    <a:pt x="2123" y="3216"/>
                  </a:lnTo>
                  <a:lnTo>
                    <a:pt x="2125" y="3217"/>
                  </a:lnTo>
                  <a:lnTo>
                    <a:pt x="2125" y="3221"/>
                  </a:lnTo>
                  <a:lnTo>
                    <a:pt x="2125" y="3223"/>
                  </a:lnTo>
                  <a:lnTo>
                    <a:pt x="2125" y="3226"/>
                  </a:lnTo>
                  <a:lnTo>
                    <a:pt x="2123" y="3228"/>
                  </a:lnTo>
                  <a:lnTo>
                    <a:pt x="2120" y="3228"/>
                  </a:lnTo>
                  <a:lnTo>
                    <a:pt x="2116" y="3228"/>
                  </a:lnTo>
                  <a:lnTo>
                    <a:pt x="2115" y="3228"/>
                  </a:lnTo>
                  <a:lnTo>
                    <a:pt x="2115" y="3228"/>
                  </a:lnTo>
                  <a:lnTo>
                    <a:pt x="2113" y="3224"/>
                  </a:lnTo>
                  <a:lnTo>
                    <a:pt x="2111" y="3223"/>
                  </a:lnTo>
                  <a:lnTo>
                    <a:pt x="2111" y="3219"/>
                  </a:lnTo>
                  <a:lnTo>
                    <a:pt x="2113" y="3217"/>
                  </a:lnTo>
                  <a:lnTo>
                    <a:pt x="2115" y="3216"/>
                  </a:lnTo>
                  <a:lnTo>
                    <a:pt x="2118" y="3214"/>
                  </a:lnTo>
                  <a:lnTo>
                    <a:pt x="2120" y="3214"/>
                  </a:lnTo>
                  <a:lnTo>
                    <a:pt x="2123" y="3216"/>
                  </a:lnTo>
                  <a:lnTo>
                    <a:pt x="2123" y="3216"/>
                  </a:lnTo>
                  <a:close/>
                  <a:moveTo>
                    <a:pt x="2146" y="3233"/>
                  </a:moveTo>
                  <a:lnTo>
                    <a:pt x="2146" y="3233"/>
                  </a:lnTo>
                  <a:lnTo>
                    <a:pt x="2148" y="3235"/>
                  </a:lnTo>
                  <a:lnTo>
                    <a:pt x="2150" y="3237"/>
                  </a:lnTo>
                  <a:lnTo>
                    <a:pt x="2150" y="3240"/>
                  </a:lnTo>
                  <a:lnTo>
                    <a:pt x="2148" y="3242"/>
                  </a:lnTo>
                  <a:lnTo>
                    <a:pt x="2146" y="3244"/>
                  </a:lnTo>
                  <a:lnTo>
                    <a:pt x="2143" y="3245"/>
                  </a:lnTo>
                  <a:lnTo>
                    <a:pt x="2141" y="3245"/>
                  </a:lnTo>
                  <a:lnTo>
                    <a:pt x="2139" y="3244"/>
                  </a:lnTo>
                  <a:lnTo>
                    <a:pt x="2139" y="3244"/>
                  </a:lnTo>
                  <a:lnTo>
                    <a:pt x="2136" y="3242"/>
                  </a:lnTo>
                  <a:lnTo>
                    <a:pt x="2136" y="3240"/>
                  </a:lnTo>
                  <a:lnTo>
                    <a:pt x="2136" y="3237"/>
                  </a:lnTo>
                  <a:lnTo>
                    <a:pt x="2137" y="3235"/>
                  </a:lnTo>
                  <a:lnTo>
                    <a:pt x="2139" y="3231"/>
                  </a:lnTo>
                  <a:lnTo>
                    <a:pt x="2141" y="3231"/>
                  </a:lnTo>
                  <a:lnTo>
                    <a:pt x="2144" y="3231"/>
                  </a:lnTo>
                  <a:lnTo>
                    <a:pt x="2146" y="3233"/>
                  </a:lnTo>
                  <a:lnTo>
                    <a:pt x="2146" y="3233"/>
                  </a:lnTo>
                  <a:close/>
                  <a:moveTo>
                    <a:pt x="2171" y="3249"/>
                  </a:moveTo>
                  <a:lnTo>
                    <a:pt x="2171" y="3249"/>
                  </a:lnTo>
                  <a:lnTo>
                    <a:pt x="2172" y="3251"/>
                  </a:lnTo>
                  <a:lnTo>
                    <a:pt x="2172" y="3254"/>
                  </a:lnTo>
                  <a:lnTo>
                    <a:pt x="2172" y="3256"/>
                  </a:lnTo>
                  <a:lnTo>
                    <a:pt x="2172" y="3259"/>
                  </a:lnTo>
                  <a:lnTo>
                    <a:pt x="2171" y="3261"/>
                  </a:lnTo>
                  <a:lnTo>
                    <a:pt x="2167" y="3261"/>
                  </a:lnTo>
                  <a:lnTo>
                    <a:pt x="2164" y="3261"/>
                  </a:lnTo>
                  <a:lnTo>
                    <a:pt x="2162" y="3261"/>
                  </a:lnTo>
                  <a:lnTo>
                    <a:pt x="2162" y="3261"/>
                  </a:lnTo>
                  <a:lnTo>
                    <a:pt x="2160" y="3259"/>
                  </a:lnTo>
                  <a:lnTo>
                    <a:pt x="2158" y="3256"/>
                  </a:lnTo>
                  <a:lnTo>
                    <a:pt x="2158" y="3252"/>
                  </a:lnTo>
                  <a:lnTo>
                    <a:pt x="2160" y="3251"/>
                  </a:lnTo>
                  <a:lnTo>
                    <a:pt x="2162" y="3249"/>
                  </a:lnTo>
                  <a:lnTo>
                    <a:pt x="2165" y="3247"/>
                  </a:lnTo>
                  <a:lnTo>
                    <a:pt x="2167" y="3247"/>
                  </a:lnTo>
                  <a:lnTo>
                    <a:pt x="2171" y="3249"/>
                  </a:lnTo>
                  <a:lnTo>
                    <a:pt x="2171" y="3249"/>
                  </a:lnTo>
                  <a:close/>
                  <a:moveTo>
                    <a:pt x="2193" y="3266"/>
                  </a:moveTo>
                  <a:lnTo>
                    <a:pt x="2193" y="3266"/>
                  </a:lnTo>
                  <a:lnTo>
                    <a:pt x="2195" y="3268"/>
                  </a:lnTo>
                  <a:lnTo>
                    <a:pt x="2197" y="3270"/>
                  </a:lnTo>
                  <a:lnTo>
                    <a:pt x="2197" y="3273"/>
                  </a:lnTo>
                  <a:lnTo>
                    <a:pt x="2195" y="3275"/>
                  </a:lnTo>
                  <a:lnTo>
                    <a:pt x="2193" y="3277"/>
                  </a:lnTo>
                  <a:lnTo>
                    <a:pt x="2192" y="3279"/>
                  </a:lnTo>
                  <a:lnTo>
                    <a:pt x="2188" y="3279"/>
                  </a:lnTo>
                  <a:lnTo>
                    <a:pt x="2186" y="3277"/>
                  </a:lnTo>
                  <a:lnTo>
                    <a:pt x="2186" y="3277"/>
                  </a:lnTo>
                  <a:lnTo>
                    <a:pt x="2183" y="3275"/>
                  </a:lnTo>
                  <a:lnTo>
                    <a:pt x="2183" y="3273"/>
                  </a:lnTo>
                  <a:lnTo>
                    <a:pt x="2183" y="3270"/>
                  </a:lnTo>
                  <a:lnTo>
                    <a:pt x="2185" y="3268"/>
                  </a:lnTo>
                  <a:lnTo>
                    <a:pt x="2186" y="3265"/>
                  </a:lnTo>
                  <a:lnTo>
                    <a:pt x="2188" y="3265"/>
                  </a:lnTo>
                  <a:lnTo>
                    <a:pt x="2192" y="3265"/>
                  </a:lnTo>
                  <a:lnTo>
                    <a:pt x="2193" y="3266"/>
                  </a:lnTo>
                  <a:lnTo>
                    <a:pt x="2193" y="3266"/>
                  </a:lnTo>
                  <a:close/>
                  <a:moveTo>
                    <a:pt x="2211" y="3279"/>
                  </a:moveTo>
                  <a:lnTo>
                    <a:pt x="2211" y="3279"/>
                  </a:lnTo>
                  <a:lnTo>
                    <a:pt x="2214" y="3279"/>
                  </a:lnTo>
                  <a:lnTo>
                    <a:pt x="2216" y="3279"/>
                  </a:lnTo>
                  <a:lnTo>
                    <a:pt x="2220" y="3280"/>
                  </a:lnTo>
                  <a:lnTo>
                    <a:pt x="2221" y="3284"/>
                  </a:lnTo>
                  <a:lnTo>
                    <a:pt x="2221" y="3286"/>
                  </a:lnTo>
                  <a:lnTo>
                    <a:pt x="2220" y="3289"/>
                  </a:lnTo>
                  <a:lnTo>
                    <a:pt x="2220" y="3291"/>
                  </a:lnTo>
                  <a:lnTo>
                    <a:pt x="2216" y="3293"/>
                  </a:lnTo>
                  <a:lnTo>
                    <a:pt x="2216" y="3293"/>
                  </a:lnTo>
                  <a:lnTo>
                    <a:pt x="2214" y="3293"/>
                  </a:lnTo>
                  <a:lnTo>
                    <a:pt x="2211" y="3293"/>
                  </a:lnTo>
                  <a:lnTo>
                    <a:pt x="2209" y="3291"/>
                  </a:lnTo>
                  <a:lnTo>
                    <a:pt x="2207" y="3289"/>
                  </a:lnTo>
                  <a:lnTo>
                    <a:pt x="2206" y="3286"/>
                  </a:lnTo>
                  <a:lnTo>
                    <a:pt x="2207" y="3282"/>
                  </a:lnTo>
                  <a:lnTo>
                    <a:pt x="2209" y="3280"/>
                  </a:lnTo>
                  <a:lnTo>
                    <a:pt x="2211" y="3279"/>
                  </a:lnTo>
                  <a:lnTo>
                    <a:pt x="2211" y="3279"/>
                  </a:lnTo>
                  <a:close/>
                  <a:moveTo>
                    <a:pt x="2239" y="3268"/>
                  </a:moveTo>
                  <a:lnTo>
                    <a:pt x="2239" y="3268"/>
                  </a:lnTo>
                  <a:lnTo>
                    <a:pt x="2241" y="3268"/>
                  </a:lnTo>
                  <a:lnTo>
                    <a:pt x="2244" y="3268"/>
                  </a:lnTo>
                  <a:lnTo>
                    <a:pt x="2246" y="3270"/>
                  </a:lnTo>
                  <a:lnTo>
                    <a:pt x="2248" y="3273"/>
                  </a:lnTo>
                  <a:lnTo>
                    <a:pt x="2248" y="3275"/>
                  </a:lnTo>
                  <a:lnTo>
                    <a:pt x="2248" y="3279"/>
                  </a:lnTo>
                  <a:lnTo>
                    <a:pt x="2246" y="3280"/>
                  </a:lnTo>
                  <a:lnTo>
                    <a:pt x="2244" y="3282"/>
                  </a:lnTo>
                  <a:lnTo>
                    <a:pt x="2244" y="3282"/>
                  </a:lnTo>
                  <a:lnTo>
                    <a:pt x="2241" y="3282"/>
                  </a:lnTo>
                  <a:lnTo>
                    <a:pt x="2237" y="3282"/>
                  </a:lnTo>
                  <a:lnTo>
                    <a:pt x="2236" y="3280"/>
                  </a:lnTo>
                  <a:lnTo>
                    <a:pt x="2234" y="3279"/>
                  </a:lnTo>
                  <a:lnTo>
                    <a:pt x="2234" y="3275"/>
                  </a:lnTo>
                  <a:lnTo>
                    <a:pt x="2234" y="3273"/>
                  </a:lnTo>
                  <a:lnTo>
                    <a:pt x="2236" y="3270"/>
                  </a:lnTo>
                  <a:lnTo>
                    <a:pt x="2239" y="3268"/>
                  </a:lnTo>
                  <a:lnTo>
                    <a:pt x="2239" y="3268"/>
                  </a:lnTo>
                  <a:close/>
                  <a:moveTo>
                    <a:pt x="2265" y="3259"/>
                  </a:moveTo>
                  <a:lnTo>
                    <a:pt x="2265" y="3259"/>
                  </a:lnTo>
                  <a:lnTo>
                    <a:pt x="2269" y="3258"/>
                  </a:lnTo>
                  <a:lnTo>
                    <a:pt x="2271" y="3258"/>
                  </a:lnTo>
                  <a:lnTo>
                    <a:pt x="2272" y="3259"/>
                  </a:lnTo>
                  <a:lnTo>
                    <a:pt x="2274" y="3263"/>
                  </a:lnTo>
                  <a:lnTo>
                    <a:pt x="2276" y="3265"/>
                  </a:lnTo>
                  <a:lnTo>
                    <a:pt x="2274" y="3268"/>
                  </a:lnTo>
                  <a:lnTo>
                    <a:pt x="2272" y="3270"/>
                  </a:lnTo>
                  <a:lnTo>
                    <a:pt x="2271" y="3272"/>
                  </a:lnTo>
                  <a:lnTo>
                    <a:pt x="2271" y="3272"/>
                  </a:lnTo>
                  <a:lnTo>
                    <a:pt x="2267" y="3272"/>
                  </a:lnTo>
                  <a:lnTo>
                    <a:pt x="2265" y="3272"/>
                  </a:lnTo>
                  <a:lnTo>
                    <a:pt x="2264" y="3270"/>
                  </a:lnTo>
                  <a:lnTo>
                    <a:pt x="2262" y="3268"/>
                  </a:lnTo>
                  <a:lnTo>
                    <a:pt x="2260" y="3265"/>
                  </a:lnTo>
                  <a:lnTo>
                    <a:pt x="2262" y="3263"/>
                  </a:lnTo>
                  <a:lnTo>
                    <a:pt x="2264" y="3259"/>
                  </a:lnTo>
                  <a:lnTo>
                    <a:pt x="2265" y="3259"/>
                  </a:lnTo>
                  <a:lnTo>
                    <a:pt x="2265" y="3259"/>
                  </a:lnTo>
                  <a:close/>
                  <a:moveTo>
                    <a:pt x="2292" y="3249"/>
                  </a:moveTo>
                  <a:lnTo>
                    <a:pt x="2292" y="3249"/>
                  </a:lnTo>
                  <a:lnTo>
                    <a:pt x="2295" y="3247"/>
                  </a:lnTo>
                  <a:lnTo>
                    <a:pt x="2299" y="3247"/>
                  </a:lnTo>
                  <a:lnTo>
                    <a:pt x="2300" y="3249"/>
                  </a:lnTo>
                  <a:lnTo>
                    <a:pt x="2302" y="3252"/>
                  </a:lnTo>
                  <a:lnTo>
                    <a:pt x="2302" y="3254"/>
                  </a:lnTo>
                  <a:lnTo>
                    <a:pt x="2302" y="3258"/>
                  </a:lnTo>
                  <a:lnTo>
                    <a:pt x="2300" y="3259"/>
                  </a:lnTo>
                  <a:lnTo>
                    <a:pt x="2299" y="3261"/>
                  </a:lnTo>
                  <a:lnTo>
                    <a:pt x="2299" y="3261"/>
                  </a:lnTo>
                  <a:lnTo>
                    <a:pt x="2295" y="3261"/>
                  </a:lnTo>
                  <a:lnTo>
                    <a:pt x="2292" y="3261"/>
                  </a:lnTo>
                  <a:lnTo>
                    <a:pt x="2290" y="3259"/>
                  </a:lnTo>
                  <a:lnTo>
                    <a:pt x="2288" y="3258"/>
                  </a:lnTo>
                  <a:lnTo>
                    <a:pt x="2288" y="3254"/>
                  </a:lnTo>
                  <a:lnTo>
                    <a:pt x="2288" y="3252"/>
                  </a:lnTo>
                  <a:lnTo>
                    <a:pt x="2290" y="3249"/>
                  </a:lnTo>
                  <a:lnTo>
                    <a:pt x="2292" y="3249"/>
                  </a:lnTo>
                  <a:lnTo>
                    <a:pt x="2292" y="3249"/>
                  </a:lnTo>
                  <a:close/>
                  <a:moveTo>
                    <a:pt x="2306" y="3230"/>
                  </a:moveTo>
                  <a:lnTo>
                    <a:pt x="2306" y="3230"/>
                  </a:lnTo>
                  <a:lnTo>
                    <a:pt x="2307" y="3228"/>
                  </a:lnTo>
                  <a:lnTo>
                    <a:pt x="2309" y="3226"/>
                  </a:lnTo>
                  <a:lnTo>
                    <a:pt x="2313" y="3226"/>
                  </a:lnTo>
                  <a:lnTo>
                    <a:pt x="2314" y="3226"/>
                  </a:lnTo>
                  <a:lnTo>
                    <a:pt x="2318" y="3228"/>
                  </a:lnTo>
                  <a:lnTo>
                    <a:pt x="2318" y="3230"/>
                  </a:lnTo>
                  <a:lnTo>
                    <a:pt x="2318" y="3233"/>
                  </a:lnTo>
                  <a:lnTo>
                    <a:pt x="2318" y="3237"/>
                  </a:lnTo>
                  <a:lnTo>
                    <a:pt x="2318" y="3237"/>
                  </a:lnTo>
                  <a:lnTo>
                    <a:pt x="2316" y="3238"/>
                  </a:lnTo>
                  <a:lnTo>
                    <a:pt x="2314" y="3240"/>
                  </a:lnTo>
                  <a:lnTo>
                    <a:pt x="2311" y="3240"/>
                  </a:lnTo>
                  <a:lnTo>
                    <a:pt x="2309" y="3238"/>
                  </a:lnTo>
                  <a:lnTo>
                    <a:pt x="2306" y="3237"/>
                  </a:lnTo>
                  <a:lnTo>
                    <a:pt x="2306" y="3235"/>
                  </a:lnTo>
                  <a:lnTo>
                    <a:pt x="2304" y="3231"/>
                  </a:lnTo>
                  <a:lnTo>
                    <a:pt x="2306" y="3230"/>
                  </a:lnTo>
                  <a:lnTo>
                    <a:pt x="2306" y="3230"/>
                  </a:lnTo>
                  <a:close/>
                  <a:moveTo>
                    <a:pt x="2318" y="3203"/>
                  </a:moveTo>
                  <a:lnTo>
                    <a:pt x="2318" y="3203"/>
                  </a:lnTo>
                  <a:lnTo>
                    <a:pt x="2320" y="3202"/>
                  </a:lnTo>
                  <a:lnTo>
                    <a:pt x="2323" y="3200"/>
                  </a:lnTo>
                  <a:lnTo>
                    <a:pt x="2325" y="3200"/>
                  </a:lnTo>
                  <a:lnTo>
                    <a:pt x="2328" y="3200"/>
                  </a:lnTo>
                  <a:lnTo>
                    <a:pt x="2330" y="3202"/>
                  </a:lnTo>
                  <a:lnTo>
                    <a:pt x="2332" y="3205"/>
                  </a:lnTo>
                  <a:lnTo>
                    <a:pt x="2332" y="3207"/>
                  </a:lnTo>
                  <a:lnTo>
                    <a:pt x="2332" y="3210"/>
                  </a:lnTo>
                  <a:lnTo>
                    <a:pt x="2332" y="3210"/>
                  </a:lnTo>
                  <a:lnTo>
                    <a:pt x="2330" y="3212"/>
                  </a:lnTo>
                  <a:lnTo>
                    <a:pt x="2327" y="3214"/>
                  </a:lnTo>
                  <a:lnTo>
                    <a:pt x="2325" y="3214"/>
                  </a:lnTo>
                  <a:lnTo>
                    <a:pt x="2321" y="3214"/>
                  </a:lnTo>
                  <a:lnTo>
                    <a:pt x="2320" y="3212"/>
                  </a:lnTo>
                  <a:lnTo>
                    <a:pt x="2318" y="3209"/>
                  </a:lnTo>
                  <a:lnTo>
                    <a:pt x="2318" y="3207"/>
                  </a:lnTo>
                  <a:lnTo>
                    <a:pt x="2318" y="3203"/>
                  </a:lnTo>
                  <a:lnTo>
                    <a:pt x="2318" y="3203"/>
                  </a:lnTo>
                  <a:close/>
                  <a:moveTo>
                    <a:pt x="2332" y="3179"/>
                  </a:moveTo>
                  <a:lnTo>
                    <a:pt x="2332" y="3179"/>
                  </a:lnTo>
                  <a:lnTo>
                    <a:pt x="2334" y="3175"/>
                  </a:lnTo>
                  <a:lnTo>
                    <a:pt x="2335" y="3174"/>
                  </a:lnTo>
                  <a:lnTo>
                    <a:pt x="2339" y="3174"/>
                  </a:lnTo>
                  <a:lnTo>
                    <a:pt x="2342" y="3175"/>
                  </a:lnTo>
                  <a:lnTo>
                    <a:pt x="2344" y="3177"/>
                  </a:lnTo>
                  <a:lnTo>
                    <a:pt x="2346" y="3179"/>
                  </a:lnTo>
                  <a:lnTo>
                    <a:pt x="2346" y="3181"/>
                  </a:lnTo>
                  <a:lnTo>
                    <a:pt x="2346" y="3184"/>
                  </a:lnTo>
                  <a:lnTo>
                    <a:pt x="2346" y="3184"/>
                  </a:lnTo>
                  <a:lnTo>
                    <a:pt x="2344" y="3186"/>
                  </a:lnTo>
                  <a:lnTo>
                    <a:pt x="2341" y="3188"/>
                  </a:lnTo>
                  <a:lnTo>
                    <a:pt x="2339" y="3188"/>
                  </a:lnTo>
                  <a:lnTo>
                    <a:pt x="2335" y="3188"/>
                  </a:lnTo>
                  <a:lnTo>
                    <a:pt x="2334" y="3186"/>
                  </a:lnTo>
                  <a:lnTo>
                    <a:pt x="2332" y="3184"/>
                  </a:lnTo>
                  <a:lnTo>
                    <a:pt x="2332" y="3181"/>
                  </a:lnTo>
                  <a:lnTo>
                    <a:pt x="2332" y="3179"/>
                  </a:lnTo>
                  <a:lnTo>
                    <a:pt x="2332" y="3179"/>
                  </a:lnTo>
                  <a:close/>
                  <a:moveTo>
                    <a:pt x="2346" y="3153"/>
                  </a:moveTo>
                  <a:lnTo>
                    <a:pt x="2346" y="3153"/>
                  </a:lnTo>
                  <a:lnTo>
                    <a:pt x="2348" y="3151"/>
                  </a:lnTo>
                  <a:lnTo>
                    <a:pt x="2349" y="3149"/>
                  </a:lnTo>
                  <a:lnTo>
                    <a:pt x="2353" y="3149"/>
                  </a:lnTo>
                  <a:lnTo>
                    <a:pt x="2355" y="3149"/>
                  </a:lnTo>
                  <a:lnTo>
                    <a:pt x="2358" y="3151"/>
                  </a:lnTo>
                  <a:lnTo>
                    <a:pt x="2358" y="3153"/>
                  </a:lnTo>
                  <a:lnTo>
                    <a:pt x="2358" y="3156"/>
                  </a:lnTo>
                  <a:lnTo>
                    <a:pt x="2358" y="3160"/>
                  </a:lnTo>
                  <a:lnTo>
                    <a:pt x="2358" y="3160"/>
                  </a:lnTo>
                  <a:lnTo>
                    <a:pt x="2356" y="3161"/>
                  </a:lnTo>
                  <a:lnTo>
                    <a:pt x="2355" y="3163"/>
                  </a:lnTo>
                  <a:lnTo>
                    <a:pt x="2351" y="3163"/>
                  </a:lnTo>
                  <a:lnTo>
                    <a:pt x="2349" y="3161"/>
                  </a:lnTo>
                  <a:lnTo>
                    <a:pt x="2346" y="3160"/>
                  </a:lnTo>
                  <a:lnTo>
                    <a:pt x="2346" y="3158"/>
                  </a:lnTo>
                  <a:lnTo>
                    <a:pt x="2344" y="3154"/>
                  </a:lnTo>
                  <a:lnTo>
                    <a:pt x="2346" y="3153"/>
                  </a:lnTo>
                  <a:lnTo>
                    <a:pt x="2346" y="3153"/>
                  </a:lnTo>
                  <a:close/>
                  <a:moveTo>
                    <a:pt x="2358" y="3126"/>
                  </a:moveTo>
                  <a:lnTo>
                    <a:pt x="2358" y="3126"/>
                  </a:lnTo>
                  <a:lnTo>
                    <a:pt x="2360" y="3125"/>
                  </a:lnTo>
                  <a:lnTo>
                    <a:pt x="2363" y="3123"/>
                  </a:lnTo>
                  <a:lnTo>
                    <a:pt x="2365" y="3123"/>
                  </a:lnTo>
                  <a:lnTo>
                    <a:pt x="2369" y="3123"/>
                  </a:lnTo>
                  <a:lnTo>
                    <a:pt x="2370" y="3125"/>
                  </a:lnTo>
                  <a:lnTo>
                    <a:pt x="2372" y="3128"/>
                  </a:lnTo>
                  <a:lnTo>
                    <a:pt x="2372" y="3130"/>
                  </a:lnTo>
                  <a:lnTo>
                    <a:pt x="2372" y="3133"/>
                  </a:lnTo>
                  <a:lnTo>
                    <a:pt x="2372" y="3133"/>
                  </a:lnTo>
                  <a:lnTo>
                    <a:pt x="2370" y="3135"/>
                  </a:lnTo>
                  <a:lnTo>
                    <a:pt x="2367" y="3137"/>
                  </a:lnTo>
                  <a:lnTo>
                    <a:pt x="2365" y="3137"/>
                  </a:lnTo>
                  <a:lnTo>
                    <a:pt x="2362" y="3137"/>
                  </a:lnTo>
                  <a:lnTo>
                    <a:pt x="2360" y="3135"/>
                  </a:lnTo>
                  <a:lnTo>
                    <a:pt x="2358" y="3132"/>
                  </a:lnTo>
                  <a:lnTo>
                    <a:pt x="2358" y="3130"/>
                  </a:lnTo>
                  <a:lnTo>
                    <a:pt x="2358" y="3126"/>
                  </a:lnTo>
                  <a:lnTo>
                    <a:pt x="2358" y="3126"/>
                  </a:lnTo>
                  <a:close/>
                  <a:moveTo>
                    <a:pt x="2372" y="3102"/>
                  </a:moveTo>
                  <a:lnTo>
                    <a:pt x="2372" y="3102"/>
                  </a:lnTo>
                  <a:lnTo>
                    <a:pt x="2374" y="3098"/>
                  </a:lnTo>
                  <a:lnTo>
                    <a:pt x="2377" y="3098"/>
                  </a:lnTo>
                  <a:lnTo>
                    <a:pt x="2379" y="3097"/>
                  </a:lnTo>
                  <a:lnTo>
                    <a:pt x="2383" y="3098"/>
                  </a:lnTo>
                  <a:lnTo>
                    <a:pt x="2384" y="3100"/>
                  </a:lnTo>
                  <a:lnTo>
                    <a:pt x="2386" y="3102"/>
                  </a:lnTo>
                  <a:lnTo>
                    <a:pt x="2386" y="3105"/>
                  </a:lnTo>
                  <a:lnTo>
                    <a:pt x="2386" y="3107"/>
                  </a:lnTo>
                  <a:lnTo>
                    <a:pt x="2386" y="3107"/>
                  </a:lnTo>
                  <a:lnTo>
                    <a:pt x="2384" y="3111"/>
                  </a:lnTo>
                  <a:lnTo>
                    <a:pt x="2381" y="3111"/>
                  </a:lnTo>
                  <a:lnTo>
                    <a:pt x="2379" y="3112"/>
                  </a:lnTo>
                  <a:lnTo>
                    <a:pt x="2376" y="3111"/>
                  </a:lnTo>
                  <a:lnTo>
                    <a:pt x="2374" y="3109"/>
                  </a:lnTo>
                  <a:lnTo>
                    <a:pt x="2372" y="3107"/>
                  </a:lnTo>
                  <a:lnTo>
                    <a:pt x="2372" y="3104"/>
                  </a:lnTo>
                  <a:lnTo>
                    <a:pt x="2372" y="3102"/>
                  </a:lnTo>
                  <a:lnTo>
                    <a:pt x="2372" y="3102"/>
                  </a:lnTo>
                  <a:close/>
                  <a:moveTo>
                    <a:pt x="2386" y="3076"/>
                  </a:moveTo>
                  <a:lnTo>
                    <a:pt x="2386" y="3076"/>
                  </a:lnTo>
                  <a:lnTo>
                    <a:pt x="2388" y="3074"/>
                  </a:lnTo>
                  <a:lnTo>
                    <a:pt x="2391" y="3072"/>
                  </a:lnTo>
                  <a:lnTo>
                    <a:pt x="2393" y="3072"/>
                  </a:lnTo>
                  <a:lnTo>
                    <a:pt x="2397" y="3072"/>
                  </a:lnTo>
                  <a:lnTo>
                    <a:pt x="2398" y="3074"/>
                  </a:lnTo>
                  <a:lnTo>
                    <a:pt x="2400" y="3077"/>
                  </a:lnTo>
                  <a:lnTo>
                    <a:pt x="2400" y="3079"/>
                  </a:lnTo>
                  <a:lnTo>
                    <a:pt x="2400" y="3083"/>
                  </a:lnTo>
                  <a:lnTo>
                    <a:pt x="2400" y="3083"/>
                  </a:lnTo>
                  <a:lnTo>
                    <a:pt x="2398" y="3084"/>
                  </a:lnTo>
                  <a:lnTo>
                    <a:pt x="2395" y="3086"/>
                  </a:lnTo>
                  <a:lnTo>
                    <a:pt x="2393" y="3086"/>
                  </a:lnTo>
                  <a:lnTo>
                    <a:pt x="2390" y="3086"/>
                  </a:lnTo>
                  <a:lnTo>
                    <a:pt x="2388" y="3084"/>
                  </a:lnTo>
                  <a:lnTo>
                    <a:pt x="2386" y="3081"/>
                  </a:lnTo>
                  <a:lnTo>
                    <a:pt x="2386" y="3079"/>
                  </a:lnTo>
                  <a:lnTo>
                    <a:pt x="2386" y="3076"/>
                  </a:lnTo>
                  <a:lnTo>
                    <a:pt x="2386" y="3076"/>
                  </a:lnTo>
                  <a:close/>
                  <a:moveTo>
                    <a:pt x="2400" y="3051"/>
                  </a:moveTo>
                  <a:lnTo>
                    <a:pt x="2400" y="3051"/>
                  </a:lnTo>
                  <a:lnTo>
                    <a:pt x="2402" y="3048"/>
                  </a:lnTo>
                  <a:lnTo>
                    <a:pt x="2405" y="3048"/>
                  </a:lnTo>
                  <a:lnTo>
                    <a:pt x="2407" y="3046"/>
                  </a:lnTo>
                  <a:lnTo>
                    <a:pt x="2411" y="3048"/>
                  </a:lnTo>
                  <a:lnTo>
                    <a:pt x="2412" y="3049"/>
                  </a:lnTo>
                  <a:lnTo>
                    <a:pt x="2414" y="3051"/>
                  </a:lnTo>
                  <a:lnTo>
                    <a:pt x="2414" y="3055"/>
                  </a:lnTo>
                  <a:lnTo>
                    <a:pt x="2414" y="3058"/>
                  </a:lnTo>
                  <a:lnTo>
                    <a:pt x="2414" y="3058"/>
                  </a:lnTo>
                  <a:lnTo>
                    <a:pt x="2412" y="3060"/>
                  </a:lnTo>
                  <a:lnTo>
                    <a:pt x="2409" y="3062"/>
                  </a:lnTo>
                  <a:lnTo>
                    <a:pt x="2407" y="3062"/>
                  </a:lnTo>
                  <a:lnTo>
                    <a:pt x="2404" y="3060"/>
                  </a:lnTo>
                  <a:lnTo>
                    <a:pt x="2402" y="3058"/>
                  </a:lnTo>
                  <a:lnTo>
                    <a:pt x="2400" y="3056"/>
                  </a:lnTo>
                  <a:lnTo>
                    <a:pt x="2400" y="3053"/>
                  </a:lnTo>
                  <a:lnTo>
                    <a:pt x="2400" y="3051"/>
                  </a:lnTo>
                  <a:lnTo>
                    <a:pt x="2400" y="3051"/>
                  </a:lnTo>
                  <a:close/>
                  <a:moveTo>
                    <a:pt x="2416" y="3025"/>
                  </a:moveTo>
                  <a:lnTo>
                    <a:pt x="2416" y="3025"/>
                  </a:lnTo>
                  <a:lnTo>
                    <a:pt x="2418" y="3023"/>
                  </a:lnTo>
                  <a:lnTo>
                    <a:pt x="2419" y="3021"/>
                  </a:lnTo>
                  <a:lnTo>
                    <a:pt x="2421" y="3021"/>
                  </a:lnTo>
                  <a:lnTo>
                    <a:pt x="2425" y="3023"/>
                  </a:lnTo>
                  <a:lnTo>
                    <a:pt x="2426" y="3025"/>
                  </a:lnTo>
                  <a:lnTo>
                    <a:pt x="2428" y="3027"/>
                  </a:lnTo>
                  <a:lnTo>
                    <a:pt x="2428" y="3028"/>
                  </a:lnTo>
                  <a:lnTo>
                    <a:pt x="2428" y="3032"/>
                  </a:lnTo>
                  <a:lnTo>
                    <a:pt x="2428" y="3032"/>
                  </a:lnTo>
                  <a:lnTo>
                    <a:pt x="2426" y="3034"/>
                  </a:lnTo>
                  <a:lnTo>
                    <a:pt x="2423" y="3035"/>
                  </a:lnTo>
                  <a:lnTo>
                    <a:pt x="2421" y="3035"/>
                  </a:lnTo>
                  <a:lnTo>
                    <a:pt x="2418" y="3035"/>
                  </a:lnTo>
                  <a:lnTo>
                    <a:pt x="2416" y="3034"/>
                  </a:lnTo>
                  <a:lnTo>
                    <a:pt x="2414" y="3030"/>
                  </a:lnTo>
                  <a:lnTo>
                    <a:pt x="2414" y="3028"/>
                  </a:lnTo>
                  <a:lnTo>
                    <a:pt x="2416" y="3025"/>
                  </a:lnTo>
                  <a:lnTo>
                    <a:pt x="2416" y="3025"/>
                  </a:lnTo>
                  <a:close/>
                  <a:moveTo>
                    <a:pt x="2439" y="3004"/>
                  </a:moveTo>
                  <a:lnTo>
                    <a:pt x="2439" y="3004"/>
                  </a:lnTo>
                  <a:lnTo>
                    <a:pt x="2440" y="3002"/>
                  </a:lnTo>
                  <a:lnTo>
                    <a:pt x="2444" y="3002"/>
                  </a:lnTo>
                  <a:lnTo>
                    <a:pt x="2446" y="3002"/>
                  </a:lnTo>
                  <a:lnTo>
                    <a:pt x="2449" y="3004"/>
                  </a:lnTo>
                  <a:lnTo>
                    <a:pt x="2449" y="3007"/>
                  </a:lnTo>
                  <a:lnTo>
                    <a:pt x="2451" y="3009"/>
                  </a:lnTo>
                  <a:lnTo>
                    <a:pt x="2449" y="3013"/>
                  </a:lnTo>
                  <a:lnTo>
                    <a:pt x="2447" y="3014"/>
                  </a:lnTo>
                  <a:lnTo>
                    <a:pt x="2447" y="3014"/>
                  </a:lnTo>
                  <a:lnTo>
                    <a:pt x="2446" y="3016"/>
                  </a:lnTo>
                  <a:lnTo>
                    <a:pt x="2442" y="3016"/>
                  </a:lnTo>
                  <a:lnTo>
                    <a:pt x="2440" y="3016"/>
                  </a:lnTo>
                  <a:lnTo>
                    <a:pt x="2439" y="3014"/>
                  </a:lnTo>
                  <a:lnTo>
                    <a:pt x="2437" y="3013"/>
                  </a:lnTo>
                  <a:lnTo>
                    <a:pt x="2435" y="3009"/>
                  </a:lnTo>
                  <a:lnTo>
                    <a:pt x="2437" y="3006"/>
                  </a:lnTo>
                  <a:lnTo>
                    <a:pt x="2439" y="3004"/>
                  </a:lnTo>
                  <a:lnTo>
                    <a:pt x="2439" y="3004"/>
                  </a:lnTo>
                  <a:close/>
                  <a:moveTo>
                    <a:pt x="2460" y="2985"/>
                  </a:moveTo>
                  <a:lnTo>
                    <a:pt x="2460" y="2985"/>
                  </a:lnTo>
                  <a:lnTo>
                    <a:pt x="2461" y="2983"/>
                  </a:lnTo>
                  <a:lnTo>
                    <a:pt x="2465" y="2983"/>
                  </a:lnTo>
                  <a:lnTo>
                    <a:pt x="2468" y="2983"/>
                  </a:lnTo>
                  <a:lnTo>
                    <a:pt x="2470" y="2985"/>
                  </a:lnTo>
                  <a:lnTo>
                    <a:pt x="2472" y="2988"/>
                  </a:lnTo>
                  <a:lnTo>
                    <a:pt x="2472" y="2990"/>
                  </a:lnTo>
                  <a:lnTo>
                    <a:pt x="2472" y="2993"/>
                  </a:lnTo>
                  <a:lnTo>
                    <a:pt x="2470" y="2995"/>
                  </a:lnTo>
                  <a:lnTo>
                    <a:pt x="2470" y="2995"/>
                  </a:lnTo>
                  <a:lnTo>
                    <a:pt x="2467" y="2997"/>
                  </a:lnTo>
                  <a:lnTo>
                    <a:pt x="2465" y="2997"/>
                  </a:lnTo>
                  <a:lnTo>
                    <a:pt x="2461" y="2997"/>
                  </a:lnTo>
                  <a:lnTo>
                    <a:pt x="2460" y="2995"/>
                  </a:lnTo>
                  <a:lnTo>
                    <a:pt x="2458" y="2993"/>
                  </a:lnTo>
                  <a:lnTo>
                    <a:pt x="2458" y="2990"/>
                  </a:lnTo>
                  <a:lnTo>
                    <a:pt x="2458" y="2986"/>
                  </a:lnTo>
                  <a:lnTo>
                    <a:pt x="2460" y="2985"/>
                  </a:lnTo>
                  <a:lnTo>
                    <a:pt x="2460" y="2985"/>
                  </a:lnTo>
                  <a:close/>
                  <a:moveTo>
                    <a:pt x="2482" y="2965"/>
                  </a:moveTo>
                  <a:lnTo>
                    <a:pt x="2482" y="2965"/>
                  </a:lnTo>
                  <a:lnTo>
                    <a:pt x="2484" y="2964"/>
                  </a:lnTo>
                  <a:lnTo>
                    <a:pt x="2486" y="2964"/>
                  </a:lnTo>
                  <a:lnTo>
                    <a:pt x="2489" y="2964"/>
                  </a:lnTo>
                  <a:lnTo>
                    <a:pt x="2491" y="2967"/>
                  </a:lnTo>
                  <a:lnTo>
                    <a:pt x="2493" y="2969"/>
                  </a:lnTo>
                  <a:lnTo>
                    <a:pt x="2493" y="2971"/>
                  </a:lnTo>
                  <a:lnTo>
                    <a:pt x="2493" y="2974"/>
                  </a:lnTo>
                  <a:lnTo>
                    <a:pt x="2491" y="2976"/>
                  </a:lnTo>
                  <a:lnTo>
                    <a:pt x="2491" y="2976"/>
                  </a:lnTo>
                  <a:lnTo>
                    <a:pt x="2489" y="2978"/>
                  </a:lnTo>
                  <a:lnTo>
                    <a:pt x="2486" y="2978"/>
                  </a:lnTo>
                  <a:lnTo>
                    <a:pt x="2484" y="2978"/>
                  </a:lnTo>
                  <a:lnTo>
                    <a:pt x="2481" y="2976"/>
                  </a:lnTo>
                  <a:lnTo>
                    <a:pt x="2479" y="2974"/>
                  </a:lnTo>
                  <a:lnTo>
                    <a:pt x="2479" y="2971"/>
                  </a:lnTo>
                  <a:lnTo>
                    <a:pt x="2481" y="2969"/>
                  </a:lnTo>
                  <a:lnTo>
                    <a:pt x="2482" y="2965"/>
                  </a:lnTo>
                  <a:lnTo>
                    <a:pt x="2482" y="2965"/>
                  </a:lnTo>
                  <a:close/>
                  <a:moveTo>
                    <a:pt x="2514" y="2960"/>
                  </a:moveTo>
                  <a:lnTo>
                    <a:pt x="2514" y="2960"/>
                  </a:lnTo>
                  <a:lnTo>
                    <a:pt x="2516" y="2960"/>
                  </a:lnTo>
                  <a:lnTo>
                    <a:pt x="2517" y="2962"/>
                  </a:lnTo>
                  <a:lnTo>
                    <a:pt x="2519" y="2965"/>
                  </a:lnTo>
                  <a:lnTo>
                    <a:pt x="2519" y="2969"/>
                  </a:lnTo>
                  <a:lnTo>
                    <a:pt x="2517" y="2971"/>
                  </a:lnTo>
                  <a:lnTo>
                    <a:pt x="2516" y="2972"/>
                  </a:lnTo>
                  <a:lnTo>
                    <a:pt x="2512" y="2974"/>
                  </a:lnTo>
                  <a:lnTo>
                    <a:pt x="2510" y="2974"/>
                  </a:lnTo>
                  <a:lnTo>
                    <a:pt x="2510" y="2974"/>
                  </a:lnTo>
                  <a:lnTo>
                    <a:pt x="2507" y="2972"/>
                  </a:lnTo>
                  <a:lnTo>
                    <a:pt x="2505" y="2971"/>
                  </a:lnTo>
                  <a:lnTo>
                    <a:pt x="2505" y="2967"/>
                  </a:lnTo>
                  <a:lnTo>
                    <a:pt x="2505" y="2965"/>
                  </a:lnTo>
                  <a:lnTo>
                    <a:pt x="2505" y="2962"/>
                  </a:lnTo>
                  <a:lnTo>
                    <a:pt x="2509" y="2960"/>
                  </a:lnTo>
                  <a:lnTo>
                    <a:pt x="2510" y="2960"/>
                  </a:lnTo>
                  <a:lnTo>
                    <a:pt x="2514" y="2960"/>
                  </a:lnTo>
                  <a:lnTo>
                    <a:pt x="2514" y="2960"/>
                  </a:lnTo>
                  <a:close/>
                  <a:moveTo>
                    <a:pt x="2519" y="2957"/>
                  </a:moveTo>
                  <a:lnTo>
                    <a:pt x="2519" y="2957"/>
                  </a:lnTo>
                  <a:lnTo>
                    <a:pt x="2519" y="2953"/>
                  </a:lnTo>
                  <a:lnTo>
                    <a:pt x="2521" y="2951"/>
                  </a:lnTo>
                  <a:lnTo>
                    <a:pt x="2523" y="2950"/>
                  </a:lnTo>
                  <a:lnTo>
                    <a:pt x="2526" y="2948"/>
                  </a:lnTo>
                  <a:lnTo>
                    <a:pt x="2530" y="2950"/>
                  </a:lnTo>
                  <a:lnTo>
                    <a:pt x="2531" y="2951"/>
                  </a:lnTo>
                  <a:lnTo>
                    <a:pt x="2533" y="2953"/>
                  </a:lnTo>
                  <a:lnTo>
                    <a:pt x="2533" y="2957"/>
                  </a:lnTo>
                  <a:lnTo>
                    <a:pt x="2533" y="2957"/>
                  </a:lnTo>
                  <a:lnTo>
                    <a:pt x="2533" y="2958"/>
                  </a:lnTo>
                  <a:lnTo>
                    <a:pt x="2531" y="2960"/>
                  </a:lnTo>
                  <a:lnTo>
                    <a:pt x="2530" y="2962"/>
                  </a:lnTo>
                  <a:lnTo>
                    <a:pt x="2526" y="2964"/>
                  </a:lnTo>
                  <a:lnTo>
                    <a:pt x="2523" y="2962"/>
                  </a:lnTo>
                  <a:lnTo>
                    <a:pt x="2521" y="2960"/>
                  </a:lnTo>
                  <a:lnTo>
                    <a:pt x="2519" y="2958"/>
                  </a:lnTo>
                  <a:lnTo>
                    <a:pt x="2519" y="2957"/>
                  </a:lnTo>
                  <a:lnTo>
                    <a:pt x="2519" y="2957"/>
                  </a:lnTo>
                  <a:close/>
                  <a:moveTo>
                    <a:pt x="2523" y="2925"/>
                  </a:moveTo>
                  <a:lnTo>
                    <a:pt x="2523" y="2925"/>
                  </a:lnTo>
                  <a:lnTo>
                    <a:pt x="2524" y="2922"/>
                  </a:lnTo>
                  <a:lnTo>
                    <a:pt x="2528" y="2922"/>
                  </a:lnTo>
                  <a:lnTo>
                    <a:pt x="2530" y="2920"/>
                  </a:lnTo>
                  <a:lnTo>
                    <a:pt x="2533" y="2922"/>
                  </a:lnTo>
                  <a:lnTo>
                    <a:pt x="2535" y="2923"/>
                  </a:lnTo>
                  <a:lnTo>
                    <a:pt x="2537" y="2925"/>
                  </a:lnTo>
                  <a:lnTo>
                    <a:pt x="2537" y="2927"/>
                  </a:lnTo>
                  <a:lnTo>
                    <a:pt x="2537" y="2930"/>
                  </a:lnTo>
                  <a:lnTo>
                    <a:pt x="2537" y="2930"/>
                  </a:lnTo>
                  <a:lnTo>
                    <a:pt x="2535" y="2932"/>
                  </a:lnTo>
                  <a:lnTo>
                    <a:pt x="2533" y="2934"/>
                  </a:lnTo>
                  <a:lnTo>
                    <a:pt x="2530" y="2936"/>
                  </a:lnTo>
                  <a:lnTo>
                    <a:pt x="2528" y="2934"/>
                  </a:lnTo>
                  <a:lnTo>
                    <a:pt x="2524" y="2932"/>
                  </a:lnTo>
                  <a:lnTo>
                    <a:pt x="2523" y="2930"/>
                  </a:lnTo>
                  <a:lnTo>
                    <a:pt x="2523" y="2927"/>
                  </a:lnTo>
                  <a:lnTo>
                    <a:pt x="2523" y="2925"/>
                  </a:lnTo>
                  <a:lnTo>
                    <a:pt x="2523" y="2925"/>
                  </a:lnTo>
                  <a:close/>
                  <a:moveTo>
                    <a:pt x="2537" y="2899"/>
                  </a:moveTo>
                  <a:lnTo>
                    <a:pt x="2537" y="2899"/>
                  </a:lnTo>
                  <a:lnTo>
                    <a:pt x="2538" y="2895"/>
                  </a:lnTo>
                  <a:lnTo>
                    <a:pt x="2540" y="2895"/>
                  </a:lnTo>
                  <a:lnTo>
                    <a:pt x="2542" y="2893"/>
                  </a:lnTo>
                  <a:lnTo>
                    <a:pt x="2545" y="2895"/>
                  </a:lnTo>
                  <a:lnTo>
                    <a:pt x="2547" y="2897"/>
                  </a:lnTo>
                  <a:lnTo>
                    <a:pt x="2549" y="2899"/>
                  </a:lnTo>
                  <a:lnTo>
                    <a:pt x="2549" y="2902"/>
                  </a:lnTo>
                  <a:lnTo>
                    <a:pt x="2549" y="2904"/>
                  </a:lnTo>
                  <a:lnTo>
                    <a:pt x="2549" y="2904"/>
                  </a:lnTo>
                  <a:lnTo>
                    <a:pt x="2547" y="2907"/>
                  </a:lnTo>
                  <a:lnTo>
                    <a:pt x="2545" y="2907"/>
                  </a:lnTo>
                  <a:lnTo>
                    <a:pt x="2542" y="2909"/>
                  </a:lnTo>
                  <a:lnTo>
                    <a:pt x="2540" y="2907"/>
                  </a:lnTo>
                  <a:lnTo>
                    <a:pt x="2537" y="2906"/>
                  </a:lnTo>
                  <a:lnTo>
                    <a:pt x="2535" y="2904"/>
                  </a:lnTo>
                  <a:lnTo>
                    <a:pt x="2535" y="2900"/>
                  </a:lnTo>
                  <a:lnTo>
                    <a:pt x="2537" y="2899"/>
                  </a:lnTo>
                  <a:lnTo>
                    <a:pt x="2537" y="2899"/>
                  </a:lnTo>
                  <a:close/>
                  <a:moveTo>
                    <a:pt x="2549" y="2872"/>
                  </a:moveTo>
                  <a:lnTo>
                    <a:pt x="2549" y="2872"/>
                  </a:lnTo>
                  <a:lnTo>
                    <a:pt x="2551" y="2869"/>
                  </a:lnTo>
                  <a:lnTo>
                    <a:pt x="2552" y="2869"/>
                  </a:lnTo>
                  <a:lnTo>
                    <a:pt x="2554" y="2867"/>
                  </a:lnTo>
                  <a:lnTo>
                    <a:pt x="2558" y="2869"/>
                  </a:lnTo>
                  <a:lnTo>
                    <a:pt x="2559" y="2871"/>
                  </a:lnTo>
                  <a:lnTo>
                    <a:pt x="2561" y="2872"/>
                  </a:lnTo>
                  <a:lnTo>
                    <a:pt x="2563" y="2876"/>
                  </a:lnTo>
                  <a:lnTo>
                    <a:pt x="2561" y="2878"/>
                  </a:lnTo>
                  <a:lnTo>
                    <a:pt x="2561" y="2878"/>
                  </a:lnTo>
                  <a:lnTo>
                    <a:pt x="2559" y="2881"/>
                  </a:lnTo>
                  <a:lnTo>
                    <a:pt x="2558" y="2881"/>
                  </a:lnTo>
                  <a:lnTo>
                    <a:pt x="2554" y="2883"/>
                  </a:lnTo>
                  <a:lnTo>
                    <a:pt x="2552" y="2881"/>
                  </a:lnTo>
                  <a:lnTo>
                    <a:pt x="2549" y="2879"/>
                  </a:lnTo>
                  <a:lnTo>
                    <a:pt x="2549" y="2878"/>
                  </a:lnTo>
                  <a:lnTo>
                    <a:pt x="2547" y="2874"/>
                  </a:lnTo>
                  <a:lnTo>
                    <a:pt x="2549" y="2872"/>
                  </a:lnTo>
                  <a:lnTo>
                    <a:pt x="2549" y="2872"/>
                  </a:lnTo>
                  <a:close/>
                  <a:moveTo>
                    <a:pt x="2561" y="2846"/>
                  </a:moveTo>
                  <a:lnTo>
                    <a:pt x="2561" y="2846"/>
                  </a:lnTo>
                  <a:lnTo>
                    <a:pt x="2563" y="2844"/>
                  </a:lnTo>
                  <a:lnTo>
                    <a:pt x="2565" y="2843"/>
                  </a:lnTo>
                  <a:lnTo>
                    <a:pt x="2568" y="2841"/>
                  </a:lnTo>
                  <a:lnTo>
                    <a:pt x="2570" y="2843"/>
                  </a:lnTo>
                  <a:lnTo>
                    <a:pt x="2573" y="2844"/>
                  </a:lnTo>
                  <a:lnTo>
                    <a:pt x="2573" y="2846"/>
                  </a:lnTo>
                  <a:lnTo>
                    <a:pt x="2575" y="2850"/>
                  </a:lnTo>
                  <a:lnTo>
                    <a:pt x="2573" y="2851"/>
                  </a:lnTo>
                  <a:lnTo>
                    <a:pt x="2573" y="2851"/>
                  </a:lnTo>
                  <a:lnTo>
                    <a:pt x="2572" y="2855"/>
                  </a:lnTo>
                  <a:lnTo>
                    <a:pt x="2570" y="2857"/>
                  </a:lnTo>
                  <a:lnTo>
                    <a:pt x="2566" y="2857"/>
                  </a:lnTo>
                  <a:lnTo>
                    <a:pt x="2565" y="2857"/>
                  </a:lnTo>
                  <a:lnTo>
                    <a:pt x="2561" y="2855"/>
                  </a:lnTo>
                  <a:lnTo>
                    <a:pt x="2561" y="2851"/>
                  </a:lnTo>
                  <a:lnTo>
                    <a:pt x="2559" y="2850"/>
                  </a:lnTo>
                  <a:lnTo>
                    <a:pt x="2561" y="2846"/>
                  </a:lnTo>
                  <a:lnTo>
                    <a:pt x="2561" y="2846"/>
                  </a:lnTo>
                  <a:close/>
                  <a:moveTo>
                    <a:pt x="2558" y="2823"/>
                  </a:moveTo>
                  <a:lnTo>
                    <a:pt x="2558" y="2823"/>
                  </a:lnTo>
                  <a:lnTo>
                    <a:pt x="2558" y="2820"/>
                  </a:lnTo>
                  <a:lnTo>
                    <a:pt x="2558" y="2818"/>
                  </a:lnTo>
                  <a:lnTo>
                    <a:pt x="2561" y="2816"/>
                  </a:lnTo>
                  <a:lnTo>
                    <a:pt x="2563" y="2815"/>
                  </a:lnTo>
                  <a:lnTo>
                    <a:pt x="2566" y="2815"/>
                  </a:lnTo>
                  <a:lnTo>
                    <a:pt x="2568" y="2815"/>
                  </a:lnTo>
                  <a:lnTo>
                    <a:pt x="2570" y="2816"/>
                  </a:lnTo>
                  <a:lnTo>
                    <a:pt x="2572" y="2820"/>
                  </a:lnTo>
                  <a:lnTo>
                    <a:pt x="2572" y="2820"/>
                  </a:lnTo>
                  <a:lnTo>
                    <a:pt x="2572" y="2822"/>
                  </a:lnTo>
                  <a:lnTo>
                    <a:pt x="2572" y="2825"/>
                  </a:lnTo>
                  <a:lnTo>
                    <a:pt x="2570" y="2827"/>
                  </a:lnTo>
                  <a:lnTo>
                    <a:pt x="2566" y="2829"/>
                  </a:lnTo>
                  <a:lnTo>
                    <a:pt x="2565" y="2829"/>
                  </a:lnTo>
                  <a:lnTo>
                    <a:pt x="2561" y="2827"/>
                  </a:lnTo>
                  <a:lnTo>
                    <a:pt x="2559" y="2825"/>
                  </a:lnTo>
                  <a:lnTo>
                    <a:pt x="2558" y="2823"/>
                  </a:lnTo>
                  <a:lnTo>
                    <a:pt x="2558" y="2823"/>
                  </a:lnTo>
                  <a:close/>
                  <a:moveTo>
                    <a:pt x="2551" y="2795"/>
                  </a:moveTo>
                  <a:lnTo>
                    <a:pt x="2551" y="2795"/>
                  </a:lnTo>
                  <a:lnTo>
                    <a:pt x="2551" y="2792"/>
                  </a:lnTo>
                  <a:lnTo>
                    <a:pt x="2551" y="2790"/>
                  </a:lnTo>
                  <a:lnTo>
                    <a:pt x="2554" y="2787"/>
                  </a:lnTo>
                  <a:lnTo>
                    <a:pt x="2556" y="2787"/>
                  </a:lnTo>
                  <a:lnTo>
                    <a:pt x="2559" y="2787"/>
                  </a:lnTo>
                  <a:lnTo>
                    <a:pt x="2561" y="2787"/>
                  </a:lnTo>
                  <a:lnTo>
                    <a:pt x="2563" y="2788"/>
                  </a:lnTo>
                  <a:lnTo>
                    <a:pt x="2565" y="2792"/>
                  </a:lnTo>
                  <a:lnTo>
                    <a:pt x="2565" y="2792"/>
                  </a:lnTo>
                  <a:lnTo>
                    <a:pt x="2565" y="2794"/>
                  </a:lnTo>
                  <a:lnTo>
                    <a:pt x="2565" y="2797"/>
                  </a:lnTo>
                  <a:lnTo>
                    <a:pt x="2563" y="2799"/>
                  </a:lnTo>
                  <a:lnTo>
                    <a:pt x="2559" y="2801"/>
                  </a:lnTo>
                  <a:lnTo>
                    <a:pt x="2558" y="2801"/>
                  </a:lnTo>
                  <a:lnTo>
                    <a:pt x="2554" y="2799"/>
                  </a:lnTo>
                  <a:lnTo>
                    <a:pt x="2552" y="2797"/>
                  </a:lnTo>
                  <a:lnTo>
                    <a:pt x="2551" y="2795"/>
                  </a:lnTo>
                  <a:lnTo>
                    <a:pt x="2551" y="2795"/>
                  </a:lnTo>
                  <a:close/>
                  <a:moveTo>
                    <a:pt x="2544" y="2767"/>
                  </a:moveTo>
                  <a:lnTo>
                    <a:pt x="2544" y="2767"/>
                  </a:lnTo>
                  <a:lnTo>
                    <a:pt x="2544" y="2764"/>
                  </a:lnTo>
                  <a:lnTo>
                    <a:pt x="2544" y="2762"/>
                  </a:lnTo>
                  <a:lnTo>
                    <a:pt x="2547" y="2759"/>
                  </a:lnTo>
                  <a:lnTo>
                    <a:pt x="2549" y="2759"/>
                  </a:lnTo>
                  <a:lnTo>
                    <a:pt x="2552" y="2759"/>
                  </a:lnTo>
                  <a:lnTo>
                    <a:pt x="2554" y="2759"/>
                  </a:lnTo>
                  <a:lnTo>
                    <a:pt x="2556" y="2760"/>
                  </a:lnTo>
                  <a:lnTo>
                    <a:pt x="2558" y="2764"/>
                  </a:lnTo>
                  <a:lnTo>
                    <a:pt x="2558" y="2764"/>
                  </a:lnTo>
                  <a:lnTo>
                    <a:pt x="2558" y="2766"/>
                  </a:lnTo>
                  <a:lnTo>
                    <a:pt x="2558" y="2769"/>
                  </a:lnTo>
                  <a:lnTo>
                    <a:pt x="2556" y="2771"/>
                  </a:lnTo>
                  <a:lnTo>
                    <a:pt x="2552" y="2773"/>
                  </a:lnTo>
                  <a:lnTo>
                    <a:pt x="2551" y="2773"/>
                  </a:lnTo>
                  <a:lnTo>
                    <a:pt x="2547" y="2771"/>
                  </a:lnTo>
                  <a:lnTo>
                    <a:pt x="2545" y="2769"/>
                  </a:lnTo>
                  <a:lnTo>
                    <a:pt x="2544" y="2767"/>
                  </a:lnTo>
                  <a:lnTo>
                    <a:pt x="2544" y="2767"/>
                  </a:lnTo>
                  <a:close/>
                  <a:moveTo>
                    <a:pt x="2537" y="2739"/>
                  </a:moveTo>
                  <a:lnTo>
                    <a:pt x="2537" y="2739"/>
                  </a:lnTo>
                  <a:lnTo>
                    <a:pt x="2537" y="2736"/>
                  </a:lnTo>
                  <a:lnTo>
                    <a:pt x="2538" y="2734"/>
                  </a:lnTo>
                  <a:lnTo>
                    <a:pt x="2540" y="2731"/>
                  </a:lnTo>
                  <a:lnTo>
                    <a:pt x="2542" y="2731"/>
                  </a:lnTo>
                  <a:lnTo>
                    <a:pt x="2545" y="2731"/>
                  </a:lnTo>
                  <a:lnTo>
                    <a:pt x="2547" y="2731"/>
                  </a:lnTo>
                  <a:lnTo>
                    <a:pt x="2549" y="2732"/>
                  </a:lnTo>
                  <a:lnTo>
                    <a:pt x="2551" y="2736"/>
                  </a:lnTo>
                  <a:lnTo>
                    <a:pt x="2551" y="2736"/>
                  </a:lnTo>
                  <a:lnTo>
                    <a:pt x="2551" y="2738"/>
                  </a:lnTo>
                  <a:lnTo>
                    <a:pt x="2551" y="2741"/>
                  </a:lnTo>
                  <a:lnTo>
                    <a:pt x="2549" y="2743"/>
                  </a:lnTo>
                  <a:lnTo>
                    <a:pt x="2545" y="2745"/>
                  </a:lnTo>
                  <a:lnTo>
                    <a:pt x="2544" y="2745"/>
                  </a:lnTo>
                  <a:lnTo>
                    <a:pt x="2540" y="2743"/>
                  </a:lnTo>
                  <a:lnTo>
                    <a:pt x="2538" y="2741"/>
                  </a:lnTo>
                  <a:lnTo>
                    <a:pt x="2537" y="2739"/>
                  </a:lnTo>
                  <a:lnTo>
                    <a:pt x="2537" y="2739"/>
                  </a:lnTo>
                  <a:close/>
                  <a:moveTo>
                    <a:pt x="2530" y="2711"/>
                  </a:moveTo>
                  <a:lnTo>
                    <a:pt x="2530" y="2711"/>
                  </a:lnTo>
                  <a:lnTo>
                    <a:pt x="2530" y="2708"/>
                  </a:lnTo>
                  <a:lnTo>
                    <a:pt x="2531" y="2706"/>
                  </a:lnTo>
                  <a:lnTo>
                    <a:pt x="2533" y="2703"/>
                  </a:lnTo>
                  <a:lnTo>
                    <a:pt x="2535" y="2703"/>
                  </a:lnTo>
                  <a:lnTo>
                    <a:pt x="2538" y="2701"/>
                  </a:lnTo>
                  <a:lnTo>
                    <a:pt x="2540" y="2703"/>
                  </a:lnTo>
                  <a:lnTo>
                    <a:pt x="2542" y="2704"/>
                  </a:lnTo>
                  <a:lnTo>
                    <a:pt x="2544" y="2708"/>
                  </a:lnTo>
                  <a:lnTo>
                    <a:pt x="2544" y="2708"/>
                  </a:lnTo>
                  <a:lnTo>
                    <a:pt x="2544" y="2710"/>
                  </a:lnTo>
                  <a:lnTo>
                    <a:pt x="2544" y="2713"/>
                  </a:lnTo>
                  <a:lnTo>
                    <a:pt x="2542" y="2715"/>
                  </a:lnTo>
                  <a:lnTo>
                    <a:pt x="2538" y="2717"/>
                  </a:lnTo>
                  <a:lnTo>
                    <a:pt x="2537" y="2717"/>
                  </a:lnTo>
                  <a:lnTo>
                    <a:pt x="2533" y="2715"/>
                  </a:lnTo>
                  <a:lnTo>
                    <a:pt x="2531" y="2713"/>
                  </a:lnTo>
                  <a:lnTo>
                    <a:pt x="2530" y="2711"/>
                  </a:lnTo>
                  <a:lnTo>
                    <a:pt x="2530" y="2711"/>
                  </a:lnTo>
                  <a:close/>
                  <a:moveTo>
                    <a:pt x="2523" y="2683"/>
                  </a:moveTo>
                  <a:lnTo>
                    <a:pt x="2523" y="2683"/>
                  </a:lnTo>
                  <a:lnTo>
                    <a:pt x="2523" y="2680"/>
                  </a:lnTo>
                  <a:lnTo>
                    <a:pt x="2524" y="2676"/>
                  </a:lnTo>
                  <a:lnTo>
                    <a:pt x="2526" y="2675"/>
                  </a:lnTo>
                  <a:lnTo>
                    <a:pt x="2528" y="2675"/>
                  </a:lnTo>
                  <a:lnTo>
                    <a:pt x="2531" y="2673"/>
                  </a:lnTo>
                  <a:lnTo>
                    <a:pt x="2533" y="2675"/>
                  </a:lnTo>
                  <a:lnTo>
                    <a:pt x="2535" y="2676"/>
                  </a:lnTo>
                  <a:lnTo>
                    <a:pt x="2537" y="2680"/>
                  </a:lnTo>
                  <a:lnTo>
                    <a:pt x="2537" y="2680"/>
                  </a:lnTo>
                  <a:lnTo>
                    <a:pt x="2537" y="2682"/>
                  </a:lnTo>
                  <a:lnTo>
                    <a:pt x="2537" y="2685"/>
                  </a:lnTo>
                  <a:lnTo>
                    <a:pt x="2535" y="2687"/>
                  </a:lnTo>
                  <a:lnTo>
                    <a:pt x="2531" y="2689"/>
                  </a:lnTo>
                  <a:lnTo>
                    <a:pt x="2530" y="2689"/>
                  </a:lnTo>
                  <a:lnTo>
                    <a:pt x="2526" y="2687"/>
                  </a:lnTo>
                  <a:lnTo>
                    <a:pt x="2524" y="2685"/>
                  </a:lnTo>
                  <a:lnTo>
                    <a:pt x="2523" y="2683"/>
                  </a:lnTo>
                  <a:lnTo>
                    <a:pt x="2523" y="2683"/>
                  </a:lnTo>
                  <a:close/>
                  <a:moveTo>
                    <a:pt x="2526" y="2650"/>
                  </a:moveTo>
                  <a:lnTo>
                    <a:pt x="2526" y="2650"/>
                  </a:lnTo>
                  <a:lnTo>
                    <a:pt x="2528" y="2648"/>
                  </a:lnTo>
                  <a:lnTo>
                    <a:pt x="2530" y="2647"/>
                  </a:lnTo>
                  <a:lnTo>
                    <a:pt x="2533" y="2647"/>
                  </a:lnTo>
                  <a:lnTo>
                    <a:pt x="2537" y="2648"/>
                  </a:lnTo>
                  <a:lnTo>
                    <a:pt x="2538" y="2650"/>
                  </a:lnTo>
                  <a:lnTo>
                    <a:pt x="2540" y="2652"/>
                  </a:lnTo>
                  <a:lnTo>
                    <a:pt x="2540" y="2655"/>
                  </a:lnTo>
                  <a:lnTo>
                    <a:pt x="2538" y="2657"/>
                  </a:lnTo>
                  <a:lnTo>
                    <a:pt x="2538" y="2657"/>
                  </a:lnTo>
                  <a:lnTo>
                    <a:pt x="2537" y="2661"/>
                  </a:lnTo>
                  <a:lnTo>
                    <a:pt x="2535" y="2661"/>
                  </a:lnTo>
                  <a:lnTo>
                    <a:pt x="2531" y="2661"/>
                  </a:lnTo>
                  <a:lnTo>
                    <a:pt x="2530" y="2661"/>
                  </a:lnTo>
                  <a:lnTo>
                    <a:pt x="2526" y="2659"/>
                  </a:lnTo>
                  <a:lnTo>
                    <a:pt x="2526" y="2655"/>
                  </a:lnTo>
                  <a:lnTo>
                    <a:pt x="2524" y="2654"/>
                  </a:lnTo>
                  <a:lnTo>
                    <a:pt x="2526" y="2650"/>
                  </a:lnTo>
                  <a:lnTo>
                    <a:pt x="2526" y="2650"/>
                  </a:lnTo>
                  <a:close/>
                  <a:moveTo>
                    <a:pt x="2540" y="2626"/>
                  </a:moveTo>
                  <a:lnTo>
                    <a:pt x="2540" y="2626"/>
                  </a:lnTo>
                  <a:lnTo>
                    <a:pt x="2542" y="2624"/>
                  </a:lnTo>
                  <a:lnTo>
                    <a:pt x="2544" y="2622"/>
                  </a:lnTo>
                  <a:lnTo>
                    <a:pt x="2547" y="2622"/>
                  </a:lnTo>
                  <a:lnTo>
                    <a:pt x="2551" y="2622"/>
                  </a:lnTo>
                  <a:lnTo>
                    <a:pt x="2552" y="2624"/>
                  </a:lnTo>
                  <a:lnTo>
                    <a:pt x="2554" y="2627"/>
                  </a:lnTo>
                  <a:lnTo>
                    <a:pt x="2554" y="2629"/>
                  </a:lnTo>
                  <a:lnTo>
                    <a:pt x="2552" y="2633"/>
                  </a:lnTo>
                  <a:lnTo>
                    <a:pt x="2552" y="2633"/>
                  </a:lnTo>
                  <a:lnTo>
                    <a:pt x="2551" y="2634"/>
                  </a:lnTo>
                  <a:lnTo>
                    <a:pt x="2549" y="2636"/>
                  </a:lnTo>
                  <a:lnTo>
                    <a:pt x="2545" y="2636"/>
                  </a:lnTo>
                  <a:lnTo>
                    <a:pt x="2544" y="2636"/>
                  </a:lnTo>
                  <a:lnTo>
                    <a:pt x="2542" y="2633"/>
                  </a:lnTo>
                  <a:lnTo>
                    <a:pt x="2540" y="2631"/>
                  </a:lnTo>
                  <a:lnTo>
                    <a:pt x="2540" y="2627"/>
                  </a:lnTo>
                  <a:lnTo>
                    <a:pt x="2540" y="2626"/>
                  </a:lnTo>
                  <a:lnTo>
                    <a:pt x="2540" y="2626"/>
                  </a:lnTo>
                  <a:close/>
                  <a:moveTo>
                    <a:pt x="2554" y="2601"/>
                  </a:moveTo>
                  <a:lnTo>
                    <a:pt x="2554" y="2601"/>
                  </a:lnTo>
                  <a:lnTo>
                    <a:pt x="2556" y="2598"/>
                  </a:lnTo>
                  <a:lnTo>
                    <a:pt x="2559" y="2598"/>
                  </a:lnTo>
                  <a:lnTo>
                    <a:pt x="2561" y="2596"/>
                  </a:lnTo>
                  <a:lnTo>
                    <a:pt x="2565" y="2598"/>
                  </a:lnTo>
                  <a:lnTo>
                    <a:pt x="2566" y="2599"/>
                  </a:lnTo>
                  <a:lnTo>
                    <a:pt x="2568" y="2601"/>
                  </a:lnTo>
                  <a:lnTo>
                    <a:pt x="2568" y="2605"/>
                  </a:lnTo>
                  <a:lnTo>
                    <a:pt x="2568" y="2606"/>
                  </a:lnTo>
                  <a:lnTo>
                    <a:pt x="2568" y="2606"/>
                  </a:lnTo>
                  <a:lnTo>
                    <a:pt x="2566" y="2610"/>
                  </a:lnTo>
                  <a:lnTo>
                    <a:pt x="2563" y="2610"/>
                  </a:lnTo>
                  <a:lnTo>
                    <a:pt x="2559" y="2610"/>
                  </a:lnTo>
                  <a:lnTo>
                    <a:pt x="2558" y="2610"/>
                  </a:lnTo>
                  <a:lnTo>
                    <a:pt x="2556" y="2608"/>
                  </a:lnTo>
                  <a:lnTo>
                    <a:pt x="2554" y="2606"/>
                  </a:lnTo>
                  <a:lnTo>
                    <a:pt x="2554" y="2603"/>
                  </a:lnTo>
                  <a:lnTo>
                    <a:pt x="2554" y="2601"/>
                  </a:lnTo>
                  <a:lnTo>
                    <a:pt x="2554" y="2601"/>
                  </a:lnTo>
                  <a:close/>
                  <a:moveTo>
                    <a:pt x="2579" y="2578"/>
                  </a:moveTo>
                  <a:lnTo>
                    <a:pt x="2579" y="2578"/>
                  </a:lnTo>
                  <a:lnTo>
                    <a:pt x="2582" y="2578"/>
                  </a:lnTo>
                  <a:lnTo>
                    <a:pt x="2584" y="2580"/>
                  </a:lnTo>
                  <a:lnTo>
                    <a:pt x="2586" y="2582"/>
                  </a:lnTo>
                  <a:lnTo>
                    <a:pt x="2586" y="2585"/>
                  </a:lnTo>
                  <a:lnTo>
                    <a:pt x="2586" y="2589"/>
                  </a:lnTo>
                  <a:lnTo>
                    <a:pt x="2584" y="2591"/>
                  </a:lnTo>
                  <a:lnTo>
                    <a:pt x="2580" y="2592"/>
                  </a:lnTo>
                  <a:lnTo>
                    <a:pt x="2579" y="2592"/>
                  </a:lnTo>
                  <a:lnTo>
                    <a:pt x="2579" y="2592"/>
                  </a:lnTo>
                  <a:lnTo>
                    <a:pt x="2575" y="2591"/>
                  </a:lnTo>
                  <a:lnTo>
                    <a:pt x="2573" y="2589"/>
                  </a:lnTo>
                  <a:lnTo>
                    <a:pt x="2572" y="2587"/>
                  </a:lnTo>
                  <a:lnTo>
                    <a:pt x="2572" y="2585"/>
                  </a:lnTo>
                  <a:lnTo>
                    <a:pt x="2572" y="2582"/>
                  </a:lnTo>
                  <a:lnTo>
                    <a:pt x="2573" y="2580"/>
                  </a:lnTo>
                  <a:lnTo>
                    <a:pt x="2577" y="2578"/>
                  </a:lnTo>
                  <a:lnTo>
                    <a:pt x="2579" y="2578"/>
                  </a:lnTo>
                  <a:lnTo>
                    <a:pt x="2579" y="2578"/>
                  </a:lnTo>
                  <a:close/>
                  <a:moveTo>
                    <a:pt x="2608" y="2580"/>
                  </a:moveTo>
                  <a:lnTo>
                    <a:pt x="2608" y="2580"/>
                  </a:lnTo>
                  <a:lnTo>
                    <a:pt x="2610" y="2580"/>
                  </a:lnTo>
                  <a:lnTo>
                    <a:pt x="2614" y="2582"/>
                  </a:lnTo>
                  <a:lnTo>
                    <a:pt x="2614" y="2584"/>
                  </a:lnTo>
                  <a:lnTo>
                    <a:pt x="2615" y="2587"/>
                  </a:lnTo>
                  <a:lnTo>
                    <a:pt x="2614" y="2591"/>
                  </a:lnTo>
                  <a:lnTo>
                    <a:pt x="2612" y="2592"/>
                  </a:lnTo>
                  <a:lnTo>
                    <a:pt x="2610" y="2594"/>
                  </a:lnTo>
                  <a:lnTo>
                    <a:pt x="2607" y="2594"/>
                  </a:lnTo>
                  <a:lnTo>
                    <a:pt x="2607" y="2594"/>
                  </a:lnTo>
                  <a:lnTo>
                    <a:pt x="2605" y="2592"/>
                  </a:lnTo>
                  <a:lnTo>
                    <a:pt x="2601" y="2591"/>
                  </a:lnTo>
                  <a:lnTo>
                    <a:pt x="2601" y="2589"/>
                  </a:lnTo>
                  <a:lnTo>
                    <a:pt x="2600" y="2587"/>
                  </a:lnTo>
                  <a:lnTo>
                    <a:pt x="2601" y="2584"/>
                  </a:lnTo>
                  <a:lnTo>
                    <a:pt x="2603" y="2582"/>
                  </a:lnTo>
                  <a:lnTo>
                    <a:pt x="2605" y="2580"/>
                  </a:lnTo>
                  <a:lnTo>
                    <a:pt x="2608" y="2580"/>
                  </a:lnTo>
                  <a:lnTo>
                    <a:pt x="2608" y="2580"/>
                  </a:lnTo>
                  <a:close/>
                  <a:moveTo>
                    <a:pt x="2636" y="2582"/>
                  </a:moveTo>
                  <a:lnTo>
                    <a:pt x="2636" y="2582"/>
                  </a:lnTo>
                  <a:lnTo>
                    <a:pt x="2640" y="2582"/>
                  </a:lnTo>
                  <a:lnTo>
                    <a:pt x="2642" y="2584"/>
                  </a:lnTo>
                  <a:lnTo>
                    <a:pt x="2643" y="2585"/>
                  </a:lnTo>
                  <a:lnTo>
                    <a:pt x="2643" y="2589"/>
                  </a:lnTo>
                  <a:lnTo>
                    <a:pt x="2643" y="2592"/>
                  </a:lnTo>
                  <a:lnTo>
                    <a:pt x="2642" y="2594"/>
                  </a:lnTo>
                  <a:lnTo>
                    <a:pt x="2638" y="2596"/>
                  </a:lnTo>
                  <a:lnTo>
                    <a:pt x="2636" y="2596"/>
                  </a:lnTo>
                  <a:lnTo>
                    <a:pt x="2636" y="2596"/>
                  </a:lnTo>
                  <a:lnTo>
                    <a:pt x="2633" y="2594"/>
                  </a:lnTo>
                  <a:lnTo>
                    <a:pt x="2631" y="2592"/>
                  </a:lnTo>
                  <a:lnTo>
                    <a:pt x="2629" y="2591"/>
                  </a:lnTo>
                  <a:lnTo>
                    <a:pt x="2629" y="2589"/>
                  </a:lnTo>
                  <a:lnTo>
                    <a:pt x="2629" y="2585"/>
                  </a:lnTo>
                  <a:lnTo>
                    <a:pt x="2631" y="2582"/>
                  </a:lnTo>
                  <a:lnTo>
                    <a:pt x="2635" y="2582"/>
                  </a:lnTo>
                  <a:lnTo>
                    <a:pt x="2636" y="2582"/>
                  </a:lnTo>
                  <a:lnTo>
                    <a:pt x="2636" y="2582"/>
                  </a:lnTo>
                  <a:close/>
                  <a:moveTo>
                    <a:pt x="2666" y="2584"/>
                  </a:moveTo>
                  <a:lnTo>
                    <a:pt x="2666" y="2584"/>
                  </a:lnTo>
                  <a:lnTo>
                    <a:pt x="2668" y="2584"/>
                  </a:lnTo>
                  <a:lnTo>
                    <a:pt x="2671" y="2585"/>
                  </a:lnTo>
                  <a:lnTo>
                    <a:pt x="2671" y="2587"/>
                  </a:lnTo>
                  <a:lnTo>
                    <a:pt x="2673" y="2591"/>
                  </a:lnTo>
                  <a:lnTo>
                    <a:pt x="2671" y="2592"/>
                  </a:lnTo>
                  <a:lnTo>
                    <a:pt x="2670" y="2596"/>
                  </a:lnTo>
                  <a:lnTo>
                    <a:pt x="2668" y="2598"/>
                  </a:lnTo>
                  <a:lnTo>
                    <a:pt x="2664" y="2598"/>
                  </a:lnTo>
                  <a:lnTo>
                    <a:pt x="2664" y="2598"/>
                  </a:lnTo>
                  <a:lnTo>
                    <a:pt x="2663" y="2596"/>
                  </a:lnTo>
                  <a:lnTo>
                    <a:pt x="2659" y="2594"/>
                  </a:lnTo>
                  <a:lnTo>
                    <a:pt x="2659" y="2592"/>
                  </a:lnTo>
                  <a:lnTo>
                    <a:pt x="2657" y="2589"/>
                  </a:lnTo>
                  <a:lnTo>
                    <a:pt x="2659" y="2587"/>
                  </a:lnTo>
                  <a:lnTo>
                    <a:pt x="2661" y="2584"/>
                  </a:lnTo>
                  <a:lnTo>
                    <a:pt x="2663" y="2584"/>
                  </a:lnTo>
                  <a:lnTo>
                    <a:pt x="2666" y="2584"/>
                  </a:lnTo>
                  <a:lnTo>
                    <a:pt x="2666" y="2584"/>
                  </a:lnTo>
                  <a:close/>
                  <a:moveTo>
                    <a:pt x="2691" y="2584"/>
                  </a:moveTo>
                  <a:lnTo>
                    <a:pt x="2691" y="2584"/>
                  </a:lnTo>
                  <a:lnTo>
                    <a:pt x="2692" y="2584"/>
                  </a:lnTo>
                  <a:lnTo>
                    <a:pt x="2696" y="2584"/>
                  </a:lnTo>
                  <a:lnTo>
                    <a:pt x="2698" y="2584"/>
                  </a:lnTo>
                  <a:lnTo>
                    <a:pt x="2699" y="2587"/>
                  </a:lnTo>
                  <a:lnTo>
                    <a:pt x="2701" y="2589"/>
                  </a:lnTo>
                  <a:lnTo>
                    <a:pt x="2701" y="2592"/>
                  </a:lnTo>
                  <a:lnTo>
                    <a:pt x="2699" y="2594"/>
                  </a:lnTo>
                  <a:lnTo>
                    <a:pt x="2698" y="2596"/>
                  </a:lnTo>
                  <a:lnTo>
                    <a:pt x="2698" y="2596"/>
                  </a:lnTo>
                  <a:lnTo>
                    <a:pt x="2696" y="2598"/>
                  </a:lnTo>
                  <a:lnTo>
                    <a:pt x="2692" y="2598"/>
                  </a:lnTo>
                  <a:lnTo>
                    <a:pt x="2691" y="2596"/>
                  </a:lnTo>
                  <a:lnTo>
                    <a:pt x="2687" y="2594"/>
                  </a:lnTo>
                  <a:lnTo>
                    <a:pt x="2687" y="2592"/>
                  </a:lnTo>
                  <a:lnTo>
                    <a:pt x="2687" y="2589"/>
                  </a:lnTo>
                  <a:lnTo>
                    <a:pt x="2687" y="2587"/>
                  </a:lnTo>
                  <a:lnTo>
                    <a:pt x="2691" y="2584"/>
                  </a:lnTo>
                  <a:lnTo>
                    <a:pt x="2691" y="2584"/>
                  </a:lnTo>
                  <a:close/>
                  <a:moveTo>
                    <a:pt x="2713" y="2568"/>
                  </a:moveTo>
                  <a:lnTo>
                    <a:pt x="2713" y="2568"/>
                  </a:lnTo>
                  <a:lnTo>
                    <a:pt x="2717" y="2568"/>
                  </a:lnTo>
                  <a:lnTo>
                    <a:pt x="2719" y="2568"/>
                  </a:lnTo>
                  <a:lnTo>
                    <a:pt x="2722" y="2568"/>
                  </a:lnTo>
                  <a:lnTo>
                    <a:pt x="2724" y="2571"/>
                  </a:lnTo>
                  <a:lnTo>
                    <a:pt x="2726" y="2573"/>
                  </a:lnTo>
                  <a:lnTo>
                    <a:pt x="2726" y="2577"/>
                  </a:lnTo>
                  <a:lnTo>
                    <a:pt x="2724" y="2578"/>
                  </a:lnTo>
                  <a:lnTo>
                    <a:pt x="2722" y="2580"/>
                  </a:lnTo>
                  <a:lnTo>
                    <a:pt x="2722" y="2580"/>
                  </a:lnTo>
                  <a:lnTo>
                    <a:pt x="2719" y="2582"/>
                  </a:lnTo>
                  <a:lnTo>
                    <a:pt x="2717" y="2582"/>
                  </a:lnTo>
                  <a:lnTo>
                    <a:pt x="2713" y="2580"/>
                  </a:lnTo>
                  <a:lnTo>
                    <a:pt x="2712" y="2578"/>
                  </a:lnTo>
                  <a:lnTo>
                    <a:pt x="2712" y="2577"/>
                  </a:lnTo>
                  <a:lnTo>
                    <a:pt x="2712" y="2573"/>
                  </a:lnTo>
                  <a:lnTo>
                    <a:pt x="2712" y="2571"/>
                  </a:lnTo>
                  <a:lnTo>
                    <a:pt x="2713" y="2568"/>
                  </a:lnTo>
                  <a:lnTo>
                    <a:pt x="2713" y="2568"/>
                  </a:lnTo>
                  <a:close/>
                  <a:moveTo>
                    <a:pt x="2738" y="2554"/>
                  </a:moveTo>
                  <a:lnTo>
                    <a:pt x="2738" y="2554"/>
                  </a:lnTo>
                  <a:lnTo>
                    <a:pt x="2741" y="2552"/>
                  </a:lnTo>
                  <a:lnTo>
                    <a:pt x="2743" y="2552"/>
                  </a:lnTo>
                  <a:lnTo>
                    <a:pt x="2747" y="2552"/>
                  </a:lnTo>
                  <a:lnTo>
                    <a:pt x="2748" y="2556"/>
                  </a:lnTo>
                  <a:lnTo>
                    <a:pt x="2750" y="2557"/>
                  </a:lnTo>
                  <a:lnTo>
                    <a:pt x="2750" y="2561"/>
                  </a:lnTo>
                  <a:lnTo>
                    <a:pt x="2748" y="2563"/>
                  </a:lnTo>
                  <a:lnTo>
                    <a:pt x="2747" y="2564"/>
                  </a:lnTo>
                  <a:lnTo>
                    <a:pt x="2747" y="2564"/>
                  </a:lnTo>
                  <a:lnTo>
                    <a:pt x="2743" y="2566"/>
                  </a:lnTo>
                  <a:lnTo>
                    <a:pt x="2741" y="2566"/>
                  </a:lnTo>
                  <a:lnTo>
                    <a:pt x="2738" y="2564"/>
                  </a:lnTo>
                  <a:lnTo>
                    <a:pt x="2736" y="2563"/>
                  </a:lnTo>
                  <a:lnTo>
                    <a:pt x="2736" y="2561"/>
                  </a:lnTo>
                  <a:lnTo>
                    <a:pt x="2734" y="2557"/>
                  </a:lnTo>
                  <a:lnTo>
                    <a:pt x="2736" y="2556"/>
                  </a:lnTo>
                  <a:lnTo>
                    <a:pt x="2738" y="2554"/>
                  </a:lnTo>
                  <a:lnTo>
                    <a:pt x="2738" y="2554"/>
                  </a:lnTo>
                  <a:close/>
                  <a:moveTo>
                    <a:pt x="2755" y="2535"/>
                  </a:moveTo>
                  <a:lnTo>
                    <a:pt x="2755" y="2535"/>
                  </a:lnTo>
                  <a:lnTo>
                    <a:pt x="2757" y="2531"/>
                  </a:lnTo>
                  <a:lnTo>
                    <a:pt x="2759" y="2531"/>
                  </a:lnTo>
                  <a:lnTo>
                    <a:pt x="2762" y="2531"/>
                  </a:lnTo>
                  <a:lnTo>
                    <a:pt x="2764" y="2531"/>
                  </a:lnTo>
                  <a:lnTo>
                    <a:pt x="2768" y="2533"/>
                  </a:lnTo>
                  <a:lnTo>
                    <a:pt x="2768" y="2536"/>
                  </a:lnTo>
                  <a:lnTo>
                    <a:pt x="2768" y="2538"/>
                  </a:lnTo>
                  <a:lnTo>
                    <a:pt x="2768" y="2542"/>
                  </a:lnTo>
                  <a:lnTo>
                    <a:pt x="2768" y="2542"/>
                  </a:lnTo>
                  <a:lnTo>
                    <a:pt x="2766" y="2543"/>
                  </a:lnTo>
                  <a:lnTo>
                    <a:pt x="2762" y="2545"/>
                  </a:lnTo>
                  <a:lnTo>
                    <a:pt x="2761" y="2545"/>
                  </a:lnTo>
                  <a:lnTo>
                    <a:pt x="2757" y="2543"/>
                  </a:lnTo>
                  <a:lnTo>
                    <a:pt x="2755" y="2542"/>
                  </a:lnTo>
                  <a:lnTo>
                    <a:pt x="2754" y="2540"/>
                  </a:lnTo>
                  <a:lnTo>
                    <a:pt x="2754" y="2536"/>
                  </a:lnTo>
                  <a:lnTo>
                    <a:pt x="2755" y="2535"/>
                  </a:lnTo>
                  <a:lnTo>
                    <a:pt x="2755" y="2535"/>
                  </a:lnTo>
                  <a:close/>
                  <a:moveTo>
                    <a:pt x="2769" y="2510"/>
                  </a:moveTo>
                  <a:lnTo>
                    <a:pt x="2769" y="2510"/>
                  </a:lnTo>
                  <a:lnTo>
                    <a:pt x="2771" y="2507"/>
                  </a:lnTo>
                  <a:lnTo>
                    <a:pt x="2775" y="2507"/>
                  </a:lnTo>
                  <a:lnTo>
                    <a:pt x="2776" y="2505"/>
                  </a:lnTo>
                  <a:lnTo>
                    <a:pt x="2780" y="2507"/>
                  </a:lnTo>
                  <a:lnTo>
                    <a:pt x="2782" y="2508"/>
                  </a:lnTo>
                  <a:lnTo>
                    <a:pt x="2783" y="2510"/>
                  </a:lnTo>
                  <a:lnTo>
                    <a:pt x="2783" y="2514"/>
                  </a:lnTo>
                  <a:lnTo>
                    <a:pt x="2782" y="2517"/>
                  </a:lnTo>
                  <a:lnTo>
                    <a:pt x="2782" y="2517"/>
                  </a:lnTo>
                  <a:lnTo>
                    <a:pt x="2780" y="2519"/>
                  </a:lnTo>
                  <a:lnTo>
                    <a:pt x="2778" y="2519"/>
                  </a:lnTo>
                  <a:lnTo>
                    <a:pt x="2775" y="2521"/>
                  </a:lnTo>
                  <a:lnTo>
                    <a:pt x="2773" y="2519"/>
                  </a:lnTo>
                  <a:lnTo>
                    <a:pt x="2771" y="2517"/>
                  </a:lnTo>
                  <a:lnTo>
                    <a:pt x="2769" y="2515"/>
                  </a:lnTo>
                  <a:lnTo>
                    <a:pt x="2769" y="2512"/>
                  </a:lnTo>
                  <a:lnTo>
                    <a:pt x="2769" y="2510"/>
                  </a:lnTo>
                  <a:lnTo>
                    <a:pt x="2769" y="2510"/>
                  </a:lnTo>
                  <a:close/>
                  <a:moveTo>
                    <a:pt x="2785" y="2484"/>
                  </a:moveTo>
                  <a:lnTo>
                    <a:pt x="2785" y="2484"/>
                  </a:lnTo>
                  <a:lnTo>
                    <a:pt x="2787" y="2482"/>
                  </a:lnTo>
                  <a:lnTo>
                    <a:pt x="2789" y="2480"/>
                  </a:lnTo>
                  <a:lnTo>
                    <a:pt x="2792" y="2480"/>
                  </a:lnTo>
                  <a:lnTo>
                    <a:pt x="2796" y="2482"/>
                  </a:lnTo>
                  <a:lnTo>
                    <a:pt x="2797" y="2484"/>
                  </a:lnTo>
                  <a:lnTo>
                    <a:pt x="2797" y="2486"/>
                  </a:lnTo>
                  <a:lnTo>
                    <a:pt x="2797" y="2489"/>
                  </a:lnTo>
                  <a:lnTo>
                    <a:pt x="2797" y="2493"/>
                  </a:lnTo>
                  <a:lnTo>
                    <a:pt x="2797" y="2493"/>
                  </a:lnTo>
                  <a:lnTo>
                    <a:pt x="2796" y="2494"/>
                  </a:lnTo>
                  <a:lnTo>
                    <a:pt x="2792" y="2494"/>
                  </a:lnTo>
                  <a:lnTo>
                    <a:pt x="2790" y="2494"/>
                  </a:lnTo>
                  <a:lnTo>
                    <a:pt x="2787" y="2494"/>
                  </a:lnTo>
                  <a:lnTo>
                    <a:pt x="2785" y="2493"/>
                  </a:lnTo>
                  <a:lnTo>
                    <a:pt x="2783" y="2489"/>
                  </a:lnTo>
                  <a:lnTo>
                    <a:pt x="2783" y="2487"/>
                  </a:lnTo>
                  <a:lnTo>
                    <a:pt x="2785" y="2484"/>
                  </a:lnTo>
                  <a:lnTo>
                    <a:pt x="2785" y="2484"/>
                  </a:lnTo>
                  <a:close/>
                  <a:moveTo>
                    <a:pt x="2801" y="2459"/>
                  </a:moveTo>
                  <a:lnTo>
                    <a:pt x="2801" y="2459"/>
                  </a:lnTo>
                  <a:lnTo>
                    <a:pt x="2803" y="2458"/>
                  </a:lnTo>
                  <a:lnTo>
                    <a:pt x="2804" y="2456"/>
                  </a:lnTo>
                  <a:lnTo>
                    <a:pt x="2806" y="2456"/>
                  </a:lnTo>
                  <a:lnTo>
                    <a:pt x="2810" y="2458"/>
                  </a:lnTo>
                  <a:lnTo>
                    <a:pt x="2811" y="2459"/>
                  </a:lnTo>
                  <a:lnTo>
                    <a:pt x="2813" y="2461"/>
                  </a:lnTo>
                  <a:lnTo>
                    <a:pt x="2813" y="2465"/>
                  </a:lnTo>
                  <a:lnTo>
                    <a:pt x="2813" y="2466"/>
                  </a:lnTo>
                  <a:lnTo>
                    <a:pt x="2813" y="2466"/>
                  </a:lnTo>
                  <a:lnTo>
                    <a:pt x="2810" y="2470"/>
                  </a:lnTo>
                  <a:lnTo>
                    <a:pt x="2808" y="2470"/>
                  </a:lnTo>
                  <a:lnTo>
                    <a:pt x="2804" y="2470"/>
                  </a:lnTo>
                  <a:lnTo>
                    <a:pt x="2803" y="2470"/>
                  </a:lnTo>
                  <a:lnTo>
                    <a:pt x="2801" y="2468"/>
                  </a:lnTo>
                  <a:lnTo>
                    <a:pt x="2799" y="2465"/>
                  </a:lnTo>
                  <a:lnTo>
                    <a:pt x="2799" y="2463"/>
                  </a:lnTo>
                  <a:lnTo>
                    <a:pt x="2801" y="2459"/>
                  </a:lnTo>
                  <a:lnTo>
                    <a:pt x="2801" y="2459"/>
                  </a:lnTo>
                  <a:close/>
                  <a:moveTo>
                    <a:pt x="2815" y="2435"/>
                  </a:moveTo>
                  <a:lnTo>
                    <a:pt x="2815" y="2435"/>
                  </a:lnTo>
                  <a:lnTo>
                    <a:pt x="2817" y="2433"/>
                  </a:lnTo>
                  <a:lnTo>
                    <a:pt x="2820" y="2431"/>
                  </a:lnTo>
                  <a:lnTo>
                    <a:pt x="2822" y="2431"/>
                  </a:lnTo>
                  <a:lnTo>
                    <a:pt x="2825" y="2433"/>
                  </a:lnTo>
                  <a:lnTo>
                    <a:pt x="2827" y="2435"/>
                  </a:lnTo>
                  <a:lnTo>
                    <a:pt x="2829" y="2437"/>
                  </a:lnTo>
                  <a:lnTo>
                    <a:pt x="2829" y="2440"/>
                  </a:lnTo>
                  <a:lnTo>
                    <a:pt x="2827" y="2442"/>
                  </a:lnTo>
                  <a:lnTo>
                    <a:pt x="2827" y="2442"/>
                  </a:lnTo>
                  <a:lnTo>
                    <a:pt x="2825" y="2444"/>
                  </a:lnTo>
                  <a:lnTo>
                    <a:pt x="2824" y="2445"/>
                  </a:lnTo>
                  <a:lnTo>
                    <a:pt x="2820" y="2445"/>
                  </a:lnTo>
                  <a:lnTo>
                    <a:pt x="2818" y="2445"/>
                  </a:lnTo>
                  <a:lnTo>
                    <a:pt x="2815" y="2444"/>
                  </a:lnTo>
                  <a:lnTo>
                    <a:pt x="2815" y="2440"/>
                  </a:lnTo>
                  <a:lnTo>
                    <a:pt x="2813" y="2438"/>
                  </a:lnTo>
                  <a:lnTo>
                    <a:pt x="2815" y="2435"/>
                  </a:lnTo>
                  <a:lnTo>
                    <a:pt x="2815" y="2435"/>
                  </a:lnTo>
                  <a:close/>
                  <a:moveTo>
                    <a:pt x="2831" y="2410"/>
                  </a:moveTo>
                  <a:lnTo>
                    <a:pt x="2831" y="2410"/>
                  </a:lnTo>
                  <a:lnTo>
                    <a:pt x="2832" y="2409"/>
                  </a:lnTo>
                  <a:lnTo>
                    <a:pt x="2834" y="2407"/>
                  </a:lnTo>
                  <a:lnTo>
                    <a:pt x="2838" y="2407"/>
                  </a:lnTo>
                  <a:lnTo>
                    <a:pt x="2839" y="2407"/>
                  </a:lnTo>
                  <a:lnTo>
                    <a:pt x="2841" y="2409"/>
                  </a:lnTo>
                  <a:lnTo>
                    <a:pt x="2843" y="2412"/>
                  </a:lnTo>
                  <a:lnTo>
                    <a:pt x="2843" y="2414"/>
                  </a:lnTo>
                  <a:lnTo>
                    <a:pt x="2843" y="2417"/>
                  </a:lnTo>
                  <a:lnTo>
                    <a:pt x="2843" y="2417"/>
                  </a:lnTo>
                  <a:lnTo>
                    <a:pt x="2841" y="2419"/>
                  </a:lnTo>
                  <a:lnTo>
                    <a:pt x="2838" y="2421"/>
                  </a:lnTo>
                  <a:lnTo>
                    <a:pt x="2836" y="2421"/>
                  </a:lnTo>
                  <a:lnTo>
                    <a:pt x="2832" y="2421"/>
                  </a:lnTo>
                  <a:lnTo>
                    <a:pt x="2831" y="2417"/>
                  </a:lnTo>
                  <a:lnTo>
                    <a:pt x="2829" y="2416"/>
                  </a:lnTo>
                  <a:lnTo>
                    <a:pt x="2829" y="2412"/>
                  </a:lnTo>
                  <a:lnTo>
                    <a:pt x="2831" y="2410"/>
                  </a:lnTo>
                  <a:lnTo>
                    <a:pt x="2831" y="2410"/>
                  </a:lnTo>
                  <a:close/>
                  <a:moveTo>
                    <a:pt x="2845" y="2386"/>
                  </a:moveTo>
                  <a:lnTo>
                    <a:pt x="2845" y="2386"/>
                  </a:lnTo>
                  <a:lnTo>
                    <a:pt x="2846" y="2384"/>
                  </a:lnTo>
                  <a:lnTo>
                    <a:pt x="2848" y="2382"/>
                  </a:lnTo>
                  <a:lnTo>
                    <a:pt x="2852" y="2382"/>
                  </a:lnTo>
                  <a:lnTo>
                    <a:pt x="2855" y="2382"/>
                  </a:lnTo>
                  <a:lnTo>
                    <a:pt x="2857" y="2384"/>
                  </a:lnTo>
                  <a:lnTo>
                    <a:pt x="2857" y="2386"/>
                  </a:lnTo>
                  <a:lnTo>
                    <a:pt x="2859" y="2389"/>
                  </a:lnTo>
                  <a:lnTo>
                    <a:pt x="2857" y="2393"/>
                  </a:lnTo>
                  <a:lnTo>
                    <a:pt x="2857" y="2393"/>
                  </a:lnTo>
                  <a:lnTo>
                    <a:pt x="2855" y="2395"/>
                  </a:lnTo>
                  <a:lnTo>
                    <a:pt x="2853" y="2396"/>
                  </a:lnTo>
                  <a:lnTo>
                    <a:pt x="2850" y="2396"/>
                  </a:lnTo>
                  <a:lnTo>
                    <a:pt x="2848" y="2395"/>
                  </a:lnTo>
                  <a:lnTo>
                    <a:pt x="2845" y="2393"/>
                  </a:lnTo>
                  <a:lnTo>
                    <a:pt x="2845" y="2391"/>
                  </a:lnTo>
                  <a:lnTo>
                    <a:pt x="2843" y="2388"/>
                  </a:lnTo>
                  <a:lnTo>
                    <a:pt x="2845" y="2386"/>
                  </a:lnTo>
                  <a:lnTo>
                    <a:pt x="2845" y="2386"/>
                  </a:lnTo>
                  <a:close/>
                  <a:moveTo>
                    <a:pt x="2859" y="2360"/>
                  </a:moveTo>
                  <a:lnTo>
                    <a:pt x="2859" y="2360"/>
                  </a:lnTo>
                  <a:lnTo>
                    <a:pt x="2860" y="2358"/>
                  </a:lnTo>
                  <a:lnTo>
                    <a:pt x="2862" y="2356"/>
                  </a:lnTo>
                  <a:lnTo>
                    <a:pt x="2866" y="2356"/>
                  </a:lnTo>
                  <a:lnTo>
                    <a:pt x="2869" y="2358"/>
                  </a:lnTo>
                  <a:lnTo>
                    <a:pt x="2871" y="2360"/>
                  </a:lnTo>
                  <a:lnTo>
                    <a:pt x="2873" y="2361"/>
                  </a:lnTo>
                  <a:lnTo>
                    <a:pt x="2873" y="2365"/>
                  </a:lnTo>
                  <a:lnTo>
                    <a:pt x="2871" y="2367"/>
                  </a:lnTo>
                  <a:lnTo>
                    <a:pt x="2871" y="2367"/>
                  </a:lnTo>
                  <a:lnTo>
                    <a:pt x="2869" y="2370"/>
                  </a:lnTo>
                  <a:lnTo>
                    <a:pt x="2867" y="2370"/>
                  </a:lnTo>
                  <a:lnTo>
                    <a:pt x="2864" y="2370"/>
                  </a:lnTo>
                  <a:lnTo>
                    <a:pt x="2862" y="2370"/>
                  </a:lnTo>
                  <a:lnTo>
                    <a:pt x="2860" y="2368"/>
                  </a:lnTo>
                  <a:lnTo>
                    <a:pt x="2859" y="2365"/>
                  </a:lnTo>
                  <a:lnTo>
                    <a:pt x="2859" y="2363"/>
                  </a:lnTo>
                  <a:lnTo>
                    <a:pt x="2859" y="2360"/>
                  </a:lnTo>
                  <a:lnTo>
                    <a:pt x="2859" y="2360"/>
                  </a:lnTo>
                  <a:close/>
                  <a:moveTo>
                    <a:pt x="2873" y="2335"/>
                  </a:moveTo>
                  <a:lnTo>
                    <a:pt x="2873" y="2335"/>
                  </a:lnTo>
                  <a:lnTo>
                    <a:pt x="2874" y="2333"/>
                  </a:lnTo>
                  <a:lnTo>
                    <a:pt x="2878" y="2332"/>
                  </a:lnTo>
                  <a:lnTo>
                    <a:pt x="2880" y="2332"/>
                  </a:lnTo>
                  <a:lnTo>
                    <a:pt x="2883" y="2332"/>
                  </a:lnTo>
                  <a:lnTo>
                    <a:pt x="2885" y="2333"/>
                  </a:lnTo>
                  <a:lnTo>
                    <a:pt x="2887" y="2337"/>
                  </a:lnTo>
                  <a:lnTo>
                    <a:pt x="2887" y="2339"/>
                  </a:lnTo>
                  <a:lnTo>
                    <a:pt x="2887" y="2342"/>
                  </a:lnTo>
                  <a:lnTo>
                    <a:pt x="2887" y="2342"/>
                  </a:lnTo>
                  <a:lnTo>
                    <a:pt x="2885" y="2344"/>
                  </a:lnTo>
                  <a:lnTo>
                    <a:pt x="2881" y="2346"/>
                  </a:lnTo>
                  <a:lnTo>
                    <a:pt x="2878" y="2346"/>
                  </a:lnTo>
                  <a:lnTo>
                    <a:pt x="2876" y="2346"/>
                  </a:lnTo>
                  <a:lnTo>
                    <a:pt x="2874" y="2344"/>
                  </a:lnTo>
                  <a:lnTo>
                    <a:pt x="2873" y="2340"/>
                  </a:lnTo>
                  <a:lnTo>
                    <a:pt x="2873" y="2339"/>
                  </a:lnTo>
                  <a:lnTo>
                    <a:pt x="2873" y="2335"/>
                  </a:lnTo>
                  <a:lnTo>
                    <a:pt x="2873" y="2335"/>
                  </a:lnTo>
                  <a:close/>
                  <a:moveTo>
                    <a:pt x="2887" y="2311"/>
                  </a:moveTo>
                  <a:lnTo>
                    <a:pt x="2887" y="2311"/>
                  </a:lnTo>
                  <a:lnTo>
                    <a:pt x="2888" y="2307"/>
                  </a:lnTo>
                  <a:lnTo>
                    <a:pt x="2892" y="2307"/>
                  </a:lnTo>
                  <a:lnTo>
                    <a:pt x="2894" y="2305"/>
                  </a:lnTo>
                  <a:lnTo>
                    <a:pt x="2897" y="2307"/>
                  </a:lnTo>
                  <a:lnTo>
                    <a:pt x="2899" y="2309"/>
                  </a:lnTo>
                  <a:lnTo>
                    <a:pt x="2901" y="2311"/>
                  </a:lnTo>
                  <a:lnTo>
                    <a:pt x="2901" y="2314"/>
                  </a:lnTo>
                  <a:lnTo>
                    <a:pt x="2901" y="2318"/>
                  </a:lnTo>
                  <a:lnTo>
                    <a:pt x="2901" y="2318"/>
                  </a:lnTo>
                  <a:lnTo>
                    <a:pt x="2899" y="2319"/>
                  </a:lnTo>
                  <a:lnTo>
                    <a:pt x="2895" y="2321"/>
                  </a:lnTo>
                  <a:lnTo>
                    <a:pt x="2894" y="2321"/>
                  </a:lnTo>
                  <a:lnTo>
                    <a:pt x="2890" y="2319"/>
                  </a:lnTo>
                  <a:lnTo>
                    <a:pt x="2888" y="2318"/>
                  </a:lnTo>
                  <a:lnTo>
                    <a:pt x="2887" y="2316"/>
                  </a:lnTo>
                  <a:lnTo>
                    <a:pt x="2887" y="2312"/>
                  </a:lnTo>
                  <a:lnTo>
                    <a:pt x="2887" y="2311"/>
                  </a:lnTo>
                  <a:lnTo>
                    <a:pt x="2887" y="2311"/>
                  </a:lnTo>
                  <a:close/>
                  <a:moveTo>
                    <a:pt x="2915" y="2311"/>
                  </a:moveTo>
                  <a:lnTo>
                    <a:pt x="2915" y="2311"/>
                  </a:lnTo>
                  <a:lnTo>
                    <a:pt x="2916" y="2312"/>
                  </a:lnTo>
                  <a:lnTo>
                    <a:pt x="2916" y="2316"/>
                  </a:lnTo>
                  <a:lnTo>
                    <a:pt x="2915" y="2318"/>
                  </a:lnTo>
                  <a:lnTo>
                    <a:pt x="2913" y="2321"/>
                  </a:lnTo>
                  <a:lnTo>
                    <a:pt x="2909" y="2321"/>
                  </a:lnTo>
                  <a:lnTo>
                    <a:pt x="2908" y="2321"/>
                  </a:lnTo>
                  <a:lnTo>
                    <a:pt x="2904" y="2319"/>
                  </a:lnTo>
                  <a:lnTo>
                    <a:pt x="2902" y="2318"/>
                  </a:lnTo>
                  <a:lnTo>
                    <a:pt x="2902" y="2318"/>
                  </a:lnTo>
                  <a:lnTo>
                    <a:pt x="2902" y="2316"/>
                  </a:lnTo>
                  <a:lnTo>
                    <a:pt x="2902" y="2312"/>
                  </a:lnTo>
                  <a:lnTo>
                    <a:pt x="2902" y="2311"/>
                  </a:lnTo>
                  <a:lnTo>
                    <a:pt x="2906" y="2309"/>
                  </a:lnTo>
                  <a:lnTo>
                    <a:pt x="2908" y="2307"/>
                  </a:lnTo>
                  <a:lnTo>
                    <a:pt x="2911" y="2307"/>
                  </a:lnTo>
                  <a:lnTo>
                    <a:pt x="2913" y="2309"/>
                  </a:lnTo>
                  <a:lnTo>
                    <a:pt x="2915" y="2311"/>
                  </a:lnTo>
                  <a:lnTo>
                    <a:pt x="2915" y="2311"/>
                  </a:lnTo>
                  <a:close/>
                  <a:moveTo>
                    <a:pt x="2930" y="2335"/>
                  </a:moveTo>
                  <a:lnTo>
                    <a:pt x="2930" y="2335"/>
                  </a:lnTo>
                  <a:lnTo>
                    <a:pt x="2932" y="2337"/>
                  </a:lnTo>
                  <a:lnTo>
                    <a:pt x="2932" y="2340"/>
                  </a:lnTo>
                  <a:lnTo>
                    <a:pt x="2930" y="2342"/>
                  </a:lnTo>
                  <a:lnTo>
                    <a:pt x="2929" y="2344"/>
                  </a:lnTo>
                  <a:lnTo>
                    <a:pt x="2925" y="2346"/>
                  </a:lnTo>
                  <a:lnTo>
                    <a:pt x="2923" y="2346"/>
                  </a:lnTo>
                  <a:lnTo>
                    <a:pt x="2920" y="2344"/>
                  </a:lnTo>
                  <a:lnTo>
                    <a:pt x="2918" y="2342"/>
                  </a:lnTo>
                  <a:lnTo>
                    <a:pt x="2918" y="2342"/>
                  </a:lnTo>
                  <a:lnTo>
                    <a:pt x="2918" y="2340"/>
                  </a:lnTo>
                  <a:lnTo>
                    <a:pt x="2918" y="2337"/>
                  </a:lnTo>
                  <a:lnTo>
                    <a:pt x="2918" y="2333"/>
                  </a:lnTo>
                  <a:lnTo>
                    <a:pt x="2922" y="2332"/>
                  </a:lnTo>
                  <a:lnTo>
                    <a:pt x="2923" y="2332"/>
                  </a:lnTo>
                  <a:lnTo>
                    <a:pt x="2927" y="2332"/>
                  </a:lnTo>
                  <a:lnTo>
                    <a:pt x="2929" y="2332"/>
                  </a:lnTo>
                  <a:lnTo>
                    <a:pt x="2930" y="2335"/>
                  </a:lnTo>
                  <a:lnTo>
                    <a:pt x="2930" y="2335"/>
                  </a:lnTo>
                  <a:close/>
                  <a:moveTo>
                    <a:pt x="2937" y="2365"/>
                  </a:moveTo>
                  <a:lnTo>
                    <a:pt x="2937" y="2365"/>
                  </a:lnTo>
                  <a:lnTo>
                    <a:pt x="2937" y="2368"/>
                  </a:lnTo>
                  <a:lnTo>
                    <a:pt x="2936" y="2370"/>
                  </a:lnTo>
                  <a:lnTo>
                    <a:pt x="2934" y="2372"/>
                  </a:lnTo>
                  <a:lnTo>
                    <a:pt x="2930" y="2374"/>
                  </a:lnTo>
                  <a:lnTo>
                    <a:pt x="2929" y="2372"/>
                  </a:lnTo>
                  <a:lnTo>
                    <a:pt x="2925" y="2370"/>
                  </a:lnTo>
                  <a:lnTo>
                    <a:pt x="2923" y="2368"/>
                  </a:lnTo>
                  <a:lnTo>
                    <a:pt x="2923" y="2365"/>
                  </a:lnTo>
                  <a:lnTo>
                    <a:pt x="2923" y="2365"/>
                  </a:lnTo>
                  <a:lnTo>
                    <a:pt x="2923" y="2363"/>
                  </a:lnTo>
                  <a:lnTo>
                    <a:pt x="2925" y="2360"/>
                  </a:lnTo>
                  <a:lnTo>
                    <a:pt x="2929" y="2360"/>
                  </a:lnTo>
                  <a:lnTo>
                    <a:pt x="2930" y="2358"/>
                  </a:lnTo>
                  <a:lnTo>
                    <a:pt x="2934" y="2360"/>
                  </a:lnTo>
                  <a:lnTo>
                    <a:pt x="2936" y="2360"/>
                  </a:lnTo>
                  <a:lnTo>
                    <a:pt x="2937" y="2363"/>
                  </a:lnTo>
                  <a:lnTo>
                    <a:pt x="2937" y="2365"/>
                  </a:lnTo>
                  <a:lnTo>
                    <a:pt x="2937" y="2365"/>
                  </a:lnTo>
                  <a:close/>
                  <a:moveTo>
                    <a:pt x="2937" y="2395"/>
                  </a:moveTo>
                  <a:lnTo>
                    <a:pt x="2937" y="2395"/>
                  </a:lnTo>
                  <a:lnTo>
                    <a:pt x="2937" y="2398"/>
                  </a:lnTo>
                  <a:lnTo>
                    <a:pt x="2936" y="2400"/>
                  </a:lnTo>
                  <a:lnTo>
                    <a:pt x="2934" y="2402"/>
                  </a:lnTo>
                  <a:lnTo>
                    <a:pt x="2930" y="2402"/>
                  </a:lnTo>
                  <a:lnTo>
                    <a:pt x="2929" y="2402"/>
                  </a:lnTo>
                  <a:lnTo>
                    <a:pt x="2925" y="2400"/>
                  </a:lnTo>
                  <a:lnTo>
                    <a:pt x="2923" y="2398"/>
                  </a:lnTo>
                  <a:lnTo>
                    <a:pt x="2923" y="2395"/>
                  </a:lnTo>
                  <a:lnTo>
                    <a:pt x="2923" y="2395"/>
                  </a:lnTo>
                  <a:lnTo>
                    <a:pt x="2923" y="2391"/>
                  </a:lnTo>
                  <a:lnTo>
                    <a:pt x="2925" y="2389"/>
                  </a:lnTo>
                  <a:lnTo>
                    <a:pt x="2929" y="2388"/>
                  </a:lnTo>
                  <a:lnTo>
                    <a:pt x="2930" y="2388"/>
                  </a:lnTo>
                  <a:lnTo>
                    <a:pt x="2934" y="2388"/>
                  </a:lnTo>
                  <a:lnTo>
                    <a:pt x="2936" y="2389"/>
                  </a:lnTo>
                  <a:lnTo>
                    <a:pt x="2937" y="2391"/>
                  </a:lnTo>
                  <a:lnTo>
                    <a:pt x="2937" y="2395"/>
                  </a:lnTo>
                  <a:lnTo>
                    <a:pt x="2937" y="2395"/>
                  </a:lnTo>
                  <a:close/>
                  <a:moveTo>
                    <a:pt x="2937" y="2424"/>
                  </a:moveTo>
                  <a:lnTo>
                    <a:pt x="2937" y="2424"/>
                  </a:lnTo>
                  <a:lnTo>
                    <a:pt x="2937" y="2426"/>
                  </a:lnTo>
                  <a:lnTo>
                    <a:pt x="2936" y="2428"/>
                  </a:lnTo>
                  <a:lnTo>
                    <a:pt x="2934" y="2430"/>
                  </a:lnTo>
                  <a:lnTo>
                    <a:pt x="2930" y="2431"/>
                  </a:lnTo>
                  <a:lnTo>
                    <a:pt x="2929" y="2430"/>
                  </a:lnTo>
                  <a:lnTo>
                    <a:pt x="2925" y="2428"/>
                  </a:lnTo>
                  <a:lnTo>
                    <a:pt x="2923" y="2426"/>
                  </a:lnTo>
                  <a:lnTo>
                    <a:pt x="2923" y="2424"/>
                  </a:lnTo>
                  <a:lnTo>
                    <a:pt x="2923" y="2424"/>
                  </a:lnTo>
                  <a:lnTo>
                    <a:pt x="2923" y="2421"/>
                  </a:lnTo>
                  <a:lnTo>
                    <a:pt x="2925" y="2419"/>
                  </a:lnTo>
                  <a:lnTo>
                    <a:pt x="2929" y="2417"/>
                  </a:lnTo>
                  <a:lnTo>
                    <a:pt x="2930" y="2416"/>
                  </a:lnTo>
                  <a:lnTo>
                    <a:pt x="2934" y="2417"/>
                  </a:lnTo>
                  <a:lnTo>
                    <a:pt x="2936" y="2419"/>
                  </a:lnTo>
                  <a:lnTo>
                    <a:pt x="2937" y="2421"/>
                  </a:lnTo>
                  <a:lnTo>
                    <a:pt x="2937" y="2424"/>
                  </a:lnTo>
                  <a:lnTo>
                    <a:pt x="2937" y="2424"/>
                  </a:lnTo>
                  <a:close/>
                  <a:moveTo>
                    <a:pt x="2937" y="2452"/>
                  </a:moveTo>
                  <a:lnTo>
                    <a:pt x="2937" y="2452"/>
                  </a:lnTo>
                  <a:lnTo>
                    <a:pt x="2937" y="2456"/>
                  </a:lnTo>
                  <a:lnTo>
                    <a:pt x="2936" y="2458"/>
                  </a:lnTo>
                  <a:lnTo>
                    <a:pt x="2934" y="2459"/>
                  </a:lnTo>
                  <a:lnTo>
                    <a:pt x="2930" y="2459"/>
                  </a:lnTo>
                  <a:lnTo>
                    <a:pt x="2929" y="2459"/>
                  </a:lnTo>
                  <a:lnTo>
                    <a:pt x="2925" y="2458"/>
                  </a:lnTo>
                  <a:lnTo>
                    <a:pt x="2923" y="2456"/>
                  </a:lnTo>
                  <a:lnTo>
                    <a:pt x="2923" y="2452"/>
                  </a:lnTo>
                  <a:lnTo>
                    <a:pt x="2923" y="2452"/>
                  </a:lnTo>
                  <a:lnTo>
                    <a:pt x="2923" y="2449"/>
                  </a:lnTo>
                  <a:lnTo>
                    <a:pt x="2925" y="2447"/>
                  </a:lnTo>
                  <a:lnTo>
                    <a:pt x="2929" y="2445"/>
                  </a:lnTo>
                  <a:lnTo>
                    <a:pt x="2930" y="2445"/>
                  </a:lnTo>
                  <a:lnTo>
                    <a:pt x="2934" y="2445"/>
                  </a:lnTo>
                  <a:lnTo>
                    <a:pt x="2936" y="2447"/>
                  </a:lnTo>
                  <a:lnTo>
                    <a:pt x="2937" y="2449"/>
                  </a:lnTo>
                  <a:lnTo>
                    <a:pt x="2937" y="2452"/>
                  </a:lnTo>
                  <a:lnTo>
                    <a:pt x="2937" y="2452"/>
                  </a:lnTo>
                  <a:close/>
                  <a:moveTo>
                    <a:pt x="2937" y="2482"/>
                  </a:moveTo>
                  <a:lnTo>
                    <a:pt x="2937" y="2482"/>
                  </a:lnTo>
                  <a:lnTo>
                    <a:pt x="2937" y="2484"/>
                  </a:lnTo>
                  <a:lnTo>
                    <a:pt x="2936" y="2486"/>
                  </a:lnTo>
                  <a:lnTo>
                    <a:pt x="2934" y="2487"/>
                  </a:lnTo>
                  <a:lnTo>
                    <a:pt x="2930" y="2489"/>
                  </a:lnTo>
                  <a:lnTo>
                    <a:pt x="2929" y="2487"/>
                  </a:lnTo>
                  <a:lnTo>
                    <a:pt x="2925" y="2486"/>
                  </a:lnTo>
                  <a:lnTo>
                    <a:pt x="2923" y="2484"/>
                  </a:lnTo>
                  <a:lnTo>
                    <a:pt x="2923" y="2482"/>
                  </a:lnTo>
                  <a:lnTo>
                    <a:pt x="2923" y="2482"/>
                  </a:lnTo>
                  <a:lnTo>
                    <a:pt x="2923" y="2479"/>
                  </a:lnTo>
                  <a:lnTo>
                    <a:pt x="2925" y="2477"/>
                  </a:lnTo>
                  <a:lnTo>
                    <a:pt x="2929" y="2475"/>
                  </a:lnTo>
                  <a:lnTo>
                    <a:pt x="2930" y="2475"/>
                  </a:lnTo>
                  <a:lnTo>
                    <a:pt x="2934" y="2475"/>
                  </a:lnTo>
                  <a:lnTo>
                    <a:pt x="2936" y="2477"/>
                  </a:lnTo>
                  <a:lnTo>
                    <a:pt x="2937" y="2479"/>
                  </a:lnTo>
                  <a:lnTo>
                    <a:pt x="2937" y="2482"/>
                  </a:lnTo>
                  <a:lnTo>
                    <a:pt x="2937" y="2482"/>
                  </a:lnTo>
                  <a:close/>
                  <a:moveTo>
                    <a:pt x="2937" y="2510"/>
                  </a:moveTo>
                  <a:lnTo>
                    <a:pt x="2937" y="2510"/>
                  </a:lnTo>
                  <a:lnTo>
                    <a:pt x="2937" y="2514"/>
                  </a:lnTo>
                  <a:lnTo>
                    <a:pt x="2936" y="2515"/>
                  </a:lnTo>
                  <a:lnTo>
                    <a:pt x="2934" y="2517"/>
                  </a:lnTo>
                  <a:lnTo>
                    <a:pt x="2930" y="2517"/>
                  </a:lnTo>
                  <a:lnTo>
                    <a:pt x="2929" y="2517"/>
                  </a:lnTo>
                  <a:lnTo>
                    <a:pt x="2925" y="2515"/>
                  </a:lnTo>
                  <a:lnTo>
                    <a:pt x="2923" y="2514"/>
                  </a:lnTo>
                  <a:lnTo>
                    <a:pt x="2923" y="2510"/>
                  </a:lnTo>
                  <a:lnTo>
                    <a:pt x="2923" y="2510"/>
                  </a:lnTo>
                  <a:lnTo>
                    <a:pt x="2923" y="2507"/>
                  </a:lnTo>
                  <a:lnTo>
                    <a:pt x="2925" y="2505"/>
                  </a:lnTo>
                  <a:lnTo>
                    <a:pt x="2929" y="2503"/>
                  </a:lnTo>
                  <a:lnTo>
                    <a:pt x="2930" y="2503"/>
                  </a:lnTo>
                  <a:lnTo>
                    <a:pt x="2934" y="2503"/>
                  </a:lnTo>
                  <a:lnTo>
                    <a:pt x="2936" y="2505"/>
                  </a:lnTo>
                  <a:lnTo>
                    <a:pt x="2937" y="2507"/>
                  </a:lnTo>
                  <a:lnTo>
                    <a:pt x="2937" y="2510"/>
                  </a:lnTo>
                  <a:lnTo>
                    <a:pt x="2937" y="2510"/>
                  </a:lnTo>
                  <a:close/>
                  <a:moveTo>
                    <a:pt x="2937" y="2540"/>
                  </a:moveTo>
                  <a:lnTo>
                    <a:pt x="2937" y="2540"/>
                  </a:lnTo>
                  <a:lnTo>
                    <a:pt x="2937" y="2542"/>
                  </a:lnTo>
                  <a:lnTo>
                    <a:pt x="2936" y="2545"/>
                  </a:lnTo>
                  <a:lnTo>
                    <a:pt x="2934" y="2545"/>
                  </a:lnTo>
                  <a:lnTo>
                    <a:pt x="2930" y="2547"/>
                  </a:lnTo>
                  <a:lnTo>
                    <a:pt x="2929" y="2545"/>
                  </a:lnTo>
                  <a:lnTo>
                    <a:pt x="2925" y="2545"/>
                  </a:lnTo>
                  <a:lnTo>
                    <a:pt x="2923" y="2542"/>
                  </a:lnTo>
                  <a:lnTo>
                    <a:pt x="2923" y="2540"/>
                  </a:lnTo>
                  <a:lnTo>
                    <a:pt x="2923" y="2540"/>
                  </a:lnTo>
                  <a:lnTo>
                    <a:pt x="2923" y="2536"/>
                  </a:lnTo>
                  <a:lnTo>
                    <a:pt x="2925" y="2535"/>
                  </a:lnTo>
                  <a:lnTo>
                    <a:pt x="2929" y="2533"/>
                  </a:lnTo>
                  <a:lnTo>
                    <a:pt x="2930" y="2533"/>
                  </a:lnTo>
                  <a:lnTo>
                    <a:pt x="2934" y="2533"/>
                  </a:lnTo>
                  <a:lnTo>
                    <a:pt x="2936" y="2535"/>
                  </a:lnTo>
                  <a:lnTo>
                    <a:pt x="2937" y="2536"/>
                  </a:lnTo>
                  <a:lnTo>
                    <a:pt x="2937" y="2540"/>
                  </a:lnTo>
                  <a:lnTo>
                    <a:pt x="2937" y="2540"/>
                  </a:lnTo>
                  <a:close/>
                  <a:moveTo>
                    <a:pt x="2925" y="2570"/>
                  </a:moveTo>
                  <a:lnTo>
                    <a:pt x="2925" y="2570"/>
                  </a:lnTo>
                  <a:lnTo>
                    <a:pt x="2923" y="2571"/>
                  </a:lnTo>
                  <a:lnTo>
                    <a:pt x="2922" y="2573"/>
                  </a:lnTo>
                  <a:lnTo>
                    <a:pt x="2918" y="2573"/>
                  </a:lnTo>
                  <a:lnTo>
                    <a:pt x="2916" y="2573"/>
                  </a:lnTo>
                  <a:lnTo>
                    <a:pt x="2913" y="2571"/>
                  </a:lnTo>
                  <a:lnTo>
                    <a:pt x="2913" y="2568"/>
                  </a:lnTo>
                  <a:lnTo>
                    <a:pt x="2911" y="2564"/>
                  </a:lnTo>
                  <a:lnTo>
                    <a:pt x="2913" y="2563"/>
                  </a:lnTo>
                  <a:lnTo>
                    <a:pt x="2913" y="2563"/>
                  </a:lnTo>
                  <a:lnTo>
                    <a:pt x="2915" y="2561"/>
                  </a:lnTo>
                  <a:lnTo>
                    <a:pt x="2916" y="2559"/>
                  </a:lnTo>
                  <a:lnTo>
                    <a:pt x="2920" y="2559"/>
                  </a:lnTo>
                  <a:lnTo>
                    <a:pt x="2923" y="2559"/>
                  </a:lnTo>
                  <a:lnTo>
                    <a:pt x="2925" y="2561"/>
                  </a:lnTo>
                  <a:lnTo>
                    <a:pt x="2927" y="2563"/>
                  </a:lnTo>
                  <a:lnTo>
                    <a:pt x="2927" y="2566"/>
                  </a:lnTo>
                  <a:lnTo>
                    <a:pt x="2925" y="2570"/>
                  </a:lnTo>
                  <a:lnTo>
                    <a:pt x="2925" y="2570"/>
                  </a:lnTo>
                  <a:close/>
                  <a:moveTo>
                    <a:pt x="2915" y="2596"/>
                  </a:moveTo>
                  <a:lnTo>
                    <a:pt x="2915" y="2596"/>
                  </a:lnTo>
                  <a:lnTo>
                    <a:pt x="2913" y="2598"/>
                  </a:lnTo>
                  <a:lnTo>
                    <a:pt x="2909" y="2599"/>
                  </a:lnTo>
                  <a:lnTo>
                    <a:pt x="2906" y="2599"/>
                  </a:lnTo>
                  <a:lnTo>
                    <a:pt x="2904" y="2599"/>
                  </a:lnTo>
                  <a:lnTo>
                    <a:pt x="2902" y="2598"/>
                  </a:lnTo>
                  <a:lnTo>
                    <a:pt x="2901" y="2594"/>
                  </a:lnTo>
                  <a:lnTo>
                    <a:pt x="2901" y="2592"/>
                  </a:lnTo>
                  <a:lnTo>
                    <a:pt x="2901" y="2589"/>
                  </a:lnTo>
                  <a:lnTo>
                    <a:pt x="2901" y="2589"/>
                  </a:lnTo>
                  <a:lnTo>
                    <a:pt x="2902" y="2587"/>
                  </a:lnTo>
                  <a:lnTo>
                    <a:pt x="2904" y="2585"/>
                  </a:lnTo>
                  <a:lnTo>
                    <a:pt x="2908" y="2585"/>
                  </a:lnTo>
                  <a:lnTo>
                    <a:pt x="2911" y="2585"/>
                  </a:lnTo>
                  <a:lnTo>
                    <a:pt x="2913" y="2587"/>
                  </a:lnTo>
                  <a:lnTo>
                    <a:pt x="2915" y="2589"/>
                  </a:lnTo>
                  <a:lnTo>
                    <a:pt x="2915" y="2592"/>
                  </a:lnTo>
                  <a:lnTo>
                    <a:pt x="2915" y="2596"/>
                  </a:lnTo>
                  <a:lnTo>
                    <a:pt x="2915" y="2596"/>
                  </a:lnTo>
                  <a:close/>
                  <a:moveTo>
                    <a:pt x="2902" y="2622"/>
                  </a:moveTo>
                  <a:lnTo>
                    <a:pt x="2902" y="2622"/>
                  </a:lnTo>
                  <a:lnTo>
                    <a:pt x="2901" y="2624"/>
                  </a:lnTo>
                  <a:lnTo>
                    <a:pt x="2897" y="2626"/>
                  </a:lnTo>
                  <a:lnTo>
                    <a:pt x="2895" y="2626"/>
                  </a:lnTo>
                  <a:lnTo>
                    <a:pt x="2892" y="2626"/>
                  </a:lnTo>
                  <a:lnTo>
                    <a:pt x="2890" y="2624"/>
                  </a:lnTo>
                  <a:lnTo>
                    <a:pt x="2888" y="2620"/>
                  </a:lnTo>
                  <a:lnTo>
                    <a:pt x="2888" y="2619"/>
                  </a:lnTo>
                  <a:lnTo>
                    <a:pt x="2888" y="2615"/>
                  </a:lnTo>
                  <a:lnTo>
                    <a:pt x="2888" y="2615"/>
                  </a:lnTo>
                  <a:lnTo>
                    <a:pt x="2890" y="2613"/>
                  </a:lnTo>
                  <a:lnTo>
                    <a:pt x="2894" y="2612"/>
                  </a:lnTo>
                  <a:lnTo>
                    <a:pt x="2895" y="2612"/>
                  </a:lnTo>
                  <a:lnTo>
                    <a:pt x="2899" y="2612"/>
                  </a:lnTo>
                  <a:lnTo>
                    <a:pt x="2901" y="2613"/>
                  </a:lnTo>
                  <a:lnTo>
                    <a:pt x="2902" y="2617"/>
                  </a:lnTo>
                  <a:lnTo>
                    <a:pt x="2902" y="2619"/>
                  </a:lnTo>
                  <a:lnTo>
                    <a:pt x="2902" y="2622"/>
                  </a:lnTo>
                  <a:lnTo>
                    <a:pt x="2902" y="2622"/>
                  </a:lnTo>
                  <a:close/>
                  <a:moveTo>
                    <a:pt x="2890" y="2648"/>
                  </a:moveTo>
                  <a:lnTo>
                    <a:pt x="2890" y="2648"/>
                  </a:lnTo>
                  <a:lnTo>
                    <a:pt x="2888" y="2650"/>
                  </a:lnTo>
                  <a:lnTo>
                    <a:pt x="2885" y="2652"/>
                  </a:lnTo>
                  <a:lnTo>
                    <a:pt x="2883" y="2652"/>
                  </a:lnTo>
                  <a:lnTo>
                    <a:pt x="2880" y="2652"/>
                  </a:lnTo>
                  <a:lnTo>
                    <a:pt x="2878" y="2650"/>
                  </a:lnTo>
                  <a:lnTo>
                    <a:pt x="2876" y="2647"/>
                  </a:lnTo>
                  <a:lnTo>
                    <a:pt x="2876" y="2645"/>
                  </a:lnTo>
                  <a:lnTo>
                    <a:pt x="2876" y="2641"/>
                  </a:lnTo>
                  <a:lnTo>
                    <a:pt x="2876" y="2641"/>
                  </a:lnTo>
                  <a:lnTo>
                    <a:pt x="2878" y="2640"/>
                  </a:lnTo>
                  <a:lnTo>
                    <a:pt x="2881" y="2638"/>
                  </a:lnTo>
                  <a:lnTo>
                    <a:pt x="2883" y="2638"/>
                  </a:lnTo>
                  <a:lnTo>
                    <a:pt x="2887" y="2638"/>
                  </a:lnTo>
                  <a:lnTo>
                    <a:pt x="2888" y="2640"/>
                  </a:lnTo>
                  <a:lnTo>
                    <a:pt x="2890" y="2643"/>
                  </a:lnTo>
                  <a:lnTo>
                    <a:pt x="2890" y="2645"/>
                  </a:lnTo>
                  <a:lnTo>
                    <a:pt x="2890" y="2648"/>
                  </a:lnTo>
                  <a:lnTo>
                    <a:pt x="2890" y="2648"/>
                  </a:lnTo>
                  <a:close/>
                  <a:moveTo>
                    <a:pt x="2878" y="2675"/>
                  </a:moveTo>
                  <a:lnTo>
                    <a:pt x="2878" y="2675"/>
                  </a:lnTo>
                  <a:lnTo>
                    <a:pt x="2876" y="2676"/>
                  </a:lnTo>
                  <a:lnTo>
                    <a:pt x="2873" y="2678"/>
                  </a:lnTo>
                  <a:lnTo>
                    <a:pt x="2871" y="2678"/>
                  </a:lnTo>
                  <a:lnTo>
                    <a:pt x="2867" y="2678"/>
                  </a:lnTo>
                  <a:lnTo>
                    <a:pt x="2866" y="2676"/>
                  </a:lnTo>
                  <a:lnTo>
                    <a:pt x="2864" y="2673"/>
                  </a:lnTo>
                  <a:lnTo>
                    <a:pt x="2864" y="2671"/>
                  </a:lnTo>
                  <a:lnTo>
                    <a:pt x="2866" y="2668"/>
                  </a:lnTo>
                  <a:lnTo>
                    <a:pt x="2866" y="2668"/>
                  </a:lnTo>
                  <a:lnTo>
                    <a:pt x="2867" y="2666"/>
                  </a:lnTo>
                  <a:lnTo>
                    <a:pt x="2869" y="2664"/>
                  </a:lnTo>
                  <a:lnTo>
                    <a:pt x="2871" y="2664"/>
                  </a:lnTo>
                  <a:lnTo>
                    <a:pt x="2874" y="2664"/>
                  </a:lnTo>
                  <a:lnTo>
                    <a:pt x="2876" y="2666"/>
                  </a:lnTo>
                  <a:lnTo>
                    <a:pt x="2878" y="2669"/>
                  </a:lnTo>
                  <a:lnTo>
                    <a:pt x="2878" y="2671"/>
                  </a:lnTo>
                  <a:lnTo>
                    <a:pt x="2878" y="2675"/>
                  </a:lnTo>
                  <a:lnTo>
                    <a:pt x="2878" y="2675"/>
                  </a:lnTo>
                  <a:close/>
                  <a:moveTo>
                    <a:pt x="2866" y="2701"/>
                  </a:moveTo>
                  <a:lnTo>
                    <a:pt x="2866" y="2701"/>
                  </a:lnTo>
                  <a:lnTo>
                    <a:pt x="2864" y="2703"/>
                  </a:lnTo>
                  <a:lnTo>
                    <a:pt x="2862" y="2704"/>
                  </a:lnTo>
                  <a:lnTo>
                    <a:pt x="2859" y="2704"/>
                  </a:lnTo>
                  <a:lnTo>
                    <a:pt x="2857" y="2704"/>
                  </a:lnTo>
                  <a:lnTo>
                    <a:pt x="2853" y="2703"/>
                  </a:lnTo>
                  <a:lnTo>
                    <a:pt x="2852" y="2699"/>
                  </a:lnTo>
                  <a:lnTo>
                    <a:pt x="2852" y="2697"/>
                  </a:lnTo>
                  <a:lnTo>
                    <a:pt x="2853" y="2694"/>
                  </a:lnTo>
                  <a:lnTo>
                    <a:pt x="2853" y="2694"/>
                  </a:lnTo>
                  <a:lnTo>
                    <a:pt x="2855" y="2692"/>
                  </a:lnTo>
                  <a:lnTo>
                    <a:pt x="2857" y="2690"/>
                  </a:lnTo>
                  <a:lnTo>
                    <a:pt x="2860" y="2690"/>
                  </a:lnTo>
                  <a:lnTo>
                    <a:pt x="2862" y="2690"/>
                  </a:lnTo>
                  <a:lnTo>
                    <a:pt x="2866" y="2692"/>
                  </a:lnTo>
                  <a:lnTo>
                    <a:pt x="2866" y="2696"/>
                  </a:lnTo>
                  <a:lnTo>
                    <a:pt x="2866" y="2697"/>
                  </a:lnTo>
                  <a:lnTo>
                    <a:pt x="2866" y="2701"/>
                  </a:lnTo>
                  <a:lnTo>
                    <a:pt x="2866" y="2701"/>
                  </a:lnTo>
                  <a:close/>
                  <a:moveTo>
                    <a:pt x="2853" y="2727"/>
                  </a:moveTo>
                  <a:lnTo>
                    <a:pt x="2853" y="2727"/>
                  </a:lnTo>
                  <a:lnTo>
                    <a:pt x="2852" y="2729"/>
                  </a:lnTo>
                  <a:lnTo>
                    <a:pt x="2850" y="2731"/>
                  </a:lnTo>
                  <a:lnTo>
                    <a:pt x="2846" y="2731"/>
                  </a:lnTo>
                  <a:lnTo>
                    <a:pt x="2845" y="2731"/>
                  </a:lnTo>
                  <a:lnTo>
                    <a:pt x="2841" y="2729"/>
                  </a:lnTo>
                  <a:lnTo>
                    <a:pt x="2841" y="2725"/>
                  </a:lnTo>
                  <a:lnTo>
                    <a:pt x="2839" y="2724"/>
                  </a:lnTo>
                  <a:lnTo>
                    <a:pt x="2841" y="2720"/>
                  </a:lnTo>
                  <a:lnTo>
                    <a:pt x="2841" y="2720"/>
                  </a:lnTo>
                  <a:lnTo>
                    <a:pt x="2843" y="2718"/>
                  </a:lnTo>
                  <a:lnTo>
                    <a:pt x="2845" y="2717"/>
                  </a:lnTo>
                  <a:lnTo>
                    <a:pt x="2848" y="2717"/>
                  </a:lnTo>
                  <a:lnTo>
                    <a:pt x="2850" y="2718"/>
                  </a:lnTo>
                  <a:lnTo>
                    <a:pt x="2853" y="2720"/>
                  </a:lnTo>
                  <a:lnTo>
                    <a:pt x="2853" y="2722"/>
                  </a:lnTo>
                  <a:lnTo>
                    <a:pt x="2855" y="2724"/>
                  </a:lnTo>
                  <a:lnTo>
                    <a:pt x="2853" y="2727"/>
                  </a:lnTo>
                  <a:lnTo>
                    <a:pt x="2853" y="2727"/>
                  </a:lnTo>
                  <a:close/>
                  <a:moveTo>
                    <a:pt x="2846" y="2750"/>
                  </a:moveTo>
                  <a:lnTo>
                    <a:pt x="2846" y="2750"/>
                  </a:lnTo>
                  <a:lnTo>
                    <a:pt x="2845" y="2752"/>
                  </a:lnTo>
                  <a:lnTo>
                    <a:pt x="2845" y="2755"/>
                  </a:lnTo>
                  <a:lnTo>
                    <a:pt x="2843" y="2757"/>
                  </a:lnTo>
                  <a:lnTo>
                    <a:pt x="2839" y="2759"/>
                  </a:lnTo>
                  <a:lnTo>
                    <a:pt x="2836" y="2757"/>
                  </a:lnTo>
                  <a:lnTo>
                    <a:pt x="2834" y="2757"/>
                  </a:lnTo>
                  <a:lnTo>
                    <a:pt x="2832" y="2755"/>
                  </a:lnTo>
                  <a:lnTo>
                    <a:pt x="2831" y="2752"/>
                  </a:lnTo>
                  <a:lnTo>
                    <a:pt x="2831" y="2752"/>
                  </a:lnTo>
                  <a:lnTo>
                    <a:pt x="2831" y="2748"/>
                  </a:lnTo>
                  <a:lnTo>
                    <a:pt x="2832" y="2746"/>
                  </a:lnTo>
                  <a:lnTo>
                    <a:pt x="2834" y="2745"/>
                  </a:lnTo>
                  <a:lnTo>
                    <a:pt x="2838" y="2743"/>
                  </a:lnTo>
                  <a:lnTo>
                    <a:pt x="2839" y="2743"/>
                  </a:lnTo>
                  <a:lnTo>
                    <a:pt x="2843" y="2745"/>
                  </a:lnTo>
                  <a:lnTo>
                    <a:pt x="2845" y="2746"/>
                  </a:lnTo>
                  <a:lnTo>
                    <a:pt x="2846" y="2750"/>
                  </a:lnTo>
                  <a:lnTo>
                    <a:pt x="2846" y="2750"/>
                  </a:lnTo>
                  <a:close/>
                  <a:moveTo>
                    <a:pt x="2850" y="2778"/>
                  </a:moveTo>
                  <a:lnTo>
                    <a:pt x="2850" y="2778"/>
                  </a:lnTo>
                  <a:lnTo>
                    <a:pt x="2850" y="2781"/>
                  </a:lnTo>
                  <a:lnTo>
                    <a:pt x="2848" y="2783"/>
                  </a:lnTo>
                  <a:lnTo>
                    <a:pt x="2846" y="2785"/>
                  </a:lnTo>
                  <a:lnTo>
                    <a:pt x="2845" y="2787"/>
                  </a:lnTo>
                  <a:lnTo>
                    <a:pt x="2841" y="2787"/>
                  </a:lnTo>
                  <a:lnTo>
                    <a:pt x="2839" y="2785"/>
                  </a:lnTo>
                  <a:lnTo>
                    <a:pt x="2838" y="2783"/>
                  </a:lnTo>
                  <a:lnTo>
                    <a:pt x="2836" y="2780"/>
                  </a:lnTo>
                  <a:lnTo>
                    <a:pt x="2836" y="2780"/>
                  </a:lnTo>
                  <a:lnTo>
                    <a:pt x="2836" y="2778"/>
                  </a:lnTo>
                  <a:lnTo>
                    <a:pt x="2838" y="2774"/>
                  </a:lnTo>
                  <a:lnTo>
                    <a:pt x="2839" y="2773"/>
                  </a:lnTo>
                  <a:lnTo>
                    <a:pt x="2843" y="2773"/>
                  </a:lnTo>
                  <a:lnTo>
                    <a:pt x="2845" y="2773"/>
                  </a:lnTo>
                  <a:lnTo>
                    <a:pt x="2848" y="2773"/>
                  </a:lnTo>
                  <a:lnTo>
                    <a:pt x="2850" y="2774"/>
                  </a:lnTo>
                  <a:lnTo>
                    <a:pt x="2850" y="2778"/>
                  </a:lnTo>
                  <a:lnTo>
                    <a:pt x="2850" y="2778"/>
                  </a:lnTo>
                  <a:close/>
                  <a:moveTo>
                    <a:pt x="2855" y="2808"/>
                  </a:moveTo>
                  <a:lnTo>
                    <a:pt x="2855" y="2808"/>
                  </a:lnTo>
                  <a:lnTo>
                    <a:pt x="2855" y="2809"/>
                  </a:lnTo>
                  <a:lnTo>
                    <a:pt x="2853" y="2813"/>
                  </a:lnTo>
                  <a:lnTo>
                    <a:pt x="2852" y="2815"/>
                  </a:lnTo>
                  <a:lnTo>
                    <a:pt x="2850" y="2815"/>
                  </a:lnTo>
                  <a:lnTo>
                    <a:pt x="2846" y="2815"/>
                  </a:lnTo>
                  <a:lnTo>
                    <a:pt x="2843" y="2813"/>
                  </a:lnTo>
                  <a:lnTo>
                    <a:pt x="2841" y="2811"/>
                  </a:lnTo>
                  <a:lnTo>
                    <a:pt x="2841" y="2809"/>
                  </a:lnTo>
                  <a:lnTo>
                    <a:pt x="2841" y="2809"/>
                  </a:lnTo>
                  <a:lnTo>
                    <a:pt x="2841" y="2806"/>
                  </a:lnTo>
                  <a:lnTo>
                    <a:pt x="2843" y="2804"/>
                  </a:lnTo>
                  <a:lnTo>
                    <a:pt x="2845" y="2802"/>
                  </a:lnTo>
                  <a:lnTo>
                    <a:pt x="2846" y="2801"/>
                  </a:lnTo>
                  <a:lnTo>
                    <a:pt x="2850" y="2801"/>
                  </a:lnTo>
                  <a:lnTo>
                    <a:pt x="2852" y="2802"/>
                  </a:lnTo>
                  <a:lnTo>
                    <a:pt x="2853" y="2804"/>
                  </a:lnTo>
                  <a:lnTo>
                    <a:pt x="2855" y="2808"/>
                  </a:lnTo>
                  <a:lnTo>
                    <a:pt x="2855" y="2808"/>
                  </a:lnTo>
                  <a:close/>
                  <a:moveTo>
                    <a:pt x="2860" y="2836"/>
                  </a:moveTo>
                  <a:lnTo>
                    <a:pt x="2860" y="2836"/>
                  </a:lnTo>
                  <a:lnTo>
                    <a:pt x="2860" y="2837"/>
                  </a:lnTo>
                  <a:lnTo>
                    <a:pt x="2859" y="2841"/>
                  </a:lnTo>
                  <a:lnTo>
                    <a:pt x="2857" y="2843"/>
                  </a:lnTo>
                  <a:lnTo>
                    <a:pt x="2853" y="2844"/>
                  </a:lnTo>
                  <a:lnTo>
                    <a:pt x="2852" y="2843"/>
                  </a:lnTo>
                  <a:lnTo>
                    <a:pt x="2848" y="2843"/>
                  </a:lnTo>
                  <a:lnTo>
                    <a:pt x="2846" y="2841"/>
                  </a:lnTo>
                  <a:lnTo>
                    <a:pt x="2846" y="2837"/>
                  </a:lnTo>
                  <a:lnTo>
                    <a:pt x="2846" y="2837"/>
                  </a:lnTo>
                  <a:lnTo>
                    <a:pt x="2846" y="2834"/>
                  </a:lnTo>
                  <a:lnTo>
                    <a:pt x="2846" y="2832"/>
                  </a:lnTo>
                  <a:lnTo>
                    <a:pt x="2848" y="2830"/>
                  </a:lnTo>
                  <a:lnTo>
                    <a:pt x="2852" y="2829"/>
                  </a:lnTo>
                  <a:lnTo>
                    <a:pt x="2855" y="2829"/>
                  </a:lnTo>
                  <a:lnTo>
                    <a:pt x="2857" y="2830"/>
                  </a:lnTo>
                  <a:lnTo>
                    <a:pt x="2859" y="2832"/>
                  </a:lnTo>
                  <a:lnTo>
                    <a:pt x="2860" y="2836"/>
                  </a:lnTo>
                  <a:lnTo>
                    <a:pt x="2860" y="2836"/>
                  </a:lnTo>
                  <a:close/>
                  <a:moveTo>
                    <a:pt x="2880" y="2848"/>
                  </a:moveTo>
                  <a:lnTo>
                    <a:pt x="2880" y="2848"/>
                  </a:lnTo>
                  <a:lnTo>
                    <a:pt x="2881" y="2850"/>
                  </a:lnTo>
                  <a:lnTo>
                    <a:pt x="2883" y="2851"/>
                  </a:lnTo>
                  <a:lnTo>
                    <a:pt x="2883" y="2855"/>
                  </a:lnTo>
                  <a:lnTo>
                    <a:pt x="2881" y="2857"/>
                  </a:lnTo>
                  <a:lnTo>
                    <a:pt x="2880" y="2858"/>
                  </a:lnTo>
                  <a:lnTo>
                    <a:pt x="2876" y="2860"/>
                  </a:lnTo>
                  <a:lnTo>
                    <a:pt x="2874" y="2860"/>
                  </a:lnTo>
                  <a:lnTo>
                    <a:pt x="2871" y="2860"/>
                  </a:lnTo>
                  <a:lnTo>
                    <a:pt x="2871" y="2860"/>
                  </a:lnTo>
                  <a:lnTo>
                    <a:pt x="2869" y="2857"/>
                  </a:lnTo>
                  <a:lnTo>
                    <a:pt x="2867" y="2855"/>
                  </a:lnTo>
                  <a:lnTo>
                    <a:pt x="2867" y="2851"/>
                  </a:lnTo>
                  <a:lnTo>
                    <a:pt x="2869" y="2850"/>
                  </a:lnTo>
                  <a:lnTo>
                    <a:pt x="2871" y="2848"/>
                  </a:lnTo>
                  <a:lnTo>
                    <a:pt x="2874" y="2846"/>
                  </a:lnTo>
                  <a:lnTo>
                    <a:pt x="2876" y="2846"/>
                  </a:lnTo>
                  <a:lnTo>
                    <a:pt x="2880" y="2848"/>
                  </a:lnTo>
                  <a:lnTo>
                    <a:pt x="2880" y="2848"/>
                  </a:lnTo>
                  <a:close/>
                  <a:moveTo>
                    <a:pt x="2904" y="2864"/>
                  </a:moveTo>
                  <a:lnTo>
                    <a:pt x="2904" y="2864"/>
                  </a:lnTo>
                  <a:lnTo>
                    <a:pt x="2906" y="2865"/>
                  </a:lnTo>
                  <a:lnTo>
                    <a:pt x="2906" y="2867"/>
                  </a:lnTo>
                  <a:lnTo>
                    <a:pt x="2906" y="2871"/>
                  </a:lnTo>
                  <a:lnTo>
                    <a:pt x="2906" y="2874"/>
                  </a:lnTo>
                  <a:lnTo>
                    <a:pt x="2904" y="2876"/>
                  </a:lnTo>
                  <a:lnTo>
                    <a:pt x="2901" y="2876"/>
                  </a:lnTo>
                  <a:lnTo>
                    <a:pt x="2899" y="2876"/>
                  </a:lnTo>
                  <a:lnTo>
                    <a:pt x="2895" y="2876"/>
                  </a:lnTo>
                  <a:lnTo>
                    <a:pt x="2895" y="2876"/>
                  </a:lnTo>
                  <a:lnTo>
                    <a:pt x="2894" y="2874"/>
                  </a:lnTo>
                  <a:lnTo>
                    <a:pt x="2892" y="2871"/>
                  </a:lnTo>
                  <a:lnTo>
                    <a:pt x="2892" y="2869"/>
                  </a:lnTo>
                  <a:lnTo>
                    <a:pt x="2894" y="2865"/>
                  </a:lnTo>
                  <a:lnTo>
                    <a:pt x="2895" y="2864"/>
                  </a:lnTo>
                  <a:lnTo>
                    <a:pt x="2897" y="2862"/>
                  </a:lnTo>
                  <a:lnTo>
                    <a:pt x="2901" y="2862"/>
                  </a:lnTo>
                  <a:lnTo>
                    <a:pt x="2904" y="2864"/>
                  </a:lnTo>
                  <a:lnTo>
                    <a:pt x="2904" y="2864"/>
                  </a:lnTo>
                  <a:close/>
                  <a:moveTo>
                    <a:pt x="2927" y="2879"/>
                  </a:moveTo>
                  <a:lnTo>
                    <a:pt x="2927" y="2879"/>
                  </a:lnTo>
                  <a:lnTo>
                    <a:pt x="2929" y="2881"/>
                  </a:lnTo>
                  <a:lnTo>
                    <a:pt x="2930" y="2885"/>
                  </a:lnTo>
                  <a:lnTo>
                    <a:pt x="2930" y="2886"/>
                  </a:lnTo>
                  <a:lnTo>
                    <a:pt x="2930" y="2890"/>
                  </a:lnTo>
                  <a:lnTo>
                    <a:pt x="2927" y="2892"/>
                  </a:lnTo>
                  <a:lnTo>
                    <a:pt x="2925" y="2893"/>
                  </a:lnTo>
                  <a:lnTo>
                    <a:pt x="2922" y="2893"/>
                  </a:lnTo>
                  <a:lnTo>
                    <a:pt x="2920" y="2892"/>
                  </a:lnTo>
                  <a:lnTo>
                    <a:pt x="2920" y="2892"/>
                  </a:lnTo>
                  <a:lnTo>
                    <a:pt x="2918" y="2890"/>
                  </a:lnTo>
                  <a:lnTo>
                    <a:pt x="2916" y="2886"/>
                  </a:lnTo>
                  <a:lnTo>
                    <a:pt x="2916" y="2885"/>
                  </a:lnTo>
                  <a:lnTo>
                    <a:pt x="2918" y="2881"/>
                  </a:lnTo>
                  <a:lnTo>
                    <a:pt x="2920" y="2879"/>
                  </a:lnTo>
                  <a:lnTo>
                    <a:pt x="2922" y="2878"/>
                  </a:lnTo>
                  <a:lnTo>
                    <a:pt x="2925" y="2878"/>
                  </a:lnTo>
                  <a:lnTo>
                    <a:pt x="2927" y="2879"/>
                  </a:lnTo>
                  <a:lnTo>
                    <a:pt x="2927" y="2879"/>
                  </a:lnTo>
                  <a:close/>
                  <a:moveTo>
                    <a:pt x="2951" y="2895"/>
                  </a:moveTo>
                  <a:lnTo>
                    <a:pt x="2951" y="2895"/>
                  </a:lnTo>
                  <a:lnTo>
                    <a:pt x="2953" y="2897"/>
                  </a:lnTo>
                  <a:lnTo>
                    <a:pt x="2955" y="2900"/>
                  </a:lnTo>
                  <a:lnTo>
                    <a:pt x="2955" y="2902"/>
                  </a:lnTo>
                  <a:lnTo>
                    <a:pt x="2953" y="2906"/>
                  </a:lnTo>
                  <a:lnTo>
                    <a:pt x="2951" y="2907"/>
                  </a:lnTo>
                  <a:lnTo>
                    <a:pt x="2950" y="2909"/>
                  </a:lnTo>
                  <a:lnTo>
                    <a:pt x="2946" y="2909"/>
                  </a:lnTo>
                  <a:lnTo>
                    <a:pt x="2944" y="2907"/>
                  </a:lnTo>
                  <a:lnTo>
                    <a:pt x="2944" y="2907"/>
                  </a:lnTo>
                  <a:lnTo>
                    <a:pt x="2941" y="2906"/>
                  </a:lnTo>
                  <a:lnTo>
                    <a:pt x="2941" y="2904"/>
                  </a:lnTo>
                  <a:lnTo>
                    <a:pt x="2941" y="2900"/>
                  </a:lnTo>
                  <a:lnTo>
                    <a:pt x="2941" y="2899"/>
                  </a:lnTo>
                  <a:lnTo>
                    <a:pt x="2943" y="2895"/>
                  </a:lnTo>
                  <a:lnTo>
                    <a:pt x="2946" y="2895"/>
                  </a:lnTo>
                  <a:lnTo>
                    <a:pt x="2948" y="2895"/>
                  </a:lnTo>
                  <a:lnTo>
                    <a:pt x="2951" y="2895"/>
                  </a:lnTo>
                  <a:lnTo>
                    <a:pt x="2951" y="2895"/>
                  </a:lnTo>
                  <a:close/>
                  <a:moveTo>
                    <a:pt x="2974" y="2918"/>
                  </a:moveTo>
                  <a:lnTo>
                    <a:pt x="2974" y="2918"/>
                  </a:lnTo>
                  <a:lnTo>
                    <a:pt x="2974" y="2922"/>
                  </a:lnTo>
                  <a:lnTo>
                    <a:pt x="2974" y="2923"/>
                  </a:lnTo>
                  <a:lnTo>
                    <a:pt x="2972" y="2927"/>
                  </a:lnTo>
                  <a:lnTo>
                    <a:pt x="2971" y="2929"/>
                  </a:lnTo>
                  <a:lnTo>
                    <a:pt x="2969" y="2930"/>
                  </a:lnTo>
                  <a:lnTo>
                    <a:pt x="2965" y="2930"/>
                  </a:lnTo>
                  <a:lnTo>
                    <a:pt x="2964" y="2929"/>
                  </a:lnTo>
                  <a:lnTo>
                    <a:pt x="2962" y="2927"/>
                  </a:lnTo>
                  <a:lnTo>
                    <a:pt x="2962" y="2927"/>
                  </a:lnTo>
                  <a:lnTo>
                    <a:pt x="2960" y="2923"/>
                  </a:lnTo>
                  <a:lnTo>
                    <a:pt x="2960" y="2922"/>
                  </a:lnTo>
                  <a:lnTo>
                    <a:pt x="2962" y="2918"/>
                  </a:lnTo>
                  <a:lnTo>
                    <a:pt x="2964" y="2916"/>
                  </a:lnTo>
                  <a:lnTo>
                    <a:pt x="2965" y="2915"/>
                  </a:lnTo>
                  <a:lnTo>
                    <a:pt x="2969" y="2915"/>
                  </a:lnTo>
                  <a:lnTo>
                    <a:pt x="2971" y="2916"/>
                  </a:lnTo>
                  <a:lnTo>
                    <a:pt x="2974" y="2918"/>
                  </a:lnTo>
                  <a:lnTo>
                    <a:pt x="2974" y="2918"/>
                  </a:lnTo>
                  <a:close/>
                  <a:moveTo>
                    <a:pt x="2990" y="2943"/>
                  </a:moveTo>
                  <a:lnTo>
                    <a:pt x="2990" y="2943"/>
                  </a:lnTo>
                  <a:lnTo>
                    <a:pt x="2990" y="2946"/>
                  </a:lnTo>
                  <a:lnTo>
                    <a:pt x="2990" y="2948"/>
                  </a:lnTo>
                  <a:lnTo>
                    <a:pt x="2990" y="2951"/>
                  </a:lnTo>
                  <a:lnTo>
                    <a:pt x="2988" y="2953"/>
                  </a:lnTo>
                  <a:lnTo>
                    <a:pt x="2985" y="2953"/>
                  </a:lnTo>
                  <a:lnTo>
                    <a:pt x="2981" y="2953"/>
                  </a:lnTo>
                  <a:lnTo>
                    <a:pt x="2979" y="2953"/>
                  </a:lnTo>
                  <a:lnTo>
                    <a:pt x="2978" y="2951"/>
                  </a:lnTo>
                  <a:lnTo>
                    <a:pt x="2978" y="2951"/>
                  </a:lnTo>
                  <a:lnTo>
                    <a:pt x="2976" y="2948"/>
                  </a:lnTo>
                  <a:lnTo>
                    <a:pt x="2976" y="2944"/>
                  </a:lnTo>
                  <a:lnTo>
                    <a:pt x="2978" y="2943"/>
                  </a:lnTo>
                  <a:lnTo>
                    <a:pt x="2979" y="2941"/>
                  </a:lnTo>
                  <a:lnTo>
                    <a:pt x="2983" y="2939"/>
                  </a:lnTo>
                  <a:lnTo>
                    <a:pt x="2985" y="2939"/>
                  </a:lnTo>
                  <a:lnTo>
                    <a:pt x="2988" y="2941"/>
                  </a:lnTo>
                  <a:lnTo>
                    <a:pt x="2990" y="2943"/>
                  </a:lnTo>
                  <a:lnTo>
                    <a:pt x="2990" y="2943"/>
                  </a:lnTo>
                  <a:close/>
                  <a:moveTo>
                    <a:pt x="3006" y="2967"/>
                  </a:moveTo>
                  <a:lnTo>
                    <a:pt x="3006" y="2967"/>
                  </a:lnTo>
                  <a:lnTo>
                    <a:pt x="3007" y="2969"/>
                  </a:lnTo>
                  <a:lnTo>
                    <a:pt x="3007" y="2972"/>
                  </a:lnTo>
                  <a:lnTo>
                    <a:pt x="3006" y="2974"/>
                  </a:lnTo>
                  <a:lnTo>
                    <a:pt x="3004" y="2976"/>
                  </a:lnTo>
                  <a:lnTo>
                    <a:pt x="3000" y="2978"/>
                  </a:lnTo>
                  <a:lnTo>
                    <a:pt x="2999" y="2978"/>
                  </a:lnTo>
                  <a:lnTo>
                    <a:pt x="2995" y="2976"/>
                  </a:lnTo>
                  <a:lnTo>
                    <a:pt x="2993" y="2974"/>
                  </a:lnTo>
                  <a:lnTo>
                    <a:pt x="2993" y="2974"/>
                  </a:lnTo>
                  <a:lnTo>
                    <a:pt x="2992" y="2972"/>
                  </a:lnTo>
                  <a:lnTo>
                    <a:pt x="2992" y="2969"/>
                  </a:lnTo>
                  <a:lnTo>
                    <a:pt x="2993" y="2967"/>
                  </a:lnTo>
                  <a:lnTo>
                    <a:pt x="2995" y="2965"/>
                  </a:lnTo>
                  <a:lnTo>
                    <a:pt x="2999" y="2964"/>
                  </a:lnTo>
                  <a:lnTo>
                    <a:pt x="3000" y="2964"/>
                  </a:lnTo>
                  <a:lnTo>
                    <a:pt x="3004" y="2965"/>
                  </a:lnTo>
                  <a:lnTo>
                    <a:pt x="3006" y="2967"/>
                  </a:lnTo>
                  <a:lnTo>
                    <a:pt x="3006" y="2967"/>
                  </a:lnTo>
                  <a:close/>
                  <a:moveTo>
                    <a:pt x="3021" y="2990"/>
                  </a:moveTo>
                  <a:lnTo>
                    <a:pt x="3021" y="2990"/>
                  </a:lnTo>
                  <a:lnTo>
                    <a:pt x="3023" y="2993"/>
                  </a:lnTo>
                  <a:lnTo>
                    <a:pt x="3023" y="2995"/>
                  </a:lnTo>
                  <a:lnTo>
                    <a:pt x="3021" y="2999"/>
                  </a:lnTo>
                  <a:lnTo>
                    <a:pt x="3020" y="3000"/>
                  </a:lnTo>
                  <a:lnTo>
                    <a:pt x="3016" y="3002"/>
                  </a:lnTo>
                  <a:lnTo>
                    <a:pt x="3014" y="3002"/>
                  </a:lnTo>
                  <a:lnTo>
                    <a:pt x="3011" y="3000"/>
                  </a:lnTo>
                  <a:lnTo>
                    <a:pt x="3009" y="2999"/>
                  </a:lnTo>
                  <a:lnTo>
                    <a:pt x="3009" y="2999"/>
                  </a:lnTo>
                  <a:lnTo>
                    <a:pt x="3009" y="2995"/>
                  </a:lnTo>
                  <a:lnTo>
                    <a:pt x="3009" y="2993"/>
                  </a:lnTo>
                  <a:lnTo>
                    <a:pt x="3009" y="2990"/>
                  </a:lnTo>
                  <a:lnTo>
                    <a:pt x="3013" y="2988"/>
                  </a:lnTo>
                  <a:lnTo>
                    <a:pt x="3014" y="2988"/>
                  </a:lnTo>
                  <a:lnTo>
                    <a:pt x="3018" y="2988"/>
                  </a:lnTo>
                  <a:lnTo>
                    <a:pt x="3020" y="2988"/>
                  </a:lnTo>
                  <a:lnTo>
                    <a:pt x="3021" y="2990"/>
                  </a:lnTo>
                  <a:lnTo>
                    <a:pt x="3021" y="2990"/>
                  </a:lnTo>
                  <a:close/>
                  <a:moveTo>
                    <a:pt x="3042" y="3007"/>
                  </a:moveTo>
                  <a:lnTo>
                    <a:pt x="3042" y="3007"/>
                  </a:lnTo>
                  <a:lnTo>
                    <a:pt x="3044" y="3009"/>
                  </a:lnTo>
                  <a:lnTo>
                    <a:pt x="3046" y="3013"/>
                  </a:lnTo>
                  <a:lnTo>
                    <a:pt x="3044" y="3014"/>
                  </a:lnTo>
                  <a:lnTo>
                    <a:pt x="3044" y="3018"/>
                  </a:lnTo>
                  <a:lnTo>
                    <a:pt x="3041" y="3020"/>
                  </a:lnTo>
                  <a:lnTo>
                    <a:pt x="3039" y="3020"/>
                  </a:lnTo>
                  <a:lnTo>
                    <a:pt x="3035" y="3020"/>
                  </a:lnTo>
                  <a:lnTo>
                    <a:pt x="3034" y="3020"/>
                  </a:lnTo>
                  <a:lnTo>
                    <a:pt x="3034" y="3020"/>
                  </a:lnTo>
                  <a:lnTo>
                    <a:pt x="3032" y="3016"/>
                  </a:lnTo>
                  <a:lnTo>
                    <a:pt x="3030" y="3014"/>
                  </a:lnTo>
                  <a:lnTo>
                    <a:pt x="3030" y="3011"/>
                  </a:lnTo>
                  <a:lnTo>
                    <a:pt x="3032" y="3009"/>
                  </a:lnTo>
                  <a:lnTo>
                    <a:pt x="3034" y="3006"/>
                  </a:lnTo>
                  <a:lnTo>
                    <a:pt x="3037" y="3006"/>
                  </a:lnTo>
                  <a:lnTo>
                    <a:pt x="3041" y="3006"/>
                  </a:lnTo>
                  <a:lnTo>
                    <a:pt x="3042" y="3007"/>
                  </a:lnTo>
                  <a:lnTo>
                    <a:pt x="3042" y="3007"/>
                  </a:lnTo>
                  <a:close/>
                  <a:moveTo>
                    <a:pt x="3065" y="3025"/>
                  </a:moveTo>
                  <a:lnTo>
                    <a:pt x="3065" y="3025"/>
                  </a:lnTo>
                  <a:lnTo>
                    <a:pt x="3067" y="3027"/>
                  </a:lnTo>
                  <a:lnTo>
                    <a:pt x="3069" y="3030"/>
                  </a:lnTo>
                  <a:lnTo>
                    <a:pt x="3067" y="3032"/>
                  </a:lnTo>
                  <a:lnTo>
                    <a:pt x="3067" y="3035"/>
                  </a:lnTo>
                  <a:lnTo>
                    <a:pt x="3063" y="3037"/>
                  </a:lnTo>
                  <a:lnTo>
                    <a:pt x="3062" y="3039"/>
                  </a:lnTo>
                  <a:lnTo>
                    <a:pt x="3058" y="3037"/>
                  </a:lnTo>
                  <a:lnTo>
                    <a:pt x="3056" y="3037"/>
                  </a:lnTo>
                  <a:lnTo>
                    <a:pt x="3056" y="3037"/>
                  </a:lnTo>
                  <a:lnTo>
                    <a:pt x="3055" y="3034"/>
                  </a:lnTo>
                  <a:lnTo>
                    <a:pt x="3053" y="3032"/>
                  </a:lnTo>
                  <a:lnTo>
                    <a:pt x="3053" y="3028"/>
                  </a:lnTo>
                  <a:lnTo>
                    <a:pt x="3055" y="3027"/>
                  </a:lnTo>
                  <a:lnTo>
                    <a:pt x="3056" y="3025"/>
                  </a:lnTo>
                  <a:lnTo>
                    <a:pt x="3060" y="3023"/>
                  </a:lnTo>
                  <a:lnTo>
                    <a:pt x="3063" y="3023"/>
                  </a:lnTo>
                  <a:lnTo>
                    <a:pt x="3065" y="3025"/>
                  </a:lnTo>
                  <a:lnTo>
                    <a:pt x="3065" y="3025"/>
                  </a:lnTo>
                  <a:close/>
                  <a:moveTo>
                    <a:pt x="3088" y="3042"/>
                  </a:moveTo>
                  <a:lnTo>
                    <a:pt x="3088" y="3042"/>
                  </a:lnTo>
                  <a:lnTo>
                    <a:pt x="3090" y="3046"/>
                  </a:lnTo>
                  <a:lnTo>
                    <a:pt x="3091" y="3048"/>
                  </a:lnTo>
                  <a:lnTo>
                    <a:pt x="3090" y="3051"/>
                  </a:lnTo>
                  <a:lnTo>
                    <a:pt x="3090" y="3053"/>
                  </a:lnTo>
                  <a:lnTo>
                    <a:pt x="3086" y="3055"/>
                  </a:lnTo>
                  <a:lnTo>
                    <a:pt x="3084" y="3056"/>
                  </a:lnTo>
                  <a:lnTo>
                    <a:pt x="3081" y="3056"/>
                  </a:lnTo>
                  <a:lnTo>
                    <a:pt x="3079" y="3055"/>
                  </a:lnTo>
                  <a:lnTo>
                    <a:pt x="3079" y="3055"/>
                  </a:lnTo>
                  <a:lnTo>
                    <a:pt x="3077" y="3053"/>
                  </a:lnTo>
                  <a:lnTo>
                    <a:pt x="3076" y="3049"/>
                  </a:lnTo>
                  <a:lnTo>
                    <a:pt x="3076" y="3048"/>
                  </a:lnTo>
                  <a:lnTo>
                    <a:pt x="3077" y="3044"/>
                  </a:lnTo>
                  <a:lnTo>
                    <a:pt x="3079" y="3042"/>
                  </a:lnTo>
                  <a:lnTo>
                    <a:pt x="3083" y="3042"/>
                  </a:lnTo>
                  <a:lnTo>
                    <a:pt x="3084" y="3042"/>
                  </a:lnTo>
                  <a:lnTo>
                    <a:pt x="3088" y="3042"/>
                  </a:lnTo>
                  <a:lnTo>
                    <a:pt x="3088" y="3042"/>
                  </a:lnTo>
                  <a:close/>
                  <a:moveTo>
                    <a:pt x="3111" y="3062"/>
                  </a:moveTo>
                  <a:lnTo>
                    <a:pt x="3111" y="3062"/>
                  </a:lnTo>
                  <a:lnTo>
                    <a:pt x="3112" y="3063"/>
                  </a:lnTo>
                  <a:lnTo>
                    <a:pt x="3114" y="3065"/>
                  </a:lnTo>
                  <a:lnTo>
                    <a:pt x="3112" y="3069"/>
                  </a:lnTo>
                  <a:lnTo>
                    <a:pt x="3112" y="3070"/>
                  </a:lnTo>
                  <a:lnTo>
                    <a:pt x="3109" y="3072"/>
                  </a:lnTo>
                  <a:lnTo>
                    <a:pt x="3107" y="3074"/>
                  </a:lnTo>
                  <a:lnTo>
                    <a:pt x="3104" y="3074"/>
                  </a:lnTo>
                  <a:lnTo>
                    <a:pt x="3102" y="3072"/>
                  </a:lnTo>
                  <a:lnTo>
                    <a:pt x="3102" y="3072"/>
                  </a:lnTo>
                  <a:lnTo>
                    <a:pt x="3100" y="3070"/>
                  </a:lnTo>
                  <a:lnTo>
                    <a:pt x="3098" y="3067"/>
                  </a:lnTo>
                  <a:lnTo>
                    <a:pt x="3098" y="3065"/>
                  </a:lnTo>
                  <a:lnTo>
                    <a:pt x="3100" y="3062"/>
                  </a:lnTo>
                  <a:lnTo>
                    <a:pt x="3102" y="3060"/>
                  </a:lnTo>
                  <a:lnTo>
                    <a:pt x="3105" y="3060"/>
                  </a:lnTo>
                  <a:lnTo>
                    <a:pt x="3107" y="3060"/>
                  </a:lnTo>
                  <a:lnTo>
                    <a:pt x="3111" y="3062"/>
                  </a:lnTo>
                  <a:lnTo>
                    <a:pt x="3111" y="3062"/>
                  </a:lnTo>
                  <a:close/>
                  <a:moveTo>
                    <a:pt x="3132" y="3083"/>
                  </a:moveTo>
                  <a:lnTo>
                    <a:pt x="3132" y="3083"/>
                  </a:lnTo>
                  <a:lnTo>
                    <a:pt x="3133" y="3084"/>
                  </a:lnTo>
                  <a:lnTo>
                    <a:pt x="3133" y="3088"/>
                  </a:lnTo>
                  <a:lnTo>
                    <a:pt x="3133" y="3090"/>
                  </a:lnTo>
                  <a:lnTo>
                    <a:pt x="3132" y="3093"/>
                  </a:lnTo>
                  <a:lnTo>
                    <a:pt x="3130" y="3093"/>
                  </a:lnTo>
                  <a:lnTo>
                    <a:pt x="3126" y="3095"/>
                  </a:lnTo>
                  <a:lnTo>
                    <a:pt x="3125" y="3093"/>
                  </a:lnTo>
                  <a:lnTo>
                    <a:pt x="3121" y="3093"/>
                  </a:lnTo>
                  <a:lnTo>
                    <a:pt x="3121" y="3093"/>
                  </a:lnTo>
                  <a:lnTo>
                    <a:pt x="3119" y="3090"/>
                  </a:lnTo>
                  <a:lnTo>
                    <a:pt x="3119" y="3088"/>
                  </a:lnTo>
                  <a:lnTo>
                    <a:pt x="3119" y="3084"/>
                  </a:lnTo>
                  <a:lnTo>
                    <a:pt x="3121" y="3083"/>
                  </a:lnTo>
                  <a:lnTo>
                    <a:pt x="3125" y="3081"/>
                  </a:lnTo>
                  <a:lnTo>
                    <a:pt x="3126" y="3079"/>
                  </a:lnTo>
                  <a:lnTo>
                    <a:pt x="3130" y="3081"/>
                  </a:lnTo>
                  <a:lnTo>
                    <a:pt x="3132" y="3083"/>
                  </a:lnTo>
                  <a:lnTo>
                    <a:pt x="3132" y="3083"/>
                  </a:lnTo>
                  <a:close/>
                  <a:moveTo>
                    <a:pt x="3153" y="3102"/>
                  </a:moveTo>
                  <a:lnTo>
                    <a:pt x="3153" y="3102"/>
                  </a:lnTo>
                  <a:lnTo>
                    <a:pt x="3154" y="3105"/>
                  </a:lnTo>
                  <a:lnTo>
                    <a:pt x="3154" y="3107"/>
                  </a:lnTo>
                  <a:lnTo>
                    <a:pt x="3154" y="3111"/>
                  </a:lnTo>
                  <a:lnTo>
                    <a:pt x="3153" y="3112"/>
                  </a:lnTo>
                  <a:lnTo>
                    <a:pt x="3149" y="3114"/>
                  </a:lnTo>
                  <a:lnTo>
                    <a:pt x="3147" y="3114"/>
                  </a:lnTo>
                  <a:lnTo>
                    <a:pt x="3144" y="3114"/>
                  </a:lnTo>
                  <a:lnTo>
                    <a:pt x="3142" y="3112"/>
                  </a:lnTo>
                  <a:lnTo>
                    <a:pt x="3142" y="3112"/>
                  </a:lnTo>
                  <a:lnTo>
                    <a:pt x="3140" y="3111"/>
                  </a:lnTo>
                  <a:lnTo>
                    <a:pt x="3140" y="3107"/>
                  </a:lnTo>
                  <a:lnTo>
                    <a:pt x="3140" y="3105"/>
                  </a:lnTo>
                  <a:lnTo>
                    <a:pt x="3142" y="3102"/>
                  </a:lnTo>
                  <a:lnTo>
                    <a:pt x="3144" y="3100"/>
                  </a:lnTo>
                  <a:lnTo>
                    <a:pt x="3147" y="3100"/>
                  </a:lnTo>
                  <a:lnTo>
                    <a:pt x="3149" y="3100"/>
                  </a:lnTo>
                  <a:lnTo>
                    <a:pt x="3153" y="3102"/>
                  </a:lnTo>
                  <a:lnTo>
                    <a:pt x="3153" y="3102"/>
                  </a:lnTo>
                  <a:close/>
                  <a:moveTo>
                    <a:pt x="3174" y="3123"/>
                  </a:moveTo>
                  <a:lnTo>
                    <a:pt x="3174" y="3123"/>
                  </a:lnTo>
                  <a:lnTo>
                    <a:pt x="3174" y="3125"/>
                  </a:lnTo>
                  <a:lnTo>
                    <a:pt x="3175" y="3128"/>
                  </a:lnTo>
                  <a:lnTo>
                    <a:pt x="3174" y="3130"/>
                  </a:lnTo>
                  <a:lnTo>
                    <a:pt x="3174" y="3133"/>
                  </a:lnTo>
                  <a:lnTo>
                    <a:pt x="3170" y="3135"/>
                  </a:lnTo>
                  <a:lnTo>
                    <a:pt x="3168" y="3135"/>
                  </a:lnTo>
                  <a:lnTo>
                    <a:pt x="3165" y="3135"/>
                  </a:lnTo>
                  <a:lnTo>
                    <a:pt x="3163" y="3133"/>
                  </a:lnTo>
                  <a:lnTo>
                    <a:pt x="3163" y="3133"/>
                  </a:lnTo>
                  <a:lnTo>
                    <a:pt x="3161" y="3130"/>
                  </a:lnTo>
                  <a:lnTo>
                    <a:pt x="3160" y="3128"/>
                  </a:lnTo>
                  <a:lnTo>
                    <a:pt x="3161" y="3125"/>
                  </a:lnTo>
                  <a:lnTo>
                    <a:pt x="3163" y="3123"/>
                  </a:lnTo>
                  <a:lnTo>
                    <a:pt x="3165" y="3121"/>
                  </a:lnTo>
                  <a:lnTo>
                    <a:pt x="3168" y="3121"/>
                  </a:lnTo>
                  <a:lnTo>
                    <a:pt x="3170" y="3121"/>
                  </a:lnTo>
                  <a:lnTo>
                    <a:pt x="3174" y="3123"/>
                  </a:lnTo>
                  <a:lnTo>
                    <a:pt x="3174" y="3123"/>
                  </a:lnTo>
                  <a:close/>
                  <a:moveTo>
                    <a:pt x="3193" y="3144"/>
                  </a:moveTo>
                  <a:lnTo>
                    <a:pt x="3193" y="3144"/>
                  </a:lnTo>
                  <a:lnTo>
                    <a:pt x="3195" y="3146"/>
                  </a:lnTo>
                  <a:lnTo>
                    <a:pt x="3195" y="3149"/>
                  </a:lnTo>
                  <a:lnTo>
                    <a:pt x="3195" y="3151"/>
                  </a:lnTo>
                  <a:lnTo>
                    <a:pt x="3193" y="3154"/>
                  </a:lnTo>
                  <a:lnTo>
                    <a:pt x="3191" y="3156"/>
                  </a:lnTo>
                  <a:lnTo>
                    <a:pt x="3188" y="3156"/>
                  </a:lnTo>
                  <a:lnTo>
                    <a:pt x="3186" y="3156"/>
                  </a:lnTo>
                  <a:lnTo>
                    <a:pt x="3182" y="3154"/>
                  </a:lnTo>
                  <a:lnTo>
                    <a:pt x="3182" y="3154"/>
                  </a:lnTo>
                  <a:lnTo>
                    <a:pt x="3181" y="3151"/>
                  </a:lnTo>
                  <a:lnTo>
                    <a:pt x="3181" y="3149"/>
                  </a:lnTo>
                  <a:lnTo>
                    <a:pt x="3181" y="3146"/>
                  </a:lnTo>
                  <a:lnTo>
                    <a:pt x="3182" y="3144"/>
                  </a:lnTo>
                  <a:lnTo>
                    <a:pt x="3186" y="3142"/>
                  </a:lnTo>
                  <a:lnTo>
                    <a:pt x="3188" y="3140"/>
                  </a:lnTo>
                  <a:lnTo>
                    <a:pt x="3191" y="3142"/>
                  </a:lnTo>
                  <a:lnTo>
                    <a:pt x="3193" y="3144"/>
                  </a:lnTo>
                  <a:lnTo>
                    <a:pt x="3193" y="3144"/>
                  </a:lnTo>
                  <a:close/>
                  <a:moveTo>
                    <a:pt x="3214" y="3149"/>
                  </a:moveTo>
                  <a:lnTo>
                    <a:pt x="3214" y="3149"/>
                  </a:lnTo>
                  <a:lnTo>
                    <a:pt x="3217" y="3149"/>
                  </a:lnTo>
                  <a:lnTo>
                    <a:pt x="3219" y="3151"/>
                  </a:lnTo>
                  <a:lnTo>
                    <a:pt x="3221" y="3153"/>
                  </a:lnTo>
                  <a:lnTo>
                    <a:pt x="3221" y="3156"/>
                  </a:lnTo>
                  <a:lnTo>
                    <a:pt x="3221" y="3160"/>
                  </a:lnTo>
                  <a:lnTo>
                    <a:pt x="3219" y="3161"/>
                  </a:lnTo>
                  <a:lnTo>
                    <a:pt x="3217" y="3163"/>
                  </a:lnTo>
                  <a:lnTo>
                    <a:pt x="3214" y="3163"/>
                  </a:lnTo>
                  <a:lnTo>
                    <a:pt x="3214" y="3163"/>
                  </a:lnTo>
                  <a:lnTo>
                    <a:pt x="3210" y="3163"/>
                  </a:lnTo>
                  <a:lnTo>
                    <a:pt x="3209" y="3161"/>
                  </a:lnTo>
                  <a:lnTo>
                    <a:pt x="3207" y="3158"/>
                  </a:lnTo>
                  <a:lnTo>
                    <a:pt x="3207" y="3156"/>
                  </a:lnTo>
                  <a:lnTo>
                    <a:pt x="3207" y="3153"/>
                  </a:lnTo>
                  <a:lnTo>
                    <a:pt x="3209" y="3151"/>
                  </a:lnTo>
                  <a:lnTo>
                    <a:pt x="3212" y="3149"/>
                  </a:lnTo>
                  <a:lnTo>
                    <a:pt x="3214" y="3149"/>
                  </a:lnTo>
                  <a:lnTo>
                    <a:pt x="3214" y="3149"/>
                  </a:lnTo>
                  <a:close/>
                  <a:moveTo>
                    <a:pt x="3244" y="3151"/>
                  </a:moveTo>
                  <a:lnTo>
                    <a:pt x="3244" y="3151"/>
                  </a:lnTo>
                  <a:lnTo>
                    <a:pt x="3245" y="3151"/>
                  </a:lnTo>
                  <a:lnTo>
                    <a:pt x="3249" y="3153"/>
                  </a:lnTo>
                  <a:lnTo>
                    <a:pt x="3251" y="3154"/>
                  </a:lnTo>
                  <a:lnTo>
                    <a:pt x="3251" y="3158"/>
                  </a:lnTo>
                  <a:lnTo>
                    <a:pt x="3249" y="3160"/>
                  </a:lnTo>
                  <a:lnTo>
                    <a:pt x="3249" y="3163"/>
                  </a:lnTo>
                  <a:lnTo>
                    <a:pt x="3245" y="3163"/>
                  </a:lnTo>
                  <a:lnTo>
                    <a:pt x="3244" y="3165"/>
                  </a:lnTo>
                  <a:lnTo>
                    <a:pt x="3244" y="3165"/>
                  </a:lnTo>
                  <a:lnTo>
                    <a:pt x="3240" y="3163"/>
                  </a:lnTo>
                  <a:lnTo>
                    <a:pt x="3238" y="3161"/>
                  </a:lnTo>
                  <a:lnTo>
                    <a:pt x="3237" y="3160"/>
                  </a:lnTo>
                  <a:lnTo>
                    <a:pt x="3237" y="3158"/>
                  </a:lnTo>
                  <a:lnTo>
                    <a:pt x="3237" y="3154"/>
                  </a:lnTo>
                  <a:lnTo>
                    <a:pt x="3238" y="3153"/>
                  </a:lnTo>
                  <a:lnTo>
                    <a:pt x="3240" y="3151"/>
                  </a:lnTo>
                  <a:lnTo>
                    <a:pt x="3244" y="3151"/>
                  </a:lnTo>
                  <a:lnTo>
                    <a:pt x="3244" y="3151"/>
                  </a:lnTo>
                  <a:close/>
                  <a:moveTo>
                    <a:pt x="3272" y="3151"/>
                  </a:moveTo>
                  <a:lnTo>
                    <a:pt x="3273" y="3151"/>
                  </a:lnTo>
                  <a:lnTo>
                    <a:pt x="3275" y="3153"/>
                  </a:lnTo>
                  <a:lnTo>
                    <a:pt x="3277" y="3154"/>
                  </a:lnTo>
                  <a:lnTo>
                    <a:pt x="3279" y="3156"/>
                  </a:lnTo>
                  <a:lnTo>
                    <a:pt x="3280" y="3160"/>
                  </a:lnTo>
                  <a:lnTo>
                    <a:pt x="3279" y="3161"/>
                  </a:lnTo>
                  <a:lnTo>
                    <a:pt x="3277" y="3163"/>
                  </a:lnTo>
                  <a:lnTo>
                    <a:pt x="3275" y="3165"/>
                  </a:lnTo>
                  <a:lnTo>
                    <a:pt x="3272" y="3167"/>
                  </a:lnTo>
                  <a:lnTo>
                    <a:pt x="3272" y="3167"/>
                  </a:lnTo>
                  <a:lnTo>
                    <a:pt x="3268" y="3165"/>
                  </a:lnTo>
                  <a:lnTo>
                    <a:pt x="3266" y="3163"/>
                  </a:lnTo>
                  <a:lnTo>
                    <a:pt x="3265" y="3161"/>
                  </a:lnTo>
                  <a:lnTo>
                    <a:pt x="3265" y="3158"/>
                  </a:lnTo>
                  <a:lnTo>
                    <a:pt x="3265" y="3156"/>
                  </a:lnTo>
                  <a:lnTo>
                    <a:pt x="3266" y="3153"/>
                  </a:lnTo>
                  <a:lnTo>
                    <a:pt x="3270" y="3153"/>
                  </a:lnTo>
                  <a:lnTo>
                    <a:pt x="3272" y="3151"/>
                  </a:lnTo>
                  <a:lnTo>
                    <a:pt x="3272" y="3151"/>
                  </a:lnTo>
                  <a:close/>
                  <a:moveTo>
                    <a:pt x="3307" y="3158"/>
                  </a:moveTo>
                  <a:lnTo>
                    <a:pt x="3307" y="3158"/>
                  </a:lnTo>
                  <a:lnTo>
                    <a:pt x="3307" y="3160"/>
                  </a:lnTo>
                  <a:lnTo>
                    <a:pt x="3307" y="3163"/>
                  </a:lnTo>
                  <a:lnTo>
                    <a:pt x="3307" y="3165"/>
                  </a:lnTo>
                  <a:lnTo>
                    <a:pt x="3305" y="3167"/>
                  </a:lnTo>
                  <a:lnTo>
                    <a:pt x="3301" y="3168"/>
                  </a:lnTo>
                  <a:lnTo>
                    <a:pt x="3300" y="3168"/>
                  </a:lnTo>
                  <a:lnTo>
                    <a:pt x="3296" y="3168"/>
                  </a:lnTo>
                  <a:lnTo>
                    <a:pt x="3294" y="3167"/>
                  </a:lnTo>
                  <a:lnTo>
                    <a:pt x="3294" y="3167"/>
                  </a:lnTo>
                  <a:lnTo>
                    <a:pt x="3293" y="3163"/>
                  </a:lnTo>
                  <a:lnTo>
                    <a:pt x="3293" y="3160"/>
                  </a:lnTo>
                  <a:lnTo>
                    <a:pt x="3294" y="3158"/>
                  </a:lnTo>
                  <a:lnTo>
                    <a:pt x="3296" y="3156"/>
                  </a:lnTo>
                  <a:lnTo>
                    <a:pt x="3298" y="3154"/>
                  </a:lnTo>
                  <a:lnTo>
                    <a:pt x="3301" y="3154"/>
                  </a:lnTo>
                  <a:lnTo>
                    <a:pt x="3303" y="3154"/>
                  </a:lnTo>
                  <a:lnTo>
                    <a:pt x="3307" y="3158"/>
                  </a:lnTo>
                  <a:lnTo>
                    <a:pt x="3307" y="3158"/>
                  </a:lnTo>
                  <a:close/>
                  <a:moveTo>
                    <a:pt x="3324" y="3181"/>
                  </a:moveTo>
                  <a:lnTo>
                    <a:pt x="3324" y="3181"/>
                  </a:lnTo>
                  <a:lnTo>
                    <a:pt x="3324" y="3182"/>
                  </a:lnTo>
                  <a:lnTo>
                    <a:pt x="3324" y="3186"/>
                  </a:lnTo>
                  <a:lnTo>
                    <a:pt x="3324" y="3188"/>
                  </a:lnTo>
                  <a:lnTo>
                    <a:pt x="3322" y="3191"/>
                  </a:lnTo>
                  <a:lnTo>
                    <a:pt x="3319" y="3191"/>
                  </a:lnTo>
                  <a:lnTo>
                    <a:pt x="3317" y="3191"/>
                  </a:lnTo>
                  <a:lnTo>
                    <a:pt x="3314" y="3191"/>
                  </a:lnTo>
                  <a:lnTo>
                    <a:pt x="3312" y="3189"/>
                  </a:lnTo>
                  <a:lnTo>
                    <a:pt x="3312" y="3189"/>
                  </a:lnTo>
                  <a:lnTo>
                    <a:pt x="3310" y="3186"/>
                  </a:lnTo>
                  <a:lnTo>
                    <a:pt x="3310" y="3184"/>
                  </a:lnTo>
                  <a:lnTo>
                    <a:pt x="3312" y="3181"/>
                  </a:lnTo>
                  <a:lnTo>
                    <a:pt x="3314" y="3179"/>
                  </a:lnTo>
                  <a:lnTo>
                    <a:pt x="3315" y="3177"/>
                  </a:lnTo>
                  <a:lnTo>
                    <a:pt x="3319" y="3177"/>
                  </a:lnTo>
                  <a:lnTo>
                    <a:pt x="3321" y="3179"/>
                  </a:lnTo>
                  <a:lnTo>
                    <a:pt x="3324" y="3181"/>
                  </a:lnTo>
                  <a:lnTo>
                    <a:pt x="3324" y="3181"/>
                  </a:lnTo>
                  <a:close/>
                  <a:moveTo>
                    <a:pt x="3342" y="3203"/>
                  </a:moveTo>
                  <a:lnTo>
                    <a:pt x="3342" y="3203"/>
                  </a:lnTo>
                  <a:lnTo>
                    <a:pt x="3342" y="3205"/>
                  </a:lnTo>
                  <a:lnTo>
                    <a:pt x="3342" y="3209"/>
                  </a:lnTo>
                  <a:lnTo>
                    <a:pt x="3342" y="3212"/>
                  </a:lnTo>
                  <a:lnTo>
                    <a:pt x="3340" y="3214"/>
                  </a:lnTo>
                  <a:lnTo>
                    <a:pt x="3336" y="3214"/>
                  </a:lnTo>
                  <a:lnTo>
                    <a:pt x="3335" y="3216"/>
                  </a:lnTo>
                  <a:lnTo>
                    <a:pt x="3331" y="3214"/>
                  </a:lnTo>
                  <a:lnTo>
                    <a:pt x="3329" y="3212"/>
                  </a:lnTo>
                  <a:lnTo>
                    <a:pt x="3329" y="3212"/>
                  </a:lnTo>
                  <a:lnTo>
                    <a:pt x="3328" y="3209"/>
                  </a:lnTo>
                  <a:lnTo>
                    <a:pt x="3328" y="3207"/>
                  </a:lnTo>
                  <a:lnTo>
                    <a:pt x="3329" y="3203"/>
                  </a:lnTo>
                  <a:lnTo>
                    <a:pt x="3331" y="3202"/>
                  </a:lnTo>
                  <a:lnTo>
                    <a:pt x="3333" y="3200"/>
                  </a:lnTo>
                  <a:lnTo>
                    <a:pt x="3336" y="3200"/>
                  </a:lnTo>
                  <a:lnTo>
                    <a:pt x="3338" y="3202"/>
                  </a:lnTo>
                  <a:lnTo>
                    <a:pt x="3342" y="3203"/>
                  </a:lnTo>
                  <a:lnTo>
                    <a:pt x="3342" y="3203"/>
                  </a:lnTo>
                  <a:close/>
                  <a:moveTo>
                    <a:pt x="3358" y="3230"/>
                  </a:moveTo>
                  <a:lnTo>
                    <a:pt x="3358" y="3230"/>
                  </a:lnTo>
                  <a:lnTo>
                    <a:pt x="3358" y="3231"/>
                  </a:lnTo>
                  <a:lnTo>
                    <a:pt x="3358" y="3235"/>
                  </a:lnTo>
                  <a:lnTo>
                    <a:pt x="3356" y="3237"/>
                  </a:lnTo>
                  <a:lnTo>
                    <a:pt x="3354" y="3238"/>
                  </a:lnTo>
                  <a:lnTo>
                    <a:pt x="3351" y="3238"/>
                  </a:lnTo>
                  <a:lnTo>
                    <a:pt x="3349" y="3238"/>
                  </a:lnTo>
                  <a:lnTo>
                    <a:pt x="3347" y="3238"/>
                  </a:lnTo>
                  <a:lnTo>
                    <a:pt x="3345" y="3235"/>
                  </a:lnTo>
                  <a:lnTo>
                    <a:pt x="3345" y="3235"/>
                  </a:lnTo>
                  <a:lnTo>
                    <a:pt x="3343" y="3233"/>
                  </a:lnTo>
                  <a:lnTo>
                    <a:pt x="3343" y="3230"/>
                  </a:lnTo>
                  <a:lnTo>
                    <a:pt x="3345" y="3228"/>
                  </a:lnTo>
                  <a:lnTo>
                    <a:pt x="3347" y="3226"/>
                  </a:lnTo>
                  <a:lnTo>
                    <a:pt x="3351" y="3224"/>
                  </a:lnTo>
                  <a:lnTo>
                    <a:pt x="3354" y="3224"/>
                  </a:lnTo>
                  <a:lnTo>
                    <a:pt x="3356" y="3226"/>
                  </a:lnTo>
                  <a:lnTo>
                    <a:pt x="3358" y="3230"/>
                  </a:lnTo>
                  <a:lnTo>
                    <a:pt x="3358" y="3230"/>
                  </a:lnTo>
                  <a:close/>
                  <a:moveTo>
                    <a:pt x="3372" y="3254"/>
                  </a:moveTo>
                  <a:lnTo>
                    <a:pt x="3372" y="3254"/>
                  </a:lnTo>
                  <a:lnTo>
                    <a:pt x="3372" y="3258"/>
                  </a:lnTo>
                  <a:lnTo>
                    <a:pt x="3372" y="3259"/>
                  </a:lnTo>
                  <a:lnTo>
                    <a:pt x="3370" y="3263"/>
                  </a:lnTo>
                  <a:lnTo>
                    <a:pt x="3368" y="3265"/>
                  </a:lnTo>
                  <a:lnTo>
                    <a:pt x="3365" y="3265"/>
                  </a:lnTo>
                  <a:lnTo>
                    <a:pt x="3363" y="3265"/>
                  </a:lnTo>
                  <a:lnTo>
                    <a:pt x="3359" y="3263"/>
                  </a:lnTo>
                  <a:lnTo>
                    <a:pt x="3358" y="3261"/>
                  </a:lnTo>
                  <a:lnTo>
                    <a:pt x="3358" y="3261"/>
                  </a:lnTo>
                  <a:lnTo>
                    <a:pt x="3358" y="3258"/>
                  </a:lnTo>
                  <a:lnTo>
                    <a:pt x="3358" y="3256"/>
                  </a:lnTo>
                  <a:lnTo>
                    <a:pt x="3359" y="3252"/>
                  </a:lnTo>
                  <a:lnTo>
                    <a:pt x="3361" y="3251"/>
                  </a:lnTo>
                  <a:lnTo>
                    <a:pt x="3365" y="3251"/>
                  </a:lnTo>
                  <a:lnTo>
                    <a:pt x="3366" y="3251"/>
                  </a:lnTo>
                  <a:lnTo>
                    <a:pt x="3370" y="3252"/>
                  </a:lnTo>
                  <a:lnTo>
                    <a:pt x="3372" y="3254"/>
                  </a:lnTo>
                  <a:lnTo>
                    <a:pt x="3372" y="3254"/>
                  </a:lnTo>
                  <a:close/>
                  <a:moveTo>
                    <a:pt x="3384" y="3280"/>
                  </a:moveTo>
                  <a:lnTo>
                    <a:pt x="3384" y="3280"/>
                  </a:lnTo>
                  <a:lnTo>
                    <a:pt x="3386" y="3282"/>
                  </a:lnTo>
                  <a:lnTo>
                    <a:pt x="3384" y="3286"/>
                  </a:lnTo>
                  <a:lnTo>
                    <a:pt x="3384" y="3287"/>
                  </a:lnTo>
                  <a:lnTo>
                    <a:pt x="3380" y="3289"/>
                  </a:lnTo>
                  <a:lnTo>
                    <a:pt x="3379" y="3291"/>
                  </a:lnTo>
                  <a:lnTo>
                    <a:pt x="3375" y="3291"/>
                  </a:lnTo>
                  <a:lnTo>
                    <a:pt x="3373" y="3289"/>
                  </a:lnTo>
                  <a:lnTo>
                    <a:pt x="3372" y="3287"/>
                  </a:lnTo>
                  <a:lnTo>
                    <a:pt x="3372" y="3287"/>
                  </a:lnTo>
                  <a:lnTo>
                    <a:pt x="3370" y="3284"/>
                  </a:lnTo>
                  <a:lnTo>
                    <a:pt x="3372" y="3280"/>
                  </a:lnTo>
                  <a:lnTo>
                    <a:pt x="3372" y="3279"/>
                  </a:lnTo>
                  <a:lnTo>
                    <a:pt x="3375" y="3277"/>
                  </a:lnTo>
                  <a:lnTo>
                    <a:pt x="3377" y="3277"/>
                  </a:lnTo>
                  <a:lnTo>
                    <a:pt x="3380" y="3277"/>
                  </a:lnTo>
                  <a:lnTo>
                    <a:pt x="3382" y="3279"/>
                  </a:lnTo>
                  <a:lnTo>
                    <a:pt x="3384" y="3280"/>
                  </a:lnTo>
                  <a:lnTo>
                    <a:pt x="3384" y="3280"/>
                  </a:lnTo>
                  <a:close/>
                  <a:moveTo>
                    <a:pt x="3396" y="3310"/>
                  </a:moveTo>
                  <a:lnTo>
                    <a:pt x="3396" y="3310"/>
                  </a:lnTo>
                  <a:lnTo>
                    <a:pt x="3396" y="3312"/>
                  </a:lnTo>
                  <a:lnTo>
                    <a:pt x="3394" y="3314"/>
                  </a:lnTo>
                  <a:lnTo>
                    <a:pt x="3393" y="3315"/>
                  </a:lnTo>
                  <a:lnTo>
                    <a:pt x="3389" y="3317"/>
                  </a:lnTo>
                  <a:lnTo>
                    <a:pt x="3386" y="3315"/>
                  </a:lnTo>
                  <a:lnTo>
                    <a:pt x="3384" y="3314"/>
                  </a:lnTo>
                  <a:lnTo>
                    <a:pt x="3382" y="3312"/>
                  </a:lnTo>
                  <a:lnTo>
                    <a:pt x="3382" y="3310"/>
                  </a:lnTo>
                  <a:lnTo>
                    <a:pt x="3382" y="3310"/>
                  </a:lnTo>
                  <a:lnTo>
                    <a:pt x="3382" y="3307"/>
                  </a:lnTo>
                  <a:lnTo>
                    <a:pt x="3384" y="3305"/>
                  </a:lnTo>
                  <a:lnTo>
                    <a:pt x="3386" y="3303"/>
                  </a:lnTo>
                  <a:lnTo>
                    <a:pt x="3389" y="3303"/>
                  </a:lnTo>
                  <a:lnTo>
                    <a:pt x="3393" y="3303"/>
                  </a:lnTo>
                  <a:lnTo>
                    <a:pt x="3394" y="3305"/>
                  </a:lnTo>
                  <a:lnTo>
                    <a:pt x="3396" y="3307"/>
                  </a:lnTo>
                  <a:lnTo>
                    <a:pt x="3396" y="3310"/>
                  </a:lnTo>
                  <a:lnTo>
                    <a:pt x="3396" y="3310"/>
                  </a:lnTo>
                  <a:close/>
                  <a:moveTo>
                    <a:pt x="3396" y="3338"/>
                  </a:moveTo>
                  <a:lnTo>
                    <a:pt x="3396" y="3338"/>
                  </a:lnTo>
                  <a:lnTo>
                    <a:pt x="3396" y="3342"/>
                  </a:lnTo>
                  <a:lnTo>
                    <a:pt x="3394" y="3343"/>
                  </a:lnTo>
                  <a:lnTo>
                    <a:pt x="3393" y="3345"/>
                  </a:lnTo>
                  <a:lnTo>
                    <a:pt x="3389" y="3345"/>
                  </a:lnTo>
                  <a:lnTo>
                    <a:pt x="3386" y="3345"/>
                  </a:lnTo>
                  <a:lnTo>
                    <a:pt x="3384" y="3343"/>
                  </a:lnTo>
                  <a:lnTo>
                    <a:pt x="3382" y="3342"/>
                  </a:lnTo>
                  <a:lnTo>
                    <a:pt x="3382" y="3338"/>
                  </a:lnTo>
                  <a:lnTo>
                    <a:pt x="3382" y="3338"/>
                  </a:lnTo>
                  <a:lnTo>
                    <a:pt x="3382" y="3335"/>
                  </a:lnTo>
                  <a:lnTo>
                    <a:pt x="3384" y="3333"/>
                  </a:lnTo>
                  <a:lnTo>
                    <a:pt x="3386" y="3331"/>
                  </a:lnTo>
                  <a:lnTo>
                    <a:pt x="3389" y="3331"/>
                  </a:lnTo>
                  <a:lnTo>
                    <a:pt x="3393" y="3331"/>
                  </a:lnTo>
                  <a:lnTo>
                    <a:pt x="3394" y="3333"/>
                  </a:lnTo>
                  <a:lnTo>
                    <a:pt x="3396" y="3335"/>
                  </a:lnTo>
                  <a:lnTo>
                    <a:pt x="3396" y="3338"/>
                  </a:lnTo>
                  <a:lnTo>
                    <a:pt x="3396" y="3338"/>
                  </a:lnTo>
                  <a:close/>
                  <a:moveTo>
                    <a:pt x="3396" y="3368"/>
                  </a:moveTo>
                  <a:lnTo>
                    <a:pt x="3396" y="3368"/>
                  </a:lnTo>
                  <a:lnTo>
                    <a:pt x="3396" y="3370"/>
                  </a:lnTo>
                  <a:lnTo>
                    <a:pt x="3394" y="3373"/>
                  </a:lnTo>
                  <a:lnTo>
                    <a:pt x="3393" y="3373"/>
                  </a:lnTo>
                  <a:lnTo>
                    <a:pt x="3389" y="3375"/>
                  </a:lnTo>
                  <a:lnTo>
                    <a:pt x="3386" y="3373"/>
                  </a:lnTo>
                  <a:lnTo>
                    <a:pt x="3384" y="3373"/>
                  </a:lnTo>
                  <a:lnTo>
                    <a:pt x="3382" y="3370"/>
                  </a:lnTo>
                  <a:lnTo>
                    <a:pt x="3382" y="3368"/>
                  </a:lnTo>
                  <a:lnTo>
                    <a:pt x="3382" y="3368"/>
                  </a:lnTo>
                  <a:lnTo>
                    <a:pt x="3382" y="3364"/>
                  </a:lnTo>
                  <a:lnTo>
                    <a:pt x="3384" y="3363"/>
                  </a:lnTo>
                  <a:lnTo>
                    <a:pt x="3386" y="3361"/>
                  </a:lnTo>
                  <a:lnTo>
                    <a:pt x="3389" y="3361"/>
                  </a:lnTo>
                  <a:lnTo>
                    <a:pt x="3393" y="3361"/>
                  </a:lnTo>
                  <a:lnTo>
                    <a:pt x="3394" y="3363"/>
                  </a:lnTo>
                  <a:lnTo>
                    <a:pt x="3396" y="3364"/>
                  </a:lnTo>
                  <a:lnTo>
                    <a:pt x="3396" y="3368"/>
                  </a:lnTo>
                  <a:lnTo>
                    <a:pt x="3396" y="3368"/>
                  </a:lnTo>
                  <a:close/>
                  <a:moveTo>
                    <a:pt x="3396" y="3396"/>
                  </a:moveTo>
                  <a:lnTo>
                    <a:pt x="3396" y="3396"/>
                  </a:lnTo>
                  <a:lnTo>
                    <a:pt x="3396" y="3399"/>
                  </a:lnTo>
                  <a:lnTo>
                    <a:pt x="3394" y="3401"/>
                  </a:lnTo>
                  <a:lnTo>
                    <a:pt x="3393" y="3403"/>
                  </a:lnTo>
                  <a:lnTo>
                    <a:pt x="3389" y="3403"/>
                  </a:lnTo>
                  <a:lnTo>
                    <a:pt x="3386" y="3403"/>
                  </a:lnTo>
                  <a:lnTo>
                    <a:pt x="3384" y="3401"/>
                  </a:lnTo>
                  <a:lnTo>
                    <a:pt x="3382" y="3399"/>
                  </a:lnTo>
                  <a:lnTo>
                    <a:pt x="3382" y="3396"/>
                  </a:lnTo>
                  <a:lnTo>
                    <a:pt x="3382" y="3396"/>
                  </a:lnTo>
                  <a:lnTo>
                    <a:pt x="3382" y="3394"/>
                  </a:lnTo>
                  <a:lnTo>
                    <a:pt x="3384" y="3391"/>
                  </a:lnTo>
                  <a:lnTo>
                    <a:pt x="3386" y="3389"/>
                  </a:lnTo>
                  <a:lnTo>
                    <a:pt x="3389" y="3389"/>
                  </a:lnTo>
                  <a:lnTo>
                    <a:pt x="3393" y="3389"/>
                  </a:lnTo>
                  <a:lnTo>
                    <a:pt x="3394" y="3391"/>
                  </a:lnTo>
                  <a:lnTo>
                    <a:pt x="3396" y="3394"/>
                  </a:lnTo>
                  <a:lnTo>
                    <a:pt x="3396" y="3396"/>
                  </a:lnTo>
                  <a:lnTo>
                    <a:pt x="3396" y="3396"/>
                  </a:lnTo>
                  <a:close/>
                  <a:moveTo>
                    <a:pt x="3415" y="3391"/>
                  </a:moveTo>
                  <a:lnTo>
                    <a:pt x="3415" y="3391"/>
                  </a:lnTo>
                  <a:lnTo>
                    <a:pt x="3417" y="3391"/>
                  </a:lnTo>
                  <a:lnTo>
                    <a:pt x="3421" y="3392"/>
                  </a:lnTo>
                  <a:lnTo>
                    <a:pt x="3422" y="3394"/>
                  </a:lnTo>
                  <a:lnTo>
                    <a:pt x="3422" y="3396"/>
                  </a:lnTo>
                  <a:lnTo>
                    <a:pt x="3422" y="3399"/>
                  </a:lnTo>
                  <a:lnTo>
                    <a:pt x="3421" y="3401"/>
                  </a:lnTo>
                  <a:lnTo>
                    <a:pt x="3419" y="3403"/>
                  </a:lnTo>
                  <a:lnTo>
                    <a:pt x="3417" y="3405"/>
                  </a:lnTo>
                  <a:lnTo>
                    <a:pt x="3417" y="3405"/>
                  </a:lnTo>
                  <a:lnTo>
                    <a:pt x="3414" y="3405"/>
                  </a:lnTo>
                  <a:lnTo>
                    <a:pt x="3412" y="3403"/>
                  </a:lnTo>
                  <a:lnTo>
                    <a:pt x="3410" y="3401"/>
                  </a:lnTo>
                  <a:lnTo>
                    <a:pt x="3408" y="3398"/>
                  </a:lnTo>
                  <a:lnTo>
                    <a:pt x="3408" y="3394"/>
                  </a:lnTo>
                  <a:lnTo>
                    <a:pt x="3410" y="3392"/>
                  </a:lnTo>
                  <a:lnTo>
                    <a:pt x="3412" y="3391"/>
                  </a:lnTo>
                  <a:lnTo>
                    <a:pt x="3415" y="3391"/>
                  </a:lnTo>
                  <a:lnTo>
                    <a:pt x="3415" y="3391"/>
                  </a:lnTo>
                  <a:close/>
                  <a:moveTo>
                    <a:pt x="3443" y="3389"/>
                  </a:moveTo>
                  <a:lnTo>
                    <a:pt x="3443" y="3389"/>
                  </a:lnTo>
                  <a:lnTo>
                    <a:pt x="3447" y="3389"/>
                  </a:lnTo>
                  <a:lnTo>
                    <a:pt x="3449" y="3391"/>
                  </a:lnTo>
                  <a:lnTo>
                    <a:pt x="3450" y="3392"/>
                  </a:lnTo>
                  <a:lnTo>
                    <a:pt x="3452" y="3394"/>
                  </a:lnTo>
                  <a:lnTo>
                    <a:pt x="3452" y="3398"/>
                  </a:lnTo>
                  <a:lnTo>
                    <a:pt x="3450" y="3399"/>
                  </a:lnTo>
                  <a:lnTo>
                    <a:pt x="3449" y="3401"/>
                  </a:lnTo>
                  <a:lnTo>
                    <a:pt x="3445" y="3403"/>
                  </a:lnTo>
                  <a:lnTo>
                    <a:pt x="3445" y="3403"/>
                  </a:lnTo>
                  <a:lnTo>
                    <a:pt x="3442" y="3403"/>
                  </a:lnTo>
                  <a:lnTo>
                    <a:pt x="3440" y="3401"/>
                  </a:lnTo>
                  <a:lnTo>
                    <a:pt x="3438" y="3399"/>
                  </a:lnTo>
                  <a:lnTo>
                    <a:pt x="3438" y="3396"/>
                  </a:lnTo>
                  <a:lnTo>
                    <a:pt x="3438" y="3392"/>
                  </a:lnTo>
                  <a:lnTo>
                    <a:pt x="3440" y="3391"/>
                  </a:lnTo>
                  <a:lnTo>
                    <a:pt x="3442" y="3389"/>
                  </a:lnTo>
                  <a:lnTo>
                    <a:pt x="3443" y="3389"/>
                  </a:lnTo>
                  <a:lnTo>
                    <a:pt x="3443" y="3389"/>
                  </a:lnTo>
                  <a:close/>
                  <a:moveTo>
                    <a:pt x="3473" y="3387"/>
                  </a:moveTo>
                  <a:lnTo>
                    <a:pt x="3473" y="3387"/>
                  </a:lnTo>
                  <a:lnTo>
                    <a:pt x="3477" y="3387"/>
                  </a:lnTo>
                  <a:lnTo>
                    <a:pt x="3478" y="3389"/>
                  </a:lnTo>
                  <a:lnTo>
                    <a:pt x="3480" y="3391"/>
                  </a:lnTo>
                  <a:lnTo>
                    <a:pt x="3480" y="3392"/>
                  </a:lnTo>
                  <a:lnTo>
                    <a:pt x="3480" y="3396"/>
                  </a:lnTo>
                  <a:lnTo>
                    <a:pt x="3478" y="3398"/>
                  </a:lnTo>
                  <a:lnTo>
                    <a:pt x="3477" y="3399"/>
                  </a:lnTo>
                  <a:lnTo>
                    <a:pt x="3475" y="3401"/>
                  </a:lnTo>
                  <a:lnTo>
                    <a:pt x="3475" y="3401"/>
                  </a:lnTo>
                  <a:lnTo>
                    <a:pt x="3471" y="3401"/>
                  </a:lnTo>
                  <a:lnTo>
                    <a:pt x="3470" y="3399"/>
                  </a:lnTo>
                  <a:lnTo>
                    <a:pt x="3468" y="3398"/>
                  </a:lnTo>
                  <a:lnTo>
                    <a:pt x="3466" y="3394"/>
                  </a:lnTo>
                  <a:lnTo>
                    <a:pt x="3466" y="3391"/>
                  </a:lnTo>
                  <a:lnTo>
                    <a:pt x="3468" y="3389"/>
                  </a:lnTo>
                  <a:lnTo>
                    <a:pt x="3470" y="3387"/>
                  </a:lnTo>
                  <a:lnTo>
                    <a:pt x="3473" y="3387"/>
                  </a:lnTo>
                  <a:lnTo>
                    <a:pt x="3473" y="3387"/>
                  </a:lnTo>
                  <a:close/>
                  <a:moveTo>
                    <a:pt x="3501" y="3385"/>
                  </a:moveTo>
                  <a:lnTo>
                    <a:pt x="3501" y="3385"/>
                  </a:lnTo>
                  <a:lnTo>
                    <a:pt x="3505" y="3385"/>
                  </a:lnTo>
                  <a:lnTo>
                    <a:pt x="3506" y="3387"/>
                  </a:lnTo>
                  <a:lnTo>
                    <a:pt x="3508" y="3389"/>
                  </a:lnTo>
                  <a:lnTo>
                    <a:pt x="3510" y="3391"/>
                  </a:lnTo>
                  <a:lnTo>
                    <a:pt x="3510" y="3394"/>
                  </a:lnTo>
                  <a:lnTo>
                    <a:pt x="3508" y="3396"/>
                  </a:lnTo>
                  <a:lnTo>
                    <a:pt x="3506" y="3398"/>
                  </a:lnTo>
                  <a:lnTo>
                    <a:pt x="3503" y="3399"/>
                  </a:lnTo>
                  <a:lnTo>
                    <a:pt x="3503" y="3399"/>
                  </a:lnTo>
                  <a:lnTo>
                    <a:pt x="3499" y="3399"/>
                  </a:lnTo>
                  <a:lnTo>
                    <a:pt x="3498" y="3398"/>
                  </a:lnTo>
                  <a:lnTo>
                    <a:pt x="3496" y="3396"/>
                  </a:lnTo>
                  <a:lnTo>
                    <a:pt x="3496" y="3392"/>
                  </a:lnTo>
                  <a:lnTo>
                    <a:pt x="3496" y="3389"/>
                  </a:lnTo>
                  <a:lnTo>
                    <a:pt x="3498" y="3387"/>
                  </a:lnTo>
                  <a:lnTo>
                    <a:pt x="3499" y="3385"/>
                  </a:lnTo>
                  <a:lnTo>
                    <a:pt x="3501" y="3385"/>
                  </a:lnTo>
                  <a:lnTo>
                    <a:pt x="3501" y="3385"/>
                  </a:lnTo>
                  <a:close/>
                  <a:moveTo>
                    <a:pt x="3526" y="3375"/>
                  </a:moveTo>
                  <a:lnTo>
                    <a:pt x="3526" y="3375"/>
                  </a:lnTo>
                  <a:lnTo>
                    <a:pt x="3529" y="3375"/>
                  </a:lnTo>
                  <a:lnTo>
                    <a:pt x="3533" y="3375"/>
                  </a:lnTo>
                  <a:lnTo>
                    <a:pt x="3534" y="3377"/>
                  </a:lnTo>
                  <a:lnTo>
                    <a:pt x="3536" y="3378"/>
                  </a:lnTo>
                  <a:lnTo>
                    <a:pt x="3536" y="3382"/>
                  </a:lnTo>
                  <a:lnTo>
                    <a:pt x="3536" y="3384"/>
                  </a:lnTo>
                  <a:lnTo>
                    <a:pt x="3534" y="3387"/>
                  </a:lnTo>
                  <a:lnTo>
                    <a:pt x="3533" y="3389"/>
                  </a:lnTo>
                  <a:lnTo>
                    <a:pt x="3533" y="3389"/>
                  </a:lnTo>
                  <a:lnTo>
                    <a:pt x="3529" y="3389"/>
                  </a:lnTo>
                  <a:lnTo>
                    <a:pt x="3527" y="3389"/>
                  </a:lnTo>
                  <a:lnTo>
                    <a:pt x="3524" y="3387"/>
                  </a:lnTo>
                  <a:lnTo>
                    <a:pt x="3522" y="3385"/>
                  </a:lnTo>
                  <a:lnTo>
                    <a:pt x="3522" y="3382"/>
                  </a:lnTo>
                  <a:lnTo>
                    <a:pt x="3522" y="3380"/>
                  </a:lnTo>
                  <a:lnTo>
                    <a:pt x="3524" y="3377"/>
                  </a:lnTo>
                  <a:lnTo>
                    <a:pt x="3526" y="3375"/>
                  </a:lnTo>
                  <a:lnTo>
                    <a:pt x="3526" y="3375"/>
                  </a:lnTo>
                  <a:close/>
                  <a:moveTo>
                    <a:pt x="3554" y="3364"/>
                  </a:moveTo>
                  <a:lnTo>
                    <a:pt x="3554" y="3364"/>
                  </a:lnTo>
                  <a:lnTo>
                    <a:pt x="3555" y="3363"/>
                  </a:lnTo>
                  <a:lnTo>
                    <a:pt x="3559" y="3363"/>
                  </a:lnTo>
                  <a:lnTo>
                    <a:pt x="3561" y="3364"/>
                  </a:lnTo>
                  <a:lnTo>
                    <a:pt x="3562" y="3368"/>
                  </a:lnTo>
                  <a:lnTo>
                    <a:pt x="3562" y="3370"/>
                  </a:lnTo>
                  <a:lnTo>
                    <a:pt x="3562" y="3373"/>
                  </a:lnTo>
                  <a:lnTo>
                    <a:pt x="3561" y="3375"/>
                  </a:lnTo>
                  <a:lnTo>
                    <a:pt x="3559" y="3377"/>
                  </a:lnTo>
                  <a:lnTo>
                    <a:pt x="3559" y="3377"/>
                  </a:lnTo>
                  <a:lnTo>
                    <a:pt x="3555" y="3377"/>
                  </a:lnTo>
                  <a:lnTo>
                    <a:pt x="3554" y="3377"/>
                  </a:lnTo>
                  <a:lnTo>
                    <a:pt x="3552" y="3375"/>
                  </a:lnTo>
                  <a:lnTo>
                    <a:pt x="3550" y="3373"/>
                  </a:lnTo>
                  <a:lnTo>
                    <a:pt x="3548" y="3370"/>
                  </a:lnTo>
                  <a:lnTo>
                    <a:pt x="3548" y="3368"/>
                  </a:lnTo>
                  <a:lnTo>
                    <a:pt x="3550" y="3366"/>
                  </a:lnTo>
                  <a:lnTo>
                    <a:pt x="3554" y="3364"/>
                  </a:lnTo>
                  <a:lnTo>
                    <a:pt x="3554" y="3364"/>
                  </a:lnTo>
                  <a:close/>
                  <a:moveTo>
                    <a:pt x="3585" y="3363"/>
                  </a:moveTo>
                  <a:lnTo>
                    <a:pt x="3585" y="3363"/>
                  </a:lnTo>
                  <a:lnTo>
                    <a:pt x="3587" y="3364"/>
                  </a:lnTo>
                  <a:lnTo>
                    <a:pt x="3589" y="3366"/>
                  </a:lnTo>
                  <a:lnTo>
                    <a:pt x="3590" y="3368"/>
                  </a:lnTo>
                  <a:lnTo>
                    <a:pt x="3590" y="3371"/>
                  </a:lnTo>
                  <a:lnTo>
                    <a:pt x="3589" y="3375"/>
                  </a:lnTo>
                  <a:lnTo>
                    <a:pt x="3587" y="3377"/>
                  </a:lnTo>
                  <a:lnTo>
                    <a:pt x="3583" y="3377"/>
                  </a:lnTo>
                  <a:lnTo>
                    <a:pt x="3582" y="3377"/>
                  </a:lnTo>
                  <a:lnTo>
                    <a:pt x="3580" y="3377"/>
                  </a:lnTo>
                  <a:lnTo>
                    <a:pt x="3578" y="3375"/>
                  </a:lnTo>
                  <a:lnTo>
                    <a:pt x="3576" y="3373"/>
                  </a:lnTo>
                  <a:lnTo>
                    <a:pt x="3576" y="3370"/>
                  </a:lnTo>
                  <a:lnTo>
                    <a:pt x="3576" y="3368"/>
                  </a:lnTo>
                  <a:lnTo>
                    <a:pt x="3576" y="3364"/>
                  </a:lnTo>
                  <a:lnTo>
                    <a:pt x="3580" y="3363"/>
                  </a:lnTo>
                  <a:lnTo>
                    <a:pt x="3582" y="3363"/>
                  </a:lnTo>
                  <a:lnTo>
                    <a:pt x="3585" y="3363"/>
                  </a:lnTo>
                  <a:lnTo>
                    <a:pt x="3585" y="3363"/>
                  </a:lnTo>
                  <a:close/>
                  <a:moveTo>
                    <a:pt x="3613" y="3371"/>
                  </a:moveTo>
                  <a:lnTo>
                    <a:pt x="3613" y="3371"/>
                  </a:lnTo>
                  <a:lnTo>
                    <a:pt x="3615" y="3373"/>
                  </a:lnTo>
                  <a:lnTo>
                    <a:pt x="3617" y="3375"/>
                  </a:lnTo>
                  <a:lnTo>
                    <a:pt x="3617" y="3378"/>
                  </a:lnTo>
                  <a:lnTo>
                    <a:pt x="3617" y="3380"/>
                  </a:lnTo>
                  <a:lnTo>
                    <a:pt x="3615" y="3384"/>
                  </a:lnTo>
                  <a:lnTo>
                    <a:pt x="3613" y="3385"/>
                  </a:lnTo>
                  <a:lnTo>
                    <a:pt x="3611" y="3385"/>
                  </a:lnTo>
                  <a:lnTo>
                    <a:pt x="3608" y="3385"/>
                  </a:lnTo>
                  <a:lnTo>
                    <a:pt x="3608" y="3385"/>
                  </a:lnTo>
                  <a:lnTo>
                    <a:pt x="3606" y="3384"/>
                  </a:lnTo>
                  <a:lnTo>
                    <a:pt x="3604" y="3382"/>
                  </a:lnTo>
                  <a:lnTo>
                    <a:pt x="3603" y="3378"/>
                  </a:lnTo>
                  <a:lnTo>
                    <a:pt x="3603" y="3377"/>
                  </a:lnTo>
                  <a:lnTo>
                    <a:pt x="3604" y="3373"/>
                  </a:lnTo>
                  <a:lnTo>
                    <a:pt x="3606" y="3371"/>
                  </a:lnTo>
                  <a:lnTo>
                    <a:pt x="3610" y="3371"/>
                  </a:lnTo>
                  <a:lnTo>
                    <a:pt x="3613" y="3371"/>
                  </a:lnTo>
                  <a:lnTo>
                    <a:pt x="3613" y="3371"/>
                  </a:lnTo>
                  <a:close/>
                  <a:moveTo>
                    <a:pt x="3615" y="3352"/>
                  </a:moveTo>
                  <a:lnTo>
                    <a:pt x="3615" y="3352"/>
                  </a:lnTo>
                  <a:lnTo>
                    <a:pt x="3615" y="3350"/>
                  </a:lnTo>
                  <a:lnTo>
                    <a:pt x="3618" y="3349"/>
                  </a:lnTo>
                  <a:lnTo>
                    <a:pt x="3620" y="3347"/>
                  </a:lnTo>
                  <a:lnTo>
                    <a:pt x="3624" y="3347"/>
                  </a:lnTo>
                  <a:lnTo>
                    <a:pt x="3625" y="3349"/>
                  </a:lnTo>
                  <a:lnTo>
                    <a:pt x="3627" y="3350"/>
                  </a:lnTo>
                  <a:lnTo>
                    <a:pt x="3629" y="3354"/>
                  </a:lnTo>
                  <a:lnTo>
                    <a:pt x="3629" y="3357"/>
                  </a:lnTo>
                  <a:lnTo>
                    <a:pt x="3629" y="3357"/>
                  </a:lnTo>
                  <a:lnTo>
                    <a:pt x="3627" y="3359"/>
                  </a:lnTo>
                  <a:lnTo>
                    <a:pt x="3624" y="3361"/>
                  </a:lnTo>
                  <a:lnTo>
                    <a:pt x="3622" y="3361"/>
                  </a:lnTo>
                  <a:lnTo>
                    <a:pt x="3618" y="3361"/>
                  </a:lnTo>
                  <a:lnTo>
                    <a:pt x="3617" y="3359"/>
                  </a:lnTo>
                  <a:lnTo>
                    <a:pt x="3615" y="3357"/>
                  </a:lnTo>
                  <a:lnTo>
                    <a:pt x="3613" y="3356"/>
                  </a:lnTo>
                  <a:lnTo>
                    <a:pt x="3615" y="3352"/>
                  </a:lnTo>
                  <a:lnTo>
                    <a:pt x="3615" y="3352"/>
                  </a:lnTo>
                  <a:close/>
                  <a:moveTo>
                    <a:pt x="3624" y="3326"/>
                  </a:moveTo>
                  <a:lnTo>
                    <a:pt x="3624" y="3326"/>
                  </a:lnTo>
                  <a:lnTo>
                    <a:pt x="3625" y="3322"/>
                  </a:lnTo>
                  <a:lnTo>
                    <a:pt x="3627" y="3321"/>
                  </a:lnTo>
                  <a:lnTo>
                    <a:pt x="3629" y="3321"/>
                  </a:lnTo>
                  <a:lnTo>
                    <a:pt x="3632" y="3321"/>
                  </a:lnTo>
                  <a:lnTo>
                    <a:pt x="3634" y="3321"/>
                  </a:lnTo>
                  <a:lnTo>
                    <a:pt x="3636" y="3324"/>
                  </a:lnTo>
                  <a:lnTo>
                    <a:pt x="3638" y="3326"/>
                  </a:lnTo>
                  <a:lnTo>
                    <a:pt x="3638" y="3329"/>
                  </a:lnTo>
                  <a:lnTo>
                    <a:pt x="3638" y="3329"/>
                  </a:lnTo>
                  <a:lnTo>
                    <a:pt x="3636" y="3331"/>
                  </a:lnTo>
                  <a:lnTo>
                    <a:pt x="3634" y="3333"/>
                  </a:lnTo>
                  <a:lnTo>
                    <a:pt x="3631" y="3335"/>
                  </a:lnTo>
                  <a:lnTo>
                    <a:pt x="3629" y="3335"/>
                  </a:lnTo>
                  <a:lnTo>
                    <a:pt x="3625" y="3333"/>
                  </a:lnTo>
                  <a:lnTo>
                    <a:pt x="3624" y="3331"/>
                  </a:lnTo>
                  <a:lnTo>
                    <a:pt x="3624" y="3328"/>
                  </a:lnTo>
                  <a:lnTo>
                    <a:pt x="3624" y="3326"/>
                  </a:lnTo>
                  <a:lnTo>
                    <a:pt x="3624" y="3326"/>
                  </a:lnTo>
                  <a:close/>
                  <a:moveTo>
                    <a:pt x="3632" y="3298"/>
                  </a:moveTo>
                  <a:lnTo>
                    <a:pt x="3632" y="3298"/>
                  </a:lnTo>
                  <a:lnTo>
                    <a:pt x="3634" y="3294"/>
                  </a:lnTo>
                  <a:lnTo>
                    <a:pt x="3636" y="3293"/>
                  </a:lnTo>
                  <a:lnTo>
                    <a:pt x="3639" y="3293"/>
                  </a:lnTo>
                  <a:lnTo>
                    <a:pt x="3641" y="3293"/>
                  </a:lnTo>
                  <a:lnTo>
                    <a:pt x="3645" y="3294"/>
                  </a:lnTo>
                  <a:lnTo>
                    <a:pt x="3646" y="3296"/>
                  </a:lnTo>
                  <a:lnTo>
                    <a:pt x="3646" y="3298"/>
                  </a:lnTo>
                  <a:lnTo>
                    <a:pt x="3646" y="3301"/>
                  </a:lnTo>
                  <a:lnTo>
                    <a:pt x="3646" y="3301"/>
                  </a:lnTo>
                  <a:lnTo>
                    <a:pt x="3645" y="3305"/>
                  </a:lnTo>
                  <a:lnTo>
                    <a:pt x="3643" y="3307"/>
                  </a:lnTo>
                  <a:lnTo>
                    <a:pt x="3639" y="3307"/>
                  </a:lnTo>
                  <a:lnTo>
                    <a:pt x="3638" y="3307"/>
                  </a:lnTo>
                  <a:lnTo>
                    <a:pt x="3634" y="3305"/>
                  </a:lnTo>
                  <a:lnTo>
                    <a:pt x="3632" y="3303"/>
                  </a:lnTo>
                  <a:lnTo>
                    <a:pt x="3632" y="3300"/>
                  </a:lnTo>
                  <a:lnTo>
                    <a:pt x="3632" y="3298"/>
                  </a:lnTo>
                  <a:lnTo>
                    <a:pt x="3632" y="3298"/>
                  </a:lnTo>
                  <a:close/>
                  <a:moveTo>
                    <a:pt x="3641" y="3270"/>
                  </a:moveTo>
                  <a:lnTo>
                    <a:pt x="3641" y="3270"/>
                  </a:lnTo>
                  <a:lnTo>
                    <a:pt x="3643" y="3268"/>
                  </a:lnTo>
                  <a:lnTo>
                    <a:pt x="3645" y="3266"/>
                  </a:lnTo>
                  <a:lnTo>
                    <a:pt x="3648" y="3265"/>
                  </a:lnTo>
                  <a:lnTo>
                    <a:pt x="3652" y="3265"/>
                  </a:lnTo>
                  <a:lnTo>
                    <a:pt x="3653" y="3266"/>
                  </a:lnTo>
                  <a:lnTo>
                    <a:pt x="3655" y="3268"/>
                  </a:lnTo>
                  <a:lnTo>
                    <a:pt x="3655" y="3272"/>
                  </a:lnTo>
                  <a:lnTo>
                    <a:pt x="3655" y="3275"/>
                  </a:lnTo>
                  <a:lnTo>
                    <a:pt x="3655" y="3275"/>
                  </a:lnTo>
                  <a:lnTo>
                    <a:pt x="3653" y="3277"/>
                  </a:lnTo>
                  <a:lnTo>
                    <a:pt x="3652" y="3279"/>
                  </a:lnTo>
                  <a:lnTo>
                    <a:pt x="3650" y="3279"/>
                  </a:lnTo>
                  <a:lnTo>
                    <a:pt x="3646" y="3279"/>
                  </a:lnTo>
                  <a:lnTo>
                    <a:pt x="3645" y="3277"/>
                  </a:lnTo>
                  <a:lnTo>
                    <a:pt x="3643" y="3275"/>
                  </a:lnTo>
                  <a:lnTo>
                    <a:pt x="3641" y="3273"/>
                  </a:lnTo>
                  <a:lnTo>
                    <a:pt x="3641" y="3270"/>
                  </a:lnTo>
                  <a:lnTo>
                    <a:pt x="3641" y="3270"/>
                  </a:lnTo>
                  <a:close/>
                  <a:moveTo>
                    <a:pt x="3652" y="3242"/>
                  </a:moveTo>
                  <a:lnTo>
                    <a:pt x="3652" y="3242"/>
                  </a:lnTo>
                  <a:lnTo>
                    <a:pt x="3652" y="3240"/>
                  </a:lnTo>
                  <a:lnTo>
                    <a:pt x="3655" y="3238"/>
                  </a:lnTo>
                  <a:lnTo>
                    <a:pt x="3657" y="3237"/>
                  </a:lnTo>
                  <a:lnTo>
                    <a:pt x="3660" y="3238"/>
                  </a:lnTo>
                  <a:lnTo>
                    <a:pt x="3662" y="3238"/>
                  </a:lnTo>
                  <a:lnTo>
                    <a:pt x="3664" y="3242"/>
                  </a:lnTo>
                  <a:lnTo>
                    <a:pt x="3666" y="3244"/>
                  </a:lnTo>
                  <a:lnTo>
                    <a:pt x="3666" y="3247"/>
                  </a:lnTo>
                  <a:lnTo>
                    <a:pt x="3666" y="3247"/>
                  </a:lnTo>
                  <a:lnTo>
                    <a:pt x="3664" y="3249"/>
                  </a:lnTo>
                  <a:lnTo>
                    <a:pt x="3660" y="3251"/>
                  </a:lnTo>
                  <a:lnTo>
                    <a:pt x="3659" y="3252"/>
                  </a:lnTo>
                  <a:lnTo>
                    <a:pt x="3655" y="3252"/>
                  </a:lnTo>
                  <a:lnTo>
                    <a:pt x="3653" y="3251"/>
                  </a:lnTo>
                  <a:lnTo>
                    <a:pt x="3652" y="3247"/>
                  </a:lnTo>
                  <a:lnTo>
                    <a:pt x="3650" y="3245"/>
                  </a:lnTo>
                  <a:lnTo>
                    <a:pt x="3652" y="3242"/>
                  </a:lnTo>
                  <a:lnTo>
                    <a:pt x="3652" y="3242"/>
                  </a:lnTo>
                  <a:close/>
                  <a:moveTo>
                    <a:pt x="3660" y="3216"/>
                  </a:moveTo>
                  <a:lnTo>
                    <a:pt x="3660" y="3216"/>
                  </a:lnTo>
                  <a:lnTo>
                    <a:pt x="3662" y="3212"/>
                  </a:lnTo>
                  <a:lnTo>
                    <a:pt x="3664" y="3210"/>
                  </a:lnTo>
                  <a:lnTo>
                    <a:pt x="3666" y="3210"/>
                  </a:lnTo>
                  <a:lnTo>
                    <a:pt x="3669" y="3210"/>
                  </a:lnTo>
                  <a:lnTo>
                    <a:pt x="3671" y="3212"/>
                  </a:lnTo>
                  <a:lnTo>
                    <a:pt x="3673" y="3214"/>
                  </a:lnTo>
                  <a:lnTo>
                    <a:pt x="3674" y="3216"/>
                  </a:lnTo>
                  <a:lnTo>
                    <a:pt x="3674" y="3219"/>
                  </a:lnTo>
                  <a:lnTo>
                    <a:pt x="3674" y="3219"/>
                  </a:lnTo>
                  <a:lnTo>
                    <a:pt x="3673" y="3223"/>
                  </a:lnTo>
                  <a:lnTo>
                    <a:pt x="3671" y="3224"/>
                  </a:lnTo>
                  <a:lnTo>
                    <a:pt x="3667" y="3224"/>
                  </a:lnTo>
                  <a:lnTo>
                    <a:pt x="3666" y="3224"/>
                  </a:lnTo>
                  <a:lnTo>
                    <a:pt x="3662" y="3223"/>
                  </a:lnTo>
                  <a:lnTo>
                    <a:pt x="3660" y="3221"/>
                  </a:lnTo>
                  <a:lnTo>
                    <a:pt x="3660" y="3217"/>
                  </a:lnTo>
                  <a:lnTo>
                    <a:pt x="3660" y="3216"/>
                  </a:lnTo>
                  <a:lnTo>
                    <a:pt x="3660" y="3216"/>
                  </a:lnTo>
                  <a:close/>
                  <a:moveTo>
                    <a:pt x="3669" y="3188"/>
                  </a:moveTo>
                  <a:lnTo>
                    <a:pt x="3669" y="3188"/>
                  </a:lnTo>
                  <a:lnTo>
                    <a:pt x="3671" y="3186"/>
                  </a:lnTo>
                  <a:lnTo>
                    <a:pt x="3673" y="3184"/>
                  </a:lnTo>
                  <a:lnTo>
                    <a:pt x="3676" y="3182"/>
                  </a:lnTo>
                  <a:lnTo>
                    <a:pt x="3678" y="3182"/>
                  </a:lnTo>
                  <a:lnTo>
                    <a:pt x="3681" y="3184"/>
                  </a:lnTo>
                  <a:lnTo>
                    <a:pt x="3683" y="3186"/>
                  </a:lnTo>
                  <a:lnTo>
                    <a:pt x="3683" y="3189"/>
                  </a:lnTo>
                  <a:lnTo>
                    <a:pt x="3683" y="3191"/>
                  </a:lnTo>
                  <a:lnTo>
                    <a:pt x="3683" y="3191"/>
                  </a:lnTo>
                  <a:lnTo>
                    <a:pt x="3681" y="3195"/>
                  </a:lnTo>
                  <a:lnTo>
                    <a:pt x="3680" y="3196"/>
                  </a:lnTo>
                  <a:lnTo>
                    <a:pt x="3676" y="3196"/>
                  </a:lnTo>
                  <a:lnTo>
                    <a:pt x="3674" y="3196"/>
                  </a:lnTo>
                  <a:lnTo>
                    <a:pt x="3671" y="3195"/>
                  </a:lnTo>
                  <a:lnTo>
                    <a:pt x="3669" y="3193"/>
                  </a:lnTo>
                  <a:lnTo>
                    <a:pt x="3669" y="3191"/>
                  </a:lnTo>
                  <a:lnTo>
                    <a:pt x="3669" y="3188"/>
                  </a:lnTo>
                  <a:lnTo>
                    <a:pt x="3669" y="3188"/>
                  </a:lnTo>
                  <a:close/>
                  <a:moveTo>
                    <a:pt x="3678" y="3160"/>
                  </a:moveTo>
                  <a:lnTo>
                    <a:pt x="3678" y="3160"/>
                  </a:lnTo>
                  <a:lnTo>
                    <a:pt x="3680" y="3158"/>
                  </a:lnTo>
                  <a:lnTo>
                    <a:pt x="3681" y="3156"/>
                  </a:lnTo>
                  <a:lnTo>
                    <a:pt x="3685" y="3154"/>
                  </a:lnTo>
                  <a:lnTo>
                    <a:pt x="3688" y="3156"/>
                  </a:lnTo>
                  <a:lnTo>
                    <a:pt x="3690" y="3156"/>
                  </a:lnTo>
                  <a:lnTo>
                    <a:pt x="3692" y="3160"/>
                  </a:lnTo>
                  <a:lnTo>
                    <a:pt x="3692" y="3161"/>
                  </a:lnTo>
                  <a:lnTo>
                    <a:pt x="3692" y="3165"/>
                  </a:lnTo>
                  <a:lnTo>
                    <a:pt x="3692" y="3165"/>
                  </a:lnTo>
                  <a:lnTo>
                    <a:pt x="3690" y="3167"/>
                  </a:lnTo>
                  <a:lnTo>
                    <a:pt x="3688" y="3168"/>
                  </a:lnTo>
                  <a:lnTo>
                    <a:pt x="3687" y="3170"/>
                  </a:lnTo>
                  <a:lnTo>
                    <a:pt x="3683" y="3170"/>
                  </a:lnTo>
                  <a:lnTo>
                    <a:pt x="3681" y="3168"/>
                  </a:lnTo>
                  <a:lnTo>
                    <a:pt x="3680" y="3165"/>
                  </a:lnTo>
                  <a:lnTo>
                    <a:pt x="3678" y="3163"/>
                  </a:lnTo>
                  <a:lnTo>
                    <a:pt x="3678" y="3160"/>
                  </a:lnTo>
                  <a:lnTo>
                    <a:pt x="3678" y="3160"/>
                  </a:lnTo>
                  <a:close/>
                  <a:moveTo>
                    <a:pt x="3688" y="3133"/>
                  </a:moveTo>
                  <a:lnTo>
                    <a:pt x="3688" y="3133"/>
                  </a:lnTo>
                  <a:lnTo>
                    <a:pt x="3688" y="3130"/>
                  </a:lnTo>
                  <a:lnTo>
                    <a:pt x="3692" y="3128"/>
                  </a:lnTo>
                  <a:lnTo>
                    <a:pt x="3694" y="3128"/>
                  </a:lnTo>
                  <a:lnTo>
                    <a:pt x="3697" y="3128"/>
                  </a:lnTo>
                  <a:lnTo>
                    <a:pt x="3699" y="3130"/>
                  </a:lnTo>
                  <a:lnTo>
                    <a:pt x="3701" y="3132"/>
                  </a:lnTo>
                  <a:lnTo>
                    <a:pt x="3702" y="3133"/>
                  </a:lnTo>
                  <a:lnTo>
                    <a:pt x="3702" y="3137"/>
                  </a:lnTo>
                  <a:lnTo>
                    <a:pt x="3702" y="3137"/>
                  </a:lnTo>
                  <a:lnTo>
                    <a:pt x="3701" y="3140"/>
                  </a:lnTo>
                  <a:lnTo>
                    <a:pt x="3697" y="3142"/>
                  </a:lnTo>
                  <a:lnTo>
                    <a:pt x="3695" y="3142"/>
                  </a:lnTo>
                  <a:lnTo>
                    <a:pt x="3692" y="3142"/>
                  </a:lnTo>
                  <a:lnTo>
                    <a:pt x="3690" y="3140"/>
                  </a:lnTo>
                  <a:lnTo>
                    <a:pt x="3688" y="3139"/>
                  </a:lnTo>
                  <a:lnTo>
                    <a:pt x="3687" y="3135"/>
                  </a:lnTo>
                  <a:lnTo>
                    <a:pt x="3688" y="3133"/>
                  </a:lnTo>
                  <a:lnTo>
                    <a:pt x="3688" y="3133"/>
                  </a:lnTo>
                  <a:close/>
                  <a:moveTo>
                    <a:pt x="3697" y="3105"/>
                  </a:moveTo>
                  <a:lnTo>
                    <a:pt x="3697" y="3105"/>
                  </a:lnTo>
                  <a:lnTo>
                    <a:pt x="3699" y="3104"/>
                  </a:lnTo>
                  <a:lnTo>
                    <a:pt x="3701" y="3102"/>
                  </a:lnTo>
                  <a:lnTo>
                    <a:pt x="3702" y="3100"/>
                  </a:lnTo>
                  <a:lnTo>
                    <a:pt x="3706" y="3100"/>
                  </a:lnTo>
                  <a:lnTo>
                    <a:pt x="3708" y="3102"/>
                  </a:lnTo>
                  <a:lnTo>
                    <a:pt x="3709" y="3104"/>
                  </a:lnTo>
                  <a:lnTo>
                    <a:pt x="3711" y="3107"/>
                  </a:lnTo>
                  <a:lnTo>
                    <a:pt x="3711" y="3109"/>
                  </a:lnTo>
                  <a:lnTo>
                    <a:pt x="3711" y="3109"/>
                  </a:lnTo>
                  <a:lnTo>
                    <a:pt x="3709" y="3112"/>
                  </a:lnTo>
                  <a:lnTo>
                    <a:pt x="3708" y="3114"/>
                  </a:lnTo>
                  <a:lnTo>
                    <a:pt x="3704" y="3114"/>
                  </a:lnTo>
                  <a:lnTo>
                    <a:pt x="3702" y="3114"/>
                  </a:lnTo>
                  <a:lnTo>
                    <a:pt x="3699" y="3112"/>
                  </a:lnTo>
                  <a:lnTo>
                    <a:pt x="3697" y="3111"/>
                  </a:lnTo>
                  <a:lnTo>
                    <a:pt x="3697" y="3109"/>
                  </a:lnTo>
                  <a:lnTo>
                    <a:pt x="3697" y="3105"/>
                  </a:lnTo>
                  <a:lnTo>
                    <a:pt x="3697" y="3105"/>
                  </a:lnTo>
                  <a:close/>
                  <a:moveTo>
                    <a:pt x="3706" y="3077"/>
                  </a:moveTo>
                  <a:lnTo>
                    <a:pt x="3706" y="3077"/>
                  </a:lnTo>
                  <a:lnTo>
                    <a:pt x="3708" y="3076"/>
                  </a:lnTo>
                  <a:lnTo>
                    <a:pt x="3709" y="3074"/>
                  </a:lnTo>
                  <a:lnTo>
                    <a:pt x="3713" y="3072"/>
                  </a:lnTo>
                  <a:lnTo>
                    <a:pt x="3715" y="3074"/>
                  </a:lnTo>
                  <a:lnTo>
                    <a:pt x="3718" y="3074"/>
                  </a:lnTo>
                  <a:lnTo>
                    <a:pt x="3720" y="3076"/>
                  </a:lnTo>
                  <a:lnTo>
                    <a:pt x="3720" y="3079"/>
                  </a:lnTo>
                  <a:lnTo>
                    <a:pt x="3720" y="3083"/>
                  </a:lnTo>
                  <a:lnTo>
                    <a:pt x="3720" y="3083"/>
                  </a:lnTo>
                  <a:lnTo>
                    <a:pt x="3718" y="3084"/>
                  </a:lnTo>
                  <a:lnTo>
                    <a:pt x="3716" y="3086"/>
                  </a:lnTo>
                  <a:lnTo>
                    <a:pt x="3713" y="3086"/>
                  </a:lnTo>
                  <a:lnTo>
                    <a:pt x="3711" y="3086"/>
                  </a:lnTo>
                  <a:lnTo>
                    <a:pt x="3708" y="3086"/>
                  </a:lnTo>
                  <a:lnTo>
                    <a:pt x="3706" y="3083"/>
                  </a:lnTo>
                  <a:lnTo>
                    <a:pt x="3706" y="3081"/>
                  </a:lnTo>
                  <a:lnTo>
                    <a:pt x="3706" y="3077"/>
                  </a:lnTo>
                  <a:lnTo>
                    <a:pt x="3706" y="3077"/>
                  </a:lnTo>
                  <a:close/>
                  <a:moveTo>
                    <a:pt x="3715" y="3051"/>
                  </a:moveTo>
                  <a:lnTo>
                    <a:pt x="3715" y="3051"/>
                  </a:lnTo>
                  <a:lnTo>
                    <a:pt x="3716" y="3048"/>
                  </a:lnTo>
                  <a:lnTo>
                    <a:pt x="3718" y="3046"/>
                  </a:lnTo>
                  <a:lnTo>
                    <a:pt x="3722" y="3046"/>
                  </a:lnTo>
                  <a:lnTo>
                    <a:pt x="3725" y="3046"/>
                  </a:lnTo>
                  <a:lnTo>
                    <a:pt x="3727" y="3048"/>
                  </a:lnTo>
                  <a:lnTo>
                    <a:pt x="3729" y="3049"/>
                  </a:lnTo>
                  <a:lnTo>
                    <a:pt x="3729" y="3051"/>
                  </a:lnTo>
                  <a:lnTo>
                    <a:pt x="3729" y="3055"/>
                  </a:lnTo>
                  <a:lnTo>
                    <a:pt x="3729" y="3055"/>
                  </a:lnTo>
                  <a:lnTo>
                    <a:pt x="3727" y="3056"/>
                  </a:lnTo>
                  <a:lnTo>
                    <a:pt x="3725" y="3058"/>
                  </a:lnTo>
                  <a:lnTo>
                    <a:pt x="3723" y="3060"/>
                  </a:lnTo>
                  <a:lnTo>
                    <a:pt x="3720" y="3060"/>
                  </a:lnTo>
                  <a:lnTo>
                    <a:pt x="3718" y="3058"/>
                  </a:lnTo>
                  <a:lnTo>
                    <a:pt x="3716" y="3056"/>
                  </a:lnTo>
                  <a:lnTo>
                    <a:pt x="3715" y="3053"/>
                  </a:lnTo>
                  <a:lnTo>
                    <a:pt x="3715" y="3051"/>
                  </a:lnTo>
                  <a:lnTo>
                    <a:pt x="3715" y="3051"/>
                  </a:lnTo>
                  <a:close/>
                  <a:moveTo>
                    <a:pt x="3725" y="3023"/>
                  </a:moveTo>
                  <a:lnTo>
                    <a:pt x="3725" y="3023"/>
                  </a:lnTo>
                  <a:lnTo>
                    <a:pt x="3725" y="3020"/>
                  </a:lnTo>
                  <a:lnTo>
                    <a:pt x="3729" y="3018"/>
                  </a:lnTo>
                  <a:lnTo>
                    <a:pt x="3730" y="3018"/>
                  </a:lnTo>
                  <a:lnTo>
                    <a:pt x="3734" y="3018"/>
                  </a:lnTo>
                  <a:lnTo>
                    <a:pt x="3736" y="3020"/>
                  </a:lnTo>
                  <a:lnTo>
                    <a:pt x="3737" y="3021"/>
                  </a:lnTo>
                  <a:lnTo>
                    <a:pt x="3739" y="3025"/>
                  </a:lnTo>
                  <a:lnTo>
                    <a:pt x="3739" y="3027"/>
                  </a:lnTo>
                  <a:lnTo>
                    <a:pt x="3739" y="3027"/>
                  </a:lnTo>
                  <a:lnTo>
                    <a:pt x="3737" y="3030"/>
                  </a:lnTo>
                  <a:lnTo>
                    <a:pt x="3734" y="3032"/>
                  </a:lnTo>
                  <a:lnTo>
                    <a:pt x="3732" y="3032"/>
                  </a:lnTo>
                  <a:lnTo>
                    <a:pt x="3729" y="3032"/>
                  </a:lnTo>
                  <a:lnTo>
                    <a:pt x="3727" y="3030"/>
                  </a:lnTo>
                  <a:lnTo>
                    <a:pt x="3725" y="3028"/>
                  </a:lnTo>
                  <a:lnTo>
                    <a:pt x="3723" y="3025"/>
                  </a:lnTo>
                  <a:lnTo>
                    <a:pt x="3725" y="3023"/>
                  </a:lnTo>
                  <a:lnTo>
                    <a:pt x="3725" y="3023"/>
                  </a:lnTo>
                  <a:close/>
                  <a:moveTo>
                    <a:pt x="3734" y="2995"/>
                  </a:moveTo>
                  <a:lnTo>
                    <a:pt x="3734" y="2995"/>
                  </a:lnTo>
                  <a:lnTo>
                    <a:pt x="3736" y="2993"/>
                  </a:lnTo>
                  <a:lnTo>
                    <a:pt x="3737" y="2992"/>
                  </a:lnTo>
                  <a:lnTo>
                    <a:pt x="3739" y="2990"/>
                  </a:lnTo>
                  <a:lnTo>
                    <a:pt x="3743" y="2992"/>
                  </a:lnTo>
                  <a:lnTo>
                    <a:pt x="3744" y="2992"/>
                  </a:lnTo>
                  <a:lnTo>
                    <a:pt x="3746" y="2993"/>
                  </a:lnTo>
                  <a:lnTo>
                    <a:pt x="3748" y="2997"/>
                  </a:lnTo>
                  <a:lnTo>
                    <a:pt x="3748" y="3000"/>
                  </a:lnTo>
                  <a:lnTo>
                    <a:pt x="3748" y="3000"/>
                  </a:lnTo>
                  <a:lnTo>
                    <a:pt x="3746" y="3002"/>
                  </a:lnTo>
                  <a:lnTo>
                    <a:pt x="3744" y="3004"/>
                  </a:lnTo>
                  <a:lnTo>
                    <a:pt x="3741" y="3004"/>
                  </a:lnTo>
                  <a:lnTo>
                    <a:pt x="3739" y="3004"/>
                  </a:lnTo>
                  <a:lnTo>
                    <a:pt x="3736" y="3004"/>
                  </a:lnTo>
                  <a:lnTo>
                    <a:pt x="3734" y="3000"/>
                  </a:lnTo>
                  <a:lnTo>
                    <a:pt x="3734" y="2999"/>
                  </a:lnTo>
                  <a:lnTo>
                    <a:pt x="3734" y="2995"/>
                  </a:lnTo>
                  <a:lnTo>
                    <a:pt x="3734" y="2995"/>
                  </a:lnTo>
                  <a:close/>
                  <a:moveTo>
                    <a:pt x="3743" y="2969"/>
                  </a:moveTo>
                  <a:lnTo>
                    <a:pt x="3743" y="2969"/>
                  </a:lnTo>
                  <a:lnTo>
                    <a:pt x="3744" y="2965"/>
                  </a:lnTo>
                  <a:lnTo>
                    <a:pt x="3746" y="2964"/>
                  </a:lnTo>
                  <a:lnTo>
                    <a:pt x="3750" y="2964"/>
                  </a:lnTo>
                  <a:lnTo>
                    <a:pt x="3751" y="2964"/>
                  </a:lnTo>
                  <a:lnTo>
                    <a:pt x="3755" y="2964"/>
                  </a:lnTo>
                  <a:lnTo>
                    <a:pt x="3757" y="2967"/>
                  </a:lnTo>
                  <a:lnTo>
                    <a:pt x="3757" y="2969"/>
                  </a:lnTo>
                  <a:lnTo>
                    <a:pt x="3757" y="2972"/>
                  </a:lnTo>
                  <a:lnTo>
                    <a:pt x="3757" y="2972"/>
                  </a:lnTo>
                  <a:lnTo>
                    <a:pt x="3755" y="2974"/>
                  </a:lnTo>
                  <a:lnTo>
                    <a:pt x="3753" y="2976"/>
                  </a:lnTo>
                  <a:lnTo>
                    <a:pt x="3750" y="2978"/>
                  </a:lnTo>
                  <a:lnTo>
                    <a:pt x="3748" y="2978"/>
                  </a:lnTo>
                  <a:lnTo>
                    <a:pt x="3744" y="2976"/>
                  </a:lnTo>
                  <a:lnTo>
                    <a:pt x="3743" y="2974"/>
                  </a:lnTo>
                  <a:lnTo>
                    <a:pt x="3743" y="2971"/>
                  </a:lnTo>
                  <a:lnTo>
                    <a:pt x="3743" y="2969"/>
                  </a:lnTo>
                  <a:lnTo>
                    <a:pt x="3743" y="2969"/>
                  </a:lnTo>
                  <a:close/>
                  <a:moveTo>
                    <a:pt x="3751" y="2941"/>
                  </a:moveTo>
                  <a:lnTo>
                    <a:pt x="3751" y="2941"/>
                  </a:lnTo>
                  <a:lnTo>
                    <a:pt x="3753" y="2937"/>
                  </a:lnTo>
                  <a:lnTo>
                    <a:pt x="3755" y="2936"/>
                  </a:lnTo>
                  <a:lnTo>
                    <a:pt x="3758" y="2936"/>
                  </a:lnTo>
                  <a:lnTo>
                    <a:pt x="3762" y="2936"/>
                  </a:lnTo>
                  <a:lnTo>
                    <a:pt x="3764" y="2937"/>
                  </a:lnTo>
                  <a:lnTo>
                    <a:pt x="3765" y="2939"/>
                  </a:lnTo>
                  <a:lnTo>
                    <a:pt x="3765" y="2943"/>
                  </a:lnTo>
                  <a:lnTo>
                    <a:pt x="3765" y="2944"/>
                  </a:lnTo>
                  <a:lnTo>
                    <a:pt x="3765" y="2944"/>
                  </a:lnTo>
                  <a:lnTo>
                    <a:pt x="3764" y="2948"/>
                  </a:lnTo>
                  <a:lnTo>
                    <a:pt x="3762" y="2950"/>
                  </a:lnTo>
                  <a:lnTo>
                    <a:pt x="3760" y="2950"/>
                  </a:lnTo>
                  <a:lnTo>
                    <a:pt x="3757" y="2950"/>
                  </a:lnTo>
                  <a:lnTo>
                    <a:pt x="3755" y="2948"/>
                  </a:lnTo>
                  <a:lnTo>
                    <a:pt x="3753" y="2946"/>
                  </a:lnTo>
                  <a:lnTo>
                    <a:pt x="3751" y="2943"/>
                  </a:lnTo>
                  <a:lnTo>
                    <a:pt x="3751" y="2941"/>
                  </a:lnTo>
                  <a:lnTo>
                    <a:pt x="3751" y="2941"/>
                  </a:lnTo>
                  <a:close/>
                  <a:moveTo>
                    <a:pt x="3762" y="2913"/>
                  </a:moveTo>
                  <a:lnTo>
                    <a:pt x="3762" y="2913"/>
                  </a:lnTo>
                  <a:lnTo>
                    <a:pt x="3762" y="2911"/>
                  </a:lnTo>
                  <a:lnTo>
                    <a:pt x="3765" y="2909"/>
                  </a:lnTo>
                  <a:lnTo>
                    <a:pt x="3767" y="2907"/>
                  </a:lnTo>
                  <a:lnTo>
                    <a:pt x="3771" y="2907"/>
                  </a:lnTo>
                  <a:lnTo>
                    <a:pt x="3772" y="2909"/>
                  </a:lnTo>
                  <a:lnTo>
                    <a:pt x="3774" y="2911"/>
                  </a:lnTo>
                  <a:lnTo>
                    <a:pt x="3776" y="2915"/>
                  </a:lnTo>
                  <a:lnTo>
                    <a:pt x="3776" y="2918"/>
                  </a:lnTo>
                  <a:lnTo>
                    <a:pt x="3776" y="2918"/>
                  </a:lnTo>
                  <a:lnTo>
                    <a:pt x="3774" y="2920"/>
                  </a:lnTo>
                  <a:lnTo>
                    <a:pt x="3771" y="2922"/>
                  </a:lnTo>
                  <a:lnTo>
                    <a:pt x="3769" y="2922"/>
                  </a:lnTo>
                  <a:lnTo>
                    <a:pt x="3765" y="2922"/>
                  </a:lnTo>
                  <a:lnTo>
                    <a:pt x="3764" y="2920"/>
                  </a:lnTo>
                  <a:lnTo>
                    <a:pt x="3762" y="2918"/>
                  </a:lnTo>
                  <a:lnTo>
                    <a:pt x="3760" y="2916"/>
                  </a:lnTo>
                  <a:lnTo>
                    <a:pt x="3762" y="2913"/>
                  </a:lnTo>
                  <a:lnTo>
                    <a:pt x="3762" y="2913"/>
                  </a:lnTo>
                  <a:close/>
                  <a:moveTo>
                    <a:pt x="3771" y="2886"/>
                  </a:moveTo>
                  <a:lnTo>
                    <a:pt x="3771" y="2886"/>
                  </a:lnTo>
                  <a:lnTo>
                    <a:pt x="3772" y="2883"/>
                  </a:lnTo>
                  <a:lnTo>
                    <a:pt x="3774" y="2881"/>
                  </a:lnTo>
                  <a:lnTo>
                    <a:pt x="3776" y="2881"/>
                  </a:lnTo>
                  <a:lnTo>
                    <a:pt x="3779" y="2881"/>
                  </a:lnTo>
                  <a:lnTo>
                    <a:pt x="3781" y="2881"/>
                  </a:lnTo>
                  <a:lnTo>
                    <a:pt x="3783" y="2885"/>
                  </a:lnTo>
                  <a:lnTo>
                    <a:pt x="3785" y="2886"/>
                  </a:lnTo>
                  <a:lnTo>
                    <a:pt x="3785" y="2890"/>
                  </a:lnTo>
                  <a:lnTo>
                    <a:pt x="3785" y="2890"/>
                  </a:lnTo>
                  <a:lnTo>
                    <a:pt x="3783" y="2892"/>
                  </a:lnTo>
                  <a:lnTo>
                    <a:pt x="3781" y="2893"/>
                  </a:lnTo>
                  <a:lnTo>
                    <a:pt x="3778" y="2895"/>
                  </a:lnTo>
                  <a:lnTo>
                    <a:pt x="3776" y="2895"/>
                  </a:lnTo>
                  <a:lnTo>
                    <a:pt x="3772" y="2893"/>
                  </a:lnTo>
                  <a:lnTo>
                    <a:pt x="3771" y="2892"/>
                  </a:lnTo>
                  <a:lnTo>
                    <a:pt x="3771" y="2888"/>
                  </a:lnTo>
                  <a:lnTo>
                    <a:pt x="3771" y="2886"/>
                  </a:lnTo>
                  <a:lnTo>
                    <a:pt x="3771" y="2886"/>
                  </a:lnTo>
                  <a:close/>
                  <a:moveTo>
                    <a:pt x="3779" y="2858"/>
                  </a:moveTo>
                  <a:lnTo>
                    <a:pt x="3779" y="2858"/>
                  </a:lnTo>
                  <a:lnTo>
                    <a:pt x="3781" y="2855"/>
                  </a:lnTo>
                  <a:lnTo>
                    <a:pt x="3783" y="2853"/>
                  </a:lnTo>
                  <a:lnTo>
                    <a:pt x="3786" y="2853"/>
                  </a:lnTo>
                  <a:lnTo>
                    <a:pt x="3788" y="2853"/>
                  </a:lnTo>
                  <a:lnTo>
                    <a:pt x="3792" y="2855"/>
                  </a:lnTo>
                  <a:lnTo>
                    <a:pt x="3793" y="2857"/>
                  </a:lnTo>
                  <a:lnTo>
                    <a:pt x="3793" y="2858"/>
                  </a:lnTo>
                  <a:lnTo>
                    <a:pt x="3793" y="2862"/>
                  </a:lnTo>
                  <a:lnTo>
                    <a:pt x="3793" y="2862"/>
                  </a:lnTo>
                  <a:lnTo>
                    <a:pt x="3792" y="2865"/>
                  </a:lnTo>
                  <a:lnTo>
                    <a:pt x="3790" y="2867"/>
                  </a:lnTo>
                  <a:lnTo>
                    <a:pt x="3786" y="2867"/>
                  </a:lnTo>
                  <a:lnTo>
                    <a:pt x="3785" y="2867"/>
                  </a:lnTo>
                  <a:lnTo>
                    <a:pt x="3781" y="2865"/>
                  </a:lnTo>
                  <a:lnTo>
                    <a:pt x="3779" y="2864"/>
                  </a:lnTo>
                  <a:lnTo>
                    <a:pt x="3779" y="2860"/>
                  </a:lnTo>
                  <a:lnTo>
                    <a:pt x="3779" y="2858"/>
                  </a:lnTo>
                  <a:lnTo>
                    <a:pt x="3779" y="2858"/>
                  </a:lnTo>
                  <a:close/>
                  <a:moveTo>
                    <a:pt x="3795" y="2829"/>
                  </a:moveTo>
                  <a:lnTo>
                    <a:pt x="3795" y="2829"/>
                  </a:lnTo>
                  <a:lnTo>
                    <a:pt x="3799" y="2829"/>
                  </a:lnTo>
                  <a:lnTo>
                    <a:pt x="3800" y="2829"/>
                  </a:lnTo>
                  <a:lnTo>
                    <a:pt x="3804" y="2830"/>
                  </a:lnTo>
                  <a:lnTo>
                    <a:pt x="3806" y="2832"/>
                  </a:lnTo>
                  <a:lnTo>
                    <a:pt x="3806" y="2836"/>
                  </a:lnTo>
                  <a:lnTo>
                    <a:pt x="3806" y="2837"/>
                  </a:lnTo>
                  <a:lnTo>
                    <a:pt x="3804" y="2841"/>
                  </a:lnTo>
                  <a:lnTo>
                    <a:pt x="3802" y="2843"/>
                  </a:lnTo>
                  <a:lnTo>
                    <a:pt x="3802" y="2843"/>
                  </a:lnTo>
                  <a:lnTo>
                    <a:pt x="3799" y="2843"/>
                  </a:lnTo>
                  <a:lnTo>
                    <a:pt x="3797" y="2843"/>
                  </a:lnTo>
                  <a:lnTo>
                    <a:pt x="3795" y="2841"/>
                  </a:lnTo>
                  <a:lnTo>
                    <a:pt x="3793" y="2839"/>
                  </a:lnTo>
                  <a:lnTo>
                    <a:pt x="3792" y="2836"/>
                  </a:lnTo>
                  <a:lnTo>
                    <a:pt x="3792" y="2834"/>
                  </a:lnTo>
                  <a:lnTo>
                    <a:pt x="3793" y="2830"/>
                  </a:lnTo>
                  <a:lnTo>
                    <a:pt x="3795" y="2829"/>
                  </a:lnTo>
                  <a:lnTo>
                    <a:pt x="3795" y="2829"/>
                  </a:lnTo>
                  <a:close/>
                  <a:moveTo>
                    <a:pt x="3821" y="2816"/>
                  </a:moveTo>
                  <a:lnTo>
                    <a:pt x="3821" y="2816"/>
                  </a:lnTo>
                  <a:lnTo>
                    <a:pt x="3825" y="2815"/>
                  </a:lnTo>
                  <a:lnTo>
                    <a:pt x="3827" y="2816"/>
                  </a:lnTo>
                  <a:lnTo>
                    <a:pt x="3830" y="2816"/>
                  </a:lnTo>
                  <a:lnTo>
                    <a:pt x="3832" y="2820"/>
                  </a:lnTo>
                  <a:lnTo>
                    <a:pt x="3832" y="2822"/>
                  </a:lnTo>
                  <a:lnTo>
                    <a:pt x="3832" y="2825"/>
                  </a:lnTo>
                  <a:lnTo>
                    <a:pt x="3830" y="2827"/>
                  </a:lnTo>
                  <a:lnTo>
                    <a:pt x="3828" y="2829"/>
                  </a:lnTo>
                  <a:lnTo>
                    <a:pt x="3828" y="2829"/>
                  </a:lnTo>
                  <a:lnTo>
                    <a:pt x="3825" y="2830"/>
                  </a:lnTo>
                  <a:lnTo>
                    <a:pt x="3823" y="2830"/>
                  </a:lnTo>
                  <a:lnTo>
                    <a:pt x="3820" y="2829"/>
                  </a:lnTo>
                  <a:lnTo>
                    <a:pt x="3818" y="2827"/>
                  </a:lnTo>
                  <a:lnTo>
                    <a:pt x="3818" y="2823"/>
                  </a:lnTo>
                  <a:lnTo>
                    <a:pt x="3818" y="2820"/>
                  </a:lnTo>
                  <a:lnTo>
                    <a:pt x="3820" y="2818"/>
                  </a:lnTo>
                  <a:lnTo>
                    <a:pt x="3821" y="2816"/>
                  </a:lnTo>
                  <a:lnTo>
                    <a:pt x="3821" y="2816"/>
                  </a:lnTo>
                  <a:close/>
                  <a:moveTo>
                    <a:pt x="3848" y="2804"/>
                  </a:moveTo>
                  <a:lnTo>
                    <a:pt x="3848" y="2804"/>
                  </a:lnTo>
                  <a:lnTo>
                    <a:pt x="3849" y="2802"/>
                  </a:lnTo>
                  <a:lnTo>
                    <a:pt x="3853" y="2802"/>
                  </a:lnTo>
                  <a:lnTo>
                    <a:pt x="3855" y="2804"/>
                  </a:lnTo>
                  <a:lnTo>
                    <a:pt x="3858" y="2806"/>
                  </a:lnTo>
                  <a:lnTo>
                    <a:pt x="3858" y="2809"/>
                  </a:lnTo>
                  <a:lnTo>
                    <a:pt x="3858" y="2811"/>
                  </a:lnTo>
                  <a:lnTo>
                    <a:pt x="3856" y="2815"/>
                  </a:lnTo>
                  <a:lnTo>
                    <a:pt x="3855" y="2816"/>
                  </a:lnTo>
                  <a:lnTo>
                    <a:pt x="3855" y="2816"/>
                  </a:lnTo>
                  <a:lnTo>
                    <a:pt x="3851" y="2816"/>
                  </a:lnTo>
                  <a:lnTo>
                    <a:pt x="3849" y="2816"/>
                  </a:lnTo>
                  <a:lnTo>
                    <a:pt x="3846" y="2816"/>
                  </a:lnTo>
                  <a:lnTo>
                    <a:pt x="3844" y="2813"/>
                  </a:lnTo>
                  <a:lnTo>
                    <a:pt x="3844" y="2811"/>
                  </a:lnTo>
                  <a:lnTo>
                    <a:pt x="3844" y="2808"/>
                  </a:lnTo>
                  <a:lnTo>
                    <a:pt x="3846" y="2806"/>
                  </a:lnTo>
                  <a:lnTo>
                    <a:pt x="3848" y="2804"/>
                  </a:lnTo>
                  <a:lnTo>
                    <a:pt x="3848" y="2804"/>
                  </a:lnTo>
                  <a:close/>
                  <a:moveTo>
                    <a:pt x="3874" y="2790"/>
                  </a:moveTo>
                  <a:lnTo>
                    <a:pt x="3874" y="2790"/>
                  </a:lnTo>
                  <a:lnTo>
                    <a:pt x="3876" y="2790"/>
                  </a:lnTo>
                  <a:lnTo>
                    <a:pt x="3879" y="2790"/>
                  </a:lnTo>
                  <a:lnTo>
                    <a:pt x="3881" y="2792"/>
                  </a:lnTo>
                  <a:lnTo>
                    <a:pt x="3883" y="2794"/>
                  </a:lnTo>
                  <a:lnTo>
                    <a:pt x="3884" y="2797"/>
                  </a:lnTo>
                  <a:lnTo>
                    <a:pt x="3884" y="2799"/>
                  </a:lnTo>
                  <a:lnTo>
                    <a:pt x="3883" y="2802"/>
                  </a:lnTo>
                  <a:lnTo>
                    <a:pt x="3881" y="2804"/>
                  </a:lnTo>
                  <a:lnTo>
                    <a:pt x="3881" y="2804"/>
                  </a:lnTo>
                  <a:lnTo>
                    <a:pt x="3877" y="2804"/>
                  </a:lnTo>
                  <a:lnTo>
                    <a:pt x="3874" y="2804"/>
                  </a:lnTo>
                  <a:lnTo>
                    <a:pt x="3872" y="2802"/>
                  </a:lnTo>
                  <a:lnTo>
                    <a:pt x="3870" y="2801"/>
                  </a:lnTo>
                  <a:lnTo>
                    <a:pt x="3870" y="2797"/>
                  </a:lnTo>
                  <a:lnTo>
                    <a:pt x="3870" y="2795"/>
                  </a:lnTo>
                  <a:lnTo>
                    <a:pt x="3872" y="2792"/>
                  </a:lnTo>
                  <a:lnTo>
                    <a:pt x="3874" y="2790"/>
                  </a:lnTo>
                  <a:lnTo>
                    <a:pt x="3874" y="2790"/>
                  </a:lnTo>
                  <a:close/>
                  <a:moveTo>
                    <a:pt x="3900" y="2778"/>
                  </a:moveTo>
                  <a:lnTo>
                    <a:pt x="3900" y="2778"/>
                  </a:lnTo>
                  <a:lnTo>
                    <a:pt x="3902" y="2776"/>
                  </a:lnTo>
                  <a:lnTo>
                    <a:pt x="3905" y="2778"/>
                  </a:lnTo>
                  <a:lnTo>
                    <a:pt x="3907" y="2778"/>
                  </a:lnTo>
                  <a:lnTo>
                    <a:pt x="3909" y="2781"/>
                  </a:lnTo>
                  <a:lnTo>
                    <a:pt x="3911" y="2783"/>
                  </a:lnTo>
                  <a:lnTo>
                    <a:pt x="3909" y="2787"/>
                  </a:lnTo>
                  <a:lnTo>
                    <a:pt x="3909" y="2788"/>
                  </a:lnTo>
                  <a:lnTo>
                    <a:pt x="3907" y="2790"/>
                  </a:lnTo>
                  <a:lnTo>
                    <a:pt x="3907" y="2790"/>
                  </a:lnTo>
                  <a:lnTo>
                    <a:pt x="3904" y="2792"/>
                  </a:lnTo>
                  <a:lnTo>
                    <a:pt x="3900" y="2792"/>
                  </a:lnTo>
                  <a:lnTo>
                    <a:pt x="3898" y="2790"/>
                  </a:lnTo>
                  <a:lnTo>
                    <a:pt x="3897" y="2788"/>
                  </a:lnTo>
                  <a:lnTo>
                    <a:pt x="3895" y="2785"/>
                  </a:lnTo>
                  <a:lnTo>
                    <a:pt x="3897" y="2781"/>
                  </a:lnTo>
                  <a:lnTo>
                    <a:pt x="3897" y="2780"/>
                  </a:lnTo>
                  <a:lnTo>
                    <a:pt x="3900" y="2778"/>
                  </a:lnTo>
                  <a:lnTo>
                    <a:pt x="3900" y="2778"/>
                  </a:lnTo>
                  <a:close/>
                  <a:moveTo>
                    <a:pt x="3925" y="2766"/>
                  </a:moveTo>
                  <a:lnTo>
                    <a:pt x="3925" y="2766"/>
                  </a:lnTo>
                  <a:lnTo>
                    <a:pt x="3928" y="2764"/>
                  </a:lnTo>
                  <a:lnTo>
                    <a:pt x="3930" y="2764"/>
                  </a:lnTo>
                  <a:lnTo>
                    <a:pt x="3933" y="2766"/>
                  </a:lnTo>
                  <a:lnTo>
                    <a:pt x="3935" y="2767"/>
                  </a:lnTo>
                  <a:lnTo>
                    <a:pt x="3935" y="2771"/>
                  </a:lnTo>
                  <a:lnTo>
                    <a:pt x="3935" y="2773"/>
                  </a:lnTo>
                  <a:lnTo>
                    <a:pt x="3935" y="2776"/>
                  </a:lnTo>
                  <a:lnTo>
                    <a:pt x="3932" y="2778"/>
                  </a:lnTo>
                  <a:lnTo>
                    <a:pt x="3932" y="2778"/>
                  </a:lnTo>
                  <a:lnTo>
                    <a:pt x="3930" y="2778"/>
                  </a:lnTo>
                  <a:lnTo>
                    <a:pt x="3926" y="2778"/>
                  </a:lnTo>
                  <a:lnTo>
                    <a:pt x="3925" y="2778"/>
                  </a:lnTo>
                  <a:lnTo>
                    <a:pt x="3923" y="2774"/>
                  </a:lnTo>
                  <a:lnTo>
                    <a:pt x="3921" y="2773"/>
                  </a:lnTo>
                  <a:lnTo>
                    <a:pt x="3921" y="2769"/>
                  </a:lnTo>
                  <a:lnTo>
                    <a:pt x="3923" y="2767"/>
                  </a:lnTo>
                  <a:lnTo>
                    <a:pt x="3925" y="2766"/>
                  </a:lnTo>
                  <a:lnTo>
                    <a:pt x="3925" y="2766"/>
                  </a:lnTo>
                  <a:close/>
                  <a:moveTo>
                    <a:pt x="3951" y="2752"/>
                  </a:moveTo>
                  <a:lnTo>
                    <a:pt x="3951" y="2752"/>
                  </a:lnTo>
                  <a:lnTo>
                    <a:pt x="3954" y="2752"/>
                  </a:lnTo>
                  <a:lnTo>
                    <a:pt x="3956" y="2752"/>
                  </a:lnTo>
                  <a:lnTo>
                    <a:pt x="3960" y="2753"/>
                  </a:lnTo>
                  <a:lnTo>
                    <a:pt x="3961" y="2755"/>
                  </a:lnTo>
                  <a:lnTo>
                    <a:pt x="3961" y="2759"/>
                  </a:lnTo>
                  <a:lnTo>
                    <a:pt x="3961" y="2760"/>
                  </a:lnTo>
                  <a:lnTo>
                    <a:pt x="3960" y="2764"/>
                  </a:lnTo>
                  <a:lnTo>
                    <a:pt x="3958" y="2766"/>
                  </a:lnTo>
                  <a:lnTo>
                    <a:pt x="3958" y="2766"/>
                  </a:lnTo>
                  <a:lnTo>
                    <a:pt x="3954" y="2766"/>
                  </a:lnTo>
                  <a:lnTo>
                    <a:pt x="3953" y="2766"/>
                  </a:lnTo>
                  <a:lnTo>
                    <a:pt x="3951" y="2764"/>
                  </a:lnTo>
                  <a:lnTo>
                    <a:pt x="3949" y="2762"/>
                  </a:lnTo>
                  <a:lnTo>
                    <a:pt x="3947" y="2759"/>
                  </a:lnTo>
                  <a:lnTo>
                    <a:pt x="3947" y="2757"/>
                  </a:lnTo>
                  <a:lnTo>
                    <a:pt x="3949" y="2753"/>
                  </a:lnTo>
                  <a:lnTo>
                    <a:pt x="3951" y="2752"/>
                  </a:lnTo>
                  <a:lnTo>
                    <a:pt x="3951" y="2752"/>
                  </a:lnTo>
                  <a:close/>
                  <a:moveTo>
                    <a:pt x="3965" y="2739"/>
                  </a:moveTo>
                  <a:lnTo>
                    <a:pt x="3965" y="2739"/>
                  </a:lnTo>
                  <a:lnTo>
                    <a:pt x="3965" y="2738"/>
                  </a:lnTo>
                  <a:lnTo>
                    <a:pt x="3967" y="2734"/>
                  </a:lnTo>
                  <a:lnTo>
                    <a:pt x="3968" y="2732"/>
                  </a:lnTo>
                  <a:lnTo>
                    <a:pt x="3972" y="2732"/>
                  </a:lnTo>
                  <a:lnTo>
                    <a:pt x="3974" y="2732"/>
                  </a:lnTo>
                  <a:lnTo>
                    <a:pt x="3977" y="2734"/>
                  </a:lnTo>
                  <a:lnTo>
                    <a:pt x="3977" y="2738"/>
                  </a:lnTo>
                  <a:lnTo>
                    <a:pt x="3979" y="2739"/>
                  </a:lnTo>
                  <a:lnTo>
                    <a:pt x="3979" y="2739"/>
                  </a:lnTo>
                  <a:lnTo>
                    <a:pt x="3977" y="2743"/>
                  </a:lnTo>
                  <a:lnTo>
                    <a:pt x="3977" y="2745"/>
                  </a:lnTo>
                  <a:lnTo>
                    <a:pt x="3974" y="2746"/>
                  </a:lnTo>
                  <a:lnTo>
                    <a:pt x="3972" y="2748"/>
                  </a:lnTo>
                  <a:lnTo>
                    <a:pt x="3968" y="2746"/>
                  </a:lnTo>
                  <a:lnTo>
                    <a:pt x="3967" y="2745"/>
                  </a:lnTo>
                  <a:lnTo>
                    <a:pt x="3965" y="2743"/>
                  </a:lnTo>
                  <a:lnTo>
                    <a:pt x="3965" y="2739"/>
                  </a:lnTo>
                  <a:lnTo>
                    <a:pt x="3965" y="2739"/>
                  </a:lnTo>
                  <a:close/>
                  <a:moveTo>
                    <a:pt x="3965" y="2711"/>
                  </a:moveTo>
                  <a:lnTo>
                    <a:pt x="3965" y="2711"/>
                  </a:lnTo>
                  <a:lnTo>
                    <a:pt x="3965" y="2708"/>
                  </a:lnTo>
                  <a:lnTo>
                    <a:pt x="3967" y="2706"/>
                  </a:lnTo>
                  <a:lnTo>
                    <a:pt x="3968" y="2704"/>
                  </a:lnTo>
                  <a:lnTo>
                    <a:pt x="3972" y="2704"/>
                  </a:lnTo>
                  <a:lnTo>
                    <a:pt x="3974" y="2704"/>
                  </a:lnTo>
                  <a:lnTo>
                    <a:pt x="3977" y="2706"/>
                  </a:lnTo>
                  <a:lnTo>
                    <a:pt x="3979" y="2708"/>
                  </a:lnTo>
                  <a:lnTo>
                    <a:pt x="3979" y="2711"/>
                  </a:lnTo>
                  <a:lnTo>
                    <a:pt x="3979" y="2711"/>
                  </a:lnTo>
                  <a:lnTo>
                    <a:pt x="3979" y="2713"/>
                  </a:lnTo>
                  <a:lnTo>
                    <a:pt x="3977" y="2717"/>
                  </a:lnTo>
                  <a:lnTo>
                    <a:pt x="3974" y="2717"/>
                  </a:lnTo>
                  <a:lnTo>
                    <a:pt x="3972" y="2718"/>
                  </a:lnTo>
                  <a:lnTo>
                    <a:pt x="3968" y="2717"/>
                  </a:lnTo>
                  <a:lnTo>
                    <a:pt x="3967" y="2717"/>
                  </a:lnTo>
                  <a:lnTo>
                    <a:pt x="3965" y="2713"/>
                  </a:lnTo>
                  <a:lnTo>
                    <a:pt x="3965" y="2711"/>
                  </a:lnTo>
                  <a:lnTo>
                    <a:pt x="3965" y="2711"/>
                  </a:lnTo>
                  <a:close/>
                  <a:moveTo>
                    <a:pt x="3965" y="2682"/>
                  </a:moveTo>
                  <a:lnTo>
                    <a:pt x="3965" y="2682"/>
                  </a:lnTo>
                  <a:lnTo>
                    <a:pt x="3965" y="2680"/>
                  </a:lnTo>
                  <a:lnTo>
                    <a:pt x="3967" y="2676"/>
                  </a:lnTo>
                  <a:lnTo>
                    <a:pt x="3968" y="2675"/>
                  </a:lnTo>
                  <a:lnTo>
                    <a:pt x="3972" y="2675"/>
                  </a:lnTo>
                  <a:lnTo>
                    <a:pt x="3975" y="2675"/>
                  </a:lnTo>
                  <a:lnTo>
                    <a:pt x="3977" y="2676"/>
                  </a:lnTo>
                  <a:lnTo>
                    <a:pt x="3979" y="2680"/>
                  </a:lnTo>
                  <a:lnTo>
                    <a:pt x="3979" y="2682"/>
                  </a:lnTo>
                  <a:lnTo>
                    <a:pt x="3979" y="2682"/>
                  </a:lnTo>
                  <a:lnTo>
                    <a:pt x="3979" y="2685"/>
                  </a:lnTo>
                  <a:lnTo>
                    <a:pt x="3977" y="2687"/>
                  </a:lnTo>
                  <a:lnTo>
                    <a:pt x="3975" y="2689"/>
                  </a:lnTo>
                  <a:lnTo>
                    <a:pt x="3972" y="2689"/>
                  </a:lnTo>
                  <a:lnTo>
                    <a:pt x="3968" y="2689"/>
                  </a:lnTo>
                  <a:lnTo>
                    <a:pt x="3967" y="2687"/>
                  </a:lnTo>
                  <a:lnTo>
                    <a:pt x="3965" y="2685"/>
                  </a:lnTo>
                  <a:lnTo>
                    <a:pt x="3965" y="2682"/>
                  </a:lnTo>
                  <a:lnTo>
                    <a:pt x="3965" y="2682"/>
                  </a:lnTo>
                  <a:close/>
                  <a:moveTo>
                    <a:pt x="3965" y="2654"/>
                  </a:moveTo>
                  <a:lnTo>
                    <a:pt x="3965" y="2654"/>
                  </a:lnTo>
                  <a:lnTo>
                    <a:pt x="3965" y="2650"/>
                  </a:lnTo>
                  <a:lnTo>
                    <a:pt x="3967" y="2648"/>
                  </a:lnTo>
                  <a:lnTo>
                    <a:pt x="3970" y="2647"/>
                  </a:lnTo>
                  <a:lnTo>
                    <a:pt x="3972" y="2647"/>
                  </a:lnTo>
                  <a:lnTo>
                    <a:pt x="3975" y="2647"/>
                  </a:lnTo>
                  <a:lnTo>
                    <a:pt x="3977" y="2648"/>
                  </a:lnTo>
                  <a:lnTo>
                    <a:pt x="3979" y="2650"/>
                  </a:lnTo>
                  <a:lnTo>
                    <a:pt x="3979" y="2654"/>
                  </a:lnTo>
                  <a:lnTo>
                    <a:pt x="3979" y="2654"/>
                  </a:lnTo>
                  <a:lnTo>
                    <a:pt x="3979" y="2655"/>
                  </a:lnTo>
                  <a:lnTo>
                    <a:pt x="3977" y="2659"/>
                  </a:lnTo>
                  <a:lnTo>
                    <a:pt x="3975" y="2659"/>
                  </a:lnTo>
                  <a:lnTo>
                    <a:pt x="3972" y="2661"/>
                  </a:lnTo>
                  <a:lnTo>
                    <a:pt x="3970" y="2659"/>
                  </a:lnTo>
                  <a:lnTo>
                    <a:pt x="3967" y="2659"/>
                  </a:lnTo>
                  <a:lnTo>
                    <a:pt x="3965" y="2655"/>
                  </a:lnTo>
                  <a:lnTo>
                    <a:pt x="3965" y="2654"/>
                  </a:lnTo>
                  <a:lnTo>
                    <a:pt x="3965" y="2654"/>
                  </a:lnTo>
                  <a:close/>
                  <a:moveTo>
                    <a:pt x="3965" y="2624"/>
                  </a:moveTo>
                  <a:lnTo>
                    <a:pt x="3965" y="2624"/>
                  </a:lnTo>
                  <a:lnTo>
                    <a:pt x="3967" y="2620"/>
                  </a:lnTo>
                  <a:lnTo>
                    <a:pt x="3968" y="2619"/>
                  </a:lnTo>
                  <a:lnTo>
                    <a:pt x="3970" y="2617"/>
                  </a:lnTo>
                  <a:lnTo>
                    <a:pt x="3974" y="2617"/>
                  </a:lnTo>
                  <a:lnTo>
                    <a:pt x="3975" y="2617"/>
                  </a:lnTo>
                  <a:lnTo>
                    <a:pt x="3977" y="2619"/>
                  </a:lnTo>
                  <a:lnTo>
                    <a:pt x="3979" y="2620"/>
                  </a:lnTo>
                  <a:lnTo>
                    <a:pt x="3981" y="2624"/>
                  </a:lnTo>
                  <a:lnTo>
                    <a:pt x="3981" y="2624"/>
                  </a:lnTo>
                  <a:lnTo>
                    <a:pt x="3979" y="2627"/>
                  </a:lnTo>
                  <a:lnTo>
                    <a:pt x="3977" y="2629"/>
                  </a:lnTo>
                  <a:lnTo>
                    <a:pt x="3975" y="2631"/>
                  </a:lnTo>
                  <a:lnTo>
                    <a:pt x="3974" y="2631"/>
                  </a:lnTo>
                  <a:lnTo>
                    <a:pt x="3970" y="2631"/>
                  </a:lnTo>
                  <a:lnTo>
                    <a:pt x="3968" y="2629"/>
                  </a:lnTo>
                  <a:lnTo>
                    <a:pt x="3967" y="2627"/>
                  </a:lnTo>
                  <a:lnTo>
                    <a:pt x="3965" y="2624"/>
                  </a:lnTo>
                  <a:lnTo>
                    <a:pt x="3965" y="2624"/>
                  </a:lnTo>
                  <a:close/>
                  <a:moveTo>
                    <a:pt x="3967" y="2596"/>
                  </a:moveTo>
                  <a:lnTo>
                    <a:pt x="3967" y="2596"/>
                  </a:lnTo>
                  <a:lnTo>
                    <a:pt x="3967" y="2592"/>
                  </a:lnTo>
                  <a:lnTo>
                    <a:pt x="3968" y="2591"/>
                  </a:lnTo>
                  <a:lnTo>
                    <a:pt x="3970" y="2589"/>
                  </a:lnTo>
                  <a:lnTo>
                    <a:pt x="3974" y="2589"/>
                  </a:lnTo>
                  <a:lnTo>
                    <a:pt x="3975" y="2589"/>
                  </a:lnTo>
                  <a:lnTo>
                    <a:pt x="3977" y="2591"/>
                  </a:lnTo>
                  <a:lnTo>
                    <a:pt x="3979" y="2592"/>
                  </a:lnTo>
                  <a:lnTo>
                    <a:pt x="3981" y="2596"/>
                  </a:lnTo>
                  <a:lnTo>
                    <a:pt x="3981" y="2596"/>
                  </a:lnTo>
                  <a:lnTo>
                    <a:pt x="3979" y="2598"/>
                  </a:lnTo>
                  <a:lnTo>
                    <a:pt x="3977" y="2599"/>
                  </a:lnTo>
                  <a:lnTo>
                    <a:pt x="3975" y="2601"/>
                  </a:lnTo>
                  <a:lnTo>
                    <a:pt x="3974" y="2603"/>
                  </a:lnTo>
                  <a:lnTo>
                    <a:pt x="3970" y="2601"/>
                  </a:lnTo>
                  <a:lnTo>
                    <a:pt x="3968" y="2599"/>
                  </a:lnTo>
                  <a:lnTo>
                    <a:pt x="3967" y="2598"/>
                  </a:lnTo>
                  <a:lnTo>
                    <a:pt x="3967" y="2596"/>
                  </a:lnTo>
                  <a:lnTo>
                    <a:pt x="3967" y="2596"/>
                  </a:lnTo>
                  <a:close/>
                  <a:moveTo>
                    <a:pt x="3967" y="2566"/>
                  </a:moveTo>
                  <a:lnTo>
                    <a:pt x="3967" y="2566"/>
                  </a:lnTo>
                  <a:lnTo>
                    <a:pt x="3967" y="2563"/>
                  </a:lnTo>
                  <a:lnTo>
                    <a:pt x="3968" y="2561"/>
                  </a:lnTo>
                  <a:lnTo>
                    <a:pt x="3970" y="2559"/>
                  </a:lnTo>
                  <a:lnTo>
                    <a:pt x="3974" y="2559"/>
                  </a:lnTo>
                  <a:lnTo>
                    <a:pt x="3975" y="2559"/>
                  </a:lnTo>
                  <a:lnTo>
                    <a:pt x="3979" y="2561"/>
                  </a:lnTo>
                  <a:lnTo>
                    <a:pt x="3981" y="2563"/>
                  </a:lnTo>
                  <a:lnTo>
                    <a:pt x="3981" y="2566"/>
                  </a:lnTo>
                  <a:lnTo>
                    <a:pt x="3981" y="2566"/>
                  </a:lnTo>
                  <a:lnTo>
                    <a:pt x="3981" y="2570"/>
                  </a:lnTo>
                  <a:lnTo>
                    <a:pt x="3979" y="2571"/>
                  </a:lnTo>
                  <a:lnTo>
                    <a:pt x="3975" y="2573"/>
                  </a:lnTo>
                  <a:lnTo>
                    <a:pt x="3974" y="2573"/>
                  </a:lnTo>
                  <a:lnTo>
                    <a:pt x="3970" y="2573"/>
                  </a:lnTo>
                  <a:lnTo>
                    <a:pt x="3968" y="2571"/>
                  </a:lnTo>
                  <a:lnTo>
                    <a:pt x="3967" y="2570"/>
                  </a:lnTo>
                  <a:lnTo>
                    <a:pt x="3967" y="2566"/>
                  </a:lnTo>
                  <a:lnTo>
                    <a:pt x="3967" y="2566"/>
                  </a:lnTo>
                  <a:close/>
                  <a:moveTo>
                    <a:pt x="3967" y="2538"/>
                  </a:moveTo>
                  <a:lnTo>
                    <a:pt x="3967" y="2538"/>
                  </a:lnTo>
                  <a:lnTo>
                    <a:pt x="3967" y="2535"/>
                  </a:lnTo>
                  <a:lnTo>
                    <a:pt x="3968" y="2533"/>
                  </a:lnTo>
                  <a:lnTo>
                    <a:pt x="3970" y="2531"/>
                  </a:lnTo>
                  <a:lnTo>
                    <a:pt x="3974" y="2529"/>
                  </a:lnTo>
                  <a:lnTo>
                    <a:pt x="3977" y="2531"/>
                  </a:lnTo>
                  <a:lnTo>
                    <a:pt x="3979" y="2533"/>
                  </a:lnTo>
                  <a:lnTo>
                    <a:pt x="3981" y="2535"/>
                  </a:lnTo>
                  <a:lnTo>
                    <a:pt x="3981" y="2538"/>
                  </a:lnTo>
                  <a:lnTo>
                    <a:pt x="3981" y="2538"/>
                  </a:lnTo>
                  <a:lnTo>
                    <a:pt x="3981" y="2540"/>
                  </a:lnTo>
                  <a:lnTo>
                    <a:pt x="3979" y="2542"/>
                  </a:lnTo>
                  <a:lnTo>
                    <a:pt x="3977" y="2543"/>
                  </a:lnTo>
                  <a:lnTo>
                    <a:pt x="3974" y="2545"/>
                  </a:lnTo>
                  <a:lnTo>
                    <a:pt x="3970" y="2543"/>
                  </a:lnTo>
                  <a:lnTo>
                    <a:pt x="3968" y="2542"/>
                  </a:lnTo>
                  <a:lnTo>
                    <a:pt x="3967" y="2540"/>
                  </a:lnTo>
                  <a:lnTo>
                    <a:pt x="3967" y="2538"/>
                  </a:lnTo>
                  <a:lnTo>
                    <a:pt x="3967" y="2538"/>
                  </a:lnTo>
                  <a:close/>
                  <a:moveTo>
                    <a:pt x="3967" y="2508"/>
                  </a:moveTo>
                  <a:lnTo>
                    <a:pt x="3967" y="2508"/>
                  </a:lnTo>
                  <a:lnTo>
                    <a:pt x="3967" y="2505"/>
                  </a:lnTo>
                  <a:lnTo>
                    <a:pt x="3968" y="2503"/>
                  </a:lnTo>
                  <a:lnTo>
                    <a:pt x="3972" y="2501"/>
                  </a:lnTo>
                  <a:lnTo>
                    <a:pt x="3974" y="2501"/>
                  </a:lnTo>
                  <a:lnTo>
                    <a:pt x="3977" y="2501"/>
                  </a:lnTo>
                  <a:lnTo>
                    <a:pt x="3979" y="2503"/>
                  </a:lnTo>
                  <a:lnTo>
                    <a:pt x="3981" y="2505"/>
                  </a:lnTo>
                  <a:lnTo>
                    <a:pt x="3981" y="2508"/>
                  </a:lnTo>
                  <a:lnTo>
                    <a:pt x="3981" y="2508"/>
                  </a:lnTo>
                  <a:lnTo>
                    <a:pt x="3981" y="2512"/>
                  </a:lnTo>
                  <a:lnTo>
                    <a:pt x="3979" y="2514"/>
                  </a:lnTo>
                  <a:lnTo>
                    <a:pt x="3977" y="2515"/>
                  </a:lnTo>
                  <a:lnTo>
                    <a:pt x="3974" y="2515"/>
                  </a:lnTo>
                  <a:lnTo>
                    <a:pt x="3972" y="2515"/>
                  </a:lnTo>
                  <a:lnTo>
                    <a:pt x="3968" y="2514"/>
                  </a:lnTo>
                  <a:lnTo>
                    <a:pt x="3967" y="2512"/>
                  </a:lnTo>
                  <a:lnTo>
                    <a:pt x="3967" y="2508"/>
                  </a:lnTo>
                  <a:lnTo>
                    <a:pt x="3967" y="2508"/>
                  </a:lnTo>
                  <a:close/>
                  <a:moveTo>
                    <a:pt x="3967" y="2479"/>
                  </a:moveTo>
                  <a:lnTo>
                    <a:pt x="3967" y="2479"/>
                  </a:lnTo>
                  <a:lnTo>
                    <a:pt x="3968" y="2477"/>
                  </a:lnTo>
                  <a:lnTo>
                    <a:pt x="3968" y="2473"/>
                  </a:lnTo>
                  <a:lnTo>
                    <a:pt x="3972" y="2473"/>
                  </a:lnTo>
                  <a:lnTo>
                    <a:pt x="3974" y="2472"/>
                  </a:lnTo>
                  <a:lnTo>
                    <a:pt x="3977" y="2473"/>
                  </a:lnTo>
                  <a:lnTo>
                    <a:pt x="3979" y="2473"/>
                  </a:lnTo>
                  <a:lnTo>
                    <a:pt x="3981" y="2477"/>
                  </a:lnTo>
                  <a:lnTo>
                    <a:pt x="3982" y="2479"/>
                  </a:lnTo>
                  <a:lnTo>
                    <a:pt x="3982" y="2479"/>
                  </a:lnTo>
                  <a:lnTo>
                    <a:pt x="3981" y="2482"/>
                  </a:lnTo>
                  <a:lnTo>
                    <a:pt x="3979" y="2484"/>
                  </a:lnTo>
                  <a:lnTo>
                    <a:pt x="3977" y="2486"/>
                  </a:lnTo>
                  <a:lnTo>
                    <a:pt x="3974" y="2487"/>
                  </a:lnTo>
                  <a:lnTo>
                    <a:pt x="3972" y="2486"/>
                  </a:lnTo>
                  <a:lnTo>
                    <a:pt x="3968" y="2484"/>
                  </a:lnTo>
                  <a:lnTo>
                    <a:pt x="3968" y="2482"/>
                  </a:lnTo>
                  <a:lnTo>
                    <a:pt x="3967" y="2479"/>
                  </a:lnTo>
                  <a:lnTo>
                    <a:pt x="3967" y="2479"/>
                  </a:lnTo>
                  <a:close/>
                  <a:moveTo>
                    <a:pt x="3967" y="2451"/>
                  </a:moveTo>
                  <a:lnTo>
                    <a:pt x="3967" y="2451"/>
                  </a:lnTo>
                  <a:lnTo>
                    <a:pt x="3968" y="2447"/>
                  </a:lnTo>
                  <a:lnTo>
                    <a:pt x="3970" y="2445"/>
                  </a:lnTo>
                  <a:lnTo>
                    <a:pt x="3972" y="2444"/>
                  </a:lnTo>
                  <a:lnTo>
                    <a:pt x="3975" y="2444"/>
                  </a:lnTo>
                  <a:lnTo>
                    <a:pt x="3977" y="2444"/>
                  </a:lnTo>
                  <a:lnTo>
                    <a:pt x="3979" y="2445"/>
                  </a:lnTo>
                  <a:lnTo>
                    <a:pt x="3981" y="2447"/>
                  </a:lnTo>
                  <a:lnTo>
                    <a:pt x="3982" y="2451"/>
                  </a:lnTo>
                  <a:lnTo>
                    <a:pt x="3982" y="2451"/>
                  </a:lnTo>
                  <a:lnTo>
                    <a:pt x="3981" y="2452"/>
                  </a:lnTo>
                  <a:lnTo>
                    <a:pt x="3979" y="2456"/>
                  </a:lnTo>
                  <a:lnTo>
                    <a:pt x="3977" y="2458"/>
                  </a:lnTo>
                  <a:lnTo>
                    <a:pt x="3975" y="2458"/>
                  </a:lnTo>
                  <a:lnTo>
                    <a:pt x="3972" y="2458"/>
                  </a:lnTo>
                  <a:lnTo>
                    <a:pt x="3970" y="2456"/>
                  </a:lnTo>
                  <a:lnTo>
                    <a:pt x="3968" y="2452"/>
                  </a:lnTo>
                  <a:lnTo>
                    <a:pt x="3967" y="2451"/>
                  </a:lnTo>
                  <a:lnTo>
                    <a:pt x="3967" y="2451"/>
                  </a:lnTo>
                  <a:close/>
                  <a:moveTo>
                    <a:pt x="3984" y="2424"/>
                  </a:moveTo>
                  <a:lnTo>
                    <a:pt x="3984" y="2424"/>
                  </a:lnTo>
                  <a:lnTo>
                    <a:pt x="3988" y="2423"/>
                  </a:lnTo>
                  <a:lnTo>
                    <a:pt x="3989" y="2424"/>
                  </a:lnTo>
                  <a:lnTo>
                    <a:pt x="3991" y="2426"/>
                  </a:lnTo>
                  <a:lnTo>
                    <a:pt x="3993" y="2430"/>
                  </a:lnTo>
                  <a:lnTo>
                    <a:pt x="3993" y="2431"/>
                  </a:lnTo>
                  <a:lnTo>
                    <a:pt x="3993" y="2435"/>
                  </a:lnTo>
                  <a:lnTo>
                    <a:pt x="3991" y="2437"/>
                  </a:lnTo>
                  <a:lnTo>
                    <a:pt x="3988" y="2438"/>
                  </a:lnTo>
                  <a:lnTo>
                    <a:pt x="3988" y="2438"/>
                  </a:lnTo>
                  <a:lnTo>
                    <a:pt x="3984" y="2438"/>
                  </a:lnTo>
                  <a:lnTo>
                    <a:pt x="3982" y="2437"/>
                  </a:lnTo>
                  <a:lnTo>
                    <a:pt x="3981" y="2435"/>
                  </a:lnTo>
                  <a:lnTo>
                    <a:pt x="3979" y="2433"/>
                  </a:lnTo>
                  <a:lnTo>
                    <a:pt x="3979" y="2430"/>
                  </a:lnTo>
                  <a:lnTo>
                    <a:pt x="3979" y="2426"/>
                  </a:lnTo>
                  <a:lnTo>
                    <a:pt x="3982" y="2424"/>
                  </a:lnTo>
                  <a:lnTo>
                    <a:pt x="3984" y="2424"/>
                  </a:lnTo>
                  <a:lnTo>
                    <a:pt x="3984" y="2424"/>
                  </a:lnTo>
                  <a:close/>
                  <a:moveTo>
                    <a:pt x="4012" y="2417"/>
                  </a:moveTo>
                  <a:lnTo>
                    <a:pt x="4012" y="2417"/>
                  </a:lnTo>
                  <a:lnTo>
                    <a:pt x="4016" y="2417"/>
                  </a:lnTo>
                  <a:lnTo>
                    <a:pt x="4017" y="2417"/>
                  </a:lnTo>
                  <a:lnTo>
                    <a:pt x="4021" y="2419"/>
                  </a:lnTo>
                  <a:lnTo>
                    <a:pt x="4021" y="2423"/>
                  </a:lnTo>
                  <a:lnTo>
                    <a:pt x="4021" y="2424"/>
                  </a:lnTo>
                  <a:lnTo>
                    <a:pt x="4021" y="2428"/>
                  </a:lnTo>
                  <a:lnTo>
                    <a:pt x="4019" y="2430"/>
                  </a:lnTo>
                  <a:lnTo>
                    <a:pt x="4016" y="2431"/>
                  </a:lnTo>
                  <a:lnTo>
                    <a:pt x="4016" y="2431"/>
                  </a:lnTo>
                  <a:lnTo>
                    <a:pt x="4014" y="2431"/>
                  </a:lnTo>
                  <a:lnTo>
                    <a:pt x="4010" y="2430"/>
                  </a:lnTo>
                  <a:lnTo>
                    <a:pt x="4009" y="2428"/>
                  </a:lnTo>
                  <a:lnTo>
                    <a:pt x="4007" y="2426"/>
                  </a:lnTo>
                  <a:lnTo>
                    <a:pt x="4007" y="2423"/>
                  </a:lnTo>
                  <a:lnTo>
                    <a:pt x="4009" y="2421"/>
                  </a:lnTo>
                  <a:lnTo>
                    <a:pt x="4010" y="2417"/>
                  </a:lnTo>
                  <a:lnTo>
                    <a:pt x="4012" y="2417"/>
                  </a:lnTo>
                  <a:lnTo>
                    <a:pt x="4012" y="2417"/>
                  </a:lnTo>
                  <a:close/>
                  <a:moveTo>
                    <a:pt x="4040" y="2410"/>
                  </a:moveTo>
                  <a:lnTo>
                    <a:pt x="4040" y="2410"/>
                  </a:lnTo>
                  <a:lnTo>
                    <a:pt x="4044" y="2410"/>
                  </a:lnTo>
                  <a:lnTo>
                    <a:pt x="4045" y="2412"/>
                  </a:lnTo>
                  <a:lnTo>
                    <a:pt x="4049" y="2414"/>
                  </a:lnTo>
                  <a:lnTo>
                    <a:pt x="4049" y="2416"/>
                  </a:lnTo>
                  <a:lnTo>
                    <a:pt x="4049" y="2419"/>
                  </a:lnTo>
                  <a:lnTo>
                    <a:pt x="4049" y="2421"/>
                  </a:lnTo>
                  <a:lnTo>
                    <a:pt x="4047" y="2424"/>
                  </a:lnTo>
                  <a:lnTo>
                    <a:pt x="4044" y="2424"/>
                  </a:lnTo>
                  <a:lnTo>
                    <a:pt x="4044" y="2424"/>
                  </a:lnTo>
                  <a:lnTo>
                    <a:pt x="4042" y="2424"/>
                  </a:lnTo>
                  <a:lnTo>
                    <a:pt x="4038" y="2424"/>
                  </a:lnTo>
                  <a:lnTo>
                    <a:pt x="4037" y="2423"/>
                  </a:lnTo>
                  <a:lnTo>
                    <a:pt x="4035" y="2419"/>
                  </a:lnTo>
                  <a:lnTo>
                    <a:pt x="4035" y="2417"/>
                  </a:lnTo>
                  <a:lnTo>
                    <a:pt x="4037" y="2414"/>
                  </a:lnTo>
                  <a:lnTo>
                    <a:pt x="4038" y="2412"/>
                  </a:lnTo>
                  <a:lnTo>
                    <a:pt x="4040" y="2410"/>
                  </a:lnTo>
                  <a:lnTo>
                    <a:pt x="4040" y="2410"/>
                  </a:lnTo>
                  <a:close/>
                  <a:moveTo>
                    <a:pt x="4073" y="2416"/>
                  </a:moveTo>
                  <a:lnTo>
                    <a:pt x="4073" y="2416"/>
                  </a:lnTo>
                  <a:lnTo>
                    <a:pt x="4075" y="2417"/>
                  </a:lnTo>
                  <a:lnTo>
                    <a:pt x="4075" y="2421"/>
                  </a:lnTo>
                  <a:lnTo>
                    <a:pt x="4073" y="2423"/>
                  </a:lnTo>
                  <a:lnTo>
                    <a:pt x="4072" y="2426"/>
                  </a:lnTo>
                  <a:lnTo>
                    <a:pt x="4070" y="2426"/>
                  </a:lnTo>
                  <a:lnTo>
                    <a:pt x="4066" y="2426"/>
                  </a:lnTo>
                  <a:lnTo>
                    <a:pt x="4065" y="2426"/>
                  </a:lnTo>
                  <a:lnTo>
                    <a:pt x="4063" y="2424"/>
                  </a:lnTo>
                  <a:lnTo>
                    <a:pt x="4063" y="2424"/>
                  </a:lnTo>
                  <a:lnTo>
                    <a:pt x="4061" y="2421"/>
                  </a:lnTo>
                  <a:lnTo>
                    <a:pt x="4061" y="2419"/>
                  </a:lnTo>
                  <a:lnTo>
                    <a:pt x="4061" y="2416"/>
                  </a:lnTo>
                  <a:lnTo>
                    <a:pt x="4063" y="2414"/>
                  </a:lnTo>
                  <a:lnTo>
                    <a:pt x="4066" y="2412"/>
                  </a:lnTo>
                  <a:lnTo>
                    <a:pt x="4068" y="2412"/>
                  </a:lnTo>
                  <a:lnTo>
                    <a:pt x="4072" y="2412"/>
                  </a:lnTo>
                  <a:lnTo>
                    <a:pt x="4073" y="2416"/>
                  </a:lnTo>
                  <a:lnTo>
                    <a:pt x="4073" y="2416"/>
                  </a:lnTo>
                  <a:close/>
                  <a:moveTo>
                    <a:pt x="4091" y="2438"/>
                  </a:moveTo>
                  <a:lnTo>
                    <a:pt x="4091" y="2438"/>
                  </a:lnTo>
                  <a:lnTo>
                    <a:pt x="4093" y="2440"/>
                  </a:lnTo>
                  <a:lnTo>
                    <a:pt x="4093" y="2444"/>
                  </a:lnTo>
                  <a:lnTo>
                    <a:pt x="4093" y="2445"/>
                  </a:lnTo>
                  <a:lnTo>
                    <a:pt x="4091" y="2449"/>
                  </a:lnTo>
                  <a:lnTo>
                    <a:pt x="4087" y="2449"/>
                  </a:lnTo>
                  <a:lnTo>
                    <a:pt x="4084" y="2449"/>
                  </a:lnTo>
                  <a:lnTo>
                    <a:pt x="4082" y="2449"/>
                  </a:lnTo>
                  <a:lnTo>
                    <a:pt x="4080" y="2447"/>
                  </a:lnTo>
                  <a:lnTo>
                    <a:pt x="4080" y="2447"/>
                  </a:lnTo>
                  <a:lnTo>
                    <a:pt x="4079" y="2444"/>
                  </a:lnTo>
                  <a:lnTo>
                    <a:pt x="4079" y="2442"/>
                  </a:lnTo>
                  <a:lnTo>
                    <a:pt x="4079" y="2438"/>
                  </a:lnTo>
                  <a:lnTo>
                    <a:pt x="4082" y="2437"/>
                  </a:lnTo>
                  <a:lnTo>
                    <a:pt x="4084" y="2435"/>
                  </a:lnTo>
                  <a:lnTo>
                    <a:pt x="4086" y="2435"/>
                  </a:lnTo>
                  <a:lnTo>
                    <a:pt x="4089" y="2437"/>
                  </a:lnTo>
                  <a:lnTo>
                    <a:pt x="4091" y="2438"/>
                  </a:lnTo>
                  <a:lnTo>
                    <a:pt x="4091" y="2438"/>
                  </a:lnTo>
                  <a:close/>
                  <a:moveTo>
                    <a:pt x="4110" y="2461"/>
                  </a:moveTo>
                  <a:lnTo>
                    <a:pt x="4110" y="2461"/>
                  </a:lnTo>
                  <a:lnTo>
                    <a:pt x="4110" y="2463"/>
                  </a:lnTo>
                  <a:lnTo>
                    <a:pt x="4110" y="2466"/>
                  </a:lnTo>
                  <a:lnTo>
                    <a:pt x="4110" y="2468"/>
                  </a:lnTo>
                  <a:lnTo>
                    <a:pt x="4108" y="2472"/>
                  </a:lnTo>
                  <a:lnTo>
                    <a:pt x="4105" y="2472"/>
                  </a:lnTo>
                  <a:lnTo>
                    <a:pt x="4103" y="2472"/>
                  </a:lnTo>
                  <a:lnTo>
                    <a:pt x="4100" y="2472"/>
                  </a:lnTo>
                  <a:lnTo>
                    <a:pt x="4098" y="2470"/>
                  </a:lnTo>
                  <a:lnTo>
                    <a:pt x="4098" y="2470"/>
                  </a:lnTo>
                  <a:lnTo>
                    <a:pt x="4096" y="2466"/>
                  </a:lnTo>
                  <a:lnTo>
                    <a:pt x="4096" y="2465"/>
                  </a:lnTo>
                  <a:lnTo>
                    <a:pt x="4098" y="2461"/>
                  </a:lnTo>
                  <a:lnTo>
                    <a:pt x="4100" y="2459"/>
                  </a:lnTo>
                  <a:lnTo>
                    <a:pt x="4101" y="2458"/>
                  </a:lnTo>
                  <a:lnTo>
                    <a:pt x="4105" y="2458"/>
                  </a:lnTo>
                  <a:lnTo>
                    <a:pt x="4107" y="2459"/>
                  </a:lnTo>
                  <a:lnTo>
                    <a:pt x="4110" y="2461"/>
                  </a:lnTo>
                  <a:lnTo>
                    <a:pt x="4110" y="2461"/>
                  </a:lnTo>
                  <a:close/>
                  <a:moveTo>
                    <a:pt x="4124" y="2486"/>
                  </a:moveTo>
                  <a:lnTo>
                    <a:pt x="4124" y="2486"/>
                  </a:lnTo>
                  <a:lnTo>
                    <a:pt x="4126" y="2489"/>
                  </a:lnTo>
                  <a:lnTo>
                    <a:pt x="4126" y="2491"/>
                  </a:lnTo>
                  <a:lnTo>
                    <a:pt x="4124" y="2494"/>
                  </a:lnTo>
                  <a:lnTo>
                    <a:pt x="4122" y="2496"/>
                  </a:lnTo>
                  <a:lnTo>
                    <a:pt x="4119" y="2496"/>
                  </a:lnTo>
                  <a:lnTo>
                    <a:pt x="4117" y="2496"/>
                  </a:lnTo>
                  <a:lnTo>
                    <a:pt x="4114" y="2496"/>
                  </a:lnTo>
                  <a:lnTo>
                    <a:pt x="4112" y="2493"/>
                  </a:lnTo>
                  <a:lnTo>
                    <a:pt x="4112" y="2493"/>
                  </a:lnTo>
                  <a:lnTo>
                    <a:pt x="4112" y="2491"/>
                  </a:lnTo>
                  <a:lnTo>
                    <a:pt x="4112" y="2487"/>
                  </a:lnTo>
                  <a:lnTo>
                    <a:pt x="4114" y="2486"/>
                  </a:lnTo>
                  <a:lnTo>
                    <a:pt x="4115" y="2484"/>
                  </a:lnTo>
                  <a:lnTo>
                    <a:pt x="4117" y="2482"/>
                  </a:lnTo>
                  <a:lnTo>
                    <a:pt x="4121" y="2482"/>
                  </a:lnTo>
                  <a:lnTo>
                    <a:pt x="4122" y="2484"/>
                  </a:lnTo>
                  <a:lnTo>
                    <a:pt x="4124" y="2486"/>
                  </a:lnTo>
                  <a:lnTo>
                    <a:pt x="4124" y="2486"/>
                  </a:lnTo>
                  <a:close/>
                  <a:moveTo>
                    <a:pt x="4138" y="2512"/>
                  </a:moveTo>
                  <a:lnTo>
                    <a:pt x="4138" y="2512"/>
                  </a:lnTo>
                  <a:lnTo>
                    <a:pt x="4140" y="2514"/>
                  </a:lnTo>
                  <a:lnTo>
                    <a:pt x="4140" y="2517"/>
                  </a:lnTo>
                  <a:lnTo>
                    <a:pt x="4138" y="2519"/>
                  </a:lnTo>
                  <a:lnTo>
                    <a:pt x="4136" y="2522"/>
                  </a:lnTo>
                  <a:lnTo>
                    <a:pt x="4133" y="2522"/>
                  </a:lnTo>
                  <a:lnTo>
                    <a:pt x="4129" y="2522"/>
                  </a:lnTo>
                  <a:lnTo>
                    <a:pt x="4128" y="2521"/>
                  </a:lnTo>
                  <a:lnTo>
                    <a:pt x="4126" y="2519"/>
                  </a:lnTo>
                  <a:lnTo>
                    <a:pt x="4126" y="2519"/>
                  </a:lnTo>
                  <a:lnTo>
                    <a:pt x="4126" y="2515"/>
                  </a:lnTo>
                  <a:lnTo>
                    <a:pt x="4126" y="2514"/>
                  </a:lnTo>
                  <a:lnTo>
                    <a:pt x="4126" y="2510"/>
                  </a:lnTo>
                  <a:lnTo>
                    <a:pt x="4129" y="2508"/>
                  </a:lnTo>
                  <a:lnTo>
                    <a:pt x="4131" y="2508"/>
                  </a:lnTo>
                  <a:lnTo>
                    <a:pt x="4135" y="2508"/>
                  </a:lnTo>
                  <a:lnTo>
                    <a:pt x="4136" y="2510"/>
                  </a:lnTo>
                  <a:lnTo>
                    <a:pt x="4138" y="2512"/>
                  </a:lnTo>
                  <a:lnTo>
                    <a:pt x="4138" y="2512"/>
                  </a:lnTo>
                  <a:close/>
                  <a:moveTo>
                    <a:pt x="4152" y="2538"/>
                  </a:moveTo>
                  <a:lnTo>
                    <a:pt x="4152" y="2538"/>
                  </a:lnTo>
                  <a:lnTo>
                    <a:pt x="4154" y="2540"/>
                  </a:lnTo>
                  <a:lnTo>
                    <a:pt x="4152" y="2543"/>
                  </a:lnTo>
                  <a:lnTo>
                    <a:pt x="4152" y="2545"/>
                  </a:lnTo>
                  <a:lnTo>
                    <a:pt x="4150" y="2547"/>
                  </a:lnTo>
                  <a:lnTo>
                    <a:pt x="4147" y="2549"/>
                  </a:lnTo>
                  <a:lnTo>
                    <a:pt x="4143" y="2547"/>
                  </a:lnTo>
                  <a:lnTo>
                    <a:pt x="4142" y="2547"/>
                  </a:lnTo>
                  <a:lnTo>
                    <a:pt x="4140" y="2545"/>
                  </a:lnTo>
                  <a:lnTo>
                    <a:pt x="4140" y="2545"/>
                  </a:lnTo>
                  <a:lnTo>
                    <a:pt x="4138" y="2542"/>
                  </a:lnTo>
                  <a:lnTo>
                    <a:pt x="4140" y="2538"/>
                  </a:lnTo>
                  <a:lnTo>
                    <a:pt x="4140" y="2536"/>
                  </a:lnTo>
                  <a:lnTo>
                    <a:pt x="4143" y="2535"/>
                  </a:lnTo>
                  <a:lnTo>
                    <a:pt x="4145" y="2533"/>
                  </a:lnTo>
                  <a:lnTo>
                    <a:pt x="4149" y="2535"/>
                  </a:lnTo>
                  <a:lnTo>
                    <a:pt x="4150" y="2535"/>
                  </a:lnTo>
                  <a:lnTo>
                    <a:pt x="4152" y="2538"/>
                  </a:lnTo>
                  <a:lnTo>
                    <a:pt x="4152" y="2538"/>
                  </a:lnTo>
                  <a:close/>
                  <a:moveTo>
                    <a:pt x="4161" y="2568"/>
                  </a:moveTo>
                  <a:lnTo>
                    <a:pt x="4161" y="2568"/>
                  </a:lnTo>
                  <a:lnTo>
                    <a:pt x="4159" y="2571"/>
                  </a:lnTo>
                  <a:lnTo>
                    <a:pt x="4157" y="2573"/>
                  </a:lnTo>
                  <a:lnTo>
                    <a:pt x="4156" y="2575"/>
                  </a:lnTo>
                  <a:lnTo>
                    <a:pt x="4152" y="2575"/>
                  </a:lnTo>
                  <a:lnTo>
                    <a:pt x="4150" y="2575"/>
                  </a:lnTo>
                  <a:lnTo>
                    <a:pt x="4147" y="2573"/>
                  </a:lnTo>
                  <a:lnTo>
                    <a:pt x="4147" y="2571"/>
                  </a:lnTo>
                  <a:lnTo>
                    <a:pt x="4145" y="2568"/>
                  </a:lnTo>
                  <a:lnTo>
                    <a:pt x="4145" y="2568"/>
                  </a:lnTo>
                  <a:lnTo>
                    <a:pt x="4147" y="2564"/>
                  </a:lnTo>
                  <a:lnTo>
                    <a:pt x="4147" y="2563"/>
                  </a:lnTo>
                  <a:lnTo>
                    <a:pt x="4150" y="2561"/>
                  </a:lnTo>
                  <a:lnTo>
                    <a:pt x="4152" y="2561"/>
                  </a:lnTo>
                  <a:lnTo>
                    <a:pt x="4156" y="2561"/>
                  </a:lnTo>
                  <a:lnTo>
                    <a:pt x="4157" y="2563"/>
                  </a:lnTo>
                  <a:lnTo>
                    <a:pt x="4159" y="2564"/>
                  </a:lnTo>
                  <a:lnTo>
                    <a:pt x="4161" y="2568"/>
                  </a:lnTo>
                  <a:lnTo>
                    <a:pt x="4161" y="2568"/>
                  </a:lnTo>
                  <a:close/>
                  <a:moveTo>
                    <a:pt x="4161" y="2598"/>
                  </a:moveTo>
                  <a:lnTo>
                    <a:pt x="4161" y="2598"/>
                  </a:lnTo>
                  <a:lnTo>
                    <a:pt x="4159" y="2599"/>
                  </a:lnTo>
                  <a:lnTo>
                    <a:pt x="4157" y="2601"/>
                  </a:lnTo>
                  <a:lnTo>
                    <a:pt x="4156" y="2603"/>
                  </a:lnTo>
                  <a:lnTo>
                    <a:pt x="4152" y="2605"/>
                  </a:lnTo>
                  <a:lnTo>
                    <a:pt x="4150" y="2603"/>
                  </a:lnTo>
                  <a:lnTo>
                    <a:pt x="4147" y="2601"/>
                  </a:lnTo>
                  <a:lnTo>
                    <a:pt x="4147" y="2599"/>
                  </a:lnTo>
                  <a:lnTo>
                    <a:pt x="4145" y="2598"/>
                  </a:lnTo>
                  <a:lnTo>
                    <a:pt x="4145" y="2598"/>
                  </a:lnTo>
                  <a:lnTo>
                    <a:pt x="4147" y="2594"/>
                  </a:lnTo>
                  <a:lnTo>
                    <a:pt x="4147" y="2592"/>
                  </a:lnTo>
                  <a:lnTo>
                    <a:pt x="4150" y="2591"/>
                  </a:lnTo>
                  <a:lnTo>
                    <a:pt x="4152" y="2591"/>
                  </a:lnTo>
                  <a:lnTo>
                    <a:pt x="4156" y="2591"/>
                  </a:lnTo>
                  <a:lnTo>
                    <a:pt x="4157" y="2592"/>
                  </a:lnTo>
                  <a:lnTo>
                    <a:pt x="4159" y="2594"/>
                  </a:lnTo>
                  <a:lnTo>
                    <a:pt x="4161" y="2598"/>
                  </a:lnTo>
                  <a:lnTo>
                    <a:pt x="4161" y="2598"/>
                  </a:lnTo>
                  <a:close/>
                  <a:moveTo>
                    <a:pt x="4161" y="2626"/>
                  </a:moveTo>
                  <a:lnTo>
                    <a:pt x="4161" y="2626"/>
                  </a:lnTo>
                  <a:lnTo>
                    <a:pt x="4159" y="2629"/>
                  </a:lnTo>
                  <a:lnTo>
                    <a:pt x="4157" y="2631"/>
                  </a:lnTo>
                  <a:lnTo>
                    <a:pt x="4156" y="2633"/>
                  </a:lnTo>
                  <a:lnTo>
                    <a:pt x="4152" y="2633"/>
                  </a:lnTo>
                  <a:lnTo>
                    <a:pt x="4150" y="2633"/>
                  </a:lnTo>
                  <a:lnTo>
                    <a:pt x="4147" y="2631"/>
                  </a:lnTo>
                  <a:lnTo>
                    <a:pt x="4147" y="2629"/>
                  </a:lnTo>
                  <a:lnTo>
                    <a:pt x="4145" y="2626"/>
                  </a:lnTo>
                  <a:lnTo>
                    <a:pt x="4145" y="2626"/>
                  </a:lnTo>
                  <a:lnTo>
                    <a:pt x="4147" y="2622"/>
                  </a:lnTo>
                  <a:lnTo>
                    <a:pt x="4147" y="2620"/>
                  </a:lnTo>
                  <a:lnTo>
                    <a:pt x="4150" y="2619"/>
                  </a:lnTo>
                  <a:lnTo>
                    <a:pt x="4152" y="2619"/>
                  </a:lnTo>
                  <a:lnTo>
                    <a:pt x="4156" y="2619"/>
                  </a:lnTo>
                  <a:lnTo>
                    <a:pt x="4157" y="2620"/>
                  </a:lnTo>
                  <a:lnTo>
                    <a:pt x="4159" y="2622"/>
                  </a:lnTo>
                  <a:lnTo>
                    <a:pt x="4161" y="2626"/>
                  </a:lnTo>
                  <a:lnTo>
                    <a:pt x="4161" y="2626"/>
                  </a:lnTo>
                  <a:close/>
                  <a:moveTo>
                    <a:pt x="4161" y="2655"/>
                  </a:moveTo>
                  <a:lnTo>
                    <a:pt x="4161" y="2655"/>
                  </a:lnTo>
                  <a:lnTo>
                    <a:pt x="4159" y="2657"/>
                  </a:lnTo>
                  <a:lnTo>
                    <a:pt x="4157" y="2661"/>
                  </a:lnTo>
                  <a:lnTo>
                    <a:pt x="4156" y="2661"/>
                  </a:lnTo>
                  <a:lnTo>
                    <a:pt x="4152" y="2662"/>
                  </a:lnTo>
                  <a:lnTo>
                    <a:pt x="4150" y="2661"/>
                  </a:lnTo>
                  <a:lnTo>
                    <a:pt x="4147" y="2661"/>
                  </a:lnTo>
                  <a:lnTo>
                    <a:pt x="4147" y="2657"/>
                  </a:lnTo>
                  <a:lnTo>
                    <a:pt x="4145" y="2655"/>
                  </a:lnTo>
                  <a:lnTo>
                    <a:pt x="4145" y="2655"/>
                  </a:lnTo>
                  <a:lnTo>
                    <a:pt x="4147" y="2652"/>
                  </a:lnTo>
                  <a:lnTo>
                    <a:pt x="4147" y="2650"/>
                  </a:lnTo>
                  <a:lnTo>
                    <a:pt x="4150" y="2648"/>
                  </a:lnTo>
                  <a:lnTo>
                    <a:pt x="4152" y="2648"/>
                  </a:lnTo>
                  <a:lnTo>
                    <a:pt x="4156" y="2648"/>
                  </a:lnTo>
                  <a:lnTo>
                    <a:pt x="4157" y="2650"/>
                  </a:lnTo>
                  <a:lnTo>
                    <a:pt x="4159" y="2652"/>
                  </a:lnTo>
                  <a:lnTo>
                    <a:pt x="4161" y="2655"/>
                  </a:lnTo>
                  <a:lnTo>
                    <a:pt x="4161" y="2655"/>
                  </a:lnTo>
                  <a:close/>
                  <a:moveTo>
                    <a:pt x="4163" y="2678"/>
                  </a:moveTo>
                  <a:lnTo>
                    <a:pt x="4163" y="2678"/>
                  </a:lnTo>
                  <a:lnTo>
                    <a:pt x="4164" y="2680"/>
                  </a:lnTo>
                  <a:lnTo>
                    <a:pt x="4164" y="2683"/>
                  </a:lnTo>
                  <a:lnTo>
                    <a:pt x="4163" y="2685"/>
                  </a:lnTo>
                  <a:lnTo>
                    <a:pt x="4161" y="2689"/>
                  </a:lnTo>
                  <a:lnTo>
                    <a:pt x="4159" y="2689"/>
                  </a:lnTo>
                  <a:lnTo>
                    <a:pt x="4156" y="2689"/>
                  </a:lnTo>
                  <a:lnTo>
                    <a:pt x="4154" y="2689"/>
                  </a:lnTo>
                  <a:lnTo>
                    <a:pt x="4152" y="2687"/>
                  </a:lnTo>
                  <a:lnTo>
                    <a:pt x="4152" y="2687"/>
                  </a:lnTo>
                  <a:lnTo>
                    <a:pt x="4150" y="2685"/>
                  </a:lnTo>
                  <a:lnTo>
                    <a:pt x="4150" y="2682"/>
                  </a:lnTo>
                  <a:lnTo>
                    <a:pt x="4150" y="2678"/>
                  </a:lnTo>
                  <a:lnTo>
                    <a:pt x="4152" y="2676"/>
                  </a:lnTo>
                  <a:lnTo>
                    <a:pt x="4154" y="2675"/>
                  </a:lnTo>
                  <a:lnTo>
                    <a:pt x="4157" y="2675"/>
                  </a:lnTo>
                  <a:lnTo>
                    <a:pt x="4161" y="2676"/>
                  </a:lnTo>
                  <a:lnTo>
                    <a:pt x="4163" y="2678"/>
                  </a:lnTo>
                  <a:lnTo>
                    <a:pt x="4163" y="2678"/>
                  </a:lnTo>
                  <a:close/>
                  <a:moveTo>
                    <a:pt x="4182" y="2699"/>
                  </a:moveTo>
                  <a:lnTo>
                    <a:pt x="4182" y="2699"/>
                  </a:lnTo>
                  <a:lnTo>
                    <a:pt x="4182" y="2703"/>
                  </a:lnTo>
                  <a:lnTo>
                    <a:pt x="4182" y="2704"/>
                  </a:lnTo>
                  <a:lnTo>
                    <a:pt x="4182" y="2708"/>
                  </a:lnTo>
                  <a:lnTo>
                    <a:pt x="4180" y="2710"/>
                  </a:lnTo>
                  <a:lnTo>
                    <a:pt x="4178" y="2711"/>
                  </a:lnTo>
                  <a:lnTo>
                    <a:pt x="4175" y="2711"/>
                  </a:lnTo>
                  <a:lnTo>
                    <a:pt x="4173" y="2711"/>
                  </a:lnTo>
                  <a:lnTo>
                    <a:pt x="4170" y="2710"/>
                  </a:lnTo>
                  <a:lnTo>
                    <a:pt x="4170" y="2710"/>
                  </a:lnTo>
                  <a:lnTo>
                    <a:pt x="4168" y="2706"/>
                  </a:lnTo>
                  <a:lnTo>
                    <a:pt x="4168" y="2704"/>
                  </a:lnTo>
                  <a:lnTo>
                    <a:pt x="4170" y="2701"/>
                  </a:lnTo>
                  <a:lnTo>
                    <a:pt x="4171" y="2699"/>
                  </a:lnTo>
                  <a:lnTo>
                    <a:pt x="4173" y="2697"/>
                  </a:lnTo>
                  <a:lnTo>
                    <a:pt x="4177" y="2697"/>
                  </a:lnTo>
                  <a:lnTo>
                    <a:pt x="4178" y="2697"/>
                  </a:lnTo>
                  <a:lnTo>
                    <a:pt x="4182" y="2699"/>
                  </a:lnTo>
                  <a:lnTo>
                    <a:pt x="4182" y="2699"/>
                  </a:lnTo>
                  <a:close/>
                  <a:moveTo>
                    <a:pt x="4199" y="2722"/>
                  </a:moveTo>
                  <a:lnTo>
                    <a:pt x="4199" y="2722"/>
                  </a:lnTo>
                  <a:lnTo>
                    <a:pt x="4201" y="2724"/>
                  </a:lnTo>
                  <a:lnTo>
                    <a:pt x="4201" y="2727"/>
                  </a:lnTo>
                  <a:lnTo>
                    <a:pt x="4201" y="2729"/>
                  </a:lnTo>
                  <a:lnTo>
                    <a:pt x="4199" y="2732"/>
                  </a:lnTo>
                  <a:lnTo>
                    <a:pt x="4196" y="2732"/>
                  </a:lnTo>
                  <a:lnTo>
                    <a:pt x="4194" y="2734"/>
                  </a:lnTo>
                  <a:lnTo>
                    <a:pt x="4191" y="2732"/>
                  </a:lnTo>
                  <a:lnTo>
                    <a:pt x="4189" y="2731"/>
                  </a:lnTo>
                  <a:lnTo>
                    <a:pt x="4189" y="2731"/>
                  </a:lnTo>
                  <a:lnTo>
                    <a:pt x="4187" y="2729"/>
                  </a:lnTo>
                  <a:lnTo>
                    <a:pt x="4187" y="2725"/>
                  </a:lnTo>
                  <a:lnTo>
                    <a:pt x="4187" y="2724"/>
                  </a:lnTo>
                  <a:lnTo>
                    <a:pt x="4191" y="2720"/>
                  </a:lnTo>
                  <a:lnTo>
                    <a:pt x="4192" y="2718"/>
                  </a:lnTo>
                  <a:lnTo>
                    <a:pt x="4194" y="2718"/>
                  </a:lnTo>
                  <a:lnTo>
                    <a:pt x="4198" y="2720"/>
                  </a:lnTo>
                  <a:lnTo>
                    <a:pt x="4199" y="2722"/>
                  </a:lnTo>
                  <a:lnTo>
                    <a:pt x="4199" y="2722"/>
                  </a:lnTo>
                  <a:close/>
                  <a:moveTo>
                    <a:pt x="4219" y="2745"/>
                  </a:moveTo>
                  <a:lnTo>
                    <a:pt x="4219" y="2745"/>
                  </a:lnTo>
                  <a:lnTo>
                    <a:pt x="4220" y="2746"/>
                  </a:lnTo>
                  <a:lnTo>
                    <a:pt x="4220" y="2748"/>
                  </a:lnTo>
                  <a:lnTo>
                    <a:pt x="4220" y="2752"/>
                  </a:lnTo>
                  <a:lnTo>
                    <a:pt x="4219" y="2753"/>
                  </a:lnTo>
                  <a:lnTo>
                    <a:pt x="4215" y="2755"/>
                  </a:lnTo>
                  <a:lnTo>
                    <a:pt x="4213" y="2755"/>
                  </a:lnTo>
                  <a:lnTo>
                    <a:pt x="4210" y="2755"/>
                  </a:lnTo>
                  <a:lnTo>
                    <a:pt x="4208" y="2753"/>
                  </a:lnTo>
                  <a:lnTo>
                    <a:pt x="4208" y="2753"/>
                  </a:lnTo>
                  <a:lnTo>
                    <a:pt x="4206" y="2750"/>
                  </a:lnTo>
                  <a:lnTo>
                    <a:pt x="4206" y="2748"/>
                  </a:lnTo>
                  <a:lnTo>
                    <a:pt x="4206" y="2745"/>
                  </a:lnTo>
                  <a:lnTo>
                    <a:pt x="4208" y="2743"/>
                  </a:lnTo>
                  <a:lnTo>
                    <a:pt x="4212" y="2741"/>
                  </a:lnTo>
                  <a:lnTo>
                    <a:pt x="4213" y="2741"/>
                  </a:lnTo>
                  <a:lnTo>
                    <a:pt x="4217" y="2741"/>
                  </a:lnTo>
                  <a:lnTo>
                    <a:pt x="4219" y="2745"/>
                  </a:lnTo>
                  <a:lnTo>
                    <a:pt x="4219" y="2745"/>
                  </a:lnTo>
                  <a:close/>
                  <a:moveTo>
                    <a:pt x="4238" y="2764"/>
                  </a:moveTo>
                  <a:lnTo>
                    <a:pt x="4238" y="2764"/>
                  </a:lnTo>
                  <a:lnTo>
                    <a:pt x="4240" y="2766"/>
                  </a:lnTo>
                  <a:lnTo>
                    <a:pt x="4240" y="2767"/>
                  </a:lnTo>
                  <a:lnTo>
                    <a:pt x="4240" y="2771"/>
                  </a:lnTo>
                  <a:lnTo>
                    <a:pt x="4240" y="2773"/>
                  </a:lnTo>
                  <a:lnTo>
                    <a:pt x="4238" y="2774"/>
                  </a:lnTo>
                  <a:lnTo>
                    <a:pt x="4234" y="2776"/>
                  </a:lnTo>
                  <a:lnTo>
                    <a:pt x="4231" y="2776"/>
                  </a:lnTo>
                  <a:lnTo>
                    <a:pt x="4229" y="2774"/>
                  </a:lnTo>
                  <a:lnTo>
                    <a:pt x="4229" y="2774"/>
                  </a:lnTo>
                  <a:lnTo>
                    <a:pt x="4227" y="2773"/>
                  </a:lnTo>
                  <a:lnTo>
                    <a:pt x="4226" y="2771"/>
                  </a:lnTo>
                  <a:lnTo>
                    <a:pt x="4226" y="2767"/>
                  </a:lnTo>
                  <a:lnTo>
                    <a:pt x="4227" y="2766"/>
                  </a:lnTo>
                  <a:lnTo>
                    <a:pt x="4229" y="2762"/>
                  </a:lnTo>
                  <a:lnTo>
                    <a:pt x="4233" y="2762"/>
                  </a:lnTo>
                  <a:lnTo>
                    <a:pt x="4234" y="2762"/>
                  </a:lnTo>
                  <a:lnTo>
                    <a:pt x="4238" y="2764"/>
                  </a:lnTo>
                  <a:lnTo>
                    <a:pt x="4238" y="2764"/>
                  </a:lnTo>
                  <a:close/>
                  <a:moveTo>
                    <a:pt x="4261" y="2780"/>
                  </a:moveTo>
                  <a:lnTo>
                    <a:pt x="4261" y="2780"/>
                  </a:lnTo>
                  <a:lnTo>
                    <a:pt x="4262" y="2781"/>
                  </a:lnTo>
                  <a:lnTo>
                    <a:pt x="4264" y="2785"/>
                  </a:lnTo>
                  <a:lnTo>
                    <a:pt x="4264" y="2787"/>
                  </a:lnTo>
                  <a:lnTo>
                    <a:pt x="4262" y="2790"/>
                  </a:lnTo>
                  <a:lnTo>
                    <a:pt x="4261" y="2792"/>
                  </a:lnTo>
                  <a:lnTo>
                    <a:pt x="4257" y="2794"/>
                  </a:lnTo>
                  <a:lnTo>
                    <a:pt x="4255" y="2794"/>
                  </a:lnTo>
                  <a:lnTo>
                    <a:pt x="4254" y="2792"/>
                  </a:lnTo>
                  <a:lnTo>
                    <a:pt x="4254" y="2792"/>
                  </a:lnTo>
                  <a:lnTo>
                    <a:pt x="4250" y="2790"/>
                  </a:lnTo>
                  <a:lnTo>
                    <a:pt x="4250" y="2787"/>
                  </a:lnTo>
                  <a:lnTo>
                    <a:pt x="4250" y="2785"/>
                  </a:lnTo>
                  <a:lnTo>
                    <a:pt x="4252" y="2781"/>
                  </a:lnTo>
                  <a:lnTo>
                    <a:pt x="4254" y="2780"/>
                  </a:lnTo>
                  <a:lnTo>
                    <a:pt x="4255" y="2778"/>
                  </a:lnTo>
                  <a:lnTo>
                    <a:pt x="4259" y="2778"/>
                  </a:lnTo>
                  <a:lnTo>
                    <a:pt x="4261" y="2780"/>
                  </a:lnTo>
                  <a:lnTo>
                    <a:pt x="4261" y="2780"/>
                  </a:lnTo>
                  <a:close/>
                  <a:moveTo>
                    <a:pt x="4285" y="2797"/>
                  </a:moveTo>
                  <a:lnTo>
                    <a:pt x="4285" y="2797"/>
                  </a:lnTo>
                  <a:lnTo>
                    <a:pt x="4287" y="2799"/>
                  </a:lnTo>
                  <a:lnTo>
                    <a:pt x="4287" y="2801"/>
                  </a:lnTo>
                  <a:lnTo>
                    <a:pt x="4287" y="2804"/>
                  </a:lnTo>
                  <a:lnTo>
                    <a:pt x="4287" y="2808"/>
                  </a:lnTo>
                  <a:lnTo>
                    <a:pt x="4283" y="2809"/>
                  </a:lnTo>
                  <a:lnTo>
                    <a:pt x="4282" y="2809"/>
                  </a:lnTo>
                  <a:lnTo>
                    <a:pt x="4278" y="2809"/>
                  </a:lnTo>
                  <a:lnTo>
                    <a:pt x="4276" y="2809"/>
                  </a:lnTo>
                  <a:lnTo>
                    <a:pt x="4276" y="2809"/>
                  </a:lnTo>
                  <a:lnTo>
                    <a:pt x="4275" y="2806"/>
                  </a:lnTo>
                  <a:lnTo>
                    <a:pt x="4273" y="2804"/>
                  </a:lnTo>
                  <a:lnTo>
                    <a:pt x="4273" y="2801"/>
                  </a:lnTo>
                  <a:lnTo>
                    <a:pt x="4275" y="2799"/>
                  </a:lnTo>
                  <a:lnTo>
                    <a:pt x="4276" y="2797"/>
                  </a:lnTo>
                  <a:lnTo>
                    <a:pt x="4280" y="2795"/>
                  </a:lnTo>
                  <a:lnTo>
                    <a:pt x="4282" y="2795"/>
                  </a:lnTo>
                  <a:lnTo>
                    <a:pt x="4285" y="2797"/>
                  </a:lnTo>
                  <a:lnTo>
                    <a:pt x="4285" y="2797"/>
                  </a:lnTo>
                  <a:close/>
                  <a:moveTo>
                    <a:pt x="4308" y="2813"/>
                  </a:moveTo>
                  <a:lnTo>
                    <a:pt x="4308" y="2813"/>
                  </a:lnTo>
                  <a:lnTo>
                    <a:pt x="4310" y="2815"/>
                  </a:lnTo>
                  <a:lnTo>
                    <a:pt x="4311" y="2818"/>
                  </a:lnTo>
                  <a:lnTo>
                    <a:pt x="4311" y="2822"/>
                  </a:lnTo>
                  <a:lnTo>
                    <a:pt x="4310" y="2823"/>
                  </a:lnTo>
                  <a:lnTo>
                    <a:pt x="4308" y="2825"/>
                  </a:lnTo>
                  <a:lnTo>
                    <a:pt x="4304" y="2827"/>
                  </a:lnTo>
                  <a:lnTo>
                    <a:pt x="4303" y="2827"/>
                  </a:lnTo>
                  <a:lnTo>
                    <a:pt x="4299" y="2825"/>
                  </a:lnTo>
                  <a:lnTo>
                    <a:pt x="4299" y="2825"/>
                  </a:lnTo>
                  <a:lnTo>
                    <a:pt x="4297" y="2823"/>
                  </a:lnTo>
                  <a:lnTo>
                    <a:pt x="4297" y="2820"/>
                  </a:lnTo>
                  <a:lnTo>
                    <a:pt x="4297" y="2818"/>
                  </a:lnTo>
                  <a:lnTo>
                    <a:pt x="4297" y="2815"/>
                  </a:lnTo>
                  <a:lnTo>
                    <a:pt x="4301" y="2813"/>
                  </a:lnTo>
                  <a:lnTo>
                    <a:pt x="4303" y="2813"/>
                  </a:lnTo>
                  <a:lnTo>
                    <a:pt x="4306" y="2813"/>
                  </a:lnTo>
                  <a:lnTo>
                    <a:pt x="4308" y="2813"/>
                  </a:lnTo>
                  <a:lnTo>
                    <a:pt x="4308" y="2813"/>
                  </a:lnTo>
                  <a:close/>
                  <a:moveTo>
                    <a:pt x="4332" y="2830"/>
                  </a:moveTo>
                  <a:lnTo>
                    <a:pt x="4332" y="2830"/>
                  </a:lnTo>
                  <a:lnTo>
                    <a:pt x="4334" y="2832"/>
                  </a:lnTo>
                  <a:lnTo>
                    <a:pt x="4334" y="2836"/>
                  </a:lnTo>
                  <a:lnTo>
                    <a:pt x="4334" y="2837"/>
                  </a:lnTo>
                  <a:lnTo>
                    <a:pt x="4334" y="2841"/>
                  </a:lnTo>
                  <a:lnTo>
                    <a:pt x="4331" y="2843"/>
                  </a:lnTo>
                  <a:lnTo>
                    <a:pt x="4329" y="2843"/>
                  </a:lnTo>
                  <a:lnTo>
                    <a:pt x="4325" y="2843"/>
                  </a:lnTo>
                  <a:lnTo>
                    <a:pt x="4324" y="2843"/>
                  </a:lnTo>
                  <a:lnTo>
                    <a:pt x="4324" y="2843"/>
                  </a:lnTo>
                  <a:lnTo>
                    <a:pt x="4322" y="2839"/>
                  </a:lnTo>
                  <a:lnTo>
                    <a:pt x="4320" y="2837"/>
                  </a:lnTo>
                  <a:lnTo>
                    <a:pt x="4320" y="2834"/>
                  </a:lnTo>
                  <a:lnTo>
                    <a:pt x="4322" y="2832"/>
                  </a:lnTo>
                  <a:lnTo>
                    <a:pt x="4324" y="2830"/>
                  </a:lnTo>
                  <a:lnTo>
                    <a:pt x="4327" y="2829"/>
                  </a:lnTo>
                  <a:lnTo>
                    <a:pt x="4329" y="2829"/>
                  </a:lnTo>
                  <a:lnTo>
                    <a:pt x="4332" y="2830"/>
                  </a:lnTo>
                  <a:lnTo>
                    <a:pt x="4332" y="2830"/>
                  </a:lnTo>
                  <a:close/>
                  <a:moveTo>
                    <a:pt x="4357" y="2832"/>
                  </a:moveTo>
                  <a:lnTo>
                    <a:pt x="4357" y="2832"/>
                  </a:lnTo>
                  <a:lnTo>
                    <a:pt x="4359" y="2834"/>
                  </a:lnTo>
                  <a:lnTo>
                    <a:pt x="4362" y="2836"/>
                  </a:lnTo>
                  <a:lnTo>
                    <a:pt x="4362" y="2837"/>
                  </a:lnTo>
                  <a:lnTo>
                    <a:pt x="4364" y="2841"/>
                  </a:lnTo>
                  <a:lnTo>
                    <a:pt x="4362" y="2843"/>
                  </a:lnTo>
                  <a:lnTo>
                    <a:pt x="4360" y="2844"/>
                  </a:lnTo>
                  <a:lnTo>
                    <a:pt x="4359" y="2846"/>
                  </a:lnTo>
                  <a:lnTo>
                    <a:pt x="4355" y="2848"/>
                  </a:lnTo>
                  <a:lnTo>
                    <a:pt x="4355" y="2848"/>
                  </a:lnTo>
                  <a:lnTo>
                    <a:pt x="4352" y="2846"/>
                  </a:lnTo>
                  <a:lnTo>
                    <a:pt x="4350" y="2844"/>
                  </a:lnTo>
                  <a:lnTo>
                    <a:pt x="4348" y="2843"/>
                  </a:lnTo>
                  <a:lnTo>
                    <a:pt x="4348" y="2839"/>
                  </a:lnTo>
                  <a:lnTo>
                    <a:pt x="4350" y="2836"/>
                  </a:lnTo>
                  <a:lnTo>
                    <a:pt x="4352" y="2834"/>
                  </a:lnTo>
                  <a:lnTo>
                    <a:pt x="4353" y="2832"/>
                  </a:lnTo>
                  <a:lnTo>
                    <a:pt x="4357" y="2832"/>
                  </a:lnTo>
                  <a:lnTo>
                    <a:pt x="4357" y="2832"/>
                  </a:lnTo>
                  <a:close/>
                  <a:moveTo>
                    <a:pt x="4385" y="2834"/>
                  </a:moveTo>
                  <a:lnTo>
                    <a:pt x="4385" y="2834"/>
                  </a:lnTo>
                  <a:lnTo>
                    <a:pt x="4388" y="2836"/>
                  </a:lnTo>
                  <a:lnTo>
                    <a:pt x="4390" y="2837"/>
                  </a:lnTo>
                  <a:lnTo>
                    <a:pt x="4392" y="2839"/>
                  </a:lnTo>
                  <a:lnTo>
                    <a:pt x="4392" y="2843"/>
                  </a:lnTo>
                  <a:lnTo>
                    <a:pt x="4392" y="2844"/>
                  </a:lnTo>
                  <a:lnTo>
                    <a:pt x="4390" y="2846"/>
                  </a:lnTo>
                  <a:lnTo>
                    <a:pt x="4387" y="2848"/>
                  </a:lnTo>
                  <a:lnTo>
                    <a:pt x="4385" y="2850"/>
                  </a:lnTo>
                  <a:lnTo>
                    <a:pt x="4385" y="2850"/>
                  </a:lnTo>
                  <a:lnTo>
                    <a:pt x="4381" y="2848"/>
                  </a:lnTo>
                  <a:lnTo>
                    <a:pt x="4380" y="2846"/>
                  </a:lnTo>
                  <a:lnTo>
                    <a:pt x="4378" y="2844"/>
                  </a:lnTo>
                  <a:lnTo>
                    <a:pt x="4378" y="2841"/>
                  </a:lnTo>
                  <a:lnTo>
                    <a:pt x="4378" y="2837"/>
                  </a:lnTo>
                  <a:lnTo>
                    <a:pt x="4380" y="2836"/>
                  </a:lnTo>
                  <a:lnTo>
                    <a:pt x="4383" y="2834"/>
                  </a:lnTo>
                  <a:lnTo>
                    <a:pt x="4385" y="2834"/>
                  </a:lnTo>
                  <a:lnTo>
                    <a:pt x="4385" y="2834"/>
                  </a:lnTo>
                  <a:close/>
                  <a:moveTo>
                    <a:pt x="4415" y="2836"/>
                  </a:moveTo>
                  <a:lnTo>
                    <a:pt x="4415" y="2836"/>
                  </a:lnTo>
                  <a:lnTo>
                    <a:pt x="4416" y="2837"/>
                  </a:lnTo>
                  <a:lnTo>
                    <a:pt x="4420" y="2839"/>
                  </a:lnTo>
                  <a:lnTo>
                    <a:pt x="4420" y="2841"/>
                  </a:lnTo>
                  <a:lnTo>
                    <a:pt x="4422" y="2844"/>
                  </a:lnTo>
                  <a:lnTo>
                    <a:pt x="4420" y="2846"/>
                  </a:lnTo>
                  <a:lnTo>
                    <a:pt x="4418" y="2850"/>
                  </a:lnTo>
                  <a:lnTo>
                    <a:pt x="4416" y="2850"/>
                  </a:lnTo>
                  <a:lnTo>
                    <a:pt x="4413" y="2851"/>
                  </a:lnTo>
                  <a:lnTo>
                    <a:pt x="4413" y="2851"/>
                  </a:lnTo>
                  <a:lnTo>
                    <a:pt x="4411" y="2850"/>
                  </a:lnTo>
                  <a:lnTo>
                    <a:pt x="4408" y="2848"/>
                  </a:lnTo>
                  <a:lnTo>
                    <a:pt x="4406" y="2846"/>
                  </a:lnTo>
                  <a:lnTo>
                    <a:pt x="4406" y="2843"/>
                  </a:lnTo>
                  <a:lnTo>
                    <a:pt x="4408" y="2839"/>
                  </a:lnTo>
                  <a:lnTo>
                    <a:pt x="4409" y="2837"/>
                  </a:lnTo>
                  <a:lnTo>
                    <a:pt x="4411" y="2836"/>
                  </a:lnTo>
                  <a:lnTo>
                    <a:pt x="4415" y="2836"/>
                  </a:lnTo>
                  <a:lnTo>
                    <a:pt x="4415" y="2836"/>
                  </a:lnTo>
                  <a:close/>
                  <a:moveTo>
                    <a:pt x="4443" y="2837"/>
                  </a:moveTo>
                  <a:lnTo>
                    <a:pt x="4443" y="2837"/>
                  </a:lnTo>
                  <a:lnTo>
                    <a:pt x="4446" y="2839"/>
                  </a:lnTo>
                  <a:lnTo>
                    <a:pt x="4448" y="2841"/>
                  </a:lnTo>
                  <a:lnTo>
                    <a:pt x="4450" y="2843"/>
                  </a:lnTo>
                  <a:lnTo>
                    <a:pt x="4450" y="2846"/>
                  </a:lnTo>
                  <a:lnTo>
                    <a:pt x="4450" y="2848"/>
                  </a:lnTo>
                  <a:lnTo>
                    <a:pt x="4448" y="2851"/>
                  </a:lnTo>
                  <a:lnTo>
                    <a:pt x="4444" y="2851"/>
                  </a:lnTo>
                  <a:lnTo>
                    <a:pt x="4443" y="2853"/>
                  </a:lnTo>
                  <a:lnTo>
                    <a:pt x="4443" y="2853"/>
                  </a:lnTo>
                  <a:lnTo>
                    <a:pt x="4439" y="2851"/>
                  </a:lnTo>
                  <a:lnTo>
                    <a:pt x="4437" y="2850"/>
                  </a:lnTo>
                  <a:lnTo>
                    <a:pt x="4436" y="2848"/>
                  </a:lnTo>
                  <a:lnTo>
                    <a:pt x="4436" y="2844"/>
                  </a:lnTo>
                  <a:lnTo>
                    <a:pt x="4436" y="2843"/>
                  </a:lnTo>
                  <a:lnTo>
                    <a:pt x="4437" y="2839"/>
                  </a:lnTo>
                  <a:lnTo>
                    <a:pt x="4441" y="2839"/>
                  </a:lnTo>
                  <a:lnTo>
                    <a:pt x="4443" y="2837"/>
                  </a:lnTo>
                  <a:lnTo>
                    <a:pt x="4443" y="2837"/>
                  </a:lnTo>
                  <a:close/>
                  <a:moveTo>
                    <a:pt x="4473" y="2839"/>
                  </a:moveTo>
                  <a:lnTo>
                    <a:pt x="4473" y="2839"/>
                  </a:lnTo>
                  <a:lnTo>
                    <a:pt x="4474" y="2841"/>
                  </a:lnTo>
                  <a:lnTo>
                    <a:pt x="4478" y="2843"/>
                  </a:lnTo>
                  <a:lnTo>
                    <a:pt x="4478" y="2844"/>
                  </a:lnTo>
                  <a:lnTo>
                    <a:pt x="4480" y="2848"/>
                  </a:lnTo>
                  <a:lnTo>
                    <a:pt x="4478" y="2850"/>
                  </a:lnTo>
                  <a:lnTo>
                    <a:pt x="4476" y="2853"/>
                  </a:lnTo>
                  <a:lnTo>
                    <a:pt x="4474" y="2853"/>
                  </a:lnTo>
                  <a:lnTo>
                    <a:pt x="4471" y="2855"/>
                  </a:lnTo>
                  <a:lnTo>
                    <a:pt x="4471" y="2855"/>
                  </a:lnTo>
                  <a:lnTo>
                    <a:pt x="4469" y="2853"/>
                  </a:lnTo>
                  <a:lnTo>
                    <a:pt x="4465" y="2851"/>
                  </a:lnTo>
                  <a:lnTo>
                    <a:pt x="4465" y="2850"/>
                  </a:lnTo>
                  <a:lnTo>
                    <a:pt x="4464" y="2846"/>
                  </a:lnTo>
                  <a:lnTo>
                    <a:pt x="4465" y="2844"/>
                  </a:lnTo>
                  <a:lnTo>
                    <a:pt x="4467" y="2841"/>
                  </a:lnTo>
                  <a:lnTo>
                    <a:pt x="4469" y="2841"/>
                  </a:lnTo>
                  <a:lnTo>
                    <a:pt x="4473" y="2839"/>
                  </a:lnTo>
                  <a:lnTo>
                    <a:pt x="4473" y="2839"/>
                  </a:lnTo>
                  <a:close/>
                  <a:moveTo>
                    <a:pt x="4501" y="2841"/>
                  </a:moveTo>
                  <a:lnTo>
                    <a:pt x="4501" y="2841"/>
                  </a:lnTo>
                  <a:lnTo>
                    <a:pt x="4504" y="2843"/>
                  </a:lnTo>
                  <a:lnTo>
                    <a:pt x="4506" y="2844"/>
                  </a:lnTo>
                  <a:lnTo>
                    <a:pt x="4508" y="2846"/>
                  </a:lnTo>
                  <a:lnTo>
                    <a:pt x="4508" y="2850"/>
                  </a:lnTo>
                  <a:lnTo>
                    <a:pt x="4508" y="2851"/>
                  </a:lnTo>
                  <a:lnTo>
                    <a:pt x="4506" y="2855"/>
                  </a:lnTo>
                  <a:lnTo>
                    <a:pt x="4502" y="2855"/>
                  </a:lnTo>
                  <a:lnTo>
                    <a:pt x="4501" y="2857"/>
                  </a:lnTo>
                  <a:lnTo>
                    <a:pt x="4501" y="2857"/>
                  </a:lnTo>
                  <a:lnTo>
                    <a:pt x="4497" y="2855"/>
                  </a:lnTo>
                  <a:lnTo>
                    <a:pt x="4495" y="2853"/>
                  </a:lnTo>
                  <a:lnTo>
                    <a:pt x="4494" y="2851"/>
                  </a:lnTo>
                  <a:lnTo>
                    <a:pt x="4494" y="2848"/>
                  </a:lnTo>
                  <a:lnTo>
                    <a:pt x="4494" y="2846"/>
                  </a:lnTo>
                  <a:lnTo>
                    <a:pt x="4495" y="2843"/>
                  </a:lnTo>
                  <a:lnTo>
                    <a:pt x="4499" y="2843"/>
                  </a:lnTo>
                  <a:lnTo>
                    <a:pt x="4501" y="2841"/>
                  </a:lnTo>
                  <a:lnTo>
                    <a:pt x="4501" y="2841"/>
                  </a:lnTo>
                  <a:close/>
                  <a:moveTo>
                    <a:pt x="4523" y="2843"/>
                  </a:moveTo>
                  <a:lnTo>
                    <a:pt x="4523" y="2843"/>
                  </a:lnTo>
                  <a:lnTo>
                    <a:pt x="4525" y="2841"/>
                  </a:lnTo>
                  <a:lnTo>
                    <a:pt x="4529" y="2841"/>
                  </a:lnTo>
                  <a:lnTo>
                    <a:pt x="4530" y="2841"/>
                  </a:lnTo>
                  <a:lnTo>
                    <a:pt x="4534" y="2843"/>
                  </a:lnTo>
                  <a:lnTo>
                    <a:pt x="4536" y="2844"/>
                  </a:lnTo>
                  <a:lnTo>
                    <a:pt x="4536" y="2848"/>
                  </a:lnTo>
                  <a:lnTo>
                    <a:pt x="4536" y="2850"/>
                  </a:lnTo>
                  <a:lnTo>
                    <a:pt x="4534" y="2853"/>
                  </a:lnTo>
                  <a:lnTo>
                    <a:pt x="4534" y="2853"/>
                  </a:lnTo>
                  <a:lnTo>
                    <a:pt x="4530" y="2855"/>
                  </a:lnTo>
                  <a:lnTo>
                    <a:pt x="4529" y="2855"/>
                  </a:lnTo>
                  <a:lnTo>
                    <a:pt x="4525" y="2855"/>
                  </a:lnTo>
                  <a:lnTo>
                    <a:pt x="4523" y="2853"/>
                  </a:lnTo>
                  <a:lnTo>
                    <a:pt x="4522" y="2850"/>
                  </a:lnTo>
                  <a:lnTo>
                    <a:pt x="4522" y="2848"/>
                  </a:lnTo>
                  <a:lnTo>
                    <a:pt x="4522" y="2844"/>
                  </a:lnTo>
                  <a:lnTo>
                    <a:pt x="4523" y="2843"/>
                  </a:lnTo>
                  <a:lnTo>
                    <a:pt x="4523" y="2843"/>
                  </a:lnTo>
                  <a:close/>
                  <a:moveTo>
                    <a:pt x="4544" y="2823"/>
                  </a:moveTo>
                  <a:lnTo>
                    <a:pt x="4544" y="2823"/>
                  </a:lnTo>
                  <a:lnTo>
                    <a:pt x="4548" y="2822"/>
                  </a:lnTo>
                  <a:lnTo>
                    <a:pt x="4550" y="2820"/>
                  </a:lnTo>
                  <a:lnTo>
                    <a:pt x="4553" y="2822"/>
                  </a:lnTo>
                  <a:lnTo>
                    <a:pt x="4555" y="2823"/>
                  </a:lnTo>
                  <a:lnTo>
                    <a:pt x="4557" y="2825"/>
                  </a:lnTo>
                  <a:lnTo>
                    <a:pt x="4557" y="2829"/>
                  </a:lnTo>
                  <a:lnTo>
                    <a:pt x="4557" y="2830"/>
                  </a:lnTo>
                  <a:lnTo>
                    <a:pt x="4555" y="2834"/>
                  </a:lnTo>
                  <a:lnTo>
                    <a:pt x="4555" y="2834"/>
                  </a:lnTo>
                  <a:lnTo>
                    <a:pt x="4551" y="2834"/>
                  </a:lnTo>
                  <a:lnTo>
                    <a:pt x="4550" y="2836"/>
                  </a:lnTo>
                  <a:lnTo>
                    <a:pt x="4546" y="2834"/>
                  </a:lnTo>
                  <a:lnTo>
                    <a:pt x="4544" y="2832"/>
                  </a:lnTo>
                  <a:lnTo>
                    <a:pt x="4543" y="2830"/>
                  </a:lnTo>
                  <a:lnTo>
                    <a:pt x="4543" y="2827"/>
                  </a:lnTo>
                  <a:lnTo>
                    <a:pt x="4543" y="2825"/>
                  </a:lnTo>
                  <a:lnTo>
                    <a:pt x="4544" y="2823"/>
                  </a:lnTo>
                  <a:lnTo>
                    <a:pt x="4544" y="2823"/>
                  </a:lnTo>
                  <a:close/>
                  <a:moveTo>
                    <a:pt x="4567" y="2804"/>
                  </a:moveTo>
                  <a:lnTo>
                    <a:pt x="4567" y="2804"/>
                  </a:lnTo>
                  <a:lnTo>
                    <a:pt x="4569" y="2802"/>
                  </a:lnTo>
                  <a:lnTo>
                    <a:pt x="4572" y="2801"/>
                  </a:lnTo>
                  <a:lnTo>
                    <a:pt x="4574" y="2802"/>
                  </a:lnTo>
                  <a:lnTo>
                    <a:pt x="4578" y="2804"/>
                  </a:lnTo>
                  <a:lnTo>
                    <a:pt x="4578" y="2806"/>
                  </a:lnTo>
                  <a:lnTo>
                    <a:pt x="4579" y="2809"/>
                  </a:lnTo>
                  <a:lnTo>
                    <a:pt x="4578" y="2811"/>
                  </a:lnTo>
                  <a:lnTo>
                    <a:pt x="4576" y="2815"/>
                  </a:lnTo>
                  <a:lnTo>
                    <a:pt x="4576" y="2815"/>
                  </a:lnTo>
                  <a:lnTo>
                    <a:pt x="4574" y="2815"/>
                  </a:lnTo>
                  <a:lnTo>
                    <a:pt x="4571" y="2816"/>
                  </a:lnTo>
                  <a:lnTo>
                    <a:pt x="4569" y="2815"/>
                  </a:lnTo>
                  <a:lnTo>
                    <a:pt x="4565" y="2813"/>
                  </a:lnTo>
                  <a:lnTo>
                    <a:pt x="4564" y="2811"/>
                  </a:lnTo>
                  <a:lnTo>
                    <a:pt x="4564" y="2808"/>
                  </a:lnTo>
                  <a:lnTo>
                    <a:pt x="4565" y="2806"/>
                  </a:lnTo>
                  <a:lnTo>
                    <a:pt x="4567" y="2804"/>
                  </a:lnTo>
                  <a:lnTo>
                    <a:pt x="4567" y="2804"/>
                  </a:lnTo>
                  <a:close/>
                  <a:moveTo>
                    <a:pt x="4588" y="2783"/>
                  </a:moveTo>
                  <a:lnTo>
                    <a:pt x="4588" y="2783"/>
                  </a:lnTo>
                  <a:lnTo>
                    <a:pt x="4590" y="2781"/>
                  </a:lnTo>
                  <a:lnTo>
                    <a:pt x="4593" y="2781"/>
                  </a:lnTo>
                  <a:lnTo>
                    <a:pt x="4595" y="2783"/>
                  </a:lnTo>
                  <a:lnTo>
                    <a:pt x="4599" y="2785"/>
                  </a:lnTo>
                  <a:lnTo>
                    <a:pt x="4600" y="2787"/>
                  </a:lnTo>
                  <a:lnTo>
                    <a:pt x="4600" y="2790"/>
                  </a:lnTo>
                  <a:lnTo>
                    <a:pt x="4599" y="2792"/>
                  </a:lnTo>
                  <a:lnTo>
                    <a:pt x="4599" y="2795"/>
                  </a:lnTo>
                  <a:lnTo>
                    <a:pt x="4599" y="2795"/>
                  </a:lnTo>
                  <a:lnTo>
                    <a:pt x="4595" y="2795"/>
                  </a:lnTo>
                  <a:lnTo>
                    <a:pt x="4593" y="2797"/>
                  </a:lnTo>
                  <a:lnTo>
                    <a:pt x="4590" y="2795"/>
                  </a:lnTo>
                  <a:lnTo>
                    <a:pt x="4588" y="2794"/>
                  </a:lnTo>
                  <a:lnTo>
                    <a:pt x="4586" y="2792"/>
                  </a:lnTo>
                  <a:lnTo>
                    <a:pt x="4586" y="2788"/>
                  </a:lnTo>
                  <a:lnTo>
                    <a:pt x="4586" y="2787"/>
                  </a:lnTo>
                  <a:lnTo>
                    <a:pt x="4588" y="2783"/>
                  </a:lnTo>
                  <a:lnTo>
                    <a:pt x="4588" y="2783"/>
                  </a:lnTo>
                  <a:close/>
                  <a:moveTo>
                    <a:pt x="4618" y="2797"/>
                  </a:moveTo>
                  <a:lnTo>
                    <a:pt x="4618" y="2797"/>
                  </a:lnTo>
                  <a:lnTo>
                    <a:pt x="4620" y="2799"/>
                  </a:lnTo>
                  <a:lnTo>
                    <a:pt x="4620" y="2802"/>
                  </a:lnTo>
                  <a:lnTo>
                    <a:pt x="4618" y="2804"/>
                  </a:lnTo>
                  <a:lnTo>
                    <a:pt x="4616" y="2808"/>
                  </a:lnTo>
                  <a:lnTo>
                    <a:pt x="4614" y="2809"/>
                  </a:lnTo>
                  <a:lnTo>
                    <a:pt x="4611" y="2809"/>
                  </a:lnTo>
                  <a:lnTo>
                    <a:pt x="4609" y="2808"/>
                  </a:lnTo>
                  <a:lnTo>
                    <a:pt x="4606" y="2806"/>
                  </a:lnTo>
                  <a:lnTo>
                    <a:pt x="4606" y="2806"/>
                  </a:lnTo>
                  <a:lnTo>
                    <a:pt x="4604" y="2804"/>
                  </a:lnTo>
                  <a:lnTo>
                    <a:pt x="4604" y="2801"/>
                  </a:lnTo>
                  <a:lnTo>
                    <a:pt x="4606" y="2799"/>
                  </a:lnTo>
                  <a:lnTo>
                    <a:pt x="4607" y="2795"/>
                  </a:lnTo>
                  <a:lnTo>
                    <a:pt x="4609" y="2795"/>
                  </a:lnTo>
                  <a:lnTo>
                    <a:pt x="4613" y="2795"/>
                  </a:lnTo>
                  <a:lnTo>
                    <a:pt x="4614" y="2795"/>
                  </a:lnTo>
                  <a:lnTo>
                    <a:pt x="4618" y="2797"/>
                  </a:lnTo>
                  <a:lnTo>
                    <a:pt x="4618" y="2797"/>
                  </a:lnTo>
                  <a:close/>
                  <a:moveTo>
                    <a:pt x="4635" y="2820"/>
                  </a:moveTo>
                  <a:lnTo>
                    <a:pt x="4635" y="2820"/>
                  </a:lnTo>
                  <a:lnTo>
                    <a:pt x="4637" y="2822"/>
                  </a:lnTo>
                  <a:lnTo>
                    <a:pt x="4637" y="2825"/>
                  </a:lnTo>
                  <a:lnTo>
                    <a:pt x="4637" y="2827"/>
                  </a:lnTo>
                  <a:lnTo>
                    <a:pt x="4635" y="2830"/>
                  </a:lnTo>
                  <a:lnTo>
                    <a:pt x="4632" y="2830"/>
                  </a:lnTo>
                  <a:lnTo>
                    <a:pt x="4630" y="2830"/>
                  </a:lnTo>
                  <a:lnTo>
                    <a:pt x="4627" y="2830"/>
                  </a:lnTo>
                  <a:lnTo>
                    <a:pt x="4625" y="2829"/>
                  </a:lnTo>
                  <a:lnTo>
                    <a:pt x="4625" y="2829"/>
                  </a:lnTo>
                  <a:lnTo>
                    <a:pt x="4623" y="2827"/>
                  </a:lnTo>
                  <a:lnTo>
                    <a:pt x="4623" y="2823"/>
                  </a:lnTo>
                  <a:lnTo>
                    <a:pt x="4623" y="2820"/>
                  </a:lnTo>
                  <a:lnTo>
                    <a:pt x="4625" y="2818"/>
                  </a:lnTo>
                  <a:lnTo>
                    <a:pt x="4628" y="2816"/>
                  </a:lnTo>
                  <a:lnTo>
                    <a:pt x="4630" y="2816"/>
                  </a:lnTo>
                  <a:lnTo>
                    <a:pt x="4634" y="2818"/>
                  </a:lnTo>
                  <a:lnTo>
                    <a:pt x="4635" y="2820"/>
                  </a:lnTo>
                  <a:lnTo>
                    <a:pt x="4635" y="2820"/>
                  </a:lnTo>
                  <a:close/>
                  <a:moveTo>
                    <a:pt x="4655" y="2843"/>
                  </a:moveTo>
                  <a:lnTo>
                    <a:pt x="4655" y="2843"/>
                  </a:lnTo>
                  <a:lnTo>
                    <a:pt x="4655" y="2844"/>
                  </a:lnTo>
                  <a:lnTo>
                    <a:pt x="4655" y="2848"/>
                  </a:lnTo>
                  <a:lnTo>
                    <a:pt x="4655" y="2850"/>
                  </a:lnTo>
                  <a:lnTo>
                    <a:pt x="4653" y="2853"/>
                  </a:lnTo>
                  <a:lnTo>
                    <a:pt x="4651" y="2853"/>
                  </a:lnTo>
                  <a:lnTo>
                    <a:pt x="4648" y="2853"/>
                  </a:lnTo>
                  <a:lnTo>
                    <a:pt x="4644" y="2853"/>
                  </a:lnTo>
                  <a:lnTo>
                    <a:pt x="4642" y="2851"/>
                  </a:lnTo>
                  <a:lnTo>
                    <a:pt x="4642" y="2851"/>
                  </a:lnTo>
                  <a:lnTo>
                    <a:pt x="4641" y="2848"/>
                  </a:lnTo>
                  <a:lnTo>
                    <a:pt x="4641" y="2846"/>
                  </a:lnTo>
                  <a:lnTo>
                    <a:pt x="4642" y="2843"/>
                  </a:lnTo>
                  <a:lnTo>
                    <a:pt x="4644" y="2841"/>
                  </a:lnTo>
                  <a:lnTo>
                    <a:pt x="4646" y="2839"/>
                  </a:lnTo>
                  <a:lnTo>
                    <a:pt x="4649" y="2839"/>
                  </a:lnTo>
                  <a:lnTo>
                    <a:pt x="4651" y="2841"/>
                  </a:lnTo>
                  <a:lnTo>
                    <a:pt x="4655" y="2843"/>
                  </a:lnTo>
                  <a:lnTo>
                    <a:pt x="4655" y="2843"/>
                  </a:lnTo>
                  <a:close/>
                  <a:moveTo>
                    <a:pt x="4665" y="2872"/>
                  </a:moveTo>
                  <a:lnTo>
                    <a:pt x="4665" y="2872"/>
                  </a:lnTo>
                  <a:lnTo>
                    <a:pt x="4663" y="2876"/>
                  </a:lnTo>
                  <a:lnTo>
                    <a:pt x="4662" y="2878"/>
                  </a:lnTo>
                  <a:lnTo>
                    <a:pt x="4660" y="2879"/>
                  </a:lnTo>
                  <a:lnTo>
                    <a:pt x="4656" y="2879"/>
                  </a:lnTo>
                  <a:lnTo>
                    <a:pt x="4655" y="2879"/>
                  </a:lnTo>
                  <a:lnTo>
                    <a:pt x="4651" y="2878"/>
                  </a:lnTo>
                  <a:lnTo>
                    <a:pt x="4651" y="2876"/>
                  </a:lnTo>
                  <a:lnTo>
                    <a:pt x="4649" y="2872"/>
                  </a:lnTo>
                  <a:lnTo>
                    <a:pt x="4649" y="2872"/>
                  </a:lnTo>
                  <a:lnTo>
                    <a:pt x="4651" y="2869"/>
                  </a:lnTo>
                  <a:lnTo>
                    <a:pt x="4651" y="2867"/>
                  </a:lnTo>
                  <a:lnTo>
                    <a:pt x="4655" y="2865"/>
                  </a:lnTo>
                  <a:lnTo>
                    <a:pt x="4656" y="2865"/>
                  </a:lnTo>
                  <a:lnTo>
                    <a:pt x="4660" y="2865"/>
                  </a:lnTo>
                  <a:lnTo>
                    <a:pt x="4662" y="2867"/>
                  </a:lnTo>
                  <a:lnTo>
                    <a:pt x="4663" y="2869"/>
                  </a:lnTo>
                  <a:lnTo>
                    <a:pt x="4665" y="2872"/>
                  </a:lnTo>
                  <a:lnTo>
                    <a:pt x="4665" y="2872"/>
                  </a:lnTo>
                  <a:close/>
                  <a:moveTo>
                    <a:pt x="4665" y="2902"/>
                  </a:moveTo>
                  <a:lnTo>
                    <a:pt x="4665" y="2902"/>
                  </a:lnTo>
                  <a:lnTo>
                    <a:pt x="4663" y="2904"/>
                  </a:lnTo>
                  <a:lnTo>
                    <a:pt x="4662" y="2906"/>
                  </a:lnTo>
                  <a:lnTo>
                    <a:pt x="4660" y="2907"/>
                  </a:lnTo>
                  <a:lnTo>
                    <a:pt x="4656" y="2909"/>
                  </a:lnTo>
                  <a:lnTo>
                    <a:pt x="4655" y="2907"/>
                  </a:lnTo>
                  <a:lnTo>
                    <a:pt x="4651" y="2906"/>
                  </a:lnTo>
                  <a:lnTo>
                    <a:pt x="4651" y="2904"/>
                  </a:lnTo>
                  <a:lnTo>
                    <a:pt x="4649" y="2902"/>
                  </a:lnTo>
                  <a:lnTo>
                    <a:pt x="4649" y="2902"/>
                  </a:lnTo>
                  <a:lnTo>
                    <a:pt x="4651" y="2899"/>
                  </a:lnTo>
                  <a:lnTo>
                    <a:pt x="4651" y="2897"/>
                  </a:lnTo>
                  <a:lnTo>
                    <a:pt x="4655" y="2895"/>
                  </a:lnTo>
                  <a:lnTo>
                    <a:pt x="4656" y="2895"/>
                  </a:lnTo>
                  <a:lnTo>
                    <a:pt x="4660" y="2895"/>
                  </a:lnTo>
                  <a:lnTo>
                    <a:pt x="4662" y="2897"/>
                  </a:lnTo>
                  <a:lnTo>
                    <a:pt x="4663" y="2899"/>
                  </a:lnTo>
                  <a:lnTo>
                    <a:pt x="4665" y="2902"/>
                  </a:lnTo>
                  <a:lnTo>
                    <a:pt x="4665" y="2902"/>
                  </a:lnTo>
                  <a:close/>
                  <a:moveTo>
                    <a:pt x="4672" y="2922"/>
                  </a:moveTo>
                  <a:lnTo>
                    <a:pt x="4672" y="2922"/>
                  </a:lnTo>
                  <a:lnTo>
                    <a:pt x="4674" y="2923"/>
                  </a:lnTo>
                  <a:lnTo>
                    <a:pt x="4674" y="2927"/>
                  </a:lnTo>
                  <a:lnTo>
                    <a:pt x="4674" y="2929"/>
                  </a:lnTo>
                  <a:lnTo>
                    <a:pt x="4672" y="2932"/>
                  </a:lnTo>
                  <a:lnTo>
                    <a:pt x="4670" y="2934"/>
                  </a:lnTo>
                  <a:lnTo>
                    <a:pt x="4667" y="2934"/>
                  </a:lnTo>
                  <a:lnTo>
                    <a:pt x="4663" y="2934"/>
                  </a:lnTo>
                  <a:lnTo>
                    <a:pt x="4662" y="2932"/>
                  </a:lnTo>
                  <a:lnTo>
                    <a:pt x="4662" y="2932"/>
                  </a:lnTo>
                  <a:lnTo>
                    <a:pt x="4660" y="2929"/>
                  </a:lnTo>
                  <a:lnTo>
                    <a:pt x="4660" y="2927"/>
                  </a:lnTo>
                  <a:lnTo>
                    <a:pt x="4660" y="2923"/>
                  </a:lnTo>
                  <a:lnTo>
                    <a:pt x="4662" y="2922"/>
                  </a:lnTo>
                  <a:lnTo>
                    <a:pt x="4665" y="2920"/>
                  </a:lnTo>
                  <a:lnTo>
                    <a:pt x="4667" y="2920"/>
                  </a:lnTo>
                  <a:lnTo>
                    <a:pt x="4670" y="2920"/>
                  </a:lnTo>
                  <a:lnTo>
                    <a:pt x="4672" y="2922"/>
                  </a:lnTo>
                  <a:lnTo>
                    <a:pt x="4672" y="2922"/>
                  </a:lnTo>
                  <a:close/>
                  <a:moveTo>
                    <a:pt x="4693" y="2943"/>
                  </a:moveTo>
                  <a:lnTo>
                    <a:pt x="4693" y="2943"/>
                  </a:lnTo>
                  <a:lnTo>
                    <a:pt x="4695" y="2944"/>
                  </a:lnTo>
                  <a:lnTo>
                    <a:pt x="4695" y="2948"/>
                  </a:lnTo>
                  <a:lnTo>
                    <a:pt x="4695" y="2950"/>
                  </a:lnTo>
                  <a:lnTo>
                    <a:pt x="4693" y="2953"/>
                  </a:lnTo>
                  <a:lnTo>
                    <a:pt x="4690" y="2953"/>
                  </a:lnTo>
                  <a:lnTo>
                    <a:pt x="4688" y="2955"/>
                  </a:lnTo>
                  <a:lnTo>
                    <a:pt x="4684" y="2953"/>
                  </a:lnTo>
                  <a:lnTo>
                    <a:pt x="4683" y="2951"/>
                  </a:lnTo>
                  <a:lnTo>
                    <a:pt x="4683" y="2951"/>
                  </a:lnTo>
                  <a:lnTo>
                    <a:pt x="4681" y="2950"/>
                  </a:lnTo>
                  <a:lnTo>
                    <a:pt x="4681" y="2946"/>
                  </a:lnTo>
                  <a:lnTo>
                    <a:pt x="4681" y="2944"/>
                  </a:lnTo>
                  <a:lnTo>
                    <a:pt x="4683" y="2943"/>
                  </a:lnTo>
                  <a:lnTo>
                    <a:pt x="4684" y="2941"/>
                  </a:lnTo>
                  <a:lnTo>
                    <a:pt x="4688" y="2939"/>
                  </a:lnTo>
                  <a:lnTo>
                    <a:pt x="4690" y="2941"/>
                  </a:lnTo>
                  <a:lnTo>
                    <a:pt x="4693" y="2943"/>
                  </a:lnTo>
                  <a:lnTo>
                    <a:pt x="4693" y="2943"/>
                  </a:lnTo>
                  <a:close/>
                  <a:moveTo>
                    <a:pt x="4712" y="2964"/>
                  </a:moveTo>
                  <a:lnTo>
                    <a:pt x="4712" y="2964"/>
                  </a:lnTo>
                  <a:lnTo>
                    <a:pt x="4714" y="2965"/>
                  </a:lnTo>
                  <a:lnTo>
                    <a:pt x="4714" y="2967"/>
                  </a:lnTo>
                  <a:lnTo>
                    <a:pt x="4714" y="2971"/>
                  </a:lnTo>
                  <a:lnTo>
                    <a:pt x="4712" y="2972"/>
                  </a:lnTo>
                  <a:lnTo>
                    <a:pt x="4711" y="2974"/>
                  </a:lnTo>
                  <a:lnTo>
                    <a:pt x="4707" y="2974"/>
                  </a:lnTo>
                  <a:lnTo>
                    <a:pt x="4705" y="2974"/>
                  </a:lnTo>
                  <a:lnTo>
                    <a:pt x="4704" y="2972"/>
                  </a:lnTo>
                  <a:lnTo>
                    <a:pt x="4702" y="2972"/>
                  </a:lnTo>
                  <a:lnTo>
                    <a:pt x="4700" y="2971"/>
                  </a:lnTo>
                  <a:lnTo>
                    <a:pt x="4700" y="2967"/>
                  </a:lnTo>
                  <a:lnTo>
                    <a:pt x="4702" y="2965"/>
                  </a:lnTo>
                  <a:lnTo>
                    <a:pt x="4704" y="2962"/>
                  </a:lnTo>
                  <a:lnTo>
                    <a:pt x="4705" y="2960"/>
                  </a:lnTo>
                  <a:lnTo>
                    <a:pt x="4707" y="2960"/>
                  </a:lnTo>
                  <a:lnTo>
                    <a:pt x="4711" y="2962"/>
                  </a:lnTo>
                  <a:lnTo>
                    <a:pt x="4712" y="2964"/>
                  </a:lnTo>
                  <a:lnTo>
                    <a:pt x="4712" y="2964"/>
                  </a:lnTo>
                  <a:close/>
                  <a:moveTo>
                    <a:pt x="4733" y="2983"/>
                  </a:moveTo>
                  <a:lnTo>
                    <a:pt x="4733" y="2983"/>
                  </a:lnTo>
                  <a:lnTo>
                    <a:pt x="4735" y="2986"/>
                  </a:lnTo>
                  <a:lnTo>
                    <a:pt x="4735" y="2988"/>
                  </a:lnTo>
                  <a:lnTo>
                    <a:pt x="4735" y="2992"/>
                  </a:lnTo>
                  <a:lnTo>
                    <a:pt x="4733" y="2993"/>
                  </a:lnTo>
                  <a:lnTo>
                    <a:pt x="4730" y="2995"/>
                  </a:lnTo>
                  <a:lnTo>
                    <a:pt x="4728" y="2995"/>
                  </a:lnTo>
                  <a:lnTo>
                    <a:pt x="4725" y="2995"/>
                  </a:lnTo>
                  <a:lnTo>
                    <a:pt x="4723" y="2993"/>
                  </a:lnTo>
                  <a:lnTo>
                    <a:pt x="4723" y="2993"/>
                  </a:lnTo>
                  <a:lnTo>
                    <a:pt x="4721" y="2992"/>
                  </a:lnTo>
                  <a:lnTo>
                    <a:pt x="4721" y="2988"/>
                  </a:lnTo>
                  <a:lnTo>
                    <a:pt x="4721" y="2985"/>
                  </a:lnTo>
                  <a:lnTo>
                    <a:pt x="4723" y="2983"/>
                  </a:lnTo>
                  <a:lnTo>
                    <a:pt x="4726" y="2981"/>
                  </a:lnTo>
                  <a:lnTo>
                    <a:pt x="4728" y="2981"/>
                  </a:lnTo>
                  <a:lnTo>
                    <a:pt x="4732" y="2981"/>
                  </a:lnTo>
                  <a:lnTo>
                    <a:pt x="4733" y="2983"/>
                  </a:lnTo>
                  <a:lnTo>
                    <a:pt x="4733" y="2983"/>
                  </a:lnTo>
                  <a:close/>
                  <a:moveTo>
                    <a:pt x="4749" y="3002"/>
                  </a:moveTo>
                  <a:lnTo>
                    <a:pt x="4749" y="3002"/>
                  </a:lnTo>
                  <a:lnTo>
                    <a:pt x="4751" y="3002"/>
                  </a:lnTo>
                  <a:lnTo>
                    <a:pt x="4754" y="3004"/>
                  </a:lnTo>
                  <a:lnTo>
                    <a:pt x="4754" y="3006"/>
                  </a:lnTo>
                  <a:lnTo>
                    <a:pt x="4756" y="3009"/>
                  </a:lnTo>
                  <a:lnTo>
                    <a:pt x="4754" y="3011"/>
                  </a:lnTo>
                  <a:lnTo>
                    <a:pt x="4754" y="3014"/>
                  </a:lnTo>
                  <a:lnTo>
                    <a:pt x="4751" y="3014"/>
                  </a:lnTo>
                  <a:lnTo>
                    <a:pt x="4749" y="3016"/>
                  </a:lnTo>
                  <a:lnTo>
                    <a:pt x="4749" y="3016"/>
                  </a:lnTo>
                  <a:lnTo>
                    <a:pt x="4746" y="3014"/>
                  </a:lnTo>
                  <a:lnTo>
                    <a:pt x="4744" y="3014"/>
                  </a:lnTo>
                  <a:lnTo>
                    <a:pt x="4742" y="3011"/>
                  </a:lnTo>
                  <a:lnTo>
                    <a:pt x="4742" y="3009"/>
                  </a:lnTo>
                  <a:lnTo>
                    <a:pt x="4742" y="3006"/>
                  </a:lnTo>
                  <a:lnTo>
                    <a:pt x="4744" y="3004"/>
                  </a:lnTo>
                  <a:lnTo>
                    <a:pt x="4746" y="3002"/>
                  </a:lnTo>
                  <a:lnTo>
                    <a:pt x="4749" y="3002"/>
                  </a:lnTo>
                  <a:lnTo>
                    <a:pt x="4749" y="3002"/>
                  </a:lnTo>
                  <a:close/>
                  <a:moveTo>
                    <a:pt x="4777" y="3002"/>
                  </a:moveTo>
                  <a:lnTo>
                    <a:pt x="4777" y="3002"/>
                  </a:lnTo>
                  <a:lnTo>
                    <a:pt x="4781" y="3002"/>
                  </a:lnTo>
                  <a:lnTo>
                    <a:pt x="4782" y="3004"/>
                  </a:lnTo>
                  <a:lnTo>
                    <a:pt x="4784" y="3006"/>
                  </a:lnTo>
                  <a:lnTo>
                    <a:pt x="4784" y="3009"/>
                  </a:lnTo>
                  <a:lnTo>
                    <a:pt x="4784" y="3011"/>
                  </a:lnTo>
                  <a:lnTo>
                    <a:pt x="4782" y="3014"/>
                  </a:lnTo>
                  <a:lnTo>
                    <a:pt x="4781" y="3014"/>
                  </a:lnTo>
                  <a:lnTo>
                    <a:pt x="4777" y="3016"/>
                  </a:lnTo>
                  <a:lnTo>
                    <a:pt x="4777" y="3016"/>
                  </a:lnTo>
                  <a:lnTo>
                    <a:pt x="4775" y="3014"/>
                  </a:lnTo>
                  <a:lnTo>
                    <a:pt x="4772" y="3014"/>
                  </a:lnTo>
                  <a:lnTo>
                    <a:pt x="4770" y="3011"/>
                  </a:lnTo>
                  <a:lnTo>
                    <a:pt x="4770" y="3009"/>
                  </a:lnTo>
                  <a:lnTo>
                    <a:pt x="4770" y="3006"/>
                  </a:lnTo>
                  <a:lnTo>
                    <a:pt x="4772" y="3004"/>
                  </a:lnTo>
                  <a:lnTo>
                    <a:pt x="4775" y="3002"/>
                  </a:lnTo>
                  <a:lnTo>
                    <a:pt x="4777" y="3002"/>
                  </a:lnTo>
                  <a:lnTo>
                    <a:pt x="4777" y="3002"/>
                  </a:lnTo>
                  <a:close/>
                  <a:moveTo>
                    <a:pt x="4807" y="3002"/>
                  </a:moveTo>
                  <a:lnTo>
                    <a:pt x="4807" y="3002"/>
                  </a:lnTo>
                  <a:lnTo>
                    <a:pt x="4809" y="3002"/>
                  </a:lnTo>
                  <a:lnTo>
                    <a:pt x="4812" y="3004"/>
                  </a:lnTo>
                  <a:lnTo>
                    <a:pt x="4814" y="3006"/>
                  </a:lnTo>
                  <a:lnTo>
                    <a:pt x="4814" y="3009"/>
                  </a:lnTo>
                  <a:lnTo>
                    <a:pt x="4814" y="3011"/>
                  </a:lnTo>
                  <a:lnTo>
                    <a:pt x="4812" y="3014"/>
                  </a:lnTo>
                  <a:lnTo>
                    <a:pt x="4809" y="3014"/>
                  </a:lnTo>
                  <a:lnTo>
                    <a:pt x="4807" y="3016"/>
                  </a:lnTo>
                  <a:lnTo>
                    <a:pt x="4807" y="3016"/>
                  </a:lnTo>
                  <a:lnTo>
                    <a:pt x="4803" y="3014"/>
                  </a:lnTo>
                  <a:lnTo>
                    <a:pt x="4802" y="3014"/>
                  </a:lnTo>
                  <a:lnTo>
                    <a:pt x="4800" y="3011"/>
                  </a:lnTo>
                  <a:lnTo>
                    <a:pt x="4800" y="3009"/>
                  </a:lnTo>
                  <a:lnTo>
                    <a:pt x="4800" y="3006"/>
                  </a:lnTo>
                  <a:lnTo>
                    <a:pt x="4802" y="3004"/>
                  </a:lnTo>
                  <a:lnTo>
                    <a:pt x="4803" y="3002"/>
                  </a:lnTo>
                  <a:lnTo>
                    <a:pt x="4807" y="3002"/>
                  </a:lnTo>
                  <a:lnTo>
                    <a:pt x="4807" y="3002"/>
                  </a:lnTo>
                  <a:close/>
                  <a:moveTo>
                    <a:pt x="4837" y="3009"/>
                  </a:moveTo>
                  <a:lnTo>
                    <a:pt x="4837" y="3009"/>
                  </a:lnTo>
                  <a:lnTo>
                    <a:pt x="4840" y="3011"/>
                  </a:lnTo>
                  <a:lnTo>
                    <a:pt x="4840" y="3014"/>
                  </a:lnTo>
                  <a:lnTo>
                    <a:pt x="4840" y="3016"/>
                  </a:lnTo>
                  <a:lnTo>
                    <a:pt x="4840" y="3020"/>
                  </a:lnTo>
                  <a:lnTo>
                    <a:pt x="4838" y="3021"/>
                  </a:lnTo>
                  <a:lnTo>
                    <a:pt x="4835" y="3023"/>
                  </a:lnTo>
                  <a:lnTo>
                    <a:pt x="4833" y="3023"/>
                  </a:lnTo>
                  <a:lnTo>
                    <a:pt x="4830" y="3021"/>
                  </a:lnTo>
                  <a:lnTo>
                    <a:pt x="4830" y="3021"/>
                  </a:lnTo>
                  <a:lnTo>
                    <a:pt x="4828" y="3020"/>
                  </a:lnTo>
                  <a:lnTo>
                    <a:pt x="4826" y="3018"/>
                  </a:lnTo>
                  <a:lnTo>
                    <a:pt x="4826" y="3014"/>
                  </a:lnTo>
                  <a:lnTo>
                    <a:pt x="4828" y="3013"/>
                  </a:lnTo>
                  <a:lnTo>
                    <a:pt x="4830" y="3011"/>
                  </a:lnTo>
                  <a:lnTo>
                    <a:pt x="4831" y="3009"/>
                  </a:lnTo>
                  <a:lnTo>
                    <a:pt x="4835" y="3009"/>
                  </a:lnTo>
                  <a:lnTo>
                    <a:pt x="4837" y="3009"/>
                  </a:lnTo>
                  <a:lnTo>
                    <a:pt x="4837" y="3009"/>
                  </a:lnTo>
                  <a:close/>
                  <a:moveTo>
                    <a:pt x="4863" y="3025"/>
                  </a:moveTo>
                  <a:lnTo>
                    <a:pt x="4863" y="3025"/>
                  </a:lnTo>
                  <a:lnTo>
                    <a:pt x="4865" y="3027"/>
                  </a:lnTo>
                  <a:lnTo>
                    <a:pt x="4865" y="3028"/>
                  </a:lnTo>
                  <a:lnTo>
                    <a:pt x="4866" y="3032"/>
                  </a:lnTo>
                  <a:lnTo>
                    <a:pt x="4865" y="3034"/>
                  </a:lnTo>
                  <a:lnTo>
                    <a:pt x="4863" y="3037"/>
                  </a:lnTo>
                  <a:lnTo>
                    <a:pt x="4859" y="3037"/>
                  </a:lnTo>
                  <a:lnTo>
                    <a:pt x="4858" y="3037"/>
                  </a:lnTo>
                  <a:lnTo>
                    <a:pt x="4854" y="3037"/>
                  </a:lnTo>
                  <a:lnTo>
                    <a:pt x="4854" y="3037"/>
                  </a:lnTo>
                  <a:lnTo>
                    <a:pt x="4852" y="3035"/>
                  </a:lnTo>
                  <a:lnTo>
                    <a:pt x="4852" y="3032"/>
                  </a:lnTo>
                  <a:lnTo>
                    <a:pt x="4851" y="3030"/>
                  </a:lnTo>
                  <a:lnTo>
                    <a:pt x="4852" y="3027"/>
                  </a:lnTo>
                  <a:lnTo>
                    <a:pt x="4854" y="3025"/>
                  </a:lnTo>
                  <a:lnTo>
                    <a:pt x="4856" y="3023"/>
                  </a:lnTo>
                  <a:lnTo>
                    <a:pt x="4859" y="3023"/>
                  </a:lnTo>
                  <a:lnTo>
                    <a:pt x="4863" y="3025"/>
                  </a:lnTo>
                  <a:lnTo>
                    <a:pt x="4863" y="3025"/>
                  </a:lnTo>
                  <a:close/>
                  <a:moveTo>
                    <a:pt x="4887" y="3039"/>
                  </a:moveTo>
                  <a:lnTo>
                    <a:pt x="4887" y="3039"/>
                  </a:lnTo>
                  <a:lnTo>
                    <a:pt x="4889" y="3041"/>
                  </a:lnTo>
                  <a:lnTo>
                    <a:pt x="4891" y="3044"/>
                  </a:lnTo>
                  <a:lnTo>
                    <a:pt x="4891" y="3046"/>
                  </a:lnTo>
                  <a:lnTo>
                    <a:pt x="4889" y="3049"/>
                  </a:lnTo>
                  <a:lnTo>
                    <a:pt x="4887" y="3051"/>
                  </a:lnTo>
                  <a:lnTo>
                    <a:pt x="4886" y="3053"/>
                  </a:lnTo>
                  <a:lnTo>
                    <a:pt x="4882" y="3053"/>
                  </a:lnTo>
                  <a:lnTo>
                    <a:pt x="4880" y="3051"/>
                  </a:lnTo>
                  <a:lnTo>
                    <a:pt x="4880" y="3051"/>
                  </a:lnTo>
                  <a:lnTo>
                    <a:pt x="4877" y="3049"/>
                  </a:lnTo>
                  <a:lnTo>
                    <a:pt x="4877" y="3048"/>
                  </a:lnTo>
                  <a:lnTo>
                    <a:pt x="4877" y="3044"/>
                  </a:lnTo>
                  <a:lnTo>
                    <a:pt x="4877" y="3042"/>
                  </a:lnTo>
                  <a:lnTo>
                    <a:pt x="4879" y="3039"/>
                  </a:lnTo>
                  <a:lnTo>
                    <a:pt x="4882" y="3039"/>
                  </a:lnTo>
                  <a:lnTo>
                    <a:pt x="4884" y="3037"/>
                  </a:lnTo>
                  <a:lnTo>
                    <a:pt x="4887" y="3039"/>
                  </a:lnTo>
                  <a:lnTo>
                    <a:pt x="4887" y="3039"/>
                  </a:lnTo>
                  <a:close/>
                  <a:moveTo>
                    <a:pt x="4912" y="3053"/>
                  </a:moveTo>
                  <a:lnTo>
                    <a:pt x="4912" y="3053"/>
                  </a:lnTo>
                  <a:lnTo>
                    <a:pt x="4914" y="3055"/>
                  </a:lnTo>
                  <a:lnTo>
                    <a:pt x="4915" y="3058"/>
                  </a:lnTo>
                  <a:lnTo>
                    <a:pt x="4915" y="3060"/>
                  </a:lnTo>
                  <a:lnTo>
                    <a:pt x="4915" y="3063"/>
                  </a:lnTo>
                  <a:lnTo>
                    <a:pt x="4912" y="3065"/>
                  </a:lnTo>
                  <a:lnTo>
                    <a:pt x="4910" y="3067"/>
                  </a:lnTo>
                  <a:lnTo>
                    <a:pt x="4907" y="3067"/>
                  </a:lnTo>
                  <a:lnTo>
                    <a:pt x="4905" y="3067"/>
                  </a:lnTo>
                  <a:lnTo>
                    <a:pt x="4905" y="3067"/>
                  </a:lnTo>
                  <a:lnTo>
                    <a:pt x="4903" y="3063"/>
                  </a:lnTo>
                  <a:lnTo>
                    <a:pt x="4901" y="3062"/>
                  </a:lnTo>
                  <a:lnTo>
                    <a:pt x="4901" y="3058"/>
                  </a:lnTo>
                  <a:lnTo>
                    <a:pt x="4903" y="3056"/>
                  </a:lnTo>
                  <a:lnTo>
                    <a:pt x="4905" y="3055"/>
                  </a:lnTo>
                  <a:lnTo>
                    <a:pt x="4907" y="3053"/>
                  </a:lnTo>
                  <a:lnTo>
                    <a:pt x="4908" y="3053"/>
                  </a:lnTo>
                  <a:lnTo>
                    <a:pt x="4912" y="3053"/>
                  </a:lnTo>
                  <a:lnTo>
                    <a:pt x="4912" y="3053"/>
                  </a:lnTo>
                  <a:close/>
                  <a:moveTo>
                    <a:pt x="4929" y="3044"/>
                  </a:moveTo>
                  <a:lnTo>
                    <a:pt x="4929" y="3044"/>
                  </a:lnTo>
                  <a:lnTo>
                    <a:pt x="4931" y="3042"/>
                  </a:lnTo>
                  <a:lnTo>
                    <a:pt x="4935" y="3042"/>
                  </a:lnTo>
                  <a:lnTo>
                    <a:pt x="4938" y="3044"/>
                  </a:lnTo>
                  <a:lnTo>
                    <a:pt x="4940" y="3046"/>
                  </a:lnTo>
                  <a:lnTo>
                    <a:pt x="4940" y="3048"/>
                  </a:lnTo>
                  <a:lnTo>
                    <a:pt x="4940" y="3051"/>
                  </a:lnTo>
                  <a:lnTo>
                    <a:pt x="4940" y="3053"/>
                  </a:lnTo>
                  <a:lnTo>
                    <a:pt x="4938" y="3056"/>
                  </a:lnTo>
                  <a:lnTo>
                    <a:pt x="4938" y="3056"/>
                  </a:lnTo>
                  <a:lnTo>
                    <a:pt x="4935" y="3056"/>
                  </a:lnTo>
                  <a:lnTo>
                    <a:pt x="4931" y="3056"/>
                  </a:lnTo>
                  <a:lnTo>
                    <a:pt x="4929" y="3055"/>
                  </a:lnTo>
                  <a:lnTo>
                    <a:pt x="4928" y="3053"/>
                  </a:lnTo>
                  <a:lnTo>
                    <a:pt x="4926" y="3051"/>
                  </a:lnTo>
                  <a:lnTo>
                    <a:pt x="4926" y="3048"/>
                  </a:lnTo>
                  <a:lnTo>
                    <a:pt x="4928" y="3046"/>
                  </a:lnTo>
                  <a:lnTo>
                    <a:pt x="4929" y="3044"/>
                  </a:lnTo>
                  <a:lnTo>
                    <a:pt x="4929" y="3044"/>
                  </a:lnTo>
                  <a:close/>
                  <a:moveTo>
                    <a:pt x="4950" y="3030"/>
                  </a:moveTo>
                  <a:lnTo>
                    <a:pt x="4950" y="3030"/>
                  </a:lnTo>
                  <a:lnTo>
                    <a:pt x="4952" y="3028"/>
                  </a:lnTo>
                  <a:lnTo>
                    <a:pt x="4956" y="3027"/>
                  </a:lnTo>
                  <a:lnTo>
                    <a:pt x="4957" y="3027"/>
                  </a:lnTo>
                  <a:lnTo>
                    <a:pt x="4961" y="3028"/>
                  </a:lnTo>
                  <a:lnTo>
                    <a:pt x="4963" y="3030"/>
                  </a:lnTo>
                  <a:lnTo>
                    <a:pt x="4964" y="3032"/>
                  </a:lnTo>
                  <a:lnTo>
                    <a:pt x="4964" y="3035"/>
                  </a:lnTo>
                  <a:lnTo>
                    <a:pt x="4964" y="3037"/>
                  </a:lnTo>
                  <a:lnTo>
                    <a:pt x="4964" y="3037"/>
                  </a:lnTo>
                  <a:lnTo>
                    <a:pt x="4961" y="3039"/>
                  </a:lnTo>
                  <a:lnTo>
                    <a:pt x="4959" y="3041"/>
                  </a:lnTo>
                  <a:lnTo>
                    <a:pt x="4956" y="3041"/>
                  </a:lnTo>
                  <a:lnTo>
                    <a:pt x="4954" y="3041"/>
                  </a:lnTo>
                  <a:lnTo>
                    <a:pt x="4952" y="3039"/>
                  </a:lnTo>
                  <a:lnTo>
                    <a:pt x="4950" y="3035"/>
                  </a:lnTo>
                  <a:lnTo>
                    <a:pt x="4950" y="3034"/>
                  </a:lnTo>
                  <a:lnTo>
                    <a:pt x="4950" y="3030"/>
                  </a:lnTo>
                  <a:lnTo>
                    <a:pt x="4950" y="3030"/>
                  </a:lnTo>
                  <a:close/>
                  <a:moveTo>
                    <a:pt x="4966" y="3006"/>
                  </a:moveTo>
                  <a:lnTo>
                    <a:pt x="4966" y="3006"/>
                  </a:lnTo>
                  <a:lnTo>
                    <a:pt x="4968" y="3004"/>
                  </a:lnTo>
                  <a:lnTo>
                    <a:pt x="4970" y="3002"/>
                  </a:lnTo>
                  <a:lnTo>
                    <a:pt x="4973" y="3002"/>
                  </a:lnTo>
                  <a:lnTo>
                    <a:pt x="4977" y="3002"/>
                  </a:lnTo>
                  <a:lnTo>
                    <a:pt x="4978" y="3004"/>
                  </a:lnTo>
                  <a:lnTo>
                    <a:pt x="4978" y="3007"/>
                  </a:lnTo>
                  <a:lnTo>
                    <a:pt x="4978" y="3009"/>
                  </a:lnTo>
                  <a:lnTo>
                    <a:pt x="4978" y="3013"/>
                  </a:lnTo>
                  <a:lnTo>
                    <a:pt x="4978" y="3013"/>
                  </a:lnTo>
                  <a:lnTo>
                    <a:pt x="4977" y="3014"/>
                  </a:lnTo>
                  <a:lnTo>
                    <a:pt x="4973" y="3016"/>
                  </a:lnTo>
                  <a:lnTo>
                    <a:pt x="4971" y="3016"/>
                  </a:lnTo>
                  <a:lnTo>
                    <a:pt x="4968" y="3016"/>
                  </a:lnTo>
                  <a:lnTo>
                    <a:pt x="4966" y="3013"/>
                  </a:lnTo>
                  <a:lnTo>
                    <a:pt x="4964" y="3011"/>
                  </a:lnTo>
                  <a:lnTo>
                    <a:pt x="4964" y="3007"/>
                  </a:lnTo>
                  <a:lnTo>
                    <a:pt x="4966" y="3006"/>
                  </a:lnTo>
                  <a:lnTo>
                    <a:pt x="4966" y="3006"/>
                  </a:lnTo>
                  <a:close/>
                  <a:moveTo>
                    <a:pt x="4980" y="2981"/>
                  </a:moveTo>
                  <a:lnTo>
                    <a:pt x="4980" y="2981"/>
                  </a:lnTo>
                  <a:lnTo>
                    <a:pt x="4982" y="2979"/>
                  </a:lnTo>
                  <a:lnTo>
                    <a:pt x="4985" y="2978"/>
                  </a:lnTo>
                  <a:lnTo>
                    <a:pt x="4987" y="2978"/>
                  </a:lnTo>
                  <a:lnTo>
                    <a:pt x="4991" y="2978"/>
                  </a:lnTo>
                  <a:lnTo>
                    <a:pt x="4992" y="2979"/>
                  </a:lnTo>
                  <a:lnTo>
                    <a:pt x="4994" y="2983"/>
                  </a:lnTo>
                  <a:lnTo>
                    <a:pt x="4994" y="2985"/>
                  </a:lnTo>
                  <a:lnTo>
                    <a:pt x="4994" y="2988"/>
                  </a:lnTo>
                  <a:lnTo>
                    <a:pt x="4994" y="2988"/>
                  </a:lnTo>
                  <a:lnTo>
                    <a:pt x="4991" y="2990"/>
                  </a:lnTo>
                  <a:lnTo>
                    <a:pt x="4989" y="2992"/>
                  </a:lnTo>
                  <a:lnTo>
                    <a:pt x="4985" y="2992"/>
                  </a:lnTo>
                  <a:lnTo>
                    <a:pt x="4984" y="2990"/>
                  </a:lnTo>
                  <a:lnTo>
                    <a:pt x="4982" y="2988"/>
                  </a:lnTo>
                  <a:lnTo>
                    <a:pt x="4980" y="2986"/>
                  </a:lnTo>
                  <a:lnTo>
                    <a:pt x="4980" y="2983"/>
                  </a:lnTo>
                  <a:lnTo>
                    <a:pt x="4980" y="2981"/>
                  </a:lnTo>
                  <a:lnTo>
                    <a:pt x="4980" y="2981"/>
                  </a:lnTo>
                  <a:close/>
                  <a:moveTo>
                    <a:pt x="4996" y="2957"/>
                  </a:moveTo>
                  <a:lnTo>
                    <a:pt x="4996" y="2957"/>
                  </a:lnTo>
                  <a:lnTo>
                    <a:pt x="4998" y="2953"/>
                  </a:lnTo>
                  <a:lnTo>
                    <a:pt x="4999" y="2953"/>
                  </a:lnTo>
                  <a:lnTo>
                    <a:pt x="5003" y="2951"/>
                  </a:lnTo>
                  <a:lnTo>
                    <a:pt x="5005" y="2953"/>
                  </a:lnTo>
                  <a:lnTo>
                    <a:pt x="5008" y="2955"/>
                  </a:lnTo>
                  <a:lnTo>
                    <a:pt x="5008" y="2957"/>
                  </a:lnTo>
                  <a:lnTo>
                    <a:pt x="5008" y="2960"/>
                  </a:lnTo>
                  <a:lnTo>
                    <a:pt x="5008" y="2964"/>
                  </a:lnTo>
                  <a:lnTo>
                    <a:pt x="5008" y="2964"/>
                  </a:lnTo>
                  <a:lnTo>
                    <a:pt x="5006" y="2965"/>
                  </a:lnTo>
                  <a:lnTo>
                    <a:pt x="5003" y="2965"/>
                  </a:lnTo>
                  <a:lnTo>
                    <a:pt x="5001" y="2967"/>
                  </a:lnTo>
                  <a:lnTo>
                    <a:pt x="4998" y="2965"/>
                  </a:lnTo>
                  <a:lnTo>
                    <a:pt x="4996" y="2964"/>
                  </a:lnTo>
                  <a:lnTo>
                    <a:pt x="4994" y="2962"/>
                  </a:lnTo>
                  <a:lnTo>
                    <a:pt x="4994" y="2958"/>
                  </a:lnTo>
                  <a:lnTo>
                    <a:pt x="4996" y="2957"/>
                  </a:lnTo>
                  <a:lnTo>
                    <a:pt x="4996" y="2957"/>
                  </a:lnTo>
                  <a:close/>
                  <a:moveTo>
                    <a:pt x="5008" y="2936"/>
                  </a:moveTo>
                  <a:lnTo>
                    <a:pt x="5008" y="2936"/>
                  </a:lnTo>
                  <a:lnTo>
                    <a:pt x="5008" y="2932"/>
                  </a:lnTo>
                  <a:lnTo>
                    <a:pt x="5010" y="2930"/>
                  </a:lnTo>
                  <a:lnTo>
                    <a:pt x="5012" y="2929"/>
                  </a:lnTo>
                  <a:lnTo>
                    <a:pt x="5015" y="2927"/>
                  </a:lnTo>
                  <a:lnTo>
                    <a:pt x="5017" y="2927"/>
                  </a:lnTo>
                  <a:lnTo>
                    <a:pt x="5020" y="2929"/>
                  </a:lnTo>
                  <a:lnTo>
                    <a:pt x="5022" y="2930"/>
                  </a:lnTo>
                  <a:lnTo>
                    <a:pt x="5022" y="2934"/>
                  </a:lnTo>
                  <a:lnTo>
                    <a:pt x="5022" y="2934"/>
                  </a:lnTo>
                  <a:lnTo>
                    <a:pt x="5022" y="2936"/>
                  </a:lnTo>
                  <a:lnTo>
                    <a:pt x="5020" y="2939"/>
                  </a:lnTo>
                  <a:lnTo>
                    <a:pt x="5019" y="2941"/>
                  </a:lnTo>
                  <a:lnTo>
                    <a:pt x="5017" y="2941"/>
                  </a:lnTo>
                  <a:lnTo>
                    <a:pt x="5013" y="2941"/>
                  </a:lnTo>
                  <a:lnTo>
                    <a:pt x="5012" y="2939"/>
                  </a:lnTo>
                  <a:lnTo>
                    <a:pt x="5010" y="2937"/>
                  </a:lnTo>
                  <a:lnTo>
                    <a:pt x="5008" y="2936"/>
                  </a:lnTo>
                  <a:lnTo>
                    <a:pt x="5008" y="2936"/>
                  </a:lnTo>
                  <a:close/>
                  <a:moveTo>
                    <a:pt x="5005" y="2906"/>
                  </a:moveTo>
                  <a:lnTo>
                    <a:pt x="5005" y="2906"/>
                  </a:lnTo>
                  <a:lnTo>
                    <a:pt x="5005" y="2904"/>
                  </a:lnTo>
                  <a:lnTo>
                    <a:pt x="5006" y="2900"/>
                  </a:lnTo>
                  <a:lnTo>
                    <a:pt x="5008" y="2899"/>
                  </a:lnTo>
                  <a:lnTo>
                    <a:pt x="5012" y="2899"/>
                  </a:lnTo>
                  <a:lnTo>
                    <a:pt x="5013" y="2899"/>
                  </a:lnTo>
                  <a:lnTo>
                    <a:pt x="5017" y="2899"/>
                  </a:lnTo>
                  <a:lnTo>
                    <a:pt x="5019" y="2900"/>
                  </a:lnTo>
                  <a:lnTo>
                    <a:pt x="5019" y="2904"/>
                  </a:lnTo>
                  <a:lnTo>
                    <a:pt x="5019" y="2904"/>
                  </a:lnTo>
                  <a:lnTo>
                    <a:pt x="5019" y="2907"/>
                  </a:lnTo>
                  <a:lnTo>
                    <a:pt x="5017" y="2909"/>
                  </a:lnTo>
                  <a:lnTo>
                    <a:pt x="5015" y="2911"/>
                  </a:lnTo>
                  <a:lnTo>
                    <a:pt x="5013" y="2913"/>
                  </a:lnTo>
                  <a:lnTo>
                    <a:pt x="5010" y="2913"/>
                  </a:lnTo>
                  <a:lnTo>
                    <a:pt x="5008" y="2911"/>
                  </a:lnTo>
                  <a:lnTo>
                    <a:pt x="5006" y="2909"/>
                  </a:lnTo>
                  <a:lnTo>
                    <a:pt x="5005" y="2906"/>
                  </a:lnTo>
                  <a:lnTo>
                    <a:pt x="5005" y="2906"/>
                  </a:lnTo>
                  <a:close/>
                  <a:moveTo>
                    <a:pt x="5001" y="2878"/>
                  </a:moveTo>
                  <a:lnTo>
                    <a:pt x="5001" y="2878"/>
                  </a:lnTo>
                  <a:lnTo>
                    <a:pt x="5001" y="2874"/>
                  </a:lnTo>
                  <a:lnTo>
                    <a:pt x="5003" y="2872"/>
                  </a:lnTo>
                  <a:lnTo>
                    <a:pt x="5005" y="2871"/>
                  </a:lnTo>
                  <a:lnTo>
                    <a:pt x="5008" y="2869"/>
                  </a:lnTo>
                  <a:lnTo>
                    <a:pt x="5010" y="2869"/>
                  </a:lnTo>
                  <a:lnTo>
                    <a:pt x="5013" y="2871"/>
                  </a:lnTo>
                  <a:lnTo>
                    <a:pt x="5015" y="2872"/>
                  </a:lnTo>
                  <a:lnTo>
                    <a:pt x="5015" y="2876"/>
                  </a:lnTo>
                  <a:lnTo>
                    <a:pt x="5015" y="2876"/>
                  </a:lnTo>
                  <a:lnTo>
                    <a:pt x="5015" y="2878"/>
                  </a:lnTo>
                  <a:lnTo>
                    <a:pt x="5013" y="2881"/>
                  </a:lnTo>
                  <a:lnTo>
                    <a:pt x="5012" y="2883"/>
                  </a:lnTo>
                  <a:lnTo>
                    <a:pt x="5010" y="2885"/>
                  </a:lnTo>
                  <a:lnTo>
                    <a:pt x="5006" y="2883"/>
                  </a:lnTo>
                  <a:lnTo>
                    <a:pt x="5005" y="2883"/>
                  </a:lnTo>
                  <a:lnTo>
                    <a:pt x="5003" y="2881"/>
                  </a:lnTo>
                  <a:lnTo>
                    <a:pt x="5001" y="2878"/>
                  </a:lnTo>
                  <a:lnTo>
                    <a:pt x="5001" y="2878"/>
                  </a:lnTo>
                  <a:close/>
                  <a:moveTo>
                    <a:pt x="4998" y="2850"/>
                  </a:moveTo>
                  <a:lnTo>
                    <a:pt x="4998" y="2850"/>
                  </a:lnTo>
                  <a:lnTo>
                    <a:pt x="4998" y="2846"/>
                  </a:lnTo>
                  <a:lnTo>
                    <a:pt x="4999" y="2843"/>
                  </a:lnTo>
                  <a:lnTo>
                    <a:pt x="5001" y="2841"/>
                  </a:lnTo>
                  <a:lnTo>
                    <a:pt x="5005" y="2841"/>
                  </a:lnTo>
                  <a:lnTo>
                    <a:pt x="5006" y="2841"/>
                  </a:lnTo>
                  <a:lnTo>
                    <a:pt x="5010" y="2843"/>
                  </a:lnTo>
                  <a:lnTo>
                    <a:pt x="5012" y="2844"/>
                  </a:lnTo>
                  <a:lnTo>
                    <a:pt x="5012" y="2846"/>
                  </a:lnTo>
                  <a:lnTo>
                    <a:pt x="5012" y="2846"/>
                  </a:lnTo>
                  <a:lnTo>
                    <a:pt x="5012" y="2850"/>
                  </a:lnTo>
                  <a:lnTo>
                    <a:pt x="5010" y="2851"/>
                  </a:lnTo>
                  <a:lnTo>
                    <a:pt x="5008" y="2853"/>
                  </a:lnTo>
                  <a:lnTo>
                    <a:pt x="5006" y="2855"/>
                  </a:lnTo>
                  <a:lnTo>
                    <a:pt x="5003" y="2855"/>
                  </a:lnTo>
                  <a:lnTo>
                    <a:pt x="5001" y="2853"/>
                  </a:lnTo>
                  <a:lnTo>
                    <a:pt x="4999" y="2851"/>
                  </a:lnTo>
                  <a:lnTo>
                    <a:pt x="4998" y="2850"/>
                  </a:lnTo>
                  <a:lnTo>
                    <a:pt x="4998" y="2850"/>
                  </a:lnTo>
                  <a:close/>
                  <a:moveTo>
                    <a:pt x="4994" y="2820"/>
                  </a:moveTo>
                  <a:lnTo>
                    <a:pt x="4994" y="2820"/>
                  </a:lnTo>
                  <a:lnTo>
                    <a:pt x="4994" y="2816"/>
                  </a:lnTo>
                  <a:lnTo>
                    <a:pt x="4996" y="2815"/>
                  </a:lnTo>
                  <a:lnTo>
                    <a:pt x="4998" y="2813"/>
                  </a:lnTo>
                  <a:lnTo>
                    <a:pt x="5001" y="2811"/>
                  </a:lnTo>
                  <a:lnTo>
                    <a:pt x="5003" y="2811"/>
                  </a:lnTo>
                  <a:lnTo>
                    <a:pt x="5006" y="2813"/>
                  </a:lnTo>
                  <a:lnTo>
                    <a:pt x="5008" y="2815"/>
                  </a:lnTo>
                  <a:lnTo>
                    <a:pt x="5008" y="2818"/>
                  </a:lnTo>
                  <a:lnTo>
                    <a:pt x="5008" y="2818"/>
                  </a:lnTo>
                  <a:lnTo>
                    <a:pt x="5008" y="2820"/>
                  </a:lnTo>
                  <a:lnTo>
                    <a:pt x="5006" y="2823"/>
                  </a:lnTo>
                  <a:lnTo>
                    <a:pt x="5005" y="2825"/>
                  </a:lnTo>
                  <a:lnTo>
                    <a:pt x="5003" y="2827"/>
                  </a:lnTo>
                  <a:lnTo>
                    <a:pt x="4999" y="2827"/>
                  </a:lnTo>
                  <a:lnTo>
                    <a:pt x="4998" y="2825"/>
                  </a:lnTo>
                  <a:lnTo>
                    <a:pt x="4996" y="2823"/>
                  </a:lnTo>
                  <a:lnTo>
                    <a:pt x="4994" y="2820"/>
                  </a:lnTo>
                  <a:lnTo>
                    <a:pt x="4994" y="2820"/>
                  </a:lnTo>
                  <a:close/>
                  <a:moveTo>
                    <a:pt x="4984" y="2795"/>
                  </a:moveTo>
                  <a:lnTo>
                    <a:pt x="4984" y="2795"/>
                  </a:lnTo>
                  <a:lnTo>
                    <a:pt x="4984" y="2794"/>
                  </a:lnTo>
                  <a:lnTo>
                    <a:pt x="4984" y="2790"/>
                  </a:lnTo>
                  <a:lnTo>
                    <a:pt x="4985" y="2788"/>
                  </a:lnTo>
                  <a:lnTo>
                    <a:pt x="4987" y="2787"/>
                  </a:lnTo>
                  <a:lnTo>
                    <a:pt x="4991" y="2785"/>
                  </a:lnTo>
                  <a:lnTo>
                    <a:pt x="4992" y="2785"/>
                  </a:lnTo>
                  <a:lnTo>
                    <a:pt x="4996" y="2787"/>
                  </a:lnTo>
                  <a:lnTo>
                    <a:pt x="4998" y="2790"/>
                  </a:lnTo>
                  <a:lnTo>
                    <a:pt x="4998" y="2790"/>
                  </a:lnTo>
                  <a:lnTo>
                    <a:pt x="4998" y="2792"/>
                  </a:lnTo>
                  <a:lnTo>
                    <a:pt x="4998" y="2795"/>
                  </a:lnTo>
                  <a:lnTo>
                    <a:pt x="4996" y="2797"/>
                  </a:lnTo>
                  <a:lnTo>
                    <a:pt x="4994" y="2799"/>
                  </a:lnTo>
                  <a:lnTo>
                    <a:pt x="4991" y="2799"/>
                  </a:lnTo>
                  <a:lnTo>
                    <a:pt x="4989" y="2799"/>
                  </a:lnTo>
                  <a:lnTo>
                    <a:pt x="4985" y="2799"/>
                  </a:lnTo>
                  <a:lnTo>
                    <a:pt x="4984" y="2795"/>
                  </a:lnTo>
                  <a:lnTo>
                    <a:pt x="4984" y="2795"/>
                  </a:lnTo>
                  <a:close/>
                  <a:moveTo>
                    <a:pt x="4971" y="2771"/>
                  </a:moveTo>
                  <a:lnTo>
                    <a:pt x="4971" y="2771"/>
                  </a:lnTo>
                  <a:lnTo>
                    <a:pt x="4970" y="2767"/>
                  </a:lnTo>
                  <a:lnTo>
                    <a:pt x="4970" y="2764"/>
                  </a:lnTo>
                  <a:lnTo>
                    <a:pt x="4971" y="2762"/>
                  </a:lnTo>
                  <a:lnTo>
                    <a:pt x="4973" y="2760"/>
                  </a:lnTo>
                  <a:lnTo>
                    <a:pt x="4977" y="2760"/>
                  </a:lnTo>
                  <a:lnTo>
                    <a:pt x="4978" y="2760"/>
                  </a:lnTo>
                  <a:lnTo>
                    <a:pt x="4982" y="2762"/>
                  </a:lnTo>
                  <a:lnTo>
                    <a:pt x="4984" y="2764"/>
                  </a:lnTo>
                  <a:lnTo>
                    <a:pt x="4984" y="2764"/>
                  </a:lnTo>
                  <a:lnTo>
                    <a:pt x="4984" y="2766"/>
                  </a:lnTo>
                  <a:lnTo>
                    <a:pt x="4984" y="2769"/>
                  </a:lnTo>
                  <a:lnTo>
                    <a:pt x="4984" y="2771"/>
                  </a:lnTo>
                  <a:lnTo>
                    <a:pt x="4980" y="2773"/>
                  </a:lnTo>
                  <a:lnTo>
                    <a:pt x="4978" y="2774"/>
                  </a:lnTo>
                  <a:lnTo>
                    <a:pt x="4975" y="2774"/>
                  </a:lnTo>
                  <a:lnTo>
                    <a:pt x="4973" y="2773"/>
                  </a:lnTo>
                  <a:lnTo>
                    <a:pt x="4971" y="2771"/>
                  </a:lnTo>
                  <a:lnTo>
                    <a:pt x="4971" y="2771"/>
                  </a:lnTo>
                  <a:close/>
                  <a:moveTo>
                    <a:pt x="4957" y="2745"/>
                  </a:moveTo>
                  <a:lnTo>
                    <a:pt x="4957" y="2745"/>
                  </a:lnTo>
                  <a:lnTo>
                    <a:pt x="4956" y="2741"/>
                  </a:lnTo>
                  <a:lnTo>
                    <a:pt x="4957" y="2739"/>
                  </a:lnTo>
                  <a:lnTo>
                    <a:pt x="4957" y="2738"/>
                  </a:lnTo>
                  <a:lnTo>
                    <a:pt x="4961" y="2736"/>
                  </a:lnTo>
                  <a:lnTo>
                    <a:pt x="4963" y="2734"/>
                  </a:lnTo>
                  <a:lnTo>
                    <a:pt x="4966" y="2734"/>
                  </a:lnTo>
                  <a:lnTo>
                    <a:pt x="4968" y="2736"/>
                  </a:lnTo>
                  <a:lnTo>
                    <a:pt x="4970" y="2738"/>
                  </a:lnTo>
                  <a:lnTo>
                    <a:pt x="4970" y="2738"/>
                  </a:lnTo>
                  <a:lnTo>
                    <a:pt x="4971" y="2741"/>
                  </a:lnTo>
                  <a:lnTo>
                    <a:pt x="4971" y="2743"/>
                  </a:lnTo>
                  <a:lnTo>
                    <a:pt x="4970" y="2746"/>
                  </a:lnTo>
                  <a:lnTo>
                    <a:pt x="4968" y="2748"/>
                  </a:lnTo>
                  <a:lnTo>
                    <a:pt x="4964" y="2748"/>
                  </a:lnTo>
                  <a:lnTo>
                    <a:pt x="4961" y="2748"/>
                  </a:lnTo>
                  <a:lnTo>
                    <a:pt x="4959" y="2746"/>
                  </a:lnTo>
                  <a:lnTo>
                    <a:pt x="4957" y="2745"/>
                  </a:lnTo>
                  <a:lnTo>
                    <a:pt x="4957" y="2745"/>
                  </a:lnTo>
                  <a:close/>
                  <a:moveTo>
                    <a:pt x="4942" y="2724"/>
                  </a:moveTo>
                  <a:lnTo>
                    <a:pt x="4942" y="2724"/>
                  </a:lnTo>
                  <a:lnTo>
                    <a:pt x="4940" y="2720"/>
                  </a:lnTo>
                  <a:lnTo>
                    <a:pt x="4940" y="2717"/>
                  </a:lnTo>
                  <a:lnTo>
                    <a:pt x="4940" y="2715"/>
                  </a:lnTo>
                  <a:lnTo>
                    <a:pt x="4942" y="2713"/>
                  </a:lnTo>
                  <a:lnTo>
                    <a:pt x="4945" y="2711"/>
                  </a:lnTo>
                  <a:lnTo>
                    <a:pt x="4947" y="2711"/>
                  </a:lnTo>
                  <a:lnTo>
                    <a:pt x="4950" y="2711"/>
                  </a:lnTo>
                  <a:lnTo>
                    <a:pt x="4952" y="2713"/>
                  </a:lnTo>
                  <a:lnTo>
                    <a:pt x="4952" y="2713"/>
                  </a:lnTo>
                  <a:lnTo>
                    <a:pt x="4954" y="2715"/>
                  </a:lnTo>
                  <a:lnTo>
                    <a:pt x="4954" y="2718"/>
                  </a:lnTo>
                  <a:lnTo>
                    <a:pt x="4954" y="2720"/>
                  </a:lnTo>
                  <a:lnTo>
                    <a:pt x="4952" y="2724"/>
                  </a:lnTo>
                  <a:lnTo>
                    <a:pt x="4949" y="2725"/>
                  </a:lnTo>
                  <a:lnTo>
                    <a:pt x="4947" y="2725"/>
                  </a:lnTo>
                  <a:lnTo>
                    <a:pt x="4943" y="2725"/>
                  </a:lnTo>
                  <a:lnTo>
                    <a:pt x="4942" y="2724"/>
                  </a:lnTo>
                  <a:lnTo>
                    <a:pt x="4942" y="2724"/>
                  </a:lnTo>
                  <a:close/>
                  <a:moveTo>
                    <a:pt x="4922" y="2701"/>
                  </a:moveTo>
                  <a:lnTo>
                    <a:pt x="4922" y="2701"/>
                  </a:lnTo>
                  <a:lnTo>
                    <a:pt x="4921" y="2699"/>
                  </a:lnTo>
                  <a:lnTo>
                    <a:pt x="4921" y="2696"/>
                  </a:lnTo>
                  <a:lnTo>
                    <a:pt x="4921" y="2692"/>
                  </a:lnTo>
                  <a:lnTo>
                    <a:pt x="4922" y="2690"/>
                  </a:lnTo>
                  <a:lnTo>
                    <a:pt x="4926" y="2689"/>
                  </a:lnTo>
                  <a:lnTo>
                    <a:pt x="4928" y="2689"/>
                  </a:lnTo>
                  <a:lnTo>
                    <a:pt x="4931" y="2689"/>
                  </a:lnTo>
                  <a:lnTo>
                    <a:pt x="4933" y="2692"/>
                  </a:lnTo>
                  <a:lnTo>
                    <a:pt x="4933" y="2692"/>
                  </a:lnTo>
                  <a:lnTo>
                    <a:pt x="4935" y="2694"/>
                  </a:lnTo>
                  <a:lnTo>
                    <a:pt x="4935" y="2696"/>
                  </a:lnTo>
                  <a:lnTo>
                    <a:pt x="4935" y="2699"/>
                  </a:lnTo>
                  <a:lnTo>
                    <a:pt x="4933" y="2701"/>
                  </a:lnTo>
                  <a:lnTo>
                    <a:pt x="4929" y="2703"/>
                  </a:lnTo>
                  <a:lnTo>
                    <a:pt x="4928" y="2703"/>
                  </a:lnTo>
                  <a:lnTo>
                    <a:pt x="4924" y="2703"/>
                  </a:lnTo>
                  <a:lnTo>
                    <a:pt x="4922" y="2701"/>
                  </a:lnTo>
                  <a:lnTo>
                    <a:pt x="4922" y="2701"/>
                  </a:lnTo>
                  <a:close/>
                  <a:moveTo>
                    <a:pt x="4903" y="2680"/>
                  </a:moveTo>
                  <a:lnTo>
                    <a:pt x="4903" y="2680"/>
                  </a:lnTo>
                  <a:lnTo>
                    <a:pt x="4901" y="2676"/>
                  </a:lnTo>
                  <a:lnTo>
                    <a:pt x="4901" y="2673"/>
                  </a:lnTo>
                  <a:lnTo>
                    <a:pt x="4903" y="2671"/>
                  </a:lnTo>
                  <a:lnTo>
                    <a:pt x="4905" y="2669"/>
                  </a:lnTo>
                  <a:lnTo>
                    <a:pt x="4907" y="2668"/>
                  </a:lnTo>
                  <a:lnTo>
                    <a:pt x="4908" y="2668"/>
                  </a:lnTo>
                  <a:lnTo>
                    <a:pt x="4912" y="2668"/>
                  </a:lnTo>
                  <a:lnTo>
                    <a:pt x="4914" y="2669"/>
                  </a:lnTo>
                  <a:lnTo>
                    <a:pt x="4914" y="2669"/>
                  </a:lnTo>
                  <a:lnTo>
                    <a:pt x="4915" y="2671"/>
                  </a:lnTo>
                  <a:lnTo>
                    <a:pt x="4915" y="2675"/>
                  </a:lnTo>
                  <a:lnTo>
                    <a:pt x="4915" y="2676"/>
                  </a:lnTo>
                  <a:lnTo>
                    <a:pt x="4914" y="2680"/>
                  </a:lnTo>
                  <a:lnTo>
                    <a:pt x="4912" y="2682"/>
                  </a:lnTo>
                  <a:lnTo>
                    <a:pt x="4908" y="2682"/>
                  </a:lnTo>
                  <a:lnTo>
                    <a:pt x="4907" y="2682"/>
                  </a:lnTo>
                  <a:lnTo>
                    <a:pt x="4903" y="2680"/>
                  </a:lnTo>
                  <a:lnTo>
                    <a:pt x="4903" y="2680"/>
                  </a:lnTo>
                  <a:close/>
                  <a:moveTo>
                    <a:pt x="4884" y="2657"/>
                  </a:moveTo>
                  <a:lnTo>
                    <a:pt x="4884" y="2657"/>
                  </a:lnTo>
                  <a:lnTo>
                    <a:pt x="4882" y="2655"/>
                  </a:lnTo>
                  <a:lnTo>
                    <a:pt x="4882" y="2652"/>
                  </a:lnTo>
                  <a:lnTo>
                    <a:pt x="4884" y="2648"/>
                  </a:lnTo>
                  <a:lnTo>
                    <a:pt x="4886" y="2647"/>
                  </a:lnTo>
                  <a:lnTo>
                    <a:pt x="4887" y="2645"/>
                  </a:lnTo>
                  <a:lnTo>
                    <a:pt x="4891" y="2645"/>
                  </a:lnTo>
                  <a:lnTo>
                    <a:pt x="4893" y="2645"/>
                  </a:lnTo>
                  <a:lnTo>
                    <a:pt x="4896" y="2648"/>
                  </a:lnTo>
                  <a:lnTo>
                    <a:pt x="4896" y="2648"/>
                  </a:lnTo>
                  <a:lnTo>
                    <a:pt x="4896" y="2650"/>
                  </a:lnTo>
                  <a:lnTo>
                    <a:pt x="4898" y="2652"/>
                  </a:lnTo>
                  <a:lnTo>
                    <a:pt x="4896" y="2655"/>
                  </a:lnTo>
                  <a:lnTo>
                    <a:pt x="4894" y="2657"/>
                  </a:lnTo>
                  <a:lnTo>
                    <a:pt x="4893" y="2659"/>
                  </a:lnTo>
                  <a:lnTo>
                    <a:pt x="4889" y="2659"/>
                  </a:lnTo>
                  <a:lnTo>
                    <a:pt x="4887" y="2659"/>
                  </a:lnTo>
                  <a:lnTo>
                    <a:pt x="4884" y="2657"/>
                  </a:lnTo>
                  <a:lnTo>
                    <a:pt x="4884" y="2657"/>
                  </a:lnTo>
                  <a:close/>
                  <a:moveTo>
                    <a:pt x="4870" y="2631"/>
                  </a:moveTo>
                  <a:lnTo>
                    <a:pt x="4870" y="2631"/>
                  </a:lnTo>
                  <a:lnTo>
                    <a:pt x="4868" y="2627"/>
                  </a:lnTo>
                  <a:lnTo>
                    <a:pt x="4868" y="2626"/>
                  </a:lnTo>
                  <a:lnTo>
                    <a:pt x="4870" y="2622"/>
                  </a:lnTo>
                  <a:lnTo>
                    <a:pt x="4873" y="2620"/>
                  </a:lnTo>
                  <a:lnTo>
                    <a:pt x="4875" y="2620"/>
                  </a:lnTo>
                  <a:lnTo>
                    <a:pt x="4879" y="2620"/>
                  </a:lnTo>
                  <a:lnTo>
                    <a:pt x="4880" y="2622"/>
                  </a:lnTo>
                  <a:lnTo>
                    <a:pt x="4882" y="2624"/>
                  </a:lnTo>
                  <a:lnTo>
                    <a:pt x="4882" y="2624"/>
                  </a:lnTo>
                  <a:lnTo>
                    <a:pt x="4882" y="2627"/>
                  </a:lnTo>
                  <a:lnTo>
                    <a:pt x="4882" y="2629"/>
                  </a:lnTo>
                  <a:lnTo>
                    <a:pt x="4880" y="2633"/>
                  </a:lnTo>
                  <a:lnTo>
                    <a:pt x="4879" y="2634"/>
                  </a:lnTo>
                  <a:lnTo>
                    <a:pt x="4875" y="2634"/>
                  </a:lnTo>
                  <a:lnTo>
                    <a:pt x="4873" y="2634"/>
                  </a:lnTo>
                  <a:lnTo>
                    <a:pt x="4872" y="2633"/>
                  </a:lnTo>
                  <a:lnTo>
                    <a:pt x="4870" y="2631"/>
                  </a:lnTo>
                  <a:lnTo>
                    <a:pt x="4870" y="2631"/>
                  </a:lnTo>
                  <a:close/>
                  <a:moveTo>
                    <a:pt x="4858" y="2605"/>
                  </a:moveTo>
                  <a:lnTo>
                    <a:pt x="4858" y="2605"/>
                  </a:lnTo>
                  <a:lnTo>
                    <a:pt x="4856" y="2601"/>
                  </a:lnTo>
                  <a:lnTo>
                    <a:pt x="4858" y="2599"/>
                  </a:lnTo>
                  <a:lnTo>
                    <a:pt x="4858" y="2596"/>
                  </a:lnTo>
                  <a:lnTo>
                    <a:pt x="4861" y="2594"/>
                  </a:lnTo>
                  <a:lnTo>
                    <a:pt x="4863" y="2594"/>
                  </a:lnTo>
                  <a:lnTo>
                    <a:pt x="4866" y="2594"/>
                  </a:lnTo>
                  <a:lnTo>
                    <a:pt x="4868" y="2596"/>
                  </a:lnTo>
                  <a:lnTo>
                    <a:pt x="4870" y="2598"/>
                  </a:lnTo>
                  <a:lnTo>
                    <a:pt x="4870" y="2598"/>
                  </a:lnTo>
                  <a:lnTo>
                    <a:pt x="4870" y="2601"/>
                  </a:lnTo>
                  <a:lnTo>
                    <a:pt x="4870" y="2603"/>
                  </a:lnTo>
                  <a:lnTo>
                    <a:pt x="4870" y="2606"/>
                  </a:lnTo>
                  <a:lnTo>
                    <a:pt x="4866" y="2608"/>
                  </a:lnTo>
                  <a:lnTo>
                    <a:pt x="4865" y="2608"/>
                  </a:lnTo>
                  <a:lnTo>
                    <a:pt x="4861" y="2608"/>
                  </a:lnTo>
                  <a:lnTo>
                    <a:pt x="4859" y="2606"/>
                  </a:lnTo>
                  <a:lnTo>
                    <a:pt x="4858" y="2605"/>
                  </a:lnTo>
                  <a:lnTo>
                    <a:pt x="4858" y="2605"/>
                  </a:lnTo>
                  <a:close/>
                  <a:moveTo>
                    <a:pt x="4845" y="2578"/>
                  </a:moveTo>
                  <a:lnTo>
                    <a:pt x="4845" y="2578"/>
                  </a:lnTo>
                  <a:lnTo>
                    <a:pt x="4844" y="2575"/>
                  </a:lnTo>
                  <a:lnTo>
                    <a:pt x="4845" y="2573"/>
                  </a:lnTo>
                  <a:lnTo>
                    <a:pt x="4845" y="2570"/>
                  </a:lnTo>
                  <a:lnTo>
                    <a:pt x="4849" y="2568"/>
                  </a:lnTo>
                  <a:lnTo>
                    <a:pt x="4851" y="2568"/>
                  </a:lnTo>
                  <a:lnTo>
                    <a:pt x="4854" y="2568"/>
                  </a:lnTo>
                  <a:lnTo>
                    <a:pt x="4856" y="2570"/>
                  </a:lnTo>
                  <a:lnTo>
                    <a:pt x="4858" y="2571"/>
                  </a:lnTo>
                  <a:lnTo>
                    <a:pt x="4858" y="2571"/>
                  </a:lnTo>
                  <a:lnTo>
                    <a:pt x="4859" y="2575"/>
                  </a:lnTo>
                  <a:lnTo>
                    <a:pt x="4858" y="2577"/>
                  </a:lnTo>
                  <a:lnTo>
                    <a:pt x="4858" y="2580"/>
                  </a:lnTo>
                  <a:lnTo>
                    <a:pt x="4854" y="2582"/>
                  </a:lnTo>
                  <a:lnTo>
                    <a:pt x="4852" y="2582"/>
                  </a:lnTo>
                  <a:lnTo>
                    <a:pt x="4849" y="2582"/>
                  </a:lnTo>
                  <a:lnTo>
                    <a:pt x="4847" y="2580"/>
                  </a:lnTo>
                  <a:lnTo>
                    <a:pt x="4845" y="2578"/>
                  </a:lnTo>
                  <a:lnTo>
                    <a:pt x="4845" y="2578"/>
                  </a:lnTo>
                  <a:close/>
                  <a:moveTo>
                    <a:pt x="4833" y="2552"/>
                  </a:moveTo>
                  <a:lnTo>
                    <a:pt x="4833" y="2552"/>
                  </a:lnTo>
                  <a:lnTo>
                    <a:pt x="4833" y="2549"/>
                  </a:lnTo>
                  <a:lnTo>
                    <a:pt x="4833" y="2545"/>
                  </a:lnTo>
                  <a:lnTo>
                    <a:pt x="4835" y="2543"/>
                  </a:lnTo>
                  <a:lnTo>
                    <a:pt x="4837" y="2542"/>
                  </a:lnTo>
                  <a:lnTo>
                    <a:pt x="4838" y="2542"/>
                  </a:lnTo>
                  <a:lnTo>
                    <a:pt x="4842" y="2542"/>
                  </a:lnTo>
                  <a:lnTo>
                    <a:pt x="4844" y="2543"/>
                  </a:lnTo>
                  <a:lnTo>
                    <a:pt x="4845" y="2545"/>
                  </a:lnTo>
                  <a:lnTo>
                    <a:pt x="4845" y="2545"/>
                  </a:lnTo>
                  <a:lnTo>
                    <a:pt x="4847" y="2549"/>
                  </a:lnTo>
                  <a:lnTo>
                    <a:pt x="4847" y="2550"/>
                  </a:lnTo>
                  <a:lnTo>
                    <a:pt x="4845" y="2554"/>
                  </a:lnTo>
                  <a:lnTo>
                    <a:pt x="4844" y="2556"/>
                  </a:lnTo>
                  <a:lnTo>
                    <a:pt x="4840" y="2556"/>
                  </a:lnTo>
                  <a:lnTo>
                    <a:pt x="4837" y="2556"/>
                  </a:lnTo>
                  <a:lnTo>
                    <a:pt x="4835" y="2554"/>
                  </a:lnTo>
                  <a:lnTo>
                    <a:pt x="4833" y="2552"/>
                  </a:lnTo>
                  <a:lnTo>
                    <a:pt x="4833" y="2552"/>
                  </a:lnTo>
                  <a:close/>
                  <a:moveTo>
                    <a:pt x="4828" y="2521"/>
                  </a:moveTo>
                  <a:lnTo>
                    <a:pt x="4828" y="2521"/>
                  </a:lnTo>
                  <a:lnTo>
                    <a:pt x="4828" y="2519"/>
                  </a:lnTo>
                  <a:lnTo>
                    <a:pt x="4830" y="2515"/>
                  </a:lnTo>
                  <a:lnTo>
                    <a:pt x="4831" y="2514"/>
                  </a:lnTo>
                  <a:lnTo>
                    <a:pt x="4833" y="2514"/>
                  </a:lnTo>
                  <a:lnTo>
                    <a:pt x="4837" y="2514"/>
                  </a:lnTo>
                  <a:lnTo>
                    <a:pt x="4838" y="2514"/>
                  </a:lnTo>
                  <a:lnTo>
                    <a:pt x="4840" y="2515"/>
                  </a:lnTo>
                  <a:lnTo>
                    <a:pt x="4842" y="2519"/>
                  </a:lnTo>
                  <a:lnTo>
                    <a:pt x="4842" y="2519"/>
                  </a:lnTo>
                  <a:lnTo>
                    <a:pt x="4842" y="2522"/>
                  </a:lnTo>
                  <a:lnTo>
                    <a:pt x="4840" y="2524"/>
                  </a:lnTo>
                  <a:lnTo>
                    <a:pt x="4838" y="2526"/>
                  </a:lnTo>
                  <a:lnTo>
                    <a:pt x="4837" y="2528"/>
                  </a:lnTo>
                  <a:lnTo>
                    <a:pt x="4833" y="2528"/>
                  </a:lnTo>
                  <a:lnTo>
                    <a:pt x="4830" y="2526"/>
                  </a:lnTo>
                  <a:lnTo>
                    <a:pt x="4828" y="2524"/>
                  </a:lnTo>
                  <a:lnTo>
                    <a:pt x="4828" y="2521"/>
                  </a:lnTo>
                  <a:lnTo>
                    <a:pt x="4828" y="2521"/>
                  </a:lnTo>
                  <a:close/>
                  <a:moveTo>
                    <a:pt x="4824" y="2493"/>
                  </a:moveTo>
                  <a:lnTo>
                    <a:pt x="4824" y="2493"/>
                  </a:lnTo>
                  <a:lnTo>
                    <a:pt x="4824" y="2489"/>
                  </a:lnTo>
                  <a:lnTo>
                    <a:pt x="4824" y="2487"/>
                  </a:lnTo>
                  <a:lnTo>
                    <a:pt x="4826" y="2486"/>
                  </a:lnTo>
                  <a:lnTo>
                    <a:pt x="4830" y="2484"/>
                  </a:lnTo>
                  <a:lnTo>
                    <a:pt x="4833" y="2484"/>
                  </a:lnTo>
                  <a:lnTo>
                    <a:pt x="4835" y="2486"/>
                  </a:lnTo>
                  <a:lnTo>
                    <a:pt x="4837" y="2487"/>
                  </a:lnTo>
                  <a:lnTo>
                    <a:pt x="4838" y="2491"/>
                  </a:lnTo>
                  <a:lnTo>
                    <a:pt x="4838" y="2491"/>
                  </a:lnTo>
                  <a:lnTo>
                    <a:pt x="4838" y="2493"/>
                  </a:lnTo>
                  <a:lnTo>
                    <a:pt x="4837" y="2496"/>
                  </a:lnTo>
                  <a:lnTo>
                    <a:pt x="4835" y="2498"/>
                  </a:lnTo>
                  <a:lnTo>
                    <a:pt x="4831" y="2498"/>
                  </a:lnTo>
                  <a:lnTo>
                    <a:pt x="4830" y="2498"/>
                  </a:lnTo>
                  <a:lnTo>
                    <a:pt x="4826" y="2498"/>
                  </a:lnTo>
                  <a:lnTo>
                    <a:pt x="4824" y="2494"/>
                  </a:lnTo>
                  <a:lnTo>
                    <a:pt x="4824" y="2493"/>
                  </a:lnTo>
                  <a:lnTo>
                    <a:pt x="4824" y="2493"/>
                  </a:lnTo>
                  <a:close/>
                  <a:moveTo>
                    <a:pt x="4819" y="2465"/>
                  </a:moveTo>
                  <a:lnTo>
                    <a:pt x="4819" y="2465"/>
                  </a:lnTo>
                  <a:lnTo>
                    <a:pt x="4819" y="2461"/>
                  </a:lnTo>
                  <a:lnTo>
                    <a:pt x="4821" y="2458"/>
                  </a:lnTo>
                  <a:lnTo>
                    <a:pt x="4823" y="2456"/>
                  </a:lnTo>
                  <a:lnTo>
                    <a:pt x="4826" y="2456"/>
                  </a:lnTo>
                  <a:lnTo>
                    <a:pt x="4828" y="2456"/>
                  </a:lnTo>
                  <a:lnTo>
                    <a:pt x="4831" y="2458"/>
                  </a:lnTo>
                  <a:lnTo>
                    <a:pt x="4833" y="2459"/>
                  </a:lnTo>
                  <a:lnTo>
                    <a:pt x="4835" y="2461"/>
                  </a:lnTo>
                  <a:lnTo>
                    <a:pt x="4835" y="2461"/>
                  </a:lnTo>
                  <a:lnTo>
                    <a:pt x="4833" y="2465"/>
                  </a:lnTo>
                  <a:lnTo>
                    <a:pt x="4833" y="2466"/>
                  </a:lnTo>
                  <a:lnTo>
                    <a:pt x="4831" y="2468"/>
                  </a:lnTo>
                  <a:lnTo>
                    <a:pt x="4828" y="2470"/>
                  </a:lnTo>
                  <a:lnTo>
                    <a:pt x="4824" y="2470"/>
                  </a:lnTo>
                  <a:lnTo>
                    <a:pt x="4823" y="2468"/>
                  </a:lnTo>
                  <a:lnTo>
                    <a:pt x="4821" y="2466"/>
                  </a:lnTo>
                  <a:lnTo>
                    <a:pt x="4819" y="2465"/>
                  </a:lnTo>
                  <a:lnTo>
                    <a:pt x="4819" y="2465"/>
                  </a:lnTo>
                  <a:close/>
                  <a:moveTo>
                    <a:pt x="4816" y="2435"/>
                  </a:moveTo>
                  <a:lnTo>
                    <a:pt x="4816" y="2435"/>
                  </a:lnTo>
                  <a:lnTo>
                    <a:pt x="4816" y="2431"/>
                  </a:lnTo>
                  <a:lnTo>
                    <a:pt x="4817" y="2430"/>
                  </a:lnTo>
                  <a:lnTo>
                    <a:pt x="4819" y="2428"/>
                  </a:lnTo>
                  <a:lnTo>
                    <a:pt x="4823" y="2426"/>
                  </a:lnTo>
                  <a:lnTo>
                    <a:pt x="4824" y="2426"/>
                  </a:lnTo>
                  <a:lnTo>
                    <a:pt x="4828" y="2428"/>
                  </a:lnTo>
                  <a:lnTo>
                    <a:pt x="4830" y="2430"/>
                  </a:lnTo>
                  <a:lnTo>
                    <a:pt x="4830" y="2433"/>
                  </a:lnTo>
                  <a:lnTo>
                    <a:pt x="4830" y="2433"/>
                  </a:lnTo>
                  <a:lnTo>
                    <a:pt x="4830" y="2435"/>
                  </a:lnTo>
                  <a:lnTo>
                    <a:pt x="4828" y="2438"/>
                  </a:lnTo>
                  <a:lnTo>
                    <a:pt x="4826" y="2440"/>
                  </a:lnTo>
                  <a:lnTo>
                    <a:pt x="4824" y="2442"/>
                  </a:lnTo>
                  <a:lnTo>
                    <a:pt x="4821" y="2440"/>
                  </a:lnTo>
                  <a:lnTo>
                    <a:pt x="4819" y="2440"/>
                  </a:lnTo>
                  <a:lnTo>
                    <a:pt x="4817" y="2438"/>
                  </a:lnTo>
                  <a:lnTo>
                    <a:pt x="4816" y="2435"/>
                  </a:lnTo>
                  <a:lnTo>
                    <a:pt x="4816" y="2435"/>
                  </a:lnTo>
                  <a:close/>
                  <a:moveTo>
                    <a:pt x="4847" y="2419"/>
                  </a:moveTo>
                  <a:lnTo>
                    <a:pt x="4849" y="2419"/>
                  </a:lnTo>
                  <a:lnTo>
                    <a:pt x="4851" y="2419"/>
                  </a:lnTo>
                  <a:lnTo>
                    <a:pt x="4852" y="2419"/>
                  </a:lnTo>
                  <a:lnTo>
                    <a:pt x="4856" y="2421"/>
                  </a:lnTo>
                  <a:lnTo>
                    <a:pt x="4858" y="2424"/>
                  </a:lnTo>
                  <a:lnTo>
                    <a:pt x="4858" y="2426"/>
                  </a:lnTo>
                  <a:lnTo>
                    <a:pt x="4856" y="2430"/>
                  </a:lnTo>
                  <a:lnTo>
                    <a:pt x="4854" y="2431"/>
                  </a:lnTo>
                  <a:lnTo>
                    <a:pt x="4852" y="2433"/>
                  </a:lnTo>
                  <a:lnTo>
                    <a:pt x="4852" y="2433"/>
                  </a:lnTo>
                  <a:lnTo>
                    <a:pt x="4849" y="2433"/>
                  </a:lnTo>
                  <a:lnTo>
                    <a:pt x="4847" y="2433"/>
                  </a:lnTo>
                  <a:lnTo>
                    <a:pt x="4844" y="2431"/>
                  </a:lnTo>
                  <a:lnTo>
                    <a:pt x="4844" y="2428"/>
                  </a:lnTo>
                  <a:lnTo>
                    <a:pt x="4842" y="2424"/>
                  </a:lnTo>
                  <a:lnTo>
                    <a:pt x="4844" y="2423"/>
                  </a:lnTo>
                  <a:lnTo>
                    <a:pt x="4845" y="2421"/>
                  </a:lnTo>
                  <a:lnTo>
                    <a:pt x="4847" y="2419"/>
                  </a:lnTo>
                  <a:lnTo>
                    <a:pt x="4847" y="2419"/>
                  </a:lnTo>
                  <a:close/>
                  <a:moveTo>
                    <a:pt x="4872" y="2410"/>
                  </a:moveTo>
                  <a:lnTo>
                    <a:pt x="4872" y="2410"/>
                  </a:lnTo>
                  <a:lnTo>
                    <a:pt x="4873" y="2409"/>
                  </a:lnTo>
                  <a:lnTo>
                    <a:pt x="4877" y="2409"/>
                  </a:lnTo>
                  <a:lnTo>
                    <a:pt x="4879" y="2409"/>
                  </a:lnTo>
                  <a:lnTo>
                    <a:pt x="4882" y="2410"/>
                  </a:lnTo>
                  <a:lnTo>
                    <a:pt x="4884" y="2414"/>
                  </a:lnTo>
                  <a:lnTo>
                    <a:pt x="4884" y="2416"/>
                  </a:lnTo>
                  <a:lnTo>
                    <a:pt x="4882" y="2419"/>
                  </a:lnTo>
                  <a:lnTo>
                    <a:pt x="4880" y="2421"/>
                  </a:lnTo>
                  <a:lnTo>
                    <a:pt x="4880" y="2421"/>
                  </a:lnTo>
                  <a:lnTo>
                    <a:pt x="4879" y="2423"/>
                  </a:lnTo>
                  <a:lnTo>
                    <a:pt x="4875" y="2423"/>
                  </a:lnTo>
                  <a:lnTo>
                    <a:pt x="4873" y="2423"/>
                  </a:lnTo>
                  <a:lnTo>
                    <a:pt x="4872" y="2421"/>
                  </a:lnTo>
                  <a:lnTo>
                    <a:pt x="4870" y="2417"/>
                  </a:lnTo>
                  <a:lnTo>
                    <a:pt x="4870" y="2416"/>
                  </a:lnTo>
                  <a:lnTo>
                    <a:pt x="4870" y="2412"/>
                  </a:lnTo>
                  <a:lnTo>
                    <a:pt x="4872" y="2410"/>
                  </a:lnTo>
                  <a:lnTo>
                    <a:pt x="4872" y="2410"/>
                  </a:lnTo>
                  <a:close/>
                  <a:moveTo>
                    <a:pt x="4894" y="2391"/>
                  </a:moveTo>
                  <a:lnTo>
                    <a:pt x="4894" y="2391"/>
                  </a:lnTo>
                  <a:lnTo>
                    <a:pt x="4896" y="2389"/>
                  </a:lnTo>
                  <a:lnTo>
                    <a:pt x="4900" y="2389"/>
                  </a:lnTo>
                  <a:lnTo>
                    <a:pt x="4901" y="2391"/>
                  </a:lnTo>
                  <a:lnTo>
                    <a:pt x="4905" y="2393"/>
                  </a:lnTo>
                  <a:lnTo>
                    <a:pt x="4905" y="2395"/>
                  </a:lnTo>
                  <a:lnTo>
                    <a:pt x="4905" y="2398"/>
                  </a:lnTo>
                  <a:lnTo>
                    <a:pt x="4905" y="2400"/>
                  </a:lnTo>
                  <a:lnTo>
                    <a:pt x="4903" y="2403"/>
                  </a:lnTo>
                  <a:lnTo>
                    <a:pt x="4903" y="2403"/>
                  </a:lnTo>
                  <a:lnTo>
                    <a:pt x="4901" y="2403"/>
                  </a:lnTo>
                  <a:lnTo>
                    <a:pt x="4898" y="2405"/>
                  </a:lnTo>
                  <a:lnTo>
                    <a:pt x="4896" y="2403"/>
                  </a:lnTo>
                  <a:lnTo>
                    <a:pt x="4893" y="2402"/>
                  </a:lnTo>
                  <a:lnTo>
                    <a:pt x="4891" y="2400"/>
                  </a:lnTo>
                  <a:lnTo>
                    <a:pt x="4891" y="2396"/>
                  </a:lnTo>
                  <a:lnTo>
                    <a:pt x="4893" y="2395"/>
                  </a:lnTo>
                  <a:lnTo>
                    <a:pt x="4894" y="2391"/>
                  </a:lnTo>
                  <a:lnTo>
                    <a:pt x="4894" y="2391"/>
                  </a:lnTo>
                  <a:close/>
                  <a:moveTo>
                    <a:pt x="4915" y="2374"/>
                  </a:moveTo>
                  <a:lnTo>
                    <a:pt x="4915" y="2374"/>
                  </a:lnTo>
                  <a:lnTo>
                    <a:pt x="4919" y="2372"/>
                  </a:lnTo>
                  <a:lnTo>
                    <a:pt x="4921" y="2372"/>
                  </a:lnTo>
                  <a:lnTo>
                    <a:pt x="4924" y="2372"/>
                  </a:lnTo>
                  <a:lnTo>
                    <a:pt x="4926" y="2374"/>
                  </a:lnTo>
                  <a:lnTo>
                    <a:pt x="4928" y="2375"/>
                  </a:lnTo>
                  <a:lnTo>
                    <a:pt x="4928" y="2379"/>
                  </a:lnTo>
                  <a:lnTo>
                    <a:pt x="4928" y="2382"/>
                  </a:lnTo>
                  <a:lnTo>
                    <a:pt x="4926" y="2384"/>
                  </a:lnTo>
                  <a:lnTo>
                    <a:pt x="4926" y="2384"/>
                  </a:lnTo>
                  <a:lnTo>
                    <a:pt x="4922" y="2386"/>
                  </a:lnTo>
                  <a:lnTo>
                    <a:pt x="4921" y="2386"/>
                  </a:lnTo>
                  <a:lnTo>
                    <a:pt x="4917" y="2386"/>
                  </a:lnTo>
                  <a:lnTo>
                    <a:pt x="4915" y="2384"/>
                  </a:lnTo>
                  <a:lnTo>
                    <a:pt x="4914" y="2381"/>
                  </a:lnTo>
                  <a:lnTo>
                    <a:pt x="4914" y="2379"/>
                  </a:lnTo>
                  <a:lnTo>
                    <a:pt x="4914" y="2375"/>
                  </a:lnTo>
                  <a:lnTo>
                    <a:pt x="4915" y="2374"/>
                  </a:lnTo>
                  <a:lnTo>
                    <a:pt x="4915" y="2374"/>
                  </a:lnTo>
                  <a:close/>
                  <a:moveTo>
                    <a:pt x="4938" y="2354"/>
                  </a:moveTo>
                  <a:lnTo>
                    <a:pt x="4938" y="2354"/>
                  </a:lnTo>
                  <a:lnTo>
                    <a:pt x="4940" y="2353"/>
                  </a:lnTo>
                  <a:lnTo>
                    <a:pt x="4943" y="2353"/>
                  </a:lnTo>
                  <a:lnTo>
                    <a:pt x="4945" y="2353"/>
                  </a:lnTo>
                  <a:lnTo>
                    <a:pt x="4949" y="2356"/>
                  </a:lnTo>
                  <a:lnTo>
                    <a:pt x="4950" y="2358"/>
                  </a:lnTo>
                  <a:lnTo>
                    <a:pt x="4950" y="2360"/>
                  </a:lnTo>
                  <a:lnTo>
                    <a:pt x="4949" y="2363"/>
                  </a:lnTo>
                  <a:lnTo>
                    <a:pt x="4947" y="2365"/>
                  </a:lnTo>
                  <a:lnTo>
                    <a:pt x="4947" y="2365"/>
                  </a:lnTo>
                  <a:lnTo>
                    <a:pt x="4945" y="2367"/>
                  </a:lnTo>
                  <a:lnTo>
                    <a:pt x="4942" y="2367"/>
                  </a:lnTo>
                  <a:lnTo>
                    <a:pt x="4940" y="2367"/>
                  </a:lnTo>
                  <a:lnTo>
                    <a:pt x="4938" y="2365"/>
                  </a:lnTo>
                  <a:lnTo>
                    <a:pt x="4936" y="2363"/>
                  </a:lnTo>
                  <a:lnTo>
                    <a:pt x="4936" y="2360"/>
                  </a:lnTo>
                  <a:lnTo>
                    <a:pt x="4936" y="2356"/>
                  </a:lnTo>
                  <a:lnTo>
                    <a:pt x="4938" y="2354"/>
                  </a:lnTo>
                  <a:lnTo>
                    <a:pt x="4938" y="2354"/>
                  </a:lnTo>
                  <a:close/>
                  <a:moveTo>
                    <a:pt x="4961" y="2337"/>
                  </a:moveTo>
                  <a:lnTo>
                    <a:pt x="4961" y="2337"/>
                  </a:lnTo>
                  <a:lnTo>
                    <a:pt x="4963" y="2335"/>
                  </a:lnTo>
                  <a:lnTo>
                    <a:pt x="4966" y="2333"/>
                  </a:lnTo>
                  <a:lnTo>
                    <a:pt x="4968" y="2335"/>
                  </a:lnTo>
                  <a:lnTo>
                    <a:pt x="4971" y="2337"/>
                  </a:lnTo>
                  <a:lnTo>
                    <a:pt x="4971" y="2339"/>
                  </a:lnTo>
                  <a:lnTo>
                    <a:pt x="4971" y="2342"/>
                  </a:lnTo>
                  <a:lnTo>
                    <a:pt x="4971" y="2344"/>
                  </a:lnTo>
                  <a:lnTo>
                    <a:pt x="4970" y="2347"/>
                  </a:lnTo>
                  <a:lnTo>
                    <a:pt x="4970" y="2347"/>
                  </a:lnTo>
                  <a:lnTo>
                    <a:pt x="4968" y="2349"/>
                  </a:lnTo>
                  <a:lnTo>
                    <a:pt x="4964" y="2349"/>
                  </a:lnTo>
                  <a:lnTo>
                    <a:pt x="4963" y="2347"/>
                  </a:lnTo>
                  <a:lnTo>
                    <a:pt x="4959" y="2346"/>
                  </a:lnTo>
                  <a:lnTo>
                    <a:pt x="4957" y="2344"/>
                  </a:lnTo>
                  <a:lnTo>
                    <a:pt x="4957" y="2340"/>
                  </a:lnTo>
                  <a:lnTo>
                    <a:pt x="4959" y="2339"/>
                  </a:lnTo>
                  <a:lnTo>
                    <a:pt x="4961" y="2337"/>
                  </a:lnTo>
                  <a:lnTo>
                    <a:pt x="4961" y="2337"/>
                  </a:lnTo>
                  <a:close/>
                  <a:moveTo>
                    <a:pt x="4992" y="2328"/>
                  </a:moveTo>
                  <a:lnTo>
                    <a:pt x="4992" y="2328"/>
                  </a:lnTo>
                  <a:lnTo>
                    <a:pt x="4994" y="2330"/>
                  </a:lnTo>
                  <a:lnTo>
                    <a:pt x="4996" y="2332"/>
                  </a:lnTo>
                  <a:lnTo>
                    <a:pt x="4998" y="2335"/>
                  </a:lnTo>
                  <a:lnTo>
                    <a:pt x="4998" y="2337"/>
                  </a:lnTo>
                  <a:lnTo>
                    <a:pt x="4996" y="2340"/>
                  </a:lnTo>
                  <a:lnTo>
                    <a:pt x="4994" y="2342"/>
                  </a:lnTo>
                  <a:lnTo>
                    <a:pt x="4992" y="2344"/>
                  </a:lnTo>
                  <a:lnTo>
                    <a:pt x="4989" y="2344"/>
                  </a:lnTo>
                  <a:lnTo>
                    <a:pt x="4989" y="2344"/>
                  </a:lnTo>
                  <a:lnTo>
                    <a:pt x="4987" y="2342"/>
                  </a:lnTo>
                  <a:lnTo>
                    <a:pt x="4985" y="2340"/>
                  </a:lnTo>
                  <a:lnTo>
                    <a:pt x="4984" y="2337"/>
                  </a:lnTo>
                  <a:lnTo>
                    <a:pt x="4984" y="2335"/>
                  </a:lnTo>
                  <a:lnTo>
                    <a:pt x="4984" y="2332"/>
                  </a:lnTo>
                  <a:lnTo>
                    <a:pt x="4987" y="2330"/>
                  </a:lnTo>
                  <a:lnTo>
                    <a:pt x="4989" y="2328"/>
                  </a:lnTo>
                  <a:lnTo>
                    <a:pt x="4992" y="2328"/>
                  </a:lnTo>
                  <a:lnTo>
                    <a:pt x="4992" y="2328"/>
                  </a:lnTo>
                  <a:close/>
                  <a:moveTo>
                    <a:pt x="5020" y="2335"/>
                  </a:moveTo>
                  <a:lnTo>
                    <a:pt x="5020" y="2335"/>
                  </a:lnTo>
                  <a:lnTo>
                    <a:pt x="5024" y="2335"/>
                  </a:lnTo>
                  <a:lnTo>
                    <a:pt x="5026" y="2337"/>
                  </a:lnTo>
                  <a:lnTo>
                    <a:pt x="5026" y="2340"/>
                  </a:lnTo>
                  <a:lnTo>
                    <a:pt x="5026" y="2342"/>
                  </a:lnTo>
                  <a:lnTo>
                    <a:pt x="5026" y="2346"/>
                  </a:lnTo>
                  <a:lnTo>
                    <a:pt x="5024" y="2347"/>
                  </a:lnTo>
                  <a:lnTo>
                    <a:pt x="5020" y="2349"/>
                  </a:lnTo>
                  <a:lnTo>
                    <a:pt x="5019" y="2349"/>
                  </a:lnTo>
                  <a:lnTo>
                    <a:pt x="5019" y="2349"/>
                  </a:lnTo>
                  <a:lnTo>
                    <a:pt x="5015" y="2347"/>
                  </a:lnTo>
                  <a:lnTo>
                    <a:pt x="5013" y="2346"/>
                  </a:lnTo>
                  <a:lnTo>
                    <a:pt x="5012" y="2342"/>
                  </a:lnTo>
                  <a:lnTo>
                    <a:pt x="5012" y="2340"/>
                  </a:lnTo>
                  <a:lnTo>
                    <a:pt x="5013" y="2337"/>
                  </a:lnTo>
                  <a:lnTo>
                    <a:pt x="5015" y="2335"/>
                  </a:lnTo>
                  <a:lnTo>
                    <a:pt x="5017" y="2335"/>
                  </a:lnTo>
                  <a:lnTo>
                    <a:pt x="5020" y="2335"/>
                  </a:lnTo>
                  <a:lnTo>
                    <a:pt x="5020" y="2335"/>
                  </a:lnTo>
                  <a:close/>
                  <a:moveTo>
                    <a:pt x="5048" y="2340"/>
                  </a:moveTo>
                  <a:lnTo>
                    <a:pt x="5048" y="2340"/>
                  </a:lnTo>
                  <a:lnTo>
                    <a:pt x="5052" y="2340"/>
                  </a:lnTo>
                  <a:lnTo>
                    <a:pt x="5054" y="2342"/>
                  </a:lnTo>
                  <a:lnTo>
                    <a:pt x="5055" y="2346"/>
                  </a:lnTo>
                  <a:lnTo>
                    <a:pt x="5055" y="2349"/>
                  </a:lnTo>
                  <a:lnTo>
                    <a:pt x="5054" y="2351"/>
                  </a:lnTo>
                  <a:lnTo>
                    <a:pt x="5052" y="2353"/>
                  </a:lnTo>
                  <a:lnTo>
                    <a:pt x="5048" y="2354"/>
                  </a:lnTo>
                  <a:lnTo>
                    <a:pt x="5047" y="2354"/>
                  </a:lnTo>
                  <a:lnTo>
                    <a:pt x="5047" y="2354"/>
                  </a:lnTo>
                  <a:lnTo>
                    <a:pt x="5043" y="2353"/>
                  </a:lnTo>
                  <a:lnTo>
                    <a:pt x="5041" y="2351"/>
                  </a:lnTo>
                  <a:lnTo>
                    <a:pt x="5040" y="2349"/>
                  </a:lnTo>
                  <a:lnTo>
                    <a:pt x="5040" y="2346"/>
                  </a:lnTo>
                  <a:lnTo>
                    <a:pt x="5041" y="2342"/>
                  </a:lnTo>
                  <a:lnTo>
                    <a:pt x="5043" y="2340"/>
                  </a:lnTo>
                  <a:lnTo>
                    <a:pt x="5047" y="2340"/>
                  </a:lnTo>
                  <a:lnTo>
                    <a:pt x="5048" y="2340"/>
                  </a:lnTo>
                  <a:lnTo>
                    <a:pt x="5048" y="2340"/>
                  </a:lnTo>
                  <a:close/>
                  <a:moveTo>
                    <a:pt x="5075" y="2361"/>
                  </a:moveTo>
                  <a:lnTo>
                    <a:pt x="5075" y="2361"/>
                  </a:lnTo>
                  <a:lnTo>
                    <a:pt x="5075" y="2363"/>
                  </a:lnTo>
                  <a:lnTo>
                    <a:pt x="5076" y="2367"/>
                  </a:lnTo>
                  <a:lnTo>
                    <a:pt x="5075" y="2368"/>
                  </a:lnTo>
                  <a:lnTo>
                    <a:pt x="5073" y="2372"/>
                  </a:lnTo>
                  <a:lnTo>
                    <a:pt x="5071" y="2374"/>
                  </a:lnTo>
                  <a:lnTo>
                    <a:pt x="5068" y="2374"/>
                  </a:lnTo>
                  <a:lnTo>
                    <a:pt x="5066" y="2374"/>
                  </a:lnTo>
                  <a:lnTo>
                    <a:pt x="5064" y="2372"/>
                  </a:lnTo>
                  <a:lnTo>
                    <a:pt x="5064" y="2372"/>
                  </a:lnTo>
                  <a:lnTo>
                    <a:pt x="5062" y="2368"/>
                  </a:lnTo>
                  <a:lnTo>
                    <a:pt x="5061" y="2367"/>
                  </a:lnTo>
                  <a:lnTo>
                    <a:pt x="5062" y="2363"/>
                  </a:lnTo>
                  <a:lnTo>
                    <a:pt x="5064" y="2361"/>
                  </a:lnTo>
                  <a:lnTo>
                    <a:pt x="5066" y="2360"/>
                  </a:lnTo>
                  <a:lnTo>
                    <a:pt x="5069" y="2360"/>
                  </a:lnTo>
                  <a:lnTo>
                    <a:pt x="5071" y="2360"/>
                  </a:lnTo>
                  <a:lnTo>
                    <a:pt x="5075" y="2361"/>
                  </a:lnTo>
                  <a:lnTo>
                    <a:pt x="5075" y="2361"/>
                  </a:lnTo>
                  <a:close/>
                  <a:moveTo>
                    <a:pt x="5094" y="2382"/>
                  </a:moveTo>
                  <a:lnTo>
                    <a:pt x="5094" y="2382"/>
                  </a:lnTo>
                  <a:lnTo>
                    <a:pt x="5096" y="2384"/>
                  </a:lnTo>
                  <a:lnTo>
                    <a:pt x="5096" y="2388"/>
                  </a:lnTo>
                  <a:lnTo>
                    <a:pt x="5096" y="2389"/>
                  </a:lnTo>
                  <a:lnTo>
                    <a:pt x="5094" y="2393"/>
                  </a:lnTo>
                  <a:lnTo>
                    <a:pt x="5090" y="2395"/>
                  </a:lnTo>
                  <a:lnTo>
                    <a:pt x="5089" y="2395"/>
                  </a:lnTo>
                  <a:lnTo>
                    <a:pt x="5085" y="2393"/>
                  </a:lnTo>
                  <a:lnTo>
                    <a:pt x="5083" y="2393"/>
                  </a:lnTo>
                  <a:lnTo>
                    <a:pt x="5083" y="2393"/>
                  </a:lnTo>
                  <a:lnTo>
                    <a:pt x="5082" y="2389"/>
                  </a:lnTo>
                  <a:lnTo>
                    <a:pt x="5082" y="2386"/>
                  </a:lnTo>
                  <a:lnTo>
                    <a:pt x="5082" y="2384"/>
                  </a:lnTo>
                  <a:lnTo>
                    <a:pt x="5083" y="2382"/>
                  </a:lnTo>
                  <a:lnTo>
                    <a:pt x="5087" y="2381"/>
                  </a:lnTo>
                  <a:lnTo>
                    <a:pt x="5089" y="2381"/>
                  </a:lnTo>
                  <a:lnTo>
                    <a:pt x="5092" y="2381"/>
                  </a:lnTo>
                  <a:lnTo>
                    <a:pt x="5094" y="2382"/>
                  </a:lnTo>
                  <a:lnTo>
                    <a:pt x="5094" y="2382"/>
                  </a:lnTo>
                  <a:close/>
                  <a:moveTo>
                    <a:pt x="5115" y="2403"/>
                  </a:moveTo>
                  <a:lnTo>
                    <a:pt x="5115" y="2403"/>
                  </a:lnTo>
                  <a:lnTo>
                    <a:pt x="5117" y="2405"/>
                  </a:lnTo>
                  <a:lnTo>
                    <a:pt x="5117" y="2409"/>
                  </a:lnTo>
                  <a:lnTo>
                    <a:pt x="5117" y="2410"/>
                  </a:lnTo>
                  <a:lnTo>
                    <a:pt x="5115" y="2414"/>
                  </a:lnTo>
                  <a:lnTo>
                    <a:pt x="5111" y="2414"/>
                  </a:lnTo>
                  <a:lnTo>
                    <a:pt x="5110" y="2416"/>
                  </a:lnTo>
                  <a:lnTo>
                    <a:pt x="5106" y="2414"/>
                  </a:lnTo>
                  <a:lnTo>
                    <a:pt x="5104" y="2412"/>
                  </a:lnTo>
                  <a:lnTo>
                    <a:pt x="5104" y="2412"/>
                  </a:lnTo>
                  <a:lnTo>
                    <a:pt x="5103" y="2410"/>
                  </a:lnTo>
                  <a:lnTo>
                    <a:pt x="5103" y="2407"/>
                  </a:lnTo>
                  <a:lnTo>
                    <a:pt x="5103" y="2405"/>
                  </a:lnTo>
                  <a:lnTo>
                    <a:pt x="5104" y="2402"/>
                  </a:lnTo>
                  <a:lnTo>
                    <a:pt x="5106" y="2400"/>
                  </a:lnTo>
                  <a:lnTo>
                    <a:pt x="5110" y="2400"/>
                  </a:lnTo>
                  <a:lnTo>
                    <a:pt x="5111" y="2402"/>
                  </a:lnTo>
                  <a:lnTo>
                    <a:pt x="5115" y="2403"/>
                  </a:lnTo>
                  <a:lnTo>
                    <a:pt x="5115" y="2403"/>
                  </a:lnTo>
                  <a:close/>
                  <a:moveTo>
                    <a:pt x="5134" y="2428"/>
                  </a:moveTo>
                  <a:lnTo>
                    <a:pt x="5134" y="2428"/>
                  </a:lnTo>
                  <a:lnTo>
                    <a:pt x="5134" y="2430"/>
                  </a:lnTo>
                  <a:lnTo>
                    <a:pt x="5134" y="2433"/>
                  </a:lnTo>
                  <a:lnTo>
                    <a:pt x="5132" y="2435"/>
                  </a:lnTo>
                  <a:lnTo>
                    <a:pt x="5131" y="2437"/>
                  </a:lnTo>
                  <a:lnTo>
                    <a:pt x="5127" y="2437"/>
                  </a:lnTo>
                  <a:lnTo>
                    <a:pt x="5124" y="2437"/>
                  </a:lnTo>
                  <a:lnTo>
                    <a:pt x="5122" y="2435"/>
                  </a:lnTo>
                  <a:lnTo>
                    <a:pt x="5120" y="2433"/>
                  </a:lnTo>
                  <a:lnTo>
                    <a:pt x="5120" y="2433"/>
                  </a:lnTo>
                  <a:lnTo>
                    <a:pt x="5120" y="2430"/>
                  </a:lnTo>
                  <a:lnTo>
                    <a:pt x="5120" y="2428"/>
                  </a:lnTo>
                  <a:lnTo>
                    <a:pt x="5122" y="2426"/>
                  </a:lnTo>
                  <a:lnTo>
                    <a:pt x="5124" y="2424"/>
                  </a:lnTo>
                  <a:lnTo>
                    <a:pt x="5127" y="2423"/>
                  </a:lnTo>
                  <a:lnTo>
                    <a:pt x="5129" y="2423"/>
                  </a:lnTo>
                  <a:lnTo>
                    <a:pt x="5132" y="2424"/>
                  </a:lnTo>
                  <a:lnTo>
                    <a:pt x="5134" y="2428"/>
                  </a:lnTo>
                  <a:lnTo>
                    <a:pt x="5134" y="2428"/>
                  </a:lnTo>
                  <a:close/>
                  <a:moveTo>
                    <a:pt x="5143" y="2445"/>
                  </a:moveTo>
                  <a:lnTo>
                    <a:pt x="5143" y="2445"/>
                  </a:lnTo>
                  <a:lnTo>
                    <a:pt x="5145" y="2445"/>
                  </a:lnTo>
                  <a:lnTo>
                    <a:pt x="5146" y="2447"/>
                  </a:lnTo>
                  <a:lnTo>
                    <a:pt x="5148" y="2451"/>
                  </a:lnTo>
                  <a:lnTo>
                    <a:pt x="5148" y="2454"/>
                  </a:lnTo>
                  <a:lnTo>
                    <a:pt x="5148" y="2456"/>
                  </a:lnTo>
                  <a:lnTo>
                    <a:pt x="5146" y="2458"/>
                  </a:lnTo>
                  <a:lnTo>
                    <a:pt x="5145" y="2459"/>
                  </a:lnTo>
                  <a:lnTo>
                    <a:pt x="5141" y="2459"/>
                  </a:lnTo>
                  <a:lnTo>
                    <a:pt x="5141" y="2459"/>
                  </a:lnTo>
                  <a:lnTo>
                    <a:pt x="5138" y="2459"/>
                  </a:lnTo>
                  <a:lnTo>
                    <a:pt x="5136" y="2458"/>
                  </a:lnTo>
                  <a:lnTo>
                    <a:pt x="5134" y="2454"/>
                  </a:lnTo>
                  <a:lnTo>
                    <a:pt x="5134" y="2452"/>
                  </a:lnTo>
                  <a:lnTo>
                    <a:pt x="5136" y="2449"/>
                  </a:lnTo>
                  <a:lnTo>
                    <a:pt x="5138" y="2447"/>
                  </a:lnTo>
                  <a:lnTo>
                    <a:pt x="5139" y="2445"/>
                  </a:lnTo>
                  <a:lnTo>
                    <a:pt x="5143" y="2445"/>
                  </a:lnTo>
                  <a:lnTo>
                    <a:pt x="5143" y="2445"/>
                  </a:lnTo>
                  <a:close/>
                  <a:moveTo>
                    <a:pt x="5171" y="2447"/>
                  </a:moveTo>
                  <a:lnTo>
                    <a:pt x="5171" y="2447"/>
                  </a:lnTo>
                  <a:lnTo>
                    <a:pt x="5174" y="2449"/>
                  </a:lnTo>
                  <a:lnTo>
                    <a:pt x="5176" y="2451"/>
                  </a:lnTo>
                  <a:lnTo>
                    <a:pt x="5178" y="2452"/>
                  </a:lnTo>
                  <a:lnTo>
                    <a:pt x="5178" y="2456"/>
                  </a:lnTo>
                  <a:lnTo>
                    <a:pt x="5176" y="2458"/>
                  </a:lnTo>
                  <a:lnTo>
                    <a:pt x="5174" y="2459"/>
                  </a:lnTo>
                  <a:lnTo>
                    <a:pt x="5173" y="2461"/>
                  </a:lnTo>
                  <a:lnTo>
                    <a:pt x="5171" y="2463"/>
                  </a:lnTo>
                  <a:lnTo>
                    <a:pt x="5171" y="2463"/>
                  </a:lnTo>
                  <a:lnTo>
                    <a:pt x="5167" y="2461"/>
                  </a:lnTo>
                  <a:lnTo>
                    <a:pt x="5166" y="2459"/>
                  </a:lnTo>
                  <a:lnTo>
                    <a:pt x="5164" y="2458"/>
                  </a:lnTo>
                  <a:lnTo>
                    <a:pt x="5164" y="2454"/>
                  </a:lnTo>
                  <a:lnTo>
                    <a:pt x="5164" y="2451"/>
                  </a:lnTo>
                  <a:lnTo>
                    <a:pt x="5166" y="2449"/>
                  </a:lnTo>
                  <a:lnTo>
                    <a:pt x="5167" y="2447"/>
                  </a:lnTo>
                  <a:lnTo>
                    <a:pt x="5171" y="2447"/>
                  </a:lnTo>
                  <a:lnTo>
                    <a:pt x="5171" y="2447"/>
                  </a:lnTo>
                  <a:close/>
                  <a:moveTo>
                    <a:pt x="5201" y="2451"/>
                  </a:moveTo>
                  <a:lnTo>
                    <a:pt x="5201" y="2451"/>
                  </a:lnTo>
                  <a:lnTo>
                    <a:pt x="5202" y="2451"/>
                  </a:lnTo>
                  <a:lnTo>
                    <a:pt x="5204" y="2452"/>
                  </a:lnTo>
                  <a:lnTo>
                    <a:pt x="5206" y="2454"/>
                  </a:lnTo>
                  <a:lnTo>
                    <a:pt x="5206" y="2458"/>
                  </a:lnTo>
                  <a:lnTo>
                    <a:pt x="5206" y="2459"/>
                  </a:lnTo>
                  <a:lnTo>
                    <a:pt x="5204" y="2463"/>
                  </a:lnTo>
                  <a:lnTo>
                    <a:pt x="5202" y="2463"/>
                  </a:lnTo>
                  <a:lnTo>
                    <a:pt x="5199" y="2465"/>
                  </a:lnTo>
                  <a:lnTo>
                    <a:pt x="5199" y="2465"/>
                  </a:lnTo>
                  <a:lnTo>
                    <a:pt x="5195" y="2463"/>
                  </a:lnTo>
                  <a:lnTo>
                    <a:pt x="5194" y="2461"/>
                  </a:lnTo>
                  <a:lnTo>
                    <a:pt x="5192" y="2459"/>
                  </a:lnTo>
                  <a:lnTo>
                    <a:pt x="5192" y="2456"/>
                  </a:lnTo>
                  <a:lnTo>
                    <a:pt x="5194" y="2454"/>
                  </a:lnTo>
                  <a:lnTo>
                    <a:pt x="5195" y="2451"/>
                  </a:lnTo>
                  <a:lnTo>
                    <a:pt x="5197" y="2451"/>
                  </a:lnTo>
                  <a:lnTo>
                    <a:pt x="5201" y="2451"/>
                  </a:lnTo>
                  <a:lnTo>
                    <a:pt x="5201" y="2451"/>
                  </a:lnTo>
                  <a:close/>
                  <a:moveTo>
                    <a:pt x="5229" y="2452"/>
                  </a:moveTo>
                  <a:lnTo>
                    <a:pt x="5229" y="2452"/>
                  </a:lnTo>
                  <a:lnTo>
                    <a:pt x="5232" y="2452"/>
                  </a:lnTo>
                  <a:lnTo>
                    <a:pt x="5234" y="2454"/>
                  </a:lnTo>
                  <a:lnTo>
                    <a:pt x="5236" y="2456"/>
                  </a:lnTo>
                  <a:lnTo>
                    <a:pt x="5236" y="2459"/>
                  </a:lnTo>
                  <a:lnTo>
                    <a:pt x="5234" y="2463"/>
                  </a:lnTo>
                  <a:lnTo>
                    <a:pt x="5232" y="2465"/>
                  </a:lnTo>
                  <a:lnTo>
                    <a:pt x="5230" y="2466"/>
                  </a:lnTo>
                  <a:lnTo>
                    <a:pt x="5229" y="2466"/>
                  </a:lnTo>
                  <a:lnTo>
                    <a:pt x="5229" y="2466"/>
                  </a:lnTo>
                  <a:lnTo>
                    <a:pt x="5225" y="2466"/>
                  </a:lnTo>
                  <a:lnTo>
                    <a:pt x="5223" y="2465"/>
                  </a:lnTo>
                  <a:lnTo>
                    <a:pt x="5222" y="2461"/>
                  </a:lnTo>
                  <a:lnTo>
                    <a:pt x="5222" y="2459"/>
                  </a:lnTo>
                  <a:lnTo>
                    <a:pt x="5222" y="2456"/>
                  </a:lnTo>
                  <a:lnTo>
                    <a:pt x="5223" y="2454"/>
                  </a:lnTo>
                  <a:lnTo>
                    <a:pt x="5225" y="2452"/>
                  </a:lnTo>
                  <a:lnTo>
                    <a:pt x="5229" y="2452"/>
                  </a:lnTo>
                  <a:lnTo>
                    <a:pt x="5229" y="2452"/>
                  </a:lnTo>
                  <a:close/>
                  <a:moveTo>
                    <a:pt x="5258" y="2454"/>
                  </a:moveTo>
                  <a:lnTo>
                    <a:pt x="5258" y="2454"/>
                  </a:lnTo>
                  <a:lnTo>
                    <a:pt x="5260" y="2454"/>
                  </a:lnTo>
                  <a:lnTo>
                    <a:pt x="5262" y="2456"/>
                  </a:lnTo>
                  <a:lnTo>
                    <a:pt x="5264" y="2459"/>
                  </a:lnTo>
                  <a:lnTo>
                    <a:pt x="5264" y="2461"/>
                  </a:lnTo>
                  <a:lnTo>
                    <a:pt x="5264" y="2465"/>
                  </a:lnTo>
                  <a:lnTo>
                    <a:pt x="5262" y="2466"/>
                  </a:lnTo>
                  <a:lnTo>
                    <a:pt x="5260" y="2468"/>
                  </a:lnTo>
                  <a:lnTo>
                    <a:pt x="5257" y="2468"/>
                  </a:lnTo>
                  <a:lnTo>
                    <a:pt x="5257" y="2468"/>
                  </a:lnTo>
                  <a:lnTo>
                    <a:pt x="5253" y="2468"/>
                  </a:lnTo>
                  <a:lnTo>
                    <a:pt x="5251" y="2466"/>
                  </a:lnTo>
                  <a:lnTo>
                    <a:pt x="5250" y="2463"/>
                  </a:lnTo>
                  <a:lnTo>
                    <a:pt x="5250" y="2461"/>
                  </a:lnTo>
                  <a:lnTo>
                    <a:pt x="5251" y="2458"/>
                  </a:lnTo>
                  <a:lnTo>
                    <a:pt x="5253" y="2456"/>
                  </a:lnTo>
                  <a:lnTo>
                    <a:pt x="5255" y="2454"/>
                  </a:lnTo>
                  <a:lnTo>
                    <a:pt x="5258" y="2454"/>
                  </a:lnTo>
                  <a:lnTo>
                    <a:pt x="5258" y="2454"/>
                  </a:lnTo>
                  <a:close/>
                  <a:moveTo>
                    <a:pt x="5286" y="2456"/>
                  </a:moveTo>
                  <a:lnTo>
                    <a:pt x="5286" y="2456"/>
                  </a:lnTo>
                  <a:lnTo>
                    <a:pt x="5290" y="2458"/>
                  </a:lnTo>
                  <a:lnTo>
                    <a:pt x="5292" y="2459"/>
                  </a:lnTo>
                  <a:lnTo>
                    <a:pt x="5293" y="2461"/>
                  </a:lnTo>
                  <a:lnTo>
                    <a:pt x="5293" y="2465"/>
                  </a:lnTo>
                  <a:lnTo>
                    <a:pt x="5292" y="2466"/>
                  </a:lnTo>
                  <a:lnTo>
                    <a:pt x="5290" y="2468"/>
                  </a:lnTo>
                  <a:lnTo>
                    <a:pt x="5288" y="2470"/>
                  </a:lnTo>
                  <a:lnTo>
                    <a:pt x="5286" y="2470"/>
                  </a:lnTo>
                  <a:lnTo>
                    <a:pt x="5286" y="2470"/>
                  </a:lnTo>
                  <a:lnTo>
                    <a:pt x="5283" y="2470"/>
                  </a:lnTo>
                  <a:lnTo>
                    <a:pt x="5281" y="2468"/>
                  </a:lnTo>
                  <a:lnTo>
                    <a:pt x="5279" y="2466"/>
                  </a:lnTo>
                  <a:lnTo>
                    <a:pt x="5279" y="2463"/>
                  </a:lnTo>
                  <a:lnTo>
                    <a:pt x="5279" y="2459"/>
                  </a:lnTo>
                  <a:lnTo>
                    <a:pt x="5281" y="2458"/>
                  </a:lnTo>
                  <a:lnTo>
                    <a:pt x="5283" y="2456"/>
                  </a:lnTo>
                  <a:lnTo>
                    <a:pt x="5286" y="2456"/>
                  </a:lnTo>
                  <a:lnTo>
                    <a:pt x="5286" y="2456"/>
                  </a:lnTo>
                  <a:close/>
                  <a:moveTo>
                    <a:pt x="5316" y="2458"/>
                  </a:moveTo>
                  <a:lnTo>
                    <a:pt x="5316" y="2458"/>
                  </a:lnTo>
                  <a:lnTo>
                    <a:pt x="5318" y="2459"/>
                  </a:lnTo>
                  <a:lnTo>
                    <a:pt x="5320" y="2461"/>
                  </a:lnTo>
                  <a:lnTo>
                    <a:pt x="5321" y="2463"/>
                  </a:lnTo>
                  <a:lnTo>
                    <a:pt x="5321" y="2466"/>
                  </a:lnTo>
                  <a:lnTo>
                    <a:pt x="5321" y="2468"/>
                  </a:lnTo>
                  <a:lnTo>
                    <a:pt x="5320" y="2472"/>
                  </a:lnTo>
                  <a:lnTo>
                    <a:pt x="5318" y="2472"/>
                  </a:lnTo>
                  <a:lnTo>
                    <a:pt x="5314" y="2473"/>
                  </a:lnTo>
                  <a:lnTo>
                    <a:pt x="5314" y="2473"/>
                  </a:lnTo>
                  <a:lnTo>
                    <a:pt x="5311" y="2472"/>
                  </a:lnTo>
                  <a:lnTo>
                    <a:pt x="5309" y="2470"/>
                  </a:lnTo>
                  <a:lnTo>
                    <a:pt x="5307" y="2468"/>
                  </a:lnTo>
                  <a:lnTo>
                    <a:pt x="5307" y="2465"/>
                  </a:lnTo>
                  <a:lnTo>
                    <a:pt x="5309" y="2463"/>
                  </a:lnTo>
                  <a:lnTo>
                    <a:pt x="5311" y="2459"/>
                  </a:lnTo>
                  <a:lnTo>
                    <a:pt x="5313" y="2459"/>
                  </a:lnTo>
                  <a:lnTo>
                    <a:pt x="5316" y="2458"/>
                  </a:lnTo>
                  <a:lnTo>
                    <a:pt x="5316" y="2458"/>
                  </a:lnTo>
                  <a:close/>
                  <a:moveTo>
                    <a:pt x="5325" y="2454"/>
                  </a:moveTo>
                  <a:lnTo>
                    <a:pt x="5325" y="2454"/>
                  </a:lnTo>
                  <a:lnTo>
                    <a:pt x="5325" y="2452"/>
                  </a:lnTo>
                  <a:lnTo>
                    <a:pt x="5327" y="2449"/>
                  </a:lnTo>
                  <a:lnTo>
                    <a:pt x="5328" y="2449"/>
                  </a:lnTo>
                  <a:lnTo>
                    <a:pt x="5332" y="2447"/>
                  </a:lnTo>
                  <a:lnTo>
                    <a:pt x="5335" y="2449"/>
                  </a:lnTo>
                  <a:lnTo>
                    <a:pt x="5337" y="2449"/>
                  </a:lnTo>
                  <a:lnTo>
                    <a:pt x="5339" y="2452"/>
                  </a:lnTo>
                  <a:lnTo>
                    <a:pt x="5339" y="2454"/>
                  </a:lnTo>
                  <a:lnTo>
                    <a:pt x="5339" y="2454"/>
                  </a:lnTo>
                  <a:lnTo>
                    <a:pt x="5339" y="2458"/>
                  </a:lnTo>
                  <a:lnTo>
                    <a:pt x="5337" y="2459"/>
                  </a:lnTo>
                  <a:lnTo>
                    <a:pt x="5335" y="2461"/>
                  </a:lnTo>
                  <a:lnTo>
                    <a:pt x="5332" y="2463"/>
                  </a:lnTo>
                  <a:lnTo>
                    <a:pt x="5328" y="2461"/>
                  </a:lnTo>
                  <a:lnTo>
                    <a:pt x="5327" y="2459"/>
                  </a:lnTo>
                  <a:lnTo>
                    <a:pt x="5325" y="2458"/>
                  </a:lnTo>
                  <a:lnTo>
                    <a:pt x="5325" y="2454"/>
                  </a:lnTo>
                  <a:lnTo>
                    <a:pt x="5325" y="2454"/>
                  </a:lnTo>
                  <a:close/>
                  <a:moveTo>
                    <a:pt x="5325" y="2426"/>
                  </a:moveTo>
                  <a:lnTo>
                    <a:pt x="5325" y="2426"/>
                  </a:lnTo>
                  <a:lnTo>
                    <a:pt x="5325" y="2423"/>
                  </a:lnTo>
                  <a:lnTo>
                    <a:pt x="5327" y="2421"/>
                  </a:lnTo>
                  <a:lnTo>
                    <a:pt x="5328" y="2419"/>
                  </a:lnTo>
                  <a:lnTo>
                    <a:pt x="5332" y="2419"/>
                  </a:lnTo>
                  <a:lnTo>
                    <a:pt x="5335" y="2419"/>
                  </a:lnTo>
                  <a:lnTo>
                    <a:pt x="5337" y="2421"/>
                  </a:lnTo>
                  <a:lnTo>
                    <a:pt x="5339" y="2423"/>
                  </a:lnTo>
                  <a:lnTo>
                    <a:pt x="5339" y="2426"/>
                  </a:lnTo>
                  <a:lnTo>
                    <a:pt x="5339" y="2426"/>
                  </a:lnTo>
                  <a:lnTo>
                    <a:pt x="5339" y="2428"/>
                  </a:lnTo>
                  <a:lnTo>
                    <a:pt x="5337" y="2431"/>
                  </a:lnTo>
                  <a:lnTo>
                    <a:pt x="5335" y="2433"/>
                  </a:lnTo>
                  <a:lnTo>
                    <a:pt x="5332" y="2433"/>
                  </a:lnTo>
                  <a:lnTo>
                    <a:pt x="5328" y="2433"/>
                  </a:lnTo>
                  <a:lnTo>
                    <a:pt x="5327" y="2431"/>
                  </a:lnTo>
                  <a:lnTo>
                    <a:pt x="5325" y="2428"/>
                  </a:lnTo>
                  <a:lnTo>
                    <a:pt x="5325" y="2426"/>
                  </a:lnTo>
                  <a:lnTo>
                    <a:pt x="5325" y="2426"/>
                  </a:lnTo>
                  <a:close/>
                  <a:moveTo>
                    <a:pt x="5342" y="2398"/>
                  </a:moveTo>
                  <a:lnTo>
                    <a:pt x="5342" y="2398"/>
                  </a:lnTo>
                  <a:lnTo>
                    <a:pt x="5344" y="2398"/>
                  </a:lnTo>
                  <a:lnTo>
                    <a:pt x="5348" y="2398"/>
                  </a:lnTo>
                  <a:lnTo>
                    <a:pt x="5349" y="2398"/>
                  </a:lnTo>
                  <a:lnTo>
                    <a:pt x="5353" y="2402"/>
                  </a:lnTo>
                  <a:lnTo>
                    <a:pt x="5353" y="2403"/>
                  </a:lnTo>
                  <a:lnTo>
                    <a:pt x="5353" y="2407"/>
                  </a:lnTo>
                  <a:lnTo>
                    <a:pt x="5351" y="2409"/>
                  </a:lnTo>
                  <a:lnTo>
                    <a:pt x="5349" y="2410"/>
                  </a:lnTo>
                  <a:lnTo>
                    <a:pt x="5349" y="2410"/>
                  </a:lnTo>
                  <a:lnTo>
                    <a:pt x="5348" y="2412"/>
                  </a:lnTo>
                  <a:lnTo>
                    <a:pt x="5344" y="2412"/>
                  </a:lnTo>
                  <a:lnTo>
                    <a:pt x="5342" y="2410"/>
                  </a:lnTo>
                  <a:lnTo>
                    <a:pt x="5341" y="2409"/>
                  </a:lnTo>
                  <a:lnTo>
                    <a:pt x="5339" y="2407"/>
                  </a:lnTo>
                  <a:lnTo>
                    <a:pt x="5339" y="2403"/>
                  </a:lnTo>
                  <a:lnTo>
                    <a:pt x="5341" y="2400"/>
                  </a:lnTo>
                  <a:lnTo>
                    <a:pt x="5342" y="2398"/>
                  </a:lnTo>
                  <a:lnTo>
                    <a:pt x="5342" y="2398"/>
                  </a:lnTo>
                  <a:close/>
                  <a:moveTo>
                    <a:pt x="5367" y="2384"/>
                  </a:moveTo>
                  <a:lnTo>
                    <a:pt x="5367" y="2384"/>
                  </a:lnTo>
                  <a:lnTo>
                    <a:pt x="5370" y="2382"/>
                  </a:lnTo>
                  <a:lnTo>
                    <a:pt x="5372" y="2382"/>
                  </a:lnTo>
                  <a:lnTo>
                    <a:pt x="5376" y="2384"/>
                  </a:lnTo>
                  <a:lnTo>
                    <a:pt x="5377" y="2386"/>
                  </a:lnTo>
                  <a:lnTo>
                    <a:pt x="5377" y="2389"/>
                  </a:lnTo>
                  <a:lnTo>
                    <a:pt x="5377" y="2391"/>
                  </a:lnTo>
                  <a:lnTo>
                    <a:pt x="5377" y="2395"/>
                  </a:lnTo>
                  <a:lnTo>
                    <a:pt x="5376" y="2396"/>
                  </a:lnTo>
                  <a:lnTo>
                    <a:pt x="5376" y="2396"/>
                  </a:lnTo>
                  <a:lnTo>
                    <a:pt x="5372" y="2398"/>
                  </a:lnTo>
                  <a:lnTo>
                    <a:pt x="5369" y="2398"/>
                  </a:lnTo>
                  <a:lnTo>
                    <a:pt x="5367" y="2396"/>
                  </a:lnTo>
                  <a:lnTo>
                    <a:pt x="5365" y="2395"/>
                  </a:lnTo>
                  <a:lnTo>
                    <a:pt x="5363" y="2391"/>
                  </a:lnTo>
                  <a:lnTo>
                    <a:pt x="5363" y="2389"/>
                  </a:lnTo>
                  <a:lnTo>
                    <a:pt x="5365" y="2386"/>
                  </a:lnTo>
                  <a:lnTo>
                    <a:pt x="5367" y="2384"/>
                  </a:lnTo>
                  <a:lnTo>
                    <a:pt x="5367" y="2384"/>
                  </a:lnTo>
                  <a:close/>
                  <a:moveTo>
                    <a:pt x="5358" y="2375"/>
                  </a:moveTo>
                  <a:lnTo>
                    <a:pt x="5358" y="2375"/>
                  </a:lnTo>
                  <a:lnTo>
                    <a:pt x="5356" y="2372"/>
                  </a:lnTo>
                  <a:lnTo>
                    <a:pt x="5356" y="2368"/>
                  </a:lnTo>
                  <a:lnTo>
                    <a:pt x="5358" y="2367"/>
                  </a:lnTo>
                  <a:lnTo>
                    <a:pt x="5360" y="2365"/>
                  </a:lnTo>
                  <a:lnTo>
                    <a:pt x="5362" y="2363"/>
                  </a:lnTo>
                  <a:lnTo>
                    <a:pt x="5365" y="2363"/>
                  </a:lnTo>
                  <a:lnTo>
                    <a:pt x="5367" y="2363"/>
                  </a:lnTo>
                  <a:lnTo>
                    <a:pt x="5370" y="2365"/>
                  </a:lnTo>
                  <a:lnTo>
                    <a:pt x="5370" y="2365"/>
                  </a:lnTo>
                  <a:lnTo>
                    <a:pt x="5370" y="2368"/>
                  </a:lnTo>
                  <a:lnTo>
                    <a:pt x="5370" y="2370"/>
                  </a:lnTo>
                  <a:lnTo>
                    <a:pt x="5370" y="2374"/>
                  </a:lnTo>
                  <a:lnTo>
                    <a:pt x="5369" y="2375"/>
                  </a:lnTo>
                  <a:lnTo>
                    <a:pt x="5365" y="2377"/>
                  </a:lnTo>
                  <a:lnTo>
                    <a:pt x="5363" y="2377"/>
                  </a:lnTo>
                  <a:lnTo>
                    <a:pt x="5360" y="2377"/>
                  </a:lnTo>
                  <a:lnTo>
                    <a:pt x="5358" y="2375"/>
                  </a:lnTo>
                  <a:lnTo>
                    <a:pt x="5358" y="2375"/>
                  </a:lnTo>
                  <a:close/>
                  <a:moveTo>
                    <a:pt x="5341" y="2353"/>
                  </a:moveTo>
                  <a:lnTo>
                    <a:pt x="5341" y="2353"/>
                  </a:lnTo>
                  <a:lnTo>
                    <a:pt x="5339" y="2349"/>
                  </a:lnTo>
                  <a:lnTo>
                    <a:pt x="5339" y="2347"/>
                  </a:lnTo>
                  <a:lnTo>
                    <a:pt x="5339" y="2344"/>
                  </a:lnTo>
                  <a:lnTo>
                    <a:pt x="5341" y="2342"/>
                  </a:lnTo>
                  <a:lnTo>
                    <a:pt x="5344" y="2340"/>
                  </a:lnTo>
                  <a:lnTo>
                    <a:pt x="5346" y="2340"/>
                  </a:lnTo>
                  <a:lnTo>
                    <a:pt x="5349" y="2340"/>
                  </a:lnTo>
                  <a:lnTo>
                    <a:pt x="5351" y="2344"/>
                  </a:lnTo>
                  <a:lnTo>
                    <a:pt x="5351" y="2344"/>
                  </a:lnTo>
                  <a:lnTo>
                    <a:pt x="5353" y="2346"/>
                  </a:lnTo>
                  <a:lnTo>
                    <a:pt x="5353" y="2347"/>
                  </a:lnTo>
                  <a:lnTo>
                    <a:pt x="5353" y="2351"/>
                  </a:lnTo>
                  <a:lnTo>
                    <a:pt x="5351" y="2353"/>
                  </a:lnTo>
                  <a:lnTo>
                    <a:pt x="5348" y="2354"/>
                  </a:lnTo>
                  <a:lnTo>
                    <a:pt x="5344" y="2354"/>
                  </a:lnTo>
                  <a:lnTo>
                    <a:pt x="5342" y="2354"/>
                  </a:lnTo>
                  <a:lnTo>
                    <a:pt x="5341" y="2353"/>
                  </a:lnTo>
                  <a:lnTo>
                    <a:pt x="5341" y="2353"/>
                  </a:lnTo>
                  <a:close/>
                  <a:moveTo>
                    <a:pt x="5327" y="2323"/>
                  </a:moveTo>
                  <a:lnTo>
                    <a:pt x="5327" y="2323"/>
                  </a:lnTo>
                  <a:lnTo>
                    <a:pt x="5327" y="2319"/>
                  </a:lnTo>
                  <a:lnTo>
                    <a:pt x="5328" y="2318"/>
                  </a:lnTo>
                  <a:lnTo>
                    <a:pt x="5330" y="2316"/>
                  </a:lnTo>
                  <a:lnTo>
                    <a:pt x="5334" y="2316"/>
                  </a:lnTo>
                  <a:lnTo>
                    <a:pt x="5337" y="2316"/>
                  </a:lnTo>
                  <a:lnTo>
                    <a:pt x="5339" y="2318"/>
                  </a:lnTo>
                  <a:lnTo>
                    <a:pt x="5341" y="2319"/>
                  </a:lnTo>
                  <a:lnTo>
                    <a:pt x="5341" y="2323"/>
                  </a:lnTo>
                  <a:lnTo>
                    <a:pt x="5341" y="2323"/>
                  </a:lnTo>
                  <a:lnTo>
                    <a:pt x="5341" y="2326"/>
                  </a:lnTo>
                  <a:lnTo>
                    <a:pt x="5339" y="2328"/>
                  </a:lnTo>
                  <a:lnTo>
                    <a:pt x="5337" y="2330"/>
                  </a:lnTo>
                  <a:lnTo>
                    <a:pt x="5334" y="2330"/>
                  </a:lnTo>
                  <a:lnTo>
                    <a:pt x="5330" y="2330"/>
                  </a:lnTo>
                  <a:lnTo>
                    <a:pt x="5328" y="2328"/>
                  </a:lnTo>
                  <a:lnTo>
                    <a:pt x="5327" y="2326"/>
                  </a:lnTo>
                  <a:lnTo>
                    <a:pt x="5327" y="2323"/>
                  </a:lnTo>
                  <a:lnTo>
                    <a:pt x="5327" y="2323"/>
                  </a:lnTo>
                  <a:close/>
                  <a:moveTo>
                    <a:pt x="5327" y="2295"/>
                  </a:moveTo>
                  <a:lnTo>
                    <a:pt x="5327" y="2295"/>
                  </a:lnTo>
                  <a:lnTo>
                    <a:pt x="5327" y="2291"/>
                  </a:lnTo>
                  <a:lnTo>
                    <a:pt x="5328" y="2288"/>
                  </a:lnTo>
                  <a:lnTo>
                    <a:pt x="5330" y="2288"/>
                  </a:lnTo>
                  <a:lnTo>
                    <a:pt x="5334" y="2286"/>
                  </a:lnTo>
                  <a:lnTo>
                    <a:pt x="5337" y="2288"/>
                  </a:lnTo>
                  <a:lnTo>
                    <a:pt x="5339" y="2288"/>
                  </a:lnTo>
                  <a:lnTo>
                    <a:pt x="5341" y="2291"/>
                  </a:lnTo>
                  <a:lnTo>
                    <a:pt x="5341" y="2295"/>
                  </a:lnTo>
                  <a:lnTo>
                    <a:pt x="5341" y="2295"/>
                  </a:lnTo>
                  <a:lnTo>
                    <a:pt x="5341" y="2297"/>
                  </a:lnTo>
                  <a:lnTo>
                    <a:pt x="5339" y="2298"/>
                  </a:lnTo>
                  <a:lnTo>
                    <a:pt x="5337" y="2300"/>
                  </a:lnTo>
                  <a:lnTo>
                    <a:pt x="5334" y="2302"/>
                  </a:lnTo>
                  <a:lnTo>
                    <a:pt x="5330" y="2300"/>
                  </a:lnTo>
                  <a:lnTo>
                    <a:pt x="5328" y="2298"/>
                  </a:lnTo>
                  <a:lnTo>
                    <a:pt x="5327" y="2297"/>
                  </a:lnTo>
                  <a:lnTo>
                    <a:pt x="5327" y="2295"/>
                  </a:lnTo>
                  <a:lnTo>
                    <a:pt x="5327" y="2295"/>
                  </a:lnTo>
                  <a:close/>
                  <a:moveTo>
                    <a:pt x="5327" y="2265"/>
                  </a:moveTo>
                  <a:lnTo>
                    <a:pt x="5327" y="2265"/>
                  </a:lnTo>
                  <a:lnTo>
                    <a:pt x="5327" y="2262"/>
                  </a:lnTo>
                  <a:lnTo>
                    <a:pt x="5328" y="2260"/>
                  </a:lnTo>
                  <a:lnTo>
                    <a:pt x="5330" y="2258"/>
                  </a:lnTo>
                  <a:lnTo>
                    <a:pt x="5334" y="2258"/>
                  </a:lnTo>
                  <a:lnTo>
                    <a:pt x="5337" y="2258"/>
                  </a:lnTo>
                  <a:lnTo>
                    <a:pt x="5339" y="2260"/>
                  </a:lnTo>
                  <a:lnTo>
                    <a:pt x="5341" y="2262"/>
                  </a:lnTo>
                  <a:lnTo>
                    <a:pt x="5341" y="2265"/>
                  </a:lnTo>
                  <a:lnTo>
                    <a:pt x="5341" y="2265"/>
                  </a:lnTo>
                  <a:lnTo>
                    <a:pt x="5341" y="2267"/>
                  </a:lnTo>
                  <a:lnTo>
                    <a:pt x="5339" y="2270"/>
                  </a:lnTo>
                  <a:lnTo>
                    <a:pt x="5337" y="2272"/>
                  </a:lnTo>
                  <a:lnTo>
                    <a:pt x="5334" y="2272"/>
                  </a:lnTo>
                  <a:lnTo>
                    <a:pt x="5330" y="2272"/>
                  </a:lnTo>
                  <a:lnTo>
                    <a:pt x="5328" y="2270"/>
                  </a:lnTo>
                  <a:lnTo>
                    <a:pt x="5327" y="2267"/>
                  </a:lnTo>
                  <a:lnTo>
                    <a:pt x="5327" y="2265"/>
                  </a:lnTo>
                  <a:lnTo>
                    <a:pt x="5327" y="2265"/>
                  </a:lnTo>
                  <a:close/>
                  <a:moveTo>
                    <a:pt x="5327" y="2235"/>
                  </a:moveTo>
                  <a:lnTo>
                    <a:pt x="5327" y="2235"/>
                  </a:lnTo>
                  <a:lnTo>
                    <a:pt x="5327" y="2234"/>
                  </a:lnTo>
                  <a:lnTo>
                    <a:pt x="5328" y="2230"/>
                  </a:lnTo>
                  <a:lnTo>
                    <a:pt x="5330" y="2230"/>
                  </a:lnTo>
                  <a:lnTo>
                    <a:pt x="5334" y="2228"/>
                  </a:lnTo>
                  <a:lnTo>
                    <a:pt x="5337" y="2230"/>
                  </a:lnTo>
                  <a:lnTo>
                    <a:pt x="5339" y="2230"/>
                  </a:lnTo>
                  <a:lnTo>
                    <a:pt x="5341" y="2234"/>
                  </a:lnTo>
                  <a:lnTo>
                    <a:pt x="5341" y="2235"/>
                  </a:lnTo>
                  <a:lnTo>
                    <a:pt x="5341" y="2235"/>
                  </a:lnTo>
                  <a:lnTo>
                    <a:pt x="5341" y="2239"/>
                  </a:lnTo>
                  <a:lnTo>
                    <a:pt x="5339" y="2241"/>
                  </a:lnTo>
                  <a:lnTo>
                    <a:pt x="5337" y="2242"/>
                  </a:lnTo>
                  <a:lnTo>
                    <a:pt x="5334" y="2244"/>
                  </a:lnTo>
                  <a:lnTo>
                    <a:pt x="5330" y="2242"/>
                  </a:lnTo>
                  <a:lnTo>
                    <a:pt x="5328" y="2241"/>
                  </a:lnTo>
                  <a:lnTo>
                    <a:pt x="5327" y="2239"/>
                  </a:lnTo>
                  <a:lnTo>
                    <a:pt x="5327" y="2235"/>
                  </a:lnTo>
                  <a:lnTo>
                    <a:pt x="5327" y="2235"/>
                  </a:lnTo>
                  <a:close/>
                  <a:moveTo>
                    <a:pt x="5327" y="2213"/>
                  </a:moveTo>
                  <a:lnTo>
                    <a:pt x="5327" y="2213"/>
                  </a:lnTo>
                  <a:lnTo>
                    <a:pt x="5325" y="2209"/>
                  </a:lnTo>
                  <a:lnTo>
                    <a:pt x="5325" y="2207"/>
                  </a:lnTo>
                  <a:lnTo>
                    <a:pt x="5327" y="2204"/>
                  </a:lnTo>
                  <a:lnTo>
                    <a:pt x="5328" y="2202"/>
                  </a:lnTo>
                  <a:lnTo>
                    <a:pt x="5330" y="2200"/>
                  </a:lnTo>
                  <a:lnTo>
                    <a:pt x="5334" y="2200"/>
                  </a:lnTo>
                  <a:lnTo>
                    <a:pt x="5335" y="2200"/>
                  </a:lnTo>
                  <a:lnTo>
                    <a:pt x="5339" y="2202"/>
                  </a:lnTo>
                  <a:lnTo>
                    <a:pt x="5339" y="2202"/>
                  </a:lnTo>
                  <a:lnTo>
                    <a:pt x="5339" y="2206"/>
                  </a:lnTo>
                  <a:lnTo>
                    <a:pt x="5339" y="2207"/>
                  </a:lnTo>
                  <a:lnTo>
                    <a:pt x="5339" y="2211"/>
                  </a:lnTo>
                  <a:lnTo>
                    <a:pt x="5337" y="2213"/>
                  </a:lnTo>
                  <a:lnTo>
                    <a:pt x="5335" y="2214"/>
                  </a:lnTo>
                  <a:lnTo>
                    <a:pt x="5332" y="2214"/>
                  </a:lnTo>
                  <a:lnTo>
                    <a:pt x="5330" y="2214"/>
                  </a:lnTo>
                  <a:lnTo>
                    <a:pt x="5327" y="2213"/>
                  </a:lnTo>
                  <a:lnTo>
                    <a:pt x="5327" y="2213"/>
                  </a:lnTo>
                  <a:close/>
                  <a:moveTo>
                    <a:pt x="5309" y="2190"/>
                  </a:moveTo>
                  <a:lnTo>
                    <a:pt x="5309" y="2190"/>
                  </a:lnTo>
                  <a:lnTo>
                    <a:pt x="5307" y="2188"/>
                  </a:lnTo>
                  <a:lnTo>
                    <a:pt x="5307" y="2185"/>
                  </a:lnTo>
                  <a:lnTo>
                    <a:pt x="5307" y="2181"/>
                  </a:lnTo>
                  <a:lnTo>
                    <a:pt x="5309" y="2179"/>
                  </a:lnTo>
                  <a:lnTo>
                    <a:pt x="5311" y="2178"/>
                  </a:lnTo>
                  <a:lnTo>
                    <a:pt x="5314" y="2178"/>
                  </a:lnTo>
                  <a:lnTo>
                    <a:pt x="5318" y="2179"/>
                  </a:lnTo>
                  <a:lnTo>
                    <a:pt x="5320" y="2181"/>
                  </a:lnTo>
                  <a:lnTo>
                    <a:pt x="5320" y="2181"/>
                  </a:lnTo>
                  <a:lnTo>
                    <a:pt x="5321" y="2183"/>
                  </a:lnTo>
                  <a:lnTo>
                    <a:pt x="5321" y="2186"/>
                  </a:lnTo>
                  <a:lnTo>
                    <a:pt x="5321" y="2188"/>
                  </a:lnTo>
                  <a:lnTo>
                    <a:pt x="5320" y="2192"/>
                  </a:lnTo>
                  <a:lnTo>
                    <a:pt x="5316" y="2192"/>
                  </a:lnTo>
                  <a:lnTo>
                    <a:pt x="5313" y="2192"/>
                  </a:lnTo>
                  <a:lnTo>
                    <a:pt x="5311" y="2192"/>
                  </a:lnTo>
                  <a:lnTo>
                    <a:pt x="5309" y="2190"/>
                  </a:lnTo>
                  <a:lnTo>
                    <a:pt x="5309" y="2190"/>
                  </a:lnTo>
                  <a:close/>
                  <a:moveTo>
                    <a:pt x="5290" y="2167"/>
                  </a:moveTo>
                  <a:lnTo>
                    <a:pt x="5290" y="2167"/>
                  </a:lnTo>
                  <a:lnTo>
                    <a:pt x="5288" y="2165"/>
                  </a:lnTo>
                  <a:lnTo>
                    <a:pt x="5288" y="2162"/>
                  </a:lnTo>
                  <a:lnTo>
                    <a:pt x="5288" y="2160"/>
                  </a:lnTo>
                  <a:lnTo>
                    <a:pt x="5292" y="2158"/>
                  </a:lnTo>
                  <a:lnTo>
                    <a:pt x="5293" y="2157"/>
                  </a:lnTo>
                  <a:lnTo>
                    <a:pt x="5295" y="2157"/>
                  </a:lnTo>
                  <a:lnTo>
                    <a:pt x="5299" y="2157"/>
                  </a:lnTo>
                  <a:lnTo>
                    <a:pt x="5300" y="2158"/>
                  </a:lnTo>
                  <a:lnTo>
                    <a:pt x="5300" y="2158"/>
                  </a:lnTo>
                  <a:lnTo>
                    <a:pt x="5302" y="2160"/>
                  </a:lnTo>
                  <a:lnTo>
                    <a:pt x="5302" y="2164"/>
                  </a:lnTo>
                  <a:lnTo>
                    <a:pt x="5302" y="2165"/>
                  </a:lnTo>
                  <a:lnTo>
                    <a:pt x="5300" y="2169"/>
                  </a:lnTo>
                  <a:lnTo>
                    <a:pt x="5297" y="2171"/>
                  </a:lnTo>
                  <a:lnTo>
                    <a:pt x="5295" y="2171"/>
                  </a:lnTo>
                  <a:lnTo>
                    <a:pt x="5292" y="2169"/>
                  </a:lnTo>
                  <a:lnTo>
                    <a:pt x="5290" y="2167"/>
                  </a:lnTo>
                  <a:lnTo>
                    <a:pt x="5290" y="2167"/>
                  </a:lnTo>
                  <a:close/>
                  <a:moveTo>
                    <a:pt x="5272" y="2146"/>
                  </a:moveTo>
                  <a:lnTo>
                    <a:pt x="5272" y="2146"/>
                  </a:lnTo>
                  <a:lnTo>
                    <a:pt x="5271" y="2143"/>
                  </a:lnTo>
                  <a:lnTo>
                    <a:pt x="5271" y="2141"/>
                  </a:lnTo>
                  <a:lnTo>
                    <a:pt x="5271" y="2137"/>
                  </a:lnTo>
                  <a:lnTo>
                    <a:pt x="5272" y="2136"/>
                  </a:lnTo>
                  <a:lnTo>
                    <a:pt x="5274" y="2134"/>
                  </a:lnTo>
                  <a:lnTo>
                    <a:pt x="5278" y="2134"/>
                  </a:lnTo>
                  <a:lnTo>
                    <a:pt x="5279" y="2134"/>
                  </a:lnTo>
                  <a:lnTo>
                    <a:pt x="5283" y="2136"/>
                  </a:lnTo>
                  <a:lnTo>
                    <a:pt x="5283" y="2136"/>
                  </a:lnTo>
                  <a:lnTo>
                    <a:pt x="5285" y="2139"/>
                  </a:lnTo>
                  <a:lnTo>
                    <a:pt x="5285" y="2141"/>
                  </a:lnTo>
                  <a:lnTo>
                    <a:pt x="5283" y="2144"/>
                  </a:lnTo>
                  <a:lnTo>
                    <a:pt x="5281" y="2146"/>
                  </a:lnTo>
                  <a:lnTo>
                    <a:pt x="5279" y="2148"/>
                  </a:lnTo>
                  <a:lnTo>
                    <a:pt x="5276" y="2148"/>
                  </a:lnTo>
                  <a:lnTo>
                    <a:pt x="5274" y="2148"/>
                  </a:lnTo>
                  <a:lnTo>
                    <a:pt x="5272" y="2146"/>
                  </a:lnTo>
                  <a:lnTo>
                    <a:pt x="5272" y="2146"/>
                  </a:lnTo>
                  <a:close/>
                  <a:moveTo>
                    <a:pt x="5267" y="2113"/>
                  </a:moveTo>
                  <a:lnTo>
                    <a:pt x="5267" y="2113"/>
                  </a:lnTo>
                  <a:lnTo>
                    <a:pt x="5269" y="2109"/>
                  </a:lnTo>
                  <a:lnTo>
                    <a:pt x="5271" y="2108"/>
                  </a:lnTo>
                  <a:lnTo>
                    <a:pt x="5272" y="2106"/>
                  </a:lnTo>
                  <a:lnTo>
                    <a:pt x="5276" y="2106"/>
                  </a:lnTo>
                  <a:lnTo>
                    <a:pt x="5278" y="2108"/>
                  </a:lnTo>
                  <a:lnTo>
                    <a:pt x="5279" y="2109"/>
                  </a:lnTo>
                  <a:lnTo>
                    <a:pt x="5281" y="2111"/>
                  </a:lnTo>
                  <a:lnTo>
                    <a:pt x="5281" y="2115"/>
                  </a:lnTo>
                  <a:lnTo>
                    <a:pt x="5281" y="2115"/>
                  </a:lnTo>
                  <a:lnTo>
                    <a:pt x="5281" y="2116"/>
                  </a:lnTo>
                  <a:lnTo>
                    <a:pt x="5279" y="2118"/>
                  </a:lnTo>
                  <a:lnTo>
                    <a:pt x="5278" y="2120"/>
                  </a:lnTo>
                  <a:lnTo>
                    <a:pt x="5274" y="2122"/>
                  </a:lnTo>
                  <a:lnTo>
                    <a:pt x="5271" y="2120"/>
                  </a:lnTo>
                  <a:lnTo>
                    <a:pt x="5269" y="2118"/>
                  </a:lnTo>
                  <a:lnTo>
                    <a:pt x="5267" y="2116"/>
                  </a:lnTo>
                  <a:lnTo>
                    <a:pt x="5267" y="2113"/>
                  </a:lnTo>
                  <a:lnTo>
                    <a:pt x="5267" y="2113"/>
                  </a:lnTo>
                  <a:close/>
                  <a:moveTo>
                    <a:pt x="5271" y="2085"/>
                  </a:moveTo>
                  <a:lnTo>
                    <a:pt x="5271" y="2085"/>
                  </a:lnTo>
                  <a:lnTo>
                    <a:pt x="5271" y="2081"/>
                  </a:lnTo>
                  <a:lnTo>
                    <a:pt x="5272" y="2080"/>
                  </a:lnTo>
                  <a:lnTo>
                    <a:pt x="5274" y="2078"/>
                  </a:lnTo>
                  <a:lnTo>
                    <a:pt x="5278" y="2078"/>
                  </a:lnTo>
                  <a:lnTo>
                    <a:pt x="5279" y="2078"/>
                  </a:lnTo>
                  <a:lnTo>
                    <a:pt x="5283" y="2080"/>
                  </a:lnTo>
                  <a:lnTo>
                    <a:pt x="5283" y="2081"/>
                  </a:lnTo>
                  <a:lnTo>
                    <a:pt x="5285" y="2085"/>
                  </a:lnTo>
                  <a:lnTo>
                    <a:pt x="5285" y="2085"/>
                  </a:lnTo>
                  <a:lnTo>
                    <a:pt x="5283" y="2088"/>
                  </a:lnTo>
                  <a:lnTo>
                    <a:pt x="5281" y="2090"/>
                  </a:lnTo>
                  <a:lnTo>
                    <a:pt x="5279" y="2092"/>
                  </a:lnTo>
                  <a:lnTo>
                    <a:pt x="5276" y="2092"/>
                  </a:lnTo>
                  <a:lnTo>
                    <a:pt x="5274" y="2092"/>
                  </a:lnTo>
                  <a:lnTo>
                    <a:pt x="5271" y="2090"/>
                  </a:lnTo>
                  <a:lnTo>
                    <a:pt x="5271" y="2087"/>
                  </a:lnTo>
                  <a:lnTo>
                    <a:pt x="5271" y="2085"/>
                  </a:lnTo>
                  <a:lnTo>
                    <a:pt x="5271" y="2085"/>
                  </a:lnTo>
                  <a:close/>
                  <a:moveTo>
                    <a:pt x="5272" y="2055"/>
                  </a:moveTo>
                  <a:lnTo>
                    <a:pt x="5272" y="2055"/>
                  </a:lnTo>
                  <a:lnTo>
                    <a:pt x="5272" y="2052"/>
                  </a:lnTo>
                  <a:lnTo>
                    <a:pt x="5274" y="2050"/>
                  </a:lnTo>
                  <a:lnTo>
                    <a:pt x="5278" y="2048"/>
                  </a:lnTo>
                  <a:lnTo>
                    <a:pt x="5279" y="2048"/>
                  </a:lnTo>
                  <a:lnTo>
                    <a:pt x="5283" y="2050"/>
                  </a:lnTo>
                  <a:lnTo>
                    <a:pt x="5285" y="2052"/>
                  </a:lnTo>
                  <a:lnTo>
                    <a:pt x="5286" y="2053"/>
                  </a:lnTo>
                  <a:lnTo>
                    <a:pt x="5286" y="2057"/>
                  </a:lnTo>
                  <a:lnTo>
                    <a:pt x="5286" y="2057"/>
                  </a:lnTo>
                  <a:lnTo>
                    <a:pt x="5286" y="2059"/>
                  </a:lnTo>
                  <a:lnTo>
                    <a:pt x="5285" y="2060"/>
                  </a:lnTo>
                  <a:lnTo>
                    <a:pt x="5281" y="2062"/>
                  </a:lnTo>
                  <a:lnTo>
                    <a:pt x="5279" y="2064"/>
                  </a:lnTo>
                  <a:lnTo>
                    <a:pt x="5276" y="2062"/>
                  </a:lnTo>
                  <a:lnTo>
                    <a:pt x="5274" y="2060"/>
                  </a:lnTo>
                  <a:lnTo>
                    <a:pt x="5272" y="2059"/>
                  </a:lnTo>
                  <a:lnTo>
                    <a:pt x="5272" y="2055"/>
                  </a:lnTo>
                  <a:lnTo>
                    <a:pt x="5272" y="2055"/>
                  </a:lnTo>
                  <a:close/>
                  <a:moveTo>
                    <a:pt x="5274" y="2027"/>
                  </a:moveTo>
                  <a:lnTo>
                    <a:pt x="5274" y="2027"/>
                  </a:lnTo>
                  <a:lnTo>
                    <a:pt x="5276" y="2024"/>
                  </a:lnTo>
                  <a:lnTo>
                    <a:pt x="5278" y="2022"/>
                  </a:lnTo>
                  <a:lnTo>
                    <a:pt x="5279" y="2020"/>
                  </a:lnTo>
                  <a:lnTo>
                    <a:pt x="5283" y="2020"/>
                  </a:lnTo>
                  <a:lnTo>
                    <a:pt x="5285" y="2020"/>
                  </a:lnTo>
                  <a:lnTo>
                    <a:pt x="5286" y="2022"/>
                  </a:lnTo>
                  <a:lnTo>
                    <a:pt x="5288" y="2024"/>
                  </a:lnTo>
                  <a:lnTo>
                    <a:pt x="5290" y="2027"/>
                  </a:lnTo>
                  <a:lnTo>
                    <a:pt x="5290" y="2027"/>
                  </a:lnTo>
                  <a:lnTo>
                    <a:pt x="5288" y="2031"/>
                  </a:lnTo>
                  <a:lnTo>
                    <a:pt x="5286" y="2032"/>
                  </a:lnTo>
                  <a:lnTo>
                    <a:pt x="5285" y="2034"/>
                  </a:lnTo>
                  <a:lnTo>
                    <a:pt x="5281" y="2034"/>
                  </a:lnTo>
                  <a:lnTo>
                    <a:pt x="5278" y="2034"/>
                  </a:lnTo>
                  <a:lnTo>
                    <a:pt x="5276" y="2032"/>
                  </a:lnTo>
                  <a:lnTo>
                    <a:pt x="5274" y="2029"/>
                  </a:lnTo>
                  <a:lnTo>
                    <a:pt x="5274" y="2027"/>
                  </a:lnTo>
                  <a:lnTo>
                    <a:pt x="5274" y="2027"/>
                  </a:lnTo>
                  <a:close/>
                  <a:moveTo>
                    <a:pt x="5278" y="1997"/>
                  </a:moveTo>
                  <a:lnTo>
                    <a:pt x="5278" y="1997"/>
                  </a:lnTo>
                  <a:lnTo>
                    <a:pt x="5278" y="1994"/>
                  </a:lnTo>
                  <a:lnTo>
                    <a:pt x="5279" y="1992"/>
                  </a:lnTo>
                  <a:lnTo>
                    <a:pt x="5281" y="1990"/>
                  </a:lnTo>
                  <a:lnTo>
                    <a:pt x="5285" y="1990"/>
                  </a:lnTo>
                  <a:lnTo>
                    <a:pt x="5288" y="1992"/>
                  </a:lnTo>
                  <a:lnTo>
                    <a:pt x="5290" y="1994"/>
                  </a:lnTo>
                  <a:lnTo>
                    <a:pt x="5292" y="1996"/>
                  </a:lnTo>
                  <a:lnTo>
                    <a:pt x="5292" y="1999"/>
                  </a:lnTo>
                  <a:lnTo>
                    <a:pt x="5292" y="1999"/>
                  </a:lnTo>
                  <a:lnTo>
                    <a:pt x="5290" y="2001"/>
                  </a:lnTo>
                  <a:lnTo>
                    <a:pt x="5288" y="2003"/>
                  </a:lnTo>
                  <a:lnTo>
                    <a:pt x="5286" y="2004"/>
                  </a:lnTo>
                  <a:lnTo>
                    <a:pt x="5285" y="2006"/>
                  </a:lnTo>
                  <a:lnTo>
                    <a:pt x="5281" y="2004"/>
                  </a:lnTo>
                  <a:lnTo>
                    <a:pt x="5279" y="2003"/>
                  </a:lnTo>
                  <a:lnTo>
                    <a:pt x="5278" y="2001"/>
                  </a:lnTo>
                  <a:lnTo>
                    <a:pt x="5278" y="1997"/>
                  </a:lnTo>
                  <a:lnTo>
                    <a:pt x="5278" y="1997"/>
                  </a:lnTo>
                  <a:close/>
                  <a:moveTo>
                    <a:pt x="5279" y="1969"/>
                  </a:moveTo>
                  <a:lnTo>
                    <a:pt x="5279" y="1969"/>
                  </a:lnTo>
                  <a:lnTo>
                    <a:pt x="5279" y="1966"/>
                  </a:lnTo>
                  <a:lnTo>
                    <a:pt x="5281" y="1964"/>
                  </a:lnTo>
                  <a:lnTo>
                    <a:pt x="5285" y="1962"/>
                  </a:lnTo>
                  <a:lnTo>
                    <a:pt x="5286" y="1962"/>
                  </a:lnTo>
                  <a:lnTo>
                    <a:pt x="5290" y="1962"/>
                  </a:lnTo>
                  <a:lnTo>
                    <a:pt x="5292" y="1964"/>
                  </a:lnTo>
                  <a:lnTo>
                    <a:pt x="5293" y="1966"/>
                  </a:lnTo>
                  <a:lnTo>
                    <a:pt x="5293" y="1969"/>
                  </a:lnTo>
                  <a:lnTo>
                    <a:pt x="5293" y="1969"/>
                  </a:lnTo>
                  <a:lnTo>
                    <a:pt x="5293" y="1973"/>
                  </a:lnTo>
                  <a:lnTo>
                    <a:pt x="5292" y="1975"/>
                  </a:lnTo>
                  <a:lnTo>
                    <a:pt x="5288" y="1976"/>
                  </a:lnTo>
                  <a:lnTo>
                    <a:pt x="5286" y="1976"/>
                  </a:lnTo>
                  <a:lnTo>
                    <a:pt x="5283" y="1976"/>
                  </a:lnTo>
                  <a:lnTo>
                    <a:pt x="5281" y="1975"/>
                  </a:lnTo>
                  <a:lnTo>
                    <a:pt x="5279" y="1971"/>
                  </a:lnTo>
                  <a:lnTo>
                    <a:pt x="5279" y="1969"/>
                  </a:lnTo>
                  <a:lnTo>
                    <a:pt x="5279" y="1969"/>
                  </a:lnTo>
                  <a:close/>
                  <a:moveTo>
                    <a:pt x="5281" y="1940"/>
                  </a:moveTo>
                  <a:lnTo>
                    <a:pt x="5281" y="1940"/>
                  </a:lnTo>
                  <a:lnTo>
                    <a:pt x="5283" y="1936"/>
                  </a:lnTo>
                  <a:lnTo>
                    <a:pt x="5285" y="1934"/>
                  </a:lnTo>
                  <a:lnTo>
                    <a:pt x="5286" y="1933"/>
                  </a:lnTo>
                  <a:lnTo>
                    <a:pt x="5290" y="1933"/>
                  </a:lnTo>
                  <a:lnTo>
                    <a:pt x="5292" y="1934"/>
                  </a:lnTo>
                  <a:lnTo>
                    <a:pt x="5295" y="1936"/>
                  </a:lnTo>
                  <a:lnTo>
                    <a:pt x="5295" y="1938"/>
                  </a:lnTo>
                  <a:lnTo>
                    <a:pt x="5297" y="1941"/>
                  </a:lnTo>
                  <a:lnTo>
                    <a:pt x="5297" y="1941"/>
                  </a:lnTo>
                  <a:lnTo>
                    <a:pt x="5295" y="1943"/>
                  </a:lnTo>
                  <a:lnTo>
                    <a:pt x="5293" y="1947"/>
                  </a:lnTo>
                  <a:lnTo>
                    <a:pt x="5292" y="1947"/>
                  </a:lnTo>
                  <a:lnTo>
                    <a:pt x="5288" y="1948"/>
                  </a:lnTo>
                  <a:lnTo>
                    <a:pt x="5286" y="1947"/>
                  </a:lnTo>
                  <a:lnTo>
                    <a:pt x="5283" y="1945"/>
                  </a:lnTo>
                  <a:lnTo>
                    <a:pt x="5283" y="1943"/>
                  </a:lnTo>
                  <a:lnTo>
                    <a:pt x="5281" y="1940"/>
                  </a:lnTo>
                  <a:lnTo>
                    <a:pt x="5281" y="1940"/>
                  </a:lnTo>
                  <a:close/>
                  <a:moveTo>
                    <a:pt x="5285" y="1912"/>
                  </a:moveTo>
                  <a:lnTo>
                    <a:pt x="5285" y="1912"/>
                  </a:lnTo>
                  <a:lnTo>
                    <a:pt x="5285" y="1908"/>
                  </a:lnTo>
                  <a:lnTo>
                    <a:pt x="5286" y="1906"/>
                  </a:lnTo>
                  <a:lnTo>
                    <a:pt x="5288" y="1905"/>
                  </a:lnTo>
                  <a:lnTo>
                    <a:pt x="5292" y="1905"/>
                  </a:lnTo>
                  <a:lnTo>
                    <a:pt x="5295" y="1905"/>
                  </a:lnTo>
                  <a:lnTo>
                    <a:pt x="5297" y="1906"/>
                  </a:lnTo>
                  <a:lnTo>
                    <a:pt x="5299" y="1908"/>
                  </a:lnTo>
                  <a:lnTo>
                    <a:pt x="5299" y="1912"/>
                  </a:lnTo>
                  <a:lnTo>
                    <a:pt x="5299" y="1912"/>
                  </a:lnTo>
                  <a:lnTo>
                    <a:pt x="5299" y="1915"/>
                  </a:lnTo>
                  <a:lnTo>
                    <a:pt x="5297" y="1917"/>
                  </a:lnTo>
                  <a:lnTo>
                    <a:pt x="5293" y="1919"/>
                  </a:lnTo>
                  <a:lnTo>
                    <a:pt x="5292" y="1919"/>
                  </a:lnTo>
                  <a:lnTo>
                    <a:pt x="5288" y="1919"/>
                  </a:lnTo>
                  <a:lnTo>
                    <a:pt x="5286" y="1917"/>
                  </a:lnTo>
                  <a:lnTo>
                    <a:pt x="5285" y="1913"/>
                  </a:lnTo>
                  <a:lnTo>
                    <a:pt x="5285" y="1912"/>
                  </a:lnTo>
                  <a:lnTo>
                    <a:pt x="5285" y="1912"/>
                  </a:lnTo>
                  <a:close/>
                  <a:moveTo>
                    <a:pt x="5318" y="1898"/>
                  </a:moveTo>
                  <a:lnTo>
                    <a:pt x="5318" y="1898"/>
                  </a:lnTo>
                  <a:lnTo>
                    <a:pt x="5321" y="1898"/>
                  </a:lnTo>
                  <a:lnTo>
                    <a:pt x="5323" y="1899"/>
                  </a:lnTo>
                  <a:lnTo>
                    <a:pt x="5325" y="1901"/>
                  </a:lnTo>
                  <a:lnTo>
                    <a:pt x="5327" y="1903"/>
                  </a:lnTo>
                  <a:lnTo>
                    <a:pt x="5327" y="1906"/>
                  </a:lnTo>
                  <a:lnTo>
                    <a:pt x="5325" y="1908"/>
                  </a:lnTo>
                  <a:lnTo>
                    <a:pt x="5323" y="1912"/>
                  </a:lnTo>
                  <a:lnTo>
                    <a:pt x="5321" y="1912"/>
                  </a:lnTo>
                  <a:lnTo>
                    <a:pt x="5321" y="1912"/>
                  </a:lnTo>
                  <a:lnTo>
                    <a:pt x="5318" y="1912"/>
                  </a:lnTo>
                  <a:lnTo>
                    <a:pt x="5316" y="1912"/>
                  </a:lnTo>
                  <a:lnTo>
                    <a:pt x="5314" y="1910"/>
                  </a:lnTo>
                  <a:lnTo>
                    <a:pt x="5313" y="1906"/>
                  </a:lnTo>
                  <a:lnTo>
                    <a:pt x="5313" y="1905"/>
                  </a:lnTo>
                  <a:lnTo>
                    <a:pt x="5313" y="1901"/>
                  </a:lnTo>
                  <a:lnTo>
                    <a:pt x="5314" y="1899"/>
                  </a:lnTo>
                  <a:lnTo>
                    <a:pt x="5318" y="1898"/>
                  </a:lnTo>
                  <a:lnTo>
                    <a:pt x="5318" y="1898"/>
                  </a:lnTo>
                  <a:close/>
                  <a:moveTo>
                    <a:pt x="5346" y="1892"/>
                  </a:moveTo>
                  <a:lnTo>
                    <a:pt x="5346" y="1892"/>
                  </a:lnTo>
                  <a:lnTo>
                    <a:pt x="5349" y="1892"/>
                  </a:lnTo>
                  <a:lnTo>
                    <a:pt x="5351" y="1892"/>
                  </a:lnTo>
                  <a:lnTo>
                    <a:pt x="5353" y="1894"/>
                  </a:lnTo>
                  <a:lnTo>
                    <a:pt x="5355" y="1898"/>
                  </a:lnTo>
                  <a:lnTo>
                    <a:pt x="5355" y="1899"/>
                  </a:lnTo>
                  <a:lnTo>
                    <a:pt x="5355" y="1903"/>
                  </a:lnTo>
                  <a:lnTo>
                    <a:pt x="5353" y="1905"/>
                  </a:lnTo>
                  <a:lnTo>
                    <a:pt x="5349" y="1906"/>
                  </a:lnTo>
                  <a:lnTo>
                    <a:pt x="5349" y="1906"/>
                  </a:lnTo>
                  <a:lnTo>
                    <a:pt x="5346" y="1906"/>
                  </a:lnTo>
                  <a:lnTo>
                    <a:pt x="5344" y="1905"/>
                  </a:lnTo>
                  <a:lnTo>
                    <a:pt x="5342" y="1903"/>
                  </a:lnTo>
                  <a:lnTo>
                    <a:pt x="5341" y="1901"/>
                  </a:lnTo>
                  <a:lnTo>
                    <a:pt x="5341" y="1898"/>
                  </a:lnTo>
                  <a:lnTo>
                    <a:pt x="5341" y="1896"/>
                  </a:lnTo>
                  <a:lnTo>
                    <a:pt x="5344" y="1892"/>
                  </a:lnTo>
                  <a:lnTo>
                    <a:pt x="5346" y="1892"/>
                  </a:lnTo>
                  <a:lnTo>
                    <a:pt x="5346" y="1892"/>
                  </a:lnTo>
                  <a:close/>
                  <a:moveTo>
                    <a:pt x="5374" y="1885"/>
                  </a:moveTo>
                  <a:lnTo>
                    <a:pt x="5374" y="1885"/>
                  </a:lnTo>
                  <a:lnTo>
                    <a:pt x="5377" y="1885"/>
                  </a:lnTo>
                  <a:lnTo>
                    <a:pt x="5379" y="1887"/>
                  </a:lnTo>
                  <a:lnTo>
                    <a:pt x="5383" y="1889"/>
                  </a:lnTo>
                  <a:lnTo>
                    <a:pt x="5383" y="1891"/>
                  </a:lnTo>
                  <a:lnTo>
                    <a:pt x="5383" y="1894"/>
                  </a:lnTo>
                  <a:lnTo>
                    <a:pt x="5383" y="1896"/>
                  </a:lnTo>
                  <a:lnTo>
                    <a:pt x="5381" y="1898"/>
                  </a:lnTo>
                  <a:lnTo>
                    <a:pt x="5377" y="1899"/>
                  </a:lnTo>
                  <a:lnTo>
                    <a:pt x="5377" y="1899"/>
                  </a:lnTo>
                  <a:lnTo>
                    <a:pt x="5376" y="1899"/>
                  </a:lnTo>
                  <a:lnTo>
                    <a:pt x="5372" y="1899"/>
                  </a:lnTo>
                  <a:lnTo>
                    <a:pt x="5370" y="1898"/>
                  </a:lnTo>
                  <a:lnTo>
                    <a:pt x="5369" y="1894"/>
                  </a:lnTo>
                  <a:lnTo>
                    <a:pt x="5369" y="1892"/>
                  </a:lnTo>
                  <a:lnTo>
                    <a:pt x="5370" y="1889"/>
                  </a:lnTo>
                  <a:lnTo>
                    <a:pt x="5372" y="1887"/>
                  </a:lnTo>
                  <a:lnTo>
                    <a:pt x="5374" y="1885"/>
                  </a:lnTo>
                  <a:lnTo>
                    <a:pt x="5374" y="1885"/>
                  </a:lnTo>
                  <a:close/>
                  <a:moveTo>
                    <a:pt x="5372" y="1866"/>
                  </a:moveTo>
                  <a:lnTo>
                    <a:pt x="5372" y="1866"/>
                  </a:lnTo>
                  <a:lnTo>
                    <a:pt x="5372" y="1863"/>
                  </a:lnTo>
                  <a:lnTo>
                    <a:pt x="5374" y="1861"/>
                  </a:lnTo>
                  <a:lnTo>
                    <a:pt x="5376" y="1859"/>
                  </a:lnTo>
                  <a:lnTo>
                    <a:pt x="5379" y="1859"/>
                  </a:lnTo>
                  <a:lnTo>
                    <a:pt x="5383" y="1859"/>
                  </a:lnTo>
                  <a:lnTo>
                    <a:pt x="5384" y="1861"/>
                  </a:lnTo>
                  <a:lnTo>
                    <a:pt x="5386" y="1863"/>
                  </a:lnTo>
                  <a:lnTo>
                    <a:pt x="5386" y="1866"/>
                  </a:lnTo>
                  <a:lnTo>
                    <a:pt x="5386" y="1866"/>
                  </a:lnTo>
                  <a:lnTo>
                    <a:pt x="5386" y="1870"/>
                  </a:lnTo>
                  <a:lnTo>
                    <a:pt x="5384" y="1871"/>
                  </a:lnTo>
                  <a:lnTo>
                    <a:pt x="5383" y="1873"/>
                  </a:lnTo>
                  <a:lnTo>
                    <a:pt x="5379" y="1873"/>
                  </a:lnTo>
                  <a:lnTo>
                    <a:pt x="5376" y="1873"/>
                  </a:lnTo>
                  <a:lnTo>
                    <a:pt x="5374" y="1871"/>
                  </a:lnTo>
                  <a:lnTo>
                    <a:pt x="5372" y="1870"/>
                  </a:lnTo>
                  <a:lnTo>
                    <a:pt x="5372" y="1866"/>
                  </a:lnTo>
                  <a:lnTo>
                    <a:pt x="5372" y="1866"/>
                  </a:lnTo>
                  <a:close/>
                  <a:moveTo>
                    <a:pt x="5372" y="1838"/>
                  </a:moveTo>
                  <a:lnTo>
                    <a:pt x="5372" y="1838"/>
                  </a:lnTo>
                  <a:lnTo>
                    <a:pt x="5372" y="1835"/>
                  </a:lnTo>
                  <a:lnTo>
                    <a:pt x="5374" y="1833"/>
                  </a:lnTo>
                  <a:lnTo>
                    <a:pt x="5376" y="1831"/>
                  </a:lnTo>
                  <a:lnTo>
                    <a:pt x="5379" y="1829"/>
                  </a:lnTo>
                  <a:lnTo>
                    <a:pt x="5383" y="1831"/>
                  </a:lnTo>
                  <a:lnTo>
                    <a:pt x="5384" y="1833"/>
                  </a:lnTo>
                  <a:lnTo>
                    <a:pt x="5386" y="1835"/>
                  </a:lnTo>
                  <a:lnTo>
                    <a:pt x="5386" y="1838"/>
                  </a:lnTo>
                  <a:lnTo>
                    <a:pt x="5386" y="1838"/>
                  </a:lnTo>
                  <a:lnTo>
                    <a:pt x="5386" y="1840"/>
                  </a:lnTo>
                  <a:lnTo>
                    <a:pt x="5384" y="1842"/>
                  </a:lnTo>
                  <a:lnTo>
                    <a:pt x="5383" y="1843"/>
                  </a:lnTo>
                  <a:lnTo>
                    <a:pt x="5379" y="1845"/>
                  </a:lnTo>
                  <a:lnTo>
                    <a:pt x="5376" y="1843"/>
                  </a:lnTo>
                  <a:lnTo>
                    <a:pt x="5374" y="1842"/>
                  </a:lnTo>
                  <a:lnTo>
                    <a:pt x="5372" y="1840"/>
                  </a:lnTo>
                  <a:lnTo>
                    <a:pt x="5372" y="1838"/>
                  </a:lnTo>
                  <a:lnTo>
                    <a:pt x="5372" y="1838"/>
                  </a:lnTo>
                  <a:close/>
                  <a:moveTo>
                    <a:pt x="5372" y="1808"/>
                  </a:moveTo>
                  <a:lnTo>
                    <a:pt x="5372" y="1808"/>
                  </a:lnTo>
                  <a:lnTo>
                    <a:pt x="5372" y="1805"/>
                  </a:lnTo>
                  <a:lnTo>
                    <a:pt x="5374" y="1803"/>
                  </a:lnTo>
                  <a:lnTo>
                    <a:pt x="5376" y="1801"/>
                  </a:lnTo>
                  <a:lnTo>
                    <a:pt x="5379" y="1801"/>
                  </a:lnTo>
                  <a:lnTo>
                    <a:pt x="5383" y="1801"/>
                  </a:lnTo>
                  <a:lnTo>
                    <a:pt x="5384" y="1803"/>
                  </a:lnTo>
                  <a:lnTo>
                    <a:pt x="5386" y="1805"/>
                  </a:lnTo>
                  <a:lnTo>
                    <a:pt x="5386" y="1808"/>
                  </a:lnTo>
                  <a:lnTo>
                    <a:pt x="5386" y="1808"/>
                  </a:lnTo>
                  <a:lnTo>
                    <a:pt x="5386" y="1812"/>
                  </a:lnTo>
                  <a:lnTo>
                    <a:pt x="5384" y="1814"/>
                  </a:lnTo>
                  <a:lnTo>
                    <a:pt x="5383" y="1815"/>
                  </a:lnTo>
                  <a:lnTo>
                    <a:pt x="5379" y="1815"/>
                  </a:lnTo>
                  <a:lnTo>
                    <a:pt x="5376" y="1815"/>
                  </a:lnTo>
                  <a:lnTo>
                    <a:pt x="5374" y="1814"/>
                  </a:lnTo>
                  <a:lnTo>
                    <a:pt x="5372" y="1812"/>
                  </a:lnTo>
                  <a:lnTo>
                    <a:pt x="5372" y="1808"/>
                  </a:lnTo>
                  <a:lnTo>
                    <a:pt x="5372" y="1808"/>
                  </a:lnTo>
                  <a:close/>
                  <a:moveTo>
                    <a:pt x="5372" y="1780"/>
                  </a:moveTo>
                  <a:lnTo>
                    <a:pt x="5372" y="1780"/>
                  </a:lnTo>
                  <a:lnTo>
                    <a:pt x="5372" y="1777"/>
                  </a:lnTo>
                  <a:lnTo>
                    <a:pt x="5374" y="1775"/>
                  </a:lnTo>
                  <a:lnTo>
                    <a:pt x="5376" y="1773"/>
                  </a:lnTo>
                  <a:lnTo>
                    <a:pt x="5379" y="1772"/>
                  </a:lnTo>
                  <a:lnTo>
                    <a:pt x="5383" y="1773"/>
                  </a:lnTo>
                  <a:lnTo>
                    <a:pt x="5384" y="1775"/>
                  </a:lnTo>
                  <a:lnTo>
                    <a:pt x="5386" y="1777"/>
                  </a:lnTo>
                  <a:lnTo>
                    <a:pt x="5386" y="1780"/>
                  </a:lnTo>
                  <a:lnTo>
                    <a:pt x="5386" y="1780"/>
                  </a:lnTo>
                  <a:lnTo>
                    <a:pt x="5386" y="1782"/>
                  </a:lnTo>
                  <a:lnTo>
                    <a:pt x="5384" y="1784"/>
                  </a:lnTo>
                  <a:lnTo>
                    <a:pt x="5383" y="1786"/>
                  </a:lnTo>
                  <a:lnTo>
                    <a:pt x="5379" y="1787"/>
                  </a:lnTo>
                  <a:lnTo>
                    <a:pt x="5376" y="1786"/>
                  </a:lnTo>
                  <a:lnTo>
                    <a:pt x="5374" y="1784"/>
                  </a:lnTo>
                  <a:lnTo>
                    <a:pt x="5372" y="1782"/>
                  </a:lnTo>
                  <a:lnTo>
                    <a:pt x="5372" y="1780"/>
                  </a:lnTo>
                  <a:lnTo>
                    <a:pt x="5372" y="1780"/>
                  </a:lnTo>
                  <a:close/>
                  <a:moveTo>
                    <a:pt x="5369" y="1756"/>
                  </a:moveTo>
                  <a:lnTo>
                    <a:pt x="5369" y="1756"/>
                  </a:lnTo>
                  <a:lnTo>
                    <a:pt x="5367" y="1752"/>
                  </a:lnTo>
                  <a:lnTo>
                    <a:pt x="5367" y="1751"/>
                  </a:lnTo>
                  <a:lnTo>
                    <a:pt x="5369" y="1747"/>
                  </a:lnTo>
                  <a:lnTo>
                    <a:pt x="5370" y="1745"/>
                  </a:lnTo>
                  <a:lnTo>
                    <a:pt x="5374" y="1744"/>
                  </a:lnTo>
                  <a:lnTo>
                    <a:pt x="5376" y="1745"/>
                  </a:lnTo>
                  <a:lnTo>
                    <a:pt x="5379" y="1745"/>
                  </a:lnTo>
                  <a:lnTo>
                    <a:pt x="5381" y="1749"/>
                  </a:lnTo>
                  <a:lnTo>
                    <a:pt x="5381" y="1749"/>
                  </a:lnTo>
                  <a:lnTo>
                    <a:pt x="5381" y="1751"/>
                  </a:lnTo>
                  <a:lnTo>
                    <a:pt x="5381" y="1754"/>
                  </a:lnTo>
                  <a:lnTo>
                    <a:pt x="5381" y="1756"/>
                  </a:lnTo>
                  <a:lnTo>
                    <a:pt x="5379" y="1758"/>
                  </a:lnTo>
                  <a:lnTo>
                    <a:pt x="5376" y="1759"/>
                  </a:lnTo>
                  <a:lnTo>
                    <a:pt x="5372" y="1759"/>
                  </a:lnTo>
                  <a:lnTo>
                    <a:pt x="5370" y="1758"/>
                  </a:lnTo>
                  <a:lnTo>
                    <a:pt x="5369" y="1756"/>
                  </a:lnTo>
                  <a:lnTo>
                    <a:pt x="5369" y="1756"/>
                  </a:lnTo>
                  <a:close/>
                  <a:moveTo>
                    <a:pt x="5355" y="1730"/>
                  </a:moveTo>
                  <a:lnTo>
                    <a:pt x="5355" y="1730"/>
                  </a:lnTo>
                  <a:lnTo>
                    <a:pt x="5353" y="1728"/>
                  </a:lnTo>
                  <a:lnTo>
                    <a:pt x="5355" y="1724"/>
                  </a:lnTo>
                  <a:lnTo>
                    <a:pt x="5355" y="1723"/>
                  </a:lnTo>
                  <a:lnTo>
                    <a:pt x="5356" y="1721"/>
                  </a:lnTo>
                  <a:lnTo>
                    <a:pt x="5360" y="1719"/>
                  </a:lnTo>
                  <a:lnTo>
                    <a:pt x="5362" y="1719"/>
                  </a:lnTo>
                  <a:lnTo>
                    <a:pt x="5365" y="1721"/>
                  </a:lnTo>
                  <a:lnTo>
                    <a:pt x="5367" y="1723"/>
                  </a:lnTo>
                  <a:lnTo>
                    <a:pt x="5367" y="1723"/>
                  </a:lnTo>
                  <a:lnTo>
                    <a:pt x="5369" y="1724"/>
                  </a:lnTo>
                  <a:lnTo>
                    <a:pt x="5367" y="1728"/>
                  </a:lnTo>
                  <a:lnTo>
                    <a:pt x="5367" y="1730"/>
                  </a:lnTo>
                  <a:lnTo>
                    <a:pt x="5365" y="1733"/>
                  </a:lnTo>
                  <a:lnTo>
                    <a:pt x="5362" y="1733"/>
                  </a:lnTo>
                  <a:lnTo>
                    <a:pt x="5358" y="1733"/>
                  </a:lnTo>
                  <a:lnTo>
                    <a:pt x="5356" y="1731"/>
                  </a:lnTo>
                  <a:lnTo>
                    <a:pt x="5355" y="1730"/>
                  </a:lnTo>
                  <a:lnTo>
                    <a:pt x="5355" y="1730"/>
                  </a:lnTo>
                  <a:close/>
                  <a:moveTo>
                    <a:pt x="5341" y="1705"/>
                  </a:moveTo>
                  <a:lnTo>
                    <a:pt x="5341" y="1705"/>
                  </a:lnTo>
                  <a:lnTo>
                    <a:pt x="5339" y="1702"/>
                  </a:lnTo>
                  <a:lnTo>
                    <a:pt x="5341" y="1698"/>
                  </a:lnTo>
                  <a:lnTo>
                    <a:pt x="5341" y="1696"/>
                  </a:lnTo>
                  <a:lnTo>
                    <a:pt x="5344" y="1695"/>
                  </a:lnTo>
                  <a:lnTo>
                    <a:pt x="5346" y="1693"/>
                  </a:lnTo>
                  <a:lnTo>
                    <a:pt x="5349" y="1695"/>
                  </a:lnTo>
                  <a:lnTo>
                    <a:pt x="5351" y="1695"/>
                  </a:lnTo>
                  <a:lnTo>
                    <a:pt x="5353" y="1696"/>
                  </a:lnTo>
                  <a:lnTo>
                    <a:pt x="5353" y="1696"/>
                  </a:lnTo>
                  <a:lnTo>
                    <a:pt x="5355" y="1700"/>
                  </a:lnTo>
                  <a:lnTo>
                    <a:pt x="5355" y="1702"/>
                  </a:lnTo>
                  <a:lnTo>
                    <a:pt x="5353" y="1705"/>
                  </a:lnTo>
                  <a:lnTo>
                    <a:pt x="5351" y="1707"/>
                  </a:lnTo>
                  <a:lnTo>
                    <a:pt x="5348" y="1709"/>
                  </a:lnTo>
                  <a:lnTo>
                    <a:pt x="5346" y="1707"/>
                  </a:lnTo>
                  <a:lnTo>
                    <a:pt x="5342" y="1707"/>
                  </a:lnTo>
                  <a:lnTo>
                    <a:pt x="5341" y="1705"/>
                  </a:lnTo>
                  <a:lnTo>
                    <a:pt x="5341" y="1705"/>
                  </a:lnTo>
                  <a:close/>
                  <a:moveTo>
                    <a:pt x="5330" y="1686"/>
                  </a:moveTo>
                  <a:lnTo>
                    <a:pt x="5330" y="1686"/>
                  </a:lnTo>
                  <a:lnTo>
                    <a:pt x="5327" y="1686"/>
                  </a:lnTo>
                  <a:lnTo>
                    <a:pt x="5325" y="1684"/>
                  </a:lnTo>
                  <a:lnTo>
                    <a:pt x="5323" y="1681"/>
                  </a:lnTo>
                  <a:lnTo>
                    <a:pt x="5323" y="1679"/>
                  </a:lnTo>
                  <a:lnTo>
                    <a:pt x="5325" y="1675"/>
                  </a:lnTo>
                  <a:lnTo>
                    <a:pt x="5327" y="1674"/>
                  </a:lnTo>
                  <a:lnTo>
                    <a:pt x="5328" y="1672"/>
                  </a:lnTo>
                  <a:lnTo>
                    <a:pt x="5332" y="1672"/>
                  </a:lnTo>
                  <a:lnTo>
                    <a:pt x="5332" y="1672"/>
                  </a:lnTo>
                  <a:lnTo>
                    <a:pt x="5334" y="1672"/>
                  </a:lnTo>
                  <a:lnTo>
                    <a:pt x="5337" y="1674"/>
                  </a:lnTo>
                  <a:lnTo>
                    <a:pt x="5337" y="1677"/>
                  </a:lnTo>
                  <a:lnTo>
                    <a:pt x="5339" y="1679"/>
                  </a:lnTo>
                  <a:lnTo>
                    <a:pt x="5337" y="1682"/>
                  </a:lnTo>
                  <a:lnTo>
                    <a:pt x="5335" y="1684"/>
                  </a:lnTo>
                  <a:lnTo>
                    <a:pt x="5334" y="1686"/>
                  </a:lnTo>
                  <a:lnTo>
                    <a:pt x="5330" y="1686"/>
                  </a:lnTo>
                  <a:lnTo>
                    <a:pt x="5330" y="1686"/>
                  </a:lnTo>
                  <a:close/>
                  <a:moveTo>
                    <a:pt x="5302" y="1684"/>
                  </a:moveTo>
                  <a:lnTo>
                    <a:pt x="5302" y="1684"/>
                  </a:lnTo>
                  <a:lnTo>
                    <a:pt x="5299" y="1684"/>
                  </a:lnTo>
                  <a:lnTo>
                    <a:pt x="5297" y="1682"/>
                  </a:lnTo>
                  <a:lnTo>
                    <a:pt x="5295" y="1679"/>
                  </a:lnTo>
                  <a:lnTo>
                    <a:pt x="5295" y="1677"/>
                  </a:lnTo>
                  <a:lnTo>
                    <a:pt x="5295" y="1674"/>
                  </a:lnTo>
                  <a:lnTo>
                    <a:pt x="5297" y="1672"/>
                  </a:lnTo>
                  <a:lnTo>
                    <a:pt x="5300" y="1670"/>
                  </a:lnTo>
                  <a:lnTo>
                    <a:pt x="5302" y="1670"/>
                  </a:lnTo>
                  <a:lnTo>
                    <a:pt x="5302" y="1670"/>
                  </a:lnTo>
                  <a:lnTo>
                    <a:pt x="5306" y="1670"/>
                  </a:lnTo>
                  <a:lnTo>
                    <a:pt x="5307" y="1672"/>
                  </a:lnTo>
                  <a:lnTo>
                    <a:pt x="5309" y="1675"/>
                  </a:lnTo>
                  <a:lnTo>
                    <a:pt x="5309" y="1677"/>
                  </a:lnTo>
                  <a:lnTo>
                    <a:pt x="5309" y="1681"/>
                  </a:lnTo>
                  <a:lnTo>
                    <a:pt x="5307" y="1682"/>
                  </a:lnTo>
                  <a:lnTo>
                    <a:pt x="5304" y="1684"/>
                  </a:lnTo>
                  <a:lnTo>
                    <a:pt x="5302" y="1684"/>
                  </a:lnTo>
                  <a:lnTo>
                    <a:pt x="5302" y="1684"/>
                  </a:lnTo>
                  <a:close/>
                  <a:moveTo>
                    <a:pt x="5272" y="1682"/>
                  </a:moveTo>
                  <a:lnTo>
                    <a:pt x="5272" y="1682"/>
                  </a:lnTo>
                  <a:lnTo>
                    <a:pt x="5269" y="1681"/>
                  </a:lnTo>
                  <a:lnTo>
                    <a:pt x="5267" y="1679"/>
                  </a:lnTo>
                  <a:lnTo>
                    <a:pt x="5265" y="1677"/>
                  </a:lnTo>
                  <a:lnTo>
                    <a:pt x="5265" y="1674"/>
                  </a:lnTo>
                  <a:lnTo>
                    <a:pt x="5267" y="1672"/>
                  </a:lnTo>
                  <a:lnTo>
                    <a:pt x="5269" y="1668"/>
                  </a:lnTo>
                  <a:lnTo>
                    <a:pt x="5271" y="1668"/>
                  </a:lnTo>
                  <a:lnTo>
                    <a:pt x="5274" y="1668"/>
                  </a:lnTo>
                  <a:lnTo>
                    <a:pt x="5274" y="1668"/>
                  </a:lnTo>
                  <a:lnTo>
                    <a:pt x="5276" y="1668"/>
                  </a:lnTo>
                  <a:lnTo>
                    <a:pt x="5279" y="1670"/>
                  </a:lnTo>
                  <a:lnTo>
                    <a:pt x="5279" y="1672"/>
                  </a:lnTo>
                  <a:lnTo>
                    <a:pt x="5281" y="1675"/>
                  </a:lnTo>
                  <a:lnTo>
                    <a:pt x="5279" y="1679"/>
                  </a:lnTo>
                  <a:lnTo>
                    <a:pt x="5278" y="1681"/>
                  </a:lnTo>
                  <a:lnTo>
                    <a:pt x="5276" y="1682"/>
                  </a:lnTo>
                  <a:lnTo>
                    <a:pt x="5272" y="1682"/>
                  </a:lnTo>
                  <a:lnTo>
                    <a:pt x="5272" y="1682"/>
                  </a:lnTo>
                  <a:close/>
                  <a:moveTo>
                    <a:pt x="5244" y="1681"/>
                  </a:moveTo>
                  <a:lnTo>
                    <a:pt x="5244" y="1681"/>
                  </a:lnTo>
                  <a:lnTo>
                    <a:pt x="5241" y="1679"/>
                  </a:lnTo>
                  <a:lnTo>
                    <a:pt x="5239" y="1677"/>
                  </a:lnTo>
                  <a:lnTo>
                    <a:pt x="5237" y="1675"/>
                  </a:lnTo>
                  <a:lnTo>
                    <a:pt x="5237" y="1672"/>
                  </a:lnTo>
                  <a:lnTo>
                    <a:pt x="5237" y="1670"/>
                  </a:lnTo>
                  <a:lnTo>
                    <a:pt x="5239" y="1667"/>
                  </a:lnTo>
                  <a:lnTo>
                    <a:pt x="5243" y="1667"/>
                  </a:lnTo>
                  <a:lnTo>
                    <a:pt x="5244" y="1667"/>
                  </a:lnTo>
                  <a:lnTo>
                    <a:pt x="5244" y="1667"/>
                  </a:lnTo>
                  <a:lnTo>
                    <a:pt x="5248" y="1667"/>
                  </a:lnTo>
                  <a:lnTo>
                    <a:pt x="5250" y="1668"/>
                  </a:lnTo>
                  <a:lnTo>
                    <a:pt x="5251" y="1670"/>
                  </a:lnTo>
                  <a:lnTo>
                    <a:pt x="5251" y="1674"/>
                  </a:lnTo>
                  <a:lnTo>
                    <a:pt x="5251" y="1677"/>
                  </a:lnTo>
                  <a:lnTo>
                    <a:pt x="5250" y="1679"/>
                  </a:lnTo>
                  <a:lnTo>
                    <a:pt x="5246" y="1681"/>
                  </a:lnTo>
                  <a:lnTo>
                    <a:pt x="5244" y="1681"/>
                  </a:lnTo>
                  <a:lnTo>
                    <a:pt x="5244" y="1681"/>
                  </a:lnTo>
                  <a:close/>
                  <a:moveTo>
                    <a:pt x="5218" y="1684"/>
                  </a:moveTo>
                  <a:lnTo>
                    <a:pt x="5218" y="1684"/>
                  </a:lnTo>
                  <a:lnTo>
                    <a:pt x="5215" y="1684"/>
                  </a:lnTo>
                  <a:lnTo>
                    <a:pt x="5213" y="1682"/>
                  </a:lnTo>
                  <a:lnTo>
                    <a:pt x="5211" y="1681"/>
                  </a:lnTo>
                  <a:lnTo>
                    <a:pt x="5209" y="1679"/>
                  </a:lnTo>
                  <a:lnTo>
                    <a:pt x="5209" y="1675"/>
                  </a:lnTo>
                  <a:lnTo>
                    <a:pt x="5209" y="1674"/>
                  </a:lnTo>
                  <a:lnTo>
                    <a:pt x="5211" y="1670"/>
                  </a:lnTo>
                  <a:lnTo>
                    <a:pt x="5215" y="1670"/>
                  </a:lnTo>
                  <a:lnTo>
                    <a:pt x="5215" y="1670"/>
                  </a:lnTo>
                  <a:lnTo>
                    <a:pt x="5216" y="1670"/>
                  </a:lnTo>
                  <a:lnTo>
                    <a:pt x="5220" y="1670"/>
                  </a:lnTo>
                  <a:lnTo>
                    <a:pt x="5222" y="1672"/>
                  </a:lnTo>
                  <a:lnTo>
                    <a:pt x="5223" y="1675"/>
                  </a:lnTo>
                  <a:lnTo>
                    <a:pt x="5223" y="1677"/>
                  </a:lnTo>
                  <a:lnTo>
                    <a:pt x="5223" y="1681"/>
                  </a:lnTo>
                  <a:lnTo>
                    <a:pt x="5222" y="1682"/>
                  </a:lnTo>
                  <a:lnTo>
                    <a:pt x="5218" y="1684"/>
                  </a:lnTo>
                  <a:lnTo>
                    <a:pt x="5218" y="1684"/>
                  </a:lnTo>
                  <a:close/>
                  <a:moveTo>
                    <a:pt x="5190" y="1693"/>
                  </a:moveTo>
                  <a:lnTo>
                    <a:pt x="5190" y="1693"/>
                  </a:lnTo>
                  <a:lnTo>
                    <a:pt x="5188" y="1693"/>
                  </a:lnTo>
                  <a:lnTo>
                    <a:pt x="5185" y="1691"/>
                  </a:lnTo>
                  <a:lnTo>
                    <a:pt x="5183" y="1689"/>
                  </a:lnTo>
                  <a:lnTo>
                    <a:pt x="5181" y="1688"/>
                  </a:lnTo>
                  <a:lnTo>
                    <a:pt x="5181" y="1684"/>
                  </a:lnTo>
                  <a:lnTo>
                    <a:pt x="5181" y="1682"/>
                  </a:lnTo>
                  <a:lnTo>
                    <a:pt x="5183" y="1679"/>
                  </a:lnTo>
                  <a:lnTo>
                    <a:pt x="5187" y="1679"/>
                  </a:lnTo>
                  <a:lnTo>
                    <a:pt x="5187" y="1679"/>
                  </a:lnTo>
                  <a:lnTo>
                    <a:pt x="5188" y="1677"/>
                  </a:lnTo>
                  <a:lnTo>
                    <a:pt x="5192" y="1679"/>
                  </a:lnTo>
                  <a:lnTo>
                    <a:pt x="5194" y="1681"/>
                  </a:lnTo>
                  <a:lnTo>
                    <a:pt x="5195" y="1684"/>
                  </a:lnTo>
                  <a:lnTo>
                    <a:pt x="5195" y="1686"/>
                  </a:lnTo>
                  <a:lnTo>
                    <a:pt x="5195" y="1689"/>
                  </a:lnTo>
                  <a:lnTo>
                    <a:pt x="5194" y="1691"/>
                  </a:lnTo>
                  <a:lnTo>
                    <a:pt x="5190" y="1693"/>
                  </a:lnTo>
                  <a:lnTo>
                    <a:pt x="5190" y="1693"/>
                  </a:lnTo>
                  <a:close/>
                  <a:moveTo>
                    <a:pt x="5164" y="1702"/>
                  </a:moveTo>
                  <a:lnTo>
                    <a:pt x="5164" y="1702"/>
                  </a:lnTo>
                  <a:lnTo>
                    <a:pt x="5160" y="1702"/>
                  </a:lnTo>
                  <a:lnTo>
                    <a:pt x="5157" y="1700"/>
                  </a:lnTo>
                  <a:lnTo>
                    <a:pt x="5155" y="1698"/>
                  </a:lnTo>
                  <a:lnTo>
                    <a:pt x="5153" y="1696"/>
                  </a:lnTo>
                  <a:lnTo>
                    <a:pt x="5153" y="1693"/>
                  </a:lnTo>
                  <a:lnTo>
                    <a:pt x="5155" y="1691"/>
                  </a:lnTo>
                  <a:lnTo>
                    <a:pt x="5157" y="1688"/>
                  </a:lnTo>
                  <a:lnTo>
                    <a:pt x="5159" y="1688"/>
                  </a:lnTo>
                  <a:lnTo>
                    <a:pt x="5159" y="1688"/>
                  </a:lnTo>
                  <a:lnTo>
                    <a:pt x="5162" y="1686"/>
                  </a:lnTo>
                  <a:lnTo>
                    <a:pt x="5164" y="1688"/>
                  </a:lnTo>
                  <a:lnTo>
                    <a:pt x="5166" y="1689"/>
                  </a:lnTo>
                  <a:lnTo>
                    <a:pt x="5167" y="1693"/>
                  </a:lnTo>
                  <a:lnTo>
                    <a:pt x="5167" y="1695"/>
                  </a:lnTo>
                  <a:lnTo>
                    <a:pt x="5167" y="1698"/>
                  </a:lnTo>
                  <a:lnTo>
                    <a:pt x="5166" y="1700"/>
                  </a:lnTo>
                  <a:lnTo>
                    <a:pt x="5164" y="1702"/>
                  </a:lnTo>
                  <a:lnTo>
                    <a:pt x="5164" y="1702"/>
                  </a:lnTo>
                  <a:close/>
                  <a:moveTo>
                    <a:pt x="5136" y="1710"/>
                  </a:moveTo>
                  <a:lnTo>
                    <a:pt x="5136" y="1710"/>
                  </a:lnTo>
                  <a:lnTo>
                    <a:pt x="5132" y="1710"/>
                  </a:lnTo>
                  <a:lnTo>
                    <a:pt x="5129" y="1709"/>
                  </a:lnTo>
                  <a:lnTo>
                    <a:pt x="5127" y="1707"/>
                  </a:lnTo>
                  <a:lnTo>
                    <a:pt x="5127" y="1705"/>
                  </a:lnTo>
                  <a:lnTo>
                    <a:pt x="5125" y="1702"/>
                  </a:lnTo>
                  <a:lnTo>
                    <a:pt x="5127" y="1700"/>
                  </a:lnTo>
                  <a:lnTo>
                    <a:pt x="5129" y="1696"/>
                  </a:lnTo>
                  <a:lnTo>
                    <a:pt x="5131" y="1696"/>
                  </a:lnTo>
                  <a:lnTo>
                    <a:pt x="5131" y="1696"/>
                  </a:lnTo>
                  <a:lnTo>
                    <a:pt x="5134" y="1695"/>
                  </a:lnTo>
                  <a:lnTo>
                    <a:pt x="5136" y="1696"/>
                  </a:lnTo>
                  <a:lnTo>
                    <a:pt x="5139" y="1698"/>
                  </a:lnTo>
                  <a:lnTo>
                    <a:pt x="5141" y="1700"/>
                  </a:lnTo>
                  <a:lnTo>
                    <a:pt x="5141" y="1703"/>
                  </a:lnTo>
                  <a:lnTo>
                    <a:pt x="5139" y="1705"/>
                  </a:lnTo>
                  <a:lnTo>
                    <a:pt x="5138" y="1709"/>
                  </a:lnTo>
                  <a:lnTo>
                    <a:pt x="5136" y="1710"/>
                  </a:lnTo>
                  <a:lnTo>
                    <a:pt x="5136" y="1710"/>
                  </a:lnTo>
                  <a:close/>
                  <a:moveTo>
                    <a:pt x="5108" y="1719"/>
                  </a:moveTo>
                  <a:lnTo>
                    <a:pt x="5108" y="1719"/>
                  </a:lnTo>
                  <a:lnTo>
                    <a:pt x="5104" y="1719"/>
                  </a:lnTo>
                  <a:lnTo>
                    <a:pt x="5103" y="1717"/>
                  </a:lnTo>
                  <a:lnTo>
                    <a:pt x="5099" y="1716"/>
                  </a:lnTo>
                  <a:lnTo>
                    <a:pt x="5099" y="1714"/>
                  </a:lnTo>
                  <a:lnTo>
                    <a:pt x="5099" y="1710"/>
                  </a:lnTo>
                  <a:lnTo>
                    <a:pt x="5099" y="1709"/>
                  </a:lnTo>
                  <a:lnTo>
                    <a:pt x="5101" y="1705"/>
                  </a:lnTo>
                  <a:lnTo>
                    <a:pt x="5104" y="1705"/>
                  </a:lnTo>
                  <a:lnTo>
                    <a:pt x="5104" y="1705"/>
                  </a:lnTo>
                  <a:lnTo>
                    <a:pt x="5106" y="1703"/>
                  </a:lnTo>
                  <a:lnTo>
                    <a:pt x="5110" y="1705"/>
                  </a:lnTo>
                  <a:lnTo>
                    <a:pt x="5111" y="1707"/>
                  </a:lnTo>
                  <a:lnTo>
                    <a:pt x="5113" y="1709"/>
                  </a:lnTo>
                  <a:lnTo>
                    <a:pt x="5113" y="1712"/>
                  </a:lnTo>
                  <a:lnTo>
                    <a:pt x="5111" y="1714"/>
                  </a:lnTo>
                  <a:lnTo>
                    <a:pt x="5110" y="1717"/>
                  </a:lnTo>
                  <a:lnTo>
                    <a:pt x="5108" y="1719"/>
                  </a:lnTo>
                  <a:lnTo>
                    <a:pt x="5108" y="1719"/>
                  </a:lnTo>
                  <a:close/>
                  <a:moveTo>
                    <a:pt x="5078" y="1726"/>
                  </a:moveTo>
                  <a:lnTo>
                    <a:pt x="5078" y="1726"/>
                  </a:lnTo>
                  <a:lnTo>
                    <a:pt x="5075" y="1724"/>
                  </a:lnTo>
                  <a:lnTo>
                    <a:pt x="5073" y="1723"/>
                  </a:lnTo>
                  <a:lnTo>
                    <a:pt x="5071" y="1721"/>
                  </a:lnTo>
                  <a:lnTo>
                    <a:pt x="5071" y="1717"/>
                  </a:lnTo>
                  <a:lnTo>
                    <a:pt x="5071" y="1716"/>
                  </a:lnTo>
                  <a:lnTo>
                    <a:pt x="5073" y="1712"/>
                  </a:lnTo>
                  <a:lnTo>
                    <a:pt x="5076" y="1712"/>
                  </a:lnTo>
                  <a:lnTo>
                    <a:pt x="5078" y="1712"/>
                  </a:lnTo>
                  <a:lnTo>
                    <a:pt x="5078" y="1712"/>
                  </a:lnTo>
                  <a:lnTo>
                    <a:pt x="5082" y="1712"/>
                  </a:lnTo>
                  <a:lnTo>
                    <a:pt x="5083" y="1714"/>
                  </a:lnTo>
                  <a:lnTo>
                    <a:pt x="5085" y="1716"/>
                  </a:lnTo>
                  <a:lnTo>
                    <a:pt x="5085" y="1719"/>
                  </a:lnTo>
                  <a:lnTo>
                    <a:pt x="5085" y="1723"/>
                  </a:lnTo>
                  <a:lnTo>
                    <a:pt x="5083" y="1724"/>
                  </a:lnTo>
                  <a:lnTo>
                    <a:pt x="5080" y="1726"/>
                  </a:lnTo>
                  <a:lnTo>
                    <a:pt x="5078" y="1726"/>
                  </a:lnTo>
                  <a:lnTo>
                    <a:pt x="5078" y="1726"/>
                  </a:lnTo>
                  <a:close/>
                  <a:moveTo>
                    <a:pt x="5048" y="1724"/>
                  </a:moveTo>
                  <a:lnTo>
                    <a:pt x="5048" y="1724"/>
                  </a:lnTo>
                  <a:lnTo>
                    <a:pt x="5045" y="1723"/>
                  </a:lnTo>
                  <a:lnTo>
                    <a:pt x="5043" y="1721"/>
                  </a:lnTo>
                  <a:lnTo>
                    <a:pt x="5041" y="1719"/>
                  </a:lnTo>
                  <a:lnTo>
                    <a:pt x="5041" y="1716"/>
                  </a:lnTo>
                  <a:lnTo>
                    <a:pt x="5043" y="1712"/>
                  </a:lnTo>
                  <a:lnTo>
                    <a:pt x="5045" y="1710"/>
                  </a:lnTo>
                  <a:lnTo>
                    <a:pt x="5047" y="1710"/>
                  </a:lnTo>
                  <a:lnTo>
                    <a:pt x="5050" y="1709"/>
                  </a:lnTo>
                  <a:lnTo>
                    <a:pt x="5050" y="1709"/>
                  </a:lnTo>
                  <a:lnTo>
                    <a:pt x="5052" y="1710"/>
                  </a:lnTo>
                  <a:lnTo>
                    <a:pt x="5054" y="1712"/>
                  </a:lnTo>
                  <a:lnTo>
                    <a:pt x="5055" y="1714"/>
                  </a:lnTo>
                  <a:lnTo>
                    <a:pt x="5057" y="1717"/>
                  </a:lnTo>
                  <a:lnTo>
                    <a:pt x="5055" y="1719"/>
                  </a:lnTo>
                  <a:lnTo>
                    <a:pt x="5054" y="1723"/>
                  </a:lnTo>
                  <a:lnTo>
                    <a:pt x="5052" y="1723"/>
                  </a:lnTo>
                  <a:lnTo>
                    <a:pt x="5048" y="1724"/>
                  </a:lnTo>
                  <a:lnTo>
                    <a:pt x="5048" y="1724"/>
                  </a:lnTo>
                  <a:close/>
                  <a:moveTo>
                    <a:pt x="5020" y="1721"/>
                  </a:moveTo>
                  <a:lnTo>
                    <a:pt x="5020" y="1721"/>
                  </a:lnTo>
                  <a:lnTo>
                    <a:pt x="5017" y="1721"/>
                  </a:lnTo>
                  <a:lnTo>
                    <a:pt x="5015" y="1719"/>
                  </a:lnTo>
                  <a:lnTo>
                    <a:pt x="5013" y="1717"/>
                  </a:lnTo>
                  <a:lnTo>
                    <a:pt x="5013" y="1714"/>
                  </a:lnTo>
                  <a:lnTo>
                    <a:pt x="5013" y="1710"/>
                  </a:lnTo>
                  <a:lnTo>
                    <a:pt x="5015" y="1709"/>
                  </a:lnTo>
                  <a:lnTo>
                    <a:pt x="5019" y="1707"/>
                  </a:lnTo>
                  <a:lnTo>
                    <a:pt x="5020" y="1707"/>
                  </a:lnTo>
                  <a:lnTo>
                    <a:pt x="5020" y="1707"/>
                  </a:lnTo>
                  <a:lnTo>
                    <a:pt x="5024" y="1709"/>
                  </a:lnTo>
                  <a:lnTo>
                    <a:pt x="5026" y="1710"/>
                  </a:lnTo>
                  <a:lnTo>
                    <a:pt x="5027" y="1712"/>
                  </a:lnTo>
                  <a:lnTo>
                    <a:pt x="5027" y="1716"/>
                  </a:lnTo>
                  <a:lnTo>
                    <a:pt x="5027" y="1717"/>
                  </a:lnTo>
                  <a:lnTo>
                    <a:pt x="5026" y="1719"/>
                  </a:lnTo>
                  <a:lnTo>
                    <a:pt x="5022" y="1721"/>
                  </a:lnTo>
                  <a:lnTo>
                    <a:pt x="5020" y="1721"/>
                  </a:lnTo>
                  <a:lnTo>
                    <a:pt x="5020" y="1721"/>
                  </a:lnTo>
                  <a:close/>
                  <a:moveTo>
                    <a:pt x="4991" y="1719"/>
                  </a:moveTo>
                  <a:lnTo>
                    <a:pt x="4991" y="1719"/>
                  </a:lnTo>
                  <a:lnTo>
                    <a:pt x="4987" y="1719"/>
                  </a:lnTo>
                  <a:lnTo>
                    <a:pt x="4985" y="1717"/>
                  </a:lnTo>
                  <a:lnTo>
                    <a:pt x="4984" y="1714"/>
                  </a:lnTo>
                  <a:lnTo>
                    <a:pt x="4984" y="1712"/>
                  </a:lnTo>
                  <a:lnTo>
                    <a:pt x="4985" y="1709"/>
                  </a:lnTo>
                  <a:lnTo>
                    <a:pt x="4987" y="1707"/>
                  </a:lnTo>
                  <a:lnTo>
                    <a:pt x="4989" y="1705"/>
                  </a:lnTo>
                  <a:lnTo>
                    <a:pt x="4992" y="1705"/>
                  </a:lnTo>
                  <a:lnTo>
                    <a:pt x="4992" y="1705"/>
                  </a:lnTo>
                  <a:lnTo>
                    <a:pt x="4994" y="1705"/>
                  </a:lnTo>
                  <a:lnTo>
                    <a:pt x="4996" y="1707"/>
                  </a:lnTo>
                  <a:lnTo>
                    <a:pt x="4998" y="1710"/>
                  </a:lnTo>
                  <a:lnTo>
                    <a:pt x="4999" y="1712"/>
                  </a:lnTo>
                  <a:lnTo>
                    <a:pt x="4998" y="1716"/>
                  </a:lnTo>
                  <a:lnTo>
                    <a:pt x="4996" y="1717"/>
                  </a:lnTo>
                  <a:lnTo>
                    <a:pt x="4994" y="1719"/>
                  </a:lnTo>
                  <a:lnTo>
                    <a:pt x="4991" y="1719"/>
                  </a:lnTo>
                  <a:lnTo>
                    <a:pt x="4991" y="1719"/>
                  </a:lnTo>
                  <a:close/>
                  <a:moveTo>
                    <a:pt x="4963" y="1717"/>
                  </a:moveTo>
                  <a:lnTo>
                    <a:pt x="4963" y="1717"/>
                  </a:lnTo>
                  <a:lnTo>
                    <a:pt x="4959" y="1717"/>
                  </a:lnTo>
                  <a:lnTo>
                    <a:pt x="4957" y="1716"/>
                  </a:lnTo>
                  <a:lnTo>
                    <a:pt x="4956" y="1712"/>
                  </a:lnTo>
                  <a:lnTo>
                    <a:pt x="4956" y="1710"/>
                  </a:lnTo>
                  <a:lnTo>
                    <a:pt x="4956" y="1707"/>
                  </a:lnTo>
                  <a:lnTo>
                    <a:pt x="4957" y="1705"/>
                  </a:lnTo>
                  <a:lnTo>
                    <a:pt x="4961" y="1703"/>
                  </a:lnTo>
                  <a:lnTo>
                    <a:pt x="4963" y="1703"/>
                  </a:lnTo>
                  <a:lnTo>
                    <a:pt x="4963" y="1703"/>
                  </a:lnTo>
                  <a:lnTo>
                    <a:pt x="4966" y="1703"/>
                  </a:lnTo>
                  <a:lnTo>
                    <a:pt x="4968" y="1705"/>
                  </a:lnTo>
                  <a:lnTo>
                    <a:pt x="4970" y="1709"/>
                  </a:lnTo>
                  <a:lnTo>
                    <a:pt x="4970" y="1710"/>
                  </a:lnTo>
                  <a:lnTo>
                    <a:pt x="4970" y="1714"/>
                  </a:lnTo>
                  <a:lnTo>
                    <a:pt x="4968" y="1716"/>
                  </a:lnTo>
                  <a:lnTo>
                    <a:pt x="4964" y="1717"/>
                  </a:lnTo>
                  <a:lnTo>
                    <a:pt x="4963" y="1717"/>
                  </a:lnTo>
                  <a:lnTo>
                    <a:pt x="4963" y="1717"/>
                  </a:lnTo>
                  <a:close/>
                  <a:moveTo>
                    <a:pt x="4933" y="1716"/>
                  </a:moveTo>
                  <a:lnTo>
                    <a:pt x="4933" y="1716"/>
                  </a:lnTo>
                  <a:lnTo>
                    <a:pt x="4929" y="1714"/>
                  </a:lnTo>
                  <a:lnTo>
                    <a:pt x="4928" y="1712"/>
                  </a:lnTo>
                  <a:lnTo>
                    <a:pt x="4926" y="1710"/>
                  </a:lnTo>
                  <a:lnTo>
                    <a:pt x="4926" y="1707"/>
                  </a:lnTo>
                  <a:lnTo>
                    <a:pt x="4928" y="1705"/>
                  </a:lnTo>
                  <a:lnTo>
                    <a:pt x="4929" y="1702"/>
                  </a:lnTo>
                  <a:lnTo>
                    <a:pt x="4931" y="1702"/>
                  </a:lnTo>
                  <a:lnTo>
                    <a:pt x="4935" y="1702"/>
                  </a:lnTo>
                  <a:lnTo>
                    <a:pt x="4935" y="1702"/>
                  </a:lnTo>
                  <a:lnTo>
                    <a:pt x="4936" y="1702"/>
                  </a:lnTo>
                  <a:lnTo>
                    <a:pt x="4940" y="1703"/>
                  </a:lnTo>
                  <a:lnTo>
                    <a:pt x="4940" y="1705"/>
                  </a:lnTo>
                  <a:lnTo>
                    <a:pt x="4942" y="1709"/>
                  </a:lnTo>
                  <a:lnTo>
                    <a:pt x="4940" y="1712"/>
                  </a:lnTo>
                  <a:lnTo>
                    <a:pt x="4938" y="1714"/>
                  </a:lnTo>
                  <a:lnTo>
                    <a:pt x="4936" y="1716"/>
                  </a:lnTo>
                  <a:lnTo>
                    <a:pt x="4933" y="1716"/>
                  </a:lnTo>
                  <a:lnTo>
                    <a:pt x="4933" y="1716"/>
                  </a:lnTo>
                  <a:close/>
                  <a:moveTo>
                    <a:pt x="4903" y="1710"/>
                  </a:moveTo>
                  <a:lnTo>
                    <a:pt x="4903" y="1710"/>
                  </a:lnTo>
                  <a:lnTo>
                    <a:pt x="4901" y="1710"/>
                  </a:lnTo>
                  <a:lnTo>
                    <a:pt x="4898" y="1707"/>
                  </a:lnTo>
                  <a:lnTo>
                    <a:pt x="4898" y="1705"/>
                  </a:lnTo>
                  <a:lnTo>
                    <a:pt x="4898" y="1702"/>
                  </a:lnTo>
                  <a:lnTo>
                    <a:pt x="4900" y="1700"/>
                  </a:lnTo>
                  <a:lnTo>
                    <a:pt x="4901" y="1698"/>
                  </a:lnTo>
                  <a:lnTo>
                    <a:pt x="4903" y="1696"/>
                  </a:lnTo>
                  <a:lnTo>
                    <a:pt x="4907" y="1696"/>
                  </a:lnTo>
                  <a:lnTo>
                    <a:pt x="4907" y="1696"/>
                  </a:lnTo>
                  <a:lnTo>
                    <a:pt x="4910" y="1698"/>
                  </a:lnTo>
                  <a:lnTo>
                    <a:pt x="4912" y="1700"/>
                  </a:lnTo>
                  <a:lnTo>
                    <a:pt x="4912" y="1703"/>
                  </a:lnTo>
                  <a:lnTo>
                    <a:pt x="4912" y="1705"/>
                  </a:lnTo>
                  <a:lnTo>
                    <a:pt x="4910" y="1709"/>
                  </a:lnTo>
                  <a:lnTo>
                    <a:pt x="4908" y="1710"/>
                  </a:lnTo>
                  <a:lnTo>
                    <a:pt x="4907" y="1710"/>
                  </a:lnTo>
                  <a:lnTo>
                    <a:pt x="4903" y="1710"/>
                  </a:lnTo>
                  <a:lnTo>
                    <a:pt x="4903" y="1710"/>
                  </a:lnTo>
                  <a:close/>
                  <a:moveTo>
                    <a:pt x="4875" y="1703"/>
                  </a:moveTo>
                  <a:lnTo>
                    <a:pt x="4875" y="1703"/>
                  </a:lnTo>
                  <a:lnTo>
                    <a:pt x="4872" y="1703"/>
                  </a:lnTo>
                  <a:lnTo>
                    <a:pt x="4870" y="1700"/>
                  </a:lnTo>
                  <a:lnTo>
                    <a:pt x="4870" y="1698"/>
                  </a:lnTo>
                  <a:lnTo>
                    <a:pt x="4870" y="1695"/>
                  </a:lnTo>
                  <a:lnTo>
                    <a:pt x="4872" y="1693"/>
                  </a:lnTo>
                  <a:lnTo>
                    <a:pt x="4873" y="1691"/>
                  </a:lnTo>
                  <a:lnTo>
                    <a:pt x="4875" y="1689"/>
                  </a:lnTo>
                  <a:lnTo>
                    <a:pt x="4879" y="1689"/>
                  </a:lnTo>
                  <a:lnTo>
                    <a:pt x="4879" y="1689"/>
                  </a:lnTo>
                  <a:lnTo>
                    <a:pt x="4880" y="1691"/>
                  </a:lnTo>
                  <a:lnTo>
                    <a:pt x="4882" y="1693"/>
                  </a:lnTo>
                  <a:lnTo>
                    <a:pt x="4884" y="1696"/>
                  </a:lnTo>
                  <a:lnTo>
                    <a:pt x="4884" y="1698"/>
                  </a:lnTo>
                  <a:lnTo>
                    <a:pt x="4882" y="1702"/>
                  </a:lnTo>
                  <a:lnTo>
                    <a:pt x="4880" y="1703"/>
                  </a:lnTo>
                  <a:lnTo>
                    <a:pt x="4879" y="1703"/>
                  </a:lnTo>
                  <a:lnTo>
                    <a:pt x="4875" y="1703"/>
                  </a:lnTo>
                  <a:lnTo>
                    <a:pt x="4875" y="1703"/>
                  </a:lnTo>
                  <a:close/>
                  <a:moveTo>
                    <a:pt x="4847" y="1698"/>
                  </a:moveTo>
                  <a:lnTo>
                    <a:pt x="4847" y="1698"/>
                  </a:lnTo>
                  <a:lnTo>
                    <a:pt x="4844" y="1696"/>
                  </a:lnTo>
                  <a:lnTo>
                    <a:pt x="4842" y="1693"/>
                  </a:lnTo>
                  <a:lnTo>
                    <a:pt x="4842" y="1691"/>
                  </a:lnTo>
                  <a:lnTo>
                    <a:pt x="4842" y="1689"/>
                  </a:lnTo>
                  <a:lnTo>
                    <a:pt x="4842" y="1686"/>
                  </a:lnTo>
                  <a:lnTo>
                    <a:pt x="4845" y="1684"/>
                  </a:lnTo>
                  <a:lnTo>
                    <a:pt x="4847" y="1682"/>
                  </a:lnTo>
                  <a:lnTo>
                    <a:pt x="4851" y="1682"/>
                  </a:lnTo>
                  <a:lnTo>
                    <a:pt x="4851" y="1682"/>
                  </a:lnTo>
                  <a:lnTo>
                    <a:pt x="4852" y="1684"/>
                  </a:lnTo>
                  <a:lnTo>
                    <a:pt x="4854" y="1686"/>
                  </a:lnTo>
                  <a:lnTo>
                    <a:pt x="4856" y="1689"/>
                  </a:lnTo>
                  <a:lnTo>
                    <a:pt x="4856" y="1691"/>
                  </a:lnTo>
                  <a:lnTo>
                    <a:pt x="4854" y="1695"/>
                  </a:lnTo>
                  <a:lnTo>
                    <a:pt x="4852" y="1696"/>
                  </a:lnTo>
                  <a:lnTo>
                    <a:pt x="4849" y="1698"/>
                  </a:lnTo>
                  <a:lnTo>
                    <a:pt x="4847" y="1698"/>
                  </a:lnTo>
                  <a:lnTo>
                    <a:pt x="4847" y="1698"/>
                  </a:lnTo>
                  <a:close/>
                  <a:moveTo>
                    <a:pt x="4819" y="1691"/>
                  </a:moveTo>
                  <a:lnTo>
                    <a:pt x="4819" y="1691"/>
                  </a:lnTo>
                  <a:lnTo>
                    <a:pt x="4816" y="1689"/>
                  </a:lnTo>
                  <a:lnTo>
                    <a:pt x="4814" y="1688"/>
                  </a:lnTo>
                  <a:lnTo>
                    <a:pt x="4814" y="1684"/>
                  </a:lnTo>
                  <a:lnTo>
                    <a:pt x="4814" y="1682"/>
                  </a:lnTo>
                  <a:lnTo>
                    <a:pt x="4814" y="1679"/>
                  </a:lnTo>
                  <a:lnTo>
                    <a:pt x="4817" y="1677"/>
                  </a:lnTo>
                  <a:lnTo>
                    <a:pt x="4819" y="1675"/>
                  </a:lnTo>
                  <a:lnTo>
                    <a:pt x="4823" y="1677"/>
                  </a:lnTo>
                  <a:lnTo>
                    <a:pt x="4823" y="1677"/>
                  </a:lnTo>
                  <a:lnTo>
                    <a:pt x="4824" y="1677"/>
                  </a:lnTo>
                  <a:lnTo>
                    <a:pt x="4826" y="1679"/>
                  </a:lnTo>
                  <a:lnTo>
                    <a:pt x="4828" y="1682"/>
                  </a:lnTo>
                  <a:lnTo>
                    <a:pt x="4828" y="1686"/>
                  </a:lnTo>
                  <a:lnTo>
                    <a:pt x="4826" y="1688"/>
                  </a:lnTo>
                  <a:lnTo>
                    <a:pt x="4824" y="1689"/>
                  </a:lnTo>
                  <a:lnTo>
                    <a:pt x="4821" y="1691"/>
                  </a:lnTo>
                  <a:lnTo>
                    <a:pt x="4819" y="1691"/>
                  </a:lnTo>
                  <a:lnTo>
                    <a:pt x="4819" y="1691"/>
                  </a:lnTo>
                  <a:close/>
                  <a:moveTo>
                    <a:pt x="4791" y="1684"/>
                  </a:moveTo>
                  <a:lnTo>
                    <a:pt x="4791" y="1684"/>
                  </a:lnTo>
                  <a:lnTo>
                    <a:pt x="4788" y="1682"/>
                  </a:lnTo>
                  <a:lnTo>
                    <a:pt x="4786" y="1681"/>
                  </a:lnTo>
                  <a:lnTo>
                    <a:pt x="4786" y="1677"/>
                  </a:lnTo>
                  <a:lnTo>
                    <a:pt x="4786" y="1675"/>
                  </a:lnTo>
                  <a:lnTo>
                    <a:pt x="4786" y="1672"/>
                  </a:lnTo>
                  <a:lnTo>
                    <a:pt x="4789" y="1670"/>
                  </a:lnTo>
                  <a:lnTo>
                    <a:pt x="4791" y="1668"/>
                  </a:lnTo>
                  <a:lnTo>
                    <a:pt x="4795" y="1670"/>
                  </a:lnTo>
                  <a:lnTo>
                    <a:pt x="4795" y="1670"/>
                  </a:lnTo>
                  <a:lnTo>
                    <a:pt x="4796" y="1670"/>
                  </a:lnTo>
                  <a:lnTo>
                    <a:pt x="4798" y="1672"/>
                  </a:lnTo>
                  <a:lnTo>
                    <a:pt x="4800" y="1675"/>
                  </a:lnTo>
                  <a:lnTo>
                    <a:pt x="4800" y="1679"/>
                  </a:lnTo>
                  <a:lnTo>
                    <a:pt x="4798" y="1681"/>
                  </a:lnTo>
                  <a:lnTo>
                    <a:pt x="4796" y="1682"/>
                  </a:lnTo>
                  <a:lnTo>
                    <a:pt x="4793" y="1684"/>
                  </a:lnTo>
                  <a:lnTo>
                    <a:pt x="4791" y="1684"/>
                  </a:lnTo>
                  <a:lnTo>
                    <a:pt x="4791" y="1684"/>
                  </a:lnTo>
                  <a:close/>
                  <a:moveTo>
                    <a:pt x="4763" y="1677"/>
                  </a:moveTo>
                  <a:lnTo>
                    <a:pt x="4763" y="1677"/>
                  </a:lnTo>
                  <a:lnTo>
                    <a:pt x="4760" y="1675"/>
                  </a:lnTo>
                  <a:lnTo>
                    <a:pt x="4758" y="1674"/>
                  </a:lnTo>
                  <a:lnTo>
                    <a:pt x="4756" y="1670"/>
                  </a:lnTo>
                  <a:lnTo>
                    <a:pt x="4758" y="1668"/>
                  </a:lnTo>
                  <a:lnTo>
                    <a:pt x="4758" y="1665"/>
                  </a:lnTo>
                  <a:lnTo>
                    <a:pt x="4760" y="1663"/>
                  </a:lnTo>
                  <a:lnTo>
                    <a:pt x="4763" y="1663"/>
                  </a:lnTo>
                  <a:lnTo>
                    <a:pt x="4767" y="1663"/>
                  </a:lnTo>
                  <a:lnTo>
                    <a:pt x="4767" y="1663"/>
                  </a:lnTo>
                  <a:lnTo>
                    <a:pt x="4768" y="1663"/>
                  </a:lnTo>
                  <a:lnTo>
                    <a:pt x="4770" y="1667"/>
                  </a:lnTo>
                  <a:lnTo>
                    <a:pt x="4772" y="1668"/>
                  </a:lnTo>
                  <a:lnTo>
                    <a:pt x="4772" y="1672"/>
                  </a:lnTo>
                  <a:lnTo>
                    <a:pt x="4770" y="1674"/>
                  </a:lnTo>
                  <a:lnTo>
                    <a:pt x="4768" y="1675"/>
                  </a:lnTo>
                  <a:lnTo>
                    <a:pt x="4765" y="1677"/>
                  </a:lnTo>
                  <a:lnTo>
                    <a:pt x="4763" y="1677"/>
                  </a:lnTo>
                  <a:lnTo>
                    <a:pt x="4763" y="1677"/>
                  </a:lnTo>
                  <a:close/>
                  <a:moveTo>
                    <a:pt x="4739" y="1656"/>
                  </a:moveTo>
                  <a:lnTo>
                    <a:pt x="4739" y="1656"/>
                  </a:lnTo>
                  <a:lnTo>
                    <a:pt x="4737" y="1653"/>
                  </a:lnTo>
                  <a:lnTo>
                    <a:pt x="4737" y="1649"/>
                  </a:lnTo>
                  <a:lnTo>
                    <a:pt x="4739" y="1647"/>
                  </a:lnTo>
                  <a:lnTo>
                    <a:pt x="4740" y="1646"/>
                  </a:lnTo>
                  <a:lnTo>
                    <a:pt x="4744" y="1644"/>
                  </a:lnTo>
                  <a:lnTo>
                    <a:pt x="4746" y="1644"/>
                  </a:lnTo>
                  <a:lnTo>
                    <a:pt x="4749" y="1646"/>
                  </a:lnTo>
                  <a:lnTo>
                    <a:pt x="4751" y="1647"/>
                  </a:lnTo>
                  <a:lnTo>
                    <a:pt x="4751" y="1647"/>
                  </a:lnTo>
                  <a:lnTo>
                    <a:pt x="4751" y="1651"/>
                  </a:lnTo>
                  <a:lnTo>
                    <a:pt x="4751" y="1654"/>
                  </a:lnTo>
                  <a:lnTo>
                    <a:pt x="4751" y="1656"/>
                  </a:lnTo>
                  <a:lnTo>
                    <a:pt x="4747" y="1658"/>
                  </a:lnTo>
                  <a:lnTo>
                    <a:pt x="4746" y="1660"/>
                  </a:lnTo>
                  <a:lnTo>
                    <a:pt x="4742" y="1658"/>
                  </a:lnTo>
                  <a:lnTo>
                    <a:pt x="4740" y="1658"/>
                  </a:lnTo>
                  <a:lnTo>
                    <a:pt x="4739" y="1656"/>
                  </a:lnTo>
                  <a:lnTo>
                    <a:pt x="4739" y="1656"/>
                  </a:lnTo>
                  <a:close/>
                  <a:moveTo>
                    <a:pt x="4725" y="1630"/>
                  </a:moveTo>
                  <a:lnTo>
                    <a:pt x="4725" y="1630"/>
                  </a:lnTo>
                  <a:lnTo>
                    <a:pt x="4723" y="1628"/>
                  </a:lnTo>
                  <a:lnTo>
                    <a:pt x="4723" y="1625"/>
                  </a:lnTo>
                  <a:lnTo>
                    <a:pt x="4725" y="1623"/>
                  </a:lnTo>
                  <a:lnTo>
                    <a:pt x="4726" y="1621"/>
                  </a:lnTo>
                  <a:lnTo>
                    <a:pt x="4730" y="1619"/>
                  </a:lnTo>
                  <a:lnTo>
                    <a:pt x="4732" y="1619"/>
                  </a:lnTo>
                  <a:lnTo>
                    <a:pt x="4735" y="1621"/>
                  </a:lnTo>
                  <a:lnTo>
                    <a:pt x="4737" y="1623"/>
                  </a:lnTo>
                  <a:lnTo>
                    <a:pt x="4737" y="1623"/>
                  </a:lnTo>
                  <a:lnTo>
                    <a:pt x="4737" y="1626"/>
                  </a:lnTo>
                  <a:lnTo>
                    <a:pt x="4737" y="1628"/>
                  </a:lnTo>
                  <a:lnTo>
                    <a:pt x="4735" y="1632"/>
                  </a:lnTo>
                  <a:lnTo>
                    <a:pt x="4733" y="1633"/>
                  </a:lnTo>
                  <a:lnTo>
                    <a:pt x="4730" y="1633"/>
                  </a:lnTo>
                  <a:lnTo>
                    <a:pt x="4728" y="1633"/>
                  </a:lnTo>
                  <a:lnTo>
                    <a:pt x="4726" y="1632"/>
                  </a:lnTo>
                  <a:lnTo>
                    <a:pt x="4725" y="1630"/>
                  </a:lnTo>
                  <a:lnTo>
                    <a:pt x="4725" y="1630"/>
                  </a:lnTo>
                  <a:close/>
                  <a:moveTo>
                    <a:pt x="4709" y="1605"/>
                  </a:moveTo>
                  <a:lnTo>
                    <a:pt x="4709" y="1605"/>
                  </a:lnTo>
                  <a:lnTo>
                    <a:pt x="4709" y="1602"/>
                  </a:lnTo>
                  <a:lnTo>
                    <a:pt x="4709" y="1600"/>
                  </a:lnTo>
                  <a:lnTo>
                    <a:pt x="4711" y="1597"/>
                  </a:lnTo>
                  <a:lnTo>
                    <a:pt x="4712" y="1595"/>
                  </a:lnTo>
                  <a:lnTo>
                    <a:pt x="4714" y="1595"/>
                  </a:lnTo>
                  <a:lnTo>
                    <a:pt x="4718" y="1595"/>
                  </a:lnTo>
                  <a:lnTo>
                    <a:pt x="4719" y="1597"/>
                  </a:lnTo>
                  <a:lnTo>
                    <a:pt x="4721" y="1598"/>
                  </a:lnTo>
                  <a:lnTo>
                    <a:pt x="4721" y="1598"/>
                  </a:lnTo>
                  <a:lnTo>
                    <a:pt x="4723" y="1600"/>
                  </a:lnTo>
                  <a:lnTo>
                    <a:pt x="4723" y="1604"/>
                  </a:lnTo>
                  <a:lnTo>
                    <a:pt x="4721" y="1605"/>
                  </a:lnTo>
                  <a:lnTo>
                    <a:pt x="4719" y="1607"/>
                  </a:lnTo>
                  <a:lnTo>
                    <a:pt x="4716" y="1609"/>
                  </a:lnTo>
                  <a:lnTo>
                    <a:pt x="4714" y="1609"/>
                  </a:lnTo>
                  <a:lnTo>
                    <a:pt x="4711" y="1607"/>
                  </a:lnTo>
                  <a:lnTo>
                    <a:pt x="4709" y="1605"/>
                  </a:lnTo>
                  <a:lnTo>
                    <a:pt x="4709" y="1605"/>
                  </a:lnTo>
                  <a:close/>
                  <a:moveTo>
                    <a:pt x="4690" y="1595"/>
                  </a:moveTo>
                  <a:lnTo>
                    <a:pt x="4690" y="1595"/>
                  </a:lnTo>
                  <a:lnTo>
                    <a:pt x="4688" y="1593"/>
                  </a:lnTo>
                  <a:lnTo>
                    <a:pt x="4686" y="1591"/>
                  </a:lnTo>
                  <a:lnTo>
                    <a:pt x="4684" y="1588"/>
                  </a:lnTo>
                  <a:lnTo>
                    <a:pt x="4684" y="1586"/>
                  </a:lnTo>
                  <a:lnTo>
                    <a:pt x="4686" y="1583"/>
                  </a:lnTo>
                  <a:lnTo>
                    <a:pt x="4688" y="1581"/>
                  </a:lnTo>
                  <a:lnTo>
                    <a:pt x="4691" y="1581"/>
                  </a:lnTo>
                  <a:lnTo>
                    <a:pt x="4695" y="1581"/>
                  </a:lnTo>
                  <a:lnTo>
                    <a:pt x="4695" y="1581"/>
                  </a:lnTo>
                  <a:lnTo>
                    <a:pt x="4697" y="1583"/>
                  </a:lnTo>
                  <a:lnTo>
                    <a:pt x="4698" y="1584"/>
                  </a:lnTo>
                  <a:lnTo>
                    <a:pt x="4698" y="1588"/>
                  </a:lnTo>
                  <a:lnTo>
                    <a:pt x="4698" y="1590"/>
                  </a:lnTo>
                  <a:lnTo>
                    <a:pt x="4697" y="1593"/>
                  </a:lnTo>
                  <a:lnTo>
                    <a:pt x="4695" y="1595"/>
                  </a:lnTo>
                  <a:lnTo>
                    <a:pt x="4693" y="1595"/>
                  </a:lnTo>
                  <a:lnTo>
                    <a:pt x="4690" y="1595"/>
                  </a:lnTo>
                  <a:lnTo>
                    <a:pt x="4690" y="1595"/>
                  </a:lnTo>
                  <a:close/>
                  <a:moveTo>
                    <a:pt x="4662" y="1586"/>
                  </a:moveTo>
                  <a:lnTo>
                    <a:pt x="4662" y="1586"/>
                  </a:lnTo>
                  <a:lnTo>
                    <a:pt x="4660" y="1584"/>
                  </a:lnTo>
                  <a:lnTo>
                    <a:pt x="4658" y="1583"/>
                  </a:lnTo>
                  <a:lnTo>
                    <a:pt x="4656" y="1579"/>
                  </a:lnTo>
                  <a:lnTo>
                    <a:pt x="4658" y="1577"/>
                  </a:lnTo>
                  <a:lnTo>
                    <a:pt x="4658" y="1574"/>
                  </a:lnTo>
                  <a:lnTo>
                    <a:pt x="4662" y="1572"/>
                  </a:lnTo>
                  <a:lnTo>
                    <a:pt x="4663" y="1572"/>
                  </a:lnTo>
                  <a:lnTo>
                    <a:pt x="4667" y="1572"/>
                  </a:lnTo>
                  <a:lnTo>
                    <a:pt x="4667" y="1572"/>
                  </a:lnTo>
                  <a:lnTo>
                    <a:pt x="4669" y="1574"/>
                  </a:lnTo>
                  <a:lnTo>
                    <a:pt x="4670" y="1576"/>
                  </a:lnTo>
                  <a:lnTo>
                    <a:pt x="4672" y="1577"/>
                  </a:lnTo>
                  <a:lnTo>
                    <a:pt x="4672" y="1581"/>
                  </a:lnTo>
                  <a:lnTo>
                    <a:pt x="4670" y="1584"/>
                  </a:lnTo>
                  <a:lnTo>
                    <a:pt x="4667" y="1586"/>
                  </a:lnTo>
                  <a:lnTo>
                    <a:pt x="4665" y="1586"/>
                  </a:lnTo>
                  <a:lnTo>
                    <a:pt x="4662" y="1586"/>
                  </a:lnTo>
                  <a:lnTo>
                    <a:pt x="4662" y="1586"/>
                  </a:lnTo>
                  <a:close/>
                  <a:moveTo>
                    <a:pt x="4635" y="1577"/>
                  </a:moveTo>
                  <a:lnTo>
                    <a:pt x="4635" y="1577"/>
                  </a:lnTo>
                  <a:lnTo>
                    <a:pt x="4632" y="1576"/>
                  </a:lnTo>
                  <a:lnTo>
                    <a:pt x="4630" y="1574"/>
                  </a:lnTo>
                  <a:lnTo>
                    <a:pt x="4630" y="1570"/>
                  </a:lnTo>
                  <a:lnTo>
                    <a:pt x="4630" y="1569"/>
                  </a:lnTo>
                  <a:lnTo>
                    <a:pt x="4632" y="1565"/>
                  </a:lnTo>
                  <a:lnTo>
                    <a:pt x="4634" y="1563"/>
                  </a:lnTo>
                  <a:lnTo>
                    <a:pt x="4635" y="1563"/>
                  </a:lnTo>
                  <a:lnTo>
                    <a:pt x="4639" y="1563"/>
                  </a:lnTo>
                  <a:lnTo>
                    <a:pt x="4639" y="1563"/>
                  </a:lnTo>
                  <a:lnTo>
                    <a:pt x="4642" y="1565"/>
                  </a:lnTo>
                  <a:lnTo>
                    <a:pt x="4644" y="1567"/>
                  </a:lnTo>
                  <a:lnTo>
                    <a:pt x="4644" y="1569"/>
                  </a:lnTo>
                  <a:lnTo>
                    <a:pt x="4644" y="1572"/>
                  </a:lnTo>
                  <a:lnTo>
                    <a:pt x="4642" y="1574"/>
                  </a:lnTo>
                  <a:lnTo>
                    <a:pt x="4641" y="1576"/>
                  </a:lnTo>
                  <a:lnTo>
                    <a:pt x="4637" y="1577"/>
                  </a:lnTo>
                  <a:lnTo>
                    <a:pt x="4635" y="1577"/>
                  </a:lnTo>
                  <a:lnTo>
                    <a:pt x="4635" y="1577"/>
                  </a:lnTo>
                  <a:close/>
                  <a:moveTo>
                    <a:pt x="4607" y="1569"/>
                  </a:moveTo>
                  <a:lnTo>
                    <a:pt x="4607" y="1569"/>
                  </a:lnTo>
                  <a:lnTo>
                    <a:pt x="4604" y="1567"/>
                  </a:lnTo>
                  <a:lnTo>
                    <a:pt x="4602" y="1563"/>
                  </a:lnTo>
                  <a:lnTo>
                    <a:pt x="4602" y="1562"/>
                  </a:lnTo>
                  <a:lnTo>
                    <a:pt x="4602" y="1558"/>
                  </a:lnTo>
                  <a:lnTo>
                    <a:pt x="4604" y="1556"/>
                  </a:lnTo>
                  <a:lnTo>
                    <a:pt x="4606" y="1555"/>
                  </a:lnTo>
                  <a:lnTo>
                    <a:pt x="4609" y="1555"/>
                  </a:lnTo>
                  <a:lnTo>
                    <a:pt x="4611" y="1555"/>
                  </a:lnTo>
                  <a:lnTo>
                    <a:pt x="4611" y="1555"/>
                  </a:lnTo>
                  <a:lnTo>
                    <a:pt x="4614" y="1556"/>
                  </a:lnTo>
                  <a:lnTo>
                    <a:pt x="4616" y="1558"/>
                  </a:lnTo>
                  <a:lnTo>
                    <a:pt x="4616" y="1560"/>
                  </a:lnTo>
                  <a:lnTo>
                    <a:pt x="4616" y="1563"/>
                  </a:lnTo>
                  <a:lnTo>
                    <a:pt x="4614" y="1565"/>
                  </a:lnTo>
                  <a:lnTo>
                    <a:pt x="4613" y="1567"/>
                  </a:lnTo>
                  <a:lnTo>
                    <a:pt x="4609" y="1569"/>
                  </a:lnTo>
                  <a:lnTo>
                    <a:pt x="4607" y="1569"/>
                  </a:lnTo>
                  <a:lnTo>
                    <a:pt x="4607" y="1569"/>
                  </a:lnTo>
                  <a:close/>
                  <a:moveTo>
                    <a:pt x="4579" y="1560"/>
                  </a:moveTo>
                  <a:lnTo>
                    <a:pt x="4579" y="1560"/>
                  </a:lnTo>
                  <a:lnTo>
                    <a:pt x="4578" y="1558"/>
                  </a:lnTo>
                  <a:lnTo>
                    <a:pt x="4576" y="1555"/>
                  </a:lnTo>
                  <a:lnTo>
                    <a:pt x="4574" y="1553"/>
                  </a:lnTo>
                  <a:lnTo>
                    <a:pt x="4574" y="1549"/>
                  </a:lnTo>
                  <a:lnTo>
                    <a:pt x="4576" y="1548"/>
                  </a:lnTo>
                  <a:lnTo>
                    <a:pt x="4578" y="1546"/>
                  </a:lnTo>
                  <a:lnTo>
                    <a:pt x="4581" y="1544"/>
                  </a:lnTo>
                  <a:lnTo>
                    <a:pt x="4585" y="1546"/>
                  </a:lnTo>
                  <a:lnTo>
                    <a:pt x="4585" y="1546"/>
                  </a:lnTo>
                  <a:lnTo>
                    <a:pt x="4586" y="1546"/>
                  </a:lnTo>
                  <a:lnTo>
                    <a:pt x="4588" y="1549"/>
                  </a:lnTo>
                  <a:lnTo>
                    <a:pt x="4588" y="1551"/>
                  </a:lnTo>
                  <a:lnTo>
                    <a:pt x="4588" y="1555"/>
                  </a:lnTo>
                  <a:lnTo>
                    <a:pt x="4586" y="1556"/>
                  </a:lnTo>
                  <a:lnTo>
                    <a:pt x="4585" y="1558"/>
                  </a:lnTo>
                  <a:lnTo>
                    <a:pt x="4583" y="1560"/>
                  </a:lnTo>
                  <a:lnTo>
                    <a:pt x="4579" y="1560"/>
                  </a:lnTo>
                  <a:lnTo>
                    <a:pt x="4579" y="1560"/>
                  </a:lnTo>
                  <a:close/>
                  <a:moveTo>
                    <a:pt x="4551" y="1549"/>
                  </a:moveTo>
                  <a:lnTo>
                    <a:pt x="4551" y="1549"/>
                  </a:lnTo>
                  <a:lnTo>
                    <a:pt x="4550" y="1549"/>
                  </a:lnTo>
                  <a:lnTo>
                    <a:pt x="4548" y="1546"/>
                  </a:lnTo>
                  <a:lnTo>
                    <a:pt x="4546" y="1544"/>
                  </a:lnTo>
                  <a:lnTo>
                    <a:pt x="4548" y="1541"/>
                  </a:lnTo>
                  <a:lnTo>
                    <a:pt x="4548" y="1539"/>
                  </a:lnTo>
                  <a:lnTo>
                    <a:pt x="4551" y="1537"/>
                  </a:lnTo>
                  <a:lnTo>
                    <a:pt x="4553" y="1535"/>
                  </a:lnTo>
                  <a:lnTo>
                    <a:pt x="4557" y="1537"/>
                  </a:lnTo>
                  <a:lnTo>
                    <a:pt x="4557" y="1537"/>
                  </a:lnTo>
                  <a:lnTo>
                    <a:pt x="4558" y="1537"/>
                  </a:lnTo>
                  <a:lnTo>
                    <a:pt x="4560" y="1541"/>
                  </a:lnTo>
                  <a:lnTo>
                    <a:pt x="4562" y="1542"/>
                  </a:lnTo>
                  <a:lnTo>
                    <a:pt x="4562" y="1546"/>
                  </a:lnTo>
                  <a:lnTo>
                    <a:pt x="4560" y="1548"/>
                  </a:lnTo>
                  <a:lnTo>
                    <a:pt x="4557" y="1549"/>
                  </a:lnTo>
                  <a:lnTo>
                    <a:pt x="4555" y="1551"/>
                  </a:lnTo>
                  <a:lnTo>
                    <a:pt x="4551" y="1549"/>
                  </a:lnTo>
                  <a:lnTo>
                    <a:pt x="4551" y="1549"/>
                  </a:lnTo>
                  <a:close/>
                  <a:moveTo>
                    <a:pt x="4525" y="1546"/>
                  </a:moveTo>
                  <a:lnTo>
                    <a:pt x="4525" y="1546"/>
                  </a:lnTo>
                  <a:lnTo>
                    <a:pt x="4522" y="1546"/>
                  </a:lnTo>
                  <a:lnTo>
                    <a:pt x="4520" y="1544"/>
                  </a:lnTo>
                  <a:lnTo>
                    <a:pt x="4518" y="1541"/>
                  </a:lnTo>
                  <a:lnTo>
                    <a:pt x="4518" y="1539"/>
                  </a:lnTo>
                  <a:lnTo>
                    <a:pt x="4520" y="1535"/>
                  </a:lnTo>
                  <a:lnTo>
                    <a:pt x="4522" y="1534"/>
                  </a:lnTo>
                  <a:lnTo>
                    <a:pt x="4523" y="1532"/>
                  </a:lnTo>
                  <a:lnTo>
                    <a:pt x="4527" y="1532"/>
                  </a:lnTo>
                  <a:lnTo>
                    <a:pt x="4527" y="1532"/>
                  </a:lnTo>
                  <a:lnTo>
                    <a:pt x="4529" y="1532"/>
                  </a:lnTo>
                  <a:lnTo>
                    <a:pt x="4530" y="1534"/>
                  </a:lnTo>
                  <a:lnTo>
                    <a:pt x="4532" y="1537"/>
                  </a:lnTo>
                  <a:lnTo>
                    <a:pt x="4534" y="1539"/>
                  </a:lnTo>
                  <a:lnTo>
                    <a:pt x="4532" y="1542"/>
                  </a:lnTo>
                  <a:lnTo>
                    <a:pt x="4530" y="1544"/>
                  </a:lnTo>
                  <a:lnTo>
                    <a:pt x="4529" y="1546"/>
                  </a:lnTo>
                  <a:lnTo>
                    <a:pt x="4525" y="1546"/>
                  </a:lnTo>
                  <a:lnTo>
                    <a:pt x="4525" y="1546"/>
                  </a:lnTo>
                  <a:close/>
                  <a:moveTo>
                    <a:pt x="4497" y="1544"/>
                  </a:moveTo>
                  <a:lnTo>
                    <a:pt x="4497" y="1544"/>
                  </a:lnTo>
                  <a:lnTo>
                    <a:pt x="4494" y="1542"/>
                  </a:lnTo>
                  <a:lnTo>
                    <a:pt x="4492" y="1541"/>
                  </a:lnTo>
                  <a:lnTo>
                    <a:pt x="4490" y="1539"/>
                  </a:lnTo>
                  <a:lnTo>
                    <a:pt x="4490" y="1535"/>
                  </a:lnTo>
                  <a:lnTo>
                    <a:pt x="4490" y="1534"/>
                  </a:lnTo>
                  <a:lnTo>
                    <a:pt x="4492" y="1530"/>
                  </a:lnTo>
                  <a:lnTo>
                    <a:pt x="4495" y="1530"/>
                  </a:lnTo>
                  <a:lnTo>
                    <a:pt x="4497" y="1530"/>
                  </a:lnTo>
                  <a:lnTo>
                    <a:pt x="4497" y="1530"/>
                  </a:lnTo>
                  <a:lnTo>
                    <a:pt x="4501" y="1530"/>
                  </a:lnTo>
                  <a:lnTo>
                    <a:pt x="4502" y="1532"/>
                  </a:lnTo>
                  <a:lnTo>
                    <a:pt x="4504" y="1534"/>
                  </a:lnTo>
                  <a:lnTo>
                    <a:pt x="4504" y="1537"/>
                  </a:lnTo>
                  <a:lnTo>
                    <a:pt x="4504" y="1541"/>
                  </a:lnTo>
                  <a:lnTo>
                    <a:pt x="4502" y="1542"/>
                  </a:lnTo>
                  <a:lnTo>
                    <a:pt x="4499" y="1544"/>
                  </a:lnTo>
                  <a:lnTo>
                    <a:pt x="4497" y="1544"/>
                  </a:lnTo>
                  <a:lnTo>
                    <a:pt x="4497" y="1544"/>
                  </a:lnTo>
                  <a:close/>
                  <a:moveTo>
                    <a:pt x="4467" y="1542"/>
                  </a:moveTo>
                  <a:lnTo>
                    <a:pt x="4467" y="1542"/>
                  </a:lnTo>
                  <a:lnTo>
                    <a:pt x="4464" y="1541"/>
                  </a:lnTo>
                  <a:lnTo>
                    <a:pt x="4462" y="1539"/>
                  </a:lnTo>
                  <a:lnTo>
                    <a:pt x="4460" y="1537"/>
                  </a:lnTo>
                  <a:lnTo>
                    <a:pt x="4460" y="1534"/>
                  </a:lnTo>
                  <a:lnTo>
                    <a:pt x="4462" y="1530"/>
                  </a:lnTo>
                  <a:lnTo>
                    <a:pt x="4464" y="1528"/>
                  </a:lnTo>
                  <a:lnTo>
                    <a:pt x="4465" y="1527"/>
                  </a:lnTo>
                  <a:lnTo>
                    <a:pt x="4469" y="1527"/>
                  </a:lnTo>
                  <a:lnTo>
                    <a:pt x="4469" y="1527"/>
                  </a:lnTo>
                  <a:lnTo>
                    <a:pt x="4471" y="1528"/>
                  </a:lnTo>
                  <a:lnTo>
                    <a:pt x="4473" y="1530"/>
                  </a:lnTo>
                  <a:lnTo>
                    <a:pt x="4474" y="1532"/>
                  </a:lnTo>
                  <a:lnTo>
                    <a:pt x="4476" y="1535"/>
                  </a:lnTo>
                  <a:lnTo>
                    <a:pt x="4474" y="1537"/>
                  </a:lnTo>
                  <a:lnTo>
                    <a:pt x="4473" y="1541"/>
                  </a:lnTo>
                  <a:lnTo>
                    <a:pt x="4471" y="1541"/>
                  </a:lnTo>
                  <a:lnTo>
                    <a:pt x="4467" y="1542"/>
                  </a:lnTo>
                  <a:lnTo>
                    <a:pt x="4467" y="1542"/>
                  </a:lnTo>
                  <a:close/>
                  <a:moveTo>
                    <a:pt x="4439" y="1539"/>
                  </a:moveTo>
                  <a:lnTo>
                    <a:pt x="4439" y="1539"/>
                  </a:lnTo>
                  <a:lnTo>
                    <a:pt x="4436" y="1539"/>
                  </a:lnTo>
                  <a:lnTo>
                    <a:pt x="4434" y="1537"/>
                  </a:lnTo>
                  <a:lnTo>
                    <a:pt x="4432" y="1534"/>
                  </a:lnTo>
                  <a:lnTo>
                    <a:pt x="4432" y="1532"/>
                  </a:lnTo>
                  <a:lnTo>
                    <a:pt x="4432" y="1528"/>
                  </a:lnTo>
                  <a:lnTo>
                    <a:pt x="4434" y="1527"/>
                  </a:lnTo>
                  <a:lnTo>
                    <a:pt x="4437" y="1525"/>
                  </a:lnTo>
                  <a:lnTo>
                    <a:pt x="4439" y="1525"/>
                  </a:lnTo>
                  <a:lnTo>
                    <a:pt x="4439" y="1525"/>
                  </a:lnTo>
                  <a:lnTo>
                    <a:pt x="4443" y="1525"/>
                  </a:lnTo>
                  <a:lnTo>
                    <a:pt x="4444" y="1527"/>
                  </a:lnTo>
                  <a:lnTo>
                    <a:pt x="4446" y="1530"/>
                  </a:lnTo>
                  <a:lnTo>
                    <a:pt x="4446" y="1534"/>
                  </a:lnTo>
                  <a:lnTo>
                    <a:pt x="4446" y="1535"/>
                  </a:lnTo>
                  <a:lnTo>
                    <a:pt x="4444" y="1537"/>
                  </a:lnTo>
                  <a:lnTo>
                    <a:pt x="4441" y="1539"/>
                  </a:lnTo>
                  <a:lnTo>
                    <a:pt x="4439" y="1539"/>
                  </a:lnTo>
                  <a:lnTo>
                    <a:pt x="4439" y="1539"/>
                  </a:lnTo>
                  <a:close/>
                  <a:moveTo>
                    <a:pt x="4409" y="1537"/>
                  </a:moveTo>
                  <a:lnTo>
                    <a:pt x="4409" y="1537"/>
                  </a:lnTo>
                  <a:lnTo>
                    <a:pt x="4406" y="1535"/>
                  </a:lnTo>
                  <a:lnTo>
                    <a:pt x="4404" y="1534"/>
                  </a:lnTo>
                  <a:lnTo>
                    <a:pt x="4402" y="1532"/>
                  </a:lnTo>
                  <a:lnTo>
                    <a:pt x="4402" y="1528"/>
                  </a:lnTo>
                  <a:lnTo>
                    <a:pt x="4404" y="1527"/>
                  </a:lnTo>
                  <a:lnTo>
                    <a:pt x="4406" y="1525"/>
                  </a:lnTo>
                  <a:lnTo>
                    <a:pt x="4408" y="1523"/>
                  </a:lnTo>
                  <a:lnTo>
                    <a:pt x="4411" y="1523"/>
                  </a:lnTo>
                  <a:lnTo>
                    <a:pt x="4411" y="1523"/>
                  </a:lnTo>
                  <a:lnTo>
                    <a:pt x="4413" y="1523"/>
                  </a:lnTo>
                  <a:lnTo>
                    <a:pt x="4415" y="1525"/>
                  </a:lnTo>
                  <a:lnTo>
                    <a:pt x="4416" y="1527"/>
                  </a:lnTo>
                  <a:lnTo>
                    <a:pt x="4418" y="1530"/>
                  </a:lnTo>
                  <a:lnTo>
                    <a:pt x="4416" y="1534"/>
                  </a:lnTo>
                  <a:lnTo>
                    <a:pt x="4415" y="1535"/>
                  </a:lnTo>
                  <a:lnTo>
                    <a:pt x="4413" y="1537"/>
                  </a:lnTo>
                  <a:lnTo>
                    <a:pt x="4409" y="1537"/>
                  </a:lnTo>
                  <a:lnTo>
                    <a:pt x="4409" y="1537"/>
                  </a:lnTo>
                  <a:close/>
                  <a:moveTo>
                    <a:pt x="4381" y="1535"/>
                  </a:moveTo>
                  <a:lnTo>
                    <a:pt x="4381" y="1535"/>
                  </a:lnTo>
                  <a:lnTo>
                    <a:pt x="4378" y="1534"/>
                  </a:lnTo>
                  <a:lnTo>
                    <a:pt x="4376" y="1532"/>
                  </a:lnTo>
                  <a:lnTo>
                    <a:pt x="4374" y="1530"/>
                  </a:lnTo>
                  <a:lnTo>
                    <a:pt x="4374" y="1527"/>
                  </a:lnTo>
                  <a:lnTo>
                    <a:pt x="4374" y="1523"/>
                  </a:lnTo>
                  <a:lnTo>
                    <a:pt x="4376" y="1521"/>
                  </a:lnTo>
                  <a:lnTo>
                    <a:pt x="4380" y="1520"/>
                  </a:lnTo>
                  <a:lnTo>
                    <a:pt x="4381" y="1520"/>
                  </a:lnTo>
                  <a:lnTo>
                    <a:pt x="4381" y="1520"/>
                  </a:lnTo>
                  <a:lnTo>
                    <a:pt x="4385" y="1521"/>
                  </a:lnTo>
                  <a:lnTo>
                    <a:pt x="4387" y="1523"/>
                  </a:lnTo>
                  <a:lnTo>
                    <a:pt x="4388" y="1525"/>
                  </a:lnTo>
                  <a:lnTo>
                    <a:pt x="4388" y="1528"/>
                  </a:lnTo>
                  <a:lnTo>
                    <a:pt x="4388" y="1530"/>
                  </a:lnTo>
                  <a:lnTo>
                    <a:pt x="4387" y="1534"/>
                  </a:lnTo>
                  <a:lnTo>
                    <a:pt x="4383" y="1534"/>
                  </a:lnTo>
                  <a:lnTo>
                    <a:pt x="4381" y="1535"/>
                  </a:lnTo>
                  <a:lnTo>
                    <a:pt x="4381" y="1535"/>
                  </a:lnTo>
                  <a:close/>
                  <a:moveTo>
                    <a:pt x="4352" y="1532"/>
                  </a:moveTo>
                  <a:lnTo>
                    <a:pt x="4352" y="1532"/>
                  </a:lnTo>
                  <a:lnTo>
                    <a:pt x="4348" y="1532"/>
                  </a:lnTo>
                  <a:lnTo>
                    <a:pt x="4346" y="1530"/>
                  </a:lnTo>
                  <a:lnTo>
                    <a:pt x="4345" y="1527"/>
                  </a:lnTo>
                  <a:lnTo>
                    <a:pt x="4345" y="1525"/>
                  </a:lnTo>
                  <a:lnTo>
                    <a:pt x="4346" y="1521"/>
                  </a:lnTo>
                  <a:lnTo>
                    <a:pt x="4348" y="1520"/>
                  </a:lnTo>
                  <a:lnTo>
                    <a:pt x="4350" y="1518"/>
                  </a:lnTo>
                  <a:lnTo>
                    <a:pt x="4353" y="1518"/>
                  </a:lnTo>
                  <a:lnTo>
                    <a:pt x="4353" y="1518"/>
                  </a:lnTo>
                  <a:lnTo>
                    <a:pt x="4355" y="1520"/>
                  </a:lnTo>
                  <a:lnTo>
                    <a:pt x="4359" y="1521"/>
                  </a:lnTo>
                  <a:lnTo>
                    <a:pt x="4359" y="1523"/>
                  </a:lnTo>
                  <a:lnTo>
                    <a:pt x="4360" y="1527"/>
                  </a:lnTo>
                  <a:lnTo>
                    <a:pt x="4359" y="1528"/>
                  </a:lnTo>
                  <a:lnTo>
                    <a:pt x="4357" y="1530"/>
                  </a:lnTo>
                  <a:lnTo>
                    <a:pt x="4355" y="1532"/>
                  </a:lnTo>
                  <a:lnTo>
                    <a:pt x="4352" y="1532"/>
                  </a:lnTo>
                  <a:lnTo>
                    <a:pt x="4352" y="1532"/>
                  </a:lnTo>
                  <a:close/>
                  <a:moveTo>
                    <a:pt x="4324" y="1530"/>
                  </a:moveTo>
                  <a:lnTo>
                    <a:pt x="4324" y="1530"/>
                  </a:lnTo>
                  <a:lnTo>
                    <a:pt x="4320" y="1530"/>
                  </a:lnTo>
                  <a:lnTo>
                    <a:pt x="4318" y="1528"/>
                  </a:lnTo>
                  <a:lnTo>
                    <a:pt x="4317" y="1525"/>
                  </a:lnTo>
                  <a:lnTo>
                    <a:pt x="4317" y="1523"/>
                  </a:lnTo>
                  <a:lnTo>
                    <a:pt x="4317" y="1520"/>
                  </a:lnTo>
                  <a:lnTo>
                    <a:pt x="4318" y="1518"/>
                  </a:lnTo>
                  <a:lnTo>
                    <a:pt x="4322" y="1516"/>
                  </a:lnTo>
                  <a:lnTo>
                    <a:pt x="4324" y="1516"/>
                  </a:lnTo>
                  <a:lnTo>
                    <a:pt x="4324" y="1516"/>
                  </a:lnTo>
                  <a:lnTo>
                    <a:pt x="4327" y="1516"/>
                  </a:lnTo>
                  <a:lnTo>
                    <a:pt x="4329" y="1518"/>
                  </a:lnTo>
                  <a:lnTo>
                    <a:pt x="4331" y="1521"/>
                  </a:lnTo>
                  <a:lnTo>
                    <a:pt x="4331" y="1523"/>
                  </a:lnTo>
                  <a:lnTo>
                    <a:pt x="4331" y="1527"/>
                  </a:lnTo>
                  <a:lnTo>
                    <a:pt x="4329" y="1528"/>
                  </a:lnTo>
                  <a:lnTo>
                    <a:pt x="4325" y="1530"/>
                  </a:lnTo>
                  <a:lnTo>
                    <a:pt x="4324" y="1530"/>
                  </a:lnTo>
                  <a:lnTo>
                    <a:pt x="4324" y="1530"/>
                  </a:lnTo>
                  <a:close/>
                  <a:moveTo>
                    <a:pt x="4294" y="1528"/>
                  </a:moveTo>
                  <a:lnTo>
                    <a:pt x="4294" y="1528"/>
                  </a:lnTo>
                  <a:lnTo>
                    <a:pt x="4290" y="1527"/>
                  </a:lnTo>
                  <a:lnTo>
                    <a:pt x="4289" y="1525"/>
                  </a:lnTo>
                  <a:lnTo>
                    <a:pt x="4287" y="1523"/>
                  </a:lnTo>
                  <a:lnTo>
                    <a:pt x="4287" y="1520"/>
                  </a:lnTo>
                  <a:lnTo>
                    <a:pt x="4289" y="1518"/>
                  </a:lnTo>
                  <a:lnTo>
                    <a:pt x="4290" y="1514"/>
                  </a:lnTo>
                  <a:lnTo>
                    <a:pt x="4292" y="1514"/>
                  </a:lnTo>
                  <a:lnTo>
                    <a:pt x="4296" y="1514"/>
                  </a:lnTo>
                  <a:lnTo>
                    <a:pt x="4296" y="1514"/>
                  </a:lnTo>
                  <a:lnTo>
                    <a:pt x="4297" y="1514"/>
                  </a:lnTo>
                  <a:lnTo>
                    <a:pt x="4301" y="1516"/>
                  </a:lnTo>
                  <a:lnTo>
                    <a:pt x="4301" y="1518"/>
                  </a:lnTo>
                  <a:lnTo>
                    <a:pt x="4303" y="1521"/>
                  </a:lnTo>
                  <a:lnTo>
                    <a:pt x="4301" y="1525"/>
                  </a:lnTo>
                  <a:lnTo>
                    <a:pt x="4299" y="1527"/>
                  </a:lnTo>
                  <a:lnTo>
                    <a:pt x="4297" y="1528"/>
                  </a:lnTo>
                  <a:lnTo>
                    <a:pt x="4294" y="1528"/>
                  </a:lnTo>
                  <a:lnTo>
                    <a:pt x="4294" y="1528"/>
                  </a:lnTo>
                  <a:close/>
                  <a:moveTo>
                    <a:pt x="4294" y="1492"/>
                  </a:moveTo>
                  <a:lnTo>
                    <a:pt x="4294" y="1492"/>
                  </a:lnTo>
                  <a:lnTo>
                    <a:pt x="4294" y="1490"/>
                  </a:lnTo>
                  <a:lnTo>
                    <a:pt x="4296" y="1488"/>
                  </a:lnTo>
                  <a:lnTo>
                    <a:pt x="4299" y="1486"/>
                  </a:lnTo>
                  <a:lnTo>
                    <a:pt x="4303" y="1486"/>
                  </a:lnTo>
                  <a:lnTo>
                    <a:pt x="4304" y="1488"/>
                  </a:lnTo>
                  <a:lnTo>
                    <a:pt x="4306" y="1490"/>
                  </a:lnTo>
                  <a:lnTo>
                    <a:pt x="4308" y="1493"/>
                  </a:lnTo>
                  <a:lnTo>
                    <a:pt x="4308" y="1495"/>
                  </a:lnTo>
                  <a:lnTo>
                    <a:pt x="4308" y="1495"/>
                  </a:lnTo>
                  <a:lnTo>
                    <a:pt x="4306" y="1499"/>
                  </a:lnTo>
                  <a:lnTo>
                    <a:pt x="4304" y="1500"/>
                  </a:lnTo>
                  <a:lnTo>
                    <a:pt x="4301" y="1500"/>
                  </a:lnTo>
                  <a:lnTo>
                    <a:pt x="4299" y="1500"/>
                  </a:lnTo>
                  <a:lnTo>
                    <a:pt x="4296" y="1500"/>
                  </a:lnTo>
                  <a:lnTo>
                    <a:pt x="4294" y="1497"/>
                  </a:lnTo>
                  <a:lnTo>
                    <a:pt x="4292" y="1495"/>
                  </a:lnTo>
                  <a:lnTo>
                    <a:pt x="4294" y="1492"/>
                  </a:lnTo>
                  <a:lnTo>
                    <a:pt x="4294" y="1492"/>
                  </a:lnTo>
                  <a:close/>
                  <a:moveTo>
                    <a:pt x="4301" y="1464"/>
                  </a:moveTo>
                  <a:lnTo>
                    <a:pt x="4301" y="1464"/>
                  </a:lnTo>
                  <a:lnTo>
                    <a:pt x="4301" y="1462"/>
                  </a:lnTo>
                  <a:lnTo>
                    <a:pt x="4304" y="1460"/>
                  </a:lnTo>
                  <a:lnTo>
                    <a:pt x="4306" y="1458"/>
                  </a:lnTo>
                  <a:lnTo>
                    <a:pt x="4310" y="1458"/>
                  </a:lnTo>
                  <a:lnTo>
                    <a:pt x="4311" y="1460"/>
                  </a:lnTo>
                  <a:lnTo>
                    <a:pt x="4313" y="1462"/>
                  </a:lnTo>
                  <a:lnTo>
                    <a:pt x="4315" y="1465"/>
                  </a:lnTo>
                  <a:lnTo>
                    <a:pt x="4315" y="1467"/>
                  </a:lnTo>
                  <a:lnTo>
                    <a:pt x="4315" y="1467"/>
                  </a:lnTo>
                  <a:lnTo>
                    <a:pt x="4313" y="1471"/>
                  </a:lnTo>
                  <a:lnTo>
                    <a:pt x="4311" y="1472"/>
                  </a:lnTo>
                  <a:lnTo>
                    <a:pt x="4308" y="1472"/>
                  </a:lnTo>
                  <a:lnTo>
                    <a:pt x="4306" y="1472"/>
                  </a:lnTo>
                  <a:lnTo>
                    <a:pt x="4303" y="1472"/>
                  </a:lnTo>
                  <a:lnTo>
                    <a:pt x="4301" y="1469"/>
                  </a:lnTo>
                  <a:lnTo>
                    <a:pt x="4301" y="1467"/>
                  </a:lnTo>
                  <a:lnTo>
                    <a:pt x="4301" y="1464"/>
                  </a:lnTo>
                  <a:lnTo>
                    <a:pt x="4301" y="1464"/>
                  </a:lnTo>
                  <a:close/>
                  <a:moveTo>
                    <a:pt x="4308" y="1436"/>
                  </a:moveTo>
                  <a:lnTo>
                    <a:pt x="4308" y="1436"/>
                  </a:lnTo>
                  <a:lnTo>
                    <a:pt x="4310" y="1434"/>
                  </a:lnTo>
                  <a:lnTo>
                    <a:pt x="4311" y="1432"/>
                  </a:lnTo>
                  <a:lnTo>
                    <a:pt x="4313" y="1430"/>
                  </a:lnTo>
                  <a:lnTo>
                    <a:pt x="4317" y="1430"/>
                  </a:lnTo>
                  <a:lnTo>
                    <a:pt x="4320" y="1432"/>
                  </a:lnTo>
                  <a:lnTo>
                    <a:pt x="4322" y="1434"/>
                  </a:lnTo>
                  <a:lnTo>
                    <a:pt x="4322" y="1437"/>
                  </a:lnTo>
                  <a:lnTo>
                    <a:pt x="4322" y="1439"/>
                  </a:lnTo>
                  <a:lnTo>
                    <a:pt x="4322" y="1439"/>
                  </a:lnTo>
                  <a:lnTo>
                    <a:pt x="4320" y="1443"/>
                  </a:lnTo>
                  <a:lnTo>
                    <a:pt x="4318" y="1444"/>
                  </a:lnTo>
                  <a:lnTo>
                    <a:pt x="4317" y="1444"/>
                  </a:lnTo>
                  <a:lnTo>
                    <a:pt x="4313" y="1444"/>
                  </a:lnTo>
                  <a:lnTo>
                    <a:pt x="4311" y="1444"/>
                  </a:lnTo>
                  <a:lnTo>
                    <a:pt x="4308" y="1441"/>
                  </a:lnTo>
                  <a:lnTo>
                    <a:pt x="4308" y="1439"/>
                  </a:lnTo>
                  <a:lnTo>
                    <a:pt x="4308" y="1436"/>
                  </a:lnTo>
                  <a:lnTo>
                    <a:pt x="4308" y="1436"/>
                  </a:lnTo>
                  <a:close/>
                  <a:moveTo>
                    <a:pt x="4315" y="1408"/>
                  </a:moveTo>
                  <a:lnTo>
                    <a:pt x="4315" y="1408"/>
                  </a:lnTo>
                  <a:lnTo>
                    <a:pt x="4317" y="1406"/>
                  </a:lnTo>
                  <a:lnTo>
                    <a:pt x="4318" y="1404"/>
                  </a:lnTo>
                  <a:lnTo>
                    <a:pt x="4322" y="1402"/>
                  </a:lnTo>
                  <a:lnTo>
                    <a:pt x="4324" y="1402"/>
                  </a:lnTo>
                  <a:lnTo>
                    <a:pt x="4327" y="1404"/>
                  </a:lnTo>
                  <a:lnTo>
                    <a:pt x="4329" y="1406"/>
                  </a:lnTo>
                  <a:lnTo>
                    <a:pt x="4329" y="1409"/>
                  </a:lnTo>
                  <a:lnTo>
                    <a:pt x="4329" y="1411"/>
                  </a:lnTo>
                  <a:lnTo>
                    <a:pt x="4329" y="1411"/>
                  </a:lnTo>
                  <a:lnTo>
                    <a:pt x="4329" y="1415"/>
                  </a:lnTo>
                  <a:lnTo>
                    <a:pt x="4325" y="1416"/>
                  </a:lnTo>
                  <a:lnTo>
                    <a:pt x="4324" y="1416"/>
                  </a:lnTo>
                  <a:lnTo>
                    <a:pt x="4320" y="1416"/>
                  </a:lnTo>
                  <a:lnTo>
                    <a:pt x="4318" y="1416"/>
                  </a:lnTo>
                  <a:lnTo>
                    <a:pt x="4317" y="1413"/>
                  </a:lnTo>
                  <a:lnTo>
                    <a:pt x="4315" y="1411"/>
                  </a:lnTo>
                  <a:lnTo>
                    <a:pt x="4315" y="1408"/>
                  </a:lnTo>
                  <a:lnTo>
                    <a:pt x="4315" y="1408"/>
                  </a:lnTo>
                  <a:close/>
                  <a:moveTo>
                    <a:pt x="4324" y="1380"/>
                  </a:moveTo>
                  <a:lnTo>
                    <a:pt x="4324" y="1380"/>
                  </a:lnTo>
                  <a:lnTo>
                    <a:pt x="4324" y="1378"/>
                  </a:lnTo>
                  <a:lnTo>
                    <a:pt x="4325" y="1376"/>
                  </a:lnTo>
                  <a:lnTo>
                    <a:pt x="4329" y="1374"/>
                  </a:lnTo>
                  <a:lnTo>
                    <a:pt x="4332" y="1374"/>
                  </a:lnTo>
                  <a:lnTo>
                    <a:pt x="4334" y="1376"/>
                  </a:lnTo>
                  <a:lnTo>
                    <a:pt x="4336" y="1378"/>
                  </a:lnTo>
                  <a:lnTo>
                    <a:pt x="4338" y="1381"/>
                  </a:lnTo>
                  <a:lnTo>
                    <a:pt x="4338" y="1383"/>
                  </a:lnTo>
                  <a:lnTo>
                    <a:pt x="4338" y="1383"/>
                  </a:lnTo>
                  <a:lnTo>
                    <a:pt x="4336" y="1387"/>
                  </a:lnTo>
                  <a:lnTo>
                    <a:pt x="4334" y="1388"/>
                  </a:lnTo>
                  <a:lnTo>
                    <a:pt x="4331" y="1388"/>
                  </a:lnTo>
                  <a:lnTo>
                    <a:pt x="4329" y="1388"/>
                  </a:lnTo>
                  <a:lnTo>
                    <a:pt x="4325" y="1388"/>
                  </a:lnTo>
                  <a:lnTo>
                    <a:pt x="4324" y="1385"/>
                  </a:lnTo>
                  <a:lnTo>
                    <a:pt x="4322" y="1383"/>
                  </a:lnTo>
                  <a:lnTo>
                    <a:pt x="4324" y="1380"/>
                  </a:lnTo>
                  <a:lnTo>
                    <a:pt x="4324" y="1380"/>
                  </a:lnTo>
                  <a:close/>
                  <a:moveTo>
                    <a:pt x="4331" y="1352"/>
                  </a:moveTo>
                  <a:lnTo>
                    <a:pt x="4331" y="1352"/>
                  </a:lnTo>
                  <a:lnTo>
                    <a:pt x="4331" y="1350"/>
                  </a:lnTo>
                  <a:lnTo>
                    <a:pt x="4334" y="1348"/>
                  </a:lnTo>
                  <a:lnTo>
                    <a:pt x="4336" y="1346"/>
                  </a:lnTo>
                  <a:lnTo>
                    <a:pt x="4339" y="1346"/>
                  </a:lnTo>
                  <a:lnTo>
                    <a:pt x="4341" y="1348"/>
                  </a:lnTo>
                  <a:lnTo>
                    <a:pt x="4343" y="1350"/>
                  </a:lnTo>
                  <a:lnTo>
                    <a:pt x="4345" y="1353"/>
                  </a:lnTo>
                  <a:lnTo>
                    <a:pt x="4345" y="1355"/>
                  </a:lnTo>
                  <a:lnTo>
                    <a:pt x="4345" y="1355"/>
                  </a:lnTo>
                  <a:lnTo>
                    <a:pt x="4343" y="1359"/>
                  </a:lnTo>
                  <a:lnTo>
                    <a:pt x="4341" y="1360"/>
                  </a:lnTo>
                  <a:lnTo>
                    <a:pt x="4338" y="1360"/>
                  </a:lnTo>
                  <a:lnTo>
                    <a:pt x="4336" y="1360"/>
                  </a:lnTo>
                  <a:lnTo>
                    <a:pt x="4332" y="1360"/>
                  </a:lnTo>
                  <a:lnTo>
                    <a:pt x="4331" y="1357"/>
                  </a:lnTo>
                  <a:lnTo>
                    <a:pt x="4331" y="1355"/>
                  </a:lnTo>
                  <a:lnTo>
                    <a:pt x="4331" y="1352"/>
                  </a:lnTo>
                  <a:lnTo>
                    <a:pt x="4331" y="1352"/>
                  </a:lnTo>
                  <a:close/>
                  <a:moveTo>
                    <a:pt x="4338" y="1323"/>
                  </a:moveTo>
                  <a:lnTo>
                    <a:pt x="4338" y="1323"/>
                  </a:lnTo>
                  <a:lnTo>
                    <a:pt x="4339" y="1322"/>
                  </a:lnTo>
                  <a:lnTo>
                    <a:pt x="4341" y="1320"/>
                  </a:lnTo>
                  <a:lnTo>
                    <a:pt x="4343" y="1318"/>
                  </a:lnTo>
                  <a:lnTo>
                    <a:pt x="4346" y="1318"/>
                  </a:lnTo>
                  <a:lnTo>
                    <a:pt x="4348" y="1320"/>
                  </a:lnTo>
                  <a:lnTo>
                    <a:pt x="4350" y="1322"/>
                  </a:lnTo>
                  <a:lnTo>
                    <a:pt x="4352" y="1325"/>
                  </a:lnTo>
                  <a:lnTo>
                    <a:pt x="4352" y="1327"/>
                  </a:lnTo>
                  <a:lnTo>
                    <a:pt x="4352" y="1327"/>
                  </a:lnTo>
                  <a:lnTo>
                    <a:pt x="4350" y="1331"/>
                  </a:lnTo>
                  <a:lnTo>
                    <a:pt x="4348" y="1332"/>
                  </a:lnTo>
                  <a:lnTo>
                    <a:pt x="4346" y="1332"/>
                  </a:lnTo>
                  <a:lnTo>
                    <a:pt x="4343" y="1332"/>
                  </a:lnTo>
                  <a:lnTo>
                    <a:pt x="4339" y="1332"/>
                  </a:lnTo>
                  <a:lnTo>
                    <a:pt x="4338" y="1329"/>
                  </a:lnTo>
                  <a:lnTo>
                    <a:pt x="4338" y="1327"/>
                  </a:lnTo>
                  <a:lnTo>
                    <a:pt x="4338" y="1323"/>
                  </a:lnTo>
                  <a:lnTo>
                    <a:pt x="4338" y="1323"/>
                  </a:lnTo>
                  <a:close/>
                  <a:moveTo>
                    <a:pt x="4345" y="1295"/>
                  </a:moveTo>
                  <a:lnTo>
                    <a:pt x="4345" y="1295"/>
                  </a:lnTo>
                  <a:lnTo>
                    <a:pt x="4346" y="1294"/>
                  </a:lnTo>
                  <a:lnTo>
                    <a:pt x="4348" y="1292"/>
                  </a:lnTo>
                  <a:lnTo>
                    <a:pt x="4350" y="1290"/>
                  </a:lnTo>
                  <a:lnTo>
                    <a:pt x="4353" y="1290"/>
                  </a:lnTo>
                  <a:lnTo>
                    <a:pt x="4357" y="1292"/>
                  </a:lnTo>
                  <a:lnTo>
                    <a:pt x="4359" y="1294"/>
                  </a:lnTo>
                  <a:lnTo>
                    <a:pt x="4359" y="1297"/>
                  </a:lnTo>
                  <a:lnTo>
                    <a:pt x="4359" y="1299"/>
                  </a:lnTo>
                  <a:lnTo>
                    <a:pt x="4359" y="1299"/>
                  </a:lnTo>
                  <a:lnTo>
                    <a:pt x="4357" y="1302"/>
                  </a:lnTo>
                  <a:lnTo>
                    <a:pt x="4355" y="1304"/>
                  </a:lnTo>
                  <a:lnTo>
                    <a:pt x="4353" y="1304"/>
                  </a:lnTo>
                  <a:lnTo>
                    <a:pt x="4350" y="1304"/>
                  </a:lnTo>
                  <a:lnTo>
                    <a:pt x="4348" y="1304"/>
                  </a:lnTo>
                  <a:lnTo>
                    <a:pt x="4346" y="1301"/>
                  </a:lnTo>
                  <a:lnTo>
                    <a:pt x="4345" y="1299"/>
                  </a:lnTo>
                  <a:lnTo>
                    <a:pt x="4345" y="1295"/>
                  </a:lnTo>
                  <a:lnTo>
                    <a:pt x="4345" y="1295"/>
                  </a:lnTo>
                  <a:close/>
                  <a:moveTo>
                    <a:pt x="4352" y="1269"/>
                  </a:moveTo>
                  <a:lnTo>
                    <a:pt x="4352" y="1269"/>
                  </a:lnTo>
                  <a:lnTo>
                    <a:pt x="4352" y="1266"/>
                  </a:lnTo>
                  <a:lnTo>
                    <a:pt x="4353" y="1264"/>
                  </a:lnTo>
                  <a:lnTo>
                    <a:pt x="4357" y="1262"/>
                  </a:lnTo>
                  <a:lnTo>
                    <a:pt x="4360" y="1262"/>
                  </a:lnTo>
                  <a:lnTo>
                    <a:pt x="4362" y="1264"/>
                  </a:lnTo>
                  <a:lnTo>
                    <a:pt x="4364" y="1266"/>
                  </a:lnTo>
                  <a:lnTo>
                    <a:pt x="4366" y="1267"/>
                  </a:lnTo>
                  <a:lnTo>
                    <a:pt x="4366" y="1271"/>
                  </a:lnTo>
                  <a:lnTo>
                    <a:pt x="4366" y="1271"/>
                  </a:lnTo>
                  <a:lnTo>
                    <a:pt x="4364" y="1273"/>
                  </a:lnTo>
                  <a:lnTo>
                    <a:pt x="4362" y="1274"/>
                  </a:lnTo>
                  <a:lnTo>
                    <a:pt x="4360" y="1276"/>
                  </a:lnTo>
                  <a:lnTo>
                    <a:pt x="4357" y="1276"/>
                  </a:lnTo>
                  <a:lnTo>
                    <a:pt x="4353" y="1276"/>
                  </a:lnTo>
                  <a:lnTo>
                    <a:pt x="4352" y="1274"/>
                  </a:lnTo>
                  <a:lnTo>
                    <a:pt x="4352" y="1271"/>
                  </a:lnTo>
                  <a:lnTo>
                    <a:pt x="4352" y="1269"/>
                  </a:lnTo>
                  <a:lnTo>
                    <a:pt x="4352" y="1269"/>
                  </a:lnTo>
                  <a:close/>
                  <a:moveTo>
                    <a:pt x="4357" y="1239"/>
                  </a:moveTo>
                  <a:lnTo>
                    <a:pt x="4357" y="1239"/>
                  </a:lnTo>
                  <a:lnTo>
                    <a:pt x="4359" y="1238"/>
                  </a:lnTo>
                  <a:lnTo>
                    <a:pt x="4360" y="1236"/>
                  </a:lnTo>
                  <a:lnTo>
                    <a:pt x="4362" y="1234"/>
                  </a:lnTo>
                  <a:lnTo>
                    <a:pt x="4366" y="1234"/>
                  </a:lnTo>
                  <a:lnTo>
                    <a:pt x="4367" y="1234"/>
                  </a:lnTo>
                  <a:lnTo>
                    <a:pt x="4369" y="1238"/>
                  </a:lnTo>
                  <a:lnTo>
                    <a:pt x="4371" y="1239"/>
                  </a:lnTo>
                  <a:lnTo>
                    <a:pt x="4371" y="1243"/>
                  </a:lnTo>
                  <a:lnTo>
                    <a:pt x="4371" y="1243"/>
                  </a:lnTo>
                  <a:lnTo>
                    <a:pt x="4371" y="1245"/>
                  </a:lnTo>
                  <a:lnTo>
                    <a:pt x="4367" y="1246"/>
                  </a:lnTo>
                  <a:lnTo>
                    <a:pt x="4366" y="1248"/>
                  </a:lnTo>
                  <a:lnTo>
                    <a:pt x="4362" y="1248"/>
                  </a:lnTo>
                  <a:lnTo>
                    <a:pt x="4360" y="1246"/>
                  </a:lnTo>
                  <a:lnTo>
                    <a:pt x="4359" y="1245"/>
                  </a:lnTo>
                  <a:lnTo>
                    <a:pt x="4357" y="1243"/>
                  </a:lnTo>
                  <a:lnTo>
                    <a:pt x="4357" y="1239"/>
                  </a:lnTo>
                  <a:lnTo>
                    <a:pt x="4357" y="1239"/>
                  </a:lnTo>
                  <a:close/>
                  <a:moveTo>
                    <a:pt x="4362" y="1211"/>
                  </a:moveTo>
                  <a:lnTo>
                    <a:pt x="4362" y="1211"/>
                  </a:lnTo>
                  <a:lnTo>
                    <a:pt x="4364" y="1208"/>
                  </a:lnTo>
                  <a:lnTo>
                    <a:pt x="4366" y="1206"/>
                  </a:lnTo>
                  <a:lnTo>
                    <a:pt x="4369" y="1206"/>
                  </a:lnTo>
                  <a:lnTo>
                    <a:pt x="4371" y="1206"/>
                  </a:lnTo>
                  <a:lnTo>
                    <a:pt x="4374" y="1206"/>
                  </a:lnTo>
                  <a:lnTo>
                    <a:pt x="4376" y="1208"/>
                  </a:lnTo>
                  <a:lnTo>
                    <a:pt x="4378" y="1211"/>
                  </a:lnTo>
                  <a:lnTo>
                    <a:pt x="4378" y="1215"/>
                  </a:lnTo>
                  <a:lnTo>
                    <a:pt x="4378" y="1215"/>
                  </a:lnTo>
                  <a:lnTo>
                    <a:pt x="4376" y="1217"/>
                  </a:lnTo>
                  <a:lnTo>
                    <a:pt x="4374" y="1218"/>
                  </a:lnTo>
                  <a:lnTo>
                    <a:pt x="4371" y="1220"/>
                  </a:lnTo>
                  <a:lnTo>
                    <a:pt x="4369" y="1220"/>
                  </a:lnTo>
                  <a:lnTo>
                    <a:pt x="4366" y="1218"/>
                  </a:lnTo>
                  <a:lnTo>
                    <a:pt x="4364" y="1217"/>
                  </a:lnTo>
                  <a:lnTo>
                    <a:pt x="4362" y="1215"/>
                  </a:lnTo>
                  <a:lnTo>
                    <a:pt x="4362" y="1211"/>
                  </a:lnTo>
                  <a:lnTo>
                    <a:pt x="4362" y="1211"/>
                  </a:lnTo>
                  <a:close/>
                  <a:moveTo>
                    <a:pt x="4369" y="1183"/>
                  </a:moveTo>
                  <a:lnTo>
                    <a:pt x="4369" y="1183"/>
                  </a:lnTo>
                  <a:lnTo>
                    <a:pt x="4369" y="1180"/>
                  </a:lnTo>
                  <a:lnTo>
                    <a:pt x="4371" y="1178"/>
                  </a:lnTo>
                  <a:lnTo>
                    <a:pt x="4374" y="1178"/>
                  </a:lnTo>
                  <a:lnTo>
                    <a:pt x="4378" y="1178"/>
                  </a:lnTo>
                  <a:lnTo>
                    <a:pt x="4380" y="1178"/>
                  </a:lnTo>
                  <a:lnTo>
                    <a:pt x="4381" y="1180"/>
                  </a:lnTo>
                  <a:lnTo>
                    <a:pt x="4383" y="1183"/>
                  </a:lnTo>
                  <a:lnTo>
                    <a:pt x="4383" y="1185"/>
                  </a:lnTo>
                  <a:lnTo>
                    <a:pt x="4383" y="1185"/>
                  </a:lnTo>
                  <a:lnTo>
                    <a:pt x="4381" y="1189"/>
                  </a:lnTo>
                  <a:lnTo>
                    <a:pt x="4380" y="1190"/>
                  </a:lnTo>
                  <a:lnTo>
                    <a:pt x="4378" y="1192"/>
                  </a:lnTo>
                  <a:lnTo>
                    <a:pt x="4374" y="1192"/>
                  </a:lnTo>
                  <a:lnTo>
                    <a:pt x="4371" y="1190"/>
                  </a:lnTo>
                  <a:lnTo>
                    <a:pt x="4369" y="1189"/>
                  </a:lnTo>
                  <a:lnTo>
                    <a:pt x="4369" y="1185"/>
                  </a:lnTo>
                  <a:lnTo>
                    <a:pt x="4369" y="1183"/>
                  </a:lnTo>
                  <a:lnTo>
                    <a:pt x="4369" y="1183"/>
                  </a:lnTo>
                  <a:close/>
                  <a:moveTo>
                    <a:pt x="4374" y="1155"/>
                  </a:moveTo>
                  <a:lnTo>
                    <a:pt x="4374" y="1155"/>
                  </a:lnTo>
                  <a:lnTo>
                    <a:pt x="4376" y="1152"/>
                  </a:lnTo>
                  <a:lnTo>
                    <a:pt x="4378" y="1150"/>
                  </a:lnTo>
                  <a:lnTo>
                    <a:pt x="4380" y="1148"/>
                  </a:lnTo>
                  <a:lnTo>
                    <a:pt x="4383" y="1148"/>
                  </a:lnTo>
                  <a:lnTo>
                    <a:pt x="4385" y="1150"/>
                  </a:lnTo>
                  <a:lnTo>
                    <a:pt x="4387" y="1152"/>
                  </a:lnTo>
                  <a:lnTo>
                    <a:pt x="4388" y="1154"/>
                  </a:lnTo>
                  <a:lnTo>
                    <a:pt x="4388" y="1157"/>
                  </a:lnTo>
                  <a:lnTo>
                    <a:pt x="4388" y="1157"/>
                  </a:lnTo>
                  <a:lnTo>
                    <a:pt x="4388" y="1161"/>
                  </a:lnTo>
                  <a:lnTo>
                    <a:pt x="4387" y="1162"/>
                  </a:lnTo>
                  <a:lnTo>
                    <a:pt x="4383" y="1162"/>
                  </a:lnTo>
                  <a:lnTo>
                    <a:pt x="4381" y="1164"/>
                  </a:lnTo>
                  <a:lnTo>
                    <a:pt x="4378" y="1162"/>
                  </a:lnTo>
                  <a:lnTo>
                    <a:pt x="4376" y="1161"/>
                  </a:lnTo>
                  <a:lnTo>
                    <a:pt x="4374" y="1157"/>
                  </a:lnTo>
                  <a:lnTo>
                    <a:pt x="4374" y="1155"/>
                  </a:lnTo>
                  <a:lnTo>
                    <a:pt x="4374" y="1155"/>
                  </a:lnTo>
                  <a:close/>
                  <a:moveTo>
                    <a:pt x="4387" y="1126"/>
                  </a:moveTo>
                  <a:lnTo>
                    <a:pt x="4387" y="1126"/>
                  </a:lnTo>
                  <a:lnTo>
                    <a:pt x="4388" y="1124"/>
                  </a:lnTo>
                  <a:lnTo>
                    <a:pt x="4392" y="1122"/>
                  </a:lnTo>
                  <a:lnTo>
                    <a:pt x="4394" y="1122"/>
                  </a:lnTo>
                  <a:lnTo>
                    <a:pt x="4397" y="1124"/>
                  </a:lnTo>
                  <a:lnTo>
                    <a:pt x="4399" y="1126"/>
                  </a:lnTo>
                  <a:lnTo>
                    <a:pt x="4401" y="1127"/>
                  </a:lnTo>
                  <a:lnTo>
                    <a:pt x="4401" y="1131"/>
                  </a:lnTo>
                  <a:lnTo>
                    <a:pt x="4399" y="1134"/>
                  </a:lnTo>
                  <a:lnTo>
                    <a:pt x="4399" y="1134"/>
                  </a:lnTo>
                  <a:lnTo>
                    <a:pt x="4397" y="1136"/>
                  </a:lnTo>
                  <a:lnTo>
                    <a:pt x="4394" y="1136"/>
                  </a:lnTo>
                  <a:lnTo>
                    <a:pt x="4392" y="1136"/>
                  </a:lnTo>
                  <a:lnTo>
                    <a:pt x="4388" y="1136"/>
                  </a:lnTo>
                  <a:lnTo>
                    <a:pt x="4387" y="1134"/>
                  </a:lnTo>
                  <a:lnTo>
                    <a:pt x="4385" y="1131"/>
                  </a:lnTo>
                  <a:lnTo>
                    <a:pt x="4385" y="1129"/>
                  </a:lnTo>
                  <a:lnTo>
                    <a:pt x="4387" y="1126"/>
                  </a:lnTo>
                  <a:lnTo>
                    <a:pt x="4387" y="1126"/>
                  </a:lnTo>
                  <a:close/>
                  <a:moveTo>
                    <a:pt x="4402" y="1101"/>
                  </a:moveTo>
                  <a:lnTo>
                    <a:pt x="4402" y="1101"/>
                  </a:lnTo>
                  <a:lnTo>
                    <a:pt x="4404" y="1099"/>
                  </a:lnTo>
                  <a:lnTo>
                    <a:pt x="4408" y="1098"/>
                  </a:lnTo>
                  <a:lnTo>
                    <a:pt x="4409" y="1098"/>
                  </a:lnTo>
                  <a:lnTo>
                    <a:pt x="4413" y="1099"/>
                  </a:lnTo>
                  <a:lnTo>
                    <a:pt x="4415" y="1101"/>
                  </a:lnTo>
                  <a:lnTo>
                    <a:pt x="4416" y="1105"/>
                  </a:lnTo>
                  <a:lnTo>
                    <a:pt x="4416" y="1106"/>
                  </a:lnTo>
                  <a:lnTo>
                    <a:pt x="4415" y="1110"/>
                  </a:lnTo>
                  <a:lnTo>
                    <a:pt x="4415" y="1110"/>
                  </a:lnTo>
                  <a:lnTo>
                    <a:pt x="4413" y="1112"/>
                  </a:lnTo>
                  <a:lnTo>
                    <a:pt x="4409" y="1113"/>
                  </a:lnTo>
                  <a:lnTo>
                    <a:pt x="4408" y="1113"/>
                  </a:lnTo>
                  <a:lnTo>
                    <a:pt x="4404" y="1112"/>
                  </a:lnTo>
                  <a:lnTo>
                    <a:pt x="4402" y="1110"/>
                  </a:lnTo>
                  <a:lnTo>
                    <a:pt x="4401" y="1106"/>
                  </a:lnTo>
                  <a:lnTo>
                    <a:pt x="4401" y="1105"/>
                  </a:lnTo>
                  <a:lnTo>
                    <a:pt x="4402" y="1101"/>
                  </a:lnTo>
                  <a:lnTo>
                    <a:pt x="4402" y="1101"/>
                  </a:lnTo>
                  <a:close/>
                  <a:moveTo>
                    <a:pt x="4418" y="1078"/>
                  </a:moveTo>
                  <a:lnTo>
                    <a:pt x="4418" y="1078"/>
                  </a:lnTo>
                  <a:lnTo>
                    <a:pt x="4420" y="1075"/>
                  </a:lnTo>
                  <a:lnTo>
                    <a:pt x="4423" y="1075"/>
                  </a:lnTo>
                  <a:lnTo>
                    <a:pt x="4425" y="1073"/>
                  </a:lnTo>
                  <a:lnTo>
                    <a:pt x="4429" y="1075"/>
                  </a:lnTo>
                  <a:lnTo>
                    <a:pt x="4430" y="1077"/>
                  </a:lnTo>
                  <a:lnTo>
                    <a:pt x="4432" y="1080"/>
                  </a:lnTo>
                  <a:lnTo>
                    <a:pt x="4432" y="1082"/>
                  </a:lnTo>
                  <a:lnTo>
                    <a:pt x="4430" y="1085"/>
                  </a:lnTo>
                  <a:lnTo>
                    <a:pt x="4430" y="1085"/>
                  </a:lnTo>
                  <a:lnTo>
                    <a:pt x="4429" y="1087"/>
                  </a:lnTo>
                  <a:lnTo>
                    <a:pt x="4425" y="1089"/>
                  </a:lnTo>
                  <a:lnTo>
                    <a:pt x="4423" y="1089"/>
                  </a:lnTo>
                  <a:lnTo>
                    <a:pt x="4420" y="1087"/>
                  </a:lnTo>
                  <a:lnTo>
                    <a:pt x="4418" y="1085"/>
                  </a:lnTo>
                  <a:lnTo>
                    <a:pt x="4416" y="1084"/>
                  </a:lnTo>
                  <a:lnTo>
                    <a:pt x="4416" y="1080"/>
                  </a:lnTo>
                  <a:lnTo>
                    <a:pt x="4418" y="1078"/>
                  </a:lnTo>
                  <a:lnTo>
                    <a:pt x="4418" y="1078"/>
                  </a:lnTo>
                  <a:close/>
                  <a:moveTo>
                    <a:pt x="4434" y="1054"/>
                  </a:moveTo>
                  <a:lnTo>
                    <a:pt x="4434" y="1054"/>
                  </a:lnTo>
                  <a:lnTo>
                    <a:pt x="4436" y="1050"/>
                  </a:lnTo>
                  <a:lnTo>
                    <a:pt x="4439" y="1050"/>
                  </a:lnTo>
                  <a:lnTo>
                    <a:pt x="4441" y="1050"/>
                  </a:lnTo>
                  <a:lnTo>
                    <a:pt x="4444" y="1050"/>
                  </a:lnTo>
                  <a:lnTo>
                    <a:pt x="4446" y="1052"/>
                  </a:lnTo>
                  <a:lnTo>
                    <a:pt x="4448" y="1056"/>
                  </a:lnTo>
                  <a:lnTo>
                    <a:pt x="4448" y="1057"/>
                  </a:lnTo>
                  <a:lnTo>
                    <a:pt x="4446" y="1061"/>
                  </a:lnTo>
                  <a:lnTo>
                    <a:pt x="4446" y="1061"/>
                  </a:lnTo>
                  <a:lnTo>
                    <a:pt x="4444" y="1063"/>
                  </a:lnTo>
                  <a:lnTo>
                    <a:pt x="4441" y="1064"/>
                  </a:lnTo>
                  <a:lnTo>
                    <a:pt x="4439" y="1064"/>
                  </a:lnTo>
                  <a:lnTo>
                    <a:pt x="4436" y="1063"/>
                  </a:lnTo>
                  <a:lnTo>
                    <a:pt x="4434" y="1061"/>
                  </a:lnTo>
                  <a:lnTo>
                    <a:pt x="4432" y="1059"/>
                  </a:lnTo>
                  <a:lnTo>
                    <a:pt x="4432" y="1056"/>
                  </a:lnTo>
                  <a:lnTo>
                    <a:pt x="4434" y="1054"/>
                  </a:lnTo>
                  <a:lnTo>
                    <a:pt x="4434" y="1054"/>
                  </a:lnTo>
                  <a:close/>
                  <a:moveTo>
                    <a:pt x="4450" y="1029"/>
                  </a:moveTo>
                  <a:lnTo>
                    <a:pt x="4450" y="1029"/>
                  </a:lnTo>
                  <a:lnTo>
                    <a:pt x="4451" y="1026"/>
                  </a:lnTo>
                  <a:lnTo>
                    <a:pt x="4455" y="1026"/>
                  </a:lnTo>
                  <a:lnTo>
                    <a:pt x="4457" y="1026"/>
                  </a:lnTo>
                  <a:lnTo>
                    <a:pt x="4460" y="1026"/>
                  </a:lnTo>
                  <a:lnTo>
                    <a:pt x="4462" y="1028"/>
                  </a:lnTo>
                  <a:lnTo>
                    <a:pt x="4462" y="1031"/>
                  </a:lnTo>
                  <a:lnTo>
                    <a:pt x="4464" y="1033"/>
                  </a:lnTo>
                  <a:lnTo>
                    <a:pt x="4462" y="1036"/>
                  </a:lnTo>
                  <a:lnTo>
                    <a:pt x="4462" y="1036"/>
                  </a:lnTo>
                  <a:lnTo>
                    <a:pt x="4460" y="1038"/>
                  </a:lnTo>
                  <a:lnTo>
                    <a:pt x="4457" y="1040"/>
                  </a:lnTo>
                  <a:lnTo>
                    <a:pt x="4455" y="1040"/>
                  </a:lnTo>
                  <a:lnTo>
                    <a:pt x="4451" y="1038"/>
                  </a:lnTo>
                  <a:lnTo>
                    <a:pt x="4450" y="1036"/>
                  </a:lnTo>
                  <a:lnTo>
                    <a:pt x="4448" y="1035"/>
                  </a:lnTo>
                  <a:lnTo>
                    <a:pt x="4448" y="1031"/>
                  </a:lnTo>
                  <a:lnTo>
                    <a:pt x="4450" y="1029"/>
                  </a:lnTo>
                  <a:lnTo>
                    <a:pt x="4450" y="1029"/>
                  </a:lnTo>
                  <a:close/>
                  <a:moveTo>
                    <a:pt x="4465" y="1005"/>
                  </a:moveTo>
                  <a:lnTo>
                    <a:pt x="4465" y="1005"/>
                  </a:lnTo>
                  <a:lnTo>
                    <a:pt x="4467" y="1003"/>
                  </a:lnTo>
                  <a:lnTo>
                    <a:pt x="4469" y="1001"/>
                  </a:lnTo>
                  <a:lnTo>
                    <a:pt x="4473" y="1001"/>
                  </a:lnTo>
                  <a:lnTo>
                    <a:pt x="4476" y="1003"/>
                  </a:lnTo>
                  <a:lnTo>
                    <a:pt x="4478" y="1005"/>
                  </a:lnTo>
                  <a:lnTo>
                    <a:pt x="4478" y="1007"/>
                  </a:lnTo>
                  <a:lnTo>
                    <a:pt x="4480" y="1010"/>
                  </a:lnTo>
                  <a:lnTo>
                    <a:pt x="4478" y="1012"/>
                  </a:lnTo>
                  <a:lnTo>
                    <a:pt x="4478" y="1012"/>
                  </a:lnTo>
                  <a:lnTo>
                    <a:pt x="4476" y="1014"/>
                  </a:lnTo>
                  <a:lnTo>
                    <a:pt x="4473" y="1015"/>
                  </a:lnTo>
                  <a:lnTo>
                    <a:pt x="4471" y="1015"/>
                  </a:lnTo>
                  <a:lnTo>
                    <a:pt x="4467" y="1015"/>
                  </a:lnTo>
                  <a:lnTo>
                    <a:pt x="4465" y="1012"/>
                  </a:lnTo>
                  <a:lnTo>
                    <a:pt x="4464" y="1010"/>
                  </a:lnTo>
                  <a:lnTo>
                    <a:pt x="4464" y="1007"/>
                  </a:lnTo>
                  <a:lnTo>
                    <a:pt x="4465" y="1005"/>
                  </a:lnTo>
                  <a:lnTo>
                    <a:pt x="4465" y="1005"/>
                  </a:lnTo>
                  <a:close/>
                  <a:moveTo>
                    <a:pt x="4490" y="986"/>
                  </a:moveTo>
                  <a:lnTo>
                    <a:pt x="4490" y="986"/>
                  </a:lnTo>
                  <a:lnTo>
                    <a:pt x="4494" y="984"/>
                  </a:lnTo>
                  <a:lnTo>
                    <a:pt x="4495" y="984"/>
                  </a:lnTo>
                  <a:lnTo>
                    <a:pt x="4499" y="986"/>
                  </a:lnTo>
                  <a:lnTo>
                    <a:pt x="4501" y="987"/>
                  </a:lnTo>
                  <a:lnTo>
                    <a:pt x="4502" y="989"/>
                  </a:lnTo>
                  <a:lnTo>
                    <a:pt x="4502" y="993"/>
                  </a:lnTo>
                  <a:lnTo>
                    <a:pt x="4501" y="994"/>
                  </a:lnTo>
                  <a:lnTo>
                    <a:pt x="4499" y="998"/>
                  </a:lnTo>
                  <a:lnTo>
                    <a:pt x="4499" y="998"/>
                  </a:lnTo>
                  <a:lnTo>
                    <a:pt x="4495" y="998"/>
                  </a:lnTo>
                  <a:lnTo>
                    <a:pt x="4494" y="998"/>
                  </a:lnTo>
                  <a:lnTo>
                    <a:pt x="4490" y="998"/>
                  </a:lnTo>
                  <a:lnTo>
                    <a:pt x="4488" y="996"/>
                  </a:lnTo>
                  <a:lnTo>
                    <a:pt x="4487" y="993"/>
                  </a:lnTo>
                  <a:lnTo>
                    <a:pt x="4487" y="989"/>
                  </a:lnTo>
                  <a:lnTo>
                    <a:pt x="4488" y="987"/>
                  </a:lnTo>
                  <a:lnTo>
                    <a:pt x="4490" y="986"/>
                  </a:lnTo>
                  <a:lnTo>
                    <a:pt x="4490" y="986"/>
                  </a:lnTo>
                  <a:close/>
                  <a:moveTo>
                    <a:pt x="4515" y="970"/>
                  </a:moveTo>
                  <a:lnTo>
                    <a:pt x="4515" y="970"/>
                  </a:lnTo>
                  <a:lnTo>
                    <a:pt x="4518" y="968"/>
                  </a:lnTo>
                  <a:lnTo>
                    <a:pt x="4520" y="968"/>
                  </a:lnTo>
                  <a:lnTo>
                    <a:pt x="4523" y="970"/>
                  </a:lnTo>
                  <a:lnTo>
                    <a:pt x="4525" y="972"/>
                  </a:lnTo>
                  <a:lnTo>
                    <a:pt x="4525" y="973"/>
                  </a:lnTo>
                  <a:lnTo>
                    <a:pt x="4525" y="977"/>
                  </a:lnTo>
                  <a:lnTo>
                    <a:pt x="4525" y="979"/>
                  </a:lnTo>
                  <a:lnTo>
                    <a:pt x="4523" y="982"/>
                  </a:lnTo>
                  <a:lnTo>
                    <a:pt x="4523" y="982"/>
                  </a:lnTo>
                  <a:lnTo>
                    <a:pt x="4520" y="982"/>
                  </a:lnTo>
                  <a:lnTo>
                    <a:pt x="4518" y="982"/>
                  </a:lnTo>
                  <a:lnTo>
                    <a:pt x="4515" y="982"/>
                  </a:lnTo>
                  <a:lnTo>
                    <a:pt x="4513" y="980"/>
                  </a:lnTo>
                  <a:lnTo>
                    <a:pt x="4511" y="977"/>
                  </a:lnTo>
                  <a:lnTo>
                    <a:pt x="4511" y="973"/>
                  </a:lnTo>
                  <a:lnTo>
                    <a:pt x="4513" y="972"/>
                  </a:lnTo>
                  <a:lnTo>
                    <a:pt x="4515" y="970"/>
                  </a:lnTo>
                  <a:lnTo>
                    <a:pt x="4515" y="970"/>
                  </a:lnTo>
                  <a:close/>
                  <a:moveTo>
                    <a:pt x="4530" y="954"/>
                  </a:moveTo>
                  <a:lnTo>
                    <a:pt x="4530" y="954"/>
                  </a:lnTo>
                  <a:lnTo>
                    <a:pt x="4530" y="951"/>
                  </a:lnTo>
                  <a:lnTo>
                    <a:pt x="4532" y="949"/>
                  </a:lnTo>
                  <a:lnTo>
                    <a:pt x="4536" y="949"/>
                  </a:lnTo>
                  <a:lnTo>
                    <a:pt x="4539" y="949"/>
                  </a:lnTo>
                  <a:lnTo>
                    <a:pt x="4541" y="949"/>
                  </a:lnTo>
                  <a:lnTo>
                    <a:pt x="4543" y="951"/>
                  </a:lnTo>
                  <a:lnTo>
                    <a:pt x="4544" y="954"/>
                  </a:lnTo>
                  <a:lnTo>
                    <a:pt x="4544" y="958"/>
                  </a:lnTo>
                  <a:lnTo>
                    <a:pt x="4544" y="958"/>
                  </a:lnTo>
                  <a:lnTo>
                    <a:pt x="4543" y="959"/>
                  </a:lnTo>
                  <a:lnTo>
                    <a:pt x="4541" y="961"/>
                  </a:lnTo>
                  <a:lnTo>
                    <a:pt x="4539" y="963"/>
                  </a:lnTo>
                  <a:lnTo>
                    <a:pt x="4536" y="963"/>
                  </a:lnTo>
                  <a:lnTo>
                    <a:pt x="4532" y="961"/>
                  </a:lnTo>
                  <a:lnTo>
                    <a:pt x="4530" y="959"/>
                  </a:lnTo>
                  <a:lnTo>
                    <a:pt x="4530" y="958"/>
                  </a:lnTo>
                  <a:lnTo>
                    <a:pt x="4530" y="954"/>
                  </a:lnTo>
                  <a:lnTo>
                    <a:pt x="4530" y="954"/>
                  </a:lnTo>
                  <a:close/>
                  <a:moveTo>
                    <a:pt x="4536" y="926"/>
                  </a:moveTo>
                  <a:lnTo>
                    <a:pt x="4536" y="926"/>
                  </a:lnTo>
                  <a:lnTo>
                    <a:pt x="4536" y="923"/>
                  </a:lnTo>
                  <a:lnTo>
                    <a:pt x="4537" y="921"/>
                  </a:lnTo>
                  <a:lnTo>
                    <a:pt x="4541" y="919"/>
                  </a:lnTo>
                  <a:lnTo>
                    <a:pt x="4544" y="919"/>
                  </a:lnTo>
                  <a:lnTo>
                    <a:pt x="4546" y="921"/>
                  </a:lnTo>
                  <a:lnTo>
                    <a:pt x="4548" y="923"/>
                  </a:lnTo>
                  <a:lnTo>
                    <a:pt x="4550" y="926"/>
                  </a:lnTo>
                  <a:lnTo>
                    <a:pt x="4550" y="928"/>
                  </a:lnTo>
                  <a:lnTo>
                    <a:pt x="4550" y="928"/>
                  </a:lnTo>
                  <a:lnTo>
                    <a:pt x="4548" y="931"/>
                  </a:lnTo>
                  <a:lnTo>
                    <a:pt x="4546" y="933"/>
                  </a:lnTo>
                  <a:lnTo>
                    <a:pt x="4544" y="935"/>
                  </a:lnTo>
                  <a:lnTo>
                    <a:pt x="4541" y="935"/>
                  </a:lnTo>
                  <a:lnTo>
                    <a:pt x="4537" y="933"/>
                  </a:lnTo>
                  <a:lnTo>
                    <a:pt x="4536" y="931"/>
                  </a:lnTo>
                  <a:lnTo>
                    <a:pt x="4536" y="928"/>
                  </a:lnTo>
                  <a:lnTo>
                    <a:pt x="4536" y="926"/>
                  </a:lnTo>
                  <a:lnTo>
                    <a:pt x="4536" y="926"/>
                  </a:lnTo>
                  <a:close/>
                  <a:moveTo>
                    <a:pt x="4541" y="898"/>
                  </a:moveTo>
                  <a:lnTo>
                    <a:pt x="4541" y="898"/>
                  </a:lnTo>
                  <a:lnTo>
                    <a:pt x="4541" y="895"/>
                  </a:lnTo>
                  <a:lnTo>
                    <a:pt x="4544" y="893"/>
                  </a:lnTo>
                  <a:lnTo>
                    <a:pt x="4546" y="891"/>
                  </a:lnTo>
                  <a:lnTo>
                    <a:pt x="4550" y="891"/>
                  </a:lnTo>
                  <a:lnTo>
                    <a:pt x="4551" y="893"/>
                  </a:lnTo>
                  <a:lnTo>
                    <a:pt x="4553" y="895"/>
                  </a:lnTo>
                  <a:lnTo>
                    <a:pt x="4555" y="896"/>
                  </a:lnTo>
                  <a:lnTo>
                    <a:pt x="4555" y="900"/>
                  </a:lnTo>
                  <a:lnTo>
                    <a:pt x="4555" y="900"/>
                  </a:lnTo>
                  <a:lnTo>
                    <a:pt x="4553" y="903"/>
                  </a:lnTo>
                  <a:lnTo>
                    <a:pt x="4551" y="905"/>
                  </a:lnTo>
                  <a:lnTo>
                    <a:pt x="4550" y="905"/>
                  </a:lnTo>
                  <a:lnTo>
                    <a:pt x="4546" y="905"/>
                  </a:lnTo>
                  <a:lnTo>
                    <a:pt x="4544" y="905"/>
                  </a:lnTo>
                  <a:lnTo>
                    <a:pt x="4543" y="903"/>
                  </a:lnTo>
                  <a:lnTo>
                    <a:pt x="4541" y="900"/>
                  </a:lnTo>
                  <a:lnTo>
                    <a:pt x="4541" y="898"/>
                  </a:lnTo>
                  <a:lnTo>
                    <a:pt x="4541" y="898"/>
                  </a:lnTo>
                  <a:close/>
                  <a:moveTo>
                    <a:pt x="4546" y="868"/>
                  </a:moveTo>
                  <a:lnTo>
                    <a:pt x="4546" y="868"/>
                  </a:lnTo>
                  <a:lnTo>
                    <a:pt x="4548" y="867"/>
                  </a:lnTo>
                  <a:lnTo>
                    <a:pt x="4550" y="865"/>
                  </a:lnTo>
                  <a:lnTo>
                    <a:pt x="4551" y="863"/>
                  </a:lnTo>
                  <a:lnTo>
                    <a:pt x="4555" y="863"/>
                  </a:lnTo>
                  <a:lnTo>
                    <a:pt x="4557" y="863"/>
                  </a:lnTo>
                  <a:lnTo>
                    <a:pt x="4558" y="867"/>
                  </a:lnTo>
                  <a:lnTo>
                    <a:pt x="4560" y="868"/>
                  </a:lnTo>
                  <a:lnTo>
                    <a:pt x="4560" y="872"/>
                  </a:lnTo>
                  <a:lnTo>
                    <a:pt x="4560" y="872"/>
                  </a:lnTo>
                  <a:lnTo>
                    <a:pt x="4560" y="874"/>
                  </a:lnTo>
                  <a:lnTo>
                    <a:pt x="4557" y="875"/>
                  </a:lnTo>
                  <a:lnTo>
                    <a:pt x="4555" y="877"/>
                  </a:lnTo>
                  <a:lnTo>
                    <a:pt x="4551" y="877"/>
                  </a:lnTo>
                  <a:lnTo>
                    <a:pt x="4550" y="875"/>
                  </a:lnTo>
                  <a:lnTo>
                    <a:pt x="4548" y="874"/>
                  </a:lnTo>
                  <a:lnTo>
                    <a:pt x="4546" y="872"/>
                  </a:lnTo>
                  <a:lnTo>
                    <a:pt x="4546" y="868"/>
                  </a:lnTo>
                  <a:lnTo>
                    <a:pt x="4546" y="868"/>
                  </a:lnTo>
                  <a:close/>
                  <a:moveTo>
                    <a:pt x="4551" y="840"/>
                  </a:moveTo>
                  <a:lnTo>
                    <a:pt x="4551" y="840"/>
                  </a:lnTo>
                  <a:lnTo>
                    <a:pt x="4553" y="837"/>
                  </a:lnTo>
                  <a:lnTo>
                    <a:pt x="4555" y="835"/>
                  </a:lnTo>
                  <a:lnTo>
                    <a:pt x="4557" y="835"/>
                  </a:lnTo>
                  <a:lnTo>
                    <a:pt x="4560" y="835"/>
                  </a:lnTo>
                  <a:lnTo>
                    <a:pt x="4564" y="835"/>
                  </a:lnTo>
                  <a:lnTo>
                    <a:pt x="4565" y="837"/>
                  </a:lnTo>
                  <a:lnTo>
                    <a:pt x="4565" y="840"/>
                  </a:lnTo>
                  <a:lnTo>
                    <a:pt x="4565" y="844"/>
                  </a:lnTo>
                  <a:lnTo>
                    <a:pt x="4565" y="844"/>
                  </a:lnTo>
                  <a:lnTo>
                    <a:pt x="4565" y="846"/>
                  </a:lnTo>
                  <a:lnTo>
                    <a:pt x="4564" y="847"/>
                  </a:lnTo>
                  <a:lnTo>
                    <a:pt x="4560" y="849"/>
                  </a:lnTo>
                  <a:lnTo>
                    <a:pt x="4558" y="849"/>
                  </a:lnTo>
                  <a:lnTo>
                    <a:pt x="4555" y="847"/>
                  </a:lnTo>
                  <a:lnTo>
                    <a:pt x="4553" y="846"/>
                  </a:lnTo>
                  <a:lnTo>
                    <a:pt x="4551" y="844"/>
                  </a:lnTo>
                  <a:lnTo>
                    <a:pt x="4551" y="840"/>
                  </a:lnTo>
                  <a:lnTo>
                    <a:pt x="4551" y="840"/>
                  </a:lnTo>
                  <a:close/>
                  <a:moveTo>
                    <a:pt x="4557" y="812"/>
                  </a:moveTo>
                  <a:lnTo>
                    <a:pt x="4557" y="812"/>
                  </a:lnTo>
                  <a:lnTo>
                    <a:pt x="4558" y="809"/>
                  </a:lnTo>
                  <a:lnTo>
                    <a:pt x="4560" y="807"/>
                  </a:lnTo>
                  <a:lnTo>
                    <a:pt x="4562" y="805"/>
                  </a:lnTo>
                  <a:lnTo>
                    <a:pt x="4565" y="805"/>
                  </a:lnTo>
                  <a:lnTo>
                    <a:pt x="4569" y="807"/>
                  </a:lnTo>
                  <a:lnTo>
                    <a:pt x="4571" y="809"/>
                  </a:lnTo>
                  <a:lnTo>
                    <a:pt x="4571" y="812"/>
                  </a:lnTo>
                  <a:lnTo>
                    <a:pt x="4572" y="814"/>
                  </a:lnTo>
                  <a:lnTo>
                    <a:pt x="4572" y="814"/>
                  </a:lnTo>
                  <a:lnTo>
                    <a:pt x="4571" y="818"/>
                  </a:lnTo>
                  <a:lnTo>
                    <a:pt x="4569" y="819"/>
                  </a:lnTo>
                  <a:lnTo>
                    <a:pt x="4565" y="821"/>
                  </a:lnTo>
                  <a:lnTo>
                    <a:pt x="4564" y="821"/>
                  </a:lnTo>
                  <a:lnTo>
                    <a:pt x="4560" y="819"/>
                  </a:lnTo>
                  <a:lnTo>
                    <a:pt x="4558" y="818"/>
                  </a:lnTo>
                  <a:lnTo>
                    <a:pt x="4557" y="814"/>
                  </a:lnTo>
                  <a:lnTo>
                    <a:pt x="4557" y="812"/>
                  </a:lnTo>
                  <a:lnTo>
                    <a:pt x="4557" y="812"/>
                  </a:lnTo>
                  <a:close/>
                  <a:moveTo>
                    <a:pt x="4562" y="784"/>
                  </a:moveTo>
                  <a:lnTo>
                    <a:pt x="4562" y="784"/>
                  </a:lnTo>
                  <a:lnTo>
                    <a:pt x="4562" y="781"/>
                  </a:lnTo>
                  <a:lnTo>
                    <a:pt x="4564" y="779"/>
                  </a:lnTo>
                  <a:lnTo>
                    <a:pt x="4565" y="777"/>
                  </a:lnTo>
                  <a:lnTo>
                    <a:pt x="4569" y="777"/>
                  </a:lnTo>
                  <a:lnTo>
                    <a:pt x="4572" y="779"/>
                  </a:lnTo>
                  <a:lnTo>
                    <a:pt x="4574" y="781"/>
                  </a:lnTo>
                  <a:lnTo>
                    <a:pt x="4576" y="783"/>
                  </a:lnTo>
                  <a:lnTo>
                    <a:pt x="4576" y="786"/>
                  </a:lnTo>
                  <a:lnTo>
                    <a:pt x="4576" y="786"/>
                  </a:lnTo>
                  <a:lnTo>
                    <a:pt x="4574" y="788"/>
                  </a:lnTo>
                  <a:lnTo>
                    <a:pt x="4572" y="790"/>
                  </a:lnTo>
                  <a:lnTo>
                    <a:pt x="4571" y="791"/>
                  </a:lnTo>
                  <a:lnTo>
                    <a:pt x="4567" y="791"/>
                  </a:lnTo>
                  <a:lnTo>
                    <a:pt x="4565" y="791"/>
                  </a:lnTo>
                  <a:lnTo>
                    <a:pt x="4562" y="790"/>
                  </a:lnTo>
                  <a:lnTo>
                    <a:pt x="4562" y="786"/>
                  </a:lnTo>
                  <a:lnTo>
                    <a:pt x="4562" y="784"/>
                  </a:lnTo>
                  <a:lnTo>
                    <a:pt x="4562" y="784"/>
                  </a:lnTo>
                  <a:close/>
                  <a:moveTo>
                    <a:pt x="4564" y="755"/>
                  </a:moveTo>
                  <a:lnTo>
                    <a:pt x="4564" y="755"/>
                  </a:lnTo>
                  <a:lnTo>
                    <a:pt x="4565" y="753"/>
                  </a:lnTo>
                  <a:lnTo>
                    <a:pt x="4567" y="749"/>
                  </a:lnTo>
                  <a:lnTo>
                    <a:pt x="4569" y="749"/>
                  </a:lnTo>
                  <a:lnTo>
                    <a:pt x="4572" y="749"/>
                  </a:lnTo>
                  <a:lnTo>
                    <a:pt x="4574" y="749"/>
                  </a:lnTo>
                  <a:lnTo>
                    <a:pt x="4578" y="751"/>
                  </a:lnTo>
                  <a:lnTo>
                    <a:pt x="4578" y="753"/>
                  </a:lnTo>
                  <a:lnTo>
                    <a:pt x="4579" y="756"/>
                  </a:lnTo>
                  <a:lnTo>
                    <a:pt x="4579" y="756"/>
                  </a:lnTo>
                  <a:lnTo>
                    <a:pt x="4578" y="760"/>
                  </a:lnTo>
                  <a:lnTo>
                    <a:pt x="4576" y="762"/>
                  </a:lnTo>
                  <a:lnTo>
                    <a:pt x="4574" y="763"/>
                  </a:lnTo>
                  <a:lnTo>
                    <a:pt x="4571" y="763"/>
                  </a:lnTo>
                  <a:lnTo>
                    <a:pt x="4567" y="762"/>
                  </a:lnTo>
                  <a:lnTo>
                    <a:pt x="4565" y="760"/>
                  </a:lnTo>
                  <a:lnTo>
                    <a:pt x="4564" y="758"/>
                  </a:lnTo>
                  <a:lnTo>
                    <a:pt x="4564" y="755"/>
                  </a:lnTo>
                  <a:lnTo>
                    <a:pt x="4564" y="755"/>
                  </a:lnTo>
                  <a:close/>
                  <a:moveTo>
                    <a:pt x="4567" y="727"/>
                  </a:moveTo>
                  <a:lnTo>
                    <a:pt x="4567" y="727"/>
                  </a:lnTo>
                  <a:lnTo>
                    <a:pt x="4569" y="723"/>
                  </a:lnTo>
                  <a:lnTo>
                    <a:pt x="4571" y="721"/>
                  </a:lnTo>
                  <a:lnTo>
                    <a:pt x="4572" y="720"/>
                  </a:lnTo>
                  <a:lnTo>
                    <a:pt x="4576" y="720"/>
                  </a:lnTo>
                  <a:lnTo>
                    <a:pt x="4578" y="721"/>
                  </a:lnTo>
                  <a:lnTo>
                    <a:pt x="4579" y="723"/>
                  </a:lnTo>
                  <a:lnTo>
                    <a:pt x="4581" y="725"/>
                  </a:lnTo>
                  <a:lnTo>
                    <a:pt x="4583" y="728"/>
                  </a:lnTo>
                  <a:lnTo>
                    <a:pt x="4583" y="728"/>
                  </a:lnTo>
                  <a:lnTo>
                    <a:pt x="4581" y="730"/>
                  </a:lnTo>
                  <a:lnTo>
                    <a:pt x="4579" y="732"/>
                  </a:lnTo>
                  <a:lnTo>
                    <a:pt x="4578" y="734"/>
                  </a:lnTo>
                  <a:lnTo>
                    <a:pt x="4574" y="734"/>
                  </a:lnTo>
                  <a:lnTo>
                    <a:pt x="4571" y="734"/>
                  </a:lnTo>
                  <a:lnTo>
                    <a:pt x="4569" y="732"/>
                  </a:lnTo>
                  <a:lnTo>
                    <a:pt x="4567" y="728"/>
                  </a:lnTo>
                  <a:lnTo>
                    <a:pt x="4567" y="727"/>
                  </a:lnTo>
                  <a:lnTo>
                    <a:pt x="4567" y="727"/>
                  </a:lnTo>
                  <a:close/>
                  <a:moveTo>
                    <a:pt x="4571" y="699"/>
                  </a:moveTo>
                  <a:lnTo>
                    <a:pt x="4571" y="697"/>
                  </a:lnTo>
                  <a:lnTo>
                    <a:pt x="4572" y="695"/>
                  </a:lnTo>
                  <a:lnTo>
                    <a:pt x="4574" y="693"/>
                  </a:lnTo>
                  <a:lnTo>
                    <a:pt x="4576" y="692"/>
                  </a:lnTo>
                  <a:lnTo>
                    <a:pt x="4579" y="692"/>
                  </a:lnTo>
                  <a:lnTo>
                    <a:pt x="4581" y="692"/>
                  </a:lnTo>
                  <a:lnTo>
                    <a:pt x="4583" y="693"/>
                  </a:lnTo>
                  <a:lnTo>
                    <a:pt x="4585" y="695"/>
                  </a:lnTo>
                  <a:lnTo>
                    <a:pt x="4585" y="699"/>
                  </a:lnTo>
                  <a:lnTo>
                    <a:pt x="4585" y="699"/>
                  </a:lnTo>
                  <a:lnTo>
                    <a:pt x="4585" y="702"/>
                  </a:lnTo>
                  <a:lnTo>
                    <a:pt x="4583" y="704"/>
                  </a:lnTo>
                  <a:lnTo>
                    <a:pt x="4579" y="706"/>
                  </a:lnTo>
                  <a:lnTo>
                    <a:pt x="4578" y="706"/>
                  </a:lnTo>
                  <a:lnTo>
                    <a:pt x="4574" y="704"/>
                  </a:lnTo>
                  <a:lnTo>
                    <a:pt x="4572" y="702"/>
                  </a:lnTo>
                  <a:lnTo>
                    <a:pt x="4571" y="700"/>
                  </a:lnTo>
                  <a:lnTo>
                    <a:pt x="4571" y="699"/>
                  </a:lnTo>
                  <a:lnTo>
                    <a:pt x="4571" y="699"/>
                  </a:lnTo>
                  <a:close/>
                  <a:moveTo>
                    <a:pt x="4574" y="679"/>
                  </a:moveTo>
                  <a:lnTo>
                    <a:pt x="4574" y="679"/>
                  </a:lnTo>
                  <a:lnTo>
                    <a:pt x="4572" y="679"/>
                  </a:lnTo>
                  <a:lnTo>
                    <a:pt x="4571" y="676"/>
                  </a:lnTo>
                  <a:lnTo>
                    <a:pt x="4569" y="674"/>
                  </a:lnTo>
                  <a:lnTo>
                    <a:pt x="4569" y="671"/>
                  </a:lnTo>
                  <a:lnTo>
                    <a:pt x="4571" y="669"/>
                  </a:lnTo>
                  <a:lnTo>
                    <a:pt x="4572" y="667"/>
                  </a:lnTo>
                  <a:lnTo>
                    <a:pt x="4576" y="665"/>
                  </a:lnTo>
                  <a:lnTo>
                    <a:pt x="4578" y="665"/>
                  </a:lnTo>
                  <a:lnTo>
                    <a:pt x="4578" y="665"/>
                  </a:lnTo>
                  <a:lnTo>
                    <a:pt x="4581" y="667"/>
                  </a:lnTo>
                  <a:lnTo>
                    <a:pt x="4583" y="669"/>
                  </a:lnTo>
                  <a:lnTo>
                    <a:pt x="4583" y="672"/>
                  </a:lnTo>
                  <a:lnTo>
                    <a:pt x="4583" y="674"/>
                  </a:lnTo>
                  <a:lnTo>
                    <a:pt x="4581" y="678"/>
                  </a:lnTo>
                  <a:lnTo>
                    <a:pt x="4579" y="679"/>
                  </a:lnTo>
                  <a:lnTo>
                    <a:pt x="4578" y="679"/>
                  </a:lnTo>
                  <a:lnTo>
                    <a:pt x="4574" y="679"/>
                  </a:lnTo>
                  <a:lnTo>
                    <a:pt x="4574" y="679"/>
                  </a:lnTo>
                  <a:close/>
                  <a:moveTo>
                    <a:pt x="4546" y="672"/>
                  </a:moveTo>
                  <a:lnTo>
                    <a:pt x="4546" y="672"/>
                  </a:lnTo>
                  <a:lnTo>
                    <a:pt x="4544" y="671"/>
                  </a:lnTo>
                  <a:lnTo>
                    <a:pt x="4543" y="669"/>
                  </a:lnTo>
                  <a:lnTo>
                    <a:pt x="4541" y="667"/>
                  </a:lnTo>
                  <a:lnTo>
                    <a:pt x="4541" y="664"/>
                  </a:lnTo>
                  <a:lnTo>
                    <a:pt x="4543" y="662"/>
                  </a:lnTo>
                  <a:lnTo>
                    <a:pt x="4544" y="658"/>
                  </a:lnTo>
                  <a:lnTo>
                    <a:pt x="4548" y="658"/>
                  </a:lnTo>
                  <a:lnTo>
                    <a:pt x="4550" y="658"/>
                  </a:lnTo>
                  <a:lnTo>
                    <a:pt x="4550" y="658"/>
                  </a:lnTo>
                  <a:lnTo>
                    <a:pt x="4553" y="660"/>
                  </a:lnTo>
                  <a:lnTo>
                    <a:pt x="4555" y="662"/>
                  </a:lnTo>
                  <a:lnTo>
                    <a:pt x="4555" y="665"/>
                  </a:lnTo>
                  <a:lnTo>
                    <a:pt x="4555" y="667"/>
                  </a:lnTo>
                  <a:lnTo>
                    <a:pt x="4553" y="671"/>
                  </a:lnTo>
                  <a:lnTo>
                    <a:pt x="4551" y="672"/>
                  </a:lnTo>
                  <a:lnTo>
                    <a:pt x="4550" y="672"/>
                  </a:lnTo>
                  <a:lnTo>
                    <a:pt x="4546" y="672"/>
                  </a:lnTo>
                  <a:lnTo>
                    <a:pt x="4546" y="672"/>
                  </a:lnTo>
                  <a:close/>
                  <a:moveTo>
                    <a:pt x="4518" y="665"/>
                  </a:moveTo>
                  <a:lnTo>
                    <a:pt x="4518" y="665"/>
                  </a:lnTo>
                  <a:lnTo>
                    <a:pt x="4516" y="664"/>
                  </a:lnTo>
                  <a:lnTo>
                    <a:pt x="4515" y="662"/>
                  </a:lnTo>
                  <a:lnTo>
                    <a:pt x="4513" y="658"/>
                  </a:lnTo>
                  <a:lnTo>
                    <a:pt x="4513" y="657"/>
                  </a:lnTo>
                  <a:lnTo>
                    <a:pt x="4515" y="653"/>
                  </a:lnTo>
                  <a:lnTo>
                    <a:pt x="4516" y="651"/>
                  </a:lnTo>
                  <a:lnTo>
                    <a:pt x="4520" y="651"/>
                  </a:lnTo>
                  <a:lnTo>
                    <a:pt x="4522" y="651"/>
                  </a:lnTo>
                  <a:lnTo>
                    <a:pt x="4522" y="651"/>
                  </a:lnTo>
                  <a:lnTo>
                    <a:pt x="4525" y="653"/>
                  </a:lnTo>
                  <a:lnTo>
                    <a:pt x="4527" y="655"/>
                  </a:lnTo>
                  <a:lnTo>
                    <a:pt x="4527" y="657"/>
                  </a:lnTo>
                  <a:lnTo>
                    <a:pt x="4527" y="660"/>
                  </a:lnTo>
                  <a:lnTo>
                    <a:pt x="4525" y="664"/>
                  </a:lnTo>
                  <a:lnTo>
                    <a:pt x="4523" y="665"/>
                  </a:lnTo>
                  <a:lnTo>
                    <a:pt x="4522" y="665"/>
                  </a:lnTo>
                  <a:lnTo>
                    <a:pt x="4518" y="665"/>
                  </a:lnTo>
                  <a:lnTo>
                    <a:pt x="4518" y="665"/>
                  </a:lnTo>
                  <a:close/>
                  <a:moveTo>
                    <a:pt x="4490" y="655"/>
                  </a:moveTo>
                  <a:lnTo>
                    <a:pt x="4490" y="655"/>
                  </a:lnTo>
                  <a:lnTo>
                    <a:pt x="4488" y="653"/>
                  </a:lnTo>
                  <a:lnTo>
                    <a:pt x="4487" y="651"/>
                  </a:lnTo>
                  <a:lnTo>
                    <a:pt x="4485" y="648"/>
                  </a:lnTo>
                  <a:lnTo>
                    <a:pt x="4487" y="646"/>
                  </a:lnTo>
                  <a:lnTo>
                    <a:pt x="4488" y="643"/>
                  </a:lnTo>
                  <a:lnTo>
                    <a:pt x="4490" y="643"/>
                  </a:lnTo>
                  <a:lnTo>
                    <a:pt x="4494" y="641"/>
                  </a:lnTo>
                  <a:lnTo>
                    <a:pt x="4495" y="643"/>
                  </a:lnTo>
                  <a:lnTo>
                    <a:pt x="4495" y="643"/>
                  </a:lnTo>
                  <a:lnTo>
                    <a:pt x="4499" y="644"/>
                  </a:lnTo>
                  <a:lnTo>
                    <a:pt x="4499" y="646"/>
                  </a:lnTo>
                  <a:lnTo>
                    <a:pt x="4501" y="650"/>
                  </a:lnTo>
                  <a:lnTo>
                    <a:pt x="4499" y="651"/>
                  </a:lnTo>
                  <a:lnTo>
                    <a:pt x="4497" y="655"/>
                  </a:lnTo>
                  <a:lnTo>
                    <a:pt x="4495" y="655"/>
                  </a:lnTo>
                  <a:lnTo>
                    <a:pt x="4494" y="657"/>
                  </a:lnTo>
                  <a:lnTo>
                    <a:pt x="4490" y="655"/>
                  </a:lnTo>
                  <a:lnTo>
                    <a:pt x="4490" y="655"/>
                  </a:lnTo>
                  <a:close/>
                  <a:moveTo>
                    <a:pt x="4464" y="644"/>
                  </a:moveTo>
                  <a:lnTo>
                    <a:pt x="4464" y="644"/>
                  </a:lnTo>
                  <a:lnTo>
                    <a:pt x="4460" y="643"/>
                  </a:lnTo>
                  <a:lnTo>
                    <a:pt x="4460" y="639"/>
                  </a:lnTo>
                  <a:lnTo>
                    <a:pt x="4458" y="637"/>
                  </a:lnTo>
                  <a:lnTo>
                    <a:pt x="4460" y="634"/>
                  </a:lnTo>
                  <a:lnTo>
                    <a:pt x="4462" y="632"/>
                  </a:lnTo>
                  <a:lnTo>
                    <a:pt x="4464" y="630"/>
                  </a:lnTo>
                  <a:lnTo>
                    <a:pt x="4467" y="629"/>
                  </a:lnTo>
                  <a:lnTo>
                    <a:pt x="4469" y="630"/>
                  </a:lnTo>
                  <a:lnTo>
                    <a:pt x="4469" y="630"/>
                  </a:lnTo>
                  <a:lnTo>
                    <a:pt x="4473" y="632"/>
                  </a:lnTo>
                  <a:lnTo>
                    <a:pt x="4473" y="634"/>
                  </a:lnTo>
                  <a:lnTo>
                    <a:pt x="4474" y="637"/>
                  </a:lnTo>
                  <a:lnTo>
                    <a:pt x="4473" y="639"/>
                  </a:lnTo>
                  <a:lnTo>
                    <a:pt x="4471" y="643"/>
                  </a:lnTo>
                  <a:lnTo>
                    <a:pt x="4469" y="644"/>
                  </a:lnTo>
                  <a:lnTo>
                    <a:pt x="4465" y="644"/>
                  </a:lnTo>
                  <a:lnTo>
                    <a:pt x="4464" y="644"/>
                  </a:lnTo>
                  <a:lnTo>
                    <a:pt x="4464" y="644"/>
                  </a:lnTo>
                  <a:close/>
                  <a:moveTo>
                    <a:pt x="4437" y="632"/>
                  </a:moveTo>
                  <a:lnTo>
                    <a:pt x="4437" y="632"/>
                  </a:lnTo>
                  <a:lnTo>
                    <a:pt x="4434" y="630"/>
                  </a:lnTo>
                  <a:lnTo>
                    <a:pt x="4434" y="627"/>
                  </a:lnTo>
                  <a:lnTo>
                    <a:pt x="4432" y="625"/>
                  </a:lnTo>
                  <a:lnTo>
                    <a:pt x="4434" y="622"/>
                  </a:lnTo>
                  <a:lnTo>
                    <a:pt x="4436" y="620"/>
                  </a:lnTo>
                  <a:lnTo>
                    <a:pt x="4437" y="618"/>
                  </a:lnTo>
                  <a:lnTo>
                    <a:pt x="4439" y="618"/>
                  </a:lnTo>
                  <a:lnTo>
                    <a:pt x="4443" y="618"/>
                  </a:lnTo>
                  <a:lnTo>
                    <a:pt x="4443" y="618"/>
                  </a:lnTo>
                  <a:lnTo>
                    <a:pt x="4446" y="620"/>
                  </a:lnTo>
                  <a:lnTo>
                    <a:pt x="4446" y="622"/>
                  </a:lnTo>
                  <a:lnTo>
                    <a:pt x="4448" y="625"/>
                  </a:lnTo>
                  <a:lnTo>
                    <a:pt x="4446" y="629"/>
                  </a:lnTo>
                  <a:lnTo>
                    <a:pt x="4444" y="630"/>
                  </a:lnTo>
                  <a:lnTo>
                    <a:pt x="4443" y="632"/>
                  </a:lnTo>
                  <a:lnTo>
                    <a:pt x="4439" y="632"/>
                  </a:lnTo>
                  <a:lnTo>
                    <a:pt x="4437" y="632"/>
                  </a:lnTo>
                  <a:lnTo>
                    <a:pt x="4437" y="632"/>
                  </a:lnTo>
                  <a:close/>
                  <a:moveTo>
                    <a:pt x="4411" y="627"/>
                  </a:moveTo>
                  <a:lnTo>
                    <a:pt x="4411" y="627"/>
                  </a:lnTo>
                  <a:lnTo>
                    <a:pt x="4408" y="625"/>
                  </a:lnTo>
                  <a:lnTo>
                    <a:pt x="4406" y="623"/>
                  </a:lnTo>
                  <a:lnTo>
                    <a:pt x="4406" y="622"/>
                  </a:lnTo>
                  <a:lnTo>
                    <a:pt x="4404" y="618"/>
                  </a:lnTo>
                  <a:lnTo>
                    <a:pt x="4406" y="615"/>
                  </a:lnTo>
                  <a:lnTo>
                    <a:pt x="4408" y="613"/>
                  </a:lnTo>
                  <a:lnTo>
                    <a:pt x="4409" y="613"/>
                  </a:lnTo>
                  <a:lnTo>
                    <a:pt x="4413" y="611"/>
                  </a:lnTo>
                  <a:lnTo>
                    <a:pt x="4413" y="611"/>
                  </a:lnTo>
                  <a:lnTo>
                    <a:pt x="4415" y="613"/>
                  </a:lnTo>
                  <a:lnTo>
                    <a:pt x="4418" y="615"/>
                  </a:lnTo>
                  <a:lnTo>
                    <a:pt x="4418" y="616"/>
                  </a:lnTo>
                  <a:lnTo>
                    <a:pt x="4420" y="620"/>
                  </a:lnTo>
                  <a:lnTo>
                    <a:pt x="4418" y="622"/>
                  </a:lnTo>
                  <a:lnTo>
                    <a:pt x="4416" y="625"/>
                  </a:lnTo>
                  <a:lnTo>
                    <a:pt x="4415" y="625"/>
                  </a:lnTo>
                  <a:lnTo>
                    <a:pt x="4411" y="627"/>
                  </a:lnTo>
                  <a:lnTo>
                    <a:pt x="4411" y="627"/>
                  </a:lnTo>
                  <a:close/>
                  <a:moveTo>
                    <a:pt x="4383" y="623"/>
                  </a:moveTo>
                  <a:lnTo>
                    <a:pt x="4383" y="623"/>
                  </a:lnTo>
                  <a:lnTo>
                    <a:pt x="4380" y="623"/>
                  </a:lnTo>
                  <a:lnTo>
                    <a:pt x="4378" y="622"/>
                  </a:lnTo>
                  <a:lnTo>
                    <a:pt x="4376" y="618"/>
                  </a:lnTo>
                  <a:lnTo>
                    <a:pt x="4376" y="616"/>
                  </a:lnTo>
                  <a:lnTo>
                    <a:pt x="4376" y="613"/>
                  </a:lnTo>
                  <a:lnTo>
                    <a:pt x="4378" y="611"/>
                  </a:lnTo>
                  <a:lnTo>
                    <a:pt x="4381" y="609"/>
                  </a:lnTo>
                  <a:lnTo>
                    <a:pt x="4383" y="609"/>
                  </a:lnTo>
                  <a:lnTo>
                    <a:pt x="4383" y="609"/>
                  </a:lnTo>
                  <a:lnTo>
                    <a:pt x="4387" y="611"/>
                  </a:lnTo>
                  <a:lnTo>
                    <a:pt x="4388" y="613"/>
                  </a:lnTo>
                  <a:lnTo>
                    <a:pt x="4390" y="615"/>
                  </a:lnTo>
                  <a:lnTo>
                    <a:pt x="4390" y="618"/>
                  </a:lnTo>
                  <a:lnTo>
                    <a:pt x="4390" y="620"/>
                  </a:lnTo>
                  <a:lnTo>
                    <a:pt x="4388" y="622"/>
                  </a:lnTo>
                  <a:lnTo>
                    <a:pt x="4385" y="623"/>
                  </a:lnTo>
                  <a:lnTo>
                    <a:pt x="4383" y="623"/>
                  </a:lnTo>
                  <a:lnTo>
                    <a:pt x="4383" y="623"/>
                  </a:lnTo>
                  <a:close/>
                  <a:moveTo>
                    <a:pt x="4353" y="622"/>
                  </a:moveTo>
                  <a:lnTo>
                    <a:pt x="4353" y="622"/>
                  </a:lnTo>
                  <a:lnTo>
                    <a:pt x="4350" y="620"/>
                  </a:lnTo>
                  <a:lnTo>
                    <a:pt x="4348" y="618"/>
                  </a:lnTo>
                  <a:lnTo>
                    <a:pt x="4348" y="616"/>
                  </a:lnTo>
                  <a:lnTo>
                    <a:pt x="4346" y="615"/>
                  </a:lnTo>
                  <a:lnTo>
                    <a:pt x="4348" y="611"/>
                  </a:lnTo>
                  <a:lnTo>
                    <a:pt x="4350" y="609"/>
                  </a:lnTo>
                  <a:lnTo>
                    <a:pt x="4352" y="608"/>
                  </a:lnTo>
                  <a:lnTo>
                    <a:pt x="4355" y="608"/>
                  </a:lnTo>
                  <a:lnTo>
                    <a:pt x="4355" y="608"/>
                  </a:lnTo>
                  <a:lnTo>
                    <a:pt x="4357" y="608"/>
                  </a:lnTo>
                  <a:lnTo>
                    <a:pt x="4360" y="609"/>
                  </a:lnTo>
                  <a:lnTo>
                    <a:pt x="4360" y="611"/>
                  </a:lnTo>
                  <a:lnTo>
                    <a:pt x="4362" y="615"/>
                  </a:lnTo>
                  <a:lnTo>
                    <a:pt x="4360" y="618"/>
                  </a:lnTo>
                  <a:lnTo>
                    <a:pt x="4359" y="620"/>
                  </a:lnTo>
                  <a:lnTo>
                    <a:pt x="4357" y="622"/>
                  </a:lnTo>
                  <a:lnTo>
                    <a:pt x="4353" y="622"/>
                  </a:lnTo>
                  <a:lnTo>
                    <a:pt x="4353" y="622"/>
                  </a:lnTo>
                  <a:close/>
                  <a:moveTo>
                    <a:pt x="4325" y="606"/>
                  </a:moveTo>
                  <a:lnTo>
                    <a:pt x="4325" y="606"/>
                  </a:lnTo>
                  <a:lnTo>
                    <a:pt x="4324" y="602"/>
                  </a:lnTo>
                  <a:lnTo>
                    <a:pt x="4324" y="601"/>
                  </a:lnTo>
                  <a:lnTo>
                    <a:pt x="4324" y="597"/>
                  </a:lnTo>
                  <a:lnTo>
                    <a:pt x="4327" y="595"/>
                  </a:lnTo>
                  <a:lnTo>
                    <a:pt x="4329" y="594"/>
                  </a:lnTo>
                  <a:lnTo>
                    <a:pt x="4331" y="594"/>
                  </a:lnTo>
                  <a:lnTo>
                    <a:pt x="4334" y="594"/>
                  </a:lnTo>
                  <a:lnTo>
                    <a:pt x="4336" y="595"/>
                  </a:lnTo>
                  <a:lnTo>
                    <a:pt x="4336" y="595"/>
                  </a:lnTo>
                  <a:lnTo>
                    <a:pt x="4338" y="599"/>
                  </a:lnTo>
                  <a:lnTo>
                    <a:pt x="4338" y="601"/>
                  </a:lnTo>
                  <a:lnTo>
                    <a:pt x="4338" y="604"/>
                  </a:lnTo>
                  <a:lnTo>
                    <a:pt x="4336" y="606"/>
                  </a:lnTo>
                  <a:lnTo>
                    <a:pt x="4334" y="608"/>
                  </a:lnTo>
                  <a:lnTo>
                    <a:pt x="4331" y="608"/>
                  </a:lnTo>
                  <a:lnTo>
                    <a:pt x="4327" y="608"/>
                  </a:lnTo>
                  <a:lnTo>
                    <a:pt x="4325" y="606"/>
                  </a:lnTo>
                  <a:lnTo>
                    <a:pt x="4325" y="606"/>
                  </a:lnTo>
                  <a:close/>
                  <a:moveTo>
                    <a:pt x="4306" y="585"/>
                  </a:moveTo>
                  <a:lnTo>
                    <a:pt x="4306" y="585"/>
                  </a:lnTo>
                  <a:lnTo>
                    <a:pt x="4304" y="581"/>
                  </a:lnTo>
                  <a:lnTo>
                    <a:pt x="4304" y="580"/>
                  </a:lnTo>
                  <a:lnTo>
                    <a:pt x="4304" y="576"/>
                  </a:lnTo>
                  <a:lnTo>
                    <a:pt x="4306" y="574"/>
                  </a:lnTo>
                  <a:lnTo>
                    <a:pt x="4310" y="573"/>
                  </a:lnTo>
                  <a:lnTo>
                    <a:pt x="4311" y="573"/>
                  </a:lnTo>
                  <a:lnTo>
                    <a:pt x="4315" y="573"/>
                  </a:lnTo>
                  <a:lnTo>
                    <a:pt x="4317" y="574"/>
                  </a:lnTo>
                  <a:lnTo>
                    <a:pt x="4317" y="574"/>
                  </a:lnTo>
                  <a:lnTo>
                    <a:pt x="4318" y="576"/>
                  </a:lnTo>
                  <a:lnTo>
                    <a:pt x="4318" y="580"/>
                  </a:lnTo>
                  <a:lnTo>
                    <a:pt x="4318" y="581"/>
                  </a:lnTo>
                  <a:lnTo>
                    <a:pt x="4317" y="585"/>
                  </a:lnTo>
                  <a:lnTo>
                    <a:pt x="4313" y="587"/>
                  </a:lnTo>
                  <a:lnTo>
                    <a:pt x="4311" y="587"/>
                  </a:lnTo>
                  <a:lnTo>
                    <a:pt x="4308" y="587"/>
                  </a:lnTo>
                  <a:lnTo>
                    <a:pt x="4306" y="585"/>
                  </a:lnTo>
                  <a:lnTo>
                    <a:pt x="4306" y="585"/>
                  </a:lnTo>
                  <a:close/>
                  <a:moveTo>
                    <a:pt x="4287" y="562"/>
                  </a:moveTo>
                  <a:lnTo>
                    <a:pt x="4287" y="562"/>
                  </a:lnTo>
                  <a:lnTo>
                    <a:pt x="4285" y="560"/>
                  </a:lnTo>
                  <a:lnTo>
                    <a:pt x="4285" y="557"/>
                  </a:lnTo>
                  <a:lnTo>
                    <a:pt x="4285" y="555"/>
                  </a:lnTo>
                  <a:lnTo>
                    <a:pt x="4287" y="552"/>
                  </a:lnTo>
                  <a:lnTo>
                    <a:pt x="4290" y="550"/>
                  </a:lnTo>
                  <a:lnTo>
                    <a:pt x="4292" y="550"/>
                  </a:lnTo>
                  <a:lnTo>
                    <a:pt x="4296" y="552"/>
                  </a:lnTo>
                  <a:lnTo>
                    <a:pt x="4297" y="553"/>
                  </a:lnTo>
                  <a:lnTo>
                    <a:pt x="4297" y="553"/>
                  </a:lnTo>
                  <a:lnTo>
                    <a:pt x="4299" y="555"/>
                  </a:lnTo>
                  <a:lnTo>
                    <a:pt x="4299" y="559"/>
                  </a:lnTo>
                  <a:lnTo>
                    <a:pt x="4299" y="560"/>
                  </a:lnTo>
                  <a:lnTo>
                    <a:pt x="4297" y="564"/>
                  </a:lnTo>
                  <a:lnTo>
                    <a:pt x="4294" y="564"/>
                  </a:lnTo>
                  <a:lnTo>
                    <a:pt x="4292" y="566"/>
                  </a:lnTo>
                  <a:lnTo>
                    <a:pt x="4289" y="564"/>
                  </a:lnTo>
                  <a:lnTo>
                    <a:pt x="4287" y="562"/>
                  </a:lnTo>
                  <a:lnTo>
                    <a:pt x="4287" y="562"/>
                  </a:lnTo>
                  <a:close/>
                  <a:moveTo>
                    <a:pt x="4268" y="541"/>
                  </a:moveTo>
                  <a:lnTo>
                    <a:pt x="4268" y="541"/>
                  </a:lnTo>
                  <a:lnTo>
                    <a:pt x="4266" y="538"/>
                  </a:lnTo>
                  <a:lnTo>
                    <a:pt x="4266" y="536"/>
                  </a:lnTo>
                  <a:lnTo>
                    <a:pt x="4266" y="532"/>
                  </a:lnTo>
                  <a:lnTo>
                    <a:pt x="4268" y="531"/>
                  </a:lnTo>
                  <a:lnTo>
                    <a:pt x="4271" y="529"/>
                  </a:lnTo>
                  <a:lnTo>
                    <a:pt x="4273" y="529"/>
                  </a:lnTo>
                  <a:lnTo>
                    <a:pt x="4276" y="529"/>
                  </a:lnTo>
                  <a:lnTo>
                    <a:pt x="4278" y="531"/>
                  </a:lnTo>
                  <a:lnTo>
                    <a:pt x="4278" y="531"/>
                  </a:lnTo>
                  <a:lnTo>
                    <a:pt x="4280" y="534"/>
                  </a:lnTo>
                  <a:lnTo>
                    <a:pt x="4280" y="536"/>
                  </a:lnTo>
                  <a:lnTo>
                    <a:pt x="4280" y="539"/>
                  </a:lnTo>
                  <a:lnTo>
                    <a:pt x="4278" y="541"/>
                  </a:lnTo>
                  <a:lnTo>
                    <a:pt x="4275" y="543"/>
                  </a:lnTo>
                  <a:lnTo>
                    <a:pt x="4273" y="543"/>
                  </a:lnTo>
                  <a:lnTo>
                    <a:pt x="4269" y="543"/>
                  </a:lnTo>
                  <a:lnTo>
                    <a:pt x="4268" y="541"/>
                  </a:lnTo>
                  <a:lnTo>
                    <a:pt x="4268" y="541"/>
                  </a:lnTo>
                  <a:close/>
                  <a:moveTo>
                    <a:pt x="4248" y="520"/>
                  </a:moveTo>
                  <a:lnTo>
                    <a:pt x="4248" y="520"/>
                  </a:lnTo>
                  <a:lnTo>
                    <a:pt x="4247" y="517"/>
                  </a:lnTo>
                  <a:lnTo>
                    <a:pt x="4247" y="515"/>
                  </a:lnTo>
                  <a:lnTo>
                    <a:pt x="4247" y="511"/>
                  </a:lnTo>
                  <a:lnTo>
                    <a:pt x="4248" y="510"/>
                  </a:lnTo>
                  <a:lnTo>
                    <a:pt x="4252" y="508"/>
                  </a:lnTo>
                  <a:lnTo>
                    <a:pt x="4254" y="508"/>
                  </a:lnTo>
                  <a:lnTo>
                    <a:pt x="4257" y="508"/>
                  </a:lnTo>
                  <a:lnTo>
                    <a:pt x="4259" y="510"/>
                  </a:lnTo>
                  <a:lnTo>
                    <a:pt x="4259" y="510"/>
                  </a:lnTo>
                  <a:lnTo>
                    <a:pt x="4261" y="511"/>
                  </a:lnTo>
                  <a:lnTo>
                    <a:pt x="4261" y="515"/>
                  </a:lnTo>
                  <a:lnTo>
                    <a:pt x="4261" y="517"/>
                  </a:lnTo>
                  <a:lnTo>
                    <a:pt x="4259" y="520"/>
                  </a:lnTo>
                  <a:lnTo>
                    <a:pt x="4255" y="522"/>
                  </a:lnTo>
                  <a:lnTo>
                    <a:pt x="4254" y="522"/>
                  </a:lnTo>
                  <a:lnTo>
                    <a:pt x="4250" y="522"/>
                  </a:lnTo>
                  <a:lnTo>
                    <a:pt x="4248" y="520"/>
                  </a:lnTo>
                  <a:lnTo>
                    <a:pt x="4248" y="520"/>
                  </a:lnTo>
                  <a:close/>
                  <a:moveTo>
                    <a:pt x="4229" y="497"/>
                  </a:moveTo>
                  <a:lnTo>
                    <a:pt x="4229" y="497"/>
                  </a:lnTo>
                  <a:lnTo>
                    <a:pt x="4227" y="496"/>
                  </a:lnTo>
                  <a:lnTo>
                    <a:pt x="4227" y="492"/>
                  </a:lnTo>
                  <a:lnTo>
                    <a:pt x="4227" y="490"/>
                  </a:lnTo>
                  <a:lnTo>
                    <a:pt x="4229" y="487"/>
                  </a:lnTo>
                  <a:lnTo>
                    <a:pt x="4233" y="485"/>
                  </a:lnTo>
                  <a:lnTo>
                    <a:pt x="4234" y="485"/>
                  </a:lnTo>
                  <a:lnTo>
                    <a:pt x="4238" y="487"/>
                  </a:lnTo>
                  <a:lnTo>
                    <a:pt x="4240" y="489"/>
                  </a:lnTo>
                  <a:lnTo>
                    <a:pt x="4240" y="489"/>
                  </a:lnTo>
                  <a:lnTo>
                    <a:pt x="4241" y="490"/>
                  </a:lnTo>
                  <a:lnTo>
                    <a:pt x="4241" y="494"/>
                  </a:lnTo>
                  <a:lnTo>
                    <a:pt x="4241" y="496"/>
                  </a:lnTo>
                  <a:lnTo>
                    <a:pt x="4240" y="499"/>
                  </a:lnTo>
                  <a:lnTo>
                    <a:pt x="4236" y="499"/>
                  </a:lnTo>
                  <a:lnTo>
                    <a:pt x="4234" y="501"/>
                  </a:lnTo>
                  <a:lnTo>
                    <a:pt x="4231" y="499"/>
                  </a:lnTo>
                  <a:lnTo>
                    <a:pt x="4229" y="497"/>
                  </a:lnTo>
                  <a:lnTo>
                    <a:pt x="4229" y="497"/>
                  </a:lnTo>
                  <a:close/>
                  <a:moveTo>
                    <a:pt x="4210" y="476"/>
                  </a:moveTo>
                  <a:lnTo>
                    <a:pt x="4210" y="476"/>
                  </a:lnTo>
                  <a:lnTo>
                    <a:pt x="4208" y="475"/>
                  </a:lnTo>
                  <a:lnTo>
                    <a:pt x="4208" y="471"/>
                  </a:lnTo>
                  <a:lnTo>
                    <a:pt x="4208" y="468"/>
                  </a:lnTo>
                  <a:lnTo>
                    <a:pt x="4210" y="466"/>
                  </a:lnTo>
                  <a:lnTo>
                    <a:pt x="4212" y="464"/>
                  </a:lnTo>
                  <a:lnTo>
                    <a:pt x="4215" y="464"/>
                  </a:lnTo>
                  <a:lnTo>
                    <a:pt x="4219" y="464"/>
                  </a:lnTo>
                  <a:lnTo>
                    <a:pt x="4220" y="468"/>
                  </a:lnTo>
                  <a:lnTo>
                    <a:pt x="4220" y="468"/>
                  </a:lnTo>
                  <a:lnTo>
                    <a:pt x="4222" y="469"/>
                  </a:lnTo>
                  <a:lnTo>
                    <a:pt x="4222" y="471"/>
                  </a:lnTo>
                  <a:lnTo>
                    <a:pt x="4222" y="475"/>
                  </a:lnTo>
                  <a:lnTo>
                    <a:pt x="4220" y="476"/>
                  </a:lnTo>
                  <a:lnTo>
                    <a:pt x="4217" y="478"/>
                  </a:lnTo>
                  <a:lnTo>
                    <a:pt x="4215" y="478"/>
                  </a:lnTo>
                  <a:lnTo>
                    <a:pt x="4212" y="478"/>
                  </a:lnTo>
                  <a:lnTo>
                    <a:pt x="4210" y="476"/>
                  </a:lnTo>
                  <a:lnTo>
                    <a:pt x="4210" y="476"/>
                  </a:lnTo>
                  <a:close/>
                  <a:moveTo>
                    <a:pt x="4189" y="464"/>
                  </a:moveTo>
                  <a:lnTo>
                    <a:pt x="4189" y="464"/>
                  </a:lnTo>
                  <a:lnTo>
                    <a:pt x="4185" y="462"/>
                  </a:lnTo>
                  <a:lnTo>
                    <a:pt x="4184" y="461"/>
                  </a:lnTo>
                  <a:lnTo>
                    <a:pt x="4184" y="457"/>
                  </a:lnTo>
                  <a:lnTo>
                    <a:pt x="4184" y="455"/>
                  </a:lnTo>
                  <a:lnTo>
                    <a:pt x="4185" y="452"/>
                  </a:lnTo>
                  <a:lnTo>
                    <a:pt x="4187" y="450"/>
                  </a:lnTo>
                  <a:lnTo>
                    <a:pt x="4191" y="450"/>
                  </a:lnTo>
                  <a:lnTo>
                    <a:pt x="4194" y="450"/>
                  </a:lnTo>
                  <a:lnTo>
                    <a:pt x="4194" y="450"/>
                  </a:lnTo>
                  <a:lnTo>
                    <a:pt x="4196" y="452"/>
                  </a:lnTo>
                  <a:lnTo>
                    <a:pt x="4198" y="454"/>
                  </a:lnTo>
                  <a:lnTo>
                    <a:pt x="4198" y="457"/>
                  </a:lnTo>
                  <a:lnTo>
                    <a:pt x="4198" y="459"/>
                  </a:lnTo>
                  <a:lnTo>
                    <a:pt x="4196" y="462"/>
                  </a:lnTo>
                  <a:lnTo>
                    <a:pt x="4194" y="464"/>
                  </a:lnTo>
                  <a:lnTo>
                    <a:pt x="4191" y="464"/>
                  </a:lnTo>
                  <a:lnTo>
                    <a:pt x="4189" y="464"/>
                  </a:lnTo>
                  <a:lnTo>
                    <a:pt x="4189" y="464"/>
                  </a:lnTo>
                  <a:close/>
                  <a:moveTo>
                    <a:pt x="4161" y="455"/>
                  </a:moveTo>
                  <a:lnTo>
                    <a:pt x="4161" y="455"/>
                  </a:lnTo>
                  <a:lnTo>
                    <a:pt x="4159" y="454"/>
                  </a:lnTo>
                  <a:lnTo>
                    <a:pt x="4157" y="452"/>
                  </a:lnTo>
                  <a:lnTo>
                    <a:pt x="4156" y="448"/>
                  </a:lnTo>
                  <a:lnTo>
                    <a:pt x="4157" y="447"/>
                  </a:lnTo>
                  <a:lnTo>
                    <a:pt x="4157" y="443"/>
                  </a:lnTo>
                  <a:lnTo>
                    <a:pt x="4161" y="441"/>
                  </a:lnTo>
                  <a:lnTo>
                    <a:pt x="4163" y="441"/>
                  </a:lnTo>
                  <a:lnTo>
                    <a:pt x="4166" y="441"/>
                  </a:lnTo>
                  <a:lnTo>
                    <a:pt x="4166" y="441"/>
                  </a:lnTo>
                  <a:lnTo>
                    <a:pt x="4168" y="443"/>
                  </a:lnTo>
                  <a:lnTo>
                    <a:pt x="4170" y="445"/>
                  </a:lnTo>
                  <a:lnTo>
                    <a:pt x="4171" y="447"/>
                  </a:lnTo>
                  <a:lnTo>
                    <a:pt x="4170" y="450"/>
                  </a:lnTo>
                  <a:lnTo>
                    <a:pt x="4170" y="454"/>
                  </a:lnTo>
                  <a:lnTo>
                    <a:pt x="4166" y="455"/>
                  </a:lnTo>
                  <a:lnTo>
                    <a:pt x="4164" y="455"/>
                  </a:lnTo>
                  <a:lnTo>
                    <a:pt x="4161" y="455"/>
                  </a:lnTo>
                  <a:lnTo>
                    <a:pt x="4161" y="455"/>
                  </a:lnTo>
                  <a:close/>
                  <a:moveTo>
                    <a:pt x="4135" y="447"/>
                  </a:moveTo>
                  <a:lnTo>
                    <a:pt x="4135" y="447"/>
                  </a:lnTo>
                  <a:lnTo>
                    <a:pt x="4131" y="445"/>
                  </a:lnTo>
                  <a:lnTo>
                    <a:pt x="4129" y="441"/>
                  </a:lnTo>
                  <a:lnTo>
                    <a:pt x="4129" y="440"/>
                  </a:lnTo>
                  <a:lnTo>
                    <a:pt x="4129" y="436"/>
                  </a:lnTo>
                  <a:lnTo>
                    <a:pt x="4131" y="434"/>
                  </a:lnTo>
                  <a:lnTo>
                    <a:pt x="4133" y="433"/>
                  </a:lnTo>
                  <a:lnTo>
                    <a:pt x="4135" y="431"/>
                  </a:lnTo>
                  <a:lnTo>
                    <a:pt x="4138" y="433"/>
                  </a:lnTo>
                  <a:lnTo>
                    <a:pt x="4138" y="433"/>
                  </a:lnTo>
                  <a:lnTo>
                    <a:pt x="4140" y="433"/>
                  </a:lnTo>
                  <a:lnTo>
                    <a:pt x="4142" y="436"/>
                  </a:lnTo>
                  <a:lnTo>
                    <a:pt x="4143" y="438"/>
                  </a:lnTo>
                  <a:lnTo>
                    <a:pt x="4143" y="441"/>
                  </a:lnTo>
                  <a:lnTo>
                    <a:pt x="4142" y="443"/>
                  </a:lnTo>
                  <a:lnTo>
                    <a:pt x="4140" y="445"/>
                  </a:lnTo>
                  <a:lnTo>
                    <a:pt x="4136" y="447"/>
                  </a:lnTo>
                  <a:lnTo>
                    <a:pt x="4135" y="447"/>
                  </a:lnTo>
                  <a:lnTo>
                    <a:pt x="4135" y="447"/>
                  </a:lnTo>
                  <a:close/>
                  <a:moveTo>
                    <a:pt x="4107" y="436"/>
                  </a:moveTo>
                  <a:lnTo>
                    <a:pt x="4107" y="436"/>
                  </a:lnTo>
                  <a:lnTo>
                    <a:pt x="4103" y="434"/>
                  </a:lnTo>
                  <a:lnTo>
                    <a:pt x="4101" y="433"/>
                  </a:lnTo>
                  <a:lnTo>
                    <a:pt x="4101" y="431"/>
                  </a:lnTo>
                  <a:lnTo>
                    <a:pt x="4101" y="427"/>
                  </a:lnTo>
                  <a:lnTo>
                    <a:pt x="4103" y="426"/>
                  </a:lnTo>
                  <a:lnTo>
                    <a:pt x="4105" y="424"/>
                  </a:lnTo>
                  <a:lnTo>
                    <a:pt x="4108" y="422"/>
                  </a:lnTo>
                  <a:lnTo>
                    <a:pt x="4110" y="424"/>
                  </a:lnTo>
                  <a:lnTo>
                    <a:pt x="4110" y="424"/>
                  </a:lnTo>
                  <a:lnTo>
                    <a:pt x="4114" y="424"/>
                  </a:lnTo>
                  <a:lnTo>
                    <a:pt x="4115" y="426"/>
                  </a:lnTo>
                  <a:lnTo>
                    <a:pt x="4115" y="429"/>
                  </a:lnTo>
                  <a:lnTo>
                    <a:pt x="4115" y="433"/>
                  </a:lnTo>
                  <a:lnTo>
                    <a:pt x="4114" y="434"/>
                  </a:lnTo>
                  <a:lnTo>
                    <a:pt x="4112" y="436"/>
                  </a:lnTo>
                  <a:lnTo>
                    <a:pt x="4108" y="436"/>
                  </a:lnTo>
                  <a:lnTo>
                    <a:pt x="4107" y="436"/>
                  </a:lnTo>
                  <a:lnTo>
                    <a:pt x="4107" y="436"/>
                  </a:lnTo>
                  <a:close/>
                  <a:moveTo>
                    <a:pt x="4079" y="427"/>
                  </a:moveTo>
                  <a:lnTo>
                    <a:pt x="4079" y="427"/>
                  </a:lnTo>
                  <a:lnTo>
                    <a:pt x="4077" y="426"/>
                  </a:lnTo>
                  <a:lnTo>
                    <a:pt x="4075" y="424"/>
                  </a:lnTo>
                  <a:lnTo>
                    <a:pt x="4073" y="420"/>
                  </a:lnTo>
                  <a:lnTo>
                    <a:pt x="4075" y="419"/>
                  </a:lnTo>
                  <a:lnTo>
                    <a:pt x="4075" y="415"/>
                  </a:lnTo>
                  <a:lnTo>
                    <a:pt x="4077" y="413"/>
                  </a:lnTo>
                  <a:lnTo>
                    <a:pt x="4080" y="413"/>
                  </a:lnTo>
                  <a:lnTo>
                    <a:pt x="4084" y="413"/>
                  </a:lnTo>
                  <a:lnTo>
                    <a:pt x="4084" y="413"/>
                  </a:lnTo>
                  <a:lnTo>
                    <a:pt x="4086" y="415"/>
                  </a:lnTo>
                  <a:lnTo>
                    <a:pt x="4087" y="417"/>
                  </a:lnTo>
                  <a:lnTo>
                    <a:pt x="4087" y="420"/>
                  </a:lnTo>
                  <a:lnTo>
                    <a:pt x="4087" y="424"/>
                  </a:lnTo>
                  <a:lnTo>
                    <a:pt x="4086" y="426"/>
                  </a:lnTo>
                  <a:lnTo>
                    <a:pt x="4084" y="427"/>
                  </a:lnTo>
                  <a:lnTo>
                    <a:pt x="4082" y="427"/>
                  </a:lnTo>
                  <a:lnTo>
                    <a:pt x="4079" y="427"/>
                  </a:lnTo>
                  <a:lnTo>
                    <a:pt x="4079" y="427"/>
                  </a:lnTo>
                  <a:close/>
                  <a:moveTo>
                    <a:pt x="4051" y="419"/>
                  </a:moveTo>
                  <a:lnTo>
                    <a:pt x="4051" y="419"/>
                  </a:lnTo>
                  <a:lnTo>
                    <a:pt x="4049" y="417"/>
                  </a:lnTo>
                  <a:lnTo>
                    <a:pt x="4047" y="415"/>
                  </a:lnTo>
                  <a:lnTo>
                    <a:pt x="4047" y="412"/>
                  </a:lnTo>
                  <a:lnTo>
                    <a:pt x="4047" y="410"/>
                  </a:lnTo>
                  <a:lnTo>
                    <a:pt x="4049" y="406"/>
                  </a:lnTo>
                  <a:lnTo>
                    <a:pt x="4051" y="405"/>
                  </a:lnTo>
                  <a:lnTo>
                    <a:pt x="4052" y="405"/>
                  </a:lnTo>
                  <a:lnTo>
                    <a:pt x="4056" y="405"/>
                  </a:lnTo>
                  <a:lnTo>
                    <a:pt x="4056" y="405"/>
                  </a:lnTo>
                  <a:lnTo>
                    <a:pt x="4058" y="406"/>
                  </a:lnTo>
                  <a:lnTo>
                    <a:pt x="4059" y="408"/>
                  </a:lnTo>
                  <a:lnTo>
                    <a:pt x="4061" y="412"/>
                  </a:lnTo>
                  <a:lnTo>
                    <a:pt x="4061" y="413"/>
                  </a:lnTo>
                  <a:lnTo>
                    <a:pt x="4059" y="417"/>
                  </a:lnTo>
                  <a:lnTo>
                    <a:pt x="4056" y="419"/>
                  </a:lnTo>
                  <a:lnTo>
                    <a:pt x="4054" y="419"/>
                  </a:lnTo>
                  <a:lnTo>
                    <a:pt x="4051" y="419"/>
                  </a:lnTo>
                  <a:lnTo>
                    <a:pt x="4051" y="419"/>
                  </a:lnTo>
                  <a:close/>
                  <a:moveTo>
                    <a:pt x="4023" y="408"/>
                  </a:moveTo>
                  <a:lnTo>
                    <a:pt x="4023" y="408"/>
                  </a:lnTo>
                  <a:lnTo>
                    <a:pt x="4021" y="406"/>
                  </a:lnTo>
                  <a:lnTo>
                    <a:pt x="4019" y="403"/>
                  </a:lnTo>
                  <a:lnTo>
                    <a:pt x="4019" y="401"/>
                  </a:lnTo>
                  <a:lnTo>
                    <a:pt x="4021" y="398"/>
                  </a:lnTo>
                  <a:lnTo>
                    <a:pt x="4023" y="396"/>
                  </a:lnTo>
                  <a:lnTo>
                    <a:pt x="4024" y="394"/>
                  </a:lnTo>
                  <a:lnTo>
                    <a:pt x="4028" y="394"/>
                  </a:lnTo>
                  <a:lnTo>
                    <a:pt x="4030" y="396"/>
                  </a:lnTo>
                  <a:lnTo>
                    <a:pt x="4030" y="396"/>
                  </a:lnTo>
                  <a:lnTo>
                    <a:pt x="4033" y="398"/>
                  </a:lnTo>
                  <a:lnTo>
                    <a:pt x="4033" y="399"/>
                  </a:lnTo>
                  <a:lnTo>
                    <a:pt x="4033" y="403"/>
                  </a:lnTo>
                  <a:lnTo>
                    <a:pt x="4033" y="405"/>
                  </a:lnTo>
                  <a:lnTo>
                    <a:pt x="4031" y="406"/>
                  </a:lnTo>
                  <a:lnTo>
                    <a:pt x="4028" y="408"/>
                  </a:lnTo>
                  <a:lnTo>
                    <a:pt x="4026" y="408"/>
                  </a:lnTo>
                  <a:lnTo>
                    <a:pt x="4023" y="408"/>
                  </a:lnTo>
                  <a:lnTo>
                    <a:pt x="4023" y="408"/>
                  </a:lnTo>
                  <a:close/>
                  <a:moveTo>
                    <a:pt x="3998" y="392"/>
                  </a:moveTo>
                  <a:lnTo>
                    <a:pt x="3998" y="392"/>
                  </a:lnTo>
                  <a:lnTo>
                    <a:pt x="3996" y="391"/>
                  </a:lnTo>
                  <a:lnTo>
                    <a:pt x="3995" y="389"/>
                  </a:lnTo>
                  <a:lnTo>
                    <a:pt x="3995" y="385"/>
                  </a:lnTo>
                  <a:lnTo>
                    <a:pt x="3996" y="384"/>
                  </a:lnTo>
                  <a:lnTo>
                    <a:pt x="3998" y="380"/>
                  </a:lnTo>
                  <a:lnTo>
                    <a:pt x="4000" y="380"/>
                  </a:lnTo>
                  <a:lnTo>
                    <a:pt x="4002" y="380"/>
                  </a:lnTo>
                  <a:lnTo>
                    <a:pt x="4005" y="380"/>
                  </a:lnTo>
                  <a:lnTo>
                    <a:pt x="4005" y="380"/>
                  </a:lnTo>
                  <a:lnTo>
                    <a:pt x="4007" y="382"/>
                  </a:lnTo>
                  <a:lnTo>
                    <a:pt x="4009" y="385"/>
                  </a:lnTo>
                  <a:lnTo>
                    <a:pt x="4009" y="387"/>
                  </a:lnTo>
                  <a:lnTo>
                    <a:pt x="4009" y="391"/>
                  </a:lnTo>
                  <a:lnTo>
                    <a:pt x="4005" y="392"/>
                  </a:lnTo>
                  <a:lnTo>
                    <a:pt x="4003" y="394"/>
                  </a:lnTo>
                  <a:lnTo>
                    <a:pt x="4000" y="394"/>
                  </a:lnTo>
                  <a:lnTo>
                    <a:pt x="3998" y="392"/>
                  </a:lnTo>
                  <a:lnTo>
                    <a:pt x="3998" y="392"/>
                  </a:lnTo>
                  <a:close/>
                  <a:moveTo>
                    <a:pt x="3974" y="378"/>
                  </a:moveTo>
                  <a:lnTo>
                    <a:pt x="3974" y="378"/>
                  </a:lnTo>
                  <a:lnTo>
                    <a:pt x="3972" y="377"/>
                  </a:lnTo>
                  <a:lnTo>
                    <a:pt x="3970" y="373"/>
                  </a:lnTo>
                  <a:lnTo>
                    <a:pt x="3970" y="371"/>
                  </a:lnTo>
                  <a:lnTo>
                    <a:pt x="3970" y="368"/>
                  </a:lnTo>
                  <a:lnTo>
                    <a:pt x="3972" y="366"/>
                  </a:lnTo>
                  <a:lnTo>
                    <a:pt x="3975" y="364"/>
                  </a:lnTo>
                  <a:lnTo>
                    <a:pt x="3977" y="364"/>
                  </a:lnTo>
                  <a:lnTo>
                    <a:pt x="3981" y="366"/>
                  </a:lnTo>
                  <a:lnTo>
                    <a:pt x="3981" y="366"/>
                  </a:lnTo>
                  <a:lnTo>
                    <a:pt x="3982" y="368"/>
                  </a:lnTo>
                  <a:lnTo>
                    <a:pt x="3984" y="370"/>
                  </a:lnTo>
                  <a:lnTo>
                    <a:pt x="3984" y="373"/>
                  </a:lnTo>
                  <a:lnTo>
                    <a:pt x="3982" y="375"/>
                  </a:lnTo>
                  <a:lnTo>
                    <a:pt x="3981" y="377"/>
                  </a:lnTo>
                  <a:lnTo>
                    <a:pt x="3979" y="378"/>
                  </a:lnTo>
                  <a:lnTo>
                    <a:pt x="3975" y="378"/>
                  </a:lnTo>
                  <a:lnTo>
                    <a:pt x="3974" y="378"/>
                  </a:lnTo>
                  <a:lnTo>
                    <a:pt x="3974" y="378"/>
                  </a:lnTo>
                  <a:close/>
                  <a:moveTo>
                    <a:pt x="3949" y="363"/>
                  </a:moveTo>
                  <a:lnTo>
                    <a:pt x="3949" y="363"/>
                  </a:lnTo>
                  <a:lnTo>
                    <a:pt x="3946" y="361"/>
                  </a:lnTo>
                  <a:lnTo>
                    <a:pt x="3946" y="359"/>
                  </a:lnTo>
                  <a:lnTo>
                    <a:pt x="3944" y="356"/>
                  </a:lnTo>
                  <a:lnTo>
                    <a:pt x="3946" y="354"/>
                  </a:lnTo>
                  <a:lnTo>
                    <a:pt x="3947" y="350"/>
                  </a:lnTo>
                  <a:lnTo>
                    <a:pt x="3951" y="350"/>
                  </a:lnTo>
                  <a:lnTo>
                    <a:pt x="3953" y="350"/>
                  </a:lnTo>
                  <a:lnTo>
                    <a:pt x="3956" y="350"/>
                  </a:lnTo>
                  <a:lnTo>
                    <a:pt x="3956" y="350"/>
                  </a:lnTo>
                  <a:lnTo>
                    <a:pt x="3958" y="352"/>
                  </a:lnTo>
                  <a:lnTo>
                    <a:pt x="3960" y="356"/>
                  </a:lnTo>
                  <a:lnTo>
                    <a:pt x="3960" y="357"/>
                  </a:lnTo>
                  <a:lnTo>
                    <a:pt x="3958" y="361"/>
                  </a:lnTo>
                  <a:lnTo>
                    <a:pt x="3956" y="363"/>
                  </a:lnTo>
                  <a:lnTo>
                    <a:pt x="3954" y="364"/>
                  </a:lnTo>
                  <a:lnTo>
                    <a:pt x="3951" y="364"/>
                  </a:lnTo>
                  <a:lnTo>
                    <a:pt x="3949" y="363"/>
                  </a:lnTo>
                  <a:lnTo>
                    <a:pt x="3949" y="363"/>
                  </a:lnTo>
                  <a:close/>
                  <a:moveTo>
                    <a:pt x="3925" y="345"/>
                  </a:moveTo>
                  <a:lnTo>
                    <a:pt x="3925" y="345"/>
                  </a:lnTo>
                  <a:lnTo>
                    <a:pt x="3921" y="343"/>
                  </a:lnTo>
                  <a:lnTo>
                    <a:pt x="3921" y="340"/>
                  </a:lnTo>
                  <a:lnTo>
                    <a:pt x="3921" y="338"/>
                  </a:lnTo>
                  <a:lnTo>
                    <a:pt x="3923" y="335"/>
                  </a:lnTo>
                  <a:lnTo>
                    <a:pt x="3925" y="333"/>
                  </a:lnTo>
                  <a:lnTo>
                    <a:pt x="3928" y="333"/>
                  </a:lnTo>
                  <a:lnTo>
                    <a:pt x="3930" y="333"/>
                  </a:lnTo>
                  <a:lnTo>
                    <a:pt x="3933" y="335"/>
                  </a:lnTo>
                  <a:lnTo>
                    <a:pt x="3933" y="335"/>
                  </a:lnTo>
                  <a:lnTo>
                    <a:pt x="3935" y="336"/>
                  </a:lnTo>
                  <a:lnTo>
                    <a:pt x="3935" y="340"/>
                  </a:lnTo>
                  <a:lnTo>
                    <a:pt x="3935" y="342"/>
                  </a:lnTo>
                  <a:lnTo>
                    <a:pt x="3935" y="345"/>
                  </a:lnTo>
                  <a:lnTo>
                    <a:pt x="3932" y="347"/>
                  </a:lnTo>
                  <a:lnTo>
                    <a:pt x="3930" y="347"/>
                  </a:lnTo>
                  <a:lnTo>
                    <a:pt x="3926" y="347"/>
                  </a:lnTo>
                  <a:lnTo>
                    <a:pt x="3925" y="345"/>
                  </a:lnTo>
                  <a:lnTo>
                    <a:pt x="3925" y="345"/>
                  </a:lnTo>
                  <a:close/>
                  <a:moveTo>
                    <a:pt x="3902" y="328"/>
                  </a:moveTo>
                  <a:lnTo>
                    <a:pt x="3902" y="328"/>
                  </a:lnTo>
                  <a:lnTo>
                    <a:pt x="3900" y="324"/>
                  </a:lnTo>
                  <a:lnTo>
                    <a:pt x="3898" y="322"/>
                  </a:lnTo>
                  <a:lnTo>
                    <a:pt x="3898" y="319"/>
                  </a:lnTo>
                  <a:lnTo>
                    <a:pt x="3900" y="317"/>
                  </a:lnTo>
                  <a:lnTo>
                    <a:pt x="3904" y="315"/>
                  </a:lnTo>
                  <a:lnTo>
                    <a:pt x="3905" y="314"/>
                  </a:lnTo>
                  <a:lnTo>
                    <a:pt x="3909" y="314"/>
                  </a:lnTo>
                  <a:lnTo>
                    <a:pt x="3911" y="315"/>
                  </a:lnTo>
                  <a:lnTo>
                    <a:pt x="3911" y="315"/>
                  </a:lnTo>
                  <a:lnTo>
                    <a:pt x="3912" y="319"/>
                  </a:lnTo>
                  <a:lnTo>
                    <a:pt x="3914" y="321"/>
                  </a:lnTo>
                  <a:lnTo>
                    <a:pt x="3914" y="324"/>
                  </a:lnTo>
                  <a:lnTo>
                    <a:pt x="3912" y="326"/>
                  </a:lnTo>
                  <a:lnTo>
                    <a:pt x="3909" y="328"/>
                  </a:lnTo>
                  <a:lnTo>
                    <a:pt x="3907" y="328"/>
                  </a:lnTo>
                  <a:lnTo>
                    <a:pt x="3904" y="328"/>
                  </a:lnTo>
                  <a:lnTo>
                    <a:pt x="3902" y="328"/>
                  </a:lnTo>
                  <a:lnTo>
                    <a:pt x="3902" y="328"/>
                  </a:lnTo>
                  <a:close/>
                  <a:moveTo>
                    <a:pt x="3879" y="308"/>
                  </a:moveTo>
                  <a:lnTo>
                    <a:pt x="3879" y="308"/>
                  </a:lnTo>
                  <a:lnTo>
                    <a:pt x="3877" y="307"/>
                  </a:lnTo>
                  <a:lnTo>
                    <a:pt x="3877" y="303"/>
                  </a:lnTo>
                  <a:lnTo>
                    <a:pt x="3877" y="301"/>
                  </a:lnTo>
                  <a:lnTo>
                    <a:pt x="3879" y="298"/>
                  </a:lnTo>
                  <a:lnTo>
                    <a:pt x="3881" y="296"/>
                  </a:lnTo>
                  <a:lnTo>
                    <a:pt x="3883" y="296"/>
                  </a:lnTo>
                  <a:lnTo>
                    <a:pt x="3886" y="296"/>
                  </a:lnTo>
                  <a:lnTo>
                    <a:pt x="3888" y="298"/>
                  </a:lnTo>
                  <a:lnTo>
                    <a:pt x="3890" y="298"/>
                  </a:lnTo>
                  <a:lnTo>
                    <a:pt x="3891" y="300"/>
                  </a:lnTo>
                  <a:lnTo>
                    <a:pt x="3891" y="301"/>
                  </a:lnTo>
                  <a:lnTo>
                    <a:pt x="3891" y="305"/>
                  </a:lnTo>
                  <a:lnTo>
                    <a:pt x="3890" y="308"/>
                  </a:lnTo>
                  <a:lnTo>
                    <a:pt x="3888" y="310"/>
                  </a:lnTo>
                  <a:lnTo>
                    <a:pt x="3884" y="310"/>
                  </a:lnTo>
                  <a:lnTo>
                    <a:pt x="3883" y="310"/>
                  </a:lnTo>
                  <a:lnTo>
                    <a:pt x="3879" y="308"/>
                  </a:lnTo>
                  <a:lnTo>
                    <a:pt x="3879" y="308"/>
                  </a:lnTo>
                  <a:close/>
                  <a:moveTo>
                    <a:pt x="3858" y="291"/>
                  </a:moveTo>
                  <a:lnTo>
                    <a:pt x="3858" y="291"/>
                  </a:lnTo>
                  <a:lnTo>
                    <a:pt x="3855" y="287"/>
                  </a:lnTo>
                  <a:lnTo>
                    <a:pt x="3855" y="286"/>
                  </a:lnTo>
                  <a:lnTo>
                    <a:pt x="3855" y="282"/>
                  </a:lnTo>
                  <a:lnTo>
                    <a:pt x="3856" y="280"/>
                  </a:lnTo>
                  <a:lnTo>
                    <a:pt x="3858" y="279"/>
                  </a:lnTo>
                  <a:lnTo>
                    <a:pt x="3862" y="277"/>
                  </a:lnTo>
                  <a:lnTo>
                    <a:pt x="3863" y="277"/>
                  </a:lnTo>
                  <a:lnTo>
                    <a:pt x="3867" y="279"/>
                  </a:lnTo>
                  <a:lnTo>
                    <a:pt x="3867" y="279"/>
                  </a:lnTo>
                  <a:lnTo>
                    <a:pt x="3869" y="280"/>
                  </a:lnTo>
                  <a:lnTo>
                    <a:pt x="3869" y="284"/>
                  </a:lnTo>
                  <a:lnTo>
                    <a:pt x="3869" y="286"/>
                  </a:lnTo>
                  <a:lnTo>
                    <a:pt x="3867" y="289"/>
                  </a:lnTo>
                  <a:lnTo>
                    <a:pt x="3865" y="291"/>
                  </a:lnTo>
                  <a:lnTo>
                    <a:pt x="3862" y="291"/>
                  </a:lnTo>
                  <a:lnTo>
                    <a:pt x="3860" y="291"/>
                  </a:lnTo>
                  <a:lnTo>
                    <a:pt x="3858" y="291"/>
                  </a:lnTo>
                  <a:lnTo>
                    <a:pt x="3858" y="291"/>
                  </a:lnTo>
                  <a:close/>
                  <a:moveTo>
                    <a:pt x="3835" y="272"/>
                  </a:moveTo>
                  <a:lnTo>
                    <a:pt x="3835" y="272"/>
                  </a:lnTo>
                  <a:lnTo>
                    <a:pt x="3834" y="270"/>
                  </a:lnTo>
                  <a:lnTo>
                    <a:pt x="3832" y="266"/>
                  </a:lnTo>
                  <a:lnTo>
                    <a:pt x="3832" y="263"/>
                  </a:lnTo>
                  <a:lnTo>
                    <a:pt x="3834" y="261"/>
                  </a:lnTo>
                  <a:lnTo>
                    <a:pt x="3835" y="259"/>
                  </a:lnTo>
                  <a:lnTo>
                    <a:pt x="3839" y="259"/>
                  </a:lnTo>
                  <a:lnTo>
                    <a:pt x="3842" y="259"/>
                  </a:lnTo>
                  <a:lnTo>
                    <a:pt x="3844" y="261"/>
                  </a:lnTo>
                  <a:lnTo>
                    <a:pt x="3844" y="261"/>
                  </a:lnTo>
                  <a:lnTo>
                    <a:pt x="3846" y="263"/>
                  </a:lnTo>
                  <a:lnTo>
                    <a:pt x="3846" y="265"/>
                  </a:lnTo>
                  <a:lnTo>
                    <a:pt x="3846" y="268"/>
                  </a:lnTo>
                  <a:lnTo>
                    <a:pt x="3846" y="270"/>
                  </a:lnTo>
                  <a:lnTo>
                    <a:pt x="3842" y="272"/>
                  </a:lnTo>
                  <a:lnTo>
                    <a:pt x="3841" y="273"/>
                  </a:lnTo>
                  <a:lnTo>
                    <a:pt x="3837" y="273"/>
                  </a:lnTo>
                  <a:lnTo>
                    <a:pt x="3835" y="272"/>
                  </a:lnTo>
                  <a:lnTo>
                    <a:pt x="3835" y="272"/>
                  </a:lnTo>
                  <a:close/>
                  <a:moveTo>
                    <a:pt x="3814" y="251"/>
                  </a:moveTo>
                  <a:lnTo>
                    <a:pt x="3814" y="251"/>
                  </a:lnTo>
                  <a:lnTo>
                    <a:pt x="3813" y="247"/>
                  </a:lnTo>
                  <a:lnTo>
                    <a:pt x="3813" y="245"/>
                  </a:lnTo>
                  <a:lnTo>
                    <a:pt x="3813" y="242"/>
                  </a:lnTo>
                  <a:lnTo>
                    <a:pt x="3814" y="240"/>
                  </a:lnTo>
                  <a:lnTo>
                    <a:pt x="3816" y="238"/>
                  </a:lnTo>
                  <a:lnTo>
                    <a:pt x="3820" y="238"/>
                  </a:lnTo>
                  <a:lnTo>
                    <a:pt x="3821" y="238"/>
                  </a:lnTo>
                  <a:lnTo>
                    <a:pt x="3825" y="240"/>
                  </a:lnTo>
                  <a:lnTo>
                    <a:pt x="3825" y="240"/>
                  </a:lnTo>
                  <a:lnTo>
                    <a:pt x="3827" y="242"/>
                  </a:lnTo>
                  <a:lnTo>
                    <a:pt x="3827" y="245"/>
                  </a:lnTo>
                  <a:lnTo>
                    <a:pt x="3827" y="247"/>
                  </a:lnTo>
                  <a:lnTo>
                    <a:pt x="3825" y="251"/>
                  </a:lnTo>
                  <a:lnTo>
                    <a:pt x="3821" y="252"/>
                  </a:lnTo>
                  <a:lnTo>
                    <a:pt x="3820" y="252"/>
                  </a:lnTo>
                  <a:lnTo>
                    <a:pt x="3816" y="252"/>
                  </a:lnTo>
                  <a:lnTo>
                    <a:pt x="3814" y="251"/>
                  </a:lnTo>
                  <a:lnTo>
                    <a:pt x="3814" y="251"/>
                  </a:lnTo>
                  <a:close/>
                  <a:moveTo>
                    <a:pt x="3795" y="230"/>
                  </a:moveTo>
                  <a:lnTo>
                    <a:pt x="3795" y="230"/>
                  </a:lnTo>
                  <a:lnTo>
                    <a:pt x="3793" y="226"/>
                  </a:lnTo>
                  <a:lnTo>
                    <a:pt x="3792" y="224"/>
                  </a:lnTo>
                  <a:lnTo>
                    <a:pt x="3793" y="221"/>
                  </a:lnTo>
                  <a:lnTo>
                    <a:pt x="3795" y="219"/>
                  </a:lnTo>
                  <a:lnTo>
                    <a:pt x="3797" y="217"/>
                  </a:lnTo>
                  <a:lnTo>
                    <a:pt x="3799" y="217"/>
                  </a:lnTo>
                  <a:lnTo>
                    <a:pt x="3802" y="217"/>
                  </a:lnTo>
                  <a:lnTo>
                    <a:pt x="3804" y="219"/>
                  </a:lnTo>
                  <a:lnTo>
                    <a:pt x="3804" y="219"/>
                  </a:lnTo>
                  <a:lnTo>
                    <a:pt x="3806" y="221"/>
                  </a:lnTo>
                  <a:lnTo>
                    <a:pt x="3807" y="224"/>
                  </a:lnTo>
                  <a:lnTo>
                    <a:pt x="3806" y="226"/>
                  </a:lnTo>
                  <a:lnTo>
                    <a:pt x="3804" y="230"/>
                  </a:lnTo>
                  <a:lnTo>
                    <a:pt x="3802" y="231"/>
                  </a:lnTo>
                  <a:lnTo>
                    <a:pt x="3799" y="231"/>
                  </a:lnTo>
                  <a:lnTo>
                    <a:pt x="3797" y="231"/>
                  </a:lnTo>
                  <a:lnTo>
                    <a:pt x="3795" y="230"/>
                  </a:lnTo>
                  <a:lnTo>
                    <a:pt x="3795" y="230"/>
                  </a:lnTo>
                  <a:close/>
                  <a:moveTo>
                    <a:pt x="3774" y="209"/>
                  </a:moveTo>
                  <a:lnTo>
                    <a:pt x="3774" y="209"/>
                  </a:lnTo>
                  <a:lnTo>
                    <a:pt x="3772" y="205"/>
                  </a:lnTo>
                  <a:lnTo>
                    <a:pt x="3772" y="203"/>
                  </a:lnTo>
                  <a:lnTo>
                    <a:pt x="3772" y="200"/>
                  </a:lnTo>
                  <a:lnTo>
                    <a:pt x="3774" y="198"/>
                  </a:lnTo>
                  <a:lnTo>
                    <a:pt x="3776" y="196"/>
                  </a:lnTo>
                  <a:lnTo>
                    <a:pt x="3779" y="196"/>
                  </a:lnTo>
                  <a:lnTo>
                    <a:pt x="3783" y="196"/>
                  </a:lnTo>
                  <a:lnTo>
                    <a:pt x="3785" y="198"/>
                  </a:lnTo>
                  <a:lnTo>
                    <a:pt x="3785" y="198"/>
                  </a:lnTo>
                  <a:lnTo>
                    <a:pt x="3786" y="200"/>
                  </a:lnTo>
                  <a:lnTo>
                    <a:pt x="3786" y="203"/>
                  </a:lnTo>
                  <a:lnTo>
                    <a:pt x="3786" y="205"/>
                  </a:lnTo>
                  <a:lnTo>
                    <a:pt x="3785" y="209"/>
                  </a:lnTo>
                  <a:lnTo>
                    <a:pt x="3781" y="210"/>
                  </a:lnTo>
                  <a:lnTo>
                    <a:pt x="3779" y="210"/>
                  </a:lnTo>
                  <a:lnTo>
                    <a:pt x="3776" y="210"/>
                  </a:lnTo>
                  <a:lnTo>
                    <a:pt x="3774" y="209"/>
                  </a:lnTo>
                  <a:lnTo>
                    <a:pt x="3774" y="209"/>
                  </a:lnTo>
                  <a:close/>
                  <a:moveTo>
                    <a:pt x="3762" y="193"/>
                  </a:moveTo>
                  <a:lnTo>
                    <a:pt x="3760" y="193"/>
                  </a:lnTo>
                  <a:lnTo>
                    <a:pt x="3758" y="193"/>
                  </a:lnTo>
                  <a:lnTo>
                    <a:pt x="3755" y="191"/>
                  </a:lnTo>
                  <a:lnTo>
                    <a:pt x="3753" y="189"/>
                  </a:lnTo>
                  <a:lnTo>
                    <a:pt x="3751" y="188"/>
                  </a:lnTo>
                  <a:lnTo>
                    <a:pt x="3751" y="184"/>
                  </a:lnTo>
                  <a:lnTo>
                    <a:pt x="3751" y="182"/>
                  </a:lnTo>
                  <a:lnTo>
                    <a:pt x="3753" y="181"/>
                  </a:lnTo>
                  <a:lnTo>
                    <a:pt x="3757" y="179"/>
                  </a:lnTo>
                  <a:lnTo>
                    <a:pt x="3757" y="179"/>
                  </a:lnTo>
                  <a:lnTo>
                    <a:pt x="3760" y="179"/>
                  </a:lnTo>
                  <a:lnTo>
                    <a:pt x="3762" y="179"/>
                  </a:lnTo>
                  <a:lnTo>
                    <a:pt x="3764" y="181"/>
                  </a:lnTo>
                  <a:lnTo>
                    <a:pt x="3765" y="182"/>
                  </a:lnTo>
                  <a:lnTo>
                    <a:pt x="3765" y="186"/>
                  </a:lnTo>
                  <a:lnTo>
                    <a:pt x="3765" y="188"/>
                  </a:lnTo>
                  <a:lnTo>
                    <a:pt x="3764" y="191"/>
                  </a:lnTo>
                  <a:lnTo>
                    <a:pt x="3762" y="193"/>
                  </a:lnTo>
                  <a:lnTo>
                    <a:pt x="3762" y="193"/>
                  </a:lnTo>
                  <a:close/>
                  <a:moveTo>
                    <a:pt x="3734" y="202"/>
                  </a:moveTo>
                  <a:lnTo>
                    <a:pt x="3734" y="202"/>
                  </a:lnTo>
                  <a:lnTo>
                    <a:pt x="3730" y="202"/>
                  </a:lnTo>
                  <a:lnTo>
                    <a:pt x="3729" y="202"/>
                  </a:lnTo>
                  <a:lnTo>
                    <a:pt x="3725" y="200"/>
                  </a:lnTo>
                  <a:lnTo>
                    <a:pt x="3725" y="196"/>
                  </a:lnTo>
                  <a:lnTo>
                    <a:pt x="3723" y="193"/>
                  </a:lnTo>
                  <a:lnTo>
                    <a:pt x="3725" y="191"/>
                  </a:lnTo>
                  <a:lnTo>
                    <a:pt x="3727" y="189"/>
                  </a:lnTo>
                  <a:lnTo>
                    <a:pt x="3729" y="188"/>
                  </a:lnTo>
                  <a:lnTo>
                    <a:pt x="3729" y="188"/>
                  </a:lnTo>
                  <a:lnTo>
                    <a:pt x="3732" y="188"/>
                  </a:lnTo>
                  <a:lnTo>
                    <a:pt x="3734" y="188"/>
                  </a:lnTo>
                  <a:lnTo>
                    <a:pt x="3737" y="189"/>
                  </a:lnTo>
                  <a:lnTo>
                    <a:pt x="3737" y="193"/>
                  </a:lnTo>
                  <a:lnTo>
                    <a:pt x="3737" y="195"/>
                  </a:lnTo>
                  <a:lnTo>
                    <a:pt x="3737" y="198"/>
                  </a:lnTo>
                  <a:lnTo>
                    <a:pt x="3736" y="200"/>
                  </a:lnTo>
                  <a:lnTo>
                    <a:pt x="3734" y="202"/>
                  </a:lnTo>
                  <a:lnTo>
                    <a:pt x="3734" y="202"/>
                  </a:lnTo>
                  <a:close/>
                  <a:moveTo>
                    <a:pt x="3706" y="210"/>
                  </a:moveTo>
                  <a:lnTo>
                    <a:pt x="3706" y="210"/>
                  </a:lnTo>
                  <a:lnTo>
                    <a:pt x="3702" y="210"/>
                  </a:lnTo>
                  <a:lnTo>
                    <a:pt x="3701" y="210"/>
                  </a:lnTo>
                  <a:lnTo>
                    <a:pt x="3699" y="209"/>
                  </a:lnTo>
                  <a:lnTo>
                    <a:pt x="3697" y="205"/>
                  </a:lnTo>
                  <a:lnTo>
                    <a:pt x="3697" y="203"/>
                  </a:lnTo>
                  <a:lnTo>
                    <a:pt x="3697" y="200"/>
                  </a:lnTo>
                  <a:lnTo>
                    <a:pt x="3699" y="198"/>
                  </a:lnTo>
                  <a:lnTo>
                    <a:pt x="3702" y="196"/>
                  </a:lnTo>
                  <a:lnTo>
                    <a:pt x="3702" y="196"/>
                  </a:lnTo>
                  <a:lnTo>
                    <a:pt x="3704" y="196"/>
                  </a:lnTo>
                  <a:lnTo>
                    <a:pt x="3708" y="196"/>
                  </a:lnTo>
                  <a:lnTo>
                    <a:pt x="3709" y="198"/>
                  </a:lnTo>
                  <a:lnTo>
                    <a:pt x="3711" y="202"/>
                  </a:lnTo>
                  <a:lnTo>
                    <a:pt x="3711" y="203"/>
                  </a:lnTo>
                  <a:lnTo>
                    <a:pt x="3709" y="207"/>
                  </a:lnTo>
                  <a:lnTo>
                    <a:pt x="3708" y="209"/>
                  </a:lnTo>
                  <a:lnTo>
                    <a:pt x="3706" y="210"/>
                  </a:lnTo>
                  <a:lnTo>
                    <a:pt x="3706" y="210"/>
                  </a:lnTo>
                  <a:close/>
                  <a:moveTo>
                    <a:pt x="3678" y="219"/>
                  </a:moveTo>
                  <a:lnTo>
                    <a:pt x="3678" y="219"/>
                  </a:lnTo>
                  <a:lnTo>
                    <a:pt x="3676" y="219"/>
                  </a:lnTo>
                  <a:lnTo>
                    <a:pt x="3673" y="219"/>
                  </a:lnTo>
                  <a:lnTo>
                    <a:pt x="3671" y="217"/>
                  </a:lnTo>
                  <a:lnTo>
                    <a:pt x="3669" y="214"/>
                  </a:lnTo>
                  <a:lnTo>
                    <a:pt x="3669" y="212"/>
                  </a:lnTo>
                  <a:lnTo>
                    <a:pt x="3669" y="209"/>
                  </a:lnTo>
                  <a:lnTo>
                    <a:pt x="3671" y="207"/>
                  </a:lnTo>
                  <a:lnTo>
                    <a:pt x="3674" y="205"/>
                  </a:lnTo>
                  <a:lnTo>
                    <a:pt x="3674" y="205"/>
                  </a:lnTo>
                  <a:lnTo>
                    <a:pt x="3676" y="205"/>
                  </a:lnTo>
                  <a:lnTo>
                    <a:pt x="3680" y="205"/>
                  </a:lnTo>
                  <a:lnTo>
                    <a:pt x="3681" y="207"/>
                  </a:lnTo>
                  <a:lnTo>
                    <a:pt x="3683" y="210"/>
                  </a:lnTo>
                  <a:lnTo>
                    <a:pt x="3683" y="212"/>
                  </a:lnTo>
                  <a:lnTo>
                    <a:pt x="3683" y="216"/>
                  </a:lnTo>
                  <a:lnTo>
                    <a:pt x="3681" y="217"/>
                  </a:lnTo>
                  <a:lnTo>
                    <a:pt x="3678" y="219"/>
                  </a:lnTo>
                  <a:lnTo>
                    <a:pt x="3678" y="219"/>
                  </a:lnTo>
                  <a:close/>
                  <a:moveTo>
                    <a:pt x="3652" y="228"/>
                  </a:moveTo>
                  <a:lnTo>
                    <a:pt x="3652" y="228"/>
                  </a:lnTo>
                  <a:lnTo>
                    <a:pt x="3648" y="228"/>
                  </a:lnTo>
                  <a:lnTo>
                    <a:pt x="3645" y="228"/>
                  </a:lnTo>
                  <a:lnTo>
                    <a:pt x="3643" y="226"/>
                  </a:lnTo>
                  <a:lnTo>
                    <a:pt x="3641" y="224"/>
                  </a:lnTo>
                  <a:lnTo>
                    <a:pt x="3641" y="221"/>
                  </a:lnTo>
                  <a:lnTo>
                    <a:pt x="3643" y="217"/>
                  </a:lnTo>
                  <a:lnTo>
                    <a:pt x="3645" y="216"/>
                  </a:lnTo>
                  <a:lnTo>
                    <a:pt x="3646" y="214"/>
                  </a:lnTo>
                  <a:lnTo>
                    <a:pt x="3646" y="214"/>
                  </a:lnTo>
                  <a:lnTo>
                    <a:pt x="3650" y="214"/>
                  </a:lnTo>
                  <a:lnTo>
                    <a:pt x="3652" y="216"/>
                  </a:lnTo>
                  <a:lnTo>
                    <a:pt x="3653" y="217"/>
                  </a:lnTo>
                  <a:lnTo>
                    <a:pt x="3655" y="219"/>
                  </a:lnTo>
                  <a:lnTo>
                    <a:pt x="3655" y="223"/>
                  </a:lnTo>
                  <a:lnTo>
                    <a:pt x="3655" y="224"/>
                  </a:lnTo>
                  <a:lnTo>
                    <a:pt x="3653" y="226"/>
                  </a:lnTo>
                  <a:lnTo>
                    <a:pt x="3652" y="228"/>
                  </a:lnTo>
                  <a:lnTo>
                    <a:pt x="3652" y="228"/>
                  </a:lnTo>
                  <a:close/>
                  <a:moveTo>
                    <a:pt x="3620" y="228"/>
                  </a:moveTo>
                  <a:lnTo>
                    <a:pt x="3620" y="228"/>
                  </a:lnTo>
                  <a:lnTo>
                    <a:pt x="3617" y="228"/>
                  </a:lnTo>
                  <a:lnTo>
                    <a:pt x="3615" y="226"/>
                  </a:lnTo>
                  <a:lnTo>
                    <a:pt x="3613" y="223"/>
                  </a:lnTo>
                  <a:lnTo>
                    <a:pt x="3613" y="221"/>
                  </a:lnTo>
                  <a:lnTo>
                    <a:pt x="3613" y="217"/>
                  </a:lnTo>
                  <a:lnTo>
                    <a:pt x="3615" y="216"/>
                  </a:lnTo>
                  <a:lnTo>
                    <a:pt x="3618" y="214"/>
                  </a:lnTo>
                  <a:lnTo>
                    <a:pt x="3620" y="214"/>
                  </a:lnTo>
                  <a:lnTo>
                    <a:pt x="3620" y="214"/>
                  </a:lnTo>
                  <a:lnTo>
                    <a:pt x="3624" y="214"/>
                  </a:lnTo>
                  <a:lnTo>
                    <a:pt x="3625" y="216"/>
                  </a:lnTo>
                  <a:lnTo>
                    <a:pt x="3627" y="219"/>
                  </a:lnTo>
                  <a:lnTo>
                    <a:pt x="3627" y="221"/>
                  </a:lnTo>
                  <a:lnTo>
                    <a:pt x="3627" y="224"/>
                  </a:lnTo>
                  <a:lnTo>
                    <a:pt x="3625" y="226"/>
                  </a:lnTo>
                  <a:lnTo>
                    <a:pt x="3622" y="228"/>
                  </a:lnTo>
                  <a:lnTo>
                    <a:pt x="3620" y="228"/>
                  </a:lnTo>
                  <a:lnTo>
                    <a:pt x="3620" y="228"/>
                  </a:lnTo>
                  <a:close/>
                  <a:moveTo>
                    <a:pt x="3590" y="224"/>
                  </a:moveTo>
                  <a:lnTo>
                    <a:pt x="3590" y="224"/>
                  </a:lnTo>
                  <a:lnTo>
                    <a:pt x="3587" y="224"/>
                  </a:lnTo>
                  <a:lnTo>
                    <a:pt x="3585" y="223"/>
                  </a:lnTo>
                  <a:lnTo>
                    <a:pt x="3583" y="219"/>
                  </a:lnTo>
                  <a:lnTo>
                    <a:pt x="3583" y="217"/>
                  </a:lnTo>
                  <a:lnTo>
                    <a:pt x="3585" y="214"/>
                  </a:lnTo>
                  <a:lnTo>
                    <a:pt x="3587" y="212"/>
                  </a:lnTo>
                  <a:lnTo>
                    <a:pt x="3589" y="210"/>
                  </a:lnTo>
                  <a:lnTo>
                    <a:pt x="3592" y="210"/>
                  </a:lnTo>
                  <a:lnTo>
                    <a:pt x="3592" y="210"/>
                  </a:lnTo>
                  <a:lnTo>
                    <a:pt x="3594" y="212"/>
                  </a:lnTo>
                  <a:lnTo>
                    <a:pt x="3597" y="214"/>
                  </a:lnTo>
                  <a:lnTo>
                    <a:pt x="3597" y="216"/>
                  </a:lnTo>
                  <a:lnTo>
                    <a:pt x="3599" y="219"/>
                  </a:lnTo>
                  <a:lnTo>
                    <a:pt x="3597" y="221"/>
                  </a:lnTo>
                  <a:lnTo>
                    <a:pt x="3596" y="223"/>
                  </a:lnTo>
                  <a:lnTo>
                    <a:pt x="3594" y="224"/>
                  </a:lnTo>
                  <a:lnTo>
                    <a:pt x="3590" y="224"/>
                  </a:lnTo>
                  <a:lnTo>
                    <a:pt x="3590" y="224"/>
                  </a:lnTo>
                  <a:close/>
                  <a:moveTo>
                    <a:pt x="3562" y="223"/>
                  </a:moveTo>
                  <a:lnTo>
                    <a:pt x="3562" y="223"/>
                  </a:lnTo>
                  <a:lnTo>
                    <a:pt x="3559" y="221"/>
                  </a:lnTo>
                  <a:lnTo>
                    <a:pt x="3557" y="219"/>
                  </a:lnTo>
                  <a:lnTo>
                    <a:pt x="3555" y="217"/>
                  </a:lnTo>
                  <a:lnTo>
                    <a:pt x="3555" y="214"/>
                  </a:lnTo>
                  <a:lnTo>
                    <a:pt x="3555" y="212"/>
                  </a:lnTo>
                  <a:lnTo>
                    <a:pt x="3557" y="209"/>
                  </a:lnTo>
                  <a:lnTo>
                    <a:pt x="3561" y="209"/>
                  </a:lnTo>
                  <a:lnTo>
                    <a:pt x="3564" y="209"/>
                  </a:lnTo>
                  <a:lnTo>
                    <a:pt x="3564" y="209"/>
                  </a:lnTo>
                  <a:lnTo>
                    <a:pt x="3566" y="209"/>
                  </a:lnTo>
                  <a:lnTo>
                    <a:pt x="3568" y="210"/>
                  </a:lnTo>
                  <a:lnTo>
                    <a:pt x="3569" y="212"/>
                  </a:lnTo>
                  <a:lnTo>
                    <a:pt x="3569" y="216"/>
                  </a:lnTo>
                  <a:lnTo>
                    <a:pt x="3569" y="219"/>
                  </a:lnTo>
                  <a:lnTo>
                    <a:pt x="3568" y="221"/>
                  </a:lnTo>
                  <a:lnTo>
                    <a:pt x="3564" y="223"/>
                  </a:lnTo>
                  <a:lnTo>
                    <a:pt x="3562" y="223"/>
                  </a:lnTo>
                  <a:lnTo>
                    <a:pt x="3562" y="223"/>
                  </a:lnTo>
                  <a:close/>
                  <a:moveTo>
                    <a:pt x="3533" y="219"/>
                  </a:moveTo>
                  <a:lnTo>
                    <a:pt x="3533" y="219"/>
                  </a:lnTo>
                  <a:lnTo>
                    <a:pt x="3529" y="219"/>
                  </a:lnTo>
                  <a:lnTo>
                    <a:pt x="3527" y="217"/>
                  </a:lnTo>
                  <a:lnTo>
                    <a:pt x="3527" y="214"/>
                  </a:lnTo>
                  <a:lnTo>
                    <a:pt x="3527" y="212"/>
                  </a:lnTo>
                  <a:lnTo>
                    <a:pt x="3527" y="209"/>
                  </a:lnTo>
                  <a:lnTo>
                    <a:pt x="3529" y="207"/>
                  </a:lnTo>
                  <a:lnTo>
                    <a:pt x="3531" y="205"/>
                  </a:lnTo>
                  <a:lnTo>
                    <a:pt x="3534" y="205"/>
                  </a:lnTo>
                  <a:lnTo>
                    <a:pt x="3534" y="205"/>
                  </a:lnTo>
                  <a:lnTo>
                    <a:pt x="3538" y="205"/>
                  </a:lnTo>
                  <a:lnTo>
                    <a:pt x="3540" y="207"/>
                  </a:lnTo>
                  <a:lnTo>
                    <a:pt x="3541" y="210"/>
                  </a:lnTo>
                  <a:lnTo>
                    <a:pt x="3541" y="212"/>
                  </a:lnTo>
                  <a:lnTo>
                    <a:pt x="3540" y="216"/>
                  </a:lnTo>
                  <a:lnTo>
                    <a:pt x="3538" y="217"/>
                  </a:lnTo>
                  <a:lnTo>
                    <a:pt x="3536" y="219"/>
                  </a:lnTo>
                  <a:lnTo>
                    <a:pt x="3533" y="219"/>
                  </a:lnTo>
                  <a:lnTo>
                    <a:pt x="3533" y="219"/>
                  </a:lnTo>
                  <a:close/>
                  <a:moveTo>
                    <a:pt x="3506" y="202"/>
                  </a:moveTo>
                  <a:lnTo>
                    <a:pt x="3506" y="202"/>
                  </a:lnTo>
                  <a:lnTo>
                    <a:pt x="3505" y="200"/>
                  </a:lnTo>
                  <a:lnTo>
                    <a:pt x="3503" y="196"/>
                  </a:lnTo>
                  <a:lnTo>
                    <a:pt x="3505" y="195"/>
                  </a:lnTo>
                  <a:lnTo>
                    <a:pt x="3506" y="193"/>
                  </a:lnTo>
                  <a:lnTo>
                    <a:pt x="3508" y="191"/>
                  </a:lnTo>
                  <a:lnTo>
                    <a:pt x="3512" y="189"/>
                  </a:lnTo>
                  <a:lnTo>
                    <a:pt x="3513" y="191"/>
                  </a:lnTo>
                  <a:lnTo>
                    <a:pt x="3517" y="193"/>
                  </a:lnTo>
                  <a:lnTo>
                    <a:pt x="3517" y="193"/>
                  </a:lnTo>
                  <a:lnTo>
                    <a:pt x="3517" y="195"/>
                  </a:lnTo>
                  <a:lnTo>
                    <a:pt x="3519" y="198"/>
                  </a:lnTo>
                  <a:lnTo>
                    <a:pt x="3517" y="200"/>
                  </a:lnTo>
                  <a:lnTo>
                    <a:pt x="3515" y="203"/>
                  </a:lnTo>
                  <a:lnTo>
                    <a:pt x="3513" y="203"/>
                  </a:lnTo>
                  <a:lnTo>
                    <a:pt x="3510" y="205"/>
                  </a:lnTo>
                  <a:lnTo>
                    <a:pt x="3508" y="203"/>
                  </a:lnTo>
                  <a:lnTo>
                    <a:pt x="3506" y="202"/>
                  </a:lnTo>
                  <a:lnTo>
                    <a:pt x="3506" y="202"/>
                  </a:lnTo>
                  <a:close/>
                  <a:moveTo>
                    <a:pt x="3485" y="175"/>
                  </a:moveTo>
                  <a:lnTo>
                    <a:pt x="3485" y="175"/>
                  </a:lnTo>
                  <a:lnTo>
                    <a:pt x="3485" y="172"/>
                  </a:lnTo>
                  <a:lnTo>
                    <a:pt x="3487" y="170"/>
                  </a:lnTo>
                  <a:lnTo>
                    <a:pt x="3489" y="168"/>
                  </a:lnTo>
                  <a:lnTo>
                    <a:pt x="3492" y="168"/>
                  </a:lnTo>
                  <a:lnTo>
                    <a:pt x="3496" y="168"/>
                  </a:lnTo>
                  <a:lnTo>
                    <a:pt x="3498" y="170"/>
                  </a:lnTo>
                  <a:lnTo>
                    <a:pt x="3499" y="172"/>
                  </a:lnTo>
                  <a:lnTo>
                    <a:pt x="3499" y="175"/>
                  </a:lnTo>
                  <a:lnTo>
                    <a:pt x="3499" y="175"/>
                  </a:lnTo>
                  <a:lnTo>
                    <a:pt x="3499" y="179"/>
                  </a:lnTo>
                  <a:lnTo>
                    <a:pt x="3498" y="181"/>
                  </a:lnTo>
                  <a:lnTo>
                    <a:pt x="3496" y="182"/>
                  </a:lnTo>
                  <a:lnTo>
                    <a:pt x="3492" y="182"/>
                  </a:lnTo>
                  <a:lnTo>
                    <a:pt x="3489" y="182"/>
                  </a:lnTo>
                  <a:lnTo>
                    <a:pt x="3487" y="181"/>
                  </a:lnTo>
                  <a:lnTo>
                    <a:pt x="3485" y="179"/>
                  </a:lnTo>
                  <a:lnTo>
                    <a:pt x="3485" y="175"/>
                  </a:lnTo>
                  <a:lnTo>
                    <a:pt x="3485" y="175"/>
                  </a:lnTo>
                  <a:close/>
                  <a:moveTo>
                    <a:pt x="3485" y="147"/>
                  </a:moveTo>
                  <a:lnTo>
                    <a:pt x="3485" y="147"/>
                  </a:lnTo>
                  <a:lnTo>
                    <a:pt x="3485" y="144"/>
                  </a:lnTo>
                  <a:lnTo>
                    <a:pt x="3487" y="142"/>
                  </a:lnTo>
                  <a:lnTo>
                    <a:pt x="3489" y="140"/>
                  </a:lnTo>
                  <a:lnTo>
                    <a:pt x="3492" y="139"/>
                  </a:lnTo>
                  <a:lnTo>
                    <a:pt x="3496" y="140"/>
                  </a:lnTo>
                  <a:lnTo>
                    <a:pt x="3498" y="142"/>
                  </a:lnTo>
                  <a:lnTo>
                    <a:pt x="3499" y="144"/>
                  </a:lnTo>
                  <a:lnTo>
                    <a:pt x="3499" y="147"/>
                  </a:lnTo>
                  <a:lnTo>
                    <a:pt x="3499" y="147"/>
                  </a:lnTo>
                  <a:lnTo>
                    <a:pt x="3499" y="149"/>
                  </a:lnTo>
                  <a:lnTo>
                    <a:pt x="3498" y="151"/>
                  </a:lnTo>
                  <a:lnTo>
                    <a:pt x="3496" y="153"/>
                  </a:lnTo>
                  <a:lnTo>
                    <a:pt x="3492" y="154"/>
                  </a:lnTo>
                  <a:lnTo>
                    <a:pt x="3489" y="153"/>
                  </a:lnTo>
                  <a:lnTo>
                    <a:pt x="3487" y="151"/>
                  </a:lnTo>
                  <a:lnTo>
                    <a:pt x="3485" y="149"/>
                  </a:lnTo>
                  <a:lnTo>
                    <a:pt x="3485" y="147"/>
                  </a:lnTo>
                  <a:lnTo>
                    <a:pt x="3485" y="147"/>
                  </a:lnTo>
                  <a:close/>
                  <a:moveTo>
                    <a:pt x="3485" y="118"/>
                  </a:moveTo>
                  <a:lnTo>
                    <a:pt x="3485" y="118"/>
                  </a:lnTo>
                  <a:lnTo>
                    <a:pt x="3485" y="114"/>
                  </a:lnTo>
                  <a:lnTo>
                    <a:pt x="3487" y="112"/>
                  </a:lnTo>
                  <a:lnTo>
                    <a:pt x="3489" y="111"/>
                  </a:lnTo>
                  <a:lnTo>
                    <a:pt x="3492" y="111"/>
                  </a:lnTo>
                  <a:lnTo>
                    <a:pt x="3496" y="111"/>
                  </a:lnTo>
                  <a:lnTo>
                    <a:pt x="3498" y="112"/>
                  </a:lnTo>
                  <a:lnTo>
                    <a:pt x="3499" y="114"/>
                  </a:lnTo>
                  <a:lnTo>
                    <a:pt x="3499" y="118"/>
                  </a:lnTo>
                  <a:lnTo>
                    <a:pt x="3499" y="118"/>
                  </a:lnTo>
                  <a:lnTo>
                    <a:pt x="3499" y="121"/>
                  </a:lnTo>
                  <a:lnTo>
                    <a:pt x="3498" y="123"/>
                  </a:lnTo>
                  <a:lnTo>
                    <a:pt x="3496" y="125"/>
                  </a:lnTo>
                  <a:lnTo>
                    <a:pt x="3492" y="125"/>
                  </a:lnTo>
                  <a:lnTo>
                    <a:pt x="3489" y="125"/>
                  </a:lnTo>
                  <a:lnTo>
                    <a:pt x="3487" y="123"/>
                  </a:lnTo>
                  <a:lnTo>
                    <a:pt x="3485" y="121"/>
                  </a:lnTo>
                  <a:lnTo>
                    <a:pt x="3485" y="118"/>
                  </a:lnTo>
                  <a:lnTo>
                    <a:pt x="3485" y="118"/>
                  </a:lnTo>
                  <a:close/>
                  <a:moveTo>
                    <a:pt x="3485" y="88"/>
                  </a:moveTo>
                  <a:lnTo>
                    <a:pt x="3485" y="88"/>
                  </a:lnTo>
                  <a:lnTo>
                    <a:pt x="3485" y="86"/>
                  </a:lnTo>
                  <a:lnTo>
                    <a:pt x="3487" y="83"/>
                  </a:lnTo>
                  <a:lnTo>
                    <a:pt x="3489" y="83"/>
                  </a:lnTo>
                  <a:lnTo>
                    <a:pt x="3492" y="81"/>
                  </a:lnTo>
                  <a:lnTo>
                    <a:pt x="3496" y="83"/>
                  </a:lnTo>
                  <a:lnTo>
                    <a:pt x="3498" y="83"/>
                  </a:lnTo>
                  <a:lnTo>
                    <a:pt x="3499" y="86"/>
                  </a:lnTo>
                  <a:lnTo>
                    <a:pt x="3499" y="88"/>
                  </a:lnTo>
                  <a:lnTo>
                    <a:pt x="3499" y="88"/>
                  </a:lnTo>
                  <a:lnTo>
                    <a:pt x="3499" y="91"/>
                  </a:lnTo>
                  <a:lnTo>
                    <a:pt x="3498" y="93"/>
                  </a:lnTo>
                  <a:lnTo>
                    <a:pt x="3496" y="95"/>
                  </a:lnTo>
                  <a:lnTo>
                    <a:pt x="3492" y="97"/>
                  </a:lnTo>
                  <a:lnTo>
                    <a:pt x="3489" y="95"/>
                  </a:lnTo>
                  <a:lnTo>
                    <a:pt x="3487" y="93"/>
                  </a:lnTo>
                  <a:lnTo>
                    <a:pt x="3485" y="91"/>
                  </a:lnTo>
                  <a:lnTo>
                    <a:pt x="3485" y="88"/>
                  </a:lnTo>
                  <a:lnTo>
                    <a:pt x="3485" y="88"/>
                  </a:lnTo>
                  <a:close/>
                  <a:moveTo>
                    <a:pt x="3484" y="67"/>
                  </a:moveTo>
                  <a:lnTo>
                    <a:pt x="3484" y="67"/>
                  </a:lnTo>
                  <a:lnTo>
                    <a:pt x="3482" y="63"/>
                  </a:lnTo>
                  <a:lnTo>
                    <a:pt x="3482" y="62"/>
                  </a:lnTo>
                  <a:lnTo>
                    <a:pt x="3482" y="58"/>
                  </a:lnTo>
                  <a:lnTo>
                    <a:pt x="3484" y="56"/>
                  </a:lnTo>
                  <a:lnTo>
                    <a:pt x="3485" y="55"/>
                  </a:lnTo>
                  <a:lnTo>
                    <a:pt x="3489" y="55"/>
                  </a:lnTo>
                  <a:lnTo>
                    <a:pt x="3492" y="55"/>
                  </a:lnTo>
                  <a:lnTo>
                    <a:pt x="3494" y="56"/>
                  </a:lnTo>
                  <a:lnTo>
                    <a:pt x="3494" y="56"/>
                  </a:lnTo>
                  <a:lnTo>
                    <a:pt x="3496" y="58"/>
                  </a:lnTo>
                  <a:lnTo>
                    <a:pt x="3496" y="62"/>
                  </a:lnTo>
                  <a:lnTo>
                    <a:pt x="3496" y="63"/>
                  </a:lnTo>
                  <a:lnTo>
                    <a:pt x="3494" y="67"/>
                  </a:lnTo>
                  <a:lnTo>
                    <a:pt x="3491" y="69"/>
                  </a:lnTo>
                  <a:lnTo>
                    <a:pt x="3489" y="69"/>
                  </a:lnTo>
                  <a:lnTo>
                    <a:pt x="3485" y="69"/>
                  </a:lnTo>
                  <a:lnTo>
                    <a:pt x="3484" y="67"/>
                  </a:lnTo>
                  <a:lnTo>
                    <a:pt x="3484" y="67"/>
                  </a:lnTo>
                  <a:close/>
                  <a:moveTo>
                    <a:pt x="3464" y="46"/>
                  </a:moveTo>
                  <a:lnTo>
                    <a:pt x="3464" y="46"/>
                  </a:lnTo>
                  <a:lnTo>
                    <a:pt x="3463" y="42"/>
                  </a:lnTo>
                  <a:lnTo>
                    <a:pt x="3461" y="41"/>
                  </a:lnTo>
                  <a:lnTo>
                    <a:pt x="3463" y="37"/>
                  </a:lnTo>
                  <a:lnTo>
                    <a:pt x="3464" y="35"/>
                  </a:lnTo>
                  <a:lnTo>
                    <a:pt x="3466" y="34"/>
                  </a:lnTo>
                  <a:lnTo>
                    <a:pt x="3470" y="34"/>
                  </a:lnTo>
                  <a:lnTo>
                    <a:pt x="3471" y="34"/>
                  </a:lnTo>
                  <a:lnTo>
                    <a:pt x="3475" y="35"/>
                  </a:lnTo>
                  <a:lnTo>
                    <a:pt x="3475" y="35"/>
                  </a:lnTo>
                  <a:lnTo>
                    <a:pt x="3475" y="37"/>
                  </a:lnTo>
                  <a:lnTo>
                    <a:pt x="3477" y="41"/>
                  </a:lnTo>
                  <a:lnTo>
                    <a:pt x="3475" y="42"/>
                  </a:lnTo>
                  <a:lnTo>
                    <a:pt x="3475" y="46"/>
                  </a:lnTo>
                  <a:lnTo>
                    <a:pt x="3471" y="48"/>
                  </a:lnTo>
                  <a:lnTo>
                    <a:pt x="3470" y="48"/>
                  </a:lnTo>
                  <a:lnTo>
                    <a:pt x="3466" y="48"/>
                  </a:lnTo>
                  <a:lnTo>
                    <a:pt x="3464" y="46"/>
                  </a:lnTo>
                  <a:lnTo>
                    <a:pt x="3464" y="46"/>
                  </a:lnTo>
                  <a:close/>
                  <a:moveTo>
                    <a:pt x="3443" y="25"/>
                  </a:moveTo>
                  <a:lnTo>
                    <a:pt x="3443" y="25"/>
                  </a:lnTo>
                  <a:lnTo>
                    <a:pt x="3442" y="21"/>
                  </a:lnTo>
                  <a:lnTo>
                    <a:pt x="3442" y="20"/>
                  </a:lnTo>
                  <a:lnTo>
                    <a:pt x="3442" y="16"/>
                  </a:lnTo>
                  <a:lnTo>
                    <a:pt x="3443" y="14"/>
                  </a:lnTo>
                  <a:lnTo>
                    <a:pt x="3447" y="13"/>
                  </a:lnTo>
                  <a:lnTo>
                    <a:pt x="3449" y="13"/>
                  </a:lnTo>
                  <a:lnTo>
                    <a:pt x="3452" y="13"/>
                  </a:lnTo>
                  <a:lnTo>
                    <a:pt x="3454" y="14"/>
                  </a:lnTo>
                  <a:lnTo>
                    <a:pt x="3454" y="14"/>
                  </a:lnTo>
                  <a:lnTo>
                    <a:pt x="3456" y="16"/>
                  </a:lnTo>
                  <a:lnTo>
                    <a:pt x="3456" y="20"/>
                  </a:lnTo>
                  <a:lnTo>
                    <a:pt x="3456" y="21"/>
                  </a:lnTo>
                  <a:lnTo>
                    <a:pt x="3454" y="25"/>
                  </a:lnTo>
                  <a:lnTo>
                    <a:pt x="3452" y="27"/>
                  </a:lnTo>
                  <a:lnTo>
                    <a:pt x="3449" y="27"/>
                  </a:lnTo>
                  <a:lnTo>
                    <a:pt x="3447" y="27"/>
                  </a:lnTo>
                  <a:lnTo>
                    <a:pt x="3443" y="25"/>
                  </a:lnTo>
                  <a:lnTo>
                    <a:pt x="3443" y="25"/>
                  </a:lnTo>
                  <a:close/>
                  <a:moveTo>
                    <a:pt x="3421" y="25"/>
                  </a:moveTo>
                  <a:lnTo>
                    <a:pt x="3421" y="25"/>
                  </a:lnTo>
                  <a:lnTo>
                    <a:pt x="3417" y="23"/>
                  </a:lnTo>
                  <a:lnTo>
                    <a:pt x="3415" y="21"/>
                  </a:lnTo>
                  <a:lnTo>
                    <a:pt x="3414" y="20"/>
                  </a:lnTo>
                  <a:lnTo>
                    <a:pt x="3414" y="16"/>
                  </a:lnTo>
                  <a:lnTo>
                    <a:pt x="3414" y="14"/>
                  </a:lnTo>
                  <a:lnTo>
                    <a:pt x="3415" y="11"/>
                  </a:lnTo>
                  <a:lnTo>
                    <a:pt x="3417" y="11"/>
                  </a:lnTo>
                  <a:lnTo>
                    <a:pt x="3421" y="9"/>
                  </a:lnTo>
                  <a:lnTo>
                    <a:pt x="3421" y="9"/>
                  </a:lnTo>
                  <a:lnTo>
                    <a:pt x="3424" y="11"/>
                  </a:lnTo>
                  <a:lnTo>
                    <a:pt x="3426" y="13"/>
                  </a:lnTo>
                  <a:lnTo>
                    <a:pt x="3428" y="14"/>
                  </a:lnTo>
                  <a:lnTo>
                    <a:pt x="3428" y="18"/>
                  </a:lnTo>
                  <a:lnTo>
                    <a:pt x="3428" y="20"/>
                  </a:lnTo>
                  <a:lnTo>
                    <a:pt x="3426" y="23"/>
                  </a:lnTo>
                  <a:lnTo>
                    <a:pt x="3422" y="23"/>
                  </a:lnTo>
                  <a:lnTo>
                    <a:pt x="3421" y="25"/>
                  </a:lnTo>
                  <a:lnTo>
                    <a:pt x="3421" y="25"/>
                  </a:lnTo>
                  <a:close/>
                  <a:moveTo>
                    <a:pt x="3391" y="23"/>
                  </a:moveTo>
                  <a:lnTo>
                    <a:pt x="3391" y="23"/>
                  </a:lnTo>
                  <a:lnTo>
                    <a:pt x="3387" y="21"/>
                  </a:lnTo>
                  <a:lnTo>
                    <a:pt x="3386" y="20"/>
                  </a:lnTo>
                  <a:lnTo>
                    <a:pt x="3384" y="18"/>
                  </a:lnTo>
                  <a:lnTo>
                    <a:pt x="3384" y="14"/>
                  </a:lnTo>
                  <a:lnTo>
                    <a:pt x="3386" y="13"/>
                  </a:lnTo>
                  <a:lnTo>
                    <a:pt x="3387" y="9"/>
                  </a:lnTo>
                  <a:lnTo>
                    <a:pt x="3389" y="9"/>
                  </a:lnTo>
                  <a:lnTo>
                    <a:pt x="3393" y="9"/>
                  </a:lnTo>
                  <a:lnTo>
                    <a:pt x="3393" y="9"/>
                  </a:lnTo>
                  <a:lnTo>
                    <a:pt x="3394" y="9"/>
                  </a:lnTo>
                  <a:lnTo>
                    <a:pt x="3396" y="11"/>
                  </a:lnTo>
                  <a:lnTo>
                    <a:pt x="3398" y="13"/>
                  </a:lnTo>
                  <a:lnTo>
                    <a:pt x="3400" y="16"/>
                  </a:lnTo>
                  <a:lnTo>
                    <a:pt x="3398" y="18"/>
                  </a:lnTo>
                  <a:lnTo>
                    <a:pt x="3396" y="21"/>
                  </a:lnTo>
                  <a:lnTo>
                    <a:pt x="3394" y="21"/>
                  </a:lnTo>
                  <a:lnTo>
                    <a:pt x="3391" y="23"/>
                  </a:lnTo>
                  <a:lnTo>
                    <a:pt x="3391" y="23"/>
                  </a:lnTo>
                  <a:close/>
                  <a:moveTo>
                    <a:pt x="3363" y="21"/>
                  </a:moveTo>
                  <a:lnTo>
                    <a:pt x="3363" y="21"/>
                  </a:lnTo>
                  <a:lnTo>
                    <a:pt x="3359" y="20"/>
                  </a:lnTo>
                  <a:lnTo>
                    <a:pt x="3358" y="18"/>
                  </a:lnTo>
                  <a:lnTo>
                    <a:pt x="3356" y="16"/>
                  </a:lnTo>
                  <a:lnTo>
                    <a:pt x="3356" y="14"/>
                  </a:lnTo>
                  <a:lnTo>
                    <a:pt x="3356" y="11"/>
                  </a:lnTo>
                  <a:lnTo>
                    <a:pt x="3358" y="9"/>
                  </a:lnTo>
                  <a:lnTo>
                    <a:pt x="3359" y="7"/>
                  </a:lnTo>
                  <a:lnTo>
                    <a:pt x="3363" y="7"/>
                  </a:lnTo>
                  <a:lnTo>
                    <a:pt x="3363" y="7"/>
                  </a:lnTo>
                  <a:lnTo>
                    <a:pt x="3366" y="7"/>
                  </a:lnTo>
                  <a:lnTo>
                    <a:pt x="3368" y="9"/>
                  </a:lnTo>
                  <a:lnTo>
                    <a:pt x="3370" y="11"/>
                  </a:lnTo>
                  <a:lnTo>
                    <a:pt x="3370" y="14"/>
                  </a:lnTo>
                  <a:lnTo>
                    <a:pt x="3368" y="18"/>
                  </a:lnTo>
                  <a:lnTo>
                    <a:pt x="3366" y="20"/>
                  </a:lnTo>
                  <a:lnTo>
                    <a:pt x="3365" y="21"/>
                  </a:lnTo>
                  <a:lnTo>
                    <a:pt x="3363" y="21"/>
                  </a:lnTo>
                  <a:lnTo>
                    <a:pt x="3363" y="21"/>
                  </a:lnTo>
                  <a:close/>
                  <a:moveTo>
                    <a:pt x="3333" y="20"/>
                  </a:moveTo>
                  <a:lnTo>
                    <a:pt x="3333" y="20"/>
                  </a:lnTo>
                  <a:lnTo>
                    <a:pt x="3329" y="20"/>
                  </a:lnTo>
                  <a:lnTo>
                    <a:pt x="3328" y="18"/>
                  </a:lnTo>
                  <a:lnTo>
                    <a:pt x="3326" y="14"/>
                  </a:lnTo>
                  <a:lnTo>
                    <a:pt x="3326" y="13"/>
                  </a:lnTo>
                  <a:lnTo>
                    <a:pt x="3328" y="9"/>
                  </a:lnTo>
                  <a:lnTo>
                    <a:pt x="3329" y="7"/>
                  </a:lnTo>
                  <a:lnTo>
                    <a:pt x="3331" y="6"/>
                  </a:lnTo>
                  <a:lnTo>
                    <a:pt x="3335" y="6"/>
                  </a:lnTo>
                  <a:lnTo>
                    <a:pt x="3335" y="6"/>
                  </a:lnTo>
                  <a:lnTo>
                    <a:pt x="3336" y="6"/>
                  </a:lnTo>
                  <a:lnTo>
                    <a:pt x="3338" y="7"/>
                  </a:lnTo>
                  <a:lnTo>
                    <a:pt x="3340" y="9"/>
                  </a:lnTo>
                  <a:lnTo>
                    <a:pt x="3340" y="13"/>
                  </a:lnTo>
                  <a:lnTo>
                    <a:pt x="3340" y="16"/>
                  </a:lnTo>
                  <a:lnTo>
                    <a:pt x="3338" y="18"/>
                  </a:lnTo>
                  <a:lnTo>
                    <a:pt x="3336" y="20"/>
                  </a:lnTo>
                  <a:lnTo>
                    <a:pt x="3333" y="20"/>
                  </a:lnTo>
                  <a:lnTo>
                    <a:pt x="3333" y="20"/>
                  </a:lnTo>
                  <a:close/>
                  <a:moveTo>
                    <a:pt x="3305" y="18"/>
                  </a:moveTo>
                  <a:lnTo>
                    <a:pt x="3305" y="18"/>
                  </a:lnTo>
                  <a:lnTo>
                    <a:pt x="3301" y="18"/>
                  </a:lnTo>
                  <a:lnTo>
                    <a:pt x="3300" y="16"/>
                  </a:lnTo>
                  <a:lnTo>
                    <a:pt x="3298" y="13"/>
                  </a:lnTo>
                  <a:lnTo>
                    <a:pt x="3298" y="11"/>
                  </a:lnTo>
                  <a:lnTo>
                    <a:pt x="3298" y="7"/>
                  </a:lnTo>
                  <a:lnTo>
                    <a:pt x="3300" y="6"/>
                  </a:lnTo>
                  <a:lnTo>
                    <a:pt x="3301" y="4"/>
                  </a:lnTo>
                  <a:lnTo>
                    <a:pt x="3305" y="4"/>
                  </a:lnTo>
                  <a:lnTo>
                    <a:pt x="3305" y="4"/>
                  </a:lnTo>
                  <a:lnTo>
                    <a:pt x="3308" y="4"/>
                  </a:lnTo>
                  <a:lnTo>
                    <a:pt x="3310" y="6"/>
                  </a:lnTo>
                  <a:lnTo>
                    <a:pt x="3312" y="7"/>
                  </a:lnTo>
                  <a:lnTo>
                    <a:pt x="3312" y="11"/>
                  </a:lnTo>
                  <a:lnTo>
                    <a:pt x="3310" y="14"/>
                  </a:lnTo>
                  <a:lnTo>
                    <a:pt x="3308" y="16"/>
                  </a:lnTo>
                  <a:lnTo>
                    <a:pt x="3307" y="18"/>
                  </a:lnTo>
                  <a:lnTo>
                    <a:pt x="3305" y="18"/>
                  </a:lnTo>
                  <a:lnTo>
                    <a:pt x="3305" y="18"/>
                  </a:lnTo>
                  <a:close/>
                  <a:moveTo>
                    <a:pt x="3275" y="16"/>
                  </a:moveTo>
                  <a:lnTo>
                    <a:pt x="3275" y="16"/>
                  </a:lnTo>
                  <a:lnTo>
                    <a:pt x="3272" y="16"/>
                  </a:lnTo>
                  <a:lnTo>
                    <a:pt x="3270" y="14"/>
                  </a:lnTo>
                  <a:lnTo>
                    <a:pt x="3268" y="11"/>
                  </a:lnTo>
                  <a:lnTo>
                    <a:pt x="3268" y="9"/>
                  </a:lnTo>
                  <a:lnTo>
                    <a:pt x="3270" y="6"/>
                  </a:lnTo>
                  <a:lnTo>
                    <a:pt x="3272" y="4"/>
                  </a:lnTo>
                  <a:lnTo>
                    <a:pt x="3273" y="2"/>
                  </a:lnTo>
                  <a:lnTo>
                    <a:pt x="3277" y="2"/>
                  </a:lnTo>
                  <a:lnTo>
                    <a:pt x="3277" y="2"/>
                  </a:lnTo>
                  <a:lnTo>
                    <a:pt x="3279" y="2"/>
                  </a:lnTo>
                  <a:lnTo>
                    <a:pt x="3280" y="4"/>
                  </a:lnTo>
                  <a:lnTo>
                    <a:pt x="3282" y="7"/>
                  </a:lnTo>
                  <a:lnTo>
                    <a:pt x="3282" y="9"/>
                  </a:lnTo>
                  <a:lnTo>
                    <a:pt x="3282" y="13"/>
                  </a:lnTo>
                  <a:lnTo>
                    <a:pt x="3280" y="14"/>
                  </a:lnTo>
                  <a:lnTo>
                    <a:pt x="3279" y="16"/>
                  </a:lnTo>
                  <a:lnTo>
                    <a:pt x="3275" y="16"/>
                  </a:lnTo>
                  <a:lnTo>
                    <a:pt x="3275" y="16"/>
                  </a:lnTo>
                  <a:close/>
                  <a:moveTo>
                    <a:pt x="3247" y="14"/>
                  </a:moveTo>
                  <a:lnTo>
                    <a:pt x="3247" y="14"/>
                  </a:lnTo>
                  <a:lnTo>
                    <a:pt x="3244" y="14"/>
                  </a:lnTo>
                  <a:lnTo>
                    <a:pt x="3242" y="13"/>
                  </a:lnTo>
                  <a:lnTo>
                    <a:pt x="3240" y="9"/>
                  </a:lnTo>
                  <a:lnTo>
                    <a:pt x="3240" y="7"/>
                  </a:lnTo>
                  <a:lnTo>
                    <a:pt x="3240" y="4"/>
                  </a:lnTo>
                  <a:lnTo>
                    <a:pt x="3242" y="2"/>
                  </a:lnTo>
                  <a:lnTo>
                    <a:pt x="3244" y="0"/>
                  </a:lnTo>
                  <a:lnTo>
                    <a:pt x="3247" y="0"/>
                  </a:lnTo>
                  <a:lnTo>
                    <a:pt x="3247" y="0"/>
                  </a:lnTo>
                  <a:lnTo>
                    <a:pt x="3251" y="0"/>
                  </a:lnTo>
                  <a:lnTo>
                    <a:pt x="3252" y="2"/>
                  </a:lnTo>
                  <a:lnTo>
                    <a:pt x="3254" y="6"/>
                  </a:lnTo>
                  <a:lnTo>
                    <a:pt x="3254" y="7"/>
                  </a:lnTo>
                  <a:lnTo>
                    <a:pt x="3252" y="11"/>
                  </a:lnTo>
                  <a:lnTo>
                    <a:pt x="3251" y="13"/>
                  </a:lnTo>
                  <a:lnTo>
                    <a:pt x="3249" y="14"/>
                  </a:lnTo>
                  <a:lnTo>
                    <a:pt x="3247" y="14"/>
                  </a:lnTo>
                  <a:lnTo>
                    <a:pt x="3247" y="14"/>
                  </a:lnTo>
                  <a:close/>
                  <a:moveTo>
                    <a:pt x="3233" y="14"/>
                  </a:moveTo>
                  <a:lnTo>
                    <a:pt x="3233" y="14"/>
                  </a:lnTo>
                  <a:lnTo>
                    <a:pt x="3231" y="16"/>
                  </a:lnTo>
                  <a:lnTo>
                    <a:pt x="3230" y="18"/>
                  </a:lnTo>
                  <a:lnTo>
                    <a:pt x="3228" y="20"/>
                  </a:lnTo>
                  <a:lnTo>
                    <a:pt x="3224" y="21"/>
                  </a:lnTo>
                  <a:lnTo>
                    <a:pt x="3223" y="20"/>
                  </a:lnTo>
                  <a:lnTo>
                    <a:pt x="3219" y="18"/>
                  </a:lnTo>
                  <a:lnTo>
                    <a:pt x="3219" y="16"/>
                  </a:lnTo>
                  <a:lnTo>
                    <a:pt x="3217" y="14"/>
                  </a:lnTo>
                  <a:lnTo>
                    <a:pt x="3217" y="14"/>
                  </a:lnTo>
                  <a:lnTo>
                    <a:pt x="3219" y="11"/>
                  </a:lnTo>
                  <a:lnTo>
                    <a:pt x="3219" y="9"/>
                  </a:lnTo>
                  <a:lnTo>
                    <a:pt x="3223" y="7"/>
                  </a:lnTo>
                  <a:lnTo>
                    <a:pt x="3224" y="7"/>
                  </a:lnTo>
                  <a:lnTo>
                    <a:pt x="3228" y="7"/>
                  </a:lnTo>
                  <a:lnTo>
                    <a:pt x="3230" y="9"/>
                  </a:lnTo>
                  <a:lnTo>
                    <a:pt x="3231" y="11"/>
                  </a:lnTo>
                  <a:lnTo>
                    <a:pt x="3233" y="14"/>
                  </a:lnTo>
                  <a:lnTo>
                    <a:pt x="3233" y="14"/>
                  </a:lnTo>
                  <a:close/>
                  <a:moveTo>
                    <a:pt x="3233" y="42"/>
                  </a:moveTo>
                  <a:lnTo>
                    <a:pt x="3233" y="42"/>
                  </a:lnTo>
                  <a:lnTo>
                    <a:pt x="3231" y="46"/>
                  </a:lnTo>
                  <a:lnTo>
                    <a:pt x="3230" y="48"/>
                  </a:lnTo>
                  <a:lnTo>
                    <a:pt x="3228" y="49"/>
                  </a:lnTo>
                  <a:lnTo>
                    <a:pt x="3224" y="49"/>
                  </a:lnTo>
                  <a:lnTo>
                    <a:pt x="3223" y="49"/>
                  </a:lnTo>
                  <a:lnTo>
                    <a:pt x="3219" y="48"/>
                  </a:lnTo>
                  <a:lnTo>
                    <a:pt x="3219" y="46"/>
                  </a:lnTo>
                  <a:lnTo>
                    <a:pt x="3217" y="42"/>
                  </a:lnTo>
                  <a:lnTo>
                    <a:pt x="3217" y="42"/>
                  </a:lnTo>
                  <a:lnTo>
                    <a:pt x="3219" y="39"/>
                  </a:lnTo>
                  <a:lnTo>
                    <a:pt x="3219" y="37"/>
                  </a:lnTo>
                  <a:lnTo>
                    <a:pt x="3223" y="35"/>
                  </a:lnTo>
                  <a:lnTo>
                    <a:pt x="3224" y="35"/>
                  </a:lnTo>
                  <a:lnTo>
                    <a:pt x="3228" y="35"/>
                  </a:lnTo>
                  <a:lnTo>
                    <a:pt x="3230" y="37"/>
                  </a:lnTo>
                  <a:lnTo>
                    <a:pt x="3231" y="39"/>
                  </a:lnTo>
                  <a:lnTo>
                    <a:pt x="3233" y="42"/>
                  </a:lnTo>
                  <a:lnTo>
                    <a:pt x="3233" y="42"/>
                  </a:lnTo>
                  <a:close/>
                  <a:moveTo>
                    <a:pt x="3233" y="72"/>
                  </a:moveTo>
                  <a:lnTo>
                    <a:pt x="3233" y="72"/>
                  </a:lnTo>
                  <a:lnTo>
                    <a:pt x="3231" y="74"/>
                  </a:lnTo>
                  <a:lnTo>
                    <a:pt x="3230" y="77"/>
                  </a:lnTo>
                  <a:lnTo>
                    <a:pt x="3228" y="77"/>
                  </a:lnTo>
                  <a:lnTo>
                    <a:pt x="3224" y="79"/>
                  </a:lnTo>
                  <a:lnTo>
                    <a:pt x="3223" y="77"/>
                  </a:lnTo>
                  <a:lnTo>
                    <a:pt x="3219" y="77"/>
                  </a:lnTo>
                  <a:lnTo>
                    <a:pt x="3219" y="74"/>
                  </a:lnTo>
                  <a:lnTo>
                    <a:pt x="3217" y="72"/>
                  </a:lnTo>
                  <a:lnTo>
                    <a:pt x="3217" y="72"/>
                  </a:lnTo>
                  <a:lnTo>
                    <a:pt x="3219" y="69"/>
                  </a:lnTo>
                  <a:lnTo>
                    <a:pt x="3219" y="67"/>
                  </a:lnTo>
                  <a:lnTo>
                    <a:pt x="3223" y="65"/>
                  </a:lnTo>
                  <a:lnTo>
                    <a:pt x="3224" y="65"/>
                  </a:lnTo>
                  <a:lnTo>
                    <a:pt x="3228" y="65"/>
                  </a:lnTo>
                  <a:lnTo>
                    <a:pt x="3230" y="67"/>
                  </a:lnTo>
                  <a:lnTo>
                    <a:pt x="3231" y="69"/>
                  </a:lnTo>
                  <a:lnTo>
                    <a:pt x="3233" y="72"/>
                  </a:lnTo>
                  <a:lnTo>
                    <a:pt x="3233" y="72"/>
                  </a:lnTo>
                  <a:close/>
                  <a:moveTo>
                    <a:pt x="3233" y="100"/>
                  </a:moveTo>
                  <a:lnTo>
                    <a:pt x="3233" y="100"/>
                  </a:lnTo>
                  <a:lnTo>
                    <a:pt x="3231" y="104"/>
                  </a:lnTo>
                  <a:lnTo>
                    <a:pt x="3230" y="105"/>
                  </a:lnTo>
                  <a:lnTo>
                    <a:pt x="3228" y="107"/>
                  </a:lnTo>
                  <a:lnTo>
                    <a:pt x="3224" y="107"/>
                  </a:lnTo>
                  <a:lnTo>
                    <a:pt x="3223" y="107"/>
                  </a:lnTo>
                  <a:lnTo>
                    <a:pt x="3219" y="105"/>
                  </a:lnTo>
                  <a:lnTo>
                    <a:pt x="3219" y="104"/>
                  </a:lnTo>
                  <a:lnTo>
                    <a:pt x="3217" y="100"/>
                  </a:lnTo>
                  <a:lnTo>
                    <a:pt x="3217" y="100"/>
                  </a:lnTo>
                  <a:lnTo>
                    <a:pt x="3219" y="98"/>
                  </a:lnTo>
                  <a:lnTo>
                    <a:pt x="3219" y="95"/>
                  </a:lnTo>
                  <a:lnTo>
                    <a:pt x="3223" y="93"/>
                  </a:lnTo>
                  <a:lnTo>
                    <a:pt x="3224" y="93"/>
                  </a:lnTo>
                  <a:lnTo>
                    <a:pt x="3228" y="93"/>
                  </a:lnTo>
                  <a:lnTo>
                    <a:pt x="3230" y="95"/>
                  </a:lnTo>
                  <a:lnTo>
                    <a:pt x="3231" y="98"/>
                  </a:lnTo>
                  <a:lnTo>
                    <a:pt x="3233" y="100"/>
                  </a:lnTo>
                  <a:lnTo>
                    <a:pt x="3233" y="100"/>
                  </a:lnTo>
                  <a:close/>
                  <a:moveTo>
                    <a:pt x="3233" y="130"/>
                  </a:moveTo>
                  <a:lnTo>
                    <a:pt x="3233" y="130"/>
                  </a:lnTo>
                  <a:lnTo>
                    <a:pt x="3231" y="132"/>
                  </a:lnTo>
                  <a:lnTo>
                    <a:pt x="3230" y="135"/>
                  </a:lnTo>
                  <a:lnTo>
                    <a:pt x="3228" y="137"/>
                  </a:lnTo>
                  <a:lnTo>
                    <a:pt x="3224" y="137"/>
                  </a:lnTo>
                  <a:lnTo>
                    <a:pt x="3223" y="137"/>
                  </a:lnTo>
                  <a:lnTo>
                    <a:pt x="3219" y="135"/>
                  </a:lnTo>
                  <a:lnTo>
                    <a:pt x="3219" y="132"/>
                  </a:lnTo>
                  <a:lnTo>
                    <a:pt x="3217" y="130"/>
                  </a:lnTo>
                  <a:lnTo>
                    <a:pt x="3217" y="130"/>
                  </a:lnTo>
                  <a:lnTo>
                    <a:pt x="3219" y="126"/>
                  </a:lnTo>
                  <a:lnTo>
                    <a:pt x="3219" y="125"/>
                  </a:lnTo>
                  <a:lnTo>
                    <a:pt x="3223" y="123"/>
                  </a:lnTo>
                  <a:lnTo>
                    <a:pt x="3224" y="123"/>
                  </a:lnTo>
                  <a:lnTo>
                    <a:pt x="3228" y="123"/>
                  </a:lnTo>
                  <a:lnTo>
                    <a:pt x="3230" y="125"/>
                  </a:lnTo>
                  <a:lnTo>
                    <a:pt x="3231" y="126"/>
                  </a:lnTo>
                  <a:lnTo>
                    <a:pt x="3233" y="130"/>
                  </a:lnTo>
                  <a:lnTo>
                    <a:pt x="3233" y="130"/>
                  </a:lnTo>
                  <a:close/>
                  <a:moveTo>
                    <a:pt x="3233" y="158"/>
                  </a:moveTo>
                  <a:lnTo>
                    <a:pt x="3233" y="158"/>
                  </a:lnTo>
                  <a:lnTo>
                    <a:pt x="3231" y="161"/>
                  </a:lnTo>
                  <a:lnTo>
                    <a:pt x="3230" y="163"/>
                  </a:lnTo>
                  <a:lnTo>
                    <a:pt x="3228" y="165"/>
                  </a:lnTo>
                  <a:lnTo>
                    <a:pt x="3224" y="167"/>
                  </a:lnTo>
                  <a:lnTo>
                    <a:pt x="3223" y="165"/>
                  </a:lnTo>
                  <a:lnTo>
                    <a:pt x="3219" y="163"/>
                  </a:lnTo>
                  <a:lnTo>
                    <a:pt x="3219" y="161"/>
                  </a:lnTo>
                  <a:lnTo>
                    <a:pt x="3217" y="158"/>
                  </a:lnTo>
                  <a:lnTo>
                    <a:pt x="3217" y="158"/>
                  </a:lnTo>
                  <a:lnTo>
                    <a:pt x="3219" y="156"/>
                  </a:lnTo>
                  <a:lnTo>
                    <a:pt x="3219" y="153"/>
                  </a:lnTo>
                  <a:lnTo>
                    <a:pt x="3223" y="153"/>
                  </a:lnTo>
                  <a:lnTo>
                    <a:pt x="3224" y="151"/>
                  </a:lnTo>
                  <a:lnTo>
                    <a:pt x="3228" y="153"/>
                  </a:lnTo>
                  <a:lnTo>
                    <a:pt x="3230" y="153"/>
                  </a:lnTo>
                  <a:lnTo>
                    <a:pt x="3231" y="156"/>
                  </a:lnTo>
                  <a:lnTo>
                    <a:pt x="3233" y="158"/>
                  </a:lnTo>
                  <a:lnTo>
                    <a:pt x="3233" y="158"/>
                  </a:lnTo>
                  <a:close/>
                  <a:moveTo>
                    <a:pt x="3233" y="188"/>
                  </a:moveTo>
                  <a:lnTo>
                    <a:pt x="3233" y="188"/>
                  </a:lnTo>
                  <a:lnTo>
                    <a:pt x="3231" y="189"/>
                  </a:lnTo>
                  <a:lnTo>
                    <a:pt x="3230" y="193"/>
                  </a:lnTo>
                  <a:lnTo>
                    <a:pt x="3228" y="195"/>
                  </a:lnTo>
                  <a:lnTo>
                    <a:pt x="3224" y="195"/>
                  </a:lnTo>
                  <a:lnTo>
                    <a:pt x="3223" y="195"/>
                  </a:lnTo>
                  <a:lnTo>
                    <a:pt x="3219" y="193"/>
                  </a:lnTo>
                  <a:lnTo>
                    <a:pt x="3219" y="189"/>
                  </a:lnTo>
                  <a:lnTo>
                    <a:pt x="3217" y="188"/>
                  </a:lnTo>
                  <a:lnTo>
                    <a:pt x="3217" y="188"/>
                  </a:lnTo>
                  <a:lnTo>
                    <a:pt x="3219" y="184"/>
                  </a:lnTo>
                  <a:lnTo>
                    <a:pt x="3219" y="182"/>
                  </a:lnTo>
                  <a:lnTo>
                    <a:pt x="3223" y="181"/>
                  </a:lnTo>
                  <a:lnTo>
                    <a:pt x="3224" y="181"/>
                  </a:lnTo>
                  <a:lnTo>
                    <a:pt x="3228" y="181"/>
                  </a:lnTo>
                  <a:lnTo>
                    <a:pt x="3230" y="182"/>
                  </a:lnTo>
                  <a:lnTo>
                    <a:pt x="3231" y="184"/>
                  </a:lnTo>
                  <a:lnTo>
                    <a:pt x="3233" y="188"/>
                  </a:lnTo>
                  <a:lnTo>
                    <a:pt x="3233" y="188"/>
                  </a:lnTo>
                  <a:close/>
                  <a:moveTo>
                    <a:pt x="3233" y="216"/>
                  </a:moveTo>
                  <a:lnTo>
                    <a:pt x="3233" y="217"/>
                  </a:lnTo>
                  <a:lnTo>
                    <a:pt x="3231" y="219"/>
                  </a:lnTo>
                  <a:lnTo>
                    <a:pt x="3230" y="221"/>
                  </a:lnTo>
                  <a:lnTo>
                    <a:pt x="3228" y="223"/>
                  </a:lnTo>
                  <a:lnTo>
                    <a:pt x="3224" y="224"/>
                  </a:lnTo>
                  <a:lnTo>
                    <a:pt x="3223" y="223"/>
                  </a:lnTo>
                  <a:lnTo>
                    <a:pt x="3219" y="221"/>
                  </a:lnTo>
                  <a:lnTo>
                    <a:pt x="3219" y="219"/>
                  </a:lnTo>
                  <a:lnTo>
                    <a:pt x="3217" y="217"/>
                  </a:lnTo>
                  <a:lnTo>
                    <a:pt x="3217" y="216"/>
                  </a:lnTo>
                  <a:lnTo>
                    <a:pt x="3219" y="214"/>
                  </a:lnTo>
                  <a:lnTo>
                    <a:pt x="3219" y="210"/>
                  </a:lnTo>
                  <a:lnTo>
                    <a:pt x="3223" y="210"/>
                  </a:lnTo>
                  <a:lnTo>
                    <a:pt x="3224" y="209"/>
                  </a:lnTo>
                  <a:lnTo>
                    <a:pt x="3228" y="210"/>
                  </a:lnTo>
                  <a:lnTo>
                    <a:pt x="3230" y="210"/>
                  </a:lnTo>
                  <a:lnTo>
                    <a:pt x="3231" y="214"/>
                  </a:lnTo>
                  <a:lnTo>
                    <a:pt x="3233" y="216"/>
                  </a:lnTo>
                  <a:lnTo>
                    <a:pt x="3233" y="216"/>
                  </a:lnTo>
                  <a:close/>
                  <a:moveTo>
                    <a:pt x="3233" y="245"/>
                  </a:moveTo>
                  <a:lnTo>
                    <a:pt x="3233" y="245"/>
                  </a:lnTo>
                  <a:lnTo>
                    <a:pt x="3231" y="249"/>
                  </a:lnTo>
                  <a:lnTo>
                    <a:pt x="3230" y="251"/>
                  </a:lnTo>
                  <a:lnTo>
                    <a:pt x="3228" y="252"/>
                  </a:lnTo>
                  <a:lnTo>
                    <a:pt x="3224" y="252"/>
                  </a:lnTo>
                  <a:lnTo>
                    <a:pt x="3223" y="252"/>
                  </a:lnTo>
                  <a:lnTo>
                    <a:pt x="3219" y="251"/>
                  </a:lnTo>
                  <a:lnTo>
                    <a:pt x="3219" y="249"/>
                  </a:lnTo>
                  <a:lnTo>
                    <a:pt x="3217" y="245"/>
                  </a:lnTo>
                  <a:lnTo>
                    <a:pt x="3217" y="245"/>
                  </a:lnTo>
                  <a:lnTo>
                    <a:pt x="3219" y="242"/>
                  </a:lnTo>
                  <a:lnTo>
                    <a:pt x="3219" y="240"/>
                  </a:lnTo>
                  <a:lnTo>
                    <a:pt x="3223" y="238"/>
                  </a:lnTo>
                  <a:lnTo>
                    <a:pt x="3224" y="238"/>
                  </a:lnTo>
                  <a:lnTo>
                    <a:pt x="3228" y="238"/>
                  </a:lnTo>
                  <a:lnTo>
                    <a:pt x="3230" y="240"/>
                  </a:lnTo>
                  <a:lnTo>
                    <a:pt x="3231" y="242"/>
                  </a:lnTo>
                  <a:lnTo>
                    <a:pt x="3233" y="245"/>
                  </a:lnTo>
                  <a:lnTo>
                    <a:pt x="3233" y="245"/>
                  </a:lnTo>
                  <a:close/>
                  <a:moveTo>
                    <a:pt x="3233" y="275"/>
                  </a:moveTo>
                  <a:lnTo>
                    <a:pt x="3233" y="275"/>
                  </a:lnTo>
                  <a:lnTo>
                    <a:pt x="3231" y="277"/>
                  </a:lnTo>
                  <a:lnTo>
                    <a:pt x="3230" y="279"/>
                  </a:lnTo>
                  <a:lnTo>
                    <a:pt x="3228" y="280"/>
                  </a:lnTo>
                  <a:lnTo>
                    <a:pt x="3224" y="282"/>
                  </a:lnTo>
                  <a:lnTo>
                    <a:pt x="3223" y="280"/>
                  </a:lnTo>
                  <a:lnTo>
                    <a:pt x="3219" y="279"/>
                  </a:lnTo>
                  <a:lnTo>
                    <a:pt x="3219" y="277"/>
                  </a:lnTo>
                  <a:lnTo>
                    <a:pt x="3217" y="275"/>
                  </a:lnTo>
                  <a:lnTo>
                    <a:pt x="3217" y="275"/>
                  </a:lnTo>
                  <a:lnTo>
                    <a:pt x="3219" y="272"/>
                  </a:lnTo>
                  <a:lnTo>
                    <a:pt x="3219" y="270"/>
                  </a:lnTo>
                  <a:lnTo>
                    <a:pt x="3223" y="268"/>
                  </a:lnTo>
                  <a:lnTo>
                    <a:pt x="3224" y="266"/>
                  </a:lnTo>
                  <a:lnTo>
                    <a:pt x="3228" y="268"/>
                  </a:lnTo>
                  <a:lnTo>
                    <a:pt x="3230" y="270"/>
                  </a:lnTo>
                  <a:lnTo>
                    <a:pt x="3231" y="272"/>
                  </a:lnTo>
                  <a:lnTo>
                    <a:pt x="3233" y="275"/>
                  </a:lnTo>
                  <a:lnTo>
                    <a:pt x="3233" y="275"/>
                  </a:lnTo>
                  <a:close/>
                  <a:moveTo>
                    <a:pt x="3233" y="303"/>
                  </a:moveTo>
                  <a:lnTo>
                    <a:pt x="3233" y="303"/>
                  </a:lnTo>
                  <a:lnTo>
                    <a:pt x="3231" y="307"/>
                  </a:lnTo>
                  <a:lnTo>
                    <a:pt x="3230" y="308"/>
                  </a:lnTo>
                  <a:lnTo>
                    <a:pt x="3228" y="310"/>
                  </a:lnTo>
                  <a:lnTo>
                    <a:pt x="3224" y="310"/>
                  </a:lnTo>
                  <a:lnTo>
                    <a:pt x="3223" y="310"/>
                  </a:lnTo>
                  <a:lnTo>
                    <a:pt x="3219" y="308"/>
                  </a:lnTo>
                  <a:lnTo>
                    <a:pt x="3219" y="307"/>
                  </a:lnTo>
                  <a:lnTo>
                    <a:pt x="3217" y="303"/>
                  </a:lnTo>
                  <a:lnTo>
                    <a:pt x="3217" y="303"/>
                  </a:lnTo>
                  <a:lnTo>
                    <a:pt x="3219" y="300"/>
                  </a:lnTo>
                  <a:lnTo>
                    <a:pt x="3219" y="298"/>
                  </a:lnTo>
                  <a:lnTo>
                    <a:pt x="3223" y="296"/>
                  </a:lnTo>
                  <a:lnTo>
                    <a:pt x="3224" y="296"/>
                  </a:lnTo>
                  <a:lnTo>
                    <a:pt x="3228" y="296"/>
                  </a:lnTo>
                  <a:lnTo>
                    <a:pt x="3230" y="298"/>
                  </a:lnTo>
                  <a:lnTo>
                    <a:pt x="3231" y="300"/>
                  </a:lnTo>
                  <a:lnTo>
                    <a:pt x="3233" y="303"/>
                  </a:lnTo>
                  <a:lnTo>
                    <a:pt x="3233" y="303"/>
                  </a:lnTo>
                  <a:close/>
                  <a:moveTo>
                    <a:pt x="3203" y="317"/>
                  </a:moveTo>
                  <a:lnTo>
                    <a:pt x="3203" y="317"/>
                  </a:lnTo>
                  <a:lnTo>
                    <a:pt x="3200" y="315"/>
                  </a:lnTo>
                  <a:lnTo>
                    <a:pt x="3198" y="314"/>
                  </a:lnTo>
                  <a:lnTo>
                    <a:pt x="3196" y="312"/>
                  </a:lnTo>
                  <a:lnTo>
                    <a:pt x="3196" y="310"/>
                  </a:lnTo>
                  <a:lnTo>
                    <a:pt x="3198" y="307"/>
                  </a:lnTo>
                  <a:lnTo>
                    <a:pt x="3200" y="305"/>
                  </a:lnTo>
                  <a:lnTo>
                    <a:pt x="3202" y="303"/>
                  </a:lnTo>
                  <a:lnTo>
                    <a:pt x="3205" y="303"/>
                  </a:lnTo>
                  <a:lnTo>
                    <a:pt x="3205" y="303"/>
                  </a:lnTo>
                  <a:lnTo>
                    <a:pt x="3207" y="303"/>
                  </a:lnTo>
                  <a:lnTo>
                    <a:pt x="3209" y="305"/>
                  </a:lnTo>
                  <a:lnTo>
                    <a:pt x="3210" y="307"/>
                  </a:lnTo>
                  <a:lnTo>
                    <a:pt x="3210" y="310"/>
                  </a:lnTo>
                  <a:lnTo>
                    <a:pt x="3210" y="314"/>
                  </a:lnTo>
                  <a:lnTo>
                    <a:pt x="3209" y="315"/>
                  </a:lnTo>
                  <a:lnTo>
                    <a:pt x="3207" y="317"/>
                  </a:lnTo>
                  <a:lnTo>
                    <a:pt x="3203" y="317"/>
                  </a:lnTo>
                  <a:lnTo>
                    <a:pt x="3203" y="317"/>
                  </a:lnTo>
                  <a:close/>
                  <a:moveTo>
                    <a:pt x="3175" y="315"/>
                  </a:moveTo>
                  <a:lnTo>
                    <a:pt x="3175" y="315"/>
                  </a:lnTo>
                  <a:lnTo>
                    <a:pt x="3172" y="314"/>
                  </a:lnTo>
                  <a:lnTo>
                    <a:pt x="3170" y="312"/>
                  </a:lnTo>
                  <a:lnTo>
                    <a:pt x="3168" y="310"/>
                  </a:lnTo>
                  <a:lnTo>
                    <a:pt x="3168" y="308"/>
                  </a:lnTo>
                  <a:lnTo>
                    <a:pt x="3168" y="305"/>
                  </a:lnTo>
                  <a:lnTo>
                    <a:pt x="3170" y="303"/>
                  </a:lnTo>
                  <a:lnTo>
                    <a:pt x="3172" y="301"/>
                  </a:lnTo>
                  <a:lnTo>
                    <a:pt x="3175" y="301"/>
                  </a:lnTo>
                  <a:lnTo>
                    <a:pt x="3175" y="301"/>
                  </a:lnTo>
                  <a:lnTo>
                    <a:pt x="3179" y="301"/>
                  </a:lnTo>
                  <a:lnTo>
                    <a:pt x="3181" y="303"/>
                  </a:lnTo>
                  <a:lnTo>
                    <a:pt x="3182" y="305"/>
                  </a:lnTo>
                  <a:lnTo>
                    <a:pt x="3182" y="308"/>
                  </a:lnTo>
                  <a:lnTo>
                    <a:pt x="3181" y="312"/>
                  </a:lnTo>
                  <a:lnTo>
                    <a:pt x="3179" y="314"/>
                  </a:lnTo>
                  <a:lnTo>
                    <a:pt x="3177" y="315"/>
                  </a:lnTo>
                  <a:lnTo>
                    <a:pt x="3175" y="315"/>
                  </a:lnTo>
                  <a:lnTo>
                    <a:pt x="3175" y="315"/>
                  </a:lnTo>
                  <a:close/>
                  <a:moveTo>
                    <a:pt x="3146" y="314"/>
                  </a:moveTo>
                  <a:lnTo>
                    <a:pt x="3146" y="314"/>
                  </a:lnTo>
                  <a:lnTo>
                    <a:pt x="3142" y="312"/>
                  </a:lnTo>
                  <a:lnTo>
                    <a:pt x="3140" y="310"/>
                  </a:lnTo>
                  <a:lnTo>
                    <a:pt x="3139" y="308"/>
                  </a:lnTo>
                  <a:lnTo>
                    <a:pt x="3139" y="307"/>
                  </a:lnTo>
                  <a:lnTo>
                    <a:pt x="3140" y="303"/>
                  </a:lnTo>
                  <a:lnTo>
                    <a:pt x="3142" y="301"/>
                  </a:lnTo>
                  <a:lnTo>
                    <a:pt x="3144" y="300"/>
                  </a:lnTo>
                  <a:lnTo>
                    <a:pt x="3147" y="300"/>
                  </a:lnTo>
                  <a:lnTo>
                    <a:pt x="3147" y="300"/>
                  </a:lnTo>
                  <a:lnTo>
                    <a:pt x="3149" y="300"/>
                  </a:lnTo>
                  <a:lnTo>
                    <a:pt x="3151" y="301"/>
                  </a:lnTo>
                  <a:lnTo>
                    <a:pt x="3153" y="303"/>
                  </a:lnTo>
                  <a:lnTo>
                    <a:pt x="3153" y="307"/>
                  </a:lnTo>
                  <a:lnTo>
                    <a:pt x="3153" y="310"/>
                  </a:lnTo>
                  <a:lnTo>
                    <a:pt x="3151" y="312"/>
                  </a:lnTo>
                  <a:lnTo>
                    <a:pt x="3149" y="314"/>
                  </a:lnTo>
                  <a:lnTo>
                    <a:pt x="3146" y="314"/>
                  </a:lnTo>
                  <a:lnTo>
                    <a:pt x="3146" y="314"/>
                  </a:lnTo>
                  <a:close/>
                  <a:moveTo>
                    <a:pt x="3116" y="312"/>
                  </a:moveTo>
                  <a:lnTo>
                    <a:pt x="3116" y="312"/>
                  </a:lnTo>
                  <a:lnTo>
                    <a:pt x="3114" y="310"/>
                  </a:lnTo>
                  <a:lnTo>
                    <a:pt x="3111" y="308"/>
                  </a:lnTo>
                  <a:lnTo>
                    <a:pt x="3111" y="307"/>
                  </a:lnTo>
                  <a:lnTo>
                    <a:pt x="3111" y="305"/>
                  </a:lnTo>
                  <a:lnTo>
                    <a:pt x="3111" y="301"/>
                  </a:lnTo>
                  <a:lnTo>
                    <a:pt x="3112" y="300"/>
                  </a:lnTo>
                  <a:lnTo>
                    <a:pt x="3114" y="298"/>
                  </a:lnTo>
                  <a:lnTo>
                    <a:pt x="3118" y="298"/>
                  </a:lnTo>
                  <a:lnTo>
                    <a:pt x="3118" y="298"/>
                  </a:lnTo>
                  <a:lnTo>
                    <a:pt x="3121" y="298"/>
                  </a:lnTo>
                  <a:lnTo>
                    <a:pt x="3123" y="300"/>
                  </a:lnTo>
                  <a:lnTo>
                    <a:pt x="3125" y="301"/>
                  </a:lnTo>
                  <a:lnTo>
                    <a:pt x="3125" y="305"/>
                  </a:lnTo>
                  <a:lnTo>
                    <a:pt x="3123" y="308"/>
                  </a:lnTo>
                  <a:lnTo>
                    <a:pt x="3121" y="310"/>
                  </a:lnTo>
                  <a:lnTo>
                    <a:pt x="3119" y="312"/>
                  </a:lnTo>
                  <a:lnTo>
                    <a:pt x="3116" y="312"/>
                  </a:lnTo>
                  <a:lnTo>
                    <a:pt x="3116" y="312"/>
                  </a:lnTo>
                  <a:close/>
                  <a:moveTo>
                    <a:pt x="3088" y="310"/>
                  </a:moveTo>
                  <a:lnTo>
                    <a:pt x="3088" y="310"/>
                  </a:lnTo>
                  <a:lnTo>
                    <a:pt x="3084" y="308"/>
                  </a:lnTo>
                  <a:lnTo>
                    <a:pt x="3083" y="307"/>
                  </a:lnTo>
                  <a:lnTo>
                    <a:pt x="3081" y="305"/>
                  </a:lnTo>
                  <a:lnTo>
                    <a:pt x="3081" y="303"/>
                  </a:lnTo>
                  <a:lnTo>
                    <a:pt x="3083" y="300"/>
                  </a:lnTo>
                  <a:lnTo>
                    <a:pt x="3084" y="298"/>
                  </a:lnTo>
                  <a:lnTo>
                    <a:pt x="3086" y="296"/>
                  </a:lnTo>
                  <a:lnTo>
                    <a:pt x="3090" y="296"/>
                  </a:lnTo>
                  <a:lnTo>
                    <a:pt x="3090" y="296"/>
                  </a:lnTo>
                  <a:lnTo>
                    <a:pt x="3091" y="296"/>
                  </a:lnTo>
                  <a:lnTo>
                    <a:pt x="3093" y="298"/>
                  </a:lnTo>
                  <a:lnTo>
                    <a:pt x="3095" y="300"/>
                  </a:lnTo>
                  <a:lnTo>
                    <a:pt x="3095" y="303"/>
                  </a:lnTo>
                  <a:lnTo>
                    <a:pt x="3095" y="307"/>
                  </a:lnTo>
                  <a:lnTo>
                    <a:pt x="3093" y="308"/>
                  </a:lnTo>
                  <a:lnTo>
                    <a:pt x="3090" y="310"/>
                  </a:lnTo>
                  <a:lnTo>
                    <a:pt x="3088" y="310"/>
                  </a:lnTo>
                  <a:lnTo>
                    <a:pt x="3088" y="310"/>
                  </a:lnTo>
                  <a:close/>
                  <a:moveTo>
                    <a:pt x="3058" y="308"/>
                  </a:moveTo>
                  <a:lnTo>
                    <a:pt x="3058" y="308"/>
                  </a:lnTo>
                  <a:lnTo>
                    <a:pt x="3056" y="307"/>
                  </a:lnTo>
                  <a:lnTo>
                    <a:pt x="3053" y="305"/>
                  </a:lnTo>
                  <a:lnTo>
                    <a:pt x="3053" y="303"/>
                  </a:lnTo>
                  <a:lnTo>
                    <a:pt x="3053" y="301"/>
                  </a:lnTo>
                  <a:lnTo>
                    <a:pt x="3053" y="298"/>
                  </a:lnTo>
                  <a:lnTo>
                    <a:pt x="3055" y="296"/>
                  </a:lnTo>
                  <a:lnTo>
                    <a:pt x="3056" y="294"/>
                  </a:lnTo>
                  <a:lnTo>
                    <a:pt x="3060" y="294"/>
                  </a:lnTo>
                  <a:lnTo>
                    <a:pt x="3060" y="294"/>
                  </a:lnTo>
                  <a:lnTo>
                    <a:pt x="3063" y="294"/>
                  </a:lnTo>
                  <a:lnTo>
                    <a:pt x="3065" y="296"/>
                  </a:lnTo>
                  <a:lnTo>
                    <a:pt x="3067" y="298"/>
                  </a:lnTo>
                  <a:lnTo>
                    <a:pt x="3067" y="301"/>
                  </a:lnTo>
                  <a:lnTo>
                    <a:pt x="3065" y="305"/>
                  </a:lnTo>
                  <a:lnTo>
                    <a:pt x="3063" y="307"/>
                  </a:lnTo>
                  <a:lnTo>
                    <a:pt x="3062" y="308"/>
                  </a:lnTo>
                  <a:lnTo>
                    <a:pt x="3058" y="308"/>
                  </a:lnTo>
                  <a:lnTo>
                    <a:pt x="3058" y="308"/>
                  </a:lnTo>
                  <a:close/>
                  <a:moveTo>
                    <a:pt x="3030" y="307"/>
                  </a:moveTo>
                  <a:lnTo>
                    <a:pt x="3030" y="307"/>
                  </a:lnTo>
                  <a:lnTo>
                    <a:pt x="3027" y="305"/>
                  </a:lnTo>
                  <a:lnTo>
                    <a:pt x="3025" y="303"/>
                  </a:lnTo>
                  <a:lnTo>
                    <a:pt x="3023" y="301"/>
                  </a:lnTo>
                  <a:lnTo>
                    <a:pt x="3023" y="300"/>
                  </a:lnTo>
                  <a:lnTo>
                    <a:pt x="3025" y="296"/>
                  </a:lnTo>
                  <a:lnTo>
                    <a:pt x="3027" y="294"/>
                  </a:lnTo>
                  <a:lnTo>
                    <a:pt x="3028" y="293"/>
                  </a:lnTo>
                  <a:lnTo>
                    <a:pt x="3032" y="293"/>
                  </a:lnTo>
                  <a:lnTo>
                    <a:pt x="3032" y="293"/>
                  </a:lnTo>
                  <a:lnTo>
                    <a:pt x="3034" y="293"/>
                  </a:lnTo>
                  <a:lnTo>
                    <a:pt x="3035" y="294"/>
                  </a:lnTo>
                  <a:lnTo>
                    <a:pt x="3037" y="296"/>
                  </a:lnTo>
                  <a:lnTo>
                    <a:pt x="3037" y="300"/>
                  </a:lnTo>
                  <a:lnTo>
                    <a:pt x="3037" y="303"/>
                  </a:lnTo>
                  <a:lnTo>
                    <a:pt x="3035" y="305"/>
                  </a:lnTo>
                  <a:lnTo>
                    <a:pt x="3032" y="307"/>
                  </a:lnTo>
                  <a:lnTo>
                    <a:pt x="3030" y="307"/>
                  </a:lnTo>
                  <a:lnTo>
                    <a:pt x="3030" y="307"/>
                  </a:lnTo>
                  <a:close/>
                  <a:moveTo>
                    <a:pt x="3000" y="305"/>
                  </a:moveTo>
                  <a:lnTo>
                    <a:pt x="3000" y="305"/>
                  </a:lnTo>
                  <a:lnTo>
                    <a:pt x="2999" y="303"/>
                  </a:lnTo>
                  <a:lnTo>
                    <a:pt x="2995" y="301"/>
                  </a:lnTo>
                  <a:lnTo>
                    <a:pt x="2995" y="300"/>
                  </a:lnTo>
                  <a:lnTo>
                    <a:pt x="2995" y="298"/>
                  </a:lnTo>
                  <a:lnTo>
                    <a:pt x="2995" y="294"/>
                  </a:lnTo>
                  <a:lnTo>
                    <a:pt x="2997" y="293"/>
                  </a:lnTo>
                  <a:lnTo>
                    <a:pt x="2999" y="291"/>
                  </a:lnTo>
                  <a:lnTo>
                    <a:pt x="3002" y="291"/>
                  </a:lnTo>
                  <a:lnTo>
                    <a:pt x="3002" y="291"/>
                  </a:lnTo>
                  <a:lnTo>
                    <a:pt x="3006" y="291"/>
                  </a:lnTo>
                  <a:lnTo>
                    <a:pt x="3007" y="293"/>
                  </a:lnTo>
                  <a:lnTo>
                    <a:pt x="3009" y="294"/>
                  </a:lnTo>
                  <a:lnTo>
                    <a:pt x="3009" y="298"/>
                  </a:lnTo>
                  <a:lnTo>
                    <a:pt x="3007" y="301"/>
                  </a:lnTo>
                  <a:lnTo>
                    <a:pt x="3006" y="303"/>
                  </a:lnTo>
                  <a:lnTo>
                    <a:pt x="3004" y="305"/>
                  </a:lnTo>
                  <a:lnTo>
                    <a:pt x="3000" y="305"/>
                  </a:lnTo>
                  <a:lnTo>
                    <a:pt x="3000" y="305"/>
                  </a:lnTo>
                  <a:close/>
                  <a:moveTo>
                    <a:pt x="2971" y="298"/>
                  </a:moveTo>
                  <a:lnTo>
                    <a:pt x="2971" y="298"/>
                  </a:lnTo>
                  <a:lnTo>
                    <a:pt x="2969" y="296"/>
                  </a:lnTo>
                  <a:lnTo>
                    <a:pt x="2967" y="293"/>
                  </a:lnTo>
                  <a:lnTo>
                    <a:pt x="2967" y="289"/>
                  </a:lnTo>
                  <a:lnTo>
                    <a:pt x="2967" y="287"/>
                  </a:lnTo>
                  <a:lnTo>
                    <a:pt x="2969" y="286"/>
                  </a:lnTo>
                  <a:lnTo>
                    <a:pt x="2972" y="284"/>
                  </a:lnTo>
                  <a:lnTo>
                    <a:pt x="2974" y="284"/>
                  </a:lnTo>
                  <a:lnTo>
                    <a:pt x="2978" y="284"/>
                  </a:lnTo>
                  <a:lnTo>
                    <a:pt x="2978" y="284"/>
                  </a:lnTo>
                  <a:lnTo>
                    <a:pt x="2979" y="286"/>
                  </a:lnTo>
                  <a:lnTo>
                    <a:pt x="2981" y="287"/>
                  </a:lnTo>
                  <a:lnTo>
                    <a:pt x="2981" y="291"/>
                  </a:lnTo>
                  <a:lnTo>
                    <a:pt x="2981" y="294"/>
                  </a:lnTo>
                  <a:lnTo>
                    <a:pt x="2979" y="296"/>
                  </a:lnTo>
                  <a:lnTo>
                    <a:pt x="2976" y="298"/>
                  </a:lnTo>
                  <a:lnTo>
                    <a:pt x="2974" y="298"/>
                  </a:lnTo>
                  <a:lnTo>
                    <a:pt x="2971" y="298"/>
                  </a:lnTo>
                  <a:lnTo>
                    <a:pt x="2971" y="298"/>
                  </a:lnTo>
                  <a:close/>
                  <a:moveTo>
                    <a:pt x="2944" y="284"/>
                  </a:moveTo>
                  <a:lnTo>
                    <a:pt x="2944" y="284"/>
                  </a:lnTo>
                  <a:lnTo>
                    <a:pt x="2943" y="282"/>
                  </a:lnTo>
                  <a:lnTo>
                    <a:pt x="2941" y="280"/>
                  </a:lnTo>
                  <a:lnTo>
                    <a:pt x="2941" y="277"/>
                  </a:lnTo>
                  <a:lnTo>
                    <a:pt x="2941" y="275"/>
                  </a:lnTo>
                  <a:lnTo>
                    <a:pt x="2943" y="272"/>
                  </a:lnTo>
                  <a:lnTo>
                    <a:pt x="2946" y="272"/>
                  </a:lnTo>
                  <a:lnTo>
                    <a:pt x="2948" y="270"/>
                  </a:lnTo>
                  <a:lnTo>
                    <a:pt x="2951" y="272"/>
                  </a:lnTo>
                  <a:lnTo>
                    <a:pt x="2951" y="272"/>
                  </a:lnTo>
                  <a:lnTo>
                    <a:pt x="2953" y="273"/>
                  </a:lnTo>
                  <a:lnTo>
                    <a:pt x="2955" y="275"/>
                  </a:lnTo>
                  <a:lnTo>
                    <a:pt x="2955" y="279"/>
                  </a:lnTo>
                  <a:lnTo>
                    <a:pt x="2955" y="280"/>
                  </a:lnTo>
                  <a:lnTo>
                    <a:pt x="2953" y="284"/>
                  </a:lnTo>
                  <a:lnTo>
                    <a:pt x="2950" y="284"/>
                  </a:lnTo>
                  <a:lnTo>
                    <a:pt x="2948" y="286"/>
                  </a:lnTo>
                  <a:lnTo>
                    <a:pt x="2944" y="284"/>
                  </a:lnTo>
                  <a:lnTo>
                    <a:pt x="2944" y="284"/>
                  </a:lnTo>
                  <a:close/>
                  <a:moveTo>
                    <a:pt x="2918" y="272"/>
                  </a:moveTo>
                  <a:lnTo>
                    <a:pt x="2918" y="272"/>
                  </a:lnTo>
                  <a:lnTo>
                    <a:pt x="2916" y="270"/>
                  </a:lnTo>
                  <a:lnTo>
                    <a:pt x="2915" y="268"/>
                  </a:lnTo>
                  <a:lnTo>
                    <a:pt x="2915" y="265"/>
                  </a:lnTo>
                  <a:lnTo>
                    <a:pt x="2916" y="263"/>
                  </a:lnTo>
                  <a:lnTo>
                    <a:pt x="2918" y="259"/>
                  </a:lnTo>
                  <a:lnTo>
                    <a:pt x="2920" y="258"/>
                  </a:lnTo>
                  <a:lnTo>
                    <a:pt x="2922" y="258"/>
                  </a:lnTo>
                  <a:lnTo>
                    <a:pt x="2925" y="259"/>
                  </a:lnTo>
                  <a:lnTo>
                    <a:pt x="2925" y="259"/>
                  </a:lnTo>
                  <a:lnTo>
                    <a:pt x="2927" y="261"/>
                  </a:lnTo>
                  <a:lnTo>
                    <a:pt x="2929" y="263"/>
                  </a:lnTo>
                  <a:lnTo>
                    <a:pt x="2929" y="265"/>
                  </a:lnTo>
                  <a:lnTo>
                    <a:pt x="2929" y="268"/>
                  </a:lnTo>
                  <a:lnTo>
                    <a:pt x="2927" y="270"/>
                  </a:lnTo>
                  <a:lnTo>
                    <a:pt x="2923" y="272"/>
                  </a:lnTo>
                  <a:lnTo>
                    <a:pt x="2922" y="272"/>
                  </a:lnTo>
                  <a:lnTo>
                    <a:pt x="2918" y="272"/>
                  </a:lnTo>
                  <a:lnTo>
                    <a:pt x="2918" y="272"/>
                  </a:lnTo>
                  <a:close/>
                  <a:moveTo>
                    <a:pt x="2894" y="259"/>
                  </a:moveTo>
                  <a:lnTo>
                    <a:pt x="2894" y="259"/>
                  </a:lnTo>
                  <a:lnTo>
                    <a:pt x="2890" y="258"/>
                  </a:lnTo>
                  <a:lnTo>
                    <a:pt x="2888" y="254"/>
                  </a:lnTo>
                  <a:lnTo>
                    <a:pt x="2888" y="252"/>
                  </a:lnTo>
                  <a:lnTo>
                    <a:pt x="2890" y="249"/>
                  </a:lnTo>
                  <a:lnTo>
                    <a:pt x="2892" y="247"/>
                  </a:lnTo>
                  <a:lnTo>
                    <a:pt x="2894" y="245"/>
                  </a:lnTo>
                  <a:lnTo>
                    <a:pt x="2895" y="245"/>
                  </a:lnTo>
                  <a:lnTo>
                    <a:pt x="2899" y="245"/>
                  </a:lnTo>
                  <a:lnTo>
                    <a:pt x="2899" y="245"/>
                  </a:lnTo>
                  <a:lnTo>
                    <a:pt x="2901" y="247"/>
                  </a:lnTo>
                  <a:lnTo>
                    <a:pt x="2902" y="251"/>
                  </a:lnTo>
                  <a:lnTo>
                    <a:pt x="2902" y="252"/>
                  </a:lnTo>
                  <a:lnTo>
                    <a:pt x="2902" y="256"/>
                  </a:lnTo>
                  <a:lnTo>
                    <a:pt x="2901" y="258"/>
                  </a:lnTo>
                  <a:lnTo>
                    <a:pt x="2899" y="259"/>
                  </a:lnTo>
                  <a:lnTo>
                    <a:pt x="2895" y="259"/>
                  </a:lnTo>
                  <a:lnTo>
                    <a:pt x="2894" y="259"/>
                  </a:lnTo>
                  <a:lnTo>
                    <a:pt x="2894" y="259"/>
                  </a:lnTo>
                  <a:close/>
                  <a:moveTo>
                    <a:pt x="2867" y="247"/>
                  </a:moveTo>
                  <a:lnTo>
                    <a:pt x="2867" y="247"/>
                  </a:lnTo>
                  <a:lnTo>
                    <a:pt x="2864" y="245"/>
                  </a:lnTo>
                  <a:lnTo>
                    <a:pt x="2864" y="242"/>
                  </a:lnTo>
                  <a:lnTo>
                    <a:pt x="2862" y="240"/>
                  </a:lnTo>
                  <a:lnTo>
                    <a:pt x="2864" y="237"/>
                  </a:lnTo>
                  <a:lnTo>
                    <a:pt x="2866" y="235"/>
                  </a:lnTo>
                  <a:lnTo>
                    <a:pt x="2867" y="233"/>
                  </a:lnTo>
                  <a:lnTo>
                    <a:pt x="2871" y="233"/>
                  </a:lnTo>
                  <a:lnTo>
                    <a:pt x="2873" y="233"/>
                  </a:lnTo>
                  <a:lnTo>
                    <a:pt x="2873" y="233"/>
                  </a:lnTo>
                  <a:lnTo>
                    <a:pt x="2876" y="235"/>
                  </a:lnTo>
                  <a:lnTo>
                    <a:pt x="2876" y="237"/>
                  </a:lnTo>
                  <a:lnTo>
                    <a:pt x="2876" y="240"/>
                  </a:lnTo>
                  <a:lnTo>
                    <a:pt x="2876" y="244"/>
                  </a:lnTo>
                  <a:lnTo>
                    <a:pt x="2874" y="245"/>
                  </a:lnTo>
                  <a:lnTo>
                    <a:pt x="2873" y="247"/>
                  </a:lnTo>
                  <a:lnTo>
                    <a:pt x="2869" y="247"/>
                  </a:lnTo>
                  <a:lnTo>
                    <a:pt x="2867" y="247"/>
                  </a:lnTo>
                  <a:lnTo>
                    <a:pt x="2867" y="247"/>
                  </a:lnTo>
                  <a:close/>
                  <a:moveTo>
                    <a:pt x="2846" y="256"/>
                  </a:moveTo>
                  <a:lnTo>
                    <a:pt x="2846" y="256"/>
                  </a:lnTo>
                  <a:lnTo>
                    <a:pt x="2843" y="256"/>
                  </a:lnTo>
                  <a:lnTo>
                    <a:pt x="2841" y="254"/>
                  </a:lnTo>
                  <a:lnTo>
                    <a:pt x="2839" y="254"/>
                  </a:lnTo>
                  <a:lnTo>
                    <a:pt x="2838" y="251"/>
                  </a:lnTo>
                  <a:lnTo>
                    <a:pt x="2836" y="249"/>
                  </a:lnTo>
                  <a:lnTo>
                    <a:pt x="2836" y="245"/>
                  </a:lnTo>
                  <a:lnTo>
                    <a:pt x="2838" y="244"/>
                  </a:lnTo>
                  <a:lnTo>
                    <a:pt x="2841" y="242"/>
                  </a:lnTo>
                  <a:lnTo>
                    <a:pt x="2841" y="242"/>
                  </a:lnTo>
                  <a:lnTo>
                    <a:pt x="2843" y="240"/>
                  </a:lnTo>
                  <a:lnTo>
                    <a:pt x="2846" y="242"/>
                  </a:lnTo>
                  <a:lnTo>
                    <a:pt x="2848" y="244"/>
                  </a:lnTo>
                  <a:lnTo>
                    <a:pt x="2850" y="245"/>
                  </a:lnTo>
                  <a:lnTo>
                    <a:pt x="2850" y="249"/>
                  </a:lnTo>
                  <a:lnTo>
                    <a:pt x="2850" y="251"/>
                  </a:lnTo>
                  <a:lnTo>
                    <a:pt x="2848" y="254"/>
                  </a:lnTo>
                  <a:lnTo>
                    <a:pt x="2846" y="256"/>
                  </a:lnTo>
                  <a:lnTo>
                    <a:pt x="2846" y="256"/>
                  </a:lnTo>
                  <a:close/>
                  <a:moveTo>
                    <a:pt x="2820" y="266"/>
                  </a:moveTo>
                  <a:lnTo>
                    <a:pt x="2820" y="266"/>
                  </a:lnTo>
                  <a:lnTo>
                    <a:pt x="2817" y="268"/>
                  </a:lnTo>
                  <a:lnTo>
                    <a:pt x="2815" y="266"/>
                  </a:lnTo>
                  <a:lnTo>
                    <a:pt x="2811" y="265"/>
                  </a:lnTo>
                  <a:lnTo>
                    <a:pt x="2811" y="263"/>
                  </a:lnTo>
                  <a:lnTo>
                    <a:pt x="2810" y="259"/>
                  </a:lnTo>
                  <a:lnTo>
                    <a:pt x="2810" y="258"/>
                  </a:lnTo>
                  <a:lnTo>
                    <a:pt x="2811" y="256"/>
                  </a:lnTo>
                  <a:lnTo>
                    <a:pt x="2815" y="254"/>
                  </a:lnTo>
                  <a:lnTo>
                    <a:pt x="2815" y="254"/>
                  </a:lnTo>
                  <a:lnTo>
                    <a:pt x="2817" y="252"/>
                  </a:lnTo>
                  <a:lnTo>
                    <a:pt x="2820" y="254"/>
                  </a:lnTo>
                  <a:lnTo>
                    <a:pt x="2822" y="254"/>
                  </a:lnTo>
                  <a:lnTo>
                    <a:pt x="2824" y="258"/>
                  </a:lnTo>
                  <a:lnTo>
                    <a:pt x="2824" y="259"/>
                  </a:lnTo>
                  <a:lnTo>
                    <a:pt x="2824" y="263"/>
                  </a:lnTo>
                  <a:lnTo>
                    <a:pt x="2822" y="265"/>
                  </a:lnTo>
                  <a:lnTo>
                    <a:pt x="2820" y="266"/>
                  </a:lnTo>
                  <a:lnTo>
                    <a:pt x="2820" y="266"/>
                  </a:lnTo>
                  <a:close/>
                  <a:moveTo>
                    <a:pt x="2794" y="279"/>
                  </a:moveTo>
                  <a:lnTo>
                    <a:pt x="2794" y="279"/>
                  </a:lnTo>
                  <a:lnTo>
                    <a:pt x="2790" y="279"/>
                  </a:lnTo>
                  <a:lnTo>
                    <a:pt x="2789" y="279"/>
                  </a:lnTo>
                  <a:lnTo>
                    <a:pt x="2785" y="277"/>
                  </a:lnTo>
                  <a:lnTo>
                    <a:pt x="2783" y="275"/>
                  </a:lnTo>
                  <a:lnTo>
                    <a:pt x="2783" y="272"/>
                  </a:lnTo>
                  <a:lnTo>
                    <a:pt x="2783" y="270"/>
                  </a:lnTo>
                  <a:lnTo>
                    <a:pt x="2785" y="266"/>
                  </a:lnTo>
                  <a:lnTo>
                    <a:pt x="2789" y="266"/>
                  </a:lnTo>
                  <a:lnTo>
                    <a:pt x="2789" y="266"/>
                  </a:lnTo>
                  <a:lnTo>
                    <a:pt x="2790" y="265"/>
                  </a:lnTo>
                  <a:lnTo>
                    <a:pt x="2794" y="265"/>
                  </a:lnTo>
                  <a:lnTo>
                    <a:pt x="2796" y="266"/>
                  </a:lnTo>
                  <a:lnTo>
                    <a:pt x="2797" y="270"/>
                  </a:lnTo>
                  <a:lnTo>
                    <a:pt x="2797" y="272"/>
                  </a:lnTo>
                  <a:lnTo>
                    <a:pt x="2797" y="275"/>
                  </a:lnTo>
                  <a:lnTo>
                    <a:pt x="2796" y="277"/>
                  </a:lnTo>
                  <a:lnTo>
                    <a:pt x="2794" y="279"/>
                  </a:lnTo>
                  <a:lnTo>
                    <a:pt x="2794" y="279"/>
                  </a:lnTo>
                  <a:close/>
                  <a:moveTo>
                    <a:pt x="2768" y="291"/>
                  </a:moveTo>
                  <a:lnTo>
                    <a:pt x="2768" y="291"/>
                  </a:lnTo>
                  <a:lnTo>
                    <a:pt x="2764" y="291"/>
                  </a:lnTo>
                  <a:lnTo>
                    <a:pt x="2762" y="291"/>
                  </a:lnTo>
                  <a:lnTo>
                    <a:pt x="2759" y="289"/>
                  </a:lnTo>
                  <a:lnTo>
                    <a:pt x="2757" y="287"/>
                  </a:lnTo>
                  <a:lnTo>
                    <a:pt x="2757" y="284"/>
                  </a:lnTo>
                  <a:lnTo>
                    <a:pt x="2757" y="280"/>
                  </a:lnTo>
                  <a:lnTo>
                    <a:pt x="2759" y="279"/>
                  </a:lnTo>
                  <a:lnTo>
                    <a:pt x="2762" y="277"/>
                  </a:lnTo>
                  <a:lnTo>
                    <a:pt x="2762" y="277"/>
                  </a:lnTo>
                  <a:lnTo>
                    <a:pt x="2764" y="277"/>
                  </a:lnTo>
                  <a:lnTo>
                    <a:pt x="2768" y="277"/>
                  </a:lnTo>
                  <a:lnTo>
                    <a:pt x="2769" y="279"/>
                  </a:lnTo>
                  <a:lnTo>
                    <a:pt x="2771" y="280"/>
                  </a:lnTo>
                  <a:lnTo>
                    <a:pt x="2771" y="284"/>
                  </a:lnTo>
                  <a:lnTo>
                    <a:pt x="2771" y="286"/>
                  </a:lnTo>
                  <a:lnTo>
                    <a:pt x="2769" y="289"/>
                  </a:lnTo>
                  <a:lnTo>
                    <a:pt x="2768" y="291"/>
                  </a:lnTo>
                  <a:lnTo>
                    <a:pt x="2768" y="291"/>
                  </a:lnTo>
                  <a:close/>
                  <a:moveTo>
                    <a:pt x="2738" y="296"/>
                  </a:moveTo>
                  <a:lnTo>
                    <a:pt x="2738" y="296"/>
                  </a:lnTo>
                  <a:lnTo>
                    <a:pt x="2734" y="296"/>
                  </a:lnTo>
                  <a:lnTo>
                    <a:pt x="2731" y="294"/>
                  </a:lnTo>
                  <a:lnTo>
                    <a:pt x="2729" y="293"/>
                  </a:lnTo>
                  <a:lnTo>
                    <a:pt x="2729" y="291"/>
                  </a:lnTo>
                  <a:lnTo>
                    <a:pt x="2729" y="287"/>
                  </a:lnTo>
                  <a:lnTo>
                    <a:pt x="2729" y="286"/>
                  </a:lnTo>
                  <a:lnTo>
                    <a:pt x="2733" y="284"/>
                  </a:lnTo>
                  <a:lnTo>
                    <a:pt x="2734" y="282"/>
                  </a:lnTo>
                  <a:lnTo>
                    <a:pt x="2734" y="282"/>
                  </a:lnTo>
                  <a:lnTo>
                    <a:pt x="2738" y="282"/>
                  </a:lnTo>
                  <a:lnTo>
                    <a:pt x="2740" y="284"/>
                  </a:lnTo>
                  <a:lnTo>
                    <a:pt x="2741" y="286"/>
                  </a:lnTo>
                  <a:lnTo>
                    <a:pt x="2743" y="287"/>
                  </a:lnTo>
                  <a:lnTo>
                    <a:pt x="2743" y="291"/>
                  </a:lnTo>
                  <a:lnTo>
                    <a:pt x="2741" y="293"/>
                  </a:lnTo>
                  <a:lnTo>
                    <a:pt x="2740" y="294"/>
                  </a:lnTo>
                  <a:lnTo>
                    <a:pt x="2738" y="296"/>
                  </a:lnTo>
                  <a:lnTo>
                    <a:pt x="2738" y="296"/>
                  </a:lnTo>
                  <a:close/>
                  <a:moveTo>
                    <a:pt x="2708" y="301"/>
                  </a:moveTo>
                  <a:lnTo>
                    <a:pt x="2708" y="301"/>
                  </a:lnTo>
                  <a:lnTo>
                    <a:pt x="2706" y="301"/>
                  </a:lnTo>
                  <a:lnTo>
                    <a:pt x="2703" y="300"/>
                  </a:lnTo>
                  <a:lnTo>
                    <a:pt x="2701" y="298"/>
                  </a:lnTo>
                  <a:lnTo>
                    <a:pt x="2701" y="296"/>
                  </a:lnTo>
                  <a:lnTo>
                    <a:pt x="2701" y="293"/>
                  </a:lnTo>
                  <a:lnTo>
                    <a:pt x="2701" y="289"/>
                  </a:lnTo>
                  <a:lnTo>
                    <a:pt x="2703" y="287"/>
                  </a:lnTo>
                  <a:lnTo>
                    <a:pt x="2706" y="287"/>
                  </a:lnTo>
                  <a:lnTo>
                    <a:pt x="2706" y="287"/>
                  </a:lnTo>
                  <a:lnTo>
                    <a:pt x="2710" y="287"/>
                  </a:lnTo>
                  <a:lnTo>
                    <a:pt x="2712" y="289"/>
                  </a:lnTo>
                  <a:lnTo>
                    <a:pt x="2713" y="291"/>
                  </a:lnTo>
                  <a:lnTo>
                    <a:pt x="2715" y="293"/>
                  </a:lnTo>
                  <a:lnTo>
                    <a:pt x="2715" y="296"/>
                  </a:lnTo>
                  <a:lnTo>
                    <a:pt x="2713" y="298"/>
                  </a:lnTo>
                  <a:lnTo>
                    <a:pt x="2712" y="300"/>
                  </a:lnTo>
                  <a:lnTo>
                    <a:pt x="2708" y="301"/>
                  </a:lnTo>
                  <a:lnTo>
                    <a:pt x="2708" y="301"/>
                  </a:lnTo>
                  <a:close/>
                  <a:moveTo>
                    <a:pt x="2680" y="307"/>
                  </a:moveTo>
                  <a:lnTo>
                    <a:pt x="2680" y="307"/>
                  </a:lnTo>
                  <a:lnTo>
                    <a:pt x="2677" y="307"/>
                  </a:lnTo>
                  <a:lnTo>
                    <a:pt x="2675" y="305"/>
                  </a:lnTo>
                  <a:lnTo>
                    <a:pt x="2673" y="303"/>
                  </a:lnTo>
                  <a:lnTo>
                    <a:pt x="2671" y="301"/>
                  </a:lnTo>
                  <a:lnTo>
                    <a:pt x="2671" y="298"/>
                  </a:lnTo>
                  <a:lnTo>
                    <a:pt x="2673" y="294"/>
                  </a:lnTo>
                  <a:lnTo>
                    <a:pt x="2675" y="293"/>
                  </a:lnTo>
                  <a:lnTo>
                    <a:pt x="2678" y="293"/>
                  </a:lnTo>
                  <a:lnTo>
                    <a:pt x="2678" y="293"/>
                  </a:lnTo>
                  <a:lnTo>
                    <a:pt x="2680" y="293"/>
                  </a:lnTo>
                  <a:lnTo>
                    <a:pt x="2684" y="293"/>
                  </a:lnTo>
                  <a:lnTo>
                    <a:pt x="2685" y="294"/>
                  </a:lnTo>
                  <a:lnTo>
                    <a:pt x="2685" y="298"/>
                  </a:lnTo>
                  <a:lnTo>
                    <a:pt x="2685" y="301"/>
                  </a:lnTo>
                  <a:lnTo>
                    <a:pt x="2685" y="303"/>
                  </a:lnTo>
                  <a:lnTo>
                    <a:pt x="2684" y="305"/>
                  </a:lnTo>
                  <a:lnTo>
                    <a:pt x="2680" y="307"/>
                  </a:lnTo>
                  <a:lnTo>
                    <a:pt x="2680" y="307"/>
                  </a:lnTo>
                  <a:close/>
                  <a:moveTo>
                    <a:pt x="2652" y="312"/>
                  </a:moveTo>
                  <a:lnTo>
                    <a:pt x="2652" y="312"/>
                  </a:lnTo>
                  <a:lnTo>
                    <a:pt x="2649" y="312"/>
                  </a:lnTo>
                  <a:lnTo>
                    <a:pt x="2645" y="310"/>
                  </a:lnTo>
                  <a:lnTo>
                    <a:pt x="2643" y="308"/>
                  </a:lnTo>
                  <a:lnTo>
                    <a:pt x="2643" y="305"/>
                  </a:lnTo>
                  <a:lnTo>
                    <a:pt x="2643" y="303"/>
                  </a:lnTo>
                  <a:lnTo>
                    <a:pt x="2645" y="300"/>
                  </a:lnTo>
                  <a:lnTo>
                    <a:pt x="2647" y="298"/>
                  </a:lnTo>
                  <a:lnTo>
                    <a:pt x="2649" y="298"/>
                  </a:lnTo>
                  <a:lnTo>
                    <a:pt x="2649" y="298"/>
                  </a:lnTo>
                  <a:lnTo>
                    <a:pt x="2652" y="298"/>
                  </a:lnTo>
                  <a:lnTo>
                    <a:pt x="2654" y="298"/>
                  </a:lnTo>
                  <a:lnTo>
                    <a:pt x="2656" y="300"/>
                  </a:lnTo>
                  <a:lnTo>
                    <a:pt x="2657" y="303"/>
                  </a:lnTo>
                  <a:lnTo>
                    <a:pt x="2657" y="307"/>
                  </a:lnTo>
                  <a:lnTo>
                    <a:pt x="2656" y="308"/>
                  </a:lnTo>
                  <a:lnTo>
                    <a:pt x="2654" y="310"/>
                  </a:lnTo>
                  <a:lnTo>
                    <a:pt x="2652" y="312"/>
                  </a:lnTo>
                  <a:lnTo>
                    <a:pt x="2652" y="312"/>
                  </a:lnTo>
                  <a:close/>
                  <a:moveTo>
                    <a:pt x="2622" y="317"/>
                  </a:moveTo>
                  <a:lnTo>
                    <a:pt x="2622" y="317"/>
                  </a:lnTo>
                  <a:lnTo>
                    <a:pt x="2621" y="317"/>
                  </a:lnTo>
                  <a:lnTo>
                    <a:pt x="2617" y="315"/>
                  </a:lnTo>
                  <a:lnTo>
                    <a:pt x="2615" y="314"/>
                  </a:lnTo>
                  <a:lnTo>
                    <a:pt x="2615" y="310"/>
                  </a:lnTo>
                  <a:lnTo>
                    <a:pt x="2615" y="307"/>
                  </a:lnTo>
                  <a:lnTo>
                    <a:pt x="2615" y="305"/>
                  </a:lnTo>
                  <a:lnTo>
                    <a:pt x="2617" y="303"/>
                  </a:lnTo>
                  <a:lnTo>
                    <a:pt x="2621" y="301"/>
                  </a:lnTo>
                  <a:lnTo>
                    <a:pt x="2621" y="301"/>
                  </a:lnTo>
                  <a:lnTo>
                    <a:pt x="2624" y="301"/>
                  </a:lnTo>
                  <a:lnTo>
                    <a:pt x="2626" y="303"/>
                  </a:lnTo>
                  <a:lnTo>
                    <a:pt x="2628" y="305"/>
                  </a:lnTo>
                  <a:lnTo>
                    <a:pt x="2629" y="308"/>
                  </a:lnTo>
                  <a:lnTo>
                    <a:pt x="2629" y="310"/>
                  </a:lnTo>
                  <a:lnTo>
                    <a:pt x="2628" y="314"/>
                  </a:lnTo>
                  <a:lnTo>
                    <a:pt x="2626" y="315"/>
                  </a:lnTo>
                  <a:lnTo>
                    <a:pt x="2622" y="317"/>
                  </a:lnTo>
                  <a:lnTo>
                    <a:pt x="2622" y="317"/>
                  </a:lnTo>
                  <a:close/>
                  <a:moveTo>
                    <a:pt x="2594" y="322"/>
                  </a:moveTo>
                  <a:lnTo>
                    <a:pt x="2594" y="322"/>
                  </a:lnTo>
                  <a:lnTo>
                    <a:pt x="2591" y="321"/>
                  </a:lnTo>
                  <a:lnTo>
                    <a:pt x="2589" y="321"/>
                  </a:lnTo>
                  <a:lnTo>
                    <a:pt x="2587" y="319"/>
                  </a:lnTo>
                  <a:lnTo>
                    <a:pt x="2586" y="315"/>
                  </a:lnTo>
                  <a:lnTo>
                    <a:pt x="2586" y="312"/>
                  </a:lnTo>
                  <a:lnTo>
                    <a:pt x="2587" y="310"/>
                  </a:lnTo>
                  <a:lnTo>
                    <a:pt x="2589" y="308"/>
                  </a:lnTo>
                  <a:lnTo>
                    <a:pt x="2593" y="307"/>
                  </a:lnTo>
                  <a:lnTo>
                    <a:pt x="2593" y="307"/>
                  </a:lnTo>
                  <a:lnTo>
                    <a:pt x="2594" y="307"/>
                  </a:lnTo>
                  <a:lnTo>
                    <a:pt x="2598" y="308"/>
                  </a:lnTo>
                  <a:lnTo>
                    <a:pt x="2600" y="310"/>
                  </a:lnTo>
                  <a:lnTo>
                    <a:pt x="2601" y="314"/>
                  </a:lnTo>
                  <a:lnTo>
                    <a:pt x="2600" y="315"/>
                  </a:lnTo>
                  <a:lnTo>
                    <a:pt x="2600" y="319"/>
                  </a:lnTo>
                  <a:lnTo>
                    <a:pt x="2598" y="321"/>
                  </a:lnTo>
                  <a:lnTo>
                    <a:pt x="2594" y="322"/>
                  </a:lnTo>
                  <a:lnTo>
                    <a:pt x="2594" y="322"/>
                  </a:lnTo>
                  <a:close/>
                  <a:moveTo>
                    <a:pt x="2565" y="310"/>
                  </a:moveTo>
                  <a:lnTo>
                    <a:pt x="2565" y="310"/>
                  </a:lnTo>
                  <a:lnTo>
                    <a:pt x="2563" y="307"/>
                  </a:lnTo>
                  <a:lnTo>
                    <a:pt x="2561" y="305"/>
                  </a:lnTo>
                  <a:lnTo>
                    <a:pt x="2561" y="301"/>
                  </a:lnTo>
                  <a:lnTo>
                    <a:pt x="2563" y="300"/>
                  </a:lnTo>
                  <a:lnTo>
                    <a:pt x="2565" y="298"/>
                  </a:lnTo>
                  <a:lnTo>
                    <a:pt x="2568" y="296"/>
                  </a:lnTo>
                  <a:lnTo>
                    <a:pt x="2570" y="296"/>
                  </a:lnTo>
                  <a:lnTo>
                    <a:pt x="2573" y="298"/>
                  </a:lnTo>
                  <a:lnTo>
                    <a:pt x="2573" y="298"/>
                  </a:lnTo>
                  <a:lnTo>
                    <a:pt x="2575" y="300"/>
                  </a:lnTo>
                  <a:lnTo>
                    <a:pt x="2575" y="303"/>
                  </a:lnTo>
                  <a:lnTo>
                    <a:pt x="2575" y="307"/>
                  </a:lnTo>
                  <a:lnTo>
                    <a:pt x="2575" y="308"/>
                  </a:lnTo>
                  <a:lnTo>
                    <a:pt x="2572" y="310"/>
                  </a:lnTo>
                  <a:lnTo>
                    <a:pt x="2570" y="312"/>
                  </a:lnTo>
                  <a:lnTo>
                    <a:pt x="2566" y="310"/>
                  </a:lnTo>
                  <a:lnTo>
                    <a:pt x="2565" y="310"/>
                  </a:lnTo>
                  <a:lnTo>
                    <a:pt x="2565" y="310"/>
                  </a:lnTo>
                  <a:close/>
                  <a:moveTo>
                    <a:pt x="2542" y="291"/>
                  </a:moveTo>
                  <a:lnTo>
                    <a:pt x="2542" y="291"/>
                  </a:lnTo>
                  <a:lnTo>
                    <a:pt x="2540" y="289"/>
                  </a:lnTo>
                  <a:lnTo>
                    <a:pt x="2538" y="286"/>
                  </a:lnTo>
                  <a:lnTo>
                    <a:pt x="2538" y="284"/>
                  </a:lnTo>
                  <a:lnTo>
                    <a:pt x="2540" y="282"/>
                  </a:lnTo>
                  <a:lnTo>
                    <a:pt x="2542" y="279"/>
                  </a:lnTo>
                  <a:lnTo>
                    <a:pt x="2545" y="279"/>
                  </a:lnTo>
                  <a:lnTo>
                    <a:pt x="2549" y="279"/>
                  </a:lnTo>
                  <a:lnTo>
                    <a:pt x="2551" y="280"/>
                  </a:lnTo>
                  <a:lnTo>
                    <a:pt x="2551" y="280"/>
                  </a:lnTo>
                  <a:lnTo>
                    <a:pt x="2552" y="282"/>
                  </a:lnTo>
                  <a:lnTo>
                    <a:pt x="2554" y="286"/>
                  </a:lnTo>
                  <a:lnTo>
                    <a:pt x="2552" y="287"/>
                  </a:lnTo>
                  <a:lnTo>
                    <a:pt x="2552" y="291"/>
                  </a:lnTo>
                  <a:lnTo>
                    <a:pt x="2549" y="293"/>
                  </a:lnTo>
                  <a:lnTo>
                    <a:pt x="2547" y="293"/>
                  </a:lnTo>
                  <a:lnTo>
                    <a:pt x="2544" y="293"/>
                  </a:lnTo>
                  <a:lnTo>
                    <a:pt x="2542" y="291"/>
                  </a:lnTo>
                  <a:lnTo>
                    <a:pt x="2542" y="291"/>
                  </a:lnTo>
                  <a:close/>
                  <a:moveTo>
                    <a:pt x="2519" y="273"/>
                  </a:moveTo>
                  <a:lnTo>
                    <a:pt x="2519" y="273"/>
                  </a:lnTo>
                  <a:lnTo>
                    <a:pt x="2517" y="272"/>
                  </a:lnTo>
                  <a:lnTo>
                    <a:pt x="2517" y="268"/>
                  </a:lnTo>
                  <a:lnTo>
                    <a:pt x="2517" y="266"/>
                  </a:lnTo>
                  <a:lnTo>
                    <a:pt x="2517" y="263"/>
                  </a:lnTo>
                  <a:lnTo>
                    <a:pt x="2521" y="261"/>
                  </a:lnTo>
                  <a:lnTo>
                    <a:pt x="2523" y="261"/>
                  </a:lnTo>
                  <a:lnTo>
                    <a:pt x="2526" y="261"/>
                  </a:lnTo>
                  <a:lnTo>
                    <a:pt x="2528" y="263"/>
                  </a:lnTo>
                  <a:lnTo>
                    <a:pt x="2528" y="263"/>
                  </a:lnTo>
                  <a:lnTo>
                    <a:pt x="2530" y="265"/>
                  </a:lnTo>
                  <a:lnTo>
                    <a:pt x="2531" y="266"/>
                  </a:lnTo>
                  <a:lnTo>
                    <a:pt x="2531" y="270"/>
                  </a:lnTo>
                  <a:lnTo>
                    <a:pt x="2530" y="272"/>
                  </a:lnTo>
                  <a:lnTo>
                    <a:pt x="2526" y="273"/>
                  </a:lnTo>
                  <a:lnTo>
                    <a:pt x="2524" y="275"/>
                  </a:lnTo>
                  <a:lnTo>
                    <a:pt x="2521" y="275"/>
                  </a:lnTo>
                  <a:lnTo>
                    <a:pt x="2519" y="273"/>
                  </a:lnTo>
                  <a:lnTo>
                    <a:pt x="2519" y="273"/>
                  </a:lnTo>
                  <a:close/>
                  <a:moveTo>
                    <a:pt x="2496" y="256"/>
                  </a:moveTo>
                  <a:lnTo>
                    <a:pt x="2496" y="256"/>
                  </a:lnTo>
                  <a:lnTo>
                    <a:pt x="2495" y="252"/>
                  </a:lnTo>
                  <a:lnTo>
                    <a:pt x="2495" y="251"/>
                  </a:lnTo>
                  <a:lnTo>
                    <a:pt x="2495" y="247"/>
                  </a:lnTo>
                  <a:lnTo>
                    <a:pt x="2496" y="245"/>
                  </a:lnTo>
                  <a:lnTo>
                    <a:pt x="2498" y="244"/>
                  </a:lnTo>
                  <a:lnTo>
                    <a:pt x="2500" y="242"/>
                  </a:lnTo>
                  <a:lnTo>
                    <a:pt x="2503" y="242"/>
                  </a:lnTo>
                  <a:lnTo>
                    <a:pt x="2505" y="244"/>
                  </a:lnTo>
                  <a:lnTo>
                    <a:pt x="2505" y="244"/>
                  </a:lnTo>
                  <a:lnTo>
                    <a:pt x="2507" y="245"/>
                  </a:lnTo>
                  <a:lnTo>
                    <a:pt x="2509" y="249"/>
                  </a:lnTo>
                  <a:lnTo>
                    <a:pt x="2509" y="251"/>
                  </a:lnTo>
                  <a:lnTo>
                    <a:pt x="2507" y="254"/>
                  </a:lnTo>
                  <a:lnTo>
                    <a:pt x="2505" y="256"/>
                  </a:lnTo>
                  <a:lnTo>
                    <a:pt x="2502" y="256"/>
                  </a:lnTo>
                  <a:lnTo>
                    <a:pt x="2498" y="256"/>
                  </a:lnTo>
                  <a:lnTo>
                    <a:pt x="2496" y="256"/>
                  </a:lnTo>
                  <a:lnTo>
                    <a:pt x="2496" y="256"/>
                  </a:lnTo>
                  <a:close/>
                  <a:moveTo>
                    <a:pt x="2477" y="259"/>
                  </a:moveTo>
                  <a:lnTo>
                    <a:pt x="2477" y="259"/>
                  </a:lnTo>
                  <a:lnTo>
                    <a:pt x="2474" y="259"/>
                  </a:lnTo>
                  <a:lnTo>
                    <a:pt x="2472" y="259"/>
                  </a:lnTo>
                  <a:lnTo>
                    <a:pt x="2468" y="258"/>
                  </a:lnTo>
                  <a:lnTo>
                    <a:pt x="2468" y="254"/>
                  </a:lnTo>
                  <a:lnTo>
                    <a:pt x="2468" y="251"/>
                  </a:lnTo>
                  <a:lnTo>
                    <a:pt x="2468" y="249"/>
                  </a:lnTo>
                  <a:lnTo>
                    <a:pt x="2470" y="247"/>
                  </a:lnTo>
                  <a:lnTo>
                    <a:pt x="2474" y="245"/>
                  </a:lnTo>
                  <a:lnTo>
                    <a:pt x="2474" y="245"/>
                  </a:lnTo>
                  <a:lnTo>
                    <a:pt x="2475" y="245"/>
                  </a:lnTo>
                  <a:lnTo>
                    <a:pt x="2479" y="245"/>
                  </a:lnTo>
                  <a:lnTo>
                    <a:pt x="2481" y="247"/>
                  </a:lnTo>
                  <a:lnTo>
                    <a:pt x="2482" y="251"/>
                  </a:lnTo>
                  <a:lnTo>
                    <a:pt x="2482" y="252"/>
                  </a:lnTo>
                  <a:lnTo>
                    <a:pt x="2481" y="256"/>
                  </a:lnTo>
                  <a:lnTo>
                    <a:pt x="2479" y="258"/>
                  </a:lnTo>
                  <a:lnTo>
                    <a:pt x="2477" y="259"/>
                  </a:lnTo>
                  <a:lnTo>
                    <a:pt x="2477" y="259"/>
                  </a:lnTo>
                  <a:close/>
                  <a:moveTo>
                    <a:pt x="2449" y="268"/>
                  </a:moveTo>
                  <a:lnTo>
                    <a:pt x="2449" y="268"/>
                  </a:lnTo>
                  <a:lnTo>
                    <a:pt x="2446" y="268"/>
                  </a:lnTo>
                  <a:lnTo>
                    <a:pt x="2444" y="268"/>
                  </a:lnTo>
                  <a:lnTo>
                    <a:pt x="2442" y="266"/>
                  </a:lnTo>
                  <a:lnTo>
                    <a:pt x="2440" y="263"/>
                  </a:lnTo>
                  <a:lnTo>
                    <a:pt x="2440" y="259"/>
                  </a:lnTo>
                  <a:lnTo>
                    <a:pt x="2440" y="258"/>
                  </a:lnTo>
                  <a:lnTo>
                    <a:pt x="2442" y="256"/>
                  </a:lnTo>
                  <a:lnTo>
                    <a:pt x="2446" y="254"/>
                  </a:lnTo>
                  <a:lnTo>
                    <a:pt x="2446" y="254"/>
                  </a:lnTo>
                  <a:lnTo>
                    <a:pt x="2447" y="254"/>
                  </a:lnTo>
                  <a:lnTo>
                    <a:pt x="2451" y="254"/>
                  </a:lnTo>
                  <a:lnTo>
                    <a:pt x="2453" y="256"/>
                  </a:lnTo>
                  <a:lnTo>
                    <a:pt x="2454" y="259"/>
                  </a:lnTo>
                  <a:lnTo>
                    <a:pt x="2454" y="261"/>
                  </a:lnTo>
                  <a:lnTo>
                    <a:pt x="2454" y="265"/>
                  </a:lnTo>
                  <a:lnTo>
                    <a:pt x="2453" y="266"/>
                  </a:lnTo>
                  <a:lnTo>
                    <a:pt x="2449" y="268"/>
                  </a:lnTo>
                  <a:lnTo>
                    <a:pt x="2449" y="268"/>
                  </a:lnTo>
                  <a:close/>
                  <a:moveTo>
                    <a:pt x="2421" y="275"/>
                  </a:moveTo>
                  <a:lnTo>
                    <a:pt x="2421" y="275"/>
                  </a:lnTo>
                  <a:lnTo>
                    <a:pt x="2418" y="275"/>
                  </a:lnTo>
                  <a:lnTo>
                    <a:pt x="2414" y="273"/>
                  </a:lnTo>
                  <a:lnTo>
                    <a:pt x="2412" y="272"/>
                  </a:lnTo>
                  <a:lnTo>
                    <a:pt x="2412" y="270"/>
                  </a:lnTo>
                  <a:lnTo>
                    <a:pt x="2412" y="266"/>
                  </a:lnTo>
                  <a:lnTo>
                    <a:pt x="2412" y="263"/>
                  </a:lnTo>
                  <a:lnTo>
                    <a:pt x="2414" y="261"/>
                  </a:lnTo>
                  <a:lnTo>
                    <a:pt x="2418" y="261"/>
                  </a:lnTo>
                  <a:lnTo>
                    <a:pt x="2418" y="261"/>
                  </a:lnTo>
                  <a:lnTo>
                    <a:pt x="2421" y="261"/>
                  </a:lnTo>
                  <a:lnTo>
                    <a:pt x="2423" y="261"/>
                  </a:lnTo>
                  <a:lnTo>
                    <a:pt x="2425" y="263"/>
                  </a:lnTo>
                  <a:lnTo>
                    <a:pt x="2426" y="266"/>
                  </a:lnTo>
                  <a:lnTo>
                    <a:pt x="2426" y="270"/>
                  </a:lnTo>
                  <a:lnTo>
                    <a:pt x="2425" y="272"/>
                  </a:lnTo>
                  <a:lnTo>
                    <a:pt x="2423" y="273"/>
                  </a:lnTo>
                  <a:lnTo>
                    <a:pt x="2421" y="275"/>
                  </a:lnTo>
                  <a:lnTo>
                    <a:pt x="2421" y="275"/>
                  </a:lnTo>
                  <a:close/>
                  <a:moveTo>
                    <a:pt x="2391" y="280"/>
                  </a:moveTo>
                  <a:lnTo>
                    <a:pt x="2391" y="280"/>
                  </a:lnTo>
                  <a:lnTo>
                    <a:pt x="2390" y="280"/>
                  </a:lnTo>
                  <a:lnTo>
                    <a:pt x="2386" y="279"/>
                  </a:lnTo>
                  <a:lnTo>
                    <a:pt x="2384" y="277"/>
                  </a:lnTo>
                  <a:lnTo>
                    <a:pt x="2384" y="275"/>
                  </a:lnTo>
                  <a:lnTo>
                    <a:pt x="2384" y="272"/>
                  </a:lnTo>
                  <a:lnTo>
                    <a:pt x="2384" y="270"/>
                  </a:lnTo>
                  <a:lnTo>
                    <a:pt x="2386" y="266"/>
                  </a:lnTo>
                  <a:lnTo>
                    <a:pt x="2390" y="266"/>
                  </a:lnTo>
                  <a:lnTo>
                    <a:pt x="2390" y="266"/>
                  </a:lnTo>
                  <a:lnTo>
                    <a:pt x="2391" y="266"/>
                  </a:lnTo>
                  <a:lnTo>
                    <a:pt x="2395" y="268"/>
                  </a:lnTo>
                  <a:lnTo>
                    <a:pt x="2397" y="270"/>
                  </a:lnTo>
                  <a:lnTo>
                    <a:pt x="2398" y="272"/>
                  </a:lnTo>
                  <a:lnTo>
                    <a:pt x="2398" y="275"/>
                  </a:lnTo>
                  <a:lnTo>
                    <a:pt x="2397" y="277"/>
                  </a:lnTo>
                  <a:lnTo>
                    <a:pt x="2395" y="279"/>
                  </a:lnTo>
                  <a:lnTo>
                    <a:pt x="2391" y="280"/>
                  </a:lnTo>
                  <a:lnTo>
                    <a:pt x="2391" y="280"/>
                  </a:lnTo>
                  <a:close/>
                  <a:moveTo>
                    <a:pt x="2363" y="286"/>
                  </a:moveTo>
                  <a:lnTo>
                    <a:pt x="2363" y="286"/>
                  </a:lnTo>
                  <a:lnTo>
                    <a:pt x="2360" y="286"/>
                  </a:lnTo>
                  <a:lnTo>
                    <a:pt x="2358" y="284"/>
                  </a:lnTo>
                  <a:lnTo>
                    <a:pt x="2356" y="282"/>
                  </a:lnTo>
                  <a:lnTo>
                    <a:pt x="2355" y="280"/>
                  </a:lnTo>
                  <a:lnTo>
                    <a:pt x="2355" y="277"/>
                  </a:lnTo>
                  <a:lnTo>
                    <a:pt x="2356" y="275"/>
                  </a:lnTo>
                  <a:lnTo>
                    <a:pt x="2358" y="273"/>
                  </a:lnTo>
                  <a:lnTo>
                    <a:pt x="2362" y="272"/>
                  </a:lnTo>
                  <a:lnTo>
                    <a:pt x="2362" y="272"/>
                  </a:lnTo>
                  <a:lnTo>
                    <a:pt x="2363" y="272"/>
                  </a:lnTo>
                  <a:lnTo>
                    <a:pt x="2367" y="273"/>
                  </a:lnTo>
                  <a:lnTo>
                    <a:pt x="2369" y="275"/>
                  </a:lnTo>
                  <a:lnTo>
                    <a:pt x="2370" y="277"/>
                  </a:lnTo>
                  <a:lnTo>
                    <a:pt x="2369" y="280"/>
                  </a:lnTo>
                  <a:lnTo>
                    <a:pt x="2369" y="282"/>
                  </a:lnTo>
                  <a:lnTo>
                    <a:pt x="2367" y="286"/>
                  </a:lnTo>
                  <a:lnTo>
                    <a:pt x="2363" y="286"/>
                  </a:lnTo>
                  <a:lnTo>
                    <a:pt x="2363" y="286"/>
                  </a:lnTo>
                  <a:close/>
                  <a:moveTo>
                    <a:pt x="2335" y="291"/>
                  </a:moveTo>
                  <a:lnTo>
                    <a:pt x="2335" y="291"/>
                  </a:lnTo>
                  <a:lnTo>
                    <a:pt x="2332" y="291"/>
                  </a:lnTo>
                  <a:lnTo>
                    <a:pt x="2330" y="291"/>
                  </a:lnTo>
                  <a:lnTo>
                    <a:pt x="2328" y="289"/>
                  </a:lnTo>
                  <a:lnTo>
                    <a:pt x="2327" y="286"/>
                  </a:lnTo>
                  <a:lnTo>
                    <a:pt x="2327" y="282"/>
                  </a:lnTo>
                  <a:lnTo>
                    <a:pt x="2328" y="280"/>
                  </a:lnTo>
                  <a:lnTo>
                    <a:pt x="2330" y="279"/>
                  </a:lnTo>
                  <a:lnTo>
                    <a:pt x="2332" y="277"/>
                  </a:lnTo>
                  <a:lnTo>
                    <a:pt x="2334" y="277"/>
                  </a:lnTo>
                  <a:lnTo>
                    <a:pt x="2335" y="277"/>
                  </a:lnTo>
                  <a:lnTo>
                    <a:pt x="2337" y="279"/>
                  </a:lnTo>
                  <a:lnTo>
                    <a:pt x="2341" y="280"/>
                  </a:lnTo>
                  <a:lnTo>
                    <a:pt x="2341" y="284"/>
                  </a:lnTo>
                  <a:lnTo>
                    <a:pt x="2341" y="286"/>
                  </a:lnTo>
                  <a:lnTo>
                    <a:pt x="2339" y="289"/>
                  </a:lnTo>
                  <a:lnTo>
                    <a:pt x="2337" y="291"/>
                  </a:lnTo>
                  <a:lnTo>
                    <a:pt x="2335" y="291"/>
                  </a:lnTo>
                  <a:lnTo>
                    <a:pt x="2335" y="291"/>
                  </a:lnTo>
                  <a:close/>
                  <a:moveTo>
                    <a:pt x="2307" y="298"/>
                  </a:moveTo>
                  <a:lnTo>
                    <a:pt x="2307" y="298"/>
                  </a:lnTo>
                  <a:lnTo>
                    <a:pt x="2304" y="296"/>
                  </a:lnTo>
                  <a:lnTo>
                    <a:pt x="2300" y="296"/>
                  </a:lnTo>
                  <a:lnTo>
                    <a:pt x="2299" y="294"/>
                  </a:lnTo>
                  <a:lnTo>
                    <a:pt x="2299" y="291"/>
                  </a:lnTo>
                  <a:lnTo>
                    <a:pt x="2299" y="287"/>
                  </a:lnTo>
                  <a:lnTo>
                    <a:pt x="2300" y="286"/>
                  </a:lnTo>
                  <a:lnTo>
                    <a:pt x="2302" y="284"/>
                  </a:lnTo>
                  <a:lnTo>
                    <a:pt x="2304" y="282"/>
                  </a:lnTo>
                  <a:lnTo>
                    <a:pt x="2304" y="282"/>
                  </a:lnTo>
                  <a:lnTo>
                    <a:pt x="2307" y="282"/>
                  </a:lnTo>
                  <a:lnTo>
                    <a:pt x="2309" y="284"/>
                  </a:lnTo>
                  <a:lnTo>
                    <a:pt x="2311" y="286"/>
                  </a:lnTo>
                  <a:lnTo>
                    <a:pt x="2313" y="289"/>
                  </a:lnTo>
                  <a:lnTo>
                    <a:pt x="2313" y="291"/>
                  </a:lnTo>
                  <a:lnTo>
                    <a:pt x="2311" y="294"/>
                  </a:lnTo>
                  <a:lnTo>
                    <a:pt x="2309" y="296"/>
                  </a:lnTo>
                  <a:lnTo>
                    <a:pt x="2307" y="298"/>
                  </a:lnTo>
                  <a:lnTo>
                    <a:pt x="2307" y="298"/>
                  </a:lnTo>
                  <a:close/>
                  <a:moveTo>
                    <a:pt x="2278" y="303"/>
                  </a:moveTo>
                  <a:lnTo>
                    <a:pt x="2278" y="303"/>
                  </a:lnTo>
                  <a:lnTo>
                    <a:pt x="2276" y="303"/>
                  </a:lnTo>
                  <a:lnTo>
                    <a:pt x="2272" y="301"/>
                  </a:lnTo>
                  <a:lnTo>
                    <a:pt x="2271" y="300"/>
                  </a:lnTo>
                  <a:lnTo>
                    <a:pt x="2271" y="296"/>
                  </a:lnTo>
                  <a:lnTo>
                    <a:pt x="2271" y="294"/>
                  </a:lnTo>
                  <a:lnTo>
                    <a:pt x="2271" y="291"/>
                  </a:lnTo>
                  <a:lnTo>
                    <a:pt x="2272" y="289"/>
                  </a:lnTo>
                  <a:lnTo>
                    <a:pt x="2276" y="289"/>
                  </a:lnTo>
                  <a:lnTo>
                    <a:pt x="2276" y="289"/>
                  </a:lnTo>
                  <a:lnTo>
                    <a:pt x="2279" y="289"/>
                  </a:lnTo>
                  <a:lnTo>
                    <a:pt x="2281" y="289"/>
                  </a:lnTo>
                  <a:lnTo>
                    <a:pt x="2283" y="291"/>
                  </a:lnTo>
                  <a:lnTo>
                    <a:pt x="2285" y="294"/>
                  </a:lnTo>
                  <a:lnTo>
                    <a:pt x="2285" y="296"/>
                  </a:lnTo>
                  <a:lnTo>
                    <a:pt x="2283" y="300"/>
                  </a:lnTo>
                  <a:lnTo>
                    <a:pt x="2281" y="301"/>
                  </a:lnTo>
                  <a:lnTo>
                    <a:pt x="2278" y="303"/>
                  </a:lnTo>
                  <a:lnTo>
                    <a:pt x="2278" y="303"/>
                  </a:lnTo>
                  <a:close/>
                  <a:moveTo>
                    <a:pt x="2250" y="287"/>
                  </a:moveTo>
                  <a:lnTo>
                    <a:pt x="2250" y="287"/>
                  </a:lnTo>
                  <a:lnTo>
                    <a:pt x="2246" y="286"/>
                  </a:lnTo>
                  <a:lnTo>
                    <a:pt x="2246" y="284"/>
                  </a:lnTo>
                  <a:lnTo>
                    <a:pt x="2246" y="280"/>
                  </a:lnTo>
                  <a:lnTo>
                    <a:pt x="2248" y="279"/>
                  </a:lnTo>
                  <a:lnTo>
                    <a:pt x="2250" y="275"/>
                  </a:lnTo>
                  <a:lnTo>
                    <a:pt x="2253" y="275"/>
                  </a:lnTo>
                  <a:lnTo>
                    <a:pt x="2255" y="275"/>
                  </a:lnTo>
                  <a:lnTo>
                    <a:pt x="2258" y="277"/>
                  </a:lnTo>
                  <a:lnTo>
                    <a:pt x="2258" y="277"/>
                  </a:lnTo>
                  <a:lnTo>
                    <a:pt x="2260" y="279"/>
                  </a:lnTo>
                  <a:lnTo>
                    <a:pt x="2260" y="282"/>
                  </a:lnTo>
                  <a:lnTo>
                    <a:pt x="2260" y="284"/>
                  </a:lnTo>
                  <a:lnTo>
                    <a:pt x="2258" y="287"/>
                  </a:lnTo>
                  <a:lnTo>
                    <a:pt x="2257" y="289"/>
                  </a:lnTo>
                  <a:lnTo>
                    <a:pt x="2253" y="289"/>
                  </a:lnTo>
                  <a:lnTo>
                    <a:pt x="2251" y="289"/>
                  </a:lnTo>
                  <a:lnTo>
                    <a:pt x="2250" y="287"/>
                  </a:lnTo>
                  <a:lnTo>
                    <a:pt x="2250" y="287"/>
                  </a:lnTo>
                  <a:close/>
                  <a:moveTo>
                    <a:pt x="2227" y="270"/>
                  </a:moveTo>
                  <a:lnTo>
                    <a:pt x="2227" y="270"/>
                  </a:lnTo>
                  <a:lnTo>
                    <a:pt x="2223" y="268"/>
                  </a:lnTo>
                  <a:lnTo>
                    <a:pt x="2223" y="265"/>
                  </a:lnTo>
                  <a:lnTo>
                    <a:pt x="2223" y="263"/>
                  </a:lnTo>
                  <a:lnTo>
                    <a:pt x="2225" y="259"/>
                  </a:lnTo>
                  <a:lnTo>
                    <a:pt x="2227" y="258"/>
                  </a:lnTo>
                  <a:lnTo>
                    <a:pt x="2230" y="258"/>
                  </a:lnTo>
                  <a:lnTo>
                    <a:pt x="2232" y="258"/>
                  </a:lnTo>
                  <a:lnTo>
                    <a:pt x="2236" y="259"/>
                  </a:lnTo>
                  <a:lnTo>
                    <a:pt x="2236" y="259"/>
                  </a:lnTo>
                  <a:lnTo>
                    <a:pt x="2237" y="261"/>
                  </a:lnTo>
                  <a:lnTo>
                    <a:pt x="2237" y="263"/>
                  </a:lnTo>
                  <a:lnTo>
                    <a:pt x="2237" y="266"/>
                  </a:lnTo>
                  <a:lnTo>
                    <a:pt x="2237" y="268"/>
                  </a:lnTo>
                  <a:lnTo>
                    <a:pt x="2234" y="270"/>
                  </a:lnTo>
                  <a:lnTo>
                    <a:pt x="2232" y="272"/>
                  </a:lnTo>
                  <a:lnTo>
                    <a:pt x="2228" y="272"/>
                  </a:lnTo>
                  <a:lnTo>
                    <a:pt x="2227" y="270"/>
                  </a:lnTo>
                  <a:lnTo>
                    <a:pt x="2227" y="270"/>
                  </a:lnTo>
                  <a:close/>
                  <a:moveTo>
                    <a:pt x="2204" y="252"/>
                  </a:moveTo>
                  <a:lnTo>
                    <a:pt x="2204" y="252"/>
                  </a:lnTo>
                  <a:lnTo>
                    <a:pt x="2202" y="249"/>
                  </a:lnTo>
                  <a:lnTo>
                    <a:pt x="2200" y="247"/>
                  </a:lnTo>
                  <a:lnTo>
                    <a:pt x="2200" y="244"/>
                  </a:lnTo>
                  <a:lnTo>
                    <a:pt x="2202" y="242"/>
                  </a:lnTo>
                  <a:lnTo>
                    <a:pt x="2204" y="240"/>
                  </a:lnTo>
                  <a:lnTo>
                    <a:pt x="2207" y="238"/>
                  </a:lnTo>
                  <a:lnTo>
                    <a:pt x="2211" y="238"/>
                  </a:lnTo>
                  <a:lnTo>
                    <a:pt x="2213" y="240"/>
                  </a:lnTo>
                  <a:lnTo>
                    <a:pt x="2213" y="240"/>
                  </a:lnTo>
                  <a:lnTo>
                    <a:pt x="2214" y="242"/>
                  </a:lnTo>
                  <a:lnTo>
                    <a:pt x="2214" y="245"/>
                  </a:lnTo>
                  <a:lnTo>
                    <a:pt x="2214" y="247"/>
                  </a:lnTo>
                  <a:lnTo>
                    <a:pt x="2214" y="251"/>
                  </a:lnTo>
                  <a:lnTo>
                    <a:pt x="2211" y="252"/>
                  </a:lnTo>
                  <a:lnTo>
                    <a:pt x="2209" y="252"/>
                  </a:lnTo>
                  <a:lnTo>
                    <a:pt x="2206" y="252"/>
                  </a:lnTo>
                  <a:lnTo>
                    <a:pt x="2204" y="252"/>
                  </a:lnTo>
                  <a:lnTo>
                    <a:pt x="2204" y="252"/>
                  </a:lnTo>
                  <a:close/>
                  <a:moveTo>
                    <a:pt x="2181" y="233"/>
                  </a:moveTo>
                  <a:lnTo>
                    <a:pt x="2181" y="233"/>
                  </a:lnTo>
                  <a:lnTo>
                    <a:pt x="2179" y="231"/>
                  </a:lnTo>
                  <a:lnTo>
                    <a:pt x="2178" y="228"/>
                  </a:lnTo>
                  <a:lnTo>
                    <a:pt x="2179" y="226"/>
                  </a:lnTo>
                  <a:lnTo>
                    <a:pt x="2179" y="223"/>
                  </a:lnTo>
                  <a:lnTo>
                    <a:pt x="2183" y="221"/>
                  </a:lnTo>
                  <a:lnTo>
                    <a:pt x="2185" y="221"/>
                  </a:lnTo>
                  <a:lnTo>
                    <a:pt x="2188" y="221"/>
                  </a:lnTo>
                  <a:lnTo>
                    <a:pt x="2190" y="223"/>
                  </a:lnTo>
                  <a:lnTo>
                    <a:pt x="2190" y="223"/>
                  </a:lnTo>
                  <a:lnTo>
                    <a:pt x="2192" y="224"/>
                  </a:lnTo>
                  <a:lnTo>
                    <a:pt x="2193" y="226"/>
                  </a:lnTo>
                  <a:lnTo>
                    <a:pt x="2193" y="230"/>
                  </a:lnTo>
                  <a:lnTo>
                    <a:pt x="2192" y="231"/>
                  </a:lnTo>
                  <a:lnTo>
                    <a:pt x="2188" y="233"/>
                  </a:lnTo>
                  <a:lnTo>
                    <a:pt x="2186" y="235"/>
                  </a:lnTo>
                  <a:lnTo>
                    <a:pt x="2183" y="235"/>
                  </a:lnTo>
                  <a:lnTo>
                    <a:pt x="2181" y="233"/>
                  </a:lnTo>
                  <a:lnTo>
                    <a:pt x="2181" y="233"/>
                  </a:lnTo>
                  <a:close/>
                  <a:moveTo>
                    <a:pt x="2158" y="216"/>
                  </a:moveTo>
                  <a:lnTo>
                    <a:pt x="2158" y="216"/>
                  </a:lnTo>
                  <a:lnTo>
                    <a:pt x="2157" y="212"/>
                  </a:lnTo>
                  <a:lnTo>
                    <a:pt x="2157" y="210"/>
                  </a:lnTo>
                  <a:lnTo>
                    <a:pt x="2157" y="207"/>
                  </a:lnTo>
                  <a:lnTo>
                    <a:pt x="2158" y="205"/>
                  </a:lnTo>
                  <a:lnTo>
                    <a:pt x="2160" y="203"/>
                  </a:lnTo>
                  <a:lnTo>
                    <a:pt x="2162" y="202"/>
                  </a:lnTo>
                  <a:lnTo>
                    <a:pt x="2165" y="202"/>
                  </a:lnTo>
                  <a:lnTo>
                    <a:pt x="2167" y="203"/>
                  </a:lnTo>
                  <a:lnTo>
                    <a:pt x="2167" y="203"/>
                  </a:lnTo>
                  <a:lnTo>
                    <a:pt x="2169" y="205"/>
                  </a:lnTo>
                  <a:lnTo>
                    <a:pt x="2171" y="209"/>
                  </a:lnTo>
                  <a:lnTo>
                    <a:pt x="2171" y="210"/>
                  </a:lnTo>
                  <a:lnTo>
                    <a:pt x="2169" y="214"/>
                  </a:lnTo>
                  <a:lnTo>
                    <a:pt x="2167" y="216"/>
                  </a:lnTo>
                  <a:lnTo>
                    <a:pt x="2164" y="216"/>
                  </a:lnTo>
                  <a:lnTo>
                    <a:pt x="2162" y="216"/>
                  </a:lnTo>
                  <a:lnTo>
                    <a:pt x="2158" y="216"/>
                  </a:lnTo>
                  <a:lnTo>
                    <a:pt x="2158" y="216"/>
                  </a:lnTo>
                  <a:close/>
                  <a:moveTo>
                    <a:pt x="2144" y="212"/>
                  </a:moveTo>
                  <a:lnTo>
                    <a:pt x="2144" y="212"/>
                  </a:lnTo>
                  <a:lnTo>
                    <a:pt x="2141" y="212"/>
                  </a:lnTo>
                  <a:lnTo>
                    <a:pt x="2139" y="212"/>
                  </a:lnTo>
                  <a:lnTo>
                    <a:pt x="2136" y="212"/>
                  </a:lnTo>
                  <a:lnTo>
                    <a:pt x="2134" y="210"/>
                  </a:lnTo>
                  <a:lnTo>
                    <a:pt x="2132" y="207"/>
                  </a:lnTo>
                  <a:lnTo>
                    <a:pt x="2132" y="203"/>
                  </a:lnTo>
                  <a:lnTo>
                    <a:pt x="2134" y="202"/>
                  </a:lnTo>
                  <a:lnTo>
                    <a:pt x="2136" y="200"/>
                  </a:lnTo>
                  <a:lnTo>
                    <a:pt x="2136" y="200"/>
                  </a:lnTo>
                  <a:lnTo>
                    <a:pt x="2139" y="198"/>
                  </a:lnTo>
                  <a:lnTo>
                    <a:pt x="2141" y="198"/>
                  </a:lnTo>
                  <a:lnTo>
                    <a:pt x="2144" y="200"/>
                  </a:lnTo>
                  <a:lnTo>
                    <a:pt x="2146" y="202"/>
                  </a:lnTo>
                  <a:lnTo>
                    <a:pt x="2148" y="205"/>
                  </a:lnTo>
                  <a:lnTo>
                    <a:pt x="2148" y="207"/>
                  </a:lnTo>
                  <a:lnTo>
                    <a:pt x="2146" y="210"/>
                  </a:lnTo>
                  <a:lnTo>
                    <a:pt x="2144" y="212"/>
                  </a:lnTo>
                  <a:lnTo>
                    <a:pt x="2144" y="212"/>
                  </a:lnTo>
                  <a:close/>
                  <a:moveTo>
                    <a:pt x="2120" y="228"/>
                  </a:moveTo>
                  <a:lnTo>
                    <a:pt x="2120" y="228"/>
                  </a:lnTo>
                  <a:lnTo>
                    <a:pt x="2116" y="228"/>
                  </a:lnTo>
                  <a:lnTo>
                    <a:pt x="2115" y="228"/>
                  </a:lnTo>
                  <a:lnTo>
                    <a:pt x="2111" y="228"/>
                  </a:lnTo>
                  <a:lnTo>
                    <a:pt x="2109" y="226"/>
                  </a:lnTo>
                  <a:lnTo>
                    <a:pt x="2109" y="223"/>
                  </a:lnTo>
                  <a:lnTo>
                    <a:pt x="2109" y="219"/>
                  </a:lnTo>
                  <a:lnTo>
                    <a:pt x="2109" y="217"/>
                  </a:lnTo>
                  <a:lnTo>
                    <a:pt x="2113" y="216"/>
                  </a:lnTo>
                  <a:lnTo>
                    <a:pt x="2113" y="216"/>
                  </a:lnTo>
                  <a:lnTo>
                    <a:pt x="2115" y="214"/>
                  </a:lnTo>
                  <a:lnTo>
                    <a:pt x="2118" y="214"/>
                  </a:lnTo>
                  <a:lnTo>
                    <a:pt x="2120" y="216"/>
                  </a:lnTo>
                  <a:lnTo>
                    <a:pt x="2122" y="217"/>
                  </a:lnTo>
                  <a:lnTo>
                    <a:pt x="2123" y="221"/>
                  </a:lnTo>
                  <a:lnTo>
                    <a:pt x="2123" y="223"/>
                  </a:lnTo>
                  <a:lnTo>
                    <a:pt x="2122" y="226"/>
                  </a:lnTo>
                  <a:lnTo>
                    <a:pt x="2120" y="228"/>
                  </a:lnTo>
                  <a:lnTo>
                    <a:pt x="2120" y="228"/>
                  </a:lnTo>
                  <a:close/>
                  <a:moveTo>
                    <a:pt x="2095" y="244"/>
                  </a:moveTo>
                  <a:lnTo>
                    <a:pt x="2095" y="244"/>
                  </a:lnTo>
                  <a:lnTo>
                    <a:pt x="2094" y="245"/>
                  </a:lnTo>
                  <a:lnTo>
                    <a:pt x="2090" y="245"/>
                  </a:lnTo>
                  <a:lnTo>
                    <a:pt x="2088" y="244"/>
                  </a:lnTo>
                  <a:lnTo>
                    <a:pt x="2087" y="242"/>
                  </a:lnTo>
                  <a:lnTo>
                    <a:pt x="2085" y="238"/>
                  </a:lnTo>
                  <a:lnTo>
                    <a:pt x="2085" y="237"/>
                  </a:lnTo>
                  <a:lnTo>
                    <a:pt x="2087" y="233"/>
                  </a:lnTo>
                  <a:lnTo>
                    <a:pt x="2088" y="231"/>
                  </a:lnTo>
                  <a:lnTo>
                    <a:pt x="2088" y="231"/>
                  </a:lnTo>
                  <a:lnTo>
                    <a:pt x="2090" y="230"/>
                  </a:lnTo>
                  <a:lnTo>
                    <a:pt x="2094" y="230"/>
                  </a:lnTo>
                  <a:lnTo>
                    <a:pt x="2095" y="231"/>
                  </a:lnTo>
                  <a:lnTo>
                    <a:pt x="2099" y="233"/>
                  </a:lnTo>
                  <a:lnTo>
                    <a:pt x="2099" y="237"/>
                  </a:lnTo>
                  <a:lnTo>
                    <a:pt x="2099" y="238"/>
                  </a:lnTo>
                  <a:lnTo>
                    <a:pt x="2097" y="242"/>
                  </a:lnTo>
                  <a:lnTo>
                    <a:pt x="2095" y="244"/>
                  </a:lnTo>
                  <a:lnTo>
                    <a:pt x="2095" y="244"/>
                  </a:lnTo>
                  <a:close/>
                  <a:moveTo>
                    <a:pt x="2088" y="266"/>
                  </a:moveTo>
                  <a:lnTo>
                    <a:pt x="2088" y="266"/>
                  </a:lnTo>
                  <a:lnTo>
                    <a:pt x="2087" y="270"/>
                  </a:lnTo>
                  <a:lnTo>
                    <a:pt x="2083" y="272"/>
                  </a:lnTo>
                  <a:lnTo>
                    <a:pt x="2081" y="272"/>
                  </a:lnTo>
                  <a:lnTo>
                    <a:pt x="2078" y="272"/>
                  </a:lnTo>
                  <a:lnTo>
                    <a:pt x="2076" y="270"/>
                  </a:lnTo>
                  <a:lnTo>
                    <a:pt x="2074" y="266"/>
                  </a:lnTo>
                  <a:lnTo>
                    <a:pt x="2074" y="265"/>
                  </a:lnTo>
                  <a:lnTo>
                    <a:pt x="2074" y="261"/>
                  </a:lnTo>
                  <a:lnTo>
                    <a:pt x="2074" y="261"/>
                  </a:lnTo>
                  <a:lnTo>
                    <a:pt x="2076" y="259"/>
                  </a:lnTo>
                  <a:lnTo>
                    <a:pt x="2078" y="258"/>
                  </a:lnTo>
                  <a:lnTo>
                    <a:pt x="2081" y="258"/>
                  </a:lnTo>
                  <a:lnTo>
                    <a:pt x="2083" y="258"/>
                  </a:lnTo>
                  <a:lnTo>
                    <a:pt x="2087" y="259"/>
                  </a:lnTo>
                  <a:lnTo>
                    <a:pt x="2087" y="261"/>
                  </a:lnTo>
                  <a:lnTo>
                    <a:pt x="2088" y="265"/>
                  </a:lnTo>
                  <a:lnTo>
                    <a:pt x="2088" y="266"/>
                  </a:lnTo>
                  <a:lnTo>
                    <a:pt x="2088" y="266"/>
                  </a:lnTo>
                  <a:close/>
                  <a:moveTo>
                    <a:pt x="2078" y="294"/>
                  </a:moveTo>
                  <a:lnTo>
                    <a:pt x="2078" y="294"/>
                  </a:lnTo>
                  <a:lnTo>
                    <a:pt x="2076" y="296"/>
                  </a:lnTo>
                  <a:lnTo>
                    <a:pt x="2073" y="298"/>
                  </a:lnTo>
                  <a:lnTo>
                    <a:pt x="2071" y="298"/>
                  </a:lnTo>
                  <a:lnTo>
                    <a:pt x="2067" y="298"/>
                  </a:lnTo>
                  <a:lnTo>
                    <a:pt x="2066" y="296"/>
                  </a:lnTo>
                  <a:lnTo>
                    <a:pt x="2064" y="294"/>
                  </a:lnTo>
                  <a:lnTo>
                    <a:pt x="2064" y="291"/>
                  </a:lnTo>
                  <a:lnTo>
                    <a:pt x="2064" y="289"/>
                  </a:lnTo>
                  <a:lnTo>
                    <a:pt x="2064" y="289"/>
                  </a:lnTo>
                  <a:lnTo>
                    <a:pt x="2066" y="286"/>
                  </a:lnTo>
                  <a:lnTo>
                    <a:pt x="2067" y="284"/>
                  </a:lnTo>
                  <a:lnTo>
                    <a:pt x="2071" y="284"/>
                  </a:lnTo>
                  <a:lnTo>
                    <a:pt x="2073" y="284"/>
                  </a:lnTo>
                  <a:lnTo>
                    <a:pt x="2076" y="286"/>
                  </a:lnTo>
                  <a:lnTo>
                    <a:pt x="2076" y="289"/>
                  </a:lnTo>
                  <a:lnTo>
                    <a:pt x="2078" y="291"/>
                  </a:lnTo>
                  <a:lnTo>
                    <a:pt x="2078" y="294"/>
                  </a:lnTo>
                  <a:lnTo>
                    <a:pt x="2078" y="294"/>
                  </a:lnTo>
                  <a:close/>
                  <a:moveTo>
                    <a:pt x="2059" y="324"/>
                  </a:moveTo>
                  <a:lnTo>
                    <a:pt x="2059" y="324"/>
                  </a:lnTo>
                  <a:lnTo>
                    <a:pt x="2055" y="322"/>
                  </a:lnTo>
                  <a:lnTo>
                    <a:pt x="2053" y="322"/>
                  </a:lnTo>
                  <a:lnTo>
                    <a:pt x="2052" y="319"/>
                  </a:lnTo>
                  <a:lnTo>
                    <a:pt x="2052" y="317"/>
                  </a:lnTo>
                  <a:lnTo>
                    <a:pt x="2052" y="314"/>
                  </a:lnTo>
                  <a:lnTo>
                    <a:pt x="2053" y="312"/>
                  </a:lnTo>
                  <a:lnTo>
                    <a:pt x="2055" y="310"/>
                  </a:lnTo>
                  <a:lnTo>
                    <a:pt x="2059" y="308"/>
                  </a:lnTo>
                  <a:lnTo>
                    <a:pt x="2059" y="308"/>
                  </a:lnTo>
                  <a:lnTo>
                    <a:pt x="2060" y="308"/>
                  </a:lnTo>
                  <a:lnTo>
                    <a:pt x="2062" y="310"/>
                  </a:lnTo>
                  <a:lnTo>
                    <a:pt x="2064" y="312"/>
                  </a:lnTo>
                  <a:lnTo>
                    <a:pt x="2066" y="315"/>
                  </a:lnTo>
                  <a:lnTo>
                    <a:pt x="2066" y="319"/>
                  </a:lnTo>
                  <a:lnTo>
                    <a:pt x="2064" y="321"/>
                  </a:lnTo>
                  <a:lnTo>
                    <a:pt x="2062" y="322"/>
                  </a:lnTo>
                  <a:lnTo>
                    <a:pt x="2059" y="324"/>
                  </a:lnTo>
                  <a:lnTo>
                    <a:pt x="2059" y="324"/>
                  </a:lnTo>
                  <a:close/>
                  <a:moveTo>
                    <a:pt x="2031" y="326"/>
                  </a:moveTo>
                  <a:lnTo>
                    <a:pt x="2031" y="326"/>
                  </a:lnTo>
                  <a:lnTo>
                    <a:pt x="2027" y="324"/>
                  </a:lnTo>
                  <a:lnTo>
                    <a:pt x="2025" y="324"/>
                  </a:lnTo>
                  <a:lnTo>
                    <a:pt x="2024" y="321"/>
                  </a:lnTo>
                  <a:lnTo>
                    <a:pt x="2022" y="319"/>
                  </a:lnTo>
                  <a:lnTo>
                    <a:pt x="2022" y="315"/>
                  </a:lnTo>
                  <a:lnTo>
                    <a:pt x="2024" y="314"/>
                  </a:lnTo>
                  <a:lnTo>
                    <a:pt x="2025" y="312"/>
                  </a:lnTo>
                  <a:lnTo>
                    <a:pt x="2029" y="310"/>
                  </a:lnTo>
                  <a:lnTo>
                    <a:pt x="2029" y="310"/>
                  </a:lnTo>
                  <a:lnTo>
                    <a:pt x="2032" y="312"/>
                  </a:lnTo>
                  <a:lnTo>
                    <a:pt x="2034" y="312"/>
                  </a:lnTo>
                  <a:lnTo>
                    <a:pt x="2036" y="315"/>
                  </a:lnTo>
                  <a:lnTo>
                    <a:pt x="2036" y="317"/>
                  </a:lnTo>
                  <a:lnTo>
                    <a:pt x="2036" y="321"/>
                  </a:lnTo>
                  <a:lnTo>
                    <a:pt x="2034" y="322"/>
                  </a:lnTo>
                  <a:lnTo>
                    <a:pt x="2032" y="324"/>
                  </a:lnTo>
                  <a:lnTo>
                    <a:pt x="2031" y="326"/>
                  </a:lnTo>
                  <a:lnTo>
                    <a:pt x="2031" y="326"/>
                  </a:lnTo>
                  <a:close/>
                  <a:moveTo>
                    <a:pt x="2001" y="328"/>
                  </a:moveTo>
                  <a:lnTo>
                    <a:pt x="2001" y="328"/>
                  </a:lnTo>
                  <a:lnTo>
                    <a:pt x="1997" y="328"/>
                  </a:lnTo>
                  <a:lnTo>
                    <a:pt x="1996" y="326"/>
                  </a:lnTo>
                  <a:lnTo>
                    <a:pt x="1994" y="322"/>
                  </a:lnTo>
                  <a:lnTo>
                    <a:pt x="1994" y="321"/>
                  </a:lnTo>
                  <a:lnTo>
                    <a:pt x="1994" y="317"/>
                  </a:lnTo>
                  <a:lnTo>
                    <a:pt x="1996" y="315"/>
                  </a:lnTo>
                  <a:lnTo>
                    <a:pt x="1997" y="314"/>
                  </a:lnTo>
                  <a:lnTo>
                    <a:pt x="2001" y="314"/>
                  </a:lnTo>
                  <a:lnTo>
                    <a:pt x="2001" y="314"/>
                  </a:lnTo>
                  <a:lnTo>
                    <a:pt x="2003" y="314"/>
                  </a:lnTo>
                  <a:lnTo>
                    <a:pt x="2004" y="314"/>
                  </a:lnTo>
                  <a:lnTo>
                    <a:pt x="2006" y="317"/>
                  </a:lnTo>
                  <a:lnTo>
                    <a:pt x="2008" y="321"/>
                  </a:lnTo>
                  <a:lnTo>
                    <a:pt x="2008" y="322"/>
                  </a:lnTo>
                  <a:lnTo>
                    <a:pt x="2006" y="324"/>
                  </a:lnTo>
                  <a:lnTo>
                    <a:pt x="2004" y="326"/>
                  </a:lnTo>
                  <a:lnTo>
                    <a:pt x="2001" y="328"/>
                  </a:lnTo>
                  <a:lnTo>
                    <a:pt x="2001" y="328"/>
                  </a:lnTo>
                  <a:close/>
                  <a:moveTo>
                    <a:pt x="1973" y="329"/>
                  </a:moveTo>
                  <a:lnTo>
                    <a:pt x="1973" y="329"/>
                  </a:lnTo>
                  <a:lnTo>
                    <a:pt x="1969" y="329"/>
                  </a:lnTo>
                  <a:lnTo>
                    <a:pt x="1966" y="328"/>
                  </a:lnTo>
                  <a:lnTo>
                    <a:pt x="1964" y="326"/>
                  </a:lnTo>
                  <a:lnTo>
                    <a:pt x="1964" y="322"/>
                  </a:lnTo>
                  <a:lnTo>
                    <a:pt x="1964" y="319"/>
                  </a:lnTo>
                  <a:lnTo>
                    <a:pt x="1966" y="317"/>
                  </a:lnTo>
                  <a:lnTo>
                    <a:pt x="1968" y="315"/>
                  </a:lnTo>
                  <a:lnTo>
                    <a:pt x="1971" y="315"/>
                  </a:lnTo>
                  <a:lnTo>
                    <a:pt x="1971" y="315"/>
                  </a:lnTo>
                  <a:lnTo>
                    <a:pt x="1975" y="315"/>
                  </a:lnTo>
                  <a:lnTo>
                    <a:pt x="1976" y="317"/>
                  </a:lnTo>
                  <a:lnTo>
                    <a:pt x="1978" y="319"/>
                  </a:lnTo>
                  <a:lnTo>
                    <a:pt x="1978" y="322"/>
                  </a:lnTo>
                  <a:lnTo>
                    <a:pt x="1978" y="324"/>
                  </a:lnTo>
                  <a:lnTo>
                    <a:pt x="1976" y="328"/>
                  </a:lnTo>
                  <a:lnTo>
                    <a:pt x="1975" y="329"/>
                  </a:lnTo>
                  <a:lnTo>
                    <a:pt x="1973" y="329"/>
                  </a:lnTo>
                  <a:lnTo>
                    <a:pt x="1973" y="329"/>
                  </a:lnTo>
                  <a:close/>
                  <a:moveTo>
                    <a:pt x="1950" y="338"/>
                  </a:moveTo>
                  <a:lnTo>
                    <a:pt x="1950" y="338"/>
                  </a:lnTo>
                  <a:lnTo>
                    <a:pt x="1948" y="338"/>
                  </a:lnTo>
                  <a:lnTo>
                    <a:pt x="1945" y="340"/>
                  </a:lnTo>
                  <a:lnTo>
                    <a:pt x="1943" y="338"/>
                  </a:lnTo>
                  <a:lnTo>
                    <a:pt x="1941" y="336"/>
                  </a:lnTo>
                  <a:lnTo>
                    <a:pt x="1940" y="335"/>
                  </a:lnTo>
                  <a:lnTo>
                    <a:pt x="1940" y="331"/>
                  </a:lnTo>
                  <a:lnTo>
                    <a:pt x="1940" y="329"/>
                  </a:lnTo>
                  <a:lnTo>
                    <a:pt x="1941" y="326"/>
                  </a:lnTo>
                  <a:lnTo>
                    <a:pt x="1941" y="326"/>
                  </a:lnTo>
                  <a:lnTo>
                    <a:pt x="1943" y="324"/>
                  </a:lnTo>
                  <a:lnTo>
                    <a:pt x="1947" y="324"/>
                  </a:lnTo>
                  <a:lnTo>
                    <a:pt x="1948" y="326"/>
                  </a:lnTo>
                  <a:lnTo>
                    <a:pt x="1952" y="328"/>
                  </a:lnTo>
                  <a:lnTo>
                    <a:pt x="1954" y="329"/>
                  </a:lnTo>
                  <a:lnTo>
                    <a:pt x="1954" y="333"/>
                  </a:lnTo>
                  <a:lnTo>
                    <a:pt x="1952" y="335"/>
                  </a:lnTo>
                  <a:lnTo>
                    <a:pt x="1950" y="338"/>
                  </a:lnTo>
                  <a:lnTo>
                    <a:pt x="1950" y="338"/>
                  </a:lnTo>
                  <a:close/>
                  <a:moveTo>
                    <a:pt x="1929" y="357"/>
                  </a:moveTo>
                  <a:lnTo>
                    <a:pt x="1929" y="357"/>
                  </a:lnTo>
                  <a:lnTo>
                    <a:pt x="1927" y="359"/>
                  </a:lnTo>
                  <a:lnTo>
                    <a:pt x="1924" y="359"/>
                  </a:lnTo>
                  <a:lnTo>
                    <a:pt x="1922" y="357"/>
                  </a:lnTo>
                  <a:lnTo>
                    <a:pt x="1919" y="356"/>
                  </a:lnTo>
                  <a:lnTo>
                    <a:pt x="1917" y="354"/>
                  </a:lnTo>
                  <a:lnTo>
                    <a:pt x="1917" y="350"/>
                  </a:lnTo>
                  <a:lnTo>
                    <a:pt x="1919" y="349"/>
                  </a:lnTo>
                  <a:lnTo>
                    <a:pt x="1920" y="347"/>
                  </a:lnTo>
                  <a:lnTo>
                    <a:pt x="1920" y="347"/>
                  </a:lnTo>
                  <a:lnTo>
                    <a:pt x="1922" y="345"/>
                  </a:lnTo>
                  <a:lnTo>
                    <a:pt x="1926" y="345"/>
                  </a:lnTo>
                  <a:lnTo>
                    <a:pt x="1927" y="345"/>
                  </a:lnTo>
                  <a:lnTo>
                    <a:pt x="1931" y="347"/>
                  </a:lnTo>
                  <a:lnTo>
                    <a:pt x="1931" y="349"/>
                  </a:lnTo>
                  <a:lnTo>
                    <a:pt x="1931" y="352"/>
                  </a:lnTo>
                  <a:lnTo>
                    <a:pt x="1931" y="354"/>
                  </a:lnTo>
                  <a:lnTo>
                    <a:pt x="1929" y="357"/>
                  </a:lnTo>
                  <a:lnTo>
                    <a:pt x="1929" y="357"/>
                  </a:lnTo>
                  <a:close/>
                  <a:moveTo>
                    <a:pt x="1908" y="377"/>
                  </a:moveTo>
                  <a:lnTo>
                    <a:pt x="1908" y="377"/>
                  </a:lnTo>
                  <a:lnTo>
                    <a:pt x="1905" y="378"/>
                  </a:lnTo>
                  <a:lnTo>
                    <a:pt x="1903" y="378"/>
                  </a:lnTo>
                  <a:lnTo>
                    <a:pt x="1899" y="378"/>
                  </a:lnTo>
                  <a:lnTo>
                    <a:pt x="1898" y="377"/>
                  </a:lnTo>
                  <a:lnTo>
                    <a:pt x="1896" y="373"/>
                  </a:lnTo>
                  <a:lnTo>
                    <a:pt x="1896" y="370"/>
                  </a:lnTo>
                  <a:lnTo>
                    <a:pt x="1896" y="368"/>
                  </a:lnTo>
                  <a:lnTo>
                    <a:pt x="1899" y="366"/>
                  </a:lnTo>
                  <a:lnTo>
                    <a:pt x="1899" y="366"/>
                  </a:lnTo>
                  <a:lnTo>
                    <a:pt x="1901" y="364"/>
                  </a:lnTo>
                  <a:lnTo>
                    <a:pt x="1903" y="364"/>
                  </a:lnTo>
                  <a:lnTo>
                    <a:pt x="1906" y="364"/>
                  </a:lnTo>
                  <a:lnTo>
                    <a:pt x="1908" y="366"/>
                  </a:lnTo>
                  <a:lnTo>
                    <a:pt x="1910" y="368"/>
                  </a:lnTo>
                  <a:lnTo>
                    <a:pt x="1910" y="371"/>
                  </a:lnTo>
                  <a:lnTo>
                    <a:pt x="1910" y="373"/>
                  </a:lnTo>
                  <a:lnTo>
                    <a:pt x="1908" y="377"/>
                  </a:lnTo>
                  <a:lnTo>
                    <a:pt x="1908" y="377"/>
                  </a:lnTo>
                  <a:close/>
                  <a:moveTo>
                    <a:pt x="1877" y="384"/>
                  </a:moveTo>
                  <a:lnTo>
                    <a:pt x="1877" y="384"/>
                  </a:lnTo>
                  <a:lnTo>
                    <a:pt x="1873" y="382"/>
                  </a:lnTo>
                  <a:lnTo>
                    <a:pt x="1871" y="380"/>
                  </a:lnTo>
                  <a:lnTo>
                    <a:pt x="1870" y="378"/>
                  </a:lnTo>
                  <a:lnTo>
                    <a:pt x="1870" y="375"/>
                  </a:lnTo>
                  <a:lnTo>
                    <a:pt x="1870" y="371"/>
                  </a:lnTo>
                  <a:lnTo>
                    <a:pt x="1871" y="370"/>
                  </a:lnTo>
                  <a:lnTo>
                    <a:pt x="1875" y="368"/>
                  </a:lnTo>
                  <a:lnTo>
                    <a:pt x="1877" y="368"/>
                  </a:lnTo>
                  <a:lnTo>
                    <a:pt x="1877" y="368"/>
                  </a:lnTo>
                  <a:lnTo>
                    <a:pt x="1880" y="370"/>
                  </a:lnTo>
                  <a:lnTo>
                    <a:pt x="1882" y="371"/>
                  </a:lnTo>
                  <a:lnTo>
                    <a:pt x="1884" y="373"/>
                  </a:lnTo>
                  <a:lnTo>
                    <a:pt x="1884" y="377"/>
                  </a:lnTo>
                  <a:lnTo>
                    <a:pt x="1884" y="378"/>
                  </a:lnTo>
                  <a:lnTo>
                    <a:pt x="1882" y="380"/>
                  </a:lnTo>
                  <a:lnTo>
                    <a:pt x="1878" y="382"/>
                  </a:lnTo>
                  <a:lnTo>
                    <a:pt x="1877" y="384"/>
                  </a:lnTo>
                  <a:lnTo>
                    <a:pt x="1877" y="384"/>
                  </a:lnTo>
                  <a:close/>
                  <a:moveTo>
                    <a:pt x="1847" y="382"/>
                  </a:moveTo>
                  <a:lnTo>
                    <a:pt x="1847" y="382"/>
                  </a:lnTo>
                  <a:lnTo>
                    <a:pt x="1843" y="380"/>
                  </a:lnTo>
                  <a:lnTo>
                    <a:pt x="1842" y="378"/>
                  </a:lnTo>
                  <a:lnTo>
                    <a:pt x="1840" y="377"/>
                  </a:lnTo>
                  <a:lnTo>
                    <a:pt x="1840" y="373"/>
                  </a:lnTo>
                  <a:lnTo>
                    <a:pt x="1842" y="370"/>
                  </a:lnTo>
                  <a:lnTo>
                    <a:pt x="1843" y="368"/>
                  </a:lnTo>
                  <a:lnTo>
                    <a:pt x="1845" y="366"/>
                  </a:lnTo>
                  <a:lnTo>
                    <a:pt x="1849" y="366"/>
                  </a:lnTo>
                  <a:lnTo>
                    <a:pt x="1849" y="366"/>
                  </a:lnTo>
                  <a:lnTo>
                    <a:pt x="1850" y="368"/>
                  </a:lnTo>
                  <a:lnTo>
                    <a:pt x="1854" y="370"/>
                  </a:lnTo>
                  <a:lnTo>
                    <a:pt x="1854" y="371"/>
                  </a:lnTo>
                  <a:lnTo>
                    <a:pt x="1856" y="375"/>
                  </a:lnTo>
                  <a:lnTo>
                    <a:pt x="1854" y="377"/>
                  </a:lnTo>
                  <a:lnTo>
                    <a:pt x="1852" y="378"/>
                  </a:lnTo>
                  <a:lnTo>
                    <a:pt x="1850" y="380"/>
                  </a:lnTo>
                  <a:lnTo>
                    <a:pt x="1847" y="382"/>
                  </a:lnTo>
                  <a:lnTo>
                    <a:pt x="1847" y="382"/>
                  </a:lnTo>
                  <a:close/>
                  <a:moveTo>
                    <a:pt x="1819" y="380"/>
                  </a:moveTo>
                  <a:lnTo>
                    <a:pt x="1819" y="380"/>
                  </a:lnTo>
                  <a:lnTo>
                    <a:pt x="1815" y="378"/>
                  </a:lnTo>
                  <a:lnTo>
                    <a:pt x="1814" y="377"/>
                  </a:lnTo>
                  <a:lnTo>
                    <a:pt x="1812" y="375"/>
                  </a:lnTo>
                  <a:lnTo>
                    <a:pt x="1812" y="371"/>
                  </a:lnTo>
                  <a:lnTo>
                    <a:pt x="1812" y="368"/>
                  </a:lnTo>
                  <a:lnTo>
                    <a:pt x="1814" y="366"/>
                  </a:lnTo>
                  <a:lnTo>
                    <a:pt x="1817" y="364"/>
                  </a:lnTo>
                  <a:lnTo>
                    <a:pt x="1819" y="364"/>
                  </a:lnTo>
                  <a:lnTo>
                    <a:pt x="1819" y="364"/>
                  </a:lnTo>
                  <a:lnTo>
                    <a:pt x="1822" y="366"/>
                  </a:lnTo>
                  <a:lnTo>
                    <a:pt x="1824" y="368"/>
                  </a:lnTo>
                  <a:lnTo>
                    <a:pt x="1826" y="370"/>
                  </a:lnTo>
                  <a:lnTo>
                    <a:pt x="1826" y="373"/>
                  </a:lnTo>
                  <a:lnTo>
                    <a:pt x="1826" y="375"/>
                  </a:lnTo>
                  <a:lnTo>
                    <a:pt x="1824" y="377"/>
                  </a:lnTo>
                  <a:lnTo>
                    <a:pt x="1821" y="378"/>
                  </a:lnTo>
                  <a:lnTo>
                    <a:pt x="1819" y="380"/>
                  </a:lnTo>
                  <a:lnTo>
                    <a:pt x="1819" y="380"/>
                  </a:lnTo>
                  <a:close/>
                  <a:moveTo>
                    <a:pt x="1789" y="378"/>
                  </a:moveTo>
                  <a:lnTo>
                    <a:pt x="1789" y="378"/>
                  </a:lnTo>
                  <a:lnTo>
                    <a:pt x="1786" y="377"/>
                  </a:lnTo>
                  <a:lnTo>
                    <a:pt x="1784" y="375"/>
                  </a:lnTo>
                  <a:lnTo>
                    <a:pt x="1782" y="373"/>
                  </a:lnTo>
                  <a:lnTo>
                    <a:pt x="1782" y="370"/>
                  </a:lnTo>
                  <a:lnTo>
                    <a:pt x="1784" y="366"/>
                  </a:lnTo>
                  <a:lnTo>
                    <a:pt x="1786" y="364"/>
                  </a:lnTo>
                  <a:lnTo>
                    <a:pt x="1787" y="363"/>
                  </a:lnTo>
                  <a:lnTo>
                    <a:pt x="1791" y="363"/>
                  </a:lnTo>
                  <a:lnTo>
                    <a:pt x="1791" y="363"/>
                  </a:lnTo>
                  <a:lnTo>
                    <a:pt x="1793" y="364"/>
                  </a:lnTo>
                  <a:lnTo>
                    <a:pt x="1794" y="366"/>
                  </a:lnTo>
                  <a:lnTo>
                    <a:pt x="1796" y="368"/>
                  </a:lnTo>
                  <a:lnTo>
                    <a:pt x="1798" y="371"/>
                  </a:lnTo>
                  <a:lnTo>
                    <a:pt x="1796" y="373"/>
                  </a:lnTo>
                  <a:lnTo>
                    <a:pt x="1794" y="375"/>
                  </a:lnTo>
                  <a:lnTo>
                    <a:pt x="1793" y="377"/>
                  </a:lnTo>
                  <a:lnTo>
                    <a:pt x="1789" y="378"/>
                  </a:lnTo>
                  <a:lnTo>
                    <a:pt x="1789" y="378"/>
                  </a:lnTo>
                  <a:close/>
                  <a:moveTo>
                    <a:pt x="1761" y="361"/>
                  </a:moveTo>
                  <a:lnTo>
                    <a:pt x="1761" y="361"/>
                  </a:lnTo>
                  <a:lnTo>
                    <a:pt x="1761" y="357"/>
                  </a:lnTo>
                  <a:lnTo>
                    <a:pt x="1761" y="356"/>
                  </a:lnTo>
                  <a:lnTo>
                    <a:pt x="1761" y="352"/>
                  </a:lnTo>
                  <a:lnTo>
                    <a:pt x="1763" y="350"/>
                  </a:lnTo>
                  <a:lnTo>
                    <a:pt x="1766" y="349"/>
                  </a:lnTo>
                  <a:lnTo>
                    <a:pt x="1768" y="349"/>
                  </a:lnTo>
                  <a:lnTo>
                    <a:pt x="1772" y="349"/>
                  </a:lnTo>
                  <a:lnTo>
                    <a:pt x="1773" y="352"/>
                  </a:lnTo>
                  <a:lnTo>
                    <a:pt x="1773" y="352"/>
                  </a:lnTo>
                  <a:lnTo>
                    <a:pt x="1775" y="354"/>
                  </a:lnTo>
                  <a:lnTo>
                    <a:pt x="1775" y="357"/>
                  </a:lnTo>
                  <a:lnTo>
                    <a:pt x="1773" y="359"/>
                  </a:lnTo>
                  <a:lnTo>
                    <a:pt x="1772" y="361"/>
                  </a:lnTo>
                  <a:lnTo>
                    <a:pt x="1770" y="363"/>
                  </a:lnTo>
                  <a:lnTo>
                    <a:pt x="1766" y="363"/>
                  </a:lnTo>
                  <a:lnTo>
                    <a:pt x="1765" y="363"/>
                  </a:lnTo>
                  <a:lnTo>
                    <a:pt x="1761" y="361"/>
                  </a:lnTo>
                  <a:lnTo>
                    <a:pt x="1761" y="361"/>
                  </a:lnTo>
                  <a:close/>
                  <a:moveTo>
                    <a:pt x="1744" y="338"/>
                  </a:moveTo>
                  <a:lnTo>
                    <a:pt x="1744" y="338"/>
                  </a:lnTo>
                  <a:lnTo>
                    <a:pt x="1742" y="335"/>
                  </a:lnTo>
                  <a:lnTo>
                    <a:pt x="1742" y="333"/>
                  </a:lnTo>
                  <a:lnTo>
                    <a:pt x="1744" y="329"/>
                  </a:lnTo>
                  <a:lnTo>
                    <a:pt x="1745" y="328"/>
                  </a:lnTo>
                  <a:lnTo>
                    <a:pt x="1747" y="326"/>
                  </a:lnTo>
                  <a:lnTo>
                    <a:pt x="1751" y="326"/>
                  </a:lnTo>
                  <a:lnTo>
                    <a:pt x="1752" y="326"/>
                  </a:lnTo>
                  <a:lnTo>
                    <a:pt x="1756" y="329"/>
                  </a:lnTo>
                  <a:lnTo>
                    <a:pt x="1756" y="329"/>
                  </a:lnTo>
                  <a:lnTo>
                    <a:pt x="1756" y="331"/>
                  </a:lnTo>
                  <a:lnTo>
                    <a:pt x="1758" y="335"/>
                  </a:lnTo>
                  <a:lnTo>
                    <a:pt x="1756" y="336"/>
                  </a:lnTo>
                  <a:lnTo>
                    <a:pt x="1754" y="338"/>
                  </a:lnTo>
                  <a:lnTo>
                    <a:pt x="1752" y="340"/>
                  </a:lnTo>
                  <a:lnTo>
                    <a:pt x="1749" y="340"/>
                  </a:lnTo>
                  <a:lnTo>
                    <a:pt x="1745" y="340"/>
                  </a:lnTo>
                  <a:lnTo>
                    <a:pt x="1744" y="338"/>
                  </a:lnTo>
                  <a:lnTo>
                    <a:pt x="1744" y="338"/>
                  </a:lnTo>
                  <a:close/>
                  <a:moveTo>
                    <a:pt x="1728" y="317"/>
                  </a:moveTo>
                  <a:lnTo>
                    <a:pt x="1728" y="317"/>
                  </a:lnTo>
                  <a:lnTo>
                    <a:pt x="1726" y="315"/>
                  </a:lnTo>
                  <a:lnTo>
                    <a:pt x="1724" y="312"/>
                  </a:lnTo>
                  <a:lnTo>
                    <a:pt x="1724" y="310"/>
                  </a:lnTo>
                  <a:lnTo>
                    <a:pt x="1726" y="307"/>
                  </a:lnTo>
                  <a:lnTo>
                    <a:pt x="1728" y="305"/>
                  </a:lnTo>
                  <a:lnTo>
                    <a:pt x="1730" y="303"/>
                  </a:lnTo>
                  <a:lnTo>
                    <a:pt x="1733" y="303"/>
                  </a:lnTo>
                  <a:lnTo>
                    <a:pt x="1735" y="305"/>
                  </a:lnTo>
                  <a:lnTo>
                    <a:pt x="1735" y="305"/>
                  </a:lnTo>
                  <a:lnTo>
                    <a:pt x="1737" y="307"/>
                  </a:lnTo>
                  <a:lnTo>
                    <a:pt x="1738" y="308"/>
                  </a:lnTo>
                  <a:lnTo>
                    <a:pt x="1738" y="312"/>
                  </a:lnTo>
                  <a:lnTo>
                    <a:pt x="1738" y="314"/>
                  </a:lnTo>
                  <a:lnTo>
                    <a:pt x="1737" y="315"/>
                  </a:lnTo>
                  <a:lnTo>
                    <a:pt x="1733" y="317"/>
                  </a:lnTo>
                  <a:lnTo>
                    <a:pt x="1731" y="317"/>
                  </a:lnTo>
                  <a:lnTo>
                    <a:pt x="1728" y="317"/>
                  </a:lnTo>
                  <a:lnTo>
                    <a:pt x="1728" y="317"/>
                  </a:lnTo>
                  <a:close/>
                  <a:moveTo>
                    <a:pt x="1703" y="301"/>
                  </a:moveTo>
                  <a:lnTo>
                    <a:pt x="1703" y="301"/>
                  </a:lnTo>
                  <a:lnTo>
                    <a:pt x="1702" y="300"/>
                  </a:lnTo>
                  <a:lnTo>
                    <a:pt x="1700" y="296"/>
                  </a:lnTo>
                  <a:lnTo>
                    <a:pt x="1700" y="294"/>
                  </a:lnTo>
                  <a:lnTo>
                    <a:pt x="1702" y="291"/>
                  </a:lnTo>
                  <a:lnTo>
                    <a:pt x="1703" y="289"/>
                  </a:lnTo>
                  <a:lnTo>
                    <a:pt x="1705" y="289"/>
                  </a:lnTo>
                  <a:lnTo>
                    <a:pt x="1709" y="287"/>
                  </a:lnTo>
                  <a:lnTo>
                    <a:pt x="1710" y="289"/>
                  </a:lnTo>
                  <a:lnTo>
                    <a:pt x="1710" y="289"/>
                  </a:lnTo>
                  <a:lnTo>
                    <a:pt x="1712" y="291"/>
                  </a:lnTo>
                  <a:lnTo>
                    <a:pt x="1714" y="294"/>
                  </a:lnTo>
                  <a:lnTo>
                    <a:pt x="1714" y="296"/>
                  </a:lnTo>
                  <a:lnTo>
                    <a:pt x="1714" y="300"/>
                  </a:lnTo>
                  <a:lnTo>
                    <a:pt x="1710" y="301"/>
                  </a:lnTo>
                  <a:lnTo>
                    <a:pt x="1709" y="303"/>
                  </a:lnTo>
                  <a:lnTo>
                    <a:pt x="1705" y="303"/>
                  </a:lnTo>
                  <a:lnTo>
                    <a:pt x="1703" y="301"/>
                  </a:lnTo>
                  <a:lnTo>
                    <a:pt x="1703" y="301"/>
                  </a:lnTo>
                  <a:close/>
                  <a:moveTo>
                    <a:pt x="1679" y="287"/>
                  </a:moveTo>
                  <a:lnTo>
                    <a:pt x="1679" y="287"/>
                  </a:lnTo>
                  <a:lnTo>
                    <a:pt x="1677" y="284"/>
                  </a:lnTo>
                  <a:lnTo>
                    <a:pt x="1675" y="282"/>
                  </a:lnTo>
                  <a:lnTo>
                    <a:pt x="1675" y="279"/>
                  </a:lnTo>
                  <a:lnTo>
                    <a:pt x="1677" y="277"/>
                  </a:lnTo>
                  <a:lnTo>
                    <a:pt x="1679" y="275"/>
                  </a:lnTo>
                  <a:lnTo>
                    <a:pt x="1681" y="273"/>
                  </a:lnTo>
                  <a:lnTo>
                    <a:pt x="1684" y="273"/>
                  </a:lnTo>
                  <a:lnTo>
                    <a:pt x="1686" y="273"/>
                  </a:lnTo>
                  <a:lnTo>
                    <a:pt x="1686" y="275"/>
                  </a:lnTo>
                  <a:lnTo>
                    <a:pt x="1688" y="277"/>
                  </a:lnTo>
                  <a:lnTo>
                    <a:pt x="1689" y="279"/>
                  </a:lnTo>
                  <a:lnTo>
                    <a:pt x="1689" y="282"/>
                  </a:lnTo>
                  <a:lnTo>
                    <a:pt x="1689" y="284"/>
                  </a:lnTo>
                  <a:lnTo>
                    <a:pt x="1686" y="286"/>
                  </a:lnTo>
                  <a:lnTo>
                    <a:pt x="1684" y="287"/>
                  </a:lnTo>
                  <a:lnTo>
                    <a:pt x="1681" y="287"/>
                  </a:lnTo>
                  <a:lnTo>
                    <a:pt x="1679" y="287"/>
                  </a:lnTo>
                  <a:lnTo>
                    <a:pt x="1679" y="287"/>
                  </a:lnTo>
                  <a:close/>
                  <a:moveTo>
                    <a:pt x="1654" y="272"/>
                  </a:moveTo>
                  <a:lnTo>
                    <a:pt x="1654" y="272"/>
                  </a:lnTo>
                  <a:lnTo>
                    <a:pt x="1651" y="270"/>
                  </a:lnTo>
                  <a:lnTo>
                    <a:pt x="1651" y="266"/>
                  </a:lnTo>
                  <a:lnTo>
                    <a:pt x="1651" y="265"/>
                  </a:lnTo>
                  <a:lnTo>
                    <a:pt x="1651" y="261"/>
                  </a:lnTo>
                  <a:lnTo>
                    <a:pt x="1653" y="259"/>
                  </a:lnTo>
                  <a:lnTo>
                    <a:pt x="1656" y="258"/>
                  </a:lnTo>
                  <a:lnTo>
                    <a:pt x="1658" y="258"/>
                  </a:lnTo>
                  <a:lnTo>
                    <a:pt x="1661" y="259"/>
                  </a:lnTo>
                  <a:lnTo>
                    <a:pt x="1661" y="259"/>
                  </a:lnTo>
                  <a:lnTo>
                    <a:pt x="1663" y="261"/>
                  </a:lnTo>
                  <a:lnTo>
                    <a:pt x="1665" y="263"/>
                  </a:lnTo>
                  <a:lnTo>
                    <a:pt x="1665" y="266"/>
                  </a:lnTo>
                  <a:lnTo>
                    <a:pt x="1663" y="270"/>
                  </a:lnTo>
                  <a:lnTo>
                    <a:pt x="1661" y="272"/>
                  </a:lnTo>
                  <a:lnTo>
                    <a:pt x="1660" y="272"/>
                  </a:lnTo>
                  <a:lnTo>
                    <a:pt x="1656" y="272"/>
                  </a:lnTo>
                  <a:lnTo>
                    <a:pt x="1654" y="272"/>
                  </a:lnTo>
                  <a:lnTo>
                    <a:pt x="1654" y="272"/>
                  </a:lnTo>
                  <a:close/>
                  <a:moveTo>
                    <a:pt x="1630" y="256"/>
                  </a:moveTo>
                  <a:lnTo>
                    <a:pt x="1630" y="256"/>
                  </a:lnTo>
                  <a:lnTo>
                    <a:pt x="1626" y="254"/>
                  </a:lnTo>
                  <a:lnTo>
                    <a:pt x="1626" y="252"/>
                  </a:lnTo>
                  <a:lnTo>
                    <a:pt x="1626" y="249"/>
                  </a:lnTo>
                  <a:lnTo>
                    <a:pt x="1626" y="247"/>
                  </a:lnTo>
                  <a:lnTo>
                    <a:pt x="1628" y="244"/>
                  </a:lnTo>
                  <a:lnTo>
                    <a:pt x="1632" y="244"/>
                  </a:lnTo>
                  <a:lnTo>
                    <a:pt x="1633" y="242"/>
                  </a:lnTo>
                  <a:lnTo>
                    <a:pt x="1637" y="244"/>
                  </a:lnTo>
                  <a:lnTo>
                    <a:pt x="1637" y="244"/>
                  </a:lnTo>
                  <a:lnTo>
                    <a:pt x="1639" y="245"/>
                  </a:lnTo>
                  <a:lnTo>
                    <a:pt x="1640" y="249"/>
                  </a:lnTo>
                  <a:lnTo>
                    <a:pt x="1640" y="251"/>
                  </a:lnTo>
                  <a:lnTo>
                    <a:pt x="1639" y="254"/>
                  </a:lnTo>
                  <a:lnTo>
                    <a:pt x="1637" y="256"/>
                  </a:lnTo>
                  <a:lnTo>
                    <a:pt x="1635" y="258"/>
                  </a:lnTo>
                  <a:lnTo>
                    <a:pt x="1632" y="258"/>
                  </a:lnTo>
                  <a:lnTo>
                    <a:pt x="1630" y="256"/>
                  </a:lnTo>
                  <a:lnTo>
                    <a:pt x="1630" y="256"/>
                  </a:lnTo>
                  <a:close/>
                  <a:moveTo>
                    <a:pt x="1605" y="240"/>
                  </a:moveTo>
                  <a:lnTo>
                    <a:pt x="1605" y="240"/>
                  </a:lnTo>
                  <a:lnTo>
                    <a:pt x="1602" y="238"/>
                  </a:lnTo>
                  <a:lnTo>
                    <a:pt x="1602" y="237"/>
                  </a:lnTo>
                  <a:lnTo>
                    <a:pt x="1602" y="233"/>
                  </a:lnTo>
                  <a:lnTo>
                    <a:pt x="1602" y="231"/>
                  </a:lnTo>
                  <a:lnTo>
                    <a:pt x="1604" y="230"/>
                  </a:lnTo>
                  <a:lnTo>
                    <a:pt x="1607" y="228"/>
                  </a:lnTo>
                  <a:lnTo>
                    <a:pt x="1609" y="228"/>
                  </a:lnTo>
                  <a:lnTo>
                    <a:pt x="1612" y="228"/>
                  </a:lnTo>
                  <a:lnTo>
                    <a:pt x="1612" y="228"/>
                  </a:lnTo>
                  <a:lnTo>
                    <a:pt x="1614" y="230"/>
                  </a:lnTo>
                  <a:lnTo>
                    <a:pt x="1616" y="233"/>
                  </a:lnTo>
                  <a:lnTo>
                    <a:pt x="1616" y="235"/>
                  </a:lnTo>
                  <a:lnTo>
                    <a:pt x="1614" y="238"/>
                  </a:lnTo>
                  <a:lnTo>
                    <a:pt x="1612" y="240"/>
                  </a:lnTo>
                  <a:lnTo>
                    <a:pt x="1611" y="242"/>
                  </a:lnTo>
                  <a:lnTo>
                    <a:pt x="1607" y="242"/>
                  </a:lnTo>
                  <a:lnTo>
                    <a:pt x="1605" y="240"/>
                  </a:lnTo>
                  <a:lnTo>
                    <a:pt x="1605" y="240"/>
                  </a:lnTo>
                  <a:close/>
                  <a:moveTo>
                    <a:pt x="1581" y="226"/>
                  </a:moveTo>
                  <a:lnTo>
                    <a:pt x="1581" y="226"/>
                  </a:lnTo>
                  <a:lnTo>
                    <a:pt x="1577" y="223"/>
                  </a:lnTo>
                  <a:lnTo>
                    <a:pt x="1577" y="221"/>
                  </a:lnTo>
                  <a:lnTo>
                    <a:pt x="1577" y="217"/>
                  </a:lnTo>
                  <a:lnTo>
                    <a:pt x="1577" y="216"/>
                  </a:lnTo>
                  <a:lnTo>
                    <a:pt x="1579" y="214"/>
                  </a:lnTo>
                  <a:lnTo>
                    <a:pt x="1583" y="212"/>
                  </a:lnTo>
                  <a:lnTo>
                    <a:pt x="1584" y="212"/>
                  </a:lnTo>
                  <a:lnTo>
                    <a:pt x="1588" y="214"/>
                  </a:lnTo>
                  <a:lnTo>
                    <a:pt x="1588" y="214"/>
                  </a:lnTo>
                  <a:lnTo>
                    <a:pt x="1590" y="216"/>
                  </a:lnTo>
                  <a:lnTo>
                    <a:pt x="1591" y="217"/>
                  </a:lnTo>
                  <a:lnTo>
                    <a:pt x="1591" y="221"/>
                  </a:lnTo>
                  <a:lnTo>
                    <a:pt x="1590" y="223"/>
                  </a:lnTo>
                  <a:lnTo>
                    <a:pt x="1588" y="224"/>
                  </a:lnTo>
                  <a:lnTo>
                    <a:pt x="1586" y="226"/>
                  </a:lnTo>
                  <a:lnTo>
                    <a:pt x="1583" y="226"/>
                  </a:lnTo>
                  <a:lnTo>
                    <a:pt x="1581" y="226"/>
                  </a:lnTo>
                  <a:lnTo>
                    <a:pt x="1581" y="226"/>
                  </a:lnTo>
                  <a:close/>
                  <a:moveTo>
                    <a:pt x="1556" y="210"/>
                  </a:moveTo>
                  <a:lnTo>
                    <a:pt x="1556" y="210"/>
                  </a:lnTo>
                  <a:lnTo>
                    <a:pt x="1553" y="209"/>
                  </a:lnTo>
                  <a:lnTo>
                    <a:pt x="1553" y="205"/>
                  </a:lnTo>
                  <a:lnTo>
                    <a:pt x="1551" y="203"/>
                  </a:lnTo>
                  <a:lnTo>
                    <a:pt x="1553" y="200"/>
                  </a:lnTo>
                  <a:lnTo>
                    <a:pt x="1555" y="198"/>
                  </a:lnTo>
                  <a:lnTo>
                    <a:pt x="1556" y="196"/>
                  </a:lnTo>
                  <a:lnTo>
                    <a:pt x="1560" y="196"/>
                  </a:lnTo>
                  <a:lnTo>
                    <a:pt x="1563" y="198"/>
                  </a:lnTo>
                  <a:lnTo>
                    <a:pt x="1563" y="198"/>
                  </a:lnTo>
                  <a:lnTo>
                    <a:pt x="1565" y="200"/>
                  </a:lnTo>
                  <a:lnTo>
                    <a:pt x="1565" y="202"/>
                  </a:lnTo>
                  <a:lnTo>
                    <a:pt x="1567" y="205"/>
                  </a:lnTo>
                  <a:lnTo>
                    <a:pt x="1565" y="209"/>
                  </a:lnTo>
                  <a:lnTo>
                    <a:pt x="1563" y="210"/>
                  </a:lnTo>
                  <a:lnTo>
                    <a:pt x="1562" y="210"/>
                  </a:lnTo>
                  <a:lnTo>
                    <a:pt x="1558" y="212"/>
                  </a:lnTo>
                  <a:lnTo>
                    <a:pt x="1556" y="210"/>
                  </a:lnTo>
                  <a:lnTo>
                    <a:pt x="1556" y="210"/>
                  </a:lnTo>
                  <a:close/>
                  <a:moveTo>
                    <a:pt x="1530" y="196"/>
                  </a:moveTo>
                  <a:lnTo>
                    <a:pt x="1530" y="196"/>
                  </a:lnTo>
                  <a:lnTo>
                    <a:pt x="1528" y="193"/>
                  </a:lnTo>
                  <a:lnTo>
                    <a:pt x="1527" y="191"/>
                  </a:lnTo>
                  <a:lnTo>
                    <a:pt x="1527" y="188"/>
                  </a:lnTo>
                  <a:lnTo>
                    <a:pt x="1528" y="186"/>
                  </a:lnTo>
                  <a:lnTo>
                    <a:pt x="1530" y="184"/>
                  </a:lnTo>
                  <a:lnTo>
                    <a:pt x="1532" y="182"/>
                  </a:lnTo>
                  <a:lnTo>
                    <a:pt x="1535" y="182"/>
                  </a:lnTo>
                  <a:lnTo>
                    <a:pt x="1539" y="182"/>
                  </a:lnTo>
                  <a:lnTo>
                    <a:pt x="1539" y="182"/>
                  </a:lnTo>
                  <a:lnTo>
                    <a:pt x="1541" y="184"/>
                  </a:lnTo>
                  <a:lnTo>
                    <a:pt x="1541" y="188"/>
                  </a:lnTo>
                  <a:lnTo>
                    <a:pt x="1541" y="189"/>
                  </a:lnTo>
                  <a:lnTo>
                    <a:pt x="1541" y="193"/>
                  </a:lnTo>
                  <a:lnTo>
                    <a:pt x="1539" y="195"/>
                  </a:lnTo>
                  <a:lnTo>
                    <a:pt x="1535" y="196"/>
                  </a:lnTo>
                  <a:lnTo>
                    <a:pt x="1534" y="196"/>
                  </a:lnTo>
                  <a:lnTo>
                    <a:pt x="1530" y="196"/>
                  </a:lnTo>
                  <a:lnTo>
                    <a:pt x="1530" y="196"/>
                  </a:lnTo>
                  <a:close/>
                  <a:moveTo>
                    <a:pt x="1514" y="202"/>
                  </a:moveTo>
                  <a:lnTo>
                    <a:pt x="1514" y="202"/>
                  </a:lnTo>
                  <a:lnTo>
                    <a:pt x="1511" y="203"/>
                  </a:lnTo>
                  <a:lnTo>
                    <a:pt x="1509" y="203"/>
                  </a:lnTo>
                  <a:lnTo>
                    <a:pt x="1506" y="202"/>
                  </a:lnTo>
                  <a:lnTo>
                    <a:pt x="1504" y="200"/>
                  </a:lnTo>
                  <a:lnTo>
                    <a:pt x="1504" y="196"/>
                  </a:lnTo>
                  <a:lnTo>
                    <a:pt x="1504" y="195"/>
                  </a:lnTo>
                  <a:lnTo>
                    <a:pt x="1504" y="191"/>
                  </a:lnTo>
                  <a:lnTo>
                    <a:pt x="1506" y="189"/>
                  </a:lnTo>
                  <a:lnTo>
                    <a:pt x="1506" y="189"/>
                  </a:lnTo>
                  <a:lnTo>
                    <a:pt x="1509" y="188"/>
                  </a:lnTo>
                  <a:lnTo>
                    <a:pt x="1511" y="188"/>
                  </a:lnTo>
                  <a:lnTo>
                    <a:pt x="1514" y="189"/>
                  </a:lnTo>
                  <a:lnTo>
                    <a:pt x="1516" y="191"/>
                  </a:lnTo>
                  <a:lnTo>
                    <a:pt x="1518" y="195"/>
                  </a:lnTo>
                  <a:lnTo>
                    <a:pt x="1518" y="196"/>
                  </a:lnTo>
                  <a:lnTo>
                    <a:pt x="1516" y="200"/>
                  </a:lnTo>
                  <a:lnTo>
                    <a:pt x="1514" y="202"/>
                  </a:lnTo>
                  <a:lnTo>
                    <a:pt x="1514" y="202"/>
                  </a:lnTo>
                  <a:close/>
                  <a:moveTo>
                    <a:pt x="1492" y="219"/>
                  </a:moveTo>
                  <a:lnTo>
                    <a:pt x="1492" y="219"/>
                  </a:lnTo>
                  <a:lnTo>
                    <a:pt x="1488" y="219"/>
                  </a:lnTo>
                  <a:lnTo>
                    <a:pt x="1485" y="219"/>
                  </a:lnTo>
                  <a:lnTo>
                    <a:pt x="1483" y="217"/>
                  </a:lnTo>
                  <a:lnTo>
                    <a:pt x="1481" y="216"/>
                  </a:lnTo>
                  <a:lnTo>
                    <a:pt x="1479" y="214"/>
                  </a:lnTo>
                  <a:lnTo>
                    <a:pt x="1479" y="210"/>
                  </a:lnTo>
                  <a:lnTo>
                    <a:pt x="1481" y="209"/>
                  </a:lnTo>
                  <a:lnTo>
                    <a:pt x="1483" y="207"/>
                  </a:lnTo>
                  <a:lnTo>
                    <a:pt x="1483" y="207"/>
                  </a:lnTo>
                  <a:lnTo>
                    <a:pt x="1485" y="205"/>
                  </a:lnTo>
                  <a:lnTo>
                    <a:pt x="1488" y="205"/>
                  </a:lnTo>
                  <a:lnTo>
                    <a:pt x="1490" y="207"/>
                  </a:lnTo>
                  <a:lnTo>
                    <a:pt x="1493" y="209"/>
                  </a:lnTo>
                  <a:lnTo>
                    <a:pt x="1493" y="210"/>
                  </a:lnTo>
                  <a:lnTo>
                    <a:pt x="1493" y="214"/>
                  </a:lnTo>
                  <a:lnTo>
                    <a:pt x="1493" y="216"/>
                  </a:lnTo>
                  <a:lnTo>
                    <a:pt x="1492" y="219"/>
                  </a:lnTo>
                  <a:lnTo>
                    <a:pt x="1492" y="219"/>
                  </a:lnTo>
                  <a:close/>
                  <a:moveTo>
                    <a:pt x="1467" y="235"/>
                  </a:moveTo>
                  <a:lnTo>
                    <a:pt x="1467" y="235"/>
                  </a:lnTo>
                  <a:lnTo>
                    <a:pt x="1464" y="237"/>
                  </a:lnTo>
                  <a:lnTo>
                    <a:pt x="1462" y="237"/>
                  </a:lnTo>
                  <a:lnTo>
                    <a:pt x="1458" y="235"/>
                  </a:lnTo>
                  <a:lnTo>
                    <a:pt x="1457" y="233"/>
                  </a:lnTo>
                  <a:lnTo>
                    <a:pt x="1455" y="230"/>
                  </a:lnTo>
                  <a:lnTo>
                    <a:pt x="1455" y="228"/>
                  </a:lnTo>
                  <a:lnTo>
                    <a:pt x="1457" y="224"/>
                  </a:lnTo>
                  <a:lnTo>
                    <a:pt x="1458" y="223"/>
                  </a:lnTo>
                  <a:lnTo>
                    <a:pt x="1458" y="223"/>
                  </a:lnTo>
                  <a:lnTo>
                    <a:pt x="1462" y="221"/>
                  </a:lnTo>
                  <a:lnTo>
                    <a:pt x="1464" y="221"/>
                  </a:lnTo>
                  <a:lnTo>
                    <a:pt x="1467" y="223"/>
                  </a:lnTo>
                  <a:lnTo>
                    <a:pt x="1469" y="224"/>
                  </a:lnTo>
                  <a:lnTo>
                    <a:pt x="1471" y="228"/>
                  </a:lnTo>
                  <a:lnTo>
                    <a:pt x="1471" y="230"/>
                  </a:lnTo>
                  <a:lnTo>
                    <a:pt x="1469" y="233"/>
                  </a:lnTo>
                  <a:lnTo>
                    <a:pt x="1467" y="235"/>
                  </a:lnTo>
                  <a:lnTo>
                    <a:pt x="1467" y="235"/>
                  </a:lnTo>
                  <a:close/>
                  <a:moveTo>
                    <a:pt x="1443" y="251"/>
                  </a:moveTo>
                  <a:lnTo>
                    <a:pt x="1443" y="251"/>
                  </a:lnTo>
                  <a:lnTo>
                    <a:pt x="1439" y="252"/>
                  </a:lnTo>
                  <a:lnTo>
                    <a:pt x="1437" y="252"/>
                  </a:lnTo>
                  <a:lnTo>
                    <a:pt x="1434" y="251"/>
                  </a:lnTo>
                  <a:lnTo>
                    <a:pt x="1432" y="249"/>
                  </a:lnTo>
                  <a:lnTo>
                    <a:pt x="1432" y="245"/>
                  </a:lnTo>
                  <a:lnTo>
                    <a:pt x="1432" y="244"/>
                  </a:lnTo>
                  <a:lnTo>
                    <a:pt x="1434" y="240"/>
                  </a:lnTo>
                  <a:lnTo>
                    <a:pt x="1436" y="238"/>
                  </a:lnTo>
                  <a:lnTo>
                    <a:pt x="1436" y="238"/>
                  </a:lnTo>
                  <a:lnTo>
                    <a:pt x="1437" y="237"/>
                  </a:lnTo>
                  <a:lnTo>
                    <a:pt x="1441" y="238"/>
                  </a:lnTo>
                  <a:lnTo>
                    <a:pt x="1443" y="238"/>
                  </a:lnTo>
                  <a:lnTo>
                    <a:pt x="1444" y="242"/>
                  </a:lnTo>
                  <a:lnTo>
                    <a:pt x="1446" y="244"/>
                  </a:lnTo>
                  <a:lnTo>
                    <a:pt x="1446" y="247"/>
                  </a:lnTo>
                  <a:lnTo>
                    <a:pt x="1444" y="249"/>
                  </a:lnTo>
                  <a:lnTo>
                    <a:pt x="1443" y="251"/>
                  </a:lnTo>
                  <a:lnTo>
                    <a:pt x="1443" y="251"/>
                  </a:lnTo>
                  <a:close/>
                  <a:moveTo>
                    <a:pt x="1418" y="266"/>
                  </a:moveTo>
                  <a:lnTo>
                    <a:pt x="1418" y="266"/>
                  </a:lnTo>
                  <a:lnTo>
                    <a:pt x="1415" y="266"/>
                  </a:lnTo>
                  <a:lnTo>
                    <a:pt x="1411" y="266"/>
                  </a:lnTo>
                  <a:lnTo>
                    <a:pt x="1409" y="265"/>
                  </a:lnTo>
                  <a:lnTo>
                    <a:pt x="1408" y="263"/>
                  </a:lnTo>
                  <a:lnTo>
                    <a:pt x="1406" y="261"/>
                  </a:lnTo>
                  <a:lnTo>
                    <a:pt x="1408" y="258"/>
                  </a:lnTo>
                  <a:lnTo>
                    <a:pt x="1408" y="256"/>
                  </a:lnTo>
                  <a:lnTo>
                    <a:pt x="1411" y="254"/>
                  </a:lnTo>
                  <a:lnTo>
                    <a:pt x="1411" y="254"/>
                  </a:lnTo>
                  <a:lnTo>
                    <a:pt x="1413" y="252"/>
                  </a:lnTo>
                  <a:lnTo>
                    <a:pt x="1416" y="252"/>
                  </a:lnTo>
                  <a:lnTo>
                    <a:pt x="1418" y="254"/>
                  </a:lnTo>
                  <a:lnTo>
                    <a:pt x="1420" y="256"/>
                  </a:lnTo>
                  <a:lnTo>
                    <a:pt x="1422" y="259"/>
                  </a:lnTo>
                  <a:lnTo>
                    <a:pt x="1420" y="261"/>
                  </a:lnTo>
                  <a:lnTo>
                    <a:pt x="1420" y="265"/>
                  </a:lnTo>
                  <a:lnTo>
                    <a:pt x="1418" y="266"/>
                  </a:lnTo>
                  <a:lnTo>
                    <a:pt x="1418" y="266"/>
                  </a:lnTo>
                  <a:close/>
                  <a:moveTo>
                    <a:pt x="1394" y="280"/>
                  </a:moveTo>
                  <a:lnTo>
                    <a:pt x="1394" y="280"/>
                  </a:lnTo>
                  <a:lnTo>
                    <a:pt x="1390" y="282"/>
                  </a:lnTo>
                  <a:lnTo>
                    <a:pt x="1387" y="282"/>
                  </a:lnTo>
                  <a:lnTo>
                    <a:pt x="1385" y="280"/>
                  </a:lnTo>
                  <a:lnTo>
                    <a:pt x="1383" y="279"/>
                  </a:lnTo>
                  <a:lnTo>
                    <a:pt x="1381" y="275"/>
                  </a:lnTo>
                  <a:lnTo>
                    <a:pt x="1381" y="273"/>
                  </a:lnTo>
                  <a:lnTo>
                    <a:pt x="1383" y="270"/>
                  </a:lnTo>
                  <a:lnTo>
                    <a:pt x="1385" y="268"/>
                  </a:lnTo>
                  <a:lnTo>
                    <a:pt x="1385" y="268"/>
                  </a:lnTo>
                  <a:lnTo>
                    <a:pt x="1388" y="268"/>
                  </a:lnTo>
                  <a:lnTo>
                    <a:pt x="1390" y="268"/>
                  </a:lnTo>
                  <a:lnTo>
                    <a:pt x="1394" y="268"/>
                  </a:lnTo>
                  <a:lnTo>
                    <a:pt x="1395" y="272"/>
                  </a:lnTo>
                  <a:lnTo>
                    <a:pt x="1395" y="273"/>
                  </a:lnTo>
                  <a:lnTo>
                    <a:pt x="1395" y="277"/>
                  </a:lnTo>
                  <a:lnTo>
                    <a:pt x="1395" y="279"/>
                  </a:lnTo>
                  <a:lnTo>
                    <a:pt x="1394" y="280"/>
                  </a:lnTo>
                  <a:lnTo>
                    <a:pt x="1394" y="280"/>
                  </a:lnTo>
                  <a:close/>
                  <a:moveTo>
                    <a:pt x="1367" y="296"/>
                  </a:moveTo>
                  <a:lnTo>
                    <a:pt x="1367" y="296"/>
                  </a:lnTo>
                  <a:lnTo>
                    <a:pt x="1366" y="296"/>
                  </a:lnTo>
                  <a:lnTo>
                    <a:pt x="1362" y="296"/>
                  </a:lnTo>
                  <a:lnTo>
                    <a:pt x="1360" y="294"/>
                  </a:lnTo>
                  <a:lnTo>
                    <a:pt x="1359" y="293"/>
                  </a:lnTo>
                  <a:lnTo>
                    <a:pt x="1357" y="291"/>
                  </a:lnTo>
                  <a:lnTo>
                    <a:pt x="1357" y="287"/>
                  </a:lnTo>
                  <a:lnTo>
                    <a:pt x="1359" y="286"/>
                  </a:lnTo>
                  <a:lnTo>
                    <a:pt x="1360" y="284"/>
                  </a:lnTo>
                  <a:lnTo>
                    <a:pt x="1360" y="284"/>
                  </a:lnTo>
                  <a:lnTo>
                    <a:pt x="1364" y="282"/>
                  </a:lnTo>
                  <a:lnTo>
                    <a:pt x="1366" y="282"/>
                  </a:lnTo>
                  <a:lnTo>
                    <a:pt x="1369" y="284"/>
                  </a:lnTo>
                  <a:lnTo>
                    <a:pt x="1371" y="286"/>
                  </a:lnTo>
                  <a:lnTo>
                    <a:pt x="1371" y="289"/>
                  </a:lnTo>
                  <a:lnTo>
                    <a:pt x="1371" y="291"/>
                  </a:lnTo>
                  <a:lnTo>
                    <a:pt x="1369" y="294"/>
                  </a:lnTo>
                  <a:lnTo>
                    <a:pt x="1367" y="296"/>
                  </a:lnTo>
                  <a:lnTo>
                    <a:pt x="1367" y="296"/>
                  </a:lnTo>
                  <a:close/>
                  <a:moveTo>
                    <a:pt x="1367" y="317"/>
                  </a:moveTo>
                  <a:lnTo>
                    <a:pt x="1367" y="317"/>
                  </a:lnTo>
                  <a:lnTo>
                    <a:pt x="1367" y="319"/>
                  </a:lnTo>
                  <a:lnTo>
                    <a:pt x="1366" y="321"/>
                  </a:lnTo>
                  <a:lnTo>
                    <a:pt x="1364" y="322"/>
                  </a:lnTo>
                  <a:lnTo>
                    <a:pt x="1360" y="324"/>
                  </a:lnTo>
                  <a:lnTo>
                    <a:pt x="1357" y="322"/>
                  </a:lnTo>
                  <a:lnTo>
                    <a:pt x="1355" y="321"/>
                  </a:lnTo>
                  <a:lnTo>
                    <a:pt x="1353" y="319"/>
                  </a:lnTo>
                  <a:lnTo>
                    <a:pt x="1353" y="317"/>
                  </a:lnTo>
                  <a:lnTo>
                    <a:pt x="1353" y="317"/>
                  </a:lnTo>
                  <a:lnTo>
                    <a:pt x="1353" y="314"/>
                  </a:lnTo>
                  <a:lnTo>
                    <a:pt x="1355" y="312"/>
                  </a:lnTo>
                  <a:lnTo>
                    <a:pt x="1357" y="310"/>
                  </a:lnTo>
                  <a:lnTo>
                    <a:pt x="1360" y="308"/>
                  </a:lnTo>
                  <a:lnTo>
                    <a:pt x="1364" y="310"/>
                  </a:lnTo>
                  <a:lnTo>
                    <a:pt x="1366" y="312"/>
                  </a:lnTo>
                  <a:lnTo>
                    <a:pt x="1367" y="314"/>
                  </a:lnTo>
                  <a:lnTo>
                    <a:pt x="1367" y="317"/>
                  </a:lnTo>
                  <a:lnTo>
                    <a:pt x="1367" y="317"/>
                  </a:lnTo>
                  <a:close/>
                  <a:moveTo>
                    <a:pt x="1367" y="345"/>
                  </a:moveTo>
                  <a:lnTo>
                    <a:pt x="1367" y="345"/>
                  </a:lnTo>
                  <a:lnTo>
                    <a:pt x="1367" y="349"/>
                  </a:lnTo>
                  <a:lnTo>
                    <a:pt x="1366" y="350"/>
                  </a:lnTo>
                  <a:lnTo>
                    <a:pt x="1364" y="352"/>
                  </a:lnTo>
                  <a:lnTo>
                    <a:pt x="1360" y="352"/>
                  </a:lnTo>
                  <a:lnTo>
                    <a:pt x="1357" y="352"/>
                  </a:lnTo>
                  <a:lnTo>
                    <a:pt x="1355" y="350"/>
                  </a:lnTo>
                  <a:lnTo>
                    <a:pt x="1353" y="349"/>
                  </a:lnTo>
                  <a:lnTo>
                    <a:pt x="1353" y="345"/>
                  </a:lnTo>
                  <a:lnTo>
                    <a:pt x="1353" y="345"/>
                  </a:lnTo>
                  <a:lnTo>
                    <a:pt x="1353" y="342"/>
                  </a:lnTo>
                  <a:lnTo>
                    <a:pt x="1355" y="340"/>
                  </a:lnTo>
                  <a:lnTo>
                    <a:pt x="1357" y="338"/>
                  </a:lnTo>
                  <a:lnTo>
                    <a:pt x="1360" y="338"/>
                  </a:lnTo>
                  <a:lnTo>
                    <a:pt x="1364" y="338"/>
                  </a:lnTo>
                  <a:lnTo>
                    <a:pt x="1366" y="340"/>
                  </a:lnTo>
                  <a:lnTo>
                    <a:pt x="1367" y="342"/>
                  </a:lnTo>
                  <a:lnTo>
                    <a:pt x="1367" y="345"/>
                  </a:lnTo>
                  <a:lnTo>
                    <a:pt x="1367" y="345"/>
                  </a:lnTo>
                  <a:close/>
                  <a:moveTo>
                    <a:pt x="1367" y="375"/>
                  </a:moveTo>
                  <a:lnTo>
                    <a:pt x="1367" y="375"/>
                  </a:lnTo>
                  <a:lnTo>
                    <a:pt x="1367" y="377"/>
                  </a:lnTo>
                  <a:lnTo>
                    <a:pt x="1366" y="378"/>
                  </a:lnTo>
                  <a:lnTo>
                    <a:pt x="1364" y="380"/>
                  </a:lnTo>
                  <a:lnTo>
                    <a:pt x="1360" y="382"/>
                  </a:lnTo>
                  <a:lnTo>
                    <a:pt x="1357" y="380"/>
                  </a:lnTo>
                  <a:lnTo>
                    <a:pt x="1355" y="378"/>
                  </a:lnTo>
                  <a:lnTo>
                    <a:pt x="1353" y="377"/>
                  </a:lnTo>
                  <a:lnTo>
                    <a:pt x="1353" y="375"/>
                  </a:lnTo>
                  <a:lnTo>
                    <a:pt x="1353" y="375"/>
                  </a:lnTo>
                  <a:lnTo>
                    <a:pt x="1353" y="371"/>
                  </a:lnTo>
                  <a:lnTo>
                    <a:pt x="1355" y="370"/>
                  </a:lnTo>
                  <a:lnTo>
                    <a:pt x="1357" y="368"/>
                  </a:lnTo>
                  <a:lnTo>
                    <a:pt x="1360" y="368"/>
                  </a:lnTo>
                  <a:lnTo>
                    <a:pt x="1364" y="368"/>
                  </a:lnTo>
                  <a:lnTo>
                    <a:pt x="1366" y="370"/>
                  </a:lnTo>
                  <a:lnTo>
                    <a:pt x="1367" y="371"/>
                  </a:lnTo>
                  <a:lnTo>
                    <a:pt x="1367" y="375"/>
                  </a:lnTo>
                  <a:lnTo>
                    <a:pt x="1367" y="375"/>
                  </a:lnTo>
                  <a:close/>
                  <a:moveTo>
                    <a:pt x="1367" y="403"/>
                  </a:moveTo>
                  <a:lnTo>
                    <a:pt x="1367" y="403"/>
                  </a:lnTo>
                  <a:lnTo>
                    <a:pt x="1367" y="406"/>
                  </a:lnTo>
                  <a:lnTo>
                    <a:pt x="1366" y="408"/>
                  </a:lnTo>
                  <a:lnTo>
                    <a:pt x="1364" y="410"/>
                  </a:lnTo>
                  <a:lnTo>
                    <a:pt x="1360" y="410"/>
                  </a:lnTo>
                  <a:lnTo>
                    <a:pt x="1357" y="410"/>
                  </a:lnTo>
                  <a:lnTo>
                    <a:pt x="1355" y="408"/>
                  </a:lnTo>
                  <a:lnTo>
                    <a:pt x="1353" y="406"/>
                  </a:lnTo>
                  <a:lnTo>
                    <a:pt x="1353" y="403"/>
                  </a:lnTo>
                  <a:lnTo>
                    <a:pt x="1353" y="403"/>
                  </a:lnTo>
                  <a:lnTo>
                    <a:pt x="1353" y="399"/>
                  </a:lnTo>
                  <a:lnTo>
                    <a:pt x="1355" y="398"/>
                  </a:lnTo>
                  <a:lnTo>
                    <a:pt x="1357" y="396"/>
                  </a:lnTo>
                  <a:lnTo>
                    <a:pt x="1360" y="396"/>
                  </a:lnTo>
                  <a:lnTo>
                    <a:pt x="1364" y="396"/>
                  </a:lnTo>
                  <a:lnTo>
                    <a:pt x="1366" y="398"/>
                  </a:lnTo>
                  <a:lnTo>
                    <a:pt x="1367" y="399"/>
                  </a:lnTo>
                  <a:lnTo>
                    <a:pt x="1367" y="403"/>
                  </a:lnTo>
                  <a:lnTo>
                    <a:pt x="1367" y="403"/>
                  </a:lnTo>
                  <a:close/>
                  <a:moveTo>
                    <a:pt x="1369" y="417"/>
                  </a:moveTo>
                  <a:lnTo>
                    <a:pt x="1369" y="417"/>
                  </a:lnTo>
                  <a:lnTo>
                    <a:pt x="1373" y="417"/>
                  </a:lnTo>
                  <a:lnTo>
                    <a:pt x="1374" y="419"/>
                  </a:lnTo>
                  <a:lnTo>
                    <a:pt x="1376" y="422"/>
                  </a:lnTo>
                  <a:lnTo>
                    <a:pt x="1376" y="424"/>
                  </a:lnTo>
                  <a:lnTo>
                    <a:pt x="1376" y="427"/>
                  </a:lnTo>
                  <a:lnTo>
                    <a:pt x="1374" y="429"/>
                  </a:lnTo>
                  <a:lnTo>
                    <a:pt x="1371" y="431"/>
                  </a:lnTo>
                  <a:lnTo>
                    <a:pt x="1369" y="431"/>
                  </a:lnTo>
                  <a:lnTo>
                    <a:pt x="1369" y="431"/>
                  </a:lnTo>
                  <a:lnTo>
                    <a:pt x="1366" y="431"/>
                  </a:lnTo>
                  <a:lnTo>
                    <a:pt x="1364" y="429"/>
                  </a:lnTo>
                  <a:lnTo>
                    <a:pt x="1362" y="426"/>
                  </a:lnTo>
                  <a:lnTo>
                    <a:pt x="1362" y="424"/>
                  </a:lnTo>
                  <a:lnTo>
                    <a:pt x="1362" y="420"/>
                  </a:lnTo>
                  <a:lnTo>
                    <a:pt x="1364" y="419"/>
                  </a:lnTo>
                  <a:lnTo>
                    <a:pt x="1367" y="417"/>
                  </a:lnTo>
                  <a:lnTo>
                    <a:pt x="1369" y="417"/>
                  </a:lnTo>
                  <a:lnTo>
                    <a:pt x="1369" y="417"/>
                  </a:lnTo>
                  <a:close/>
                  <a:moveTo>
                    <a:pt x="1399" y="419"/>
                  </a:moveTo>
                  <a:lnTo>
                    <a:pt x="1399" y="419"/>
                  </a:lnTo>
                  <a:lnTo>
                    <a:pt x="1401" y="420"/>
                  </a:lnTo>
                  <a:lnTo>
                    <a:pt x="1404" y="422"/>
                  </a:lnTo>
                  <a:lnTo>
                    <a:pt x="1404" y="424"/>
                  </a:lnTo>
                  <a:lnTo>
                    <a:pt x="1406" y="427"/>
                  </a:lnTo>
                  <a:lnTo>
                    <a:pt x="1404" y="429"/>
                  </a:lnTo>
                  <a:lnTo>
                    <a:pt x="1402" y="431"/>
                  </a:lnTo>
                  <a:lnTo>
                    <a:pt x="1401" y="433"/>
                  </a:lnTo>
                  <a:lnTo>
                    <a:pt x="1397" y="434"/>
                  </a:lnTo>
                  <a:lnTo>
                    <a:pt x="1397" y="434"/>
                  </a:lnTo>
                  <a:lnTo>
                    <a:pt x="1395" y="433"/>
                  </a:lnTo>
                  <a:lnTo>
                    <a:pt x="1392" y="431"/>
                  </a:lnTo>
                  <a:lnTo>
                    <a:pt x="1392" y="429"/>
                  </a:lnTo>
                  <a:lnTo>
                    <a:pt x="1392" y="426"/>
                  </a:lnTo>
                  <a:lnTo>
                    <a:pt x="1392" y="422"/>
                  </a:lnTo>
                  <a:lnTo>
                    <a:pt x="1394" y="420"/>
                  </a:lnTo>
                  <a:lnTo>
                    <a:pt x="1395" y="419"/>
                  </a:lnTo>
                  <a:lnTo>
                    <a:pt x="1399" y="419"/>
                  </a:lnTo>
                  <a:lnTo>
                    <a:pt x="1399" y="419"/>
                  </a:lnTo>
                  <a:close/>
                  <a:moveTo>
                    <a:pt x="1427" y="422"/>
                  </a:moveTo>
                  <a:lnTo>
                    <a:pt x="1427" y="422"/>
                  </a:lnTo>
                  <a:lnTo>
                    <a:pt x="1430" y="422"/>
                  </a:lnTo>
                  <a:lnTo>
                    <a:pt x="1432" y="424"/>
                  </a:lnTo>
                  <a:lnTo>
                    <a:pt x="1434" y="426"/>
                  </a:lnTo>
                  <a:lnTo>
                    <a:pt x="1434" y="429"/>
                  </a:lnTo>
                  <a:lnTo>
                    <a:pt x="1434" y="433"/>
                  </a:lnTo>
                  <a:lnTo>
                    <a:pt x="1432" y="434"/>
                  </a:lnTo>
                  <a:lnTo>
                    <a:pt x="1429" y="436"/>
                  </a:lnTo>
                  <a:lnTo>
                    <a:pt x="1427" y="436"/>
                  </a:lnTo>
                  <a:lnTo>
                    <a:pt x="1427" y="436"/>
                  </a:lnTo>
                  <a:lnTo>
                    <a:pt x="1423" y="434"/>
                  </a:lnTo>
                  <a:lnTo>
                    <a:pt x="1422" y="433"/>
                  </a:lnTo>
                  <a:lnTo>
                    <a:pt x="1420" y="431"/>
                  </a:lnTo>
                  <a:lnTo>
                    <a:pt x="1420" y="429"/>
                  </a:lnTo>
                  <a:lnTo>
                    <a:pt x="1420" y="426"/>
                  </a:lnTo>
                  <a:lnTo>
                    <a:pt x="1422" y="424"/>
                  </a:lnTo>
                  <a:lnTo>
                    <a:pt x="1425" y="422"/>
                  </a:lnTo>
                  <a:lnTo>
                    <a:pt x="1427" y="422"/>
                  </a:lnTo>
                  <a:lnTo>
                    <a:pt x="1427" y="422"/>
                  </a:lnTo>
                  <a:close/>
                  <a:moveTo>
                    <a:pt x="1458" y="429"/>
                  </a:moveTo>
                  <a:lnTo>
                    <a:pt x="1458" y="429"/>
                  </a:lnTo>
                  <a:lnTo>
                    <a:pt x="1460" y="431"/>
                  </a:lnTo>
                  <a:lnTo>
                    <a:pt x="1462" y="433"/>
                  </a:lnTo>
                  <a:lnTo>
                    <a:pt x="1462" y="434"/>
                  </a:lnTo>
                  <a:lnTo>
                    <a:pt x="1462" y="438"/>
                  </a:lnTo>
                  <a:lnTo>
                    <a:pt x="1458" y="440"/>
                  </a:lnTo>
                  <a:lnTo>
                    <a:pt x="1457" y="441"/>
                  </a:lnTo>
                  <a:lnTo>
                    <a:pt x="1453" y="441"/>
                  </a:lnTo>
                  <a:lnTo>
                    <a:pt x="1451" y="441"/>
                  </a:lnTo>
                  <a:lnTo>
                    <a:pt x="1451" y="441"/>
                  </a:lnTo>
                  <a:lnTo>
                    <a:pt x="1450" y="438"/>
                  </a:lnTo>
                  <a:lnTo>
                    <a:pt x="1448" y="436"/>
                  </a:lnTo>
                  <a:lnTo>
                    <a:pt x="1448" y="433"/>
                  </a:lnTo>
                  <a:lnTo>
                    <a:pt x="1448" y="431"/>
                  </a:lnTo>
                  <a:lnTo>
                    <a:pt x="1450" y="429"/>
                  </a:lnTo>
                  <a:lnTo>
                    <a:pt x="1453" y="427"/>
                  </a:lnTo>
                  <a:lnTo>
                    <a:pt x="1455" y="427"/>
                  </a:lnTo>
                  <a:lnTo>
                    <a:pt x="1458" y="429"/>
                  </a:lnTo>
                  <a:lnTo>
                    <a:pt x="1458" y="429"/>
                  </a:lnTo>
                  <a:close/>
                  <a:moveTo>
                    <a:pt x="1483" y="443"/>
                  </a:moveTo>
                  <a:lnTo>
                    <a:pt x="1483" y="443"/>
                  </a:lnTo>
                  <a:lnTo>
                    <a:pt x="1485" y="445"/>
                  </a:lnTo>
                  <a:lnTo>
                    <a:pt x="1486" y="448"/>
                  </a:lnTo>
                  <a:lnTo>
                    <a:pt x="1486" y="450"/>
                  </a:lnTo>
                  <a:lnTo>
                    <a:pt x="1486" y="454"/>
                  </a:lnTo>
                  <a:lnTo>
                    <a:pt x="1483" y="455"/>
                  </a:lnTo>
                  <a:lnTo>
                    <a:pt x="1481" y="457"/>
                  </a:lnTo>
                  <a:lnTo>
                    <a:pt x="1478" y="457"/>
                  </a:lnTo>
                  <a:lnTo>
                    <a:pt x="1476" y="455"/>
                  </a:lnTo>
                  <a:lnTo>
                    <a:pt x="1476" y="455"/>
                  </a:lnTo>
                  <a:lnTo>
                    <a:pt x="1474" y="454"/>
                  </a:lnTo>
                  <a:lnTo>
                    <a:pt x="1472" y="452"/>
                  </a:lnTo>
                  <a:lnTo>
                    <a:pt x="1472" y="448"/>
                  </a:lnTo>
                  <a:lnTo>
                    <a:pt x="1474" y="447"/>
                  </a:lnTo>
                  <a:lnTo>
                    <a:pt x="1476" y="443"/>
                  </a:lnTo>
                  <a:lnTo>
                    <a:pt x="1478" y="443"/>
                  </a:lnTo>
                  <a:lnTo>
                    <a:pt x="1481" y="443"/>
                  </a:lnTo>
                  <a:lnTo>
                    <a:pt x="1483" y="443"/>
                  </a:lnTo>
                  <a:lnTo>
                    <a:pt x="1483" y="443"/>
                  </a:lnTo>
                  <a:close/>
                  <a:moveTo>
                    <a:pt x="1507" y="459"/>
                  </a:moveTo>
                  <a:lnTo>
                    <a:pt x="1507" y="459"/>
                  </a:lnTo>
                  <a:lnTo>
                    <a:pt x="1509" y="461"/>
                  </a:lnTo>
                  <a:lnTo>
                    <a:pt x="1511" y="462"/>
                  </a:lnTo>
                  <a:lnTo>
                    <a:pt x="1511" y="466"/>
                  </a:lnTo>
                  <a:lnTo>
                    <a:pt x="1511" y="469"/>
                  </a:lnTo>
                  <a:lnTo>
                    <a:pt x="1509" y="471"/>
                  </a:lnTo>
                  <a:lnTo>
                    <a:pt x="1506" y="471"/>
                  </a:lnTo>
                  <a:lnTo>
                    <a:pt x="1504" y="471"/>
                  </a:lnTo>
                  <a:lnTo>
                    <a:pt x="1500" y="471"/>
                  </a:lnTo>
                  <a:lnTo>
                    <a:pt x="1500" y="471"/>
                  </a:lnTo>
                  <a:lnTo>
                    <a:pt x="1499" y="469"/>
                  </a:lnTo>
                  <a:lnTo>
                    <a:pt x="1497" y="466"/>
                  </a:lnTo>
                  <a:lnTo>
                    <a:pt x="1497" y="464"/>
                  </a:lnTo>
                  <a:lnTo>
                    <a:pt x="1499" y="461"/>
                  </a:lnTo>
                  <a:lnTo>
                    <a:pt x="1500" y="459"/>
                  </a:lnTo>
                  <a:lnTo>
                    <a:pt x="1502" y="457"/>
                  </a:lnTo>
                  <a:lnTo>
                    <a:pt x="1506" y="457"/>
                  </a:lnTo>
                  <a:lnTo>
                    <a:pt x="1507" y="459"/>
                  </a:lnTo>
                  <a:lnTo>
                    <a:pt x="1507" y="459"/>
                  </a:lnTo>
                  <a:close/>
                  <a:moveTo>
                    <a:pt x="1532" y="475"/>
                  </a:moveTo>
                  <a:lnTo>
                    <a:pt x="1532" y="475"/>
                  </a:lnTo>
                  <a:lnTo>
                    <a:pt x="1535" y="476"/>
                  </a:lnTo>
                  <a:lnTo>
                    <a:pt x="1535" y="478"/>
                  </a:lnTo>
                  <a:lnTo>
                    <a:pt x="1535" y="482"/>
                  </a:lnTo>
                  <a:lnTo>
                    <a:pt x="1535" y="483"/>
                  </a:lnTo>
                  <a:lnTo>
                    <a:pt x="1534" y="485"/>
                  </a:lnTo>
                  <a:lnTo>
                    <a:pt x="1530" y="487"/>
                  </a:lnTo>
                  <a:lnTo>
                    <a:pt x="1528" y="487"/>
                  </a:lnTo>
                  <a:lnTo>
                    <a:pt x="1525" y="487"/>
                  </a:lnTo>
                  <a:lnTo>
                    <a:pt x="1525" y="487"/>
                  </a:lnTo>
                  <a:lnTo>
                    <a:pt x="1523" y="483"/>
                  </a:lnTo>
                  <a:lnTo>
                    <a:pt x="1521" y="482"/>
                  </a:lnTo>
                  <a:lnTo>
                    <a:pt x="1521" y="478"/>
                  </a:lnTo>
                  <a:lnTo>
                    <a:pt x="1523" y="476"/>
                  </a:lnTo>
                  <a:lnTo>
                    <a:pt x="1525" y="475"/>
                  </a:lnTo>
                  <a:lnTo>
                    <a:pt x="1527" y="473"/>
                  </a:lnTo>
                  <a:lnTo>
                    <a:pt x="1530" y="473"/>
                  </a:lnTo>
                  <a:lnTo>
                    <a:pt x="1532" y="475"/>
                  </a:lnTo>
                  <a:lnTo>
                    <a:pt x="1532" y="475"/>
                  </a:lnTo>
                  <a:close/>
                  <a:moveTo>
                    <a:pt x="1558" y="489"/>
                  </a:moveTo>
                  <a:lnTo>
                    <a:pt x="1558" y="489"/>
                  </a:lnTo>
                  <a:lnTo>
                    <a:pt x="1560" y="490"/>
                  </a:lnTo>
                  <a:lnTo>
                    <a:pt x="1560" y="494"/>
                  </a:lnTo>
                  <a:lnTo>
                    <a:pt x="1560" y="496"/>
                  </a:lnTo>
                  <a:lnTo>
                    <a:pt x="1560" y="499"/>
                  </a:lnTo>
                  <a:lnTo>
                    <a:pt x="1558" y="501"/>
                  </a:lnTo>
                  <a:lnTo>
                    <a:pt x="1555" y="503"/>
                  </a:lnTo>
                  <a:lnTo>
                    <a:pt x="1553" y="503"/>
                  </a:lnTo>
                  <a:lnTo>
                    <a:pt x="1549" y="501"/>
                  </a:lnTo>
                  <a:lnTo>
                    <a:pt x="1549" y="501"/>
                  </a:lnTo>
                  <a:lnTo>
                    <a:pt x="1548" y="499"/>
                  </a:lnTo>
                  <a:lnTo>
                    <a:pt x="1546" y="497"/>
                  </a:lnTo>
                  <a:lnTo>
                    <a:pt x="1546" y="494"/>
                  </a:lnTo>
                  <a:lnTo>
                    <a:pt x="1548" y="492"/>
                  </a:lnTo>
                  <a:lnTo>
                    <a:pt x="1549" y="489"/>
                  </a:lnTo>
                  <a:lnTo>
                    <a:pt x="1551" y="489"/>
                  </a:lnTo>
                  <a:lnTo>
                    <a:pt x="1555" y="489"/>
                  </a:lnTo>
                  <a:lnTo>
                    <a:pt x="1558" y="489"/>
                  </a:lnTo>
                  <a:lnTo>
                    <a:pt x="1558" y="489"/>
                  </a:lnTo>
                  <a:close/>
                  <a:moveTo>
                    <a:pt x="1534" y="515"/>
                  </a:moveTo>
                  <a:lnTo>
                    <a:pt x="1534" y="515"/>
                  </a:lnTo>
                  <a:lnTo>
                    <a:pt x="1532" y="515"/>
                  </a:lnTo>
                  <a:lnTo>
                    <a:pt x="1528" y="515"/>
                  </a:lnTo>
                  <a:lnTo>
                    <a:pt x="1527" y="513"/>
                  </a:lnTo>
                  <a:lnTo>
                    <a:pt x="1525" y="511"/>
                  </a:lnTo>
                  <a:lnTo>
                    <a:pt x="1523" y="508"/>
                  </a:lnTo>
                  <a:lnTo>
                    <a:pt x="1525" y="506"/>
                  </a:lnTo>
                  <a:lnTo>
                    <a:pt x="1525" y="504"/>
                  </a:lnTo>
                  <a:lnTo>
                    <a:pt x="1528" y="503"/>
                  </a:lnTo>
                  <a:lnTo>
                    <a:pt x="1528" y="503"/>
                  </a:lnTo>
                  <a:lnTo>
                    <a:pt x="1530" y="501"/>
                  </a:lnTo>
                  <a:lnTo>
                    <a:pt x="1534" y="501"/>
                  </a:lnTo>
                  <a:lnTo>
                    <a:pt x="1535" y="503"/>
                  </a:lnTo>
                  <a:lnTo>
                    <a:pt x="1537" y="506"/>
                  </a:lnTo>
                  <a:lnTo>
                    <a:pt x="1537" y="508"/>
                  </a:lnTo>
                  <a:lnTo>
                    <a:pt x="1537" y="511"/>
                  </a:lnTo>
                  <a:lnTo>
                    <a:pt x="1537" y="513"/>
                  </a:lnTo>
                  <a:lnTo>
                    <a:pt x="1534" y="515"/>
                  </a:lnTo>
                  <a:lnTo>
                    <a:pt x="1534" y="5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4160" y="2887560"/>
              <a:ext cx="562320" cy="734760"/>
            </a:xfrm>
            <a:custGeom>
              <a:avLst/>
              <a:gdLst/>
              <a:ahLst/>
              <a:rect l="l" t="t" r="r" b="b"/>
              <a:pathLst>
                <a:path w="884" h="1158">
                  <a:moveTo>
                    <a:pt x="880" y="742"/>
                  </a:moveTo>
                  <a:lnTo>
                    <a:pt x="884" y="609"/>
                  </a:lnTo>
                  <a:lnTo>
                    <a:pt x="760" y="738"/>
                  </a:lnTo>
                  <a:lnTo>
                    <a:pt x="760" y="609"/>
                  </a:lnTo>
                  <a:lnTo>
                    <a:pt x="634" y="738"/>
                  </a:lnTo>
                  <a:lnTo>
                    <a:pt x="623" y="738"/>
                  </a:lnTo>
                  <a:lnTo>
                    <a:pt x="623" y="609"/>
                  </a:lnTo>
                  <a:lnTo>
                    <a:pt x="499" y="738"/>
                  </a:lnTo>
                  <a:lnTo>
                    <a:pt x="457" y="738"/>
                  </a:lnTo>
                  <a:lnTo>
                    <a:pt x="415" y="138"/>
                  </a:lnTo>
                  <a:lnTo>
                    <a:pt x="325" y="138"/>
                  </a:lnTo>
                  <a:lnTo>
                    <a:pt x="294" y="738"/>
                  </a:lnTo>
                  <a:lnTo>
                    <a:pt x="248" y="738"/>
                  </a:lnTo>
                  <a:lnTo>
                    <a:pt x="205" y="0"/>
                  </a:lnTo>
                  <a:lnTo>
                    <a:pt x="115" y="0"/>
                  </a:lnTo>
                  <a:lnTo>
                    <a:pt x="79" y="738"/>
                  </a:lnTo>
                  <a:lnTo>
                    <a:pt x="0" y="738"/>
                  </a:lnTo>
                  <a:lnTo>
                    <a:pt x="0" y="876"/>
                  </a:lnTo>
                  <a:lnTo>
                    <a:pt x="0" y="869"/>
                  </a:lnTo>
                  <a:lnTo>
                    <a:pt x="0" y="1158"/>
                  </a:lnTo>
                  <a:lnTo>
                    <a:pt x="880" y="1158"/>
                  </a:lnTo>
                  <a:lnTo>
                    <a:pt x="880" y="829"/>
                  </a:lnTo>
                  <a:lnTo>
                    <a:pt x="884" y="824"/>
                  </a:lnTo>
                  <a:lnTo>
                    <a:pt x="880" y="742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8360" y="1963440"/>
              <a:ext cx="865440" cy="57960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2" y="303"/>
                  </a:moveTo>
                  <a:lnTo>
                    <a:pt x="110" y="304"/>
                  </a:lnTo>
                  <a:lnTo>
                    <a:pt x="98" y="308"/>
                  </a:lnTo>
                  <a:lnTo>
                    <a:pt x="86" y="311"/>
                  </a:lnTo>
                  <a:lnTo>
                    <a:pt x="75" y="317"/>
                  </a:lnTo>
                  <a:lnTo>
                    <a:pt x="63" y="322"/>
                  </a:lnTo>
                  <a:lnTo>
                    <a:pt x="54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2"/>
                  </a:lnTo>
                  <a:lnTo>
                    <a:pt x="14" y="371"/>
                  </a:lnTo>
                  <a:lnTo>
                    <a:pt x="10" y="381"/>
                  </a:lnTo>
                  <a:lnTo>
                    <a:pt x="5" y="392"/>
                  </a:lnTo>
                  <a:lnTo>
                    <a:pt x="3" y="404"/>
                  </a:lnTo>
                  <a:lnTo>
                    <a:pt x="0" y="416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4"/>
                  </a:lnTo>
                  <a:lnTo>
                    <a:pt x="3" y="451"/>
                  </a:lnTo>
                  <a:lnTo>
                    <a:pt x="5" y="460"/>
                  </a:lnTo>
                  <a:lnTo>
                    <a:pt x="7" y="467"/>
                  </a:lnTo>
                  <a:lnTo>
                    <a:pt x="10" y="476"/>
                  </a:lnTo>
                  <a:lnTo>
                    <a:pt x="14" y="483"/>
                  </a:lnTo>
                  <a:lnTo>
                    <a:pt x="19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3" y="509"/>
                  </a:lnTo>
                  <a:lnTo>
                    <a:pt x="40" y="516"/>
                  </a:lnTo>
                  <a:lnTo>
                    <a:pt x="52" y="527"/>
                  </a:lnTo>
                  <a:lnTo>
                    <a:pt x="61" y="532"/>
                  </a:lnTo>
                  <a:lnTo>
                    <a:pt x="68" y="535"/>
                  </a:lnTo>
                  <a:lnTo>
                    <a:pt x="68" y="535"/>
                  </a:lnTo>
                  <a:lnTo>
                    <a:pt x="59" y="544"/>
                  </a:lnTo>
                  <a:lnTo>
                    <a:pt x="51" y="553"/>
                  </a:lnTo>
                  <a:lnTo>
                    <a:pt x="45" y="563"/>
                  </a:lnTo>
                  <a:lnTo>
                    <a:pt x="40" y="574"/>
                  </a:lnTo>
                  <a:lnTo>
                    <a:pt x="35" y="586"/>
                  </a:lnTo>
                  <a:lnTo>
                    <a:pt x="33" y="597"/>
                  </a:lnTo>
                  <a:lnTo>
                    <a:pt x="31" y="609"/>
                  </a:lnTo>
                  <a:lnTo>
                    <a:pt x="30" y="621"/>
                  </a:lnTo>
                  <a:lnTo>
                    <a:pt x="31" y="633"/>
                  </a:lnTo>
                  <a:lnTo>
                    <a:pt x="33" y="646"/>
                  </a:lnTo>
                  <a:lnTo>
                    <a:pt x="37" y="658"/>
                  </a:lnTo>
                  <a:lnTo>
                    <a:pt x="40" y="668"/>
                  </a:lnTo>
                  <a:lnTo>
                    <a:pt x="47" y="681"/>
                  </a:lnTo>
                  <a:lnTo>
                    <a:pt x="54" y="691"/>
                  </a:lnTo>
                  <a:lnTo>
                    <a:pt x="61" y="700"/>
                  </a:lnTo>
                  <a:lnTo>
                    <a:pt x="70" y="709"/>
                  </a:lnTo>
                  <a:lnTo>
                    <a:pt x="80" y="717"/>
                  </a:lnTo>
                  <a:lnTo>
                    <a:pt x="91" y="724"/>
                  </a:lnTo>
                  <a:lnTo>
                    <a:pt x="101" y="730"/>
                  </a:lnTo>
                  <a:lnTo>
                    <a:pt x="114" y="735"/>
                  </a:lnTo>
                  <a:lnTo>
                    <a:pt x="128" y="740"/>
                  </a:lnTo>
                  <a:lnTo>
                    <a:pt x="140" y="744"/>
                  </a:lnTo>
                  <a:lnTo>
                    <a:pt x="154" y="745"/>
                  </a:lnTo>
                  <a:lnTo>
                    <a:pt x="168" y="745"/>
                  </a:lnTo>
                  <a:lnTo>
                    <a:pt x="184" y="745"/>
                  </a:lnTo>
                  <a:lnTo>
                    <a:pt x="184" y="745"/>
                  </a:lnTo>
                  <a:lnTo>
                    <a:pt x="191" y="758"/>
                  </a:lnTo>
                  <a:lnTo>
                    <a:pt x="201" y="770"/>
                  </a:lnTo>
                  <a:lnTo>
                    <a:pt x="212" y="782"/>
                  </a:lnTo>
                  <a:lnTo>
                    <a:pt x="222" y="793"/>
                  </a:lnTo>
                  <a:lnTo>
                    <a:pt x="234" y="801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5" y="835"/>
                  </a:lnTo>
                  <a:lnTo>
                    <a:pt x="301" y="840"/>
                  </a:lnTo>
                  <a:lnTo>
                    <a:pt x="315" y="845"/>
                  </a:lnTo>
                  <a:lnTo>
                    <a:pt x="331" y="850"/>
                  </a:lnTo>
                  <a:lnTo>
                    <a:pt x="346" y="852"/>
                  </a:lnTo>
                  <a:lnTo>
                    <a:pt x="362" y="856"/>
                  </a:lnTo>
                  <a:lnTo>
                    <a:pt x="378" y="857"/>
                  </a:lnTo>
                  <a:lnTo>
                    <a:pt x="394" y="857"/>
                  </a:lnTo>
                  <a:lnTo>
                    <a:pt x="411" y="857"/>
                  </a:lnTo>
                  <a:lnTo>
                    <a:pt x="427" y="856"/>
                  </a:lnTo>
                  <a:lnTo>
                    <a:pt x="443" y="852"/>
                  </a:lnTo>
                  <a:lnTo>
                    <a:pt x="459" y="849"/>
                  </a:lnTo>
                  <a:lnTo>
                    <a:pt x="474" y="845"/>
                  </a:lnTo>
                  <a:lnTo>
                    <a:pt x="490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6"/>
                  </a:lnTo>
                  <a:lnTo>
                    <a:pt x="536" y="845"/>
                  </a:lnTo>
                  <a:lnTo>
                    <a:pt x="544" y="854"/>
                  </a:lnTo>
                  <a:lnTo>
                    <a:pt x="553" y="863"/>
                  </a:lnTo>
                  <a:lnTo>
                    <a:pt x="564" y="870"/>
                  </a:lnTo>
                  <a:lnTo>
                    <a:pt x="574" y="877"/>
                  </a:lnTo>
                  <a:lnTo>
                    <a:pt x="585" y="884"/>
                  </a:lnTo>
                  <a:lnTo>
                    <a:pt x="595" y="889"/>
                  </a:lnTo>
                  <a:lnTo>
                    <a:pt x="607" y="894"/>
                  </a:lnTo>
                  <a:lnTo>
                    <a:pt x="620" y="899"/>
                  </a:lnTo>
                  <a:lnTo>
                    <a:pt x="632" y="903"/>
                  </a:lnTo>
                  <a:lnTo>
                    <a:pt x="644" y="906"/>
                  </a:lnTo>
                  <a:lnTo>
                    <a:pt x="656" y="908"/>
                  </a:lnTo>
                  <a:lnTo>
                    <a:pt x="670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4" y="912"/>
                  </a:lnTo>
                  <a:lnTo>
                    <a:pt x="732" y="910"/>
                  </a:lnTo>
                  <a:lnTo>
                    <a:pt x="747" y="906"/>
                  </a:lnTo>
                  <a:lnTo>
                    <a:pt x="763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3"/>
                  </a:lnTo>
                  <a:lnTo>
                    <a:pt x="837" y="864"/>
                  </a:lnTo>
                  <a:lnTo>
                    <a:pt x="849" y="854"/>
                  </a:lnTo>
                  <a:lnTo>
                    <a:pt x="859" y="842"/>
                  </a:lnTo>
                  <a:lnTo>
                    <a:pt x="870" y="829"/>
                  </a:lnTo>
                  <a:lnTo>
                    <a:pt x="879" y="817"/>
                  </a:lnTo>
                  <a:lnTo>
                    <a:pt x="887" y="803"/>
                  </a:lnTo>
                  <a:lnTo>
                    <a:pt x="894" y="789"/>
                  </a:lnTo>
                  <a:lnTo>
                    <a:pt x="900" y="773"/>
                  </a:lnTo>
                  <a:lnTo>
                    <a:pt x="900" y="775"/>
                  </a:lnTo>
                  <a:lnTo>
                    <a:pt x="912" y="780"/>
                  </a:lnTo>
                  <a:lnTo>
                    <a:pt x="922" y="786"/>
                  </a:lnTo>
                  <a:lnTo>
                    <a:pt x="935" y="791"/>
                  </a:lnTo>
                  <a:lnTo>
                    <a:pt x="947" y="794"/>
                  </a:lnTo>
                  <a:lnTo>
                    <a:pt x="959" y="796"/>
                  </a:lnTo>
                  <a:lnTo>
                    <a:pt x="971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5" y="800"/>
                  </a:lnTo>
                  <a:lnTo>
                    <a:pt x="1033" y="796"/>
                  </a:lnTo>
                  <a:lnTo>
                    <a:pt x="1050" y="793"/>
                  </a:lnTo>
                  <a:lnTo>
                    <a:pt x="1068" y="787"/>
                  </a:lnTo>
                  <a:lnTo>
                    <a:pt x="1083" y="780"/>
                  </a:lnTo>
                  <a:lnTo>
                    <a:pt x="1097" y="772"/>
                  </a:lnTo>
                  <a:lnTo>
                    <a:pt x="1111" y="763"/>
                  </a:lnTo>
                  <a:lnTo>
                    <a:pt x="1125" y="752"/>
                  </a:lnTo>
                  <a:lnTo>
                    <a:pt x="1138" y="740"/>
                  </a:lnTo>
                  <a:lnTo>
                    <a:pt x="1148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4"/>
                  </a:lnTo>
                  <a:lnTo>
                    <a:pt x="1174" y="668"/>
                  </a:lnTo>
                  <a:lnTo>
                    <a:pt x="1176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5"/>
                  </a:lnTo>
                  <a:lnTo>
                    <a:pt x="1180" y="635"/>
                  </a:lnTo>
                  <a:lnTo>
                    <a:pt x="1199" y="632"/>
                  </a:lnTo>
                  <a:lnTo>
                    <a:pt x="1216" y="626"/>
                  </a:lnTo>
                  <a:lnTo>
                    <a:pt x="1234" y="619"/>
                  </a:lnTo>
                  <a:lnTo>
                    <a:pt x="1251" y="612"/>
                  </a:lnTo>
                  <a:lnTo>
                    <a:pt x="1267" y="604"/>
                  </a:lnTo>
                  <a:lnTo>
                    <a:pt x="1283" y="593"/>
                  </a:lnTo>
                  <a:lnTo>
                    <a:pt x="1297" y="583"/>
                  </a:lnTo>
                  <a:lnTo>
                    <a:pt x="1309" y="569"/>
                  </a:lnTo>
                  <a:lnTo>
                    <a:pt x="1321" y="556"/>
                  </a:lnTo>
                  <a:lnTo>
                    <a:pt x="1332" y="542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5"/>
                  </a:lnTo>
                  <a:lnTo>
                    <a:pt x="1358" y="478"/>
                  </a:lnTo>
                  <a:lnTo>
                    <a:pt x="1360" y="469"/>
                  </a:lnTo>
                  <a:lnTo>
                    <a:pt x="1362" y="460"/>
                  </a:lnTo>
                  <a:lnTo>
                    <a:pt x="1362" y="451"/>
                  </a:lnTo>
                  <a:lnTo>
                    <a:pt x="1362" y="443"/>
                  </a:lnTo>
                  <a:lnTo>
                    <a:pt x="1362" y="425"/>
                  </a:lnTo>
                  <a:lnTo>
                    <a:pt x="1360" y="409"/>
                  </a:lnTo>
                  <a:lnTo>
                    <a:pt x="1356" y="394"/>
                  </a:lnTo>
                  <a:lnTo>
                    <a:pt x="1351" y="380"/>
                  </a:lnTo>
                  <a:lnTo>
                    <a:pt x="1344" y="364"/>
                  </a:lnTo>
                  <a:lnTo>
                    <a:pt x="1337" y="350"/>
                  </a:lnTo>
                  <a:lnTo>
                    <a:pt x="1328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3" y="308"/>
                  </a:lnTo>
                  <a:lnTo>
                    <a:pt x="1328" y="294"/>
                  </a:lnTo>
                  <a:lnTo>
                    <a:pt x="1330" y="278"/>
                  </a:lnTo>
                  <a:lnTo>
                    <a:pt x="1330" y="269"/>
                  </a:lnTo>
                  <a:lnTo>
                    <a:pt x="1332" y="262"/>
                  </a:lnTo>
                  <a:lnTo>
                    <a:pt x="1330" y="250"/>
                  </a:lnTo>
                  <a:lnTo>
                    <a:pt x="1328" y="236"/>
                  </a:lnTo>
                  <a:lnTo>
                    <a:pt x="1327" y="224"/>
                  </a:lnTo>
                  <a:lnTo>
                    <a:pt x="1321" y="213"/>
                  </a:lnTo>
                  <a:lnTo>
                    <a:pt x="1318" y="201"/>
                  </a:lnTo>
                  <a:lnTo>
                    <a:pt x="1311" y="191"/>
                  </a:lnTo>
                  <a:lnTo>
                    <a:pt x="1304" y="178"/>
                  </a:lnTo>
                  <a:lnTo>
                    <a:pt x="1297" y="170"/>
                  </a:lnTo>
                  <a:lnTo>
                    <a:pt x="1288" y="159"/>
                  </a:lnTo>
                  <a:lnTo>
                    <a:pt x="1278" y="150"/>
                  </a:lnTo>
                  <a:lnTo>
                    <a:pt x="1269" y="143"/>
                  </a:lnTo>
                  <a:lnTo>
                    <a:pt x="1257" y="135"/>
                  </a:lnTo>
                  <a:lnTo>
                    <a:pt x="1246" y="129"/>
                  </a:lnTo>
                  <a:lnTo>
                    <a:pt x="1234" y="122"/>
                  </a:lnTo>
                  <a:lnTo>
                    <a:pt x="1220" y="117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4" y="101"/>
                  </a:lnTo>
                  <a:lnTo>
                    <a:pt x="1201" y="89"/>
                  </a:lnTo>
                  <a:lnTo>
                    <a:pt x="1195" y="79"/>
                  </a:lnTo>
                  <a:lnTo>
                    <a:pt x="1188" y="68"/>
                  </a:lnTo>
                  <a:lnTo>
                    <a:pt x="1181" y="58"/>
                  </a:lnTo>
                  <a:lnTo>
                    <a:pt x="1174" y="49"/>
                  </a:lnTo>
                  <a:lnTo>
                    <a:pt x="1166" y="40"/>
                  </a:lnTo>
                  <a:lnTo>
                    <a:pt x="1155" y="31"/>
                  </a:lnTo>
                  <a:lnTo>
                    <a:pt x="1145" y="24"/>
                  </a:lnTo>
                  <a:lnTo>
                    <a:pt x="1134" y="17"/>
                  </a:lnTo>
                  <a:lnTo>
                    <a:pt x="1122" y="12"/>
                  </a:lnTo>
                  <a:lnTo>
                    <a:pt x="1110" y="7"/>
                  </a:lnTo>
                  <a:lnTo>
                    <a:pt x="1097" y="3"/>
                  </a:lnTo>
                  <a:lnTo>
                    <a:pt x="1083" y="2"/>
                  </a:lnTo>
                  <a:lnTo>
                    <a:pt x="1071" y="0"/>
                  </a:lnTo>
                  <a:lnTo>
                    <a:pt x="1057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8" y="7"/>
                  </a:lnTo>
                  <a:lnTo>
                    <a:pt x="992" y="12"/>
                  </a:lnTo>
                  <a:lnTo>
                    <a:pt x="978" y="19"/>
                  </a:lnTo>
                  <a:lnTo>
                    <a:pt x="964" y="28"/>
                  </a:lnTo>
                  <a:lnTo>
                    <a:pt x="952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29" y="37"/>
                  </a:lnTo>
                  <a:lnTo>
                    <a:pt x="919" y="28"/>
                  </a:lnTo>
                  <a:lnTo>
                    <a:pt x="905" y="19"/>
                  </a:lnTo>
                  <a:lnTo>
                    <a:pt x="893" y="12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7" y="0"/>
                  </a:lnTo>
                  <a:lnTo>
                    <a:pt x="831" y="0"/>
                  </a:lnTo>
                  <a:lnTo>
                    <a:pt x="821" y="0"/>
                  </a:lnTo>
                  <a:lnTo>
                    <a:pt x="812" y="0"/>
                  </a:lnTo>
                  <a:lnTo>
                    <a:pt x="802" y="2"/>
                  </a:lnTo>
                  <a:lnTo>
                    <a:pt x="793" y="3"/>
                  </a:lnTo>
                  <a:lnTo>
                    <a:pt x="784" y="7"/>
                  </a:lnTo>
                  <a:lnTo>
                    <a:pt x="775" y="10"/>
                  </a:lnTo>
                  <a:lnTo>
                    <a:pt x="767" y="14"/>
                  </a:lnTo>
                  <a:lnTo>
                    <a:pt x="758" y="17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3"/>
                  </a:lnTo>
                  <a:lnTo>
                    <a:pt x="730" y="40"/>
                  </a:lnTo>
                  <a:lnTo>
                    <a:pt x="723" y="47"/>
                  </a:lnTo>
                  <a:lnTo>
                    <a:pt x="718" y="54"/>
                  </a:lnTo>
                  <a:lnTo>
                    <a:pt x="712" y="61"/>
                  </a:lnTo>
                  <a:lnTo>
                    <a:pt x="707" y="68"/>
                  </a:lnTo>
                  <a:lnTo>
                    <a:pt x="709" y="72"/>
                  </a:lnTo>
                  <a:lnTo>
                    <a:pt x="697" y="61"/>
                  </a:lnTo>
                  <a:lnTo>
                    <a:pt x="683" y="52"/>
                  </a:lnTo>
                  <a:lnTo>
                    <a:pt x="669" y="44"/>
                  </a:lnTo>
                  <a:lnTo>
                    <a:pt x="655" y="38"/>
                  </a:lnTo>
                  <a:lnTo>
                    <a:pt x="639" y="33"/>
                  </a:lnTo>
                  <a:lnTo>
                    <a:pt x="623" y="30"/>
                  </a:lnTo>
                  <a:lnTo>
                    <a:pt x="607" y="28"/>
                  </a:lnTo>
                  <a:lnTo>
                    <a:pt x="590" y="26"/>
                  </a:lnTo>
                  <a:lnTo>
                    <a:pt x="579" y="26"/>
                  </a:lnTo>
                  <a:lnTo>
                    <a:pt x="567" y="28"/>
                  </a:lnTo>
                  <a:lnTo>
                    <a:pt x="557" y="30"/>
                  </a:lnTo>
                  <a:lnTo>
                    <a:pt x="544" y="33"/>
                  </a:lnTo>
                  <a:lnTo>
                    <a:pt x="534" y="35"/>
                  </a:lnTo>
                  <a:lnTo>
                    <a:pt x="523" y="38"/>
                  </a:lnTo>
                  <a:lnTo>
                    <a:pt x="513" y="44"/>
                  </a:lnTo>
                  <a:lnTo>
                    <a:pt x="504" y="49"/>
                  </a:lnTo>
                  <a:lnTo>
                    <a:pt x="494" y="54"/>
                  </a:lnTo>
                  <a:lnTo>
                    <a:pt x="485" y="59"/>
                  </a:lnTo>
                  <a:lnTo>
                    <a:pt x="476" y="66"/>
                  </a:lnTo>
                  <a:lnTo>
                    <a:pt x="469" y="73"/>
                  </a:lnTo>
                  <a:lnTo>
                    <a:pt x="460" y="82"/>
                  </a:lnTo>
                  <a:lnTo>
                    <a:pt x="453" y="91"/>
                  </a:lnTo>
                  <a:lnTo>
                    <a:pt x="448" y="100"/>
                  </a:lnTo>
                  <a:lnTo>
                    <a:pt x="443" y="108"/>
                  </a:lnTo>
                  <a:lnTo>
                    <a:pt x="441" y="108"/>
                  </a:lnTo>
                  <a:lnTo>
                    <a:pt x="429" y="103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0" y="89"/>
                  </a:lnTo>
                  <a:lnTo>
                    <a:pt x="376" y="86"/>
                  </a:lnTo>
                  <a:lnTo>
                    <a:pt x="362" y="84"/>
                  </a:lnTo>
                  <a:lnTo>
                    <a:pt x="348" y="82"/>
                  </a:lnTo>
                  <a:lnTo>
                    <a:pt x="334" y="82"/>
                  </a:lnTo>
                  <a:lnTo>
                    <a:pt x="322" y="82"/>
                  </a:lnTo>
                  <a:lnTo>
                    <a:pt x="311" y="84"/>
                  </a:lnTo>
                  <a:lnTo>
                    <a:pt x="301" y="84"/>
                  </a:lnTo>
                  <a:lnTo>
                    <a:pt x="290" y="86"/>
                  </a:lnTo>
                  <a:lnTo>
                    <a:pt x="280" y="89"/>
                  </a:lnTo>
                  <a:lnTo>
                    <a:pt x="269" y="91"/>
                  </a:lnTo>
                  <a:lnTo>
                    <a:pt x="250" y="98"/>
                  </a:lnTo>
                  <a:lnTo>
                    <a:pt x="233" y="107"/>
                  </a:lnTo>
                  <a:lnTo>
                    <a:pt x="215" y="115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7" y="168"/>
                  </a:lnTo>
                  <a:lnTo>
                    <a:pt x="147" y="184"/>
                  </a:lnTo>
                  <a:lnTo>
                    <a:pt x="142" y="192"/>
                  </a:lnTo>
                  <a:lnTo>
                    <a:pt x="138" y="201"/>
                  </a:lnTo>
                  <a:lnTo>
                    <a:pt x="133" y="210"/>
                  </a:lnTo>
                  <a:lnTo>
                    <a:pt x="129" y="219"/>
                  </a:lnTo>
                  <a:lnTo>
                    <a:pt x="128" y="227"/>
                  </a:lnTo>
                  <a:lnTo>
                    <a:pt x="124" y="238"/>
                  </a:lnTo>
                  <a:lnTo>
                    <a:pt x="122" y="247"/>
                  </a:lnTo>
                  <a:lnTo>
                    <a:pt x="122" y="257"/>
                  </a:lnTo>
                  <a:lnTo>
                    <a:pt x="121" y="266"/>
                  </a:lnTo>
                  <a:lnTo>
                    <a:pt x="121" y="276"/>
                  </a:lnTo>
                  <a:lnTo>
                    <a:pt x="121" y="290"/>
                  </a:lnTo>
                  <a:lnTo>
                    <a:pt x="122" y="303"/>
                  </a:lnTo>
                  <a:lnTo>
                    <a:pt x="122" y="3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82920" y="1908000"/>
              <a:ext cx="863640" cy="57924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3" y="303"/>
                  </a:moveTo>
                  <a:lnTo>
                    <a:pt x="111" y="305"/>
                  </a:lnTo>
                  <a:lnTo>
                    <a:pt x="98" y="308"/>
                  </a:lnTo>
                  <a:lnTo>
                    <a:pt x="86" y="312"/>
                  </a:lnTo>
                  <a:lnTo>
                    <a:pt x="76" y="317"/>
                  </a:lnTo>
                  <a:lnTo>
                    <a:pt x="63" y="322"/>
                  </a:lnTo>
                  <a:lnTo>
                    <a:pt x="55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3"/>
                  </a:lnTo>
                  <a:lnTo>
                    <a:pt x="14" y="371"/>
                  </a:lnTo>
                  <a:lnTo>
                    <a:pt x="11" y="382"/>
                  </a:lnTo>
                  <a:lnTo>
                    <a:pt x="6" y="392"/>
                  </a:lnTo>
                  <a:lnTo>
                    <a:pt x="4" y="405"/>
                  </a:lnTo>
                  <a:lnTo>
                    <a:pt x="0" y="417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5"/>
                  </a:lnTo>
                  <a:lnTo>
                    <a:pt x="4" y="452"/>
                  </a:lnTo>
                  <a:lnTo>
                    <a:pt x="6" y="461"/>
                  </a:lnTo>
                  <a:lnTo>
                    <a:pt x="7" y="468"/>
                  </a:lnTo>
                  <a:lnTo>
                    <a:pt x="11" y="476"/>
                  </a:lnTo>
                  <a:lnTo>
                    <a:pt x="14" y="483"/>
                  </a:lnTo>
                  <a:lnTo>
                    <a:pt x="20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4" y="510"/>
                  </a:lnTo>
                  <a:lnTo>
                    <a:pt x="41" y="517"/>
                  </a:lnTo>
                  <a:lnTo>
                    <a:pt x="53" y="527"/>
                  </a:lnTo>
                  <a:lnTo>
                    <a:pt x="62" y="532"/>
                  </a:lnTo>
                  <a:lnTo>
                    <a:pt x="69" y="536"/>
                  </a:lnTo>
                  <a:lnTo>
                    <a:pt x="69" y="536"/>
                  </a:lnTo>
                  <a:lnTo>
                    <a:pt x="60" y="545"/>
                  </a:lnTo>
                  <a:lnTo>
                    <a:pt x="51" y="553"/>
                  </a:lnTo>
                  <a:lnTo>
                    <a:pt x="46" y="564"/>
                  </a:lnTo>
                  <a:lnTo>
                    <a:pt x="41" y="574"/>
                  </a:lnTo>
                  <a:lnTo>
                    <a:pt x="35" y="587"/>
                  </a:lnTo>
                  <a:lnTo>
                    <a:pt x="34" y="597"/>
                  </a:lnTo>
                  <a:lnTo>
                    <a:pt x="32" y="609"/>
                  </a:lnTo>
                  <a:lnTo>
                    <a:pt x="30" y="622"/>
                  </a:lnTo>
                  <a:lnTo>
                    <a:pt x="32" y="634"/>
                  </a:lnTo>
                  <a:lnTo>
                    <a:pt x="34" y="646"/>
                  </a:lnTo>
                  <a:lnTo>
                    <a:pt x="37" y="658"/>
                  </a:lnTo>
                  <a:lnTo>
                    <a:pt x="41" y="669"/>
                  </a:lnTo>
                  <a:lnTo>
                    <a:pt x="48" y="681"/>
                  </a:lnTo>
                  <a:lnTo>
                    <a:pt x="55" y="692"/>
                  </a:lnTo>
                  <a:lnTo>
                    <a:pt x="62" y="700"/>
                  </a:lnTo>
                  <a:lnTo>
                    <a:pt x="70" y="709"/>
                  </a:lnTo>
                  <a:lnTo>
                    <a:pt x="81" y="718"/>
                  </a:lnTo>
                  <a:lnTo>
                    <a:pt x="91" y="725"/>
                  </a:lnTo>
                  <a:lnTo>
                    <a:pt x="102" y="730"/>
                  </a:lnTo>
                  <a:lnTo>
                    <a:pt x="114" y="735"/>
                  </a:lnTo>
                  <a:lnTo>
                    <a:pt x="128" y="741"/>
                  </a:lnTo>
                  <a:lnTo>
                    <a:pt x="140" y="744"/>
                  </a:lnTo>
                  <a:lnTo>
                    <a:pt x="154" y="746"/>
                  </a:lnTo>
                  <a:lnTo>
                    <a:pt x="168" y="746"/>
                  </a:lnTo>
                  <a:lnTo>
                    <a:pt x="184" y="746"/>
                  </a:lnTo>
                  <a:lnTo>
                    <a:pt x="184" y="746"/>
                  </a:lnTo>
                  <a:lnTo>
                    <a:pt x="191" y="758"/>
                  </a:lnTo>
                  <a:lnTo>
                    <a:pt x="202" y="770"/>
                  </a:lnTo>
                  <a:lnTo>
                    <a:pt x="212" y="783"/>
                  </a:lnTo>
                  <a:lnTo>
                    <a:pt x="223" y="793"/>
                  </a:lnTo>
                  <a:lnTo>
                    <a:pt x="235" y="802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6" y="835"/>
                  </a:lnTo>
                  <a:lnTo>
                    <a:pt x="301" y="840"/>
                  </a:lnTo>
                  <a:lnTo>
                    <a:pt x="315" y="846"/>
                  </a:lnTo>
                  <a:lnTo>
                    <a:pt x="331" y="851"/>
                  </a:lnTo>
                  <a:lnTo>
                    <a:pt x="347" y="853"/>
                  </a:lnTo>
                  <a:lnTo>
                    <a:pt x="363" y="856"/>
                  </a:lnTo>
                  <a:lnTo>
                    <a:pt x="378" y="858"/>
                  </a:lnTo>
                  <a:lnTo>
                    <a:pt x="394" y="858"/>
                  </a:lnTo>
                  <a:lnTo>
                    <a:pt x="412" y="858"/>
                  </a:lnTo>
                  <a:lnTo>
                    <a:pt x="427" y="856"/>
                  </a:lnTo>
                  <a:lnTo>
                    <a:pt x="443" y="853"/>
                  </a:lnTo>
                  <a:lnTo>
                    <a:pt x="459" y="849"/>
                  </a:lnTo>
                  <a:lnTo>
                    <a:pt x="475" y="846"/>
                  </a:lnTo>
                  <a:lnTo>
                    <a:pt x="491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7"/>
                  </a:lnTo>
                  <a:lnTo>
                    <a:pt x="536" y="846"/>
                  </a:lnTo>
                  <a:lnTo>
                    <a:pt x="545" y="854"/>
                  </a:lnTo>
                  <a:lnTo>
                    <a:pt x="554" y="863"/>
                  </a:lnTo>
                  <a:lnTo>
                    <a:pt x="564" y="870"/>
                  </a:lnTo>
                  <a:lnTo>
                    <a:pt x="575" y="877"/>
                  </a:lnTo>
                  <a:lnTo>
                    <a:pt x="585" y="884"/>
                  </a:lnTo>
                  <a:lnTo>
                    <a:pt x="596" y="889"/>
                  </a:lnTo>
                  <a:lnTo>
                    <a:pt x="608" y="895"/>
                  </a:lnTo>
                  <a:lnTo>
                    <a:pt x="620" y="900"/>
                  </a:lnTo>
                  <a:lnTo>
                    <a:pt x="632" y="903"/>
                  </a:lnTo>
                  <a:lnTo>
                    <a:pt x="645" y="907"/>
                  </a:lnTo>
                  <a:lnTo>
                    <a:pt x="657" y="909"/>
                  </a:lnTo>
                  <a:lnTo>
                    <a:pt x="671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5" y="912"/>
                  </a:lnTo>
                  <a:lnTo>
                    <a:pt x="732" y="910"/>
                  </a:lnTo>
                  <a:lnTo>
                    <a:pt x="748" y="907"/>
                  </a:lnTo>
                  <a:lnTo>
                    <a:pt x="764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4"/>
                  </a:lnTo>
                  <a:lnTo>
                    <a:pt x="837" y="865"/>
                  </a:lnTo>
                  <a:lnTo>
                    <a:pt x="849" y="854"/>
                  </a:lnTo>
                  <a:lnTo>
                    <a:pt x="860" y="842"/>
                  </a:lnTo>
                  <a:lnTo>
                    <a:pt x="870" y="830"/>
                  </a:lnTo>
                  <a:lnTo>
                    <a:pt x="879" y="818"/>
                  </a:lnTo>
                  <a:lnTo>
                    <a:pt x="888" y="804"/>
                  </a:lnTo>
                  <a:lnTo>
                    <a:pt x="895" y="790"/>
                  </a:lnTo>
                  <a:lnTo>
                    <a:pt x="900" y="774"/>
                  </a:lnTo>
                  <a:lnTo>
                    <a:pt x="900" y="776"/>
                  </a:lnTo>
                  <a:lnTo>
                    <a:pt x="912" y="781"/>
                  </a:lnTo>
                  <a:lnTo>
                    <a:pt x="923" y="786"/>
                  </a:lnTo>
                  <a:lnTo>
                    <a:pt x="935" y="791"/>
                  </a:lnTo>
                  <a:lnTo>
                    <a:pt x="947" y="795"/>
                  </a:lnTo>
                  <a:lnTo>
                    <a:pt x="960" y="797"/>
                  </a:lnTo>
                  <a:lnTo>
                    <a:pt x="972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6" y="800"/>
                  </a:lnTo>
                  <a:lnTo>
                    <a:pt x="1033" y="797"/>
                  </a:lnTo>
                  <a:lnTo>
                    <a:pt x="1051" y="793"/>
                  </a:lnTo>
                  <a:lnTo>
                    <a:pt x="1068" y="788"/>
                  </a:lnTo>
                  <a:lnTo>
                    <a:pt x="1084" y="781"/>
                  </a:lnTo>
                  <a:lnTo>
                    <a:pt x="1098" y="772"/>
                  </a:lnTo>
                  <a:lnTo>
                    <a:pt x="1112" y="763"/>
                  </a:lnTo>
                  <a:lnTo>
                    <a:pt x="1126" y="753"/>
                  </a:lnTo>
                  <a:lnTo>
                    <a:pt x="1138" y="741"/>
                  </a:lnTo>
                  <a:lnTo>
                    <a:pt x="1149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5"/>
                  </a:lnTo>
                  <a:lnTo>
                    <a:pt x="1175" y="669"/>
                  </a:lnTo>
                  <a:lnTo>
                    <a:pt x="1177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6"/>
                  </a:lnTo>
                  <a:lnTo>
                    <a:pt x="1180" y="636"/>
                  </a:lnTo>
                  <a:lnTo>
                    <a:pt x="1199" y="632"/>
                  </a:lnTo>
                  <a:lnTo>
                    <a:pt x="1217" y="627"/>
                  </a:lnTo>
                  <a:lnTo>
                    <a:pt x="1234" y="620"/>
                  </a:lnTo>
                  <a:lnTo>
                    <a:pt x="1252" y="613"/>
                  </a:lnTo>
                  <a:lnTo>
                    <a:pt x="1268" y="604"/>
                  </a:lnTo>
                  <a:lnTo>
                    <a:pt x="1283" y="594"/>
                  </a:lnTo>
                  <a:lnTo>
                    <a:pt x="1297" y="583"/>
                  </a:lnTo>
                  <a:lnTo>
                    <a:pt x="1310" y="569"/>
                  </a:lnTo>
                  <a:lnTo>
                    <a:pt x="1322" y="557"/>
                  </a:lnTo>
                  <a:lnTo>
                    <a:pt x="1332" y="543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6"/>
                  </a:lnTo>
                  <a:lnTo>
                    <a:pt x="1359" y="478"/>
                  </a:lnTo>
                  <a:lnTo>
                    <a:pt x="1360" y="469"/>
                  </a:lnTo>
                  <a:lnTo>
                    <a:pt x="1362" y="461"/>
                  </a:lnTo>
                  <a:lnTo>
                    <a:pt x="1362" y="452"/>
                  </a:lnTo>
                  <a:lnTo>
                    <a:pt x="1362" y="443"/>
                  </a:lnTo>
                  <a:lnTo>
                    <a:pt x="1362" y="426"/>
                  </a:lnTo>
                  <a:lnTo>
                    <a:pt x="1360" y="410"/>
                  </a:lnTo>
                  <a:lnTo>
                    <a:pt x="1357" y="394"/>
                  </a:lnTo>
                  <a:lnTo>
                    <a:pt x="1352" y="380"/>
                  </a:lnTo>
                  <a:lnTo>
                    <a:pt x="1345" y="364"/>
                  </a:lnTo>
                  <a:lnTo>
                    <a:pt x="1338" y="350"/>
                  </a:lnTo>
                  <a:lnTo>
                    <a:pt x="1329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4" y="308"/>
                  </a:lnTo>
                  <a:lnTo>
                    <a:pt x="1329" y="294"/>
                  </a:lnTo>
                  <a:lnTo>
                    <a:pt x="1331" y="279"/>
                  </a:lnTo>
                  <a:lnTo>
                    <a:pt x="1331" y="270"/>
                  </a:lnTo>
                  <a:lnTo>
                    <a:pt x="1332" y="263"/>
                  </a:lnTo>
                  <a:lnTo>
                    <a:pt x="1331" y="251"/>
                  </a:lnTo>
                  <a:lnTo>
                    <a:pt x="1329" y="237"/>
                  </a:lnTo>
                  <a:lnTo>
                    <a:pt x="1327" y="224"/>
                  </a:lnTo>
                  <a:lnTo>
                    <a:pt x="1322" y="214"/>
                  </a:lnTo>
                  <a:lnTo>
                    <a:pt x="1318" y="202"/>
                  </a:lnTo>
                  <a:lnTo>
                    <a:pt x="1311" y="191"/>
                  </a:lnTo>
                  <a:lnTo>
                    <a:pt x="1304" y="179"/>
                  </a:lnTo>
                  <a:lnTo>
                    <a:pt x="1297" y="170"/>
                  </a:lnTo>
                  <a:lnTo>
                    <a:pt x="1289" y="160"/>
                  </a:lnTo>
                  <a:lnTo>
                    <a:pt x="1278" y="151"/>
                  </a:lnTo>
                  <a:lnTo>
                    <a:pt x="1269" y="144"/>
                  </a:lnTo>
                  <a:lnTo>
                    <a:pt x="1257" y="135"/>
                  </a:lnTo>
                  <a:lnTo>
                    <a:pt x="1247" y="130"/>
                  </a:lnTo>
                  <a:lnTo>
                    <a:pt x="1234" y="123"/>
                  </a:lnTo>
                  <a:lnTo>
                    <a:pt x="1220" y="118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5" y="102"/>
                  </a:lnTo>
                  <a:lnTo>
                    <a:pt x="1201" y="90"/>
                  </a:lnTo>
                  <a:lnTo>
                    <a:pt x="1196" y="79"/>
                  </a:lnTo>
                  <a:lnTo>
                    <a:pt x="1189" y="69"/>
                  </a:lnTo>
                  <a:lnTo>
                    <a:pt x="1182" y="58"/>
                  </a:lnTo>
                  <a:lnTo>
                    <a:pt x="1175" y="49"/>
                  </a:lnTo>
                  <a:lnTo>
                    <a:pt x="1166" y="41"/>
                  </a:lnTo>
                  <a:lnTo>
                    <a:pt x="1156" y="32"/>
                  </a:lnTo>
                  <a:lnTo>
                    <a:pt x="1145" y="25"/>
                  </a:lnTo>
                  <a:lnTo>
                    <a:pt x="1135" y="18"/>
                  </a:lnTo>
                  <a:lnTo>
                    <a:pt x="1122" y="13"/>
                  </a:lnTo>
                  <a:lnTo>
                    <a:pt x="1110" y="7"/>
                  </a:lnTo>
                  <a:lnTo>
                    <a:pt x="1098" y="4"/>
                  </a:lnTo>
                  <a:lnTo>
                    <a:pt x="1084" y="2"/>
                  </a:lnTo>
                  <a:lnTo>
                    <a:pt x="1072" y="0"/>
                  </a:lnTo>
                  <a:lnTo>
                    <a:pt x="1058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9" y="7"/>
                  </a:lnTo>
                  <a:lnTo>
                    <a:pt x="993" y="13"/>
                  </a:lnTo>
                  <a:lnTo>
                    <a:pt x="979" y="20"/>
                  </a:lnTo>
                  <a:lnTo>
                    <a:pt x="965" y="28"/>
                  </a:lnTo>
                  <a:lnTo>
                    <a:pt x="953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30" y="37"/>
                  </a:lnTo>
                  <a:lnTo>
                    <a:pt x="919" y="28"/>
                  </a:lnTo>
                  <a:lnTo>
                    <a:pt x="905" y="20"/>
                  </a:lnTo>
                  <a:lnTo>
                    <a:pt x="893" y="13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821" y="0"/>
                  </a:lnTo>
                  <a:lnTo>
                    <a:pt x="813" y="0"/>
                  </a:lnTo>
                  <a:lnTo>
                    <a:pt x="802" y="2"/>
                  </a:lnTo>
                  <a:lnTo>
                    <a:pt x="793" y="4"/>
                  </a:lnTo>
                  <a:lnTo>
                    <a:pt x="785" y="7"/>
                  </a:lnTo>
                  <a:lnTo>
                    <a:pt x="776" y="11"/>
                  </a:lnTo>
                  <a:lnTo>
                    <a:pt x="767" y="14"/>
                  </a:lnTo>
                  <a:lnTo>
                    <a:pt x="758" y="18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4"/>
                  </a:lnTo>
                  <a:lnTo>
                    <a:pt x="730" y="41"/>
                  </a:lnTo>
                  <a:lnTo>
                    <a:pt x="723" y="48"/>
                  </a:lnTo>
                  <a:lnTo>
                    <a:pt x="718" y="55"/>
                  </a:lnTo>
                  <a:lnTo>
                    <a:pt x="713" y="62"/>
                  </a:lnTo>
                  <a:lnTo>
                    <a:pt x="708" y="69"/>
                  </a:lnTo>
                  <a:lnTo>
                    <a:pt x="709" y="72"/>
                  </a:lnTo>
                  <a:lnTo>
                    <a:pt x="697" y="62"/>
                  </a:lnTo>
                  <a:lnTo>
                    <a:pt x="683" y="53"/>
                  </a:lnTo>
                  <a:lnTo>
                    <a:pt x="669" y="44"/>
                  </a:lnTo>
                  <a:lnTo>
                    <a:pt x="655" y="39"/>
                  </a:lnTo>
                  <a:lnTo>
                    <a:pt x="639" y="34"/>
                  </a:lnTo>
                  <a:lnTo>
                    <a:pt x="624" y="30"/>
                  </a:lnTo>
                  <a:lnTo>
                    <a:pt x="608" y="28"/>
                  </a:lnTo>
                  <a:lnTo>
                    <a:pt x="590" y="27"/>
                  </a:lnTo>
                  <a:lnTo>
                    <a:pt x="580" y="27"/>
                  </a:lnTo>
                  <a:lnTo>
                    <a:pt x="568" y="28"/>
                  </a:lnTo>
                  <a:lnTo>
                    <a:pt x="557" y="30"/>
                  </a:lnTo>
                  <a:lnTo>
                    <a:pt x="545" y="34"/>
                  </a:lnTo>
                  <a:lnTo>
                    <a:pt x="534" y="35"/>
                  </a:lnTo>
                  <a:lnTo>
                    <a:pt x="524" y="39"/>
                  </a:lnTo>
                  <a:lnTo>
                    <a:pt x="513" y="44"/>
                  </a:lnTo>
                  <a:lnTo>
                    <a:pt x="505" y="49"/>
                  </a:lnTo>
                  <a:lnTo>
                    <a:pt x="494" y="55"/>
                  </a:lnTo>
                  <a:lnTo>
                    <a:pt x="485" y="60"/>
                  </a:lnTo>
                  <a:lnTo>
                    <a:pt x="476" y="67"/>
                  </a:lnTo>
                  <a:lnTo>
                    <a:pt x="469" y="74"/>
                  </a:lnTo>
                  <a:lnTo>
                    <a:pt x="461" y="83"/>
                  </a:lnTo>
                  <a:lnTo>
                    <a:pt x="454" y="91"/>
                  </a:lnTo>
                  <a:lnTo>
                    <a:pt x="448" y="100"/>
                  </a:lnTo>
                  <a:lnTo>
                    <a:pt x="443" y="109"/>
                  </a:lnTo>
                  <a:lnTo>
                    <a:pt x="441" y="109"/>
                  </a:lnTo>
                  <a:lnTo>
                    <a:pt x="429" y="104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1" y="90"/>
                  </a:lnTo>
                  <a:lnTo>
                    <a:pt x="377" y="86"/>
                  </a:lnTo>
                  <a:lnTo>
                    <a:pt x="363" y="84"/>
                  </a:lnTo>
                  <a:lnTo>
                    <a:pt x="349" y="83"/>
                  </a:lnTo>
                  <a:lnTo>
                    <a:pt x="335" y="83"/>
                  </a:lnTo>
                  <a:lnTo>
                    <a:pt x="322" y="83"/>
                  </a:lnTo>
                  <a:lnTo>
                    <a:pt x="312" y="84"/>
                  </a:lnTo>
                  <a:lnTo>
                    <a:pt x="301" y="84"/>
                  </a:lnTo>
                  <a:lnTo>
                    <a:pt x="291" y="86"/>
                  </a:lnTo>
                  <a:lnTo>
                    <a:pt x="280" y="90"/>
                  </a:lnTo>
                  <a:lnTo>
                    <a:pt x="270" y="91"/>
                  </a:lnTo>
                  <a:lnTo>
                    <a:pt x="251" y="98"/>
                  </a:lnTo>
                  <a:lnTo>
                    <a:pt x="233" y="107"/>
                  </a:lnTo>
                  <a:lnTo>
                    <a:pt x="216" y="116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8" y="168"/>
                  </a:lnTo>
                  <a:lnTo>
                    <a:pt x="147" y="184"/>
                  </a:lnTo>
                  <a:lnTo>
                    <a:pt x="142" y="193"/>
                  </a:lnTo>
                  <a:lnTo>
                    <a:pt x="139" y="202"/>
                  </a:lnTo>
                  <a:lnTo>
                    <a:pt x="133" y="210"/>
                  </a:lnTo>
                  <a:lnTo>
                    <a:pt x="130" y="219"/>
                  </a:lnTo>
                  <a:lnTo>
                    <a:pt x="128" y="228"/>
                  </a:lnTo>
                  <a:lnTo>
                    <a:pt x="125" y="238"/>
                  </a:lnTo>
                  <a:lnTo>
                    <a:pt x="123" y="247"/>
                  </a:lnTo>
                  <a:lnTo>
                    <a:pt x="123" y="258"/>
                  </a:lnTo>
                  <a:lnTo>
                    <a:pt x="121" y="266"/>
                  </a:lnTo>
                  <a:lnTo>
                    <a:pt x="121" y="277"/>
                  </a:lnTo>
                  <a:lnTo>
                    <a:pt x="121" y="291"/>
                  </a:lnTo>
                  <a:lnTo>
                    <a:pt x="123" y="303"/>
                  </a:lnTo>
                  <a:lnTo>
                    <a:pt x="123" y="30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2920" y="1908000"/>
              <a:ext cx="863640" cy="579240"/>
            </a:xfrm>
            <a:custGeom>
              <a:avLst/>
              <a:gdLst/>
              <a:ahLst/>
              <a:rect l="l" t="t" r="r" b="b"/>
              <a:pathLst>
                <a:path w="1362" h="912">
                  <a:moveTo>
                    <a:pt x="123" y="303"/>
                  </a:moveTo>
                  <a:lnTo>
                    <a:pt x="111" y="305"/>
                  </a:lnTo>
                  <a:lnTo>
                    <a:pt x="98" y="308"/>
                  </a:lnTo>
                  <a:lnTo>
                    <a:pt x="86" y="312"/>
                  </a:lnTo>
                  <a:lnTo>
                    <a:pt x="76" y="317"/>
                  </a:lnTo>
                  <a:lnTo>
                    <a:pt x="63" y="322"/>
                  </a:lnTo>
                  <a:lnTo>
                    <a:pt x="55" y="329"/>
                  </a:lnTo>
                  <a:lnTo>
                    <a:pt x="44" y="336"/>
                  </a:lnTo>
                  <a:lnTo>
                    <a:pt x="35" y="343"/>
                  </a:lnTo>
                  <a:lnTo>
                    <a:pt x="28" y="352"/>
                  </a:lnTo>
                  <a:lnTo>
                    <a:pt x="21" y="363"/>
                  </a:lnTo>
                  <a:lnTo>
                    <a:pt x="14" y="371"/>
                  </a:lnTo>
                  <a:lnTo>
                    <a:pt x="11" y="382"/>
                  </a:lnTo>
                  <a:lnTo>
                    <a:pt x="6" y="392"/>
                  </a:lnTo>
                  <a:lnTo>
                    <a:pt x="4" y="405"/>
                  </a:lnTo>
                  <a:lnTo>
                    <a:pt x="0" y="417"/>
                  </a:lnTo>
                  <a:lnTo>
                    <a:pt x="0" y="427"/>
                  </a:lnTo>
                  <a:lnTo>
                    <a:pt x="0" y="436"/>
                  </a:lnTo>
                  <a:lnTo>
                    <a:pt x="2" y="445"/>
                  </a:lnTo>
                  <a:lnTo>
                    <a:pt x="4" y="452"/>
                  </a:lnTo>
                  <a:lnTo>
                    <a:pt x="6" y="461"/>
                  </a:lnTo>
                  <a:lnTo>
                    <a:pt x="7" y="468"/>
                  </a:lnTo>
                  <a:lnTo>
                    <a:pt x="11" y="476"/>
                  </a:lnTo>
                  <a:lnTo>
                    <a:pt x="14" y="483"/>
                  </a:lnTo>
                  <a:lnTo>
                    <a:pt x="20" y="490"/>
                  </a:lnTo>
                  <a:lnTo>
                    <a:pt x="23" y="497"/>
                  </a:lnTo>
                  <a:lnTo>
                    <a:pt x="28" y="504"/>
                  </a:lnTo>
                  <a:lnTo>
                    <a:pt x="34" y="510"/>
                  </a:lnTo>
                  <a:lnTo>
                    <a:pt x="41" y="517"/>
                  </a:lnTo>
                  <a:lnTo>
                    <a:pt x="53" y="527"/>
                  </a:lnTo>
                  <a:lnTo>
                    <a:pt x="62" y="532"/>
                  </a:lnTo>
                  <a:lnTo>
                    <a:pt x="69" y="536"/>
                  </a:lnTo>
                  <a:lnTo>
                    <a:pt x="69" y="536"/>
                  </a:lnTo>
                  <a:lnTo>
                    <a:pt x="60" y="545"/>
                  </a:lnTo>
                  <a:lnTo>
                    <a:pt x="51" y="553"/>
                  </a:lnTo>
                  <a:lnTo>
                    <a:pt x="46" y="564"/>
                  </a:lnTo>
                  <a:lnTo>
                    <a:pt x="41" y="574"/>
                  </a:lnTo>
                  <a:lnTo>
                    <a:pt x="35" y="587"/>
                  </a:lnTo>
                  <a:lnTo>
                    <a:pt x="34" y="597"/>
                  </a:lnTo>
                  <a:lnTo>
                    <a:pt x="32" y="609"/>
                  </a:lnTo>
                  <a:lnTo>
                    <a:pt x="30" y="622"/>
                  </a:lnTo>
                  <a:lnTo>
                    <a:pt x="32" y="634"/>
                  </a:lnTo>
                  <a:lnTo>
                    <a:pt x="34" y="646"/>
                  </a:lnTo>
                  <a:lnTo>
                    <a:pt x="37" y="658"/>
                  </a:lnTo>
                  <a:lnTo>
                    <a:pt x="41" y="669"/>
                  </a:lnTo>
                  <a:lnTo>
                    <a:pt x="48" y="681"/>
                  </a:lnTo>
                  <a:lnTo>
                    <a:pt x="55" y="692"/>
                  </a:lnTo>
                  <a:lnTo>
                    <a:pt x="62" y="700"/>
                  </a:lnTo>
                  <a:lnTo>
                    <a:pt x="70" y="709"/>
                  </a:lnTo>
                  <a:lnTo>
                    <a:pt x="81" y="718"/>
                  </a:lnTo>
                  <a:lnTo>
                    <a:pt x="91" y="725"/>
                  </a:lnTo>
                  <a:lnTo>
                    <a:pt x="102" y="730"/>
                  </a:lnTo>
                  <a:lnTo>
                    <a:pt x="114" y="735"/>
                  </a:lnTo>
                  <a:lnTo>
                    <a:pt x="128" y="741"/>
                  </a:lnTo>
                  <a:lnTo>
                    <a:pt x="140" y="744"/>
                  </a:lnTo>
                  <a:lnTo>
                    <a:pt x="154" y="746"/>
                  </a:lnTo>
                  <a:lnTo>
                    <a:pt x="168" y="746"/>
                  </a:lnTo>
                  <a:lnTo>
                    <a:pt x="184" y="746"/>
                  </a:lnTo>
                  <a:lnTo>
                    <a:pt x="184" y="746"/>
                  </a:lnTo>
                  <a:lnTo>
                    <a:pt x="191" y="758"/>
                  </a:lnTo>
                  <a:lnTo>
                    <a:pt x="202" y="770"/>
                  </a:lnTo>
                  <a:lnTo>
                    <a:pt x="212" y="783"/>
                  </a:lnTo>
                  <a:lnTo>
                    <a:pt x="223" y="793"/>
                  </a:lnTo>
                  <a:lnTo>
                    <a:pt x="235" y="802"/>
                  </a:lnTo>
                  <a:lnTo>
                    <a:pt x="247" y="812"/>
                  </a:lnTo>
                  <a:lnTo>
                    <a:pt x="259" y="819"/>
                  </a:lnTo>
                  <a:lnTo>
                    <a:pt x="273" y="828"/>
                  </a:lnTo>
                  <a:lnTo>
                    <a:pt x="286" y="835"/>
                  </a:lnTo>
                  <a:lnTo>
                    <a:pt x="301" y="840"/>
                  </a:lnTo>
                  <a:lnTo>
                    <a:pt x="315" y="846"/>
                  </a:lnTo>
                  <a:lnTo>
                    <a:pt x="331" y="851"/>
                  </a:lnTo>
                  <a:lnTo>
                    <a:pt x="347" y="853"/>
                  </a:lnTo>
                  <a:lnTo>
                    <a:pt x="363" y="856"/>
                  </a:lnTo>
                  <a:lnTo>
                    <a:pt x="378" y="858"/>
                  </a:lnTo>
                  <a:lnTo>
                    <a:pt x="394" y="858"/>
                  </a:lnTo>
                  <a:lnTo>
                    <a:pt x="412" y="858"/>
                  </a:lnTo>
                  <a:lnTo>
                    <a:pt x="427" y="856"/>
                  </a:lnTo>
                  <a:lnTo>
                    <a:pt x="443" y="853"/>
                  </a:lnTo>
                  <a:lnTo>
                    <a:pt x="459" y="849"/>
                  </a:lnTo>
                  <a:lnTo>
                    <a:pt x="475" y="846"/>
                  </a:lnTo>
                  <a:lnTo>
                    <a:pt x="491" y="840"/>
                  </a:lnTo>
                  <a:lnTo>
                    <a:pt x="506" y="833"/>
                  </a:lnTo>
                  <a:lnTo>
                    <a:pt x="520" y="826"/>
                  </a:lnTo>
                  <a:lnTo>
                    <a:pt x="520" y="826"/>
                  </a:lnTo>
                  <a:lnTo>
                    <a:pt x="527" y="837"/>
                  </a:lnTo>
                  <a:lnTo>
                    <a:pt x="536" y="846"/>
                  </a:lnTo>
                  <a:lnTo>
                    <a:pt x="545" y="854"/>
                  </a:lnTo>
                  <a:lnTo>
                    <a:pt x="554" y="863"/>
                  </a:lnTo>
                  <a:lnTo>
                    <a:pt x="564" y="870"/>
                  </a:lnTo>
                  <a:lnTo>
                    <a:pt x="575" y="877"/>
                  </a:lnTo>
                  <a:lnTo>
                    <a:pt x="585" y="884"/>
                  </a:lnTo>
                  <a:lnTo>
                    <a:pt x="596" y="889"/>
                  </a:lnTo>
                  <a:lnTo>
                    <a:pt x="608" y="895"/>
                  </a:lnTo>
                  <a:lnTo>
                    <a:pt x="620" y="900"/>
                  </a:lnTo>
                  <a:lnTo>
                    <a:pt x="632" y="903"/>
                  </a:lnTo>
                  <a:lnTo>
                    <a:pt x="645" y="907"/>
                  </a:lnTo>
                  <a:lnTo>
                    <a:pt x="657" y="909"/>
                  </a:lnTo>
                  <a:lnTo>
                    <a:pt x="671" y="910"/>
                  </a:lnTo>
                  <a:lnTo>
                    <a:pt x="683" y="912"/>
                  </a:lnTo>
                  <a:lnTo>
                    <a:pt x="697" y="912"/>
                  </a:lnTo>
                  <a:lnTo>
                    <a:pt x="715" y="912"/>
                  </a:lnTo>
                  <a:lnTo>
                    <a:pt x="732" y="910"/>
                  </a:lnTo>
                  <a:lnTo>
                    <a:pt x="748" y="907"/>
                  </a:lnTo>
                  <a:lnTo>
                    <a:pt x="764" y="903"/>
                  </a:lnTo>
                  <a:lnTo>
                    <a:pt x="779" y="896"/>
                  </a:lnTo>
                  <a:lnTo>
                    <a:pt x="795" y="891"/>
                  </a:lnTo>
                  <a:lnTo>
                    <a:pt x="809" y="882"/>
                  </a:lnTo>
                  <a:lnTo>
                    <a:pt x="823" y="874"/>
                  </a:lnTo>
                  <a:lnTo>
                    <a:pt x="837" y="865"/>
                  </a:lnTo>
                  <a:lnTo>
                    <a:pt x="849" y="854"/>
                  </a:lnTo>
                  <a:lnTo>
                    <a:pt x="860" y="842"/>
                  </a:lnTo>
                  <a:lnTo>
                    <a:pt x="870" y="830"/>
                  </a:lnTo>
                  <a:lnTo>
                    <a:pt x="879" y="818"/>
                  </a:lnTo>
                  <a:lnTo>
                    <a:pt x="888" y="804"/>
                  </a:lnTo>
                  <a:lnTo>
                    <a:pt x="895" y="790"/>
                  </a:lnTo>
                  <a:lnTo>
                    <a:pt x="900" y="774"/>
                  </a:lnTo>
                  <a:lnTo>
                    <a:pt x="900" y="776"/>
                  </a:lnTo>
                  <a:lnTo>
                    <a:pt x="912" y="781"/>
                  </a:lnTo>
                  <a:lnTo>
                    <a:pt x="923" y="786"/>
                  </a:lnTo>
                  <a:lnTo>
                    <a:pt x="935" y="791"/>
                  </a:lnTo>
                  <a:lnTo>
                    <a:pt x="947" y="795"/>
                  </a:lnTo>
                  <a:lnTo>
                    <a:pt x="960" y="797"/>
                  </a:lnTo>
                  <a:lnTo>
                    <a:pt x="972" y="798"/>
                  </a:lnTo>
                  <a:lnTo>
                    <a:pt x="984" y="800"/>
                  </a:lnTo>
                  <a:lnTo>
                    <a:pt x="998" y="800"/>
                  </a:lnTo>
                  <a:lnTo>
                    <a:pt x="1016" y="800"/>
                  </a:lnTo>
                  <a:lnTo>
                    <a:pt x="1033" y="797"/>
                  </a:lnTo>
                  <a:lnTo>
                    <a:pt x="1051" y="793"/>
                  </a:lnTo>
                  <a:lnTo>
                    <a:pt x="1068" y="788"/>
                  </a:lnTo>
                  <a:lnTo>
                    <a:pt x="1084" y="781"/>
                  </a:lnTo>
                  <a:lnTo>
                    <a:pt x="1098" y="772"/>
                  </a:lnTo>
                  <a:lnTo>
                    <a:pt x="1112" y="763"/>
                  </a:lnTo>
                  <a:lnTo>
                    <a:pt x="1126" y="753"/>
                  </a:lnTo>
                  <a:lnTo>
                    <a:pt x="1138" y="741"/>
                  </a:lnTo>
                  <a:lnTo>
                    <a:pt x="1149" y="728"/>
                  </a:lnTo>
                  <a:lnTo>
                    <a:pt x="1157" y="714"/>
                  </a:lnTo>
                  <a:lnTo>
                    <a:pt x="1164" y="700"/>
                  </a:lnTo>
                  <a:lnTo>
                    <a:pt x="1171" y="685"/>
                  </a:lnTo>
                  <a:lnTo>
                    <a:pt x="1175" y="669"/>
                  </a:lnTo>
                  <a:lnTo>
                    <a:pt x="1177" y="660"/>
                  </a:lnTo>
                  <a:lnTo>
                    <a:pt x="1178" y="653"/>
                  </a:lnTo>
                  <a:lnTo>
                    <a:pt x="1178" y="644"/>
                  </a:lnTo>
                  <a:lnTo>
                    <a:pt x="1180" y="636"/>
                  </a:lnTo>
                  <a:lnTo>
                    <a:pt x="1180" y="636"/>
                  </a:lnTo>
                  <a:lnTo>
                    <a:pt x="1199" y="632"/>
                  </a:lnTo>
                  <a:lnTo>
                    <a:pt x="1217" y="627"/>
                  </a:lnTo>
                  <a:lnTo>
                    <a:pt x="1234" y="620"/>
                  </a:lnTo>
                  <a:lnTo>
                    <a:pt x="1252" y="613"/>
                  </a:lnTo>
                  <a:lnTo>
                    <a:pt x="1268" y="604"/>
                  </a:lnTo>
                  <a:lnTo>
                    <a:pt x="1283" y="594"/>
                  </a:lnTo>
                  <a:lnTo>
                    <a:pt x="1297" y="583"/>
                  </a:lnTo>
                  <a:lnTo>
                    <a:pt x="1310" y="569"/>
                  </a:lnTo>
                  <a:lnTo>
                    <a:pt x="1322" y="557"/>
                  </a:lnTo>
                  <a:lnTo>
                    <a:pt x="1332" y="543"/>
                  </a:lnTo>
                  <a:lnTo>
                    <a:pt x="1341" y="527"/>
                  </a:lnTo>
                  <a:lnTo>
                    <a:pt x="1348" y="511"/>
                  </a:lnTo>
                  <a:lnTo>
                    <a:pt x="1355" y="496"/>
                  </a:lnTo>
                  <a:lnTo>
                    <a:pt x="1359" y="478"/>
                  </a:lnTo>
                  <a:lnTo>
                    <a:pt x="1360" y="469"/>
                  </a:lnTo>
                  <a:lnTo>
                    <a:pt x="1362" y="461"/>
                  </a:lnTo>
                  <a:lnTo>
                    <a:pt x="1362" y="452"/>
                  </a:lnTo>
                  <a:lnTo>
                    <a:pt x="1362" y="443"/>
                  </a:lnTo>
                  <a:lnTo>
                    <a:pt x="1362" y="426"/>
                  </a:lnTo>
                  <a:lnTo>
                    <a:pt x="1360" y="410"/>
                  </a:lnTo>
                  <a:lnTo>
                    <a:pt x="1357" y="394"/>
                  </a:lnTo>
                  <a:lnTo>
                    <a:pt x="1352" y="380"/>
                  </a:lnTo>
                  <a:lnTo>
                    <a:pt x="1345" y="364"/>
                  </a:lnTo>
                  <a:lnTo>
                    <a:pt x="1338" y="350"/>
                  </a:lnTo>
                  <a:lnTo>
                    <a:pt x="1329" y="336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4" y="308"/>
                  </a:lnTo>
                  <a:lnTo>
                    <a:pt x="1329" y="294"/>
                  </a:lnTo>
                  <a:lnTo>
                    <a:pt x="1331" y="279"/>
                  </a:lnTo>
                  <a:lnTo>
                    <a:pt x="1331" y="270"/>
                  </a:lnTo>
                  <a:lnTo>
                    <a:pt x="1332" y="263"/>
                  </a:lnTo>
                  <a:lnTo>
                    <a:pt x="1331" y="251"/>
                  </a:lnTo>
                  <a:lnTo>
                    <a:pt x="1329" y="237"/>
                  </a:lnTo>
                  <a:lnTo>
                    <a:pt x="1327" y="224"/>
                  </a:lnTo>
                  <a:lnTo>
                    <a:pt x="1322" y="214"/>
                  </a:lnTo>
                  <a:lnTo>
                    <a:pt x="1318" y="202"/>
                  </a:lnTo>
                  <a:lnTo>
                    <a:pt x="1311" y="191"/>
                  </a:lnTo>
                  <a:lnTo>
                    <a:pt x="1304" y="179"/>
                  </a:lnTo>
                  <a:lnTo>
                    <a:pt x="1297" y="170"/>
                  </a:lnTo>
                  <a:lnTo>
                    <a:pt x="1289" y="160"/>
                  </a:lnTo>
                  <a:lnTo>
                    <a:pt x="1278" y="151"/>
                  </a:lnTo>
                  <a:lnTo>
                    <a:pt x="1269" y="144"/>
                  </a:lnTo>
                  <a:lnTo>
                    <a:pt x="1257" y="135"/>
                  </a:lnTo>
                  <a:lnTo>
                    <a:pt x="1247" y="130"/>
                  </a:lnTo>
                  <a:lnTo>
                    <a:pt x="1234" y="123"/>
                  </a:lnTo>
                  <a:lnTo>
                    <a:pt x="1220" y="118"/>
                  </a:lnTo>
                  <a:lnTo>
                    <a:pt x="1208" y="114"/>
                  </a:lnTo>
                  <a:lnTo>
                    <a:pt x="1208" y="114"/>
                  </a:lnTo>
                  <a:lnTo>
                    <a:pt x="1205" y="102"/>
                  </a:lnTo>
                  <a:lnTo>
                    <a:pt x="1201" y="90"/>
                  </a:lnTo>
                  <a:lnTo>
                    <a:pt x="1196" y="79"/>
                  </a:lnTo>
                  <a:lnTo>
                    <a:pt x="1189" y="69"/>
                  </a:lnTo>
                  <a:lnTo>
                    <a:pt x="1182" y="58"/>
                  </a:lnTo>
                  <a:lnTo>
                    <a:pt x="1175" y="49"/>
                  </a:lnTo>
                  <a:lnTo>
                    <a:pt x="1166" y="41"/>
                  </a:lnTo>
                  <a:lnTo>
                    <a:pt x="1156" y="32"/>
                  </a:lnTo>
                  <a:lnTo>
                    <a:pt x="1145" y="25"/>
                  </a:lnTo>
                  <a:lnTo>
                    <a:pt x="1135" y="18"/>
                  </a:lnTo>
                  <a:lnTo>
                    <a:pt x="1122" y="13"/>
                  </a:lnTo>
                  <a:lnTo>
                    <a:pt x="1110" y="7"/>
                  </a:lnTo>
                  <a:lnTo>
                    <a:pt x="1098" y="4"/>
                  </a:lnTo>
                  <a:lnTo>
                    <a:pt x="1084" y="2"/>
                  </a:lnTo>
                  <a:lnTo>
                    <a:pt x="1072" y="0"/>
                  </a:lnTo>
                  <a:lnTo>
                    <a:pt x="1058" y="0"/>
                  </a:lnTo>
                  <a:lnTo>
                    <a:pt x="1040" y="0"/>
                  </a:lnTo>
                  <a:lnTo>
                    <a:pt x="1024" y="2"/>
                  </a:lnTo>
                  <a:lnTo>
                    <a:pt x="1009" y="7"/>
                  </a:lnTo>
                  <a:lnTo>
                    <a:pt x="993" y="13"/>
                  </a:lnTo>
                  <a:lnTo>
                    <a:pt x="979" y="20"/>
                  </a:lnTo>
                  <a:lnTo>
                    <a:pt x="965" y="28"/>
                  </a:lnTo>
                  <a:lnTo>
                    <a:pt x="953" y="37"/>
                  </a:lnTo>
                  <a:lnTo>
                    <a:pt x="940" y="49"/>
                  </a:lnTo>
                  <a:lnTo>
                    <a:pt x="940" y="49"/>
                  </a:lnTo>
                  <a:lnTo>
                    <a:pt x="930" y="37"/>
                  </a:lnTo>
                  <a:lnTo>
                    <a:pt x="919" y="28"/>
                  </a:lnTo>
                  <a:lnTo>
                    <a:pt x="905" y="20"/>
                  </a:lnTo>
                  <a:lnTo>
                    <a:pt x="893" y="13"/>
                  </a:lnTo>
                  <a:lnTo>
                    <a:pt x="877" y="7"/>
                  </a:lnTo>
                  <a:lnTo>
                    <a:pt x="863" y="2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821" y="0"/>
                  </a:lnTo>
                  <a:lnTo>
                    <a:pt x="813" y="0"/>
                  </a:lnTo>
                  <a:lnTo>
                    <a:pt x="802" y="2"/>
                  </a:lnTo>
                  <a:lnTo>
                    <a:pt x="793" y="4"/>
                  </a:lnTo>
                  <a:lnTo>
                    <a:pt x="785" y="7"/>
                  </a:lnTo>
                  <a:lnTo>
                    <a:pt x="776" y="11"/>
                  </a:lnTo>
                  <a:lnTo>
                    <a:pt x="767" y="14"/>
                  </a:lnTo>
                  <a:lnTo>
                    <a:pt x="758" y="18"/>
                  </a:lnTo>
                  <a:lnTo>
                    <a:pt x="751" y="23"/>
                  </a:lnTo>
                  <a:lnTo>
                    <a:pt x="744" y="28"/>
                  </a:lnTo>
                  <a:lnTo>
                    <a:pt x="737" y="34"/>
                  </a:lnTo>
                  <a:lnTo>
                    <a:pt x="730" y="41"/>
                  </a:lnTo>
                  <a:lnTo>
                    <a:pt x="723" y="48"/>
                  </a:lnTo>
                  <a:lnTo>
                    <a:pt x="718" y="55"/>
                  </a:lnTo>
                  <a:lnTo>
                    <a:pt x="713" y="62"/>
                  </a:lnTo>
                  <a:lnTo>
                    <a:pt x="708" y="69"/>
                  </a:lnTo>
                  <a:lnTo>
                    <a:pt x="709" y="72"/>
                  </a:lnTo>
                  <a:lnTo>
                    <a:pt x="697" y="62"/>
                  </a:lnTo>
                  <a:lnTo>
                    <a:pt x="683" y="53"/>
                  </a:lnTo>
                  <a:lnTo>
                    <a:pt x="669" y="44"/>
                  </a:lnTo>
                  <a:lnTo>
                    <a:pt x="655" y="39"/>
                  </a:lnTo>
                  <a:lnTo>
                    <a:pt x="639" y="34"/>
                  </a:lnTo>
                  <a:lnTo>
                    <a:pt x="624" y="30"/>
                  </a:lnTo>
                  <a:lnTo>
                    <a:pt x="608" y="28"/>
                  </a:lnTo>
                  <a:lnTo>
                    <a:pt x="590" y="27"/>
                  </a:lnTo>
                  <a:lnTo>
                    <a:pt x="580" y="27"/>
                  </a:lnTo>
                  <a:lnTo>
                    <a:pt x="568" y="28"/>
                  </a:lnTo>
                  <a:lnTo>
                    <a:pt x="557" y="30"/>
                  </a:lnTo>
                  <a:lnTo>
                    <a:pt x="545" y="34"/>
                  </a:lnTo>
                  <a:lnTo>
                    <a:pt x="534" y="35"/>
                  </a:lnTo>
                  <a:lnTo>
                    <a:pt x="524" y="39"/>
                  </a:lnTo>
                  <a:lnTo>
                    <a:pt x="513" y="44"/>
                  </a:lnTo>
                  <a:lnTo>
                    <a:pt x="505" y="49"/>
                  </a:lnTo>
                  <a:lnTo>
                    <a:pt x="494" y="55"/>
                  </a:lnTo>
                  <a:lnTo>
                    <a:pt x="485" y="60"/>
                  </a:lnTo>
                  <a:lnTo>
                    <a:pt x="476" y="67"/>
                  </a:lnTo>
                  <a:lnTo>
                    <a:pt x="469" y="74"/>
                  </a:lnTo>
                  <a:lnTo>
                    <a:pt x="461" y="83"/>
                  </a:lnTo>
                  <a:lnTo>
                    <a:pt x="454" y="91"/>
                  </a:lnTo>
                  <a:lnTo>
                    <a:pt x="448" y="100"/>
                  </a:lnTo>
                  <a:lnTo>
                    <a:pt x="443" y="109"/>
                  </a:lnTo>
                  <a:lnTo>
                    <a:pt x="441" y="109"/>
                  </a:lnTo>
                  <a:lnTo>
                    <a:pt x="429" y="104"/>
                  </a:lnTo>
                  <a:lnTo>
                    <a:pt x="417" y="98"/>
                  </a:lnTo>
                  <a:lnTo>
                    <a:pt x="403" y="93"/>
                  </a:lnTo>
                  <a:lnTo>
                    <a:pt x="391" y="90"/>
                  </a:lnTo>
                  <a:lnTo>
                    <a:pt x="377" y="86"/>
                  </a:lnTo>
                  <a:lnTo>
                    <a:pt x="363" y="84"/>
                  </a:lnTo>
                  <a:lnTo>
                    <a:pt x="349" y="83"/>
                  </a:lnTo>
                  <a:lnTo>
                    <a:pt x="335" y="83"/>
                  </a:lnTo>
                  <a:lnTo>
                    <a:pt x="322" y="83"/>
                  </a:lnTo>
                  <a:lnTo>
                    <a:pt x="312" y="84"/>
                  </a:lnTo>
                  <a:lnTo>
                    <a:pt x="301" y="84"/>
                  </a:lnTo>
                  <a:lnTo>
                    <a:pt x="291" y="86"/>
                  </a:lnTo>
                  <a:lnTo>
                    <a:pt x="280" y="90"/>
                  </a:lnTo>
                  <a:lnTo>
                    <a:pt x="270" y="91"/>
                  </a:lnTo>
                  <a:lnTo>
                    <a:pt x="251" y="98"/>
                  </a:lnTo>
                  <a:lnTo>
                    <a:pt x="233" y="107"/>
                  </a:lnTo>
                  <a:lnTo>
                    <a:pt x="216" y="116"/>
                  </a:lnTo>
                  <a:lnTo>
                    <a:pt x="198" y="128"/>
                  </a:lnTo>
                  <a:lnTo>
                    <a:pt x="184" y="140"/>
                  </a:lnTo>
                  <a:lnTo>
                    <a:pt x="170" y="154"/>
                  </a:lnTo>
                  <a:lnTo>
                    <a:pt x="158" y="168"/>
                  </a:lnTo>
                  <a:lnTo>
                    <a:pt x="147" y="184"/>
                  </a:lnTo>
                  <a:lnTo>
                    <a:pt x="142" y="193"/>
                  </a:lnTo>
                  <a:lnTo>
                    <a:pt x="139" y="202"/>
                  </a:lnTo>
                  <a:lnTo>
                    <a:pt x="133" y="210"/>
                  </a:lnTo>
                  <a:lnTo>
                    <a:pt x="130" y="219"/>
                  </a:lnTo>
                  <a:lnTo>
                    <a:pt x="128" y="228"/>
                  </a:lnTo>
                  <a:lnTo>
                    <a:pt x="125" y="238"/>
                  </a:lnTo>
                  <a:lnTo>
                    <a:pt x="123" y="247"/>
                  </a:lnTo>
                  <a:lnTo>
                    <a:pt x="123" y="258"/>
                  </a:lnTo>
                  <a:lnTo>
                    <a:pt x="121" y="266"/>
                  </a:lnTo>
                  <a:lnTo>
                    <a:pt x="121" y="277"/>
                  </a:lnTo>
                  <a:lnTo>
                    <a:pt x="121" y="291"/>
                  </a:lnTo>
                  <a:lnTo>
                    <a:pt x="123" y="303"/>
                  </a:lnTo>
                  <a:lnTo>
                    <a:pt x="123" y="303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25760" y="2247480"/>
              <a:ext cx="50760" cy="1116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0" y="0"/>
                  </a:moveTo>
                  <a:lnTo>
                    <a:pt x="7" y="5"/>
                  </a:lnTo>
                  <a:lnTo>
                    <a:pt x="15" y="9"/>
                  </a:lnTo>
                  <a:lnTo>
                    <a:pt x="24" y="10"/>
                  </a:lnTo>
                  <a:lnTo>
                    <a:pt x="33" y="14"/>
                  </a:lnTo>
                  <a:lnTo>
                    <a:pt x="42" y="16"/>
                  </a:lnTo>
                  <a:lnTo>
                    <a:pt x="50" y="17"/>
                  </a:lnTo>
                  <a:lnTo>
                    <a:pt x="59" y="17"/>
                  </a:lnTo>
                  <a:lnTo>
                    <a:pt x="68" y="17"/>
                  </a:lnTo>
                  <a:lnTo>
                    <a:pt x="75" y="17"/>
                  </a:lnTo>
                  <a:lnTo>
                    <a:pt x="80" y="17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8840" y="2376360"/>
              <a:ext cx="22320" cy="468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9"/>
                  </a:moveTo>
                  <a:lnTo>
                    <a:pt x="9" y="7"/>
                  </a:lnTo>
                  <a:lnTo>
                    <a:pt x="18" y="5"/>
                  </a:lnTo>
                  <a:lnTo>
                    <a:pt x="26" y="2"/>
                  </a:lnTo>
                  <a:lnTo>
                    <a:pt x="35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99000" y="2409480"/>
              <a:ext cx="14040" cy="2232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0"/>
                  </a:moveTo>
                  <a:lnTo>
                    <a:pt x="4" y="8"/>
                  </a:lnTo>
                  <a:lnTo>
                    <a:pt x="9" y="19"/>
                  </a:lnTo>
                  <a:lnTo>
                    <a:pt x="14" y="28"/>
                  </a:lnTo>
                  <a:lnTo>
                    <a:pt x="21" y="36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4600" y="2374560"/>
              <a:ext cx="4680" cy="2556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0" y="40"/>
                  </a:moveTo>
                  <a:lnTo>
                    <a:pt x="4" y="31"/>
                  </a:lnTo>
                  <a:lnTo>
                    <a:pt x="5" y="21"/>
                  </a:lnTo>
                  <a:lnTo>
                    <a:pt x="7" y="10"/>
                  </a:lnTo>
                  <a:lnTo>
                    <a:pt x="9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5480" y="2215800"/>
              <a:ext cx="66960" cy="95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3" y="151"/>
                  </a:moveTo>
                  <a:lnTo>
                    <a:pt x="103" y="149"/>
                  </a:lnTo>
                  <a:lnTo>
                    <a:pt x="101" y="137"/>
                  </a:lnTo>
                  <a:lnTo>
                    <a:pt x="101" y="126"/>
                  </a:lnTo>
                  <a:lnTo>
                    <a:pt x="98" y="114"/>
                  </a:lnTo>
                  <a:lnTo>
                    <a:pt x="96" y="103"/>
                  </a:lnTo>
                  <a:lnTo>
                    <a:pt x="91" y="93"/>
                  </a:lnTo>
                  <a:lnTo>
                    <a:pt x="87" y="81"/>
                  </a:lnTo>
                  <a:lnTo>
                    <a:pt x="80" y="72"/>
                  </a:lnTo>
                  <a:lnTo>
                    <a:pt x="75" y="61"/>
                  </a:lnTo>
                  <a:lnTo>
                    <a:pt x="68" y="51"/>
                  </a:lnTo>
                  <a:lnTo>
                    <a:pt x="59" y="42"/>
                  </a:lnTo>
                  <a:lnTo>
                    <a:pt x="52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12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1120" y="2114280"/>
              <a:ext cx="28440" cy="34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0" y="56"/>
                  </a:moveTo>
                  <a:lnTo>
                    <a:pt x="14" y="44"/>
                  </a:lnTo>
                  <a:lnTo>
                    <a:pt x="19" y="37"/>
                  </a:lnTo>
                  <a:lnTo>
                    <a:pt x="26" y="30"/>
                  </a:lnTo>
                  <a:lnTo>
                    <a:pt x="31" y="23"/>
                  </a:lnTo>
                  <a:lnTo>
                    <a:pt x="37" y="16"/>
                  </a:lnTo>
                  <a:lnTo>
                    <a:pt x="40" y="7"/>
                  </a:lnTo>
                  <a:lnTo>
                    <a:pt x="45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9720" y="1981080"/>
              <a:ext cx="1440" cy="1584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2" y="26"/>
                  </a:moveTo>
                  <a:lnTo>
                    <a:pt x="2" y="25"/>
                  </a:lnTo>
                  <a:lnTo>
                    <a:pt x="2" y="12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65760" y="1939680"/>
              <a:ext cx="14040" cy="205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0"/>
                  </a:moveTo>
                  <a:lnTo>
                    <a:pt x="15" y="7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0" y="34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24280" y="1952280"/>
              <a:ext cx="7920" cy="1764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1" y="0"/>
                  </a:moveTo>
                  <a:lnTo>
                    <a:pt x="7" y="7"/>
                  </a:lnTo>
                  <a:lnTo>
                    <a:pt x="5" y="15"/>
                  </a:lnTo>
                  <a:lnTo>
                    <a:pt x="2" y="22"/>
                  </a:lnTo>
                  <a:lnTo>
                    <a:pt x="0" y="29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62280" y="1977840"/>
              <a:ext cx="27000" cy="190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30"/>
                  </a:moveTo>
                  <a:lnTo>
                    <a:pt x="32" y="21"/>
                  </a:lnTo>
                  <a:lnTo>
                    <a:pt x="21" y="14"/>
                  </a:lnTo>
                  <a:lnTo>
                    <a:pt x="11" y="7"/>
                  </a:lnTo>
                  <a:lnTo>
                    <a:pt x="0" y="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0680" y="2099880"/>
              <a:ext cx="4680" cy="1908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0"/>
                  </a:moveTo>
                  <a:lnTo>
                    <a:pt x="3" y="16"/>
                  </a:lnTo>
                  <a:lnTo>
                    <a:pt x="7" y="30"/>
                  </a:lnTo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54120" y="1709640"/>
              <a:ext cx="1020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a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16360" y="3779640"/>
              <a:ext cx="501480" cy="490320"/>
            </a:xfrm>
            <a:custGeom>
              <a:avLst/>
              <a:gdLst/>
              <a:ahLst/>
              <a:rect l="l" t="t" r="r" b="b"/>
              <a:pathLst>
                <a:path w="791" h="774">
                  <a:moveTo>
                    <a:pt x="77" y="119"/>
                  </a:moveTo>
                  <a:lnTo>
                    <a:pt x="65" y="135"/>
                  </a:lnTo>
                  <a:lnTo>
                    <a:pt x="54" y="149"/>
                  </a:lnTo>
                  <a:lnTo>
                    <a:pt x="46" y="165"/>
                  </a:lnTo>
                  <a:lnTo>
                    <a:pt x="37" y="182"/>
                  </a:lnTo>
                  <a:lnTo>
                    <a:pt x="28" y="198"/>
                  </a:lnTo>
                  <a:lnTo>
                    <a:pt x="21" y="216"/>
                  </a:lnTo>
                  <a:lnTo>
                    <a:pt x="16" y="233"/>
                  </a:lnTo>
                  <a:lnTo>
                    <a:pt x="11" y="251"/>
                  </a:lnTo>
                  <a:lnTo>
                    <a:pt x="7" y="268"/>
                  </a:lnTo>
                  <a:lnTo>
                    <a:pt x="4" y="286"/>
                  </a:lnTo>
                  <a:lnTo>
                    <a:pt x="2" y="303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0" y="359"/>
                  </a:lnTo>
                  <a:lnTo>
                    <a:pt x="2" y="378"/>
                  </a:lnTo>
                  <a:lnTo>
                    <a:pt x="4" y="396"/>
                  </a:lnTo>
                  <a:lnTo>
                    <a:pt x="7" y="415"/>
                  </a:lnTo>
                  <a:lnTo>
                    <a:pt x="11" y="434"/>
                  </a:lnTo>
                  <a:lnTo>
                    <a:pt x="16" y="452"/>
                  </a:lnTo>
                  <a:lnTo>
                    <a:pt x="23" y="469"/>
                  </a:lnTo>
                  <a:lnTo>
                    <a:pt x="28" y="489"/>
                  </a:lnTo>
                  <a:lnTo>
                    <a:pt x="37" y="506"/>
                  </a:lnTo>
                  <a:lnTo>
                    <a:pt x="46" y="524"/>
                  </a:lnTo>
                  <a:lnTo>
                    <a:pt x="54" y="541"/>
                  </a:lnTo>
                  <a:lnTo>
                    <a:pt x="65" y="559"/>
                  </a:lnTo>
                  <a:lnTo>
                    <a:pt x="75" y="576"/>
                  </a:lnTo>
                  <a:lnTo>
                    <a:pt x="88" y="592"/>
                  </a:lnTo>
                  <a:lnTo>
                    <a:pt x="100" y="608"/>
                  </a:lnTo>
                  <a:lnTo>
                    <a:pt x="114" y="623"/>
                  </a:lnTo>
                  <a:lnTo>
                    <a:pt x="128" y="639"/>
                  </a:lnTo>
                  <a:lnTo>
                    <a:pt x="144" y="653"/>
                  </a:lnTo>
                  <a:lnTo>
                    <a:pt x="159" y="667"/>
                  </a:lnTo>
                  <a:lnTo>
                    <a:pt x="177" y="681"/>
                  </a:lnTo>
                  <a:lnTo>
                    <a:pt x="193" y="693"/>
                  </a:lnTo>
                  <a:lnTo>
                    <a:pt x="210" y="706"/>
                  </a:lnTo>
                  <a:lnTo>
                    <a:pt x="230" y="716"/>
                  </a:lnTo>
                  <a:lnTo>
                    <a:pt x="247" y="725"/>
                  </a:lnTo>
                  <a:lnTo>
                    <a:pt x="265" y="734"/>
                  </a:lnTo>
                  <a:lnTo>
                    <a:pt x="284" y="742"/>
                  </a:lnTo>
                  <a:lnTo>
                    <a:pt x="303" y="749"/>
                  </a:lnTo>
                  <a:lnTo>
                    <a:pt x="321" y="756"/>
                  </a:lnTo>
                  <a:lnTo>
                    <a:pt x="340" y="762"/>
                  </a:lnTo>
                  <a:lnTo>
                    <a:pt x="359" y="765"/>
                  </a:lnTo>
                  <a:lnTo>
                    <a:pt x="378" y="769"/>
                  </a:lnTo>
                  <a:lnTo>
                    <a:pt x="398" y="772"/>
                  </a:lnTo>
                  <a:lnTo>
                    <a:pt x="417" y="774"/>
                  </a:lnTo>
                  <a:lnTo>
                    <a:pt x="434" y="774"/>
                  </a:lnTo>
                  <a:lnTo>
                    <a:pt x="454" y="774"/>
                  </a:lnTo>
                  <a:lnTo>
                    <a:pt x="473" y="774"/>
                  </a:lnTo>
                  <a:lnTo>
                    <a:pt x="492" y="772"/>
                  </a:lnTo>
                  <a:lnTo>
                    <a:pt x="510" y="769"/>
                  </a:lnTo>
                  <a:lnTo>
                    <a:pt x="527" y="765"/>
                  </a:lnTo>
                  <a:lnTo>
                    <a:pt x="546" y="762"/>
                  </a:lnTo>
                  <a:lnTo>
                    <a:pt x="564" y="756"/>
                  </a:lnTo>
                  <a:lnTo>
                    <a:pt x="580" y="749"/>
                  </a:lnTo>
                  <a:lnTo>
                    <a:pt x="597" y="742"/>
                  </a:lnTo>
                  <a:lnTo>
                    <a:pt x="613" y="735"/>
                  </a:lnTo>
                  <a:lnTo>
                    <a:pt x="630" y="727"/>
                  </a:lnTo>
                  <a:lnTo>
                    <a:pt x="644" y="716"/>
                  </a:lnTo>
                  <a:lnTo>
                    <a:pt x="660" y="706"/>
                  </a:lnTo>
                  <a:lnTo>
                    <a:pt x="674" y="693"/>
                  </a:lnTo>
                  <a:lnTo>
                    <a:pt x="688" y="681"/>
                  </a:lnTo>
                  <a:lnTo>
                    <a:pt x="702" y="669"/>
                  </a:lnTo>
                  <a:lnTo>
                    <a:pt x="714" y="655"/>
                  </a:lnTo>
                  <a:lnTo>
                    <a:pt x="725" y="639"/>
                  </a:lnTo>
                  <a:lnTo>
                    <a:pt x="737" y="625"/>
                  </a:lnTo>
                  <a:lnTo>
                    <a:pt x="746" y="609"/>
                  </a:lnTo>
                  <a:lnTo>
                    <a:pt x="755" y="592"/>
                  </a:lnTo>
                  <a:lnTo>
                    <a:pt x="763" y="576"/>
                  </a:lnTo>
                  <a:lnTo>
                    <a:pt x="770" y="559"/>
                  </a:lnTo>
                  <a:lnTo>
                    <a:pt x="776" y="541"/>
                  </a:lnTo>
                  <a:lnTo>
                    <a:pt x="781" y="524"/>
                  </a:lnTo>
                  <a:lnTo>
                    <a:pt x="784" y="506"/>
                  </a:lnTo>
                  <a:lnTo>
                    <a:pt x="788" y="489"/>
                  </a:lnTo>
                  <a:lnTo>
                    <a:pt x="790" y="469"/>
                  </a:lnTo>
                  <a:lnTo>
                    <a:pt x="791" y="452"/>
                  </a:lnTo>
                  <a:lnTo>
                    <a:pt x="791" y="433"/>
                  </a:lnTo>
                  <a:lnTo>
                    <a:pt x="791" y="415"/>
                  </a:lnTo>
                  <a:lnTo>
                    <a:pt x="790" y="396"/>
                  </a:lnTo>
                  <a:lnTo>
                    <a:pt x="788" y="378"/>
                  </a:lnTo>
                  <a:lnTo>
                    <a:pt x="784" y="359"/>
                  </a:lnTo>
                  <a:lnTo>
                    <a:pt x="779" y="340"/>
                  </a:lnTo>
                  <a:lnTo>
                    <a:pt x="776" y="322"/>
                  </a:lnTo>
                  <a:lnTo>
                    <a:pt x="769" y="303"/>
                  </a:lnTo>
                  <a:lnTo>
                    <a:pt x="762" y="286"/>
                  </a:lnTo>
                  <a:lnTo>
                    <a:pt x="755" y="268"/>
                  </a:lnTo>
                  <a:lnTo>
                    <a:pt x="746" y="251"/>
                  </a:lnTo>
                  <a:lnTo>
                    <a:pt x="737" y="233"/>
                  </a:lnTo>
                  <a:lnTo>
                    <a:pt x="727" y="216"/>
                  </a:lnTo>
                  <a:lnTo>
                    <a:pt x="716" y="198"/>
                  </a:lnTo>
                  <a:lnTo>
                    <a:pt x="704" y="182"/>
                  </a:lnTo>
                  <a:lnTo>
                    <a:pt x="690" y="167"/>
                  </a:lnTo>
                  <a:lnTo>
                    <a:pt x="678" y="151"/>
                  </a:lnTo>
                  <a:lnTo>
                    <a:pt x="662" y="135"/>
                  </a:lnTo>
                  <a:lnTo>
                    <a:pt x="648" y="121"/>
                  </a:lnTo>
                  <a:lnTo>
                    <a:pt x="632" y="107"/>
                  </a:lnTo>
                  <a:lnTo>
                    <a:pt x="615" y="93"/>
                  </a:lnTo>
                  <a:lnTo>
                    <a:pt x="597" y="81"/>
                  </a:lnTo>
                  <a:lnTo>
                    <a:pt x="580" y="69"/>
                  </a:lnTo>
                  <a:lnTo>
                    <a:pt x="562" y="58"/>
                  </a:lnTo>
                  <a:lnTo>
                    <a:pt x="545" y="49"/>
                  </a:lnTo>
                  <a:lnTo>
                    <a:pt x="525" y="39"/>
                  </a:lnTo>
                  <a:lnTo>
                    <a:pt x="508" y="32"/>
                  </a:lnTo>
                  <a:lnTo>
                    <a:pt x="489" y="25"/>
                  </a:lnTo>
                  <a:lnTo>
                    <a:pt x="469" y="18"/>
                  </a:lnTo>
                  <a:lnTo>
                    <a:pt x="452" y="13"/>
                  </a:lnTo>
                  <a:lnTo>
                    <a:pt x="433" y="9"/>
                  </a:lnTo>
                  <a:lnTo>
                    <a:pt x="413" y="6"/>
                  </a:lnTo>
                  <a:lnTo>
                    <a:pt x="394" y="2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8" y="0"/>
                  </a:lnTo>
                  <a:lnTo>
                    <a:pt x="319" y="0"/>
                  </a:lnTo>
                  <a:lnTo>
                    <a:pt x="300" y="2"/>
                  </a:lnTo>
                  <a:lnTo>
                    <a:pt x="282" y="6"/>
                  </a:lnTo>
                  <a:lnTo>
                    <a:pt x="263" y="9"/>
                  </a:lnTo>
                  <a:lnTo>
                    <a:pt x="245" y="13"/>
                  </a:lnTo>
                  <a:lnTo>
                    <a:pt x="228" y="18"/>
                  </a:lnTo>
                  <a:lnTo>
                    <a:pt x="210" y="25"/>
                  </a:lnTo>
                  <a:lnTo>
                    <a:pt x="194" y="32"/>
                  </a:lnTo>
                  <a:lnTo>
                    <a:pt x="177" y="39"/>
                  </a:lnTo>
                  <a:lnTo>
                    <a:pt x="161" y="48"/>
                  </a:lnTo>
                  <a:lnTo>
                    <a:pt x="145" y="58"/>
                  </a:lnTo>
                  <a:lnTo>
                    <a:pt x="131" y="69"/>
                  </a:lnTo>
                  <a:lnTo>
                    <a:pt x="117" y="81"/>
                  </a:lnTo>
                  <a:lnTo>
                    <a:pt x="103" y="93"/>
                  </a:lnTo>
                  <a:lnTo>
                    <a:pt x="89" y="105"/>
                  </a:lnTo>
                  <a:lnTo>
                    <a:pt x="77" y="11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76400" y="3754080"/>
              <a:ext cx="586080" cy="585720"/>
            </a:xfrm>
            <a:custGeom>
              <a:avLst/>
              <a:gdLst/>
              <a:ahLst/>
              <a:rect l="l" t="t" r="r" b="b"/>
              <a:pathLst>
                <a:path w="924" h="924">
                  <a:moveTo>
                    <a:pt x="201" y="427"/>
                  </a:moveTo>
                  <a:lnTo>
                    <a:pt x="359" y="427"/>
                  </a:lnTo>
                  <a:lnTo>
                    <a:pt x="398" y="364"/>
                  </a:lnTo>
                  <a:lnTo>
                    <a:pt x="338" y="364"/>
                  </a:lnTo>
                  <a:lnTo>
                    <a:pt x="338" y="329"/>
                  </a:lnTo>
                  <a:lnTo>
                    <a:pt x="419" y="329"/>
                  </a:lnTo>
                  <a:lnTo>
                    <a:pt x="466" y="252"/>
                  </a:lnTo>
                  <a:lnTo>
                    <a:pt x="424" y="252"/>
                  </a:lnTo>
                  <a:lnTo>
                    <a:pt x="424" y="219"/>
                  </a:lnTo>
                  <a:lnTo>
                    <a:pt x="487" y="219"/>
                  </a:lnTo>
                  <a:lnTo>
                    <a:pt x="541" y="130"/>
                  </a:lnTo>
                  <a:lnTo>
                    <a:pt x="616" y="130"/>
                  </a:lnTo>
                  <a:lnTo>
                    <a:pt x="510" y="427"/>
                  </a:lnTo>
                  <a:lnTo>
                    <a:pt x="695" y="427"/>
                  </a:lnTo>
                  <a:lnTo>
                    <a:pt x="749" y="359"/>
                  </a:lnTo>
                  <a:lnTo>
                    <a:pt x="811" y="359"/>
                  </a:lnTo>
                  <a:lnTo>
                    <a:pt x="763" y="462"/>
                  </a:lnTo>
                  <a:lnTo>
                    <a:pt x="811" y="565"/>
                  </a:lnTo>
                  <a:lnTo>
                    <a:pt x="751" y="565"/>
                  </a:lnTo>
                  <a:lnTo>
                    <a:pt x="697" y="497"/>
                  </a:lnTo>
                  <a:lnTo>
                    <a:pt x="510" y="497"/>
                  </a:lnTo>
                  <a:lnTo>
                    <a:pt x="616" y="793"/>
                  </a:lnTo>
                  <a:lnTo>
                    <a:pt x="541" y="793"/>
                  </a:lnTo>
                  <a:lnTo>
                    <a:pt x="487" y="704"/>
                  </a:lnTo>
                  <a:lnTo>
                    <a:pt x="424" y="704"/>
                  </a:lnTo>
                  <a:lnTo>
                    <a:pt x="424" y="670"/>
                  </a:lnTo>
                  <a:lnTo>
                    <a:pt x="466" y="670"/>
                  </a:lnTo>
                  <a:lnTo>
                    <a:pt x="422" y="602"/>
                  </a:lnTo>
                  <a:lnTo>
                    <a:pt x="338" y="602"/>
                  </a:lnTo>
                  <a:lnTo>
                    <a:pt x="338" y="567"/>
                  </a:lnTo>
                  <a:lnTo>
                    <a:pt x="401" y="567"/>
                  </a:lnTo>
                  <a:lnTo>
                    <a:pt x="359" y="497"/>
                  </a:lnTo>
                  <a:lnTo>
                    <a:pt x="112" y="497"/>
                  </a:lnTo>
                  <a:lnTo>
                    <a:pt x="105" y="497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8" y="485"/>
                  </a:lnTo>
                  <a:lnTo>
                    <a:pt x="84" y="480"/>
                  </a:lnTo>
                  <a:lnTo>
                    <a:pt x="82" y="474"/>
                  </a:lnTo>
                  <a:lnTo>
                    <a:pt x="81" y="467"/>
                  </a:lnTo>
                  <a:lnTo>
                    <a:pt x="81" y="462"/>
                  </a:lnTo>
                  <a:lnTo>
                    <a:pt x="81" y="457"/>
                  </a:lnTo>
                  <a:lnTo>
                    <a:pt x="82" y="450"/>
                  </a:lnTo>
                  <a:lnTo>
                    <a:pt x="84" y="443"/>
                  </a:lnTo>
                  <a:lnTo>
                    <a:pt x="88" y="439"/>
                  </a:lnTo>
                  <a:lnTo>
                    <a:pt x="91" y="434"/>
                  </a:lnTo>
                  <a:lnTo>
                    <a:pt x="98" y="429"/>
                  </a:lnTo>
                  <a:lnTo>
                    <a:pt x="105" y="427"/>
                  </a:lnTo>
                  <a:lnTo>
                    <a:pt x="112" y="427"/>
                  </a:lnTo>
                  <a:lnTo>
                    <a:pt x="201" y="427"/>
                  </a:lnTo>
                  <a:lnTo>
                    <a:pt x="84" y="198"/>
                  </a:lnTo>
                  <a:lnTo>
                    <a:pt x="75" y="212"/>
                  </a:lnTo>
                  <a:lnTo>
                    <a:pt x="67" y="226"/>
                  </a:lnTo>
                  <a:lnTo>
                    <a:pt x="58" y="242"/>
                  </a:lnTo>
                  <a:lnTo>
                    <a:pt x="49" y="257"/>
                  </a:lnTo>
                  <a:lnTo>
                    <a:pt x="42" y="273"/>
                  </a:lnTo>
                  <a:lnTo>
                    <a:pt x="35" y="289"/>
                  </a:lnTo>
                  <a:lnTo>
                    <a:pt x="30" y="305"/>
                  </a:lnTo>
                  <a:lnTo>
                    <a:pt x="23" y="322"/>
                  </a:lnTo>
                  <a:lnTo>
                    <a:pt x="18" y="338"/>
                  </a:lnTo>
                  <a:lnTo>
                    <a:pt x="14" y="355"/>
                  </a:lnTo>
                  <a:lnTo>
                    <a:pt x="9" y="373"/>
                  </a:lnTo>
                  <a:lnTo>
                    <a:pt x="7" y="390"/>
                  </a:lnTo>
                  <a:lnTo>
                    <a:pt x="5" y="408"/>
                  </a:lnTo>
                  <a:lnTo>
                    <a:pt x="2" y="427"/>
                  </a:lnTo>
                  <a:lnTo>
                    <a:pt x="0" y="445"/>
                  </a:lnTo>
                  <a:lnTo>
                    <a:pt x="0" y="464"/>
                  </a:lnTo>
                  <a:lnTo>
                    <a:pt x="4" y="511"/>
                  </a:lnTo>
                  <a:lnTo>
                    <a:pt x="11" y="557"/>
                  </a:lnTo>
                  <a:lnTo>
                    <a:pt x="21" y="600"/>
                  </a:lnTo>
                  <a:lnTo>
                    <a:pt x="39" y="642"/>
                  </a:lnTo>
                  <a:lnTo>
                    <a:pt x="56" y="683"/>
                  </a:lnTo>
                  <a:lnTo>
                    <a:pt x="81" y="721"/>
                  </a:lnTo>
                  <a:lnTo>
                    <a:pt x="107" y="758"/>
                  </a:lnTo>
                  <a:lnTo>
                    <a:pt x="137" y="789"/>
                  </a:lnTo>
                  <a:lnTo>
                    <a:pt x="170" y="821"/>
                  </a:lnTo>
                  <a:lnTo>
                    <a:pt x="207" y="847"/>
                  </a:lnTo>
                  <a:lnTo>
                    <a:pt x="243" y="870"/>
                  </a:lnTo>
                  <a:lnTo>
                    <a:pt x="284" y="889"/>
                  </a:lnTo>
                  <a:lnTo>
                    <a:pt x="326" y="903"/>
                  </a:lnTo>
                  <a:lnTo>
                    <a:pt x="370" y="915"/>
                  </a:lnTo>
                  <a:lnTo>
                    <a:pt x="417" y="922"/>
                  </a:lnTo>
                  <a:lnTo>
                    <a:pt x="464" y="924"/>
                  </a:lnTo>
                  <a:lnTo>
                    <a:pt x="511" y="922"/>
                  </a:lnTo>
                  <a:lnTo>
                    <a:pt x="555" y="915"/>
                  </a:lnTo>
                  <a:lnTo>
                    <a:pt x="601" y="903"/>
                  </a:lnTo>
                  <a:lnTo>
                    <a:pt x="643" y="889"/>
                  </a:lnTo>
                  <a:lnTo>
                    <a:pt x="683" y="870"/>
                  </a:lnTo>
                  <a:lnTo>
                    <a:pt x="721" y="847"/>
                  </a:lnTo>
                  <a:lnTo>
                    <a:pt x="756" y="821"/>
                  </a:lnTo>
                  <a:lnTo>
                    <a:pt x="790" y="789"/>
                  </a:lnTo>
                  <a:lnTo>
                    <a:pt x="819" y="758"/>
                  </a:lnTo>
                  <a:lnTo>
                    <a:pt x="846" y="721"/>
                  </a:lnTo>
                  <a:lnTo>
                    <a:pt x="868" y="683"/>
                  </a:lnTo>
                  <a:lnTo>
                    <a:pt x="888" y="642"/>
                  </a:lnTo>
                  <a:lnTo>
                    <a:pt x="903" y="600"/>
                  </a:lnTo>
                  <a:lnTo>
                    <a:pt x="914" y="557"/>
                  </a:lnTo>
                  <a:lnTo>
                    <a:pt x="921" y="511"/>
                  </a:lnTo>
                  <a:lnTo>
                    <a:pt x="924" y="464"/>
                  </a:lnTo>
                  <a:lnTo>
                    <a:pt x="921" y="417"/>
                  </a:lnTo>
                  <a:lnTo>
                    <a:pt x="914" y="371"/>
                  </a:lnTo>
                  <a:lnTo>
                    <a:pt x="903" y="326"/>
                  </a:lnTo>
                  <a:lnTo>
                    <a:pt x="888" y="284"/>
                  </a:lnTo>
                  <a:lnTo>
                    <a:pt x="868" y="243"/>
                  </a:lnTo>
                  <a:lnTo>
                    <a:pt x="846" y="205"/>
                  </a:lnTo>
                  <a:lnTo>
                    <a:pt x="819" y="170"/>
                  </a:lnTo>
                  <a:lnTo>
                    <a:pt x="790" y="137"/>
                  </a:lnTo>
                  <a:lnTo>
                    <a:pt x="756" y="107"/>
                  </a:lnTo>
                  <a:lnTo>
                    <a:pt x="721" y="81"/>
                  </a:lnTo>
                  <a:lnTo>
                    <a:pt x="683" y="56"/>
                  </a:lnTo>
                  <a:lnTo>
                    <a:pt x="643" y="39"/>
                  </a:lnTo>
                  <a:lnTo>
                    <a:pt x="601" y="21"/>
                  </a:lnTo>
                  <a:lnTo>
                    <a:pt x="555" y="11"/>
                  </a:lnTo>
                  <a:lnTo>
                    <a:pt x="511" y="4"/>
                  </a:lnTo>
                  <a:lnTo>
                    <a:pt x="464" y="0"/>
                  </a:lnTo>
                  <a:lnTo>
                    <a:pt x="434" y="2"/>
                  </a:lnTo>
                  <a:lnTo>
                    <a:pt x="406" y="4"/>
                  </a:lnTo>
                  <a:lnTo>
                    <a:pt x="378" y="9"/>
                  </a:lnTo>
                  <a:lnTo>
                    <a:pt x="350" y="14"/>
                  </a:lnTo>
                  <a:lnTo>
                    <a:pt x="324" y="23"/>
                  </a:lnTo>
                  <a:lnTo>
                    <a:pt x="298" y="32"/>
                  </a:lnTo>
                  <a:lnTo>
                    <a:pt x="271" y="42"/>
                  </a:lnTo>
                  <a:lnTo>
                    <a:pt x="247" y="54"/>
                  </a:lnTo>
                  <a:lnTo>
                    <a:pt x="222" y="68"/>
                  </a:lnTo>
                  <a:lnTo>
                    <a:pt x="200" y="82"/>
                  </a:lnTo>
                  <a:lnTo>
                    <a:pt x="179" y="100"/>
                  </a:lnTo>
                  <a:lnTo>
                    <a:pt x="158" y="116"/>
                  </a:lnTo>
                  <a:lnTo>
                    <a:pt x="138" y="135"/>
                  </a:lnTo>
                  <a:lnTo>
                    <a:pt x="119" y="156"/>
                  </a:lnTo>
                  <a:lnTo>
                    <a:pt x="102" y="175"/>
                  </a:lnTo>
                  <a:lnTo>
                    <a:pt x="84" y="198"/>
                  </a:lnTo>
                  <a:lnTo>
                    <a:pt x="201" y="427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2019240" y="3879720"/>
              <a:ext cx="103320" cy="10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016360" y="3779640"/>
              <a:ext cx="501480" cy="490320"/>
            </a:xfrm>
            <a:custGeom>
              <a:avLst/>
              <a:gdLst/>
              <a:ahLst/>
              <a:rect l="l" t="t" r="r" b="b"/>
              <a:pathLst>
                <a:path w="791" h="774">
                  <a:moveTo>
                    <a:pt x="77" y="119"/>
                  </a:moveTo>
                  <a:lnTo>
                    <a:pt x="65" y="135"/>
                  </a:lnTo>
                  <a:lnTo>
                    <a:pt x="54" y="149"/>
                  </a:lnTo>
                  <a:lnTo>
                    <a:pt x="46" y="165"/>
                  </a:lnTo>
                  <a:lnTo>
                    <a:pt x="37" y="182"/>
                  </a:lnTo>
                  <a:lnTo>
                    <a:pt x="28" y="198"/>
                  </a:lnTo>
                  <a:lnTo>
                    <a:pt x="21" y="216"/>
                  </a:lnTo>
                  <a:lnTo>
                    <a:pt x="16" y="233"/>
                  </a:lnTo>
                  <a:lnTo>
                    <a:pt x="11" y="251"/>
                  </a:lnTo>
                  <a:lnTo>
                    <a:pt x="7" y="268"/>
                  </a:lnTo>
                  <a:lnTo>
                    <a:pt x="4" y="286"/>
                  </a:lnTo>
                  <a:lnTo>
                    <a:pt x="2" y="303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0" y="359"/>
                  </a:lnTo>
                  <a:lnTo>
                    <a:pt x="2" y="378"/>
                  </a:lnTo>
                  <a:lnTo>
                    <a:pt x="4" y="396"/>
                  </a:lnTo>
                  <a:lnTo>
                    <a:pt x="7" y="415"/>
                  </a:lnTo>
                  <a:lnTo>
                    <a:pt x="11" y="434"/>
                  </a:lnTo>
                  <a:lnTo>
                    <a:pt x="16" y="452"/>
                  </a:lnTo>
                  <a:lnTo>
                    <a:pt x="23" y="469"/>
                  </a:lnTo>
                  <a:lnTo>
                    <a:pt x="28" y="489"/>
                  </a:lnTo>
                  <a:lnTo>
                    <a:pt x="37" y="506"/>
                  </a:lnTo>
                  <a:lnTo>
                    <a:pt x="46" y="524"/>
                  </a:lnTo>
                  <a:lnTo>
                    <a:pt x="54" y="541"/>
                  </a:lnTo>
                  <a:lnTo>
                    <a:pt x="65" y="559"/>
                  </a:lnTo>
                  <a:lnTo>
                    <a:pt x="75" y="576"/>
                  </a:lnTo>
                  <a:lnTo>
                    <a:pt x="88" y="592"/>
                  </a:lnTo>
                  <a:lnTo>
                    <a:pt x="100" y="608"/>
                  </a:lnTo>
                  <a:lnTo>
                    <a:pt x="114" y="623"/>
                  </a:lnTo>
                  <a:lnTo>
                    <a:pt x="128" y="639"/>
                  </a:lnTo>
                  <a:lnTo>
                    <a:pt x="144" y="653"/>
                  </a:lnTo>
                  <a:lnTo>
                    <a:pt x="159" y="667"/>
                  </a:lnTo>
                  <a:lnTo>
                    <a:pt x="177" y="681"/>
                  </a:lnTo>
                  <a:lnTo>
                    <a:pt x="193" y="693"/>
                  </a:lnTo>
                  <a:lnTo>
                    <a:pt x="210" y="706"/>
                  </a:lnTo>
                  <a:lnTo>
                    <a:pt x="230" y="716"/>
                  </a:lnTo>
                  <a:lnTo>
                    <a:pt x="247" y="725"/>
                  </a:lnTo>
                  <a:lnTo>
                    <a:pt x="265" y="734"/>
                  </a:lnTo>
                  <a:lnTo>
                    <a:pt x="284" y="742"/>
                  </a:lnTo>
                  <a:lnTo>
                    <a:pt x="303" y="749"/>
                  </a:lnTo>
                  <a:lnTo>
                    <a:pt x="321" y="756"/>
                  </a:lnTo>
                  <a:lnTo>
                    <a:pt x="340" y="762"/>
                  </a:lnTo>
                  <a:lnTo>
                    <a:pt x="359" y="765"/>
                  </a:lnTo>
                  <a:lnTo>
                    <a:pt x="378" y="769"/>
                  </a:lnTo>
                  <a:lnTo>
                    <a:pt x="398" y="772"/>
                  </a:lnTo>
                  <a:lnTo>
                    <a:pt x="417" y="774"/>
                  </a:lnTo>
                  <a:lnTo>
                    <a:pt x="434" y="774"/>
                  </a:lnTo>
                  <a:lnTo>
                    <a:pt x="454" y="774"/>
                  </a:lnTo>
                  <a:lnTo>
                    <a:pt x="473" y="774"/>
                  </a:lnTo>
                  <a:lnTo>
                    <a:pt x="492" y="772"/>
                  </a:lnTo>
                  <a:lnTo>
                    <a:pt x="510" y="769"/>
                  </a:lnTo>
                  <a:lnTo>
                    <a:pt x="527" y="765"/>
                  </a:lnTo>
                  <a:lnTo>
                    <a:pt x="546" y="762"/>
                  </a:lnTo>
                  <a:lnTo>
                    <a:pt x="564" y="756"/>
                  </a:lnTo>
                  <a:lnTo>
                    <a:pt x="580" y="749"/>
                  </a:lnTo>
                  <a:lnTo>
                    <a:pt x="597" y="742"/>
                  </a:lnTo>
                  <a:lnTo>
                    <a:pt x="613" y="735"/>
                  </a:lnTo>
                  <a:lnTo>
                    <a:pt x="630" y="727"/>
                  </a:lnTo>
                  <a:lnTo>
                    <a:pt x="644" y="716"/>
                  </a:lnTo>
                  <a:lnTo>
                    <a:pt x="660" y="706"/>
                  </a:lnTo>
                  <a:lnTo>
                    <a:pt x="674" y="693"/>
                  </a:lnTo>
                  <a:lnTo>
                    <a:pt x="688" y="681"/>
                  </a:lnTo>
                  <a:lnTo>
                    <a:pt x="702" y="669"/>
                  </a:lnTo>
                  <a:lnTo>
                    <a:pt x="714" y="655"/>
                  </a:lnTo>
                  <a:lnTo>
                    <a:pt x="725" y="639"/>
                  </a:lnTo>
                  <a:lnTo>
                    <a:pt x="737" y="625"/>
                  </a:lnTo>
                  <a:lnTo>
                    <a:pt x="746" y="609"/>
                  </a:lnTo>
                  <a:lnTo>
                    <a:pt x="755" y="592"/>
                  </a:lnTo>
                  <a:lnTo>
                    <a:pt x="763" y="576"/>
                  </a:lnTo>
                  <a:lnTo>
                    <a:pt x="770" y="559"/>
                  </a:lnTo>
                  <a:lnTo>
                    <a:pt x="776" y="541"/>
                  </a:lnTo>
                  <a:lnTo>
                    <a:pt x="781" y="524"/>
                  </a:lnTo>
                  <a:lnTo>
                    <a:pt x="784" y="506"/>
                  </a:lnTo>
                  <a:lnTo>
                    <a:pt x="788" y="489"/>
                  </a:lnTo>
                  <a:lnTo>
                    <a:pt x="790" y="469"/>
                  </a:lnTo>
                  <a:lnTo>
                    <a:pt x="791" y="452"/>
                  </a:lnTo>
                  <a:lnTo>
                    <a:pt x="791" y="433"/>
                  </a:lnTo>
                  <a:lnTo>
                    <a:pt x="791" y="415"/>
                  </a:lnTo>
                  <a:lnTo>
                    <a:pt x="790" y="396"/>
                  </a:lnTo>
                  <a:lnTo>
                    <a:pt x="788" y="378"/>
                  </a:lnTo>
                  <a:lnTo>
                    <a:pt x="784" y="359"/>
                  </a:lnTo>
                  <a:lnTo>
                    <a:pt x="779" y="340"/>
                  </a:lnTo>
                  <a:lnTo>
                    <a:pt x="776" y="322"/>
                  </a:lnTo>
                  <a:lnTo>
                    <a:pt x="769" y="303"/>
                  </a:lnTo>
                  <a:lnTo>
                    <a:pt x="762" y="286"/>
                  </a:lnTo>
                  <a:lnTo>
                    <a:pt x="755" y="268"/>
                  </a:lnTo>
                  <a:lnTo>
                    <a:pt x="746" y="251"/>
                  </a:lnTo>
                  <a:lnTo>
                    <a:pt x="737" y="233"/>
                  </a:lnTo>
                  <a:lnTo>
                    <a:pt x="727" y="216"/>
                  </a:lnTo>
                  <a:lnTo>
                    <a:pt x="716" y="198"/>
                  </a:lnTo>
                  <a:lnTo>
                    <a:pt x="704" y="182"/>
                  </a:lnTo>
                  <a:lnTo>
                    <a:pt x="690" y="167"/>
                  </a:lnTo>
                  <a:lnTo>
                    <a:pt x="678" y="151"/>
                  </a:lnTo>
                  <a:lnTo>
                    <a:pt x="662" y="135"/>
                  </a:lnTo>
                  <a:lnTo>
                    <a:pt x="648" y="121"/>
                  </a:lnTo>
                  <a:lnTo>
                    <a:pt x="632" y="107"/>
                  </a:lnTo>
                  <a:lnTo>
                    <a:pt x="615" y="93"/>
                  </a:lnTo>
                  <a:lnTo>
                    <a:pt x="597" y="81"/>
                  </a:lnTo>
                  <a:lnTo>
                    <a:pt x="580" y="69"/>
                  </a:lnTo>
                  <a:lnTo>
                    <a:pt x="562" y="58"/>
                  </a:lnTo>
                  <a:lnTo>
                    <a:pt x="545" y="49"/>
                  </a:lnTo>
                  <a:lnTo>
                    <a:pt x="525" y="39"/>
                  </a:lnTo>
                  <a:lnTo>
                    <a:pt x="508" y="32"/>
                  </a:lnTo>
                  <a:lnTo>
                    <a:pt x="489" y="25"/>
                  </a:lnTo>
                  <a:lnTo>
                    <a:pt x="469" y="18"/>
                  </a:lnTo>
                  <a:lnTo>
                    <a:pt x="452" y="13"/>
                  </a:lnTo>
                  <a:lnTo>
                    <a:pt x="433" y="9"/>
                  </a:lnTo>
                  <a:lnTo>
                    <a:pt x="413" y="6"/>
                  </a:lnTo>
                  <a:lnTo>
                    <a:pt x="394" y="2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8" y="0"/>
                  </a:lnTo>
                  <a:lnTo>
                    <a:pt x="319" y="0"/>
                  </a:lnTo>
                  <a:lnTo>
                    <a:pt x="300" y="2"/>
                  </a:lnTo>
                  <a:lnTo>
                    <a:pt x="282" y="6"/>
                  </a:lnTo>
                  <a:lnTo>
                    <a:pt x="263" y="9"/>
                  </a:lnTo>
                  <a:lnTo>
                    <a:pt x="245" y="13"/>
                  </a:lnTo>
                  <a:lnTo>
                    <a:pt x="228" y="18"/>
                  </a:lnTo>
                  <a:lnTo>
                    <a:pt x="210" y="25"/>
                  </a:lnTo>
                  <a:lnTo>
                    <a:pt x="194" y="32"/>
                  </a:lnTo>
                  <a:lnTo>
                    <a:pt x="177" y="39"/>
                  </a:lnTo>
                  <a:lnTo>
                    <a:pt x="161" y="48"/>
                  </a:lnTo>
                  <a:lnTo>
                    <a:pt x="145" y="58"/>
                  </a:lnTo>
                  <a:lnTo>
                    <a:pt x="131" y="69"/>
                  </a:lnTo>
                  <a:lnTo>
                    <a:pt x="117" y="81"/>
                  </a:lnTo>
                  <a:lnTo>
                    <a:pt x="103" y="93"/>
                  </a:lnTo>
                  <a:lnTo>
                    <a:pt x="89" y="105"/>
                  </a:lnTo>
                  <a:lnTo>
                    <a:pt x="77" y="119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6400" y="3754080"/>
              <a:ext cx="586080" cy="585720"/>
            </a:xfrm>
            <a:custGeom>
              <a:avLst/>
              <a:gdLst/>
              <a:ahLst/>
              <a:rect l="l" t="t" r="r" b="b"/>
              <a:pathLst>
                <a:path w="924" h="924">
                  <a:moveTo>
                    <a:pt x="201" y="427"/>
                  </a:moveTo>
                  <a:lnTo>
                    <a:pt x="359" y="427"/>
                  </a:lnTo>
                  <a:lnTo>
                    <a:pt x="398" y="364"/>
                  </a:lnTo>
                  <a:lnTo>
                    <a:pt x="338" y="364"/>
                  </a:lnTo>
                  <a:lnTo>
                    <a:pt x="338" y="329"/>
                  </a:lnTo>
                  <a:lnTo>
                    <a:pt x="419" y="329"/>
                  </a:lnTo>
                  <a:lnTo>
                    <a:pt x="466" y="252"/>
                  </a:lnTo>
                  <a:lnTo>
                    <a:pt x="424" y="252"/>
                  </a:lnTo>
                  <a:lnTo>
                    <a:pt x="424" y="219"/>
                  </a:lnTo>
                  <a:lnTo>
                    <a:pt x="487" y="219"/>
                  </a:lnTo>
                  <a:lnTo>
                    <a:pt x="541" y="130"/>
                  </a:lnTo>
                  <a:lnTo>
                    <a:pt x="616" y="130"/>
                  </a:lnTo>
                  <a:lnTo>
                    <a:pt x="510" y="427"/>
                  </a:lnTo>
                  <a:lnTo>
                    <a:pt x="695" y="427"/>
                  </a:lnTo>
                  <a:lnTo>
                    <a:pt x="749" y="359"/>
                  </a:lnTo>
                  <a:lnTo>
                    <a:pt x="811" y="359"/>
                  </a:lnTo>
                  <a:lnTo>
                    <a:pt x="763" y="462"/>
                  </a:lnTo>
                  <a:lnTo>
                    <a:pt x="811" y="565"/>
                  </a:lnTo>
                  <a:lnTo>
                    <a:pt x="751" y="565"/>
                  </a:lnTo>
                  <a:lnTo>
                    <a:pt x="697" y="497"/>
                  </a:lnTo>
                  <a:lnTo>
                    <a:pt x="510" y="497"/>
                  </a:lnTo>
                  <a:lnTo>
                    <a:pt x="616" y="793"/>
                  </a:lnTo>
                  <a:lnTo>
                    <a:pt x="541" y="793"/>
                  </a:lnTo>
                  <a:lnTo>
                    <a:pt x="487" y="704"/>
                  </a:lnTo>
                  <a:lnTo>
                    <a:pt x="424" y="704"/>
                  </a:lnTo>
                  <a:lnTo>
                    <a:pt x="424" y="670"/>
                  </a:lnTo>
                  <a:lnTo>
                    <a:pt x="466" y="670"/>
                  </a:lnTo>
                  <a:lnTo>
                    <a:pt x="422" y="602"/>
                  </a:lnTo>
                  <a:lnTo>
                    <a:pt x="338" y="602"/>
                  </a:lnTo>
                  <a:lnTo>
                    <a:pt x="338" y="567"/>
                  </a:lnTo>
                  <a:lnTo>
                    <a:pt x="401" y="567"/>
                  </a:lnTo>
                  <a:lnTo>
                    <a:pt x="359" y="497"/>
                  </a:lnTo>
                  <a:lnTo>
                    <a:pt x="112" y="497"/>
                  </a:lnTo>
                  <a:lnTo>
                    <a:pt x="105" y="497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8" y="485"/>
                  </a:lnTo>
                  <a:lnTo>
                    <a:pt x="84" y="480"/>
                  </a:lnTo>
                  <a:lnTo>
                    <a:pt x="82" y="474"/>
                  </a:lnTo>
                  <a:lnTo>
                    <a:pt x="81" y="467"/>
                  </a:lnTo>
                  <a:lnTo>
                    <a:pt x="81" y="462"/>
                  </a:lnTo>
                  <a:lnTo>
                    <a:pt x="81" y="457"/>
                  </a:lnTo>
                  <a:lnTo>
                    <a:pt x="82" y="450"/>
                  </a:lnTo>
                  <a:lnTo>
                    <a:pt x="84" y="443"/>
                  </a:lnTo>
                  <a:lnTo>
                    <a:pt x="88" y="439"/>
                  </a:lnTo>
                  <a:lnTo>
                    <a:pt x="91" y="434"/>
                  </a:lnTo>
                  <a:lnTo>
                    <a:pt x="98" y="429"/>
                  </a:lnTo>
                  <a:lnTo>
                    <a:pt x="105" y="427"/>
                  </a:lnTo>
                  <a:lnTo>
                    <a:pt x="112" y="427"/>
                  </a:lnTo>
                  <a:lnTo>
                    <a:pt x="201" y="427"/>
                  </a:lnTo>
                  <a:lnTo>
                    <a:pt x="84" y="198"/>
                  </a:lnTo>
                  <a:lnTo>
                    <a:pt x="75" y="212"/>
                  </a:lnTo>
                  <a:lnTo>
                    <a:pt x="67" y="226"/>
                  </a:lnTo>
                  <a:lnTo>
                    <a:pt x="58" y="242"/>
                  </a:lnTo>
                  <a:lnTo>
                    <a:pt x="49" y="257"/>
                  </a:lnTo>
                  <a:lnTo>
                    <a:pt x="42" y="273"/>
                  </a:lnTo>
                  <a:lnTo>
                    <a:pt x="35" y="289"/>
                  </a:lnTo>
                  <a:lnTo>
                    <a:pt x="30" y="305"/>
                  </a:lnTo>
                  <a:lnTo>
                    <a:pt x="23" y="322"/>
                  </a:lnTo>
                  <a:lnTo>
                    <a:pt x="18" y="338"/>
                  </a:lnTo>
                  <a:lnTo>
                    <a:pt x="14" y="355"/>
                  </a:lnTo>
                  <a:lnTo>
                    <a:pt x="9" y="373"/>
                  </a:lnTo>
                  <a:lnTo>
                    <a:pt x="7" y="390"/>
                  </a:lnTo>
                  <a:lnTo>
                    <a:pt x="5" y="408"/>
                  </a:lnTo>
                  <a:lnTo>
                    <a:pt x="2" y="427"/>
                  </a:lnTo>
                  <a:lnTo>
                    <a:pt x="0" y="445"/>
                  </a:lnTo>
                  <a:lnTo>
                    <a:pt x="0" y="464"/>
                  </a:lnTo>
                  <a:lnTo>
                    <a:pt x="4" y="511"/>
                  </a:lnTo>
                  <a:lnTo>
                    <a:pt x="11" y="557"/>
                  </a:lnTo>
                  <a:lnTo>
                    <a:pt x="21" y="600"/>
                  </a:lnTo>
                  <a:lnTo>
                    <a:pt x="39" y="642"/>
                  </a:lnTo>
                  <a:lnTo>
                    <a:pt x="56" y="683"/>
                  </a:lnTo>
                  <a:lnTo>
                    <a:pt x="81" y="721"/>
                  </a:lnTo>
                  <a:lnTo>
                    <a:pt x="107" y="758"/>
                  </a:lnTo>
                  <a:lnTo>
                    <a:pt x="137" y="789"/>
                  </a:lnTo>
                  <a:lnTo>
                    <a:pt x="170" y="821"/>
                  </a:lnTo>
                  <a:lnTo>
                    <a:pt x="207" y="847"/>
                  </a:lnTo>
                  <a:lnTo>
                    <a:pt x="243" y="870"/>
                  </a:lnTo>
                  <a:lnTo>
                    <a:pt x="284" y="889"/>
                  </a:lnTo>
                  <a:lnTo>
                    <a:pt x="326" y="903"/>
                  </a:lnTo>
                  <a:lnTo>
                    <a:pt x="370" y="915"/>
                  </a:lnTo>
                  <a:lnTo>
                    <a:pt x="417" y="922"/>
                  </a:lnTo>
                  <a:lnTo>
                    <a:pt x="464" y="924"/>
                  </a:lnTo>
                  <a:lnTo>
                    <a:pt x="511" y="922"/>
                  </a:lnTo>
                  <a:lnTo>
                    <a:pt x="555" y="915"/>
                  </a:lnTo>
                  <a:lnTo>
                    <a:pt x="601" y="903"/>
                  </a:lnTo>
                  <a:lnTo>
                    <a:pt x="643" y="889"/>
                  </a:lnTo>
                  <a:lnTo>
                    <a:pt x="683" y="870"/>
                  </a:lnTo>
                  <a:lnTo>
                    <a:pt x="721" y="847"/>
                  </a:lnTo>
                  <a:lnTo>
                    <a:pt x="756" y="821"/>
                  </a:lnTo>
                  <a:lnTo>
                    <a:pt x="790" y="789"/>
                  </a:lnTo>
                  <a:lnTo>
                    <a:pt x="819" y="758"/>
                  </a:lnTo>
                  <a:lnTo>
                    <a:pt x="846" y="721"/>
                  </a:lnTo>
                  <a:lnTo>
                    <a:pt x="868" y="683"/>
                  </a:lnTo>
                  <a:lnTo>
                    <a:pt x="888" y="642"/>
                  </a:lnTo>
                  <a:lnTo>
                    <a:pt x="903" y="600"/>
                  </a:lnTo>
                  <a:lnTo>
                    <a:pt x="914" y="557"/>
                  </a:lnTo>
                  <a:lnTo>
                    <a:pt x="921" y="511"/>
                  </a:lnTo>
                  <a:lnTo>
                    <a:pt x="924" y="464"/>
                  </a:lnTo>
                  <a:lnTo>
                    <a:pt x="921" y="417"/>
                  </a:lnTo>
                  <a:lnTo>
                    <a:pt x="914" y="371"/>
                  </a:lnTo>
                  <a:lnTo>
                    <a:pt x="903" y="326"/>
                  </a:lnTo>
                  <a:lnTo>
                    <a:pt x="888" y="284"/>
                  </a:lnTo>
                  <a:lnTo>
                    <a:pt x="868" y="243"/>
                  </a:lnTo>
                  <a:lnTo>
                    <a:pt x="846" y="205"/>
                  </a:lnTo>
                  <a:lnTo>
                    <a:pt x="819" y="170"/>
                  </a:lnTo>
                  <a:lnTo>
                    <a:pt x="790" y="137"/>
                  </a:lnTo>
                  <a:lnTo>
                    <a:pt x="756" y="107"/>
                  </a:lnTo>
                  <a:lnTo>
                    <a:pt x="721" y="81"/>
                  </a:lnTo>
                  <a:lnTo>
                    <a:pt x="683" y="56"/>
                  </a:lnTo>
                  <a:lnTo>
                    <a:pt x="643" y="39"/>
                  </a:lnTo>
                  <a:lnTo>
                    <a:pt x="601" y="21"/>
                  </a:lnTo>
                  <a:lnTo>
                    <a:pt x="555" y="11"/>
                  </a:lnTo>
                  <a:lnTo>
                    <a:pt x="511" y="4"/>
                  </a:lnTo>
                  <a:lnTo>
                    <a:pt x="464" y="0"/>
                  </a:lnTo>
                  <a:lnTo>
                    <a:pt x="434" y="2"/>
                  </a:lnTo>
                  <a:lnTo>
                    <a:pt x="406" y="4"/>
                  </a:lnTo>
                  <a:lnTo>
                    <a:pt x="378" y="9"/>
                  </a:lnTo>
                  <a:lnTo>
                    <a:pt x="350" y="14"/>
                  </a:lnTo>
                  <a:lnTo>
                    <a:pt x="324" y="23"/>
                  </a:lnTo>
                  <a:lnTo>
                    <a:pt x="298" y="32"/>
                  </a:lnTo>
                  <a:lnTo>
                    <a:pt x="271" y="42"/>
                  </a:lnTo>
                  <a:lnTo>
                    <a:pt x="247" y="54"/>
                  </a:lnTo>
                  <a:lnTo>
                    <a:pt x="222" y="68"/>
                  </a:lnTo>
                  <a:lnTo>
                    <a:pt x="200" y="82"/>
                  </a:lnTo>
                  <a:lnTo>
                    <a:pt x="179" y="100"/>
                  </a:lnTo>
                  <a:lnTo>
                    <a:pt x="158" y="116"/>
                  </a:lnTo>
                  <a:lnTo>
                    <a:pt x="138" y="135"/>
                  </a:lnTo>
                  <a:lnTo>
                    <a:pt x="119" y="156"/>
                  </a:lnTo>
                  <a:lnTo>
                    <a:pt x="102" y="175"/>
                  </a:lnTo>
                  <a:lnTo>
                    <a:pt x="84" y="198"/>
                  </a:lnTo>
                  <a:lnTo>
                    <a:pt x="201" y="427"/>
                  </a:lnTo>
                  <a:close/>
                </a:path>
              </a:pathLst>
            </a:custGeom>
            <a:solidFill>
              <a:srgbClr val="8a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35680" y="3719160"/>
              <a:ext cx="500040" cy="41760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0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721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721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8640" y="399240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8640" y="40366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07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07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67240" y="399240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7240" y="40366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6560" y="3688920"/>
              <a:ext cx="4464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37200" y="3681000"/>
              <a:ext cx="61920" cy="17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0520" y="4001760"/>
              <a:ext cx="8244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6360" y="4019400"/>
              <a:ext cx="45720" cy="428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280" y="408276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8"/>
                  </a:moveTo>
                  <a:lnTo>
                    <a:pt x="21" y="26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5560" y="3774960"/>
              <a:ext cx="74520" cy="12852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202"/>
                  </a:moveTo>
                  <a:lnTo>
                    <a:pt x="119" y="53"/>
                  </a:lnTo>
                  <a:lnTo>
                    <a:pt x="61" y="0"/>
                  </a:lnTo>
                  <a:lnTo>
                    <a:pt x="0" y="53"/>
                  </a:lnTo>
                  <a:lnTo>
                    <a:pt x="0" y="202"/>
                  </a:lnTo>
                  <a:lnTo>
                    <a:pt x="119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7516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7516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467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67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960" y="3776400"/>
              <a:ext cx="73080" cy="1270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49"/>
                  </a:lnTo>
                  <a:lnTo>
                    <a:pt x="61" y="0"/>
                  </a:lnTo>
                  <a:lnTo>
                    <a:pt x="0" y="49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02360" y="381780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2360" y="38556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721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21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35680" y="3719160"/>
              <a:ext cx="500040" cy="41760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0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721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21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8640" y="399240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38640" y="40366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720" y="399240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0720" y="40366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67240" y="399240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67240" y="40366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46560" y="3688920"/>
              <a:ext cx="4464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7200" y="3681000"/>
              <a:ext cx="61920" cy="17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0520" y="4001760"/>
              <a:ext cx="8244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6360" y="4019400"/>
              <a:ext cx="45720" cy="428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1280" y="4082760"/>
              <a:ext cx="17280" cy="17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8"/>
                  </a:moveTo>
                  <a:lnTo>
                    <a:pt x="21" y="26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28" y="14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5560" y="3774960"/>
              <a:ext cx="74520" cy="12852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202"/>
                  </a:moveTo>
                  <a:lnTo>
                    <a:pt x="119" y="53"/>
                  </a:lnTo>
                  <a:lnTo>
                    <a:pt x="61" y="0"/>
                  </a:lnTo>
                  <a:lnTo>
                    <a:pt x="0" y="53"/>
                  </a:lnTo>
                  <a:lnTo>
                    <a:pt x="0" y="202"/>
                  </a:lnTo>
                  <a:lnTo>
                    <a:pt x="119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7516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516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67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7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0960" y="3776400"/>
              <a:ext cx="73080" cy="1270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49"/>
                  </a:lnTo>
                  <a:lnTo>
                    <a:pt x="61" y="0"/>
                  </a:lnTo>
                  <a:lnTo>
                    <a:pt x="0" y="49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02360" y="381780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02360" y="38556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72120" y="381780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72120" y="38556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63840" y="3163680"/>
              <a:ext cx="743040" cy="504720"/>
            </a:xfrm>
            <a:custGeom>
              <a:avLst/>
              <a:gdLst/>
              <a:ahLst/>
              <a:rect l="l" t="t" r="r" b="b"/>
              <a:pathLst>
                <a:path w="1170" h="793">
                  <a:moveTo>
                    <a:pt x="1052" y="793"/>
                  </a:moveTo>
                  <a:lnTo>
                    <a:pt x="1052" y="790"/>
                  </a:lnTo>
                  <a:lnTo>
                    <a:pt x="1052" y="786"/>
                  </a:lnTo>
                  <a:lnTo>
                    <a:pt x="1051" y="783"/>
                  </a:lnTo>
                  <a:lnTo>
                    <a:pt x="1051" y="781"/>
                  </a:lnTo>
                  <a:lnTo>
                    <a:pt x="1051" y="776"/>
                  </a:lnTo>
                  <a:lnTo>
                    <a:pt x="1051" y="772"/>
                  </a:lnTo>
                  <a:lnTo>
                    <a:pt x="1051" y="769"/>
                  </a:lnTo>
                  <a:lnTo>
                    <a:pt x="1051" y="767"/>
                  </a:lnTo>
                  <a:lnTo>
                    <a:pt x="1051" y="762"/>
                  </a:lnTo>
                  <a:lnTo>
                    <a:pt x="1051" y="758"/>
                  </a:lnTo>
                  <a:lnTo>
                    <a:pt x="1051" y="755"/>
                  </a:lnTo>
                  <a:lnTo>
                    <a:pt x="1051" y="751"/>
                  </a:lnTo>
                  <a:lnTo>
                    <a:pt x="1051" y="748"/>
                  </a:lnTo>
                  <a:lnTo>
                    <a:pt x="1051" y="744"/>
                  </a:lnTo>
                  <a:lnTo>
                    <a:pt x="1051" y="739"/>
                  </a:lnTo>
                  <a:lnTo>
                    <a:pt x="1051" y="737"/>
                  </a:lnTo>
                  <a:lnTo>
                    <a:pt x="1051" y="734"/>
                  </a:lnTo>
                  <a:lnTo>
                    <a:pt x="1051" y="730"/>
                  </a:lnTo>
                  <a:lnTo>
                    <a:pt x="1051" y="725"/>
                  </a:lnTo>
                  <a:lnTo>
                    <a:pt x="1051" y="721"/>
                  </a:lnTo>
                  <a:lnTo>
                    <a:pt x="1051" y="718"/>
                  </a:lnTo>
                  <a:lnTo>
                    <a:pt x="1051" y="714"/>
                  </a:lnTo>
                  <a:lnTo>
                    <a:pt x="1051" y="711"/>
                  </a:lnTo>
                  <a:lnTo>
                    <a:pt x="1051" y="707"/>
                  </a:lnTo>
                  <a:lnTo>
                    <a:pt x="1051" y="702"/>
                  </a:lnTo>
                  <a:lnTo>
                    <a:pt x="1051" y="700"/>
                  </a:lnTo>
                  <a:lnTo>
                    <a:pt x="1051" y="695"/>
                  </a:lnTo>
                  <a:lnTo>
                    <a:pt x="1051" y="693"/>
                  </a:lnTo>
                  <a:lnTo>
                    <a:pt x="1051" y="688"/>
                  </a:lnTo>
                  <a:lnTo>
                    <a:pt x="1051" y="685"/>
                  </a:lnTo>
                  <a:lnTo>
                    <a:pt x="1051" y="681"/>
                  </a:lnTo>
                  <a:lnTo>
                    <a:pt x="1051" y="678"/>
                  </a:lnTo>
                  <a:lnTo>
                    <a:pt x="1051" y="674"/>
                  </a:lnTo>
                  <a:lnTo>
                    <a:pt x="1051" y="671"/>
                  </a:lnTo>
                  <a:lnTo>
                    <a:pt x="1051" y="667"/>
                  </a:lnTo>
                  <a:lnTo>
                    <a:pt x="1051" y="664"/>
                  </a:lnTo>
                  <a:lnTo>
                    <a:pt x="1051" y="660"/>
                  </a:lnTo>
                  <a:lnTo>
                    <a:pt x="1052" y="657"/>
                  </a:lnTo>
                  <a:lnTo>
                    <a:pt x="1052" y="651"/>
                  </a:lnTo>
                  <a:lnTo>
                    <a:pt x="1052" y="650"/>
                  </a:lnTo>
                  <a:lnTo>
                    <a:pt x="1052" y="644"/>
                  </a:lnTo>
                  <a:lnTo>
                    <a:pt x="1052" y="641"/>
                  </a:lnTo>
                  <a:lnTo>
                    <a:pt x="1052" y="637"/>
                  </a:lnTo>
                  <a:lnTo>
                    <a:pt x="1052" y="634"/>
                  </a:lnTo>
                  <a:lnTo>
                    <a:pt x="1052" y="630"/>
                  </a:lnTo>
                  <a:lnTo>
                    <a:pt x="1054" y="627"/>
                  </a:lnTo>
                  <a:lnTo>
                    <a:pt x="1054" y="623"/>
                  </a:lnTo>
                  <a:lnTo>
                    <a:pt x="1054" y="620"/>
                  </a:lnTo>
                  <a:lnTo>
                    <a:pt x="1054" y="616"/>
                  </a:lnTo>
                  <a:lnTo>
                    <a:pt x="1054" y="615"/>
                  </a:lnTo>
                  <a:lnTo>
                    <a:pt x="1054" y="609"/>
                  </a:lnTo>
                  <a:lnTo>
                    <a:pt x="1056" y="608"/>
                  </a:lnTo>
                  <a:lnTo>
                    <a:pt x="1056" y="604"/>
                  </a:lnTo>
                  <a:lnTo>
                    <a:pt x="1056" y="601"/>
                  </a:lnTo>
                  <a:lnTo>
                    <a:pt x="1056" y="597"/>
                  </a:lnTo>
                  <a:lnTo>
                    <a:pt x="1056" y="594"/>
                  </a:lnTo>
                  <a:lnTo>
                    <a:pt x="1056" y="590"/>
                  </a:lnTo>
                  <a:lnTo>
                    <a:pt x="1058" y="587"/>
                  </a:lnTo>
                  <a:lnTo>
                    <a:pt x="1058" y="583"/>
                  </a:lnTo>
                  <a:lnTo>
                    <a:pt x="1059" y="581"/>
                  </a:lnTo>
                  <a:lnTo>
                    <a:pt x="1059" y="578"/>
                  </a:lnTo>
                  <a:lnTo>
                    <a:pt x="1059" y="576"/>
                  </a:lnTo>
                  <a:lnTo>
                    <a:pt x="1059" y="573"/>
                  </a:lnTo>
                  <a:lnTo>
                    <a:pt x="1059" y="569"/>
                  </a:lnTo>
                  <a:lnTo>
                    <a:pt x="1059" y="567"/>
                  </a:lnTo>
                  <a:lnTo>
                    <a:pt x="1058" y="564"/>
                  </a:lnTo>
                  <a:lnTo>
                    <a:pt x="1058" y="560"/>
                  </a:lnTo>
                  <a:lnTo>
                    <a:pt x="1056" y="559"/>
                  </a:lnTo>
                  <a:lnTo>
                    <a:pt x="1054" y="557"/>
                  </a:lnTo>
                  <a:lnTo>
                    <a:pt x="1054" y="553"/>
                  </a:lnTo>
                  <a:lnTo>
                    <a:pt x="1054" y="550"/>
                  </a:lnTo>
                  <a:lnTo>
                    <a:pt x="1052" y="548"/>
                  </a:lnTo>
                  <a:lnTo>
                    <a:pt x="1052" y="546"/>
                  </a:lnTo>
                  <a:lnTo>
                    <a:pt x="1051" y="543"/>
                  </a:lnTo>
                  <a:lnTo>
                    <a:pt x="1051" y="541"/>
                  </a:lnTo>
                  <a:lnTo>
                    <a:pt x="1051" y="538"/>
                  </a:lnTo>
                  <a:lnTo>
                    <a:pt x="1049" y="534"/>
                  </a:lnTo>
                  <a:lnTo>
                    <a:pt x="1049" y="532"/>
                  </a:lnTo>
                  <a:lnTo>
                    <a:pt x="1047" y="529"/>
                  </a:lnTo>
                  <a:lnTo>
                    <a:pt x="1047" y="527"/>
                  </a:lnTo>
                  <a:lnTo>
                    <a:pt x="1045" y="524"/>
                  </a:lnTo>
                  <a:lnTo>
                    <a:pt x="1045" y="522"/>
                  </a:lnTo>
                  <a:lnTo>
                    <a:pt x="1045" y="518"/>
                  </a:lnTo>
                  <a:lnTo>
                    <a:pt x="1044" y="517"/>
                  </a:lnTo>
                  <a:lnTo>
                    <a:pt x="1044" y="513"/>
                  </a:lnTo>
                  <a:lnTo>
                    <a:pt x="1042" y="511"/>
                  </a:lnTo>
                  <a:lnTo>
                    <a:pt x="1042" y="508"/>
                  </a:lnTo>
                  <a:lnTo>
                    <a:pt x="1042" y="506"/>
                  </a:lnTo>
                  <a:lnTo>
                    <a:pt x="1042" y="503"/>
                  </a:lnTo>
                  <a:lnTo>
                    <a:pt x="1040" y="499"/>
                  </a:lnTo>
                  <a:lnTo>
                    <a:pt x="1040" y="497"/>
                  </a:lnTo>
                  <a:lnTo>
                    <a:pt x="1038" y="494"/>
                  </a:lnTo>
                  <a:lnTo>
                    <a:pt x="1038" y="492"/>
                  </a:lnTo>
                  <a:lnTo>
                    <a:pt x="1038" y="489"/>
                  </a:lnTo>
                  <a:lnTo>
                    <a:pt x="1038" y="487"/>
                  </a:lnTo>
                  <a:lnTo>
                    <a:pt x="1038" y="485"/>
                  </a:lnTo>
                  <a:lnTo>
                    <a:pt x="1037" y="482"/>
                  </a:lnTo>
                  <a:lnTo>
                    <a:pt x="1037" y="478"/>
                  </a:lnTo>
                  <a:lnTo>
                    <a:pt x="1037" y="476"/>
                  </a:lnTo>
                  <a:lnTo>
                    <a:pt x="1037" y="473"/>
                  </a:lnTo>
                  <a:lnTo>
                    <a:pt x="1035" y="469"/>
                  </a:lnTo>
                  <a:lnTo>
                    <a:pt x="1035" y="468"/>
                  </a:lnTo>
                  <a:lnTo>
                    <a:pt x="1035" y="464"/>
                  </a:lnTo>
                  <a:lnTo>
                    <a:pt x="1035" y="462"/>
                  </a:lnTo>
                  <a:lnTo>
                    <a:pt x="1035" y="459"/>
                  </a:lnTo>
                  <a:lnTo>
                    <a:pt x="1035" y="455"/>
                  </a:lnTo>
                  <a:lnTo>
                    <a:pt x="1035" y="454"/>
                  </a:lnTo>
                  <a:lnTo>
                    <a:pt x="1035" y="450"/>
                  </a:lnTo>
                  <a:lnTo>
                    <a:pt x="1035" y="447"/>
                  </a:lnTo>
                  <a:lnTo>
                    <a:pt x="1035" y="445"/>
                  </a:lnTo>
                  <a:lnTo>
                    <a:pt x="1035" y="441"/>
                  </a:lnTo>
                  <a:lnTo>
                    <a:pt x="1035" y="440"/>
                  </a:lnTo>
                  <a:lnTo>
                    <a:pt x="1035" y="436"/>
                  </a:lnTo>
                  <a:lnTo>
                    <a:pt x="1035" y="433"/>
                  </a:lnTo>
                  <a:lnTo>
                    <a:pt x="1035" y="429"/>
                  </a:lnTo>
                  <a:lnTo>
                    <a:pt x="1037" y="427"/>
                  </a:lnTo>
                  <a:lnTo>
                    <a:pt x="1037" y="424"/>
                  </a:lnTo>
                  <a:lnTo>
                    <a:pt x="1037" y="420"/>
                  </a:lnTo>
                  <a:lnTo>
                    <a:pt x="1038" y="419"/>
                  </a:lnTo>
                  <a:lnTo>
                    <a:pt x="1038" y="415"/>
                  </a:lnTo>
                  <a:lnTo>
                    <a:pt x="1038" y="412"/>
                  </a:lnTo>
                  <a:lnTo>
                    <a:pt x="1038" y="410"/>
                  </a:lnTo>
                  <a:lnTo>
                    <a:pt x="1040" y="406"/>
                  </a:lnTo>
                  <a:lnTo>
                    <a:pt x="1042" y="403"/>
                  </a:lnTo>
                  <a:lnTo>
                    <a:pt x="1042" y="401"/>
                  </a:lnTo>
                  <a:lnTo>
                    <a:pt x="1042" y="398"/>
                  </a:lnTo>
                  <a:lnTo>
                    <a:pt x="1044" y="394"/>
                  </a:lnTo>
                  <a:lnTo>
                    <a:pt x="1045" y="392"/>
                  </a:lnTo>
                  <a:lnTo>
                    <a:pt x="1047" y="392"/>
                  </a:lnTo>
                  <a:lnTo>
                    <a:pt x="1049" y="396"/>
                  </a:lnTo>
                  <a:lnTo>
                    <a:pt x="1051" y="398"/>
                  </a:lnTo>
                  <a:lnTo>
                    <a:pt x="1051" y="401"/>
                  </a:lnTo>
                  <a:lnTo>
                    <a:pt x="1052" y="403"/>
                  </a:lnTo>
                  <a:lnTo>
                    <a:pt x="1052" y="406"/>
                  </a:lnTo>
                  <a:lnTo>
                    <a:pt x="1052" y="410"/>
                  </a:lnTo>
                  <a:lnTo>
                    <a:pt x="1052" y="413"/>
                  </a:lnTo>
                  <a:lnTo>
                    <a:pt x="1054" y="417"/>
                  </a:lnTo>
                  <a:lnTo>
                    <a:pt x="1056" y="420"/>
                  </a:lnTo>
                  <a:lnTo>
                    <a:pt x="1059" y="426"/>
                  </a:lnTo>
                  <a:lnTo>
                    <a:pt x="1061" y="429"/>
                  </a:lnTo>
                  <a:lnTo>
                    <a:pt x="1063" y="434"/>
                  </a:lnTo>
                  <a:lnTo>
                    <a:pt x="1063" y="438"/>
                  </a:lnTo>
                  <a:lnTo>
                    <a:pt x="1065" y="443"/>
                  </a:lnTo>
                  <a:lnTo>
                    <a:pt x="1066" y="448"/>
                  </a:lnTo>
                  <a:lnTo>
                    <a:pt x="1068" y="452"/>
                  </a:lnTo>
                  <a:lnTo>
                    <a:pt x="1070" y="455"/>
                  </a:lnTo>
                  <a:lnTo>
                    <a:pt x="1070" y="462"/>
                  </a:lnTo>
                  <a:lnTo>
                    <a:pt x="1072" y="466"/>
                  </a:lnTo>
                  <a:lnTo>
                    <a:pt x="1072" y="471"/>
                  </a:lnTo>
                  <a:lnTo>
                    <a:pt x="1072" y="476"/>
                  </a:lnTo>
                  <a:lnTo>
                    <a:pt x="1073" y="482"/>
                  </a:lnTo>
                  <a:lnTo>
                    <a:pt x="1073" y="487"/>
                  </a:lnTo>
                  <a:lnTo>
                    <a:pt x="1075" y="490"/>
                  </a:lnTo>
                  <a:lnTo>
                    <a:pt x="1075" y="496"/>
                  </a:lnTo>
                  <a:lnTo>
                    <a:pt x="1075" y="501"/>
                  </a:lnTo>
                  <a:lnTo>
                    <a:pt x="1075" y="506"/>
                  </a:lnTo>
                  <a:lnTo>
                    <a:pt x="1077" y="511"/>
                  </a:lnTo>
                  <a:lnTo>
                    <a:pt x="1077" y="517"/>
                  </a:lnTo>
                  <a:lnTo>
                    <a:pt x="1077" y="522"/>
                  </a:lnTo>
                  <a:lnTo>
                    <a:pt x="1077" y="527"/>
                  </a:lnTo>
                  <a:lnTo>
                    <a:pt x="1077" y="532"/>
                  </a:lnTo>
                  <a:lnTo>
                    <a:pt x="1077" y="538"/>
                  </a:lnTo>
                  <a:lnTo>
                    <a:pt x="1079" y="541"/>
                  </a:lnTo>
                  <a:lnTo>
                    <a:pt x="1079" y="546"/>
                  </a:lnTo>
                  <a:lnTo>
                    <a:pt x="1079" y="552"/>
                  </a:lnTo>
                  <a:lnTo>
                    <a:pt x="1079" y="557"/>
                  </a:lnTo>
                  <a:lnTo>
                    <a:pt x="1079" y="562"/>
                  </a:lnTo>
                  <a:lnTo>
                    <a:pt x="1080" y="567"/>
                  </a:lnTo>
                  <a:lnTo>
                    <a:pt x="1080" y="571"/>
                  </a:lnTo>
                  <a:lnTo>
                    <a:pt x="1082" y="576"/>
                  </a:lnTo>
                  <a:lnTo>
                    <a:pt x="1082" y="581"/>
                  </a:lnTo>
                  <a:lnTo>
                    <a:pt x="1082" y="587"/>
                  </a:lnTo>
                  <a:lnTo>
                    <a:pt x="1082" y="590"/>
                  </a:lnTo>
                  <a:lnTo>
                    <a:pt x="1084" y="595"/>
                  </a:lnTo>
                  <a:lnTo>
                    <a:pt x="1084" y="601"/>
                  </a:lnTo>
                  <a:lnTo>
                    <a:pt x="1086" y="604"/>
                  </a:lnTo>
                  <a:lnTo>
                    <a:pt x="1086" y="608"/>
                  </a:lnTo>
                  <a:lnTo>
                    <a:pt x="1087" y="613"/>
                  </a:lnTo>
                  <a:lnTo>
                    <a:pt x="1089" y="616"/>
                  </a:lnTo>
                  <a:lnTo>
                    <a:pt x="1091" y="622"/>
                  </a:lnTo>
                  <a:lnTo>
                    <a:pt x="1091" y="625"/>
                  </a:lnTo>
                  <a:lnTo>
                    <a:pt x="1093" y="630"/>
                  </a:lnTo>
                  <a:lnTo>
                    <a:pt x="1094" y="634"/>
                  </a:lnTo>
                  <a:lnTo>
                    <a:pt x="1098" y="639"/>
                  </a:lnTo>
                  <a:lnTo>
                    <a:pt x="1100" y="643"/>
                  </a:lnTo>
                  <a:lnTo>
                    <a:pt x="1101" y="644"/>
                  </a:lnTo>
                  <a:lnTo>
                    <a:pt x="1103" y="650"/>
                  </a:lnTo>
                  <a:lnTo>
                    <a:pt x="1107" y="653"/>
                  </a:lnTo>
                  <a:lnTo>
                    <a:pt x="1108" y="657"/>
                  </a:lnTo>
                  <a:lnTo>
                    <a:pt x="1112" y="660"/>
                  </a:lnTo>
                  <a:lnTo>
                    <a:pt x="1114" y="664"/>
                  </a:lnTo>
                  <a:lnTo>
                    <a:pt x="1117" y="667"/>
                  </a:lnTo>
                  <a:lnTo>
                    <a:pt x="1121" y="669"/>
                  </a:lnTo>
                  <a:lnTo>
                    <a:pt x="1124" y="672"/>
                  </a:lnTo>
                  <a:lnTo>
                    <a:pt x="1128" y="674"/>
                  </a:lnTo>
                  <a:lnTo>
                    <a:pt x="1133" y="678"/>
                  </a:lnTo>
                  <a:lnTo>
                    <a:pt x="1136" y="679"/>
                  </a:lnTo>
                  <a:lnTo>
                    <a:pt x="1142" y="681"/>
                  </a:lnTo>
                  <a:lnTo>
                    <a:pt x="1147" y="685"/>
                  </a:lnTo>
                  <a:lnTo>
                    <a:pt x="1152" y="686"/>
                  </a:lnTo>
                  <a:lnTo>
                    <a:pt x="1149" y="681"/>
                  </a:lnTo>
                  <a:lnTo>
                    <a:pt x="1145" y="678"/>
                  </a:lnTo>
                  <a:lnTo>
                    <a:pt x="1140" y="674"/>
                  </a:lnTo>
                  <a:lnTo>
                    <a:pt x="1136" y="671"/>
                  </a:lnTo>
                  <a:lnTo>
                    <a:pt x="1133" y="665"/>
                  </a:lnTo>
                  <a:lnTo>
                    <a:pt x="1129" y="662"/>
                  </a:lnTo>
                  <a:lnTo>
                    <a:pt x="1126" y="657"/>
                  </a:lnTo>
                  <a:lnTo>
                    <a:pt x="1124" y="653"/>
                  </a:lnTo>
                  <a:lnTo>
                    <a:pt x="1128" y="651"/>
                  </a:lnTo>
                  <a:lnTo>
                    <a:pt x="1129" y="653"/>
                  </a:lnTo>
                  <a:lnTo>
                    <a:pt x="1133" y="653"/>
                  </a:lnTo>
                  <a:lnTo>
                    <a:pt x="1136" y="657"/>
                  </a:lnTo>
                  <a:lnTo>
                    <a:pt x="1138" y="658"/>
                  </a:lnTo>
                  <a:lnTo>
                    <a:pt x="1142" y="662"/>
                  </a:lnTo>
                  <a:lnTo>
                    <a:pt x="1143" y="665"/>
                  </a:lnTo>
                  <a:lnTo>
                    <a:pt x="1147" y="669"/>
                  </a:lnTo>
                  <a:lnTo>
                    <a:pt x="1149" y="672"/>
                  </a:lnTo>
                  <a:lnTo>
                    <a:pt x="1152" y="674"/>
                  </a:lnTo>
                  <a:lnTo>
                    <a:pt x="1154" y="676"/>
                  </a:lnTo>
                  <a:lnTo>
                    <a:pt x="1157" y="678"/>
                  </a:lnTo>
                  <a:lnTo>
                    <a:pt x="1159" y="679"/>
                  </a:lnTo>
                  <a:lnTo>
                    <a:pt x="1163" y="681"/>
                  </a:lnTo>
                  <a:lnTo>
                    <a:pt x="1166" y="681"/>
                  </a:lnTo>
                  <a:lnTo>
                    <a:pt x="1170" y="679"/>
                  </a:lnTo>
                  <a:lnTo>
                    <a:pt x="1166" y="676"/>
                  </a:lnTo>
                  <a:lnTo>
                    <a:pt x="1164" y="671"/>
                  </a:lnTo>
                  <a:lnTo>
                    <a:pt x="1163" y="665"/>
                  </a:lnTo>
                  <a:lnTo>
                    <a:pt x="1159" y="662"/>
                  </a:lnTo>
                  <a:lnTo>
                    <a:pt x="1157" y="655"/>
                  </a:lnTo>
                  <a:lnTo>
                    <a:pt x="1157" y="650"/>
                  </a:lnTo>
                  <a:lnTo>
                    <a:pt x="1156" y="643"/>
                  </a:lnTo>
                  <a:lnTo>
                    <a:pt x="1154" y="637"/>
                  </a:lnTo>
                  <a:lnTo>
                    <a:pt x="1154" y="630"/>
                  </a:lnTo>
                  <a:lnTo>
                    <a:pt x="1152" y="623"/>
                  </a:lnTo>
                  <a:lnTo>
                    <a:pt x="1152" y="616"/>
                  </a:lnTo>
                  <a:lnTo>
                    <a:pt x="1150" y="613"/>
                  </a:lnTo>
                  <a:lnTo>
                    <a:pt x="1149" y="606"/>
                  </a:lnTo>
                  <a:lnTo>
                    <a:pt x="1149" y="599"/>
                  </a:lnTo>
                  <a:lnTo>
                    <a:pt x="1147" y="592"/>
                  </a:lnTo>
                  <a:lnTo>
                    <a:pt x="1145" y="587"/>
                  </a:lnTo>
                  <a:lnTo>
                    <a:pt x="1145" y="581"/>
                  </a:lnTo>
                  <a:lnTo>
                    <a:pt x="1143" y="574"/>
                  </a:lnTo>
                  <a:lnTo>
                    <a:pt x="1142" y="567"/>
                  </a:lnTo>
                  <a:lnTo>
                    <a:pt x="1142" y="562"/>
                  </a:lnTo>
                  <a:lnTo>
                    <a:pt x="1138" y="557"/>
                  </a:lnTo>
                  <a:lnTo>
                    <a:pt x="1136" y="550"/>
                  </a:lnTo>
                  <a:lnTo>
                    <a:pt x="1136" y="543"/>
                  </a:lnTo>
                  <a:lnTo>
                    <a:pt x="1135" y="538"/>
                  </a:lnTo>
                  <a:lnTo>
                    <a:pt x="1133" y="532"/>
                  </a:lnTo>
                  <a:lnTo>
                    <a:pt x="1131" y="525"/>
                  </a:lnTo>
                  <a:lnTo>
                    <a:pt x="1131" y="520"/>
                  </a:lnTo>
                  <a:lnTo>
                    <a:pt x="1129" y="513"/>
                  </a:lnTo>
                  <a:lnTo>
                    <a:pt x="1128" y="508"/>
                  </a:lnTo>
                  <a:lnTo>
                    <a:pt x="1126" y="501"/>
                  </a:lnTo>
                  <a:lnTo>
                    <a:pt x="1124" y="496"/>
                  </a:lnTo>
                  <a:lnTo>
                    <a:pt x="1124" y="489"/>
                  </a:lnTo>
                  <a:lnTo>
                    <a:pt x="1122" y="483"/>
                  </a:lnTo>
                  <a:lnTo>
                    <a:pt x="1121" y="476"/>
                  </a:lnTo>
                  <a:lnTo>
                    <a:pt x="1121" y="471"/>
                  </a:lnTo>
                  <a:lnTo>
                    <a:pt x="1119" y="464"/>
                  </a:lnTo>
                  <a:lnTo>
                    <a:pt x="1117" y="459"/>
                  </a:lnTo>
                  <a:lnTo>
                    <a:pt x="1115" y="452"/>
                  </a:lnTo>
                  <a:lnTo>
                    <a:pt x="1114" y="447"/>
                  </a:lnTo>
                  <a:lnTo>
                    <a:pt x="1112" y="440"/>
                  </a:lnTo>
                  <a:lnTo>
                    <a:pt x="1112" y="433"/>
                  </a:lnTo>
                  <a:lnTo>
                    <a:pt x="1110" y="427"/>
                  </a:lnTo>
                  <a:lnTo>
                    <a:pt x="1108" y="420"/>
                  </a:lnTo>
                  <a:lnTo>
                    <a:pt x="1108" y="415"/>
                  </a:lnTo>
                  <a:lnTo>
                    <a:pt x="1107" y="408"/>
                  </a:lnTo>
                  <a:lnTo>
                    <a:pt x="1107" y="403"/>
                  </a:lnTo>
                  <a:lnTo>
                    <a:pt x="1105" y="396"/>
                  </a:lnTo>
                  <a:lnTo>
                    <a:pt x="1103" y="391"/>
                  </a:lnTo>
                  <a:lnTo>
                    <a:pt x="1103" y="384"/>
                  </a:lnTo>
                  <a:lnTo>
                    <a:pt x="1101" y="378"/>
                  </a:lnTo>
                  <a:lnTo>
                    <a:pt x="1101" y="371"/>
                  </a:lnTo>
                  <a:lnTo>
                    <a:pt x="1100" y="366"/>
                  </a:lnTo>
                  <a:lnTo>
                    <a:pt x="1100" y="359"/>
                  </a:lnTo>
                  <a:lnTo>
                    <a:pt x="1100" y="354"/>
                  </a:lnTo>
                  <a:lnTo>
                    <a:pt x="1098" y="347"/>
                  </a:lnTo>
                  <a:lnTo>
                    <a:pt x="1098" y="340"/>
                  </a:lnTo>
                  <a:lnTo>
                    <a:pt x="1096" y="333"/>
                  </a:lnTo>
                  <a:lnTo>
                    <a:pt x="1096" y="328"/>
                  </a:lnTo>
                  <a:lnTo>
                    <a:pt x="1094" y="321"/>
                  </a:lnTo>
                  <a:lnTo>
                    <a:pt x="1094" y="315"/>
                  </a:lnTo>
                  <a:lnTo>
                    <a:pt x="1094" y="308"/>
                  </a:lnTo>
                  <a:lnTo>
                    <a:pt x="1094" y="301"/>
                  </a:lnTo>
                  <a:lnTo>
                    <a:pt x="1094" y="294"/>
                  </a:lnTo>
                  <a:lnTo>
                    <a:pt x="1094" y="289"/>
                  </a:lnTo>
                  <a:lnTo>
                    <a:pt x="1094" y="282"/>
                  </a:lnTo>
                  <a:lnTo>
                    <a:pt x="1094" y="275"/>
                  </a:lnTo>
                  <a:lnTo>
                    <a:pt x="1094" y="268"/>
                  </a:lnTo>
                  <a:lnTo>
                    <a:pt x="1094" y="263"/>
                  </a:lnTo>
                  <a:lnTo>
                    <a:pt x="1094" y="258"/>
                  </a:lnTo>
                  <a:lnTo>
                    <a:pt x="1096" y="252"/>
                  </a:lnTo>
                  <a:lnTo>
                    <a:pt x="1096" y="247"/>
                  </a:lnTo>
                  <a:lnTo>
                    <a:pt x="1096" y="242"/>
                  </a:lnTo>
                  <a:lnTo>
                    <a:pt x="1096" y="238"/>
                  </a:lnTo>
                  <a:lnTo>
                    <a:pt x="1096" y="233"/>
                  </a:lnTo>
                  <a:lnTo>
                    <a:pt x="1096" y="230"/>
                  </a:lnTo>
                  <a:lnTo>
                    <a:pt x="1096" y="224"/>
                  </a:lnTo>
                  <a:lnTo>
                    <a:pt x="1094" y="221"/>
                  </a:lnTo>
                  <a:lnTo>
                    <a:pt x="1094" y="216"/>
                  </a:lnTo>
                  <a:lnTo>
                    <a:pt x="1094" y="210"/>
                  </a:lnTo>
                  <a:lnTo>
                    <a:pt x="1094" y="205"/>
                  </a:lnTo>
                  <a:lnTo>
                    <a:pt x="1093" y="202"/>
                  </a:lnTo>
                  <a:lnTo>
                    <a:pt x="1093" y="196"/>
                  </a:lnTo>
                  <a:lnTo>
                    <a:pt x="1091" y="193"/>
                  </a:lnTo>
                  <a:lnTo>
                    <a:pt x="1091" y="189"/>
                  </a:lnTo>
                  <a:lnTo>
                    <a:pt x="1089" y="186"/>
                  </a:lnTo>
                  <a:lnTo>
                    <a:pt x="1087" y="181"/>
                  </a:lnTo>
                  <a:lnTo>
                    <a:pt x="1087" y="177"/>
                  </a:lnTo>
                  <a:lnTo>
                    <a:pt x="1086" y="172"/>
                  </a:lnTo>
                  <a:lnTo>
                    <a:pt x="1084" y="168"/>
                  </a:lnTo>
                  <a:lnTo>
                    <a:pt x="1082" y="165"/>
                  </a:lnTo>
                  <a:lnTo>
                    <a:pt x="1082" y="160"/>
                  </a:lnTo>
                  <a:lnTo>
                    <a:pt x="1079" y="158"/>
                  </a:lnTo>
                  <a:lnTo>
                    <a:pt x="1077" y="153"/>
                  </a:lnTo>
                  <a:lnTo>
                    <a:pt x="1075" y="149"/>
                  </a:lnTo>
                  <a:lnTo>
                    <a:pt x="1073" y="146"/>
                  </a:lnTo>
                  <a:lnTo>
                    <a:pt x="1072" y="144"/>
                  </a:lnTo>
                  <a:lnTo>
                    <a:pt x="1070" y="139"/>
                  </a:lnTo>
                  <a:lnTo>
                    <a:pt x="1068" y="135"/>
                  </a:lnTo>
                  <a:lnTo>
                    <a:pt x="1065" y="133"/>
                  </a:lnTo>
                  <a:lnTo>
                    <a:pt x="1063" y="132"/>
                  </a:lnTo>
                  <a:lnTo>
                    <a:pt x="1059" y="128"/>
                  </a:lnTo>
                  <a:lnTo>
                    <a:pt x="1058" y="125"/>
                  </a:lnTo>
                  <a:lnTo>
                    <a:pt x="1054" y="121"/>
                  </a:lnTo>
                  <a:lnTo>
                    <a:pt x="1052" y="119"/>
                  </a:lnTo>
                  <a:lnTo>
                    <a:pt x="1049" y="116"/>
                  </a:lnTo>
                  <a:lnTo>
                    <a:pt x="1047" y="112"/>
                  </a:lnTo>
                  <a:lnTo>
                    <a:pt x="1044" y="111"/>
                  </a:lnTo>
                  <a:lnTo>
                    <a:pt x="1042" y="109"/>
                  </a:lnTo>
                  <a:lnTo>
                    <a:pt x="1038" y="105"/>
                  </a:lnTo>
                  <a:lnTo>
                    <a:pt x="1035" y="104"/>
                  </a:lnTo>
                  <a:lnTo>
                    <a:pt x="1031" y="100"/>
                  </a:lnTo>
                  <a:lnTo>
                    <a:pt x="1028" y="100"/>
                  </a:lnTo>
                  <a:lnTo>
                    <a:pt x="1024" y="98"/>
                  </a:lnTo>
                  <a:lnTo>
                    <a:pt x="1021" y="97"/>
                  </a:lnTo>
                  <a:lnTo>
                    <a:pt x="1017" y="95"/>
                  </a:lnTo>
                  <a:lnTo>
                    <a:pt x="1016" y="93"/>
                  </a:lnTo>
                  <a:lnTo>
                    <a:pt x="1012" y="91"/>
                  </a:lnTo>
                  <a:lnTo>
                    <a:pt x="1009" y="90"/>
                  </a:lnTo>
                  <a:lnTo>
                    <a:pt x="1003" y="90"/>
                  </a:lnTo>
                  <a:lnTo>
                    <a:pt x="1000" y="88"/>
                  </a:lnTo>
                  <a:lnTo>
                    <a:pt x="996" y="86"/>
                  </a:lnTo>
                  <a:lnTo>
                    <a:pt x="993" y="86"/>
                  </a:lnTo>
                  <a:lnTo>
                    <a:pt x="989" y="84"/>
                  </a:lnTo>
                  <a:lnTo>
                    <a:pt x="986" y="84"/>
                  </a:lnTo>
                  <a:lnTo>
                    <a:pt x="982" y="84"/>
                  </a:lnTo>
                  <a:lnTo>
                    <a:pt x="979" y="83"/>
                  </a:lnTo>
                  <a:lnTo>
                    <a:pt x="974" y="83"/>
                  </a:lnTo>
                  <a:lnTo>
                    <a:pt x="970" y="83"/>
                  </a:lnTo>
                  <a:lnTo>
                    <a:pt x="967" y="83"/>
                  </a:lnTo>
                  <a:lnTo>
                    <a:pt x="961" y="84"/>
                  </a:lnTo>
                  <a:lnTo>
                    <a:pt x="958" y="84"/>
                  </a:lnTo>
                  <a:lnTo>
                    <a:pt x="954" y="86"/>
                  </a:lnTo>
                  <a:lnTo>
                    <a:pt x="951" y="86"/>
                  </a:lnTo>
                  <a:lnTo>
                    <a:pt x="947" y="86"/>
                  </a:lnTo>
                  <a:lnTo>
                    <a:pt x="947" y="86"/>
                  </a:lnTo>
                  <a:lnTo>
                    <a:pt x="946" y="86"/>
                  </a:lnTo>
                  <a:lnTo>
                    <a:pt x="944" y="86"/>
                  </a:lnTo>
                  <a:lnTo>
                    <a:pt x="944" y="88"/>
                  </a:lnTo>
                  <a:lnTo>
                    <a:pt x="944" y="88"/>
                  </a:lnTo>
                  <a:lnTo>
                    <a:pt x="944" y="88"/>
                  </a:lnTo>
                  <a:lnTo>
                    <a:pt x="869" y="93"/>
                  </a:lnTo>
                  <a:lnTo>
                    <a:pt x="863" y="93"/>
                  </a:lnTo>
                  <a:lnTo>
                    <a:pt x="860" y="95"/>
                  </a:lnTo>
                  <a:lnTo>
                    <a:pt x="856" y="95"/>
                  </a:lnTo>
                  <a:lnTo>
                    <a:pt x="853" y="97"/>
                  </a:lnTo>
                  <a:lnTo>
                    <a:pt x="848" y="98"/>
                  </a:lnTo>
                  <a:lnTo>
                    <a:pt x="844" y="98"/>
                  </a:lnTo>
                  <a:lnTo>
                    <a:pt x="841" y="100"/>
                  </a:lnTo>
                  <a:lnTo>
                    <a:pt x="837" y="100"/>
                  </a:lnTo>
                  <a:lnTo>
                    <a:pt x="832" y="100"/>
                  </a:lnTo>
                  <a:lnTo>
                    <a:pt x="828" y="100"/>
                  </a:lnTo>
                  <a:lnTo>
                    <a:pt x="823" y="102"/>
                  </a:lnTo>
                  <a:lnTo>
                    <a:pt x="820" y="102"/>
                  </a:lnTo>
                  <a:lnTo>
                    <a:pt x="816" y="102"/>
                  </a:lnTo>
                  <a:lnTo>
                    <a:pt x="813" y="102"/>
                  </a:lnTo>
                  <a:lnTo>
                    <a:pt x="807" y="104"/>
                  </a:lnTo>
                  <a:lnTo>
                    <a:pt x="804" y="104"/>
                  </a:lnTo>
                  <a:lnTo>
                    <a:pt x="800" y="104"/>
                  </a:lnTo>
                  <a:lnTo>
                    <a:pt x="797" y="104"/>
                  </a:lnTo>
                  <a:lnTo>
                    <a:pt x="792" y="104"/>
                  </a:lnTo>
                  <a:lnTo>
                    <a:pt x="788" y="104"/>
                  </a:lnTo>
                  <a:lnTo>
                    <a:pt x="785" y="104"/>
                  </a:lnTo>
                  <a:lnTo>
                    <a:pt x="779" y="104"/>
                  </a:lnTo>
                  <a:lnTo>
                    <a:pt x="776" y="104"/>
                  </a:lnTo>
                  <a:lnTo>
                    <a:pt x="772" y="104"/>
                  </a:lnTo>
                  <a:lnTo>
                    <a:pt x="767" y="104"/>
                  </a:lnTo>
                  <a:lnTo>
                    <a:pt x="764" y="104"/>
                  </a:lnTo>
                  <a:lnTo>
                    <a:pt x="760" y="104"/>
                  </a:lnTo>
                  <a:lnTo>
                    <a:pt x="755" y="104"/>
                  </a:lnTo>
                  <a:lnTo>
                    <a:pt x="751" y="104"/>
                  </a:lnTo>
                  <a:lnTo>
                    <a:pt x="748" y="104"/>
                  </a:lnTo>
                  <a:lnTo>
                    <a:pt x="744" y="104"/>
                  </a:lnTo>
                  <a:lnTo>
                    <a:pt x="741" y="104"/>
                  </a:lnTo>
                  <a:lnTo>
                    <a:pt x="736" y="104"/>
                  </a:lnTo>
                  <a:lnTo>
                    <a:pt x="732" y="102"/>
                  </a:lnTo>
                  <a:lnTo>
                    <a:pt x="727" y="102"/>
                  </a:lnTo>
                  <a:lnTo>
                    <a:pt x="723" y="102"/>
                  </a:lnTo>
                  <a:lnTo>
                    <a:pt x="720" y="102"/>
                  </a:lnTo>
                  <a:lnTo>
                    <a:pt x="715" y="102"/>
                  </a:lnTo>
                  <a:lnTo>
                    <a:pt x="711" y="102"/>
                  </a:lnTo>
                  <a:lnTo>
                    <a:pt x="708" y="102"/>
                  </a:lnTo>
                  <a:lnTo>
                    <a:pt x="702" y="102"/>
                  </a:lnTo>
                  <a:lnTo>
                    <a:pt x="699" y="100"/>
                  </a:lnTo>
                  <a:lnTo>
                    <a:pt x="694" y="100"/>
                  </a:lnTo>
                  <a:lnTo>
                    <a:pt x="690" y="100"/>
                  </a:lnTo>
                  <a:lnTo>
                    <a:pt x="685" y="100"/>
                  </a:lnTo>
                  <a:lnTo>
                    <a:pt x="681" y="100"/>
                  </a:lnTo>
                  <a:lnTo>
                    <a:pt x="678" y="100"/>
                  </a:lnTo>
                  <a:lnTo>
                    <a:pt x="673" y="100"/>
                  </a:lnTo>
                  <a:lnTo>
                    <a:pt x="669" y="100"/>
                  </a:lnTo>
                  <a:lnTo>
                    <a:pt x="664" y="100"/>
                  </a:lnTo>
                  <a:lnTo>
                    <a:pt x="660" y="100"/>
                  </a:lnTo>
                  <a:lnTo>
                    <a:pt x="657" y="100"/>
                  </a:lnTo>
                  <a:lnTo>
                    <a:pt x="652" y="100"/>
                  </a:lnTo>
                  <a:lnTo>
                    <a:pt x="648" y="100"/>
                  </a:lnTo>
                  <a:lnTo>
                    <a:pt x="643" y="100"/>
                  </a:lnTo>
                  <a:lnTo>
                    <a:pt x="639" y="100"/>
                  </a:lnTo>
                  <a:lnTo>
                    <a:pt x="634" y="100"/>
                  </a:lnTo>
                  <a:lnTo>
                    <a:pt x="631" y="100"/>
                  </a:lnTo>
                  <a:lnTo>
                    <a:pt x="625" y="100"/>
                  </a:lnTo>
                  <a:lnTo>
                    <a:pt x="622" y="100"/>
                  </a:lnTo>
                  <a:lnTo>
                    <a:pt x="616" y="100"/>
                  </a:lnTo>
                  <a:lnTo>
                    <a:pt x="611" y="100"/>
                  </a:lnTo>
                  <a:lnTo>
                    <a:pt x="608" y="100"/>
                  </a:lnTo>
                  <a:lnTo>
                    <a:pt x="602" y="102"/>
                  </a:lnTo>
                  <a:lnTo>
                    <a:pt x="597" y="100"/>
                  </a:lnTo>
                  <a:lnTo>
                    <a:pt x="592" y="100"/>
                  </a:lnTo>
                  <a:lnTo>
                    <a:pt x="587" y="98"/>
                  </a:lnTo>
                  <a:lnTo>
                    <a:pt x="581" y="98"/>
                  </a:lnTo>
                  <a:lnTo>
                    <a:pt x="576" y="97"/>
                  </a:lnTo>
                  <a:lnTo>
                    <a:pt x="571" y="97"/>
                  </a:lnTo>
                  <a:lnTo>
                    <a:pt x="567" y="97"/>
                  </a:lnTo>
                  <a:lnTo>
                    <a:pt x="562" y="97"/>
                  </a:lnTo>
                  <a:lnTo>
                    <a:pt x="557" y="95"/>
                  </a:lnTo>
                  <a:lnTo>
                    <a:pt x="550" y="95"/>
                  </a:lnTo>
                  <a:lnTo>
                    <a:pt x="546" y="95"/>
                  </a:lnTo>
                  <a:lnTo>
                    <a:pt x="539" y="95"/>
                  </a:lnTo>
                  <a:lnTo>
                    <a:pt x="536" y="95"/>
                  </a:lnTo>
                  <a:lnTo>
                    <a:pt x="531" y="95"/>
                  </a:lnTo>
                  <a:lnTo>
                    <a:pt x="525" y="95"/>
                  </a:lnTo>
                  <a:lnTo>
                    <a:pt x="522" y="95"/>
                  </a:lnTo>
                  <a:lnTo>
                    <a:pt x="515" y="95"/>
                  </a:lnTo>
                  <a:lnTo>
                    <a:pt x="511" y="95"/>
                  </a:lnTo>
                  <a:lnTo>
                    <a:pt x="506" y="97"/>
                  </a:lnTo>
                  <a:lnTo>
                    <a:pt x="501" y="97"/>
                  </a:lnTo>
                  <a:lnTo>
                    <a:pt x="496" y="97"/>
                  </a:lnTo>
                  <a:lnTo>
                    <a:pt x="490" y="97"/>
                  </a:lnTo>
                  <a:lnTo>
                    <a:pt x="487" y="98"/>
                  </a:lnTo>
                  <a:lnTo>
                    <a:pt x="482" y="98"/>
                  </a:lnTo>
                  <a:lnTo>
                    <a:pt x="476" y="98"/>
                  </a:lnTo>
                  <a:lnTo>
                    <a:pt x="473" y="98"/>
                  </a:lnTo>
                  <a:lnTo>
                    <a:pt x="468" y="98"/>
                  </a:lnTo>
                  <a:lnTo>
                    <a:pt x="462" y="100"/>
                  </a:lnTo>
                  <a:lnTo>
                    <a:pt x="457" y="100"/>
                  </a:lnTo>
                  <a:lnTo>
                    <a:pt x="454" y="100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8" y="102"/>
                  </a:lnTo>
                  <a:lnTo>
                    <a:pt x="434" y="102"/>
                  </a:lnTo>
                  <a:lnTo>
                    <a:pt x="429" y="102"/>
                  </a:lnTo>
                  <a:lnTo>
                    <a:pt x="424" y="102"/>
                  </a:lnTo>
                  <a:lnTo>
                    <a:pt x="419" y="102"/>
                  </a:lnTo>
                  <a:lnTo>
                    <a:pt x="415" y="104"/>
                  </a:lnTo>
                  <a:lnTo>
                    <a:pt x="410" y="104"/>
                  </a:lnTo>
                  <a:lnTo>
                    <a:pt x="405" y="104"/>
                  </a:lnTo>
                  <a:lnTo>
                    <a:pt x="401" y="104"/>
                  </a:lnTo>
                  <a:lnTo>
                    <a:pt x="396" y="104"/>
                  </a:lnTo>
                  <a:lnTo>
                    <a:pt x="391" y="104"/>
                  </a:lnTo>
                  <a:lnTo>
                    <a:pt x="385" y="104"/>
                  </a:lnTo>
                  <a:lnTo>
                    <a:pt x="382" y="104"/>
                  </a:lnTo>
                  <a:lnTo>
                    <a:pt x="377" y="104"/>
                  </a:lnTo>
                  <a:lnTo>
                    <a:pt x="373" y="104"/>
                  </a:lnTo>
                  <a:lnTo>
                    <a:pt x="368" y="104"/>
                  </a:lnTo>
                  <a:lnTo>
                    <a:pt x="363" y="104"/>
                  </a:lnTo>
                  <a:lnTo>
                    <a:pt x="357" y="102"/>
                  </a:lnTo>
                  <a:lnTo>
                    <a:pt x="352" y="102"/>
                  </a:lnTo>
                  <a:lnTo>
                    <a:pt x="349" y="102"/>
                  </a:lnTo>
                  <a:lnTo>
                    <a:pt x="343" y="100"/>
                  </a:lnTo>
                  <a:lnTo>
                    <a:pt x="340" y="100"/>
                  </a:lnTo>
                  <a:lnTo>
                    <a:pt x="335" y="100"/>
                  </a:lnTo>
                  <a:lnTo>
                    <a:pt x="331" y="98"/>
                  </a:lnTo>
                  <a:lnTo>
                    <a:pt x="326" y="98"/>
                  </a:lnTo>
                  <a:lnTo>
                    <a:pt x="321" y="97"/>
                  </a:lnTo>
                  <a:lnTo>
                    <a:pt x="315" y="95"/>
                  </a:lnTo>
                  <a:lnTo>
                    <a:pt x="312" y="93"/>
                  </a:lnTo>
                  <a:lnTo>
                    <a:pt x="307" y="91"/>
                  </a:lnTo>
                  <a:lnTo>
                    <a:pt x="301" y="90"/>
                  </a:lnTo>
                  <a:lnTo>
                    <a:pt x="298" y="88"/>
                  </a:lnTo>
                  <a:lnTo>
                    <a:pt x="293" y="86"/>
                  </a:lnTo>
                  <a:lnTo>
                    <a:pt x="291" y="83"/>
                  </a:lnTo>
                  <a:lnTo>
                    <a:pt x="289" y="77"/>
                  </a:lnTo>
                  <a:lnTo>
                    <a:pt x="287" y="74"/>
                  </a:lnTo>
                  <a:lnTo>
                    <a:pt x="284" y="70"/>
                  </a:lnTo>
                  <a:lnTo>
                    <a:pt x="282" y="67"/>
                  </a:lnTo>
                  <a:lnTo>
                    <a:pt x="280" y="63"/>
                  </a:lnTo>
                  <a:lnTo>
                    <a:pt x="279" y="62"/>
                  </a:lnTo>
                  <a:lnTo>
                    <a:pt x="279" y="58"/>
                  </a:lnTo>
                  <a:lnTo>
                    <a:pt x="275" y="55"/>
                  </a:lnTo>
                  <a:lnTo>
                    <a:pt x="275" y="53"/>
                  </a:lnTo>
                  <a:lnTo>
                    <a:pt x="273" y="49"/>
                  </a:lnTo>
                  <a:lnTo>
                    <a:pt x="270" y="48"/>
                  </a:lnTo>
                  <a:lnTo>
                    <a:pt x="266" y="44"/>
                  </a:lnTo>
                  <a:lnTo>
                    <a:pt x="263" y="41"/>
                  </a:lnTo>
                  <a:lnTo>
                    <a:pt x="259" y="39"/>
                  </a:lnTo>
                  <a:lnTo>
                    <a:pt x="256" y="39"/>
                  </a:lnTo>
                  <a:lnTo>
                    <a:pt x="252" y="37"/>
                  </a:lnTo>
                  <a:lnTo>
                    <a:pt x="249" y="37"/>
                  </a:lnTo>
                  <a:lnTo>
                    <a:pt x="247" y="37"/>
                  </a:lnTo>
                  <a:lnTo>
                    <a:pt x="245" y="37"/>
                  </a:lnTo>
                  <a:lnTo>
                    <a:pt x="242" y="37"/>
                  </a:lnTo>
                  <a:lnTo>
                    <a:pt x="238" y="37"/>
                  </a:lnTo>
                  <a:lnTo>
                    <a:pt x="235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4" y="41"/>
                  </a:lnTo>
                  <a:lnTo>
                    <a:pt x="221" y="42"/>
                  </a:lnTo>
                  <a:lnTo>
                    <a:pt x="217" y="44"/>
                  </a:lnTo>
                  <a:lnTo>
                    <a:pt x="214" y="41"/>
                  </a:lnTo>
                  <a:lnTo>
                    <a:pt x="212" y="39"/>
                  </a:lnTo>
                  <a:lnTo>
                    <a:pt x="210" y="37"/>
                  </a:lnTo>
                  <a:lnTo>
                    <a:pt x="207" y="34"/>
                  </a:lnTo>
                  <a:lnTo>
                    <a:pt x="205" y="30"/>
                  </a:lnTo>
                  <a:lnTo>
                    <a:pt x="203" y="30"/>
                  </a:lnTo>
                  <a:lnTo>
                    <a:pt x="202" y="28"/>
                  </a:lnTo>
                  <a:lnTo>
                    <a:pt x="198" y="27"/>
                  </a:lnTo>
                  <a:lnTo>
                    <a:pt x="196" y="25"/>
                  </a:lnTo>
                  <a:lnTo>
                    <a:pt x="195" y="23"/>
                  </a:lnTo>
                  <a:lnTo>
                    <a:pt x="191" y="21"/>
                  </a:lnTo>
                  <a:lnTo>
                    <a:pt x="189" y="20"/>
                  </a:lnTo>
                  <a:lnTo>
                    <a:pt x="186" y="20"/>
                  </a:lnTo>
                  <a:lnTo>
                    <a:pt x="184" y="18"/>
                  </a:lnTo>
                  <a:lnTo>
                    <a:pt x="182" y="16"/>
                  </a:lnTo>
                  <a:lnTo>
                    <a:pt x="179" y="16"/>
                  </a:lnTo>
                  <a:lnTo>
                    <a:pt x="177" y="14"/>
                  </a:lnTo>
                  <a:lnTo>
                    <a:pt x="175" y="14"/>
                  </a:lnTo>
                  <a:lnTo>
                    <a:pt x="172" y="14"/>
                  </a:lnTo>
                  <a:lnTo>
                    <a:pt x="168" y="14"/>
                  </a:lnTo>
                  <a:lnTo>
                    <a:pt x="167" y="13"/>
                  </a:lnTo>
                  <a:lnTo>
                    <a:pt x="165" y="13"/>
                  </a:lnTo>
                  <a:lnTo>
                    <a:pt x="161" y="11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3" y="11"/>
                  </a:lnTo>
                  <a:lnTo>
                    <a:pt x="151" y="11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11"/>
                  </a:lnTo>
                  <a:lnTo>
                    <a:pt x="140" y="11"/>
                  </a:lnTo>
                  <a:lnTo>
                    <a:pt x="137" y="11"/>
                  </a:lnTo>
                  <a:lnTo>
                    <a:pt x="133" y="11"/>
                  </a:lnTo>
                  <a:lnTo>
                    <a:pt x="132" y="11"/>
                  </a:lnTo>
                  <a:lnTo>
                    <a:pt x="128" y="11"/>
                  </a:lnTo>
                  <a:lnTo>
                    <a:pt x="125" y="11"/>
                  </a:lnTo>
                  <a:lnTo>
                    <a:pt x="123" y="11"/>
                  </a:lnTo>
                  <a:lnTo>
                    <a:pt x="119" y="11"/>
                  </a:lnTo>
                  <a:lnTo>
                    <a:pt x="116" y="11"/>
                  </a:lnTo>
                  <a:lnTo>
                    <a:pt x="114" y="11"/>
                  </a:lnTo>
                  <a:lnTo>
                    <a:pt x="111" y="11"/>
                  </a:lnTo>
                  <a:lnTo>
                    <a:pt x="109" y="11"/>
                  </a:lnTo>
                  <a:lnTo>
                    <a:pt x="105" y="11"/>
                  </a:lnTo>
                  <a:lnTo>
                    <a:pt x="104" y="11"/>
                  </a:lnTo>
                  <a:lnTo>
                    <a:pt x="100" y="11"/>
                  </a:lnTo>
                  <a:lnTo>
                    <a:pt x="97" y="11"/>
                  </a:lnTo>
                  <a:lnTo>
                    <a:pt x="95" y="11"/>
                  </a:lnTo>
                  <a:lnTo>
                    <a:pt x="91" y="11"/>
                  </a:lnTo>
                  <a:lnTo>
                    <a:pt x="88" y="11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5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6" y="13"/>
                  </a:lnTo>
                  <a:lnTo>
                    <a:pt x="48" y="16"/>
                  </a:lnTo>
                  <a:lnTo>
                    <a:pt x="49" y="21"/>
                  </a:lnTo>
                  <a:lnTo>
                    <a:pt x="51" y="25"/>
                  </a:lnTo>
                  <a:lnTo>
                    <a:pt x="55" y="30"/>
                  </a:lnTo>
                  <a:lnTo>
                    <a:pt x="56" y="34"/>
                  </a:lnTo>
                  <a:lnTo>
                    <a:pt x="58" y="35"/>
                  </a:lnTo>
                  <a:lnTo>
                    <a:pt x="60" y="39"/>
                  </a:lnTo>
                  <a:lnTo>
                    <a:pt x="62" y="41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0" y="42"/>
                  </a:lnTo>
                  <a:lnTo>
                    <a:pt x="56" y="42"/>
                  </a:lnTo>
                  <a:lnTo>
                    <a:pt x="55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41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34" y="41"/>
                  </a:lnTo>
                  <a:lnTo>
                    <a:pt x="32" y="41"/>
                  </a:lnTo>
                  <a:lnTo>
                    <a:pt x="28" y="39"/>
                  </a:lnTo>
                  <a:lnTo>
                    <a:pt x="25" y="39"/>
                  </a:lnTo>
                  <a:lnTo>
                    <a:pt x="21" y="39"/>
                  </a:lnTo>
                  <a:lnTo>
                    <a:pt x="18" y="39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7" y="51"/>
                  </a:lnTo>
                  <a:lnTo>
                    <a:pt x="9" y="53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3" y="63"/>
                  </a:lnTo>
                  <a:lnTo>
                    <a:pt x="16" y="69"/>
                  </a:lnTo>
                  <a:lnTo>
                    <a:pt x="20" y="72"/>
                  </a:lnTo>
                  <a:lnTo>
                    <a:pt x="23" y="76"/>
                  </a:lnTo>
                  <a:lnTo>
                    <a:pt x="27" y="79"/>
                  </a:lnTo>
                  <a:lnTo>
                    <a:pt x="32" y="83"/>
                  </a:lnTo>
                  <a:lnTo>
                    <a:pt x="34" y="83"/>
                  </a:lnTo>
                  <a:lnTo>
                    <a:pt x="35" y="84"/>
                  </a:lnTo>
                  <a:lnTo>
                    <a:pt x="39" y="86"/>
                  </a:lnTo>
                  <a:lnTo>
                    <a:pt x="41" y="86"/>
                  </a:lnTo>
                  <a:lnTo>
                    <a:pt x="44" y="88"/>
                  </a:lnTo>
                  <a:lnTo>
                    <a:pt x="46" y="88"/>
                  </a:lnTo>
                  <a:lnTo>
                    <a:pt x="49" y="90"/>
                  </a:lnTo>
                  <a:lnTo>
                    <a:pt x="53" y="90"/>
                  </a:lnTo>
                  <a:lnTo>
                    <a:pt x="55" y="90"/>
                  </a:lnTo>
                  <a:lnTo>
                    <a:pt x="58" y="91"/>
                  </a:lnTo>
                  <a:lnTo>
                    <a:pt x="62" y="91"/>
                  </a:lnTo>
                  <a:lnTo>
                    <a:pt x="65" y="93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5" y="104"/>
                  </a:lnTo>
                  <a:lnTo>
                    <a:pt x="65" y="109"/>
                  </a:lnTo>
                  <a:lnTo>
                    <a:pt x="65" y="111"/>
                  </a:lnTo>
                  <a:lnTo>
                    <a:pt x="65" y="116"/>
                  </a:lnTo>
                  <a:lnTo>
                    <a:pt x="63" y="119"/>
                  </a:lnTo>
                  <a:lnTo>
                    <a:pt x="62" y="125"/>
                  </a:lnTo>
                  <a:lnTo>
                    <a:pt x="60" y="128"/>
                  </a:lnTo>
                  <a:lnTo>
                    <a:pt x="58" y="133"/>
                  </a:lnTo>
                  <a:lnTo>
                    <a:pt x="56" y="137"/>
                  </a:lnTo>
                  <a:lnTo>
                    <a:pt x="55" y="140"/>
                  </a:lnTo>
                  <a:lnTo>
                    <a:pt x="53" y="146"/>
                  </a:lnTo>
                  <a:lnTo>
                    <a:pt x="51" y="149"/>
                  </a:lnTo>
                  <a:lnTo>
                    <a:pt x="48" y="154"/>
                  </a:lnTo>
                  <a:lnTo>
                    <a:pt x="46" y="160"/>
                  </a:lnTo>
                  <a:lnTo>
                    <a:pt x="42" y="163"/>
                  </a:lnTo>
                  <a:lnTo>
                    <a:pt x="41" y="168"/>
                  </a:lnTo>
                  <a:lnTo>
                    <a:pt x="37" y="172"/>
                  </a:lnTo>
                  <a:lnTo>
                    <a:pt x="34" y="175"/>
                  </a:lnTo>
                  <a:lnTo>
                    <a:pt x="32" y="181"/>
                  </a:lnTo>
                  <a:lnTo>
                    <a:pt x="28" y="184"/>
                  </a:lnTo>
                  <a:lnTo>
                    <a:pt x="25" y="189"/>
                  </a:lnTo>
                  <a:lnTo>
                    <a:pt x="23" y="195"/>
                  </a:lnTo>
                  <a:lnTo>
                    <a:pt x="20" y="198"/>
                  </a:lnTo>
                  <a:lnTo>
                    <a:pt x="16" y="203"/>
                  </a:lnTo>
                  <a:lnTo>
                    <a:pt x="14" y="207"/>
                  </a:lnTo>
                  <a:lnTo>
                    <a:pt x="11" y="212"/>
                  </a:lnTo>
                  <a:lnTo>
                    <a:pt x="9" y="216"/>
                  </a:lnTo>
                  <a:lnTo>
                    <a:pt x="7" y="221"/>
                  </a:lnTo>
                  <a:lnTo>
                    <a:pt x="4" y="226"/>
                  </a:lnTo>
                  <a:lnTo>
                    <a:pt x="2" y="230"/>
                  </a:lnTo>
                  <a:lnTo>
                    <a:pt x="2" y="235"/>
                  </a:lnTo>
                  <a:lnTo>
                    <a:pt x="2" y="240"/>
                  </a:lnTo>
                  <a:lnTo>
                    <a:pt x="4" y="244"/>
                  </a:lnTo>
                  <a:lnTo>
                    <a:pt x="4" y="249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59"/>
                  </a:lnTo>
                  <a:lnTo>
                    <a:pt x="7" y="263"/>
                  </a:lnTo>
                  <a:lnTo>
                    <a:pt x="9" y="266"/>
                  </a:lnTo>
                  <a:lnTo>
                    <a:pt x="11" y="268"/>
                  </a:lnTo>
                  <a:lnTo>
                    <a:pt x="11" y="272"/>
                  </a:lnTo>
                  <a:lnTo>
                    <a:pt x="13" y="273"/>
                  </a:lnTo>
                  <a:lnTo>
                    <a:pt x="16" y="279"/>
                  </a:lnTo>
                  <a:lnTo>
                    <a:pt x="21" y="282"/>
                  </a:lnTo>
                  <a:lnTo>
                    <a:pt x="23" y="282"/>
                  </a:lnTo>
                  <a:lnTo>
                    <a:pt x="25" y="284"/>
                  </a:lnTo>
                  <a:lnTo>
                    <a:pt x="27" y="284"/>
                  </a:lnTo>
                  <a:lnTo>
                    <a:pt x="30" y="286"/>
                  </a:lnTo>
                  <a:lnTo>
                    <a:pt x="32" y="286"/>
                  </a:lnTo>
                  <a:lnTo>
                    <a:pt x="34" y="287"/>
                  </a:lnTo>
                  <a:lnTo>
                    <a:pt x="37" y="287"/>
                  </a:lnTo>
                  <a:lnTo>
                    <a:pt x="41" y="287"/>
                  </a:lnTo>
                  <a:lnTo>
                    <a:pt x="42" y="287"/>
                  </a:lnTo>
                  <a:lnTo>
                    <a:pt x="44" y="287"/>
                  </a:lnTo>
                  <a:lnTo>
                    <a:pt x="48" y="287"/>
                  </a:lnTo>
                  <a:lnTo>
                    <a:pt x="51" y="287"/>
                  </a:lnTo>
                  <a:lnTo>
                    <a:pt x="53" y="287"/>
                  </a:lnTo>
                  <a:lnTo>
                    <a:pt x="56" y="286"/>
                  </a:lnTo>
                  <a:lnTo>
                    <a:pt x="60" y="286"/>
                  </a:lnTo>
                  <a:lnTo>
                    <a:pt x="63" y="286"/>
                  </a:lnTo>
                  <a:lnTo>
                    <a:pt x="65" y="284"/>
                  </a:lnTo>
                  <a:lnTo>
                    <a:pt x="70" y="284"/>
                  </a:lnTo>
                  <a:lnTo>
                    <a:pt x="72" y="282"/>
                  </a:lnTo>
                  <a:lnTo>
                    <a:pt x="76" y="282"/>
                  </a:lnTo>
                  <a:lnTo>
                    <a:pt x="77" y="282"/>
                  </a:lnTo>
                  <a:lnTo>
                    <a:pt x="83" y="280"/>
                  </a:lnTo>
                  <a:lnTo>
                    <a:pt x="84" y="280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5" y="277"/>
                  </a:lnTo>
                  <a:lnTo>
                    <a:pt x="97" y="275"/>
                  </a:lnTo>
                  <a:lnTo>
                    <a:pt x="100" y="275"/>
                  </a:lnTo>
                  <a:lnTo>
                    <a:pt x="104" y="275"/>
                  </a:lnTo>
                  <a:lnTo>
                    <a:pt x="107" y="273"/>
                  </a:lnTo>
                  <a:lnTo>
                    <a:pt x="111" y="273"/>
                  </a:lnTo>
                  <a:lnTo>
                    <a:pt x="114" y="273"/>
                  </a:lnTo>
                  <a:lnTo>
                    <a:pt x="116" y="272"/>
                  </a:lnTo>
                  <a:lnTo>
                    <a:pt x="119" y="272"/>
                  </a:lnTo>
                  <a:lnTo>
                    <a:pt x="123" y="270"/>
                  </a:lnTo>
                  <a:lnTo>
                    <a:pt x="126" y="270"/>
                  </a:lnTo>
                  <a:lnTo>
                    <a:pt x="128" y="270"/>
                  </a:lnTo>
                  <a:lnTo>
                    <a:pt x="132" y="270"/>
                  </a:lnTo>
                  <a:lnTo>
                    <a:pt x="135" y="270"/>
                  </a:lnTo>
                  <a:lnTo>
                    <a:pt x="139" y="270"/>
                  </a:lnTo>
                  <a:lnTo>
                    <a:pt x="140" y="270"/>
                  </a:lnTo>
                  <a:lnTo>
                    <a:pt x="144" y="270"/>
                  </a:lnTo>
                  <a:lnTo>
                    <a:pt x="146" y="270"/>
                  </a:lnTo>
                  <a:lnTo>
                    <a:pt x="149" y="272"/>
                  </a:lnTo>
                  <a:lnTo>
                    <a:pt x="151" y="272"/>
                  </a:lnTo>
                  <a:lnTo>
                    <a:pt x="154" y="273"/>
                  </a:lnTo>
                  <a:lnTo>
                    <a:pt x="156" y="273"/>
                  </a:lnTo>
                  <a:lnTo>
                    <a:pt x="160" y="275"/>
                  </a:lnTo>
                  <a:lnTo>
                    <a:pt x="163" y="279"/>
                  </a:lnTo>
                  <a:lnTo>
                    <a:pt x="167" y="282"/>
                  </a:lnTo>
                  <a:lnTo>
                    <a:pt x="172" y="286"/>
                  </a:lnTo>
                  <a:lnTo>
                    <a:pt x="175" y="289"/>
                  </a:lnTo>
                  <a:lnTo>
                    <a:pt x="179" y="293"/>
                  </a:lnTo>
                  <a:lnTo>
                    <a:pt x="182" y="298"/>
                  </a:lnTo>
                  <a:lnTo>
                    <a:pt x="186" y="300"/>
                  </a:lnTo>
                  <a:lnTo>
                    <a:pt x="189" y="305"/>
                  </a:lnTo>
                  <a:lnTo>
                    <a:pt x="193" y="308"/>
                  </a:lnTo>
                  <a:lnTo>
                    <a:pt x="196" y="312"/>
                  </a:lnTo>
                  <a:lnTo>
                    <a:pt x="198" y="317"/>
                  </a:lnTo>
                  <a:lnTo>
                    <a:pt x="202" y="321"/>
                  </a:lnTo>
                  <a:lnTo>
                    <a:pt x="205" y="324"/>
                  </a:lnTo>
                  <a:lnTo>
                    <a:pt x="209" y="328"/>
                  </a:lnTo>
                  <a:lnTo>
                    <a:pt x="212" y="333"/>
                  </a:lnTo>
                  <a:lnTo>
                    <a:pt x="216" y="336"/>
                  </a:lnTo>
                  <a:lnTo>
                    <a:pt x="217" y="340"/>
                  </a:lnTo>
                  <a:lnTo>
                    <a:pt x="221" y="343"/>
                  </a:lnTo>
                  <a:lnTo>
                    <a:pt x="224" y="349"/>
                  </a:lnTo>
                  <a:lnTo>
                    <a:pt x="226" y="352"/>
                  </a:lnTo>
                  <a:lnTo>
                    <a:pt x="228" y="357"/>
                  </a:lnTo>
                  <a:lnTo>
                    <a:pt x="231" y="361"/>
                  </a:lnTo>
                  <a:lnTo>
                    <a:pt x="233" y="364"/>
                  </a:lnTo>
                  <a:lnTo>
                    <a:pt x="237" y="370"/>
                  </a:lnTo>
                  <a:lnTo>
                    <a:pt x="238" y="373"/>
                  </a:lnTo>
                  <a:lnTo>
                    <a:pt x="242" y="377"/>
                  </a:lnTo>
                  <a:lnTo>
                    <a:pt x="244" y="382"/>
                  </a:lnTo>
                  <a:lnTo>
                    <a:pt x="245" y="385"/>
                  </a:lnTo>
                  <a:lnTo>
                    <a:pt x="249" y="391"/>
                  </a:lnTo>
                  <a:lnTo>
                    <a:pt x="251" y="394"/>
                  </a:lnTo>
                  <a:lnTo>
                    <a:pt x="254" y="398"/>
                  </a:lnTo>
                  <a:lnTo>
                    <a:pt x="256" y="403"/>
                  </a:lnTo>
                  <a:lnTo>
                    <a:pt x="258" y="408"/>
                  </a:lnTo>
                  <a:lnTo>
                    <a:pt x="259" y="412"/>
                  </a:lnTo>
                  <a:lnTo>
                    <a:pt x="261" y="417"/>
                  </a:lnTo>
                  <a:lnTo>
                    <a:pt x="263" y="420"/>
                  </a:lnTo>
                  <a:lnTo>
                    <a:pt x="266" y="426"/>
                  </a:lnTo>
                  <a:lnTo>
                    <a:pt x="268" y="429"/>
                  </a:lnTo>
                  <a:lnTo>
                    <a:pt x="270" y="434"/>
                  </a:lnTo>
                  <a:lnTo>
                    <a:pt x="272" y="438"/>
                  </a:lnTo>
                  <a:lnTo>
                    <a:pt x="273" y="443"/>
                  </a:lnTo>
                  <a:lnTo>
                    <a:pt x="277" y="447"/>
                  </a:lnTo>
                  <a:lnTo>
                    <a:pt x="279" y="452"/>
                  </a:lnTo>
                  <a:lnTo>
                    <a:pt x="280" y="455"/>
                  </a:lnTo>
                  <a:lnTo>
                    <a:pt x="282" y="461"/>
                  </a:lnTo>
                  <a:lnTo>
                    <a:pt x="284" y="466"/>
                  </a:lnTo>
                  <a:lnTo>
                    <a:pt x="286" y="471"/>
                  </a:lnTo>
                  <a:lnTo>
                    <a:pt x="289" y="475"/>
                  </a:lnTo>
                  <a:lnTo>
                    <a:pt x="291" y="478"/>
                  </a:lnTo>
                  <a:lnTo>
                    <a:pt x="291" y="485"/>
                  </a:lnTo>
                  <a:lnTo>
                    <a:pt x="294" y="489"/>
                  </a:lnTo>
                  <a:lnTo>
                    <a:pt x="296" y="494"/>
                  </a:lnTo>
                  <a:lnTo>
                    <a:pt x="298" y="497"/>
                  </a:lnTo>
                  <a:lnTo>
                    <a:pt x="300" y="503"/>
                  </a:lnTo>
                  <a:lnTo>
                    <a:pt x="301" y="508"/>
                  </a:lnTo>
                  <a:lnTo>
                    <a:pt x="305" y="513"/>
                  </a:lnTo>
                  <a:lnTo>
                    <a:pt x="307" y="517"/>
                  </a:lnTo>
                  <a:lnTo>
                    <a:pt x="308" y="522"/>
                  </a:lnTo>
                  <a:lnTo>
                    <a:pt x="310" y="527"/>
                  </a:lnTo>
                  <a:lnTo>
                    <a:pt x="312" y="532"/>
                  </a:lnTo>
                  <a:lnTo>
                    <a:pt x="315" y="538"/>
                  </a:lnTo>
                  <a:lnTo>
                    <a:pt x="317" y="543"/>
                  </a:lnTo>
                  <a:lnTo>
                    <a:pt x="319" y="546"/>
                  </a:lnTo>
                  <a:lnTo>
                    <a:pt x="322" y="552"/>
                  </a:lnTo>
                  <a:lnTo>
                    <a:pt x="319" y="553"/>
                  </a:lnTo>
                  <a:lnTo>
                    <a:pt x="317" y="557"/>
                  </a:lnTo>
                  <a:lnTo>
                    <a:pt x="315" y="559"/>
                  </a:lnTo>
                  <a:lnTo>
                    <a:pt x="315" y="564"/>
                  </a:lnTo>
                  <a:lnTo>
                    <a:pt x="314" y="567"/>
                  </a:lnTo>
                  <a:lnTo>
                    <a:pt x="315" y="573"/>
                  </a:lnTo>
                  <a:lnTo>
                    <a:pt x="315" y="574"/>
                  </a:lnTo>
                  <a:lnTo>
                    <a:pt x="315" y="576"/>
                  </a:lnTo>
                  <a:lnTo>
                    <a:pt x="317" y="580"/>
                  </a:lnTo>
                  <a:lnTo>
                    <a:pt x="319" y="581"/>
                  </a:lnTo>
                  <a:lnTo>
                    <a:pt x="319" y="587"/>
                  </a:lnTo>
                  <a:lnTo>
                    <a:pt x="321" y="592"/>
                  </a:lnTo>
                  <a:lnTo>
                    <a:pt x="322" y="597"/>
                  </a:lnTo>
                  <a:lnTo>
                    <a:pt x="326" y="602"/>
                  </a:lnTo>
                  <a:lnTo>
                    <a:pt x="328" y="608"/>
                  </a:lnTo>
                  <a:lnTo>
                    <a:pt x="329" y="611"/>
                  </a:lnTo>
                  <a:lnTo>
                    <a:pt x="331" y="616"/>
                  </a:lnTo>
                  <a:lnTo>
                    <a:pt x="335" y="618"/>
                  </a:lnTo>
                  <a:lnTo>
                    <a:pt x="335" y="616"/>
                  </a:lnTo>
                  <a:lnTo>
                    <a:pt x="333" y="615"/>
                  </a:lnTo>
                  <a:lnTo>
                    <a:pt x="333" y="609"/>
                  </a:lnTo>
                  <a:lnTo>
                    <a:pt x="331" y="608"/>
                  </a:lnTo>
                  <a:lnTo>
                    <a:pt x="331" y="604"/>
                  </a:lnTo>
                  <a:lnTo>
                    <a:pt x="331" y="601"/>
                  </a:lnTo>
                  <a:lnTo>
                    <a:pt x="329" y="597"/>
                  </a:lnTo>
                  <a:lnTo>
                    <a:pt x="329" y="594"/>
                  </a:lnTo>
                  <a:lnTo>
                    <a:pt x="328" y="590"/>
                  </a:lnTo>
                  <a:lnTo>
                    <a:pt x="328" y="587"/>
                  </a:lnTo>
                  <a:lnTo>
                    <a:pt x="328" y="583"/>
                  </a:lnTo>
                  <a:lnTo>
                    <a:pt x="326" y="580"/>
                  </a:lnTo>
                  <a:lnTo>
                    <a:pt x="326" y="576"/>
                  </a:lnTo>
                  <a:lnTo>
                    <a:pt x="324" y="574"/>
                  </a:lnTo>
                  <a:lnTo>
                    <a:pt x="324" y="571"/>
                  </a:lnTo>
                  <a:lnTo>
                    <a:pt x="322" y="567"/>
                  </a:lnTo>
                  <a:lnTo>
                    <a:pt x="322" y="564"/>
                  </a:lnTo>
                  <a:lnTo>
                    <a:pt x="326" y="562"/>
                  </a:lnTo>
                  <a:lnTo>
                    <a:pt x="328" y="562"/>
                  </a:lnTo>
                  <a:lnTo>
                    <a:pt x="331" y="564"/>
                  </a:lnTo>
                  <a:lnTo>
                    <a:pt x="333" y="564"/>
                  </a:lnTo>
                  <a:lnTo>
                    <a:pt x="336" y="566"/>
                  </a:lnTo>
                  <a:lnTo>
                    <a:pt x="338" y="567"/>
                  </a:lnTo>
                  <a:lnTo>
                    <a:pt x="342" y="567"/>
                  </a:lnTo>
                  <a:lnTo>
                    <a:pt x="343" y="569"/>
                  </a:lnTo>
                  <a:lnTo>
                    <a:pt x="343" y="574"/>
                  </a:lnTo>
                  <a:lnTo>
                    <a:pt x="343" y="580"/>
                  </a:lnTo>
                  <a:lnTo>
                    <a:pt x="343" y="581"/>
                  </a:lnTo>
                  <a:lnTo>
                    <a:pt x="345" y="583"/>
                  </a:lnTo>
                  <a:lnTo>
                    <a:pt x="345" y="587"/>
                  </a:lnTo>
                  <a:lnTo>
                    <a:pt x="345" y="590"/>
                  </a:lnTo>
                  <a:lnTo>
                    <a:pt x="345" y="592"/>
                  </a:lnTo>
                  <a:lnTo>
                    <a:pt x="345" y="595"/>
                  </a:lnTo>
                  <a:lnTo>
                    <a:pt x="347" y="597"/>
                  </a:lnTo>
                  <a:lnTo>
                    <a:pt x="347" y="601"/>
                  </a:lnTo>
                  <a:lnTo>
                    <a:pt x="347" y="602"/>
                  </a:lnTo>
                  <a:lnTo>
                    <a:pt x="349" y="606"/>
                  </a:lnTo>
                  <a:lnTo>
                    <a:pt x="349" y="608"/>
                  </a:lnTo>
                  <a:lnTo>
                    <a:pt x="349" y="611"/>
                  </a:lnTo>
                  <a:lnTo>
                    <a:pt x="349" y="613"/>
                  </a:lnTo>
                  <a:lnTo>
                    <a:pt x="350" y="616"/>
                  </a:lnTo>
                  <a:lnTo>
                    <a:pt x="350" y="618"/>
                  </a:lnTo>
                  <a:lnTo>
                    <a:pt x="352" y="622"/>
                  </a:lnTo>
                  <a:lnTo>
                    <a:pt x="352" y="623"/>
                  </a:lnTo>
                  <a:lnTo>
                    <a:pt x="352" y="627"/>
                  </a:lnTo>
                  <a:lnTo>
                    <a:pt x="352" y="630"/>
                  </a:lnTo>
                  <a:lnTo>
                    <a:pt x="354" y="632"/>
                  </a:lnTo>
                  <a:lnTo>
                    <a:pt x="354" y="636"/>
                  </a:lnTo>
                  <a:lnTo>
                    <a:pt x="356" y="637"/>
                  </a:lnTo>
                  <a:lnTo>
                    <a:pt x="356" y="641"/>
                  </a:lnTo>
                  <a:lnTo>
                    <a:pt x="356" y="643"/>
                  </a:lnTo>
                  <a:lnTo>
                    <a:pt x="356" y="646"/>
                  </a:lnTo>
                  <a:lnTo>
                    <a:pt x="357" y="650"/>
                  </a:lnTo>
                  <a:lnTo>
                    <a:pt x="357" y="651"/>
                  </a:lnTo>
                  <a:lnTo>
                    <a:pt x="359" y="655"/>
                  </a:lnTo>
                  <a:lnTo>
                    <a:pt x="359" y="657"/>
                  </a:lnTo>
                  <a:lnTo>
                    <a:pt x="359" y="660"/>
                  </a:lnTo>
                  <a:lnTo>
                    <a:pt x="359" y="664"/>
                  </a:lnTo>
                  <a:lnTo>
                    <a:pt x="361" y="665"/>
                  </a:lnTo>
                  <a:lnTo>
                    <a:pt x="361" y="669"/>
                  </a:lnTo>
                  <a:lnTo>
                    <a:pt x="361" y="672"/>
                  </a:lnTo>
                  <a:lnTo>
                    <a:pt x="361" y="674"/>
                  </a:lnTo>
                  <a:lnTo>
                    <a:pt x="363" y="676"/>
                  </a:lnTo>
                  <a:lnTo>
                    <a:pt x="363" y="679"/>
                  </a:lnTo>
                  <a:lnTo>
                    <a:pt x="363" y="681"/>
                  </a:lnTo>
                  <a:lnTo>
                    <a:pt x="363" y="685"/>
                  </a:lnTo>
                  <a:lnTo>
                    <a:pt x="364" y="686"/>
                  </a:lnTo>
                  <a:lnTo>
                    <a:pt x="364" y="690"/>
                  </a:lnTo>
                  <a:lnTo>
                    <a:pt x="364" y="693"/>
                  </a:lnTo>
                  <a:lnTo>
                    <a:pt x="364" y="695"/>
                  </a:lnTo>
                  <a:lnTo>
                    <a:pt x="364" y="699"/>
                  </a:lnTo>
                  <a:lnTo>
                    <a:pt x="364" y="700"/>
                  </a:lnTo>
                  <a:lnTo>
                    <a:pt x="366" y="702"/>
                  </a:lnTo>
                  <a:lnTo>
                    <a:pt x="366" y="706"/>
                  </a:lnTo>
                  <a:lnTo>
                    <a:pt x="366" y="709"/>
                  </a:lnTo>
                  <a:lnTo>
                    <a:pt x="366" y="711"/>
                  </a:lnTo>
                  <a:lnTo>
                    <a:pt x="366" y="713"/>
                  </a:lnTo>
                  <a:lnTo>
                    <a:pt x="366" y="716"/>
                  </a:lnTo>
                  <a:lnTo>
                    <a:pt x="366" y="720"/>
                  </a:lnTo>
                  <a:lnTo>
                    <a:pt x="366" y="723"/>
                  </a:lnTo>
                  <a:lnTo>
                    <a:pt x="366" y="728"/>
                  </a:lnTo>
                  <a:lnTo>
                    <a:pt x="366" y="734"/>
                  </a:lnTo>
                  <a:lnTo>
                    <a:pt x="366" y="739"/>
                  </a:lnTo>
                  <a:lnTo>
                    <a:pt x="364" y="742"/>
                  </a:lnTo>
                  <a:lnTo>
                    <a:pt x="363" y="744"/>
                  </a:lnTo>
                  <a:lnTo>
                    <a:pt x="363" y="746"/>
                  </a:lnTo>
                  <a:lnTo>
                    <a:pt x="361" y="749"/>
                  </a:lnTo>
                  <a:lnTo>
                    <a:pt x="359" y="753"/>
                  </a:lnTo>
                  <a:lnTo>
                    <a:pt x="359" y="756"/>
                  </a:lnTo>
                  <a:lnTo>
                    <a:pt x="357" y="760"/>
                  </a:lnTo>
                  <a:lnTo>
                    <a:pt x="356" y="763"/>
                  </a:lnTo>
                  <a:lnTo>
                    <a:pt x="354" y="767"/>
                  </a:lnTo>
                  <a:lnTo>
                    <a:pt x="352" y="769"/>
                  </a:lnTo>
                  <a:lnTo>
                    <a:pt x="352" y="772"/>
                  </a:lnTo>
                  <a:lnTo>
                    <a:pt x="350" y="774"/>
                  </a:lnTo>
                  <a:lnTo>
                    <a:pt x="349" y="776"/>
                  </a:lnTo>
                  <a:lnTo>
                    <a:pt x="349" y="779"/>
                  </a:lnTo>
                  <a:lnTo>
                    <a:pt x="347" y="781"/>
                  </a:lnTo>
                  <a:lnTo>
                    <a:pt x="347" y="783"/>
                  </a:lnTo>
                  <a:lnTo>
                    <a:pt x="412" y="786"/>
                  </a:lnTo>
                  <a:lnTo>
                    <a:pt x="412" y="783"/>
                  </a:lnTo>
                  <a:lnTo>
                    <a:pt x="412" y="781"/>
                  </a:lnTo>
                  <a:lnTo>
                    <a:pt x="413" y="778"/>
                  </a:lnTo>
                  <a:lnTo>
                    <a:pt x="413" y="774"/>
                  </a:lnTo>
                  <a:lnTo>
                    <a:pt x="415" y="772"/>
                  </a:lnTo>
                  <a:lnTo>
                    <a:pt x="415" y="769"/>
                  </a:lnTo>
                  <a:lnTo>
                    <a:pt x="415" y="763"/>
                  </a:lnTo>
                  <a:lnTo>
                    <a:pt x="415" y="760"/>
                  </a:lnTo>
                  <a:lnTo>
                    <a:pt x="417" y="756"/>
                  </a:lnTo>
                  <a:lnTo>
                    <a:pt x="417" y="751"/>
                  </a:lnTo>
                  <a:lnTo>
                    <a:pt x="419" y="748"/>
                  </a:lnTo>
                  <a:lnTo>
                    <a:pt x="419" y="744"/>
                  </a:lnTo>
                  <a:lnTo>
                    <a:pt x="419" y="739"/>
                  </a:lnTo>
                  <a:lnTo>
                    <a:pt x="420" y="735"/>
                  </a:lnTo>
                  <a:lnTo>
                    <a:pt x="420" y="730"/>
                  </a:lnTo>
                  <a:lnTo>
                    <a:pt x="422" y="727"/>
                  </a:lnTo>
                  <a:lnTo>
                    <a:pt x="422" y="721"/>
                  </a:lnTo>
                  <a:lnTo>
                    <a:pt x="422" y="716"/>
                  </a:lnTo>
                  <a:lnTo>
                    <a:pt x="424" y="713"/>
                  </a:lnTo>
                  <a:lnTo>
                    <a:pt x="424" y="709"/>
                  </a:lnTo>
                  <a:lnTo>
                    <a:pt x="424" y="702"/>
                  </a:lnTo>
                  <a:lnTo>
                    <a:pt x="426" y="699"/>
                  </a:lnTo>
                  <a:lnTo>
                    <a:pt x="426" y="695"/>
                  </a:lnTo>
                  <a:lnTo>
                    <a:pt x="427" y="692"/>
                  </a:lnTo>
                  <a:lnTo>
                    <a:pt x="427" y="686"/>
                  </a:lnTo>
                  <a:lnTo>
                    <a:pt x="429" y="685"/>
                  </a:lnTo>
                  <a:lnTo>
                    <a:pt x="429" y="681"/>
                  </a:lnTo>
                  <a:lnTo>
                    <a:pt x="429" y="678"/>
                  </a:lnTo>
                  <a:lnTo>
                    <a:pt x="431" y="674"/>
                  </a:lnTo>
                  <a:lnTo>
                    <a:pt x="431" y="672"/>
                  </a:lnTo>
                  <a:lnTo>
                    <a:pt x="433" y="669"/>
                  </a:lnTo>
                  <a:lnTo>
                    <a:pt x="434" y="669"/>
                  </a:lnTo>
                  <a:lnTo>
                    <a:pt x="436" y="669"/>
                  </a:lnTo>
                  <a:lnTo>
                    <a:pt x="438" y="671"/>
                  </a:lnTo>
                  <a:lnTo>
                    <a:pt x="441" y="672"/>
                  </a:lnTo>
                  <a:lnTo>
                    <a:pt x="443" y="674"/>
                  </a:lnTo>
                  <a:lnTo>
                    <a:pt x="445" y="676"/>
                  </a:lnTo>
                  <a:lnTo>
                    <a:pt x="447" y="678"/>
                  </a:lnTo>
                  <a:lnTo>
                    <a:pt x="448" y="681"/>
                  </a:lnTo>
                  <a:lnTo>
                    <a:pt x="450" y="685"/>
                  </a:lnTo>
                  <a:lnTo>
                    <a:pt x="450" y="688"/>
                  </a:lnTo>
                  <a:lnTo>
                    <a:pt x="452" y="692"/>
                  </a:lnTo>
                  <a:lnTo>
                    <a:pt x="452" y="695"/>
                  </a:lnTo>
                  <a:lnTo>
                    <a:pt x="454" y="699"/>
                  </a:lnTo>
                  <a:lnTo>
                    <a:pt x="454" y="702"/>
                  </a:lnTo>
                  <a:lnTo>
                    <a:pt x="454" y="706"/>
                  </a:lnTo>
                  <a:lnTo>
                    <a:pt x="454" y="709"/>
                  </a:lnTo>
                  <a:lnTo>
                    <a:pt x="455" y="713"/>
                  </a:lnTo>
                  <a:lnTo>
                    <a:pt x="454" y="718"/>
                  </a:lnTo>
                  <a:lnTo>
                    <a:pt x="454" y="721"/>
                  </a:lnTo>
                  <a:lnTo>
                    <a:pt x="454" y="725"/>
                  </a:lnTo>
                  <a:lnTo>
                    <a:pt x="454" y="730"/>
                  </a:lnTo>
                  <a:lnTo>
                    <a:pt x="454" y="734"/>
                  </a:lnTo>
                  <a:lnTo>
                    <a:pt x="454" y="737"/>
                  </a:lnTo>
                  <a:lnTo>
                    <a:pt x="454" y="741"/>
                  </a:lnTo>
                  <a:lnTo>
                    <a:pt x="454" y="746"/>
                  </a:lnTo>
                  <a:lnTo>
                    <a:pt x="452" y="748"/>
                  </a:lnTo>
                  <a:lnTo>
                    <a:pt x="452" y="751"/>
                  </a:lnTo>
                  <a:lnTo>
                    <a:pt x="452" y="755"/>
                  </a:lnTo>
                  <a:lnTo>
                    <a:pt x="452" y="760"/>
                  </a:lnTo>
                  <a:lnTo>
                    <a:pt x="450" y="762"/>
                  </a:lnTo>
                  <a:lnTo>
                    <a:pt x="450" y="765"/>
                  </a:lnTo>
                  <a:lnTo>
                    <a:pt x="450" y="769"/>
                  </a:lnTo>
                  <a:lnTo>
                    <a:pt x="450" y="772"/>
                  </a:lnTo>
                  <a:lnTo>
                    <a:pt x="508" y="769"/>
                  </a:lnTo>
                  <a:lnTo>
                    <a:pt x="508" y="763"/>
                  </a:lnTo>
                  <a:lnTo>
                    <a:pt x="508" y="758"/>
                  </a:lnTo>
                  <a:lnTo>
                    <a:pt x="508" y="753"/>
                  </a:lnTo>
                  <a:lnTo>
                    <a:pt x="510" y="748"/>
                  </a:lnTo>
                  <a:lnTo>
                    <a:pt x="510" y="742"/>
                  </a:lnTo>
                  <a:lnTo>
                    <a:pt x="511" y="737"/>
                  </a:lnTo>
                  <a:lnTo>
                    <a:pt x="511" y="734"/>
                  </a:lnTo>
                  <a:lnTo>
                    <a:pt x="511" y="728"/>
                  </a:lnTo>
                  <a:lnTo>
                    <a:pt x="511" y="723"/>
                  </a:lnTo>
                  <a:lnTo>
                    <a:pt x="511" y="718"/>
                  </a:lnTo>
                  <a:lnTo>
                    <a:pt x="513" y="713"/>
                  </a:lnTo>
                  <a:lnTo>
                    <a:pt x="513" y="709"/>
                  </a:lnTo>
                  <a:lnTo>
                    <a:pt x="515" y="704"/>
                  </a:lnTo>
                  <a:lnTo>
                    <a:pt x="515" y="699"/>
                  </a:lnTo>
                  <a:lnTo>
                    <a:pt x="515" y="695"/>
                  </a:lnTo>
                  <a:lnTo>
                    <a:pt x="515" y="690"/>
                  </a:lnTo>
                  <a:lnTo>
                    <a:pt x="517" y="685"/>
                  </a:lnTo>
                  <a:lnTo>
                    <a:pt x="517" y="681"/>
                  </a:lnTo>
                  <a:lnTo>
                    <a:pt x="518" y="676"/>
                  </a:lnTo>
                  <a:lnTo>
                    <a:pt x="518" y="672"/>
                  </a:lnTo>
                  <a:lnTo>
                    <a:pt x="518" y="667"/>
                  </a:lnTo>
                  <a:lnTo>
                    <a:pt x="518" y="664"/>
                  </a:lnTo>
                  <a:lnTo>
                    <a:pt x="520" y="658"/>
                  </a:lnTo>
                  <a:lnTo>
                    <a:pt x="522" y="655"/>
                  </a:lnTo>
                  <a:lnTo>
                    <a:pt x="522" y="651"/>
                  </a:lnTo>
                  <a:lnTo>
                    <a:pt x="524" y="646"/>
                  </a:lnTo>
                  <a:lnTo>
                    <a:pt x="524" y="643"/>
                  </a:lnTo>
                  <a:lnTo>
                    <a:pt x="525" y="639"/>
                  </a:lnTo>
                  <a:lnTo>
                    <a:pt x="527" y="634"/>
                  </a:lnTo>
                  <a:lnTo>
                    <a:pt x="527" y="630"/>
                  </a:lnTo>
                  <a:lnTo>
                    <a:pt x="529" y="627"/>
                  </a:lnTo>
                  <a:lnTo>
                    <a:pt x="531" y="623"/>
                  </a:lnTo>
                  <a:lnTo>
                    <a:pt x="532" y="620"/>
                  </a:lnTo>
                  <a:lnTo>
                    <a:pt x="532" y="616"/>
                  </a:lnTo>
                  <a:lnTo>
                    <a:pt x="536" y="613"/>
                  </a:lnTo>
                  <a:lnTo>
                    <a:pt x="536" y="609"/>
                  </a:lnTo>
                  <a:lnTo>
                    <a:pt x="538" y="608"/>
                  </a:lnTo>
                  <a:lnTo>
                    <a:pt x="539" y="604"/>
                  </a:lnTo>
                  <a:lnTo>
                    <a:pt x="541" y="601"/>
                  </a:lnTo>
                  <a:lnTo>
                    <a:pt x="545" y="599"/>
                  </a:lnTo>
                  <a:lnTo>
                    <a:pt x="546" y="595"/>
                  </a:lnTo>
                  <a:lnTo>
                    <a:pt x="548" y="592"/>
                  </a:lnTo>
                  <a:lnTo>
                    <a:pt x="550" y="590"/>
                  </a:lnTo>
                  <a:lnTo>
                    <a:pt x="553" y="588"/>
                  </a:lnTo>
                  <a:lnTo>
                    <a:pt x="555" y="587"/>
                  </a:lnTo>
                  <a:lnTo>
                    <a:pt x="557" y="583"/>
                  </a:lnTo>
                  <a:lnTo>
                    <a:pt x="560" y="583"/>
                  </a:lnTo>
                  <a:lnTo>
                    <a:pt x="564" y="581"/>
                  </a:lnTo>
                  <a:lnTo>
                    <a:pt x="567" y="580"/>
                  </a:lnTo>
                  <a:lnTo>
                    <a:pt x="569" y="578"/>
                  </a:lnTo>
                  <a:lnTo>
                    <a:pt x="573" y="576"/>
                  </a:lnTo>
                  <a:lnTo>
                    <a:pt x="576" y="576"/>
                  </a:lnTo>
                  <a:lnTo>
                    <a:pt x="580" y="574"/>
                  </a:lnTo>
                  <a:lnTo>
                    <a:pt x="583" y="574"/>
                  </a:lnTo>
                  <a:lnTo>
                    <a:pt x="587" y="574"/>
                  </a:lnTo>
                  <a:lnTo>
                    <a:pt x="590" y="574"/>
                  </a:lnTo>
                  <a:lnTo>
                    <a:pt x="594" y="574"/>
                  </a:lnTo>
                  <a:lnTo>
                    <a:pt x="599" y="574"/>
                  </a:lnTo>
                  <a:lnTo>
                    <a:pt x="602" y="574"/>
                  </a:lnTo>
                  <a:lnTo>
                    <a:pt x="608" y="574"/>
                  </a:lnTo>
                  <a:lnTo>
                    <a:pt x="611" y="574"/>
                  </a:lnTo>
                  <a:lnTo>
                    <a:pt x="616" y="576"/>
                  </a:lnTo>
                  <a:lnTo>
                    <a:pt x="622" y="578"/>
                  </a:lnTo>
                  <a:lnTo>
                    <a:pt x="627" y="580"/>
                  </a:lnTo>
                  <a:lnTo>
                    <a:pt x="629" y="578"/>
                  </a:lnTo>
                  <a:lnTo>
                    <a:pt x="632" y="578"/>
                  </a:lnTo>
                  <a:lnTo>
                    <a:pt x="636" y="578"/>
                  </a:lnTo>
                  <a:lnTo>
                    <a:pt x="638" y="578"/>
                  </a:lnTo>
                  <a:lnTo>
                    <a:pt x="641" y="576"/>
                  </a:lnTo>
                  <a:lnTo>
                    <a:pt x="643" y="576"/>
                  </a:lnTo>
                  <a:lnTo>
                    <a:pt x="646" y="576"/>
                  </a:lnTo>
                  <a:lnTo>
                    <a:pt x="648" y="576"/>
                  </a:lnTo>
                  <a:lnTo>
                    <a:pt x="652" y="576"/>
                  </a:lnTo>
                  <a:lnTo>
                    <a:pt x="653" y="576"/>
                  </a:lnTo>
                  <a:lnTo>
                    <a:pt x="657" y="576"/>
                  </a:lnTo>
                  <a:lnTo>
                    <a:pt x="660" y="576"/>
                  </a:lnTo>
                  <a:lnTo>
                    <a:pt x="662" y="576"/>
                  </a:lnTo>
                  <a:lnTo>
                    <a:pt x="666" y="576"/>
                  </a:lnTo>
                  <a:lnTo>
                    <a:pt x="669" y="576"/>
                  </a:lnTo>
                  <a:lnTo>
                    <a:pt x="671" y="576"/>
                  </a:lnTo>
                  <a:lnTo>
                    <a:pt x="673" y="576"/>
                  </a:lnTo>
                  <a:lnTo>
                    <a:pt x="676" y="576"/>
                  </a:lnTo>
                  <a:lnTo>
                    <a:pt x="680" y="576"/>
                  </a:lnTo>
                  <a:lnTo>
                    <a:pt x="681" y="576"/>
                  </a:lnTo>
                  <a:lnTo>
                    <a:pt x="685" y="574"/>
                  </a:lnTo>
                  <a:lnTo>
                    <a:pt x="687" y="574"/>
                  </a:lnTo>
                  <a:lnTo>
                    <a:pt x="690" y="574"/>
                  </a:lnTo>
                  <a:lnTo>
                    <a:pt x="692" y="574"/>
                  </a:lnTo>
                  <a:lnTo>
                    <a:pt x="695" y="574"/>
                  </a:lnTo>
                  <a:lnTo>
                    <a:pt x="699" y="574"/>
                  </a:lnTo>
                  <a:lnTo>
                    <a:pt x="701" y="574"/>
                  </a:lnTo>
                  <a:lnTo>
                    <a:pt x="702" y="574"/>
                  </a:lnTo>
                  <a:lnTo>
                    <a:pt x="706" y="574"/>
                  </a:lnTo>
                  <a:lnTo>
                    <a:pt x="709" y="574"/>
                  </a:lnTo>
                  <a:lnTo>
                    <a:pt x="711" y="574"/>
                  </a:lnTo>
                  <a:lnTo>
                    <a:pt x="715" y="574"/>
                  </a:lnTo>
                  <a:lnTo>
                    <a:pt x="716" y="574"/>
                  </a:lnTo>
                  <a:lnTo>
                    <a:pt x="720" y="574"/>
                  </a:lnTo>
                  <a:lnTo>
                    <a:pt x="722" y="573"/>
                  </a:lnTo>
                  <a:lnTo>
                    <a:pt x="725" y="573"/>
                  </a:lnTo>
                  <a:lnTo>
                    <a:pt x="727" y="573"/>
                  </a:lnTo>
                  <a:lnTo>
                    <a:pt x="730" y="573"/>
                  </a:lnTo>
                  <a:lnTo>
                    <a:pt x="732" y="573"/>
                  </a:lnTo>
                  <a:lnTo>
                    <a:pt x="734" y="573"/>
                  </a:lnTo>
                  <a:lnTo>
                    <a:pt x="737" y="571"/>
                  </a:lnTo>
                  <a:lnTo>
                    <a:pt x="741" y="571"/>
                  </a:lnTo>
                  <a:lnTo>
                    <a:pt x="743" y="571"/>
                  </a:lnTo>
                  <a:lnTo>
                    <a:pt x="746" y="571"/>
                  </a:lnTo>
                  <a:lnTo>
                    <a:pt x="748" y="569"/>
                  </a:lnTo>
                  <a:lnTo>
                    <a:pt x="751" y="569"/>
                  </a:lnTo>
                  <a:lnTo>
                    <a:pt x="753" y="569"/>
                  </a:lnTo>
                  <a:lnTo>
                    <a:pt x="755" y="569"/>
                  </a:lnTo>
                  <a:lnTo>
                    <a:pt x="758" y="567"/>
                  </a:lnTo>
                  <a:lnTo>
                    <a:pt x="760" y="567"/>
                  </a:lnTo>
                  <a:lnTo>
                    <a:pt x="764" y="566"/>
                  </a:lnTo>
                  <a:lnTo>
                    <a:pt x="765" y="566"/>
                  </a:lnTo>
                  <a:lnTo>
                    <a:pt x="769" y="564"/>
                  </a:lnTo>
                  <a:lnTo>
                    <a:pt x="771" y="564"/>
                  </a:lnTo>
                  <a:lnTo>
                    <a:pt x="772" y="562"/>
                  </a:lnTo>
                  <a:lnTo>
                    <a:pt x="776" y="562"/>
                  </a:lnTo>
                  <a:lnTo>
                    <a:pt x="779" y="560"/>
                  </a:lnTo>
                  <a:lnTo>
                    <a:pt x="781" y="559"/>
                  </a:lnTo>
                  <a:lnTo>
                    <a:pt x="783" y="559"/>
                  </a:lnTo>
                  <a:lnTo>
                    <a:pt x="786" y="557"/>
                  </a:lnTo>
                  <a:lnTo>
                    <a:pt x="788" y="557"/>
                  </a:lnTo>
                  <a:lnTo>
                    <a:pt x="792" y="555"/>
                  </a:lnTo>
                  <a:lnTo>
                    <a:pt x="793" y="553"/>
                  </a:lnTo>
                  <a:lnTo>
                    <a:pt x="797" y="553"/>
                  </a:lnTo>
                  <a:lnTo>
                    <a:pt x="797" y="557"/>
                  </a:lnTo>
                  <a:lnTo>
                    <a:pt x="799" y="560"/>
                  </a:lnTo>
                  <a:lnTo>
                    <a:pt x="800" y="564"/>
                  </a:lnTo>
                  <a:lnTo>
                    <a:pt x="802" y="569"/>
                  </a:lnTo>
                  <a:lnTo>
                    <a:pt x="802" y="573"/>
                  </a:lnTo>
                  <a:lnTo>
                    <a:pt x="802" y="578"/>
                  </a:lnTo>
                  <a:lnTo>
                    <a:pt x="802" y="581"/>
                  </a:lnTo>
                  <a:lnTo>
                    <a:pt x="802" y="583"/>
                  </a:lnTo>
                  <a:lnTo>
                    <a:pt x="800" y="587"/>
                  </a:lnTo>
                  <a:lnTo>
                    <a:pt x="800" y="590"/>
                  </a:lnTo>
                  <a:lnTo>
                    <a:pt x="800" y="592"/>
                  </a:lnTo>
                  <a:lnTo>
                    <a:pt x="800" y="595"/>
                  </a:lnTo>
                  <a:lnTo>
                    <a:pt x="799" y="599"/>
                  </a:lnTo>
                  <a:lnTo>
                    <a:pt x="799" y="601"/>
                  </a:lnTo>
                  <a:lnTo>
                    <a:pt x="797" y="604"/>
                  </a:lnTo>
                  <a:lnTo>
                    <a:pt x="797" y="608"/>
                  </a:lnTo>
                  <a:lnTo>
                    <a:pt x="797" y="609"/>
                  </a:lnTo>
                  <a:lnTo>
                    <a:pt x="795" y="615"/>
                  </a:lnTo>
                  <a:lnTo>
                    <a:pt x="793" y="616"/>
                  </a:lnTo>
                  <a:lnTo>
                    <a:pt x="793" y="620"/>
                  </a:lnTo>
                  <a:lnTo>
                    <a:pt x="792" y="623"/>
                  </a:lnTo>
                  <a:lnTo>
                    <a:pt x="792" y="627"/>
                  </a:lnTo>
                  <a:lnTo>
                    <a:pt x="790" y="630"/>
                  </a:lnTo>
                  <a:lnTo>
                    <a:pt x="790" y="634"/>
                  </a:lnTo>
                  <a:lnTo>
                    <a:pt x="788" y="637"/>
                  </a:lnTo>
                  <a:lnTo>
                    <a:pt x="786" y="641"/>
                  </a:lnTo>
                  <a:lnTo>
                    <a:pt x="785" y="643"/>
                  </a:lnTo>
                  <a:lnTo>
                    <a:pt x="785" y="646"/>
                  </a:lnTo>
                  <a:lnTo>
                    <a:pt x="783" y="650"/>
                  </a:lnTo>
                  <a:lnTo>
                    <a:pt x="781" y="653"/>
                  </a:lnTo>
                  <a:lnTo>
                    <a:pt x="781" y="657"/>
                  </a:lnTo>
                  <a:lnTo>
                    <a:pt x="779" y="660"/>
                  </a:lnTo>
                  <a:lnTo>
                    <a:pt x="778" y="664"/>
                  </a:lnTo>
                  <a:lnTo>
                    <a:pt x="776" y="667"/>
                  </a:lnTo>
                  <a:lnTo>
                    <a:pt x="774" y="671"/>
                  </a:lnTo>
                  <a:lnTo>
                    <a:pt x="772" y="674"/>
                  </a:lnTo>
                  <a:lnTo>
                    <a:pt x="772" y="676"/>
                  </a:lnTo>
                  <a:lnTo>
                    <a:pt x="771" y="679"/>
                  </a:lnTo>
                  <a:lnTo>
                    <a:pt x="769" y="683"/>
                  </a:lnTo>
                  <a:lnTo>
                    <a:pt x="767" y="686"/>
                  </a:lnTo>
                  <a:lnTo>
                    <a:pt x="765" y="690"/>
                  </a:lnTo>
                  <a:lnTo>
                    <a:pt x="764" y="693"/>
                  </a:lnTo>
                  <a:lnTo>
                    <a:pt x="762" y="695"/>
                  </a:lnTo>
                  <a:lnTo>
                    <a:pt x="760" y="699"/>
                  </a:lnTo>
                  <a:lnTo>
                    <a:pt x="760" y="702"/>
                  </a:lnTo>
                  <a:lnTo>
                    <a:pt x="758" y="704"/>
                  </a:lnTo>
                  <a:lnTo>
                    <a:pt x="757" y="707"/>
                  </a:lnTo>
                  <a:lnTo>
                    <a:pt x="755" y="711"/>
                  </a:lnTo>
                  <a:lnTo>
                    <a:pt x="753" y="713"/>
                  </a:lnTo>
                  <a:lnTo>
                    <a:pt x="751" y="714"/>
                  </a:lnTo>
                  <a:lnTo>
                    <a:pt x="750" y="720"/>
                  </a:lnTo>
                  <a:lnTo>
                    <a:pt x="746" y="725"/>
                  </a:lnTo>
                  <a:lnTo>
                    <a:pt x="744" y="730"/>
                  </a:lnTo>
                  <a:lnTo>
                    <a:pt x="741" y="734"/>
                  </a:lnTo>
                  <a:lnTo>
                    <a:pt x="816" y="756"/>
                  </a:lnTo>
                  <a:lnTo>
                    <a:pt x="818" y="753"/>
                  </a:lnTo>
                  <a:lnTo>
                    <a:pt x="820" y="749"/>
                  </a:lnTo>
                  <a:lnTo>
                    <a:pt x="823" y="746"/>
                  </a:lnTo>
                  <a:lnTo>
                    <a:pt x="825" y="744"/>
                  </a:lnTo>
                  <a:lnTo>
                    <a:pt x="827" y="739"/>
                  </a:lnTo>
                  <a:lnTo>
                    <a:pt x="828" y="735"/>
                  </a:lnTo>
                  <a:lnTo>
                    <a:pt x="832" y="732"/>
                  </a:lnTo>
                  <a:lnTo>
                    <a:pt x="834" y="728"/>
                  </a:lnTo>
                  <a:lnTo>
                    <a:pt x="837" y="725"/>
                  </a:lnTo>
                  <a:lnTo>
                    <a:pt x="839" y="721"/>
                  </a:lnTo>
                  <a:lnTo>
                    <a:pt x="842" y="716"/>
                  </a:lnTo>
                  <a:lnTo>
                    <a:pt x="846" y="713"/>
                  </a:lnTo>
                  <a:lnTo>
                    <a:pt x="848" y="711"/>
                  </a:lnTo>
                  <a:lnTo>
                    <a:pt x="849" y="706"/>
                  </a:lnTo>
                  <a:lnTo>
                    <a:pt x="853" y="702"/>
                  </a:lnTo>
                  <a:lnTo>
                    <a:pt x="856" y="699"/>
                  </a:lnTo>
                  <a:lnTo>
                    <a:pt x="858" y="695"/>
                  </a:lnTo>
                  <a:lnTo>
                    <a:pt x="862" y="692"/>
                  </a:lnTo>
                  <a:lnTo>
                    <a:pt x="865" y="686"/>
                  </a:lnTo>
                  <a:lnTo>
                    <a:pt x="867" y="683"/>
                  </a:lnTo>
                  <a:lnTo>
                    <a:pt x="870" y="679"/>
                  </a:lnTo>
                  <a:lnTo>
                    <a:pt x="872" y="676"/>
                  </a:lnTo>
                  <a:lnTo>
                    <a:pt x="876" y="672"/>
                  </a:lnTo>
                  <a:lnTo>
                    <a:pt x="879" y="669"/>
                  </a:lnTo>
                  <a:lnTo>
                    <a:pt x="881" y="665"/>
                  </a:lnTo>
                  <a:lnTo>
                    <a:pt x="883" y="662"/>
                  </a:lnTo>
                  <a:lnTo>
                    <a:pt x="886" y="658"/>
                  </a:lnTo>
                  <a:lnTo>
                    <a:pt x="888" y="655"/>
                  </a:lnTo>
                  <a:lnTo>
                    <a:pt x="890" y="651"/>
                  </a:lnTo>
                  <a:lnTo>
                    <a:pt x="893" y="650"/>
                  </a:lnTo>
                  <a:lnTo>
                    <a:pt x="895" y="644"/>
                  </a:lnTo>
                  <a:lnTo>
                    <a:pt x="897" y="643"/>
                  </a:lnTo>
                  <a:lnTo>
                    <a:pt x="897" y="641"/>
                  </a:lnTo>
                  <a:lnTo>
                    <a:pt x="898" y="641"/>
                  </a:lnTo>
                  <a:lnTo>
                    <a:pt x="900" y="637"/>
                  </a:lnTo>
                  <a:lnTo>
                    <a:pt x="900" y="636"/>
                  </a:lnTo>
                  <a:lnTo>
                    <a:pt x="904" y="634"/>
                  </a:lnTo>
                  <a:lnTo>
                    <a:pt x="905" y="632"/>
                  </a:lnTo>
                  <a:lnTo>
                    <a:pt x="907" y="632"/>
                  </a:lnTo>
                  <a:lnTo>
                    <a:pt x="911" y="634"/>
                  </a:lnTo>
                  <a:lnTo>
                    <a:pt x="914" y="637"/>
                  </a:lnTo>
                  <a:lnTo>
                    <a:pt x="918" y="639"/>
                  </a:lnTo>
                  <a:lnTo>
                    <a:pt x="919" y="641"/>
                  </a:lnTo>
                  <a:lnTo>
                    <a:pt x="923" y="643"/>
                  </a:lnTo>
                  <a:lnTo>
                    <a:pt x="925" y="643"/>
                  </a:lnTo>
                  <a:lnTo>
                    <a:pt x="928" y="644"/>
                  </a:lnTo>
                  <a:lnTo>
                    <a:pt x="930" y="644"/>
                  </a:lnTo>
                  <a:lnTo>
                    <a:pt x="932" y="644"/>
                  </a:lnTo>
                  <a:lnTo>
                    <a:pt x="937" y="644"/>
                  </a:lnTo>
                  <a:lnTo>
                    <a:pt x="939" y="643"/>
                  </a:lnTo>
                  <a:lnTo>
                    <a:pt x="940" y="639"/>
                  </a:lnTo>
                  <a:lnTo>
                    <a:pt x="944" y="637"/>
                  </a:lnTo>
                  <a:lnTo>
                    <a:pt x="946" y="636"/>
                  </a:lnTo>
                  <a:lnTo>
                    <a:pt x="947" y="632"/>
                  </a:lnTo>
                  <a:lnTo>
                    <a:pt x="949" y="632"/>
                  </a:lnTo>
                  <a:lnTo>
                    <a:pt x="953" y="632"/>
                  </a:lnTo>
                  <a:lnTo>
                    <a:pt x="954" y="634"/>
                  </a:lnTo>
                  <a:lnTo>
                    <a:pt x="958" y="636"/>
                  </a:lnTo>
                  <a:lnTo>
                    <a:pt x="960" y="636"/>
                  </a:lnTo>
                  <a:lnTo>
                    <a:pt x="961" y="637"/>
                  </a:lnTo>
                  <a:lnTo>
                    <a:pt x="963" y="637"/>
                  </a:lnTo>
                  <a:lnTo>
                    <a:pt x="967" y="639"/>
                  </a:lnTo>
                  <a:lnTo>
                    <a:pt x="968" y="643"/>
                  </a:lnTo>
                  <a:lnTo>
                    <a:pt x="972" y="644"/>
                  </a:lnTo>
                  <a:lnTo>
                    <a:pt x="975" y="650"/>
                  </a:lnTo>
                  <a:lnTo>
                    <a:pt x="979" y="653"/>
                  </a:lnTo>
                  <a:lnTo>
                    <a:pt x="981" y="657"/>
                  </a:lnTo>
                  <a:lnTo>
                    <a:pt x="982" y="662"/>
                  </a:lnTo>
                  <a:lnTo>
                    <a:pt x="982" y="664"/>
                  </a:lnTo>
                  <a:lnTo>
                    <a:pt x="984" y="667"/>
                  </a:lnTo>
                  <a:lnTo>
                    <a:pt x="984" y="669"/>
                  </a:lnTo>
                  <a:lnTo>
                    <a:pt x="986" y="672"/>
                  </a:lnTo>
                  <a:lnTo>
                    <a:pt x="986" y="674"/>
                  </a:lnTo>
                  <a:lnTo>
                    <a:pt x="988" y="676"/>
                  </a:lnTo>
                  <a:lnTo>
                    <a:pt x="988" y="679"/>
                  </a:lnTo>
                  <a:lnTo>
                    <a:pt x="988" y="683"/>
                  </a:lnTo>
                  <a:lnTo>
                    <a:pt x="988" y="685"/>
                  </a:lnTo>
                  <a:lnTo>
                    <a:pt x="989" y="688"/>
                  </a:lnTo>
                  <a:lnTo>
                    <a:pt x="989" y="692"/>
                  </a:lnTo>
                  <a:lnTo>
                    <a:pt x="989" y="695"/>
                  </a:lnTo>
                  <a:lnTo>
                    <a:pt x="989" y="697"/>
                  </a:lnTo>
                  <a:lnTo>
                    <a:pt x="989" y="700"/>
                  </a:lnTo>
                  <a:lnTo>
                    <a:pt x="989" y="702"/>
                  </a:lnTo>
                  <a:lnTo>
                    <a:pt x="989" y="706"/>
                  </a:lnTo>
                  <a:lnTo>
                    <a:pt x="989" y="709"/>
                  </a:lnTo>
                  <a:lnTo>
                    <a:pt x="989" y="713"/>
                  </a:lnTo>
                  <a:lnTo>
                    <a:pt x="989" y="714"/>
                  </a:lnTo>
                  <a:lnTo>
                    <a:pt x="989" y="718"/>
                  </a:lnTo>
                  <a:lnTo>
                    <a:pt x="989" y="721"/>
                  </a:lnTo>
                  <a:lnTo>
                    <a:pt x="988" y="725"/>
                  </a:lnTo>
                  <a:lnTo>
                    <a:pt x="988" y="727"/>
                  </a:lnTo>
                  <a:lnTo>
                    <a:pt x="988" y="730"/>
                  </a:lnTo>
                  <a:lnTo>
                    <a:pt x="988" y="734"/>
                  </a:lnTo>
                  <a:lnTo>
                    <a:pt x="988" y="737"/>
                  </a:lnTo>
                  <a:lnTo>
                    <a:pt x="986" y="739"/>
                  </a:lnTo>
                  <a:lnTo>
                    <a:pt x="986" y="744"/>
                  </a:lnTo>
                  <a:lnTo>
                    <a:pt x="986" y="746"/>
                  </a:lnTo>
                  <a:lnTo>
                    <a:pt x="986" y="749"/>
                  </a:lnTo>
                  <a:lnTo>
                    <a:pt x="984" y="751"/>
                  </a:lnTo>
                  <a:lnTo>
                    <a:pt x="984" y="755"/>
                  </a:lnTo>
                  <a:lnTo>
                    <a:pt x="982" y="758"/>
                  </a:lnTo>
                  <a:lnTo>
                    <a:pt x="982" y="762"/>
                  </a:lnTo>
                  <a:lnTo>
                    <a:pt x="982" y="763"/>
                  </a:lnTo>
                  <a:lnTo>
                    <a:pt x="982" y="767"/>
                  </a:lnTo>
                  <a:lnTo>
                    <a:pt x="981" y="771"/>
                  </a:lnTo>
                  <a:lnTo>
                    <a:pt x="979" y="772"/>
                  </a:lnTo>
                  <a:lnTo>
                    <a:pt x="979" y="776"/>
                  </a:lnTo>
                  <a:lnTo>
                    <a:pt x="979" y="779"/>
                  </a:lnTo>
                  <a:lnTo>
                    <a:pt x="979" y="781"/>
                  </a:lnTo>
                  <a:lnTo>
                    <a:pt x="977" y="783"/>
                  </a:lnTo>
                  <a:lnTo>
                    <a:pt x="975" y="786"/>
                  </a:lnTo>
                  <a:lnTo>
                    <a:pt x="975" y="790"/>
                  </a:lnTo>
                  <a:lnTo>
                    <a:pt x="1052" y="79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5160" y="4393800"/>
              <a:ext cx="576000" cy="549360"/>
            </a:xfrm>
            <a:custGeom>
              <a:avLst/>
              <a:gdLst/>
              <a:ahLst/>
              <a:rect l="l" t="t" r="r" b="b"/>
              <a:pathLst>
                <a:path w="908" h="867">
                  <a:moveTo>
                    <a:pt x="0" y="390"/>
                  </a:moveTo>
                  <a:lnTo>
                    <a:pt x="203" y="510"/>
                  </a:lnTo>
                  <a:lnTo>
                    <a:pt x="502" y="0"/>
                  </a:lnTo>
                  <a:lnTo>
                    <a:pt x="908" y="238"/>
                  </a:lnTo>
                  <a:lnTo>
                    <a:pt x="609" y="748"/>
                  </a:lnTo>
                  <a:lnTo>
                    <a:pt x="812" y="867"/>
                  </a:lnTo>
                  <a:lnTo>
                    <a:pt x="306" y="798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89200" y="2522160"/>
              <a:ext cx="596880" cy="500040"/>
            </a:xfrm>
            <a:custGeom>
              <a:avLst/>
              <a:gdLst/>
              <a:ahLst/>
              <a:rect l="l" t="t" r="r" b="b"/>
              <a:pathLst>
                <a:path w="940" h="787">
                  <a:moveTo>
                    <a:pt x="0" y="197"/>
                  </a:moveTo>
                  <a:lnTo>
                    <a:pt x="234" y="197"/>
                  </a:lnTo>
                  <a:lnTo>
                    <a:pt x="236" y="787"/>
                  </a:lnTo>
                  <a:lnTo>
                    <a:pt x="707" y="787"/>
                  </a:lnTo>
                  <a:lnTo>
                    <a:pt x="705" y="196"/>
                  </a:lnTo>
                  <a:lnTo>
                    <a:pt x="940" y="196"/>
                  </a:lnTo>
                  <a:lnTo>
                    <a:pt x="469" y="0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2040" y="3795480"/>
              <a:ext cx="360360" cy="449280"/>
            </a:xfrm>
            <a:custGeom>
              <a:avLst/>
              <a:gdLst/>
              <a:ahLst/>
              <a:rect l="l" t="t" r="r" b="b"/>
              <a:pathLst>
                <a:path w="567" h="709">
                  <a:moveTo>
                    <a:pt x="565" y="453"/>
                  </a:moveTo>
                  <a:lnTo>
                    <a:pt x="567" y="373"/>
                  </a:lnTo>
                  <a:lnTo>
                    <a:pt x="488" y="451"/>
                  </a:lnTo>
                  <a:lnTo>
                    <a:pt x="488" y="373"/>
                  </a:lnTo>
                  <a:lnTo>
                    <a:pt x="408" y="451"/>
                  </a:lnTo>
                  <a:lnTo>
                    <a:pt x="401" y="451"/>
                  </a:lnTo>
                  <a:lnTo>
                    <a:pt x="401" y="373"/>
                  </a:lnTo>
                  <a:lnTo>
                    <a:pt x="320" y="451"/>
                  </a:lnTo>
                  <a:lnTo>
                    <a:pt x="294" y="451"/>
                  </a:lnTo>
                  <a:lnTo>
                    <a:pt x="266" y="84"/>
                  </a:lnTo>
                  <a:lnTo>
                    <a:pt x="210" y="84"/>
                  </a:lnTo>
                  <a:lnTo>
                    <a:pt x="189" y="451"/>
                  </a:lnTo>
                  <a:lnTo>
                    <a:pt x="159" y="451"/>
                  </a:lnTo>
                  <a:lnTo>
                    <a:pt x="131" y="0"/>
                  </a:lnTo>
                  <a:lnTo>
                    <a:pt x="73" y="0"/>
                  </a:lnTo>
                  <a:lnTo>
                    <a:pt x="51" y="451"/>
                  </a:lnTo>
                  <a:lnTo>
                    <a:pt x="0" y="451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709"/>
                  </a:lnTo>
                  <a:lnTo>
                    <a:pt x="565" y="709"/>
                  </a:lnTo>
                  <a:lnTo>
                    <a:pt x="565" y="507"/>
                  </a:lnTo>
                  <a:lnTo>
                    <a:pt x="567" y="504"/>
                  </a:lnTo>
                  <a:lnTo>
                    <a:pt x="565" y="453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2600" y="3900240"/>
              <a:ext cx="498600" cy="293760"/>
            </a:xfrm>
            <a:custGeom>
              <a:avLst/>
              <a:gdLst/>
              <a:ahLst/>
              <a:rect l="l" t="t" r="r" b="b"/>
              <a:pathLst>
                <a:path w="786" h="464">
                  <a:moveTo>
                    <a:pt x="707" y="464"/>
                  </a:moveTo>
                  <a:lnTo>
                    <a:pt x="707" y="462"/>
                  </a:lnTo>
                  <a:lnTo>
                    <a:pt x="707" y="460"/>
                  </a:lnTo>
                  <a:lnTo>
                    <a:pt x="705" y="459"/>
                  </a:lnTo>
                  <a:lnTo>
                    <a:pt x="705" y="457"/>
                  </a:lnTo>
                  <a:lnTo>
                    <a:pt x="705" y="453"/>
                  </a:lnTo>
                  <a:lnTo>
                    <a:pt x="705" y="452"/>
                  </a:lnTo>
                  <a:lnTo>
                    <a:pt x="705" y="450"/>
                  </a:lnTo>
                  <a:lnTo>
                    <a:pt x="705" y="448"/>
                  </a:lnTo>
                  <a:lnTo>
                    <a:pt x="705" y="446"/>
                  </a:lnTo>
                  <a:lnTo>
                    <a:pt x="705" y="443"/>
                  </a:lnTo>
                  <a:lnTo>
                    <a:pt x="705" y="441"/>
                  </a:lnTo>
                  <a:lnTo>
                    <a:pt x="705" y="439"/>
                  </a:lnTo>
                  <a:lnTo>
                    <a:pt x="705" y="438"/>
                  </a:lnTo>
                  <a:lnTo>
                    <a:pt x="705" y="436"/>
                  </a:lnTo>
                  <a:lnTo>
                    <a:pt x="705" y="432"/>
                  </a:lnTo>
                  <a:lnTo>
                    <a:pt x="705" y="431"/>
                  </a:lnTo>
                  <a:lnTo>
                    <a:pt x="705" y="429"/>
                  </a:lnTo>
                  <a:lnTo>
                    <a:pt x="705" y="427"/>
                  </a:lnTo>
                  <a:lnTo>
                    <a:pt x="705" y="424"/>
                  </a:lnTo>
                  <a:lnTo>
                    <a:pt x="705" y="422"/>
                  </a:lnTo>
                  <a:lnTo>
                    <a:pt x="705" y="420"/>
                  </a:lnTo>
                  <a:lnTo>
                    <a:pt x="705" y="418"/>
                  </a:lnTo>
                  <a:lnTo>
                    <a:pt x="705" y="417"/>
                  </a:lnTo>
                  <a:lnTo>
                    <a:pt x="705" y="413"/>
                  </a:lnTo>
                  <a:lnTo>
                    <a:pt x="705" y="411"/>
                  </a:lnTo>
                  <a:lnTo>
                    <a:pt x="705" y="410"/>
                  </a:lnTo>
                  <a:lnTo>
                    <a:pt x="705" y="406"/>
                  </a:lnTo>
                  <a:lnTo>
                    <a:pt x="705" y="406"/>
                  </a:lnTo>
                  <a:lnTo>
                    <a:pt x="705" y="403"/>
                  </a:lnTo>
                  <a:lnTo>
                    <a:pt x="705" y="401"/>
                  </a:lnTo>
                  <a:lnTo>
                    <a:pt x="705" y="399"/>
                  </a:lnTo>
                  <a:lnTo>
                    <a:pt x="705" y="397"/>
                  </a:lnTo>
                  <a:lnTo>
                    <a:pt x="705" y="394"/>
                  </a:lnTo>
                  <a:lnTo>
                    <a:pt x="705" y="392"/>
                  </a:lnTo>
                  <a:lnTo>
                    <a:pt x="705" y="390"/>
                  </a:lnTo>
                  <a:lnTo>
                    <a:pt x="705" y="387"/>
                  </a:lnTo>
                  <a:lnTo>
                    <a:pt x="705" y="385"/>
                  </a:lnTo>
                  <a:lnTo>
                    <a:pt x="707" y="383"/>
                  </a:lnTo>
                  <a:lnTo>
                    <a:pt x="707" y="382"/>
                  </a:lnTo>
                  <a:lnTo>
                    <a:pt x="707" y="380"/>
                  </a:lnTo>
                  <a:lnTo>
                    <a:pt x="707" y="376"/>
                  </a:lnTo>
                  <a:lnTo>
                    <a:pt x="707" y="375"/>
                  </a:lnTo>
                  <a:lnTo>
                    <a:pt x="707" y="373"/>
                  </a:lnTo>
                  <a:lnTo>
                    <a:pt x="707" y="371"/>
                  </a:lnTo>
                  <a:lnTo>
                    <a:pt x="707" y="369"/>
                  </a:lnTo>
                  <a:lnTo>
                    <a:pt x="707" y="366"/>
                  </a:lnTo>
                  <a:lnTo>
                    <a:pt x="707" y="364"/>
                  </a:lnTo>
                  <a:lnTo>
                    <a:pt x="709" y="362"/>
                  </a:lnTo>
                  <a:lnTo>
                    <a:pt x="709" y="361"/>
                  </a:lnTo>
                  <a:lnTo>
                    <a:pt x="709" y="359"/>
                  </a:lnTo>
                  <a:lnTo>
                    <a:pt x="709" y="357"/>
                  </a:lnTo>
                  <a:lnTo>
                    <a:pt x="709" y="355"/>
                  </a:lnTo>
                  <a:lnTo>
                    <a:pt x="709" y="354"/>
                  </a:lnTo>
                  <a:lnTo>
                    <a:pt x="709" y="350"/>
                  </a:lnTo>
                  <a:lnTo>
                    <a:pt x="709" y="348"/>
                  </a:lnTo>
                  <a:lnTo>
                    <a:pt x="709" y="347"/>
                  </a:lnTo>
                  <a:lnTo>
                    <a:pt x="709" y="345"/>
                  </a:lnTo>
                  <a:lnTo>
                    <a:pt x="711" y="343"/>
                  </a:lnTo>
                  <a:lnTo>
                    <a:pt x="711" y="341"/>
                  </a:lnTo>
                  <a:lnTo>
                    <a:pt x="711" y="340"/>
                  </a:lnTo>
                  <a:lnTo>
                    <a:pt x="711" y="338"/>
                  </a:lnTo>
                  <a:lnTo>
                    <a:pt x="711" y="336"/>
                  </a:lnTo>
                  <a:lnTo>
                    <a:pt x="712" y="334"/>
                  </a:lnTo>
                  <a:lnTo>
                    <a:pt x="712" y="333"/>
                  </a:lnTo>
                  <a:lnTo>
                    <a:pt x="711" y="331"/>
                  </a:lnTo>
                  <a:lnTo>
                    <a:pt x="711" y="329"/>
                  </a:lnTo>
                  <a:lnTo>
                    <a:pt x="711" y="327"/>
                  </a:lnTo>
                  <a:lnTo>
                    <a:pt x="709" y="326"/>
                  </a:lnTo>
                  <a:lnTo>
                    <a:pt x="709" y="326"/>
                  </a:lnTo>
                  <a:lnTo>
                    <a:pt x="709" y="324"/>
                  </a:lnTo>
                  <a:lnTo>
                    <a:pt x="707" y="322"/>
                  </a:lnTo>
                  <a:lnTo>
                    <a:pt x="707" y="320"/>
                  </a:lnTo>
                  <a:lnTo>
                    <a:pt x="707" y="319"/>
                  </a:lnTo>
                  <a:lnTo>
                    <a:pt x="705" y="317"/>
                  </a:lnTo>
                  <a:lnTo>
                    <a:pt x="705" y="315"/>
                  </a:lnTo>
                  <a:lnTo>
                    <a:pt x="705" y="315"/>
                  </a:lnTo>
                  <a:lnTo>
                    <a:pt x="705" y="312"/>
                  </a:lnTo>
                  <a:lnTo>
                    <a:pt x="704" y="312"/>
                  </a:lnTo>
                  <a:lnTo>
                    <a:pt x="704" y="310"/>
                  </a:lnTo>
                  <a:lnTo>
                    <a:pt x="704" y="308"/>
                  </a:lnTo>
                  <a:lnTo>
                    <a:pt x="702" y="306"/>
                  </a:lnTo>
                  <a:lnTo>
                    <a:pt x="702" y="305"/>
                  </a:lnTo>
                  <a:lnTo>
                    <a:pt x="702" y="303"/>
                  </a:lnTo>
                  <a:lnTo>
                    <a:pt x="702" y="301"/>
                  </a:lnTo>
                  <a:lnTo>
                    <a:pt x="700" y="299"/>
                  </a:lnTo>
                  <a:lnTo>
                    <a:pt x="700" y="298"/>
                  </a:lnTo>
                  <a:lnTo>
                    <a:pt x="700" y="298"/>
                  </a:lnTo>
                  <a:lnTo>
                    <a:pt x="700" y="296"/>
                  </a:lnTo>
                  <a:lnTo>
                    <a:pt x="698" y="294"/>
                  </a:lnTo>
                  <a:lnTo>
                    <a:pt x="698" y="292"/>
                  </a:lnTo>
                  <a:lnTo>
                    <a:pt x="698" y="291"/>
                  </a:lnTo>
                  <a:lnTo>
                    <a:pt x="698" y="289"/>
                  </a:lnTo>
                  <a:lnTo>
                    <a:pt x="697" y="287"/>
                  </a:lnTo>
                  <a:lnTo>
                    <a:pt x="697" y="285"/>
                  </a:lnTo>
                  <a:lnTo>
                    <a:pt x="697" y="284"/>
                  </a:lnTo>
                  <a:lnTo>
                    <a:pt x="697" y="284"/>
                  </a:lnTo>
                  <a:lnTo>
                    <a:pt x="697" y="280"/>
                  </a:lnTo>
                  <a:lnTo>
                    <a:pt x="697" y="280"/>
                  </a:lnTo>
                  <a:lnTo>
                    <a:pt x="697" y="278"/>
                  </a:lnTo>
                  <a:lnTo>
                    <a:pt x="697" y="277"/>
                  </a:lnTo>
                  <a:lnTo>
                    <a:pt x="695" y="275"/>
                  </a:lnTo>
                  <a:lnTo>
                    <a:pt x="695" y="273"/>
                  </a:lnTo>
                  <a:lnTo>
                    <a:pt x="695" y="271"/>
                  </a:lnTo>
                  <a:lnTo>
                    <a:pt x="695" y="270"/>
                  </a:lnTo>
                  <a:lnTo>
                    <a:pt x="695" y="268"/>
                  </a:lnTo>
                  <a:lnTo>
                    <a:pt x="695" y="266"/>
                  </a:lnTo>
                  <a:lnTo>
                    <a:pt x="695" y="264"/>
                  </a:lnTo>
                  <a:lnTo>
                    <a:pt x="695" y="263"/>
                  </a:lnTo>
                  <a:lnTo>
                    <a:pt x="695" y="261"/>
                  </a:lnTo>
                  <a:lnTo>
                    <a:pt x="695" y="259"/>
                  </a:lnTo>
                  <a:lnTo>
                    <a:pt x="695" y="257"/>
                  </a:lnTo>
                  <a:lnTo>
                    <a:pt x="695" y="256"/>
                  </a:lnTo>
                  <a:lnTo>
                    <a:pt x="695" y="254"/>
                  </a:lnTo>
                  <a:lnTo>
                    <a:pt x="695" y="252"/>
                  </a:lnTo>
                  <a:lnTo>
                    <a:pt x="695" y="250"/>
                  </a:lnTo>
                  <a:lnTo>
                    <a:pt x="697" y="249"/>
                  </a:lnTo>
                  <a:lnTo>
                    <a:pt x="697" y="247"/>
                  </a:lnTo>
                  <a:lnTo>
                    <a:pt x="697" y="245"/>
                  </a:lnTo>
                  <a:lnTo>
                    <a:pt x="697" y="245"/>
                  </a:lnTo>
                  <a:lnTo>
                    <a:pt x="697" y="243"/>
                  </a:lnTo>
                  <a:lnTo>
                    <a:pt x="697" y="240"/>
                  </a:lnTo>
                  <a:lnTo>
                    <a:pt x="698" y="240"/>
                  </a:lnTo>
                  <a:lnTo>
                    <a:pt x="698" y="238"/>
                  </a:lnTo>
                  <a:lnTo>
                    <a:pt x="698" y="235"/>
                  </a:lnTo>
                  <a:lnTo>
                    <a:pt x="700" y="235"/>
                  </a:lnTo>
                  <a:lnTo>
                    <a:pt x="700" y="233"/>
                  </a:lnTo>
                  <a:lnTo>
                    <a:pt x="700" y="231"/>
                  </a:lnTo>
                  <a:lnTo>
                    <a:pt x="702" y="229"/>
                  </a:lnTo>
                  <a:lnTo>
                    <a:pt x="704" y="229"/>
                  </a:lnTo>
                  <a:lnTo>
                    <a:pt x="705" y="231"/>
                  </a:lnTo>
                  <a:lnTo>
                    <a:pt x="705" y="233"/>
                  </a:lnTo>
                  <a:lnTo>
                    <a:pt x="705" y="235"/>
                  </a:lnTo>
                  <a:lnTo>
                    <a:pt x="707" y="235"/>
                  </a:lnTo>
                  <a:lnTo>
                    <a:pt x="707" y="238"/>
                  </a:lnTo>
                  <a:lnTo>
                    <a:pt x="707" y="240"/>
                  </a:lnTo>
                  <a:lnTo>
                    <a:pt x="707" y="242"/>
                  </a:lnTo>
                  <a:lnTo>
                    <a:pt x="709" y="243"/>
                  </a:lnTo>
                  <a:lnTo>
                    <a:pt x="709" y="245"/>
                  </a:lnTo>
                  <a:lnTo>
                    <a:pt x="711" y="249"/>
                  </a:lnTo>
                  <a:lnTo>
                    <a:pt x="712" y="250"/>
                  </a:lnTo>
                  <a:lnTo>
                    <a:pt x="714" y="254"/>
                  </a:lnTo>
                  <a:lnTo>
                    <a:pt x="714" y="256"/>
                  </a:lnTo>
                  <a:lnTo>
                    <a:pt x="716" y="259"/>
                  </a:lnTo>
                  <a:lnTo>
                    <a:pt x="716" y="261"/>
                  </a:lnTo>
                  <a:lnTo>
                    <a:pt x="718" y="264"/>
                  </a:lnTo>
                  <a:lnTo>
                    <a:pt x="718" y="266"/>
                  </a:lnTo>
                  <a:lnTo>
                    <a:pt x="718" y="270"/>
                  </a:lnTo>
                  <a:lnTo>
                    <a:pt x="719" y="273"/>
                  </a:lnTo>
                  <a:lnTo>
                    <a:pt x="719" y="275"/>
                  </a:lnTo>
                  <a:lnTo>
                    <a:pt x="721" y="278"/>
                  </a:lnTo>
                  <a:lnTo>
                    <a:pt x="721" y="280"/>
                  </a:lnTo>
                  <a:lnTo>
                    <a:pt x="721" y="284"/>
                  </a:lnTo>
                  <a:lnTo>
                    <a:pt x="721" y="287"/>
                  </a:lnTo>
                  <a:lnTo>
                    <a:pt x="721" y="291"/>
                  </a:lnTo>
                  <a:lnTo>
                    <a:pt x="723" y="292"/>
                  </a:lnTo>
                  <a:lnTo>
                    <a:pt x="723" y="296"/>
                  </a:lnTo>
                  <a:lnTo>
                    <a:pt x="723" y="298"/>
                  </a:lnTo>
                  <a:lnTo>
                    <a:pt x="723" y="301"/>
                  </a:lnTo>
                  <a:lnTo>
                    <a:pt x="723" y="305"/>
                  </a:lnTo>
                  <a:lnTo>
                    <a:pt x="723" y="308"/>
                  </a:lnTo>
                  <a:lnTo>
                    <a:pt x="723" y="312"/>
                  </a:lnTo>
                  <a:lnTo>
                    <a:pt x="723" y="313"/>
                  </a:lnTo>
                  <a:lnTo>
                    <a:pt x="725" y="317"/>
                  </a:lnTo>
                  <a:lnTo>
                    <a:pt x="725" y="319"/>
                  </a:lnTo>
                  <a:lnTo>
                    <a:pt x="725" y="322"/>
                  </a:lnTo>
                  <a:lnTo>
                    <a:pt x="725" y="326"/>
                  </a:lnTo>
                  <a:lnTo>
                    <a:pt x="725" y="329"/>
                  </a:lnTo>
                  <a:lnTo>
                    <a:pt x="726" y="331"/>
                  </a:lnTo>
                  <a:lnTo>
                    <a:pt x="726" y="334"/>
                  </a:lnTo>
                  <a:lnTo>
                    <a:pt x="726" y="336"/>
                  </a:lnTo>
                  <a:lnTo>
                    <a:pt x="726" y="340"/>
                  </a:lnTo>
                  <a:lnTo>
                    <a:pt x="726" y="343"/>
                  </a:lnTo>
                  <a:lnTo>
                    <a:pt x="726" y="345"/>
                  </a:lnTo>
                  <a:lnTo>
                    <a:pt x="728" y="348"/>
                  </a:lnTo>
                  <a:lnTo>
                    <a:pt x="728" y="350"/>
                  </a:lnTo>
                  <a:lnTo>
                    <a:pt x="728" y="354"/>
                  </a:lnTo>
                  <a:lnTo>
                    <a:pt x="730" y="355"/>
                  </a:lnTo>
                  <a:lnTo>
                    <a:pt x="730" y="359"/>
                  </a:lnTo>
                  <a:lnTo>
                    <a:pt x="732" y="361"/>
                  </a:lnTo>
                  <a:lnTo>
                    <a:pt x="733" y="364"/>
                  </a:lnTo>
                  <a:lnTo>
                    <a:pt x="733" y="366"/>
                  </a:lnTo>
                  <a:lnTo>
                    <a:pt x="733" y="368"/>
                  </a:lnTo>
                  <a:lnTo>
                    <a:pt x="735" y="371"/>
                  </a:lnTo>
                  <a:lnTo>
                    <a:pt x="737" y="373"/>
                  </a:lnTo>
                  <a:lnTo>
                    <a:pt x="739" y="375"/>
                  </a:lnTo>
                  <a:lnTo>
                    <a:pt x="739" y="376"/>
                  </a:lnTo>
                  <a:lnTo>
                    <a:pt x="740" y="380"/>
                  </a:lnTo>
                  <a:lnTo>
                    <a:pt x="742" y="382"/>
                  </a:lnTo>
                  <a:lnTo>
                    <a:pt x="744" y="383"/>
                  </a:lnTo>
                  <a:lnTo>
                    <a:pt x="747" y="385"/>
                  </a:lnTo>
                  <a:lnTo>
                    <a:pt x="747" y="387"/>
                  </a:lnTo>
                  <a:lnTo>
                    <a:pt x="751" y="390"/>
                  </a:lnTo>
                  <a:lnTo>
                    <a:pt x="753" y="390"/>
                  </a:lnTo>
                  <a:lnTo>
                    <a:pt x="756" y="392"/>
                  </a:lnTo>
                  <a:lnTo>
                    <a:pt x="758" y="394"/>
                  </a:lnTo>
                  <a:lnTo>
                    <a:pt x="761" y="396"/>
                  </a:lnTo>
                  <a:lnTo>
                    <a:pt x="763" y="397"/>
                  </a:lnTo>
                  <a:lnTo>
                    <a:pt x="767" y="399"/>
                  </a:lnTo>
                  <a:lnTo>
                    <a:pt x="770" y="401"/>
                  </a:lnTo>
                  <a:lnTo>
                    <a:pt x="774" y="401"/>
                  </a:lnTo>
                  <a:lnTo>
                    <a:pt x="772" y="399"/>
                  </a:lnTo>
                  <a:lnTo>
                    <a:pt x="768" y="396"/>
                  </a:lnTo>
                  <a:lnTo>
                    <a:pt x="767" y="394"/>
                  </a:lnTo>
                  <a:lnTo>
                    <a:pt x="763" y="392"/>
                  </a:lnTo>
                  <a:lnTo>
                    <a:pt x="761" y="389"/>
                  </a:lnTo>
                  <a:lnTo>
                    <a:pt x="758" y="387"/>
                  </a:lnTo>
                  <a:lnTo>
                    <a:pt x="756" y="385"/>
                  </a:lnTo>
                  <a:lnTo>
                    <a:pt x="754" y="382"/>
                  </a:lnTo>
                  <a:lnTo>
                    <a:pt x="758" y="382"/>
                  </a:lnTo>
                  <a:lnTo>
                    <a:pt x="760" y="382"/>
                  </a:lnTo>
                  <a:lnTo>
                    <a:pt x="761" y="382"/>
                  </a:lnTo>
                  <a:lnTo>
                    <a:pt x="763" y="383"/>
                  </a:lnTo>
                  <a:lnTo>
                    <a:pt x="765" y="385"/>
                  </a:lnTo>
                  <a:lnTo>
                    <a:pt x="767" y="387"/>
                  </a:lnTo>
                  <a:lnTo>
                    <a:pt x="768" y="389"/>
                  </a:lnTo>
                  <a:lnTo>
                    <a:pt x="770" y="390"/>
                  </a:lnTo>
                  <a:lnTo>
                    <a:pt x="772" y="392"/>
                  </a:lnTo>
                  <a:lnTo>
                    <a:pt x="774" y="394"/>
                  </a:lnTo>
                  <a:lnTo>
                    <a:pt x="775" y="396"/>
                  </a:lnTo>
                  <a:lnTo>
                    <a:pt x="777" y="397"/>
                  </a:lnTo>
                  <a:lnTo>
                    <a:pt x="779" y="397"/>
                  </a:lnTo>
                  <a:lnTo>
                    <a:pt x="781" y="397"/>
                  </a:lnTo>
                  <a:lnTo>
                    <a:pt x="782" y="397"/>
                  </a:lnTo>
                  <a:lnTo>
                    <a:pt x="786" y="397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1" y="389"/>
                  </a:lnTo>
                  <a:lnTo>
                    <a:pt x="779" y="387"/>
                  </a:lnTo>
                  <a:lnTo>
                    <a:pt x="777" y="383"/>
                  </a:lnTo>
                  <a:lnTo>
                    <a:pt x="777" y="380"/>
                  </a:lnTo>
                  <a:lnTo>
                    <a:pt x="775" y="376"/>
                  </a:lnTo>
                  <a:lnTo>
                    <a:pt x="775" y="373"/>
                  </a:lnTo>
                  <a:lnTo>
                    <a:pt x="774" y="368"/>
                  </a:lnTo>
                  <a:lnTo>
                    <a:pt x="774" y="364"/>
                  </a:lnTo>
                  <a:lnTo>
                    <a:pt x="774" y="361"/>
                  </a:lnTo>
                  <a:lnTo>
                    <a:pt x="774" y="357"/>
                  </a:lnTo>
                  <a:lnTo>
                    <a:pt x="772" y="354"/>
                  </a:lnTo>
                  <a:lnTo>
                    <a:pt x="772" y="350"/>
                  </a:lnTo>
                  <a:lnTo>
                    <a:pt x="770" y="347"/>
                  </a:lnTo>
                  <a:lnTo>
                    <a:pt x="768" y="343"/>
                  </a:lnTo>
                  <a:lnTo>
                    <a:pt x="768" y="340"/>
                  </a:lnTo>
                  <a:lnTo>
                    <a:pt x="768" y="336"/>
                  </a:lnTo>
                  <a:lnTo>
                    <a:pt x="767" y="333"/>
                  </a:lnTo>
                  <a:lnTo>
                    <a:pt x="767" y="329"/>
                  </a:lnTo>
                  <a:lnTo>
                    <a:pt x="765" y="326"/>
                  </a:lnTo>
                  <a:lnTo>
                    <a:pt x="763" y="322"/>
                  </a:lnTo>
                  <a:lnTo>
                    <a:pt x="763" y="317"/>
                  </a:lnTo>
                  <a:lnTo>
                    <a:pt x="763" y="315"/>
                  </a:lnTo>
                  <a:lnTo>
                    <a:pt x="761" y="312"/>
                  </a:lnTo>
                  <a:lnTo>
                    <a:pt x="760" y="306"/>
                  </a:lnTo>
                  <a:lnTo>
                    <a:pt x="760" y="303"/>
                  </a:lnTo>
                  <a:lnTo>
                    <a:pt x="758" y="299"/>
                  </a:lnTo>
                  <a:lnTo>
                    <a:pt x="758" y="296"/>
                  </a:lnTo>
                  <a:lnTo>
                    <a:pt x="756" y="292"/>
                  </a:lnTo>
                  <a:lnTo>
                    <a:pt x="756" y="289"/>
                  </a:lnTo>
                  <a:lnTo>
                    <a:pt x="754" y="285"/>
                  </a:lnTo>
                  <a:lnTo>
                    <a:pt x="753" y="282"/>
                  </a:lnTo>
                  <a:lnTo>
                    <a:pt x="753" y="278"/>
                  </a:lnTo>
                  <a:lnTo>
                    <a:pt x="753" y="275"/>
                  </a:lnTo>
                  <a:lnTo>
                    <a:pt x="751" y="271"/>
                  </a:lnTo>
                  <a:lnTo>
                    <a:pt x="751" y="268"/>
                  </a:lnTo>
                  <a:lnTo>
                    <a:pt x="749" y="264"/>
                  </a:lnTo>
                  <a:lnTo>
                    <a:pt x="747" y="261"/>
                  </a:lnTo>
                  <a:lnTo>
                    <a:pt x="747" y="257"/>
                  </a:lnTo>
                  <a:lnTo>
                    <a:pt x="747" y="254"/>
                  </a:lnTo>
                  <a:lnTo>
                    <a:pt x="746" y="249"/>
                  </a:lnTo>
                  <a:lnTo>
                    <a:pt x="744" y="245"/>
                  </a:lnTo>
                  <a:lnTo>
                    <a:pt x="744" y="243"/>
                  </a:lnTo>
                  <a:lnTo>
                    <a:pt x="744" y="238"/>
                  </a:lnTo>
                  <a:lnTo>
                    <a:pt x="742" y="235"/>
                  </a:lnTo>
                  <a:lnTo>
                    <a:pt x="742" y="231"/>
                  </a:lnTo>
                  <a:lnTo>
                    <a:pt x="742" y="228"/>
                  </a:lnTo>
                  <a:lnTo>
                    <a:pt x="740" y="224"/>
                  </a:lnTo>
                  <a:lnTo>
                    <a:pt x="740" y="221"/>
                  </a:lnTo>
                  <a:lnTo>
                    <a:pt x="739" y="217"/>
                  </a:lnTo>
                  <a:lnTo>
                    <a:pt x="739" y="214"/>
                  </a:lnTo>
                  <a:lnTo>
                    <a:pt x="739" y="210"/>
                  </a:lnTo>
                  <a:lnTo>
                    <a:pt x="739" y="207"/>
                  </a:lnTo>
                  <a:lnTo>
                    <a:pt x="737" y="201"/>
                  </a:lnTo>
                  <a:lnTo>
                    <a:pt x="737" y="198"/>
                  </a:lnTo>
                  <a:lnTo>
                    <a:pt x="737" y="194"/>
                  </a:lnTo>
                  <a:lnTo>
                    <a:pt x="735" y="191"/>
                  </a:lnTo>
                  <a:lnTo>
                    <a:pt x="735" y="187"/>
                  </a:lnTo>
                  <a:lnTo>
                    <a:pt x="735" y="184"/>
                  </a:lnTo>
                  <a:lnTo>
                    <a:pt x="735" y="179"/>
                  </a:lnTo>
                  <a:lnTo>
                    <a:pt x="735" y="175"/>
                  </a:lnTo>
                  <a:lnTo>
                    <a:pt x="735" y="172"/>
                  </a:lnTo>
                  <a:lnTo>
                    <a:pt x="735" y="168"/>
                  </a:lnTo>
                  <a:lnTo>
                    <a:pt x="735" y="165"/>
                  </a:lnTo>
                  <a:lnTo>
                    <a:pt x="735" y="161"/>
                  </a:lnTo>
                  <a:lnTo>
                    <a:pt x="735" y="156"/>
                  </a:lnTo>
                  <a:lnTo>
                    <a:pt x="735" y="152"/>
                  </a:lnTo>
                  <a:lnTo>
                    <a:pt x="735" y="151"/>
                  </a:lnTo>
                  <a:lnTo>
                    <a:pt x="735" y="147"/>
                  </a:lnTo>
                  <a:lnTo>
                    <a:pt x="735" y="144"/>
                  </a:lnTo>
                  <a:lnTo>
                    <a:pt x="735" y="142"/>
                  </a:lnTo>
                  <a:lnTo>
                    <a:pt x="735" y="138"/>
                  </a:lnTo>
                  <a:lnTo>
                    <a:pt x="735" y="135"/>
                  </a:lnTo>
                  <a:lnTo>
                    <a:pt x="735" y="133"/>
                  </a:lnTo>
                  <a:lnTo>
                    <a:pt x="735" y="131"/>
                  </a:lnTo>
                  <a:lnTo>
                    <a:pt x="735" y="128"/>
                  </a:lnTo>
                  <a:lnTo>
                    <a:pt x="735" y="124"/>
                  </a:lnTo>
                  <a:lnTo>
                    <a:pt x="735" y="123"/>
                  </a:lnTo>
                  <a:lnTo>
                    <a:pt x="735" y="119"/>
                  </a:lnTo>
                  <a:lnTo>
                    <a:pt x="733" y="117"/>
                  </a:lnTo>
                  <a:lnTo>
                    <a:pt x="733" y="114"/>
                  </a:lnTo>
                  <a:lnTo>
                    <a:pt x="733" y="112"/>
                  </a:lnTo>
                  <a:lnTo>
                    <a:pt x="733" y="110"/>
                  </a:lnTo>
                  <a:lnTo>
                    <a:pt x="732" y="109"/>
                  </a:lnTo>
                  <a:lnTo>
                    <a:pt x="730" y="105"/>
                  </a:lnTo>
                  <a:lnTo>
                    <a:pt x="730" y="103"/>
                  </a:lnTo>
                  <a:lnTo>
                    <a:pt x="728" y="100"/>
                  </a:lnTo>
                  <a:lnTo>
                    <a:pt x="728" y="98"/>
                  </a:lnTo>
                  <a:lnTo>
                    <a:pt x="726" y="96"/>
                  </a:lnTo>
                  <a:lnTo>
                    <a:pt x="726" y="93"/>
                  </a:lnTo>
                  <a:lnTo>
                    <a:pt x="725" y="91"/>
                  </a:lnTo>
                  <a:lnTo>
                    <a:pt x="723" y="89"/>
                  </a:lnTo>
                  <a:lnTo>
                    <a:pt x="723" y="88"/>
                  </a:lnTo>
                  <a:lnTo>
                    <a:pt x="721" y="84"/>
                  </a:lnTo>
                  <a:lnTo>
                    <a:pt x="719" y="82"/>
                  </a:lnTo>
                  <a:lnTo>
                    <a:pt x="718" y="81"/>
                  </a:lnTo>
                  <a:lnTo>
                    <a:pt x="718" y="79"/>
                  </a:lnTo>
                  <a:lnTo>
                    <a:pt x="714" y="77"/>
                  </a:lnTo>
                  <a:lnTo>
                    <a:pt x="714" y="75"/>
                  </a:lnTo>
                  <a:lnTo>
                    <a:pt x="712" y="74"/>
                  </a:lnTo>
                  <a:lnTo>
                    <a:pt x="711" y="72"/>
                  </a:lnTo>
                  <a:lnTo>
                    <a:pt x="709" y="70"/>
                  </a:lnTo>
                  <a:lnTo>
                    <a:pt x="707" y="68"/>
                  </a:lnTo>
                  <a:lnTo>
                    <a:pt x="705" y="67"/>
                  </a:lnTo>
                  <a:lnTo>
                    <a:pt x="704" y="65"/>
                  </a:lnTo>
                  <a:lnTo>
                    <a:pt x="700" y="63"/>
                  </a:lnTo>
                  <a:lnTo>
                    <a:pt x="698" y="63"/>
                  </a:lnTo>
                  <a:lnTo>
                    <a:pt x="697" y="61"/>
                  </a:lnTo>
                  <a:lnTo>
                    <a:pt x="695" y="60"/>
                  </a:lnTo>
                  <a:lnTo>
                    <a:pt x="693" y="58"/>
                  </a:lnTo>
                  <a:lnTo>
                    <a:pt x="690" y="58"/>
                  </a:lnTo>
                  <a:lnTo>
                    <a:pt x="688" y="56"/>
                  </a:lnTo>
                  <a:lnTo>
                    <a:pt x="686" y="56"/>
                  </a:lnTo>
                  <a:lnTo>
                    <a:pt x="684" y="54"/>
                  </a:lnTo>
                  <a:lnTo>
                    <a:pt x="681" y="54"/>
                  </a:lnTo>
                  <a:lnTo>
                    <a:pt x="679" y="53"/>
                  </a:lnTo>
                  <a:lnTo>
                    <a:pt x="677" y="53"/>
                  </a:lnTo>
                  <a:lnTo>
                    <a:pt x="674" y="51"/>
                  </a:lnTo>
                  <a:lnTo>
                    <a:pt x="672" y="51"/>
                  </a:lnTo>
                  <a:lnTo>
                    <a:pt x="669" y="49"/>
                  </a:lnTo>
                  <a:lnTo>
                    <a:pt x="667" y="49"/>
                  </a:lnTo>
                  <a:lnTo>
                    <a:pt x="665" y="49"/>
                  </a:lnTo>
                  <a:lnTo>
                    <a:pt x="662" y="49"/>
                  </a:lnTo>
                  <a:lnTo>
                    <a:pt x="660" y="47"/>
                  </a:lnTo>
                  <a:lnTo>
                    <a:pt x="656" y="47"/>
                  </a:lnTo>
                  <a:lnTo>
                    <a:pt x="655" y="47"/>
                  </a:lnTo>
                  <a:lnTo>
                    <a:pt x="651" y="47"/>
                  </a:lnTo>
                  <a:lnTo>
                    <a:pt x="649" y="47"/>
                  </a:lnTo>
                  <a:lnTo>
                    <a:pt x="646" y="47"/>
                  </a:lnTo>
                  <a:lnTo>
                    <a:pt x="642" y="49"/>
                  </a:lnTo>
                  <a:lnTo>
                    <a:pt x="641" y="49"/>
                  </a:lnTo>
                  <a:lnTo>
                    <a:pt x="639" y="49"/>
                  </a:lnTo>
                  <a:lnTo>
                    <a:pt x="637" y="49"/>
                  </a:lnTo>
                  <a:lnTo>
                    <a:pt x="635" y="49"/>
                  </a:lnTo>
                  <a:lnTo>
                    <a:pt x="635" y="49"/>
                  </a:lnTo>
                  <a:lnTo>
                    <a:pt x="634" y="49"/>
                  </a:lnTo>
                  <a:lnTo>
                    <a:pt x="634" y="51"/>
                  </a:lnTo>
                  <a:lnTo>
                    <a:pt x="634" y="51"/>
                  </a:lnTo>
                  <a:lnTo>
                    <a:pt x="634" y="51"/>
                  </a:lnTo>
                  <a:lnTo>
                    <a:pt x="583" y="53"/>
                  </a:lnTo>
                  <a:lnTo>
                    <a:pt x="579" y="54"/>
                  </a:lnTo>
                  <a:lnTo>
                    <a:pt x="578" y="54"/>
                  </a:lnTo>
                  <a:lnTo>
                    <a:pt x="574" y="54"/>
                  </a:lnTo>
                  <a:lnTo>
                    <a:pt x="572" y="56"/>
                  </a:lnTo>
                  <a:lnTo>
                    <a:pt x="569" y="56"/>
                  </a:lnTo>
                  <a:lnTo>
                    <a:pt x="567" y="56"/>
                  </a:lnTo>
                  <a:lnTo>
                    <a:pt x="564" y="58"/>
                  </a:lnTo>
                  <a:lnTo>
                    <a:pt x="562" y="58"/>
                  </a:lnTo>
                  <a:lnTo>
                    <a:pt x="558" y="58"/>
                  </a:lnTo>
                  <a:lnTo>
                    <a:pt x="557" y="58"/>
                  </a:lnTo>
                  <a:lnTo>
                    <a:pt x="553" y="58"/>
                  </a:lnTo>
                  <a:lnTo>
                    <a:pt x="550" y="58"/>
                  </a:lnTo>
                  <a:lnTo>
                    <a:pt x="548" y="60"/>
                  </a:lnTo>
                  <a:lnTo>
                    <a:pt x="544" y="60"/>
                  </a:lnTo>
                  <a:lnTo>
                    <a:pt x="543" y="60"/>
                  </a:lnTo>
                  <a:lnTo>
                    <a:pt x="541" y="60"/>
                  </a:lnTo>
                  <a:lnTo>
                    <a:pt x="537" y="60"/>
                  </a:lnTo>
                  <a:lnTo>
                    <a:pt x="534" y="60"/>
                  </a:lnTo>
                  <a:lnTo>
                    <a:pt x="530" y="60"/>
                  </a:lnTo>
                  <a:lnTo>
                    <a:pt x="529" y="60"/>
                  </a:lnTo>
                  <a:lnTo>
                    <a:pt x="527" y="60"/>
                  </a:lnTo>
                  <a:lnTo>
                    <a:pt x="523" y="60"/>
                  </a:lnTo>
                  <a:lnTo>
                    <a:pt x="522" y="60"/>
                  </a:lnTo>
                  <a:lnTo>
                    <a:pt x="518" y="60"/>
                  </a:lnTo>
                  <a:lnTo>
                    <a:pt x="515" y="60"/>
                  </a:lnTo>
                  <a:lnTo>
                    <a:pt x="513" y="60"/>
                  </a:lnTo>
                  <a:lnTo>
                    <a:pt x="509" y="60"/>
                  </a:lnTo>
                  <a:lnTo>
                    <a:pt x="508" y="60"/>
                  </a:lnTo>
                  <a:lnTo>
                    <a:pt x="504" y="60"/>
                  </a:lnTo>
                  <a:lnTo>
                    <a:pt x="502" y="60"/>
                  </a:lnTo>
                  <a:lnTo>
                    <a:pt x="499" y="60"/>
                  </a:lnTo>
                  <a:lnTo>
                    <a:pt x="497" y="60"/>
                  </a:lnTo>
                  <a:lnTo>
                    <a:pt x="494" y="60"/>
                  </a:lnTo>
                  <a:lnTo>
                    <a:pt x="492" y="60"/>
                  </a:lnTo>
                  <a:lnTo>
                    <a:pt x="488" y="60"/>
                  </a:lnTo>
                  <a:lnTo>
                    <a:pt x="487" y="60"/>
                  </a:lnTo>
                  <a:lnTo>
                    <a:pt x="483" y="60"/>
                  </a:lnTo>
                  <a:lnTo>
                    <a:pt x="480" y="58"/>
                  </a:lnTo>
                  <a:lnTo>
                    <a:pt x="476" y="58"/>
                  </a:lnTo>
                  <a:lnTo>
                    <a:pt x="474" y="58"/>
                  </a:lnTo>
                  <a:lnTo>
                    <a:pt x="471" y="58"/>
                  </a:lnTo>
                  <a:lnTo>
                    <a:pt x="469" y="58"/>
                  </a:lnTo>
                  <a:lnTo>
                    <a:pt x="466" y="58"/>
                  </a:lnTo>
                  <a:lnTo>
                    <a:pt x="462" y="58"/>
                  </a:lnTo>
                  <a:lnTo>
                    <a:pt x="460" y="58"/>
                  </a:lnTo>
                  <a:lnTo>
                    <a:pt x="457" y="58"/>
                  </a:lnTo>
                  <a:lnTo>
                    <a:pt x="455" y="58"/>
                  </a:lnTo>
                  <a:lnTo>
                    <a:pt x="452" y="58"/>
                  </a:lnTo>
                  <a:lnTo>
                    <a:pt x="450" y="58"/>
                  </a:lnTo>
                  <a:lnTo>
                    <a:pt x="446" y="58"/>
                  </a:lnTo>
                  <a:lnTo>
                    <a:pt x="443" y="58"/>
                  </a:lnTo>
                  <a:lnTo>
                    <a:pt x="441" y="58"/>
                  </a:lnTo>
                  <a:lnTo>
                    <a:pt x="438" y="58"/>
                  </a:lnTo>
                  <a:lnTo>
                    <a:pt x="434" y="58"/>
                  </a:lnTo>
                  <a:lnTo>
                    <a:pt x="432" y="58"/>
                  </a:lnTo>
                  <a:lnTo>
                    <a:pt x="429" y="58"/>
                  </a:lnTo>
                  <a:lnTo>
                    <a:pt x="425" y="58"/>
                  </a:lnTo>
                  <a:lnTo>
                    <a:pt x="422" y="58"/>
                  </a:lnTo>
                  <a:lnTo>
                    <a:pt x="420" y="58"/>
                  </a:lnTo>
                  <a:lnTo>
                    <a:pt x="417" y="58"/>
                  </a:lnTo>
                  <a:lnTo>
                    <a:pt x="413" y="58"/>
                  </a:lnTo>
                  <a:lnTo>
                    <a:pt x="411" y="58"/>
                  </a:lnTo>
                  <a:lnTo>
                    <a:pt x="408" y="58"/>
                  </a:lnTo>
                  <a:lnTo>
                    <a:pt x="404" y="58"/>
                  </a:lnTo>
                  <a:lnTo>
                    <a:pt x="401" y="58"/>
                  </a:lnTo>
                  <a:lnTo>
                    <a:pt x="397" y="58"/>
                  </a:lnTo>
                  <a:lnTo>
                    <a:pt x="394" y="56"/>
                  </a:lnTo>
                  <a:lnTo>
                    <a:pt x="390" y="56"/>
                  </a:lnTo>
                  <a:lnTo>
                    <a:pt x="387" y="56"/>
                  </a:lnTo>
                  <a:lnTo>
                    <a:pt x="383" y="56"/>
                  </a:lnTo>
                  <a:lnTo>
                    <a:pt x="380" y="56"/>
                  </a:lnTo>
                  <a:lnTo>
                    <a:pt x="376" y="56"/>
                  </a:lnTo>
                  <a:lnTo>
                    <a:pt x="373" y="54"/>
                  </a:lnTo>
                  <a:lnTo>
                    <a:pt x="369" y="54"/>
                  </a:lnTo>
                  <a:lnTo>
                    <a:pt x="366" y="54"/>
                  </a:lnTo>
                  <a:lnTo>
                    <a:pt x="362" y="54"/>
                  </a:lnTo>
                  <a:lnTo>
                    <a:pt x="359" y="54"/>
                  </a:lnTo>
                  <a:lnTo>
                    <a:pt x="357" y="54"/>
                  </a:lnTo>
                  <a:lnTo>
                    <a:pt x="352" y="54"/>
                  </a:lnTo>
                  <a:lnTo>
                    <a:pt x="350" y="54"/>
                  </a:lnTo>
                  <a:lnTo>
                    <a:pt x="346" y="54"/>
                  </a:lnTo>
                  <a:lnTo>
                    <a:pt x="343" y="54"/>
                  </a:lnTo>
                  <a:lnTo>
                    <a:pt x="339" y="56"/>
                  </a:lnTo>
                  <a:lnTo>
                    <a:pt x="336" y="56"/>
                  </a:lnTo>
                  <a:lnTo>
                    <a:pt x="332" y="56"/>
                  </a:lnTo>
                  <a:lnTo>
                    <a:pt x="329" y="56"/>
                  </a:lnTo>
                  <a:lnTo>
                    <a:pt x="327" y="56"/>
                  </a:lnTo>
                  <a:lnTo>
                    <a:pt x="322" y="56"/>
                  </a:lnTo>
                  <a:lnTo>
                    <a:pt x="320" y="56"/>
                  </a:lnTo>
                  <a:lnTo>
                    <a:pt x="317" y="56"/>
                  </a:lnTo>
                  <a:lnTo>
                    <a:pt x="313" y="56"/>
                  </a:lnTo>
                  <a:lnTo>
                    <a:pt x="310" y="58"/>
                  </a:lnTo>
                  <a:lnTo>
                    <a:pt x="306" y="58"/>
                  </a:lnTo>
                  <a:lnTo>
                    <a:pt x="304" y="58"/>
                  </a:lnTo>
                  <a:lnTo>
                    <a:pt x="301" y="58"/>
                  </a:lnTo>
                  <a:lnTo>
                    <a:pt x="297" y="58"/>
                  </a:lnTo>
                  <a:lnTo>
                    <a:pt x="294" y="58"/>
                  </a:lnTo>
                  <a:lnTo>
                    <a:pt x="290" y="60"/>
                  </a:lnTo>
                  <a:lnTo>
                    <a:pt x="287" y="60"/>
                  </a:lnTo>
                  <a:lnTo>
                    <a:pt x="283" y="60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5" y="60"/>
                  </a:lnTo>
                  <a:lnTo>
                    <a:pt x="271" y="60"/>
                  </a:lnTo>
                  <a:lnTo>
                    <a:pt x="268" y="60"/>
                  </a:lnTo>
                  <a:lnTo>
                    <a:pt x="266" y="60"/>
                  </a:lnTo>
                  <a:lnTo>
                    <a:pt x="262" y="60"/>
                  </a:lnTo>
                  <a:lnTo>
                    <a:pt x="259" y="60"/>
                  </a:lnTo>
                  <a:lnTo>
                    <a:pt x="255" y="60"/>
                  </a:lnTo>
                  <a:lnTo>
                    <a:pt x="252" y="60"/>
                  </a:lnTo>
                  <a:lnTo>
                    <a:pt x="250" y="60"/>
                  </a:lnTo>
                  <a:lnTo>
                    <a:pt x="247" y="60"/>
                  </a:lnTo>
                  <a:lnTo>
                    <a:pt x="243" y="60"/>
                  </a:lnTo>
                  <a:lnTo>
                    <a:pt x="240" y="60"/>
                  </a:lnTo>
                  <a:lnTo>
                    <a:pt x="236" y="60"/>
                  </a:lnTo>
                  <a:lnTo>
                    <a:pt x="233" y="58"/>
                  </a:lnTo>
                  <a:lnTo>
                    <a:pt x="231" y="58"/>
                  </a:lnTo>
                  <a:lnTo>
                    <a:pt x="227" y="58"/>
                  </a:lnTo>
                  <a:lnTo>
                    <a:pt x="224" y="58"/>
                  </a:lnTo>
                  <a:lnTo>
                    <a:pt x="220" y="56"/>
                  </a:lnTo>
                  <a:lnTo>
                    <a:pt x="219" y="56"/>
                  </a:lnTo>
                  <a:lnTo>
                    <a:pt x="213" y="56"/>
                  </a:lnTo>
                  <a:lnTo>
                    <a:pt x="212" y="54"/>
                  </a:lnTo>
                  <a:lnTo>
                    <a:pt x="208" y="54"/>
                  </a:lnTo>
                  <a:lnTo>
                    <a:pt x="205" y="53"/>
                  </a:lnTo>
                  <a:lnTo>
                    <a:pt x="203" y="53"/>
                  </a:lnTo>
                  <a:lnTo>
                    <a:pt x="199" y="51"/>
                  </a:lnTo>
                  <a:lnTo>
                    <a:pt x="196" y="49"/>
                  </a:lnTo>
                  <a:lnTo>
                    <a:pt x="194" y="47"/>
                  </a:lnTo>
                  <a:lnTo>
                    <a:pt x="192" y="46"/>
                  </a:lnTo>
                  <a:lnTo>
                    <a:pt x="192" y="42"/>
                  </a:lnTo>
                  <a:lnTo>
                    <a:pt x="191" y="40"/>
                  </a:lnTo>
                  <a:lnTo>
                    <a:pt x="189" y="39"/>
                  </a:lnTo>
                  <a:lnTo>
                    <a:pt x="189" y="37"/>
                  </a:lnTo>
                  <a:lnTo>
                    <a:pt x="187" y="35"/>
                  </a:lnTo>
                  <a:lnTo>
                    <a:pt x="185" y="33"/>
                  </a:lnTo>
                  <a:lnTo>
                    <a:pt x="184" y="32"/>
                  </a:lnTo>
                  <a:lnTo>
                    <a:pt x="184" y="30"/>
                  </a:lnTo>
                  <a:lnTo>
                    <a:pt x="182" y="28"/>
                  </a:lnTo>
                  <a:lnTo>
                    <a:pt x="182" y="26"/>
                  </a:lnTo>
                  <a:lnTo>
                    <a:pt x="178" y="25"/>
                  </a:lnTo>
                  <a:lnTo>
                    <a:pt x="177" y="23"/>
                  </a:lnTo>
                  <a:lnTo>
                    <a:pt x="173" y="23"/>
                  </a:lnTo>
                  <a:lnTo>
                    <a:pt x="171" y="21"/>
                  </a:lnTo>
                  <a:lnTo>
                    <a:pt x="170" y="21"/>
                  </a:lnTo>
                  <a:lnTo>
                    <a:pt x="166" y="21"/>
                  </a:lnTo>
                  <a:lnTo>
                    <a:pt x="166" y="21"/>
                  </a:lnTo>
                  <a:lnTo>
                    <a:pt x="164" y="21"/>
                  </a:lnTo>
                  <a:lnTo>
                    <a:pt x="161" y="21"/>
                  </a:lnTo>
                  <a:lnTo>
                    <a:pt x="159" y="21"/>
                  </a:lnTo>
                  <a:lnTo>
                    <a:pt x="157" y="21"/>
                  </a:lnTo>
                  <a:lnTo>
                    <a:pt x="156" y="21"/>
                  </a:lnTo>
                  <a:lnTo>
                    <a:pt x="152" y="23"/>
                  </a:lnTo>
                  <a:lnTo>
                    <a:pt x="150" y="23"/>
                  </a:lnTo>
                  <a:lnTo>
                    <a:pt x="147" y="23"/>
                  </a:lnTo>
                  <a:lnTo>
                    <a:pt x="145" y="25"/>
                  </a:lnTo>
                  <a:lnTo>
                    <a:pt x="143" y="23"/>
                  </a:lnTo>
                  <a:lnTo>
                    <a:pt x="142" y="21"/>
                  </a:lnTo>
                  <a:lnTo>
                    <a:pt x="140" y="21"/>
                  </a:lnTo>
                  <a:lnTo>
                    <a:pt x="138" y="19"/>
                  </a:lnTo>
                  <a:lnTo>
                    <a:pt x="136" y="18"/>
                  </a:lnTo>
                  <a:lnTo>
                    <a:pt x="136" y="16"/>
                  </a:ln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8" y="12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2" y="9"/>
                  </a:lnTo>
                  <a:lnTo>
                    <a:pt x="121" y="9"/>
                  </a:lnTo>
                  <a:lnTo>
                    <a:pt x="121" y="9"/>
                  </a:lnTo>
                  <a:lnTo>
                    <a:pt x="119" y="7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89" y="5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4" y="5"/>
                  </a:lnTo>
                  <a:lnTo>
                    <a:pt x="82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9" y="37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8" y="51"/>
                  </a:lnTo>
                  <a:lnTo>
                    <a:pt x="30" y="51"/>
                  </a:lnTo>
                  <a:lnTo>
                    <a:pt x="31" y="51"/>
                  </a:lnTo>
                  <a:lnTo>
                    <a:pt x="35" y="53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4" y="53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44" y="63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2" y="68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38" y="77"/>
                  </a:lnTo>
                  <a:lnTo>
                    <a:pt x="37" y="79"/>
                  </a:lnTo>
                  <a:lnTo>
                    <a:pt x="37" y="82"/>
                  </a:lnTo>
                  <a:lnTo>
                    <a:pt x="35" y="84"/>
                  </a:lnTo>
                  <a:lnTo>
                    <a:pt x="33" y="88"/>
                  </a:lnTo>
                  <a:lnTo>
                    <a:pt x="31" y="89"/>
                  </a:lnTo>
                  <a:lnTo>
                    <a:pt x="30" y="93"/>
                  </a:lnTo>
                  <a:lnTo>
                    <a:pt x="28" y="95"/>
                  </a:lnTo>
                  <a:lnTo>
                    <a:pt x="26" y="98"/>
                  </a:lnTo>
                  <a:lnTo>
                    <a:pt x="24" y="100"/>
                  </a:lnTo>
                  <a:lnTo>
                    <a:pt x="21" y="102"/>
                  </a:lnTo>
                  <a:lnTo>
                    <a:pt x="19" y="105"/>
                  </a:lnTo>
                  <a:lnTo>
                    <a:pt x="19" y="107"/>
                  </a:lnTo>
                  <a:lnTo>
                    <a:pt x="16" y="110"/>
                  </a:lnTo>
                  <a:lnTo>
                    <a:pt x="14" y="112"/>
                  </a:lnTo>
                  <a:lnTo>
                    <a:pt x="12" y="116"/>
                  </a:lnTo>
                  <a:lnTo>
                    <a:pt x="10" y="117"/>
                  </a:lnTo>
                  <a:lnTo>
                    <a:pt x="9" y="121"/>
                  </a:lnTo>
                  <a:lnTo>
                    <a:pt x="7" y="123"/>
                  </a:lnTo>
                  <a:lnTo>
                    <a:pt x="5" y="126"/>
                  </a:lnTo>
                  <a:lnTo>
                    <a:pt x="3" y="128"/>
                  </a:lnTo>
                  <a:lnTo>
                    <a:pt x="2" y="131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3" y="151"/>
                  </a:lnTo>
                  <a:lnTo>
                    <a:pt x="3" y="154"/>
                  </a:lnTo>
                  <a:lnTo>
                    <a:pt x="5" y="156"/>
                  </a:lnTo>
                  <a:lnTo>
                    <a:pt x="7" y="156"/>
                  </a:lnTo>
                  <a:lnTo>
                    <a:pt x="7" y="158"/>
                  </a:lnTo>
                  <a:lnTo>
                    <a:pt x="9" y="159"/>
                  </a:lnTo>
                  <a:lnTo>
                    <a:pt x="10" y="163"/>
                  </a:lnTo>
                  <a:lnTo>
                    <a:pt x="14" y="165"/>
                  </a:lnTo>
                  <a:lnTo>
                    <a:pt x="14" y="165"/>
                  </a:lnTo>
                  <a:lnTo>
                    <a:pt x="16" y="165"/>
                  </a:lnTo>
                  <a:lnTo>
                    <a:pt x="17" y="166"/>
                  </a:lnTo>
                  <a:lnTo>
                    <a:pt x="19" y="166"/>
                  </a:lnTo>
                  <a:lnTo>
                    <a:pt x="21" y="166"/>
                  </a:lnTo>
                  <a:lnTo>
                    <a:pt x="23" y="166"/>
                  </a:lnTo>
                  <a:lnTo>
                    <a:pt x="24" y="166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1" y="166"/>
                  </a:lnTo>
                  <a:lnTo>
                    <a:pt x="33" y="166"/>
                  </a:lnTo>
                  <a:lnTo>
                    <a:pt x="35" y="166"/>
                  </a:lnTo>
                  <a:lnTo>
                    <a:pt x="37" y="166"/>
                  </a:lnTo>
                  <a:lnTo>
                    <a:pt x="38" y="166"/>
                  </a:lnTo>
                  <a:lnTo>
                    <a:pt x="42" y="166"/>
                  </a:lnTo>
                  <a:lnTo>
                    <a:pt x="44" y="166"/>
                  </a:lnTo>
                  <a:lnTo>
                    <a:pt x="45" y="165"/>
                  </a:lnTo>
                  <a:lnTo>
                    <a:pt x="47" y="165"/>
                  </a:lnTo>
                  <a:lnTo>
                    <a:pt x="49" y="165"/>
                  </a:lnTo>
                  <a:lnTo>
                    <a:pt x="52" y="165"/>
                  </a:lnTo>
                  <a:lnTo>
                    <a:pt x="54" y="163"/>
                  </a:lnTo>
                  <a:lnTo>
                    <a:pt x="56" y="163"/>
                  </a:lnTo>
                  <a:lnTo>
                    <a:pt x="58" y="163"/>
                  </a:lnTo>
                  <a:lnTo>
                    <a:pt x="59" y="163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59"/>
                  </a:lnTo>
                  <a:lnTo>
                    <a:pt x="72" y="159"/>
                  </a:lnTo>
                  <a:lnTo>
                    <a:pt x="73" y="159"/>
                  </a:lnTo>
                  <a:lnTo>
                    <a:pt x="75" y="159"/>
                  </a:lnTo>
                  <a:lnTo>
                    <a:pt x="77" y="158"/>
                  </a:lnTo>
                  <a:lnTo>
                    <a:pt x="80" y="158"/>
                  </a:lnTo>
                  <a:lnTo>
                    <a:pt x="82" y="158"/>
                  </a:lnTo>
                  <a:lnTo>
                    <a:pt x="84" y="158"/>
                  </a:lnTo>
                  <a:lnTo>
                    <a:pt x="86" y="158"/>
                  </a:lnTo>
                  <a:lnTo>
                    <a:pt x="87" y="158"/>
                  </a:lnTo>
                  <a:lnTo>
                    <a:pt x="89" y="158"/>
                  </a:lnTo>
                  <a:lnTo>
                    <a:pt x="93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8" y="158"/>
                  </a:lnTo>
                  <a:lnTo>
                    <a:pt x="100" y="158"/>
                  </a:lnTo>
                  <a:lnTo>
                    <a:pt x="101" y="158"/>
                  </a:lnTo>
                  <a:lnTo>
                    <a:pt x="103" y="159"/>
                  </a:lnTo>
                  <a:lnTo>
                    <a:pt x="105" y="159"/>
                  </a:lnTo>
                  <a:lnTo>
                    <a:pt x="107" y="161"/>
                  </a:lnTo>
                  <a:lnTo>
                    <a:pt x="108" y="163"/>
                  </a:lnTo>
                  <a:lnTo>
                    <a:pt x="112" y="165"/>
                  </a:lnTo>
                  <a:lnTo>
                    <a:pt x="114" y="166"/>
                  </a:lnTo>
                  <a:lnTo>
                    <a:pt x="117" y="168"/>
                  </a:lnTo>
                  <a:lnTo>
                    <a:pt x="119" y="170"/>
                  </a:lnTo>
                  <a:lnTo>
                    <a:pt x="121" y="173"/>
                  </a:lnTo>
                  <a:lnTo>
                    <a:pt x="124" y="175"/>
                  </a:lnTo>
                  <a:lnTo>
                    <a:pt x="126" y="177"/>
                  </a:lnTo>
                  <a:lnTo>
                    <a:pt x="128" y="180"/>
                  </a:lnTo>
                  <a:lnTo>
                    <a:pt x="131" y="182"/>
                  </a:lnTo>
                  <a:lnTo>
                    <a:pt x="133" y="184"/>
                  </a:lnTo>
                  <a:lnTo>
                    <a:pt x="135" y="187"/>
                  </a:lnTo>
                  <a:lnTo>
                    <a:pt x="136" y="189"/>
                  </a:lnTo>
                  <a:lnTo>
                    <a:pt x="140" y="191"/>
                  </a:lnTo>
                  <a:lnTo>
                    <a:pt x="142" y="194"/>
                  </a:lnTo>
                  <a:lnTo>
                    <a:pt x="143" y="196"/>
                  </a:lnTo>
                  <a:lnTo>
                    <a:pt x="145" y="198"/>
                  </a:lnTo>
                  <a:lnTo>
                    <a:pt x="147" y="200"/>
                  </a:lnTo>
                  <a:lnTo>
                    <a:pt x="149" y="203"/>
                  </a:lnTo>
                  <a:lnTo>
                    <a:pt x="152" y="205"/>
                  </a:lnTo>
                  <a:lnTo>
                    <a:pt x="152" y="208"/>
                  </a:lnTo>
                  <a:lnTo>
                    <a:pt x="154" y="210"/>
                  </a:lnTo>
                  <a:lnTo>
                    <a:pt x="156" y="214"/>
                  </a:lnTo>
                  <a:lnTo>
                    <a:pt x="157" y="215"/>
                  </a:lnTo>
                  <a:lnTo>
                    <a:pt x="159" y="217"/>
                  </a:lnTo>
                  <a:lnTo>
                    <a:pt x="161" y="221"/>
                  </a:lnTo>
                  <a:lnTo>
                    <a:pt x="163" y="222"/>
                  </a:lnTo>
                  <a:lnTo>
                    <a:pt x="164" y="224"/>
                  </a:lnTo>
                  <a:lnTo>
                    <a:pt x="166" y="228"/>
                  </a:lnTo>
                  <a:lnTo>
                    <a:pt x="168" y="229"/>
                  </a:lnTo>
                  <a:lnTo>
                    <a:pt x="170" y="233"/>
                  </a:lnTo>
                  <a:lnTo>
                    <a:pt x="171" y="235"/>
                  </a:lnTo>
                  <a:lnTo>
                    <a:pt x="173" y="238"/>
                  </a:lnTo>
                  <a:lnTo>
                    <a:pt x="173" y="240"/>
                  </a:lnTo>
                  <a:lnTo>
                    <a:pt x="175" y="243"/>
                  </a:lnTo>
                  <a:lnTo>
                    <a:pt x="177" y="245"/>
                  </a:lnTo>
                  <a:lnTo>
                    <a:pt x="178" y="249"/>
                  </a:lnTo>
                  <a:lnTo>
                    <a:pt x="180" y="250"/>
                  </a:lnTo>
                  <a:lnTo>
                    <a:pt x="180" y="254"/>
                  </a:lnTo>
                  <a:lnTo>
                    <a:pt x="182" y="256"/>
                  </a:lnTo>
                  <a:lnTo>
                    <a:pt x="184" y="259"/>
                  </a:lnTo>
                  <a:lnTo>
                    <a:pt x="185" y="261"/>
                  </a:lnTo>
                  <a:lnTo>
                    <a:pt x="185" y="264"/>
                  </a:lnTo>
                  <a:lnTo>
                    <a:pt x="187" y="266"/>
                  </a:lnTo>
                  <a:lnTo>
                    <a:pt x="189" y="270"/>
                  </a:lnTo>
                  <a:lnTo>
                    <a:pt x="191" y="271"/>
                  </a:lnTo>
                  <a:lnTo>
                    <a:pt x="191" y="275"/>
                  </a:lnTo>
                  <a:lnTo>
                    <a:pt x="192" y="277"/>
                  </a:lnTo>
                  <a:lnTo>
                    <a:pt x="194" y="280"/>
                  </a:lnTo>
                  <a:lnTo>
                    <a:pt x="196" y="284"/>
                  </a:lnTo>
                  <a:lnTo>
                    <a:pt x="196" y="285"/>
                  </a:lnTo>
                  <a:lnTo>
                    <a:pt x="198" y="289"/>
                  </a:lnTo>
                  <a:lnTo>
                    <a:pt x="199" y="291"/>
                  </a:lnTo>
                  <a:lnTo>
                    <a:pt x="201" y="294"/>
                  </a:lnTo>
                  <a:lnTo>
                    <a:pt x="203" y="296"/>
                  </a:lnTo>
                  <a:lnTo>
                    <a:pt x="205" y="299"/>
                  </a:lnTo>
                  <a:lnTo>
                    <a:pt x="205" y="301"/>
                  </a:lnTo>
                  <a:lnTo>
                    <a:pt x="206" y="305"/>
                  </a:lnTo>
                  <a:lnTo>
                    <a:pt x="208" y="308"/>
                  </a:lnTo>
                  <a:lnTo>
                    <a:pt x="210" y="312"/>
                  </a:lnTo>
                  <a:lnTo>
                    <a:pt x="212" y="313"/>
                  </a:lnTo>
                  <a:lnTo>
                    <a:pt x="212" y="317"/>
                  </a:lnTo>
                  <a:lnTo>
                    <a:pt x="213" y="319"/>
                  </a:lnTo>
                  <a:lnTo>
                    <a:pt x="215" y="322"/>
                  </a:lnTo>
                  <a:lnTo>
                    <a:pt x="213" y="324"/>
                  </a:lnTo>
                  <a:lnTo>
                    <a:pt x="212" y="326"/>
                  </a:lnTo>
                  <a:lnTo>
                    <a:pt x="212" y="327"/>
                  </a:lnTo>
                  <a:lnTo>
                    <a:pt x="212" y="329"/>
                  </a:lnTo>
                  <a:lnTo>
                    <a:pt x="210" y="331"/>
                  </a:lnTo>
                  <a:lnTo>
                    <a:pt x="212" y="334"/>
                  </a:lnTo>
                  <a:lnTo>
                    <a:pt x="212" y="336"/>
                  </a:lnTo>
                  <a:lnTo>
                    <a:pt x="212" y="336"/>
                  </a:lnTo>
                  <a:lnTo>
                    <a:pt x="212" y="340"/>
                  </a:lnTo>
                  <a:lnTo>
                    <a:pt x="213" y="340"/>
                  </a:lnTo>
                  <a:lnTo>
                    <a:pt x="213" y="343"/>
                  </a:lnTo>
                  <a:lnTo>
                    <a:pt x="215" y="347"/>
                  </a:lnTo>
                  <a:lnTo>
                    <a:pt x="217" y="348"/>
                  </a:lnTo>
                  <a:lnTo>
                    <a:pt x="219" y="352"/>
                  </a:lnTo>
                  <a:lnTo>
                    <a:pt x="219" y="355"/>
                  </a:lnTo>
                  <a:lnTo>
                    <a:pt x="220" y="357"/>
                  </a:lnTo>
                  <a:lnTo>
                    <a:pt x="222" y="361"/>
                  </a:lnTo>
                  <a:lnTo>
                    <a:pt x="224" y="362"/>
                  </a:lnTo>
                  <a:lnTo>
                    <a:pt x="224" y="361"/>
                  </a:lnTo>
                  <a:lnTo>
                    <a:pt x="224" y="359"/>
                  </a:lnTo>
                  <a:lnTo>
                    <a:pt x="222" y="357"/>
                  </a:lnTo>
                  <a:lnTo>
                    <a:pt x="222" y="355"/>
                  </a:lnTo>
                  <a:lnTo>
                    <a:pt x="222" y="354"/>
                  </a:lnTo>
                  <a:lnTo>
                    <a:pt x="220" y="350"/>
                  </a:lnTo>
                  <a:lnTo>
                    <a:pt x="220" y="348"/>
                  </a:lnTo>
                  <a:lnTo>
                    <a:pt x="220" y="347"/>
                  </a:lnTo>
                  <a:lnTo>
                    <a:pt x="220" y="345"/>
                  </a:lnTo>
                  <a:lnTo>
                    <a:pt x="219" y="343"/>
                  </a:lnTo>
                  <a:lnTo>
                    <a:pt x="219" y="341"/>
                  </a:lnTo>
                  <a:lnTo>
                    <a:pt x="219" y="340"/>
                  </a:lnTo>
                  <a:lnTo>
                    <a:pt x="219" y="336"/>
                  </a:lnTo>
                  <a:lnTo>
                    <a:pt x="217" y="334"/>
                  </a:lnTo>
                  <a:lnTo>
                    <a:pt x="217" y="333"/>
                  </a:lnTo>
                  <a:lnTo>
                    <a:pt x="217" y="331"/>
                  </a:lnTo>
                  <a:lnTo>
                    <a:pt x="217" y="329"/>
                  </a:lnTo>
                  <a:lnTo>
                    <a:pt x="219" y="329"/>
                  </a:lnTo>
                  <a:lnTo>
                    <a:pt x="220" y="329"/>
                  </a:lnTo>
                  <a:lnTo>
                    <a:pt x="220" y="329"/>
                  </a:lnTo>
                  <a:lnTo>
                    <a:pt x="224" y="329"/>
                  </a:lnTo>
                  <a:lnTo>
                    <a:pt x="226" y="331"/>
                  </a:lnTo>
                  <a:lnTo>
                    <a:pt x="227" y="331"/>
                  </a:lnTo>
                  <a:lnTo>
                    <a:pt x="229" y="333"/>
                  </a:lnTo>
                  <a:lnTo>
                    <a:pt x="231" y="333"/>
                  </a:lnTo>
                  <a:lnTo>
                    <a:pt x="231" y="334"/>
                  </a:lnTo>
                  <a:lnTo>
                    <a:pt x="231" y="338"/>
                  </a:lnTo>
                  <a:lnTo>
                    <a:pt x="231" y="340"/>
                  </a:lnTo>
                  <a:lnTo>
                    <a:pt x="231" y="341"/>
                  </a:lnTo>
                  <a:lnTo>
                    <a:pt x="231" y="343"/>
                  </a:lnTo>
                  <a:lnTo>
                    <a:pt x="231" y="345"/>
                  </a:lnTo>
                  <a:lnTo>
                    <a:pt x="231" y="345"/>
                  </a:lnTo>
                  <a:lnTo>
                    <a:pt x="231" y="348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3" y="352"/>
                  </a:lnTo>
                  <a:lnTo>
                    <a:pt x="233" y="354"/>
                  </a:lnTo>
                  <a:lnTo>
                    <a:pt x="233" y="355"/>
                  </a:lnTo>
                  <a:lnTo>
                    <a:pt x="234" y="357"/>
                  </a:lnTo>
                  <a:lnTo>
                    <a:pt x="234" y="359"/>
                  </a:lnTo>
                  <a:lnTo>
                    <a:pt x="234" y="361"/>
                  </a:lnTo>
                  <a:lnTo>
                    <a:pt x="234" y="362"/>
                  </a:lnTo>
                  <a:lnTo>
                    <a:pt x="236" y="364"/>
                  </a:lnTo>
                  <a:lnTo>
                    <a:pt x="236" y="364"/>
                  </a:lnTo>
                  <a:lnTo>
                    <a:pt x="236" y="366"/>
                  </a:lnTo>
                  <a:lnTo>
                    <a:pt x="236" y="368"/>
                  </a:lnTo>
                  <a:lnTo>
                    <a:pt x="236" y="369"/>
                  </a:lnTo>
                  <a:lnTo>
                    <a:pt x="238" y="371"/>
                  </a:lnTo>
                  <a:lnTo>
                    <a:pt x="238" y="373"/>
                  </a:lnTo>
                  <a:lnTo>
                    <a:pt x="238" y="375"/>
                  </a:lnTo>
                  <a:lnTo>
                    <a:pt x="238" y="376"/>
                  </a:lnTo>
                  <a:lnTo>
                    <a:pt x="238" y="378"/>
                  </a:lnTo>
                  <a:lnTo>
                    <a:pt x="240" y="380"/>
                  </a:lnTo>
                  <a:lnTo>
                    <a:pt x="240" y="382"/>
                  </a:lnTo>
                  <a:lnTo>
                    <a:pt x="240" y="383"/>
                  </a:lnTo>
                  <a:lnTo>
                    <a:pt x="240" y="385"/>
                  </a:lnTo>
                  <a:lnTo>
                    <a:pt x="241" y="387"/>
                  </a:lnTo>
                  <a:lnTo>
                    <a:pt x="241" y="387"/>
                  </a:lnTo>
                  <a:lnTo>
                    <a:pt x="241" y="389"/>
                  </a:lnTo>
                  <a:lnTo>
                    <a:pt x="241" y="390"/>
                  </a:lnTo>
                  <a:lnTo>
                    <a:pt x="241" y="392"/>
                  </a:lnTo>
                  <a:lnTo>
                    <a:pt x="241" y="394"/>
                  </a:lnTo>
                  <a:lnTo>
                    <a:pt x="243" y="396"/>
                  </a:lnTo>
                  <a:lnTo>
                    <a:pt x="243" y="397"/>
                  </a:lnTo>
                  <a:lnTo>
                    <a:pt x="243" y="399"/>
                  </a:lnTo>
                  <a:lnTo>
                    <a:pt x="243" y="401"/>
                  </a:lnTo>
                  <a:lnTo>
                    <a:pt x="243" y="401"/>
                  </a:lnTo>
                  <a:lnTo>
                    <a:pt x="243" y="403"/>
                  </a:lnTo>
                  <a:lnTo>
                    <a:pt x="245" y="406"/>
                  </a:lnTo>
                  <a:lnTo>
                    <a:pt x="245" y="406"/>
                  </a:lnTo>
                  <a:lnTo>
                    <a:pt x="245" y="408"/>
                  </a:lnTo>
                  <a:lnTo>
                    <a:pt x="245" y="410"/>
                  </a:lnTo>
                  <a:lnTo>
                    <a:pt x="245" y="411"/>
                  </a:lnTo>
                  <a:lnTo>
                    <a:pt x="245" y="413"/>
                  </a:lnTo>
                  <a:lnTo>
                    <a:pt x="245" y="415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20"/>
                  </a:lnTo>
                  <a:lnTo>
                    <a:pt x="245" y="420"/>
                  </a:lnTo>
                  <a:lnTo>
                    <a:pt x="245" y="424"/>
                  </a:lnTo>
                  <a:lnTo>
                    <a:pt x="245" y="425"/>
                  </a:lnTo>
                  <a:lnTo>
                    <a:pt x="245" y="429"/>
                  </a:lnTo>
                  <a:lnTo>
                    <a:pt x="245" y="432"/>
                  </a:lnTo>
                  <a:lnTo>
                    <a:pt x="245" y="434"/>
                  </a:lnTo>
                  <a:lnTo>
                    <a:pt x="243" y="436"/>
                  </a:lnTo>
                  <a:lnTo>
                    <a:pt x="243" y="436"/>
                  </a:lnTo>
                  <a:lnTo>
                    <a:pt x="241" y="439"/>
                  </a:lnTo>
                  <a:lnTo>
                    <a:pt x="241" y="441"/>
                  </a:lnTo>
                  <a:lnTo>
                    <a:pt x="240" y="443"/>
                  </a:lnTo>
                  <a:lnTo>
                    <a:pt x="240" y="445"/>
                  </a:lnTo>
                  <a:lnTo>
                    <a:pt x="238" y="446"/>
                  </a:lnTo>
                  <a:lnTo>
                    <a:pt x="238" y="448"/>
                  </a:lnTo>
                  <a:lnTo>
                    <a:pt x="236" y="450"/>
                  </a:lnTo>
                  <a:lnTo>
                    <a:pt x="236" y="452"/>
                  </a:lnTo>
                  <a:lnTo>
                    <a:pt x="234" y="453"/>
                  </a:lnTo>
                  <a:lnTo>
                    <a:pt x="234" y="453"/>
                  </a:lnTo>
                  <a:lnTo>
                    <a:pt x="233" y="455"/>
                  </a:lnTo>
                  <a:lnTo>
                    <a:pt x="233" y="457"/>
                  </a:lnTo>
                  <a:lnTo>
                    <a:pt x="233" y="459"/>
                  </a:lnTo>
                  <a:lnTo>
                    <a:pt x="276" y="460"/>
                  </a:lnTo>
                  <a:lnTo>
                    <a:pt x="276" y="459"/>
                  </a:lnTo>
                  <a:lnTo>
                    <a:pt x="276" y="457"/>
                  </a:lnTo>
                  <a:lnTo>
                    <a:pt x="276" y="455"/>
                  </a:lnTo>
                  <a:lnTo>
                    <a:pt x="278" y="453"/>
                  </a:lnTo>
                  <a:lnTo>
                    <a:pt x="278" y="452"/>
                  </a:lnTo>
                  <a:lnTo>
                    <a:pt x="278" y="450"/>
                  </a:lnTo>
                  <a:lnTo>
                    <a:pt x="278" y="446"/>
                  </a:lnTo>
                  <a:lnTo>
                    <a:pt x="278" y="445"/>
                  </a:lnTo>
                  <a:lnTo>
                    <a:pt x="280" y="443"/>
                  </a:lnTo>
                  <a:lnTo>
                    <a:pt x="280" y="439"/>
                  </a:lnTo>
                  <a:lnTo>
                    <a:pt x="280" y="438"/>
                  </a:lnTo>
                  <a:lnTo>
                    <a:pt x="282" y="436"/>
                  </a:lnTo>
                  <a:lnTo>
                    <a:pt x="282" y="432"/>
                  </a:lnTo>
                  <a:lnTo>
                    <a:pt x="282" y="431"/>
                  </a:lnTo>
                  <a:lnTo>
                    <a:pt x="282" y="427"/>
                  </a:lnTo>
                  <a:lnTo>
                    <a:pt x="283" y="425"/>
                  </a:lnTo>
                  <a:lnTo>
                    <a:pt x="283" y="422"/>
                  </a:lnTo>
                  <a:lnTo>
                    <a:pt x="283" y="420"/>
                  </a:lnTo>
                  <a:lnTo>
                    <a:pt x="283" y="417"/>
                  </a:lnTo>
                  <a:lnTo>
                    <a:pt x="283" y="415"/>
                  </a:lnTo>
                  <a:lnTo>
                    <a:pt x="285" y="411"/>
                  </a:lnTo>
                  <a:lnTo>
                    <a:pt x="285" y="408"/>
                  </a:lnTo>
                  <a:lnTo>
                    <a:pt x="285" y="406"/>
                  </a:lnTo>
                  <a:lnTo>
                    <a:pt x="287" y="404"/>
                  </a:lnTo>
                  <a:lnTo>
                    <a:pt x="287" y="401"/>
                  </a:lnTo>
                  <a:lnTo>
                    <a:pt x="287" y="401"/>
                  </a:lnTo>
                  <a:lnTo>
                    <a:pt x="287" y="397"/>
                  </a:lnTo>
                  <a:lnTo>
                    <a:pt x="289" y="396"/>
                  </a:lnTo>
                  <a:lnTo>
                    <a:pt x="289" y="394"/>
                  </a:lnTo>
                  <a:lnTo>
                    <a:pt x="289" y="394"/>
                  </a:lnTo>
                  <a:lnTo>
                    <a:pt x="290" y="390"/>
                  </a:lnTo>
                  <a:lnTo>
                    <a:pt x="290" y="390"/>
                  </a:lnTo>
                  <a:lnTo>
                    <a:pt x="292" y="390"/>
                  </a:lnTo>
                  <a:lnTo>
                    <a:pt x="294" y="392"/>
                  </a:lnTo>
                  <a:lnTo>
                    <a:pt x="296" y="392"/>
                  </a:lnTo>
                  <a:lnTo>
                    <a:pt x="297" y="394"/>
                  </a:lnTo>
                  <a:lnTo>
                    <a:pt x="297" y="396"/>
                  </a:lnTo>
                  <a:lnTo>
                    <a:pt x="299" y="397"/>
                  </a:lnTo>
                  <a:lnTo>
                    <a:pt x="301" y="399"/>
                  </a:lnTo>
                  <a:lnTo>
                    <a:pt x="301" y="401"/>
                  </a:lnTo>
                  <a:lnTo>
                    <a:pt x="303" y="403"/>
                  </a:lnTo>
                  <a:lnTo>
                    <a:pt x="303" y="404"/>
                  </a:lnTo>
                  <a:lnTo>
                    <a:pt x="303" y="406"/>
                  </a:lnTo>
                  <a:lnTo>
                    <a:pt x="304" y="408"/>
                  </a:lnTo>
                  <a:lnTo>
                    <a:pt x="304" y="410"/>
                  </a:lnTo>
                  <a:lnTo>
                    <a:pt x="304" y="413"/>
                  </a:lnTo>
                  <a:lnTo>
                    <a:pt x="304" y="415"/>
                  </a:lnTo>
                  <a:lnTo>
                    <a:pt x="304" y="417"/>
                  </a:lnTo>
                  <a:lnTo>
                    <a:pt x="304" y="420"/>
                  </a:lnTo>
                  <a:lnTo>
                    <a:pt x="304" y="422"/>
                  </a:lnTo>
                  <a:lnTo>
                    <a:pt x="304" y="424"/>
                  </a:lnTo>
                  <a:lnTo>
                    <a:pt x="304" y="427"/>
                  </a:lnTo>
                  <a:lnTo>
                    <a:pt x="304" y="429"/>
                  </a:lnTo>
                  <a:lnTo>
                    <a:pt x="304" y="431"/>
                  </a:lnTo>
                  <a:lnTo>
                    <a:pt x="304" y="432"/>
                  </a:lnTo>
                  <a:lnTo>
                    <a:pt x="304" y="436"/>
                  </a:lnTo>
                  <a:lnTo>
                    <a:pt x="303" y="438"/>
                  </a:lnTo>
                  <a:lnTo>
                    <a:pt x="303" y="439"/>
                  </a:lnTo>
                  <a:lnTo>
                    <a:pt x="303" y="441"/>
                  </a:lnTo>
                  <a:lnTo>
                    <a:pt x="303" y="445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50"/>
                  </a:lnTo>
                  <a:lnTo>
                    <a:pt x="303" y="452"/>
                  </a:lnTo>
                  <a:lnTo>
                    <a:pt x="341" y="450"/>
                  </a:lnTo>
                  <a:lnTo>
                    <a:pt x="341" y="446"/>
                  </a:lnTo>
                  <a:lnTo>
                    <a:pt x="341" y="443"/>
                  </a:lnTo>
                  <a:lnTo>
                    <a:pt x="341" y="441"/>
                  </a:lnTo>
                  <a:lnTo>
                    <a:pt x="341" y="438"/>
                  </a:lnTo>
                  <a:lnTo>
                    <a:pt x="341" y="434"/>
                  </a:lnTo>
                  <a:lnTo>
                    <a:pt x="343" y="432"/>
                  </a:lnTo>
                  <a:lnTo>
                    <a:pt x="343" y="429"/>
                  </a:lnTo>
                  <a:lnTo>
                    <a:pt x="343" y="425"/>
                  </a:lnTo>
                  <a:lnTo>
                    <a:pt x="343" y="422"/>
                  </a:lnTo>
                  <a:lnTo>
                    <a:pt x="343" y="420"/>
                  </a:lnTo>
                  <a:lnTo>
                    <a:pt x="345" y="417"/>
                  </a:lnTo>
                  <a:lnTo>
                    <a:pt x="345" y="415"/>
                  </a:lnTo>
                  <a:lnTo>
                    <a:pt x="345" y="411"/>
                  </a:lnTo>
                  <a:lnTo>
                    <a:pt x="345" y="408"/>
                  </a:lnTo>
                  <a:lnTo>
                    <a:pt x="345" y="406"/>
                  </a:lnTo>
                  <a:lnTo>
                    <a:pt x="346" y="404"/>
                  </a:lnTo>
                  <a:lnTo>
                    <a:pt x="346" y="401"/>
                  </a:lnTo>
                  <a:lnTo>
                    <a:pt x="346" y="397"/>
                  </a:lnTo>
                  <a:lnTo>
                    <a:pt x="348" y="396"/>
                  </a:lnTo>
                  <a:lnTo>
                    <a:pt x="348" y="392"/>
                  </a:lnTo>
                  <a:lnTo>
                    <a:pt x="348" y="390"/>
                  </a:lnTo>
                  <a:lnTo>
                    <a:pt x="348" y="387"/>
                  </a:lnTo>
                  <a:lnTo>
                    <a:pt x="350" y="385"/>
                  </a:lnTo>
                  <a:lnTo>
                    <a:pt x="350" y="383"/>
                  </a:lnTo>
                  <a:lnTo>
                    <a:pt x="350" y="380"/>
                  </a:lnTo>
                  <a:lnTo>
                    <a:pt x="350" y="378"/>
                  </a:lnTo>
                  <a:lnTo>
                    <a:pt x="352" y="376"/>
                  </a:lnTo>
                  <a:lnTo>
                    <a:pt x="352" y="373"/>
                  </a:lnTo>
                  <a:lnTo>
                    <a:pt x="353" y="371"/>
                  </a:lnTo>
                  <a:lnTo>
                    <a:pt x="353" y="369"/>
                  </a:lnTo>
                  <a:lnTo>
                    <a:pt x="355" y="366"/>
                  </a:lnTo>
                  <a:lnTo>
                    <a:pt x="357" y="364"/>
                  </a:lnTo>
                  <a:lnTo>
                    <a:pt x="357" y="362"/>
                  </a:lnTo>
                  <a:lnTo>
                    <a:pt x="357" y="361"/>
                  </a:lnTo>
                  <a:lnTo>
                    <a:pt x="359" y="359"/>
                  </a:lnTo>
                  <a:lnTo>
                    <a:pt x="360" y="357"/>
                  </a:lnTo>
                  <a:lnTo>
                    <a:pt x="360" y="355"/>
                  </a:lnTo>
                  <a:lnTo>
                    <a:pt x="362" y="354"/>
                  </a:lnTo>
                  <a:lnTo>
                    <a:pt x="364" y="352"/>
                  </a:lnTo>
                  <a:lnTo>
                    <a:pt x="366" y="350"/>
                  </a:lnTo>
                  <a:lnTo>
                    <a:pt x="366" y="348"/>
                  </a:lnTo>
                  <a:lnTo>
                    <a:pt x="367" y="347"/>
                  </a:lnTo>
                  <a:lnTo>
                    <a:pt x="369" y="345"/>
                  </a:lnTo>
                  <a:lnTo>
                    <a:pt x="371" y="343"/>
                  </a:lnTo>
                  <a:lnTo>
                    <a:pt x="373" y="343"/>
                  </a:lnTo>
                  <a:lnTo>
                    <a:pt x="374" y="341"/>
                  </a:lnTo>
                  <a:lnTo>
                    <a:pt x="376" y="341"/>
                  </a:lnTo>
                  <a:lnTo>
                    <a:pt x="378" y="340"/>
                  </a:lnTo>
                  <a:lnTo>
                    <a:pt x="380" y="340"/>
                  </a:lnTo>
                  <a:lnTo>
                    <a:pt x="382" y="338"/>
                  </a:lnTo>
                  <a:lnTo>
                    <a:pt x="383" y="336"/>
                  </a:lnTo>
                  <a:lnTo>
                    <a:pt x="387" y="336"/>
                  </a:lnTo>
                  <a:lnTo>
                    <a:pt x="389" y="336"/>
                  </a:lnTo>
                  <a:lnTo>
                    <a:pt x="390" y="336"/>
                  </a:lnTo>
                  <a:lnTo>
                    <a:pt x="394" y="334"/>
                  </a:lnTo>
                  <a:lnTo>
                    <a:pt x="396" y="334"/>
                  </a:lnTo>
                  <a:lnTo>
                    <a:pt x="399" y="334"/>
                  </a:lnTo>
                  <a:lnTo>
                    <a:pt x="403" y="334"/>
                  </a:lnTo>
                  <a:lnTo>
                    <a:pt x="404" y="334"/>
                  </a:lnTo>
                  <a:lnTo>
                    <a:pt x="408" y="336"/>
                  </a:lnTo>
                  <a:lnTo>
                    <a:pt x="411" y="336"/>
                  </a:lnTo>
                  <a:lnTo>
                    <a:pt x="413" y="336"/>
                  </a:lnTo>
                  <a:lnTo>
                    <a:pt x="417" y="338"/>
                  </a:lnTo>
                  <a:lnTo>
                    <a:pt x="420" y="338"/>
                  </a:lnTo>
                  <a:lnTo>
                    <a:pt x="422" y="338"/>
                  </a:lnTo>
                  <a:lnTo>
                    <a:pt x="424" y="338"/>
                  </a:lnTo>
                  <a:lnTo>
                    <a:pt x="425" y="338"/>
                  </a:lnTo>
                  <a:lnTo>
                    <a:pt x="429" y="338"/>
                  </a:lnTo>
                  <a:lnTo>
                    <a:pt x="431" y="336"/>
                  </a:lnTo>
                  <a:lnTo>
                    <a:pt x="432" y="336"/>
                  </a:lnTo>
                  <a:lnTo>
                    <a:pt x="434" y="336"/>
                  </a:lnTo>
                  <a:lnTo>
                    <a:pt x="436" y="336"/>
                  </a:lnTo>
                  <a:lnTo>
                    <a:pt x="438" y="336"/>
                  </a:lnTo>
                  <a:lnTo>
                    <a:pt x="439" y="336"/>
                  </a:lnTo>
                  <a:lnTo>
                    <a:pt x="441" y="336"/>
                  </a:lnTo>
                  <a:lnTo>
                    <a:pt x="443" y="336"/>
                  </a:lnTo>
                  <a:lnTo>
                    <a:pt x="445" y="336"/>
                  </a:lnTo>
                  <a:lnTo>
                    <a:pt x="446" y="336"/>
                  </a:lnTo>
                  <a:lnTo>
                    <a:pt x="448" y="336"/>
                  </a:lnTo>
                  <a:lnTo>
                    <a:pt x="450" y="336"/>
                  </a:lnTo>
                  <a:lnTo>
                    <a:pt x="452" y="336"/>
                  </a:lnTo>
                  <a:lnTo>
                    <a:pt x="453" y="336"/>
                  </a:lnTo>
                  <a:lnTo>
                    <a:pt x="455" y="336"/>
                  </a:lnTo>
                  <a:lnTo>
                    <a:pt x="457" y="336"/>
                  </a:lnTo>
                  <a:lnTo>
                    <a:pt x="459" y="336"/>
                  </a:lnTo>
                  <a:lnTo>
                    <a:pt x="460" y="336"/>
                  </a:lnTo>
                  <a:lnTo>
                    <a:pt x="462" y="336"/>
                  </a:lnTo>
                  <a:lnTo>
                    <a:pt x="466" y="336"/>
                  </a:lnTo>
                  <a:lnTo>
                    <a:pt x="467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3" y="336"/>
                  </a:lnTo>
                  <a:lnTo>
                    <a:pt x="474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0" y="336"/>
                  </a:lnTo>
                  <a:lnTo>
                    <a:pt x="481" y="334"/>
                  </a:lnTo>
                  <a:lnTo>
                    <a:pt x="483" y="334"/>
                  </a:lnTo>
                  <a:lnTo>
                    <a:pt x="485" y="334"/>
                  </a:lnTo>
                  <a:lnTo>
                    <a:pt x="487" y="334"/>
                  </a:lnTo>
                  <a:lnTo>
                    <a:pt x="488" y="334"/>
                  </a:lnTo>
                  <a:lnTo>
                    <a:pt x="490" y="334"/>
                  </a:lnTo>
                  <a:lnTo>
                    <a:pt x="492" y="334"/>
                  </a:lnTo>
                  <a:lnTo>
                    <a:pt x="494" y="334"/>
                  </a:lnTo>
                  <a:lnTo>
                    <a:pt x="495" y="334"/>
                  </a:lnTo>
                  <a:lnTo>
                    <a:pt x="497" y="334"/>
                  </a:lnTo>
                  <a:lnTo>
                    <a:pt x="499" y="333"/>
                  </a:lnTo>
                  <a:lnTo>
                    <a:pt x="501" y="333"/>
                  </a:lnTo>
                  <a:lnTo>
                    <a:pt x="502" y="333"/>
                  </a:lnTo>
                  <a:lnTo>
                    <a:pt x="504" y="333"/>
                  </a:lnTo>
                  <a:lnTo>
                    <a:pt x="506" y="333"/>
                  </a:lnTo>
                  <a:lnTo>
                    <a:pt x="508" y="333"/>
                  </a:lnTo>
                  <a:lnTo>
                    <a:pt x="509" y="333"/>
                  </a:lnTo>
                  <a:lnTo>
                    <a:pt x="511" y="331"/>
                  </a:lnTo>
                  <a:lnTo>
                    <a:pt x="513" y="331"/>
                  </a:lnTo>
                  <a:lnTo>
                    <a:pt x="515" y="331"/>
                  </a:lnTo>
                  <a:lnTo>
                    <a:pt x="516" y="329"/>
                  </a:lnTo>
                  <a:lnTo>
                    <a:pt x="518" y="329"/>
                  </a:lnTo>
                  <a:lnTo>
                    <a:pt x="520" y="329"/>
                  </a:lnTo>
                  <a:lnTo>
                    <a:pt x="522" y="329"/>
                  </a:lnTo>
                  <a:lnTo>
                    <a:pt x="523" y="327"/>
                  </a:lnTo>
                  <a:lnTo>
                    <a:pt x="525" y="327"/>
                  </a:lnTo>
                  <a:lnTo>
                    <a:pt x="525" y="326"/>
                  </a:lnTo>
                  <a:lnTo>
                    <a:pt x="529" y="326"/>
                  </a:lnTo>
                  <a:lnTo>
                    <a:pt x="529" y="326"/>
                  </a:lnTo>
                  <a:lnTo>
                    <a:pt x="530" y="324"/>
                  </a:lnTo>
                  <a:lnTo>
                    <a:pt x="532" y="324"/>
                  </a:lnTo>
                  <a:lnTo>
                    <a:pt x="534" y="324"/>
                  </a:lnTo>
                  <a:lnTo>
                    <a:pt x="536" y="326"/>
                  </a:lnTo>
                  <a:lnTo>
                    <a:pt x="536" y="327"/>
                  </a:lnTo>
                  <a:lnTo>
                    <a:pt x="537" y="329"/>
                  </a:lnTo>
                  <a:lnTo>
                    <a:pt x="537" y="333"/>
                  </a:lnTo>
                  <a:lnTo>
                    <a:pt x="537" y="334"/>
                  </a:lnTo>
                  <a:lnTo>
                    <a:pt x="537" y="338"/>
                  </a:lnTo>
                  <a:lnTo>
                    <a:pt x="537" y="340"/>
                  </a:lnTo>
                  <a:lnTo>
                    <a:pt x="537" y="341"/>
                  </a:lnTo>
                  <a:lnTo>
                    <a:pt x="537" y="343"/>
                  </a:lnTo>
                  <a:lnTo>
                    <a:pt x="537" y="345"/>
                  </a:lnTo>
                  <a:lnTo>
                    <a:pt x="537" y="347"/>
                  </a:lnTo>
                  <a:lnTo>
                    <a:pt x="537" y="348"/>
                  </a:lnTo>
                  <a:lnTo>
                    <a:pt x="536" y="350"/>
                  </a:lnTo>
                  <a:lnTo>
                    <a:pt x="536" y="352"/>
                  </a:lnTo>
                  <a:lnTo>
                    <a:pt x="536" y="354"/>
                  </a:lnTo>
                  <a:lnTo>
                    <a:pt x="536" y="355"/>
                  </a:lnTo>
                  <a:lnTo>
                    <a:pt x="534" y="357"/>
                  </a:lnTo>
                  <a:lnTo>
                    <a:pt x="534" y="359"/>
                  </a:lnTo>
                  <a:lnTo>
                    <a:pt x="534" y="361"/>
                  </a:lnTo>
                  <a:lnTo>
                    <a:pt x="532" y="362"/>
                  </a:lnTo>
                  <a:lnTo>
                    <a:pt x="532" y="364"/>
                  </a:lnTo>
                  <a:lnTo>
                    <a:pt x="530" y="366"/>
                  </a:lnTo>
                  <a:lnTo>
                    <a:pt x="530" y="368"/>
                  </a:lnTo>
                  <a:lnTo>
                    <a:pt x="530" y="371"/>
                  </a:lnTo>
                  <a:lnTo>
                    <a:pt x="529" y="373"/>
                  </a:lnTo>
                  <a:lnTo>
                    <a:pt x="529" y="375"/>
                  </a:lnTo>
                  <a:lnTo>
                    <a:pt x="527" y="376"/>
                  </a:lnTo>
                  <a:lnTo>
                    <a:pt x="527" y="378"/>
                  </a:lnTo>
                  <a:lnTo>
                    <a:pt x="525" y="380"/>
                  </a:lnTo>
                  <a:lnTo>
                    <a:pt x="525" y="382"/>
                  </a:lnTo>
                  <a:lnTo>
                    <a:pt x="523" y="383"/>
                  </a:lnTo>
                  <a:lnTo>
                    <a:pt x="523" y="387"/>
                  </a:lnTo>
                  <a:lnTo>
                    <a:pt x="522" y="387"/>
                  </a:lnTo>
                  <a:lnTo>
                    <a:pt x="522" y="390"/>
                  </a:lnTo>
                  <a:lnTo>
                    <a:pt x="520" y="392"/>
                  </a:lnTo>
                  <a:lnTo>
                    <a:pt x="520" y="394"/>
                  </a:lnTo>
                  <a:lnTo>
                    <a:pt x="518" y="396"/>
                  </a:lnTo>
                  <a:lnTo>
                    <a:pt x="516" y="397"/>
                  </a:lnTo>
                  <a:lnTo>
                    <a:pt x="516" y="399"/>
                  </a:lnTo>
                  <a:lnTo>
                    <a:pt x="515" y="401"/>
                  </a:lnTo>
                  <a:lnTo>
                    <a:pt x="513" y="403"/>
                  </a:lnTo>
                  <a:lnTo>
                    <a:pt x="513" y="406"/>
                  </a:lnTo>
                  <a:lnTo>
                    <a:pt x="511" y="406"/>
                  </a:lnTo>
                  <a:lnTo>
                    <a:pt x="511" y="408"/>
                  </a:lnTo>
                  <a:lnTo>
                    <a:pt x="509" y="410"/>
                  </a:lnTo>
                  <a:lnTo>
                    <a:pt x="509" y="411"/>
                  </a:lnTo>
                  <a:lnTo>
                    <a:pt x="508" y="413"/>
                  </a:lnTo>
                  <a:lnTo>
                    <a:pt x="506" y="415"/>
                  </a:lnTo>
                  <a:lnTo>
                    <a:pt x="506" y="417"/>
                  </a:lnTo>
                  <a:lnTo>
                    <a:pt x="504" y="418"/>
                  </a:lnTo>
                  <a:lnTo>
                    <a:pt x="502" y="422"/>
                  </a:lnTo>
                  <a:lnTo>
                    <a:pt x="501" y="424"/>
                  </a:lnTo>
                  <a:lnTo>
                    <a:pt x="499" y="427"/>
                  </a:lnTo>
                  <a:lnTo>
                    <a:pt x="497" y="429"/>
                  </a:lnTo>
                  <a:lnTo>
                    <a:pt x="548" y="443"/>
                  </a:lnTo>
                  <a:lnTo>
                    <a:pt x="550" y="441"/>
                  </a:lnTo>
                  <a:lnTo>
                    <a:pt x="551" y="439"/>
                  </a:lnTo>
                  <a:lnTo>
                    <a:pt x="551" y="436"/>
                  </a:lnTo>
                  <a:lnTo>
                    <a:pt x="553" y="434"/>
                  </a:lnTo>
                  <a:lnTo>
                    <a:pt x="555" y="432"/>
                  </a:lnTo>
                  <a:lnTo>
                    <a:pt x="557" y="431"/>
                  </a:lnTo>
                  <a:lnTo>
                    <a:pt x="558" y="429"/>
                  </a:lnTo>
                  <a:lnTo>
                    <a:pt x="560" y="425"/>
                  </a:lnTo>
                  <a:lnTo>
                    <a:pt x="562" y="424"/>
                  </a:lnTo>
                  <a:lnTo>
                    <a:pt x="564" y="422"/>
                  </a:lnTo>
                  <a:lnTo>
                    <a:pt x="565" y="420"/>
                  </a:lnTo>
                  <a:lnTo>
                    <a:pt x="567" y="417"/>
                  </a:lnTo>
                  <a:lnTo>
                    <a:pt x="569" y="415"/>
                  </a:lnTo>
                  <a:lnTo>
                    <a:pt x="571" y="413"/>
                  </a:lnTo>
                  <a:lnTo>
                    <a:pt x="572" y="411"/>
                  </a:lnTo>
                  <a:lnTo>
                    <a:pt x="576" y="408"/>
                  </a:lnTo>
                  <a:lnTo>
                    <a:pt x="576" y="406"/>
                  </a:lnTo>
                  <a:lnTo>
                    <a:pt x="579" y="404"/>
                  </a:lnTo>
                  <a:lnTo>
                    <a:pt x="581" y="401"/>
                  </a:lnTo>
                  <a:lnTo>
                    <a:pt x="583" y="399"/>
                  </a:lnTo>
                  <a:lnTo>
                    <a:pt x="585" y="397"/>
                  </a:lnTo>
                  <a:lnTo>
                    <a:pt x="586" y="396"/>
                  </a:lnTo>
                  <a:lnTo>
                    <a:pt x="588" y="394"/>
                  </a:lnTo>
                  <a:lnTo>
                    <a:pt x="590" y="390"/>
                  </a:lnTo>
                  <a:lnTo>
                    <a:pt x="592" y="389"/>
                  </a:lnTo>
                  <a:lnTo>
                    <a:pt x="593" y="387"/>
                  </a:lnTo>
                  <a:lnTo>
                    <a:pt x="595" y="385"/>
                  </a:lnTo>
                  <a:lnTo>
                    <a:pt x="597" y="383"/>
                  </a:lnTo>
                  <a:lnTo>
                    <a:pt x="597" y="382"/>
                  </a:lnTo>
                  <a:lnTo>
                    <a:pt x="600" y="380"/>
                  </a:lnTo>
                  <a:lnTo>
                    <a:pt x="600" y="376"/>
                  </a:lnTo>
                  <a:lnTo>
                    <a:pt x="602" y="376"/>
                  </a:lnTo>
                  <a:lnTo>
                    <a:pt x="602" y="375"/>
                  </a:lnTo>
                  <a:lnTo>
                    <a:pt x="604" y="375"/>
                  </a:lnTo>
                  <a:lnTo>
                    <a:pt x="604" y="373"/>
                  </a:lnTo>
                  <a:lnTo>
                    <a:pt x="606" y="371"/>
                  </a:lnTo>
                  <a:lnTo>
                    <a:pt x="606" y="371"/>
                  </a:lnTo>
                  <a:lnTo>
                    <a:pt x="607" y="369"/>
                  </a:lnTo>
                  <a:lnTo>
                    <a:pt x="609" y="369"/>
                  </a:lnTo>
                  <a:lnTo>
                    <a:pt x="611" y="371"/>
                  </a:lnTo>
                  <a:lnTo>
                    <a:pt x="614" y="373"/>
                  </a:lnTo>
                  <a:lnTo>
                    <a:pt x="616" y="375"/>
                  </a:lnTo>
                  <a:lnTo>
                    <a:pt x="618" y="375"/>
                  </a:lnTo>
                  <a:lnTo>
                    <a:pt x="620" y="376"/>
                  </a:lnTo>
                  <a:lnTo>
                    <a:pt x="621" y="376"/>
                  </a:lnTo>
                  <a:lnTo>
                    <a:pt x="623" y="376"/>
                  </a:lnTo>
                  <a:lnTo>
                    <a:pt x="625" y="376"/>
                  </a:lnTo>
                  <a:lnTo>
                    <a:pt x="627" y="376"/>
                  </a:lnTo>
                  <a:lnTo>
                    <a:pt x="628" y="376"/>
                  </a:lnTo>
                  <a:lnTo>
                    <a:pt x="630" y="375"/>
                  </a:lnTo>
                  <a:lnTo>
                    <a:pt x="632" y="375"/>
                  </a:lnTo>
                  <a:lnTo>
                    <a:pt x="634" y="373"/>
                  </a:lnTo>
                  <a:lnTo>
                    <a:pt x="635" y="371"/>
                  </a:lnTo>
                  <a:lnTo>
                    <a:pt x="635" y="369"/>
                  </a:lnTo>
                  <a:lnTo>
                    <a:pt x="637" y="369"/>
                  </a:lnTo>
                  <a:lnTo>
                    <a:pt x="639" y="369"/>
                  </a:lnTo>
                  <a:lnTo>
                    <a:pt x="641" y="371"/>
                  </a:lnTo>
                  <a:lnTo>
                    <a:pt x="642" y="371"/>
                  </a:lnTo>
                  <a:lnTo>
                    <a:pt x="644" y="371"/>
                  </a:lnTo>
                  <a:lnTo>
                    <a:pt x="646" y="373"/>
                  </a:lnTo>
                  <a:lnTo>
                    <a:pt x="648" y="373"/>
                  </a:lnTo>
                  <a:lnTo>
                    <a:pt x="649" y="375"/>
                  </a:lnTo>
                  <a:lnTo>
                    <a:pt x="651" y="376"/>
                  </a:lnTo>
                  <a:lnTo>
                    <a:pt x="653" y="376"/>
                  </a:lnTo>
                  <a:lnTo>
                    <a:pt x="655" y="380"/>
                  </a:lnTo>
                  <a:lnTo>
                    <a:pt x="656" y="382"/>
                  </a:lnTo>
                  <a:lnTo>
                    <a:pt x="658" y="385"/>
                  </a:lnTo>
                  <a:lnTo>
                    <a:pt x="660" y="387"/>
                  </a:lnTo>
                  <a:lnTo>
                    <a:pt x="660" y="389"/>
                  </a:lnTo>
                  <a:lnTo>
                    <a:pt x="660" y="390"/>
                  </a:lnTo>
                  <a:lnTo>
                    <a:pt x="662" y="390"/>
                  </a:lnTo>
                  <a:lnTo>
                    <a:pt x="662" y="394"/>
                  </a:lnTo>
                  <a:lnTo>
                    <a:pt x="662" y="394"/>
                  </a:lnTo>
                  <a:lnTo>
                    <a:pt x="663" y="396"/>
                  </a:lnTo>
                  <a:lnTo>
                    <a:pt x="663" y="397"/>
                  </a:lnTo>
                  <a:lnTo>
                    <a:pt x="663" y="399"/>
                  </a:lnTo>
                  <a:lnTo>
                    <a:pt x="663" y="401"/>
                  </a:lnTo>
                  <a:lnTo>
                    <a:pt x="663" y="403"/>
                  </a:lnTo>
                  <a:lnTo>
                    <a:pt x="663" y="404"/>
                  </a:lnTo>
                  <a:lnTo>
                    <a:pt x="665" y="406"/>
                  </a:lnTo>
                  <a:lnTo>
                    <a:pt x="665" y="408"/>
                  </a:lnTo>
                  <a:lnTo>
                    <a:pt x="665" y="410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3" y="415"/>
                  </a:lnTo>
                  <a:lnTo>
                    <a:pt x="663" y="417"/>
                  </a:lnTo>
                  <a:lnTo>
                    <a:pt x="663" y="418"/>
                  </a:lnTo>
                  <a:lnTo>
                    <a:pt x="663" y="420"/>
                  </a:lnTo>
                  <a:lnTo>
                    <a:pt x="663" y="422"/>
                  </a:lnTo>
                  <a:lnTo>
                    <a:pt x="663" y="424"/>
                  </a:lnTo>
                  <a:lnTo>
                    <a:pt x="663" y="425"/>
                  </a:lnTo>
                  <a:lnTo>
                    <a:pt x="663" y="427"/>
                  </a:lnTo>
                  <a:lnTo>
                    <a:pt x="663" y="429"/>
                  </a:lnTo>
                  <a:lnTo>
                    <a:pt x="663" y="431"/>
                  </a:lnTo>
                  <a:lnTo>
                    <a:pt x="662" y="432"/>
                  </a:lnTo>
                  <a:lnTo>
                    <a:pt x="662" y="434"/>
                  </a:lnTo>
                  <a:lnTo>
                    <a:pt x="662" y="436"/>
                  </a:lnTo>
                  <a:lnTo>
                    <a:pt x="662" y="438"/>
                  </a:lnTo>
                  <a:lnTo>
                    <a:pt x="662" y="439"/>
                  </a:lnTo>
                  <a:lnTo>
                    <a:pt x="660" y="441"/>
                  </a:lnTo>
                  <a:lnTo>
                    <a:pt x="660" y="443"/>
                  </a:lnTo>
                  <a:lnTo>
                    <a:pt x="660" y="445"/>
                  </a:lnTo>
                  <a:lnTo>
                    <a:pt x="660" y="446"/>
                  </a:lnTo>
                  <a:lnTo>
                    <a:pt x="660" y="448"/>
                  </a:lnTo>
                  <a:lnTo>
                    <a:pt x="658" y="450"/>
                  </a:lnTo>
                  <a:lnTo>
                    <a:pt x="658" y="452"/>
                  </a:lnTo>
                  <a:lnTo>
                    <a:pt x="658" y="453"/>
                  </a:lnTo>
                  <a:lnTo>
                    <a:pt x="658" y="455"/>
                  </a:lnTo>
                  <a:lnTo>
                    <a:pt x="656" y="457"/>
                  </a:lnTo>
                  <a:lnTo>
                    <a:pt x="656" y="459"/>
                  </a:lnTo>
                  <a:lnTo>
                    <a:pt x="655" y="460"/>
                  </a:lnTo>
                  <a:lnTo>
                    <a:pt x="655" y="462"/>
                  </a:lnTo>
                  <a:lnTo>
                    <a:pt x="707" y="464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9000" y="2854080"/>
              <a:ext cx="12348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ecording releases from facilities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(specific sour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8760" y="3920760"/>
              <a:ext cx="126216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cording releases from many small and scattered sources (diffuse sour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9440" y="3769920"/>
              <a:ext cx="5225760" cy="42840"/>
            </a:xfrm>
            <a:custGeom>
              <a:avLst/>
              <a:gdLst/>
              <a:ahLst/>
              <a:rect l="l" t="t" r="r" b="b"/>
              <a:pathLst>
                <a:path w="8074" h="55">
                  <a:moveTo>
                    <a:pt x="2" y="0"/>
                  </a:moveTo>
                  <a:lnTo>
                    <a:pt x="177" y="0"/>
                  </a:lnTo>
                  <a:lnTo>
                    <a:pt x="175" y="44"/>
                  </a:lnTo>
                  <a:lnTo>
                    <a:pt x="0" y="44"/>
                  </a:lnTo>
                  <a:lnTo>
                    <a:pt x="2" y="0"/>
                  </a:lnTo>
                  <a:close/>
                  <a:moveTo>
                    <a:pt x="308" y="0"/>
                  </a:moveTo>
                  <a:lnTo>
                    <a:pt x="483" y="2"/>
                  </a:lnTo>
                  <a:lnTo>
                    <a:pt x="481" y="46"/>
                  </a:lnTo>
                  <a:lnTo>
                    <a:pt x="306" y="44"/>
                  </a:lnTo>
                  <a:lnTo>
                    <a:pt x="308" y="0"/>
                  </a:lnTo>
                  <a:close/>
                  <a:moveTo>
                    <a:pt x="614" y="2"/>
                  </a:moveTo>
                  <a:lnTo>
                    <a:pt x="789" y="2"/>
                  </a:lnTo>
                  <a:lnTo>
                    <a:pt x="787" y="46"/>
                  </a:lnTo>
                  <a:lnTo>
                    <a:pt x="612" y="46"/>
                  </a:lnTo>
                  <a:lnTo>
                    <a:pt x="614" y="2"/>
                  </a:lnTo>
                  <a:close/>
                  <a:moveTo>
                    <a:pt x="921" y="2"/>
                  </a:moveTo>
                  <a:lnTo>
                    <a:pt x="1096" y="2"/>
                  </a:lnTo>
                  <a:lnTo>
                    <a:pt x="1094" y="46"/>
                  </a:lnTo>
                  <a:lnTo>
                    <a:pt x="919" y="46"/>
                  </a:lnTo>
                  <a:lnTo>
                    <a:pt x="921" y="2"/>
                  </a:lnTo>
                  <a:close/>
                  <a:moveTo>
                    <a:pt x="1227" y="2"/>
                  </a:moveTo>
                  <a:lnTo>
                    <a:pt x="1402" y="2"/>
                  </a:lnTo>
                  <a:lnTo>
                    <a:pt x="1400" y="46"/>
                  </a:lnTo>
                  <a:lnTo>
                    <a:pt x="1225" y="46"/>
                  </a:lnTo>
                  <a:lnTo>
                    <a:pt x="1227" y="2"/>
                  </a:lnTo>
                  <a:close/>
                  <a:moveTo>
                    <a:pt x="1533" y="2"/>
                  </a:moveTo>
                  <a:lnTo>
                    <a:pt x="1708" y="4"/>
                  </a:lnTo>
                  <a:lnTo>
                    <a:pt x="1706" y="48"/>
                  </a:lnTo>
                  <a:lnTo>
                    <a:pt x="1531" y="46"/>
                  </a:lnTo>
                  <a:lnTo>
                    <a:pt x="1533" y="2"/>
                  </a:lnTo>
                  <a:close/>
                  <a:moveTo>
                    <a:pt x="1839" y="4"/>
                  </a:moveTo>
                  <a:lnTo>
                    <a:pt x="2015" y="4"/>
                  </a:lnTo>
                  <a:lnTo>
                    <a:pt x="2013" y="48"/>
                  </a:lnTo>
                  <a:lnTo>
                    <a:pt x="1838" y="48"/>
                  </a:lnTo>
                  <a:lnTo>
                    <a:pt x="1839" y="4"/>
                  </a:lnTo>
                  <a:close/>
                  <a:moveTo>
                    <a:pt x="2146" y="4"/>
                  </a:moveTo>
                  <a:lnTo>
                    <a:pt x="2321" y="4"/>
                  </a:lnTo>
                  <a:lnTo>
                    <a:pt x="2319" y="48"/>
                  </a:lnTo>
                  <a:lnTo>
                    <a:pt x="2144" y="48"/>
                  </a:lnTo>
                  <a:lnTo>
                    <a:pt x="2146" y="4"/>
                  </a:lnTo>
                  <a:close/>
                  <a:moveTo>
                    <a:pt x="2452" y="4"/>
                  </a:moveTo>
                  <a:lnTo>
                    <a:pt x="2627" y="4"/>
                  </a:lnTo>
                  <a:lnTo>
                    <a:pt x="2625" y="48"/>
                  </a:lnTo>
                  <a:lnTo>
                    <a:pt x="2450" y="48"/>
                  </a:lnTo>
                  <a:lnTo>
                    <a:pt x="2452" y="4"/>
                  </a:lnTo>
                  <a:close/>
                  <a:moveTo>
                    <a:pt x="2758" y="4"/>
                  </a:moveTo>
                  <a:lnTo>
                    <a:pt x="2933" y="6"/>
                  </a:lnTo>
                  <a:lnTo>
                    <a:pt x="2932" y="49"/>
                  </a:lnTo>
                  <a:lnTo>
                    <a:pt x="2757" y="48"/>
                  </a:lnTo>
                  <a:lnTo>
                    <a:pt x="2758" y="4"/>
                  </a:lnTo>
                  <a:close/>
                  <a:moveTo>
                    <a:pt x="3065" y="6"/>
                  </a:moveTo>
                  <a:lnTo>
                    <a:pt x="3240" y="6"/>
                  </a:lnTo>
                  <a:lnTo>
                    <a:pt x="3238" y="49"/>
                  </a:lnTo>
                  <a:lnTo>
                    <a:pt x="3063" y="49"/>
                  </a:lnTo>
                  <a:lnTo>
                    <a:pt x="3065" y="6"/>
                  </a:lnTo>
                  <a:close/>
                  <a:moveTo>
                    <a:pt x="3371" y="6"/>
                  </a:moveTo>
                  <a:lnTo>
                    <a:pt x="3546" y="6"/>
                  </a:lnTo>
                  <a:lnTo>
                    <a:pt x="3544" y="49"/>
                  </a:lnTo>
                  <a:lnTo>
                    <a:pt x="3369" y="49"/>
                  </a:lnTo>
                  <a:lnTo>
                    <a:pt x="3371" y="6"/>
                  </a:lnTo>
                  <a:close/>
                  <a:moveTo>
                    <a:pt x="3677" y="6"/>
                  </a:moveTo>
                  <a:lnTo>
                    <a:pt x="3852" y="6"/>
                  </a:lnTo>
                  <a:lnTo>
                    <a:pt x="3851" y="49"/>
                  </a:lnTo>
                  <a:lnTo>
                    <a:pt x="3676" y="49"/>
                  </a:lnTo>
                  <a:lnTo>
                    <a:pt x="3677" y="6"/>
                  </a:lnTo>
                  <a:close/>
                  <a:moveTo>
                    <a:pt x="3984" y="6"/>
                  </a:moveTo>
                  <a:lnTo>
                    <a:pt x="4159" y="6"/>
                  </a:lnTo>
                  <a:lnTo>
                    <a:pt x="4157" y="49"/>
                  </a:lnTo>
                  <a:lnTo>
                    <a:pt x="3982" y="49"/>
                  </a:lnTo>
                  <a:lnTo>
                    <a:pt x="3984" y="6"/>
                  </a:lnTo>
                  <a:close/>
                  <a:moveTo>
                    <a:pt x="4290" y="7"/>
                  </a:moveTo>
                  <a:lnTo>
                    <a:pt x="4465" y="7"/>
                  </a:lnTo>
                  <a:lnTo>
                    <a:pt x="4463" y="51"/>
                  </a:lnTo>
                  <a:lnTo>
                    <a:pt x="4288" y="51"/>
                  </a:lnTo>
                  <a:lnTo>
                    <a:pt x="4290" y="7"/>
                  </a:lnTo>
                  <a:close/>
                  <a:moveTo>
                    <a:pt x="4596" y="7"/>
                  </a:moveTo>
                  <a:lnTo>
                    <a:pt x="4771" y="7"/>
                  </a:lnTo>
                  <a:lnTo>
                    <a:pt x="4770" y="51"/>
                  </a:lnTo>
                  <a:lnTo>
                    <a:pt x="4595" y="51"/>
                  </a:lnTo>
                  <a:lnTo>
                    <a:pt x="4596" y="7"/>
                  </a:lnTo>
                  <a:close/>
                  <a:moveTo>
                    <a:pt x="4903" y="7"/>
                  </a:moveTo>
                  <a:lnTo>
                    <a:pt x="5078" y="7"/>
                  </a:lnTo>
                  <a:lnTo>
                    <a:pt x="5076" y="51"/>
                  </a:lnTo>
                  <a:lnTo>
                    <a:pt x="4901" y="51"/>
                  </a:lnTo>
                  <a:lnTo>
                    <a:pt x="4903" y="7"/>
                  </a:lnTo>
                  <a:close/>
                  <a:moveTo>
                    <a:pt x="5209" y="7"/>
                  </a:moveTo>
                  <a:lnTo>
                    <a:pt x="5384" y="7"/>
                  </a:lnTo>
                  <a:lnTo>
                    <a:pt x="5382" y="51"/>
                  </a:lnTo>
                  <a:lnTo>
                    <a:pt x="5207" y="51"/>
                  </a:lnTo>
                  <a:lnTo>
                    <a:pt x="5209" y="7"/>
                  </a:lnTo>
                  <a:close/>
                  <a:moveTo>
                    <a:pt x="5515" y="9"/>
                  </a:moveTo>
                  <a:lnTo>
                    <a:pt x="5690" y="9"/>
                  </a:lnTo>
                  <a:lnTo>
                    <a:pt x="5689" y="53"/>
                  </a:lnTo>
                  <a:lnTo>
                    <a:pt x="5514" y="53"/>
                  </a:lnTo>
                  <a:lnTo>
                    <a:pt x="5515" y="9"/>
                  </a:lnTo>
                  <a:close/>
                  <a:moveTo>
                    <a:pt x="5822" y="9"/>
                  </a:moveTo>
                  <a:lnTo>
                    <a:pt x="5997" y="9"/>
                  </a:lnTo>
                  <a:lnTo>
                    <a:pt x="5995" y="53"/>
                  </a:lnTo>
                  <a:lnTo>
                    <a:pt x="5820" y="53"/>
                  </a:lnTo>
                  <a:lnTo>
                    <a:pt x="5822" y="9"/>
                  </a:lnTo>
                  <a:close/>
                  <a:moveTo>
                    <a:pt x="6128" y="9"/>
                  </a:moveTo>
                  <a:lnTo>
                    <a:pt x="6303" y="9"/>
                  </a:lnTo>
                  <a:lnTo>
                    <a:pt x="6301" y="53"/>
                  </a:lnTo>
                  <a:lnTo>
                    <a:pt x="6126" y="53"/>
                  </a:lnTo>
                  <a:lnTo>
                    <a:pt x="6128" y="9"/>
                  </a:lnTo>
                  <a:close/>
                  <a:moveTo>
                    <a:pt x="6434" y="9"/>
                  </a:moveTo>
                  <a:lnTo>
                    <a:pt x="6609" y="9"/>
                  </a:lnTo>
                  <a:lnTo>
                    <a:pt x="6608" y="53"/>
                  </a:lnTo>
                  <a:lnTo>
                    <a:pt x="6433" y="53"/>
                  </a:lnTo>
                  <a:lnTo>
                    <a:pt x="6434" y="9"/>
                  </a:lnTo>
                  <a:close/>
                  <a:moveTo>
                    <a:pt x="6741" y="9"/>
                  </a:moveTo>
                  <a:lnTo>
                    <a:pt x="6916" y="11"/>
                  </a:lnTo>
                  <a:lnTo>
                    <a:pt x="6914" y="55"/>
                  </a:lnTo>
                  <a:lnTo>
                    <a:pt x="6739" y="53"/>
                  </a:lnTo>
                  <a:lnTo>
                    <a:pt x="6741" y="9"/>
                  </a:lnTo>
                  <a:close/>
                  <a:moveTo>
                    <a:pt x="7047" y="11"/>
                  </a:moveTo>
                  <a:lnTo>
                    <a:pt x="7222" y="11"/>
                  </a:lnTo>
                  <a:lnTo>
                    <a:pt x="7220" y="55"/>
                  </a:lnTo>
                  <a:lnTo>
                    <a:pt x="7045" y="55"/>
                  </a:lnTo>
                  <a:lnTo>
                    <a:pt x="7047" y="11"/>
                  </a:lnTo>
                  <a:close/>
                  <a:moveTo>
                    <a:pt x="7353" y="11"/>
                  </a:moveTo>
                  <a:lnTo>
                    <a:pt x="7528" y="11"/>
                  </a:lnTo>
                  <a:lnTo>
                    <a:pt x="7526" y="55"/>
                  </a:lnTo>
                  <a:lnTo>
                    <a:pt x="7351" y="55"/>
                  </a:lnTo>
                  <a:lnTo>
                    <a:pt x="7353" y="11"/>
                  </a:lnTo>
                  <a:close/>
                  <a:moveTo>
                    <a:pt x="7660" y="11"/>
                  </a:moveTo>
                  <a:lnTo>
                    <a:pt x="7835" y="11"/>
                  </a:lnTo>
                  <a:lnTo>
                    <a:pt x="7833" y="55"/>
                  </a:lnTo>
                  <a:lnTo>
                    <a:pt x="7658" y="55"/>
                  </a:lnTo>
                  <a:lnTo>
                    <a:pt x="7660" y="11"/>
                  </a:lnTo>
                  <a:close/>
                  <a:moveTo>
                    <a:pt x="7966" y="11"/>
                  </a:moveTo>
                  <a:lnTo>
                    <a:pt x="8074" y="11"/>
                  </a:lnTo>
                  <a:lnTo>
                    <a:pt x="8074" y="55"/>
                  </a:lnTo>
                  <a:lnTo>
                    <a:pt x="7964" y="55"/>
                  </a:lnTo>
                  <a:lnTo>
                    <a:pt x="7966" y="11"/>
                  </a:lnTo>
                  <a:close/>
                </a:path>
              </a:pathLst>
            </a:custGeom>
            <a:solidFill>
              <a:srgbClr val="006699"/>
            </a:solidFill>
            <a:ln w="1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0960" y="5522760"/>
              <a:ext cx="114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63080" y="552276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6699"/>
                  </a:solidFill>
                  <a:latin typeface="Arial"/>
                </a:rPr>
                <a:t>Releases to 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9760" y="2747520"/>
              <a:ext cx="158760" cy="959040"/>
            </a:xfrm>
            <a:custGeom>
              <a:avLst/>
              <a:gdLst/>
              <a:ahLst/>
              <a:rect l="l" t="t" r="r" b="b"/>
              <a:pathLst>
                <a:path w="251" h="1510">
                  <a:moveTo>
                    <a:pt x="0" y="0"/>
                  </a:moveTo>
                  <a:lnTo>
                    <a:pt x="13" y="1"/>
                  </a:lnTo>
                  <a:lnTo>
                    <a:pt x="25" y="3"/>
                  </a:lnTo>
                  <a:lnTo>
                    <a:pt x="37" y="7"/>
                  </a:lnTo>
                  <a:lnTo>
                    <a:pt x="49" y="10"/>
                  </a:lnTo>
                  <a:lnTo>
                    <a:pt x="60" y="15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8" y="36"/>
                  </a:lnTo>
                  <a:lnTo>
                    <a:pt x="97" y="45"/>
                  </a:lnTo>
                  <a:lnTo>
                    <a:pt x="104" y="56"/>
                  </a:lnTo>
                  <a:lnTo>
                    <a:pt x="111" y="66"/>
                  </a:lnTo>
                  <a:lnTo>
                    <a:pt x="116" y="77"/>
                  </a:lnTo>
                  <a:lnTo>
                    <a:pt x="120" y="89"/>
                  </a:lnTo>
                  <a:lnTo>
                    <a:pt x="123" y="101"/>
                  </a:lnTo>
                  <a:lnTo>
                    <a:pt x="125" y="113"/>
                  </a:lnTo>
                  <a:lnTo>
                    <a:pt x="125" y="126"/>
                  </a:lnTo>
                  <a:lnTo>
                    <a:pt x="125" y="630"/>
                  </a:lnTo>
                  <a:lnTo>
                    <a:pt x="127" y="642"/>
                  </a:lnTo>
                  <a:lnTo>
                    <a:pt x="128" y="654"/>
                  </a:lnTo>
                  <a:lnTo>
                    <a:pt x="132" y="666"/>
                  </a:lnTo>
                  <a:lnTo>
                    <a:pt x="135" y="679"/>
                  </a:lnTo>
                  <a:lnTo>
                    <a:pt x="141" y="689"/>
                  </a:lnTo>
                  <a:lnTo>
                    <a:pt x="148" y="700"/>
                  </a:lnTo>
                  <a:lnTo>
                    <a:pt x="155" y="708"/>
                  </a:lnTo>
                  <a:lnTo>
                    <a:pt x="162" y="719"/>
                  </a:lnTo>
                  <a:lnTo>
                    <a:pt x="170" y="726"/>
                  </a:lnTo>
                  <a:lnTo>
                    <a:pt x="181" y="733"/>
                  </a:lnTo>
                  <a:lnTo>
                    <a:pt x="191" y="740"/>
                  </a:lnTo>
                  <a:lnTo>
                    <a:pt x="202" y="745"/>
                  </a:lnTo>
                  <a:lnTo>
                    <a:pt x="214" y="749"/>
                  </a:lnTo>
                  <a:lnTo>
                    <a:pt x="226" y="752"/>
                  </a:lnTo>
                  <a:lnTo>
                    <a:pt x="239" y="754"/>
                  </a:lnTo>
                  <a:lnTo>
                    <a:pt x="251" y="756"/>
                  </a:lnTo>
                  <a:lnTo>
                    <a:pt x="239" y="756"/>
                  </a:lnTo>
                  <a:lnTo>
                    <a:pt x="226" y="757"/>
                  </a:lnTo>
                  <a:lnTo>
                    <a:pt x="214" y="761"/>
                  </a:lnTo>
                  <a:lnTo>
                    <a:pt x="202" y="764"/>
                  </a:lnTo>
                  <a:lnTo>
                    <a:pt x="191" y="770"/>
                  </a:lnTo>
                  <a:lnTo>
                    <a:pt x="181" y="777"/>
                  </a:lnTo>
                  <a:lnTo>
                    <a:pt x="170" y="784"/>
                  </a:lnTo>
                  <a:lnTo>
                    <a:pt x="162" y="792"/>
                  </a:lnTo>
                  <a:lnTo>
                    <a:pt x="155" y="801"/>
                  </a:lnTo>
                  <a:lnTo>
                    <a:pt x="148" y="810"/>
                  </a:lnTo>
                  <a:lnTo>
                    <a:pt x="141" y="820"/>
                  </a:lnTo>
                  <a:lnTo>
                    <a:pt x="135" y="833"/>
                  </a:lnTo>
                  <a:lnTo>
                    <a:pt x="132" y="843"/>
                  </a:lnTo>
                  <a:lnTo>
                    <a:pt x="128" y="855"/>
                  </a:lnTo>
                  <a:lnTo>
                    <a:pt x="127" y="868"/>
                  </a:lnTo>
                  <a:lnTo>
                    <a:pt x="125" y="882"/>
                  </a:lnTo>
                  <a:lnTo>
                    <a:pt x="125" y="1384"/>
                  </a:lnTo>
                  <a:lnTo>
                    <a:pt x="125" y="1396"/>
                  </a:lnTo>
                  <a:lnTo>
                    <a:pt x="123" y="1410"/>
                  </a:lnTo>
                  <a:lnTo>
                    <a:pt x="120" y="1421"/>
                  </a:lnTo>
                  <a:lnTo>
                    <a:pt x="116" y="1433"/>
                  </a:lnTo>
                  <a:lnTo>
                    <a:pt x="111" y="1443"/>
                  </a:lnTo>
                  <a:lnTo>
                    <a:pt x="104" y="1454"/>
                  </a:lnTo>
                  <a:lnTo>
                    <a:pt x="97" y="1465"/>
                  </a:lnTo>
                  <a:lnTo>
                    <a:pt x="88" y="1473"/>
                  </a:lnTo>
                  <a:lnTo>
                    <a:pt x="79" y="1480"/>
                  </a:lnTo>
                  <a:lnTo>
                    <a:pt x="70" y="1489"/>
                  </a:lnTo>
                  <a:lnTo>
                    <a:pt x="60" y="1494"/>
                  </a:lnTo>
                  <a:lnTo>
                    <a:pt x="49" y="1500"/>
                  </a:lnTo>
                  <a:lnTo>
                    <a:pt x="37" y="1505"/>
                  </a:lnTo>
                  <a:lnTo>
                    <a:pt x="25" y="1507"/>
                  </a:lnTo>
                  <a:lnTo>
                    <a:pt x="13" y="1508"/>
                  </a:lnTo>
                  <a:lnTo>
                    <a:pt x="0" y="1510"/>
                  </a:lnTo>
                </a:path>
              </a:pathLst>
            </a:custGeom>
            <a:noFill/>
            <a:ln w="208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9760" y="3868560"/>
              <a:ext cx="158760" cy="960480"/>
            </a:xfrm>
            <a:custGeom>
              <a:avLst/>
              <a:gdLst/>
              <a:ahLst/>
              <a:rect l="l" t="t" r="r" b="b"/>
              <a:pathLst>
                <a:path w="251" h="1511">
                  <a:moveTo>
                    <a:pt x="0" y="0"/>
                  </a:moveTo>
                  <a:lnTo>
                    <a:pt x="13" y="0"/>
                  </a:lnTo>
                  <a:lnTo>
                    <a:pt x="25" y="2"/>
                  </a:lnTo>
                  <a:lnTo>
                    <a:pt x="37" y="5"/>
                  </a:lnTo>
                  <a:lnTo>
                    <a:pt x="49" y="11"/>
                  </a:lnTo>
                  <a:lnTo>
                    <a:pt x="60" y="16"/>
                  </a:lnTo>
                  <a:lnTo>
                    <a:pt x="70" y="21"/>
                  </a:lnTo>
                  <a:lnTo>
                    <a:pt x="79" y="28"/>
                  </a:lnTo>
                  <a:lnTo>
                    <a:pt x="88" y="37"/>
                  </a:lnTo>
                  <a:lnTo>
                    <a:pt x="97" y="46"/>
                  </a:lnTo>
                  <a:lnTo>
                    <a:pt x="104" y="56"/>
                  </a:lnTo>
                  <a:lnTo>
                    <a:pt x="111" y="67"/>
                  </a:lnTo>
                  <a:lnTo>
                    <a:pt x="116" y="77"/>
                  </a:lnTo>
                  <a:lnTo>
                    <a:pt x="120" y="89"/>
                  </a:lnTo>
                  <a:lnTo>
                    <a:pt x="123" y="102"/>
                  </a:lnTo>
                  <a:lnTo>
                    <a:pt x="125" y="114"/>
                  </a:lnTo>
                  <a:lnTo>
                    <a:pt x="125" y="126"/>
                  </a:lnTo>
                  <a:lnTo>
                    <a:pt x="125" y="630"/>
                  </a:lnTo>
                  <a:lnTo>
                    <a:pt x="127" y="642"/>
                  </a:lnTo>
                  <a:lnTo>
                    <a:pt x="128" y="655"/>
                  </a:lnTo>
                  <a:lnTo>
                    <a:pt x="132" y="667"/>
                  </a:lnTo>
                  <a:lnTo>
                    <a:pt x="135" y="677"/>
                  </a:lnTo>
                  <a:lnTo>
                    <a:pt x="141" y="690"/>
                  </a:lnTo>
                  <a:lnTo>
                    <a:pt x="148" y="700"/>
                  </a:lnTo>
                  <a:lnTo>
                    <a:pt x="155" y="709"/>
                  </a:lnTo>
                  <a:lnTo>
                    <a:pt x="162" y="718"/>
                  </a:lnTo>
                  <a:lnTo>
                    <a:pt x="170" y="726"/>
                  </a:lnTo>
                  <a:lnTo>
                    <a:pt x="181" y="733"/>
                  </a:lnTo>
                  <a:lnTo>
                    <a:pt x="191" y="740"/>
                  </a:lnTo>
                  <a:lnTo>
                    <a:pt x="202" y="746"/>
                  </a:lnTo>
                  <a:lnTo>
                    <a:pt x="214" y="749"/>
                  </a:lnTo>
                  <a:lnTo>
                    <a:pt x="226" y="753"/>
                  </a:lnTo>
                  <a:lnTo>
                    <a:pt x="239" y="754"/>
                  </a:lnTo>
                  <a:lnTo>
                    <a:pt x="251" y="754"/>
                  </a:lnTo>
                  <a:lnTo>
                    <a:pt x="239" y="756"/>
                  </a:lnTo>
                  <a:lnTo>
                    <a:pt x="226" y="758"/>
                  </a:lnTo>
                  <a:lnTo>
                    <a:pt x="214" y="761"/>
                  </a:lnTo>
                  <a:lnTo>
                    <a:pt x="202" y="765"/>
                  </a:lnTo>
                  <a:lnTo>
                    <a:pt x="191" y="770"/>
                  </a:lnTo>
                  <a:lnTo>
                    <a:pt x="181" y="777"/>
                  </a:lnTo>
                  <a:lnTo>
                    <a:pt x="170" y="784"/>
                  </a:lnTo>
                  <a:lnTo>
                    <a:pt x="162" y="791"/>
                  </a:lnTo>
                  <a:lnTo>
                    <a:pt x="155" y="800"/>
                  </a:lnTo>
                  <a:lnTo>
                    <a:pt x="148" y="810"/>
                  </a:lnTo>
                  <a:lnTo>
                    <a:pt x="141" y="821"/>
                  </a:lnTo>
                  <a:lnTo>
                    <a:pt x="135" y="831"/>
                  </a:lnTo>
                  <a:lnTo>
                    <a:pt x="132" y="844"/>
                  </a:lnTo>
                  <a:lnTo>
                    <a:pt x="128" y="856"/>
                  </a:lnTo>
                  <a:lnTo>
                    <a:pt x="127" y="868"/>
                  </a:lnTo>
                  <a:lnTo>
                    <a:pt x="125" y="880"/>
                  </a:lnTo>
                  <a:lnTo>
                    <a:pt x="125" y="1385"/>
                  </a:lnTo>
                  <a:lnTo>
                    <a:pt x="125" y="1397"/>
                  </a:lnTo>
                  <a:lnTo>
                    <a:pt x="123" y="1409"/>
                  </a:lnTo>
                  <a:lnTo>
                    <a:pt x="120" y="1421"/>
                  </a:lnTo>
                  <a:lnTo>
                    <a:pt x="116" y="1434"/>
                  </a:lnTo>
                  <a:lnTo>
                    <a:pt x="111" y="1444"/>
                  </a:lnTo>
                  <a:lnTo>
                    <a:pt x="104" y="1455"/>
                  </a:lnTo>
                  <a:lnTo>
                    <a:pt x="97" y="1463"/>
                  </a:lnTo>
                  <a:lnTo>
                    <a:pt x="88" y="1472"/>
                  </a:lnTo>
                  <a:lnTo>
                    <a:pt x="79" y="1481"/>
                  </a:lnTo>
                  <a:lnTo>
                    <a:pt x="70" y="1488"/>
                  </a:lnTo>
                  <a:lnTo>
                    <a:pt x="60" y="1495"/>
                  </a:lnTo>
                  <a:lnTo>
                    <a:pt x="49" y="1500"/>
                  </a:lnTo>
                  <a:lnTo>
                    <a:pt x="37" y="1504"/>
                  </a:lnTo>
                  <a:lnTo>
                    <a:pt x="25" y="1507"/>
                  </a:lnTo>
                  <a:lnTo>
                    <a:pt x="13" y="1509"/>
                  </a:lnTo>
                  <a:lnTo>
                    <a:pt x="0" y="1511"/>
                  </a:lnTo>
                </a:path>
              </a:pathLst>
            </a:custGeom>
            <a:noFill/>
            <a:ln w="208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8680" y="4525560"/>
              <a:ext cx="574560" cy="549360"/>
            </a:xfrm>
            <a:custGeom>
              <a:avLst/>
              <a:gdLst/>
              <a:ahLst/>
              <a:rect l="l" t="t" r="r" b="b"/>
              <a:pathLst>
                <a:path w="907" h="867">
                  <a:moveTo>
                    <a:pt x="907" y="390"/>
                  </a:moveTo>
                  <a:lnTo>
                    <a:pt x="706" y="510"/>
                  </a:lnTo>
                  <a:lnTo>
                    <a:pt x="406" y="0"/>
                  </a:lnTo>
                  <a:lnTo>
                    <a:pt x="0" y="238"/>
                  </a:lnTo>
                  <a:lnTo>
                    <a:pt x="299" y="748"/>
                  </a:lnTo>
                  <a:lnTo>
                    <a:pt x="96" y="867"/>
                  </a:lnTo>
                  <a:lnTo>
                    <a:pt x="602" y="798"/>
                  </a:lnTo>
                  <a:lnTo>
                    <a:pt x="907" y="3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72000" y="3800160"/>
              <a:ext cx="498240" cy="295200"/>
            </a:xfrm>
            <a:custGeom>
              <a:avLst/>
              <a:gdLst/>
              <a:ahLst/>
              <a:rect l="l" t="t" r="r" b="b"/>
              <a:pathLst>
                <a:path w="786" h="465">
                  <a:moveTo>
                    <a:pt x="707" y="465"/>
                  </a:moveTo>
                  <a:lnTo>
                    <a:pt x="707" y="462"/>
                  </a:lnTo>
                  <a:lnTo>
                    <a:pt x="707" y="460"/>
                  </a:lnTo>
                  <a:lnTo>
                    <a:pt x="707" y="458"/>
                  </a:lnTo>
                  <a:lnTo>
                    <a:pt x="707" y="456"/>
                  </a:lnTo>
                  <a:lnTo>
                    <a:pt x="707" y="455"/>
                  </a:lnTo>
                  <a:lnTo>
                    <a:pt x="707" y="451"/>
                  </a:lnTo>
                  <a:lnTo>
                    <a:pt x="707" y="449"/>
                  </a:lnTo>
                  <a:lnTo>
                    <a:pt x="707" y="448"/>
                  </a:lnTo>
                  <a:lnTo>
                    <a:pt x="707" y="446"/>
                  </a:lnTo>
                  <a:lnTo>
                    <a:pt x="707" y="444"/>
                  </a:lnTo>
                  <a:lnTo>
                    <a:pt x="706" y="441"/>
                  </a:lnTo>
                  <a:lnTo>
                    <a:pt x="706" y="439"/>
                  </a:lnTo>
                  <a:lnTo>
                    <a:pt x="706" y="437"/>
                  </a:lnTo>
                  <a:lnTo>
                    <a:pt x="706" y="435"/>
                  </a:lnTo>
                  <a:lnTo>
                    <a:pt x="706" y="434"/>
                  </a:lnTo>
                  <a:lnTo>
                    <a:pt x="706" y="432"/>
                  </a:lnTo>
                  <a:lnTo>
                    <a:pt x="706" y="428"/>
                  </a:lnTo>
                  <a:lnTo>
                    <a:pt x="706" y="427"/>
                  </a:lnTo>
                  <a:lnTo>
                    <a:pt x="706" y="425"/>
                  </a:lnTo>
                  <a:lnTo>
                    <a:pt x="706" y="423"/>
                  </a:lnTo>
                  <a:lnTo>
                    <a:pt x="706" y="420"/>
                  </a:lnTo>
                  <a:lnTo>
                    <a:pt x="706" y="418"/>
                  </a:lnTo>
                  <a:lnTo>
                    <a:pt x="706" y="416"/>
                  </a:lnTo>
                  <a:lnTo>
                    <a:pt x="706" y="414"/>
                  </a:lnTo>
                  <a:lnTo>
                    <a:pt x="706" y="411"/>
                  </a:lnTo>
                  <a:lnTo>
                    <a:pt x="706" y="409"/>
                  </a:lnTo>
                  <a:lnTo>
                    <a:pt x="706" y="407"/>
                  </a:lnTo>
                  <a:lnTo>
                    <a:pt x="707" y="406"/>
                  </a:lnTo>
                  <a:lnTo>
                    <a:pt x="707" y="402"/>
                  </a:lnTo>
                  <a:lnTo>
                    <a:pt x="707" y="400"/>
                  </a:lnTo>
                  <a:lnTo>
                    <a:pt x="707" y="399"/>
                  </a:lnTo>
                  <a:lnTo>
                    <a:pt x="707" y="397"/>
                  </a:lnTo>
                  <a:lnTo>
                    <a:pt x="707" y="395"/>
                  </a:lnTo>
                  <a:lnTo>
                    <a:pt x="707" y="392"/>
                  </a:lnTo>
                  <a:lnTo>
                    <a:pt x="707" y="390"/>
                  </a:lnTo>
                  <a:lnTo>
                    <a:pt x="707" y="388"/>
                  </a:lnTo>
                  <a:lnTo>
                    <a:pt x="707" y="386"/>
                  </a:lnTo>
                  <a:lnTo>
                    <a:pt x="707" y="385"/>
                  </a:lnTo>
                  <a:lnTo>
                    <a:pt x="707" y="381"/>
                  </a:lnTo>
                  <a:lnTo>
                    <a:pt x="707" y="379"/>
                  </a:lnTo>
                  <a:lnTo>
                    <a:pt x="707" y="378"/>
                  </a:lnTo>
                  <a:lnTo>
                    <a:pt x="707" y="376"/>
                  </a:lnTo>
                  <a:lnTo>
                    <a:pt x="707" y="372"/>
                  </a:lnTo>
                  <a:lnTo>
                    <a:pt x="707" y="371"/>
                  </a:lnTo>
                  <a:lnTo>
                    <a:pt x="707" y="369"/>
                  </a:lnTo>
                  <a:lnTo>
                    <a:pt x="709" y="367"/>
                  </a:lnTo>
                  <a:lnTo>
                    <a:pt x="709" y="365"/>
                  </a:lnTo>
                  <a:lnTo>
                    <a:pt x="709" y="364"/>
                  </a:lnTo>
                  <a:lnTo>
                    <a:pt x="709" y="360"/>
                  </a:lnTo>
                  <a:lnTo>
                    <a:pt x="709" y="358"/>
                  </a:lnTo>
                  <a:lnTo>
                    <a:pt x="709" y="357"/>
                  </a:lnTo>
                  <a:lnTo>
                    <a:pt x="709" y="355"/>
                  </a:lnTo>
                  <a:lnTo>
                    <a:pt x="709" y="353"/>
                  </a:lnTo>
                  <a:lnTo>
                    <a:pt x="709" y="351"/>
                  </a:lnTo>
                  <a:lnTo>
                    <a:pt x="711" y="350"/>
                  </a:lnTo>
                  <a:lnTo>
                    <a:pt x="711" y="348"/>
                  </a:lnTo>
                  <a:lnTo>
                    <a:pt x="711" y="346"/>
                  </a:lnTo>
                  <a:lnTo>
                    <a:pt x="711" y="344"/>
                  </a:lnTo>
                  <a:lnTo>
                    <a:pt x="711" y="341"/>
                  </a:lnTo>
                  <a:lnTo>
                    <a:pt x="713" y="341"/>
                  </a:lnTo>
                  <a:lnTo>
                    <a:pt x="713" y="337"/>
                  </a:lnTo>
                  <a:lnTo>
                    <a:pt x="713" y="336"/>
                  </a:lnTo>
                  <a:lnTo>
                    <a:pt x="713" y="334"/>
                  </a:lnTo>
                  <a:lnTo>
                    <a:pt x="713" y="334"/>
                  </a:lnTo>
                  <a:lnTo>
                    <a:pt x="713" y="332"/>
                  </a:lnTo>
                  <a:lnTo>
                    <a:pt x="711" y="330"/>
                  </a:lnTo>
                  <a:lnTo>
                    <a:pt x="711" y="329"/>
                  </a:lnTo>
                  <a:lnTo>
                    <a:pt x="711" y="327"/>
                  </a:lnTo>
                  <a:lnTo>
                    <a:pt x="709" y="325"/>
                  </a:lnTo>
                  <a:lnTo>
                    <a:pt x="709" y="323"/>
                  </a:lnTo>
                  <a:lnTo>
                    <a:pt x="709" y="322"/>
                  </a:lnTo>
                  <a:lnTo>
                    <a:pt x="707" y="320"/>
                  </a:lnTo>
                  <a:lnTo>
                    <a:pt x="707" y="320"/>
                  </a:lnTo>
                  <a:lnTo>
                    <a:pt x="707" y="316"/>
                  </a:lnTo>
                  <a:lnTo>
                    <a:pt x="706" y="316"/>
                  </a:lnTo>
                  <a:lnTo>
                    <a:pt x="706" y="315"/>
                  </a:lnTo>
                  <a:lnTo>
                    <a:pt x="706" y="313"/>
                  </a:lnTo>
                  <a:lnTo>
                    <a:pt x="706" y="311"/>
                  </a:lnTo>
                  <a:lnTo>
                    <a:pt x="704" y="309"/>
                  </a:lnTo>
                  <a:lnTo>
                    <a:pt x="704" y="308"/>
                  </a:lnTo>
                  <a:lnTo>
                    <a:pt x="704" y="306"/>
                  </a:lnTo>
                  <a:lnTo>
                    <a:pt x="704" y="304"/>
                  </a:lnTo>
                  <a:lnTo>
                    <a:pt x="702" y="302"/>
                  </a:lnTo>
                  <a:lnTo>
                    <a:pt x="702" y="302"/>
                  </a:lnTo>
                  <a:lnTo>
                    <a:pt x="702" y="301"/>
                  </a:lnTo>
                  <a:lnTo>
                    <a:pt x="700" y="299"/>
                  </a:lnTo>
                  <a:lnTo>
                    <a:pt x="700" y="297"/>
                  </a:lnTo>
                  <a:lnTo>
                    <a:pt x="700" y="295"/>
                  </a:lnTo>
                  <a:lnTo>
                    <a:pt x="700" y="294"/>
                  </a:lnTo>
                  <a:lnTo>
                    <a:pt x="700" y="292"/>
                  </a:lnTo>
                  <a:lnTo>
                    <a:pt x="699" y="290"/>
                  </a:lnTo>
                  <a:lnTo>
                    <a:pt x="699" y="288"/>
                  </a:lnTo>
                  <a:lnTo>
                    <a:pt x="699" y="288"/>
                  </a:lnTo>
                  <a:lnTo>
                    <a:pt x="699" y="287"/>
                  </a:lnTo>
                  <a:lnTo>
                    <a:pt x="699" y="285"/>
                  </a:lnTo>
                  <a:lnTo>
                    <a:pt x="699" y="283"/>
                  </a:lnTo>
                  <a:lnTo>
                    <a:pt x="697" y="281"/>
                  </a:lnTo>
                  <a:lnTo>
                    <a:pt x="697" y="280"/>
                  </a:lnTo>
                  <a:lnTo>
                    <a:pt x="697" y="278"/>
                  </a:lnTo>
                  <a:lnTo>
                    <a:pt x="697" y="276"/>
                  </a:lnTo>
                  <a:lnTo>
                    <a:pt x="697" y="274"/>
                  </a:lnTo>
                  <a:lnTo>
                    <a:pt x="697" y="273"/>
                  </a:lnTo>
                  <a:lnTo>
                    <a:pt x="697" y="271"/>
                  </a:lnTo>
                  <a:lnTo>
                    <a:pt x="697" y="269"/>
                  </a:lnTo>
                  <a:lnTo>
                    <a:pt x="695" y="267"/>
                  </a:lnTo>
                  <a:lnTo>
                    <a:pt x="695" y="266"/>
                  </a:lnTo>
                  <a:lnTo>
                    <a:pt x="695" y="266"/>
                  </a:lnTo>
                  <a:lnTo>
                    <a:pt x="695" y="264"/>
                  </a:lnTo>
                  <a:lnTo>
                    <a:pt x="695" y="260"/>
                  </a:lnTo>
                  <a:lnTo>
                    <a:pt x="695" y="260"/>
                  </a:lnTo>
                  <a:lnTo>
                    <a:pt x="695" y="259"/>
                  </a:lnTo>
                  <a:lnTo>
                    <a:pt x="697" y="257"/>
                  </a:lnTo>
                  <a:lnTo>
                    <a:pt x="697" y="255"/>
                  </a:lnTo>
                  <a:lnTo>
                    <a:pt x="697" y="253"/>
                  </a:lnTo>
                  <a:lnTo>
                    <a:pt x="697" y="252"/>
                  </a:lnTo>
                  <a:lnTo>
                    <a:pt x="697" y="250"/>
                  </a:lnTo>
                  <a:lnTo>
                    <a:pt x="697" y="248"/>
                  </a:lnTo>
                  <a:lnTo>
                    <a:pt x="697" y="246"/>
                  </a:lnTo>
                  <a:lnTo>
                    <a:pt x="699" y="245"/>
                  </a:lnTo>
                  <a:lnTo>
                    <a:pt x="699" y="243"/>
                  </a:lnTo>
                  <a:lnTo>
                    <a:pt x="699" y="241"/>
                  </a:lnTo>
                  <a:lnTo>
                    <a:pt x="699" y="239"/>
                  </a:lnTo>
                  <a:lnTo>
                    <a:pt x="699" y="238"/>
                  </a:lnTo>
                  <a:lnTo>
                    <a:pt x="700" y="236"/>
                  </a:lnTo>
                  <a:lnTo>
                    <a:pt x="700" y="234"/>
                  </a:lnTo>
                  <a:lnTo>
                    <a:pt x="700" y="232"/>
                  </a:lnTo>
                  <a:lnTo>
                    <a:pt x="702" y="231"/>
                  </a:lnTo>
                  <a:lnTo>
                    <a:pt x="702" y="229"/>
                  </a:lnTo>
                  <a:lnTo>
                    <a:pt x="704" y="229"/>
                  </a:lnTo>
                  <a:lnTo>
                    <a:pt x="706" y="231"/>
                  </a:lnTo>
                  <a:lnTo>
                    <a:pt x="706" y="232"/>
                  </a:lnTo>
                  <a:lnTo>
                    <a:pt x="707" y="234"/>
                  </a:lnTo>
                  <a:lnTo>
                    <a:pt x="707" y="236"/>
                  </a:lnTo>
                  <a:lnTo>
                    <a:pt x="707" y="238"/>
                  </a:lnTo>
                  <a:lnTo>
                    <a:pt x="707" y="239"/>
                  </a:lnTo>
                  <a:lnTo>
                    <a:pt x="707" y="241"/>
                  </a:lnTo>
                  <a:lnTo>
                    <a:pt x="709" y="245"/>
                  </a:lnTo>
                  <a:lnTo>
                    <a:pt x="711" y="246"/>
                  </a:lnTo>
                  <a:lnTo>
                    <a:pt x="713" y="248"/>
                  </a:lnTo>
                  <a:lnTo>
                    <a:pt x="714" y="252"/>
                  </a:lnTo>
                  <a:lnTo>
                    <a:pt x="714" y="253"/>
                  </a:lnTo>
                  <a:lnTo>
                    <a:pt x="716" y="257"/>
                  </a:lnTo>
                  <a:lnTo>
                    <a:pt x="716" y="259"/>
                  </a:lnTo>
                  <a:lnTo>
                    <a:pt x="718" y="262"/>
                  </a:lnTo>
                  <a:lnTo>
                    <a:pt x="718" y="264"/>
                  </a:lnTo>
                  <a:lnTo>
                    <a:pt x="720" y="267"/>
                  </a:lnTo>
                  <a:lnTo>
                    <a:pt x="720" y="269"/>
                  </a:lnTo>
                  <a:lnTo>
                    <a:pt x="720" y="273"/>
                  </a:lnTo>
                  <a:lnTo>
                    <a:pt x="721" y="276"/>
                  </a:lnTo>
                  <a:lnTo>
                    <a:pt x="721" y="278"/>
                  </a:lnTo>
                  <a:lnTo>
                    <a:pt x="721" y="281"/>
                  </a:lnTo>
                  <a:lnTo>
                    <a:pt x="723" y="285"/>
                  </a:lnTo>
                  <a:lnTo>
                    <a:pt x="723" y="287"/>
                  </a:lnTo>
                  <a:lnTo>
                    <a:pt x="723" y="290"/>
                  </a:lnTo>
                  <a:lnTo>
                    <a:pt x="723" y="294"/>
                  </a:lnTo>
                  <a:lnTo>
                    <a:pt x="723" y="295"/>
                  </a:lnTo>
                  <a:lnTo>
                    <a:pt x="723" y="299"/>
                  </a:lnTo>
                  <a:lnTo>
                    <a:pt x="725" y="302"/>
                  </a:lnTo>
                  <a:lnTo>
                    <a:pt x="725" y="304"/>
                  </a:lnTo>
                  <a:lnTo>
                    <a:pt x="725" y="308"/>
                  </a:lnTo>
                  <a:lnTo>
                    <a:pt x="725" y="311"/>
                  </a:lnTo>
                  <a:lnTo>
                    <a:pt x="725" y="315"/>
                  </a:lnTo>
                  <a:lnTo>
                    <a:pt x="725" y="316"/>
                  </a:lnTo>
                  <a:lnTo>
                    <a:pt x="725" y="320"/>
                  </a:lnTo>
                  <a:lnTo>
                    <a:pt x="725" y="323"/>
                  </a:lnTo>
                  <a:lnTo>
                    <a:pt x="725" y="325"/>
                  </a:lnTo>
                  <a:lnTo>
                    <a:pt x="725" y="329"/>
                  </a:lnTo>
                  <a:lnTo>
                    <a:pt x="727" y="332"/>
                  </a:lnTo>
                  <a:lnTo>
                    <a:pt x="727" y="334"/>
                  </a:lnTo>
                  <a:lnTo>
                    <a:pt x="727" y="337"/>
                  </a:lnTo>
                  <a:lnTo>
                    <a:pt x="727" y="341"/>
                  </a:lnTo>
                  <a:lnTo>
                    <a:pt x="728" y="343"/>
                  </a:lnTo>
                  <a:lnTo>
                    <a:pt x="728" y="346"/>
                  </a:lnTo>
                  <a:lnTo>
                    <a:pt x="728" y="348"/>
                  </a:lnTo>
                  <a:lnTo>
                    <a:pt x="728" y="351"/>
                  </a:lnTo>
                  <a:lnTo>
                    <a:pt x="730" y="353"/>
                  </a:lnTo>
                  <a:lnTo>
                    <a:pt x="730" y="357"/>
                  </a:lnTo>
                  <a:lnTo>
                    <a:pt x="732" y="358"/>
                  </a:lnTo>
                  <a:lnTo>
                    <a:pt x="732" y="360"/>
                  </a:lnTo>
                  <a:lnTo>
                    <a:pt x="734" y="364"/>
                  </a:lnTo>
                  <a:lnTo>
                    <a:pt x="734" y="365"/>
                  </a:lnTo>
                  <a:lnTo>
                    <a:pt x="735" y="369"/>
                  </a:lnTo>
                  <a:lnTo>
                    <a:pt x="737" y="371"/>
                  </a:lnTo>
                  <a:lnTo>
                    <a:pt x="737" y="374"/>
                  </a:lnTo>
                  <a:lnTo>
                    <a:pt x="739" y="376"/>
                  </a:lnTo>
                  <a:lnTo>
                    <a:pt x="741" y="378"/>
                  </a:lnTo>
                  <a:lnTo>
                    <a:pt x="742" y="379"/>
                  </a:lnTo>
                  <a:lnTo>
                    <a:pt x="744" y="381"/>
                  </a:lnTo>
                  <a:lnTo>
                    <a:pt x="746" y="385"/>
                  </a:lnTo>
                  <a:lnTo>
                    <a:pt x="748" y="386"/>
                  </a:lnTo>
                  <a:lnTo>
                    <a:pt x="749" y="388"/>
                  </a:lnTo>
                  <a:lnTo>
                    <a:pt x="751" y="390"/>
                  </a:lnTo>
                  <a:lnTo>
                    <a:pt x="755" y="392"/>
                  </a:lnTo>
                  <a:lnTo>
                    <a:pt x="756" y="393"/>
                  </a:lnTo>
                  <a:lnTo>
                    <a:pt x="758" y="395"/>
                  </a:lnTo>
                  <a:lnTo>
                    <a:pt x="762" y="397"/>
                  </a:lnTo>
                  <a:lnTo>
                    <a:pt x="765" y="399"/>
                  </a:lnTo>
                  <a:lnTo>
                    <a:pt x="769" y="399"/>
                  </a:lnTo>
                  <a:lnTo>
                    <a:pt x="770" y="400"/>
                  </a:lnTo>
                  <a:lnTo>
                    <a:pt x="774" y="402"/>
                  </a:lnTo>
                  <a:lnTo>
                    <a:pt x="772" y="399"/>
                  </a:lnTo>
                  <a:lnTo>
                    <a:pt x="770" y="397"/>
                  </a:lnTo>
                  <a:lnTo>
                    <a:pt x="767" y="393"/>
                  </a:lnTo>
                  <a:lnTo>
                    <a:pt x="763" y="392"/>
                  </a:lnTo>
                  <a:lnTo>
                    <a:pt x="762" y="390"/>
                  </a:lnTo>
                  <a:lnTo>
                    <a:pt x="760" y="386"/>
                  </a:lnTo>
                  <a:lnTo>
                    <a:pt x="758" y="385"/>
                  </a:lnTo>
                  <a:lnTo>
                    <a:pt x="756" y="381"/>
                  </a:lnTo>
                  <a:lnTo>
                    <a:pt x="758" y="381"/>
                  </a:lnTo>
                  <a:lnTo>
                    <a:pt x="760" y="381"/>
                  </a:lnTo>
                  <a:lnTo>
                    <a:pt x="762" y="383"/>
                  </a:lnTo>
                  <a:lnTo>
                    <a:pt x="763" y="385"/>
                  </a:lnTo>
                  <a:lnTo>
                    <a:pt x="765" y="385"/>
                  </a:lnTo>
                  <a:lnTo>
                    <a:pt x="769" y="386"/>
                  </a:lnTo>
                  <a:lnTo>
                    <a:pt x="769" y="390"/>
                  </a:lnTo>
                  <a:lnTo>
                    <a:pt x="770" y="392"/>
                  </a:lnTo>
                  <a:lnTo>
                    <a:pt x="772" y="393"/>
                  </a:lnTo>
                  <a:lnTo>
                    <a:pt x="774" y="395"/>
                  </a:lnTo>
                  <a:lnTo>
                    <a:pt x="776" y="395"/>
                  </a:lnTo>
                  <a:lnTo>
                    <a:pt x="777" y="397"/>
                  </a:lnTo>
                  <a:lnTo>
                    <a:pt x="779" y="399"/>
                  </a:lnTo>
                  <a:lnTo>
                    <a:pt x="783" y="399"/>
                  </a:lnTo>
                  <a:lnTo>
                    <a:pt x="784" y="399"/>
                  </a:lnTo>
                  <a:lnTo>
                    <a:pt x="786" y="399"/>
                  </a:lnTo>
                  <a:lnTo>
                    <a:pt x="784" y="395"/>
                  </a:lnTo>
                  <a:lnTo>
                    <a:pt x="783" y="392"/>
                  </a:lnTo>
                  <a:lnTo>
                    <a:pt x="781" y="390"/>
                  </a:lnTo>
                  <a:lnTo>
                    <a:pt x="779" y="388"/>
                  </a:lnTo>
                  <a:lnTo>
                    <a:pt x="779" y="383"/>
                  </a:lnTo>
                  <a:lnTo>
                    <a:pt x="777" y="379"/>
                  </a:lnTo>
                  <a:lnTo>
                    <a:pt x="777" y="376"/>
                  </a:lnTo>
                  <a:lnTo>
                    <a:pt x="776" y="372"/>
                  </a:lnTo>
                  <a:lnTo>
                    <a:pt x="776" y="369"/>
                  </a:lnTo>
                  <a:lnTo>
                    <a:pt x="776" y="365"/>
                  </a:lnTo>
                  <a:lnTo>
                    <a:pt x="774" y="360"/>
                  </a:lnTo>
                  <a:lnTo>
                    <a:pt x="774" y="358"/>
                  </a:lnTo>
                  <a:lnTo>
                    <a:pt x="772" y="355"/>
                  </a:lnTo>
                  <a:lnTo>
                    <a:pt x="772" y="350"/>
                  </a:lnTo>
                  <a:lnTo>
                    <a:pt x="770" y="346"/>
                  </a:lnTo>
                  <a:lnTo>
                    <a:pt x="770" y="343"/>
                  </a:lnTo>
                  <a:lnTo>
                    <a:pt x="770" y="339"/>
                  </a:lnTo>
                  <a:lnTo>
                    <a:pt x="769" y="336"/>
                  </a:lnTo>
                  <a:lnTo>
                    <a:pt x="769" y="332"/>
                  </a:lnTo>
                  <a:lnTo>
                    <a:pt x="767" y="329"/>
                  </a:lnTo>
                  <a:lnTo>
                    <a:pt x="765" y="325"/>
                  </a:lnTo>
                  <a:lnTo>
                    <a:pt x="765" y="322"/>
                  </a:lnTo>
                  <a:lnTo>
                    <a:pt x="763" y="318"/>
                  </a:lnTo>
                  <a:lnTo>
                    <a:pt x="763" y="315"/>
                  </a:lnTo>
                  <a:lnTo>
                    <a:pt x="762" y="311"/>
                  </a:lnTo>
                  <a:lnTo>
                    <a:pt x="762" y="308"/>
                  </a:lnTo>
                  <a:lnTo>
                    <a:pt x="760" y="304"/>
                  </a:lnTo>
                  <a:lnTo>
                    <a:pt x="760" y="301"/>
                  </a:lnTo>
                  <a:lnTo>
                    <a:pt x="758" y="297"/>
                  </a:lnTo>
                  <a:lnTo>
                    <a:pt x="758" y="294"/>
                  </a:lnTo>
                  <a:lnTo>
                    <a:pt x="756" y="290"/>
                  </a:lnTo>
                  <a:lnTo>
                    <a:pt x="755" y="287"/>
                  </a:lnTo>
                  <a:lnTo>
                    <a:pt x="755" y="283"/>
                  </a:lnTo>
                  <a:lnTo>
                    <a:pt x="753" y="278"/>
                  </a:lnTo>
                  <a:lnTo>
                    <a:pt x="753" y="274"/>
                  </a:lnTo>
                  <a:lnTo>
                    <a:pt x="753" y="271"/>
                  </a:lnTo>
                  <a:lnTo>
                    <a:pt x="751" y="267"/>
                  </a:lnTo>
                  <a:lnTo>
                    <a:pt x="749" y="264"/>
                  </a:lnTo>
                  <a:lnTo>
                    <a:pt x="749" y="260"/>
                  </a:lnTo>
                  <a:lnTo>
                    <a:pt x="748" y="257"/>
                  </a:lnTo>
                  <a:lnTo>
                    <a:pt x="748" y="253"/>
                  </a:lnTo>
                  <a:lnTo>
                    <a:pt x="746" y="250"/>
                  </a:lnTo>
                  <a:lnTo>
                    <a:pt x="746" y="246"/>
                  </a:lnTo>
                  <a:lnTo>
                    <a:pt x="746" y="243"/>
                  </a:lnTo>
                  <a:lnTo>
                    <a:pt x="744" y="239"/>
                  </a:lnTo>
                  <a:lnTo>
                    <a:pt x="744" y="236"/>
                  </a:lnTo>
                  <a:lnTo>
                    <a:pt x="742" y="232"/>
                  </a:lnTo>
                  <a:lnTo>
                    <a:pt x="742" y="229"/>
                  </a:lnTo>
                  <a:lnTo>
                    <a:pt x="741" y="224"/>
                  </a:lnTo>
                  <a:lnTo>
                    <a:pt x="741" y="220"/>
                  </a:lnTo>
                  <a:lnTo>
                    <a:pt x="741" y="217"/>
                  </a:lnTo>
                  <a:lnTo>
                    <a:pt x="739" y="213"/>
                  </a:lnTo>
                  <a:lnTo>
                    <a:pt x="739" y="210"/>
                  </a:lnTo>
                  <a:lnTo>
                    <a:pt x="739" y="206"/>
                  </a:lnTo>
                  <a:lnTo>
                    <a:pt x="739" y="203"/>
                  </a:lnTo>
                  <a:lnTo>
                    <a:pt x="737" y="199"/>
                  </a:lnTo>
                  <a:lnTo>
                    <a:pt x="737" y="194"/>
                  </a:lnTo>
                  <a:lnTo>
                    <a:pt x="737" y="192"/>
                  </a:lnTo>
                  <a:lnTo>
                    <a:pt x="737" y="187"/>
                  </a:lnTo>
                  <a:lnTo>
                    <a:pt x="737" y="183"/>
                  </a:lnTo>
                  <a:lnTo>
                    <a:pt x="737" y="180"/>
                  </a:lnTo>
                  <a:lnTo>
                    <a:pt x="735" y="176"/>
                  </a:lnTo>
                  <a:lnTo>
                    <a:pt x="735" y="171"/>
                  </a:lnTo>
                  <a:lnTo>
                    <a:pt x="735" y="168"/>
                  </a:lnTo>
                  <a:lnTo>
                    <a:pt x="735" y="164"/>
                  </a:lnTo>
                  <a:lnTo>
                    <a:pt x="735" y="161"/>
                  </a:lnTo>
                  <a:lnTo>
                    <a:pt x="735" y="157"/>
                  </a:lnTo>
                  <a:lnTo>
                    <a:pt x="737" y="154"/>
                  </a:lnTo>
                  <a:lnTo>
                    <a:pt x="737" y="150"/>
                  </a:lnTo>
                  <a:lnTo>
                    <a:pt x="737" y="147"/>
                  </a:lnTo>
                  <a:lnTo>
                    <a:pt x="737" y="145"/>
                  </a:lnTo>
                  <a:lnTo>
                    <a:pt x="737" y="141"/>
                  </a:lnTo>
                  <a:lnTo>
                    <a:pt x="737" y="138"/>
                  </a:lnTo>
                  <a:lnTo>
                    <a:pt x="737" y="136"/>
                  </a:lnTo>
                  <a:lnTo>
                    <a:pt x="737" y="133"/>
                  </a:lnTo>
                  <a:lnTo>
                    <a:pt x="737" y="131"/>
                  </a:lnTo>
                  <a:lnTo>
                    <a:pt x="737" y="129"/>
                  </a:lnTo>
                  <a:lnTo>
                    <a:pt x="737" y="126"/>
                  </a:lnTo>
                  <a:lnTo>
                    <a:pt x="735" y="122"/>
                  </a:lnTo>
                  <a:lnTo>
                    <a:pt x="735" y="120"/>
                  </a:lnTo>
                  <a:lnTo>
                    <a:pt x="735" y="117"/>
                  </a:lnTo>
                  <a:lnTo>
                    <a:pt x="734" y="115"/>
                  </a:lnTo>
                  <a:lnTo>
                    <a:pt x="734" y="112"/>
                  </a:lnTo>
                  <a:lnTo>
                    <a:pt x="734" y="110"/>
                  </a:lnTo>
                  <a:lnTo>
                    <a:pt x="732" y="108"/>
                  </a:lnTo>
                  <a:lnTo>
                    <a:pt x="732" y="105"/>
                  </a:lnTo>
                  <a:lnTo>
                    <a:pt x="732" y="103"/>
                  </a:lnTo>
                  <a:lnTo>
                    <a:pt x="730" y="101"/>
                  </a:lnTo>
                  <a:lnTo>
                    <a:pt x="728" y="98"/>
                  </a:lnTo>
                  <a:lnTo>
                    <a:pt x="728" y="96"/>
                  </a:lnTo>
                  <a:lnTo>
                    <a:pt x="727" y="94"/>
                  </a:lnTo>
                  <a:lnTo>
                    <a:pt x="725" y="91"/>
                  </a:lnTo>
                  <a:lnTo>
                    <a:pt x="725" y="89"/>
                  </a:lnTo>
                  <a:lnTo>
                    <a:pt x="723" y="87"/>
                  </a:lnTo>
                  <a:lnTo>
                    <a:pt x="721" y="85"/>
                  </a:lnTo>
                  <a:lnTo>
                    <a:pt x="721" y="84"/>
                  </a:lnTo>
                  <a:lnTo>
                    <a:pt x="720" y="80"/>
                  </a:lnTo>
                  <a:lnTo>
                    <a:pt x="718" y="78"/>
                  </a:lnTo>
                  <a:lnTo>
                    <a:pt x="716" y="78"/>
                  </a:lnTo>
                  <a:lnTo>
                    <a:pt x="714" y="77"/>
                  </a:lnTo>
                  <a:lnTo>
                    <a:pt x="713" y="73"/>
                  </a:lnTo>
                  <a:lnTo>
                    <a:pt x="711" y="71"/>
                  </a:lnTo>
                  <a:lnTo>
                    <a:pt x="709" y="70"/>
                  </a:lnTo>
                  <a:lnTo>
                    <a:pt x="707" y="70"/>
                  </a:lnTo>
                  <a:lnTo>
                    <a:pt x="706" y="68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0" y="63"/>
                  </a:lnTo>
                  <a:lnTo>
                    <a:pt x="699" y="61"/>
                  </a:lnTo>
                  <a:lnTo>
                    <a:pt x="695" y="59"/>
                  </a:lnTo>
                  <a:lnTo>
                    <a:pt x="693" y="59"/>
                  </a:lnTo>
                  <a:lnTo>
                    <a:pt x="692" y="57"/>
                  </a:lnTo>
                  <a:lnTo>
                    <a:pt x="690" y="57"/>
                  </a:lnTo>
                  <a:lnTo>
                    <a:pt x="686" y="56"/>
                  </a:lnTo>
                  <a:lnTo>
                    <a:pt x="685" y="54"/>
                  </a:lnTo>
                  <a:lnTo>
                    <a:pt x="683" y="54"/>
                  </a:lnTo>
                  <a:lnTo>
                    <a:pt x="679" y="52"/>
                  </a:lnTo>
                  <a:lnTo>
                    <a:pt x="678" y="52"/>
                  </a:lnTo>
                  <a:lnTo>
                    <a:pt x="676" y="52"/>
                  </a:lnTo>
                  <a:lnTo>
                    <a:pt x="672" y="50"/>
                  </a:lnTo>
                  <a:lnTo>
                    <a:pt x="671" y="50"/>
                  </a:lnTo>
                  <a:lnTo>
                    <a:pt x="669" y="49"/>
                  </a:lnTo>
                  <a:lnTo>
                    <a:pt x="665" y="49"/>
                  </a:lnTo>
                  <a:lnTo>
                    <a:pt x="664" y="49"/>
                  </a:lnTo>
                  <a:lnTo>
                    <a:pt x="660" y="49"/>
                  </a:lnTo>
                  <a:lnTo>
                    <a:pt x="658" y="49"/>
                  </a:lnTo>
                  <a:lnTo>
                    <a:pt x="655" y="49"/>
                  </a:lnTo>
                  <a:lnTo>
                    <a:pt x="653" y="49"/>
                  </a:lnTo>
                  <a:lnTo>
                    <a:pt x="650" y="49"/>
                  </a:lnTo>
                  <a:lnTo>
                    <a:pt x="646" y="49"/>
                  </a:lnTo>
                  <a:lnTo>
                    <a:pt x="644" y="49"/>
                  </a:lnTo>
                  <a:lnTo>
                    <a:pt x="641" y="49"/>
                  </a:lnTo>
                  <a:lnTo>
                    <a:pt x="639" y="49"/>
                  </a:lnTo>
                  <a:lnTo>
                    <a:pt x="637" y="49"/>
                  </a:lnTo>
                  <a:lnTo>
                    <a:pt x="637" y="49"/>
                  </a:lnTo>
                  <a:lnTo>
                    <a:pt x="636" y="50"/>
                  </a:lnTo>
                  <a:lnTo>
                    <a:pt x="636" y="50"/>
                  </a:lnTo>
                  <a:lnTo>
                    <a:pt x="634" y="50"/>
                  </a:lnTo>
                  <a:lnTo>
                    <a:pt x="636" y="50"/>
                  </a:lnTo>
                  <a:lnTo>
                    <a:pt x="636" y="50"/>
                  </a:lnTo>
                  <a:lnTo>
                    <a:pt x="583" y="54"/>
                  </a:lnTo>
                  <a:lnTo>
                    <a:pt x="581" y="54"/>
                  </a:lnTo>
                  <a:lnTo>
                    <a:pt x="578" y="54"/>
                  </a:lnTo>
                  <a:lnTo>
                    <a:pt x="576" y="56"/>
                  </a:lnTo>
                  <a:lnTo>
                    <a:pt x="573" y="56"/>
                  </a:lnTo>
                  <a:lnTo>
                    <a:pt x="571" y="57"/>
                  </a:lnTo>
                  <a:lnTo>
                    <a:pt x="567" y="57"/>
                  </a:lnTo>
                  <a:lnTo>
                    <a:pt x="566" y="57"/>
                  </a:lnTo>
                  <a:lnTo>
                    <a:pt x="562" y="57"/>
                  </a:lnTo>
                  <a:lnTo>
                    <a:pt x="560" y="59"/>
                  </a:lnTo>
                  <a:lnTo>
                    <a:pt x="557" y="59"/>
                  </a:lnTo>
                  <a:lnTo>
                    <a:pt x="553" y="59"/>
                  </a:lnTo>
                  <a:lnTo>
                    <a:pt x="552" y="59"/>
                  </a:lnTo>
                  <a:lnTo>
                    <a:pt x="548" y="59"/>
                  </a:lnTo>
                  <a:lnTo>
                    <a:pt x="546" y="59"/>
                  </a:lnTo>
                  <a:lnTo>
                    <a:pt x="543" y="59"/>
                  </a:lnTo>
                  <a:lnTo>
                    <a:pt x="541" y="59"/>
                  </a:lnTo>
                  <a:lnTo>
                    <a:pt x="538" y="59"/>
                  </a:lnTo>
                  <a:lnTo>
                    <a:pt x="536" y="59"/>
                  </a:lnTo>
                  <a:lnTo>
                    <a:pt x="532" y="59"/>
                  </a:lnTo>
                  <a:lnTo>
                    <a:pt x="531" y="61"/>
                  </a:lnTo>
                  <a:lnTo>
                    <a:pt x="527" y="61"/>
                  </a:lnTo>
                  <a:lnTo>
                    <a:pt x="524" y="61"/>
                  </a:lnTo>
                  <a:lnTo>
                    <a:pt x="522" y="61"/>
                  </a:lnTo>
                  <a:lnTo>
                    <a:pt x="520" y="61"/>
                  </a:lnTo>
                  <a:lnTo>
                    <a:pt x="517" y="59"/>
                  </a:lnTo>
                  <a:lnTo>
                    <a:pt x="513" y="59"/>
                  </a:lnTo>
                  <a:lnTo>
                    <a:pt x="511" y="59"/>
                  </a:lnTo>
                  <a:lnTo>
                    <a:pt x="508" y="59"/>
                  </a:lnTo>
                  <a:lnTo>
                    <a:pt x="506" y="59"/>
                  </a:lnTo>
                  <a:lnTo>
                    <a:pt x="503" y="59"/>
                  </a:lnTo>
                  <a:lnTo>
                    <a:pt x="501" y="59"/>
                  </a:lnTo>
                  <a:lnTo>
                    <a:pt x="497" y="59"/>
                  </a:lnTo>
                  <a:lnTo>
                    <a:pt x="494" y="59"/>
                  </a:lnTo>
                  <a:lnTo>
                    <a:pt x="492" y="59"/>
                  </a:lnTo>
                  <a:lnTo>
                    <a:pt x="489" y="59"/>
                  </a:lnTo>
                  <a:lnTo>
                    <a:pt x="487" y="59"/>
                  </a:lnTo>
                  <a:lnTo>
                    <a:pt x="483" y="59"/>
                  </a:lnTo>
                  <a:lnTo>
                    <a:pt x="482" y="59"/>
                  </a:lnTo>
                  <a:lnTo>
                    <a:pt x="478" y="59"/>
                  </a:lnTo>
                  <a:lnTo>
                    <a:pt x="476" y="59"/>
                  </a:lnTo>
                  <a:lnTo>
                    <a:pt x="473" y="59"/>
                  </a:lnTo>
                  <a:lnTo>
                    <a:pt x="469" y="59"/>
                  </a:lnTo>
                  <a:lnTo>
                    <a:pt x="468" y="59"/>
                  </a:lnTo>
                  <a:lnTo>
                    <a:pt x="464" y="59"/>
                  </a:lnTo>
                  <a:lnTo>
                    <a:pt x="461" y="59"/>
                  </a:lnTo>
                  <a:lnTo>
                    <a:pt x="459" y="59"/>
                  </a:lnTo>
                  <a:lnTo>
                    <a:pt x="455" y="59"/>
                  </a:lnTo>
                  <a:lnTo>
                    <a:pt x="454" y="59"/>
                  </a:lnTo>
                  <a:lnTo>
                    <a:pt x="450" y="57"/>
                  </a:lnTo>
                  <a:lnTo>
                    <a:pt x="447" y="57"/>
                  </a:lnTo>
                  <a:lnTo>
                    <a:pt x="443" y="57"/>
                  </a:lnTo>
                  <a:lnTo>
                    <a:pt x="441" y="57"/>
                  </a:lnTo>
                  <a:lnTo>
                    <a:pt x="438" y="57"/>
                  </a:lnTo>
                  <a:lnTo>
                    <a:pt x="436" y="57"/>
                  </a:lnTo>
                  <a:lnTo>
                    <a:pt x="433" y="57"/>
                  </a:lnTo>
                  <a:lnTo>
                    <a:pt x="429" y="57"/>
                  </a:lnTo>
                  <a:lnTo>
                    <a:pt x="427" y="57"/>
                  </a:lnTo>
                  <a:lnTo>
                    <a:pt x="424" y="57"/>
                  </a:lnTo>
                  <a:lnTo>
                    <a:pt x="420" y="57"/>
                  </a:lnTo>
                  <a:lnTo>
                    <a:pt x="417" y="57"/>
                  </a:lnTo>
                  <a:lnTo>
                    <a:pt x="415" y="57"/>
                  </a:lnTo>
                  <a:lnTo>
                    <a:pt x="412" y="59"/>
                  </a:lnTo>
                  <a:lnTo>
                    <a:pt x="408" y="59"/>
                  </a:lnTo>
                  <a:lnTo>
                    <a:pt x="406" y="59"/>
                  </a:lnTo>
                  <a:lnTo>
                    <a:pt x="401" y="59"/>
                  </a:lnTo>
                  <a:lnTo>
                    <a:pt x="398" y="57"/>
                  </a:lnTo>
                  <a:lnTo>
                    <a:pt x="394" y="57"/>
                  </a:lnTo>
                  <a:lnTo>
                    <a:pt x="391" y="57"/>
                  </a:lnTo>
                  <a:lnTo>
                    <a:pt x="387" y="56"/>
                  </a:lnTo>
                  <a:lnTo>
                    <a:pt x="384" y="56"/>
                  </a:lnTo>
                  <a:lnTo>
                    <a:pt x="382" y="56"/>
                  </a:lnTo>
                  <a:lnTo>
                    <a:pt x="378" y="56"/>
                  </a:lnTo>
                  <a:lnTo>
                    <a:pt x="375" y="56"/>
                  </a:lnTo>
                  <a:lnTo>
                    <a:pt x="370" y="56"/>
                  </a:lnTo>
                  <a:lnTo>
                    <a:pt x="368" y="56"/>
                  </a:lnTo>
                  <a:lnTo>
                    <a:pt x="363" y="56"/>
                  </a:lnTo>
                  <a:lnTo>
                    <a:pt x="361" y="56"/>
                  </a:lnTo>
                  <a:lnTo>
                    <a:pt x="357" y="56"/>
                  </a:lnTo>
                  <a:lnTo>
                    <a:pt x="354" y="56"/>
                  </a:lnTo>
                  <a:lnTo>
                    <a:pt x="350" y="56"/>
                  </a:lnTo>
                  <a:lnTo>
                    <a:pt x="347" y="56"/>
                  </a:lnTo>
                  <a:lnTo>
                    <a:pt x="343" y="56"/>
                  </a:lnTo>
                  <a:lnTo>
                    <a:pt x="340" y="56"/>
                  </a:lnTo>
                  <a:lnTo>
                    <a:pt x="338" y="56"/>
                  </a:lnTo>
                  <a:lnTo>
                    <a:pt x="333" y="56"/>
                  </a:lnTo>
                  <a:lnTo>
                    <a:pt x="331" y="56"/>
                  </a:lnTo>
                  <a:lnTo>
                    <a:pt x="328" y="57"/>
                  </a:lnTo>
                  <a:lnTo>
                    <a:pt x="324" y="57"/>
                  </a:lnTo>
                  <a:lnTo>
                    <a:pt x="321" y="57"/>
                  </a:lnTo>
                  <a:lnTo>
                    <a:pt x="317" y="57"/>
                  </a:lnTo>
                  <a:lnTo>
                    <a:pt x="314" y="57"/>
                  </a:lnTo>
                  <a:lnTo>
                    <a:pt x="312" y="57"/>
                  </a:lnTo>
                  <a:lnTo>
                    <a:pt x="308" y="57"/>
                  </a:lnTo>
                  <a:lnTo>
                    <a:pt x="305" y="59"/>
                  </a:lnTo>
                  <a:lnTo>
                    <a:pt x="301" y="59"/>
                  </a:lnTo>
                  <a:lnTo>
                    <a:pt x="298" y="59"/>
                  </a:lnTo>
                  <a:lnTo>
                    <a:pt x="294" y="59"/>
                  </a:lnTo>
                  <a:lnTo>
                    <a:pt x="293" y="59"/>
                  </a:lnTo>
                  <a:lnTo>
                    <a:pt x="289" y="59"/>
                  </a:lnTo>
                  <a:lnTo>
                    <a:pt x="286" y="59"/>
                  </a:lnTo>
                  <a:lnTo>
                    <a:pt x="282" y="59"/>
                  </a:lnTo>
                  <a:lnTo>
                    <a:pt x="279" y="59"/>
                  </a:lnTo>
                  <a:lnTo>
                    <a:pt x="277" y="59"/>
                  </a:lnTo>
                  <a:lnTo>
                    <a:pt x="273" y="61"/>
                  </a:lnTo>
                  <a:lnTo>
                    <a:pt x="270" y="61"/>
                  </a:lnTo>
                  <a:lnTo>
                    <a:pt x="266" y="61"/>
                  </a:lnTo>
                  <a:lnTo>
                    <a:pt x="263" y="61"/>
                  </a:lnTo>
                  <a:lnTo>
                    <a:pt x="259" y="61"/>
                  </a:lnTo>
                  <a:lnTo>
                    <a:pt x="258" y="61"/>
                  </a:lnTo>
                  <a:lnTo>
                    <a:pt x="254" y="61"/>
                  </a:lnTo>
                  <a:lnTo>
                    <a:pt x="251" y="61"/>
                  </a:lnTo>
                  <a:lnTo>
                    <a:pt x="247" y="61"/>
                  </a:lnTo>
                  <a:lnTo>
                    <a:pt x="244" y="59"/>
                  </a:lnTo>
                  <a:lnTo>
                    <a:pt x="240" y="59"/>
                  </a:lnTo>
                  <a:lnTo>
                    <a:pt x="238" y="59"/>
                  </a:lnTo>
                  <a:lnTo>
                    <a:pt x="235" y="59"/>
                  </a:lnTo>
                  <a:lnTo>
                    <a:pt x="231" y="59"/>
                  </a:lnTo>
                  <a:lnTo>
                    <a:pt x="230" y="57"/>
                  </a:lnTo>
                  <a:lnTo>
                    <a:pt x="224" y="57"/>
                  </a:lnTo>
                  <a:lnTo>
                    <a:pt x="223" y="57"/>
                  </a:lnTo>
                  <a:lnTo>
                    <a:pt x="219" y="57"/>
                  </a:lnTo>
                  <a:lnTo>
                    <a:pt x="216" y="56"/>
                  </a:lnTo>
                  <a:lnTo>
                    <a:pt x="212" y="54"/>
                  </a:lnTo>
                  <a:lnTo>
                    <a:pt x="210" y="54"/>
                  </a:lnTo>
                  <a:lnTo>
                    <a:pt x="207" y="52"/>
                  </a:lnTo>
                  <a:lnTo>
                    <a:pt x="203" y="52"/>
                  </a:lnTo>
                  <a:lnTo>
                    <a:pt x="200" y="50"/>
                  </a:lnTo>
                  <a:lnTo>
                    <a:pt x="196" y="50"/>
                  </a:lnTo>
                  <a:lnTo>
                    <a:pt x="195" y="47"/>
                  </a:lnTo>
                  <a:lnTo>
                    <a:pt x="195" y="45"/>
                  </a:lnTo>
                  <a:lnTo>
                    <a:pt x="193" y="43"/>
                  </a:lnTo>
                  <a:lnTo>
                    <a:pt x="191" y="40"/>
                  </a:lnTo>
                  <a:lnTo>
                    <a:pt x="191" y="38"/>
                  </a:lnTo>
                  <a:lnTo>
                    <a:pt x="189" y="36"/>
                  </a:lnTo>
                  <a:lnTo>
                    <a:pt x="188" y="35"/>
                  </a:lnTo>
                  <a:lnTo>
                    <a:pt x="188" y="33"/>
                  </a:lnTo>
                  <a:lnTo>
                    <a:pt x="186" y="31"/>
                  </a:lnTo>
                  <a:lnTo>
                    <a:pt x="184" y="29"/>
                  </a:lnTo>
                  <a:lnTo>
                    <a:pt x="184" y="28"/>
                  </a:lnTo>
                  <a:lnTo>
                    <a:pt x="182" y="28"/>
                  </a:lnTo>
                  <a:lnTo>
                    <a:pt x="181" y="26"/>
                  </a:lnTo>
                  <a:lnTo>
                    <a:pt x="177" y="24"/>
                  </a:lnTo>
                  <a:lnTo>
                    <a:pt x="175" y="22"/>
                  </a:lnTo>
                  <a:lnTo>
                    <a:pt x="172" y="22"/>
                  </a:lnTo>
                  <a:lnTo>
                    <a:pt x="170" y="21"/>
                  </a:lnTo>
                  <a:lnTo>
                    <a:pt x="168" y="21"/>
                  </a:lnTo>
                  <a:lnTo>
                    <a:pt x="167" y="21"/>
                  </a:lnTo>
                  <a:lnTo>
                    <a:pt x="165" y="21"/>
                  </a:lnTo>
                  <a:lnTo>
                    <a:pt x="163" y="21"/>
                  </a:lnTo>
                  <a:lnTo>
                    <a:pt x="161" y="21"/>
                  </a:lnTo>
                  <a:lnTo>
                    <a:pt x="158" y="22"/>
                  </a:lnTo>
                  <a:lnTo>
                    <a:pt x="156" y="22"/>
                  </a:lnTo>
                  <a:lnTo>
                    <a:pt x="154" y="22"/>
                  </a:lnTo>
                  <a:lnTo>
                    <a:pt x="151" y="22"/>
                  </a:lnTo>
                  <a:lnTo>
                    <a:pt x="149" y="24"/>
                  </a:lnTo>
                  <a:lnTo>
                    <a:pt x="146" y="26"/>
                  </a:lnTo>
                  <a:lnTo>
                    <a:pt x="144" y="24"/>
                  </a:lnTo>
                  <a:lnTo>
                    <a:pt x="144" y="22"/>
                  </a:lnTo>
                  <a:lnTo>
                    <a:pt x="140" y="21"/>
                  </a:lnTo>
                  <a:lnTo>
                    <a:pt x="140" y="19"/>
                  </a:lnTo>
                  <a:lnTo>
                    <a:pt x="138" y="17"/>
                  </a:lnTo>
                  <a:lnTo>
                    <a:pt x="137" y="17"/>
                  </a:lnTo>
                  <a:lnTo>
                    <a:pt x="135" y="15"/>
                  </a:lnTo>
                  <a:lnTo>
                    <a:pt x="133" y="15"/>
                  </a:lnTo>
                  <a:lnTo>
                    <a:pt x="131" y="14"/>
                  </a:lnTo>
                  <a:lnTo>
                    <a:pt x="130" y="14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0"/>
                  </a:lnTo>
                  <a:lnTo>
                    <a:pt x="124" y="10"/>
                  </a:lnTo>
                  <a:lnTo>
                    <a:pt x="123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6" y="7"/>
                  </a:lnTo>
                  <a:lnTo>
                    <a:pt x="114" y="7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5"/>
                  </a:lnTo>
                  <a:lnTo>
                    <a:pt x="95" y="5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5"/>
                  </a:lnTo>
                  <a:lnTo>
                    <a:pt x="82" y="5"/>
                  </a:lnTo>
                  <a:lnTo>
                    <a:pt x="81" y="5"/>
                  </a:lnTo>
                  <a:lnTo>
                    <a:pt x="79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0" y="2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21" y="47"/>
                  </a:lnTo>
                  <a:lnTo>
                    <a:pt x="23" y="49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42" y="52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4" y="57"/>
                  </a:lnTo>
                  <a:lnTo>
                    <a:pt x="44" y="59"/>
                  </a:lnTo>
                  <a:lnTo>
                    <a:pt x="44" y="63"/>
                  </a:lnTo>
                  <a:lnTo>
                    <a:pt x="44" y="64"/>
                  </a:lnTo>
                  <a:lnTo>
                    <a:pt x="44" y="68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0" y="75"/>
                  </a:lnTo>
                  <a:lnTo>
                    <a:pt x="39" y="77"/>
                  </a:lnTo>
                  <a:lnTo>
                    <a:pt x="39" y="80"/>
                  </a:lnTo>
                  <a:lnTo>
                    <a:pt x="37" y="82"/>
                  </a:lnTo>
                  <a:lnTo>
                    <a:pt x="35" y="84"/>
                  </a:lnTo>
                  <a:lnTo>
                    <a:pt x="33" y="87"/>
                  </a:lnTo>
                  <a:lnTo>
                    <a:pt x="32" y="89"/>
                  </a:lnTo>
                  <a:lnTo>
                    <a:pt x="32" y="92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5" y="99"/>
                  </a:lnTo>
                  <a:lnTo>
                    <a:pt x="23" y="103"/>
                  </a:lnTo>
                  <a:lnTo>
                    <a:pt x="21" y="105"/>
                  </a:lnTo>
                  <a:lnTo>
                    <a:pt x="19" y="108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2" y="115"/>
                  </a:lnTo>
                  <a:lnTo>
                    <a:pt x="11" y="119"/>
                  </a:lnTo>
                  <a:lnTo>
                    <a:pt x="9" y="120"/>
                  </a:lnTo>
                  <a:lnTo>
                    <a:pt x="7" y="124"/>
                  </a:lnTo>
                  <a:lnTo>
                    <a:pt x="5" y="126"/>
                  </a:lnTo>
                  <a:lnTo>
                    <a:pt x="5" y="129"/>
                  </a:lnTo>
                  <a:lnTo>
                    <a:pt x="2" y="131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40"/>
                  </a:lnTo>
                  <a:lnTo>
                    <a:pt x="2" y="143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4" y="150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5" y="155"/>
                  </a:lnTo>
                  <a:lnTo>
                    <a:pt x="7" y="157"/>
                  </a:lnTo>
                  <a:lnTo>
                    <a:pt x="7" y="159"/>
                  </a:lnTo>
                  <a:lnTo>
                    <a:pt x="9" y="159"/>
                  </a:lnTo>
                  <a:lnTo>
                    <a:pt x="11" y="162"/>
                  </a:lnTo>
                  <a:lnTo>
                    <a:pt x="14" y="164"/>
                  </a:lnTo>
                  <a:lnTo>
                    <a:pt x="16" y="164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9" y="168"/>
                  </a:lnTo>
                  <a:lnTo>
                    <a:pt x="21" y="168"/>
                  </a:lnTo>
                  <a:lnTo>
                    <a:pt x="23" y="168"/>
                  </a:lnTo>
                  <a:lnTo>
                    <a:pt x="25" y="168"/>
                  </a:lnTo>
                  <a:lnTo>
                    <a:pt x="26" y="168"/>
                  </a:lnTo>
                  <a:lnTo>
                    <a:pt x="28" y="168"/>
                  </a:lnTo>
                  <a:lnTo>
                    <a:pt x="30" y="168"/>
                  </a:lnTo>
                  <a:lnTo>
                    <a:pt x="32" y="168"/>
                  </a:lnTo>
                  <a:lnTo>
                    <a:pt x="33" y="168"/>
                  </a:lnTo>
                  <a:lnTo>
                    <a:pt x="37" y="168"/>
                  </a:lnTo>
                  <a:lnTo>
                    <a:pt x="39" y="168"/>
                  </a:lnTo>
                  <a:lnTo>
                    <a:pt x="40" y="168"/>
                  </a:lnTo>
                  <a:lnTo>
                    <a:pt x="42" y="168"/>
                  </a:lnTo>
                  <a:lnTo>
                    <a:pt x="44" y="166"/>
                  </a:lnTo>
                  <a:lnTo>
                    <a:pt x="47" y="166"/>
                  </a:lnTo>
                  <a:lnTo>
                    <a:pt x="49" y="164"/>
                  </a:lnTo>
                  <a:lnTo>
                    <a:pt x="51" y="164"/>
                  </a:lnTo>
                  <a:lnTo>
                    <a:pt x="53" y="164"/>
                  </a:lnTo>
                  <a:lnTo>
                    <a:pt x="54" y="164"/>
                  </a:lnTo>
                  <a:lnTo>
                    <a:pt x="56" y="164"/>
                  </a:lnTo>
                  <a:lnTo>
                    <a:pt x="60" y="162"/>
                  </a:lnTo>
                  <a:lnTo>
                    <a:pt x="61" y="162"/>
                  </a:lnTo>
                  <a:lnTo>
                    <a:pt x="63" y="162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2" y="159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79" y="159"/>
                  </a:lnTo>
                  <a:lnTo>
                    <a:pt x="81" y="159"/>
                  </a:lnTo>
                  <a:lnTo>
                    <a:pt x="82" y="157"/>
                  </a:lnTo>
                  <a:lnTo>
                    <a:pt x="84" y="157"/>
                  </a:lnTo>
                  <a:lnTo>
                    <a:pt x="86" y="157"/>
                  </a:lnTo>
                  <a:lnTo>
                    <a:pt x="89" y="157"/>
                  </a:lnTo>
                  <a:lnTo>
                    <a:pt x="91" y="157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7"/>
                  </a:lnTo>
                  <a:lnTo>
                    <a:pt x="98" y="157"/>
                  </a:lnTo>
                  <a:lnTo>
                    <a:pt x="100" y="159"/>
                  </a:lnTo>
                  <a:lnTo>
                    <a:pt x="102" y="159"/>
                  </a:lnTo>
                  <a:lnTo>
                    <a:pt x="103" y="159"/>
                  </a:lnTo>
                  <a:lnTo>
                    <a:pt x="105" y="159"/>
                  </a:lnTo>
                  <a:lnTo>
                    <a:pt x="107" y="161"/>
                  </a:lnTo>
                  <a:lnTo>
                    <a:pt x="110" y="162"/>
                  </a:lnTo>
                  <a:lnTo>
                    <a:pt x="112" y="164"/>
                  </a:lnTo>
                  <a:lnTo>
                    <a:pt x="116" y="168"/>
                  </a:lnTo>
                  <a:lnTo>
                    <a:pt x="117" y="169"/>
                  </a:lnTo>
                  <a:lnTo>
                    <a:pt x="121" y="171"/>
                  </a:lnTo>
                  <a:lnTo>
                    <a:pt x="123" y="173"/>
                  </a:lnTo>
                  <a:lnTo>
                    <a:pt x="124" y="175"/>
                  </a:lnTo>
                  <a:lnTo>
                    <a:pt x="128" y="178"/>
                  </a:lnTo>
                  <a:lnTo>
                    <a:pt x="130" y="180"/>
                  </a:lnTo>
                  <a:lnTo>
                    <a:pt x="131" y="182"/>
                  </a:lnTo>
                  <a:lnTo>
                    <a:pt x="133" y="185"/>
                  </a:lnTo>
                  <a:lnTo>
                    <a:pt x="137" y="187"/>
                  </a:lnTo>
                  <a:lnTo>
                    <a:pt x="138" y="189"/>
                  </a:lnTo>
                  <a:lnTo>
                    <a:pt x="140" y="192"/>
                  </a:lnTo>
                  <a:lnTo>
                    <a:pt x="142" y="194"/>
                  </a:lnTo>
                  <a:lnTo>
                    <a:pt x="146" y="196"/>
                  </a:lnTo>
                  <a:lnTo>
                    <a:pt x="147" y="199"/>
                  </a:lnTo>
                  <a:lnTo>
                    <a:pt x="149" y="201"/>
                  </a:lnTo>
                  <a:lnTo>
                    <a:pt x="151" y="203"/>
                  </a:lnTo>
                  <a:lnTo>
                    <a:pt x="153" y="206"/>
                  </a:lnTo>
                  <a:lnTo>
                    <a:pt x="154" y="208"/>
                  </a:lnTo>
                  <a:lnTo>
                    <a:pt x="156" y="211"/>
                  </a:lnTo>
                  <a:lnTo>
                    <a:pt x="158" y="213"/>
                  </a:lnTo>
                  <a:lnTo>
                    <a:pt x="160" y="215"/>
                  </a:lnTo>
                  <a:lnTo>
                    <a:pt x="161" y="218"/>
                  </a:lnTo>
                  <a:lnTo>
                    <a:pt x="163" y="220"/>
                  </a:lnTo>
                  <a:lnTo>
                    <a:pt x="165" y="224"/>
                  </a:lnTo>
                  <a:lnTo>
                    <a:pt x="165" y="225"/>
                  </a:lnTo>
                  <a:lnTo>
                    <a:pt x="167" y="227"/>
                  </a:lnTo>
                  <a:lnTo>
                    <a:pt x="168" y="231"/>
                  </a:lnTo>
                  <a:lnTo>
                    <a:pt x="170" y="232"/>
                  </a:lnTo>
                  <a:lnTo>
                    <a:pt x="172" y="236"/>
                  </a:lnTo>
                  <a:lnTo>
                    <a:pt x="174" y="238"/>
                  </a:lnTo>
                  <a:lnTo>
                    <a:pt x="175" y="241"/>
                  </a:lnTo>
                  <a:lnTo>
                    <a:pt x="177" y="243"/>
                  </a:lnTo>
                  <a:lnTo>
                    <a:pt x="177" y="246"/>
                  </a:lnTo>
                  <a:lnTo>
                    <a:pt x="179" y="248"/>
                  </a:lnTo>
                  <a:lnTo>
                    <a:pt x="181" y="252"/>
                  </a:lnTo>
                  <a:lnTo>
                    <a:pt x="182" y="253"/>
                  </a:lnTo>
                  <a:lnTo>
                    <a:pt x="184" y="257"/>
                  </a:lnTo>
                  <a:lnTo>
                    <a:pt x="184" y="259"/>
                  </a:lnTo>
                  <a:lnTo>
                    <a:pt x="186" y="260"/>
                  </a:lnTo>
                  <a:lnTo>
                    <a:pt x="188" y="264"/>
                  </a:lnTo>
                  <a:lnTo>
                    <a:pt x="189" y="267"/>
                  </a:lnTo>
                  <a:lnTo>
                    <a:pt x="189" y="269"/>
                  </a:lnTo>
                  <a:lnTo>
                    <a:pt x="191" y="273"/>
                  </a:lnTo>
                  <a:lnTo>
                    <a:pt x="193" y="274"/>
                  </a:lnTo>
                  <a:lnTo>
                    <a:pt x="195" y="278"/>
                  </a:lnTo>
                  <a:lnTo>
                    <a:pt x="195" y="280"/>
                  </a:lnTo>
                  <a:lnTo>
                    <a:pt x="196" y="283"/>
                  </a:lnTo>
                  <a:lnTo>
                    <a:pt x="198" y="285"/>
                  </a:lnTo>
                  <a:lnTo>
                    <a:pt x="200" y="288"/>
                  </a:lnTo>
                  <a:lnTo>
                    <a:pt x="202" y="292"/>
                  </a:lnTo>
                  <a:lnTo>
                    <a:pt x="202" y="294"/>
                  </a:lnTo>
                  <a:lnTo>
                    <a:pt x="203" y="297"/>
                  </a:lnTo>
                  <a:lnTo>
                    <a:pt x="205" y="299"/>
                  </a:lnTo>
                  <a:lnTo>
                    <a:pt x="207" y="302"/>
                  </a:lnTo>
                  <a:lnTo>
                    <a:pt x="207" y="304"/>
                  </a:lnTo>
                  <a:lnTo>
                    <a:pt x="209" y="308"/>
                  </a:lnTo>
                  <a:lnTo>
                    <a:pt x="210" y="311"/>
                  </a:lnTo>
                  <a:lnTo>
                    <a:pt x="212" y="315"/>
                  </a:lnTo>
                  <a:lnTo>
                    <a:pt x="214" y="316"/>
                  </a:lnTo>
                  <a:lnTo>
                    <a:pt x="216" y="320"/>
                  </a:lnTo>
                  <a:lnTo>
                    <a:pt x="216" y="323"/>
                  </a:lnTo>
                  <a:lnTo>
                    <a:pt x="214" y="323"/>
                  </a:lnTo>
                  <a:lnTo>
                    <a:pt x="214" y="325"/>
                  </a:lnTo>
                  <a:lnTo>
                    <a:pt x="212" y="327"/>
                  </a:lnTo>
                  <a:lnTo>
                    <a:pt x="212" y="330"/>
                  </a:lnTo>
                  <a:lnTo>
                    <a:pt x="212" y="332"/>
                  </a:lnTo>
                  <a:lnTo>
                    <a:pt x="212" y="334"/>
                  </a:lnTo>
                  <a:lnTo>
                    <a:pt x="212" y="336"/>
                  </a:lnTo>
                  <a:lnTo>
                    <a:pt x="212" y="337"/>
                  </a:lnTo>
                  <a:lnTo>
                    <a:pt x="214" y="339"/>
                  </a:lnTo>
                  <a:lnTo>
                    <a:pt x="214" y="341"/>
                  </a:lnTo>
                  <a:lnTo>
                    <a:pt x="216" y="344"/>
                  </a:lnTo>
                  <a:lnTo>
                    <a:pt x="216" y="346"/>
                  </a:lnTo>
                  <a:lnTo>
                    <a:pt x="217" y="350"/>
                  </a:lnTo>
                  <a:lnTo>
                    <a:pt x="219" y="353"/>
                  </a:lnTo>
                  <a:lnTo>
                    <a:pt x="221" y="355"/>
                  </a:lnTo>
                  <a:lnTo>
                    <a:pt x="223" y="358"/>
                  </a:lnTo>
                  <a:lnTo>
                    <a:pt x="223" y="360"/>
                  </a:lnTo>
                  <a:lnTo>
                    <a:pt x="224" y="362"/>
                  </a:lnTo>
                  <a:lnTo>
                    <a:pt x="224" y="360"/>
                  </a:lnTo>
                  <a:lnTo>
                    <a:pt x="224" y="358"/>
                  </a:lnTo>
                  <a:lnTo>
                    <a:pt x="224" y="357"/>
                  </a:lnTo>
                  <a:lnTo>
                    <a:pt x="223" y="355"/>
                  </a:lnTo>
                  <a:lnTo>
                    <a:pt x="223" y="353"/>
                  </a:lnTo>
                  <a:lnTo>
                    <a:pt x="223" y="351"/>
                  </a:lnTo>
                  <a:lnTo>
                    <a:pt x="223" y="350"/>
                  </a:lnTo>
                  <a:lnTo>
                    <a:pt x="221" y="346"/>
                  </a:lnTo>
                  <a:lnTo>
                    <a:pt x="221" y="346"/>
                  </a:lnTo>
                  <a:lnTo>
                    <a:pt x="221" y="343"/>
                  </a:lnTo>
                  <a:lnTo>
                    <a:pt x="221" y="341"/>
                  </a:lnTo>
                  <a:lnTo>
                    <a:pt x="219" y="339"/>
                  </a:lnTo>
                  <a:lnTo>
                    <a:pt x="219" y="337"/>
                  </a:lnTo>
                  <a:lnTo>
                    <a:pt x="219" y="336"/>
                  </a:lnTo>
                  <a:lnTo>
                    <a:pt x="217" y="334"/>
                  </a:lnTo>
                  <a:lnTo>
                    <a:pt x="217" y="332"/>
                  </a:lnTo>
                  <a:lnTo>
                    <a:pt x="217" y="330"/>
                  </a:lnTo>
                  <a:lnTo>
                    <a:pt x="219" y="329"/>
                  </a:lnTo>
                  <a:lnTo>
                    <a:pt x="221" y="329"/>
                  </a:lnTo>
                  <a:lnTo>
                    <a:pt x="223" y="330"/>
                  </a:lnTo>
                  <a:lnTo>
                    <a:pt x="224" y="330"/>
                  </a:lnTo>
                  <a:lnTo>
                    <a:pt x="226" y="330"/>
                  </a:lnTo>
                  <a:lnTo>
                    <a:pt x="228" y="332"/>
                  </a:lnTo>
                  <a:lnTo>
                    <a:pt x="230" y="332"/>
                  </a:lnTo>
                  <a:lnTo>
                    <a:pt x="231" y="334"/>
                  </a:lnTo>
                  <a:lnTo>
                    <a:pt x="231" y="336"/>
                  </a:lnTo>
                  <a:lnTo>
                    <a:pt x="231" y="339"/>
                  </a:lnTo>
                  <a:lnTo>
                    <a:pt x="231" y="341"/>
                  </a:lnTo>
                  <a:lnTo>
                    <a:pt x="231" y="341"/>
                  </a:lnTo>
                  <a:lnTo>
                    <a:pt x="231" y="343"/>
                  </a:lnTo>
                  <a:lnTo>
                    <a:pt x="233" y="344"/>
                  </a:lnTo>
                  <a:lnTo>
                    <a:pt x="233" y="346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3" y="351"/>
                  </a:lnTo>
                  <a:lnTo>
                    <a:pt x="233" y="353"/>
                  </a:lnTo>
                  <a:lnTo>
                    <a:pt x="235" y="355"/>
                  </a:lnTo>
                  <a:lnTo>
                    <a:pt x="235" y="355"/>
                  </a:lnTo>
                  <a:lnTo>
                    <a:pt x="235" y="358"/>
                  </a:lnTo>
                  <a:lnTo>
                    <a:pt x="235" y="358"/>
                  </a:lnTo>
                  <a:lnTo>
                    <a:pt x="235" y="360"/>
                  </a:lnTo>
                  <a:lnTo>
                    <a:pt x="237" y="362"/>
                  </a:lnTo>
                  <a:lnTo>
                    <a:pt x="237" y="364"/>
                  </a:lnTo>
                  <a:lnTo>
                    <a:pt x="237" y="365"/>
                  </a:lnTo>
                  <a:lnTo>
                    <a:pt x="237" y="367"/>
                  </a:lnTo>
                  <a:lnTo>
                    <a:pt x="238" y="369"/>
                  </a:lnTo>
                  <a:lnTo>
                    <a:pt x="238" y="371"/>
                  </a:lnTo>
                  <a:lnTo>
                    <a:pt x="238" y="371"/>
                  </a:lnTo>
                  <a:lnTo>
                    <a:pt x="238" y="372"/>
                  </a:lnTo>
                  <a:lnTo>
                    <a:pt x="238" y="376"/>
                  </a:lnTo>
                  <a:lnTo>
                    <a:pt x="240" y="376"/>
                  </a:lnTo>
                  <a:lnTo>
                    <a:pt x="240" y="379"/>
                  </a:lnTo>
                  <a:lnTo>
                    <a:pt x="240" y="379"/>
                  </a:lnTo>
                  <a:lnTo>
                    <a:pt x="240" y="381"/>
                  </a:lnTo>
                  <a:lnTo>
                    <a:pt x="242" y="383"/>
                  </a:lnTo>
                  <a:lnTo>
                    <a:pt x="242" y="385"/>
                  </a:lnTo>
                  <a:lnTo>
                    <a:pt x="242" y="386"/>
                  </a:lnTo>
                  <a:lnTo>
                    <a:pt x="242" y="388"/>
                  </a:lnTo>
                  <a:lnTo>
                    <a:pt x="242" y="390"/>
                  </a:lnTo>
                  <a:lnTo>
                    <a:pt x="244" y="392"/>
                  </a:lnTo>
                  <a:lnTo>
                    <a:pt x="244" y="393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397"/>
                  </a:lnTo>
                  <a:lnTo>
                    <a:pt x="244" y="399"/>
                  </a:lnTo>
                  <a:lnTo>
                    <a:pt x="244" y="400"/>
                  </a:lnTo>
                  <a:lnTo>
                    <a:pt x="245" y="402"/>
                  </a:lnTo>
                  <a:lnTo>
                    <a:pt x="245" y="404"/>
                  </a:lnTo>
                  <a:lnTo>
                    <a:pt x="245" y="406"/>
                  </a:lnTo>
                  <a:lnTo>
                    <a:pt x="245" y="407"/>
                  </a:lnTo>
                  <a:lnTo>
                    <a:pt x="245" y="409"/>
                  </a:lnTo>
                  <a:lnTo>
                    <a:pt x="245" y="411"/>
                  </a:lnTo>
                  <a:lnTo>
                    <a:pt x="247" y="411"/>
                  </a:lnTo>
                  <a:lnTo>
                    <a:pt x="247" y="413"/>
                  </a:lnTo>
                  <a:lnTo>
                    <a:pt x="247" y="414"/>
                  </a:lnTo>
                  <a:lnTo>
                    <a:pt x="247" y="416"/>
                  </a:lnTo>
                  <a:lnTo>
                    <a:pt x="247" y="418"/>
                  </a:lnTo>
                  <a:lnTo>
                    <a:pt x="247" y="420"/>
                  </a:lnTo>
                  <a:lnTo>
                    <a:pt x="247" y="421"/>
                  </a:lnTo>
                  <a:lnTo>
                    <a:pt x="247" y="423"/>
                  </a:lnTo>
                  <a:lnTo>
                    <a:pt x="247" y="427"/>
                  </a:lnTo>
                  <a:lnTo>
                    <a:pt x="247" y="430"/>
                  </a:lnTo>
                  <a:lnTo>
                    <a:pt x="247" y="432"/>
                  </a:lnTo>
                  <a:lnTo>
                    <a:pt x="245" y="434"/>
                  </a:lnTo>
                  <a:lnTo>
                    <a:pt x="244" y="435"/>
                  </a:lnTo>
                  <a:lnTo>
                    <a:pt x="244" y="437"/>
                  </a:lnTo>
                  <a:lnTo>
                    <a:pt x="244" y="439"/>
                  </a:lnTo>
                  <a:lnTo>
                    <a:pt x="242" y="441"/>
                  </a:lnTo>
                  <a:lnTo>
                    <a:pt x="242" y="442"/>
                  </a:lnTo>
                  <a:lnTo>
                    <a:pt x="240" y="444"/>
                  </a:lnTo>
                  <a:lnTo>
                    <a:pt x="240" y="446"/>
                  </a:lnTo>
                  <a:lnTo>
                    <a:pt x="238" y="448"/>
                  </a:lnTo>
                  <a:lnTo>
                    <a:pt x="238" y="449"/>
                  </a:lnTo>
                  <a:lnTo>
                    <a:pt x="237" y="451"/>
                  </a:lnTo>
                  <a:lnTo>
                    <a:pt x="237" y="453"/>
                  </a:lnTo>
                  <a:lnTo>
                    <a:pt x="235" y="455"/>
                  </a:lnTo>
                  <a:lnTo>
                    <a:pt x="235" y="456"/>
                  </a:lnTo>
                  <a:lnTo>
                    <a:pt x="233" y="456"/>
                  </a:lnTo>
                  <a:lnTo>
                    <a:pt x="233" y="458"/>
                  </a:lnTo>
                  <a:lnTo>
                    <a:pt x="277" y="460"/>
                  </a:lnTo>
                  <a:lnTo>
                    <a:pt x="277" y="458"/>
                  </a:lnTo>
                  <a:lnTo>
                    <a:pt x="277" y="456"/>
                  </a:lnTo>
                  <a:lnTo>
                    <a:pt x="279" y="455"/>
                  </a:lnTo>
                  <a:lnTo>
                    <a:pt x="279" y="453"/>
                  </a:lnTo>
                  <a:lnTo>
                    <a:pt x="279" y="451"/>
                  </a:lnTo>
                  <a:lnTo>
                    <a:pt x="279" y="449"/>
                  </a:lnTo>
                  <a:lnTo>
                    <a:pt x="279" y="448"/>
                  </a:lnTo>
                  <a:lnTo>
                    <a:pt x="280" y="444"/>
                  </a:lnTo>
                  <a:lnTo>
                    <a:pt x="280" y="442"/>
                  </a:lnTo>
                  <a:lnTo>
                    <a:pt x="280" y="441"/>
                  </a:lnTo>
                  <a:lnTo>
                    <a:pt x="282" y="437"/>
                  </a:lnTo>
                  <a:lnTo>
                    <a:pt x="282" y="435"/>
                  </a:lnTo>
                  <a:lnTo>
                    <a:pt x="282" y="432"/>
                  </a:lnTo>
                  <a:lnTo>
                    <a:pt x="282" y="430"/>
                  </a:lnTo>
                  <a:lnTo>
                    <a:pt x="284" y="427"/>
                  </a:lnTo>
                  <a:lnTo>
                    <a:pt x="284" y="425"/>
                  </a:lnTo>
                  <a:lnTo>
                    <a:pt x="284" y="423"/>
                  </a:lnTo>
                  <a:lnTo>
                    <a:pt x="284" y="420"/>
                  </a:lnTo>
                  <a:lnTo>
                    <a:pt x="286" y="416"/>
                  </a:lnTo>
                  <a:lnTo>
                    <a:pt x="286" y="414"/>
                  </a:lnTo>
                  <a:lnTo>
                    <a:pt x="286" y="411"/>
                  </a:lnTo>
                  <a:lnTo>
                    <a:pt x="286" y="409"/>
                  </a:lnTo>
                  <a:lnTo>
                    <a:pt x="286" y="407"/>
                  </a:lnTo>
                  <a:lnTo>
                    <a:pt x="287" y="404"/>
                  </a:lnTo>
                  <a:lnTo>
                    <a:pt x="287" y="402"/>
                  </a:lnTo>
                  <a:lnTo>
                    <a:pt x="289" y="400"/>
                  </a:lnTo>
                  <a:lnTo>
                    <a:pt x="289" y="399"/>
                  </a:lnTo>
                  <a:lnTo>
                    <a:pt x="289" y="397"/>
                  </a:lnTo>
                  <a:lnTo>
                    <a:pt x="289" y="395"/>
                  </a:lnTo>
                  <a:lnTo>
                    <a:pt x="291" y="393"/>
                  </a:lnTo>
                  <a:lnTo>
                    <a:pt x="291" y="392"/>
                  </a:lnTo>
                  <a:lnTo>
                    <a:pt x="293" y="392"/>
                  </a:lnTo>
                  <a:lnTo>
                    <a:pt x="294" y="392"/>
                  </a:lnTo>
                  <a:lnTo>
                    <a:pt x="294" y="392"/>
                  </a:lnTo>
                  <a:lnTo>
                    <a:pt x="296" y="393"/>
                  </a:lnTo>
                  <a:lnTo>
                    <a:pt x="298" y="395"/>
                  </a:lnTo>
                  <a:lnTo>
                    <a:pt x="300" y="395"/>
                  </a:lnTo>
                  <a:lnTo>
                    <a:pt x="301" y="397"/>
                  </a:lnTo>
                  <a:lnTo>
                    <a:pt x="301" y="399"/>
                  </a:lnTo>
                  <a:lnTo>
                    <a:pt x="303" y="400"/>
                  </a:lnTo>
                  <a:lnTo>
                    <a:pt x="303" y="402"/>
                  </a:lnTo>
                  <a:lnTo>
                    <a:pt x="303" y="404"/>
                  </a:lnTo>
                  <a:lnTo>
                    <a:pt x="305" y="406"/>
                  </a:lnTo>
                  <a:lnTo>
                    <a:pt x="305" y="409"/>
                  </a:lnTo>
                  <a:lnTo>
                    <a:pt x="305" y="411"/>
                  </a:lnTo>
                  <a:lnTo>
                    <a:pt x="305" y="413"/>
                  </a:lnTo>
                  <a:lnTo>
                    <a:pt x="305" y="414"/>
                  </a:lnTo>
                  <a:lnTo>
                    <a:pt x="307" y="418"/>
                  </a:lnTo>
                  <a:lnTo>
                    <a:pt x="305" y="420"/>
                  </a:lnTo>
                  <a:lnTo>
                    <a:pt x="305" y="421"/>
                  </a:lnTo>
                  <a:lnTo>
                    <a:pt x="305" y="425"/>
                  </a:lnTo>
                  <a:lnTo>
                    <a:pt x="305" y="427"/>
                  </a:lnTo>
                  <a:lnTo>
                    <a:pt x="305" y="428"/>
                  </a:lnTo>
                  <a:lnTo>
                    <a:pt x="305" y="432"/>
                  </a:lnTo>
                  <a:lnTo>
                    <a:pt x="305" y="434"/>
                  </a:lnTo>
                  <a:lnTo>
                    <a:pt x="305" y="435"/>
                  </a:lnTo>
                  <a:lnTo>
                    <a:pt x="305" y="437"/>
                  </a:lnTo>
                  <a:lnTo>
                    <a:pt x="305" y="441"/>
                  </a:lnTo>
                  <a:lnTo>
                    <a:pt x="303" y="442"/>
                  </a:lnTo>
                  <a:lnTo>
                    <a:pt x="303" y="444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49"/>
                  </a:lnTo>
                  <a:lnTo>
                    <a:pt x="303" y="451"/>
                  </a:lnTo>
                  <a:lnTo>
                    <a:pt x="342" y="449"/>
                  </a:lnTo>
                  <a:lnTo>
                    <a:pt x="342" y="446"/>
                  </a:lnTo>
                  <a:lnTo>
                    <a:pt x="342" y="444"/>
                  </a:lnTo>
                  <a:lnTo>
                    <a:pt x="342" y="441"/>
                  </a:lnTo>
                  <a:lnTo>
                    <a:pt x="343" y="437"/>
                  </a:lnTo>
                  <a:lnTo>
                    <a:pt x="343" y="434"/>
                  </a:lnTo>
                  <a:lnTo>
                    <a:pt x="343" y="432"/>
                  </a:lnTo>
                  <a:lnTo>
                    <a:pt x="343" y="428"/>
                  </a:lnTo>
                  <a:lnTo>
                    <a:pt x="343" y="427"/>
                  </a:lnTo>
                  <a:lnTo>
                    <a:pt x="343" y="423"/>
                  </a:lnTo>
                  <a:lnTo>
                    <a:pt x="345" y="421"/>
                  </a:lnTo>
                  <a:lnTo>
                    <a:pt x="345" y="418"/>
                  </a:lnTo>
                  <a:lnTo>
                    <a:pt x="345" y="414"/>
                  </a:lnTo>
                  <a:lnTo>
                    <a:pt x="347" y="413"/>
                  </a:lnTo>
                  <a:lnTo>
                    <a:pt x="347" y="409"/>
                  </a:lnTo>
                  <a:lnTo>
                    <a:pt x="347" y="406"/>
                  </a:lnTo>
                  <a:lnTo>
                    <a:pt x="347" y="404"/>
                  </a:lnTo>
                  <a:lnTo>
                    <a:pt x="347" y="400"/>
                  </a:lnTo>
                  <a:lnTo>
                    <a:pt x="349" y="399"/>
                  </a:lnTo>
                  <a:lnTo>
                    <a:pt x="349" y="395"/>
                  </a:lnTo>
                  <a:lnTo>
                    <a:pt x="349" y="393"/>
                  </a:lnTo>
                  <a:lnTo>
                    <a:pt x="349" y="390"/>
                  </a:lnTo>
                  <a:lnTo>
                    <a:pt x="349" y="388"/>
                  </a:lnTo>
                  <a:lnTo>
                    <a:pt x="350" y="386"/>
                  </a:lnTo>
                  <a:lnTo>
                    <a:pt x="350" y="383"/>
                  </a:lnTo>
                  <a:lnTo>
                    <a:pt x="352" y="381"/>
                  </a:lnTo>
                  <a:lnTo>
                    <a:pt x="352" y="378"/>
                  </a:lnTo>
                  <a:lnTo>
                    <a:pt x="352" y="376"/>
                  </a:lnTo>
                  <a:lnTo>
                    <a:pt x="354" y="374"/>
                  </a:lnTo>
                  <a:lnTo>
                    <a:pt x="354" y="371"/>
                  </a:lnTo>
                  <a:lnTo>
                    <a:pt x="356" y="369"/>
                  </a:lnTo>
                  <a:lnTo>
                    <a:pt x="356" y="367"/>
                  </a:lnTo>
                  <a:lnTo>
                    <a:pt x="357" y="365"/>
                  </a:lnTo>
                  <a:lnTo>
                    <a:pt x="359" y="362"/>
                  </a:lnTo>
                  <a:lnTo>
                    <a:pt x="359" y="360"/>
                  </a:lnTo>
                  <a:lnTo>
                    <a:pt x="361" y="358"/>
                  </a:lnTo>
                  <a:lnTo>
                    <a:pt x="361" y="357"/>
                  </a:lnTo>
                  <a:lnTo>
                    <a:pt x="363" y="355"/>
                  </a:lnTo>
                  <a:lnTo>
                    <a:pt x="363" y="353"/>
                  </a:lnTo>
                  <a:lnTo>
                    <a:pt x="364" y="351"/>
                  </a:lnTo>
                  <a:lnTo>
                    <a:pt x="366" y="350"/>
                  </a:lnTo>
                  <a:lnTo>
                    <a:pt x="368" y="348"/>
                  </a:lnTo>
                  <a:lnTo>
                    <a:pt x="368" y="346"/>
                  </a:lnTo>
                  <a:lnTo>
                    <a:pt x="370" y="344"/>
                  </a:lnTo>
                  <a:lnTo>
                    <a:pt x="371" y="344"/>
                  </a:lnTo>
                  <a:lnTo>
                    <a:pt x="373" y="343"/>
                  </a:lnTo>
                  <a:lnTo>
                    <a:pt x="375" y="341"/>
                  </a:lnTo>
                  <a:lnTo>
                    <a:pt x="377" y="341"/>
                  </a:lnTo>
                  <a:lnTo>
                    <a:pt x="378" y="341"/>
                  </a:lnTo>
                  <a:lnTo>
                    <a:pt x="382" y="339"/>
                  </a:lnTo>
                  <a:lnTo>
                    <a:pt x="384" y="337"/>
                  </a:lnTo>
                  <a:lnTo>
                    <a:pt x="385" y="337"/>
                  </a:lnTo>
                  <a:lnTo>
                    <a:pt x="387" y="337"/>
                  </a:lnTo>
                  <a:lnTo>
                    <a:pt x="389" y="336"/>
                  </a:lnTo>
                  <a:lnTo>
                    <a:pt x="392" y="336"/>
                  </a:lnTo>
                  <a:lnTo>
                    <a:pt x="394" y="336"/>
                  </a:lnTo>
                  <a:lnTo>
                    <a:pt x="398" y="336"/>
                  </a:lnTo>
                  <a:lnTo>
                    <a:pt x="399" y="336"/>
                  </a:lnTo>
                  <a:lnTo>
                    <a:pt x="403" y="336"/>
                  </a:lnTo>
                  <a:lnTo>
                    <a:pt x="406" y="336"/>
                  </a:lnTo>
                  <a:lnTo>
                    <a:pt x="408" y="336"/>
                  </a:lnTo>
                  <a:lnTo>
                    <a:pt x="412" y="336"/>
                  </a:lnTo>
                  <a:lnTo>
                    <a:pt x="415" y="336"/>
                  </a:lnTo>
                  <a:lnTo>
                    <a:pt x="419" y="337"/>
                  </a:lnTo>
                  <a:lnTo>
                    <a:pt x="422" y="339"/>
                  </a:lnTo>
                  <a:lnTo>
                    <a:pt x="424" y="337"/>
                  </a:lnTo>
                  <a:lnTo>
                    <a:pt x="426" y="337"/>
                  </a:lnTo>
                  <a:lnTo>
                    <a:pt x="427" y="337"/>
                  </a:lnTo>
                  <a:lnTo>
                    <a:pt x="429" y="337"/>
                  </a:lnTo>
                  <a:lnTo>
                    <a:pt x="431" y="337"/>
                  </a:lnTo>
                  <a:lnTo>
                    <a:pt x="433" y="337"/>
                  </a:lnTo>
                  <a:lnTo>
                    <a:pt x="434" y="337"/>
                  </a:lnTo>
                  <a:lnTo>
                    <a:pt x="436" y="337"/>
                  </a:lnTo>
                  <a:lnTo>
                    <a:pt x="438" y="336"/>
                  </a:lnTo>
                  <a:lnTo>
                    <a:pt x="440" y="336"/>
                  </a:lnTo>
                  <a:lnTo>
                    <a:pt x="441" y="336"/>
                  </a:lnTo>
                  <a:lnTo>
                    <a:pt x="443" y="336"/>
                  </a:lnTo>
                  <a:lnTo>
                    <a:pt x="445" y="336"/>
                  </a:lnTo>
                  <a:lnTo>
                    <a:pt x="448" y="336"/>
                  </a:lnTo>
                  <a:lnTo>
                    <a:pt x="450" y="336"/>
                  </a:lnTo>
                  <a:lnTo>
                    <a:pt x="452" y="336"/>
                  </a:lnTo>
                  <a:lnTo>
                    <a:pt x="454" y="336"/>
                  </a:lnTo>
                  <a:lnTo>
                    <a:pt x="455" y="336"/>
                  </a:lnTo>
                  <a:lnTo>
                    <a:pt x="457" y="336"/>
                  </a:lnTo>
                  <a:lnTo>
                    <a:pt x="459" y="336"/>
                  </a:lnTo>
                  <a:lnTo>
                    <a:pt x="461" y="336"/>
                  </a:lnTo>
                  <a:lnTo>
                    <a:pt x="462" y="336"/>
                  </a:lnTo>
                  <a:lnTo>
                    <a:pt x="464" y="336"/>
                  </a:lnTo>
                  <a:lnTo>
                    <a:pt x="466" y="336"/>
                  </a:lnTo>
                  <a:lnTo>
                    <a:pt x="468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3" y="336"/>
                  </a:lnTo>
                  <a:lnTo>
                    <a:pt x="475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0" y="336"/>
                  </a:lnTo>
                  <a:lnTo>
                    <a:pt x="482" y="336"/>
                  </a:lnTo>
                  <a:lnTo>
                    <a:pt x="483" y="336"/>
                  </a:lnTo>
                  <a:lnTo>
                    <a:pt x="485" y="336"/>
                  </a:lnTo>
                  <a:lnTo>
                    <a:pt x="487" y="336"/>
                  </a:lnTo>
                  <a:lnTo>
                    <a:pt x="489" y="334"/>
                  </a:lnTo>
                  <a:lnTo>
                    <a:pt x="490" y="334"/>
                  </a:lnTo>
                  <a:lnTo>
                    <a:pt x="492" y="334"/>
                  </a:lnTo>
                  <a:lnTo>
                    <a:pt x="494" y="334"/>
                  </a:lnTo>
                  <a:lnTo>
                    <a:pt x="496" y="334"/>
                  </a:lnTo>
                  <a:lnTo>
                    <a:pt x="497" y="334"/>
                  </a:lnTo>
                  <a:lnTo>
                    <a:pt x="499" y="334"/>
                  </a:lnTo>
                  <a:lnTo>
                    <a:pt x="501" y="334"/>
                  </a:lnTo>
                  <a:lnTo>
                    <a:pt x="503" y="334"/>
                  </a:lnTo>
                  <a:lnTo>
                    <a:pt x="504" y="334"/>
                  </a:lnTo>
                  <a:lnTo>
                    <a:pt x="506" y="332"/>
                  </a:lnTo>
                  <a:lnTo>
                    <a:pt x="508" y="332"/>
                  </a:lnTo>
                  <a:lnTo>
                    <a:pt x="510" y="332"/>
                  </a:lnTo>
                  <a:lnTo>
                    <a:pt x="511" y="332"/>
                  </a:lnTo>
                  <a:lnTo>
                    <a:pt x="513" y="330"/>
                  </a:lnTo>
                  <a:lnTo>
                    <a:pt x="515" y="330"/>
                  </a:lnTo>
                  <a:lnTo>
                    <a:pt x="517" y="330"/>
                  </a:lnTo>
                  <a:lnTo>
                    <a:pt x="518" y="330"/>
                  </a:lnTo>
                  <a:lnTo>
                    <a:pt x="520" y="329"/>
                  </a:lnTo>
                  <a:lnTo>
                    <a:pt x="522" y="329"/>
                  </a:lnTo>
                  <a:lnTo>
                    <a:pt x="524" y="329"/>
                  </a:lnTo>
                  <a:lnTo>
                    <a:pt x="525" y="327"/>
                  </a:lnTo>
                  <a:lnTo>
                    <a:pt x="527" y="327"/>
                  </a:lnTo>
                  <a:lnTo>
                    <a:pt x="529" y="325"/>
                  </a:lnTo>
                  <a:lnTo>
                    <a:pt x="531" y="325"/>
                  </a:lnTo>
                  <a:lnTo>
                    <a:pt x="532" y="325"/>
                  </a:lnTo>
                  <a:lnTo>
                    <a:pt x="534" y="323"/>
                  </a:lnTo>
                  <a:lnTo>
                    <a:pt x="536" y="323"/>
                  </a:lnTo>
                  <a:lnTo>
                    <a:pt x="536" y="325"/>
                  </a:lnTo>
                  <a:lnTo>
                    <a:pt x="538" y="327"/>
                  </a:lnTo>
                  <a:lnTo>
                    <a:pt x="538" y="330"/>
                  </a:lnTo>
                  <a:lnTo>
                    <a:pt x="539" y="332"/>
                  </a:lnTo>
                  <a:lnTo>
                    <a:pt x="539" y="336"/>
                  </a:lnTo>
                  <a:lnTo>
                    <a:pt x="539" y="337"/>
                  </a:lnTo>
                  <a:lnTo>
                    <a:pt x="539" y="341"/>
                  </a:lnTo>
                  <a:lnTo>
                    <a:pt x="539" y="341"/>
                  </a:lnTo>
                  <a:lnTo>
                    <a:pt x="539" y="343"/>
                  </a:lnTo>
                  <a:lnTo>
                    <a:pt x="539" y="344"/>
                  </a:lnTo>
                  <a:lnTo>
                    <a:pt x="538" y="346"/>
                  </a:lnTo>
                  <a:lnTo>
                    <a:pt x="538" y="348"/>
                  </a:lnTo>
                  <a:lnTo>
                    <a:pt x="538" y="350"/>
                  </a:lnTo>
                  <a:lnTo>
                    <a:pt x="538" y="351"/>
                  </a:lnTo>
                  <a:lnTo>
                    <a:pt x="536" y="353"/>
                  </a:lnTo>
                  <a:lnTo>
                    <a:pt x="536" y="355"/>
                  </a:lnTo>
                  <a:lnTo>
                    <a:pt x="536" y="357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4" y="362"/>
                  </a:lnTo>
                  <a:lnTo>
                    <a:pt x="532" y="365"/>
                  </a:lnTo>
                  <a:lnTo>
                    <a:pt x="532" y="367"/>
                  </a:lnTo>
                  <a:lnTo>
                    <a:pt x="532" y="369"/>
                  </a:lnTo>
                  <a:lnTo>
                    <a:pt x="531" y="371"/>
                  </a:lnTo>
                  <a:lnTo>
                    <a:pt x="531" y="372"/>
                  </a:lnTo>
                  <a:lnTo>
                    <a:pt x="529" y="374"/>
                  </a:lnTo>
                  <a:lnTo>
                    <a:pt x="529" y="376"/>
                  </a:lnTo>
                  <a:lnTo>
                    <a:pt x="527" y="379"/>
                  </a:lnTo>
                  <a:lnTo>
                    <a:pt x="527" y="379"/>
                  </a:lnTo>
                  <a:lnTo>
                    <a:pt x="525" y="383"/>
                  </a:lnTo>
                  <a:lnTo>
                    <a:pt x="525" y="385"/>
                  </a:lnTo>
                  <a:lnTo>
                    <a:pt x="524" y="386"/>
                  </a:lnTo>
                  <a:lnTo>
                    <a:pt x="524" y="388"/>
                  </a:lnTo>
                  <a:lnTo>
                    <a:pt x="522" y="390"/>
                  </a:lnTo>
                  <a:lnTo>
                    <a:pt x="522" y="392"/>
                  </a:lnTo>
                  <a:lnTo>
                    <a:pt x="520" y="393"/>
                  </a:lnTo>
                  <a:lnTo>
                    <a:pt x="518" y="395"/>
                  </a:lnTo>
                  <a:lnTo>
                    <a:pt x="518" y="399"/>
                  </a:lnTo>
                  <a:lnTo>
                    <a:pt x="517" y="400"/>
                  </a:lnTo>
                  <a:lnTo>
                    <a:pt x="515" y="402"/>
                  </a:lnTo>
                  <a:lnTo>
                    <a:pt x="515" y="404"/>
                  </a:lnTo>
                  <a:lnTo>
                    <a:pt x="513" y="406"/>
                  </a:lnTo>
                  <a:lnTo>
                    <a:pt x="513" y="407"/>
                  </a:lnTo>
                  <a:lnTo>
                    <a:pt x="511" y="409"/>
                  </a:lnTo>
                  <a:lnTo>
                    <a:pt x="511" y="411"/>
                  </a:lnTo>
                  <a:lnTo>
                    <a:pt x="510" y="413"/>
                  </a:lnTo>
                  <a:lnTo>
                    <a:pt x="508" y="413"/>
                  </a:lnTo>
                  <a:lnTo>
                    <a:pt x="508" y="416"/>
                  </a:lnTo>
                  <a:lnTo>
                    <a:pt x="506" y="416"/>
                  </a:lnTo>
                  <a:lnTo>
                    <a:pt x="506" y="418"/>
                  </a:lnTo>
                  <a:lnTo>
                    <a:pt x="504" y="421"/>
                  </a:lnTo>
                  <a:lnTo>
                    <a:pt x="503" y="425"/>
                  </a:lnTo>
                  <a:lnTo>
                    <a:pt x="501" y="427"/>
                  </a:lnTo>
                  <a:lnTo>
                    <a:pt x="499" y="430"/>
                  </a:lnTo>
                  <a:lnTo>
                    <a:pt x="550" y="442"/>
                  </a:lnTo>
                  <a:lnTo>
                    <a:pt x="550" y="441"/>
                  </a:lnTo>
                  <a:lnTo>
                    <a:pt x="552" y="439"/>
                  </a:lnTo>
                  <a:lnTo>
                    <a:pt x="553" y="437"/>
                  </a:lnTo>
                  <a:lnTo>
                    <a:pt x="555" y="435"/>
                  </a:lnTo>
                  <a:lnTo>
                    <a:pt x="555" y="432"/>
                  </a:lnTo>
                  <a:lnTo>
                    <a:pt x="557" y="430"/>
                  </a:lnTo>
                  <a:lnTo>
                    <a:pt x="560" y="428"/>
                  </a:lnTo>
                  <a:lnTo>
                    <a:pt x="560" y="427"/>
                  </a:lnTo>
                  <a:lnTo>
                    <a:pt x="562" y="423"/>
                  </a:lnTo>
                  <a:lnTo>
                    <a:pt x="564" y="421"/>
                  </a:lnTo>
                  <a:lnTo>
                    <a:pt x="566" y="420"/>
                  </a:lnTo>
                  <a:lnTo>
                    <a:pt x="569" y="418"/>
                  </a:lnTo>
                  <a:lnTo>
                    <a:pt x="569" y="416"/>
                  </a:lnTo>
                  <a:lnTo>
                    <a:pt x="571" y="413"/>
                  </a:lnTo>
                  <a:lnTo>
                    <a:pt x="574" y="411"/>
                  </a:lnTo>
                  <a:lnTo>
                    <a:pt x="576" y="409"/>
                  </a:lnTo>
                  <a:lnTo>
                    <a:pt x="578" y="406"/>
                  </a:lnTo>
                  <a:lnTo>
                    <a:pt x="580" y="404"/>
                  </a:lnTo>
                  <a:lnTo>
                    <a:pt x="581" y="402"/>
                  </a:lnTo>
                  <a:lnTo>
                    <a:pt x="583" y="400"/>
                  </a:lnTo>
                  <a:lnTo>
                    <a:pt x="585" y="399"/>
                  </a:lnTo>
                  <a:lnTo>
                    <a:pt x="587" y="395"/>
                  </a:lnTo>
                  <a:lnTo>
                    <a:pt x="588" y="393"/>
                  </a:lnTo>
                  <a:lnTo>
                    <a:pt x="590" y="392"/>
                  </a:lnTo>
                  <a:lnTo>
                    <a:pt x="592" y="390"/>
                  </a:lnTo>
                  <a:lnTo>
                    <a:pt x="594" y="388"/>
                  </a:lnTo>
                  <a:lnTo>
                    <a:pt x="595" y="385"/>
                  </a:lnTo>
                  <a:lnTo>
                    <a:pt x="597" y="383"/>
                  </a:lnTo>
                  <a:lnTo>
                    <a:pt x="599" y="381"/>
                  </a:lnTo>
                  <a:lnTo>
                    <a:pt x="601" y="379"/>
                  </a:lnTo>
                  <a:lnTo>
                    <a:pt x="602" y="378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4" y="374"/>
                  </a:lnTo>
                  <a:lnTo>
                    <a:pt x="606" y="372"/>
                  </a:lnTo>
                  <a:lnTo>
                    <a:pt x="606" y="372"/>
                  </a:lnTo>
                  <a:lnTo>
                    <a:pt x="608" y="371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3" y="371"/>
                  </a:lnTo>
                  <a:lnTo>
                    <a:pt x="615" y="372"/>
                  </a:lnTo>
                  <a:lnTo>
                    <a:pt x="616" y="374"/>
                  </a:lnTo>
                  <a:lnTo>
                    <a:pt x="618" y="376"/>
                  </a:lnTo>
                  <a:lnTo>
                    <a:pt x="620" y="376"/>
                  </a:lnTo>
                  <a:lnTo>
                    <a:pt x="622" y="376"/>
                  </a:lnTo>
                  <a:lnTo>
                    <a:pt x="623" y="378"/>
                  </a:lnTo>
                  <a:lnTo>
                    <a:pt x="625" y="378"/>
                  </a:lnTo>
                  <a:lnTo>
                    <a:pt x="627" y="378"/>
                  </a:lnTo>
                  <a:lnTo>
                    <a:pt x="629" y="378"/>
                  </a:lnTo>
                  <a:lnTo>
                    <a:pt x="632" y="376"/>
                  </a:lnTo>
                  <a:lnTo>
                    <a:pt x="632" y="374"/>
                  </a:lnTo>
                  <a:lnTo>
                    <a:pt x="634" y="372"/>
                  </a:lnTo>
                  <a:lnTo>
                    <a:pt x="636" y="371"/>
                  </a:lnTo>
                  <a:lnTo>
                    <a:pt x="637" y="369"/>
                  </a:lnTo>
                  <a:lnTo>
                    <a:pt x="639" y="369"/>
                  </a:lnTo>
                  <a:lnTo>
                    <a:pt x="641" y="371"/>
                  </a:lnTo>
                  <a:lnTo>
                    <a:pt x="643" y="371"/>
                  </a:lnTo>
                  <a:lnTo>
                    <a:pt x="644" y="371"/>
                  </a:lnTo>
                  <a:lnTo>
                    <a:pt x="644" y="371"/>
                  </a:lnTo>
                  <a:lnTo>
                    <a:pt x="646" y="372"/>
                  </a:lnTo>
                  <a:lnTo>
                    <a:pt x="648" y="372"/>
                  </a:lnTo>
                  <a:lnTo>
                    <a:pt x="650" y="374"/>
                  </a:lnTo>
                  <a:lnTo>
                    <a:pt x="651" y="376"/>
                  </a:lnTo>
                  <a:lnTo>
                    <a:pt x="653" y="378"/>
                  </a:lnTo>
                  <a:lnTo>
                    <a:pt x="655" y="379"/>
                  </a:lnTo>
                  <a:lnTo>
                    <a:pt x="658" y="383"/>
                  </a:lnTo>
                  <a:lnTo>
                    <a:pt x="660" y="385"/>
                  </a:lnTo>
                  <a:lnTo>
                    <a:pt x="660" y="388"/>
                  </a:lnTo>
                  <a:lnTo>
                    <a:pt x="662" y="388"/>
                  </a:lnTo>
                  <a:lnTo>
                    <a:pt x="662" y="390"/>
                  </a:lnTo>
                  <a:lnTo>
                    <a:pt x="662" y="392"/>
                  </a:lnTo>
                  <a:lnTo>
                    <a:pt x="664" y="393"/>
                  </a:lnTo>
                  <a:lnTo>
                    <a:pt x="664" y="395"/>
                  </a:lnTo>
                  <a:lnTo>
                    <a:pt x="664" y="395"/>
                  </a:lnTo>
                  <a:lnTo>
                    <a:pt x="664" y="399"/>
                  </a:lnTo>
                  <a:lnTo>
                    <a:pt x="665" y="400"/>
                  </a:lnTo>
                  <a:lnTo>
                    <a:pt x="665" y="400"/>
                  </a:lnTo>
                  <a:lnTo>
                    <a:pt x="665" y="402"/>
                  </a:lnTo>
                  <a:lnTo>
                    <a:pt x="665" y="404"/>
                  </a:lnTo>
                  <a:lnTo>
                    <a:pt x="665" y="406"/>
                  </a:lnTo>
                  <a:lnTo>
                    <a:pt x="665" y="407"/>
                  </a:lnTo>
                  <a:lnTo>
                    <a:pt x="665" y="411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5" y="414"/>
                  </a:lnTo>
                  <a:lnTo>
                    <a:pt x="665" y="416"/>
                  </a:lnTo>
                  <a:lnTo>
                    <a:pt x="665" y="418"/>
                  </a:lnTo>
                  <a:lnTo>
                    <a:pt x="665" y="421"/>
                  </a:lnTo>
                  <a:lnTo>
                    <a:pt x="665" y="421"/>
                  </a:lnTo>
                  <a:lnTo>
                    <a:pt x="665" y="423"/>
                  </a:lnTo>
                  <a:lnTo>
                    <a:pt x="665" y="425"/>
                  </a:lnTo>
                  <a:lnTo>
                    <a:pt x="665" y="427"/>
                  </a:lnTo>
                  <a:lnTo>
                    <a:pt x="664" y="430"/>
                  </a:lnTo>
                  <a:lnTo>
                    <a:pt x="664" y="432"/>
                  </a:lnTo>
                  <a:lnTo>
                    <a:pt x="664" y="434"/>
                  </a:lnTo>
                  <a:lnTo>
                    <a:pt x="664" y="435"/>
                  </a:lnTo>
                  <a:lnTo>
                    <a:pt x="662" y="437"/>
                  </a:lnTo>
                  <a:lnTo>
                    <a:pt x="662" y="439"/>
                  </a:lnTo>
                  <a:lnTo>
                    <a:pt x="662" y="441"/>
                  </a:lnTo>
                  <a:lnTo>
                    <a:pt x="662" y="442"/>
                  </a:lnTo>
                  <a:lnTo>
                    <a:pt x="662" y="444"/>
                  </a:lnTo>
                  <a:lnTo>
                    <a:pt x="660" y="446"/>
                  </a:lnTo>
                  <a:lnTo>
                    <a:pt x="660" y="448"/>
                  </a:lnTo>
                  <a:lnTo>
                    <a:pt x="660" y="449"/>
                  </a:lnTo>
                  <a:lnTo>
                    <a:pt x="660" y="451"/>
                  </a:lnTo>
                  <a:lnTo>
                    <a:pt x="658" y="451"/>
                  </a:lnTo>
                  <a:lnTo>
                    <a:pt x="658" y="455"/>
                  </a:lnTo>
                  <a:lnTo>
                    <a:pt x="658" y="455"/>
                  </a:lnTo>
                  <a:lnTo>
                    <a:pt x="658" y="456"/>
                  </a:lnTo>
                  <a:lnTo>
                    <a:pt x="657" y="458"/>
                  </a:lnTo>
                  <a:lnTo>
                    <a:pt x="657" y="460"/>
                  </a:lnTo>
                  <a:lnTo>
                    <a:pt x="657" y="462"/>
                  </a:lnTo>
                  <a:lnTo>
                    <a:pt x="707" y="465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79920" y="4057560"/>
              <a:ext cx="498240" cy="295200"/>
            </a:xfrm>
            <a:custGeom>
              <a:avLst/>
              <a:gdLst/>
              <a:ahLst/>
              <a:rect l="l" t="t" r="r" b="b"/>
              <a:pathLst>
                <a:path w="786" h="465">
                  <a:moveTo>
                    <a:pt x="709" y="465"/>
                  </a:moveTo>
                  <a:lnTo>
                    <a:pt x="707" y="464"/>
                  </a:lnTo>
                  <a:lnTo>
                    <a:pt x="707" y="462"/>
                  </a:lnTo>
                  <a:lnTo>
                    <a:pt x="707" y="458"/>
                  </a:lnTo>
                  <a:lnTo>
                    <a:pt x="707" y="457"/>
                  </a:lnTo>
                  <a:lnTo>
                    <a:pt x="707" y="455"/>
                  </a:lnTo>
                  <a:lnTo>
                    <a:pt x="707" y="453"/>
                  </a:lnTo>
                  <a:lnTo>
                    <a:pt x="707" y="451"/>
                  </a:lnTo>
                  <a:lnTo>
                    <a:pt x="707" y="450"/>
                  </a:lnTo>
                  <a:lnTo>
                    <a:pt x="707" y="446"/>
                  </a:lnTo>
                  <a:lnTo>
                    <a:pt x="707" y="444"/>
                  </a:lnTo>
                  <a:lnTo>
                    <a:pt x="707" y="443"/>
                  </a:lnTo>
                  <a:lnTo>
                    <a:pt x="707" y="441"/>
                  </a:lnTo>
                  <a:lnTo>
                    <a:pt x="707" y="437"/>
                  </a:lnTo>
                  <a:lnTo>
                    <a:pt x="707" y="436"/>
                  </a:lnTo>
                  <a:lnTo>
                    <a:pt x="707" y="434"/>
                  </a:lnTo>
                  <a:lnTo>
                    <a:pt x="707" y="432"/>
                  </a:lnTo>
                  <a:lnTo>
                    <a:pt x="707" y="430"/>
                  </a:lnTo>
                  <a:lnTo>
                    <a:pt x="707" y="427"/>
                  </a:lnTo>
                  <a:lnTo>
                    <a:pt x="707" y="425"/>
                  </a:lnTo>
                  <a:lnTo>
                    <a:pt x="707" y="423"/>
                  </a:lnTo>
                  <a:lnTo>
                    <a:pt x="707" y="420"/>
                  </a:lnTo>
                  <a:lnTo>
                    <a:pt x="707" y="418"/>
                  </a:lnTo>
                  <a:lnTo>
                    <a:pt x="707" y="416"/>
                  </a:lnTo>
                  <a:lnTo>
                    <a:pt x="707" y="415"/>
                  </a:lnTo>
                  <a:lnTo>
                    <a:pt x="707" y="413"/>
                  </a:lnTo>
                  <a:lnTo>
                    <a:pt x="707" y="409"/>
                  </a:lnTo>
                  <a:lnTo>
                    <a:pt x="707" y="408"/>
                  </a:lnTo>
                  <a:lnTo>
                    <a:pt x="707" y="406"/>
                  </a:lnTo>
                  <a:lnTo>
                    <a:pt x="707" y="404"/>
                  </a:lnTo>
                  <a:lnTo>
                    <a:pt x="707" y="402"/>
                  </a:lnTo>
                  <a:lnTo>
                    <a:pt x="707" y="399"/>
                  </a:lnTo>
                  <a:lnTo>
                    <a:pt x="707" y="397"/>
                  </a:lnTo>
                  <a:lnTo>
                    <a:pt x="707" y="395"/>
                  </a:lnTo>
                  <a:lnTo>
                    <a:pt x="707" y="394"/>
                  </a:lnTo>
                  <a:lnTo>
                    <a:pt x="707" y="390"/>
                  </a:lnTo>
                  <a:lnTo>
                    <a:pt x="707" y="388"/>
                  </a:lnTo>
                  <a:lnTo>
                    <a:pt x="707" y="387"/>
                  </a:lnTo>
                  <a:lnTo>
                    <a:pt x="707" y="385"/>
                  </a:lnTo>
                  <a:lnTo>
                    <a:pt x="707" y="381"/>
                  </a:lnTo>
                  <a:lnTo>
                    <a:pt x="707" y="380"/>
                  </a:lnTo>
                  <a:lnTo>
                    <a:pt x="707" y="378"/>
                  </a:lnTo>
                  <a:lnTo>
                    <a:pt x="709" y="376"/>
                  </a:lnTo>
                  <a:lnTo>
                    <a:pt x="709" y="374"/>
                  </a:lnTo>
                  <a:lnTo>
                    <a:pt x="709" y="371"/>
                  </a:lnTo>
                  <a:lnTo>
                    <a:pt x="709" y="369"/>
                  </a:lnTo>
                  <a:lnTo>
                    <a:pt x="709" y="367"/>
                  </a:lnTo>
                  <a:lnTo>
                    <a:pt x="709" y="366"/>
                  </a:lnTo>
                  <a:lnTo>
                    <a:pt x="709" y="364"/>
                  </a:lnTo>
                  <a:lnTo>
                    <a:pt x="709" y="362"/>
                  </a:lnTo>
                  <a:lnTo>
                    <a:pt x="709" y="360"/>
                  </a:lnTo>
                  <a:lnTo>
                    <a:pt x="709" y="357"/>
                  </a:lnTo>
                  <a:lnTo>
                    <a:pt x="710" y="355"/>
                  </a:lnTo>
                  <a:lnTo>
                    <a:pt x="710" y="353"/>
                  </a:lnTo>
                  <a:lnTo>
                    <a:pt x="710" y="352"/>
                  </a:lnTo>
                  <a:lnTo>
                    <a:pt x="710" y="350"/>
                  </a:lnTo>
                  <a:lnTo>
                    <a:pt x="710" y="348"/>
                  </a:lnTo>
                  <a:lnTo>
                    <a:pt x="710" y="346"/>
                  </a:lnTo>
                  <a:lnTo>
                    <a:pt x="710" y="345"/>
                  </a:lnTo>
                  <a:lnTo>
                    <a:pt x="710" y="343"/>
                  </a:lnTo>
                  <a:lnTo>
                    <a:pt x="712" y="341"/>
                  </a:lnTo>
                  <a:lnTo>
                    <a:pt x="712" y="339"/>
                  </a:lnTo>
                  <a:lnTo>
                    <a:pt x="712" y="338"/>
                  </a:lnTo>
                  <a:lnTo>
                    <a:pt x="712" y="336"/>
                  </a:lnTo>
                  <a:lnTo>
                    <a:pt x="712" y="334"/>
                  </a:lnTo>
                  <a:lnTo>
                    <a:pt x="712" y="332"/>
                  </a:lnTo>
                  <a:lnTo>
                    <a:pt x="712" y="331"/>
                  </a:lnTo>
                  <a:lnTo>
                    <a:pt x="710" y="329"/>
                  </a:lnTo>
                  <a:lnTo>
                    <a:pt x="710" y="327"/>
                  </a:lnTo>
                  <a:lnTo>
                    <a:pt x="709" y="325"/>
                  </a:lnTo>
                  <a:lnTo>
                    <a:pt x="709" y="324"/>
                  </a:lnTo>
                  <a:lnTo>
                    <a:pt x="709" y="322"/>
                  </a:lnTo>
                  <a:lnTo>
                    <a:pt x="709" y="322"/>
                  </a:lnTo>
                  <a:lnTo>
                    <a:pt x="707" y="320"/>
                  </a:lnTo>
                  <a:lnTo>
                    <a:pt x="707" y="318"/>
                  </a:lnTo>
                  <a:lnTo>
                    <a:pt x="707" y="317"/>
                  </a:lnTo>
                  <a:lnTo>
                    <a:pt x="707" y="315"/>
                  </a:lnTo>
                  <a:lnTo>
                    <a:pt x="705" y="313"/>
                  </a:lnTo>
                  <a:lnTo>
                    <a:pt x="705" y="311"/>
                  </a:lnTo>
                  <a:lnTo>
                    <a:pt x="703" y="310"/>
                  </a:lnTo>
                  <a:lnTo>
                    <a:pt x="703" y="310"/>
                  </a:lnTo>
                  <a:lnTo>
                    <a:pt x="703" y="308"/>
                  </a:lnTo>
                  <a:lnTo>
                    <a:pt x="703" y="306"/>
                  </a:lnTo>
                  <a:lnTo>
                    <a:pt x="703" y="304"/>
                  </a:lnTo>
                  <a:lnTo>
                    <a:pt x="702" y="303"/>
                  </a:lnTo>
                  <a:lnTo>
                    <a:pt x="702" y="301"/>
                  </a:lnTo>
                  <a:lnTo>
                    <a:pt x="702" y="299"/>
                  </a:lnTo>
                  <a:lnTo>
                    <a:pt x="700" y="297"/>
                  </a:lnTo>
                  <a:lnTo>
                    <a:pt x="700" y="296"/>
                  </a:lnTo>
                  <a:lnTo>
                    <a:pt x="700" y="294"/>
                  </a:lnTo>
                  <a:lnTo>
                    <a:pt x="700" y="292"/>
                  </a:lnTo>
                  <a:lnTo>
                    <a:pt x="700" y="290"/>
                  </a:lnTo>
                  <a:lnTo>
                    <a:pt x="698" y="290"/>
                  </a:lnTo>
                  <a:lnTo>
                    <a:pt x="698" y="289"/>
                  </a:lnTo>
                  <a:lnTo>
                    <a:pt x="698" y="287"/>
                  </a:lnTo>
                  <a:lnTo>
                    <a:pt x="698" y="285"/>
                  </a:lnTo>
                  <a:lnTo>
                    <a:pt x="698" y="283"/>
                  </a:lnTo>
                  <a:lnTo>
                    <a:pt x="698" y="282"/>
                  </a:lnTo>
                  <a:lnTo>
                    <a:pt x="696" y="280"/>
                  </a:lnTo>
                  <a:lnTo>
                    <a:pt x="696" y="278"/>
                  </a:lnTo>
                  <a:lnTo>
                    <a:pt x="696" y="276"/>
                  </a:lnTo>
                  <a:lnTo>
                    <a:pt x="696" y="275"/>
                  </a:lnTo>
                  <a:lnTo>
                    <a:pt x="696" y="275"/>
                  </a:lnTo>
                  <a:lnTo>
                    <a:pt x="696" y="271"/>
                  </a:lnTo>
                  <a:lnTo>
                    <a:pt x="696" y="271"/>
                  </a:lnTo>
                  <a:lnTo>
                    <a:pt x="696" y="269"/>
                  </a:lnTo>
                  <a:lnTo>
                    <a:pt x="696" y="268"/>
                  </a:lnTo>
                  <a:lnTo>
                    <a:pt x="696" y="266"/>
                  </a:lnTo>
                  <a:lnTo>
                    <a:pt x="696" y="264"/>
                  </a:lnTo>
                  <a:lnTo>
                    <a:pt x="696" y="262"/>
                  </a:lnTo>
                  <a:lnTo>
                    <a:pt x="696" y="261"/>
                  </a:lnTo>
                  <a:lnTo>
                    <a:pt x="696" y="259"/>
                  </a:lnTo>
                  <a:lnTo>
                    <a:pt x="696" y="257"/>
                  </a:lnTo>
                  <a:lnTo>
                    <a:pt x="696" y="255"/>
                  </a:lnTo>
                  <a:lnTo>
                    <a:pt x="696" y="254"/>
                  </a:lnTo>
                  <a:lnTo>
                    <a:pt x="696" y="252"/>
                  </a:lnTo>
                  <a:lnTo>
                    <a:pt x="696" y="250"/>
                  </a:lnTo>
                  <a:lnTo>
                    <a:pt x="696" y="248"/>
                  </a:lnTo>
                  <a:lnTo>
                    <a:pt x="698" y="247"/>
                  </a:lnTo>
                  <a:lnTo>
                    <a:pt x="698" y="245"/>
                  </a:lnTo>
                  <a:lnTo>
                    <a:pt x="698" y="243"/>
                  </a:lnTo>
                  <a:lnTo>
                    <a:pt x="698" y="241"/>
                  </a:lnTo>
                  <a:lnTo>
                    <a:pt x="698" y="240"/>
                  </a:lnTo>
                  <a:lnTo>
                    <a:pt x="700" y="238"/>
                  </a:lnTo>
                  <a:lnTo>
                    <a:pt x="700" y="236"/>
                  </a:lnTo>
                  <a:lnTo>
                    <a:pt x="700" y="234"/>
                  </a:lnTo>
                  <a:lnTo>
                    <a:pt x="702" y="233"/>
                  </a:lnTo>
                  <a:lnTo>
                    <a:pt x="702" y="231"/>
                  </a:lnTo>
                  <a:lnTo>
                    <a:pt x="703" y="229"/>
                  </a:lnTo>
                  <a:lnTo>
                    <a:pt x="703" y="231"/>
                  </a:lnTo>
                  <a:lnTo>
                    <a:pt x="705" y="233"/>
                  </a:lnTo>
                  <a:lnTo>
                    <a:pt x="707" y="233"/>
                  </a:lnTo>
                  <a:lnTo>
                    <a:pt x="707" y="234"/>
                  </a:lnTo>
                  <a:lnTo>
                    <a:pt x="707" y="236"/>
                  </a:lnTo>
                  <a:lnTo>
                    <a:pt x="707" y="238"/>
                  </a:lnTo>
                  <a:lnTo>
                    <a:pt x="707" y="240"/>
                  </a:lnTo>
                  <a:lnTo>
                    <a:pt x="709" y="243"/>
                  </a:lnTo>
                  <a:lnTo>
                    <a:pt x="709" y="245"/>
                  </a:lnTo>
                  <a:lnTo>
                    <a:pt x="710" y="247"/>
                  </a:lnTo>
                  <a:lnTo>
                    <a:pt x="712" y="248"/>
                  </a:lnTo>
                  <a:lnTo>
                    <a:pt x="714" y="252"/>
                  </a:lnTo>
                  <a:lnTo>
                    <a:pt x="714" y="254"/>
                  </a:lnTo>
                  <a:lnTo>
                    <a:pt x="716" y="257"/>
                  </a:lnTo>
                  <a:lnTo>
                    <a:pt x="716" y="259"/>
                  </a:lnTo>
                  <a:lnTo>
                    <a:pt x="717" y="262"/>
                  </a:lnTo>
                  <a:lnTo>
                    <a:pt x="717" y="264"/>
                  </a:lnTo>
                  <a:lnTo>
                    <a:pt x="719" y="268"/>
                  </a:lnTo>
                  <a:lnTo>
                    <a:pt x="719" y="271"/>
                  </a:lnTo>
                  <a:lnTo>
                    <a:pt x="721" y="273"/>
                  </a:lnTo>
                  <a:lnTo>
                    <a:pt x="721" y="276"/>
                  </a:lnTo>
                  <a:lnTo>
                    <a:pt x="721" y="280"/>
                  </a:lnTo>
                  <a:lnTo>
                    <a:pt x="721" y="282"/>
                  </a:lnTo>
                  <a:lnTo>
                    <a:pt x="723" y="285"/>
                  </a:lnTo>
                  <a:lnTo>
                    <a:pt x="723" y="289"/>
                  </a:lnTo>
                  <a:lnTo>
                    <a:pt x="723" y="290"/>
                  </a:lnTo>
                  <a:lnTo>
                    <a:pt x="723" y="294"/>
                  </a:lnTo>
                  <a:lnTo>
                    <a:pt x="723" y="297"/>
                  </a:lnTo>
                  <a:lnTo>
                    <a:pt x="724" y="299"/>
                  </a:lnTo>
                  <a:lnTo>
                    <a:pt x="724" y="303"/>
                  </a:lnTo>
                  <a:lnTo>
                    <a:pt x="724" y="306"/>
                  </a:lnTo>
                  <a:lnTo>
                    <a:pt x="724" y="310"/>
                  </a:lnTo>
                  <a:lnTo>
                    <a:pt x="724" y="311"/>
                  </a:lnTo>
                  <a:lnTo>
                    <a:pt x="724" y="315"/>
                  </a:lnTo>
                  <a:lnTo>
                    <a:pt x="724" y="317"/>
                  </a:lnTo>
                  <a:lnTo>
                    <a:pt x="724" y="320"/>
                  </a:lnTo>
                  <a:lnTo>
                    <a:pt x="724" y="324"/>
                  </a:lnTo>
                  <a:lnTo>
                    <a:pt x="726" y="325"/>
                  </a:lnTo>
                  <a:lnTo>
                    <a:pt x="726" y="329"/>
                  </a:lnTo>
                  <a:lnTo>
                    <a:pt x="726" y="332"/>
                  </a:lnTo>
                  <a:lnTo>
                    <a:pt x="726" y="334"/>
                  </a:lnTo>
                  <a:lnTo>
                    <a:pt x="728" y="338"/>
                  </a:lnTo>
                  <a:lnTo>
                    <a:pt x="728" y="341"/>
                  </a:lnTo>
                  <a:lnTo>
                    <a:pt x="728" y="343"/>
                  </a:lnTo>
                  <a:lnTo>
                    <a:pt x="728" y="346"/>
                  </a:lnTo>
                  <a:lnTo>
                    <a:pt x="728" y="348"/>
                  </a:lnTo>
                  <a:lnTo>
                    <a:pt x="730" y="352"/>
                  </a:lnTo>
                  <a:lnTo>
                    <a:pt x="730" y="353"/>
                  </a:lnTo>
                  <a:lnTo>
                    <a:pt x="730" y="357"/>
                  </a:lnTo>
                  <a:lnTo>
                    <a:pt x="731" y="359"/>
                  </a:lnTo>
                  <a:lnTo>
                    <a:pt x="731" y="362"/>
                  </a:lnTo>
                  <a:lnTo>
                    <a:pt x="733" y="366"/>
                  </a:lnTo>
                  <a:lnTo>
                    <a:pt x="735" y="367"/>
                  </a:lnTo>
                  <a:lnTo>
                    <a:pt x="735" y="369"/>
                  </a:lnTo>
                  <a:lnTo>
                    <a:pt x="737" y="371"/>
                  </a:lnTo>
                  <a:lnTo>
                    <a:pt x="738" y="374"/>
                  </a:lnTo>
                  <a:lnTo>
                    <a:pt x="738" y="376"/>
                  </a:lnTo>
                  <a:lnTo>
                    <a:pt x="740" y="378"/>
                  </a:lnTo>
                  <a:lnTo>
                    <a:pt x="742" y="381"/>
                  </a:lnTo>
                  <a:lnTo>
                    <a:pt x="744" y="383"/>
                  </a:lnTo>
                  <a:lnTo>
                    <a:pt x="745" y="385"/>
                  </a:lnTo>
                  <a:lnTo>
                    <a:pt x="747" y="387"/>
                  </a:lnTo>
                  <a:lnTo>
                    <a:pt x="749" y="388"/>
                  </a:lnTo>
                  <a:lnTo>
                    <a:pt x="752" y="390"/>
                  </a:lnTo>
                  <a:lnTo>
                    <a:pt x="754" y="392"/>
                  </a:lnTo>
                  <a:lnTo>
                    <a:pt x="756" y="394"/>
                  </a:lnTo>
                  <a:lnTo>
                    <a:pt x="759" y="395"/>
                  </a:lnTo>
                  <a:lnTo>
                    <a:pt x="761" y="397"/>
                  </a:lnTo>
                  <a:lnTo>
                    <a:pt x="765" y="399"/>
                  </a:lnTo>
                  <a:lnTo>
                    <a:pt x="768" y="399"/>
                  </a:lnTo>
                  <a:lnTo>
                    <a:pt x="772" y="401"/>
                  </a:lnTo>
                  <a:lnTo>
                    <a:pt x="775" y="402"/>
                  </a:lnTo>
                  <a:lnTo>
                    <a:pt x="772" y="399"/>
                  </a:lnTo>
                  <a:lnTo>
                    <a:pt x="770" y="397"/>
                  </a:lnTo>
                  <a:lnTo>
                    <a:pt x="766" y="395"/>
                  </a:lnTo>
                  <a:lnTo>
                    <a:pt x="765" y="392"/>
                  </a:lnTo>
                  <a:lnTo>
                    <a:pt x="761" y="390"/>
                  </a:lnTo>
                  <a:lnTo>
                    <a:pt x="759" y="388"/>
                  </a:lnTo>
                  <a:lnTo>
                    <a:pt x="758" y="385"/>
                  </a:lnTo>
                  <a:lnTo>
                    <a:pt x="756" y="383"/>
                  </a:lnTo>
                  <a:lnTo>
                    <a:pt x="758" y="381"/>
                  </a:lnTo>
                  <a:lnTo>
                    <a:pt x="759" y="383"/>
                  </a:lnTo>
                  <a:lnTo>
                    <a:pt x="761" y="383"/>
                  </a:lnTo>
                  <a:lnTo>
                    <a:pt x="765" y="385"/>
                  </a:lnTo>
                  <a:lnTo>
                    <a:pt x="766" y="387"/>
                  </a:lnTo>
                  <a:lnTo>
                    <a:pt x="768" y="388"/>
                  </a:lnTo>
                  <a:lnTo>
                    <a:pt x="768" y="390"/>
                  </a:lnTo>
                  <a:lnTo>
                    <a:pt x="772" y="392"/>
                  </a:lnTo>
                  <a:lnTo>
                    <a:pt x="773" y="394"/>
                  </a:lnTo>
                  <a:lnTo>
                    <a:pt x="775" y="395"/>
                  </a:lnTo>
                  <a:lnTo>
                    <a:pt x="775" y="397"/>
                  </a:lnTo>
                  <a:lnTo>
                    <a:pt x="779" y="397"/>
                  </a:lnTo>
                  <a:lnTo>
                    <a:pt x="779" y="399"/>
                  </a:lnTo>
                  <a:lnTo>
                    <a:pt x="782" y="399"/>
                  </a:lnTo>
                  <a:lnTo>
                    <a:pt x="784" y="399"/>
                  </a:lnTo>
                  <a:lnTo>
                    <a:pt x="786" y="399"/>
                  </a:lnTo>
                  <a:lnTo>
                    <a:pt x="784" y="395"/>
                  </a:lnTo>
                  <a:lnTo>
                    <a:pt x="782" y="392"/>
                  </a:lnTo>
                  <a:lnTo>
                    <a:pt x="782" y="390"/>
                  </a:lnTo>
                  <a:lnTo>
                    <a:pt x="779" y="388"/>
                  </a:lnTo>
                  <a:lnTo>
                    <a:pt x="779" y="385"/>
                  </a:lnTo>
                  <a:lnTo>
                    <a:pt x="779" y="381"/>
                  </a:lnTo>
                  <a:lnTo>
                    <a:pt x="777" y="376"/>
                  </a:lnTo>
                  <a:lnTo>
                    <a:pt x="777" y="373"/>
                  </a:lnTo>
                  <a:lnTo>
                    <a:pt x="775" y="369"/>
                  </a:lnTo>
                  <a:lnTo>
                    <a:pt x="775" y="366"/>
                  </a:lnTo>
                  <a:lnTo>
                    <a:pt x="775" y="362"/>
                  </a:lnTo>
                  <a:lnTo>
                    <a:pt x="773" y="359"/>
                  </a:lnTo>
                  <a:lnTo>
                    <a:pt x="773" y="355"/>
                  </a:lnTo>
                  <a:lnTo>
                    <a:pt x="772" y="352"/>
                  </a:lnTo>
                  <a:lnTo>
                    <a:pt x="772" y="346"/>
                  </a:lnTo>
                  <a:lnTo>
                    <a:pt x="770" y="343"/>
                  </a:lnTo>
                  <a:lnTo>
                    <a:pt x="770" y="341"/>
                  </a:lnTo>
                  <a:lnTo>
                    <a:pt x="768" y="336"/>
                  </a:lnTo>
                  <a:lnTo>
                    <a:pt x="768" y="332"/>
                  </a:lnTo>
                  <a:lnTo>
                    <a:pt x="766" y="331"/>
                  </a:lnTo>
                  <a:lnTo>
                    <a:pt x="766" y="325"/>
                  </a:lnTo>
                  <a:lnTo>
                    <a:pt x="765" y="322"/>
                  </a:lnTo>
                  <a:lnTo>
                    <a:pt x="765" y="318"/>
                  </a:lnTo>
                  <a:lnTo>
                    <a:pt x="763" y="315"/>
                  </a:lnTo>
                  <a:lnTo>
                    <a:pt x="763" y="311"/>
                  </a:lnTo>
                  <a:lnTo>
                    <a:pt x="761" y="308"/>
                  </a:lnTo>
                  <a:lnTo>
                    <a:pt x="759" y="304"/>
                  </a:lnTo>
                  <a:lnTo>
                    <a:pt x="759" y="301"/>
                  </a:lnTo>
                  <a:lnTo>
                    <a:pt x="758" y="297"/>
                  </a:lnTo>
                  <a:lnTo>
                    <a:pt x="758" y="294"/>
                  </a:lnTo>
                  <a:lnTo>
                    <a:pt x="756" y="290"/>
                  </a:lnTo>
                  <a:lnTo>
                    <a:pt x="756" y="287"/>
                  </a:lnTo>
                  <a:lnTo>
                    <a:pt x="754" y="283"/>
                  </a:lnTo>
                  <a:lnTo>
                    <a:pt x="754" y="280"/>
                  </a:lnTo>
                  <a:lnTo>
                    <a:pt x="752" y="276"/>
                  </a:lnTo>
                  <a:lnTo>
                    <a:pt x="752" y="273"/>
                  </a:lnTo>
                  <a:lnTo>
                    <a:pt x="751" y="269"/>
                  </a:lnTo>
                  <a:lnTo>
                    <a:pt x="751" y="264"/>
                  </a:lnTo>
                  <a:lnTo>
                    <a:pt x="749" y="261"/>
                  </a:lnTo>
                  <a:lnTo>
                    <a:pt x="749" y="257"/>
                  </a:lnTo>
                  <a:lnTo>
                    <a:pt x="747" y="254"/>
                  </a:lnTo>
                  <a:lnTo>
                    <a:pt x="747" y="250"/>
                  </a:lnTo>
                  <a:lnTo>
                    <a:pt x="745" y="247"/>
                  </a:lnTo>
                  <a:lnTo>
                    <a:pt x="745" y="243"/>
                  </a:lnTo>
                  <a:lnTo>
                    <a:pt x="744" y="240"/>
                  </a:lnTo>
                  <a:lnTo>
                    <a:pt x="744" y="236"/>
                  </a:lnTo>
                  <a:lnTo>
                    <a:pt x="744" y="233"/>
                  </a:lnTo>
                  <a:lnTo>
                    <a:pt x="742" y="229"/>
                  </a:lnTo>
                  <a:lnTo>
                    <a:pt x="742" y="226"/>
                  </a:lnTo>
                  <a:lnTo>
                    <a:pt x="740" y="222"/>
                  </a:lnTo>
                  <a:lnTo>
                    <a:pt x="740" y="219"/>
                  </a:lnTo>
                  <a:lnTo>
                    <a:pt x="740" y="215"/>
                  </a:lnTo>
                  <a:lnTo>
                    <a:pt x="738" y="210"/>
                  </a:lnTo>
                  <a:lnTo>
                    <a:pt x="738" y="206"/>
                  </a:lnTo>
                  <a:lnTo>
                    <a:pt x="738" y="203"/>
                  </a:lnTo>
                  <a:lnTo>
                    <a:pt x="738" y="199"/>
                  </a:lnTo>
                  <a:lnTo>
                    <a:pt x="737" y="196"/>
                  </a:lnTo>
                  <a:lnTo>
                    <a:pt x="737" y="192"/>
                  </a:lnTo>
                  <a:lnTo>
                    <a:pt x="737" y="189"/>
                  </a:lnTo>
                  <a:lnTo>
                    <a:pt x="737" y="185"/>
                  </a:lnTo>
                  <a:lnTo>
                    <a:pt x="737" y="180"/>
                  </a:lnTo>
                  <a:lnTo>
                    <a:pt x="737" y="177"/>
                  </a:lnTo>
                  <a:lnTo>
                    <a:pt x="737" y="173"/>
                  </a:lnTo>
                  <a:lnTo>
                    <a:pt x="737" y="170"/>
                  </a:lnTo>
                  <a:lnTo>
                    <a:pt x="737" y="164"/>
                  </a:lnTo>
                  <a:lnTo>
                    <a:pt x="737" y="161"/>
                  </a:lnTo>
                  <a:lnTo>
                    <a:pt x="737" y="157"/>
                  </a:lnTo>
                  <a:lnTo>
                    <a:pt x="737" y="154"/>
                  </a:lnTo>
                  <a:lnTo>
                    <a:pt x="737" y="150"/>
                  </a:lnTo>
                  <a:lnTo>
                    <a:pt x="737" y="149"/>
                  </a:lnTo>
                  <a:lnTo>
                    <a:pt x="737" y="145"/>
                  </a:lnTo>
                  <a:lnTo>
                    <a:pt x="737" y="142"/>
                  </a:lnTo>
                  <a:lnTo>
                    <a:pt x="737" y="140"/>
                  </a:lnTo>
                  <a:lnTo>
                    <a:pt x="737" y="136"/>
                  </a:lnTo>
                  <a:lnTo>
                    <a:pt x="737" y="135"/>
                  </a:lnTo>
                  <a:lnTo>
                    <a:pt x="737" y="131"/>
                  </a:lnTo>
                  <a:lnTo>
                    <a:pt x="737" y="129"/>
                  </a:lnTo>
                  <a:lnTo>
                    <a:pt x="737" y="126"/>
                  </a:lnTo>
                  <a:lnTo>
                    <a:pt x="737" y="122"/>
                  </a:lnTo>
                  <a:lnTo>
                    <a:pt x="737" y="121"/>
                  </a:lnTo>
                  <a:lnTo>
                    <a:pt x="735" y="119"/>
                  </a:lnTo>
                  <a:lnTo>
                    <a:pt x="735" y="115"/>
                  </a:lnTo>
                  <a:lnTo>
                    <a:pt x="735" y="114"/>
                  </a:lnTo>
                  <a:lnTo>
                    <a:pt x="733" y="112"/>
                  </a:lnTo>
                  <a:lnTo>
                    <a:pt x="733" y="108"/>
                  </a:lnTo>
                  <a:lnTo>
                    <a:pt x="731" y="107"/>
                  </a:lnTo>
                  <a:lnTo>
                    <a:pt x="731" y="103"/>
                  </a:lnTo>
                  <a:lnTo>
                    <a:pt x="730" y="101"/>
                  </a:lnTo>
                  <a:lnTo>
                    <a:pt x="730" y="98"/>
                  </a:lnTo>
                  <a:lnTo>
                    <a:pt x="728" y="96"/>
                  </a:lnTo>
                  <a:lnTo>
                    <a:pt x="728" y="94"/>
                  </a:lnTo>
                  <a:lnTo>
                    <a:pt x="726" y="93"/>
                  </a:lnTo>
                  <a:lnTo>
                    <a:pt x="724" y="89"/>
                  </a:lnTo>
                  <a:lnTo>
                    <a:pt x="723" y="87"/>
                  </a:lnTo>
                  <a:lnTo>
                    <a:pt x="721" y="86"/>
                  </a:lnTo>
                  <a:lnTo>
                    <a:pt x="721" y="84"/>
                  </a:lnTo>
                  <a:lnTo>
                    <a:pt x="719" y="82"/>
                  </a:lnTo>
                  <a:lnTo>
                    <a:pt x="717" y="80"/>
                  </a:lnTo>
                  <a:lnTo>
                    <a:pt x="716" y="79"/>
                  </a:lnTo>
                  <a:lnTo>
                    <a:pt x="716" y="77"/>
                  </a:lnTo>
                  <a:lnTo>
                    <a:pt x="712" y="75"/>
                  </a:lnTo>
                  <a:lnTo>
                    <a:pt x="710" y="73"/>
                  </a:lnTo>
                  <a:lnTo>
                    <a:pt x="709" y="70"/>
                  </a:lnTo>
                  <a:lnTo>
                    <a:pt x="707" y="70"/>
                  </a:lnTo>
                  <a:lnTo>
                    <a:pt x="705" y="68"/>
                  </a:lnTo>
                  <a:lnTo>
                    <a:pt x="703" y="66"/>
                  </a:lnTo>
                  <a:lnTo>
                    <a:pt x="702" y="65"/>
                  </a:lnTo>
                  <a:lnTo>
                    <a:pt x="700" y="63"/>
                  </a:lnTo>
                  <a:lnTo>
                    <a:pt x="698" y="61"/>
                  </a:lnTo>
                  <a:lnTo>
                    <a:pt x="696" y="61"/>
                  </a:lnTo>
                  <a:lnTo>
                    <a:pt x="693" y="59"/>
                  </a:lnTo>
                  <a:lnTo>
                    <a:pt x="691" y="58"/>
                  </a:lnTo>
                  <a:lnTo>
                    <a:pt x="689" y="58"/>
                  </a:lnTo>
                  <a:lnTo>
                    <a:pt x="688" y="56"/>
                  </a:lnTo>
                  <a:lnTo>
                    <a:pt x="684" y="56"/>
                  </a:lnTo>
                  <a:lnTo>
                    <a:pt x="682" y="54"/>
                  </a:lnTo>
                  <a:lnTo>
                    <a:pt x="681" y="54"/>
                  </a:lnTo>
                  <a:lnTo>
                    <a:pt x="677" y="52"/>
                  </a:lnTo>
                  <a:lnTo>
                    <a:pt x="675" y="52"/>
                  </a:lnTo>
                  <a:lnTo>
                    <a:pt x="674" y="51"/>
                  </a:lnTo>
                  <a:lnTo>
                    <a:pt x="670" y="51"/>
                  </a:lnTo>
                  <a:lnTo>
                    <a:pt x="668" y="51"/>
                  </a:lnTo>
                  <a:lnTo>
                    <a:pt x="665" y="49"/>
                  </a:lnTo>
                  <a:lnTo>
                    <a:pt x="663" y="49"/>
                  </a:lnTo>
                  <a:lnTo>
                    <a:pt x="660" y="49"/>
                  </a:lnTo>
                  <a:lnTo>
                    <a:pt x="658" y="49"/>
                  </a:lnTo>
                  <a:lnTo>
                    <a:pt x="654" y="49"/>
                  </a:lnTo>
                  <a:lnTo>
                    <a:pt x="653" y="49"/>
                  </a:lnTo>
                  <a:lnTo>
                    <a:pt x="649" y="49"/>
                  </a:lnTo>
                  <a:lnTo>
                    <a:pt x="647" y="49"/>
                  </a:lnTo>
                  <a:lnTo>
                    <a:pt x="644" y="49"/>
                  </a:lnTo>
                  <a:lnTo>
                    <a:pt x="642" y="51"/>
                  </a:lnTo>
                  <a:lnTo>
                    <a:pt x="640" y="51"/>
                  </a:lnTo>
                  <a:lnTo>
                    <a:pt x="637" y="51"/>
                  </a:lnTo>
                  <a:lnTo>
                    <a:pt x="637" y="51"/>
                  </a:lnTo>
                  <a:lnTo>
                    <a:pt x="637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635" y="51"/>
                  </a:lnTo>
                  <a:lnTo>
                    <a:pt x="584" y="54"/>
                  </a:lnTo>
                  <a:lnTo>
                    <a:pt x="581" y="54"/>
                  </a:lnTo>
                  <a:lnTo>
                    <a:pt x="579" y="56"/>
                  </a:lnTo>
                  <a:lnTo>
                    <a:pt x="576" y="56"/>
                  </a:lnTo>
                  <a:lnTo>
                    <a:pt x="574" y="56"/>
                  </a:lnTo>
                  <a:lnTo>
                    <a:pt x="570" y="58"/>
                  </a:lnTo>
                  <a:lnTo>
                    <a:pt x="567" y="58"/>
                  </a:lnTo>
                  <a:lnTo>
                    <a:pt x="565" y="58"/>
                  </a:lnTo>
                  <a:lnTo>
                    <a:pt x="562" y="59"/>
                  </a:lnTo>
                  <a:lnTo>
                    <a:pt x="560" y="59"/>
                  </a:lnTo>
                  <a:lnTo>
                    <a:pt x="556" y="59"/>
                  </a:lnTo>
                  <a:lnTo>
                    <a:pt x="553" y="59"/>
                  </a:lnTo>
                  <a:lnTo>
                    <a:pt x="551" y="59"/>
                  </a:lnTo>
                  <a:lnTo>
                    <a:pt x="549" y="59"/>
                  </a:lnTo>
                  <a:lnTo>
                    <a:pt x="546" y="59"/>
                  </a:lnTo>
                  <a:lnTo>
                    <a:pt x="544" y="61"/>
                  </a:lnTo>
                  <a:lnTo>
                    <a:pt x="541" y="61"/>
                  </a:lnTo>
                  <a:lnTo>
                    <a:pt x="537" y="61"/>
                  </a:lnTo>
                  <a:lnTo>
                    <a:pt x="535" y="61"/>
                  </a:lnTo>
                  <a:lnTo>
                    <a:pt x="532" y="61"/>
                  </a:lnTo>
                  <a:lnTo>
                    <a:pt x="530" y="61"/>
                  </a:lnTo>
                  <a:lnTo>
                    <a:pt x="527" y="61"/>
                  </a:lnTo>
                  <a:lnTo>
                    <a:pt x="525" y="61"/>
                  </a:lnTo>
                  <a:lnTo>
                    <a:pt x="521" y="61"/>
                  </a:lnTo>
                  <a:lnTo>
                    <a:pt x="520" y="61"/>
                  </a:lnTo>
                  <a:lnTo>
                    <a:pt x="516" y="61"/>
                  </a:lnTo>
                  <a:lnTo>
                    <a:pt x="514" y="61"/>
                  </a:lnTo>
                  <a:lnTo>
                    <a:pt x="511" y="61"/>
                  </a:lnTo>
                  <a:lnTo>
                    <a:pt x="507" y="61"/>
                  </a:lnTo>
                  <a:lnTo>
                    <a:pt x="506" y="61"/>
                  </a:lnTo>
                  <a:lnTo>
                    <a:pt x="502" y="61"/>
                  </a:lnTo>
                  <a:lnTo>
                    <a:pt x="500" y="61"/>
                  </a:lnTo>
                  <a:lnTo>
                    <a:pt x="499" y="61"/>
                  </a:lnTo>
                  <a:lnTo>
                    <a:pt x="495" y="61"/>
                  </a:lnTo>
                  <a:lnTo>
                    <a:pt x="492" y="59"/>
                  </a:lnTo>
                  <a:lnTo>
                    <a:pt x="490" y="59"/>
                  </a:lnTo>
                  <a:lnTo>
                    <a:pt x="486" y="59"/>
                  </a:lnTo>
                  <a:lnTo>
                    <a:pt x="483" y="59"/>
                  </a:lnTo>
                  <a:lnTo>
                    <a:pt x="481" y="59"/>
                  </a:lnTo>
                  <a:lnTo>
                    <a:pt x="478" y="59"/>
                  </a:lnTo>
                  <a:lnTo>
                    <a:pt x="476" y="59"/>
                  </a:lnTo>
                  <a:lnTo>
                    <a:pt x="472" y="59"/>
                  </a:lnTo>
                  <a:lnTo>
                    <a:pt x="469" y="59"/>
                  </a:lnTo>
                  <a:lnTo>
                    <a:pt x="467" y="59"/>
                  </a:lnTo>
                  <a:lnTo>
                    <a:pt x="464" y="59"/>
                  </a:lnTo>
                  <a:lnTo>
                    <a:pt x="460" y="59"/>
                  </a:lnTo>
                  <a:lnTo>
                    <a:pt x="458" y="59"/>
                  </a:lnTo>
                  <a:lnTo>
                    <a:pt x="455" y="59"/>
                  </a:lnTo>
                  <a:lnTo>
                    <a:pt x="453" y="59"/>
                  </a:lnTo>
                  <a:lnTo>
                    <a:pt x="450" y="59"/>
                  </a:lnTo>
                  <a:lnTo>
                    <a:pt x="446" y="59"/>
                  </a:lnTo>
                  <a:lnTo>
                    <a:pt x="444" y="58"/>
                  </a:lnTo>
                  <a:lnTo>
                    <a:pt x="441" y="58"/>
                  </a:lnTo>
                  <a:lnTo>
                    <a:pt x="437" y="58"/>
                  </a:lnTo>
                  <a:lnTo>
                    <a:pt x="436" y="58"/>
                  </a:lnTo>
                  <a:lnTo>
                    <a:pt x="432" y="58"/>
                  </a:lnTo>
                  <a:lnTo>
                    <a:pt x="429" y="58"/>
                  </a:lnTo>
                  <a:lnTo>
                    <a:pt x="427" y="58"/>
                  </a:lnTo>
                  <a:lnTo>
                    <a:pt x="423" y="58"/>
                  </a:lnTo>
                  <a:lnTo>
                    <a:pt x="420" y="58"/>
                  </a:lnTo>
                  <a:lnTo>
                    <a:pt x="418" y="59"/>
                  </a:lnTo>
                  <a:lnTo>
                    <a:pt x="415" y="59"/>
                  </a:lnTo>
                  <a:lnTo>
                    <a:pt x="411" y="59"/>
                  </a:lnTo>
                  <a:lnTo>
                    <a:pt x="408" y="59"/>
                  </a:lnTo>
                  <a:lnTo>
                    <a:pt x="406" y="59"/>
                  </a:lnTo>
                  <a:lnTo>
                    <a:pt x="402" y="59"/>
                  </a:lnTo>
                  <a:lnTo>
                    <a:pt x="399" y="58"/>
                  </a:lnTo>
                  <a:lnTo>
                    <a:pt x="395" y="58"/>
                  </a:lnTo>
                  <a:lnTo>
                    <a:pt x="392" y="58"/>
                  </a:lnTo>
                  <a:lnTo>
                    <a:pt x="388" y="56"/>
                  </a:lnTo>
                  <a:lnTo>
                    <a:pt x="383" y="56"/>
                  </a:lnTo>
                  <a:lnTo>
                    <a:pt x="381" y="56"/>
                  </a:lnTo>
                  <a:lnTo>
                    <a:pt x="378" y="56"/>
                  </a:lnTo>
                  <a:lnTo>
                    <a:pt x="374" y="56"/>
                  </a:lnTo>
                  <a:lnTo>
                    <a:pt x="371" y="56"/>
                  </a:lnTo>
                  <a:lnTo>
                    <a:pt x="367" y="56"/>
                  </a:lnTo>
                  <a:lnTo>
                    <a:pt x="364" y="56"/>
                  </a:lnTo>
                  <a:lnTo>
                    <a:pt x="360" y="56"/>
                  </a:lnTo>
                  <a:lnTo>
                    <a:pt x="357" y="56"/>
                  </a:lnTo>
                  <a:lnTo>
                    <a:pt x="353" y="56"/>
                  </a:lnTo>
                  <a:lnTo>
                    <a:pt x="352" y="56"/>
                  </a:lnTo>
                  <a:lnTo>
                    <a:pt x="346" y="56"/>
                  </a:lnTo>
                  <a:lnTo>
                    <a:pt x="345" y="56"/>
                  </a:lnTo>
                  <a:lnTo>
                    <a:pt x="339" y="56"/>
                  </a:lnTo>
                  <a:lnTo>
                    <a:pt x="338" y="56"/>
                  </a:lnTo>
                  <a:lnTo>
                    <a:pt x="334" y="56"/>
                  </a:lnTo>
                  <a:lnTo>
                    <a:pt x="331" y="56"/>
                  </a:lnTo>
                  <a:lnTo>
                    <a:pt x="327" y="58"/>
                  </a:lnTo>
                  <a:lnTo>
                    <a:pt x="324" y="58"/>
                  </a:lnTo>
                  <a:lnTo>
                    <a:pt x="320" y="58"/>
                  </a:lnTo>
                  <a:lnTo>
                    <a:pt x="318" y="58"/>
                  </a:lnTo>
                  <a:lnTo>
                    <a:pt x="315" y="58"/>
                  </a:lnTo>
                  <a:lnTo>
                    <a:pt x="311" y="58"/>
                  </a:lnTo>
                  <a:lnTo>
                    <a:pt x="308" y="59"/>
                  </a:lnTo>
                  <a:lnTo>
                    <a:pt x="304" y="59"/>
                  </a:lnTo>
                  <a:lnTo>
                    <a:pt x="301" y="59"/>
                  </a:lnTo>
                  <a:lnTo>
                    <a:pt x="299" y="59"/>
                  </a:lnTo>
                  <a:lnTo>
                    <a:pt x="296" y="59"/>
                  </a:lnTo>
                  <a:lnTo>
                    <a:pt x="292" y="59"/>
                  </a:lnTo>
                  <a:lnTo>
                    <a:pt x="289" y="59"/>
                  </a:lnTo>
                  <a:lnTo>
                    <a:pt x="285" y="59"/>
                  </a:lnTo>
                  <a:lnTo>
                    <a:pt x="282" y="59"/>
                  </a:lnTo>
                  <a:lnTo>
                    <a:pt x="280" y="61"/>
                  </a:lnTo>
                  <a:lnTo>
                    <a:pt x="276" y="61"/>
                  </a:lnTo>
                  <a:lnTo>
                    <a:pt x="273" y="61"/>
                  </a:lnTo>
                  <a:lnTo>
                    <a:pt x="269" y="61"/>
                  </a:lnTo>
                  <a:lnTo>
                    <a:pt x="266" y="61"/>
                  </a:lnTo>
                  <a:lnTo>
                    <a:pt x="262" y="61"/>
                  </a:lnTo>
                  <a:lnTo>
                    <a:pt x="261" y="61"/>
                  </a:lnTo>
                  <a:lnTo>
                    <a:pt x="257" y="61"/>
                  </a:lnTo>
                  <a:lnTo>
                    <a:pt x="254" y="61"/>
                  </a:lnTo>
                  <a:lnTo>
                    <a:pt x="250" y="61"/>
                  </a:lnTo>
                  <a:lnTo>
                    <a:pt x="248" y="61"/>
                  </a:lnTo>
                  <a:lnTo>
                    <a:pt x="245" y="61"/>
                  </a:lnTo>
                  <a:lnTo>
                    <a:pt x="241" y="59"/>
                  </a:lnTo>
                  <a:lnTo>
                    <a:pt x="238" y="59"/>
                  </a:lnTo>
                  <a:lnTo>
                    <a:pt x="234" y="59"/>
                  </a:lnTo>
                  <a:lnTo>
                    <a:pt x="231" y="59"/>
                  </a:lnTo>
                  <a:lnTo>
                    <a:pt x="229" y="59"/>
                  </a:lnTo>
                  <a:lnTo>
                    <a:pt x="226" y="58"/>
                  </a:lnTo>
                  <a:lnTo>
                    <a:pt x="222" y="58"/>
                  </a:lnTo>
                  <a:lnTo>
                    <a:pt x="219" y="58"/>
                  </a:lnTo>
                  <a:lnTo>
                    <a:pt x="215" y="56"/>
                  </a:lnTo>
                  <a:lnTo>
                    <a:pt x="213" y="56"/>
                  </a:lnTo>
                  <a:lnTo>
                    <a:pt x="210" y="54"/>
                  </a:lnTo>
                  <a:lnTo>
                    <a:pt x="206" y="54"/>
                  </a:lnTo>
                  <a:lnTo>
                    <a:pt x="203" y="52"/>
                  </a:lnTo>
                  <a:lnTo>
                    <a:pt x="199" y="52"/>
                  </a:lnTo>
                  <a:lnTo>
                    <a:pt x="198" y="51"/>
                  </a:lnTo>
                  <a:lnTo>
                    <a:pt x="196" y="49"/>
                  </a:lnTo>
                  <a:lnTo>
                    <a:pt x="194" y="45"/>
                  </a:lnTo>
                  <a:lnTo>
                    <a:pt x="192" y="44"/>
                  </a:lnTo>
                  <a:lnTo>
                    <a:pt x="191" y="42"/>
                  </a:lnTo>
                  <a:lnTo>
                    <a:pt x="191" y="38"/>
                  </a:lnTo>
                  <a:lnTo>
                    <a:pt x="189" y="37"/>
                  </a:lnTo>
                  <a:lnTo>
                    <a:pt x="189" y="35"/>
                  </a:lnTo>
                  <a:lnTo>
                    <a:pt x="187" y="33"/>
                  </a:lnTo>
                  <a:lnTo>
                    <a:pt x="185" y="33"/>
                  </a:lnTo>
                  <a:lnTo>
                    <a:pt x="185" y="31"/>
                  </a:lnTo>
                  <a:lnTo>
                    <a:pt x="184" y="30"/>
                  </a:lnTo>
                  <a:lnTo>
                    <a:pt x="182" y="28"/>
                  </a:lnTo>
                  <a:lnTo>
                    <a:pt x="180" y="26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1" y="23"/>
                  </a:lnTo>
                  <a:lnTo>
                    <a:pt x="170" y="23"/>
                  </a:lnTo>
                  <a:lnTo>
                    <a:pt x="168" y="23"/>
                  </a:lnTo>
                  <a:lnTo>
                    <a:pt x="166" y="23"/>
                  </a:lnTo>
                  <a:lnTo>
                    <a:pt x="166" y="23"/>
                  </a:lnTo>
                  <a:lnTo>
                    <a:pt x="163" y="23"/>
                  </a:lnTo>
                  <a:lnTo>
                    <a:pt x="161" y="23"/>
                  </a:lnTo>
                  <a:lnTo>
                    <a:pt x="159" y="23"/>
                  </a:lnTo>
                  <a:lnTo>
                    <a:pt x="156" y="23"/>
                  </a:lnTo>
                  <a:lnTo>
                    <a:pt x="154" y="23"/>
                  </a:lnTo>
                  <a:lnTo>
                    <a:pt x="152" y="24"/>
                  </a:lnTo>
                  <a:lnTo>
                    <a:pt x="149" y="24"/>
                  </a:lnTo>
                  <a:lnTo>
                    <a:pt x="145" y="26"/>
                  </a:lnTo>
                  <a:lnTo>
                    <a:pt x="143" y="24"/>
                  </a:lnTo>
                  <a:lnTo>
                    <a:pt x="143" y="23"/>
                  </a:lnTo>
                  <a:lnTo>
                    <a:pt x="142" y="21"/>
                  </a:lnTo>
                  <a:lnTo>
                    <a:pt x="140" y="19"/>
                  </a:lnTo>
                  <a:lnTo>
                    <a:pt x="138" y="17"/>
                  </a:lnTo>
                  <a:lnTo>
                    <a:pt x="136" y="17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33" y="14"/>
                  </a:lnTo>
                  <a:lnTo>
                    <a:pt x="131" y="14"/>
                  </a:lnTo>
                  <a:lnTo>
                    <a:pt x="129" y="12"/>
                  </a:lnTo>
                  <a:lnTo>
                    <a:pt x="127" y="12"/>
                  </a:lnTo>
                  <a:lnTo>
                    <a:pt x="126" y="12"/>
                  </a:lnTo>
                  <a:lnTo>
                    <a:pt x="124" y="10"/>
                  </a:lnTo>
                  <a:lnTo>
                    <a:pt x="122" y="10"/>
                  </a:lnTo>
                  <a:lnTo>
                    <a:pt x="120" y="10"/>
                  </a:lnTo>
                  <a:lnTo>
                    <a:pt x="119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3" y="9"/>
                  </a:lnTo>
                  <a:lnTo>
                    <a:pt x="112" y="7"/>
                  </a:lnTo>
                  <a:lnTo>
                    <a:pt x="110" y="7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99" y="7"/>
                  </a:lnTo>
                  <a:lnTo>
                    <a:pt x="98" y="7"/>
                  </a:lnTo>
                  <a:lnTo>
                    <a:pt x="96" y="7"/>
                  </a:lnTo>
                  <a:lnTo>
                    <a:pt x="94" y="7"/>
                  </a:lnTo>
                  <a:lnTo>
                    <a:pt x="92" y="7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3" y="7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7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5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5" y="45"/>
                  </a:lnTo>
                  <a:lnTo>
                    <a:pt x="19" y="45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9" y="51"/>
                  </a:lnTo>
                  <a:lnTo>
                    <a:pt x="31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6" y="52"/>
                  </a:lnTo>
                  <a:lnTo>
                    <a:pt x="38" y="54"/>
                  </a:lnTo>
                  <a:lnTo>
                    <a:pt x="42" y="54"/>
                  </a:lnTo>
                  <a:lnTo>
                    <a:pt x="43" y="54"/>
                  </a:lnTo>
                  <a:lnTo>
                    <a:pt x="43" y="56"/>
                  </a:lnTo>
                  <a:lnTo>
                    <a:pt x="43" y="58"/>
                  </a:lnTo>
                  <a:lnTo>
                    <a:pt x="43" y="61"/>
                  </a:lnTo>
                  <a:lnTo>
                    <a:pt x="43" y="63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2" y="70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40" y="77"/>
                  </a:lnTo>
                  <a:lnTo>
                    <a:pt x="38" y="80"/>
                  </a:lnTo>
                  <a:lnTo>
                    <a:pt x="36" y="82"/>
                  </a:lnTo>
                  <a:lnTo>
                    <a:pt x="35" y="86"/>
                  </a:lnTo>
                  <a:lnTo>
                    <a:pt x="35" y="87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29" y="96"/>
                  </a:lnTo>
                  <a:lnTo>
                    <a:pt x="26" y="98"/>
                  </a:lnTo>
                  <a:lnTo>
                    <a:pt x="24" y="101"/>
                  </a:lnTo>
                  <a:lnTo>
                    <a:pt x="22" y="103"/>
                  </a:lnTo>
                  <a:lnTo>
                    <a:pt x="21" y="105"/>
                  </a:lnTo>
                  <a:lnTo>
                    <a:pt x="19" y="108"/>
                  </a:lnTo>
                  <a:lnTo>
                    <a:pt x="17" y="110"/>
                  </a:lnTo>
                  <a:lnTo>
                    <a:pt x="15" y="114"/>
                  </a:lnTo>
                  <a:lnTo>
                    <a:pt x="14" y="115"/>
                  </a:lnTo>
                  <a:lnTo>
                    <a:pt x="12" y="119"/>
                  </a:lnTo>
                  <a:lnTo>
                    <a:pt x="10" y="121"/>
                  </a:lnTo>
                  <a:lnTo>
                    <a:pt x="7" y="124"/>
                  </a:lnTo>
                  <a:lnTo>
                    <a:pt x="7" y="126"/>
                  </a:lnTo>
                  <a:lnTo>
                    <a:pt x="5" y="129"/>
                  </a:lnTo>
                  <a:lnTo>
                    <a:pt x="3" y="133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1" y="140"/>
                  </a:lnTo>
                  <a:lnTo>
                    <a:pt x="3" y="143"/>
                  </a:lnTo>
                  <a:lnTo>
                    <a:pt x="3" y="145"/>
                  </a:lnTo>
                  <a:lnTo>
                    <a:pt x="3" y="149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7" y="156"/>
                  </a:lnTo>
                  <a:lnTo>
                    <a:pt x="7" y="157"/>
                  </a:lnTo>
                  <a:lnTo>
                    <a:pt x="7" y="159"/>
                  </a:lnTo>
                  <a:lnTo>
                    <a:pt x="8" y="161"/>
                  </a:lnTo>
                  <a:lnTo>
                    <a:pt x="12" y="163"/>
                  </a:lnTo>
                  <a:lnTo>
                    <a:pt x="14" y="164"/>
                  </a:lnTo>
                  <a:lnTo>
                    <a:pt x="15" y="166"/>
                  </a:lnTo>
                  <a:lnTo>
                    <a:pt x="17" y="166"/>
                  </a:lnTo>
                  <a:lnTo>
                    <a:pt x="19" y="166"/>
                  </a:lnTo>
                  <a:lnTo>
                    <a:pt x="21" y="168"/>
                  </a:lnTo>
                  <a:lnTo>
                    <a:pt x="22" y="168"/>
                  </a:lnTo>
                  <a:lnTo>
                    <a:pt x="22" y="168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9" y="168"/>
                  </a:lnTo>
                  <a:lnTo>
                    <a:pt x="29" y="168"/>
                  </a:lnTo>
                  <a:lnTo>
                    <a:pt x="31" y="168"/>
                  </a:lnTo>
                  <a:lnTo>
                    <a:pt x="35" y="168"/>
                  </a:lnTo>
                  <a:lnTo>
                    <a:pt x="36" y="168"/>
                  </a:lnTo>
                  <a:lnTo>
                    <a:pt x="38" y="168"/>
                  </a:lnTo>
                  <a:lnTo>
                    <a:pt x="40" y="168"/>
                  </a:lnTo>
                  <a:lnTo>
                    <a:pt x="42" y="168"/>
                  </a:lnTo>
                  <a:lnTo>
                    <a:pt x="43" y="166"/>
                  </a:lnTo>
                  <a:lnTo>
                    <a:pt x="47" y="166"/>
                  </a:lnTo>
                  <a:lnTo>
                    <a:pt x="49" y="166"/>
                  </a:lnTo>
                  <a:lnTo>
                    <a:pt x="50" y="166"/>
                  </a:lnTo>
                  <a:lnTo>
                    <a:pt x="52" y="164"/>
                  </a:lnTo>
                  <a:lnTo>
                    <a:pt x="56" y="164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5" y="159"/>
                  </a:lnTo>
                  <a:lnTo>
                    <a:pt x="77" y="159"/>
                  </a:lnTo>
                  <a:lnTo>
                    <a:pt x="78" y="159"/>
                  </a:lnTo>
                  <a:lnTo>
                    <a:pt x="80" y="159"/>
                  </a:lnTo>
                  <a:lnTo>
                    <a:pt x="82" y="159"/>
                  </a:lnTo>
                  <a:lnTo>
                    <a:pt x="85" y="159"/>
                  </a:lnTo>
                  <a:lnTo>
                    <a:pt x="87" y="159"/>
                  </a:lnTo>
                  <a:lnTo>
                    <a:pt x="89" y="159"/>
                  </a:lnTo>
                  <a:lnTo>
                    <a:pt x="91" y="159"/>
                  </a:lnTo>
                  <a:lnTo>
                    <a:pt x="92" y="159"/>
                  </a:lnTo>
                  <a:lnTo>
                    <a:pt x="94" y="159"/>
                  </a:lnTo>
                  <a:lnTo>
                    <a:pt x="96" y="159"/>
                  </a:lnTo>
                  <a:lnTo>
                    <a:pt x="98" y="159"/>
                  </a:lnTo>
                  <a:lnTo>
                    <a:pt x="101" y="159"/>
                  </a:lnTo>
                  <a:lnTo>
                    <a:pt x="101" y="159"/>
                  </a:lnTo>
                  <a:lnTo>
                    <a:pt x="105" y="159"/>
                  </a:lnTo>
                  <a:lnTo>
                    <a:pt x="105" y="161"/>
                  </a:lnTo>
                  <a:lnTo>
                    <a:pt x="106" y="161"/>
                  </a:lnTo>
                  <a:lnTo>
                    <a:pt x="110" y="164"/>
                  </a:lnTo>
                  <a:lnTo>
                    <a:pt x="113" y="166"/>
                  </a:lnTo>
                  <a:lnTo>
                    <a:pt x="115" y="168"/>
                  </a:lnTo>
                  <a:lnTo>
                    <a:pt x="117" y="170"/>
                  </a:lnTo>
                  <a:lnTo>
                    <a:pt x="120" y="171"/>
                  </a:lnTo>
                  <a:lnTo>
                    <a:pt x="122" y="175"/>
                  </a:lnTo>
                  <a:lnTo>
                    <a:pt x="126" y="177"/>
                  </a:lnTo>
                  <a:lnTo>
                    <a:pt x="127" y="178"/>
                  </a:lnTo>
                  <a:lnTo>
                    <a:pt x="129" y="180"/>
                  </a:lnTo>
                  <a:lnTo>
                    <a:pt x="131" y="184"/>
                  </a:lnTo>
                  <a:lnTo>
                    <a:pt x="135" y="185"/>
                  </a:lnTo>
                  <a:lnTo>
                    <a:pt x="136" y="189"/>
                  </a:lnTo>
                  <a:lnTo>
                    <a:pt x="138" y="191"/>
                  </a:lnTo>
                  <a:lnTo>
                    <a:pt x="142" y="192"/>
                  </a:lnTo>
                  <a:lnTo>
                    <a:pt x="143" y="194"/>
                  </a:lnTo>
                  <a:lnTo>
                    <a:pt x="145" y="198"/>
                  </a:lnTo>
                  <a:lnTo>
                    <a:pt x="147" y="199"/>
                  </a:lnTo>
                  <a:lnTo>
                    <a:pt x="149" y="201"/>
                  </a:lnTo>
                  <a:lnTo>
                    <a:pt x="150" y="205"/>
                  </a:lnTo>
                  <a:lnTo>
                    <a:pt x="152" y="206"/>
                  </a:lnTo>
                  <a:lnTo>
                    <a:pt x="154" y="210"/>
                  </a:lnTo>
                  <a:lnTo>
                    <a:pt x="156" y="212"/>
                  </a:lnTo>
                  <a:lnTo>
                    <a:pt x="157" y="213"/>
                  </a:lnTo>
                  <a:lnTo>
                    <a:pt x="159" y="217"/>
                  </a:lnTo>
                  <a:lnTo>
                    <a:pt x="161" y="219"/>
                  </a:lnTo>
                  <a:lnTo>
                    <a:pt x="163" y="220"/>
                  </a:lnTo>
                  <a:lnTo>
                    <a:pt x="164" y="224"/>
                  </a:lnTo>
                  <a:lnTo>
                    <a:pt x="166" y="226"/>
                  </a:lnTo>
                  <a:lnTo>
                    <a:pt x="168" y="229"/>
                  </a:lnTo>
                  <a:lnTo>
                    <a:pt x="168" y="231"/>
                  </a:lnTo>
                  <a:lnTo>
                    <a:pt x="171" y="233"/>
                  </a:lnTo>
                  <a:lnTo>
                    <a:pt x="171" y="236"/>
                  </a:lnTo>
                  <a:lnTo>
                    <a:pt x="173" y="240"/>
                  </a:lnTo>
                  <a:lnTo>
                    <a:pt x="175" y="241"/>
                  </a:lnTo>
                  <a:lnTo>
                    <a:pt x="177" y="243"/>
                  </a:lnTo>
                  <a:lnTo>
                    <a:pt x="177" y="247"/>
                  </a:lnTo>
                  <a:lnTo>
                    <a:pt x="178" y="248"/>
                  </a:lnTo>
                  <a:lnTo>
                    <a:pt x="180" y="252"/>
                  </a:lnTo>
                  <a:lnTo>
                    <a:pt x="182" y="254"/>
                  </a:lnTo>
                  <a:lnTo>
                    <a:pt x="184" y="257"/>
                  </a:lnTo>
                  <a:lnTo>
                    <a:pt x="184" y="259"/>
                  </a:lnTo>
                  <a:lnTo>
                    <a:pt x="185" y="262"/>
                  </a:lnTo>
                  <a:lnTo>
                    <a:pt x="187" y="264"/>
                  </a:lnTo>
                  <a:lnTo>
                    <a:pt x="189" y="268"/>
                  </a:lnTo>
                  <a:lnTo>
                    <a:pt x="189" y="269"/>
                  </a:lnTo>
                  <a:lnTo>
                    <a:pt x="191" y="273"/>
                  </a:lnTo>
                  <a:lnTo>
                    <a:pt x="192" y="276"/>
                  </a:lnTo>
                  <a:lnTo>
                    <a:pt x="194" y="278"/>
                  </a:lnTo>
                  <a:lnTo>
                    <a:pt x="196" y="280"/>
                  </a:lnTo>
                  <a:lnTo>
                    <a:pt x="196" y="283"/>
                  </a:lnTo>
                  <a:lnTo>
                    <a:pt x="198" y="287"/>
                  </a:lnTo>
                  <a:lnTo>
                    <a:pt x="199" y="289"/>
                  </a:lnTo>
                  <a:lnTo>
                    <a:pt x="201" y="292"/>
                  </a:lnTo>
                  <a:lnTo>
                    <a:pt x="201" y="294"/>
                  </a:lnTo>
                  <a:lnTo>
                    <a:pt x="203" y="297"/>
                  </a:lnTo>
                  <a:lnTo>
                    <a:pt x="205" y="301"/>
                  </a:lnTo>
                  <a:lnTo>
                    <a:pt x="206" y="303"/>
                  </a:lnTo>
                  <a:lnTo>
                    <a:pt x="208" y="306"/>
                  </a:lnTo>
                  <a:lnTo>
                    <a:pt x="208" y="310"/>
                  </a:lnTo>
                  <a:lnTo>
                    <a:pt x="210" y="311"/>
                  </a:lnTo>
                  <a:lnTo>
                    <a:pt x="212" y="315"/>
                  </a:lnTo>
                  <a:lnTo>
                    <a:pt x="213" y="318"/>
                  </a:lnTo>
                  <a:lnTo>
                    <a:pt x="215" y="320"/>
                  </a:lnTo>
                  <a:lnTo>
                    <a:pt x="217" y="324"/>
                  </a:lnTo>
                  <a:lnTo>
                    <a:pt x="215" y="324"/>
                  </a:lnTo>
                  <a:lnTo>
                    <a:pt x="213" y="325"/>
                  </a:lnTo>
                  <a:lnTo>
                    <a:pt x="212" y="327"/>
                  </a:lnTo>
                  <a:lnTo>
                    <a:pt x="212" y="331"/>
                  </a:lnTo>
                  <a:lnTo>
                    <a:pt x="212" y="332"/>
                  </a:lnTo>
                  <a:lnTo>
                    <a:pt x="212" y="336"/>
                  </a:lnTo>
                  <a:lnTo>
                    <a:pt x="212" y="336"/>
                  </a:lnTo>
                  <a:lnTo>
                    <a:pt x="213" y="338"/>
                  </a:lnTo>
                  <a:lnTo>
                    <a:pt x="213" y="339"/>
                  </a:lnTo>
                  <a:lnTo>
                    <a:pt x="213" y="341"/>
                  </a:lnTo>
                  <a:lnTo>
                    <a:pt x="215" y="345"/>
                  </a:lnTo>
                  <a:lnTo>
                    <a:pt x="215" y="346"/>
                  </a:lnTo>
                  <a:lnTo>
                    <a:pt x="217" y="350"/>
                  </a:lnTo>
                  <a:lnTo>
                    <a:pt x="219" y="353"/>
                  </a:lnTo>
                  <a:lnTo>
                    <a:pt x="220" y="355"/>
                  </a:lnTo>
                  <a:lnTo>
                    <a:pt x="222" y="359"/>
                  </a:lnTo>
                  <a:lnTo>
                    <a:pt x="224" y="360"/>
                  </a:lnTo>
                  <a:lnTo>
                    <a:pt x="226" y="362"/>
                  </a:lnTo>
                  <a:lnTo>
                    <a:pt x="226" y="362"/>
                  </a:lnTo>
                  <a:lnTo>
                    <a:pt x="224" y="360"/>
                  </a:lnTo>
                  <a:lnTo>
                    <a:pt x="224" y="357"/>
                  </a:lnTo>
                  <a:lnTo>
                    <a:pt x="224" y="355"/>
                  </a:lnTo>
                  <a:lnTo>
                    <a:pt x="222" y="353"/>
                  </a:lnTo>
                  <a:lnTo>
                    <a:pt x="222" y="352"/>
                  </a:lnTo>
                  <a:lnTo>
                    <a:pt x="222" y="350"/>
                  </a:lnTo>
                  <a:lnTo>
                    <a:pt x="222" y="348"/>
                  </a:lnTo>
                  <a:lnTo>
                    <a:pt x="220" y="346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19" y="339"/>
                  </a:lnTo>
                  <a:lnTo>
                    <a:pt x="219" y="338"/>
                  </a:lnTo>
                  <a:lnTo>
                    <a:pt x="219" y="336"/>
                  </a:lnTo>
                  <a:lnTo>
                    <a:pt x="219" y="334"/>
                  </a:lnTo>
                  <a:lnTo>
                    <a:pt x="217" y="332"/>
                  </a:lnTo>
                  <a:lnTo>
                    <a:pt x="217" y="331"/>
                  </a:lnTo>
                  <a:lnTo>
                    <a:pt x="219" y="331"/>
                  </a:lnTo>
                  <a:lnTo>
                    <a:pt x="220" y="331"/>
                  </a:lnTo>
                  <a:lnTo>
                    <a:pt x="222" y="331"/>
                  </a:lnTo>
                  <a:lnTo>
                    <a:pt x="224" y="331"/>
                  </a:lnTo>
                  <a:lnTo>
                    <a:pt x="226" y="331"/>
                  </a:lnTo>
                  <a:lnTo>
                    <a:pt x="227" y="332"/>
                  </a:lnTo>
                  <a:lnTo>
                    <a:pt x="229" y="332"/>
                  </a:lnTo>
                  <a:lnTo>
                    <a:pt x="231" y="334"/>
                  </a:lnTo>
                  <a:lnTo>
                    <a:pt x="231" y="336"/>
                  </a:lnTo>
                  <a:lnTo>
                    <a:pt x="231" y="339"/>
                  </a:lnTo>
                  <a:lnTo>
                    <a:pt x="231" y="341"/>
                  </a:lnTo>
                  <a:lnTo>
                    <a:pt x="233" y="343"/>
                  </a:lnTo>
                  <a:lnTo>
                    <a:pt x="233" y="343"/>
                  </a:lnTo>
                  <a:lnTo>
                    <a:pt x="233" y="346"/>
                  </a:lnTo>
                  <a:lnTo>
                    <a:pt x="233" y="346"/>
                  </a:lnTo>
                  <a:lnTo>
                    <a:pt x="233" y="348"/>
                  </a:lnTo>
                  <a:lnTo>
                    <a:pt x="233" y="350"/>
                  </a:lnTo>
                  <a:lnTo>
                    <a:pt x="234" y="352"/>
                  </a:lnTo>
                  <a:lnTo>
                    <a:pt x="234" y="353"/>
                  </a:lnTo>
                  <a:lnTo>
                    <a:pt x="234" y="355"/>
                  </a:lnTo>
                  <a:lnTo>
                    <a:pt x="234" y="357"/>
                  </a:lnTo>
                  <a:lnTo>
                    <a:pt x="234" y="359"/>
                  </a:lnTo>
                  <a:lnTo>
                    <a:pt x="234" y="359"/>
                  </a:lnTo>
                  <a:lnTo>
                    <a:pt x="236" y="362"/>
                  </a:lnTo>
                  <a:lnTo>
                    <a:pt x="236" y="362"/>
                  </a:lnTo>
                  <a:lnTo>
                    <a:pt x="236" y="364"/>
                  </a:lnTo>
                  <a:lnTo>
                    <a:pt x="236" y="366"/>
                  </a:lnTo>
                  <a:lnTo>
                    <a:pt x="236" y="367"/>
                  </a:lnTo>
                  <a:lnTo>
                    <a:pt x="238" y="369"/>
                  </a:lnTo>
                  <a:lnTo>
                    <a:pt x="238" y="371"/>
                  </a:lnTo>
                  <a:lnTo>
                    <a:pt x="238" y="373"/>
                  </a:lnTo>
                  <a:lnTo>
                    <a:pt x="240" y="374"/>
                  </a:lnTo>
                  <a:lnTo>
                    <a:pt x="240" y="376"/>
                  </a:lnTo>
                  <a:lnTo>
                    <a:pt x="240" y="378"/>
                  </a:lnTo>
                  <a:lnTo>
                    <a:pt x="240" y="380"/>
                  </a:lnTo>
                  <a:lnTo>
                    <a:pt x="240" y="381"/>
                  </a:lnTo>
                  <a:lnTo>
                    <a:pt x="241" y="381"/>
                  </a:lnTo>
                  <a:lnTo>
                    <a:pt x="241" y="385"/>
                  </a:lnTo>
                  <a:lnTo>
                    <a:pt x="241" y="385"/>
                  </a:lnTo>
                  <a:lnTo>
                    <a:pt x="241" y="387"/>
                  </a:lnTo>
                  <a:lnTo>
                    <a:pt x="241" y="388"/>
                  </a:lnTo>
                  <a:lnTo>
                    <a:pt x="243" y="390"/>
                  </a:lnTo>
                  <a:lnTo>
                    <a:pt x="243" y="392"/>
                  </a:lnTo>
                  <a:lnTo>
                    <a:pt x="243" y="394"/>
                  </a:lnTo>
                  <a:lnTo>
                    <a:pt x="243" y="395"/>
                  </a:lnTo>
                  <a:lnTo>
                    <a:pt x="243" y="397"/>
                  </a:lnTo>
                  <a:lnTo>
                    <a:pt x="243" y="399"/>
                  </a:lnTo>
                  <a:lnTo>
                    <a:pt x="245" y="399"/>
                  </a:lnTo>
                  <a:lnTo>
                    <a:pt x="245" y="401"/>
                  </a:lnTo>
                  <a:lnTo>
                    <a:pt x="245" y="402"/>
                  </a:lnTo>
                  <a:lnTo>
                    <a:pt x="245" y="404"/>
                  </a:lnTo>
                  <a:lnTo>
                    <a:pt x="245" y="406"/>
                  </a:lnTo>
                  <a:lnTo>
                    <a:pt x="245" y="408"/>
                  </a:lnTo>
                  <a:lnTo>
                    <a:pt x="245" y="409"/>
                  </a:lnTo>
                  <a:lnTo>
                    <a:pt x="245" y="411"/>
                  </a:lnTo>
                  <a:lnTo>
                    <a:pt x="247" y="413"/>
                  </a:lnTo>
                  <a:lnTo>
                    <a:pt x="247" y="413"/>
                  </a:lnTo>
                  <a:lnTo>
                    <a:pt x="247" y="416"/>
                  </a:lnTo>
                  <a:lnTo>
                    <a:pt x="247" y="416"/>
                  </a:lnTo>
                  <a:lnTo>
                    <a:pt x="247" y="418"/>
                  </a:lnTo>
                  <a:lnTo>
                    <a:pt x="247" y="420"/>
                  </a:lnTo>
                  <a:lnTo>
                    <a:pt x="247" y="422"/>
                  </a:lnTo>
                  <a:lnTo>
                    <a:pt x="247" y="423"/>
                  </a:lnTo>
                  <a:lnTo>
                    <a:pt x="247" y="427"/>
                  </a:lnTo>
                  <a:lnTo>
                    <a:pt x="247" y="430"/>
                  </a:lnTo>
                  <a:lnTo>
                    <a:pt x="247" y="434"/>
                  </a:lnTo>
                  <a:lnTo>
                    <a:pt x="245" y="434"/>
                  </a:lnTo>
                  <a:lnTo>
                    <a:pt x="245" y="436"/>
                  </a:lnTo>
                  <a:lnTo>
                    <a:pt x="243" y="437"/>
                  </a:lnTo>
                  <a:lnTo>
                    <a:pt x="243" y="439"/>
                  </a:lnTo>
                  <a:lnTo>
                    <a:pt x="241" y="441"/>
                  </a:lnTo>
                  <a:lnTo>
                    <a:pt x="241" y="443"/>
                  </a:lnTo>
                  <a:lnTo>
                    <a:pt x="240" y="444"/>
                  </a:lnTo>
                  <a:lnTo>
                    <a:pt x="240" y="446"/>
                  </a:lnTo>
                  <a:lnTo>
                    <a:pt x="238" y="450"/>
                  </a:lnTo>
                  <a:lnTo>
                    <a:pt x="238" y="451"/>
                  </a:lnTo>
                  <a:lnTo>
                    <a:pt x="236" y="451"/>
                  </a:lnTo>
                  <a:lnTo>
                    <a:pt x="236" y="455"/>
                  </a:lnTo>
                  <a:lnTo>
                    <a:pt x="234" y="455"/>
                  </a:lnTo>
                  <a:lnTo>
                    <a:pt x="234" y="457"/>
                  </a:lnTo>
                  <a:lnTo>
                    <a:pt x="234" y="457"/>
                  </a:lnTo>
                  <a:lnTo>
                    <a:pt x="234" y="458"/>
                  </a:lnTo>
                  <a:lnTo>
                    <a:pt x="276" y="460"/>
                  </a:lnTo>
                  <a:lnTo>
                    <a:pt x="278" y="458"/>
                  </a:lnTo>
                  <a:lnTo>
                    <a:pt x="278" y="457"/>
                  </a:lnTo>
                  <a:lnTo>
                    <a:pt x="278" y="455"/>
                  </a:lnTo>
                  <a:lnTo>
                    <a:pt x="278" y="455"/>
                  </a:lnTo>
                  <a:lnTo>
                    <a:pt x="280" y="451"/>
                  </a:lnTo>
                  <a:lnTo>
                    <a:pt x="280" y="450"/>
                  </a:lnTo>
                  <a:lnTo>
                    <a:pt x="280" y="448"/>
                  </a:lnTo>
                  <a:lnTo>
                    <a:pt x="280" y="446"/>
                  </a:lnTo>
                  <a:lnTo>
                    <a:pt x="280" y="443"/>
                  </a:lnTo>
                  <a:lnTo>
                    <a:pt x="282" y="441"/>
                  </a:lnTo>
                  <a:lnTo>
                    <a:pt x="282" y="437"/>
                  </a:lnTo>
                  <a:lnTo>
                    <a:pt x="282" y="436"/>
                  </a:lnTo>
                  <a:lnTo>
                    <a:pt x="282" y="434"/>
                  </a:lnTo>
                  <a:lnTo>
                    <a:pt x="282" y="430"/>
                  </a:lnTo>
                  <a:lnTo>
                    <a:pt x="283" y="429"/>
                  </a:lnTo>
                  <a:lnTo>
                    <a:pt x="283" y="425"/>
                  </a:lnTo>
                  <a:lnTo>
                    <a:pt x="283" y="423"/>
                  </a:lnTo>
                  <a:lnTo>
                    <a:pt x="285" y="420"/>
                  </a:lnTo>
                  <a:lnTo>
                    <a:pt x="285" y="418"/>
                  </a:lnTo>
                  <a:lnTo>
                    <a:pt x="285" y="415"/>
                  </a:lnTo>
                  <a:lnTo>
                    <a:pt x="285" y="413"/>
                  </a:lnTo>
                  <a:lnTo>
                    <a:pt x="287" y="409"/>
                  </a:lnTo>
                  <a:lnTo>
                    <a:pt x="287" y="408"/>
                  </a:lnTo>
                  <a:lnTo>
                    <a:pt x="287" y="406"/>
                  </a:lnTo>
                  <a:lnTo>
                    <a:pt x="287" y="402"/>
                  </a:lnTo>
                  <a:lnTo>
                    <a:pt x="289" y="401"/>
                  </a:lnTo>
                  <a:lnTo>
                    <a:pt x="289" y="399"/>
                  </a:lnTo>
                  <a:lnTo>
                    <a:pt x="289" y="397"/>
                  </a:lnTo>
                  <a:lnTo>
                    <a:pt x="290" y="395"/>
                  </a:lnTo>
                  <a:lnTo>
                    <a:pt x="290" y="394"/>
                  </a:lnTo>
                  <a:lnTo>
                    <a:pt x="290" y="392"/>
                  </a:lnTo>
                  <a:lnTo>
                    <a:pt x="292" y="392"/>
                  </a:lnTo>
                  <a:lnTo>
                    <a:pt x="294" y="392"/>
                  </a:lnTo>
                  <a:lnTo>
                    <a:pt x="296" y="392"/>
                  </a:lnTo>
                  <a:lnTo>
                    <a:pt x="297" y="394"/>
                  </a:lnTo>
                  <a:lnTo>
                    <a:pt x="297" y="395"/>
                  </a:lnTo>
                  <a:lnTo>
                    <a:pt x="299" y="397"/>
                  </a:lnTo>
                  <a:lnTo>
                    <a:pt x="301" y="397"/>
                  </a:lnTo>
                  <a:lnTo>
                    <a:pt x="301" y="399"/>
                  </a:lnTo>
                  <a:lnTo>
                    <a:pt x="303" y="402"/>
                  </a:lnTo>
                  <a:lnTo>
                    <a:pt x="303" y="402"/>
                  </a:lnTo>
                  <a:lnTo>
                    <a:pt x="304" y="406"/>
                  </a:lnTo>
                  <a:lnTo>
                    <a:pt x="304" y="408"/>
                  </a:lnTo>
                  <a:lnTo>
                    <a:pt x="304" y="409"/>
                  </a:lnTo>
                  <a:lnTo>
                    <a:pt x="304" y="411"/>
                  </a:lnTo>
                  <a:lnTo>
                    <a:pt x="306" y="413"/>
                  </a:lnTo>
                  <a:lnTo>
                    <a:pt x="306" y="416"/>
                  </a:lnTo>
                  <a:lnTo>
                    <a:pt x="306" y="418"/>
                  </a:lnTo>
                  <a:lnTo>
                    <a:pt x="306" y="420"/>
                  </a:lnTo>
                  <a:lnTo>
                    <a:pt x="306" y="423"/>
                  </a:lnTo>
                  <a:lnTo>
                    <a:pt x="306" y="425"/>
                  </a:lnTo>
                  <a:lnTo>
                    <a:pt x="306" y="427"/>
                  </a:lnTo>
                  <a:lnTo>
                    <a:pt x="304" y="430"/>
                  </a:lnTo>
                  <a:lnTo>
                    <a:pt x="304" y="432"/>
                  </a:lnTo>
                  <a:lnTo>
                    <a:pt x="304" y="434"/>
                  </a:lnTo>
                  <a:lnTo>
                    <a:pt x="304" y="437"/>
                  </a:lnTo>
                  <a:lnTo>
                    <a:pt x="304" y="439"/>
                  </a:lnTo>
                  <a:lnTo>
                    <a:pt x="304" y="441"/>
                  </a:lnTo>
                  <a:lnTo>
                    <a:pt x="304" y="443"/>
                  </a:lnTo>
                  <a:lnTo>
                    <a:pt x="304" y="444"/>
                  </a:lnTo>
                  <a:lnTo>
                    <a:pt x="303" y="446"/>
                  </a:lnTo>
                  <a:lnTo>
                    <a:pt x="303" y="448"/>
                  </a:lnTo>
                  <a:lnTo>
                    <a:pt x="303" y="450"/>
                  </a:lnTo>
                  <a:lnTo>
                    <a:pt x="303" y="451"/>
                  </a:lnTo>
                  <a:lnTo>
                    <a:pt x="341" y="450"/>
                  </a:lnTo>
                  <a:lnTo>
                    <a:pt x="341" y="446"/>
                  </a:lnTo>
                  <a:lnTo>
                    <a:pt x="343" y="444"/>
                  </a:lnTo>
                  <a:lnTo>
                    <a:pt x="343" y="441"/>
                  </a:lnTo>
                  <a:lnTo>
                    <a:pt x="343" y="437"/>
                  </a:lnTo>
                  <a:lnTo>
                    <a:pt x="343" y="436"/>
                  </a:lnTo>
                  <a:lnTo>
                    <a:pt x="343" y="432"/>
                  </a:lnTo>
                  <a:lnTo>
                    <a:pt x="343" y="430"/>
                  </a:lnTo>
                  <a:lnTo>
                    <a:pt x="345" y="427"/>
                  </a:lnTo>
                  <a:lnTo>
                    <a:pt x="345" y="423"/>
                  </a:lnTo>
                  <a:lnTo>
                    <a:pt x="345" y="422"/>
                  </a:lnTo>
                  <a:lnTo>
                    <a:pt x="345" y="418"/>
                  </a:lnTo>
                  <a:lnTo>
                    <a:pt x="345" y="416"/>
                  </a:lnTo>
                  <a:lnTo>
                    <a:pt x="346" y="413"/>
                  </a:lnTo>
                  <a:lnTo>
                    <a:pt x="346" y="409"/>
                  </a:lnTo>
                  <a:lnTo>
                    <a:pt x="346" y="408"/>
                  </a:lnTo>
                  <a:lnTo>
                    <a:pt x="346" y="404"/>
                  </a:lnTo>
                  <a:lnTo>
                    <a:pt x="348" y="402"/>
                  </a:lnTo>
                  <a:lnTo>
                    <a:pt x="348" y="399"/>
                  </a:lnTo>
                  <a:lnTo>
                    <a:pt x="348" y="397"/>
                  </a:lnTo>
                  <a:lnTo>
                    <a:pt x="348" y="394"/>
                  </a:lnTo>
                  <a:lnTo>
                    <a:pt x="348" y="392"/>
                  </a:lnTo>
                  <a:lnTo>
                    <a:pt x="350" y="388"/>
                  </a:lnTo>
                  <a:lnTo>
                    <a:pt x="350" y="387"/>
                  </a:lnTo>
                  <a:lnTo>
                    <a:pt x="352" y="383"/>
                  </a:lnTo>
                  <a:lnTo>
                    <a:pt x="352" y="381"/>
                  </a:lnTo>
                  <a:lnTo>
                    <a:pt x="352" y="378"/>
                  </a:lnTo>
                  <a:lnTo>
                    <a:pt x="353" y="376"/>
                  </a:lnTo>
                  <a:lnTo>
                    <a:pt x="353" y="374"/>
                  </a:lnTo>
                  <a:lnTo>
                    <a:pt x="353" y="371"/>
                  </a:lnTo>
                  <a:lnTo>
                    <a:pt x="355" y="369"/>
                  </a:lnTo>
                  <a:lnTo>
                    <a:pt x="357" y="367"/>
                  </a:lnTo>
                  <a:lnTo>
                    <a:pt x="357" y="366"/>
                  </a:lnTo>
                  <a:lnTo>
                    <a:pt x="359" y="364"/>
                  </a:lnTo>
                  <a:lnTo>
                    <a:pt x="359" y="362"/>
                  </a:lnTo>
                  <a:lnTo>
                    <a:pt x="360" y="359"/>
                  </a:lnTo>
                  <a:lnTo>
                    <a:pt x="360" y="357"/>
                  </a:lnTo>
                  <a:lnTo>
                    <a:pt x="362" y="355"/>
                  </a:lnTo>
                  <a:lnTo>
                    <a:pt x="364" y="353"/>
                  </a:lnTo>
                  <a:lnTo>
                    <a:pt x="364" y="352"/>
                  </a:lnTo>
                  <a:lnTo>
                    <a:pt x="366" y="352"/>
                  </a:lnTo>
                  <a:lnTo>
                    <a:pt x="367" y="348"/>
                  </a:lnTo>
                  <a:lnTo>
                    <a:pt x="369" y="346"/>
                  </a:lnTo>
                  <a:lnTo>
                    <a:pt x="371" y="346"/>
                  </a:lnTo>
                  <a:lnTo>
                    <a:pt x="373" y="345"/>
                  </a:lnTo>
                  <a:lnTo>
                    <a:pt x="373" y="343"/>
                  </a:lnTo>
                  <a:lnTo>
                    <a:pt x="374" y="343"/>
                  </a:lnTo>
                  <a:lnTo>
                    <a:pt x="378" y="341"/>
                  </a:lnTo>
                  <a:lnTo>
                    <a:pt x="380" y="341"/>
                  </a:lnTo>
                  <a:lnTo>
                    <a:pt x="381" y="339"/>
                  </a:lnTo>
                  <a:lnTo>
                    <a:pt x="383" y="339"/>
                  </a:lnTo>
                  <a:lnTo>
                    <a:pt x="385" y="338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392" y="336"/>
                  </a:lnTo>
                  <a:lnTo>
                    <a:pt x="394" y="336"/>
                  </a:lnTo>
                  <a:lnTo>
                    <a:pt x="397" y="336"/>
                  </a:lnTo>
                  <a:lnTo>
                    <a:pt x="399" y="336"/>
                  </a:lnTo>
                  <a:lnTo>
                    <a:pt x="402" y="336"/>
                  </a:lnTo>
                  <a:lnTo>
                    <a:pt x="406" y="336"/>
                  </a:lnTo>
                  <a:lnTo>
                    <a:pt x="408" y="336"/>
                  </a:lnTo>
                  <a:lnTo>
                    <a:pt x="411" y="336"/>
                  </a:lnTo>
                  <a:lnTo>
                    <a:pt x="415" y="338"/>
                  </a:lnTo>
                  <a:lnTo>
                    <a:pt x="418" y="338"/>
                  </a:lnTo>
                  <a:lnTo>
                    <a:pt x="422" y="339"/>
                  </a:lnTo>
                  <a:lnTo>
                    <a:pt x="423" y="339"/>
                  </a:lnTo>
                  <a:lnTo>
                    <a:pt x="425" y="339"/>
                  </a:lnTo>
                  <a:lnTo>
                    <a:pt x="427" y="338"/>
                  </a:lnTo>
                  <a:lnTo>
                    <a:pt x="429" y="338"/>
                  </a:lnTo>
                  <a:lnTo>
                    <a:pt x="430" y="338"/>
                  </a:lnTo>
                  <a:lnTo>
                    <a:pt x="432" y="338"/>
                  </a:lnTo>
                  <a:lnTo>
                    <a:pt x="434" y="338"/>
                  </a:lnTo>
                  <a:lnTo>
                    <a:pt x="436" y="338"/>
                  </a:lnTo>
                  <a:lnTo>
                    <a:pt x="437" y="338"/>
                  </a:lnTo>
                  <a:lnTo>
                    <a:pt x="439" y="338"/>
                  </a:lnTo>
                  <a:lnTo>
                    <a:pt x="443" y="338"/>
                  </a:lnTo>
                  <a:lnTo>
                    <a:pt x="444" y="338"/>
                  </a:lnTo>
                  <a:lnTo>
                    <a:pt x="446" y="338"/>
                  </a:lnTo>
                  <a:lnTo>
                    <a:pt x="448" y="338"/>
                  </a:lnTo>
                  <a:lnTo>
                    <a:pt x="450" y="338"/>
                  </a:lnTo>
                  <a:lnTo>
                    <a:pt x="451" y="338"/>
                  </a:lnTo>
                  <a:lnTo>
                    <a:pt x="453" y="338"/>
                  </a:lnTo>
                  <a:lnTo>
                    <a:pt x="455" y="338"/>
                  </a:lnTo>
                  <a:lnTo>
                    <a:pt x="457" y="338"/>
                  </a:lnTo>
                  <a:lnTo>
                    <a:pt x="458" y="338"/>
                  </a:lnTo>
                  <a:lnTo>
                    <a:pt x="460" y="336"/>
                  </a:lnTo>
                  <a:lnTo>
                    <a:pt x="462" y="336"/>
                  </a:lnTo>
                  <a:lnTo>
                    <a:pt x="464" y="336"/>
                  </a:lnTo>
                  <a:lnTo>
                    <a:pt x="465" y="336"/>
                  </a:lnTo>
                  <a:lnTo>
                    <a:pt x="467" y="336"/>
                  </a:lnTo>
                  <a:lnTo>
                    <a:pt x="469" y="336"/>
                  </a:lnTo>
                  <a:lnTo>
                    <a:pt x="471" y="336"/>
                  </a:lnTo>
                  <a:lnTo>
                    <a:pt x="472" y="336"/>
                  </a:lnTo>
                  <a:lnTo>
                    <a:pt x="474" y="336"/>
                  </a:lnTo>
                  <a:lnTo>
                    <a:pt x="476" y="336"/>
                  </a:lnTo>
                  <a:lnTo>
                    <a:pt x="478" y="336"/>
                  </a:lnTo>
                  <a:lnTo>
                    <a:pt x="481" y="336"/>
                  </a:lnTo>
                  <a:lnTo>
                    <a:pt x="481" y="336"/>
                  </a:lnTo>
                  <a:lnTo>
                    <a:pt x="483" y="336"/>
                  </a:lnTo>
                  <a:lnTo>
                    <a:pt x="485" y="336"/>
                  </a:lnTo>
                  <a:lnTo>
                    <a:pt x="486" y="336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92" y="336"/>
                  </a:lnTo>
                  <a:lnTo>
                    <a:pt x="493" y="336"/>
                  </a:lnTo>
                  <a:lnTo>
                    <a:pt x="497" y="334"/>
                  </a:lnTo>
                  <a:lnTo>
                    <a:pt x="499" y="334"/>
                  </a:lnTo>
                  <a:lnTo>
                    <a:pt x="499" y="334"/>
                  </a:lnTo>
                  <a:lnTo>
                    <a:pt x="502" y="334"/>
                  </a:lnTo>
                  <a:lnTo>
                    <a:pt x="502" y="334"/>
                  </a:lnTo>
                  <a:lnTo>
                    <a:pt x="506" y="334"/>
                  </a:lnTo>
                  <a:lnTo>
                    <a:pt x="506" y="332"/>
                  </a:lnTo>
                  <a:lnTo>
                    <a:pt x="507" y="332"/>
                  </a:lnTo>
                  <a:lnTo>
                    <a:pt x="511" y="332"/>
                  </a:lnTo>
                  <a:lnTo>
                    <a:pt x="511" y="332"/>
                  </a:lnTo>
                  <a:lnTo>
                    <a:pt x="513" y="332"/>
                  </a:lnTo>
                  <a:lnTo>
                    <a:pt x="514" y="331"/>
                  </a:lnTo>
                  <a:lnTo>
                    <a:pt x="516" y="331"/>
                  </a:lnTo>
                  <a:lnTo>
                    <a:pt x="518" y="331"/>
                  </a:lnTo>
                  <a:lnTo>
                    <a:pt x="520" y="331"/>
                  </a:lnTo>
                  <a:lnTo>
                    <a:pt x="521" y="329"/>
                  </a:lnTo>
                  <a:lnTo>
                    <a:pt x="523" y="329"/>
                  </a:lnTo>
                  <a:lnTo>
                    <a:pt x="525" y="327"/>
                  </a:lnTo>
                  <a:lnTo>
                    <a:pt x="527" y="327"/>
                  </a:lnTo>
                  <a:lnTo>
                    <a:pt x="528" y="327"/>
                  </a:lnTo>
                  <a:lnTo>
                    <a:pt x="530" y="325"/>
                  </a:lnTo>
                  <a:lnTo>
                    <a:pt x="532" y="325"/>
                  </a:lnTo>
                  <a:lnTo>
                    <a:pt x="534" y="325"/>
                  </a:lnTo>
                  <a:lnTo>
                    <a:pt x="535" y="324"/>
                  </a:lnTo>
                  <a:lnTo>
                    <a:pt x="537" y="325"/>
                  </a:lnTo>
                  <a:lnTo>
                    <a:pt x="537" y="329"/>
                  </a:lnTo>
                  <a:lnTo>
                    <a:pt x="537" y="331"/>
                  </a:lnTo>
                  <a:lnTo>
                    <a:pt x="539" y="332"/>
                  </a:lnTo>
                  <a:lnTo>
                    <a:pt x="539" y="336"/>
                  </a:lnTo>
                  <a:lnTo>
                    <a:pt x="539" y="339"/>
                  </a:lnTo>
                  <a:lnTo>
                    <a:pt x="539" y="341"/>
                  </a:lnTo>
                  <a:lnTo>
                    <a:pt x="539" y="343"/>
                  </a:lnTo>
                  <a:lnTo>
                    <a:pt x="539" y="343"/>
                  </a:lnTo>
                  <a:lnTo>
                    <a:pt x="539" y="346"/>
                  </a:lnTo>
                  <a:lnTo>
                    <a:pt x="537" y="346"/>
                  </a:lnTo>
                  <a:lnTo>
                    <a:pt x="537" y="348"/>
                  </a:lnTo>
                  <a:lnTo>
                    <a:pt x="537" y="352"/>
                  </a:lnTo>
                  <a:lnTo>
                    <a:pt x="537" y="352"/>
                  </a:lnTo>
                  <a:lnTo>
                    <a:pt x="537" y="353"/>
                  </a:lnTo>
                  <a:lnTo>
                    <a:pt x="535" y="355"/>
                  </a:lnTo>
                  <a:lnTo>
                    <a:pt x="535" y="357"/>
                  </a:lnTo>
                  <a:lnTo>
                    <a:pt x="535" y="360"/>
                  </a:lnTo>
                  <a:lnTo>
                    <a:pt x="534" y="362"/>
                  </a:lnTo>
                  <a:lnTo>
                    <a:pt x="534" y="364"/>
                  </a:lnTo>
                  <a:lnTo>
                    <a:pt x="532" y="366"/>
                  </a:lnTo>
                  <a:lnTo>
                    <a:pt x="532" y="367"/>
                  </a:lnTo>
                  <a:lnTo>
                    <a:pt x="532" y="369"/>
                  </a:lnTo>
                  <a:lnTo>
                    <a:pt x="530" y="371"/>
                  </a:lnTo>
                  <a:lnTo>
                    <a:pt x="530" y="373"/>
                  </a:lnTo>
                  <a:lnTo>
                    <a:pt x="528" y="376"/>
                  </a:lnTo>
                  <a:lnTo>
                    <a:pt x="528" y="378"/>
                  </a:lnTo>
                  <a:lnTo>
                    <a:pt x="527" y="380"/>
                  </a:lnTo>
                  <a:lnTo>
                    <a:pt x="527" y="381"/>
                  </a:lnTo>
                  <a:lnTo>
                    <a:pt x="527" y="383"/>
                  </a:lnTo>
                  <a:lnTo>
                    <a:pt x="525" y="385"/>
                  </a:lnTo>
                  <a:lnTo>
                    <a:pt x="523" y="387"/>
                  </a:lnTo>
                  <a:lnTo>
                    <a:pt x="523" y="388"/>
                  </a:lnTo>
                  <a:lnTo>
                    <a:pt x="521" y="390"/>
                  </a:lnTo>
                  <a:lnTo>
                    <a:pt x="521" y="392"/>
                  </a:lnTo>
                  <a:lnTo>
                    <a:pt x="520" y="395"/>
                  </a:lnTo>
                  <a:lnTo>
                    <a:pt x="520" y="397"/>
                  </a:lnTo>
                  <a:lnTo>
                    <a:pt x="518" y="399"/>
                  </a:lnTo>
                  <a:lnTo>
                    <a:pt x="516" y="401"/>
                  </a:lnTo>
                  <a:lnTo>
                    <a:pt x="516" y="402"/>
                  </a:lnTo>
                  <a:lnTo>
                    <a:pt x="514" y="404"/>
                  </a:lnTo>
                  <a:lnTo>
                    <a:pt x="514" y="406"/>
                  </a:lnTo>
                  <a:lnTo>
                    <a:pt x="513" y="408"/>
                  </a:lnTo>
                  <a:lnTo>
                    <a:pt x="511" y="409"/>
                  </a:lnTo>
                  <a:lnTo>
                    <a:pt x="511" y="411"/>
                  </a:lnTo>
                  <a:lnTo>
                    <a:pt x="509" y="413"/>
                  </a:lnTo>
                  <a:lnTo>
                    <a:pt x="509" y="415"/>
                  </a:lnTo>
                  <a:lnTo>
                    <a:pt x="507" y="416"/>
                  </a:lnTo>
                  <a:lnTo>
                    <a:pt x="506" y="418"/>
                  </a:lnTo>
                  <a:lnTo>
                    <a:pt x="506" y="420"/>
                  </a:lnTo>
                  <a:lnTo>
                    <a:pt x="504" y="422"/>
                  </a:lnTo>
                  <a:lnTo>
                    <a:pt x="502" y="425"/>
                  </a:lnTo>
                  <a:lnTo>
                    <a:pt x="500" y="427"/>
                  </a:lnTo>
                  <a:lnTo>
                    <a:pt x="499" y="430"/>
                  </a:lnTo>
                  <a:lnTo>
                    <a:pt x="549" y="444"/>
                  </a:lnTo>
                  <a:lnTo>
                    <a:pt x="551" y="441"/>
                  </a:lnTo>
                  <a:lnTo>
                    <a:pt x="551" y="439"/>
                  </a:lnTo>
                  <a:lnTo>
                    <a:pt x="553" y="437"/>
                  </a:lnTo>
                  <a:lnTo>
                    <a:pt x="555" y="436"/>
                  </a:lnTo>
                  <a:lnTo>
                    <a:pt x="556" y="434"/>
                  </a:lnTo>
                  <a:lnTo>
                    <a:pt x="558" y="430"/>
                  </a:lnTo>
                  <a:lnTo>
                    <a:pt x="560" y="429"/>
                  </a:lnTo>
                  <a:lnTo>
                    <a:pt x="562" y="427"/>
                  </a:lnTo>
                  <a:lnTo>
                    <a:pt x="563" y="425"/>
                  </a:lnTo>
                  <a:lnTo>
                    <a:pt x="565" y="423"/>
                  </a:lnTo>
                  <a:lnTo>
                    <a:pt x="567" y="420"/>
                  </a:lnTo>
                  <a:lnTo>
                    <a:pt x="569" y="418"/>
                  </a:lnTo>
                  <a:lnTo>
                    <a:pt x="570" y="416"/>
                  </a:lnTo>
                  <a:lnTo>
                    <a:pt x="572" y="413"/>
                  </a:lnTo>
                  <a:lnTo>
                    <a:pt x="574" y="411"/>
                  </a:lnTo>
                  <a:lnTo>
                    <a:pt x="576" y="409"/>
                  </a:lnTo>
                  <a:lnTo>
                    <a:pt x="577" y="408"/>
                  </a:lnTo>
                  <a:lnTo>
                    <a:pt x="579" y="406"/>
                  </a:lnTo>
                  <a:lnTo>
                    <a:pt x="581" y="402"/>
                  </a:lnTo>
                  <a:lnTo>
                    <a:pt x="583" y="401"/>
                  </a:lnTo>
                  <a:lnTo>
                    <a:pt x="584" y="399"/>
                  </a:lnTo>
                  <a:lnTo>
                    <a:pt x="586" y="397"/>
                  </a:lnTo>
                  <a:lnTo>
                    <a:pt x="590" y="394"/>
                  </a:lnTo>
                  <a:lnTo>
                    <a:pt x="591" y="392"/>
                  </a:lnTo>
                  <a:lnTo>
                    <a:pt x="591" y="390"/>
                  </a:lnTo>
                  <a:lnTo>
                    <a:pt x="593" y="388"/>
                  </a:lnTo>
                  <a:lnTo>
                    <a:pt x="595" y="387"/>
                  </a:lnTo>
                  <a:lnTo>
                    <a:pt x="598" y="385"/>
                  </a:lnTo>
                  <a:lnTo>
                    <a:pt x="598" y="381"/>
                  </a:lnTo>
                  <a:lnTo>
                    <a:pt x="600" y="380"/>
                  </a:lnTo>
                  <a:lnTo>
                    <a:pt x="602" y="378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4" y="376"/>
                  </a:lnTo>
                  <a:lnTo>
                    <a:pt x="605" y="374"/>
                  </a:lnTo>
                  <a:lnTo>
                    <a:pt x="605" y="373"/>
                  </a:lnTo>
                  <a:lnTo>
                    <a:pt x="607" y="371"/>
                  </a:lnTo>
                  <a:lnTo>
                    <a:pt x="609" y="371"/>
                  </a:lnTo>
                  <a:lnTo>
                    <a:pt x="611" y="371"/>
                  </a:lnTo>
                  <a:lnTo>
                    <a:pt x="612" y="371"/>
                  </a:lnTo>
                  <a:lnTo>
                    <a:pt x="614" y="373"/>
                  </a:lnTo>
                  <a:lnTo>
                    <a:pt x="616" y="374"/>
                  </a:lnTo>
                  <a:lnTo>
                    <a:pt x="619" y="376"/>
                  </a:lnTo>
                  <a:lnTo>
                    <a:pt x="621" y="376"/>
                  </a:lnTo>
                  <a:lnTo>
                    <a:pt x="621" y="378"/>
                  </a:lnTo>
                  <a:lnTo>
                    <a:pt x="625" y="378"/>
                  </a:lnTo>
                  <a:lnTo>
                    <a:pt x="625" y="378"/>
                  </a:lnTo>
                  <a:lnTo>
                    <a:pt x="626" y="378"/>
                  </a:lnTo>
                  <a:lnTo>
                    <a:pt x="630" y="378"/>
                  </a:lnTo>
                  <a:lnTo>
                    <a:pt x="632" y="376"/>
                  </a:lnTo>
                  <a:lnTo>
                    <a:pt x="633" y="374"/>
                  </a:lnTo>
                  <a:lnTo>
                    <a:pt x="635" y="374"/>
                  </a:lnTo>
                  <a:lnTo>
                    <a:pt x="635" y="373"/>
                  </a:lnTo>
                  <a:lnTo>
                    <a:pt x="637" y="371"/>
                  </a:lnTo>
                  <a:lnTo>
                    <a:pt x="639" y="371"/>
                  </a:lnTo>
                  <a:lnTo>
                    <a:pt x="640" y="371"/>
                  </a:lnTo>
                  <a:lnTo>
                    <a:pt x="642" y="371"/>
                  </a:lnTo>
                  <a:lnTo>
                    <a:pt x="644" y="373"/>
                  </a:lnTo>
                  <a:lnTo>
                    <a:pt x="646" y="373"/>
                  </a:lnTo>
                  <a:lnTo>
                    <a:pt x="646" y="373"/>
                  </a:lnTo>
                  <a:lnTo>
                    <a:pt x="647" y="374"/>
                  </a:lnTo>
                  <a:lnTo>
                    <a:pt x="649" y="374"/>
                  </a:lnTo>
                  <a:lnTo>
                    <a:pt x="651" y="376"/>
                  </a:lnTo>
                  <a:lnTo>
                    <a:pt x="654" y="378"/>
                  </a:lnTo>
                  <a:lnTo>
                    <a:pt x="656" y="381"/>
                  </a:lnTo>
                  <a:lnTo>
                    <a:pt x="658" y="383"/>
                  </a:lnTo>
                  <a:lnTo>
                    <a:pt x="660" y="385"/>
                  </a:lnTo>
                  <a:lnTo>
                    <a:pt x="661" y="388"/>
                  </a:lnTo>
                  <a:lnTo>
                    <a:pt x="661" y="388"/>
                  </a:lnTo>
                  <a:lnTo>
                    <a:pt x="661" y="390"/>
                  </a:lnTo>
                  <a:lnTo>
                    <a:pt x="661" y="392"/>
                  </a:lnTo>
                  <a:lnTo>
                    <a:pt x="663" y="394"/>
                  </a:lnTo>
                  <a:lnTo>
                    <a:pt x="663" y="395"/>
                  </a:lnTo>
                  <a:lnTo>
                    <a:pt x="663" y="397"/>
                  </a:lnTo>
                  <a:lnTo>
                    <a:pt x="663" y="399"/>
                  </a:lnTo>
                  <a:lnTo>
                    <a:pt x="665" y="401"/>
                  </a:lnTo>
                  <a:lnTo>
                    <a:pt x="665" y="402"/>
                  </a:lnTo>
                  <a:lnTo>
                    <a:pt x="665" y="404"/>
                  </a:lnTo>
                  <a:lnTo>
                    <a:pt x="665" y="406"/>
                  </a:lnTo>
                  <a:lnTo>
                    <a:pt x="665" y="408"/>
                  </a:lnTo>
                  <a:lnTo>
                    <a:pt x="665" y="409"/>
                  </a:lnTo>
                  <a:lnTo>
                    <a:pt x="665" y="411"/>
                  </a:lnTo>
                  <a:lnTo>
                    <a:pt x="665" y="413"/>
                  </a:lnTo>
                  <a:lnTo>
                    <a:pt x="665" y="413"/>
                  </a:lnTo>
                  <a:lnTo>
                    <a:pt x="665" y="416"/>
                  </a:lnTo>
                  <a:lnTo>
                    <a:pt x="665" y="418"/>
                  </a:lnTo>
                  <a:lnTo>
                    <a:pt x="665" y="420"/>
                  </a:lnTo>
                  <a:lnTo>
                    <a:pt x="665" y="422"/>
                  </a:lnTo>
                  <a:lnTo>
                    <a:pt x="665" y="423"/>
                  </a:lnTo>
                  <a:lnTo>
                    <a:pt x="665" y="425"/>
                  </a:lnTo>
                  <a:lnTo>
                    <a:pt x="665" y="427"/>
                  </a:lnTo>
                  <a:lnTo>
                    <a:pt x="665" y="429"/>
                  </a:lnTo>
                  <a:lnTo>
                    <a:pt x="663" y="430"/>
                  </a:lnTo>
                  <a:lnTo>
                    <a:pt x="663" y="432"/>
                  </a:lnTo>
                  <a:lnTo>
                    <a:pt x="663" y="434"/>
                  </a:lnTo>
                  <a:lnTo>
                    <a:pt x="663" y="436"/>
                  </a:lnTo>
                  <a:lnTo>
                    <a:pt x="663" y="437"/>
                  </a:lnTo>
                  <a:lnTo>
                    <a:pt x="663" y="439"/>
                  </a:lnTo>
                  <a:lnTo>
                    <a:pt x="661" y="441"/>
                  </a:lnTo>
                  <a:lnTo>
                    <a:pt x="661" y="443"/>
                  </a:lnTo>
                  <a:lnTo>
                    <a:pt x="661" y="444"/>
                  </a:lnTo>
                  <a:lnTo>
                    <a:pt x="661" y="446"/>
                  </a:lnTo>
                  <a:lnTo>
                    <a:pt x="660" y="448"/>
                  </a:lnTo>
                  <a:lnTo>
                    <a:pt x="660" y="450"/>
                  </a:lnTo>
                  <a:lnTo>
                    <a:pt x="660" y="451"/>
                  </a:lnTo>
                  <a:lnTo>
                    <a:pt x="658" y="453"/>
                  </a:lnTo>
                  <a:lnTo>
                    <a:pt x="658" y="455"/>
                  </a:lnTo>
                  <a:lnTo>
                    <a:pt x="658" y="457"/>
                  </a:lnTo>
                  <a:lnTo>
                    <a:pt x="658" y="457"/>
                  </a:lnTo>
                  <a:lnTo>
                    <a:pt x="658" y="458"/>
                  </a:lnTo>
                  <a:lnTo>
                    <a:pt x="656" y="460"/>
                  </a:lnTo>
                  <a:lnTo>
                    <a:pt x="656" y="462"/>
                  </a:lnTo>
                  <a:lnTo>
                    <a:pt x="709" y="465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9800" y="444312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1880" y="44002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1880" y="444312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80200" y="440028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80200" y="444312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7720" y="4097160"/>
              <a:ext cx="44640" cy="1299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8360" y="4086000"/>
              <a:ext cx="63360" cy="20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51320" y="4409640"/>
              <a:ext cx="82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8960" y="4425840"/>
              <a:ext cx="44280" cy="44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02080" y="448920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4" y="27"/>
                  </a:moveTo>
                  <a:lnTo>
                    <a:pt x="19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467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119" y="199"/>
                  </a:moveTo>
                  <a:lnTo>
                    <a:pt x="119" y="52"/>
                  </a:lnTo>
                  <a:lnTo>
                    <a:pt x="63" y="0"/>
                  </a:lnTo>
                  <a:lnTo>
                    <a:pt x="0" y="52"/>
                  </a:lnTo>
                  <a:lnTo>
                    <a:pt x="0" y="199"/>
                  </a:lnTo>
                  <a:lnTo>
                    <a:pt x="119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8120" y="4222440"/>
              <a:ext cx="205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88120" y="426384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59320" y="4222440"/>
              <a:ext cx="208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9320" y="4263840"/>
              <a:ext cx="208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721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8" h="198">
                  <a:moveTo>
                    <a:pt x="118" y="198"/>
                  </a:moveTo>
                  <a:lnTo>
                    <a:pt x="118" y="49"/>
                  </a:lnTo>
                  <a:lnTo>
                    <a:pt x="62" y="0"/>
                  </a:lnTo>
                  <a:lnTo>
                    <a:pt x="0" y="49"/>
                  </a:lnTo>
                  <a:lnTo>
                    <a:pt x="0" y="198"/>
                  </a:lnTo>
                  <a:lnTo>
                    <a:pt x="118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14960" y="4222440"/>
              <a:ext cx="190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14960" y="426384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4720" y="4222440"/>
              <a:ext cx="223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84720" y="426384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8280" y="4127400"/>
              <a:ext cx="500040" cy="417240"/>
            </a:xfrm>
            <a:custGeom>
              <a:avLst/>
              <a:gdLst/>
              <a:ahLst/>
              <a:rect l="l" t="t" r="r" b="b"/>
              <a:pathLst>
                <a:path w="788" h="658">
                  <a:moveTo>
                    <a:pt x="641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89" y="273"/>
                  </a:lnTo>
                  <a:lnTo>
                    <a:pt x="89" y="655"/>
                  </a:lnTo>
                  <a:lnTo>
                    <a:pt x="686" y="658"/>
                  </a:lnTo>
                  <a:lnTo>
                    <a:pt x="686" y="273"/>
                  </a:lnTo>
                  <a:lnTo>
                    <a:pt x="788" y="273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4720" y="440028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4443120"/>
              <a:ext cx="223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9800" y="440028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9800" y="4443120"/>
              <a:ext cx="255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1880" y="44002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11880" y="444312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0200" y="440028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80200" y="4443120"/>
              <a:ext cx="219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7720" y="4097160"/>
              <a:ext cx="44640" cy="1299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360" y="4086000"/>
              <a:ext cx="63360" cy="20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51320" y="4409640"/>
              <a:ext cx="82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68960" y="4425840"/>
              <a:ext cx="44280" cy="442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2080" y="448920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4" y="27"/>
                  </a:moveTo>
                  <a:lnTo>
                    <a:pt x="19" y="27"/>
                  </a:lnTo>
                  <a:lnTo>
                    <a:pt x="23" y="23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67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119" y="199"/>
                  </a:moveTo>
                  <a:lnTo>
                    <a:pt x="119" y="52"/>
                  </a:lnTo>
                  <a:lnTo>
                    <a:pt x="63" y="0"/>
                  </a:lnTo>
                  <a:lnTo>
                    <a:pt x="0" y="52"/>
                  </a:lnTo>
                  <a:lnTo>
                    <a:pt x="0" y="199"/>
                  </a:lnTo>
                  <a:lnTo>
                    <a:pt x="119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88120" y="4222440"/>
              <a:ext cx="205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8120" y="426384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59320" y="4222440"/>
              <a:ext cx="208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59320" y="4263840"/>
              <a:ext cx="208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72120" y="4182840"/>
              <a:ext cx="74520" cy="125280"/>
            </a:xfrm>
            <a:custGeom>
              <a:avLst/>
              <a:gdLst/>
              <a:ahLst/>
              <a:rect l="l" t="t" r="r" b="b"/>
              <a:pathLst>
                <a:path w="118" h="198">
                  <a:moveTo>
                    <a:pt x="118" y="198"/>
                  </a:moveTo>
                  <a:lnTo>
                    <a:pt x="118" y="49"/>
                  </a:lnTo>
                  <a:lnTo>
                    <a:pt x="62" y="0"/>
                  </a:lnTo>
                  <a:lnTo>
                    <a:pt x="0" y="49"/>
                  </a:lnTo>
                  <a:lnTo>
                    <a:pt x="0" y="198"/>
                  </a:lnTo>
                  <a:lnTo>
                    <a:pt x="118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14960" y="4222440"/>
              <a:ext cx="1908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14960" y="426384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84720" y="4222440"/>
              <a:ext cx="22320" cy="31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84720" y="426384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61000" y="3922560"/>
              <a:ext cx="500040" cy="41724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2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9744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9744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63960" y="419544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3960" y="424008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2460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2460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9112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12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0440" y="3892320"/>
              <a:ext cx="4608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884400"/>
              <a:ext cx="61920" cy="19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5840" y="4206600"/>
              <a:ext cx="81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9880" y="4222440"/>
              <a:ext cx="47880" cy="44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4800" y="4286160"/>
              <a:ext cx="17640" cy="17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8"/>
                  </a:moveTo>
                  <a:lnTo>
                    <a:pt x="21" y="28"/>
                  </a:lnTo>
                  <a:lnTo>
                    <a:pt x="25" y="25"/>
                  </a:lnTo>
                  <a:lnTo>
                    <a:pt x="28" y="21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9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9440" y="3978000"/>
              <a:ext cx="74520" cy="12708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19" y="201"/>
                  </a:moveTo>
                  <a:lnTo>
                    <a:pt x="119" y="54"/>
                  </a:lnTo>
                  <a:lnTo>
                    <a:pt x="62" y="0"/>
                  </a:lnTo>
                  <a:lnTo>
                    <a:pt x="0" y="54"/>
                  </a:lnTo>
                  <a:lnTo>
                    <a:pt x="0" y="201"/>
                  </a:lnTo>
                  <a:lnTo>
                    <a:pt x="119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2280" y="4020840"/>
              <a:ext cx="1908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2280" y="405900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7204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04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84840" y="3979440"/>
              <a:ext cx="73080" cy="12564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51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2768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2768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97440" y="402084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97440" y="40590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61000" y="3922560"/>
              <a:ext cx="500040" cy="417240"/>
            </a:xfrm>
            <a:custGeom>
              <a:avLst/>
              <a:gdLst/>
              <a:ahLst/>
              <a:rect l="l" t="t" r="r" b="b"/>
              <a:pathLst>
                <a:path w="787" h="658">
                  <a:moveTo>
                    <a:pt x="642" y="0"/>
                  </a:moveTo>
                  <a:lnTo>
                    <a:pt x="133" y="0"/>
                  </a:lnTo>
                  <a:lnTo>
                    <a:pt x="0" y="273"/>
                  </a:lnTo>
                  <a:lnTo>
                    <a:pt x="91" y="273"/>
                  </a:lnTo>
                  <a:lnTo>
                    <a:pt x="91" y="656"/>
                  </a:lnTo>
                  <a:lnTo>
                    <a:pt x="688" y="658"/>
                  </a:lnTo>
                  <a:lnTo>
                    <a:pt x="688" y="273"/>
                  </a:lnTo>
                  <a:lnTo>
                    <a:pt x="787" y="273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9744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744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3960" y="419544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63960" y="4240080"/>
              <a:ext cx="241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460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460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91120" y="419544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4240080"/>
              <a:ext cx="237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0440" y="3892320"/>
              <a:ext cx="46080" cy="1317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62520" y="3884400"/>
              <a:ext cx="61920" cy="19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5840" y="4206600"/>
              <a:ext cx="81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9880" y="4222440"/>
              <a:ext cx="47880" cy="446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4286160"/>
              <a:ext cx="17640" cy="17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6" y="28"/>
                  </a:moveTo>
                  <a:lnTo>
                    <a:pt x="21" y="28"/>
                  </a:lnTo>
                  <a:lnTo>
                    <a:pt x="25" y="25"/>
                  </a:lnTo>
                  <a:lnTo>
                    <a:pt x="28" y="21"/>
                  </a:lnTo>
                  <a:lnTo>
                    <a:pt x="28" y="16"/>
                  </a:lnTo>
                  <a:lnTo>
                    <a:pt x="28" y="9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9" y="28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9440" y="3978000"/>
              <a:ext cx="74520" cy="12708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19" y="201"/>
                  </a:moveTo>
                  <a:lnTo>
                    <a:pt x="119" y="54"/>
                  </a:lnTo>
                  <a:lnTo>
                    <a:pt x="62" y="0"/>
                  </a:lnTo>
                  <a:lnTo>
                    <a:pt x="0" y="54"/>
                  </a:lnTo>
                  <a:lnTo>
                    <a:pt x="0" y="201"/>
                  </a:lnTo>
                  <a:lnTo>
                    <a:pt x="119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02280" y="4020840"/>
              <a:ext cx="1908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02280" y="4059000"/>
              <a:ext cx="1908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204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7204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4840" y="3979440"/>
              <a:ext cx="73080" cy="12564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115" y="200"/>
                  </a:moveTo>
                  <a:lnTo>
                    <a:pt x="115" y="51"/>
                  </a:lnTo>
                  <a:lnTo>
                    <a:pt x="61" y="0"/>
                  </a:lnTo>
                  <a:lnTo>
                    <a:pt x="0" y="51"/>
                  </a:lnTo>
                  <a:lnTo>
                    <a:pt x="0" y="200"/>
                  </a:lnTo>
                  <a:lnTo>
                    <a:pt x="11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27680" y="4020840"/>
              <a:ext cx="205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27680" y="4059000"/>
              <a:ext cx="205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97440" y="4020840"/>
              <a:ext cx="22320" cy="284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97440" y="4059000"/>
              <a:ext cx="22320" cy="30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133720" y="4309920"/>
              <a:ext cx="644400" cy="186840"/>
              <a:chOff x="2133720" y="4309920"/>
              <a:chExt cx="644400" cy="186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156400" y="4434840"/>
                <a:ext cx="46080" cy="56160"/>
              </a:xfrm>
              <a:custGeom>
                <a:avLst/>
                <a:gdLst/>
                <a:ahLst/>
                <a:rect l="l" t="t" r="r" b="b"/>
                <a:pathLst>
                  <a:path w="328" h="343">
                    <a:moveTo>
                      <a:pt x="168" y="0"/>
                    </a:moveTo>
                    <a:lnTo>
                      <a:pt x="134" y="4"/>
                    </a:lnTo>
                    <a:lnTo>
                      <a:pt x="102" y="13"/>
                    </a:lnTo>
                    <a:lnTo>
                      <a:pt x="75" y="29"/>
                    </a:lnTo>
                    <a:lnTo>
                      <a:pt x="50" y="49"/>
                    </a:lnTo>
                    <a:lnTo>
                      <a:pt x="30" y="74"/>
                    </a:lnTo>
                    <a:lnTo>
                      <a:pt x="14" y="103"/>
                    </a:lnTo>
                    <a:lnTo>
                      <a:pt x="2" y="137"/>
                    </a:lnTo>
                    <a:lnTo>
                      <a:pt x="0" y="171"/>
                    </a:lnTo>
                    <a:lnTo>
                      <a:pt x="2" y="205"/>
                    </a:lnTo>
                    <a:lnTo>
                      <a:pt x="14" y="239"/>
                    </a:lnTo>
                    <a:lnTo>
                      <a:pt x="30" y="268"/>
                    </a:lnTo>
                    <a:lnTo>
                      <a:pt x="50" y="293"/>
                    </a:lnTo>
                    <a:lnTo>
                      <a:pt x="75" y="313"/>
                    </a:lnTo>
                    <a:lnTo>
                      <a:pt x="102" y="329"/>
                    </a:lnTo>
                    <a:lnTo>
                      <a:pt x="134" y="338"/>
                    </a:lnTo>
                    <a:lnTo>
                      <a:pt x="168" y="343"/>
                    </a:lnTo>
                    <a:lnTo>
                      <a:pt x="199" y="338"/>
                    </a:lnTo>
                    <a:lnTo>
                      <a:pt x="231" y="329"/>
                    </a:lnTo>
                    <a:lnTo>
                      <a:pt x="258" y="313"/>
                    </a:lnTo>
                    <a:lnTo>
                      <a:pt x="281" y="293"/>
                    </a:lnTo>
                    <a:lnTo>
                      <a:pt x="301" y="268"/>
                    </a:lnTo>
                    <a:lnTo>
                      <a:pt x="315" y="239"/>
                    </a:lnTo>
                    <a:lnTo>
                      <a:pt x="326" y="205"/>
                    </a:lnTo>
                    <a:lnTo>
                      <a:pt x="328" y="171"/>
                    </a:lnTo>
                    <a:lnTo>
                      <a:pt x="326" y="137"/>
                    </a:lnTo>
                    <a:lnTo>
                      <a:pt x="315" y="103"/>
                    </a:lnTo>
                    <a:lnTo>
                      <a:pt x="301" y="74"/>
                    </a:lnTo>
                    <a:lnTo>
                      <a:pt x="281" y="49"/>
                    </a:lnTo>
                    <a:lnTo>
                      <a:pt x="258" y="29"/>
                    </a:lnTo>
                    <a:lnTo>
                      <a:pt x="231" y="13"/>
                    </a:lnTo>
                    <a:lnTo>
                      <a:pt x="199" y="4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09400" y="4352400"/>
                <a:ext cx="30240" cy="51480"/>
              </a:xfrm>
              <a:custGeom>
                <a:avLst/>
                <a:gdLst/>
                <a:ahLst/>
                <a:rect l="l" t="t" r="r" b="b"/>
                <a:pathLst>
                  <a:path w="210" h="316">
                    <a:moveTo>
                      <a:pt x="210" y="291"/>
                    </a:moveTo>
                    <a:lnTo>
                      <a:pt x="167" y="300"/>
                    </a:lnTo>
                    <a:lnTo>
                      <a:pt x="138" y="249"/>
                    </a:lnTo>
                    <a:lnTo>
                      <a:pt x="138" y="167"/>
                    </a:lnTo>
                    <a:lnTo>
                      <a:pt x="104" y="79"/>
                    </a:lnTo>
                    <a:lnTo>
                      <a:pt x="75" y="81"/>
                    </a:lnTo>
                    <a:lnTo>
                      <a:pt x="61" y="59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45" y="20"/>
                    </a:lnTo>
                    <a:lnTo>
                      <a:pt x="54" y="72"/>
                    </a:lnTo>
                    <a:lnTo>
                      <a:pt x="70" y="93"/>
                    </a:lnTo>
                    <a:lnTo>
                      <a:pt x="97" y="93"/>
                    </a:lnTo>
                    <a:lnTo>
                      <a:pt x="127" y="167"/>
                    </a:lnTo>
                    <a:lnTo>
                      <a:pt x="127" y="260"/>
                    </a:lnTo>
                    <a:lnTo>
                      <a:pt x="167" y="316"/>
                    </a:lnTo>
                    <a:lnTo>
                      <a:pt x="210" y="312"/>
                    </a:lnTo>
                    <a:lnTo>
                      <a:pt x="210" y="29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08680" y="4363560"/>
                <a:ext cx="29520" cy="52200"/>
              </a:xfrm>
              <a:custGeom>
                <a:avLst/>
                <a:gdLst/>
                <a:ahLst/>
                <a:rect l="l" t="t" r="r" b="b"/>
                <a:pathLst>
                  <a:path w="211" h="318">
                    <a:moveTo>
                      <a:pt x="211" y="293"/>
                    </a:moveTo>
                    <a:lnTo>
                      <a:pt x="170" y="302"/>
                    </a:lnTo>
                    <a:lnTo>
                      <a:pt x="138" y="250"/>
                    </a:lnTo>
                    <a:lnTo>
                      <a:pt x="138" y="167"/>
                    </a:lnTo>
                    <a:lnTo>
                      <a:pt x="104" y="81"/>
                    </a:lnTo>
                    <a:lnTo>
                      <a:pt x="77" y="81"/>
                    </a:lnTo>
                    <a:lnTo>
                      <a:pt x="61" y="58"/>
                    </a:lnTo>
                    <a:lnTo>
                      <a:pt x="52" y="2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5" y="22"/>
                    </a:lnTo>
                    <a:lnTo>
                      <a:pt x="57" y="74"/>
                    </a:lnTo>
                    <a:lnTo>
                      <a:pt x="73" y="94"/>
                    </a:lnTo>
                    <a:lnTo>
                      <a:pt x="97" y="94"/>
                    </a:lnTo>
                    <a:lnTo>
                      <a:pt x="129" y="167"/>
                    </a:lnTo>
                    <a:lnTo>
                      <a:pt x="129" y="262"/>
                    </a:lnTo>
                    <a:lnTo>
                      <a:pt x="170" y="318"/>
                    </a:lnTo>
                    <a:lnTo>
                      <a:pt x="211" y="314"/>
                    </a:lnTo>
                    <a:lnTo>
                      <a:pt x="211" y="29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02520" y="4439160"/>
                <a:ext cx="44640" cy="5256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3" y="0"/>
                    </a:moveTo>
                    <a:lnTo>
                      <a:pt x="122" y="3"/>
                    </a:lnTo>
                    <a:lnTo>
                      <a:pt x="92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4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4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2" y="312"/>
                    </a:lnTo>
                    <a:lnTo>
                      <a:pt x="122" y="323"/>
                    </a:lnTo>
                    <a:lnTo>
                      <a:pt x="153" y="326"/>
                    </a:lnTo>
                    <a:lnTo>
                      <a:pt x="185" y="323"/>
                    </a:lnTo>
                    <a:lnTo>
                      <a:pt x="214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2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4" y="14"/>
                    </a:lnTo>
                    <a:lnTo>
                      <a:pt x="185" y="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55000" y="4439160"/>
                <a:ext cx="43920" cy="5256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6" y="0"/>
                    </a:moveTo>
                    <a:lnTo>
                      <a:pt x="124" y="3"/>
                    </a:lnTo>
                    <a:lnTo>
                      <a:pt x="95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5" y="312"/>
                    </a:lnTo>
                    <a:lnTo>
                      <a:pt x="124" y="323"/>
                    </a:lnTo>
                    <a:lnTo>
                      <a:pt x="156" y="326"/>
                    </a:lnTo>
                    <a:lnTo>
                      <a:pt x="187" y="323"/>
                    </a:lnTo>
                    <a:lnTo>
                      <a:pt x="217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5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5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7" y="14"/>
                    </a:lnTo>
                    <a:lnTo>
                      <a:pt x="187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53680" y="4412880"/>
                <a:ext cx="35280" cy="19800"/>
              </a:xfrm>
              <a:custGeom>
                <a:avLst/>
                <a:gdLst/>
                <a:ahLst/>
                <a:rect l="l" t="t" r="r" b="b"/>
                <a:pathLst>
                  <a:path w="249" h="120">
                    <a:moveTo>
                      <a:pt x="195" y="34"/>
                    </a:moveTo>
                    <a:lnTo>
                      <a:pt x="208" y="70"/>
                    </a:lnTo>
                    <a:lnTo>
                      <a:pt x="249" y="63"/>
                    </a:lnTo>
                    <a:lnTo>
                      <a:pt x="249" y="106"/>
                    </a:lnTo>
                    <a:lnTo>
                      <a:pt x="0" y="120"/>
                    </a:lnTo>
                    <a:lnTo>
                      <a:pt x="4" y="70"/>
                    </a:lnTo>
                    <a:lnTo>
                      <a:pt x="54" y="7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81" y="9"/>
                    </a:lnTo>
                    <a:lnTo>
                      <a:pt x="104" y="18"/>
                    </a:lnTo>
                    <a:lnTo>
                      <a:pt x="129" y="27"/>
                    </a:lnTo>
                    <a:lnTo>
                      <a:pt x="154" y="36"/>
                    </a:lnTo>
                    <a:lnTo>
                      <a:pt x="176" y="41"/>
                    </a:lnTo>
                    <a:lnTo>
                      <a:pt x="190" y="41"/>
                    </a:lnTo>
                    <a:lnTo>
                      <a:pt x="195" y="3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36400" y="4309920"/>
                <a:ext cx="441720" cy="171360"/>
              </a:xfrm>
              <a:custGeom>
                <a:avLst/>
                <a:gdLst/>
                <a:ahLst/>
                <a:rect l="l" t="t" r="r" b="b"/>
                <a:pathLst>
                  <a:path w="3091" h="1046">
                    <a:moveTo>
                      <a:pt x="0" y="675"/>
                    </a:moveTo>
                    <a:lnTo>
                      <a:pt x="0" y="32"/>
                    </a:lnTo>
                    <a:lnTo>
                      <a:pt x="23" y="0"/>
                    </a:lnTo>
                    <a:lnTo>
                      <a:pt x="3037" y="2"/>
                    </a:lnTo>
                    <a:lnTo>
                      <a:pt x="3089" y="61"/>
                    </a:lnTo>
                    <a:lnTo>
                      <a:pt x="3091" y="840"/>
                    </a:lnTo>
                    <a:lnTo>
                      <a:pt x="3021" y="856"/>
                    </a:lnTo>
                    <a:lnTo>
                      <a:pt x="3053" y="1032"/>
                    </a:lnTo>
                    <a:lnTo>
                      <a:pt x="3023" y="1046"/>
                    </a:lnTo>
                    <a:lnTo>
                      <a:pt x="2991" y="919"/>
                    </a:lnTo>
                    <a:lnTo>
                      <a:pt x="2274" y="890"/>
                    </a:lnTo>
                    <a:lnTo>
                      <a:pt x="2274" y="1010"/>
                    </a:lnTo>
                    <a:lnTo>
                      <a:pt x="828" y="1005"/>
                    </a:lnTo>
                    <a:lnTo>
                      <a:pt x="828" y="856"/>
                    </a:lnTo>
                    <a:lnTo>
                      <a:pt x="627" y="854"/>
                    </a:lnTo>
                    <a:lnTo>
                      <a:pt x="622" y="675"/>
                    </a:lnTo>
                    <a:lnTo>
                      <a:pt x="0" y="67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12640" y="4436280"/>
                <a:ext cx="43200" cy="52920"/>
              </a:xfrm>
              <a:custGeom>
                <a:avLst/>
                <a:gdLst/>
                <a:ahLst/>
                <a:rect l="l" t="t" r="r" b="b"/>
                <a:pathLst>
                  <a:path w="306" h="326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27"/>
                    </a:lnTo>
                    <a:lnTo>
                      <a:pt x="46" y="48"/>
                    </a:lnTo>
                    <a:lnTo>
                      <a:pt x="27" y="73"/>
                    </a:lnTo>
                    <a:lnTo>
                      <a:pt x="12" y="100"/>
                    </a:lnTo>
                    <a:lnTo>
                      <a:pt x="3" y="129"/>
                    </a:lnTo>
                    <a:lnTo>
                      <a:pt x="0" y="163"/>
                    </a:lnTo>
                    <a:lnTo>
                      <a:pt x="3" y="197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2"/>
                    </a:lnTo>
                    <a:lnTo>
                      <a:pt x="125" y="323"/>
                    </a:lnTo>
                    <a:lnTo>
                      <a:pt x="156" y="326"/>
                    </a:lnTo>
                    <a:lnTo>
                      <a:pt x="186" y="323"/>
                    </a:lnTo>
                    <a:lnTo>
                      <a:pt x="215" y="312"/>
                    </a:lnTo>
                    <a:lnTo>
                      <a:pt x="240" y="298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4" y="226"/>
                    </a:lnTo>
                    <a:lnTo>
                      <a:pt x="304" y="197"/>
                    </a:lnTo>
                    <a:lnTo>
                      <a:pt x="306" y="163"/>
                    </a:lnTo>
                    <a:lnTo>
                      <a:pt x="304" y="129"/>
                    </a:lnTo>
                    <a:lnTo>
                      <a:pt x="294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5" y="14"/>
                    </a:lnTo>
                    <a:lnTo>
                      <a:pt x="186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351160" y="4439160"/>
                <a:ext cx="43920" cy="52560"/>
              </a:xfrm>
              <a:custGeom>
                <a:avLst/>
                <a:gdLst/>
                <a:ahLst/>
                <a:rect l="l" t="t" r="r" b="b"/>
                <a:pathLst>
                  <a:path w="308" h="326">
                    <a:moveTo>
                      <a:pt x="152" y="0"/>
                    </a:moveTo>
                    <a:lnTo>
                      <a:pt x="120" y="3"/>
                    </a:lnTo>
                    <a:lnTo>
                      <a:pt x="93" y="14"/>
                    </a:lnTo>
                    <a:lnTo>
                      <a:pt x="66" y="27"/>
                    </a:lnTo>
                    <a:lnTo>
                      <a:pt x="43" y="48"/>
                    </a:lnTo>
                    <a:lnTo>
                      <a:pt x="25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5" y="253"/>
                    </a:lnTo>
                    <a:lnTo>
                      <a:pt x="43" y="278"/>
                    </a:lnTo>
                    <a:lnTo>
                      <a:pt x="66" y="299"/>
                    </a:lnTo>
                    <a:lnTo>
                      <a:pt x="93" y="312"/>
                    </a:lnTo>
                    <a:lnTo>
                      <a:pt x="120" y="323"/>
                    </a:lnTo>
                    <a:lnTo>
                      <a:pt x="152" y="326"/>
                    </a:lnTo>
                    <a:lnTo>
                      <a:pt x="183" y="323"/>
                    </a:lnTo>
                    <a:lnTo>
                      <a:pt x="213" y="312"/>
                    </a:lnTo>
                    <a:lnTo>
                      <a:pt x="240" y="299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7" y="226"/>
                    </a:lnTo>
                    <a:lnTo>
                      <a:pt x="306" y="195"/>
                    </a:lnTo>
                    <a:lnTo>
                      <a:pt x="308" y="163"/>
                    </a:lnTo>
                    <a:lnTo>
                      <a:pt x="306" y="129"/>
                    </a:lnTo>
                    <a:lnTo>
                      <a:pt x="297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3" y="14"/>
                    </a:lnTo>
                    <a:lnTo>
                      <a:pt x="183" y="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04640" y="4316400"/>
                <a:ext cx="216720" cy="157680"/>
              </a:xfrm>
              <a:custGeom>
                <a:avLst/>
                <a:gdLst/>
                <a:ahLst/>
                <a:rect l="l" t="t" r="r" b="b"/>
                <a:pathLst>
                  <a:path w="1520" h="967">
                    <a:moveTo>
                      <a:pt x="0" y="436"/>
                    </a:moveTo>
                    <a:lnTo>
                      <a:pt x="0" y="956"/>
                    </a:lnTo>
                    <a:lnTo>
                      <a:pt x="575" y="945"/>
                    </a:lnTo>
                    <a:lnTo>
                      <a:pt x="581" y="908"/>
                    </a:lnTo>
                    <a:lnTo>
                      <a:pt x="584" y="899"/>
                    </a:lnTo>
                    <a:lnTo>
                      <a:pt x="674" y="902"/>
                    </a:lnTo>
                    <a:lnTo>
                      <a:pt x="681" y="852"/>
                    </a:lnTo>
                    <a:lnTo>
                      <a:pt x="785" y="866"/>
                    </a:lnTo>
                    <a:lnTo>
                      <a:pt x="821" y="863"/>
                    </a:lnTo>
                    <a:lnTo>
                      <a:pt x="830" y="911"/>
                    </a:lnTo>
                    <a:lnTo>
                      <a:pt x="1376" y="958"/>
                    </a:lnTo>
                    <a:lnTo>
                      <a:pt x="1520" y="967"/>
                    </a:lnTo>
                    <a:lnTo>
                      <a:pt x="1507" y="823"/>
                    </a:lnTo>
                    <a:lnTo>
                      <a:pt x="1391" y="685"/>
                    </a:lnTo>
                    <a:lnTo>
                      <a:pt x="753" y="685"/>
                    </a:lnTo>
                    <a:lnTo>
                      <a:pt x="753" y="32"/>
                    </a:lnTo>
                    <a:lnTo>
                      <a:pt x="694" y="32"/>
                    </a:lnTo>
                    <a:lnTo>
                      <a:pt x="690" y="0"/>
                    </a:lnTo>
                    <a:lnTo>
                      <a:pt x="654" y="0"/>
                    </a:lnTo>
                    <a:lnTo>
                      <a:pt x="649" y="23"/>
                    </a:lnTo>
                    <a:lnTo>
                      <a:pt x="575" y="18"/>
                    </a:lnTo>
                    <a:lnTo>
                      <a:pt x="394" y="59"/>
                    </a:lnTo>
                    <a:lnTo>
                      <a:pt x="271" y="111"/>
                    </a:lnTo>
                    <a:lnTo>
                      <a:pt x="117" y="192"/>
                    </a:lnTo>
                    <a:lnTo>
                      <a:pt x="36" y="269"/>
                    </a:lnTo>
                    <a:lnTo>
                      <a:pt x="16" y="296"/>
                    </a:lnTo>
                    <a:lnTo>
                      <a:pt x="2" y="312"/>
                    </a:lnTo>
                    <a:lnTo>
                      <a:pt x="0" y="314"/>
                    </a:lnTo>
                    <a:lnTo>
                      <a:pt x="0" y="371"/>
                    </a:lnTo>
                    <a:lnTo>
                      <a:pt x="18" y="36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367520"/>
                <a:ext cx="70920" cy="105840"/>
              </a:xfrm>
              <a:custGeom>
                <a:avLst/>
                <a:gdLst/>
                <a:ahLst/>
                <a:rect l="l" t="t" r="r" b="b"/>
                <a:pathLst>
                  <a:path w="498" h="646">
                    <a:moveTo>
                      <a:pt x="498" y="57"/>
                    </a:moveTo>
                    <a:lnTo>
                      <a:pt x="498" y="0"/>
                    </a:lnTo>
                    <a:lnTo>
                      <a:pt x="477" y="12"/>
                    </a:lnTo>
                    <a:lnTo>
                      <a:pt x="468" y="39"/>
                    </a:lnTo>
                    <a:lnTo>
                      <a:pt x="457" y="165"/>
                    </a:lnTo>
                    <a:lnTo>
                      <a:pt x="278" y="183"/>
                    </a:lnTo>
                    <a:lnTo>
                      <a:pt x="238" y="192"/>
                    </a:lnTo>
                    <a:lnTo>
                      <a:pt x="197" y="201"/>
                    </a:lnTo>
                    <a:lnTo>
                      <a:pt x="158" y="208"/>
                    </a:lnTo>
                    <a:lnTo>
                      <a:pt x="122" y="217"/>
                    </a:lnTo>
                    <a:lnTo>
                      <a:pt x="88" y="231"/>
                    </a:lnTo>
                    <a:lnTo>
                      <a:pt x="57" y="247"/>
                    </a:lnTo>
                    <a:lnTo>
                      <a:pt x="27" y="271"/>
                    </a:lnTo>
                    <a:lnTo>
                      <a:pt x="0" y="301"/>
                    </a:lnTo>
                    <a:lnTo>
                      <a:pt x="0" y="540"/>
                    </a:lnTo>
                    <a:lnTo>
                      <a:pt x="50" y="626"/>
                    </a:lnTo>
                    <a:lnTo>
                      <a:pt x="93" y="646"/>
                    </a:lnTo>
                    <a:lnTo>
                      <a:pt x="244" y="646"/>
                    </a:lnTo>
                    <a:lnTo>
                      <a:pt x="498" y="642"/>
                    </a:lnTo>
                    <a:lnTo>
                      <a:pt x="498" y="122"/>
                    </a:lnTo>
                    <a:lnTo>
                      <a:pt x="491" y="145"/>
                    </a:lnTo>
                    <a:lnTo>
                      <a:pt x="480" y="147"/>
                    </a:lnTo>
                    <a:lnTo>
                      <a:pt x="486" y="59"/>
                    </a:lnTo>
                    <a:lnTo>
                      <a:pt x="498" y="5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2240" y="431820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322" h="276">
                    <a:moveTo>
                      <a:pt x="322" y="2"/>
                    </a:moveTo>
                    <a:lnTo>
                      <a:pt x="322" y="276"/>
                    </a:lnTo>
                    <a:lnTo>
                      <a:pt x="0" y="276"/>
                    </a:lnTo>
                    <a:lnTo>
                      <a:pt x="3" y="57"/>
                    </a:lnTo>
                    <a:lnTo>
                      <a:pt x="66" y="36"/>
                    </a:lnTo>
                    <a:lnTo>
                      <a:pt x="238" y="2"/>
                    </a:lnTo>
                    <a:lnTo>
                      <a:pt x="242" y="2"/>
                    </a:lnTo>
                    <a:lnTo>
                      <a:pt x="251" y="2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17" y="0"/>
                    </a:lnTo>
                    <a:lnTo>
                      <a:pt x="322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60800" y="4317480"/>
                <a:ext cx="47160" cy="11880"/>
              </a:xfrm>
              <a:custGeom>
                <a:avLst/>
                <a:gdLst/>
                <a:ahLst/>
                <a:rect l="l" t="t" r="r" b="b"/>
                <a:pathLst>
                  <a:path w="330" h="73">
                    <a:moveTo>
                      <a:pt x="319" y="5"/>
                    </a:moveTo>
                    <a:lnTo>
                      <a:pt x="300" y="3"/>
                    </a:lnTo>
                    <a:lnTo>
                      <a:pt x="280" y="0"/>
                    </a:lnTo>
                    <a:lnTo>
                      <a:pt x="260" y="3"/>
                    </a:lnTo>
                    <a:lnTo>
                      <a:pt x="237" y="3"/>
                    </a:lnTo>
                    <a:lnTo>
                      <a:pt x="219" y="5"/>
                    </a:lnTo>
                    <a:lnTo>
                      <a:pt x="201" y="7"/>
                    </a:lnTo>
                    <a:lnTo>
                      <a:pt x="185" y="7"/>
                    </a:lnTo>
                    <a:lnTo>
                      <a:pt x="176" y="9"/>
                    </a:lnTo>
                    <a:lnTo>
                      <a:pt x="158" y="12"/>
                    </a:lnTo>
                    <a:lnTo>
                      <a:pt x="140" y="16"/>
                    </a:lnTo>
                    <a:lnTo>
                      <a:pt x="119" y="19"/>
                    </a:lnTo>
                    <a:lnTo>
                      <a:pt x="99" y="23"/>
                    </a:lnTo>
                    <a:lnTo>
                      <a:pt x="74" y="30"/>
                    </a:lnTo>
                    <a:lnTo>
                      <a:pt x="52" y="37"/>
                    </a:lnTo>
                    <a:lnTo>
                      <a:pt x="27" y="43"/>
                    </a:lnTo>
                    <a:lnTo>
                      <a:pt x="0" y="52"/>
                    </a:lnTo>
                    <a:lnTo>
                      <a:pt x="0" y="73"/>
                    </a:lnTo>
                    <a:lnTo>
                      <a:pt x="40" y="61"/>
                    </a:lnTo>
                    <a:lnTo>
                      <a:pt x="81" y="50"/>
                    </a:lnTo>
                    <a:lnTo>
                      <a:pt x="122" y="41"/>
                    </a:lnTo>
                    <a:lnTo>
                      <a:pt x="162" y="34"/>
                    </a:lnTo>
                    <a:lnTo>
                      <a:pt x="203" y="25"/>
                    </a:lnTo>
                    <a:lnTo>
                      <a:pt x="244" y="21"/>
                    </a:lnTo>
                    <a:lnTo>
                      <a:pt x="287" y="14"/>
                    </a:lnTo>
                    <a:lnTo>
                      <a:pt x="330" y="9"/>
                    </a:lnTo>
                    <a:lnTo>
                      <a:pt x="319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16880" y="433044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292" h="202">
                    <a:moveTo>
                      <a:pt x="292" y="0"/>
                    </a:moveTo>
                    <a:lnTo>
                      <a:pt x="292" y="202"/>
                    </a:lnTo>
                    <a:lnTo>
                      <a:pt x="0" y="202"/>
                    </a:lnTo>
                    <a:lnTo>
                      <a:pt x="7" y="183"/>
                    </a:lnTo>
                    <a:lnTo>
                      <a:pt x="45" y="138"/>
                    </a:lnTo>
                    <a:lnTo>
                      <a:pt x="188" y="34"/>
                    </a:lnTo>
                    <a:lnTo>
                      <a:pt x="192" y="32"/>
                    </a:lnTo>
                    <a:lnTo>
                      <a:pt x="203" y="30"/>
                    </a:lnTo>
                    <a:lnTo>
                      <a:pt x="222" y="25"/>
                    </a:lnTo>
                    <a:lnTo>
                      <a:pt x="242" y="19"/>
                    </a:lnTo>
                    <a:lnTo>
                      <a:pt x="260" y="14"/>
                    </a:lnTo>
                    <a:lnTo>
                      <a:pt x="278" y="7"/>
                    </a:lnTo>
                    <a:lnTo>
                      <a:pt x="289" y="3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64760" y="4365720"/>
                <a:ext cx="43200" cy="74160"/>
              </a:xfrm>
              <a:custGeom>
                <a:avLst/>
                <a:gdLst/>
                <a:ahLst/>
                <a:rect l="l" t="t" r="r" b="b"/>
                <a:pathLst>
                  <a:path w="301" h="452">
                    <a:moveTo>
                      <a:pt x="301" y="0"/>
                    </a:moveTo>
                    <a:lnTo>
                      <a:pt x="0" y="2"/>
                    </a:lnTo>
                    <a:lnTo>
                      <a:pt x="0" y="450"/>
                    </a:lnTo>
                    <a:lnTo>
                      <a:pt x="167" y="452"/>
                    </a:lnTo>
                    <a:lnTo>
                      <a:pt x="172" y="409"/>
                    </a:lnTo>
                    <a:lnTo>
                      <a:pt x="49" y="404"/>
                    </a:lnTo>
                    <a:lnTo>
                      <a:pt x="49" y="27"/>
                    </a:lnTo>
                    <a:lnTo>
                      <a:pt x="68" y="32"/>
                    </a:lnTo>
                    <a:lnTo>
                      <a:pt x="68" y="395"/>
                    </a:lnTo>
                    <a:lnTo>
                      <a:pt x="237" y="395"/>
                    </a:lnTo>
                    <a:lnTo>
                      <a:pt x="237" y="434"/>
                    </a:lnTo>
                    <a:lnTo>
                      <a:pt x="301" y="4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64040" y="4365720"/>
                <a:ext cx="43920" cy="52200"/>
              </a:xfrm>
              <a:custGeom>
                <a:avLst/>
                <a:gdLst/>
                <a:ahLst/>
                <a:rect l="l" t="t" r="r" b="b"/>
                <a:pathLst>
                  <a:path w="306" h="318">
                    <a:moveTo>
                      <a:pt x="251" y="0"/>
                    </a:moveTo>
                    <a:lnTo>
                      <a:pt x="5" y="282"/>
                    </a:lnTo>
                    <a:lnTo>
                      <a:pt x="0" y="318"/>
                    </a:lnTo>
                    <a:lnTo>
                      <a:pt x="88" y="312"/>
                    </a:lnTo>
                    <a:lnTo>
                      <a:pt x="306" y="54"/>
                    </a:lnTo>
                    <a:lnTo>
                      <a:pt x="306" y="4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40560" y="4366080"/>
                <a:ext cx="123120" cy="75600"/>
              </a:xfrm>
              <a:custGeom>
                <a:avLst/>
                <a:gdLst/>
                <a:ahLst/>
                <a:rect l="l" t="t" r="r" b="b"/>
                <a:pathLst>
                  <a:path w="864" h="463">
                    <a:moveTo>
                      <a:pt x="864" y="0"/>
                    </a:moveTo>
                    <a:lnTo>
                      <a:pt x="577" y="0"/>
                    </a:lnTo>
                    <a:lnTo>
                      <a:pt x="552" y="179"/>
                    </a:lnTo>
                    <a:lnTo>
                      <a:pt x="513" y="186"/>
                    </a:lnTo>
                    <a:lnTo>
                      <a:pt x="531" y="314"/>
                    </a:lnTo>
                    <a:lnTo>
                      <a:pt x="513" y="308"/>
                    </a:lnTo>
                    <a:lnTo>
                      <a:pt x="0" y="314"/>
                    </a:lnTo>
                    <a:lnTo>
                      <a:pt x="0" y="430"/>
                    </a:lnTo>
                    <a:lnTo>
                      <a:pt x="92" y="382"/>
                    </a:lnTo>
                    <a:lnTo>
                      <a:pt x="208" y="353"/>
                    </a:lnTo>
                    <a:lnTo>
                      <a:pt x="380" y="348"/>
                    </a:lnTo>
                    <a:lnTo>
                      <a:pt x="502" y="396"/>
                    </a:lnTo>
                    <a:lnTo>
                      <a:pt x="581" y="463"/>
                    </a:lnTo>
                    <a:lnTo>
                      <a:pt x="862" y="459"/>
                    </a:lnTo>
                    <a:lnTo>
                      <a:pt x="862" y="154"/>
                    </a:lnTo>
                    <a:lnTo>
                      <a:pt x="86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9480" y="4413240"/>
                <a:ext cx="124920" cy="4320"/>
              </a:xfrm>
              <a:custGeom>
                <a:avLst/>
                <a:gdLst/>
                <a:ahLst/>
                <a:rect l="l" t="t" r="r" b="b"/>
                <a:pathLst>
                  <a:path w="878" h="28">
                    <a:moveTo>
                      <a:pt x="873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878" y="25"/>
                    </a:lnTo>
                    <a:lnTo>
                      <a:pt x="875" y="23"/>
                    </a:lnTo>
                    <a:lnTo>
                      <a:pt x="873" y="14"/>
                    </a:lnTo>
                    <a:lnTo>
                      <a:pt x="871" y="7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26600" y="43732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4"/>
                    </a:moveTo>
                    <a:lnTo>
                      <a:pt x="195" y="117"/>
                    </a:lnTo>
                    <a:lnTo>
                      <a:pt x="3" y="119"/>
                    </a:lnTo>
                    <a:lnTo>
                      <a:pt x="0" y="65"/>
                    </a:lnTo>
                    <a:lnTo>
                      <a:pt x="19" y="4"/>
                    </a:lnTo>
                    <a:lnTo>
                      <a:pt x="64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40280" y="4367160"/>
                <a:ext cx="18720" cy="75600"/>
              </a:xfrm>
              <a:custGeom>
                <a:avLst/>
                <a:gdLst/>
                <a:ahLst/>
                <a:rect l="l" t="t" r="r" b="b"/>
                <a:pathLst>
                  <a:path w="132" h="461">
                    <a:moveTo>
                      <a:pt x="0" y="447"/>
                    </a:moveTo>
                    <a:lnTo>
                      <a:pt x="0" y="461"/>
                    </a:lnTo>
                    <a:lnTo>
                      <a:pt x="132" y="46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6" y="14"/>
                    </a:lnTo>
                    <a:lnTo>
                      <a:pt x="116" y="447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21920" y="4367160"/>
                <a:ext cx="18000" cy="75600"/>
              </a:xfrm>
              <a:custGeom>
                <a:avLst/>
                <a:gdLst/>
                <a:ahLst/>
                <a:rect l="l" t="t" r="r" b="b"/>
                <a:pathLst>
                  <a:path w="126" h="461">
                    <a:moveTo>
                      <a:pt x="126" y="14"/>
                    </a:moveTo>
                    <a:lnTo>
                      <a:pt x="126" y="0"/>
                    </a:lnTo>
                    <a:lnTo>
                      <a:pt x="16" y="2"/>
                    </a:lnTo>
                    <a:lnTo>
                      <a:pt x="0" y="167"/>
                    </a:lnTo>
                    <a:lnTo>
                      <a:pt x="0" y="459"/>
                    </a:lnTo>
                    <a:lnTo>
                      <a:pt x="126" y="461"/>
                    </a:lnTo>
                    <a:lnTo>
                      <a:pt x="126" y="447"/>
                    </a:lnTo>
                    <a:lnTo>
                      <a:pt x="11" y="447"/>
                    </a:lnTo>
                    <a:lnTo>
                      <a:pt x="11" y="170"/>
                    </a:lnTo>
                    <a:lnTo>
                      <a:pt x="27" y="16"/>
                    </a:lnTo>
                    <a:lnTo>
                      <a:pt x="126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42720" y="4426920"/>
                <a:ext cx="79920" cy="25560"/>
              </a:xfrm>
              <a:custGeom>
                <a:avLst/>
                <a:gdLst/>
                <a:ahLst/>
                <a:rect l="l" t="t" r="r" b="b"/>
                <a:pathLst>
                  <a:path w="562" h="158">
                    <a:moveTo>
                      <a:pt x="562" y="110"/>
                    </a:moveTo>
                    <a:lnTo>
                      <a:pt x="530" y="86"/>
                    </a:lnTo>
                    <a:lnTo>
                      <a:pt x="500" y="63"/>
                    </a:lnTo>
                    <a:lnTo>
                      <a:pt x="471" y="45"/>
                    </a:lnTo>
                    <a:lnTo>
                      <a:pt x="444" y="29"/>
                    </a:lnTo>
                    <a:lnTo>
                      <a:pt x="414" y="18"/>
                    </a:lnTo>
                    <a:lnTo>
                      <a:pt x="385" y="9"/>
                    </a:lnTo>
                    <a:lnTo>
                      <a:pt x="358" y="4"/>
                    </a:lnTo>
                    <a:lnTo>
                      <a:pt x="328" y="0"/>
                    </a:lnTo>
                    <a:lnTo>
                      <a:pt x="301" y="0"/>
                    </a:lnTo>
                    <a:lnTo>
                      <a:pt x="270" y="2"/>
                    </a:lnTo>
                    <a:lnTo>
                      <a:pt x="240" y="7"/>
                    </a:lnTo>
                    <a:lnTo>
                      <a:pt x="209" y="11"/>
                    </a:lnTo>
                    <a:lnTo>
                      <a:pt x="177" y="18"/>
                    </a:lnTo>
                    <a:lnTo>
                      <a:pt x="141" y="27"/>
                    </a:lnTo>
                    <a:lnTo>
                      <a:pt x="107" y="36"/>
                    </a:lnTo>
                    <a:lnTo>
                      <a:pt x="68" y="47"/>
                    </a:lnTo>
                    <a:lnTo>
                      <a:pt x="9" y="81"/>
                    </a:lnTo>
                    <a:lnTo>
                      <a:pt x="64" y="81"/>
                    </a:lnTo>
                    <a:lnTo>
                      <a:pt x="59" y="126"/>
                    </a:lnTo>
                    <a:lnTo>
                      <a:pt x="0" y="126"/>
                    </a:lnTo>
                    <a:lnTo>
                      <a:pt x="0" y="158"/>
                    </a:lnTo>
                    <a:lnTo>
                      <a:pt x="98" y="156"/>
                    </a:lnTo>
                    <a:lnTo>
                      <a:pt x="186" y="156"/>
                    </a:lnTo>
                    <a:lnTo>
                      <a:pt x="222" y="106"/>
                    </a:lnTo>
                    <a:lnTo>
                      <a:pt x="263" y="72"/>
                    </a:lnTo>
                    <a:lnTo>
                      <a:pt x="304" y="47"/>
                    </a:lnTo>
                    <a:lnTo>
                      <a:pt x="347" y="38"/>
                    </a:lnTo>
                    <a:lnTo>
                      <a:pt x="392" y="40"/>
                    </a:lnTo>
                    <a:lnTo>
                      <a:pt x="437" y="56"/>
                    </a:lnTo>
                    <a:lnTo>
                      <a:pt x="482" y="86"/>
                    </a:lnTo>
                    <a:lnTo>
                      <a:pt x="528" y="126"/>
                    </a:lnTo>
                    <a:lnTo>
                      <a:pt x="534" y="122"/>
                    </a:lnTo>
                    <a:lnTo>
                      <a:pt x="546" y="115"/>
                    </a:lnTo>
                    <a:lnTo>
                      <a:pt x="559" y="108"/>
                    </a:lnTo>
                    <a:lnTo>
                      <a:pt x="562" y="11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7320" y="4421520"/>
                <a:ext cx="84240" cy="23400"/>
              </a:xfrm>
              <a:custGeom>
                <a:avLst/>
                <a:gdLst/>
                <a:ahLst/>
                <a:rect l="l" t="t" r="r" b="b"/>
                <a:pathLst>
                  <a:path w="593" h="144">
                    <a:moveTo>
                      <a:pt x="0" y="88"/>
                    </a:moveTo>
                    <a:lnTo>
                      <a:pt x="54" y="115"/>
                    </a:lnTo>
                    <a:lnTo>
                      <a:pt x="91" y="99"/>
                    </a:lnTo>
                    <a:lnTo>
                      <a:pt x="127" y="86"/>
                    </a:lnTo>
                    <a:lnTo>
                      <a:pt x="163" y="72"/>
                    </a:lnTo>
                    <a:lnTo>
                      <a:pt x="197" y="63"/>
                    </a:lnTo>
                    <a:lnTo>
                      <a:pt x="231" y="54"/>
                    </a:lnTo>
                    <a:lnTo>
                      <a:pt x="265" y="47"/>
                    </a:lnTo>
                    <a:lnTo>
                      <a:pt x="299" y="43"/>
                    </a:lnTo>
                    <a:lnTo>
                      <a:pt x="333" y="43"/>
                    </a:lnTo>
                    <a:lnTo>
                      <a:pt x="367" y="45"/>
                    </a:lnTo>
                    <a:lnTo>
                      <a:pt x="398" y="47"/>
                    </a:lnTo>
                    <a:lnTo>
                      <a:pt x="432" y="56"/>
                    </a:lnTo>
                    <a:lnTo>
                      <a:pt x="464" y="65"/>
                    </a:lnTo>
                    <a:lnTo>
                      <a:pt x="496" y="81"/>
                    </a:lnTo>
                    <a:lnTo>
                      <a:pt x="530" y="97"/>
                    </a:lnTo>
                    <a:lnTo>
                      <a:pt x="561" y="120"/>
                    </a:lnTo>
                    <a:lnTo>
                      <a:pt x="593" y="144"/>
                    </a:lnTo>
                    <a:lnTo>
                      <a:pt x="588" y="115"/>
                    </a:lnTo>
                    <a:lnTo>
                      <a:pt x="561" y="84"/>
                    </a:lnTo>
                    <a:lnTo>
                      <a:pt x="532" y="59"/>
                    </a:lnTo>
                    <a:lnTo>
                      <a:pt x="500" y="38"/>
                    </a:lnTo>
                    <a:lnTo>
                      <a:pt x="464" y="23"/>
                    </a:lnTo>
                    <a:lnTo>
                      <a:pt x="428" y="11"/>
                    </a:lnTo>
                    <a:lnTo>
                      <a:pt x="389" y="2"/>
                    </a:lnTo>
                    <a:lnTo>
                      <a:pt x="349" y="0"/>
                    </a:lnTo>
                    <a:lnTo>
                      <a:pt x="308" y="0"/>
                    </a:lnTo>
                    <a:lnTo>
                      <a:pt x="267" y="2"/>
                    </a:lnTo>
                    <a:lnTo>
                      <a:pt x="226" y="9"/>
                    </a:lnTo>
                    <a:lnTo>
                      <a:pt x="186" y="16"/>
                    </a:lnTo>
                    <a:lnTo>
                      <a:pt x="145" y="27"/>
                    </a:lnTo>
                    <a:lnTo>
                      <a:pt x="107" y="41"/>
                    </a:lnTo>
                    <a:lnTo>
                      <a:pt x="68" y="54"/>
                    </a:lnTo>
                    <a:lnTo>
                      <a:pt x="34" y="7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40560" y="4396320"/>
                <a:ext cx="74160" cy="18000"/>
              </a:xfrm>
              <a:custGeom>
                <a:avLst/>
                <a:gdLst/>
                <a:ahLst/>
                <a:rect l="l" t="t" r="r" b="b"/>
                <a:pathLst>
                  <a:path w="520" h="108">
                    <a:moveTo>
                      <a:pt x="497" y="0"/>
                    </a:moveTo>
                    <a:lnTo>
                      <a:pt x="520" y="106"/>
                    </a:lnTo>
                    <a:lnTo>
                      <a:pt x="0" y="108"/>
                    </a:lnTo>
                    <a:lnTo>
                      <a:pt x="58" y="74"/>
                    </a:lnTo>
                    <a:lnTo>
                      <a:pt x="153" y="49"/>
                    </a:lnTo>
                    <a:lnTo>
                      <a:pt x="330" y="13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24800" y="4444200"/>
                <a:ext cx="60480" cy="19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75560" y="4443480"/>
                <a:ext cx="360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63320" y="4443480"/>
                <a:ext cx="288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38840" y="4442760"/>
                <a:ext cx="360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30920" y="4442760"/>
                <a:ext cx="288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24800" y="4448520"/>
                <a:ext cx="60480" cy="1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75560" y="444780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3320" y="444780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38840" y="444780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30920" y="444780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24800" y="4450680"/>
                <a:ext cx="604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75560" y="4450680"/>
                <a:ext cx="360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63320" y="4450680"/>
                <a:ext cx="28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38840" y="4449960"/>
                <a:ext cx="360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30920" y="4449960"/>
                <a:ext cx="288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24800" y="4452120"/>
                <a:ext cx="604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75560" y="445212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63320" y="445212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38840" y="445212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230920" y="445212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11920" y="442908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613" h="126">
                    <a:moveTo>
                      <a:pt x="608" y="0"/>
                    </a:moveTo>
                    <a:lnTo>
                      <a:pt x="0" y="0"/>
                    </a:lnTo>
                    <a:lnTo>
                      <a:pt x="0" y="65"/>
                    </a:lnTo>
                    <a:lnTo>
                      <a:pt x="70" y="70"/>
                    </a:lnTo>
                    <a:lnTo>
                      <a:pt x="70" y="126"/>
                    </a:lnTo>
                    <a:lnTo>
                      <a:pt x="131" y="126"/>
                    </a:lnTo>
                    <a:lnTo>
                      <a:pt x="188" y="47"/>
                    </a:lnTo>
                    <a:lnTo>
                      <a:pt x="344" y="40"/>
                    </a:lnTo>
                    <a:lnTo>
                      <a:pt x="407" y="94"/>
                    </a:lnTo>
                    <a:lnTo>
                      <a:pt x="461" y="40"/>
                    </a:lnTo>
                    <a:lnTo>
                      <a:pt x="613" y="31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170440" y="4440600"/>
                <a:ext cx="46080" cy="56160"/>
              </a:xfrm>
              <a:custGeom>
                <a:avLst/>
                <a:gdLst/>
                <a:ahLst/>
                <a:rect l="l" t="t" r="r" b="b"/>
                <a:pathLst>
                  <a:path w="328" h="344">
                    <a:moveTo>
                      <a:pt x="165" y="0"/>
                    </a:moveTo>
                    <a:lnTo>
                      <a:pt x="131" y="5"/>
                    </a:lnTo>
                    <a:lnTo>
                      <a:pt x="102" y="14"/>
                    </a:lnTo>
                    <a:lnTo>
                      <a:pt x="72" y="30"/>
                    </a:lnTo>
                    <a:lnTo>
                      <a:pt x="49" y="50"/>
                    </a:lnTo>
                    <a:lnTo>
                      <a:pt x="29" y="75"/>
                    </a:lnTo>
                    <a:lnTo>
                      <a:pt x="13" y="104"/>
                    </a:lnTo>
                    <a:lnTo>
                      <a:pt x="2" y="138"/>
                    </a:lnTo>
                    <a:lnTo>
                      <a:pt x="0" y="172"/>
                    </a:lnTo>
                    <a:lnTo>
                      <a:pt x="2" y="206"/>
                    </a:lnTo>
                    <a:lnTo>
                      <a:pt x="13" y="240"/>
                    </a:lnTo>
                    <a:lnTo>
                      <a:pt x="29" y="269"/>
                    </a:lnTo>
                    <a:lnTo>
                      <a:pt x="49" y="294"/>
                    </a:lnTo>
                    <a:lnTo>
                      <a:pt x="72" y="314"/>
                    </a:lnTo>
                    <a:lnTo>
                      <a:pt x="102" y="330"/>
                    </a:lnTo>
                    <a:lnTo>
                      <a:pt x="131" y="339"/>
                    </a:lnTo>
                    <a:lnTo>
                      <a:pt x="165" y="344"/>
                    </a:lnTo>
                    <a:lnTo>
                      <a:pt x="199" y="339"/>
                    </a:lnTo>
                    <a:lnTo>
                      <a:pt x="230" y="330"/>
                    </a:lnTo>
                    <a:lnTo>
                      <a:pt x="258" y="314"/>
                    </a:lnTo>
                    <a:lnTo>
                      <a:pt x="280" y="294"/>
                    </a:lnTo>
                    <a:lnTo>
                      <a:pt x="301" y="269"/>
                    </a:lnTo>
                    <a:lnTo>
                      <a:pt x="316" y="240"/>
                    </a:lnTo>
                    <a:lnTo>
                      <a:pt x="326" y="206"/>
                    </a:lnTo>
                    <a:lnTo>
                      <a:pt x="328" y="172"/>
                    </a:lnTo>
                    <a:lnTo>
                      <a:pt x="326" y="138"/>
                    </a:lnTo>
                    <a:lnTo>
                      <a:pt x="316" y="104"/>
                    </a:lnTo>
                    <a:lnTo>
                      <a:pt x="301" y="75"/>
                    </a:lnTo>
                    <a:lnTo>
                      <a:pt x="280" y="50"/>
                    </a:lnTo>
                    <a:lnTo>
                      <a:pt x="258" y="30"/>
                    </a:lnTo>
                    <a:lnTo>
                      <a:pt x="230" y="14"/>
                    </a:lnTo>
                    <a:lnTo>
                      <a:pt x="199" y="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325240" y="444060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06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31"/>
                    </a:lnTo>
                    <a:lnTo>
                      <a:pt x="0" y="162"/>
                    </a:lnTo>
                    <a:lnTo>
                      <a:pt x="2" y="196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7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6" y="323"/>
                    </a:lnTo>
                    <a:lnTo>
                      <a:pt x="213" y="311"/>
                    </a:lnTo>
                    <a:lnTo>
                      <a:pt x="238" y="298"/>
                    </a:lnTo>
                    <a:lnTo>
                      <a:pt x="260" y="277"/>
                    </a:lnTo>
                    <a:lnTo>
                      <a:pt x="278" y="253"/>
                    </a:lnTo>
                    <a:lnTo>
                      <a:pt x="294" y="226"/>
                    </a:lnTo>
                    <a:lnTo>
                      <a:pt x="303" y="196"/>
                    </a:lnTo>
                    <a:lnTo>
                      <a:pt x="306" y="162"/>
                    </a:lnTo>
                    <a:lnTo>
                      <a:pt x="303" y="131"/>
                    </a:lnTo>
                    <a:lnTo>
                      <a:pt x="294" y="99"/>
                    </a:lnTo>
                    <a:lnTo>
                      <a:pt x="278" y="72"/>
                    </a:lnTo>
                    <a:lnTo>
                      <a:pt x="260" y="47"/>
                    </a:lnTo>
                    <a:lnTo>
                      <a:pt x="238" y="27"/>
                    </a:lnTo>
                    <a:lnTo>
                      <a:pt x="213" y="13"/>
                    </a:lnTo>
                    <a:lnTo>
                      <a:pt x="186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671560" y="444420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6" y="47"/>
                    </a:lnTo>
                    <a:lnTo>
                      <a:pt x="27" y="72"/>
                    </a:lnTo>
                    <a:lnTo>
                      <a:pt x="12" y="99"/>
                    </a:lnTo>
                    <a:lnTo>
                      <a:pt x="3" y="128"/>
                    </a:lnTo>
                    <a:lnTo>
                      <a:pt x="0" y="162"/>
                    </a:lnTo>
                    <a:lnTo>
                      <a:pt x="3" y="196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8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5" y="278"/>
                    </a:lnTo>
                    <a:lnTo>
                      <a:pt x="283" y="253"/>
                    </a:lnTo>
                    <a:lnTo>
                      <a:pt x="299" y="226"/>
                    </a:lnTo>
                    <a:lnTo>
                      <a:pt x="308" y="196"/>
                    </a:lnTo>
                    <a:lnTo>
                      <a:pt x="310" y="162"/>
                    </a:lnTo>
                    <a:lnTo>
                      <a:pt x="308" y="128"/>
                    </a:lnTo>
                    <a:lnTo>
                      <a:pt x="299" y="99"/>
                    </a:lnTo>
                    <a:lnTo>
                      <a:pt x="283" y="72"/>
                    </a:lnTo>
                    <a:lnTo>
                      <a:pt x="265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8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369520" y="4442040"/>
                <a:ext cx="44280" cy="5328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3" y="0"/>
                    </a:moveTo>
                    <a:lnTo>
                      <a:pt x="122" y="2"/>
                    </a:lnTo>
                    <a:lnTo>
                      <a:pt x="95" y="13"/>
                    </a:lnTo>
                    <a:lnTo>
                      <a:pt x="67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28"/>
                    </a:lnTo>
                    <a:lnTo>
                      <a:pt x="0" y="162"/>
                    </a:lnTo>
                    <a:lnTo>
                      <a:pt x="2" y="194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8"/>
                    </a:lnTo>
                    <a:lnTo>
                      <a:pt x="95" y="311"/>
                    </a:lnTo>
                    <a:lnTo>
                      <a:pt x="122" y="323"/>
                    </a:lnTo>
                    <a:lnTo>
                      <a:pt x="153" y="325"/>
                    </a:lnTo>
                    <a:lnTo>
                      <a:pt x="185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4"/>
                    </a:lnTo>
                    <a:lnTo>
                      <a:pt x="310" y="162"/>
                    </a:lnTo>
                    <a:lnTo>
                      <a:pt x="307" y="128"/>
                    </a:lnTo>
                    <a:lnTo>
                      <a:pt x="298" y="99"/>
                    </a:lnTo>
                    <a:lnTo>
                      <a:pt x="282" y="72"/>
                    </a:lnTo>
                    <a:lnTo>
                      <a:pt x="264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5" y="2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20880" y="4442040"/>
                <a:ext cx="43920" cy="53280"/>
              </a:xfrm>
              <a:custGeom>
                <a:avLst/>
                <a:gdLst/>
                <a:ahLst/>
                <a:rect l="l" t="t" r="r" b="b"/>
                <a:pathLst>
                  <a:path w="310" h="328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30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2" y="102"/>
                    </a:lnTo>
                    <a:lnTo>
                      <a:pt x="2" y="131"/>
                    </a:lnTo>
                    <a:lnTo>
                      <a:pt x="0" y="165"/>
                    </a:lnTo>
                    <a:lnTo>
                      <a:pt x="2" y="197"/>
                    </a:lnTo>
                    <a:lnTo>
                      <a:pt x="12" y="229"/>
                    </a:lnTo>
                    <a:lnTo>
                      <a:pt x="27" y="256"/>
                    </a:lnTo>
                    <a:lnTo>
                      <a:pt x="45" y="281"/>
                    </a:lnTo>
                    <a:lnTo>
                      <a:pt x="68" y="301"/>
                    </a:lnTo>
                    <a:lnTo>
                      <a:pt x="95" y="314"/>
                    </a:lnTo>
                    <a:lnTo>
                      <a:pt x="125" y="326"/>
                    </a:lnTo>
                    <a:lnTo>
                      <a:pt x="156" y="328"/>
                    </a:lnTo>
                    <a:lnTo>
                      <a:pt x="188" y="326"/>
                    </a:lnTo>
                    <a:lnTo>
                      <a:pt x="215" y="314"/>
                    </a:lnTo>
                    <a:lnTo>
                      <a:pt x="242" y="301"/>
                    </a:lnTo>
                    <a:lnTo>
                      <a:pt x="265" y="281"/>
                    </a:lnTo>
                    <a:lnTo>
                      <a:pt x="283" y="256"/>
                    </a:lnTo>
                    <a:lnTo>
                      <a:pt x="299" y="229"/>
                    </a:lnTo>
                    <a:lnTo>
                      <a:pt x="308" y="197"/>
                    </a:lnTo>
                    <a:lnTo>
                      <a:pt x="310" y="165"/>
                    </a:lnTo>
                    <a:lnTo>
                      <a:pt x="308" y="131"/>
                    </a:lnTo>
                    <a:lnTo>
                      <a:pt x="299" y="102"/>
                    </a:lnTo>
                    <a:lnTo>
                      <a:pt x="283" y="73"/>
                    </a:lnTo>
                    <a:lnTo>
                      <a:pt x="265" y="48"/>
                    </a:lnTo>
                    <a:lnTo>
                      <a:pt x="242" y="30"/>
                    </a:lnTo>
                    <a:lnTo>
                      <a:pt x="215" y="14"/>
                    </a:lnTo>
                    <a:lnTo>
                      <a:pt x="188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72960" y="44442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88" h="302">
                    <a:moveTo>
                      <a:pt x="143" y="0"/>
                    </a:moveTo>
                    <a:lnTo>
                      <a:pt x="113" y="2"/>
                    </a:lnTo>
                    <a:lnTo>
                      <a:pt x="86" y="11"/>
                    </a:lnTo>
                    <a:lnTo>
                      <a:pt x="64" y="25"/>
                    </a:lnTo>
                    <a:lnTo>
                      <a:pt x="41" y="45"/>
                    </a:lnTo>
                    <a:lnTo>
                      <a:pt x="25" y="67"/>
                    </a:lnTo>
                    <a:lnTo>
                      <a:pt x="12" y="92"/>
                    </a:lnTo>
                    <a:lnTo>
                      <a:pt x="3" y="119"/>
                    </a:lnTo>
                    <a:lnTo>
                      <a:pt x="0" y="151"/>
                    </a:lnTo>
                    <a:lnTo>
                      <a:pt x="3" y="183"/>
                    </a:lnTo>
                    <a:lnTo>
                      <a:pt x="12" y="210"/>
                    </a:lnTo>
                    <a:lnTo>
                      <a:pt x="25" y="235"/>
                    </a:lnTo>
                    <a:lnTo>
                      <a:pt x="41" y="257"/>
                    </a:lnTo>
                    <a:lnTo>
                      <a:pt x="64" y="278"/>
                    </a:lnTo>
                    <a:lnTo>
                      <a:pt x="86" y="291"/>
                    </a:lnTo>
                    <a:lnTo>
                      <a:pt x="113" y="300"/>
                    </a:lnTo>
                    <a:lnTo>
                      <a:pt x="143" y="302"/>
                    </a:lnTo>
                    <a:lnTo>
                      <a:pt x="172" y="300"/>
                    </a:lnTo>
                    <a:lnTo>
                      <a:pt x="199" y="291"/>
                    </a:lnTo>
                    <a:lnTo>
                      <a:pt x="224" y="278"/>
                    </a:lnTo>
                    <a:lnTo>
                      <a:pt x="245" y="257"/>
                    </a:lnTo>
                    <a:lnTo>
                      <a:pt x="263" y="235"/>
                    </a:lnTo>
                    <a:lnTo>
                      <a:pt x="276" y="210"/>
                    </a:lnTo>
                    <a:lnTo>
                      <a:pt x="285" y="183"/>
                    </a:lnTo>
                    <a:lnTo>
                      <a:pt x="288" y="151"/>
                    </a:lnTo>
                    <a:lnTo>
                      <a:pt x="285" y="119"/>
                    </a:lnTo>
                    <a:lnTo>
                      <a:pt x="276" y="92"/>
                    </a:lnTo>
                    <a:lnTo>
                      <a:pt x="263" y="67"/>
                    </a:lnTo>
                    <a:lnTo>
                      <a:pt x="245" y="45"/>
                    </a:lnTo>
                    <a:lnTo>
                      <a:pt x="224" y="25"/>
                    </a:lnTo>
                    <a:lnTo>
                      <a:pt x="199" y="11"/>
                    </a:lnTo>
                    <a:lnTo>
                      <a:pt x="172" y="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28120" y="4444200"/>
                <a:ext cx="38520" cy="47160"/>
              </a:xfrm>
              <a:custGeom>
                <a:avLst/>
                <a:gdLst/>
                <a:ahLst/>
                <a:rect l="l" t="t" r="r" b="b"/>
                <a:pathLst>
                  <a:path w="269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1"/>
                    </a:lnTo>
                    <a:lnTo>
                      <a:pt x="23" y="63"/>
                    </a:lnTo>
                    <a:lnTo>
                      <a:pt x="12" y="86"/>
                    </a:lnTo>
                    <a:lnTo>
                      <a:pt x="2" y="113"/>
                    </a:lnTo>
                    <a:lnTo>
                      <a:pt x="0" y="142"/>
                    </a:lnTo>
                    <a:lnTo>
                      <a:pt x="2" y="172"/>
                    </a:lnTo>
                    <a:lnTo>
                      <a:pt x="12" y="199"/>
                    </a:lnTo>
                    <a:lnTo>
                      <a:pt x="23" y="224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6"/>
                    </a:lnTo>
                    <a:lnTo>
                      <a:pt x="111" y="285"/>
                    </a:lnTo>
                    <a:lnTo>
                      <a:pt x="138" y="287"/>
                    </a:lnTo>
                    <a:lnTo>
                      <a:pt x="163" y="285"/>
                    </a:lnTo>
                    <a:lnTo>
                      <a:pt x="188" y="276"/>
                    </a:lnTo>
                    <a:lnTo>
                      <a:pt x="211" y="262"/>
                    </a:lnTo>
                    <a:lnTo>
                      <a:pt x="231" y="244"/>
                    </a:lnTo>
                    <a:lnTo>
                      <a:pt x="247" y="224"/>
                    </a:lnTo>
                    <a:lnTo>
                      <a:pt x="258" y="199"/>
                    </a:lnTo>
                    <a:lnTo>
                      <a:pt x="267" y="172"/>
                    </a:lnTo>
                    <a:lnTo>
                      <a:pt x="269" y="142"/>
                    </a:lnTo>
                    <a:lnTo>
                      <a:pt x="267" y="113"/>
                    </a:lnTo>
                    <a:lnTo>
                      <a:pt x="258" y="86"/>
                    </a:lnTo>
                    <a:lnTo>
                      <a:pt x="247" y="63"/>
                    </a:lnTo>
                    <a:lnTo>
                      <a:pt x="231" y="41"/>
                    </a:lnTo>
                    <a:lnTo>
                      <a:pt x="211" y="25"/>
                    </a:lnTo>
                    <a:lnTo>
                      <a:pt x="188" y="11"/>
                    </a:lnTo>
                    <a:lnTo>
                      <a:pt x="163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74080" y="444708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4"/>
                    </a:lnTo>
                    <a:lnTo>
                      <a:pt x="3" y="174"/>
                    </a:lnTo>
                    <a:lnTo>
                      <a:pt x="12" y="201"/>
                    </a:lnTo>
                    <a:lnTo>
                      <a:pt x="23" y="223"/>
                    </a:lnTo>
                    <a:lnTo>
                      <a:pt x="41" y="246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11" y="284"/>
                    </a:lnTo>
                    <a:lnTo>
                      <a:pt x="138" y="287"/>
                    </a:lnTo>
                    <a:lnTo>
                      <a:pt x="166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6"/>
                    </a:lnTo>
                    <a:lnTo>
                      <a:pt x="252" y="223"/>
                    </a:lnTo>
                    <a:lnTo>
                      <a:pt x="263" y="201"/>
                    </a:lnTo>
                    <a:lnTo>
                      <a:pt x="272" y="174"/>
                    </a:lnTo>
                    <a:lnTo>
                      <a:pt x="274" y="144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2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6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72040" y="444564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3" h="287">
                    <a:moveTo>
                      <a:pt x="135" y="0"/>
                    </a:moveTo>
                    <a:lnTo>
                      <a:pt x="108" y="2"/>
                    </a:lnTo>
                    <a:lnTo>
                      <a:pt x="83" y="11"/>
                    </a:lnTo>
                    <a:lnTo>
                      <a:pt x="61" y="25"/>
                    </a:lnTo>
                    <a:lnTo>
                      <a:pt x="40" y="43"/>
                    </a:lnTo>
                    <a:lnTo>
                      <a:pt x="22" y="63"/>
                    </a:lnTo>
                    <a:lnTo>
                      <a:pt x="11" y="88"/>
                    </a:lnTo>
                    <a:lnTo>
                      <a:pt x="2" y="115"/>
                    </a:lnTo>
                    <a:lnTo>
                      <a:pt x="0" y="142"/>
                    </a:lnTo>
                    <a:lnTo>
                      <a:pt x="2" y="171"/>
                    </a:lnTo>
                    <a:lnTo>
                      <a:pt x="11" y="199"/>
                    </a:lnTo>
                    <a:lnTo>
                      <a:pt x="22" y="223"/>
                    </a:lnTo>
                    <a:lnTo>
                      <a:pt x="40" y="244"/>
                    </a:lnTo>
                    <a:lnTo>
                      <a:pt x="61" y="262"/>
                    </a:lnTo>
                    <a:lnTo>
                      <a:pt x="83" y="275"/>
                    </a:lnTo>
                    <a:lnTo>
                      <a:pt x="108" y="284"/>
                    </a:lnTo>
                    <a:lnTo>
                      <a:pt x="135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2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2" y="199"/>
                    </a:lnTo>
                    <a:lnTo>
                      <a:pt x="271" y="171"/>
                    </a:lnTo>
                    <a:lnTo>
                      <a:pt x="273" y="142"/>
                    </a:lnTo>
                    <a:lnTo>
                      <a:pt x="271" y="115"/>
                    </a:lnTo>
                    <a:lnTo>
                      <a:pt x="262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2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23400" y="444564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6" y="0"/>
                    </a:moveTo>
                    <a:lnTo>
                      <a:pt x="109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2"/>
                    </a:lnTo>
                    <a:lnTo>
                      <a:pt x="3" y="171"/>
                    </a:lnTo>
                    <a:lnTo>
                      <a:pt x="12" y="199"/>
                    </a:lnTo>
                    <a:lnTo>
                      <a:pt x="23" y="223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09" y="284"/>
                    </a:lnTo>
                    <a:lnTo>
                      <a:pt x="136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3" y="199"/>
                    </a:lnTo>
                    <a:lnTo>
                      <a:pt x="272" y="171"/>
                    </a:lnTo>
                    <a:lnTo>
                      <a:pt x="274" y="142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78720" y="4450680"/>
                <a:ext cx="29520" cy="36360"/>
              </a:xfrm>
              <a:custGeom>
                <a:avLst/>
                <a:gdLst/>
                <a:ahLst/>
                <a:rect l="l" t="t" r="r" b="b"/>
                <a:pathLst>
                  <a:path w="208" h="219">
                    <a:moveTo>
                      <a:pt x="106" y="0"/>
                    </a:moveTo>
                    <a:lnTo>
                      <a:pt x="86" y="2"/>
                    </a:lnTo>
                    <a:lnTo>
                      <a:pt x="65" y="9"/>
                    </a:lnTo>
                    <a:lnTo>
                      <a:pt x="47" y="18"/>
                    </a:lnTo>
                    <a:lnTo>
                      <a:pt x="31" y="31"/>
                    </a:lnTo>
                    <a:lnTo>
                      <a:pt x="18" y="49"/>
                    </a:lnTo>
                    <a:lnTo>
                      <a:pt x="9" y="67"/>
                    </a:lnTo>
                    <a:lnTo>
                      <a:pt x="2" y="88"/>
                    </a:lnTo>
                    <a:lnTo>
                      <a:pt x="0" y="110"/>
                    </a:lnTo>
                    <a:lnTo>
                      <a:pt x="2" y="133"/>
                    </a:lnTo>
                    <a:lnTo>
                      <a:pt x="9" y="153"/>
                    </a:lnTo>
                    <a:lnTo>
                      <a:pt x="18" y="171"/>
                    </a:lnTo>
                    <a:lnTo>
                      <a:pt x="31" y="187"/>
                    </a:lnTo>
                    <a:lnTo>
                      <a:pt x="47" y="201"/>
                    </a:lnTo>
                    <a:lnTo>
                      <a:pt x="65" y="210"/>
                    </a:lnTo>
                    <a:lnTo>
                      <a:pt x="86" y="216"/>
                    </a:lnTo>
                    <a:lnTo>
                      <a:pt x="106" y="219"/>
                    </a:lnTo>
                    <a:lnTo>
                      <a:pt x="126" y="216"/>
                    </a:lnTo>
                    <a:lnTo>
                      <a:pt x="147" y="210"/>
                    </a:lnTo>
                    <a:lnTo>
                      <a:pt x="162" y="201"/>
                    </a:lnTo>
                    <a:lnTo>
                      <a:pt x="178" y="187"/>
                    </a:lnTo>
                    <a:lnTo>
                      <a:pt x="190" y="171"/>
                    </a:lnTo>
                    <a:lnTo>
                      <a:pt x="199" y="153"/>
                    </a:lnTo>
                    <a:lnTo>
                      <a:pt x="205" y="133"/>
                    </a:lnTo>
                    <a:lnTo>
                      <a:pt x="208" y="110"/>
                    </a:lnTo>
                    <a:lnTo>
                      <a:pt x="205" y="88"/>
                    </a:lnTo>
                    <a:lnTo>
                      <a:pt x="199" y="67"/>
                    </a:lnTo>
                    <a:lnTo>
                      <a:pt x="190" y="49"/>
                    </a:lnTo>
                    <a:lnTo>
                      <a:pt x="178" y="31"/>
                    </a:lnTo>
                    <a:lnTo>
                      <a:pt x="162" y="18"/>
                    </a:lnTo>
                    <a:lnTo>
                      <a:pt x="147" y="9"/>
                    </a:lnTo>
                    <a:lnTo>
                      <a:pt x="126" y="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33160" y="4450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7" h="207">
                    <a:moveTo>
                      <a:pt x="100" y="0"/>
                    </a:moveTo>
                    <a:lnTo>
                      <a:pt x="80" y="2"/>
                    </a:lnTo>
                    <a:lnTo>
                      <a:pt x="61" y="9"/>
                    </a:lnTo>
                    <a:lnTo>
                      <a:pt x="46" y="18"/>
                    </a:lnTo>
                    <a:lnTo>
                      <a:pt x="30" y="31"/>
                    </a:lnTo>
                    <a:lnTo>
                      <a:pt x="19" y="45"/>
                    </a:lnTo>
                    <a:lnTo>
                      <a:pt x="9" y="63"/>
                    </a:lnTo>
                    <a:lnTo>
                      <a:pt x="3" y="83"/>
                    </a:lnTo>
                    <a:lnTo>
                      <a:pt x="0" y="104"/>
                    </a:lnTo>
                    <a:lnTo>
                      <a:pt x="3" y="124"/>
                    </a:lnTo>
                    <a:lnTo>
                      <a:pt x="9" y="144"/>
                    </a:lnTo>
                    <a:lnTo>
                      <a:pt x="19" y="162"/>
                    </a:lnTo>
                    <a:lnTo>
                      <a:pt x="30" y="176"/>
                    </a:lnTo>
                    <a:lnTo>
                      <a:pt x="46" y="189"/>
                    </a:lnTo>
                    <a:lnTo>
                      <a:pt x="61" y="198"/>
                    </a:lnTo>
                    <a:lnTo>
                      <a:pt x="80" y="205"/>
                    </a:lnTo>
                    <a:lnTo>
                      <a:pt x="100" y="207"/>
                    </a:lnTo>
                    <a:lnTo>
                      <a:pt x="118" y="205"/>
                    </a:lnTo>
                    <a:lnTo>
                      <a:pt x="136" y="198"/>
                    </a:lnTo>
                    <a:lnTo>
                      <a:pt x="152" y="189"/>
                    </a:lnTo>
                    <a:lnTo>
                      <a:pt x="168" y="176"/>
                    </a:lnTo>
                    <a:lnTo>
                      <a:pt x="179" y="162"/>
                    </a:lnTo>
                    <a:lnTo>
                      <a:pt x="188" y="144"/>
                    </a:lnTo>
                    <a:lnTo>
                      <a:pt x="195" y="124"/>
                    </a:lnTo>
                    <a:lnTo>
                      <a:pt x="197" y="104"/>
                    </a:lnTo>
                    <a:lnTo>
                      <a:pt x="195" y="83"/>
                    </a:lnTo>
                    <a:lnTo>
                      <a:pt x="188" y="63"/>
                    </a:lnTo>
                    <a:lnTo>
                      <a:pt x="179" y="45"/>
                    </a:lnTo>
                    <a:lnTo>
                      <a:pt x="168" y="31"/>
                    </a:lnTo>
                    <a:lnTo>
                      <a:pt x="152" y="18"/>
                    </a:lnTo>
                    <a:lnTo>
                      <a:pt x="136" y="9"/>
                    </a:lnTo>
                    <a:lnTo>
                      <a:pt x="118" y="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79480" y="445356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9" h="208">
                    <a:moveTo>
                      <a:pt x="99" y="0"/>
                    </a:moveTo>
                    <a:lnTo>
                      <a:pt x="79" y="2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29"/>
                    </a:lnTo>
                    <a:lnTo>
                      <a:pt x="18" y="45"/>
                    </a:lnTo>
                    <a:lnTo>
                      <a:pt x="9" y="63"/>
                    </a:lnTo>
                    <a:lnTo>
                      <a:pt x="2" y="83"/>
                    </a:lnTo>
                    <a:lnTo>
                      <a:pt x="0" y="104"/>
                    </a:lnTo>
                    <a:lnTo>
                      <a:pt x="2" y="124"/>
                    </a:lnTo>
                    <a:lnTo>
                      <a:pt x="9" y="144"/>
                    </a:lnTo>
                    <a:lnTo>
                      <a:pt x="18" y="162"/>
                    </a:lnTo>
                    <a:lnTo>
                      <a:pt x="29" y="176"/>
                    </a:lnTo>
                    <a:lnTo>
                      <a:pt x="45" y="189"/>
                    </a:lnTo>
                    <a:lnTo>
                      <a:pt x="61" y="198"/>
                    </a:lnTo>
                    <a:lnTo>
                      <a:pt x="79" y="205"/>
                    </a:lnTo>
                    <a:lnTo>
                      <a:pt x="99" y="208"/>
                    </a:lnTo>
                    <a:lnTo>
                      <a:pt x="120" y="205"/>
                    </a:lnTo>
                    <a:lnTo>
                      <a:pt x="138" y="198"/>
                    </a:lnTo>
                    <a:lnTo>
                      <a:pt x="153" y="189"/>
                    </a:lnTo>
                    <a:lnTo>
                      <a:pt x="169" y="176"/>
                    </a:lnTo>
                    <a:lnTo>
                      <a:pt x="181" y="162"/>
                    </a:lnTo>
                    <a:lnTo>
                      <a:pt x="192" y="144"/>
                    </a:lnTo>
                    <a:lnTo>
                      <a:pt x="196" y="124"/>
                    </a:lnTo>
                    <a:lnTo>
                      <a:pt x="199" y="104"/>
                    </a:lnTo>
                    <a:lnTo>
                      <a:pt x="196" y="83"/>
                    </a:lnTo>
                    <a:lnTo>
                      <a:pt x="192" y="63"/>
                    </a:lnTo>
                    <a:lnTo>
                      <a:pt x="181" y="45"/>
                    </a:lnTo>
                    <a:lnTo>
                      <a:pt x="169" y="29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20" y="2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77080" y="445212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20" y="206"/>
                    </a:lnTo>
                    <a:lnTo>
                      <a:pt x="138" y="199"/>
                    </a:lnTo>
                    <a:lnTo>
                      <a:pt x="154" y="190"/>
                    </a:lnTo>
                    <a:lnTo>
                      <a:pt x="170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7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70" y="32"/>
                    </a:lnTo>
                    <a:lnTo>
                      <a:pt x="154" y="18"/>
                    </a:lnTo>
                    <a:lnTo>
                      <a:pt x="138" y="9"/>
                    </a:lnTo>
                    <a:lnTo>
                      <a:pt x="120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28440" y="445212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6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19" y="206"/>
                    </a:lnTo>
                    <a:lnTo>
                      <a:pt x="138" y="199"/>
                    </a:lnTo>
                    <a:lnTo>
                      <a:pt x="153" y="190"/>
                    </a:lnTo>
                    <a:lnTo>
                      <a:pt x="169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6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69" y="32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19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80880" y="445284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84" h="192">
                    <a:moveTo>
                      <a:pt x="91" y="0"/>
                    </a:moveTo>
                    <a:lnTo>
                      <a:pt x="73" y="2"/>
                    </a:lnTo>
                    <a:lnTo>
                      <a:pt x="55" y="7"/>
                    </a:lnTo>
                    <a:lnTo>
                      <a:pt x="41" y="16"/>
                    </a:lnTo>
                    <a:lnTo>
                      <a:pt x="28" y="27"/>
                    </a:lnTo>
                    <a:lnTo>
                      <a:pt x="16" y="43"/>
                    </a:lnTo>
                    <a:lnTo>
                      <a:pt x="7" y="59"/>
                    </a:lnTo>
                    <a:lnTo>
                      <a:pt x="3" y="77"/>
                    </a:lnTo>
                    <a:lnTo>
                      <a:pt x="0" y="95"/>
                    </a:lnTo>
                    <a:lnTo>
                      <a:pt x="3" y="115"/>
                    </a:lnTo>
                    <a:lnTo>
                      <a:pt x="7" y="133"/>
                    </a:lnTo>
                    <a:lnTo>
                      <a:pt x="16" y="149"/>
                    </a:lnTo>
                    <a:lnTo>
                      <a:pt x="28" y="163"/>
                    </a:lnTo>
                    <a:lnTo>
                      <a:pt x="41" y="176"/>
                    </a:lnTo>
                    <a:lnTo>
                      <a:pt x="55" y="185"/>
                    </a:lnTo>
                    <a:lnTo>
                      <a:pt x="73" y="190"/>
                    </a:lnTo>
                    <a:lnTo>
                      <a:pt x="91" y="192"/>
                    </a:lnTo>
                    <a:lnTo>
                      <a:pt x="109" y="190"/>
                    </a:lnTo>
                    <a:lnTo>
                      <a:pt x="127" y="185"/>
                    </a:lnTo>
                    <a:lnTo>
                      <a:pt x="143" y="176"/>
                    </a:lnTo>
                    <a:lnTo>
                      <a:pt x="156" y="163"/>
                    </a:lnTo>
                    <a:lnTo>
                      <a:pt x="168" y="149"/>
                    </a:lnTo>
                    <a:lnTo>
                      <a:pt x="177" y="133"/>
                    </a:lnTo>
                    <a:lnTo>
                      <a:pt x="181" y="115"/>
                    </a:lnTo>
                    <a:lnTo>
                      <a:pt x="184" y="95"/>
                    </a:lnTo>
                    <a:lnTo>
                      <a:pt x="181" y="77"/>
                    </a:lnTo>
                    <a:lnTo>
                      <a:pt x="177" y="59"/>
                    </a:lnTo>
                    <a:lnTo>
                      <a:pt x="168" y="43"/>
                    </a:lnTo>
                    <a:lnTo>
                      <a:pt x="156" y="27"/>
                    </a:lnTo>
                    <a:lnTo>
                      <a:pt x="143" y="16"/>
                    </a:lnTo>
                    <a:lnTo>
                      <a:pt x="127" y="7"/>
                    </a:lnTo>
                    <a:lnTo>
                      <a:pt x="109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35680" y="4452840"/>
                <a:ext cx="23760" cy="29160"/>
              </a:xfrm>
              <a:custGeom>
                <a:avLst/>
                <a:gdLst/>
                <a:ahLst/>
                <a:rect l="l" t="t" r="r" b="b"/>
                <a:pathLst>
                  <a:path w="168" h="181">
                    <a:moveTo>
                      <a:pt x="86" y="0"/>
                    </a:moveTo>
                    <a:lnTo>
                      <a:pt x="70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7" y="27"/>
                    </a:lnTo>
                    <a:lnTo>
                      <a:pt x="16" y="41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6" y="140"/>
                    </a:lnTo>
                    <a:lnTo>
                      <a:pt x="27" y="154"/>
                    </a:lnTo>
                    <a:lnTo>
                      <a:pt x="39" y="165"/>
                    </a:lnTo>
                    <a:lnTo>
                      <a:pt x="55" y="174"/>
                    </a:lnTo>
                    <a:lnTo>
                      <a:pt x="70" y="178"/>
                    </a:lnTo>
                    <a:lnTo>
                      <a:pt x="86" y="181"/>
                    </a:lnTo>
                    <a:lnTo>
                      <a:pt x="102" y="178"/>
                    </a:lnTo>
                    <a:lnTo>
                      <a:pt x="118" y="174"/>
                    </a:lnTo>
                    <a:lnTo>
                      <a:pt x="131" y="165"/>
                    </a:lnTo>
                    <a:lnTo>
                      <a:pt x="145" y="154"/>
                    </a:lnTo>
                    <a:lnTo>
                      <a:pt x="154" y="140"/>
                    </a:lnTo>
                    <a:lnTo>
                      <a:pt x="161" y="126"/>
                    </a:lnTo>
                    <a:lnTo>
                      <a:pt x="165" y="108"/>
                    </a:lnTo>
                    <a:lnTo>
                      <a:pt x="168" y="90"/>
                    </a:lnTo>
                    <a:lnTo>
                      <a:pt x="165" y="72"/>
                    </a:lnTo>
                    <a:lnTo>
                      <a:pt x="161" y="54"/>
                    </a:lnTo>
                    <a:lnTo>
                      <a:pt x="154" y="41"/>
                    </a:lnTo>
                    <a:lnTo>
                      <a:pt x="145" y="27"/>
                    </a:lnTo>
                    <a:lnTo>
                      <a:pt x="131" y="16"/>
                    </a:lnTo>
                    <a:lnTo>
                      <a:pt x="118" y="7"/>
                    </a:lnTo>
                    <a:lnTo>
                      <a:pt x="102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81280" y="4455720"/>
                <a:ext cx="24120" cy="2916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7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5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8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8" y="27"/>
                    </a:lnTo>
                    <a:lnTo>
                      <a:pt x="134" y="16"/>
                    </a:lnTo>
                    <a:lnTo>
                      <a:pt x="120" y="7"/>
                    </a:lnTo>
                    <a:lnTo>
                      <a:pt x="10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880" y="445356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8" y="16"/>
                    </a:lnTo>
                    <a:lnTo>
                      <a:pt x="25" y="27"/>
                    </a:lnTo>
                    <a:lnTo>
                      <a:pt x="13" y="40"/>
                    </a:lnTo>
                    <a:lnTo>
                      <a:pt x="7" y="54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7" y="126"/>
                    </a:lnTo>
                    <a:lnTo>
                      <a:pt x="13" y="140"/>
                    </a:lnTo>
                    <a:lnTo>
                      <a:pt x="25" y="153"/>
                    </a:lnTo>
                    <a:lnTo>
                      <a:pt x="38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3" y="165"/>
                    </a:lnTo>
                    <a:lnTo>
                      <a:pt x="147" y="153"/>
                    </a:lnTo>
                    <a:lnTo>
                      <a:pt x="158" y="140"/>
                    </a:lnTo>
                    <a:lnTo>
                      <a:pt x="165" y="126"/>
                    </a:lnTo>
                    <a:lnTo>
                      <a:pt x="169" y="108"/>
                    </a:lnTo>
                    <a:lnTo>
                      <a:pt x="172" y="90"/>
                    </a:lnTo>
                    <a:lnTo>
                      <a:pt x="169" y="72"/>
                    </a:lnTo>
                    <a:lnTo>
                      <a:pt x="165" y="54"/>
                    </a:lnTo>
                    <a:lnTo>
                      <a:pt x="158" y="40"/>
                    </a:lnTo>
                    <a:lnTo>
                      <a:pt x="147" y="27"/>
                    </a:lnTo>
                    <a:lnTo>
                      <a:pt x="133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30240" y="4453560"/>
                <a:ext cx="2412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7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7" y="27"/>
                    </a:lnTo>
                    <a:lnTo>
                      <a:pt x="134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88440" y="44636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9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5"/>
                    </a:lnTo>
                    <a:lnTo>
                      <a:pt x="18" y="61"/>
                    </a:lnTo>
                    <a:lnTo>
                      <a:pt x="29" y="64"/>
                    </a:lnTo>
                    <a:lnTo>
                      <a:pt x="38" y="61"/>
                    </a:lnTo>
                    <a:lnTo>
                      <a:pt x="47" y="55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9"/>
                    </a:lnTo>
                    <a:lnTo>
                      <a:pt x="47" y="9"/>
                    </a:lnTo>
                    <a:lnTo>
                      <a:pt x="38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42880" y="446292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6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89200" y="446580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3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7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3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86800" y="44636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9" y="49"/>
                    </a:lnTo>
                    <a:lnTo>
                      <a:pt x="18" y="56"/>
                    </a:lnTo>
                    <a:lnTo>
                      <a:pt x="27" y="58"/>
                    </a:lnTo>
                    <a:lnTo>
                      <a:pt x="38" y="56"/>
                    </a:lnTo>
                    <a:lnTo>
                      <a:pt x="47" y="49"/>
                    </a:lnTo>
                    <a:lnTo>
                      <a:pt x="52" y="40"/>
                    </a:lnTo>
                    <a:lnTo>
                      <a:pt x="54" y="29"/>
                    </a:lnTo>
                    <a:lnTo>
                      <a:pt x="52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38160" y="44636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9880" y="446292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56" h="63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4"/>
                    </a:lnTo>
                    <a:lnTo>
                      <a:pt x="18" y="61"/>
                    </a:lnTo>
                    <a:lnTo>
                      <a:pt x="27" y="63"/>
                    </a:lnTo>
                    <a:lnTo>
                      <a:pt x="38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344320" y="446220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90280" y="446580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4" y="0"/>
                    </a:moveTo>
                    <a:lnTo>
                      <a:pt x="15" y="2"/>
                    </a:lnTo>
                    <a:lnTo>
                      <a:pt x="6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6" y="49"/>
                    </a:lnTo>
                    <a:lnTo>
                      <a:pt x="15" y="56"/>
                    </a:lnTo>
                    <a:lnTo>
                      <a:pt x="24" y="58"/>
                    </a:lnTo>
                    <a:lnTo>
                      <a:pt x="36" y="56"/>
                    </a:lnTo>
                    <a:lnTo>
                      <a:pt x="45" y="49"/>
                    </a:lnTo>
                    <a:lnTo>
                      <a:pt x="49" y="40"/>
                    </a:lnTo>
                    <a:lnTo>
                      <a:pt x="52" y="29"/>
                    </a:lnTo>
                    <a:lnTo>
                      <a:pt x="49" y="18"/>
                    </a:lnTo>
                    <a:lnTo>
                      <a:pt x="45" y="9"/>
                    </a:lnTo>
                    <a:lnTo>
                      <a:pt x="3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87520" y="44636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7" y="0"/>
                    </a:moveTo>
                    <a:lnTo>
                      <a:pt x="15" y="3"/>
                    </a:lnTo>
                    <a:lnTo>
                      <a:pt x="6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6" y="50"/>
                    </a:lnTo>
                    <a:lnTo>
                      <a:pt x="15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49" y="41"/>
                    </a:lnTo>
                    <a:lnTo>
                      <a:pt x="52" y="30"/>
                    </a:lnTo>
                    <a:lnTo>
                      <a:pt x="49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38880" y="44636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27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9" y="50"/>
                    </a:lnTo>
                    <a:lnTo>
                      <a:pt x="18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52" y="41"/>
                    </a:lnTo>
                    <a:lnTo>
                      <a:pt x="55" y="30"/>
                    </a:lnTo>
                    <a:lnTo>
                      <a:pt x="52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4480" y="445932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56" y="0"/>
                    </a:moveTo>
                    <a:lnTo>
                      <a:pt x="22" y="23"/>
                    </a:lnTo>
                    <a:lnTo>
                      <a:pt x="11" y="55"/>
                    </a:lnTo>
                    <a:lnTo>
                      <a:pt x="18" y="86"/>
                    </a:lnTo>
                    <a:lnTo>
                      <a:pt x="47" y="116"/>
                    </a:lnTo>
                    <a:lnTo>
                      <a:pt x="65" y="118"/>
                    </a:lnTo>
                    <a:lnTo>
                      <a:pt x="27" y="122"/>
                    </a:lnTo>
                    <a:lnTo>
                      <a:pt x="13" y="107"/>
                    </a:lnTo>
                    <a:lnTo>
                      <a:pt x="4" y="88"/>
                    </a:lnTo>
                    <a:lnTo>
                      <a:pt x="0" y="66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15" y="12"/>
                    </a:lnTo>
                    <a:lnTo>
                      <a:pt x="33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338920" y="44586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3" h="113">
                    <a:moveTo>
                      <a:pt x="54" y="0"/>
                    </a:moveTo>
                    <a:lnTo>
                      <a:pt x="23" y="23"/>
                    </a:lnTo>
                    <a:lnTo>
                      <a:pt x="11" y="50"/>
                    </a:lnTo>
                    <a:lnTo>
                      <a:pt x="18" y="81"/>
                    </a:lnTo>
                    <a:lnTo>
                      <a:pt x="45" y="109"/>
                    </a:lnTo>
                    <a:lnTo>
                      <a:pt x="63" y="111"/>
                    </a:lnTo>
                    <a:lnTo>
                      <a:pt x="27" y="113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1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85240" y="446148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4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3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7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82120" y="446004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7" y="0"/>
                    </a:moveTo>
                    <a:lnTo>
                      <a:pt x="25" y="22"/>
                    </a:lnTo>
                    <a:lnTo>
                      <a:pt x="14" y="50"/>
                    </a:lnTo>
                    <a:lnTo>
                      <a:pt x="21" y="81"/>
                    </a:lnTo>
                    <a:lnTo>
                      <a:pt x="48" y="108"/>
                    </a:lnTo>
                    <a:lnTo>
                      <a:pt x="64" y="111"/>
                    </a:lnTo>
                    <a:lnTo>
                      <a:pt x="28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3" y="43"/>
                    </a:lnTo>
                    <a:lnTo>
                      <a:pt x="7" y="25"/>
                    </a:lnTo>
                    <a:lnTo>
                      <a:pt x="18" y="11"/>
                    </a:lnTo>
                    <a:lnTo>
                      <a:pt x="3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34200" y="446004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1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1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192400" y="4455720"/>
                <a:ext cx="12600" cy="26280"/>
              </a:xfrm>
              <a:custGeom>
                <a:avLst/>
                <a:gdLst/>
                <a:ahLst/>
                <a:rect l="l" t="t" r="r" b="b"/>
                <a:pathLst>
                  <a:path w="88" h="165">
                    <a:moveTo>
                      <a:pt x="88" y="92"/>
                    </a:moveTo>
                    <a:lnTo>
                      <a:pt x="81" y="108"/>
                    </a:lnTo>
                    <a:lnTo>
                      <a:pt x="77" y="122"/>
                    </a:lnTo>
                    <a:lnTo>
                      <a:pt x="70" y="133"/>
                    </a:lnTo>
                    <a:lnTo>
                      <a:pt x="65" y="142"/>
                    </a:lnTo>
                    <a:lnTo>
                      <a:pt x="56" y="149"/>
                    </a:lnTo>
                    <a:lnTo>
                      <a:pt x="47" y="156"/>
                    </a:lnTo>
                    <a:lnTo>
                      <a:pt x="34" y="160"/>
                    </a:lnTo>
                    <a:lnTo>
                      <a:pt x="18" y="165"/>
                    </a:lnTo>
                    <a:lnTo>
                      <a:pt x="36" y="149"/>
                    </a:lnTo>
                    <a:lnTo>
                      <a:pt x="47" y="133"/>
                    </a:lnTo>
                    <a:lnTo>
                      <a:pt x="56" y="117"/>
                    </a:lnTo>
                    <a:lnTo>
                      <a:pt x="68" y="95"/>
                    </a:lnTo>
                    <a:lnTo>
                      <a:pt x="65" y="74"/>
                    </a:lnTo>
                    <a:lnTo>
                      <a:pt x="63" y="58"/>
                    </a:lnTo>
                    <a:lnTo>
                      <a:pt x="59" y="45"/>
                    </a:lnTo>
                    <a:lnTo>
                      <a:pt x="54" y="34"/>
                    </a:lnTo>
                    <a:lnTo>
                      <a:pt x="45" y="27"/>
                    </a:lnTo>
                    <a:lnTo>
                      <a:pt x="34" y="18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22" y="0"/>
                    </a:lnTo>
                    <a:lnTo>
                      <a:pt x="43" y="2"/>
                    </a:lnTo>
                    <a:lnTo>
                      <a:pt x="56" y="11"/>
                    </a:lnTo>
                    <a:lnTo>
                      <a:pt x="68" y="22"/>
                    </a:lnTo>
                    <a:lnTo>
                      <a:pt x="77" y="38"/>
                    </a:lnTo>
                    <a:lnTo>
                      <a:pt x="84" y="54"/>
                    </a:lnTo>
                    <a:lnTo>
                      <a:pt x="86" y="74"/>
                    </a:lnTo>
                    <a:lnTo>
                      <a:pt x="88" y="9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46840" y="445500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79" h="156">
                    <a:moveTo>
                      <a:pt x="79" y="89"/>
                    </a:moveTo>
                    <a:lnTo>
                      <a:pt x="68" y="116"/>
                    </a:lnTo>
                    <a:lnTo>
                      <a:pt x="59" y="136"/>
                    </a:lnTo>
                    <a:lnTo>
                      <a:pt x="43" y="150"/>
                    </a:lnTo>
                    <a:lnTo>
                      <a:pt x="16" y="156"/>
                    </a:lnTo>
                    <a:lnTo>
                      <a:pt x="32" y="141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59" y="91"/>
                    </a:lnTo>
                    <a:lnTo>
                      <a:pt x="57" y="55"/>
                    </a:lnTo>
                    <a:lnTo>
                      <a:pt x="48" y="34"/>
                    </a:lnTo>
                    <a:lnTo>
                      <a:pt x="32" y="19"/>
                    </a:lnTo>
                    <a:lnTo>
                      <a:pt x="0" y="3"/>
                    </a:lnTo>
                    <a:lnTo>
                      <a:pt x="21" y="0"/>
                    </a:lnTo>
                    <a:lnTo>
                      <a:pt x="36" y="3"/>
                    </a:lnTo>
                    <a:lnTo>
                      <a:pt x="50" y="12"/>
                    </a:lnTo>
                    <a:lnTo>
                      <a:pt x="61" y="23"/>
                    </a:lnTo>
                    <a:lnTo>
                      <a:pt x="68" y="37"/>
                    </a:lnTo>
                    <a:lnTo>
                      <a:pt x="75" y="55"/>
                    </a:lnTo>
                    <a:lnTo>
                      <a:pt x="77" y="71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92440" y="44578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84" y="85"/>
                    </a:moveTo>
                    <a:lnTo>
                      <a:pt x="77" y="101"/>
                    </a:lnTo>
                    <a:lnTo>
                      <a:pt x="73" y="113"/>
                    </a:lnTo>
                    <a:lnTo>
                      <a:pt x="68" y="124"/>
                    </a:lnTo>
                    <a:lnTo>
                      <a:pt x="61" y="133"/>
                    </a:lnTo>
                    <a:lnTo>
                      <a:pt x="55" y="140"/>
                    </a:lnTo>
                    <a:lnTo>
                      <a:pt x="46" y="146"/>
                    </a:lnTo>
                    <a:lnTo>
                      <a:pt x="32" y="151"/>
                    </a:lnTo>
                    <a:lnTo>
                      <a:pt x="16" y="155"/>
                    </a:lnTo>
                    <a:lnTo>
                      <a:pt x="32" y="140"/>
                    </a:lnTo>
                    <a:lnTo>
                      <a:pt x="43" y="124"/>
                    </a:lnTo>
                    <a:lnTo>
                      <a:pt x="52" y="108"/>
                    </a:lnTo>
                    <a:lnTo>
                      <a:pt x="64" y="88"/>
                    </a:lnTo>
                    <a:lnTo>
                      <a:pt x="59" y="54"/>
                    </a:lnTo>
                    <a:lnTo>
                      <a:pt x="50" y="33"/>
                    </a:lnTo>
                    <a:lnTo>
                      <a:pt x="32" y="18"/>
                    </a:lnTo>
                    <a:lnTo>
                      <a:pt x="0" y="2"/>
                    </a:lnTo>
                    <a:lnTo>
                      <a:pt x="23" y="0"/>
                    </a:lnTo>
                    <a:lnTo>
                      <a:pt x="39" y="2"/>
                    </a:lnTo>
                    <a:lnTo>
                      <a:pt x="55" y="9"/>
                    </a:lnTo>
                    <a:lnTo>
                      <a:pt x="66" y="20"/>
                    </a:lnTo>
                    <a:lnTo>
                      <a:pt x="73" y="36"/>
                    </a:lnTo>
                    <a:lnTo>
                      <a:pt x="80" y="52"/>
                    </a:lnTo>
                    <a:lnTo>
                      <a:pt x="82" y="67"/>
                    </a:lnTo>
                    <a:lnTo>
                      <a:pt x="84" y="8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90040" y="445572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83" y="88"/>
                    </a:moveTo>
                    <a:lnTo>
                      <a:pt x="77" y="104"/>
                    </a:lnTo>
                    <a:lnTo>
                      <a:pt x="72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4" y="143"/>
                    </a:lnTo>
                    <a:lnTo>
                      <a:pt x="43" y="149"/>
                    </a:lnTo>
                    <a:lnTo>
                      <a:pt x="31" y="154"/>
                    </a:lnTo>
                    <a:lnTo>
                      <a:pt x="15" y="156"/>
                    </a:lnTo>
                    <a:lnTo>
                      <a:pt x="31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3" y="91"/>
                    </a:lnTo>
                    <a:lnTo>
                      <a:pt x="58" y="54"/>
                    </a:lnTo>
                    <a:lnTo>
                      <a:pt x="49" y="34"/>
                    </a:lnTo>
                    <a:lnTo>
                      <a:pt x="29" y="18"/>
                    </a:lnTo>
                    <a:lnTo>
                      <a:pt x="0" y="3"/>
                    </a:lnTo>
                    <a:lnTo>
                      <a:pt x="22" y="0"/>
                    </a:lnTo>
                    <a:lnTo>
                      <a:pt x="38" y="3"/>
                    </a:lnTo>
                    <a:lnTo>
                      <a:pt x="54" y="12"/>
                    </a:lnTo>
                    <a:lnTo>
                      <a:pt x="65" y="23"/>
                    </a:lnTo>
                    <a:lnTo>
                      <a:pt x="72" y="36"/>
                    </a:lnTo>
                    <a:lnTo>
                      <a:pt x="79" y="54"/>
                    </a:lnTo>
                    <a:lnTo>
                      <a:pt x="81" y="70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1400" y="445572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84" y="88"/>
                    </a:moveTo>
                    <a:lnTo>
                      <a:pt x="77" y="104"/>
                    </a:lnTo>
                    <a:lnTo>
                      <a:pt x="73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5" y="143"/>
                    </a:lnTo>
                    <a:lnTo>
                      <a:pt x="43" y="149"/>
                    </a:lnTo>
                    <a:lnTo>
                      <a:pt x="32" y="154"/>
                    </a:lnTo>
                    <a:lnTo>
                      <a:pt x="16" y="156"/>
                    </a:lnTo>
                    <a:lnTo>
                      <a:pt x="32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4" y="91"/>
                    </a:lnTo>
                    <a:lnTo>
                      <a:pt x="59" y="54"/>
                    </a:lnTo>
                    <a:lnTo>
                      <a:pt x="50" y="34"/>
                    </a:lnTo>
                    <a:lnTo>
                      <a:pt x="30" y="18"/>
                    </a:lnTo>
                    <a:lnTo>
                      <a:pt x="0" y="3"/>
                    </a:lnTo>
                    <a:lnTo>
                      <a:pt x="23" y="0"/>
                    </a:lnTo>
                    <a:lnTo>
                      <a:pt x="39" y="3"/>
                    </a:lnTo>
                    <a:lnTo>
                      <a:pt x="55" y="12"/>
                    </a:lnTo>
                    <a:lnTo>
                      <a:pt x="66" y="23"/>
                    </a:lnTo>
                    <a:lnTo>
                      <a:pt x="73" y="36"/>
                    </a:lnTo>
                    <a:lnTo>
                      <a:pt x="80" y="54"/>
                    </a:lnTo>
                    <a:lnTo>
                      <a:pt x="82" y="70"/>
                    </a:lnTo>
                    <a:lnTo>
                      <a:pt x="84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82680" y="4457160"/>
                <a:ext cx="10080" cy="2484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43" y="0"/>
                    </a:moveTo>
                    <a:lnTo>
                      <a:pt x="16" y="22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4" y="106"/>
                    </a:lnTo>
                    <a:lnTo>
                      <a:pt x="13" y="117"/>
                    </a:lnTo>
                    <a:lnTo>
                      <a:pt x="22" y="129"/>
                    </a:lnTo>
                    <a:lnTo>
                      <a:pt x="29" y="135"/>
                    </a:lnTo>
                    <a:lnTo>
                      <a:pt x="36" y="142"/>
                    </a:lnTo>
                    <a:lnTo>
                      <a:pt x="43" y="147"/>
                    </a:lnTo>
                    <a:lnTo>
                      <a:pt x="49" y="151"/>
                    </a:lnTo>
                    <a:lnTo>
                      <a:pt x="61" y="153"/>
                    </a:lnTo>
                    <a:lnTo>
                      <a:pt x="74" y="156"/>
                    </a:lnTo>
                    <a:lnTo>
                      <a:pt x="52" y="144"/>
                    </a:lnTo>
                    <a:lnTo>
                      <a:pt x="36" y="133"/>
                    </a:lnTo>
                    <a:lnTo>
                      <a:pt x="25" y="122"/>
                    </a:lnTo>
                    <a:lnTo>
                      <a:pt x="11" y="99"/>
                    </a:lnTo>
                    <a:lnTo>
                      <a:pt x="9" y="68"/>
                    </a:lnTo>
                    <a:lnTo>
                      <a:pt x="11" y="45"/>
                    </a:lnTo>
                    <a:lnTo>
                      <a:pt x="22" y="2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37120" y="445644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5" y="20"/>
                    </a:lnTo>
                    <a:lnTo>
                      <a:pt x="2" y="42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7"/>
                    </a:lnTo>
                    <a:lnTo>
                      <a:pt x="33" y="126"/>
                    </a:lnTo>
                    <a:lnTo>
                      <a:pt x="22" y="115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2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83080" y="445932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6" y="20"/>
                    </a:lnTo>
                    <a:lnTo>
                      <a:pt x="2" y="43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5"/>
                    </a:lnTo>
                    <a:lnTo>
                      <a:pt x="34" y="126"/>
                    </a:lnTo>
                    <a:lnTo>
                      <a:pt x="22" y="113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3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81040" y="445788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39" y="0"/>
                    </a:moveTo>
                    <a:lnTo>
                      <a:pt x="14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5" y="100"/>
                    </a:lnTo>
                    <a:lnTo>
                      <a:pt x="18" y="122"/>
                    </a:lnTo>
                    <a:lnTo>
                      <a:pt x="32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8" y="138"/>
                    </a:lnTo>
                    <a:lnTo>
                      <a:pt x="34" y="127"/>
                    </a:lnTo>
                    <a:lnTo>
                      <a:pt x="23" y="116"/>
                    </a:lnTo>
                    <a:lnTo>
                      <a:pt x="9" y="95"/>
                    </a:lnTo>
                    <a:lnTo>
                      <a:pt x="7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32400" y="445788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40" y="0"/>
                    </a:moveTo>
                    <a:lnTo>
                      <a:pt x="16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4" y="100"/>
                    </a:lnTo>
                    <a:lnTo>
                      <a:pt x="18" y="122"/>
                    </a:lnTo>
                    <a:lnTo>
                      <a:pt x="31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7" y="138"/>
                    </a:lnTo>
                    <a:lnTo>
                      <a:pt x="34" y="127"/>
                    </a:lnTo>
                    <a:lnTo>
                      <a:pt x="22" y="116"/>
                    </a:lnTo>
                    <a:lnTo>
                      <a:pt x="11" y="95"/>
                    </a:lnTo>
                    <a:lnTo>
                      <a:pt x="6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75120" y="4449960"/>
                <a:ext cx="13320" cy="34200"/>
              </a:xfrm>
              <a:custGeom>
                <a:avLst/>
                <a:gdLst/>
                <a:ahLst/>
                <a:rect l="l" t="t" r="r" b="b"/>
                <a:pathLst>
                  <a:path w="95" h="210">
                    <a:moveTo>
                      <a:pt x="95" y="0"/>
                    </a:moveTo>
                    <a:lnTo>
                      <a:pt x="72" y="9"/>
                    </a:lnTo>
                    <a:lnTo>
                      <a:pt x="56" y="20"/>
                    </a:lnTo>
                    <a:lnTo>
                      <a:pt x="43" y="31"/>
                    </a:lnTo>
                    <a:lnTo>
                      <a:pt x="34" y="45"/>
                    </a:lnTo>
                    <a:lnTo>
                      <a:pt x="27" y="61"/>
                    </a:lnTo>
                    <a:lnTo>
                      <a:pt x="22" y="81"/>
                    </a:lnTo>
                    <a:lnTo>
                      <a:pt x="18" y="102"/>
                    </a:lnTo>
                    <a:lnTo>
                      <a:pt x="13" y="124"/>
                    </a:lnTo>
                    <a:lnTo>
                      <a:pt x="22" y="174"/>
                    </a:lnTo>
                    <a:lnTo>
                      <a:pt x="49" y="210"/>
                    </a:lnTo>
                    <a:lnTo>
                      <a:pt x="20" y="183"/>
                    </a:lnTo>
                    <a:lnTo>
                      <a:pt x="0" y="126"/>
                    </a:lnTo>
                    <a:lnTo>
                      <a:pt x="2" y="102"/>
                    </a:lnTo>
                    <a:lnTo>
                      <a:pt x="6" y="79"/>
                    </a:lnTo>
                    <a:lnTo>
                      <a:pt x="11" y="56"/>
                    </a:lnTo>
                    <a:lnTo>
                      <a:pt x="20" y="38"/>
                    </a:lnTo>
                    <a:lnTo>
                      <a:pt x="31" y="22"/>
                    </a:lnTo>
                    <a:lnTo>
                      <a:pt x="47" y="11"/>
                    </a:lnTo>
                    <a:lnTo>
                      <a:pt x="68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29920" y="4449960"/>
                <a:ext cx="12600" cy="32040"/>
              </a:xfrm>
              <a:custGeom>
                <a:avLst/>
                <a:gdLst/>
                <a:ahLst/>
                <a:rect l="l" t="t" r="r" b="b"/>
                <a:pathLst>
                  <a:path w="90" h="199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1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2" y="163"/>
                    </a:lnTo>
                    <a:lnTo>
                      <a:pt x="45" y="199"/>
                    </a:lnTo>
                    <a:lnTo>
                      <a:pt x="20" y="174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5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76240" y="4452840"/>
                <a:ext cx="12960" cy="32040"/>
              </a:xfrm>
              <a:custGeom>
                <a:avLst/>
                <a:gdLst/>
                <a:ahLst/>
                <a:rect l="l" t="t" r="r" b="b"/>
                <a:pathLst>
                  <a:path w="90" h="196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3" y="163"/>
                    </a:lnTo>
                    <a:lnTo>
                      <a:pt x="45" y="196"/>
                    </a:lnTo>
                    <a:lnTo>
                      <a:pt x="20" y="172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6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373840" y="445068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89" h="198">
                    <a:moveTo>
                      <a:pt x="89" y="0"/>
                    </a:moveTo>
                    <a:lnTo>
                      <a:pt x="68" y="9"/>
                    </a:lnTo>
                    <a:lnTo>
                      <a:pt x="52" y="20"/>
                    </a:lnTo>
                    <a:lnTo>
                      <a:pt x="41" y="31"/>
                    </a:lnTo>
                    <a:lnTo>
                      <a:pt x="32" y="45"/>
                    </a:lnTo>
                    <a:lnTo>
                      <a:pt x="25" y="58"/>
                    </a:lnTo>
                    <a:lnTo>
                      <a:pt x="21" y="76"/>
                    </a:lnTo>
                    <a:lnTo>
                      <a:pt x="16" y="95"/>
                    </a:lnTo>
                    <a:lnTo>
                      <a:pt x="12" y="117"/>
                    </a:lnTo>
                    <a:lnTo>
                      <a:pt x="21" y="165"/>
                    </a:lnTo>
                    <a:lnTo>
                      <a:pt x="46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3" y="97"/>
                    </a:lnTo>
                    <a:lnTo>
                      <a:pt x="7" y="74"/>
                    </a:lnTo>
                    <a:lnTo>
                      <a:pt x="12" y="54"/>
                    </a:lnTo>
                    <a:lnTo>
                      <a:pt x="21" y="36"/>
                    </a:lnTo>
                    <a:lnTo>
                      <a:pt x="30" y="20"/>
                    </a:lnTo>
                    <a:lnTo>
                      <a:pt x="46" y="9"/>
                    </a:lnTo>
                    <a:lnTo>
                      <a:pt x="64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25200" y="4450680"/>
                <a:ext cx="11880" cy="32760"/>
              </a:xfrm>
              <a:custGeom>
                <a:avLst/>
                <a:gdLst/>
                <a:ahLst/>
                <a:rect l="l" t="t" r="r" b="b"/>
                <a:pathLst>
                  <a:path w="88" h="198">
                    <a:moveTo>
                      <a:pt x="88" y="0"/>
                    </a:moveTo>
                    <a:lnTo>
                      <a:pt x="68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8"/>
                    </a:lnTo>
                    <a:lnTo>
                      <a:pt x="20" y="76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0" y="165"/>
                    </a:lnTo>
                    <a:lnTo>
                      <a:pt x="45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3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5720" y="4326840"/>
                <a:ext cx="52200" cy="39240"/>
              </a:xfrm>
              <a:custGeom>
                <a:avLst/>
                <a:gdLst/>
                <a:ahLst/>
                <a:rect l="l" t="t" r="r" b="b"/>
                <a:pathLst>
                  <a:path w="368" h="237">
                    <a:moveTo>
                      <a:pt x="368" y="0"/>
                    </a:moveTo>
                    <a:lnTo>
                      <a:pt x="366" y="27"/>
                    </a:lnTo>
                    <a:lnTo>
                      <a:pt x="337" y="36"/>
                    </a:lnTo>
                    <a:lnTo>
                      <a:pt x="303" y="52"/>
                    </a:lnTo>
                    <a:lnTo>
                      <a:pt x="264" y="70"/>
                    </a:lnTo>
                    <a:lnTo>
                      <a:pt x="228" y="91"/>
                    </a:lnTo>
                    <a:lnTo>
                      <a:pt x="194" y="113"/>
                    </a:lnTo>
                    <a:lnTo>
                      <a:pt x="160" y="136"/>
                    </a:lnTo>
                    <a:lnTo>
                      <a:pt x="129" y="163"/>
                    </a:lnTo>
                    <a:lnTo>
                      <a:pt x="104" y="192"/>
                    </a:lnTo>
                    <a:lnTo>
                      <a:pt x="83" y="226"/>
                    </a:lnTo>
                    <a:lnTo>
                      <a:pt x="0" y="237"/>
                    </a:lnTo>
                    <a:lnTo>
                      <a:pt x="13" y="213"/>
                    </a:lnTo>
                    <a:lnTo>
                      <a:pt x="29" y="190"/>
                    </a:lnTo>
                    <a:lnTo>
                      <a:pt x="47" y="170"/>
                    </a:lnTo>
                    <a:lnTo>
                      <a:pt x="67" y="152"/>
                    </a:lnTo>
                    <a:lnTo>
                      <a:pt x="90" y="133"/>
                    </a:lnTo>
                    <a:lnTo>
                      <a:pt x="113" y="115"/>
                    </a:lnTo>
                    <a:lnTo>
                      <a:pt x="138" y="102"/>
                    </a:lnTo>
                    <a:lnTo>
                      <a:pt x="163" y="86"/>
                    </a:lnTo>
                    <a:lnTo>
                      <a:pt x="190" y="72"/>
                    </a:lnTo>
                    <a:lnTo>
                      <a:pt x="215" y="61"/>
                    </a:lnTo>
                    <a:lnTo>
                      <a:pt x="242" y="50"/>
                    </a:lnTo>
                    <a:lnTo>
                      <a:pt x="269" y="39"/>
                    </a:lnTo>
                    <a:lnTo>
                      <a:pt x="294" y="27"/>
                    </a:lnTo>
                    <a:lnTo>
                      <a:pt x="321" y="18"/>
                    </a:lnTo>
                    <a:lnTo>
                      <a:pt x="346" y="9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134800" y="4394160"/>
                <a:ext cx="76680" cy="20520"/>
              </a:xfrm>
              <a:custGeom>
                <a:avLst/>
                <a:gdLst/>
                <a:ahLst/>
                <a:rect l="l" t="t" r="r" b="b"/>
                <a:pathLst>
                  <a:path w="537" h="129">
                    <a:moveTo>
                      <a:pt x="537" y="16"/>
                    </a:moveTo>
                    <a:lnTo>
                      <a:pt x="299" y="43"/>
                    </a:lnTo>
                    <a:lnTo>
                      <a:pt x="263" y="52"/>
                    </a:lnTo>
                    <a:lnTo>
                      <a:pt x="229" y="59"/>
                    </a:lnTo>
                    <a:lnTo>
                      <a:pt x="195" y="68"/>
                    </a:lnTo>
                    <a:lnTo>
                      <a:pt x="165" y="77"/>
                    </a:lnTo>
                    <a:lnTo>
                      <a:pt x="134" y="88"/>
                    </a:lnTo>
                    <a:lnTo>
                      <a:pt x="104" y="99"/>
                    </a:lnTo>
                    <a:lnTo>
                      <a:pt x="73" y="113"/>
                    </a:lnTo>
                    <a:lnTo>
                      <a:pt x="39" y="129"/>
                    </a:lnTo>
                    <a:lnTo>
                      <a:pt x="0" y="124"/>
                    </a:lnTo>
                    <a:lnTo>
                      <a:pt x="21" y="104"/>
                    </a:lnTo>
                    <a:lnTo>
                      <a:pt x="46" y="86"/>
                    </a:lnTo>
                    <a:lnTo>
                      <a:pt x="70" y="70"/>
                    </a:lnTo>
                    <a:lnTo>
                      <a:pt x="98" y="59"/>
                    </a:lnTo>
                    <a:lnTo>
                      <a:pt x="125" y="47"/>
                    </a:lnTo>
                    <a:lnTo>
                      <a:pt x="154" y="38"/>
                    </a:lnTo>
                    <a:lnTo>
                      <a:pt x="184" y="31"/>
                    </a:lnTo>
                    <a:lnTo>
                      <a:pt x="213" y="25"/>
                    </a:lnTo>
                    <a:lnTo>
                      <a:pt x="245" y="20"/>
                    </a:lnTo>
                    <a:lnTo>
                      <a:pt x="276" y="18"/>
                    </a:lnTo>
                    <a:lnTo>
                      <a:pt x="308" y="13"/>
                    </a:lnTo>
                    <a:lnTo>
                      <a:pt x="337" y="11"/>
                    </a:lnTo>
                    <a:lnTo>
                      <a:pt x="369" y="9"/>
                    </a:lnTo>
                    <a:lnTo>
                      <a:pt x="399" y="7"/>
                    </a:lnTo>
                    <a:lnTo>
                      <a:pt x="428" y="4"/>
                    </a:lnTo>
                    <a:lnTo>
                      <a:pt x="457" y="0"/>
                    </a:lnTo>
                    <a:lnTo>
                      <a:pt x="460" y="0"/>
                    </a:lnTo>
                    <a:lnTo>
                      <a:pt x="469" y="2"/>
                    </a:lnTo>
                    <a:lnTo>
                      <a:pt x="480" y="7"/>
                    </a:lnTo>
                    <a:lnTo>
                      <a:pt x="494" y="9"/>
                    </a:lnTo>
                    <a:lnTo>
                      <a:pt x="507" y="13"/>
                    </a:lnTo>
                    <a:lnTo>
                      <a:pt x="518" y="16"/>
                    </a:lnTo>
                    <a:lnTo>
                      <a:pt x="530" y="16"/>
                    </a:lnTo>
                    <a:lnTo>
                      <a:pt x="537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89240" y="4431600"/>
                <a:ext cx="7560" cy="2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28040" y="441072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9" h="84">
                    <a:moveTo>
                      <a:pt x="46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10" y="82"/>
                    </a:lnTo>
                    <a:lnTo>
                      <a:pt x="14" y="84"/>
                    </a:lnTo>
                    <a:lnTo>
                      <a:pt x="46" y="84"/>
                    </a:lnTo>
                    <a:lnTo>
                      <a:pt x="50" y="82"/>
                    </a:lnTo>
                    <a:lnTo>
                      <a:pt x="55" y="79"/>
                    </a:lnTo>
                    <a:lnTo>
                      <a:pt x="57" y="75"/>
                    </a:lnTo>
                    <a:lnTo>
                      <a:pt x="59" y="70"/>
                    </a:lnTo>
                    <a:lnTo>
                      <a:pt x="59" y="12"/>
                    </a:lnTo>
                    <a:lnTo>
                      <a:pt x="57" y="7"/>
                    </a:lnTo>
                    <a:lnTo>
                      <a:pt x="55" y="3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50360" y="4402800"/>
                <a:ext cx="1800" cy="6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25880" y="437112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86" h="163">
                    <a:moveTo>
                      <a:pt x="86" y="0"/>
                    </a:moveTo>
                    <a:lnTo>
                      <a:pt x="86" y="163"/>
                    </a:lnTo>
                    <a:lnTo>
                      <a:pt x="52" y="163"/>
                    </a:lnTo>
                    <a:lnTo>
                      <a:pt x="0" y="158"/>
                    </a:lnTo>
                    <a:lnTo>
                      <a:pt x="21" y="149"/>
                    </a:lnTo>
                    <a:lnTo>
                      <a:pt x="52" y="158"/>
                    </a:lnTo>
                    <a:lnTo>
                      <a:pt x="52" y="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19400" y="4451400"/>
                <a:ext cx="2160" cy="29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42000" y="4441320"/>
                <a:ext cx="8640" cy="4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51720" y="44434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16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7" y="43"/>
                    </a:lnTo>
                    <a:lnTo>
                      <a:pt x="29" y="34"/>
                    </a:lnTo>
                    <a:lnTo>
                      <a:pt x="31" y="25"/>
                    </a:lnTo>
                    <a:lnTo>
                      <a:pt x="29" y="16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51720" y="44434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13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3" y="50"/>
                    </a:lnTo>
                    <a:lnTo>
                      <a:pt x="16" y="48"/>
                    </a:lnTo>
                    <a:lnTo>
                      <a:pt x="20" y="43"/>
                    </a:lnTo>
                    <a:lnTo>
                      <a:pt x="22" y="34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41280" y="4453560"/>
                <a:ext cx="28080" cy="18360"/>
              </a:xfrm>
              <a:custGeom>
                <a:avLst/>
                <a:gdLst/>
                <a:ahLst/>
                <a:rect l="l" t="t" r="r" b="b"/>
                <a:pathLst>
                  <a:path w="201" h="113">
                    <a:moveTo>
                      <a:pt x="201" y="0"/>
                    </a:moveTo>
                    <a:lnTo>
                      <a:pt x="199" y="23"/>
                    </a:lnTo>
                    <a:lnTo>
                      <a:pt x="197" y="75"/>
                    </a:lnTo>
                    <a:lnTo>
                      <a:pt x="197" y="107"/>
                    </a:lnTo>
                    <a:lnTo>
                      <a:pt x="48" y="113"/>
                    </a:lnTo>
                    <a:lnTo>
                      <a:pt x="14" y="102"/>
                    </a:lnTo>
                    <a:lnTo>
                      <a:pt x="2" y="82"/>
                    </a:lnTo>
                    <a:lnTo>
                      <a:pt x="0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96520" y="4430520"/>
                <a:ext cx="24840" cy="45000"/>
              </a:xfrm>
              <a:custGeom>
                <a:avLst/>
                <a:gdLst/>
                <a:ahLst/>
                <a:rect l="l" t="t" r="r" b="b"/>
                <a:pathLst>
                  <a:path w="176" h="278">
                    <a:moveTo>
                      <a:pt x="50" y="0"/>
                    </a:moveTo>
                    <a:lnTo>
                      <a:pt x="170" y="127"/>
                    </a:lnTo>
                    <a:lnTo>
                      <a:pt x="176" y="274"/>
                    </a:lnTo>
                    <a:lnTo>
                      <a:pt x="145" y="278"/>
                    </a:lnTo>
                    <a:lnTo>
                      <a:pt x="133" y="138"/>
                    </a:lnTo>
                    <a:lnTo>
                      <a:pt x="36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41440" y="4310280"/>
                <a:ext cx="433800" cy="101520"/>
              </a:xfrm>
              <a:custGeom>
                <a:avLst/>
                <a:gdLst/>
                <a:ahLst/>
                <a:rect l="l" t="t" r="r" b="b"/>
                <a:pathLst>
                  <a:path w="3037" h="618">
                    <a:moveTo>
                      <a:pt x="20" y="4"/>
                    </a:moveTo>
                    <a:lnTo>
                      <a:pt x="2982" y="0"/>
                    </a:lnTo>
                    <a:lnTo>
                      <a:pt x="3037" y="70"/>
                    </a:lnTo>
                    <a:lnTo>
                      <a:pt x="3037" y="618"/>
                    </a:lnTo>
                    <a:lnTo>
                      <a:pt x="0" y="618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7" y="36"/>
                    </a:lnTo>
                    <a:lnTo>
                      <a:pt x="11" y="18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41440" y="4326840"/>
                <a:ext cx="432000" cy="47520"/>
              </a:xfrm>
              <a:custGeom>
                <a:avLst/>
                <a:gdLst/>
                <a:ahLst/>
                <a:rect l="l" t="t" r="r" b="b"/>
                <a:pathLst>
                  <a:path w="3025" h="292">
                    <a:moveTo>
                      <a:pt x="0" y="174"/>
                    </a:moveTo>
                    <a:lnTo>
                      <a:pt x="1152" y="174"/>
                    </a:lnTo>
                    <a:lnTo>
                      <a:pt x="1301" y="0"/>
                    </a:lnTo>
                    <a:lnTo>
                      <a:pt x="1482" y="174"/>
                    </a:lnTo>
                    <a:lnTo>
                      <a:pt x="1591" y="237"/>
                    </a:lnTo>
                    <a:lnTo>
                      <a:pt x="3025" y="237"/>
                    </a:lnTo>
                    <a:lnTo>
                      <a:pt x="3025" y="292"/>
                    </a:lnTo>
                    <a:lnTo>
                      <a:pt x="1536" y="292"/>
                    </a:lnTo>
                    <a:lnTo>
                      <a:pt x="1312" y="120"/>
                    </a:lnTo>
                    <a:lnTo>
                      <a:pt x="1129" y="292"/>
                    </a:lnTo>
                    <a:lnTo>
                      <a:pt x="0" y="29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31440" y="4417920"/>
                <a:ext cx="344160" cy="27720"/>
              </a:xfrm>
              <a:custGeom>
                <a:avLst/>
                <a:gdLst/>
                <a:ahLst/>
                <a:rect l="l" t="t" r="r" b="b"/>
                <a:pathLst>
                  <a:path w="2410" h="172">
                    <a:moveTo>
                      <a:pt x="2410" y="0"/>
                    </a:moveTo>
                    <a:lnTo>
                      <a:pt x="2410" y="154"/>
                    </a:lnTo>
                    <a:lnTo>
                      <a:pt x="2292" y="158"/>
                    </a:lnTo>
                    <a:lnTo>
                      <a:pt x="2260" y="104"/>
                    </a:lnTo>
                    <a:lnTo>
                      <a:pt x="2120" y="104"/>
                    </a:lnTo>
                    <a:lnTo>
                      <a:pt x="2077" y="167"/>
                    </a:lnTo>
                    <a:lnTo>
                      <a:pt x="1982" y="167"/>
                    </a:lnTo>
                    <a:lnTo>
                      <a:pt x="1939" y="113"/>
                    </a:lnTo>
                    <a:lnTo>
                      <a:pt x="1767" y="113"/>
                    </a:lnTo>
                    <a:lnTo>
                      <a:pt x="1701" y="113"/>
                    </a:lnTo>
                    <a:lnTo>
                      <a:pt x="1701" y="172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241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59880" y="4451400"/>
                <a:ext cx="197640" cy="19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27480" y="4447080"/>
                <a:ext cx="20880" cy="36000"/>
              </a:xfrm>
              <a:custGeom>
                <a:avLst/>
                <a:gdLst/>
                <a:ahLst/>
                <a:rect l="l" t="t" r="r" b="b"/>
                <a:pathLst>
                  <a:path w="153" h="223">
                    <a:moveTo>
                      <a:pt x="15" y="20"/>
                    </a:moveTo>
                    <a:lnTo>
                      <a:pt x="52" y="63"/>
                    </a:lnTo>
                    <a:lnTo>
                      <a:pt x="52" y="194"/>
                    </a:lnTo>
                    <a:lnTo>
                      <a:pt x="27" y="199"/>
                    </a:lnTo>
                    <a:lnTo>
                      <a:pt x="27" y="223"/>
                    </a:lnTo>
                    <a:lnTo>
                      <a:pt x="122" y="223"/>
                    </a:lnTo>
                    <a:lnTo>
                      <a:pt x="122" y="190"/>
                    </a:lnTo>
                    <a:lnTo>
                      <a:pt x="86" y="190"/>
                    </a:lnTo>
                    <a:lnTo>
                      <a:pt x="86" y="63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7"/>
                    </a:lnTo>
                    <a:lnTo>
                      <a:pt x="11" y="13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265480" y="4506480"/>
              <a:ext cx="644400" cy="187560"/>
              <a:chOff x="2265480" y="4506480"/>
              <a:chExt cx="644400" cy="18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288160" y="463176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28" h="343">
                    <a:moveTo>
                      <a:pt x="168" y="0"/>
                    </a:moveTo>
                    <a:lnTo>
                      <a:pt x="134" y="4"/>
                    </a:lnTo>
                    <a:lnTo>
                      <a:pt x="102" y="13"/>
                    </a:lnTo>
                    <a:lnTo>
                      <a:pt x="75" y="29"/>
                    </a:lnTo>
                    <a:lnTo>
                      <a:pt x="50" y="49"/>
                    </a:lnTo>
                    <a:lnTo>
                      <a:pt x="30" y="74"/>
                    </a:lnTo>
                    <a:lnTo>
                      <a:pt x="14" y="103"/>
                    </a:lnTo>
                    <a:lnTo>
                      <a:pt x="2" y="137"/>
                    </a:lnTo>
                    <a:lnTo>
                      <a:pt x="0" y="171"/>
                    </a:lnTo>
                    <a:lnTo>
                      <a:pt x="2" y="205"/>
                    </a:lnTo>
                    <a:lnTo>
                      <a:pt x="14" y="239"/>
                    </a:lnTo>
                    <a:lnTo>
                      <a:pt x="30" y="268"/>
                    </a:lnTo>
                    <a:lnTo>
                      <a:pt x="50" y="293"/>
                    </a:lnTo>
                    <a:lnTo>
                      <a:pt x="75" y="313"/>
                    </a:lnTo>
                    <a:lnTo>
                      <a:pt x="102" y="329"/>
                    </a:lnTo>
                    <a:lnTo>
                      <a:pt x="134" y="338"/>
                    </a:lnTo>
                    <a:lnTo>
                      <a:pt x="168" y="343"/>
                    </a:lnTo>
                    <a:lnTo>
                      <a:pt x="199" y="338"/>
                    </a:lnTo>
                    <a:lnTo>
                      <a:pt x="231" y="329"/>
                    </a:lnTo>
                    <a:lnTo>
                      <a:pt x="258" y="313"/>
                    </a:lnTo>
                    <a:lnTo>
                      <a:pt x="281" y="293"/>
                    </a:lnTo>
                    <a:lnTo>
                      <a:pt x="301" y="268"/>
                    </a:lnTo>
                    <a:lnTo>
                      <a:pt x="315" y="239"/>
                    </a:lnTo>
                    <a:lnTo>
                      <a:pt x="326" y="205"/>
                    </a:lnTo>
                    <a:lnTo>
                      <a:pt x="328" y="171"/>
                    </a:lnTo>
                    <a:lnTo>
                      <a:pt x="326" y="137"/>
                    </a:lnTo>
                    <a:lnTo>
                      <a:pt x="315" y="103"/>
                    </a:lnTo>
                    <a:lnTo>
                      <a:pt x="301" y="74"/>
                    </a:lnTo>
                    <a:lnTo>
                      <a:pt x="281" y="49"/>
                    </a:lnTo>
                    <a:lnTo>
                      <a:pt x="258" y="29"/>
                    </a:lnTo>
                    <a:lnTo>
                      <a:pt x="231" y="13"/>
                    </a:lnTo>
                    <a:lnTo>
                      <a:pt x="199" y="4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1160" y="4549320"/>
                <a:ext cx="30240" cy="51480"/>
              </a:xfrm>
              <a:custGeom>
                <a:avLst/>
                <a:gdLst/>
                <a:ahLst/>
                <a:rect l="l" t="t" r="r" b="b"/>
                <a:pathLst>
                  <a:path w="210" h="316">
                    <a:moveTo>
                      <a:pt x="210" y="291"/>
                    </a:moveTo>
                    <a:lnTo>
                      <a:pt x="167" y="300"/>
                    </a:lnTo>
                    <a:lnTo>
                      <a:pt x="138" y="249"/>
                    </a:lnTo>
                    <a:lnTo>
                      <a:pt x="138" y="167"/>
                    </a:lnTo>
                    <a:lnTo>
                      <a:pt x="104" y="79"/>
                    </a:lnTo>
                    <a:lnTo>
                      <a:pt x="75" y="81"/>
                    </a:lnTo>
                    <a:lnTo>
                      <a:pt x="61" y="59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45" y="20"/>
                    </a:lnTo>
                    <a:lnTo>
                      <a:pt x="54" y="72"/>
                    </a:lnTo>
                    <a:lnTo>
                      <a:pt x="70" y="93"/>
                    </a:lnTo>
                    <a:lnTo>
                      <a:pt x="97" y="93"/>
                    </a:lnTo>
                    <a:lnTo>
                      <a:pt x="127" y="167"/>
                    </a:lnTo>
                    <a:lnTo>
                      <a:pt x="127" y="260"/>
                    </a:lnTo>
                    <a:lnTo>
                      <a:pt x="167" y="316"/>
                    </a:lnTo>
                    <a:lnTo>
                      <a:pt x="210" y="312"/>
                    </a:lnTo>
                    <a:lnTo>
                      <a:pt x="210" y="29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440440" y="4560120"/>
                <a:ext cx="29520" cy="52200"/>
              </a:xfrm>
              <a:custGeom>
                <a:avLst/>
                <a:gdLst/>
                <a:ahLst/>
                <a:rect l="l" t="t" r="r" b="b"/>
                <a:pathLst>
                  <a:path w="211" h="318">
                    <a:moveTo>
                      <a:pt x="211" y="293"/>
                    </a:moveTo>
                    <a:lnTo>
                      <a:pt x="170" y="302"/>
                    </a:lnTo>
                    <a:lnTo>
                      <a:pt x="138" y="250"/>
                    </a:lnTo>
                    <a:lnTo>
                      <a:pt x="138" y="167"/>
                    </a:lnTo>
                    <a:lnTo>
                      <a:pt x="104" y="81"/>
                    </a:lnTo>
                    <a:lnTo>
                      <a:pt x="77" y="81"/>
                    </a:lnTo>
                    <a:lnTo>
                      <a:pt x="61" y="58"/>
                    </a:lnTo>
                    <a:lnTo>
                      <a:pt x="52" y="2"/>
                    </a:lnTo>
                    <a:lnTo>
                      <a:pt x="0" y="0"/>
                    </a:lnTo>
                    <a:lnTo>
                      <a:pt x="14" y="22"/>
                    </a:lnTo>
                    <a:lnTo>
                      <a:pt x="45" y="22"/>
                    </a:lnTo>
                    <a:lnTo>
                      <a:pt x="57" y="74"/>
                    </a:lnTo>
                    <a:lnTo>
                      <a:pt x="73" y="94"/>
                    </a:lnTo>
                    <a:lnTo>
                      <a:pt x="97" y="94"/>
                    </a:lnTo>
                    <a:lnTo>
                      <a:pt x="129" y="167"/>
                    </a:lnTo>
                    <a:lnTo>
                      <a:pt x="129" y="262"/>
                    </a:lnTo>
                    <a:lnTo>
                      <a:pt x="170" y="318"/>
                    </a:lnTo>
                    <a:lnTo>
                      <a:pt x="211" y="314"/>
                    </a:lnTo>
                    <a:lnTo>
                      <a:pt x="211" y="293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34280" y="4636080"/>
                <a:ext cx="44640" cy="5292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3" y="0"/>
                    </a:moveTo>
                    <a:lnTo>
                      <a:pt x="122" y="3"/>
                    </a:lnTo>
                    <a:lnTo>
                      <a:pt x="92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4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4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2" y="312"/>
                    </a:lnTo>
                    <a:lnTo>
                      <a:pt x="122" y="323"/>
                    </a:lnTo>
                    <a:lnTo>
                      <a:pt x="153" y="326"/>
                    </a:lnTo>
                    <a:lnTo>
                      <a:pt x="185" y="323"/>
                    </a:lnTo>
                    <a:lnTo>
                      <a:pt x="214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2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4" y="14"/>
                    </a:lnTo>
                    <a:lnTo>
                      <a:pt x="185" y="3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86760" y="463608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310" h="326">
                    <a:moveTo>
                      <a:pt x="156" y="0"/>
                    </a:moveTo>
                    <a:lnTo>
                      <a:pt x="124" y="3"/>
                    </a:lnTo>
                    <a:lnTo>
                      <a:pt x="95" y="14"/>
                    </a:lnTo>
                    <a:lnTo>
                      <a:pt x="67" y="27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9"/>
                    </a:lnTo>
                    <a:lnTo>
                      <a:pt x="95" y="312"/>
                    </a:lnTo>
                    <a:lnTo>
                      <a:pt x="124" y="323"/>
                    </a:lnTo>
                    <a:lnTo>
                      <a:pt x="156" y="326"/>
                    </a:lnTo>
                    <a:lnTo>
                      <a:pt x="187" y="323"/>
                    </a:lnTo>
                    <a:lnTo>
                      <a:pt x="217" y="312"/>
                    </a:lnTo>
                    <a:lnTo>
                      <a:pt x="242" y="299"/>
                    </a:lnTo>
                    <a:lnTo>
                      <a:pt x="264" y="278"/>
                    </a:lnTo>
                    <a:lnTo>
                      <a:pt x="285" y="253"/>
                    </a:lnTo>
                    <a:lnTo>
                      <a:pt x="298" y="226"/>
                    </a:lnTo>
                    <a:lnTo>
                      <a:pt x="307" y="195"/>
                    </a:lnTo>
                    <a:lnTo>
                      <a:pt x="310" y="163"/>
                    </a:lnTo>
                    <a:lnTo>
                      <a:pt x="307" y="129"/>
                    </a:lnTo>
                    <a:lnTo>
                      <a:pt x="298" y="100"/>
                    </a:lnTo>
                    <a:lnTo>
                      <a:pt x="285" y="73"/>
                    </a:lnTo>
                    <a:lnTo>
                      <a:pt x="264" y="48"/>
                    </a:lnTo>
                    <a:lnTo>
                      <a:pt x="242" y="27"/>
                    </a:lnTo>
                    <a:lnTo>
                      <a:pt x="217" y="14"/>
                    </a:lnTo>
                    <a:lnTo>
                      <a:pt x="187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85440" y="4609440"/>
                <a:ext cx="35280" cy="19800"/>
              </a:xfrm>
              <a:custGeom>
                <a:avLst/>
                <a:gdLst/>
                <a:ahLst/>
                <a:rect l="l" t="t" r="r" b="b"/>
                <a:pathLst>
                  <a:path w="249" h="120">
                    <a:moveTo>
                      <a:pt x="195" y="34"/>
                    </a:moveTo>
                    <a:lnTo>
                      <a:pt x="208" y="70"/>
                    </a:lnTo>
                    <a:lnTo>
                      <a:pt x="249" y="63"/>
                    </a:lnTo>
                    <a:lnTo>
                      <a:pt x="249" y="106"/>
                    </a:lnTo>
                    <a:lnTo>
                      <a:pt x="0" y="120"/>
                    </a:lnTo>
                    <a:lnTo>
                      <a:pt x="4" y="70"/>
                    </a:lnTo>
                    <a:lnTo>
                      <a:pt x="54" y="70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81" y="9"/>
                    </a:lnTo>
                    <a:lnTo>
                      <a:pt x="104" y="18"/>
                    </a:lnTo>
                    <a:lnTo>
                      <a:pt x="129" y="27"/>
                    </a:lnTo>
                    <a:lnTo>
                      <a:pt x="154" y="36"/>
                    </a:lnTo>
                    <a:lnTo>
                      <a:pt x="176" y="41"/>
                    </a:lnTo>
                    <a:lnTo>
                      <a:pt x="190" y="41"/>
                    </a:lnTo>
                    <a:lnTo>
                      <a:pt x="195" y="3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68160" y="4506480"/>
                <a:ext cx="441720" cy="171720"/>
              </a:xfrm>
              <a:custGeom>
                <a:avLst/>
                <a:gdLst/>
                <a:ahLst/>
                <a:rect l="l" t="t" r="r" b="b"/>
                <a:pathLst>
                  <a:path w="3091" h="1046">
                    <a:moveTo>
                      <a:pt x="0" y="675"/>
                    </a:moveTo>
                    <a:lnTo>
                      <a:pt x="0" y="32"/>
                    </a:lnTo>
                    <a:lnTo>
                      <a:pt x="23" y="0"/>
                    </a:lnTo>
                    <a:lnTo>
                      <a:pt x="3037" y="2"/>
                    </a:lnTo>
                    <a:lnTo>
                      <a:pt x="3089" y="61"/>
                    </a:lnTo>
                    <a:lnTo>
                      <a:pt x="3091" y="840"/>
                    </a:lnTo>
                    <a:lnTo>
                      <a:pt x="3021" y="856"/>
                    </a:lnTo>
                    <a:lnTo>
                      <a:pt x="3053" y="1032"/>
                    </a:lnTo>
                    <a:lnTo>
                      <a:pt x="3023" y="1046"/>
                    </a:lnTo>
                    <a:lnTo>
                      <a:pt x="2991" y="919"/>
                    </a:lnTo>
                    <a:lnTo>
                      <a:pt x="2274" y="890"/>
                    </a:lnTo>
                    <a:lnTo>
                      <a:pt x="2274" y="1010"/>
                    </a:lnTo>
                    <a:lnTo>
                      <a:pt x="828" y="1005"/>
                    </a:lnTo>
                    <a:lnTo>
                      <a:pt x="828" y="856"/>
                    </a:lnTo>
                    <a:lnTo>
                      <a:pt x="627" y="854"/>
                    </a:lnTo>
                    <a:lnTo>
                      <a:pt x="622" y="675"/>
                    </a:lnTo>
                    <a:lnTo>
                      <a:pt x="0" y="67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44400" y="4633200"/>
                <a:ext cx="43200" cy="52920"/>
              </a:xfrm>
              <a:custGeom>
                <a:avLst/>
                <a:gdLst/>
                <a:ahLst/>
                <a:rect l="l" t="t" r="r" b="b"/>
                <a:pathLst>
                  <a:path w="306" h="326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27"/>
                    </a:lnTo>
                    <a:lnTo>
                      <a:pt x="46" y="48"/>
                    </a:lnTo>
                    <a:lnTo>
                      <a:pt x="27" y="73"/>
                    </a:lnTo>
                    <a:lnTo>
                      <a:pt x="12" y="100"/>
                    </a:lnTo>
                    <a:lnTo>
                      <a:pt x="3" y="129"/>
                    </a:lnTo>
                    <a:lnTo>
                      <a:pt x="0" y="163"/>
                    </a:lnTo>
                    <a:lnTo>
                      <a:pt x="3" y="197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2"/>
                    </a:lnTo>
                    <a:lnTo>
                      <a:pt x="125" y="323"/>
                    </a:lnTo>
                    <a:lnTo>
                      <a:pt x="156" y="326"/>
                    </a:lnTo>
                    <a:lnTo>
                      <a:pt x="186" y="323"/>
                    </a:lnTo>
                    <a:lnTo>
                      <a:pt x="215" y="312"/>
                    </a:lnTo>
                    <a:lnTo>
                      <a:pt x="240" y="298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4" y="226"/>
                    </a:lnTo>
                    <a:lnTo>
                      <a:pt x="304" y="197"/>
                    </a:lnTo>
                    <a:lnTo>
                      <a:pt x="306" y="163"/>
                    </a:lnTo>
                    <a:lnTo>
                      <a:pt x="304" y="129"/>
                    </a:lnTo>
                    <a:lnTo>
                      <a:pt x="294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5" y="14"/>
                    </a:lnTo>
                    <a:lnTo>
                      <a:pt x="186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82920" y="463608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308" h="326">
                    <a:moveTo>
                      <a:pt x="152" y="0"/>
                    </a:moveTo>
                    <a:lnTo>
                      <a:pt x="120" y="3"/>
                    </a:lnTo>
                    <a:lnTo>
                      <a:pt x="93" y="14"/>
                    </a:lnTo>
                    <a:lnTo>
                      <a:pt x="66" y="27"/>
                    </a:lnTo>
                    <a:lnTo>
                      <a:pt x="43" y="48"/>
                    </a:lnTo>
                    <a:lnTo>
                      <a:pt x="25" y="73"/>
                    </a:lnTo>
                    <a:lnTo>
                      <a:pt x="11" y="100"/>
                    </a:lnTo>
                    <a:lnTo>
                      <a:pt x="2" y="129"/>
                    </a:lnTo>
                    <a:lnTo>
                      <a:pt x="0" y="163"/>
                    </a:lnTo>
                    <a:lnTo>
                      <a:pt x="2" y="195"/>
                    </a:lnTo>
                    <a:lnTo>
                      <a:pt x="11" y="226"/>
                    </a:lnTo>
                    <a:lnTo>
                      <a:pt x="25" y="253"/>
                    </a:lnTo>
                    <a:lnTo>
                      <a:pt x="43" y="278"/>
                    </a:lnTo>
                    <a:lnTo>
                      <a:pt x="66" y="299"/>
                    </a:lnTo>
                    <a:lnTo>
                      <a:pt x="93" y="312"/>
                    </a:lnTo>
                    <a:lnTo>
                      <a:pt x="120" y="323"/>
                    </a:lnTo>
                    <a:lnTo>
                      <a:pt x="152" y="326"/>
                    </a:lnTo>
                    <a:lnTo>
                      <a:pt x="183" y="323"/>
                    </a:lnTo>
                    <a:lnTo>
                      <a:pt x="213" y="312"/>
                    </a:lnTo>
                    <a:lnTo>
                      <a:pt x="240" y="299"/>
                    </a:lnTo>
                    <a:lnTo>
                      <a:pt x="263" y="278"/>
                    </a:lnTo>
                    <a:lnTo>
                      <a:pt x="281" y="253"/>
                    </a:lnTo>
                    <a:lnTo>
                      <a:pt x="297" y="226"/>
                    </a:lnTo>
                    <a:lnTo>
                      <a:pt x="306" y="195"/>
                    </a:lnTo>
                    <a:lnTo>
                      <a:pt x="308" y="163"/>
                    </a:lnTo>
                    <a:lnTo>
                      <a:pt x="306" y="129"/>
                    </a:lnTo>
                    <a:lnTo>
                      <a:pt x="297" y="100"/>
                    </a:lnTo>
                    <a:lnTo>
                      <a:pt x="281" y="73"/>
                    </a:lnTo>
                    <a:lnTo>
                      <a:pt x="263" y="48"/>
                    </a:lnTo>
                    <a:lnTo>
                      <a:pt x="240" y="27"/>
                    </a:lnTo>
                    <a:lnTo>
                      <a:pt x="213" y="14"/>
                    </a:lnTo>
                    <a:lnTo>
                      <a:pt x="183" y="3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36400" y="4512960"/>
                <a:ext cx="216720" cy="158040"/>
              </a:xfrm>
              <a:custGeom>
                <a:avLst/>
                <a:gdLst/>
                <a:ahLst/>
                <a:rect l="l" t="t" r="r" b="b"/>
                <a:pathLst>
                  <a:path w="1520" h="967">
                    <a:moveTo>
                      <a:pt x="0" y="436"/>
                    </a:moveTo>
                    <a:lnTo>
                      <a:pt x="0" y="956"/>
                    </a:lnTo>
                    <a:lnTo>
                      <a:pt x="575" y="945"/>
                    </a:lnTo>
                    <a:lnTo>
                      <a:pt x="581" y="908"/>
                    </a:lnTo>
                    <a:lnTo>
                      <a:pt x="584" y="899"/>
                    </a:lnTo>
                    <a:lnTo>
                      <a:pt x="674" y="902"/>
                    </a:lnTo>
                    <a:lnTo>
                      <a:pt x="681" y="852"/>
                    </a:lnTo>
                    <a:lnTo>
                      <a:pt x="785" y="866"/>
                    </a:lnTo>
                    <a:lnTo>
                      <a:pt x="821" y="863"/>
                    </a:lnTo>
                    <a:lnTo>
                      <a:pt x="830" y="911"/>
                    </a:lnTo>
                    <a:lnTo>
                      <a:pt x="1376" y="958"/>
                    </a:lnTo>
                    <a:lnTo>
                      <a:pt x="1520" y="967"/>
                    </a:lnTo>
                    <a:lnTo>
                      <a:pt x="1507" y="823"/>
                    </a:lnTo>
                    <a:lnTo>
                      <a:pt x="1391" y="685"/>
                    </a:lnTo>
                    <a:lnTo>
                      <a:pt x="753" y="685"/>
                    </a:lnTo>
                    <a:lnTo>
                      <a:pt x="753" y="32"/>
                    </a:lnTo>
                    <a:lnTo>
                      <a:pt x="694" y="32"/>
                    </a:lnTo>
                    <a:lnTo>
                      <a:pt x="690" y="0"/>
                    </a:lnTo>
                    <a:lnTo>
                      <a:pt x="654" y="0"/>
                    </a:lnTo>
                    <a:lnTo>
                      <a:pt x="649" y="23"/>
                    </a:lnTo>
                    <a:lnTo>
                      <a:pt x="575" y="18"/>
                    </a:lnTo>
                    <a:lnTo>
                      <a:pt x="394" y="59"/>
                    </a:lnTo>
                    <a:lnTo>
                      <a:pt x="271" y="111"/>
                    </a:lnTo>
                    <a:lnTo>
                      <a:pt x="117" y="192"/>
                    </a:lnTo>
                    <a:lnTo>
                      <a:pt x="36" y="269"/>
                    </a:lnTo>
                    <a:lnTo>
                      <a:pt x="16" y="296"/>
                    </a:lnTo>
                    <a:lnTo>
                      <a:pt x="2" y="312"/>
                    </a:lnTo>
                    <a:lnTo>
                      <a:pt x="0" y="314"/>
                    </a:lnTo>
                    <a:lnTo>
                      <a:pt x="0" y="371"/>
                    </a:lnTo>
                    <a:lnTo>
                      <a:pt x="18" y="36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65480" y="4564440"/>
                <a:ext cx="70920" cy="105840"/>
              </a:xfrm>
              <a:custGeom>
                <a:avLst/>
                <a:gdLst/>
                <a:ahLst/>
                <a:rect l="l" t="t" r="r" b="b"/>
                <a:pathLst>
                  <a:path w="498" h="646">
                    <a:moveTo>
                      <a:pt x="498" y="57"/>
                    </a:moveTo>
                    <a:lnTo>
                      <a:pt x="498" y="0"/>
                    </a:lnTo>
                    <a:lnTo>
                      <a:pt x="477" y="12"/>
                    </a:lnTo>
                    <a:lnTo>
                      <a:pt x="468" y="39"/>
                    </a:lnTo>
                    <a:lnTo>
                      <a:pt x="457" y="165"/>
                    </a:lnTo>
                    <a:lnTo>
                      <a:pt x="278" y="183"/>
                    </a:lnTo>
                    <a:lnTo>
                      <a:pt x="238" y="192"/>
                    </a:lnTo>
                    <a:lnTo>
                      <a:pt x="197" y="201"/>
                    </a:lnTo>
                    <a:lnTo>
                      <a:pt x="158" y="208"/>
                    </a:lnTo>
                    <a:lnTo>
                      <a:pt x="122" y="217"/>
                    </a:lnTo>
                    <a:lnTo>
                      <a:pt x="88" y="231"/>
                    </a:lnTo>
                    <a:lnTo>
                      <a:pt x="57" y="247"/>
                    </a:lnTo>
                    <a:lnTo>
                      <a:pt x="27" y="271"/>
                    </a:lnTo>
                    <a:lnTo>
                      <a:pt x="0" y="301"/>
                    </a:lnTo>
                    <a:lnTo>
                      <a:pt x="0" y="540"/>
                    </a:lnTo>
                    <a:lnTo>
                      <a:pt x="50" y="626"/>
                    </a:lnTo>
                    <a:lnTo>
                      <a:pt x="93" y="646"/>
                    </a:lnTo>
                    <a:lnTo>
                      <a:pt x="244" y="646"/>
                    </a:lnTo>
                    <a:lnTo>
                      <a:pt x="498" y="642"/>
                    </a:lnTo>
                    <a:lnTo>
                      <a:pt x="498" y="122"/>
                    </a:lnTo>
                    <a:lnTo>
                      <a:pt x="491" y="145"/>
                    </a:lnTo>
                    <a:lnTo>
                      <a:pt x="480" y="147"/>
                    </a:lnTo>
                    <a:lnTo>
                      <a:pt x="486" y="59"/>
                    </a:lnTo>
                    <a:lnTo>
                      <a:pt x="498" y="5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94000" y="451476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322" h="276">
                    <a:moveTo>
                      <a:pt x="322" y="2"/>
                    </a:moveTo>
                    <a:lnTo>
                      <a:pt x="322" y="276"/>
                    </a:lnTo>
                    <a:lnTo>
                      <a:pt x="0" y="276"/>
                    </a:lnTo>
                    <a:lnTo>
                      <a:pt x="3" y="57"/>
                    </a:lnTo>
                    <a:lnTo>
                      <a:pt x="66" y="36"/>
                    </a:lnTo>
                    <a:lnTo>
                      <a:pt x="238" y="2"/>
                    </a:lnTo>
                    <a:lnTo>
                      <a:pt x="242" y="2"/>
                    </a:lnTo>
                    <a:lnTo>
                      <a:pt x="251" y="2"/>
                    </a:lnTo>
                    <a:lnTo>
                      <a:pt x="263" y="0"/>
                    </a:lnTo>
                    <a:lnTo>
                      <a:pt x="279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17" y="0"/>
                    </a:lnTo>
                    <a:lnTo>
                      <a:pt x="322" y="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92560" y="4514040"/>
                <a:ext cx="47160" cy="11880"/>
              </a:xfrm>
              <a:custGeom>
                <a:avLst/>
                <a:gdLst/>
                <a:ahLst/>
                <a:rect l="l" t="t" r="r" b="b"/>
                <a:pathLst>
                  <a:path w="330" h="73">
                    <a:moveTo>
                      <a:pt x="319" y="5"/>
                    </a:moveTo>
                    <a:lnTo>
                      <a:pt x="300" y="3"/>
                    </a:lnTo>
                    <a:lnTo>
                      <a:pt x="280" y="0"/>
                    </a:lnTo>
                    <a:lnTo>
                      <a:pt x="260" y="3"/>
                    </a:lnTo>
                    <a:lnTo>
                      <a:pt x="237" y="3"/>
                    </a:lnTo>
                    <a:lnTo>
                      <a:pt x="219" y="5"/>
                    </a:lnTo>
                    <a:lnTo>
                      <a:pt x="201" y="7"/>
                    </a:lnTo>
                    <a:lnTo>
                      <a:pt x="185" y="7"/>
                    </a:lnTo>
                    <a:lnTo>
                      <a:pt x="176" y="9"/>
                    </a:lnTo>
                    <a:lnTo>
                      <a:pt x="158" y="12"/>
                    </a:lnTo>
                    <a:lnTo>
                      <a:pt x="140" y="16"/>
                    </a:lnTo>
                    <a:lnTo>
                      <a:pt x="119" y="19"/>
                    </a:lnTo>
                    <a:lnTo>
                      <a:pt x="99" y="23"/>
                    </a:lnTo>
                    <a:lnTo>
                      <a:pt x="74" y="30"/>
                    </a:lnTo>
                    <a:lnTo>
                      <a:pt x="52" y="37"/>
                    </a:lnTo>
                    <a:lnTo>
                      <a:pt x="27" y="43"/>
                    </a:lnTo>
                    <a:lnTo>
                      <a:pt x="0" y="52"/>
                    </a:lnTo>
                    <a:lnTo>
                      <a:pt x="0" y="73"/>
                    </a:lnTo>
                    <a:lnTo>
                      <a:pt x="40" y="61"/>
                    </a:lnTo>
                    <a:lnTo>
                      <a:pt x="81" y="50"/>
                    </a:lnTo>
                    <a:lnTo>
                      <a:pt x="122" y="41"/>
                    </a:lnTo>
                    <a:lnTo>
                      <a:pt x="162" y="34"/>
                    </a:lnTo>
                    <a:lnTo>
                      <a:pt x="203" y="25"/>
                    </a:lnTo>
                    <a:lnTo>
                      <a:pt x="244" y="21"/>
                    </a:lnTo>
                    <a:lnTo>
                      <a:pt x="287" y="14"/>
                    </a:lnTo>
                    <a:lnTo>
                      <a:pt x="330" y="9"/>
                    </a:lnTo>
                    <a:lnTo>
                      <a:pt x="319" y="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48640" y="452700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292" h="202">
                    <a:moveTo>
                      <a:pt x="292" y="0"/>
                    </a:moveTo>
                    <a:lnTo>
                      <a:pt x="292" y="202"/>
                    </a:lnTo>
                    <a:lnTo>
                      <a:pt x="0" y="202"/>
                    </a:lnTo>
                    <a:lnTo>
                      <a:pt x="7" y="183"/>
                    </a:lnTo>
                    <a:lnTo>
                      <a:pt x="45" y="138"/>
                    </a:lnTo>
                    <a:lnTo>
                      <a:pt x="188" y="34"/>
                    </a:lnTo>
                    <a:lnTo>
                      <a:pt x="192" y="32"/>
                    </a:lnTo>
                    <a:lnTo>
                      <a:pt x="203" y="30"/>
                    </a:lnTo>
                    <a:lnTo>
                      <a:pt x="222" y="25"/>
                    </a:lnTo>
                    <a:lnTo>
                      <a:pt x="242" y="19"/>
                    </a:lnTo>
                    <a:lnTo>
                      <a:pt x="260" y="14"/>
                    </a:lnTo>
                    <a:lnTo>
                      <a:pt x="278" y="7"/>
                    </a:lnTo>
                    <a:lnTo>
                      <a:pt x="289" y="3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96520" y="4562280"/>
                <a:ext cx="43200" cy="74160"/>
              </a:xfrm>
              <a:custGeom>
                <a:avLst/>
                <a:gdLst/>
                <a:ahLst/>
                <a:rect l="l" t="t" r="r" b="b"/>
                <a:pathLst>
                  <a:path w="301" h="452">
                    <a:moveTo>
                      <a:pt x="301" y="0"/>
                    </a:moveTo>
                    <a:lnTo>
                      <a:pt x="0" y="2"/>
                    </a:lnTo>
                    <a:lnTo>
                      <a:pt x="0" y="450"/>
                    </a:lnTo>
                    <a:lnTo>
                      <a:pt x="167" y="452"/>
                    </a:lnTo>
                    <a:lnTo>
                      <a:pt x="172" y="409"/>
                    </a:lnTo>
                    <a:lnTo>
                      <a:pt x="49" y="404"/>
                    </a:lnTo>
                    <a:lnTo>
                      <a:pt x="49" y="27"/>
                    </a:lnTo>
                    <a:lnTo>
                      <a:pt x="68" y="32"/>
                    </a:lnTo>
                    <a:lnTo>
                      <a:pt x="68" y="395"/>
                    </a:lnTo>
                    <a:lnTo>
                      <a:pt x="237" y="395"/>
                    </a:lnTo>
                    <a:lnTo>
                      <a:pt x="237" y="434"/>
                    </a:lnTo>
                    <a:lnTo>
                      <a:pt x="301" y="434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95800" y="4562280"/>
                <a:ext cx="43920" cy="52200"/>
              </a:xfrm>
              <a:custGeom>
                <a:avLst/>
                <a:gdLst/>
                <a:ahLst/>
                <a:rect l="l" t="t" r="r" b="b"/>
                <a:pathLst>
                  <a:path w="306" h="318">
                    <a:moveTo>
                      <a:pt x="251" y="0"/>
                    </a:moveTo>
                    <a:lnTo>
                      <a:pt x="5" y="282"/>
                    </a:lnTo>
                    <a:lnTo>
                      <a:pt x="0" y="318"/>
                    </a:lnTo>
                    <a:lnTo>
                      <a:pt x="88" y="312"/>
                    </a:lnTo>
                    <a:lnTo>
                      <a:pt x="306" y="54"/>
                    </a:lnTo>
                    <a:lnTo>
                      <a:pt x="306" y="4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72320" y="4563000"/>
                <a:ext cx="123120" cy="75960"/>
              </a:xfrm>
              <a:custGeom>
                <a:avLst/>
                <a:gdLst/>
                <a:ahLst/>
                <a:rect l="l" t="t" r="r" b="b"/>
                <a:pathLst>
                  <a:path w="864" h="463">
                    <a:moveTo>
                      <a:pt x="864" y="0"/>
                    </a:moveTo>
                    <a:lnTo>
                      <a:pt x="577" y="0"/>
                    </a:lnTo>
                    <a:lnTo>
                      <a:pt x="552" y="179"/>
                    </a:lnTo>
                    <a:lnTo>
                      <a:pt x="513" y="186"/>
                    </a:lnTo>
                    <a:lnTo>
                      <a:pt x="531" y="314"/>
                    </a:lnTo>
                    <a:lnTo>
                      <a:pt x="513" y="308"/>
                    </a:lnTo>
                    <a:lnTo>
                      <a:pt x="0" y="314"/>
                    </a:lnTo>
                    <a:lnTo>
                      <a:pt x="0" y="430"/>
                    </a:lnTo>
                    <a:lnTo>
                      <a:pt x="92" y="382"/>
                    </a:lnTo>
                    <a:lnTo>
                      <a:pt x="208" y="353"/>
                    </a:lnTo>
                    <a:lnTo>
                      <a:pt x="380" y="348"/>
                    </a:lnTo>
                    <a:lnTo>
                      <a:pt x="502" y="396"/>
                    </a:lnTo>
                    <a:lnTo>
                      <a:pt x="581" y="463"/>
                    </a:lnTo>
                    <a:lnTo>
                      <a:pt x="862" y="459"/>
                    </a:lnTo>
                    <a:lnTo>
                      <a:pt x="862" y="154"/>
                    </a:lnTo>
                    <a:lnTo>
                      <a:pt x="86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71240" y="4610160"/>
                <a:ext cx="124920" cy="4320"/>
              </a:xfrm>
              <a:custGeom>
                <a:avLst/>
                <a:gdLst/>
                <a:ahLst/>
                <a:rect l="l" t="t" r="r" b="b"/>
                <a:pathLst>
                  <a:path w="878" h="28">
                    <a:moveTo>
                      <a:pt x="873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878" y="25"/>
                    </a:lnTo>
                    <a:lnTo>
                      <a:pt x="875" y="23"/>
                    </a:lnTo>
                    <a:lnTo>
                      <a:pt x="873" y="14"/>
                    </a:lnTo>
                    <a:lnTo>
                      <a:pt x="871" y="7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58360" y="457020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4"/>
                    </a:moveTo>
                    <a:lnTo>
                      <a:pt x="195" y="117"/>
                    </a:lnTo>
                    <a:lnTo>
                      <a:pt x="3" y="119"/>
                    </a:lnTo>
                    <a:lnTo>
                      <a:pt x="0" y="65"/>
                    </a:lnTo>
                    <a:lnTo>
                      <a:pt x="19" y="4"/>
                    </a:lnTo>
                    <a:lnTo>
                      <a:pt x="64" y="0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72040" y="4563720"/>
                <a:ext cx="18720" cy="75600"/>
              </a:xfrm>
              <a:custGeom>
                <a:avLst/>
                <a:gdLst/>
                <a:ahLst/>
                <a:rect l="l" t="t" r="r" b="b"/>
                <a:pathLst>
                  <a:path w="132" h="461">
                    <a:moveTo>
                      <a:pt x="0" y="447"/>
                    </a:moveTo>
                    <a:lnTo>
                      <a:pt x="0" y="461"/>
                    </a:lnTo>
                    <a:lnTo>
                      <a:pt x="132" y="46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6" y="14"/>
                    </a:lnTo>
                    <a:lnTo>
                      <a:pt x="116" y="447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53680" y="4563720"/>
                <a:ext cx="18000" cy="75600"/>
              </a:xfrm>
              <a:custGeom>
                <a:avLst/>
                <a:gdLst/>
                <a:ahLst/>
                <a:rect l="l" t="t" r="r" b="b"/>
                <a:pathLst>
                  <a:path w="126" h="461">
                    <a:moveTo>
                      <a:pt x="126" y="14"/>
                    </a:moveTo>
                    <a:lnTo>
                      <a:pt x="126" y="0"/>
                    </a:lnTo>
                    <a:lnTo>
                      <a:pt x="16" y="2"/>
                    </a:lnTo>
                    <a:lnTo>
                      <a:pt x="0" y="167"/>
                    </a:lnTo>
                    <a:lnTo>
                      <a:pt x="0" y="459"/>
                    </a:lnTo>
                    <a:lnTo>
                      <a:pt x="126" y="461"/>
                    </a:lnTo>
                    <a:lnTo>
                      <a:pt x="126" y="447"/>
                    </a:lnTo>
                    <a:lnTo>
                      <a:pt x="11" y="447"/>
                    </a:lnTo>
                    <a:lnTo>
                      <a:pt x="11" y="170"/>
                    </a:lnTo>
                    <a:lnTo>
                      <a:pt x="27" y="16"/>
                    </a:lnTo>
                    <a:lnTo>
                      <a:pt x="126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4480" y="4623840"/>
                <a:ext cx="79920" cy="25560"/>
              </a:xfrm>
              <a:custGeom>
                <a:avLst/>
                <a:gdLst/>
                <a:ahLst/>
                <a:rect l="l" t="t" r="r" b="b"/>
                <a:pathLst>
                  <a:path w="562" h="158">
                    <a:moveTo>
                      <a:pt x="562" y="110"/>
                    </a:moveTo>
                    <a:lnTo>
                      <a:pt x="530" y="86"/>
                    </a:lnTo>
                    <a:lnTo>
                      <a:pt x="500" y="63"/>
                    </a:lnTo>
                    <a:lnTo>
                      <a:pt x="471" y="45"/>
                    </a:lnTo>
                    <a:lnTo>
                      <a:pt x="444" y="29"/>
                    </a:lnTo>
                    <a:lnTo>
                      <a:pt x="414" y="18"/>
                    </a:lnTo>
                    <a:lnTo>
                      <a:pt x="385" y="9"/>
                    </a:lnTo>
                    <a:lnTo>
                      <a:pt x="358" y="4"/>
                    </a:lnTo>
                    <a:lnTo>
                      <a:pt x="328" y="0"/>
                    </a:lnTo>
                    <a:lnTo>
                      <a:pt x="301" y="0"/>
                    </a:lnTo>
                    <a:lnTo>
                      <a:pt x="270" y="2"/>
                    </a:lnTo>
                    <a:lnTo>
                      <a:pt x="240" y="7"/>
                    </a:lnTo>
                    <a:lnTo>
                      <a:pt x="209" y="11"/>
                    </a:lnTo>
                    <a:lnTo>
                      <a:pt x="177" y="18"/>
                    </a:lnTo>
                    <a:lnTo>
                      <a:pt x="141" y="27"/>
                    </a:lnTo>
                    <a:lnTo>
                      <a:pt x="107" y="36"/>
                    </a:lnTo>
                    <a:lnTo>
                      <a:pt x="68" y="47"/>
                    </a:lnTo>
                    <a:lnTo>
                      <a:pt x="9" y="81"/>
                    </a:lnTo>
                    <a:lnTo>
                      <a:pt x="64" y="81"/>
                    </a:lnTo>
                    <a:lnTo>
                      <a:pt x="59" y="126"/>
                    </a:lnTo>
                    <a:lnTo>
                      <a:pt x="0" y="126"/>
                    </a:lnTo>
                    <a:lnTo>
                      <a:pt x="0" y="158"/>
                    </a:lnTo>
                    <a:lnTo>
                      <a:pt x="98" y="156"/>
                    </a:lnTo>
                    <a:lnTo>
                      <a:pt x="186" y="156"/>
                    </a:lnTo>
                    <a:lnTo>
                      <a:pt x="222" y="106"/>
                    </a:lnTo>
                    <a:lnTo>
                      <a:pt x="263" y="72"/>
                    </a:lnTo>
                    <a:lnTo>
                      <a:pt x="304" y="47"/>
                    </a:lnTo>
                    <a:lnTo>
                      <a:pt x="347" y="38"/>
                    </a:lnTo>
                    <a:lnTo>
                      <a:pt x="392" y="40"/>
                    </a:lnTo>
                    <a:lnTo>
                      <a:pt x="437" y="56"/>
                    </a:lnTo>
                    <a:lnTo>
                      <a:pt x="482" y="86"/>
                    </a:lnTo>
                    <a:lnTo>
                      <a:pt x="528" y="126"/>
                    </a:lnTo>
                    <a:lnTo>
                      <a:pt x="534" y="122"/>
                    </a:lnTo>
                    <a:lnTo>
                      <a:pt x="546" y="115"/>
                    </a:lnTo>
                    <a:lnTo>
                      <a:pt x="559" y="108"/>
                    </a:lnTo>
                    <a:lnTo>
                      <a:pt x="562" y="11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69080" y="4618080"/>
                <a:ext cx="84240" cy="23400"/>
              </a:xfrm>
              <a:custGeom>
                <a:avLst/>
                <a:gdLst/>
                <a:ahLst/>
                <a:rect l="l" t="t" r="r" b="b"/>
                <a:pathLst>
                  <a:path w="593" h="144">
                    <a:moveTo>
                      <a:pt x="0" y="88"/>
                    </a:moveTo>
                    <a:lnTo>
                      <a:pt x="54" y="115"/>
                    </a:lnTo>
                    <a:lnTo>
                      <a:pt x="91" y="99"/>
                    </a:lnTo>
                    <a:lnTo>
                      <a:pt x="127" y="86"/>
                    </a:lnTo>
                    <a:lnTo>
                      <a:pt x="163" y="72"/>
                    </a:lnTo>
                    <a:lnTo>
                      <a:pt x="197" y="63"/>
                    </a:lnTo>
                    <a:lnTo>
                      <a:pt x="231" y="54"/>
                    </a:lnTo>
                    <a:lnTo>
                      <a:pt x="265" y="47"/>
                    </a:lnTo>
                    <a:lnTo>
                      <a:pt x="299" y="43"/>
                    </a:lnTo>
                    <a:lnTo>
                      <a:pt x="333" y="43"/>
                    </a:lnTo>
                    <a:lnTo>
                      <a:pt x="367" y="45"/>
                    </a:lnTo>
                    <a:lnTo>
                      <a:pt x="398" y="47"/>
                    </a:lnTo>
                    <a:lnTo>
                      <a:pt x="432" y="56"/>
                    </a:lnTo>
                    <a:lnTo>
                      <a:pt x="464" y="65"/>
                    </a:lnTo>
                    <a:lnTo>
                      <a:pt x="496" y="81"/>
                    </a:lnTo>
                    <a:lnTo>
                      <a:pt x="530" y="97"/>
                    </a:lnTo>
                    <a:lnTo>
                      <a:pt x="561" y="120"/>
                    </a:lnTo>
                    <a:lnTo>
                      <a:pt x="593" y="144"/>
                    </a:lnTo>
                    <a:lnTo>
                      <a:pt x="588" y="115"/>
                    </a:lnTo>
                    <a:lnTo>
                      <a:pt x="561" y="84"/>
                    </a:lnTo>
                    <a:lnTo>
                      <a:pt x="532" y="59"/>
                    </a:lnTo>
                    <a:lnTo>
                      <a:pt x="500" y="38"/>
                    </a:lnTo>
                    <a:lnTo>
                      <a:pt x="464" y="23"/>
                    </a:lnTo>
                    <a:lnTo>
                      <a:pt x="428" y="11"/>
                    </a:lnTo>
                    <a:lnTo>
                      <a:pt x="389" y="2"/>
                    </a:lnTo>
                    <a:lnTo>
                      <a:pt x="349" y="0"/>
                    </a:lnTo>
                    <a:lnTo>
                      <a:pt x="308" y="0"/>
                    </a:lnTo>
                    <a:lnTo>
                      <a:pt x="267" y="2"/>
                    </a:lnTo>
                    <a:lnTo>
                      <a:pt x="226" y="9"/>
                    </a:lnTo>
                    <a:lnTo>
                      <a:pt x="186" y="16"/>
                    </a:lnTo>
                    <a:lnTo>
                      <a:pt x="145" y="27"/>
                    </a:lnTo>
                    <a:lnTo>
                      <a:pt x="107" y="41"/>
                    </a:lnTo>
                    <a:lnTo>
                      <a:pt x="68" y="54"/>
                    </a:lnTo>
                    <a:lnTo>
                      <a:pt x="34" y="7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72320" y="4592880"/>
                <a:ext cx="74160" cy="18000"/>
              </a:xfrm>
              <a:custGeom>
                <a:avLst/>
                <a:gdLst/>
                <a:ahLst/>
                <a:rect l="l" t="t" r="r" b="b"/>
                <a:pathLst>
                  <a:path w="520" h="108">
                    <a:moveTo>
                      <a:pt x="497" y="0"/>
                    </a:moveTo>
                    <a:lnTo>
                      <a:pt x="520" y="106"/>
                    </a:lnTo>
                    <a:lnTo>
                      <a:pt x="0" y="108"/>
                    </a:lnTo>
                    <a:lnTo>
                      <a:pt x="58" y="74"/>
                    </a:lnTo>
                    <a:lnTo>
                      <a:pt x="153" y="49"/>
                    </a:lnTo>
                    <a:lnTo>
                      <a:pt x="330" y="13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56560" y="4641120"/>
                <a:ext cx="60480" cy="19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07320" y="4640400"/>
                <a:ext cx="360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95080" y="4640400"/>
                <a:ext cx="2880" cy="21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70600" y="4639680"/>
                <a:ext cx="360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62680" y="4639680"/>
                <a:ext cx="2880" cy="22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56560" y="4645440"/>
                <a:ext cx="60480" cy="1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07320" y="464472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95080" y="464472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70600" y="4644720"/>
                <a:ext cx="360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362680" y="4644720"/>
                <a:ext cx="2880" cy="14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56560" y="4647600"/>
                <a:ext cx="604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407320" y="4647600"/>
                <a:ext cx="360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95080" y="4647600"/>
                <a:ext cx="2880" cy="75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70600" y="4646880"/>
                <a:ext cx="360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62680" y="4646880"/>
                <a:ext cx="2880" cy="8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56560" y="4649040"/>
                <a:ext cx="604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07320" y="464904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395080" y="464904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70600" y="4649040"/>
                <a:ext cx="360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362680" y="4649040"/>
                <a:ext cx="2880" cy="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3680" y="4626000"/>
                <a:ext cx="87120" cy="20520"/>
              </a:xfrm>
              <a:custGeom>
                <a:avLst/>
                <a:gdLst/>
                <a:ahLst/>
                <a:rect l="l" t="t" r="r" b="b"/>
                <a:pathLst>
                  <a:path w="613" h="126">
                    <a:moveTo>
                      <a:pt x="608" y="0"/>
                    </a:moveTo>
                    <a:lnTo>
                      <a:pt x="0" y="0"/>
                    </a:lnTo>
                    <a:lnTo>
                      <a:pt x="0" y="65"/>
                    </a:lnTo>
                    <a:lnTo>
                      <a:pt x="70" y="70"/>
                    </a:lnTo>
                    <a:lnTo>
                      <a:pt x="70" y="126"/>
                    </a:lnTo>
                    <a:lnTo>
                      <a:pt x="131" y="126"/>
                    </a:lnTo>
                    <a:lnTo>
                      <a:pt x="188" y="47"/>
                    </a:lnTo>
                    <a:lnTo>
                      <a:pt x="344" y="40"/>
                    </a:lnTo>
                    <a:lnTo>
                      <a:pt x="407" y="94"/>
                    </a:lnTo>
                    <a:lnTo>
                      <a:pt x="461" y="40"/>
                    </a:lnTo>
                    <a:lnTo>
                      <a:pt x="613" y="31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02200" y="4637520"/>
                <a:ext cx="46080" cy="56520"/>
              </a:xfrm>
              <a:custGeom>
                <a:avLst/>
                <a:gdLst/>
                <a:ahLst/>
                <a:rect l="l" t="t" r="r" b="b"/>
                <a:pathLst>
                  <a:path w="328" h="344">
                    <a:moveTo>
                      <a:pt x="165" y="0"/>
                    </a:moveTo>
                    <a:lnTo>
                      <a:pt x="131" y="5"/>
                    </a:lnTo>
                    <a:lnTo>
                      <a:pt x="102" y="14"/>
                    </a:lnTo>
                    <a:lnTo>
                      <a:pt x="72" y="30"/>
                    </a:lnTo>
                    <a:lnTo>
                      <a:pt x="49" y="50"/>
                    </a:lnTo>
                    <a:lnTo>
                      <a:pt x="29" y="75"/>
                    </a:lnTo>
                    <a:lnTo>
                      <a:pt x="13" y="104"/>
                    </a:lnTo>
                    <a:lnTo>
                      <a:pt x="2" y="138"/>
                    </a:lnTo>
                    <a:lnTo>
                      <a:pt x="0" y="172"/>
                    </a:lnTo>
                    <a:lnTo>
                      <a:pt x="2" y="206"/>
                    </a:lnTo>
                    <a:lnTo>
                      <a:pt x="13" y="240"/>
                    </a:lnTo>
                    <a:lnTo>
                      <a:pt x="29" y="269"/>
                    </a:lnTo>
                    <a:lnTo>
                      <a:pt x="49" y="294"/>
                    </a:lnTo>
                    <a:lnTo>
                      <a:pt x="72" y="314"/>
                    </a:lnTo>
                    <a:lnTo>
                      <a:pt x="102" y="330"/>
                    </a:lnTo>
                    <a:lnTo>
                      <a:pt x="131" y="339"/>
                    </a:lnTo>
                    <a:lnTo>
                      <a:pt x="165" y="344"/>
                    </a:lnTo>
                    <a:lnTo>
                      <a:pt x="199" y="339"/>
                    </a:lnTo>
                    <a:lnTo>
                      <a:pt x="230" y="330"/>
                    </a:lnTo>
                    <a:lnTo>
                      <a:pt x="258" y="314"/>
                    </a:lnTo>
                    <a:lnTo>
                      <a:pt x="280" y="294"/>
                    </a:lnTo>
                    <a:lnTo>
                      <a:pt x="301" y="269"/>
                    </a:lnTo>
                    <a:lnTo>
                      <a:pt x="316" y="240"/>
                    </a:lnTo>
                    <a:lnTo>
                      <a:pt x="326" y="206"/>
                    </a:lnTo>
                    <a:lnTo>
                      <a:pt x="328" y="172"/>
                    </a:lnTo>
                    <a:lnTo>
                      <a:pt x="326" y="138"/>
                    </a:lnTo>
                    <a:lnTo>
                      <a:pt x="316" y="104"/>
                    </a:lnTo>
                    <a:lnTo>
                      <a:pt x="301" y="75"/>
                    </a:lnTo>
                    <a:lnTo>
                      <a:pt x="280" y="50"/>
                    </a:lnTo>
                    <a:lnTo>
                      <a:pt x="258" y="30"/>
                    </a:lnTo>
                    <a:lnTo>
                      <a:pt x="230" y="14"/>
                    </a:lnTo>
                    <a:lnTo>
                      <a:pt x="199" y="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457000" y="463752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06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31"/>
                    </a:lnTo>
                    <a:lnTo>
                      <a:pt x="0" y="162"/>
                    </a:lnTo>
                    <a:lnTo>
                      <a:pt x="2" y="196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7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6" y="323"/>
                    </a:lnTo>
                    <a:lnTo>
                      <a:pt x="213" y="311"/>
                    </a:lnTo>
                    <a:lnTo>
                      <a:pt x="238" y="298"/>
                    </a:lnTo>
                    <a:lnTo>
                      <a:pt x="260" y="277"/>
                    </a:lnTo>
                    <a:lnTo>
                      <a:pt x="278" y="253"/>
                    </a:lnTo>
                    <a:lnTo>
                      <a:pt x="294" y="226"/>
                    </a:lnTo>
                    <a:lnTo>
                      <a:pt x="303" y="196"/>
                    </a:lnTo>
                    <a:lnTo>
                      <a:pt x="306" y="162"/>
                    </a:lnTo>
                    <a:lnTo>
                      <a:pt x="303" y="131"/>
                    </a:lnTo>
                    <a:lnTo>
                      <a:pt x="294" y="99"/>
                    </a:lnTo>
                    <a:lnTo>
                      <a:pt x="278" y="72"/>
                    </a:lnTo>
                    <a:lnTo>
                      <a:pt x="260" y="47"/>
                    </a:lnTo>
                    <a:lnTo>
                      <a:pt x="238" y="27"/>
                    </a:lnTo>
                    <a:lnTo>
                      <a:pt x="213" y="13"/>
                    </a:lnTo>
                    <a:lnTo>
                      <a:pt x="186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03320" y="4641120"/>
                <a:ext cx="43560" cy="5292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6" y="0"/>
                    </a:moveTo>
                    <a:lnTo>
                      <a:pt x="125" y="2"/>
                    </a:lnTo>
                    <a:lnTo>
                      <a:pt x="95" y="13"/>
                    </a:lnTo>
                    <a:lnTo>
                      <a:pt x="68" y="27"/>
                    </a:lnTo>
                    <a:lnTo>
                      <a:pt x="46" y="47"/>
                    </a:lnTo>
                    <a:lnTo>
                      <a:pt x="27" y="72"/>
                    </a:lnTo>
                    <a:lnTo>
                      <a:pt x="12" y="99"/>
                    </a:lnTo>
                    <a:lnTo>
                      <a:pt x="3" y="128"/>
                    </a:lnTo>
                    <a:lnTo>
                      <a:pt x="0" y="162"/>
                    </a:lnTo>
                    <a:lnTo>
                      <a:pt x="3" y="196"/>
                    </a:lnTo>
                    <a:lnTo>
                      <a:pt x="12" y="226"/>
                    </a:lnTo>
                    <a:lnTo>
                      <a:pt x="27" y="253"/>
                    </a:lnTo>
                    <a:lnTo>
                      <a:pt x="46" y="278"/>
                    </a:lnTo>
                    <a:lnTo>
                      <a:pt x="68" y="298"/>
                    </a:lnTo>
                    <a:lnTo>
                      <a:pt x="95" y="311"/>
                    </a:lnTo>
                    <a:lnTo>
                      <a:pt x="125" y="323"/>
                    </a:lnTo>
                    <a:lnTo>
                      <a:pt x="156" y="325"/>
                    </a:lnTo>
                    <a:lnTo>
                      <a:pt x="188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5" y="278"/>
                    </a:lnTo>
                    <a:lnTo>
                      <a:pt x="283" y="253"/>
                    </a:lnTo>
                    <a:lnTo>
                      <a:pt x="299" y="226"/>
                    </a:lnTo>
                    <a:lnTo>
                      <a:pt x="308" y="196"/>
                    </a:lnTo>
                    <a:lnTo>
                      <a:pt x="310" y="162"/>
                    </a:lnTo>
                    <a:lnTo>
                      <a:pt x="308" y="128"/>
                    </a:lnTo>
                    <a:lnTo>
                      <a:pt x="299" y="99"/>
                    </a:lnTo>
                    <a:lnTo>
                      <a:pt x="283" y="72"/>
                    </a:lnTo>
                    <a:lnTo>
                      <a:pt x="265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8" y="2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01280" y="4638960"/>
                <a:ext cx="44280" cy="53640"/>
              </a:xfrm>
              <a:custGeom>
                <a:avLst/>
                <a:gdLst/>
                <a:ahLst/>
                <a:rect l="l" t="t" r="r" b="b"/>
                <a:pathLst>
                  <a:path w="310" h="325">
                    <a:moveTo>
                      <a:pt x="153" y="0"/>
                    </a:moveTo>
                    <a:lnTo>
                      <a:pt x="122" y="2"/>
                    </a:lnTo>
                    <a:lnTo>
                      <a:pt x="95" y="13"/>
                    </a:lnTo>
                    <a:lnTo>
                      <a:pt x="67" y="27"/>
                    </a:lnTo>
                    <a:lnTo>
                      <a:pt x="45" y="47"/>
                    </a:lnTo>
                    <a:lnTo>
                      <a:pt x="27" y="72"/>
                    </a:lnTo>
                    <a:lnTo>
                      <a:pt x="11" y="99"/>
                    </a:lnTo>
                    <a:lnTo>
                      <a:pt x="2" y="128"/>
                    </a:lnTo>
                    <a:lnTo>
                      <a:pt x="0" y="162"/>
                    </a:lnTo>
                    <a:lnTo>
                      <a:pt x="2" y="194"/>
                    </a:lnTo>
                    <a:lnTo>
                      <a:pt x="11" y="226"/>
                    </a:lnTo>
                    <a:lnTo>
                      <a:pt x="27" y="253"/>
                    </a:lnTo>
                    <a:lnTo>
                      <a:pt x="45" y="278"/>
                    </a:lnTo>
                    <a:lnTo>
                      <a:pt x="67" y="298"/>
                    </a:lnTo>
                    <a:lnTo>
                      <a:pt x="95" y="311"/>
                    </a:lnTo>
                    <a:lnTo>
                      <a:pt x="122" y="323"/>
                    </a:lnTo>
                    <a:lnTo>
                      <a:pt x="153" y="325"/>
                    </a:lnTo>
                    <a:lnTo>
                      <a:pt x="185" y="323"/>
                    </a:lnTo>
                    <a:lnTo>
                      <a:pt x="215" y="311"/>
                    </a:lnTo>
                    <a:lnTo>
                      <a:pt x="242" y="298"/>
                    </a:lnTo>
                    <a:lnTo>
                      <a:pt x="264" y="278"/>
                    </a:lnTo>
                    <a:lnTo>
                      <a:pt x="282" y="253"/>
                    </a:lnTo>
                    <a:lnTo>
                      <a:pt x="298" y="226"/>
                    </a:lnTo>
                    <a:lnTo>
                      <a:pt x="307" y="194"/>
                    </a:lnTo>
                    <a:lnTo>
                      <a:pt x="310" y="162"/>
                    </a:lnTo>
                    <a:lnTo>
                      <a:pt x="307" y="128"/>
                    </a:lnTo>
                    <a:lnTo>
                      <a:pt x="298" y="99"/>
                    </a:lnTo>
                    <a:lnTo>
                      <a:pt x="282" y="72"/>
                    </a:lnTo>
                    <a:lnTo>
                      <a:pt x="264" y="47"/>
                    </a:lnTo>
                    <a:lnTo>
                      <a:pt x="242" y="27"/>
                    </a:lnTo>
                    <a:lnTo>
                      <a:pt x="215" y="13"/>
                    </a:lnTo>
                    <a:lnTo>
                      <a:pt x="185" y="2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52640" y="4638960"/>
                <a:ext cx="43920" cy="53640"/>
              </a:xfrm>
              <a:custGeom>
                <a:avLst/>
                <a:gdLst/>
                <a:ahLst/>
                <a:rect l="l" t="t" r="r" b="b"/>
                <a:pathLst>
                  <a:path w="310" h="328">
                    <a:moveTo>
                      <a:pt x="156" y="0"/>
                    </a:moveTo>
                    <a:lnTo>
                      <a:pt x="125" y="3"/>
                    </a:lnTo>
                    <a:lnTo>
                      <a:pt x="95" y="14"/>
                    </a:lnTo>
                    <a:lnTo>
                      <a:pt x="68" y="30"/>
                    </a:lnTo>
                    <a:lnTo>
                      <a:pt x="45" y="48"/>
                    </a:lnTo>
                    <a:lnTo>
                      <a:pt x="27" y="73"/>
                    </a:lnTo>
                    <a:lnTo>
                      <a:pt x="12" y="102"/>
                    </a:lnTo>
                    <a:lnTo>
                      <a:pt x="2" y="131"/>
                    </a:lnTo>
                    <a:lnTo>
                      <a:pt x="0" y="165"/>
                    </a:lnTo>
                    <a:lnTo>
                      <a:pt x="2" y="197"/>
                    </a:lnTo>
                    <a:lnTo>
                      <a:pt x="12" y="229"/>
                    </a:lnTo>
                    <a:lnTo>
                      <a:pt x="27" y="256"/>
                    </a:lnTo>
                    <a:lnTo>
                      <a:pt x="45" y="281"/>
                    </a:lnTo>
                    <a:lnTo>
                      <a:pt x="68" y="301"/>
                    </a:lnTo>
                    <a:lnTo>
                      <a:pt x="95" y="314"/>
                    </a:lnTo>
                    <a:lnTo>
                      <a:pt x="125" y="326"/>
                    </a:lnTo>
                    <a:lnTo>
                      <a:pt x="156" y="328"/>
                    </a:lnTo>
                    <a:lnTo>
                      <a:pt x="188" y="326"/>
                    </a:lnTo>
                    <a:lnTo>
                      <a:pt x="215" y="314"/>
                    </a:lnTo>
                    <a:lnTo>
                      <a:pt x="242" y="301"/>
                    </a:lnTo>
                    <a:lnTo>
                      <a:pt x="265" y="281"/>
                    </a:lnTo>
                    <a:lnTo>
                      <a:pt x="283" y="256"/>
                    </a:lnTo>
                    <a:lnTo>
                      <a:pt x="299" y="229"/>
                    </a:lnTo>
                    <a:lnTo>
                      <a:pt x="308" y="197"/>
                    </a:lnTo>
                    <a:lnTo>
                      <a:pt x="310" y="165"/>
                    </a:lnTo>
                    <a:lnTo>
                      <a:pt x="308" y="131"/>
                    </a:lnTo>
                    <a:lnTo>
                      <a:pt x="299" y="102"/>
                    </a:lnTo>
                    <a:lnTo>
                      <a:pt x="283" y="73"/>
                    </a:lnTo>
                    <a:lnTo>
                      <a:pt x="265" y="48"/>
                    </a:lnTo>
                    <a:lnTo>
                      <a:pt x="242" y="30"/>
                    </a:lnTo>
                    <a:lnTo>
                      <a:pt x="215" y="14"/>
                    </a:lnTo>
                    <a:lnTo>
                      <a:pt x="188" y="3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4720" y="464112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88" h="302">
                    <a:moveTo>
                      <a:pt x="143" y="0"/>
                    </a:moveTo>
                    <a:lnTo>
                      <a:pt x="113" y="2"/>
                    </a:lnTo>
                    <a:lnTo>
                      <a:pt x="86" y="11"/>
                    </a:lnTo>
                    <a:lnTo>
                      <a:pt x="64" y="25"/>
                    </a:lnTo>
                    <a:lnTo>
                      <a:pt x="41" y="45"/>
                    </a:lnTo>
                    <a:lnTo>
                      <a:pt x="25" y="67"/>
                    </a:lnTo>
                    <a:lnTo>
                      <a:pt x="12" y="92"/>
                    </a:lnTo>
                    <a:lnTo>
                      <a:pt x="3" y="119"/>
                    </a:lnTo>
                    <a:lnTo>
                      <a:pt x="0" y="151"/>
                    </a:lnTo>
                    <a:lnTo>
                      <a:pt x="3" y="183"/>
                    </a:lnTo>
                    <a:lnTo>
                      <a:pt x="12" y="210"/>
                    </a:lnTo>
                    <a:lnTo>
                      <a:pt x="25" y="235"/>
                    </a:lnTo>
                    <a:lnTo>
                      <a:pt x="41" y="257"/>
                    </a:lnTo>
                    <a:lnTo>
                      <a:pt x="64" y="278"/>
                    </a:lnTo>
                    <a:lnTo>
                      <a:pt x="86" y="291"/>
                    </a:lnTo>
                    <a:lnTo>
                      <a:pt x="113" y="300"/>
                    </a:lnTo>
                    <a:lnTo>
                      <a:pt x="143" y="302"/>
                    </a:lnTo>
                    <a:lnTo>
                      <a:pt x="172" y="300"/>
                    </a:lnTo>
                    <a:lnTo>
                      <a:pt x="199" y="291"/>
                    </a:lnTo>
                    <a:lnTo>
                      <a:pt x="224" y="278"/>
                    </a:lnTo>
                    <a:lnTo>
                      <a:pt x="245" y="257"/>
                    </a:lnTo>
                    <a:lnTo>
                      <a:pt x="263" y="235"/>
                    </a:lnTo>
                    <a:lnTo>
                      <a:pt x="276" y="210"/>
                    </a:lnTo>
                    <a:lnTo>
                      <a:pt x="285" y="183"/>
                    </a:lnTo>
                    <a:lnTo>
                      <a:pt x="288" y="151"/>
                    </a:lnTo>
                    <a:lnTo>
                      <a:pt x="285" y="119"/>
                    </a:lnTo>
                    <a:lnTo>
                      <a:pt x="276" y="92"/>
                    </a:lnTo>
                    <a:lnTo>
                      <a:pt x="263" y="67"/>
                    </a:lnTo>
                    <a:lnTo>
                      <a:pt x="245" y="45"/>
                    </a:lnTo>
                    <a:lnTo>
                      <a:pt x="224" y="25"/>
                    </a:lnTo>
                    <a:lnTo>
                      <a:pt x="199" y="11"/>
                    </a:lnTo>
                    <a:lnTo>
                      <a:pt x="172" y="2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59880" y="4641120"/>
                <a:ext cx="38520" cy="47160"/>
              </a:xfrm>
              <a:custGeom>
                <a:avLst/>
                <a:gdLst/>
                <a:ahLst/>
                <a:rect l="l" t="t" r="r" b="b"/>
                <a:pathLst>
                  <a:path w="269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1"/>
                    </a:lnTo>
                    <a:lnTo>
                      <a:pt x="23" y="63"/>
                    </a:lnTo>
                    <a:lnTo>
                      <a:pt x="12" y="86"/>
                    </a:lnTo>
                    <a:lnTo>
                      <a:pt x="2" y="113"/>
                    </a:lnTo>
                    <a:lnTo>
                      <a:pt x="0" y="142"/>
                    </a:lnTo>
                    <a:lnTo>
                      <a:pt x="2" y="172"/>
                    </a:lnTo>
                    <a:lnTo>
                      <a:pt x="12" y="199"/>
                    </a:lnTo>
                    <a:lnTo>
                      <a:pt x="23" y="224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6"/>
                    </a:lnTo>
                    <a:lnTo>
                      <a:pt x="111" y="285"/>
                    </a:lnTo>
                    <a:lnTo>
                      <a:pt x="138" y="287"/>
                    </a:lnTo>
                    <a:lnTo>
                      <a:pt x="163" y="285"/>
                    </a:lnTo>
                    <a:lnTo>
                      <a:pt x="188" y="276"/>
                    </a:lnTo>
                    <a:lnTo>
                      <a:pt x="211" y="262"/>
                    </a:lnTo>
                    <a:lnTo>
                      <a:pt x="231" y="244"/>
                    </a:lnTo>
                    <a:lnTo>
                      <a:pt x="247" y="224"/>
                    </a:lnTo>
                    <a:lnTo>
                      <a:pt x="258" y="199"/>
                    </a:lnTo>
                    <a:lnTo>
                      <a:pt x="267" y="172"/>
                    </a:lnTo>
                    <a:lnTo>
                      <a:pt x="269" y="142"/>
                    </a:lnTo>
                    <a:lnTo>
                      <a:pt x="267" y="113"/>
                    </a:lnTo>
                    <a:lnTo>
                      <a:pt x="258" y="86"/>
                    </a:lnTo>
                    <a:lnTo>
                      <a:pt x="247" y="63"/>
                    </a:lnTo>
                    <a:lnTo>
                      <a:pt x="231" y="41"/>
                    </a:lnTo>
                    <a:lnTo>
                      <a:pt x="211" y="25"/>
                    </a:lnTo>
                    <a:lnTo>
                      <a:pt x="188" y="11"/>
                    </a:lnTo>
                    <a:lnTo>
                      <a:pt x="163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05840" y="464400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8" y="0"/>
                    </a:moveTo>
                    <a:lnTo>
                      <a:pt x="111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4"/>
                    </a:lnTo>
                    <a:lnTo>
                      <a:pt x="3" y="174"/>
                    </a:lnTo>
                    <a:lnTo>
                      <a:pt x="12" y="201"/>
                    </a:lnTo>
                    <a:lnTo>
                      <a:pt x="23" y="223"/>
                    </a:lnTo>
                    <a:lnTo>
                      <a:pt x="41" y="246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11" y="284"/>
                    </a:lnTo>
                    <a:lnTo>
                      <a:pt x="138" y="287"/>
                    </a:lnTo>
                    <a:lnTo>
                      <a:pt x="166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6"/>
                    </a:lnTo>
                    <a:lnTo>
                      <a:pt x="252" y="223"/>
                    </a:lnTo>
                    <a:lnTo>
                      <a:pt x="263" y="201"/>
                    </a:lnTo>
                    <a:lnTo>
                      <a:pt x="272" y="174"/>
                    </a:lnTo>
                    <a:lnTo>
                      <a:pt x="274" y="144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2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6" y="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03800" y="464256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3" h="287">
                    <a:moveTo>
                      <a:pt x="135" y="0"/>
                    </a:moveTo>
                    <a:lnTo>
                      <a:pt x="108" y="2"/>
                    </a:lnTo>
                    <a:lnTo>
                      <a:pt x="83" y="11"/>
                    </a:lnTo>
                    <a:lnTo>
                      <a:pt x="61" y="25"/>
                    </a:lnTo>
                    <a:lnTo>
                      <a:pt x="40" y="43"/>
                    </a:lnTo>
                    <a:lnTo>
                      <a:pt x="22" y="63"/>
                    </a:lnTo>
                    <a:lnTo>
                      <a:pt x="11" y="88"/>
                    </a:lnTo>
                    <a:lnTo>
                      <a:pt x="2" y="115"/>
                    </a:lnTo>
                    <a:lnTo>
                      <a:pt x="0" y="142"/>
                    </a:lnTo>
                    <a:lnTo>
                      <a:pt x="2" y="171"/>
                    </a:lnTo>
                    <a:lnTo>
                      <a:pt x="11" y="199"/>
                    </a:lnTo>
                    <a:lnTo>
                      <a:pt x="22" y="223"/>
                    </a:lnTo>
                    <a:lnTo>
                      <a:pt x="40" y="244"/>
                    </a:lnTo>
                    <a:lnTo>
                      <a:pt x="61" y="262"/>
                    </a:lnTo>
                    <a:lnTo>
                      <a:pt x="83" y="275"/>
                    </a:lnTo>
                    <a:lnTo>
                      <a:pt x="108" y="284"/>
                    </a:lnTo>
                    <a:lnTo>
                      <a:pt x="135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2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2" y="199"/>
                    </a:lnTo>
                    <a:lnTo>
                      <a:pt x="271" y="171"/>
                    </a:lnTo>
                    <a:lnTo>
                      <a:pt x="273" y="142"/>
                    </a:lnTo>
                    <a:lnTo>
                      <a:pt x="271" y="115"/>
                    </a:lnTo>
                    <a:lnTo>
                      <a:pt x="262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2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5160" y="4642560"/>
                <a:ext cx="38520" cy="46440"/>
              </a:xfrm>
              <a:custGeom>
                <a:avLst/>
                <a:gdLst/>
                <a:ahLst/>
                <a:rect l="l" t="t" r="r" b="b"/>
                <a:pathLst>
                  <a:path w="274" h="287">
                    <a:moveTo>
                      <a:pt x="136" y="0"/>
                    </a:moveTo>
                    <a:lnTo>
                      <a:pt x="109" y="2"/>
                    </a:lnTo>
                    <a:lnTo>
                      <a:pt x="84" y="11"/>
                    </a:lnTo>
                    <a:lnTo>
                      <a:pt x="61" y="25"/>
                    </a:lnTo>
                    <a:lnTo>
                      <a:pt x="41" y="43"/>
                    </a:lnTo>
                    <a:lnTo>
                      <a:pt x="23" y="63"/>
                    </a:lnTo>
                    <a:lnTo>
                      <a:pt x="12" y="88"/>
                    </a:lnTo>
                    <a:lnTo>
                      <a:pt x="3" y="115"/>
                    </a:lnTo>
                    <a:lnTo>
                      <a:pt x="0" y="142"/>
                    </a:lnTo>
                    <a:lnTo>
                      <a:pt x="3" y="171"/>
                    </a:lnTo>
                    <a:lnTo>
                      <a:pt x="12" y="199"/>
                    </a:lnTo>
                    <a:lnTo>
                      <a:pt x="23" y="223"/>
                    </a:lnTo>
                    <a:lnTo>
                      <a:pt x="41" y="244"/>
                    </a:lnTo>
                    <a:lnTo>
                      <a:pt x="61" y="262"/>
                    </a:lnTo>
                    <a:lnTo>
                      <a:pt x="84" y="275"/>
                    </a:lnTo>
                    <a:lnTo>
                      <a:pt x="109" y="284"/>
                    </a:lnTo>
                    <a:lnTo>
                      <a:pt x="136" y="287"/>
                    </a:lnTo>
                    <a:lnTo>
                      <a:pt x="163" y="284"/>
                    </a:lnTo>
                    <a:lnTo>
                      <a:pt x="190" y="275"/>
                    </a:lnTo>
                    <a:lnTo>
                      <a:pt x="213" y="262"/>
                    </a:lnTo>
                    <a:lnTo>
                      <a:pt x="233" y="244"/>
                    </a:lnTo>
                    <a:lnTo>
                      <a:pt x="251" y="223"/>
                    </a:lnTo>
                    <a:lnTo>
                      <a:pt x="263" y="199"/>
                    </a:lnTo>
                    <a:lnTo>
                      <a:pt x="272" y="171"/>
                    </a:lnTo>
                    <a:lnTo>
                      <a:pt x="274" y="142"/>
                    </a:lnTo>
                    <a:lnTo>
                      <a:pt x="272" y="115"/>
                    </a:lnTo>
                    <a:lnTo>
                      <a:pt x="263" y="88"/>
                    </a:lnTo>
                    <a:lnTo>
                      <a:pt x="251" y="63"/>
                    </a:lnTo>
                    <a:lnTo>
                      <a:pt x="233" y="43"/>
                    </a:lnTo>
                    <a:lnTo>
                      <a:pt x="213" y="25"/>
                    </a:lnTo>
                    <a:lnTo>
                      <a:pt x="190" y="11"/>
                    </a:lnTo>
                    <a:lnTo>
                      <a:pt x="163" y="2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10480" y="4647600"/>
                <a:ext cx="29520" cy="36360"/>
              </a:xfrm>
              <a:custGeom>
                <a:avLst/>
                <a:gdLst/>
                <a:ahLst/>
                <a:rect l="l" t="t" r="r" b="b"/>
                <a:pathLst>
                  <a:path w="208" h="219">
                    <a:moveTo>
                      <a:pt x="106" y="0"/>
                    </a:moveTo>
                    <a:lnTo>
                      <a:pt x="86" y="2"/>
                    </a:lnTo>
                    <a:lnTo>
                      <a:pt x="65" y="9"/>
                    </a:lnTo>
                    <a:lnTo>
                      <a:pt x="47" y="18"/>
                    </a:lnTo>
                    <a:lnTo>
                      <a:pt x="31" y="31"/>
                    </a:lnTo>
                    <a:lnTo>
                      <a:pt x="18" y="49"/>
                    </a:lnTo>
                    <a:lnTo>
                      <a:pt x="9" y="67"/>
                    </a:lnTo>
                    <a:lnTo>
                      <a:pt x="2" y="88"/>
                    </a:lnTo>
                    <a:lnTo>
                      <a:pt x="0" y="110"/>
                    </a:lnTo>
                    <a:lnTo>
                      <a:pt x="2" y="133"/>
                    </a:lnTo>
                    <a:lnTo>
                      <a:pt x="9" y="153"/>
                    </a:lnTo>
                    <a:lnTo>
                      <a:pt x="18" y="171"/>
                    </a:lnTo>
                    <a:lnTo>
                      <a:pt x="31" y="187"/>
                    </a:lnTo>
                    <a:lnTo>
                      <a:pt x="47" y="201"/>
                    </a:lnTo>
                    <a:lnTo>
                      <a:pt x="65" y="210"/>
                    </a:lnTo>
                    <a:lnTo>
                      <a:pt x="86" y="216"/>
                    </a:lnTo>
                    <a:lnTo>
                      <a:pt x="106" y="219"/>
                    </a:lnTo>
                    <a:lnTo>
                      <a:pt x="126" y="216"/>
                    </a:lnTo>
                    <a:lnTo>
                      <a:pt x="147" y="210"/>
                    </a:lnTo>
                    <a:lnTo>
                      <a:pt x="162" y="201"/>
                    </a:lnTo>
                    <a:lnTo>
                      <a:pt x="178" y="187"/>
                    </a:lnTo>
                    <a:lnTo>
                      <a:pt x="190" y="171"/>
                    </a:lnTo>
                    <a:lnTo>
                      <a:pt x="199" y="153"/>
                    </a:lnTo>
                    <a:lnTo>
                      <a:pt x="205" y="133"/>
                    </a:lnTo>
                    <a:lnTo>
                      <a:pt x="208" y="110"/>
                    </a:lnTo>
                    <a:lnTo>
                      <a:pt x="205" y="88"/>
                    </a:lnTo>
                    <a:lnTo>
                      <a:pt x="199" y="67"/>
                    </a:lnTo>
                    <a:lnTo>
                      <a:pt x="190" y="49"/>
                    </a:lnTo>
                    <a:lnTo>
                      <a:pt x="178" y="31"/>
                    </a:lnTo>
                    <a:lnTo>
                      <a:pt x="162" y="18"/>
                    </a:lnTo>
                    <a:lnTo>
                      <a:pt x="147" y="9"/>
                    </a:lnTo>
                    <a:lnTo>
                      <a:pt x="126" y="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64920" y="464760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7" h="207">
                    <a:moveTo>
                      <a:pt x="100" y="0"/>
                    </a:moveTo>
                    <a:lnTo>
                      <a:pt x="80" y="2"/>
                    </a:lnTo>
                    <a:lnTo>
                      <a:pt x="61" y="9"/>
                    </a:lnTo>
                    <a:lnTo>
                      <a:pt x="46" y="18"/>
                    </a:lnTo>
                    <a:lnTo>
                      <a:pt x="30" y="31"/>
                    </a:lnTo>
                    <a:lnTo>
                      <a:pt x="19" y="45"/>
                    </a:lnTo>
                    <a:lnTo>
                      <a:pt x="9" y="63"/>
                    </a:lnTo>
                    <a:lnTo>
                      <a:pt x="3" y="83"/>
                    </a:lnTo>
                    <a:lnTo>
                      <a:pt x="0" y="104"/>
                    </a:lnTo>
                    <a:lnTo>
                      <a:pt x="3" y="124"/>
                    </a:lnTo>
                    <a:lnTo>
                      <a:pt x="9" y="144"/>
                    </a:lnTo>
                    <a:lnTo>
                      <a:pt x="19" y="162"/>
                    </a:lnTo>
                    <a:lnTo>
                      <a:pt x="30" y="176"/>
                    </a:lnTo>
                    <a:lnTo>
                      <a:pt x="46" y="189"/>
                    </a:lnTo>
                    <a:lnTo>
                      <a:pt x="61" y="198"/>
                    </a:lnTo>
                    <a:lnTo>
                      <a:pt x="80" y="205"/>
                    </a:lnTo>
                    <a:lnTo>
                      <a:pt x="100" y="207"/>
                    </a:lnTo>
                    <a:lnTo>
                      <a:pt x="118" y="205"/>
                    </a:lnTo>
                    <a:lnTo>
                      <a:pt x="136" y="198"/>
                    </a:lnTo>
                    <a:lnTo>
                      <a:pt x="152" y="189"/>
                    </a:lnTo>
                    <a:lnTo>
                      <a:pt x="168" y="176"/>
                    </a:lnTo>
                    <a:lnTo>
                      <a:pt x="179" y="162"/>
                    </a:lnTo>
                    <a:lnTo>
                      <a:pt x="188" y="144"/>
                    </a:lnTo>
                    <a:lnTo>
                      <a:pt x="195" y="124"/>
                    </a:lnTo>
                    <a:lnTo>
                      <a:pt x="197" y="104"/>
                    </a:lnTo>
                    <a:lnTo>
                      <a:pt x="195" y="83"/>
                    </a:lnTo>
                    <a:lnTo>
                      <a:pt x="188" y="63"/>
                    </a:lnTo>
                    <a:lnTo>
                      <a:pt x="179" y="45"/>
                    </a:lnTo>
                    <a:lnTo>
                      <a:pt x="168" y="31"/>
                    </a:lnTo>
                    <a:lnTo>
                      <a:pt x="152" y="18"/>
                    </a:lnTo>
                    <a:lnTo>
                      <a:pt x="136" y="9"/>
                    </a:lnTo>
                    <a:lnTo>
                      <a:pt x="118" y="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11240" y="46504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99" h="208">
                    <a:moveTo>
                      <a:pt x="99" y="0"/>
                    </a:moveTo>
                    <a:lnTo>
                      <a:pt x="79" y="2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29"/>
                    </a:lnTo>
                    <a:lnTo>
                      <a:pt x="18" y="45"/>
                    </a:lnTo>
                    <a:lnTo>
                      <a:pt x="9" y="63"/>
                    </a:lnTo>
                    <a:lnTo>
                      <a:pt x="2" y="83"/>
                    </a:lnTo>
                    <a:lnTo>
                      <a:pt x="0" y="104"/>
                    </a:lnTo>
                    <a:lnTo>
                      <a:pt x="2" y="124"/>
                    </a:lnTo>
                    <a:lnTo>
                      <a:pt x="9" y="144"/>
                    </a:lnTo>
                    <a:lnTo>
                      <a:pt x="18" y="162"/>
                    </a:lnTo>
                    <a:lnTo>
                      <a:pt x="29" y="176"/>
                    </a:lnTo>
                    <a:lnTo>
                      <a:pt x="45" y="189"/>
                    </a:lnTo>
                    <a:lnTo>
                      <a:pt x="61" y="198"/>
                    </a:lnTo>
                    <a:lnTo>
                      <a:pt x="79" y="205"/>
                    </a:lnTo>
                    <a:lnTo>
                      <a:pt x="99" y="208"/>
                    </a:lnTo>
                    <a:lnTo>
                      <a:pt x="120" y="205"/>
                    </a:lnTo>
                    <a:lnTo>
                      <a:pt x="138" y="198"/>
                    </a:lnTo>
                    <a:lnTo>
                      <a:pt x="153" y="189"/>
                    </a:lnTo>
                    <a:lnTo>
                      <a:pt x="169" y="176"/>
                    </a:lnTo>
                    <a:lnTo>
                      <a:pt x="181" y="162"/>
                    </a:lnTo>
                    <a:lnTo>
                      <a:pt x="192" y="144"/>
                    </a:lnTo>
                    <a:lnTo>
                      <a:pt x="196" y="124"/>
                    </a:lnTo>
                    <a:lnTo>
                      <a:pt x="199" y="104"/>
                    </a:lnTo>
                    <a:lnTo>
                      <a:pt x="196" y="83"/>
                    </a:lnTo>
                    <a:lnTo>
                      <a:pt x="192" y="63"/>
                    </a:lnTo>
                    <a:lnTo>
                      <a:pt x="181" y="45"/>
                    </a:lnTo>
                    <a:lnTo>
                      <a:pt x="169" y="29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20" y="2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08840" y="464904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20" y="206"/>
                    </a:lnTo>
                    <a:lnTo>
                      <a:pt x="138" y="199"/>
                    </a:lnTo>
                    <a:lnTo>
                      <a:pt x="154" y="190"/>
                    </a:lnTo>
                    <a:lnTo>
                      <a:pt x="170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7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70" y="32"/>
                    </a:lnTo>
                    <a:lnTo>
                      <a:pt x="154" y="18"/>
                    </a:lnTo>
                    <a:lnTo>
                      <a:pt x="138" y="9"/>
                    </a:lnTo>
                    <a:lnTo>
                      <a:pt x="120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60200" y="464904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96" h="208">
                    <a:moveTo>
                      <a:pt x="99" y="0"/>
                    </a:moveTo>
                    <a:lnTo>
                      <a:pt x="79" y="3"/>
                    </a:lnTo>
                    <a:lnTo>
                      <a:pt x="61" y="9"/>
                    </a:lnTo>
                    <a:lnTo>
                      <a:pt x="45" y="18"/>
                    </a:lnTo>
                    <a:lnTo>
                      <a:pt x="29" y="32"/>
                    </a:lnTo>
                    <a:lnTo>
                      <a:pt x="18" y="46"/>
                    </a:lnTo>
                    <a:lnTo>
                      <a:pt x="9" y="64"/>
                    </a:lnTo>
                    <a:lnTo>
                      <a:pt x="2" y="84"/>
                    </a:lnTo>
                    <a:lnTo>
                      <a:pt x="0" y="104"/>
                    </a:lnTo>
                    <a:lnTo>
                      <a:pt x="2" y="125"/>
                    </a:lnTo>
                    <a:lnTo>
                      <a:pt x="9" y="145"/>
                    </a:lnTo>
                    <a:lnTo>
                      <a:pt x="18" y="163"/>
                    </a:lnTo>
                    <a:lnTo>
                      <a:pt x="29" y="179"/>
                    </a:lnTo>
                    <a:lnTo>
                      <a:pt x="45" y="190"/>
                    </a:lnTo>
                    <a:lnTo>
                      <a:pt x="61" y="199"/>
                    </a:lnTo>
                    <a:lnTo>
                      <a:pt x="79" y="206"/>
                    </a:lnTo>
                    <a:lnTo>
                      <a:pt x="99" y="208"/>
                    </a:lnTo>
                    <a:lnTo>
                      <a:pt x="119" y="206"/>
                    </a:lnTo>
                    <a:lnTo>
                      <a:pt x="138" y="199"/>
                    </a:lnTo>
                    <a:lnTo>
                      <a:pt x="153" y="190"/>
                    </a:lnTo>
                    <a:lnTo>
                      <a:pt x="169" y="179"/>
                    </a:lnTo>
                    <a:lnTo>
                      <a:pt x="181" y="163"/>
                    </a:lnTo>
                    <a:lnTo>
                      <a:pt x="190" y="145"/>
                    </a:lnTo>
                    <a:lnTo>
                      <a:pt x="194" y="125"/>
                    </a:lnTo>
                    <a:lnTo>
                      <a:pt x="196" y="104"/>
                    </a:lnTo>
                    <a:lnTo>
                      <a:pt x="194" y="84"/>
                    </a:lnTo>
                    <a:lnTo>
                      <a:pt x="190" y="64"/>
                    </a:lnTo>
                    <a:lnTo>
                      <a:pt x="181" y="46"/>
                    </a:lnTo>
                    <a:lnTo>
                      <a:pt x="169" y="32"/>
                    </a:lnTo>
                    <a:lnTo>
                      <a:pt x="153" y="18"/>
                    </a:lnTo>
                    <a:lnTo>
                      <a:pt x="138" y="9"/>
                    </a:lnTo>
                    <a:lnTo>
                      <a:pt x="119" y="3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12640" y="464976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84" h="192">
                    <a:moveTo>
                      <a:pt x="91" y="0"/>
                    </a:moveTo>
                    <a:lnTo>
                      <a:pt x="73" y="2"/>
                    </a:lnTo>
                    <a:lnTo>
                      <a:pt x="55" y="7"/>
                    </a:lnTo>
                    <a:lnTo>
                      <a:pt x="41" y="16"/>
                    </a:lnTo>
                    <a:lnTo>
                      <a:pt x="28" y="27"/>
                    </a:lnTo>
                    <a:lnTo>
                      <a:pt x="16" y="43"/>
                    </a:lnTo>
                    <a:lnTo>
                      <a:pt x="7" y="59"/>
                    </a:lnTo>
                    <a:lnTo>
                      <a:pt x="3" y="77"/>
                    </a:lnTo>
                    <a:lnTo>
                      <a:pt x="0" y="95"/>
                    </a:lnTo>
                    <a:lnTo>
                      <a:pt x="3" y="115"/>
                    </a:lnTo>
                    <a:lnTo>
                      <a:pt x="7" y="133"/>
                    </a:lnTo>
                    <a:lnTo>
                      <a:pt x="16" y="149"/>
                    </a:lnTo>
                    <a:lnTo>
                      <a:pt x="28" y="163"/>
                    </a:lnTo>
                    <a:lnTo>
                      <a:pt x="41" y="176"/>
                    </a:lnTo>
                    <a:lnTo>
                      <a:pt x="55" y="185"/>
                    </a:lnTo>
                    <a:lnTo>
                      <a:pt x="73" y="190"/>
                    </a:lnTo>
                    <a:lnTo>
                      <a:pt x="91" y="192"/>
                    </a:lnTo>
                    <a:lnTo>
                      <a:pt x="109" y="190"/>
                    </a:lnTo>
                    <a:lnTo>
                      <a:pt x="127" y="185"/>
                    </a:lnTo>
                    <a:lnTo>
                      <a:pt x="143" y="176"/>
                    </a:lnTo>
                    <a:lnTo>
                      <a:pt x="156" y="163"/>
                    </a:lnTo>
                    <a:lnTo>
                      <a:pt x="168" y="149"/>
                    </a:lnTo>
                    <a:lnTo>
                      <a:pt x="177" y="133"/>
                    </a:lnTo>
                    <a:lnTo>
                      <a:pt x="181" y="115"/>
                    </a:lnTo>
                    <a:lnTo>
                      <a:pt x="184" y="95"/>
                    </a:lnTo>
                    <a:lnTo>
                      <a:pt x="181" y="77"/>
                    </a:lnTo>
                    <a:lnTo>
                      <a:pt x="177" y="59"/>
                    </a:lnTo>
                    <a:lnTo>
                      <a:pt x="168" y="43"/>
                    </a:lnTo>
                    <a:lnTo>
                      <a:pt x="156" y="27"/>
                    </a:lnTo>
                    <a:lnTo>
                      <a:pt x="143" y="16"/>
                    </a:lnTo>
                    <a:lnTo>
                      <a:pt x="127" y="7"/>
                    </a:lnTo>
                    <a:lnTo>
                      <a:pt x="109" y="2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67440" y="4649760"/>
                <a:ext cx="23760" cy="29160"/>
              </a:xfrm>
              <a:custGeom>
                <a:avLst/>
                <a:gdLst/>
                <a:ahLst/>
                <a:rect l="l" t="t" r="r" b="b"/>
                <a:pathLst>
                  <a:path w="168" h="181">
                    <a:moveTo>
                      <a:pt x="86" y="0"/>
                    </a:moveTo>
                    <a:lnTo>
                      <a:pt x="70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7" y="27"/>
                    </a:lnTo>
                    <a:lnTo>
                      <a:pt x="16" y="41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6" y="140"/>
                    </a:lnTo>
                    <a:lnTo>
                      <a:pt x="27" y="154"/>
                    </a:lnTo>
                    <a:lnTo>
                      <a:pt x="39" y="165"/>
                    </a:lnTo>
                    <a:lnTo>
                      <a:pt x="55" y="174"/>
                    </a:lnTo>
                    <a:lnTo>
                      <a:pt x="70" y="178"/>
                    </a:lnTo>
                    <a:lnTo>
                      <a:pt x="86" y="181"/>
                    </a:lnTo>
                    <a:lnTo>
                      <a:pt x="102" y="178"/>
                    </a:lnTo>
                    <a:lnTo>
                      <a:pt x="118" y="174"/>
                    </a:lnTo>
                    <a:lnTo>
                      <a:pt x="131" y="165"/>
                    </a:lnTo>
                    <a:lnTo>
                      <a:pt x="145" y="154"/>
                    </a:lnTo>
                    <a:lnTo>
                      <a:pt x="154" y="140"/>
                    </a:lnTo>
                    <a:lnTo>
                      <a:pt x="161" y="126"/>
                    </a:lnTo>
                    <a:lnTo>
                      <a:pt x="165" y="108"/>
                    </a:lnTo>
                    <a:lnTo>
                      <a:pt x="168" y="90"/>
                    </a:lnTo>
                    <a:lnTo>
                      <a:pt x="165" y="72"/>
                    </a:lnTo>
                    <a:lnTo>
                      <a:pt x="161" y="54"/>
                    </a:lnTo>
                    <a:lnTo>
                      <a:pt x="154" y="41"/>
                    </a:lnTo>
                    <a:lnTo>
                      <a:pt x="145" y="27"/>
                    </a:lnTo>
                    <a:lnTo>
                      <a:pt x="131" y="16"/>
                    </a:lnTo>
                    <a:lnTo>
                      <a:pt x="118" y="7"/>
                    </a:lnTo>
                    <a:lnTo>
                      <a:pt x="102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13040" y="4652280"/>
                <a:ext cx="24120" cy="2916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7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5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8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8" y="27"/>
                    </a:lnTo>
                    <a:lnTo>
                      <a:pt x="134" y="16"/>
                    </a:lnTo>
                    <a:lnTo>
                      <a:pt x="120" y="7"/>
                    </a:lnTo>
                    <a:lnTo>
                      <a:pt x="10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10640" y="4650480"/>
                <a:ext cx="2448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8" y="16"/>
                    </a:lnTo>
                    <a:lnTo>
                      <a:pt x="25" y="27"/>
                    </a:lnTo>
                    <a:lnTo>
                      <a:pt x="13" y="40"/>
                    </a:lnTo>
                    <a:lnTo>
                      <a:pt x="7" y="54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7" y="126"/>
                    </a:lnTo>
                    <a:lnTo>
                      <a:pt x="13" y="140"/>
                    </a:lnTo>
                    <a:lnTo>
                      <a:pt x="25" y="153"/>
                    </a:lnTo>
                    <a:lnTo>
                      <a:pt x="38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3" y="165"/>
                    </a:lnTo>
                    <a:lnTo>
                      <a:pt x="147" y="153"/>
                    </a:lnTo>
                    <a:lnTo>
                      <a:pt x="158" y="140"/>
                    </a:lnTo>
                    <a:lnTo>
                      <a:pt x="165" y="126"/>
                    </a:lnTo>
                    <a:lnTo>
                      <a:pt x="169" y="108"/>
                    </a:lnTo>
                    <a:lnTo>
                      <a:pt x="172" y="90"/>
                    </a:lnTo>
                    <a:lnTo>
                      <a:pt x="169" y="72"/>
                    </a:lnTo>
                    <a:lnTo>
                      <a:pt x="165" y="54"/>
                    </a:lnTo>
                    <a:lnTo>
                      <a:pt x="158" y="40"/>
                    </a:lnTo>
                    <a:lnTo>
                      <a:pt x="147" y="27"/>
                    </a:lnTo>
                    <a:lnTo>
                      <a:pt x="133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62000" y="4650480"/>
                <a:ext cx="24120" cy="29880"/>
              </a:xfrm>
              <a:custGeom>
                <a:avLst/>
                <a:gdLst/>
                <a:ahLst/>
                <a:rect l="l" t="t" r="r" b="b"/>
                <a:pathLst>
                  <a:path w="172" h="180">
                    <a:moveTo>
                      <a:pt x="86" y="0"/>
                    </a:moveTo>
                    <a:lnTo>
                      <a:pt x="68" y="2"/>
                    </a:lnTo>
                    <a:lnTo>
                      <a:pt x="52" y="6"/>
                    </a:lnTo>
                    <a:lnTo>
                      <a:pt x="39" y="16"/>
                    </a:lnTo>
                    <a:lnTo>
                      <a:pt x="25" y="27"/>
                    </a:lnTo>
                    <a:lnTo>
                      <a:pt x="14" y="40"/>
                    </a:lnTo>
                    <a:lnTo>
                      <a:pt x="7" y="54"/>
                    </a:lnTo>
                    <a:lnTo>
                      <a:pt x="3" y="72"/>
                    </a:lnTo>
                    <a:lnTo>
                      <a:pt x="0" y="90"/>
                    </a:lnTo>
                    <a:lnTo>
                      <a:pt x="3" y="108"/>
                    </a:lnTo>
                    <a:lnTo>
                      <a:pt x="7" y="126"/>
                    </a:lnTo>
                    <a:lnTo>
                      <a:pt x="14" y="140"/>
                    </a:lnTo>
                    <a:lnTo>
                      <a:pt x="25" y="153"/>
                    </a:lnTo>
                    <a:lnTo>
                      <a:pt x="39" y="165"/>
                    </a:lnTo>
                    <a:lnTo>
                      <a:pt x="52" y="174"/>
                    </a:lnTo>
                    <a:lnTo>
                      <a:pt x="68" y="178"/>
                    </a:lnTo>
                    <a:lnTo>
                      <a:pt x="86" y="180"/>
                    </a:lnTo>
                    <a:lnTo>
                      <a:pt x="104" y="178"/>
                    </a:lnTo>
                    <a:lnTo>
                      <a:pt x="120" y="174"/>
                    </a:lnTo>
                    <a:lnTo>
                      <a:pt x="134" y="165"/>
                    </a:lnTo>
                    <a:lnTo>
                      <a:pt x="147" y="153"/>
                    </a:lnTo>
                    <a:lnTo>
                      <a:pt x="159" y="140"/>
                    </a:lnTo>
                    <a:lnTo>
                      <a:pt x="166" y="126"/>
                    </a:lnTo>
                    <a:lnTo>
                      <a:pt x="170" y="108"/>
                    </a:lnTo>
                    <a:lnTo>
                      <a:pt x="172" y="90"/>
                    </a:lnTo>
                    <a:lnTo>
                      <a:pt x="170" y="72"/>
                    </a:lnTo>
                    <a:lnTo>
                      <a:pt x="166" y="54"/>
                    </a:lnTo>
                    <a:lnTo>
                      <a:pt x="159" y="40"/>
                    </a:lnTo>
                    <a:lnTo>
                      <a:pt x="147" y="27"/>
                    </a:lnTo>
                    <a:lnTo>
                      <a:pt x="134" y="16"/>
                    </a:lnTo>
                    <a:lnTo>
                      <a:pt x="120" y="6"/>
                    </a:lnTo>
                    <a:lnTo>
                      <a:pt x="104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20200" y="46605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9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5"/>
                    </a:lnTo>
                    <a:lnTo>
                      <a:pt x="18" y="61"/>
                    </a:lnTo>
                    <a:lnTo>
                      <a:pt x="29" y="64"/>
                    </a:lnTo>
                    <a:lnTo>
                      <a:pt x="38" y="61"/>
                    </a:lnTo>
                    <a:lnTo>
                      <a:pt x="47" y="55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9"/>
                    </a:lnTo>
                    <a:lnTo>
                      <a:pt x="47" y="9"/>
                    </a:lnTo>
                    <a:lnTo>
                      <a:pt x="38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74640" y="465984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6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6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20960" y="46623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3" h="59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7" y="50"/>
                    </a:lnTo>
                    <a:lnTo>
                      <a:pt x="16" y="56"/>
                    </a:lnTo>
                    <a:lnTo>
                      <a:pt x="25" y="59"/>
                    </a:lnTo>
                    <a:lnTo>
                      <a:pt x="37" y="56"/>
                    </a:lnTo>
                    <a:lnTo>
                      <a:pt x="46" y="50"/>
                    </a:lnTo>
                    <a:lnTo>
                      <a:pt x="50" y="41"/>
                    </a:lnTo>
                    <a:lnTo>
                      <a:pt x="53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18560" y="466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9" y="49"/>
                    </a:lnTo>
                    <a:lnTo>
                      <a:pt x="18" y="56"/>
                    </a:lnTo>
                    <a:lnTo>
                      <a:pt x="27" y="58"/>
                    </a:lnTo>
                    <a:lnTo>
                      <a:pt x="38" y="56"/>
                    </a:lnTo>
                    <a:lnTo>
                      <a:pt x="47" y="49"/>
                    </a:lnTo>
                    <a:lnTo>
                      <a:pt x="52" y="40"/>
                    </a:lnTo>
                    <a:lnTo>
                      <a:pt x="54" y="29"/>
                    </a:lnTo>
                    <a:lnTo>
                      <a:pt x="52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69920" y="46605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21640" y="465984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56" h="63">
                    <a:moveTo>
                      <a:pt x="27" y="0"/>
                    </a:moveTo>
                    <a:lnTo>
                      <a:pt x="18" y="2"/>
                    </a:lnTo>
                    <a:lnTo>
                      <a:pt x="9" y="9"/>
                    </a:lnTo>
                    <a:lnTo>
                      <a:pt x="2" y="18"/>
                    </a:lnTo>
                    <a:lnTo>
                      <a:pt x="0" y="32"/>
                    </a:lnTo>
                    <a:lnTo>
                      <a:pt x="2" y="43"/>
                    </a:lnTo>
                    <a:lnTo>
                      <a:pt x="9" y="54"/>
                    </a:lnTo>
                    <a:lnTo>
                      <a:pt x="18" y="61"/>
                    </a:lnTo>
                    <a:lnTo>
                      <a:pt x="27" y="63"/>
                    </a:lnTo>
                    <a:lnTo>
                      <a:pt x="38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56" y="32"/>
                    </a:lnTo>
                    <a:lnTo>
                      <a:pt x="54" y="18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76080" y="465912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5" y="0"/>
                    </a:moveTo>
                    <a:lnTo>
                      <a:pt x="16" y="2"/>
                    </a:lnTo>
                    <a:lnTo>
                      <a:pt x="7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7" y="49"/>
                    </a:lnTo>
                    <a:lnTo>
                      <a:pt x="16" y="56"/>
                    </a:lnTo>
                    <a:lnTo>
                      <a:pt x="25" y="58"/>
                    </a:lnTo>
                    <a:lnTo>
                      <a:pt x="37" y="56"/>
                    </a:lnTo>
                    <a:lnTo>
                      <a:pt x="46" y="49"/>
                    </a:lnTo>
                    <a:lnTo>
                      <a:pt x="50" y="40"/>
                    </a:lnTo>
                    <a:lnTo>
                      <a:pt x="52" y="29"/>
                    </a:lnTo>
                    <a:lnTo>
                      <a:pt x="50" y="18"/>
                    </a:lnTo>
                    <a:lnTo>
                      <a:pt x="46" y="9"/>
                    </a:lnTo>
                    <a:lnTo>
                      <a:pt x="37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22040" y="46623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4" y="0"/>
                    </a:moveTo>
                    <a:lnTo>
                      <a:pt x="15" y="2"/>
                    </a:lnTo>
                    <a:lnTo>
                      <a:pt x="6" y="9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6" y="49"/>
                    </a:lnTo>
                    <a:lnTo>
                      <a:pt x="15" y="56"/>
                    </a:lnTo>
                    <a:lnTo>
                      <a:pt x="24" y="58"/>
                    </a:lnTo>
                    <a:lnTo>
                      <a:pt x="36" y="56"/>
                    </a:lnTo>
                    <a:lnTo>
                      <a:pt x="45" y="49"/>
                    </a:lnTo>
                    <a:lnTo>
                      <a:pt x="49" y="40"/>
                    </a:lnTo>
                    <a:lnTo>
                      <a:pt x="52" y="29"/>
                    </a:lnTo>
                    <a:lnTo>
                      <a:pt x="49" y="18"/>
                    </a:lnTo>
                    <a:lnTo>
                      <a:pt x="45" y="9"/>
                    </a:lnTo>
                    <a:lnTo>
                      <a:pt x="3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19280" y="4660560"/>
                <a:ext cx="7560" cy="900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27" y="0"/>
                    </a:moveTo>
                    <a:lnTo>
                      <a:pt x="15" y="3"/>
                    </a:lnTo>
                    <a:lnTo>
                      <a:pt x="6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6" y="50"/>
                    </a:lnTo>
                    <a:lnTo>
                      <a:pt x="15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49" y="41"/>
                    </a:lnTo>
                    <a:lnTo>
                      <a:pt x="52" y="30"/>
                    </a:lnTo>
                    <a:lnTo>
                      <a:pt x="49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70640" y="466056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27" y="0"/>
                    </a:move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1"/>
                    </a:lnTo>
                    <a:lnTo>
                      <a:pt x="9" y="50"/>
                    </a:lnTo>
                    <a:lnTo>
                      <a:pt x="18" y="57"/>
                    </a:lnTo>
                    <a:lnTo>
                      <a:pt x="27" y="59"/>
                    </a:lnTo>
                    <a:lnTo>
                      <a:pt x="36" y="57"/>
                    </a:lnTo>
                    <a:lnTo>
                      <a:pt x="45" y="50"/>
                    </a:lnTo>
                    <a:lnTo>
                      <a:pt x="52" y="41"/>
                    </a:lnTo>
                    <a:lnTo>
                      <a:pt x="55" y="30"/>
                    </a:lnTo>
                    <a:lnTo>
                      <a:pt x="52" y="19"/>
                    </a:lnTo>
                    <a:lnTo>
                      <a:pt x="45" y="9"/>
                    </a:lnTo>
                    <a:lnTo>
                      <a:pt x="3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316240" y="465624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65" h="122">
                    <a:moveTo>
                      <a:pt x="56" y="0"/>
                    </a:moveTo>
                    <a:lnTo>
                      <a:pt x="22" y="23"/>
                    </a:lnTo>
                    <a:lnTo>
                      <a:pt x="11" y="55"/>
                    </a:lnTo>
                    <a:lnTo>
                      <a:pt x="18" y="86"/>
                    </a:lnTo>
                    <a:lnTo>
                      <a:pt x="47" y="116"/>
                    </a:lnTo>
                    <a:lnTo>
                      <a:pt x="65" y="118"/>
                    </a:lnTo>
                    <a:lnTo>
                      <a:pt x="27" y="122"/>
                    </a:lnTo>
                    <a:lnTo>
                      <a:pt x="13" y="107"/>
                    </a:lnTo>
                    <a:lnTo>
                      <a:pt x="4" y="88"/>
                    </a:lnTo>
                    <a:lnTo>
                      <a:pt x="0" y="66"/>
                    </a:lnTo>
                    <a:lnTo>
                      <a:pt x="0" y="46"/>
                    </a:lnTo>
                    <a:lnTo>
                      <a:pt x="4" y="27"/>
                    </a:lnTo>
                    <a:lnTo>
                      <a:pt x="15" y="12"/>
                    </a:lnTo>
                    <a:lnTo>
                      <a:pt x="33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70680" y="465552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3" h="113">
                    <a:moveTo>
                      <a:pt x="54" y="0"/>
                    </a:moveTo>
                    <a:lnTo>
                      <a:pt x="23" y="23"/>
                    </a:lnTo>
                    <a:lnTo>
                      <a:pt x="11" y="50"/>
                    </a:lnTo>
                    <a:lnTo>
                      <a:pt x="18" y="81"/>
                    </a:lnTo>
                    <a:lnTo>
                      <a:pt x="45" y="109"/>
                    </a:lnTo>
                    <a:lnTo>
                      <a:pt x="63" y="111"/>
                    </a:lnTo>
                    <a:lnTo>
                      <a:pt x="27" y="113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1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17000" y="465840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4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3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7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13880" y="4656960"/>
                <a:ext cx="9000" cy="18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7" y="0"/>
                    </a:moveTo>
                    <a:lnTo>
                      <a:pt x="25" y="22"/>
                    </a:lnTo>
                    <a:lnTo>
                      <a:pt x="14" y="50"/>
                    </a:lnTo>
                    <a:lnTo>
                      <a:pt x="21" y="81"/>
                    </a:lnTo>
                    <a:lnTo>
                      <a:pt x="48" y="108"/>
                    </a:lnTo>
                    <a:lnTo>
                      <a:pt x="64" y="111"/>
                    </a:lnTo>
                    <a:lnTo>
                      <a:pt x="28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3" y="43"/>
                    </a:lnTo>
                    <a:lnTo>
                      <a:pt x="7" y="25"/>
                    </a:lnTo>
                    <a:lnTo>
                      <a:pt x="18" y="11"/>
                    </a:lnTo>
                    <a:lnTo>
                      <a:pt x="3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65960" y="465696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1" h="115">
                    <a:moveTo>
                      <a:pt x="55" y="0"/>
                    </a:moveTo>
                    <a:lnTo>
                      <a:pt x="23" y="22"/>
                    </a:lnTo>
                    <a:lnTo>
                      <a:pt x="12" y="50"/>
                    </a:lnTo>
                    <a:lnTo>
                      <a:pt x="18" y="81"/>
                    </a:lnTo>
                    <a:lnTo>
                      <a:pt x="46" y="108"/>
                    </a:lnTo>
                    <a:lnTo>
                      <a:pt x="61" y="111"/>
                    </a:lnTo>
                    <a:lnTo>
                      <a:pt x="27" y="115"/>
                    </a:lnTo>
                    <a:lnTo>
                      <a:pt x="14" y="99"/>
                    </a:lnTo>
                    <a:lnTo>
                      <a:pt x="5" y="81"/>
                    </a:lnTo>
                    <a:lnTo>
                      <a:pt x="0" y="63"/>
                    </a:lnTo>
                    <a:lnTo>
                      <a:pt x="0" y="43"/>
                    </a:lnTo>
                    <a:lnTo>
                      <a:pt x="5" y="25"/>
                    </a:lnTo>
                    <a:lnTo>
                      <a:pt x="16" y="11"/>
                    </a:lnTo>
                    <a:lnTo>
                      <a:pt x="32" y="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24160" y="465228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88" h="165">
                    <a:moveTo>
                      <a:pt x="88" y="92"/>
                    </a:moveTo>
                    <a:lnTo>
                      <a:pt x="81" y="108"/>
                    </a:lnTo>
                    <a:lnTo>
                      <a:pt x="77" y="122"/>
                    </a:lnTo>
                    <a:lnTo>
                      <a:pt x="70" y="133"/>
                    </a:lnTo>
                    <a:lnTo>
                      <a:pt x="65" y="142"/>
                    </a:lnTo>
                    <a:lnTo>
                      <a:pt x="56" y="149"/>
                    </a:lnTo>
                    <a:lnTo>
                      <a:pt x="47" y="156"/>
                    </a:lnTo>
                    <a:lnTo>
                      <a:pt x="34" y="160"/>
                    </a:lnTo>
                    <a:lnTo>
                      <a:pt x="18" y="165"/>
                    </a:lnTo>
                    <a:lnTo>
                      <a:pt x="36" y="149"/>
                    </a:lnTo>
                    <a:lnTo>
                      <a:pt x="47" y="133"/>
                    </a:lnTo>
                    <a:lnTo>
                      <a:pt x="56" y="117"/>
                    </a:lnTo>
                    <a:lnTo>
                      <a:pt x="68" y="95"/>
                    </a:lnTo>
                    <a:lnTo>
                      <a:pt x="65" y="74"/>
                    </a:lnTo>
                    <a:lnTo>
                      <a:pt x="63" y="58"/>
                    </a:lnTo>
                    <a:lnTo>
                      <a:pt x="59" y="45"/>
                    </a:lnTo>
                    <a:lnTo>
                      <a:pt x="54" y="34"/>
                    </a:lnTo>
                    <a:lnTo>
                      <a:pt x="45" y="27"/>
                    </a:lnTo>
                    <a:lnTo>
                      <a:pt x="34" y="18"/>
                    </a:lnTo>
                    <a:lnTo>
                      <a:pt x="18" y="11"/>
                    </a:lnTo>
                    <a:lnTo>
                      <a:pt x="0" y="2"/>
                    </a:lnTo>
                    <a:lnTo>
                      <a:pt x="22" y="0"/>
                    </a:lnTo>
                    <a:lnTo>
                      <a:pt x="43" y="2"/>
                    </a:lnTo>
                    <a:lnTo>
                      <a:pt x="56" y="11"/>
                    </a:lnTo>
                    <a:lnTo>
                      <a:pt x="68" y="22"/>
                    </a:lnTo>
                    <a:lnTo>
                      <a:pt x="77" y="38"/>
                    </a:lnTo>
                    <a:lnTo>
                      <a:pt x="84" y="54"/>
                    </a:lnTo>
                    <a:lnTo>
                      <a:pt x="86" y="74"/>
                    </a:lnTo>
                    <a:lnTo>
                      <a:pt x="88" y="92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478600" y="4651920"/>
                <a:ext cx="10800" cy="25560"/>
              </a:xfrm>
              <a:custGeom>
                <a:avLst/>
                <a:gdLst/>
                <a:ahLst/>
                <a:rect l="l" t="t" r="r" b="b"/>
                <a:pathLst>
                  <a:path w="79" h="156">
                    <a:moveTo>
                      <a:pt x="79" y="89"/>
                    </a:moveTo>
                    <a:lnTo>
                      <a:pt x="68" y="116"/>
                    </a:lnTo>
                    <a:lnTo>
                      <a:pt x="59" y="136"/>
                    </a:lnTo>
                    <a:lnTo>
                      <a:pt x="43" y="150"/>
                    </a:lnTo>
                    <a:lnTo>
                      <a:pt x="16" y="156"/>
                    </a:lnTo>
                    <a:lnTo>
                      <a:pt x="32" y="141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59" y="91"/>
                    </a:lnTo>
                    <a:lnTo>
                      <a:pt x="57" y="55"/>
                    </a:lnTo>
                    <a:lnTo>
                      <a:pt x="48" y="34"/>
                    </a:lnTo>
                    <a:lnTo>
                      <a:pt x="32" y="19"/>
                    </a:lnTo>
                    <a:lnTo>
                      <a:pt x="0" y="3"/>
                    </a:lnTo>
                    <a:lnTo>
                      <a:pt x="21" y="0"/>
                    </a:lnTo>
                    <a:lnTo>
                      <a:pt x="36" y="3"/>
                    </a:lnTo>
                    <a:lnTo>
                      <a:pt x="50" y="12"/>
                    </a:lnTo>
                    <a:lnTo>
                      <a:pt x="61" y="23"/>
                    </a:lnTo>
                    <a:lnTo>
                      <a:pt x="68" y="37"/>
                    </a:lnTo>
                    <a:lnTo>
                      <a:pt x="75" y="55"/>
                    </a:lnTo>
                    <a:lnTo>
                      <a:pt x="77" y="71"/>
                    </a:lnTo>
                    <a:lnTo>
                      <a:pt x="79" y="89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24200" y="465480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5">
                    <a:moveTo>
                      <a:pt x="84" y="85"/>
                    </a:moveTo>
                    <a:lnTo>
                      <a:pt x="77" y="101"/>
                    </a:lnTo>
                    <a:lnTo>
                      <a:pt x="73" y="113"/>
                    </a:lnTo>
                    <a:lnTo>
                      <a:pt x="68" y="124"/>
                    </a:lnTo>
                    <a:lnTo>
                      <a:pt x="61" y="133"/>
                    </a:lnTo>
                    <a:lnTo>
                      <a:pt x="55" y="140"/>
                    </a:lnTo>
                    <a:lnTo>
                      <a:pt x="46" y="146"/>
                    </a:lnTo>
                    <a:lnTo>
                      <a:pt x="32" y="151"/>
                    </a:lnTo>
                    <a:lnTo>
                      <a:pt x="16" y="155"/>
                    </a:lnTo>
                    <a:lnTo>
                      <a:pt x="32" y="140"/>
                    </a:lnTo>
                    <a:lnTo>
                      <a:pt x="43" y="124"/>
                    </a:lnTo>
                    <a:lnTo>
                      <a:pt x="52" y="108"/>
                    </a:lnTo>
                    <a:lnTo>
                      <a:pt x="64" y="88"/>
                    </a:lnTo>
                    <a:lnTo>
                      <a:pt x="59" y="54"/>
                    </a:lnTo>
                    <a:lnTo>
                      <a:pt x="50" y="33"/>
                    </a:lnTo>
                    <a:lnTo>
                      <a:pt x="32" y="18"/>
                    </a:lnTo>
                    <a:lnTo>
                      <a:pt x="0" y="2"/>
                    </a:lnTo>
                    <a:lnTo>
                      <a:pt x="23" y="0"/>
                    </a:lnTo>
                    <a:lnTo>
                      <a:pt x="39" y="2"/>
                    </a:lnTo>
                    <a:lnTo>
                      <a:pt x="55" y="9"/>
                    </a:lnTo>
                    <a:lnTo>
                      <a:pt x="66" y="20"/>
                    </a:lnTo>
                    <a:lnTo>
                      <a:pt x="73" y="36"/>
                    </a:lnTo>
                    <a:lnTo>
                      <a:pt x="80" y="52"/>
                    </a:lnTo>
                    <a:lnTo>
                      <a:pt x="82" y="67"/>
                    </a:lnTo>
                    <a:lnTo>
                      <a:pt x="84" y="85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21800" y="46522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83" y="88"/>
                    </a:moveTo>
                    <a:lnTo>
                      <a:pt x="77" y="104"/>
                    </a:lnTo>
                    <a:lnTo>
                      <a:pt x="72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4" y="143"/>
                    </a:lnTo>
                    <a:lnTo>
                      <a:pt x="43" y="149"/>
                    </a:lnTo>
                    <a:lnTo>
                      <a:pt x="31" y="154"/>
                    </a:lnTo>
                    <a:lnTo>
                      <a:pt x="15" y="156"/>
                    </a:lnTo>
                    <a:lnTo>
                      <a:pt x="31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3" y="91"/>
                    </a:lnTo>
                    <a:lnTo>
                      <a:pt x="58" y="54"/>
                    </a:lnTo>
                    <a:lnTo>
                      <a:pt x="49" y="34"/>
                    </a:lnTo>
                    <a:lnTo>
                      <a:pt x="29" y="18"/>
                    </a:lnTo>
                    <a:lnTo>
                      <a:pt x="0" y="3"/>
                    </a:lnTo>
                    <a:lnTo>
                      <a:pt x="22" y="0"/>
                    </a:lnTo>
                    <a:lnTo>
                      <a:pt x="38" y="3"/>
                    </a:lnTo>
                    <a:lnTo>
                      <a:pt x="54" y="12"/>
                    </a:lnTo>
                    <a:lnTo>
                      <a:pt x="65" y="23"/>
                    </a:lnTo>
                    <a:lnTo>
                      <a:pt x="72" y="36"/>
                    </a:lnTo>
                    <a:lnTo>
                      <a:pt x="79" y="54"/>
                    </a:lnTo>
                    <a:lnTo>
                      <a:pt x="81" y="70"/>
                    </a:lnTo>
                    <a:lnTo>
                      <a:pt x="83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73160" y="4652280"/>
                <a:ext cx="12240" cy="2556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84" y="88"/>
                    </a:moveTo>
                    <a:lnTo>
                      <a:pt x="77" y="104"/>
                    </a:lnTo>
                    <a:lnTo>
                      <a:pt x="73" y="115"/>
                    </a:lnTo>
                    <a:lnTo>
                      <a:pt x="68" y="127"/>
                    </a:lnTo>
                    <a:lnTo>
                      <a:pt x="61" y="136"/>
                    </a:lnTo>
                    <a:lnTo>
                      <a:pt x="55" y="143"/>
                    </a:lnTo>
                    <a:lnTo>
                      <a:pt x="43" y="149"/>
                    </a:lnTo>
                    <a:lnTo>
                      <a:pt x="32" y="154"/>
                    </a:lnTo>
                    <a:lnTo>
                      <a:pt x="16" y="156"/>
                    </a:lnTo>
                    <a:lnTo>
                      <a:pt x="32" y="140"/>
                    </a:lnTo>
                    <a:lnTo>
                      <a:pt x="43" y="127"/>
                    </a:lnTo>
                    <a:lnTo>
                      <a:pt x="52" y="111"/>
                    </a:lnTo>
                    <a:lnTo>
                      <a:pt x="64" y="91"/>
                    </a:lnTo>
                    <a:lnTo>
                      <a:pt x="59" y="54"/>
                    </a:lnTo>
                    <a:lnTo>
                      <a:pt x="50" y="34"/>
                    </a:lnTo>
                    <a:lnTo>
                      <a:pt x="30" y="18"/>
                    </a:lnTo>
                    <a:lnTo>
                      <a:pt x="0" y="3"/>
                    </a:lnTo>
                    <a:lnTo>
                      <a:pt x="23" y="0"/>
                    </a:lnTo>
                    <a:lnTo>
                      <a:pt x="39" y="3"/>
                    </a:lnTo>
                    <a:lnTo>
                      <a:pt x="55" y="12"/>
                    </a:lnTo>
                    <a:lnTo>
                      <a:pt x="66" y="23"/>
                    </a:lnTo>
                    <a:lnTo>
                      <a:pt x="73" y="36"/>
                    </a:lnTo>
                    <a:lnTo>
                      <a:pt x="80" y="54"/>
                    </a:lnTo>
                    <a:lnTo>
                      <a:pt x="82" y="70"/>
                    </a:lnTo>
                    <a:lnTo>
                      <a:pt x="84" y="8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14440" y="4654080"/>
                <a:ext cx="10080" cy="2484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43" y="0"/>
                    </a:moveTo>
                    <a:lnTo>
                      <a:pt x="16" y="22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4" y="106"/>
                    </a:lnTo>
                    <a:lnTo>
                      <a:pt x="13" y="117"/>
                    </a:lnTo>
                    <a:lnTo>
                      <a:pt x="22" y="129"/>
                    </a:lnTo>
                    <a:lnTo>
                      <a:pt x="29" y="135"/>
                    </a:lnTo>
                    <a:lnTo>
                      <a:pt x="36" y="142"/>
                    </a:lnTo>
                    <a:lnTo>
                      <a:pt x="43" y="147"/>
                    </a:lnTo>
                    <a:lnTo>
                      <a:pt x="49" y="151"/>
                    </a:lnTo>
                    <a:lnTo>
                      <a:pt x="61" y="153"/>
                    </a:lnTo>
                    <a:lnTo>
                      <a:pt x="74" y="156"/>
                    </a:lnTo>
                    <a:lnTo>
                      <a:pt x="52" y="144"/>
                    </a:lnTo>
                    <a:lnTo>
                      <a:pt x="36" y="133"/>
                    </a:lnTo>
                    <a:lnTo>
                      <a:pt x="25" y="122"/>
                    </a:lnTo>
                    <a:lnTo>
                      <a:pt x="11" y="99"/>
                    </a:lnTo>
                    <a:lnTo>
                      <a:pt x="9" y="68"/>
                    </a:lnTo>
                    <a:lnTo>
                      <a:pt x="11" y="45"/>
                    </a:lnTo>
                    <a:lnTo>
                      <a:pt x="22" y="25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468880" y="465336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5" y="20"/>
                    </a:lnTo>
                    <a:lnTo>
                      <a:pt x="2" y="42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7"/>
                    </a:lnTo>
                    <a:lnTo>
                      <a:pt x="33" y="126"/>
                    </a:lnTo>
                    <a:lnTo>
                      <a:pt x="22" y="115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2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14840" y="465624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70" h="146">
                    <a:moveTo>
                      <a:pt x="40" y="0"/>
                    </a:moveTo>
                    <a:lnTo>
                      <a:pt x="16" y="20"/>
                    </a:lnTo>
                    <a:lnTo>
                      <a:pt x="2" y="43"/>
                    </a:lnTo>
                    <a:lnTo>
                      <a:pt x="0" y="67"/>
                    </a:lnTo>
                    <a:lnTo>
                      <a:pt x="4" y="99"/>
                    </a:lnTo>
                    <a:lnTo>
                      <a:pt x="20" y="119"/>
                    </a:lnTo>
                    <a:lnTo>
                      <a:pt x="31" y="133"/>
                    </a:lnTo>
                    <a:lnTo>
                      <a:pt x="45" y="142"/>
                    </a:lnTo>
                    <a:lnTo>
                      <a:pt x="70" y="146"/>
                    </a:lnTo>
                    <a:lnTo>
                      <a:pt x="47" y="135"/>
                    </a:lnTo>
                    <a:lnTo>
                      <a:pt x="34" y="126"/>
                    </a:lnTo>
                    <a:lnTo>
                      <a:pt x="22" y="113"/>
                    </a:lnTo>
                    <a:lnTo>
                      <a:pt x="11" y="92"/>
                    </a:lnTo>
                    <a:lnTo>
                      <a:pt x="9" y="63"/>
                    </a:lnTo>
                    <a:lnTo>
                      <a:pt x="11" y="43"/>
                    </a:lnTo>
                    <a:lnTo>
                      <a:pt x="22" y="2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12800" y="46548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39" y="0"/>
                    </a:moveTo>
                    <a:lnTo>
                      <a:pt x="14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5" y="100"/>
                    </a:lnTo>
                    <a:lnTo>
                      <a:pt x="18" y="122"/>
                    </a:lnTo>
                    <a:lnTo>
                      <a:pt x="32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8" y="138"/>
                    </a:lnTo>
                    <a:lnTo>
                      <a:pt x="34" y="127"/>
                    </a:lnTo>
                    <a:lnTo>
                      <a:pt x="23" y="116"/>
                    </a:lnTo>
                    <a:lnTo>
                      <a:pt x="9" y="95"/>
                    </a:lnTo>
                    <a:lnTo>
                      <a:pt x="7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64160" y="465480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70" h="147">
                    <a:moveTo>
                      <a:pt x="40" y="0"/>
                    </a:moveTo>
                    <a:lnTo>
                      <a:pt x="16" y="21"/>
                    </a:lnTo>
                    <a:lnTo>
                      <a:pt x="2" y="43"/>
                    </a:lnTo>
                    <a:lnTo>
                      <a:pt x="0" y="68"/>
                    </a:lnTo>
                    <a:lnTo>
                      <a:pt x="4" y="100"/>
                    </a:lnTo>
                    <a:lnTo>
                      <a:pt x="18" y="122"/>
                    </a:lnTo>
                    <a:lnTo>
                      <a:pt x="31" y="136"/>
                    </a:lnTo>
                    <a:lnTo>
                      <a:pt x="45" y="143"/>
                    </a:lnTo>
                    <a:lnTo>
                      <a:pt x="70" y="147"/>
                    </a:lnTo>
                    <a:lnTo>
                      <a:pt x="47" y="138"/>
                    </a:lnTo>
                    <a:lnTo>
                      <a:pt x="34" y="127"/>
                    </a:lnTo>
                    <a:lnTo>
                      <a:pt x="22" y="116"/>
                    </a:lnTo>
                    <a:lnTo>
                      <a:pt x="11" y="95"/>
                    </a:lnTo>
                    <a:lnTo>
                      <a:pt x="6" y="66"/>
                    </a:lnTo>
                    <a:lnTo>
                      <a:pt x="9" y="43"/>
                    </a:lnTo>
                    <a:lnTo>
                      <a:pt x="20" y="2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06880" y="4646880"/>
                <a:ext cx="13320" cy="34200"/>
              </a:xfrm>
              <a:custGeom>
                <a:avLst/>
                <a:gdLst/>
                <a:ahLst/>
                <a:rect l="l" t="t" r="r" b="b"/>
                <a:pathLst>
                  <a:path w="95" h="210">
                    <a:moveTo>
                      <a:pt x="95" y="0"/>
                    </a:moveTo>
                    <a:lnTo>
                      <a:pt x="72" y="9"/>
                    </a:lnTo>
                    <a:lnTo>
                      <a:pt x="56" y="20"/>
                    </a:lnTo>
                    <a:lnTo>
                      <a:pt x="43" y="31"/>
                    </a:lnTo>
                    <a:lnTo>
                      <a:pt x="34" y="45"/>
                    </a:lnTo>
                    <a:lnTo>
                      <a:pt x="27" y="61"/>
                    </a:lnTo>
                    <a:lnTo>
                      <a:pt x="22" y="81"/>
                    </a:lnTo>
                    <a:lnTo>
                      <a:pt x="18" y="102"/>
                    </a:lnTo>
                    <a:lnTo>
                      <a:pt x="13" y="124"/>
                    </a:lnTo>
                    <a:lnTo>
                      <a:pt x="22" y="174"/>
                    </a:lnTo>
                    <a:lnTo>
                      <a:pt x="49" y="210"/>
                    </a:lnTo>
                    <a:lnTo>
                      <a:pt x="20" y="183"/>
                    </a:lnTo>
                    <a:lnTo>
                      <a:pt x="0" y="126"/>
                    </a:lnTo>
                    <a:lnTo>
                      <a:pt x="2" y="102"/>
                    </a:lnTo>
                    <a:lnTo>
                      <a:pt x="6" y="79"/>
                    </a:lnTo>
                    <a:lnTo>
                      <a:pt x="11" y="56"/>
                    </a:lnTo>
                    <a:lnTo>
                      <a:pt x="20" y="38"/>
                    </a:lnTo>
                    <a:lnTo>
                      <a:pt x="31" y="22"/>
                    </a:lnTo>
                    <a:lnTo>
                      <a:pt x="47" y="11"/>
                    </a:lnTo>
                    <a:lnTo>
                      <a:pt x="68" y="2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61680" y="4646880"/>
                <a:ext cx="12600" cy="32040"/>
              </a:xfrm>
              <a:custGeom>
                <a:avLst/>
                <a:gdLst/>
                <a:ahLst/>
                <a:rect l="l" t="t" r="r" b="b"/>
                <a:pathLst>
                  <a:path w="90" h="199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1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2" y="163"/>
                    </a:lnTo>
                    <a:lnTo>
                      <a:pt x="45" y="199"/>
                    </a:lnTo>
                    <a:lnTo>
                      <a:pt x="20" y="174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5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08000" y="4649760"/>
                <a:ext cx="12960" cy="32040"/>
              </a:xfrm>
              <a:custGeom>
                <a:avLst/>
                <a:gdLst/>
                <a:ahLst/>
                <a:rect l="l" t="t" r="r" b="b"/>
                <a:pathLst>
                  <a:path w="90" h="196">
                    <a:moveTo>
                      <a:pt x="90" y="0"/>
                    </a:moveTo>
                    <a:lnTo>
                      <a:pt x="70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9"/>
                    </a:lnTo>
                    <a:lnTo>
                      <a:pt x="20" y="77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3" y="163"/>
                    </a:lnTo>
                    <a:lnTo>
                      <a:pt x="45" y="196"/>
                    </a:lnTo>
                    <a:lnTo>
                      <a:pt x="20" y="172"/>
                    </a:lnTo>
                    <a:lnTo>
                      <a:pt x="0" y="120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6" y="2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505600" y="46476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89" h="198">
                    <a:moveTo>
                      <a:pt x="89" y="0"/>
                    </a:moveTo>
                    <a:lnTo>
                      <a:pt x="68" y="9"/>
                    </a:lnTo>
                    <a:lnTo>
                      <a:pt x="52" y="20"/>
                    </a:lnTo>
                    <a:lnTo>
                      <a:pt x="41" y="31"/>
                    </a:lnTo>
                    <a:lnTo>
                      <a:pt x="32" y="45"/>
                    </a:lnTo>
                    <a:lnTo>
                      <a:pt x="25" y="58"/>
                    </a:lnTo>
                    <a:lnTo>
                      <a:pt x="21" y="76"/>
                    </a:lnTo>
                    <a:lnTo>
                      <a:pt x="16" y="95"/>
                    </a:lnTo>
                    <a:lnTo>
                      <a:pt x="12" y="117"/>
                    </a:lnTo>
                    <a:lnTo>
                      <a:pt x="21" y="165"/>
                    </a:lnTo>
                    <a:lnTo>
                      <a:pt x="46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3" y="97"/>
                    </a:lnTo>
                    <a:lnTo>
                      <a:pt x="7" y="74"/>
                    </a:lnTo>
                    <a:lnTo>
                      <a:pt x="12" y="54"/>
                    </a:lnTo>
                    <a:lnTo>
                      <a:pt x="21" y="36"/>
                    </a:lnTo>
                    <a:lnTo>
                      <a:pt x="30" y="20"/>
                    </a:lnTo>
                    <a:lnTo>
                      <a:pt x="46" y="9"/>
                    </a:lnTo>
                    <a:lnTo>
                      <a:pt x="64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56960" y="4647600"/>
                <a:ext cx="11880" cy="32760"/>
              </a:xfrm>
              <a:custGeom>
                <a:avLst/>
                <a:gdLst/>
                <a:ahLst/>
                <a:rect l="l" t="t" r="r" b="b"/>
                <a:pathLst>
                  <a:path w="88" h="198">
                    <a:moveTo>
                      <a:pt x="88" y="0"/>
                    </a:moveTo>
                    <a:lnTo>
                      <a:pt x="68" y="9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2" y="43"/>
                    </a:lnTo>
                    <a:lnTo>
                      <a:pt x="25" y="58"/>
                    </a:lnTo>
                    <a:lnTo>
                      <a:pt x="20" y="76"/>
                    </a:lnTo>
                    <a:lnTo>
                      <a:pt x="16" y="95"/>
                    </a:lnTo>
                    <a:lnTo>
                      <a:pt x="11" y="117"/>
                    </a:lnTo>
                    <a:lnTo>
                      <a:pt x="20" y="165"/>
                    </a:lnTo>
                    <a:lnTo>
                      <a:pt x="45" y="198"/>
                    </a:lnTo>
                    <a:lnTo>
                      <a:pt x="18" y="174"/>
                    </a:lnTo>
                    <a:lnTo>
                      <a:pt x="0" y="119"/>
                    </a:lnTo>
                    <a:lnTo>
                      <a:pt x="2" y="97"/>
                    </a:lnTo>
                    <a:lnTo>
                      <a:pt x="4" y="74"/>
                    </a:lnTo>
                    <a:lnTo>
                      <a:pt x="11" y="54"/>
                    </a:lnTo>
                    <a:lnTo>
                      <a:pt x="18" y="36"/>
                    </a:lnTo>
                    <a:lnTo>
                      <a:pt x="29" y="20"/>
                    </a:lnTo>
                    <a:lnTo>
                      <a:pt x="45" y="9"/>
                    </a:lnTo>
                    <a:lnTo>
                      <a:pt x="63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37480" y="4523400"/>
                <a:ext cx="52200" cy="39240"/>
              </a:xfrm>
              <a:custGeom>
                <a:avLst/>
                <a:gdLst/>
                <a:ahLst/>
                <a:rect l="l" t="t" r="r" b="b"/>
                <a:pathLst>
                  <a:path w="368" h="237">
                    <a:moveTo>
                      <a:pt x="368" y="0"/>
                    </a:moveTo>
                    <a:lnTo>
                      <a:pt x="366" y="27"/>
                    </a:lnTo>
                    <a:lnTo>
                      <a:pt x="337" y="36"/>
                    </a:lnTo>
                    <a:lnTo>
                      <a:pt x="303" y="52"/>
                    </a:lnTo>
                    <a:lnTo>
                      <a:pt x="264" y="70"/>
                    </a:lnTo>
                    <a:lnTo>
                      <a:pt x="228" y="91"/>
                    </a:lnTo>
                    <a:lnTo>
                      <a:pt x="194" y="113"/>
                    </a:lnTo>
                    <a:lnTo>
                      <a:pt x="160" y="136"/>
                    </a:lnTo>
                    <a:lnTo>
                      <a:pt x="129" y="163"/>
                    </a:lnTo>
                    <a:lnTo>
                      <a:pt x="104" y="192"/>
                    </a:lnTo>
                    <a:lnTo>
                      <a:pt x="83" y="226"/>
                    </a:lnTo>
                    <a:lnTo>
                      <a:pt x="0" y="237"/>
                    </a:lnTo>
                    <a:lnTo>
                      <a:pt x="13" y="213"/>
                    </a:lnTo>
                    <a:lnTo>
                      <a:pt x="29" y="190"/>
                    </a:lnTo>
                    <a:lnTo>
                      <a:pt x="47" y="170"/>
                    </a:lnTo>
                    <a:lnTo>
                      <a:pt x="67" y="152"/>
                    </a:lnTo>
                    <a:lnTo>
                      <a:pt x="90" y="133"/>
                    </a:lnTo>
                    <a:lnTo>
                      <a:pt x="113" y="115"/>
                    </a:lnTo>
                    <a:lnTo>
                      <a:pt x="138" y="102"/>
                    </a:lnTo>
                    <a:lnTo>
                      <a:pt x="163" y="86"/>
                    </a:lnTo>
                    <a:lnTo>
                      <a:pt x="190" y="72"/>
                    </a:lnTo>
                    <a:lnTo>
                      <a:pt x="215" y="61"/>
                    </a:lnTo>
                    <a:lnTo>
                      <a:pt x="242" y="50"/>
                    </a:lnTo>
                    <a:lnTo>
                      <a:pt x="269" y="39"/>
                    </a:lnTo>
                    <a:lnTo>
                      <a:pt x="294" y="27"/>
                    </a:lnTo>
                    <a:lnTo>
                      <a:pt x="321" y="18"/>
                    </a:lnTo>
                    <a:lnTo>
                      <a:pt x="346" y="9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266560" y="4590720"/>
                <a:ext cx="76680" cy="20520"/>
              </a:xfrm>
              <a:custGeom>
                <a:avLst/>
                <a:gdLst/>
                <a:ahLst/>
                <a:rect l="l" t="t" r="r" b="b"/>
                <a:pathLst>
                  <a:path w="537" h="129">
                    <a:moveTo>
                      <a:pt x="537" y="16"/>
                    </a:moveTo>
                    <a:lnTo>
                      <a:pt x="299" y="43"/>
                    </a:lnTo>
                    <a:lnTo>
                      <a:pt x="263" y="52"/>
                    </a:lnTo>
                    <a:lnTo>
                      <a:pt x="229" y="59"/>
                    </a:lnTo>
                    <a:lnTo>
                      <a:pt x="195" y="68"/>
                    </a:lnTo>
                    <a:lnTo>
                      <a:pt x="165" y="77"/>
                    </a:lnTo>
                    <a:lnTo>
                      <a:pt x="134" y="88"/>
                    </a:lnTo>
                    <a:lnTo>
                      <a:pt x="104" y="99"/>
                    </a:lnTo>
                    <a:lnTo>
                      <a:pt x="73" y="113"/>
                    </a:lnTo>
                    <a:lnTo>
                      <a:pt x="39" y="129"/>
                    </a:lnTo>
                    <a:lnTo>
                      <a:pt x="0" y="124"/>
                    </a:lnTo>
                    <a:lnTo>
                      <a:pt x="21" y="104"/>
                    </a:lnTo>
                    <a:lnTo>
                      <a:pt x="46" y="86"/>
                    </a:lnTo>
                    <a:lnTo>
                      <a:pt x="70" y="70"/>
                    </a:lnTo>
                    <a:lnTo>
                      <a:pt x="98" y="59"/>
                    </a:lnTo>
                    <a:lnTo>
                      <a:pt x="125" y="47"/>
                    </a:lnTo>
                    <a:lnTo>
                      <a:pt x="154" y="38"/>
                    </a:lnTo>
                    <a:lnTo>
                      <a:pt x="184" y="31"/>
                    </a:lnTo>
                    <a:lnTo>
                      <a:pt x="213" y="25"/>
                    </a:lnTo>
                    <a:lnTo>
                      <a:pt x="245" y="20"/>
                    </a:lnTo>
                    <a:lnTo>
                      <a:pt x="276" y="18"/>
                    </a:lnTo>
                    <a:lnTo>
                      <a:pt x="308" y="13"/>
                    </a:lnTo>
                    <a:lnTo>
                      <a:pt x="337" y="11"/>
                    </a:lnTo>
                    <a:lnTo>
                      <a:pt x="369" y="9"/>
                    </a:lnTo>
                    <a:lnTo>
                      <a:pt x="399" y="7"/>
                    </a:lnTo>
                    <a:lnTo>
                      <a:pt x="428" y="4"/>
                    </a:lnTo>
                    <a:lnTo>
                      <a:pt x="457" y="0"/>
                    </a:lnTo>
                    <a:lnTo>
                      <a:pt x="460" y="0"/>
                    </a:lnTo>
                    <a:lnTo>
                      <a:pt x="469" y="2"/>
                    </a:lnTo>
                    <a:lnTo>
                      <a:pt x="480" y="7"/>
                    </a:lnTo>
                    <a:lnTo>
                      <a:pt x="494" y="9"/>
                    </a:lnTo>
                    <a:lnTo>
                      <a:pt x="507" y="13"/>
                    </a:lnTo>
                    <a:lnTo>
                      <a:pt x="518" y="16"/>
                    </a:lnTo>
                    <a:lnTo>
                      <a:pt x="530" y="16"/>
                    </a:lnTo>
                    <a:lnTo>
                      <a:pt x="537" y="1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421000" y="4628160"/>
                <a:ext cx="7560" cy="2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59800" y="4607280"/>
                <a:ext cx="8280" cy="13320"/>
              </a:xfrm>
              <a:custGeom>
                <a:avLst/>
                <a:gdLst/>
                <a:ahLst/>
                <a:rect l="l" t="t" r="r" b="b"/>
                <a:pathLst>
                  <a:path w="59" h="84">
                    <a:moveTo>
                      <a:pt x="46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3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10" y="82"/>
                    </a:lnTo>
                    <a:lnTo>
                      <a:pt x="14" y="84"/>
                    </a:lnTo>
                    <a:lnTo>
                      <a:pt x="46" y="84"/>
                    </a:lnTo>
                    <a:lnTo>
                      <a:pt x="50" y="82"/>
                    </a:lnTo>
                    <a:lnTo>
                      <a:pt x="55" y="79"/>
                    </a:lnTo>
                    <a:lnTo>
                      <a:pt x="57" y="75"/>
                    </a:lnTo>
                    <a:lnTo>
                      <a:pt x="59" y="70"/>
                    </a:lnTo>
                    <a:lnTo>
                      <a:pt x="59" y="12"/>
                    </a:lnTo>
                    <a:lnTo>
                      <a:pt x="57" y="7"/>
                    </a:lnTo>
                    <a:lnTo>
                      <a:pt x="55" y="3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382120" y="4599360"/>
                <a:ext cx="1800" cy="6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57640" y="4568040"/>
                <a:ext cx="12240" cy="27000"/>
              </a:xfrm>
              <a:custGeom>
                <a:avLst/>
                <a:gdLst/>
                <a:ahLst/>
                <a:rect l="l" t="t" r="r" b="b"/>
                <a:pathLst>
                  <a:path w="86" h="163">
                    <a:moveTo>
                      <a:pt x="86" y="0"/>
                    </a:moveTo>
                    <a:lnTo>
                      <a:pt x="86" y="163"/>
                    </a:lnTo>
                    <a:lnTo>
                      <a:pt x="52" y="163"/>
                    </a:lnTo>
                    <a:lnTo>
                      <a:pt x="0" y="158"/>
                    </a:lnTo>
                    <a:lnTo>
                      <a:pt x="21" y="149"/>
                    </a:lnTo>
                    <a:lnTo>
                      <a:pt x="52" y="158"/>
                    </a:lnTo>
                    <a:lnTo>
                      <a:pt x="52" y="5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51160" y="4648320"/>
                <a:ext cx="2160" cy="29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73760" y="4638240"/>
                <a:ext cx="8640" cy="46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283480" y="46404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16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7" y="43"/>
                    </a:lnTo>
                    <a:lnTo>
                      <a:pt x="29" y="34"/>
                    </a:lnTo>
                    <a:lnTo>
                      <a:pt x="31" y="25"/>
                    </a:lnTo>
                    <a:lnTo>
                      <a:pt x="29" y="16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283480" y="46404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2" h="50">
                    <a:moveTo>
                      <a:pt x="13" y="0"/>
                    </a:moveTo>
                    <a:lnTo>
                      <a:pt x="9" y="3"/>
                    </a:lnTo>
                    <a:lnTo>
                      <a:pt x="4" y="7"/>
                    </a:lnTo>
                    <a:lnTo>
                      <a:pt x="2" y="16"/>
                    </a:lnTo>
                    <a:lnTo>
                      <a:pt x="0" y="25"/>
                    </a:lnTo>
                    <a:lnTo>
                      <a:pt x="2" y="34"/>
                    </a:lnTo>
                    <a:lnTo>
                      <a:pt x="4" y="43"/>
                    </a:lnTo>
                    <a:lnTo>
                      <a:pt x="9" y="48"/>
                    </a:lnTo>
                    <a:lnTo>
                      <a:pt x="13" y="50"/>
                    </a:lnTo>
                    <a:lnTo>
                      <a:pt x="16" y="48"/>
                    </a:lnTo>
                    <a:lnTo>
                      <a:pt x="20" y="43"/>
                    </a:lnTo>
                    <a:lnTo>
                      <a:pt x="22" y="34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73040" y="4650480"/>
                <a:ext cx="28080" cy="18360"/>
              </a:xfrm>
              <a:custGeom>
                <a:avLst/>
                <a:gdLst/>
                <a:ahLst/>
                <a:rect l="l" t="t" r="r" b="b"/>
                <a:pathLst>
                  <a:path w="201" h="113">
                    <a:moveTo>
                      <a:pt x="201" y="0"/>
                    </a:moveTo>
                    <a:lnTo>
                      <a:pt x="199" y="23"/>
                    </a:lnTo>
                    <a:lnTo>
                      <a:pt x="197" y="75"/>
                    </a:lnTo>
                    <a:lnTo>
                      <a:pt x="197" y="107"/>
                    </a:lnTo>
                    <a:lnTo>
                      <a:pt x="48" y="113"/>
                    </a:lnTo>
                    <a:lnTo>
                      <a:pt x="14" y="102"/>
                    </a:lnTo>
                    <a:lnTo>
                      <a:pt x="2" y="82"/>
                    </a:lnTo>
                    <a:lnTo>
                      <a:pt x="0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28280" y="4627440"/>
                <a:ext cx="24840" cy="45000"/>
              </a:xfrm>
              <a:custGeom>
                <a:avLst/>
                <a:gdLst/>
                <a:ahLst/>
                <a:rect l="l" t="t" r="r" b="b"/>
                <a:pathLst>
                  <a:path w="176" h="278">
                    <a:moveTo>
                      <a:pt x="50" y="0"/>
                    </a:moveTo>
                    <a:lnTo>
                      <a:pt x="170" y="127"/>
                    </a:lnTo>
                    <a:lnTo>
                      <a:pt x="176" y="274"/>
                    </a:lnTo>
                    <a:lnTo>
                      <a:pt x="145" y="278"/>
                    </a:lnTo>
                    <a:lnTo>
                      <a:pt x="133" y="138"/>
                    </a:lnTo>
                    <a:lnTo>
                      <a:pt x="36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73200" y="4506840"/>
                <a:ext cx="433800" cy="101520"/>
              </a:xfrm>
              <a:custGeom>
                <a:avLst/>
                <a:gdLst/>
                <a:ahLst/>
                <a:rect l="l" t="t" r="r" b="b"/>
                <a:pathLst>
                  <a:path w="3037" h="618">
                    <a:moveTo>
                      <a:pt x="20" y="4"/>
                    </a:moveTo>
                    <a:lnTo>
                      <a:pt x="2982" y="0"/>
                    </a:lnTo>
                    <a:lnTo>
                      <a:pt x="3037" y="70"/>
                    </a:lnTo>
                    <a:lnTo>
                      <a:pt x="3037" y="618"/>
                    </a:lnTo>
                    <a:lnTo>
                      <a:pt x="0" y="618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7" y="36"/>
                    </a:lnTo>
                    <a:lnTo>
                      <a:pt x="11" y="18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73200" y="4523400"/>
                <a:ext cx="432000" cy="47880"/>
              </a:xfrm>
              <a:custGeom>
                <a:avLst/>
                <a:gdLst/>
                <a:ahLst/>
                <a:rect l="l" t="t" r="r" b="b"/>
                <a:pathLst>
                  <a:path w="3025" h="292">
                    <a:moveTo>
                      <a:pt x="0" y="174"/>
                    </a:moveTo>
                    <a:lnTo>
                      <a:pt x="1152" y="174"/>
                    </a:lnTo>
                    <a:lnTo>
                      <a:pt x="1301" y="0"/>
                    </a:lnTo>
                    <a:lnTo>
                      <a:pt x="1482" y="174"/>
                    </a:lnTo>
                    <a:lnTo>
                      <a:pt x="1591" y="237"/>
                    </a:lnTo>
                    <a:lnTo>
                      <a:pt x="3025" y="237"/>
                    </a:lnTo>
                    <a:lnTo>
                      <a:pt x="3025" y="292"/>
                    </a:lnTo>
                    <a:lnTo>
                      <a:pt x="1536" y="292"/>
                    </a:lnTo>
                    <a:lnTo>
                      <a:pt x="1312" y="120"/>
                    </a:lnTo>
                    <a:lnTo>
                      <a:pt x="1129" y="292"/>
                    </a:lnTo>
                    <a:lnTo>
                      <a:pt x="0" y="292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3200" y="4614480"/>
                <a:ext cx="344160" cy="27720"/>
              </a:xfrm>
              <a:custGeom>
                <a:avLst/>
                <a:gdLst/>
                <a:ahLst/>
                <a:rect l="l" t="t" r="r" b="b"/>
                <a:pathLst>
                  <a:path w="2410" h="172">
                    <a:moveTo>
                      <a:pt x="2410" y="0"/>
                    </a:moveTo>
                    <a:lnTo>
                      <a:pt x="2410" y="154"/>
                    </a:lnTo>
                    <a:lnTo>
                      <a:pt x="2292" y="158"/>
                    </a:lnTo>
                    <a:lnTo>
                      <a:pt x="2260" y="104"/>
                    </a:lnTo>
                    <a:lnTo>
                      <a:pt x="2120" y="104"/>
                    </a:lnTo>
                    <a:lnTo>
                      <a:pt x="2077" y="167"/>
                    </a:lnTo>
                    <a:lnTo>
                      <a:pt x="1982" y="167"/>
                    </a:lnTo>
                    <a:lnTo>
                      <a:pt x="1939" y="113"/>
                    </a:lnTo>
                    <a:lnTo>
                      <a:pt x="1767" y="113"/>
                    </a:lnTo>
                    <a:lnTo>
                      <a:pt x="1701" y="113"/>
                    </a:lnTo>
                    <a:lnTo>
                      <a:pt x="1701" y="172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241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91640" y="4648320"/>
                <a:ext cx="197640" cy="19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559240" y="464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153" h="223">
                    <a:moveTo>
                      <a:pt x="15" y="20"/>
                    </a:moveTo>
                    <a:lnTo>
                      <a:pt x="52" y="63"/>
                    </a:lnTo>
                    <a:lnTo>
                      <a:pt x="52" y="194"/>
                    </a:lnTo>
                    <a:lnTo>
                      <a:pt x="27" y="199"/>
                    </a:lnTo>
                    <a:lnTo>
                      <a:pt x="27" y="223"/>
                    </a:lnTo>
                    <a:lnTo>
                      <a:pt x="122" y="223"/>
                    </a:lnTo>
                    <a:lnTo>
                      <a:pt x="122" y="190"/>
                    </a:lnTo>
                    <a:lnTo>
                      <a:pt x="86" y="190"/>
                    </a:lnTo>
                    <a:lnTo>
                      <a:pt x="86" y="63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7"/>
                    </a:lnTo>
                    <a:lnTo>
                      <a:pt x="11" y="13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919440" y="5378040"/>
              <a:ext cx="103644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5"/>
            <a:stretch/>
          </p:blipFill>
          <p:spPr>
            <a:xfrm>
              <a:off x="919440" y="5378040"/>
              <a:ext cx="1036440" cy="1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19440" y="5378040"/>
              <a:ext cx="103644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>
              <a:off x="914400" y="5381280"/>
              <a:ext cx="1041480" cy="1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" name=""/>
            <p:cNvGrpSpPr/>
            <p:nvPr/>
          </p:nvGrpSpPr>
          <p:grpSpPr>
            <a:xfrm>
              <a:off x="995400" y="5165280"/>
              <a:ext cx="920520" cy="212760"/>
              <a:chOff x="995400" y="5165280"/>
              <a:chExt cx="920520" cy="212760"/>
            </a:xfrm>
          </p:grpSpPr>
          <p:sp>
            <p:nvSpPr>
              <p:cNvPr id="519" name=""/>
              <p:cNvSpPr/>
              <p:nvPr/>
            </p:nvSpPr>
            <p:spPr>
              <a:xfrm>
                <a:off x="103320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1592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95400" y="5268600"/>
                <a:ext cx="12996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49400" y="5336640"/>
                <a:ext cx="2196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4768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3004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10952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6352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57788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56024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3972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372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7152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5388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33360" y="5268600"/>
                <a:ext cx="13032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287360" y="5336640"/>
                <a:ext cx="2232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23760" y="5165280"/>
                <a:ext cx="54000" cy="651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06480" y="5208120"/>
                <a:ext cx="88920" cy="8244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85960" y="5268600"/>
                <a:ext cx="129960" cy="77760"/>
              </a:xfrm>
              <a:prstGeom prst="triangle">
                <a:avLst>
                  <a:gd name="adj" fmla="val 50000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39960" y="5336640"/>
                <a:ext cx="21960" cy="41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219560" y="5236920"/>
              <a:ext cx="347760" cy="181080"/>
              <a:chOff x="4219560" y="5236920"/>
              <a:chExt cx="347760" cy="181080"/>
            </a:xfrm>
          </p:grpSpPr>
          <p:sp>
            <p:nvSpPr>
              <p:cNvPr id="540" name=""/>
              <p:cNvSpPr/>
              <p:nvPr/>
            </p:nvSpPr>
            <p:spPr>
              <a:xfrm>
                <a:off x="4496040" y="5248080"/>
                <a:ext cx="71280" cy="103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05240" y="5236920"/>
                <a:ext cx="88920" cy="13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94440" y="5329080"/>
                <a:ext cx="129960" cy="8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19560" y="5259240"/>
                <a:ext cx="311400" cy="8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65640" y="5284440"/>
                <a:ext cx="17640" cy="1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6443640" y="2695680"/>
            <a:ext cx="24066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ported data from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50120" y="3951360"/>
            <a:ext cx="24066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alculated data from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7"/>
          <a:stretch/>
        </p:blipFill>
        <p:spPr>
          <a:xfrm>
            <a:off x="7140600" y="1341360"/>
            <a:ext cx="1290600" cy="12747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8"/>
          <a:stretch/>
        </p:blipFill>
        <p:spPr>
          <a:xfrm>
            <a:off x="7140600" y="4883040"/>
            <a:ext cx="1290600" cy="12747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297080" y="324000"/>
            <a:ext cx="74610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Point sources and diffus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wissPRTR -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5560" y="1449000"/>
            <a:ext cx="4870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Pilot Study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ot Study 2000/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CE Protocol on Pollutant Release and Transfer Registers 200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inance on PRTR 2006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-based databas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rcRect l="25499" t="14295" r="25499" b="13196"/>
          <a:stretch/>
        </p:blipFill>
        <p:spPr>
          <a:xfrm>
            <a:off x="6300720" y="2565360"/>
            <a:ext cx="2521080" cy="35370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411280" y="2781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11280" y="43639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64000" y="321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5156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1280" y="1916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wissPRTR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9988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Representatives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National and regional authorities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wo meetings per year</a:t>
            </a:r>
            <a:br>
              <a:rPr sz="20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tributed t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Ordinance on PR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Training an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ftware and data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84720" y="1484280"/>
          <a:ext cx="4464000" cy="26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484280"/>
                    <a:ext cx="446400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71492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8328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24220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94560" y="4149720"/>
            <a:ext cx="216000" cy="576360"/>
          </a:xfrm>
          <a:prstGeom prst="upArrow">
            <a:avLst>
              <a:gd name="adj1" fmla="val 50000"/>
              <a:gd name="adj2" fmla="val 66708"/>
            </a:avLst>
          </a:prstGeom>
          <a:solidFill>
            <a:srgbClr val="ed1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4107240" y="53442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Pilot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5462280" y="51292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iev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6981840" y="5338440"/>
            <a:ext cx="14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rd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7701480" y="54108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Who has to re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erg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duction and processing of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inera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hemicals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te and waste wat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per and wood production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tensive livestock production and acqua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imal and vegetable products from the food and beverag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ther industrial activities (textiles, printing, surface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451560" y="0"/>
            <a:ext cx="2692440" cy="14270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6453360" y="144000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Arial"/>
              </a:rPr>
              <a:t>Waste incineration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6:46Z</dcterms:created>
  <dc:creator>Schio Remo</dc:creator>
  <dc:description/>
  <dc:language>en-US</dc:language>
  <cp:lastModifiedBy>Moor Christoph</cp:lastModifiedBy>
  <cp:lastPrinted>2003-11-14T16:51:38Z</cp:lastPrinted>
  <dcterms:modified xsi:type="dcterms:W3CDTF">2009-05-05T14:48:01Z</dcterms:modified>
  <cp:revision>33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4:1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6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engl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3141314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