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93508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33640" y="0"/>
            <a:ext cx="293544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-1800" y="9408600"/>
            <a:ext cx="293508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3833640" y="9408600"/>
            <a:ext cx="293544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47994CE2-A6BE-4643-B0C3-2462D177860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 Secretary-General Kofi Ann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cently described the drafting as having global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a 'giant step forward in the development of international law in this field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the first legally binding UN instrument to address the issues covered by what we might call environmental democracy in a detailed and systematic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cretary General: Rio +10 meeting: examine the global relevance of the Convetion prinic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quirement for p.a. to actively disseminate certain types of information. In a transparant and accessible way f.I. by public registers and li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tegories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es must take steps in developing a Pollutant Release and Transfer Regi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of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es must publish and disseminate state of the environment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C4B7-AD4D-4F1C-BF48-A4BDE735E6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B539-6590-47C8-903C-E2C45524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D06A-2F21-493F-B16C-98B352A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9D8D-00C1-4280-BAE1-F8B67C56C2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A834A-5824-4B9C-96E2-58D165FE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72186-B3C7-45FD-AEB2-8DC79582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E94F9-B998-4BDC-B092-01B248BC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1FE8A-91A6-4049-9B36-F0E1848D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61804-7AEE-4DDB-88AF-5B6DBF95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01F9F-E5A9-488F-9BF3-E371DA79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2E1CA-9C9B-4A91-986A-312F618F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AFD7-3A0B-4171-92AE-FB8C258F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B5005-032B-4A3E-A553-AA7450B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848FB-B628-4B4E-ACC8-A26187F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B71DD-8177-4D58-AF3F-22EF281E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67637-D268-4830-A07E-4F8DD6FF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4B9CB-C6E5-494B-ACDF-AE660FE9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751B-7CC4-4878-B0AF-D184D1EF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5B0F-28FF-4AEE-A53E-3A92E215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424D-9785-4FED-97FA-7A3DA020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FF81-C9CD-4CD2-925D-734FE775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AB1C-BD3D-4FBB-83DC-EC141CD6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7053-FE49-400A-9CFD-E32FAC87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532E-7B2A-4EF3-926A-5BB91BAB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55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3" marL="160344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DCD-D82D-4D28-B74E-12E6661CA0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01000" y="5562720"/>
            <a:ext cx="9907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2560" cy="380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F672-E2D3-4561-BBB5-B3BD79CF378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914400" indent="11736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371600" indent="3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" y="1655640"/>
            <a:ext cx="873468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PRTRs in Action:  The Kiev Protocol on Pollutant Release and Transfer Registers and its relevance to SAICM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720" y="3738600"/>
            <a:ext cx="823464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Michael Stanley-J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nvironmental Information Management Offi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nvironment, Housing and Land Management Di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nited Nations Economic Commission for Eur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PRTRs in Action, Side event to the Central and Eastern Europe Regional Meeting on the Strategic Approach to International Chemicals Manage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4-6 December 2006,</a:t>
            </a:r>
            <a:r>
              <a:rPr b="1" lang="cs-CZ" sz="16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Riga, Latv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3856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772080" y="214200"/>
            <a:ext cx="1600200" cy="13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76440" y="1531800"/>
            <a:ext cx="826272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Facilities and pollutants cov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General obligations placed on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bligations placed on owners / 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ments of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Quality assessment and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ste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Possible applications (not requir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1400" y="534960"/>
            <a:ext cx="70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Requirements of Protocol on PRT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3E6C-7AD1-4906-9801-A9AD6564A8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acilities cover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03480" y="161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acilities covered (annex I) include: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hermal power stations and refine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Mining and metallurgical indust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Chemical plant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Waste and waste-water management plant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Paper and timber indust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ntensive livestock production and aquacultur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ood and beverage produc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extiles, Tanneries, Shipbuilding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63F8-71C2-4D66-B995-EDA22CC1787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llutants cover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Pollutants covered (annex II) include: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Greenhouse gas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cid rain polluta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Ozone-depleting substanc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Heavy metal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Certain carcinogens, such as dioxin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OTAL:  86 polluta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.B. National registers may include additional facilities and substances, e.g. European Union includes 91 individual substances or groups of substanc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5A82-E68C-419B-826C-CFEC96C443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overnmen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2400" y="1360080"/>
            <a:ext cx="6905880" cy="38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hooses among various technical options for     the design of a central, publicly accessibly register to determine the institutional framework required for ensuring a coordinated system of information flow to i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ts forth the rights and responsibilities of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various key players, e.g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obligation of pollutant-emitting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faciliti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o report, and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right of th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general public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o participate in decisions concerning PRT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6160" y="1450800"/>
            <a:ext cx="746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. Institution to manage the national PRTR system (art. 2, para.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. Structure for inter-agency coord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. Appropriate systems for enforcement (art. 3, para. 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Collection, validation and management of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. Collection of data submitted by owners or operators of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acilities  (art. 7, paras. 2 and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5. Assessment of the quality of the data collected in ter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f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mpletenes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redibilit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(art. 10, para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6. Collection of information on releases from diffuse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art. 7, para. 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8. Development and management of a register compris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 structured, computerized database able to maintai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or 10 reporting years (art. 4, para. (j) and art. 5, para. 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9. Dissemination of information and training (arts. 8, 11 and 15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0880" y="371520"/>
            <a:ext cx="7592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lements explicitly set forth in the Protoc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r implicit in its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2F59-FAA0-4089-92C5-20887BD280D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asic obligation of operato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2360" y="179244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9040" y="1555920"/>
            <a:ext cx="76377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o submit the information specified with resp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o those pollutants and waste for which threshol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were exc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ach Party decides with respect to a particular pollu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o apply either a release threshold or a manufactur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rocess or use (MPU) threshold will be 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acility operators do not choose under which requi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pollutant threshold or MPU) to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6764-4D7F-4ADA-BE63-F88D20DC51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5600" y="133200"/>
            <a:ext cx="833868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ing requirements of operators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rticle 7 - continued)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ch Party shall requir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perator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f facilities specifi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 annex I 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lease any pollutant specified in annex II in quantities excee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pplicable threshold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any pollutant in annex II in quantities excee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pplicable threshold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hazardous waste exceeding 2 tons per y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 other waste exceeding 2,000 tons per year, where the Party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pted for waste-specific reporting (as in the European Un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any pollutant specified in annex II in waste wa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stined for waste-water treatment in quantities exceeding the applica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ndertake one or more activities specified in annex I at or abo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e employee threshold specified in annex I,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anufacture, process or uses any pollutant specified in annex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2031-2E26-4AA6-86EC-39E9E716159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84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pecific reporting ele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9920" y="1039680"/>
            <a:ext cx="774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e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street address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geographical location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ctivities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f the reporting fac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Name of the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owner or operato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, as appropriate,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umerical identifier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of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ch specifie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pollu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f each specified pollutant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released to the environmen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both in aggregate and according to whether release is to air, 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ater, or to land, including underground inj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i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f each pollutant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transferred off-si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in the report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year, distinguishing between amounts for disposal and for recovery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e and address of facility receiving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transfe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 of waste transferred off-si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distinguishing betwe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azardous waste and other waste, for any operations, indica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hether waste is destined for recovery or dispos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d for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transboundary movements of hazardous was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name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ddress of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recover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r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dispos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ctual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site receiving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287C-57A2-4E3E-B7EA-65D49DA7274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ing elements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800" y="1459080"/>
            <a:ext cx="7859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mount of each specifie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pollutant in waste wat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ransferred off-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ype of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methodolog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used to derive information on amount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dicating whether based on measurement, calculation or esti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M, C,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formation to include releases and transfers from routine and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xtraordinary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wners or operators to be required to collect releases and transf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ata needed “with appropriate frequency”, and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cords of the data from which the reported information was deri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ust be kept available for the competent authorities for 5 year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cluding description of M, C or 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6B40-CF76-4FED-A9C3-5ADA9DFABD7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ty assessment 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Article 10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7360" y="1684440"/>
            <a:ext cx="841032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 or operators are to assure the quality of the inform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Quality assessment of data duty of the Parties, in particular as to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completeness – consistency – 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aking into account guidelines developed by the M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Draft </a:t>
            </a: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Guidance to implementation of the Protocol on PRT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enultimate version released 31 July 2006 available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eb sites of  UNECE Working Group on PRTRs and WG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EFBD-2059-4F12-8643-0C89774139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.  The role of PRTRs in SAICM Global Plan of Action and Overarching Policy Strategy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I.  Introduction to the Kiev Protocol on PRTRs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II. Tools for promoting international coordination of PRTR capacity building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V.  Some applications to Multilateral Environmental Agreements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3DB2-0381-4B3E-89FE-8E3F2F228F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est Available Information’ (BAI) standard</a:t>
            </a:r>
            <a:br>
              <a:rPr sz="28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article 9, para. 2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1040" y="1822320"/>
            <a:ext cx="816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 or operators of facilities required to ensure the qua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f information they report and to use “best available information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est available information’ may inclu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nitor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mission facto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ass ba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qu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direct monitoring or other calc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ngineering judgments, and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ther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b. EU adopting more stringent guidance on B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E418-628A-4946-8195-102193BD07A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ty assurance and contro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3480" y="1593720"/>
            <a:ext cx="83534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alibration and maintenance of the monitoring 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Use of recognized quality management syste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iodic checks by an external accredited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ertification of instruments and personnel u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cognized certification sc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Elements for guidelines on strengthening environmen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monitoring and reporting by enterprises,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a 36 (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ECE/CEP/AC.10/2006/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CA3F-ED81-4C0F-B5A4-6F4DAE4986F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alid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920" y="1284120"/>
            <a:ext cx="85212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ere appropriate, validation should be done in acco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ith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internationally approved method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.g. ISO, European Committee for Standardization (C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However, in some cases, national or sector methodolo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may be superior to Internationally-approved on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r such approval may be pending (“HOT ISSUE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alidation of data may be more easily achievable i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responsibility is delegated to local or regional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authoriti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r to the regional or local offices of national authoriti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nce they will b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closer to the operator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and are more lik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o have an overview of their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Guidance on validation is evolv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5A44-C950-4CEF-B709-D586AAA8AC9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ext steps for Protocol’s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uture implement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0760" y="1834920"/>
            <a:ext cx="86040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tting up the Protocol’s institutional architecture: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ules of procedure and compliance review mechanism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inancial arrangeme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echnical assistance mechanism,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ernational cooperation and reporting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lnSpc>
                <a:spcPct val="90000"/>
              </a:lnSpc>
              <a:spcBef>
                <a:spcPts val="1125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ernational PRTR Coordinating Group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lnSpc>
                <a:spcPct val="90000"/>
              </a:lnSpc>
              <a:spcBef>
                <a:spcPts val="1125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AICM / ICCM etc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mpletion of technical guidance on implementation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urther guidance on dissemination of PRTR information  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or data users’ guide suggested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14BE-D425-4022-981E-80D610270D8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ssible future appl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Pan-European Environment and Health Information System (Environment-for-Europe Ministerial Conference / WHO Europe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mmercial property management information systems (“due diligence” research, e.g. Environment Agency of England and Wales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ntegration into Global Reporting Initiative, Socially Responsible Investment (SRI</a:t>
            </a:r>
            <a:r>
              <a:rPr b="1" i="1" lang="en-US" sz="2200" spc="-1" strike="noStrike">
                <a:solidFill>
                  <a:srgbClr val="ffff66"/>
                </a:solidFill>
                <a:latin typeface="Arial"/>
              </a:rPr>
              <a:t>),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and evolving ISO standards and OECD guidelines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AICM national performance tracking under ICCM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nvergence of regional PRTR systems (North American </a:t>
            </a:r>
            <a:r>
              <a:rPr b="1" i="1" lang="en-US" sz="2200" spc="-1" strike="noStrike">
                <a:solidFill>
                  <a:srgbClr val="ffff66"/>
                </a:solidFill>
                <a:latin typeface="Arial"/>
              </a:rPr>
              <a:t>Taking Stock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, European PRTR, East Asia?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BFB3-36F8-41FF-AFF3-3435CDD8794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 success stor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or the 10-year period from 1988 to 1997, atmospheric emissions of some 260 known carcinogens and reproductive toxins from  the United States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oxics Release Inventory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eporting facilities have been reduced by approximately 85% in th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tate of California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, and by some 42% in the rest of the country (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.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., for all chemicals listed in California as known to cause either cancer or reproductive toxicity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eported as air emissions under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RI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 ).”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From P. Sand (2002)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E023-C502-4D5E-A384-E86DD582DC7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33240" y="2209680"/>
            <a:ext cx="80600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MORE INFORMATION AVAILABLE ON THE AARHUS CONVENTION WEB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http://www.unece.org/env/pp/pr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arhus Clearing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http://aarhusclearinghouse.unece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0440" y="477720"/>
            <a:ext cx="1581120" cy="14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09DB-7D2B-4D4B-9175-AD8E94DB20F7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s in SAICM Global Plan of Action and Overarching Policy Strategy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operative action on global priorit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ncouraging implementation of existing internationally recognized standards, tools and approaches, such as GHS and PRTRs (Executive summary, para. 8 (c))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ctivit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Knowledge and information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24. Develop a national PRTR/emission inventory design process involving affected and interested parti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25. Use PRTRs tailored to variable national conditions as a source of valuable environmental information for industry, Governments and the public and as mechanisms to stimulate reductions in emission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D162-CDF7-42F9-BCCB-87B553EB10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s in SAICM 2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7640" indent="-236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Governanc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7. Establish the required framework for creating national PRT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8. Promote a political consensus in in favour of public access to national environmental informa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8. Manage information dissemination from PRTRs so that risks are communicated in a timely and accurate fashion without unduly alarming the public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92. Promote within the industrial sector the adoption of PRTRs and cleaner production method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58D5-4C69-4A4F-B1C7-7FBF30490F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s in SAICM 3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7640" indent="-236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apacity-building and technical coopera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22. Strengthen mechanisms for reporting and consolidating information necessary to produce baseline overviews that will help determine domestic management priorities and gaps (e.g., PRTRs and inventories)…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3D68-D547-4C44-87D9-903EE26555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UNECE Convention on Access to Information, Public Participation in Decision-making and Access to Justice in Environmental Matte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5 June </a:t>
            </a:r>
            <a:r>
              <a:rPr b="1" lang="fr-CH" sz="1800" spc="-1" strike="noStrike">
                <a:solidFill>
                  <a:srgbClr val="ffff66"/>
                </a:solidFill>
                <a:latin typeface="Arial"/>
              </a:rPr>
              <a:t>1998 -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Adoption of the Convention at the 4</a:t>
            </a:r>
            <a:r>
              <a:rPr b="0" lang="en-GB" sz="20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Ministerial “Environment for Europe” Conference, Aarhus, Denmark. Signed by 39 countries and the </a:t>
            </a:r>
            <a:r>
              <a:rPr b="0" lang="fr-CH" sz="20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uropean Communit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0 Oct </a:t>
            </a:r>
            <a:r>
              <a:rPr b="1" lang="fr-CH" sz="18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01-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Entry into force of the Conven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1 May 2003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-  Adoption of the </a:t>
            </a:r>
            <a:r>
              <a:rPr b="0" i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Protocol on PRTRs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at extra-ordinary    meeting of the Parties, within the framework of the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en-GB" sz="20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Ministerial “Environment for Europe” Conferenc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(Kiev, Ukraine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440" y="285480"/>
            <a:ext cx="783756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From the Aarhus Convention</a:t>
            </a: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to the Protocol on PRTRs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6E03-1D88-463A-BDD9-9F7DE2678D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0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66"/>
                </a:solidFill>
                <a:latin typeface="Arial"/>
              </a:rPr>
              <a:t>Status of Convention Ratif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8160" y="1246320"/>
            <a:ext cx="2997360" cy="4432320"/>
          </a:xfrm>
          <a:prstGeom prst="rect">
            <a:avLst/>
          </a:prstGeom>
          <a:solidFill>
            <a:srgbClr val="0000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24240" y="1222200"/>
            <a:ext cx="2952720" cy="4395960"/>
          </a:xfrm>
          <a:prstGeom prst="rect">
            <a:avLst/>
          </a:prstGeom>
          <a:solidFill>
            <a:srgbClr val="0000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2000" y="1311120"/>
            <a:ext cx="27464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lban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rm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zerbaij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Belar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Belgi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Bulg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ypr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zech Republ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Denmar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Esto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in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ormer Yugosla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p. of Macedon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rance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ree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Hung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Ita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Kazakhst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1080" y="1235160"/>
            <a:ext cx="26449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Kyrgyzst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atv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ithu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uxembourg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Malt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Moldova</a:t>
            </a:r>
            <a:r>
              <a:rPr b="1" lang="cs-CZ" sz="1600" spc="-1" strike="noStrike">
                <a:solidFill>
                  <a:srgbClr val="ffff66"/>
                </a:solidFill>
                <a:latin typeface="Arial"/>
              </a:rPr>
              <a:t>, Rep.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Netherl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Norwa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Po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Portu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Rom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Slovak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lov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p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we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Tajikistan</a:t>
            </a: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Turkmenist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kra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nited King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uropean Community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9880" y="5819760"/>
            <a:ext cx="855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Convention total = 39 Parties (PRTR </a:t>
            </a:r>
            <a:r>
              <a:rPr b="1" lang="cs-CZ" sz="1600" spc="-1" strike="noStrike">
                <a:solidFill>
                  <a:srgbClr val="ffff66"/>
                </a:solidFill>
                <a:latin typeface="Arial"/>
              </a:rPr>
              <a:t>Protocol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37 Signatories, including Germany, Iceland, Ireland, Serbia &amp; Montenegro. Protocol Parties as 1 Sep 2006 indicated by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EC6C-DF0B-451F-8784-DCB4DC9365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Access to information provis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2800" y="1461600"/>
            <a:ext cx="79200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Arial"/>
              </a:rPr>
              <a:t>Selected features of Convention article 5 “</a:t>
            </a:r>
            <a:r>
              <a:rPr b="1" lang="en-GB" sz="1800" spc="-1" strike="noStrike" u="sng">
                <a:solidFill>
                  <a:srgbClr val="ffff66"/>
                </a:solidFill>
                <a:uFillTx/>
                <a:latin typeface="Arial"/>
              </a:rPr>
              <a:t>Active Dissemination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1" lang="en-GB" sz="16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Transparency and accessibility of information system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Immediate dissemination of information in cases of imminent threat to health or environ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Sufficient product information to ensure informed environmental choic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Pollutant release and transfer registe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Increased access to information through Interne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880920" indent="-2268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Article 5, paragraph 3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each Party to ensure that environmental Information progressively becomes available In electronic databases which are easily </a:t>
            </a:r>
            <a:r>
              <a:rPr b="1" i="1" lang="id-ID" sz="16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ccessible</a:t>
            </a:r>
            <a:r>
              <a:rPr b="1" i="1" lang="id-ID" sz="1600" spc="-1" strike="noStrike">
                <a:solidFill>
                  <a:srgbClr val="ffff66"/>
                </a:solidFill>
                <a:latin typeface="Arial"/>
              </a:rPr>
              <a:t> t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o the public through public telecommunication networks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93B2-0D04-4130-8CFC-D475546E13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egal basis of PRTR Protocol in Aarhus Conven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Legal basis: article 5, para. 9 and article 10, para. 2 (e) and (i) of the Aarhus Convention, requiring each Part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 take steps to establish progressively ... a coherent, nationwide system of pollution inventories or registers on a structured, computerized and publicly accessible database compiled through standardized reporting.” (art. 5, para. 9)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into account international processes and developments, including the elaboration of an appropriate instrument concerning pollution release and transfer registers or inventories ….” (art. 10, para. 2(i) 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DC17-FC04-48E6-A156-D4C5FB7EFA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21:04:29Z</dcterms:created>
  <dc:creator>Milly</dc:creator>
  <dc:description/>
  <dc:language>en-US</dc:language>
  <cp:lastModifiedBy>Stanley-Jones</cp:lastModifiedBy>
  <cp:lastPrinted>2000-12-08T07:30:52Z</cp:lastPrinted>
  <dcterms:modified xsi:type="dcterms:W3CDTF">2006-12-14T16:45:45Z</dcterms:modified>
  <cp:revision>390</cp:revision>
  <dc:subject/>
  <dc:title>No Slide Title</dc:title>
</cp:coreProperties>
</file>