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768000" cy="990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1800" y="0"/>
            <a:ext cx="293508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6"/>
          </p:nvPr>
        </p:nvSpPr>
        <p:spPr>
          <a:xfrm>
            <a:off x="3833640" y="0"/>
            <a:ext cx="293544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  <a:defRPr b="0" i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7"/>
          </p:nvPr>
        </p:nvSpPr>
        <p:spPr>
          <a:xfrm>
            <a:off x="-1800" y="9408600"/>
            <a:ext cx="2935080" cy="4971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  <a:defRPr b="0" i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8"/>
          </p:nvPr>
        </p:nvSpPr>
        <p:spPr>
          <a:xfrm>
            <a:off x="3833640" y="9408600"/>
            <a:ext cx="2935440" cy="4971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  <a:defRPr b="0" i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fld id="{4EA7DECE-56CF-4742-83D9-CF2422F3ABB0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Img"/>
          </p:nvPr>
        </p:nvSpPr>
        <p:spPr>
          <a:xfrm>
            <a:off x="917640" y="749160"/>
            <a:ext cx="4935600" cy="3702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body"/>
          </p:nvPr>
        </p:nvSpPr>
        <p:spPr>
          <a:xfrm>
            <a:off x="902880" y="4704840"/>
            <a:ext cx="4961160" cy="44578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4640" bIns="446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17640" y="74916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02880" y="4704840"/>
            <a:ext cx="4961160" cy="44578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4640" bIns="446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N Secretary-General Kofi Ann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cently described the drafting as having global signific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s a 'giant step forward in the development of international law in this field'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t is the first legally binding UN instrument to address the issues covered by what we might call environmental democracy in a detailed and systematic 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cretary General: Rio +10 meeting: examine the global relevance of the Convetion prinic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916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02880" y="4704840"/>
            <a:ext cx="4961160" cy="44578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4640" bIns="446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quirement for p.a. to actively disseminate certain types of information. In a transparant and accessible way f.I. by public registers and lis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tegories of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ties must take steps in developing a Pollutant Release and Transfer Regis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se of 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ties must publish and disseminate state of the environment re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E9701-82CC-4BE0-AF59-0925DAAE7D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C0F5B-F22E-442D-B2B8-14531D077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624D7-F9C4-42A3-8AD3-7EF9CB46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0C303-F3A2-47F9-AE25-8743A405A59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5236F8-9E90-4966-B312-4F77480D9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C552A5-040A-443A-B91F-83398310B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40AE35-7FCE-4900-8585-50F9F5CF4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976025-7245-4F7E-89C0-3BEEDDAE2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090CDE-5C6D-43C6-9F6D-C928688A2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3FBCCE-631F-4C8B-B4D7-76AF7AC37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125F79-9638-4A50-B154-DAAF4B07D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FBBCA-AB38-4B01-B399-F1C436D7A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588040-A045-40C8-9C23-0603E064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E2F8C4-9199-4829-B2C7-EA2AB7824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54B050-D8C0-4852-B6E4-9BFD047C1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306D74-6ABF-46DF-AF3B-1924C1227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CB971B-BAA6-449F-B58B-B36B477E3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12477-22B9-4657-941E-993193CA9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C05D5-2A10-4811-B647-F28F5983B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0B0A2-E5DC-48FB-8582-FDDF532CF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671CD-7CB1-43AB-A745-996D0B855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A993F-98AF-455D-AE71-668B28C0B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2D23E-9DA4-4C89-956B-EFC0A1B1C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799EA-042B-4FB2-ABA6-B37927797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7120"/>
            <a:ext cx="9131400" cy="368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lvl="1" marL="917640" indent="-23652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lvl="2" marL="1260360" indent="-228600">
              <a:spcBef>
                <a:spcPts val="550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lvl="3" marL="1603440" indent="-22860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16BDF-6152-4094-AD7E-989F22898ECD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8001000" y="5562720"/>
            <a:ext cx="990720" cy="807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3352680"/>
            <a:ext cx="9142560" cy="3503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971800"/>
            <a:ext cx="9142560" cy="3808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EE1C5-9AEE-4E21-9985-54EDE623F7A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lvl="2" marL="914400" indent="117360" algn="ctr">
              <a:spcBef>
                <a:spcPts val="4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lvl="3" marL="1371600" indent="324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98360" y="1655640"/>
            <a:ext cx="8734680" cy="19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“</a:t>
            </a: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PRTRs in Action:  The Kiev Protocol on Pollutant Release and Transfer Registers and its relevance to SAICM”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23720" y="3738600"/>
            <a:ext cx="8234640" cy="23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66"/>
                </a:solidFill>
                <a:latin typeface="Arial"/>
              </a:rPr>
              <a:t>Michael Stanley-J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66"/>
                </a:solidFill>
                <a:latin typeface="Arial"/>
              </a:rPr>
              <a:t>Environmental Information Management Offic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66"/>
                </a:solidFill>
                <a:latin typeface="Arial"/>
              </a:rPr>
              <a:t>Environment, Housing and Land Management Divis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66"/>
                </a:solidFill>
                <a:latin typeface="Arial"/>
              </a:rPr>
              <a:t>United Nations Economic Commission for Europ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 Unicode MS"/>
              </a:rPr>
              <a:t>PRTRs in Action, Side event to the Central and Eastern Europe Regional Meeting on the Strategic Approach to International Chemicals Management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 Unicode MS"/>
              </a:rPr>
              <a:t>4-6 December 2006,</a:t>
            </a:r>
            <a:r>
              <a:rPr b="1" lang="cs-CZ" sz="1600" spc="-1" strike="noStrike">
                <a:solidFill>
                  <a:srgbClr val="ffff66"/>
                </a:solidFill>
                <a:latin typeface="Arial Unicode MS"/>
              </a:rPr>
              <a:t> </a:t>
            </a:r>
            <a:r>
              <a:rPr b="1" lang="en-US" sz="1600" spc="-1" strike="noStrike">
                <a:solidFill>
                  <a:srgbClr val="ffff66"/>
                </a:solidFill>
                <a:latin typeface="Arial Unicode MS"/>
              </a:rPr>
              <a:t>Riga, Latv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38560" y="30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772080" y="214200"/>
            <a:ext cx="1600200" cy="130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576440" y="1531800"/>
            <a:ext cx="8262720" cy="55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Facilities and pollutants cove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General obligations placed on Par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Obligations placed on owners / opera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Elements of repor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Quality assessment and valid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Future step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an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Possible applications (not requir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11400" y="534960"/>
            <a:ext cx="707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66"/>
                </a:solidFill>
                <a:latin typeface="Arial"/>
              </a:rPr>
              <a:t>Requirements of Protocol on PRTR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BECA7-9E98-4830-A75B-3BAC6D83316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Facilities covered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03480" y="1616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Facilities covered (annex I) include: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Thermal power stations and refineries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Mining and metallurgical industries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Chemical plants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Waste and waste-water management plants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Paper and timber industries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Intensive livestock production and aquaculture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Food and beverage production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Textiles, Tanneries, Shipbuilding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0E1CF-B0EF-4144-A5E7-98B7A31B052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Pollutants covered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Pollutants covered (annex II) include:</a:t>
            </a:r>
            <a:endParaRPr b="1" lang="en-US" sz="1800" spc="-1" strike="noStrike">
              <a:solidFill>
                <a:srgbClr val="ffff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Greenhouse gases</a:t>
            </a:r>
            <a:endParaRPr b="1" lang="en-US" sz="1800" spc="-1" strike="noStrike">
              <a:solidFill>
                <a:srgbClr val="ffff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Acid rain pollutants</a:t>
            </a:r>
            <a:endParaRPr b="1" lang="en-US" sz="1800" spc="-1" strike="noStrike">
              <a:solidFill>
                <a:srgbClr val="ffff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Ozone-depleting substances</a:t>
            </a:r>
            <a:endParaRPr b="1" lang="en-US" sz="1800" spc="-1" strike="noStrike">
              <a:solidFill>
                <a:srgbClr val="ffff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Heavy metals</a:t>
            </a:r>
            <a:endParaRPr b="1" lang="en-US" sz="1800" spc="-1" strike="noStrike">
              <a:solidFill>
                <a:srgbClr val="ffff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Certain carcinogens, such as dioxins</a:t>
            </a:r>
            <a:endParaRPr b="1" lang="en-US" sz="1800" spc="-1" strike="noStrike">
              <a:solidFill>
                <a:srgbClr val="ffff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TOTAL:  86 pollutants</a:t>
            </a:r>
            <a:endParaRPr b="1" lang="en-US" sz="1800" spc="-1" strike="noStrike">
              <a:solidFill>
                <a:srgbClr val="ffff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N.B. National registers may include additional facilities and substances, e.g. European Union includes 91 individual substances or groups of substances</a:t>
            </a:r>
            <a:endParaRPr b="1" lang="en-US" sz="1800" spc="-1" strike="noStrike">
              <a:solidFill>
                <a:srgbClr val="ffff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70FF2-6B17-4969-AB4C-05AD0579327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23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Government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112400" y="1360080"/>
            <a:ext cx="6905880" cy="384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spcBef>
                <a:spcPts val="55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Chooses among various technical options for     the design of a central, publicly accessibly register to determine the institutional framework required for ensuring a coordinated system of information flow to it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Sets forth the rights and responsibilities of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various key players, e.g.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lvl="1" marL="457200" indent="2239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the obligation of pollutant-emitting </a:t>
            </a:r>
            <a:r>
              <a:rPr b="1" lang="en-US" sz="2000" spc="-1" strike="noStrike" u="sng">
                <a:solidFill>
                  <a:srgbClr val="ffff66"/>
                </a:solidFill>
                <a:uFillTx/>
                <a:latin typeface="Arial"/>
              </a:rPr>
              <a:t>facilities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to report, and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lvl="1" marL="457200" indent="2239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the right of the </a:t>
            </a:r>
            <a:r>
              <a:rPr b="1" lang="en-US" sz="2000" spc="-1" strike="noStrike" u="sng">
                <a:solidFill>
                  <a:srgbClr val="ffff66"/>
                </a:solidFill>
                <a:uFillTx/>
                <a:latin typeface="Arial"/>
              </a:rPr>
              <a:t>general public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to participate in decisions concerning PRTRs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506160" y="1450800"/>
            <a:ext cx="7465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1. Institution to manage the national PRTR system (art. 2, para. 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2. Structure for inter-agency coordin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3. Appropriate systems for enforcement (art. 3, para. 1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66"/>
                </a:solidFill>
                <a:uFillTx/>
                <a:latin typeface="Arial"/>
              </a:rPr>
              <a:t>Collection, validation and management of 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4. Collection of data submitted by owners or operators of report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facilities  (art. 7, paras. 2 and 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5. Assessment of the quality of the data collected in term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of </a:t>
            </a:r>
            <a:r>
              <a:rPr b="1" i="1" lang="en-US" sz="1800" spc="-1" strike="noStrike">
                <a:solidFill>
                  <a:srgbClr val="ffff66"/>
                </a:solidFill>
                <a:latin typeface="Arial"/>
              </a:rPr>
              <a:t>completeness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ffff66"/>
                </a:solidFill>
                <a:latin typeface="Arial"/>
              </a:rPr>
              <a:t>consistency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and </a:t>
            </a:r>
            <a:r>
              <a:rPr b="1" i="1" lang="en-US" sz="1800" spc="-1" strike="noStrike">
                <a:solidFill>
                  <a:srgbClr val="ffff66"/>
                </a:solidFill>
                <a:latin typeface="Arial"/>
              </a:rPr>
              <a:t>credibility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(art. 10, para. 2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6. Collection of information on releases from diffuse sour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(art. 7, para. 4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8. Development and management of a register comprising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a structured, computerized database able to maintain 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for 10 reporting years (art. 4, para. (j) and art. 5, para. 3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9. Dissemination of information and training (arts. 8, 11 and 15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40880" y="371520"/>
            <a:ext cx="75920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Elements explicitly set forth in the Protoco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or implicit in its requir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F37FC-13BC-4E00-8398-1B4E22938B8C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Basic obligation of operators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52360" y="1792440"/>
            <a:ext cx="24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69040" y="1555920"/>
            <a:ext cx="7637760" cy="46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66"/>
                </a:solidFill>
                <a:latin typeface="Arial"/>
              </a:rPr>
              <a:t>To submit the information specified with resp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66"/>
                </a:solidFill>
                <a:latin typeface="Arial"/>
              </a:rPr>
              <a:t>to those pollutants and waste for which threshold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66"/>
                </a:solidFill>
                <a:latin typeface="Arial"/>
              </a:rPr>
              <a:t>were exceed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Each Party decides with respect to a particular polluta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to apply either a release threshold or a manufacture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process or use (MPU) threshold will be us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Facility operators do not choose under which requir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(pollutant threshold or MPU) to repo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0E6C1-3CED-4DDD-A1C8-35618C1037B6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45600" y="133200"/>
            <a:ext cx="8338680" cy="71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66"/>
                </a:solidFill>
                <a:latin typeface="Arial"/>
              </a:rPr>
              <a:t>              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Reporting requirements of operators</a:t>
            </a:r>
            <a:r>
              <a:rPr b="1" i="1" lang="en-US" sz="20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                               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Article 7 - continued)</a:t>
            </a:r>
            <a:r>
              <a:rPr b="0" i="1" lang="en-US" sz="1800" spc="-1" strike="noStrike">
                <a:solidFill>
                  <a:srgbClr val="ffff66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Each Party shall require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owners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operators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of facilities specifie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in annex I wh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Release any pollutant specified in annex II in quantities exceed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applicable thresholds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Transfer off-site any pollutant in annex II in quantities exceed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applicable thresholds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Transfer off-site hazardous waste exceeding 2 tons per ye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or other waste exceeding 2,000 tons per year, where the Party ha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opted for waste-specific reporting (as in the European Unio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Transfer off-site any pollutant specified in annex II in waste wate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destined for waste-water treatment in quantities exceeding the applicabl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threshol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o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Undertake one or more activities specified in annex I at or abov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the employee threshold specified in annex I, 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Manufacture, process or uses any pollutant specified in annex I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6C806-EEA1-4CE1-9ABD-DD794047F529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984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Specific reporting elements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9920" y="1039680"/>
            <a:ext cx="7744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i="1" lang="en-US" sz="1800" spc="-1" strike="noStrike" u="sng">
                <a:solidFill>
                  <a:srgbClr val="ffff66"/>
                </a:solidFill>
                <a:uFillTx/>
                <a:latin typeface="Arial"/>
              </a:rPr>
              <a:t>Name</a:t>
            </a:r>
            <a:r>
              <a:rPr b="1" i="1" lang="en-US" sz="1800" spc="-1" strike="noStrike">
                <a:solidFill>
                  <a:srgbClr val="ffff66"/>
                </a:solidFill>
                <a:latin typeface="Arial"/>
              </a:rPr>
              <a:t>, </a:t>
            </a:r>
            <a:r>
              <a:rPr b="1" i="1" lang="en-US" sz="1800" spc="-1" strike="noStrike" u="sng">
                <a:solidFill>
                  <a:srgbClr val="ffff66"/>
                </a:solidFill>
                <a:uFillTx/>
                <a:latin typeface="Arial"/>
              </a:rPr>
              <a:t>street address</a:t>
            </a:r>
            <a:r>
              <a:rPr b="1" i="1" lang="en-US" sz="1800" spc="-1" strike="noStrike">
                <a:solidFill>
                  <a:srgbClr val="ffff66"/>
                </a:solidFill>
                <a:latin typeface="Arial"/>
              </a:rPr>
              <a:t>, </a:t>
            </a:r>
            <a:r>
              <a:rPr b="1" i="1" lang="en-US" sz="1800" spc="-1" strike="noStrike" u="sng">
                <a:solidFill>
                  <a:srgbClr val="ffff66"/>
                </a:solidFill>
                <a:uFillTx/>
                <a:latin typeface="Arial"/>
              </a:rPr>
              <a:t>geographical location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and </a:t>
            </a:r>
            <a:r>
              <a:rPr b="1" i="1" lang="en-US" sz="1800" spc="-1" strike="noStrike" u="sng">
                <a:solidFill>
                  <a:srgbClr val="ffff66"/>
                </a:solidFill>
                <a:uFillTx/>
                <a:latin typeface="Arial"/>
              </a:rPr>
              <a:t>activities</a:t>
            </a:r>
            <a:r>
              <a:rPr b="1" i="1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of the reporting facil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66"/>
                </a:solidFill>
                <a:latin typeface="Arial"/>
              </a:rPr>
              <a:t>Name of the </a:t>
            </a:r>
            <a:r>
              <a:rPr b="1" i="1" lang="en-US" sz="1800" spc="-1" strike="noStrike" u="sng">
                <a:solidFill>
                  <a:srgbClr val="ffff66"/>
                </a:solidFill>
                <a:uFillTx/>
                <a:latin typeface="Arial"/>
              </a:rPr>
              <a:t>owner or operator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and, as appropriate, </a:t>
            </a:r>
            <a:r>
              <a:rPr b="1" i="1" lang="en-US" sz="1800" spc="-1" strike="noStrike">
                <a:solidFill>
                  <a:srgbClr val="ffff66"/>
                </a:solidFill>
                <a:latin typeface="Arial"/>
              </a:rPr>
              <a:t>compan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i="1" lang="en-US" sz="1800" spc="-1" strike="noStrike" u="sng">
                <a:solidFill>
                  <a:srgbClr val="ffff66"/>
                </a:solidFill>
                <a:uFillTx/>
                <a:latin typeface="Arial"/>
              </a:rPr>
              <a:t>Nam</a:t>
            </a:r>
            <a:r>
              <a:rPr b="1" lang="en-US" sz="1800" spc="-1" strike="noStrike" u="sng">
                <a:solidFill>
                  <a:srgbClr val="ffff66"/>
                </a:solidFill>
                <a:uFillTx/>
                <a:latin typeface="Arial"/>
              </a:rPr>
              <a:t>e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and </a:t>
            </a:r>
            <a:r>
              <a:rPr b="1" i="1" lang="en-US" sz="1800" spc="-1" strike="noStrike" u="sng">
                <a:solidFill>
                  <a:srgbClr val="ffff66"/>
                </a:solidFill>
                <a:uFillTx/>
                <a:latin typeface="Arial"/>
              </a:rPr>
              <a:t>numerical identifier</a:t>
            </a:r>
            <a:r>
              <a:rPr b="1" lang="en-US" sz="1800" spc="-1" strike="noStrike" u="sng">
                <a:solidFill>
                  <a:srgbClr val="ffff66"/>
                </a:solidFill>
                <a:uFillTx/>
                <a:latin typeface="Arial"/>
              </a:rPr>
              <a:t> </a:t>
            </a:r>
            <a:r>
              <a:rPr b="1" i="1" lang="en-US" sz="1800" spc="-1" strike="noStrike" u="sng">
                <a:solidFill>
                  <a:srgbClr val="ffff66"/>
                </a:solidFill>
                <a:uFillTx/>
                <a:latin typeface="Arial"/>
              </a:rPr>
              <a:t>of</a:t>
            </a:r>
            <a:r>
              <a:rPr b="1" lang="en-US" sz="1800" spc="-1" strike="noStrike" u="sng">
                <a:solidFill>
                  <a:srgbClr val="ffff66"/>
                </a:solidFill>
                <a:uFillTx/>
                <a:latin typeface="Arial"/>
              </a:rPr>
              <a:t>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each specified </a:t>
            </a:r>
            <a:r>
              <a:rPr b="1" i="1" lang="en-US" sz="1800" spc="-1" strike="noStrike" u="sng">
                <a:solidFill>
                  <a:srgbClr val="ffff66"/>
                </a:solidFill>
                <a:uFillTx/>
                <a:latin typeface="Arial"/>
              </a:rPr>
              <a:t>polluta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i="1" lang="en-US" sz="1800" spc="-1" strike="noStrike" u="sng">
                <a:solidFill>
                  <a:srgbClr val="ffff66"/>
                </a:solidFill>
                <a:uFillTx/>
                <a:latin typeface="Arial"/>
              </a:rPr>
              <a:t>Amount </a:t>
            </a:r>
            <a:r>
              <a:rPr b="1" i="1" lang="en-US" sz="1800" spc="-1" strike="noStrike">
                <a:solidFill>
                  <a:srgbClr val="ffff66"/>
                </a:solidFill>
                <a:latin typeface="Arial"/>
              </a:rPr>
              <a:t>of each specified pollutant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released to the environment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both in aggregate and according to whether release is to air, t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water, or to land, including underground inje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eith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i="1" lang="en-US" sz="1800" spc="-1" strike="noStrike" u="sng">
                <a:solidFill>
                  <a:srgbClr val="ffff66"/>
                </a:solidFill>
                <a:uFillTx/>
                <a:latin typeface="Arial"/>
              </a:rPr>
              <a:t>amount</a:t>
            </a:r>
            <a:r>
              <a:rPr b="1" lang="en-US" sz="1800" spc="-1" strike="noStrike" u="sng">
                <a:solidFill>
                  <a:srgbClr val="ffff66"/>
                </a:solidFill>
                <a:uFillTx/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66"/>
                </a:solidFill>
                <a:latin typeface="Arial"/>
              </a:rPr>
              <a:t>of each pollutant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i="1" lang="en-US" sz="1800" spc="-1" strike="noStrike" u="sng">
                <a:solidFill>
                  <a:srgbClr val="ffff66"/>
                </a:solidFill>
                <a:uFillTx/>
                <a:latin typeface="Arial"/>
              </a:rPr>
              <a:t>transferred off-site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in the reporting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year, distinguishing between amounts for disposal and for recovery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an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i="1" lang="en-US" sz="1800" spc="-1" strike="noStrike" u="sng">
                <a:solidFill>
                  <a:srgbClr val="ffff66"/>
                </a:solidFill>
                <a:uFillTx/>
                <a:latin typeface="Arial"/>
              </a:rPr>
              <a:t>name and address of facility receiving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the transfer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i="1" lang="en-US" sz="1800" spc="-1" strike="noStrike" u="sng">
                <a:solidFill>
                  <a:srgbClr val="ffff66"/>
                </a:solidFill>
                <a:uFillTx/>
                <a:latin typeface="Arial"/>
              </a:rPr>
              <a:t>amount of waste transferred off-site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, distinguishing betwee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hazardous waste and other waste, for any operations, indicat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whether waste is destined for recovery or dispos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and for </a:t>
            </a:r>
            <a:r>
              <a:rPr b="1" i="1" lang="en-US" sz="1800" spc="-1" strike="noStrike" u="sng">
                <a:solidFill>
                  <a:srgbClr val="ffff66"/>
                </a:solidFill>
                <a:uFillTx/>
                <a:latin typeface="Arial"/>
              </a:rPr>
              <a:t>transboundary movements of hazardous waste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name and </a:t>
            </a:r>
            <a:r>
              <a:rPr b="1" i="1" lang="en-US" sz="1800" spc="-1" strike="noStrike" u="sng">
                <a:solidFill>
                  <a:srgbClr val="ffff66"/>
                </a:solidFill>
                <a:uFillTx/>
                <a:latin typeface="Arial"/>
              </a:rPr>
              <a:t>address of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the </a:t>
            </a:r>
            <a:r>
              <a:rPr b="1" i="1" lang="en-US" sz="1800" spc="-1" strike="noStrike" u="sng">
                <a:solidFill>
                  <a:srgbClr val="ffff66"/>
                </a:solidFill>
                <a:uFillTx/>
                <a:latin typeface="Arial"/>
              </a:rPr>
              <a:t>recoverer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or </a:t>
            </a:r>
            <a:r>
              <a:rPr b="1" i="1" lang="en-US" sz="1800" spc="-1" strike="noStrike" u="sng">
                <a:solidFill>
                  <a:srgbClr val="ffff66"/>
                </a:solidFill>
                <a:uFillTx/>
                <a:latin typeface="Arial"/>
              </a:rPr>
              <a:t>disposer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actual </a:t>
            </a:r>
            <a:r>
              <a:rPr b="1" i="1" lang="en-US" sz="1800" spc="-1" strike="noStrike" u="sng">
                <a:solidFill>
                  <a:srgbClr val="ffff66"/>
                </a:solidFill>
                <a:uFillTx/>
                <a:latin typeface="Arial"/>
              </a:rPr>
              <a:t>site receiving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the transf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0FD3A-174C-4045-83C7-CBF84404FE24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Reporting elements</a:t>
            </a:r>
            <a:br>
              <a:rPr sz="2800"/>
            </a:b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(continued)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89800" y="1459080"/>
            <a:ext cx="78598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Amount of each specified </a:t>
            </a:r>
            <a:r>
              <a:rPr b="1" i="1" lang="en-US" sz="1800" spc="-1" strike="noStrike" u="sng">
                <a:solidFill>
                  <a:srgbClr val="ffff66"/>
                </a:solidFill>
                <a:uFillTx/>
                <a:latin typeface="Arial"/>
              </a:rPr>
              <a:t>pollutant in waste water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transferred off-si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Type of </a:t>
            </a:r>
            <a:r>
              <a:rPr b="1" i="1" lang="en-US" sz="1800" spc="-1" strike="noStrike" u="sng">
                <a:solidFill>
                  <a:srgbClr val="ffff66"/>
                </a:solidFill>
                <a:uFillTx/>
                <a:latin typeface="Arial"/>
              </a:rPr>
              <a:t>methodology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used to derive information on amounts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indicating whether based on measurement, calculation or estim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(M, C, 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Information to include releases and transfers from routine and from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extraordinary ev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Owners or operators to be required to collect releases and transfer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data needed “with appropriate frequency”, and 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Records of the data from which the reported information was deriv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must be kept available for the competent authorities for 5 years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including description of M, C or 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3FF3F-F9D4-4C01-BF51-FFEB18E82F8D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Quality assessment </a:t>
            </a:r>
            <a:br>
              <a:rPr sz="2800"/>
            </a:b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(Article 10)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7360" y="1684440"/>
            <a:ext cx="8410320" cy="40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Owners or operators are to assure the quality of the informa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they repo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Quality assessment of data duty of the Parties, in particular as to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            </a:t>
            </a:r>
            <a:r>
              <a:rPr b="1" i="1" lang="en-US" sz="2400" spc="-1" strike="noStrike">
                <a:solidFill>
                  <a:srgbClr val="ffff66"/>
                </a:solidFill>
                <a:latin typeface="Arial"/>
              </a:rPr>
              <a:t>completeness – consistency – credib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taking into account guidelines developed by the MO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66"/>
                </a:solidFill>
                <a:latin typeface="Arial"/>
              </a:rPr>
              <a:t>Draft </a:t>
            </a:r>
            <a:r>
              <a:rPr b="1" i="1" lang="en-US" sz="2000" spc="-1" strike="noStrike" u="sng">
                <a:solidFill>
                  <a:srgbClr val="ffff66"/>
                </a:solidFill>
                <a:uFillTx/>
                <a:latin typeface="Arial"/>
              </a:rPr>
              <a:t>Guidance to implementation of the Protocol on PRT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Penultimate version released 31 July 2006 available 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web sites of  UNECE Working Group on PRTRs and WGE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5590C-DF8E-478F-85A5-6394F17ADAD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I.  The role of PRTRs in SAICM Global Plan of Action and Overarching Policy Strategy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II.  Introduction to the Kiev Protocol on PRTRs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III. Tools for promoting international coordination of PRTR capacity building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IV.  Some applications to Multilateral Environmental Agreements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B17F7-387F-4958-8D95-6B2EE68D9D75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‘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Best Available Information’ (BAI) standard</a:t>
            </a:r>
            <a:br>
              <a:rPr sz="2800"/>
            </a:b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(article 9, para. 2)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91040" y="1822320"/>
            <a:ext cx="81680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Owners or operators of facilities required to ensure the qualit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of information they report and to use “best available information”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Best available information’ may includ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963720"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monitoring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963720"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emission factor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963720"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mass bal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963720"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equation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963720"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indirect monitoring or other calcul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963720"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engineering judgments, and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963720"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other metho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963720"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9637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Nb. EU adopting more stringent guidance on BA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9637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66AAF-2721-403E-B4BB-0C5629C80C48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Quality assurance and control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3480" y="1593720"/>
            <a:ext cx="8353440" cy="47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Calibration and maintenance of the monitoring syste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Use of recognized quality management system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Periodic checks by an external accredited laborator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Certification of instruments and personnel und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recognized certification sche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     </a:t>
            </a:r>
            <a:r>
              <a:rPr b="1" i="1" lang="en-US" sz="2000" spc="-1" strike="noStrike">
                <a:solidFill>
                  <a:srgbClr val="ffff66"/>
                </a:solidFill>
                <a:latin typeface="Arial"/>
              </a:rPr>
              <a:t>Elements for guidelines on strengthening environmenta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66"/>
                </a:solidFill>
                <a:latin typeface="Arial"/>
              </a:rPr>
              <a:t>       </a:t>
            </a:r>
            <a:r>
              <a:rPr b="1" i="1" lang="en-US" sz="2000" spc="-1" strike="noStrike">
                <a:solidFill>
                  <a:srgbClr val="ffff66"/>
                </a:solidFill>
                <a:latin typeface="Arial"/>
              </a:rPr>
              <a:t>monitoring and reporting by enterprises,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para 36 (i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(ECE/CEP/AC.10/2006/4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986CF-644E-4829-BBB5-44C3AD7902D3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Validation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1920" y="1284120"/>
            <a:ext cx="8521200" cy="49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Where appropriate, validation should be done in accor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with </a:t>
            </a:r>
            <a:r>
              <a:rPr b="1" lang="en-US" sz="2400" spc="-1" strike="noStrike" u="sng">
                <a:solidFill>
                  <a:srgbClr val="ffff66"/>
                </a:solidFill>
                <a:uFillTx/>
                <a:latin typeface="Arial"/>
              </a:rPr>
              <a:t>internationally approved methodologi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e.g. ISO, European Committee for Standardization (CE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ff66"/>
                </a:solidFill>
                <a:latin typeface="Arial"/>
              </a:rPr>
              <a:t>However, in some cases, national or sector methodologi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ff66"/>
                </a:solidFill>
                <a:latin typeface="Arial"/>
              </a:rPr>
              <a:t>may be superior to Internationally-approved ones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ff66"/>
                </a:solidFill>
                <a:latin typeface="Arial"/>
              </a:rPr>
              <a:t>or such approval may be pending (“HOT ISSUE”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Validation of data may be more easily achievable if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2000" spc="-1" strike="noStrike" u="sng">
                <a:solidFill>
                  <a:srgbClr val="ffff66"/>
                </a:solidFill>
                <a:uFillTx/>
                <a:latin typeface="Arial"/>
              </a:rPr>
              <a:t>responsibility is delegated to local or regional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ff66"/>
                </a:solidFill>
                <a:uFillTx/>
                <a:latin typeface="Arial"/>
              </a:rPr>
              <a:t>authorities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or to the regional or local offices of national authorities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since they will be </a:t>
            </a:r>
            <a:r>
              <a:rPr b="1" lang="en-US" sz="2000" spc="-1" strike="noStrike" u="sng">
                <a:solidFill>
                  <a:srgbClr val="ffff66"/>
                </a:solidFill>
                <a:uFillTx/>
                <a:latin typeface="Arial"/>
              </a:rPr>
              <a:t>closer to the operators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and are more like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to have an overview of their activi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ff66"/>
                </a:solidFill>
                <a:latin typeface="Arial"/>
              </a:rPr>
              <a:t>Guidance on validation is evolving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3950D-3A41-46BD-BD05-6F9EC9F1E843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12800" y="366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Next steps for Protocol’s </a:t>
            </a:r>
            <a:br>
              <a:rPr sz="2800"/>
            </a:b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future implementation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0760" y="1834920"/>
            <a:ext cx="86040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Setting up the Protocol’s institutional architecture: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66"/>
              </a:solidFill>
              <a:latin typeface="Arial"/>
            </a:endParaRPr>
          </a:p>
          <a:p>
            <a:pPr lvl="1" marL="917640" indent="-23652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rules of procedure and compliance review mechanism </a:t>
            </a:r>
            <a:endParaRPr b="1" lang="en-US" sz="1800" spc="-1" strike="noStrike">
              <a:solidFill>
                <a:srgbClr val="ffff66"/>
              </a:solidFill>
              <a:latin typeface="Arial"/>
            </a:endParaRPr>
          </a:p>
          <a:p>
            <a:pPr lvl="1" marL="917640" indent="-23652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financial arrangements</a:t>
            </a:r>
            <a:endParaRPr b="1" lang="en-US" sz="1800" spc="-1" strike="noStrike">
              <a:solidFill>
                <a:srgbClr val="ffff66"/>
              </a:solidFill>
              <a:latin typeface="Arial"/>
            </a:endParaRPr>
          </a:p>
          <a:p>
            <a:pPr lvl="1" marL="917640" indent="-23652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technical assistance mechanism,</a:t>
            </a:r>
            <a:endParaRPr b="1" lang="en-US" sz="1800" spc="-1" strike="noStrike">
              <a:solidFill>
                <a:srgbClr val="ffff66"/>
              </a:solidFill>
              <a:latin typeface="Arial"/>
            </a:endParaRPr>
          </a:p>
          <a:p>
            <a:pPr lvl="1" marL="917640" indent="-23652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international cooperation and reporting </a:t>
            </a:r>
            <a:endParaRPr b="1" lang="en-US" sz="1800" spc="-1" strike="noStrike">
              <a:solidFill>
                <a:srgbClr val="ffff66"/>
              </a:solidFill>
              <a:latin typeface="Arial"/>
            </a:endParaRPr>
          </a:p>
          <a:p>
            <a:pPr lvl="2" marL="1260360" indent="-228600">
              <a:lnSpc>
                <a:spcPct val="90000"/>
              </a:lnSpc>
              <a:spcBef>
                <a:spcPts val="1125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International PRTR Coordinating Group </a:t>
            </a:r>
            <a:endParaRPr b="1" lang="en-US" sz="1800" spc="-1" strike="noStrike">
              <a:solidFill>
                <a:srgbClr val="ffff66"/>
              </a:solidFill>
              <a:latin typeface="Arial"/>
            </a:endParaRPr>
          </a:p>
          <a:p>
            <a:pPr lvl="2" marL="1260360" indent="-228600">
              <a:lnSpc>
                <a:spcPct val="90000"/>
              </a:lnSpc>
              <a:spcBef>
                <a:spcPts val="1125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SAICM / ICCM etc</a:t>
            </a:r>
            <a:endParaRPr b="1" lang="en-US" sz="1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Completion of technical guidance on implementation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Further guidance on dissemination of PRTR information   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or data users’ guide suggested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FA090-AECB-43FD-A3BA-BCCFA95C13B2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Possible future applications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Pan-European Environment and Health Information System (Environment-for-Europe Ministerial Conference / WHO Europe)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Commercial property management information systems (“due diligence” research, e.g. Environment Agency of England and Wales)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Integration into Global Reporting Initiative, Socially Responsible Investment (SRI</a:t>
            </a:r>
            <a:r>
              <a:rPr b="1" i="1" lang="en-US" sz="2200" spc="-1" strike="noStrike">
                <a:solidFill>
                  <a:srgbClr val="ffff66"/>
                </a:solidFill>
                <a:latin typeface="Arial"/>
              </a:rPr>
              <a:t>), </a:t>
            </a: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and evolving ISO standards and OECD guidelines 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SAICM national performance tracking under ICCM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Convergence of regional PRTR systems (North American </a:t>
            </a:r>
            <a:r>
              <a:rPr b="1" i="1" lang="en-US" sz="2200" spc="-1" strike="noStrike">
                <a:solidFill>
                  <a:srgbClr val="ffff66"/>
                </a:solidFill>
                <a:latin typeface="Arial"/>
              </a:rPr>
              <a:t>Taking Stock</a:t>
            </a: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, European PRTR, East Asia?)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DC07F-5AB2-4698-90B1-148EA9132FC1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PRTR success story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“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For the 10-year period from 1988 to 1997, atmospheric emissions of some 260 known carcinogens and reproductive toxins from  the United States </a:t>
            </a:r>
            <a:r>
              <a:rPr b="1" i="1" lang="en-US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Toxics Release Inventory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reporting facilities have been reduced by approximately 85% in the </a:t>
            </a:r>
            <a:r>
              <a:rPr b="1" lang="en-US" sz="2000" spc="-1" strike="noStrike" u="sng">
                <a:solidFill>
                  <a:srgbClr val="ffff66"/>
                </a:solidFill>
                <a:uFillTx/>
                <a:latin typeface="Arial"/>
                <a:ea typeface="Times New Roman"/>
              </a:rPr>
              <a:t>State of California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, and by some 42% in the rest of the country (</a:t>
            </a:r>
            <a:r>
              <a:rPr b="1" i="1" lang="en-US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i.e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., for all chemicals listed in California as known to cause either cancer or reproductive toxicity </a:t>
            </a:r>
            <a:r>
              <a:rPr b="1" i="1" lang="en-US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reported as air emissions under </a:t>
            </a:r>
            <a:r>
              <a:rPr b="1" i="1" lang="en-US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TRI</a:t>
            </a:r>
            <a:r>
              <a:rPr b="1" lang="en-GB" sz="2000" spc="-1" strike="noStrike">
                <a:solidFill>
                  <a:srgbClr val="ffff66"/>
                </a:solidFill>
                <a:latin typeface="Arial"/>
              </a:rPr>
              <a:t> ).”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66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66"/>
                </a:solidFill>
                <a:latin typeface="Arial"/>
              </a:rPr>
              <a:t>From P. Sand (2002)</a:t>
            </a:r>
            <a:endParaRPr b="1" lang="en-US" sz="1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18790-998B-46D2-8544-99E87B32E07B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33240" y="2209680"/>
            <a:ext cx="80600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66"/>
                </a:solidFill>
                <a:latin typeface="Arial"/>
              </a:rPr>
              <a:t>MORE INFORMATION AVAILABLE ON THE AARHUS CONVENTION WEBSIT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66"/>
                </a:solidFill>
                <a:latin typeface="Arial"/>
              </a:rPr>
              <a:t>http://www.unece.org/env/pp/pr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arhus Clearinghou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66"/>
                </a:solidFill>
                <a:latin typeface="Arial"/>
              </a:rPr>
              <a:t>http://aarhusclearinghouse.unece.or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60440" y="477720"/>
            <a:ext cx="1581120" cy="1482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4E32D-A745-4FFB-B83D-B13535C2534E}" type="slidenum">
              <a:t>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PRTRs in SAICM Global Plan of Action and Overarching Policy Strategy</a:t>
            </a:r>
            <a:br>
              <a:rPr sz="2800"/>
            </a:b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Cooperative action on global priorities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lvl="1" marL="917640" indent="-2365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Encouraging implementation of existing internationally recognized standards, tools and approaches, such as GHS and PRTRs (Executive summary, para. 8 (c))</a:t>
            </a:r>
            <a:endParaRPr b="1" lang="en-US" sz="1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Activities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lvl="1" marL="917640" indent="-2365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Knowledge and information</a:t>
            </a:r>
            <a:endParaRPr b="1" lang="en-US" sz="1800" spc="-1" strike="noStrike">
              <a:solidFill>
                <a:srgbClr val="ffff66"/>
              </a:solidFill>
              <a:latin typeface="Arial"/>
            </a:endParaRPr>
          </a:p>
          <a:p>
            <a:pPr lvl="2" marL="1260360" indent="-228600">
              <a:spcBef>
                <a:spcPts val="451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124. Develop a national PRTR/emission inventory design process involving affected and interested parties</a:t>
            </a:r>
            <a:endParaRPr b="1" lang="en-US" sz="1800" spc="-1" strike="noStrike">
              <a:solidFill>
                <a:srgbClr val="ffff66"/>
              </a:solidFill>
              <a:latin typeface="Arial"/>
            </a:endParaRPr>
          </a:p>
          <a:p>
            <a:pPr lvl="2" marL="1260360" indent="-228600">
              <a:spcBef>
                <a:spcPts val="451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125. Use PRTRs tailored to variable national conditions as a source of valuable environmental information for industry, Governments and the public and as mechanisms to stimulate reductions in emissions</a:t>
            </a:r>
            <a:endParaRPr b="1" lang="en-US" sz="1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B567F-2A9C-41F1-8D07-310FA266CE3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PRTRs in SAICM 2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917640" indent="-236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Governance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lvl="2" marL="1260360" indent="-228600">
              <a:spcBef>
                <a:spcPts val="4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177. Establish the required framework for creating national PRTRs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lvl="2" marL="1260360" indent="-228600">
              <a:spcBef>
                <a:spcPts val="4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178. Promote a political consensus in in favour of public access to national environmental information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lvl="2" marL="1260360" indent="-228600">
              <a:spcBef>
                <a:spcPts val="4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178. Manage information dissemination from PRTRs so that risks are communicated in a timely and accurate fashion without unduly alarming the public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lvl="2" marL="1260360" indent="-228600">
              <a:spcBef>
                <a:spcPts val="4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192. Promote within the industrial sector the adoption of PRTRs and cleaner production methods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6A535-8003-4B2F-B739-7975DC8BA25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PRTRs in SAICM 3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917640" indent="-236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Capacity-building and technical cooperation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lvl="2" marL="1260360" indent="-228600">
              <a:spcBef>
                <a:spcPts val="4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222. Strengthen mechanisms for reporting and consolidating information necessary to produce baseline overviews that will help determine domestic management priorities and gaps (e.g., PRTRs and inventories)…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lvl="2" marL="12603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5BAEC-3B86-4392-9094-9BDE4BF6F09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66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ffff66"/>
                </a:solidFill>
                <a:latin typeface="Arial"/>
              </a:rPr>
              <a:t>UNECE Convention on Access to Information, Public Participation in Decision-making and Access to Justice in Environmental Matters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66"/>
                </a:solidFill>
                <a:latin typeface="Arial"/>
              </a:rPr>
              <a:t>25 June </a:t>
            </a:r>
            <a:r>
              <a:rPr b="1" lang="fr-CH" sz="1800" spc="-1" strike="noStrike">
                <a:solidFill>
                  <a:srgbClr val="ffff66"/>
                </a:solidFill>
                <a:latin typeface="Arial"/>
              </a:rPr>
              <a:t>1998 - </a:t>
            </a:r>
            <a:r>
              <a:rPr b="0" lang="en-GB" sz="2000" spc="-1" strike="noStrike">
                <a:solidFill>
                  <a:srgbClr val="ffff66"/>
                </a:solidFill>
                <a:latin typeface="Arial"/>
              </a:rPr>
              <a:t>Adoption of the Convention at the 4</a:t>
            </a:r>
            <a:r>
              <a:rPr b="0" lang="en-GB" sz="2000" spc="-1" strike="noStrike" baseline="30000">
                <a:solidFill>
                  <a:srgbClr val="ffff66"/>
                </a:solidFill>
                <a:latin typeface="Arial"/>
              </a:rPr>
              <a:t>th</a:t>
            </a:r>
            <a:r>
              <a:rPr b="0" lang="en-GB" sz="2000" spc="-1" strike="noStrike">
                <a:solidFill>
                  <a:srgbClr val="ffff66"/>
                </a:solidFill>
                <a:latin typeface="Arial"/>
              </a:rPr>
              <a:t> Ministerial “Environment for Europe” Conference, Aarhus, Denmark. Signed by 39 countries and the </a:t>
            </a:r>
            <a:r>
              <a:rPr b="0" lang="fr-CH" sz="2000" spc="-1" strike="noStrike">
                <a:solidFill>
                  <a:srgbClr val="ffff66"/>
                </a:solidFill>
                <a:latin typeface="Arial"/>
              </a:rPr>
              <a:t>E</a:t>
            </a:r>
            <a:r>
              <a:rPr b="0" lang="en-GB" sz="2000" spc="-1" strike="noStrike">
                <a:solidFill>
                  <a:srgbClr val="ffff66"/>
                </a:solidFill>
                <a:latin typeface="Arial"/>
              </a:rPr>
              <a:t>uropean Community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66"/>
                </a:solidFill>
                <a:latin typeface="Arial"/>
              </a:rPr>
              <a:t>30 Oct </a:t>
            </a:r>
            <a:r>
              <a:rPr b="1" lang="fr-CH" sz="1800" spc="-1" strike="noStrike">
                <a:solidFill>
                  <a:srgbClr val="ffff66"/>
                </a:solidFill>
                <a:latin typeface="Arial"/>
              </a:rPr>
              <a:t>20</a:t>
            </a:r>
            <a:r>
              <a:rPr b="1" lang="en-GB" sz="1800" spc="-1" strike="noStrike">
                <a:solidFill>
                  <a:srgbClr val="ffff66"/>
                </a:solidFill>
                <a:latin typeface="Arial"/>
              </a:rPr>
              <a:t>01- </a:t>
            </a:r>
            <a:r>
              <a:rPr b="0" lang="en-GB" sz="2000" spc="-1" strike="noStrike">
                <a:solidFill>
                  <a:srgbClr val="ffff66"/>
                </a:solidFill>
                <a:latin typeface="Arial"/>
              </a:rPr>
              <a:t>Entry into force of the Convention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21 May 2003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 -  Adoption of the </a:t>
            </a:r>
            <a:r>
              <a:rPr b="0" i="1" lang="en-US" sz="2000" spc="-1" strike="noStrike" u="sng">
                <a:solidFill>
                  <a:srgbClr val="ffff66"/>
                </a:solidFill>
                <a:uFillTx/>
                <a:latin typeface="Arial"/>
              </a:rPr>
              <a:t>Protocol on PRTRs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 at extra-ordinary    meeting of the Parties, within the framework of the </a:t>
            </a:r>
            <a:r>
              <a:rPr b="0" lang="en-GB" sz="2000" spc="-1" strike="noStrike">
                <a:solidFill>
                  <a:srgbClr val="ffff66"/>
                </a:solidFill>
                <a:latin typeface="Arial"/>
              </a:rPr>
              <a:t>5</a:t>
            </a:r>
            <a:r>
              <a:rPr b="0" lang="en-GB" sz="2000" spc="-1" strike="noStrike" baseline="30000">
                <a:solidFill>
                  <a:srgbClr val="ffff66"/>
                </a:solidFill>
                <a:latin typeface="Arial"/>
              </a:rPr>
              <a:t>th</a:t>
            </a:r>
            <a:r>
              <a:rPr b="0" lang="en-GB" sz="2000" spc="-1" strike="noStrike">
                <a:solidFill>
                  <a:srgbClr val="ffff66"/>
                </a:solidFill>
                <a:latin typeface="Arial"/>
              </a:rPr>
              <a:t> Ministerial “Environment for Europe” Conference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 (Kiev, Ukraine)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685440" y="285480"/>
            <a:ext cx="7837560" cy="184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ffff66"/>
                </a:solidFill>
                <a:latin typeface="Arial"/>
              </a:rPr>
              <a:t>From the Aarhus Convention</a:t>
            </a:r>
            <a:br>
              <a:rPr sz="2800"/>
            </a:br>
            <a:r>
              <a:rPr b="1" lang="en-GB" sz="2800" spc="-1" strike="noStrike">
                <a:solidFill>
                  <a:srgbClr val="ffff66"/>
                </a:solidFill>
                <a:latin typeface="Arial"/>
              </a:rPr>
              <a:t>to the Protocol on PRTRs</a:t>
            </a:r>
            <a:br>
              <a:rPr sz="2800"/>
            </a:b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D71FC-5364-43AC-A836-82431AF69CE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62080" y="190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ff66"/>
                </a:solidFill>
                <a:latin typeface="Arial"/>
              </a:rPr>
              <a:t>Status of Convention Ratifications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38160" y="1246320"/>
            <a:ext cx="2997360" cy="4432320"/>
          </a:xfrm>
          <a:prstGeom prst="rect">
            <a:avLst/>
          </a:prstGeom>
          <a:solidFill>
            <a:srgbClr val="0000cc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24240" y="1222200"/>
            <a:ext cx="2952720" cy="4395960"/>
          </a:xfrm>
          <a:prstGeom prst="rect">
            <a:avLst/>
          </a:prstGeom>
          <a:solidFill>
            <a:srgbClr val="0000cc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2000" y="1311120"/>
            <a:ext cx="2746440" cy="42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Albani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Armen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Aust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Azerbaija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Belaru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Belgiu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Bulga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Cypru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Czech Republi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Denmark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Eston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Finla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Former Yugoslav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Rep. of Macedoni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France</a:t>
            </a: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Georg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Gree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Hungar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Ital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Kazakhsta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321080" y="1235160"/>
            <a:ext cx="2644920" cy="43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66"/>
                </a:solidFill>
                <a:latin typeface="Arial"/>
              </a:rPr>
              <a:t>Kyrgyzsta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66"/>
                </a:solidFill>
                <a:latin typeface="Arial"/>
              </a:rPr>
              <a:t>Latvi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66"/>
                </a:solidFill>
                <a:latin typeface="Arial"/>
              </a:rPr>
              <a:t>Lithuan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66"/>
                </a:solidFill>
                <a:latin typeface="Arial"/>
              </a:rPr>
              <a:t>Luxembourg </a:t>
            </a:r>
            <a:r>
              <a:rPr b="1" lang="en-GB" sz="2000" spc="-1" strike="noStrike">
                <a:solidFill>
                  <a:srgbClr val="ffff66"/>
                </a:solidFill>
                <a:latin typeface="Arial"/>
                <a:ea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66"/>
                </a:solidFill>
                <a:latin typeface="Arial"/>
              </a:rPr>
              <a:t>Malt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66"/>
                </a:solidFill>
                <a:latin typeface="Arial"/>
              </a:rPr>
              <a:t>Moldova</a:t>
            </a:r>
            <a:r>
              <a:rPr b="1" lang="cs-CZ" sz="1600" spc="-1" strike="noStrike">
                <a:solidFill>
                  <a:srgbClr val="ffff66"/>
                </a:solidFill>
                <a:latin typeface="Arial"/>
              </a:rPr>
              <a:t>, Rep. o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66"/>
                </a:solidFill>
                <a:latin typeface="Arial"/>
              </a:rPr>
              <a:t>Netherland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66"/>
                </a:solidFill>
                <a:latin typeface="Arial"/>
              </a:rPr>
              <a:t>Norway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66"/>
                </a:solidFill>
                <a:latin typeface="Arial"/>
              </a:rPr>
              <a:t>Pola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66"/>
                </a:solidFill>
                <a:latin typeface="Arial"/>
              </a:rPr>
              <a:t>Portug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66"/>
                </a:solidFill>
                <a:latin typeface="Arial"/>
              </a:rPr>
              <a:t>Roman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66"/>
                </a:solidFill>
                <a:latin typeface="Arial"/>
              </a:rPr>
              <a:t>Slovak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66"/>
                </a:solidFill>
                <a:latin typeface="Arial"/>
              </a:rPr>
              <a:t>Sloven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66"/>
                </a:solidFill>
                <a:latin typeface="Arial"/>
              </a:rPr>
              <a:t>Spa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66"/>
                </a:solidFill>
                <a:latin typeface="Arial"/>
              </a:rPr>
              <a:t>Swed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66"/>
                </a:solidFill>
                <a:latin typeface="Arial"/>
              </a:rPr>
              <a:t>Tajikistan</a:t>
            </a:r>
            <a:r>
              <a:rPr b="0" lang="en-GB" sz="16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66"/>
                </a:solidFill>
                <a:latin typeface="Arial"/>
              </a:rPr>
              <a:t>Turkmenista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66"/>
                </a:solidFill>
                <a:latin typeface="Arial"/>
              </a:rPr>
              <a:t>Ukrai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66"/>
                </a:solidFill>
                <a:latin typeface="Arial"/>
              </a:rPr>
              <a:t>United Kingd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66"/>
                </a:solidFill>
                <a:latin typeface="Arial"/>
              </a:rPr>
              <a:t>European Community </a:t>
            </a:r>
            <a:r>
              <a:rPr b="1" lang="en-GB" sz="2000" spc="-1" strike="noStrike">
                <a:solidFill>
                  <a:srgbClr val="ffff66"/>
                </a:solidFill>
                <a:latin typeface="Arial"/>
                <a:ea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99880" y="5819760"/>
            <a:ext cx="8556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66"/>
                </a:solidFill>
                <a:latin typeface="Arial"/>
              </a:rPr>
              <a:t>Convention total = 39 Parties (PRTR </a:t>
            </a:r>
            <a:r>
              <a:rPr b="1" lang="cs-CZ" sz="1600" spc="-1" strike="noStrike">
                <a:solidFill>
                  <a:srgbClr val="ffff66"/>
                </a:solidFill>
                <a:latin typeface="Arial"/>
              </a:rPr>
              <a:t>Protocol</a:t>
            </a: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: </a:t>
            </a:r>
            <a:r>
              <a:rPr b="1" lang="en-GB" sz="1600" spc="-1" strike="noStrike">
                <a:solidFill>
                  <a:srgbClr val="ffff66"/>
                </a:solidFill>
                <a:latin typeface="Arial"/>
              </a:rPr>
              <a:t>37 Signatories, including Germany, Iceland, Ireland, Serbia &amp; Montenegro. Protocol Parties as 1 Sep 2006 indicated by </a:t>
            </a:r>
            <a:r>
              <a:rPr b="1" lang="en-GB" sz="1600" spc="-1" strike="noStrike">
                <a:solidFill>
                  <a:srgbClr val="ffff66"/>
                </a:solidFill>
                <a:latin typeface="Arial"/>
                <a:ea typeface="Arial"/>
              </a:rPr>
              <a:t>*</a:t>
            </a:r>
            <a:r>
              <a:rPr b="1" lang="en-GB" sz="1600" spc="-1" strike="noStrike">
                <a:solidFill>
                  <a:srgbClr val="ffff66"/>
                </a:solidFill>
                <a:latin typeface="Arial"/>
              </a:rPr>
              <a:t> 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DDC40-5BE7-4E15-838E-C335B63585D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GB" sz="2800" spc="-1" strike="noStrike">
                <a:solidFill>
                  <a:srgbClr val="ffff66"/>
                </a:solidFill>
                <a:latin typeface="Arial"/>
              </a:rPr>
              <a:t>Access to information provisions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12800" y="1461600"/>
            <a:ext cx="7920000" cy="436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66"/>
                </a:solidFill>
                <a:latin typeface="Arial"/>
              </a:rPr>
              <a:t>Selected features of Convention article 5 “</a:t>
            </a:r>
            <a:r>
              <a:rPr b="1" lang="en-GB" sz="1800" spc="-1" strike="noStrike" u="sng">
                <a:solidFill>
                  <a:srgbClr val="ffff66"/>
                </a:solidFill>
                <a:uFillTx/>
                <a:latin typeface="Arial"/>
              </a:rPr>
              <a:t>Active Dissemination</a:t>
            </a:r>
            <a:r>
              <a:rPr b="1" lang="en-GB" sz="1600" spc="-1" strike="noStrike">
                <a:solidFill>
                  <a:srgbClr val="ffff66"/>
                </a:solidFill>
                <a:latin typeface="Arial"/>
              </a:rPr>
              <a:t>”</a:t>
            </a:r>
            <a:r>
              <a:rPr b="1" lang="en-GB" sz="1600" spc="-1" strike="noStrike" u="sng">
                <a:solidFill>
                  <a:srgbClr val="ffff66"/>
                </a:solidFill>
                <a:uFillTx/>
                <a:latin typeface="Arial"/>
              </a:rPr>
              <a:t> </a:t>
            </a:r>
            <a:endParaRPr b="1" lang="en-US" sz="1600" spc="-1" strike="noStrike">
              <a:solidFill>
                <a:srgbClr val="ffff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199"/>
              </a:spcBef>
              <a:buClr>
                <a:srgbClr val="ffff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Arial Narrow"/>
              </a:rPr>
              <a:t>Transparency and accessibility of information systems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199"/>
              </a:spcBef>
              <a:buClr>
                <a:srgbClr val="ffff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Arial Narrow"/>
              </a:rPr>
              <a:t>Immediate dissemination of information in cases of imminent threat to health or environment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199"/>
              </a:spcBef>
              <a:buClr>
                <a:srgbClr val="ffff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Arial Narrow"/>
              </a:rPr>
              <a:t>Sufficient product information to ensure informed environmental choices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1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 u="sng">
                <a:solidFill>
                  <a:srgbClr val="ffff66"/>
                </a:solidFill>
                <a:uFillTx/>
                <a:latin typeface="Arial"/>
              </a:rPr>
              <a:t>Pollutant release and transfer registers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199"/>
              </a:spcBef>
              <a:buClr>
                <a:srgbClr val="ffff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Arial Narrow"/>
              </a:rPr>
              <a:t>Increased access to information through Internet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880920" indent="-22680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66"/>
                </a:solidFill>
                <a:uFillTx/>
                <a:latin typeface="Arial"/>
              </a:rPr>
              <a:t>Article 5, paragraph 3</a:t>
            </a:r>
            <a:endParaRPr b="1" lang="en-US" sz="1400" spc="-1" strike="noStrike">
              <a:solidFill>
                <a:srgbClr val="ffff66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ffff66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ffff66"/>
                </a:solidFill>
                <a:latin typeface="Arial"/>
              </a:rPr>
              <a:t>… </a:t>
            </a:r>
            <a:r>
              <a:rPr b="1" i="1" lang="en-US" sz="1600" spc="-1" strike="noStrike">
                <a:solidFill>
                  <a:srgbClr val="ffff66"/>
                </a:solidFill>
                <a:latin typeface="Arial"/>
              </a:rPr>
              <a:t>each Party to ensure that environmental Information progressively becomes available In electronic databases which are easily </a:t>
            </a:r>
            <a:r>
              <a:rPr b="1" i="1" lang="id-ID" sz="1600" spc="-1" strike="noStrike">
                <a:solidFill>
                  <a:srgbClr val="ffff66"/>
                </a:solidFill>
                <a:latin typeface="Arial"/>
              </a:rPr>
              <a:t>a</a:t>
            </a:r>
            <a:r>
              <a:rPr b="1" i="1" lang="en-US" sz="1600" spc="-1" strike="noStrike">
                <a:solidFill>
                  <a:srgbClr val="ffff66"/>
                </a:solidFill>
                <a:latin typeface="Arial"/>
              </a:rPr>
              <a:t>ccessible</a:t>
            </a:r>
            <a:r>
              <a:rPr b="1" i="1" lang="id-ID" sz="1600" spc="-1" strike="noStrike">
                <a:solidFill>
                  <a:srgbClr val="ffff66"/>
                </a:solidFill>
                <a:latin typeface="Arial"/>
              </a:rPr>
              <a:t> t</a:t>
            </a:r>
            <a:r>
              <a:rPr b="1" i="1" lang="en-US" sz="1600" spc="-1" strike="noStrike">
                <a:solidFill>
                  <a:srgbClr val="ffff66"/>
                </a:solidFill>
                <a:latin typeface="Arial"/>
              </a:rPr>
              <a:t>o the public through public telecommunication networks</a:t>
            </a:r>
            <a:endParaRPr b="1" lang="en-US" sz="1600" spc="-1" strike="noStrike">
              <a:solidFill>
                <a:srgbClr val="ffff66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0DEDE-DB09-4B1C-9CC0-2C356472216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Legal basis of PRTR Protocol in Aarhus Convention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7240" y="161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Legal basis: article 5, para. 9 and article 10, para. 2 (e) and (i) of the Aarhus Convention, requiring each Party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“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o take steps to establish progressively ... a coherent, nationwide system of pollution inventories or registers on a structured, computerized and publicly accessible database compiled through standardized reporting.” (art. 5, para. 9) 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…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aking into account international processes and developments, including the elaboration of an appropriate instrument concerning pollution release and transfer registers or inventories ….” (art. 10, para. 2(i) )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6D8E8-4786-4229-9EC9-4642F7CEA2D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31T21:04:29Z</dcterms:created>
  <dc:creator>Milly</dc:creator>
  <dc:description/>
  <dc:language>en-US</dc:language>
  <cp:lastModifiedBy>Stanley-Jones</cp:lastModifiedBy>
  <cp:lastPrinted>2000-12-08T07:30:52Z</cp:lastPrinted>
  <dcterms:modified xsi:type="dcterms:W3CDTF">2006-12-14T16:45:45Z</dcterms:modified>
  <cp:revision>390</cp:revision>
  <dc:subject/>
  <dc:title>No Slide Title</dc:title>
</cp:coreProperties>
</file>