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8.png" ContentType="image/png"/>
  <Override PartName="/ppt/media/image7.jpeg" ContentType="image/jpeg"/>
  <Override PartName="/ppt/media/image14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1791-EBE1-4D77-ACF3-2CA82865F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B8B3-0856-414D-B1ED-61107198A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737D-BEED-4E9E-A837-18BC05BF1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6376-80C4-48B9-835D-B0D0054F9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F4A3F-D974-45DB-8565-9125EF984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395E2-CE3F-42DD-A585-8C6993464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93A9D-35F8-47AC-9CED-E8403EB74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3C5DD-CC39-4329-8A1B-74C88DFD7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FA1E3-9123-43B0-8579-B8EF9B1F0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8B2AF-23EC-4D62-9C4A-5C54D7E95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26500-A363-4B5D-A243-1F069B05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6B42-D80C-4319-9170-843D469A0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47B53-F435-4295-A25C-172B029D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569E8-9F7F-4904-B9DE-4A8F5374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88DF2-62AB-432A-8CD9-99697E156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3C3CB-53A1-4AB3-A611-895BDA5B2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E7C4B-C8E8-4FCA-8D51-E123511EA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7AF9C-6B62-44B8-A4FC-B6BC0F98C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24FFE-B25B-43F8-9BB5-6F2612F74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78064-A44F-4D89-BBBD-BDF5299FB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F589A-A3AC-4A57-B3B2-362A872E7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F1307-2254-4B0E-9A48-844B93239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3BBA-EBFF-482D-8F86-70C579077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43ADA-FF27-4EFD-810E-15B154C23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31ED8-703E-4852-9ACC-79EF7FDB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EF046-3B83-432E-BA7A-7FFBEF3E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C4C3A-E9F4-40B5-ACF7-C80EFED6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FA700-1E01-4FFA-95F3-C0E375C55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0FB0D-B61A-4185-826E-CDFAC673A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51A7B-D6C8-4634-BEAE-3F2804CDF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06EE6-FC89-439C-AE71-2EDC42F9A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36A24-3E8D-4A20-BF1B-E17E20DDD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F921E-9341-42DF-90B0-D7ADC9988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9E3C-A7BF-429E-9250-900FD9B44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F68AC-7243-4AA7-B9B1-A65714873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C6340-9D8F-40D9-8461-131801CDD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DF9EC-D630-4EA3-9773-B97B72372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46A50-A9F4-4B9F-B974-77EF1122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FCE34-288D-4A91-B921-EA064481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71DD7-B64D-4892-A95E-4CA65CAD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9D58B-0048-4E1F-9C78-96DD2EF51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531DB-3CD7-4654-AA4B-C16E736D0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53081-8176-41E8-9EB7-C37A4B7C8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FB52-D0F2-46E7-925D-F2BAAB3F2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36BB-1CA0-4EE0-9FA5-FB77CD3ED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10BE-326F-4E91-87CF-A439625D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D7E3-B1F9-4149-AD99-7C878741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B280-882C-42A7-92B3-B5E646DA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3061B-903B-4953-BB9F-E6A7066895DF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B613-D576-48C4-9BCB-C3FCF132ADF9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776D3-4CAD-4FCF-BC8F-68433F9AC4BC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EB23-9972-42FE-A5F8-51DC021ED7CB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ultitran.ru/c/m.exe?t=1390393_1_2" TargetMode="External"/><Relationship Id="rId3" Type="http://schemas.openxmlformats.org/officeDocument/2006/relationships/hyperlink" Target="http://www.multitran.ru/c/m.exe?t=27037_1_2" TargetMode="External"/><Relationship Id="rId4" Type="http://schemas.openxmlformats.org/officeDocument/2006/relationships/hyperlink" Target="http://www.multitran.ru/c/m.exe?t=910983_1_2" TargetMode="External"/><Relationship Id="rId5" Type="http://schemas.openxmlformats.org/officeDocument/2006/relationships/hyperlink" Target="http://www.multitran.ru/c/m.exe?t=4024471_1_2" TargetMode="Externa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ultitran.ru/c/m.exe?t=3565955_1_2" TargetMode="External"/><Relationship Id="rId3" Type="http://schemas.openxmlformats.org/officeDocument/2006/relationships/hyperlink" Target="http://www.multitran.ru/c/m.exe?t=1741928_1_2" TargetMode="External"/><Relationship Id="rId4" Type="http://schemas.openxmlformats.org/officeDocument/2006/relationships/hyperlink" Target="http://www.multitran.ru/c/m.exe?t=555000_1_2" TargetMode="External"/><Relationship Id="rId5" Type="http://schemas.openxmlformats.org/officeDocument/2006/relationships/hyperlink" Target="http://www.multitran.ru/c/m.exe?t=658032_1_2" TargetMode="External"/><Relationship Id="rId6" Type="http://schemas.openxmlformats.org/officeDocument/2006/relationships/hyperlink" Target="http://www.multitran.ru/c/m.exe?t=1208474_1_2" TargetMode="External"/><Relationship Id="rId7" Type="http://schemas.openxmlformats.org/officeDocument/2006/relationships/hyperlink" Target="http://www.multitran.ru/c/m.exe?t=29750_1_2" TargetMode="External"/><Relationship Id="rId8" Type="http://schemas.openxmlformats.org/officeDocument/2006/relationships/hyperlink" Target="http://www.multitran.ru/c/m.exe?t=917620_1_2" TargetMode="External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ultitran.ru/c/m.exe?t=474362_1_2" TargetMode="External"/><Relationship Id="rId3" Type="http://schemas.openxmlformats.org/officeDocument/2006/relationships/hyperlink" Target="http://www.multitran.ru/c/m.exe?t=930700_1_2" TargetMode="External"/><Relationship Id="rId4" Type="http://schemas.openxmlformats.org/officeDocument/2006/relationships/hyperlink" Target="http://www.multitran.ru/c/m.exe?t=2840578_1_2" TargetMode="External"/><Relationship Id="rId5" Type="http://schemas.openxmlformats.org/officeDocument/2006/relationships/hyperlink" Target="http://www.multitran.ru/c/m.exe?t=703100_1_2" TargetMode="External"/><Relationship Id="rId6" Type="http://schemas.openxmlformats.org/officeDocument/2006/relationships/hyperlink" Target="http://www.multitran.ru/c/m.exe?t=27033_1_2" TargetMode="External"/><Relationship Id="rId7" Type="http://schemas.openxmlformats.org/officeDocument/2006/relationships/hyperlink" Target="http://www.multitran.ru/c/m.exe?t=3083650_1_2" TargetMode="External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ultitran.ru/c/m.exe?t=265582_1_2" TargetMode="External"/><Relationship Id="rId3" Type="http://schemas.openxmlformats.org/officeDocument/2006/relationships/hyperlink" Target="http://www.multitran.ru/c/m.exe?t=265583_1_2" TargetMode="External"/><Relationship Id="rId4" Type="http://schemas.openxmlformats.org/officeDocument/2006/relationships/hyperlink" Target="http://www.multitran.ru/c/m.exe?t=1869779_1_2" TargetMode="Externa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2"/>
          <a:stretch/>
        </p:blipFill>
        <p:spPr>
          <a:xfrm>
            <a:off x="371520" y="1212840"/>
            <a:ext cx="8643960" cy="25606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28840" y="3857760"/>
            <a:ext cx="6400800" cy="23572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lena Vasileva, Volgograd-Ecopres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lga Speranskaya, Eco-Accord/IPE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ussia, Volgograd regio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2" descr="C:\Users\1\Documents\ICCM-2\ipenlogo.tif.tif"/>
          <p:cNvPicPr/>
          <p:nvPr/>
        </p:nvPicPr>
        <p:blipFill>
          <a:blip r:embed="rId3"/>
          <a:stretch/>
        </p:blipFill>
        <p:spPr>
          <a:xfrm>
            <a:off x="214200" y="214200"/>
            <a:ext cx="2357640" cy="8575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"/>
          <p:cNvPicPr/>
          <p:nvPr/>
        </p:nvPicPr>
        <p:blipFill>
          <a:blip r:embed="rId4"/>
          <a:stretch/>
        </p:blipFill>
        <p:spPr>
          <a:xfrm>
            <a:off x="6572160" y="0"/>
            <a:ext cx="1047960" cy="1276200"/>
          </a:xfrm>
          <a:prstGeom prst="rect">
            <a:avLst/>
          </a:prstGeom>
          <a:ln w="0">
            <a:noFill/>
          </a:ln>
        </p:spPr>
      </p:pic>
      <p:sp>
        <p:nvSpPr>
          <p:cNvPr id="199" name="WordArt 2"/>
          <p:cNvSpPr txBox="1"/>
          <p:nvPr/>
        </p:nvSpPr>
        <p:spPr>
          <a:xfrm rot="16200000">
            <a:off x="3638160" y="-281160"/>
            <a:ext cx="129564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Circle">
              <a:avLst>
                <a:gd name="adj" fmla="val 1448276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Garamond"/>
              </a:rPr>
              <a:t>"Волгоград-Экопресс"</a:t>
            </a:r>
            <a:endParaRPr b="1" lang="en-US" sz="2000" spc="1" strike="noStrike">
              <a:ln w="0">
                <a:noFill/>
              </a:ln>
              <a:blipFill rotWithShape="0">
                <a:blip r:embed="rId6"/>
                <a:srcRect/>
                <a:tile tx="0" ty="0" sx="100000" sy="100000" algn="ctr"/>
              </a:blipFill>
              <a:latin typeface="Garamond"/>
              <a:ea typeface="Garamond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3173400" y="32446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3357720" y="1143000"/>
            <a:ext cx="23619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Helvetica CE"/>
                <a:ea typeface="Helvetica CE"/>
              </a:rPr>
              <a:t>Информационный центр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4617b"/>
                </a:solidFill>
                <a:latin typeface="Calibri"/>
              </a:rPr>
              <a:t>PRTR pilot initiative in Volgograd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64268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45520" indent="-24552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ammonium nitrogen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nitrogen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aluminum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aniline sal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e2d700"/>
                </a:solidFill>
                <a:uFillTx/>
                <a:latin typeface="Constantia"/>
                <a:hlinkClick r:id="rId5"/>
              </a:rPr>
              <a:t>benzen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pH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4617b"/>
                </a:solidFill>
                <a:latin typeface="Calibri"/>
              </a:rPr>
              <a:t>PRTR pilot initiative in Volgograd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28960" indent="-228960">
              <a:lnSpc>
                <a:spcPct val="8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suspended solid particle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>
              <a:lnSpc>
                <a:spcPct val="8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vinylidene chlorid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>
              <a:lnSpc>
                <a:spcPct val="8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vinyl chlorid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>
              <a:lnSpc>
                <a:spcPct val="8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e2d700"/>
                </a:solidFill>
                <a:uFillTx/>
                <a:latin typeface="Constantia"/>
                <a:hlinkClick r:id="rId5"/>
              </a:rPr>
              <a:t>dichloroethan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>
              <a:lnSpc>
                <a:spcPct val="8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e2d700"/>
                </a:solidFill>
                <a:uFillTx/>
                <a:latin typeface="Constantia"/>
                <a:hlinkClick r:id="rId6"/>
              </a:rPr>
              <a:t>ferriferrou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>
              <a:lnSpc>
                <a:spcPct val="8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e2d700"/>
                </a:solidFill>
                <a:uFillTx/>
                <a:latin typeface="Constantia"/>
                <a:hlinkClick r:id="rId7"/>
              </a:rPr>
              <a:t>calcium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>
              <a:lnSpc>
                <a:spcPct val="8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e2d700"/>
                </a:solidFill>
                <a:uFillTx/>
                <a:latin typeface="Constantia"/>
                <a:hlinkClick r:id="rId8"/>
              </a:rPr>
              <a:t>dimethylbenzen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4617b"/>
                </a:solidFill>
                <a:latin typeface="Calibri"/>
              </a:rPr>
              <a:t>PRTR pilot initiative in Volgograd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methylene chlorid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solid residu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synthetic surfactant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e2d700"/>
                </a:solidFill>
                <a:uFillTx/>
                <a:latin typeface="Constantia"/>
                <a:hlinkClick r:id="rId5"/>
              </a:rPr>
              <a:t>petrochemical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e2d700"/>
                </a:solidFill>
                <a:uFillTx/>
                <a:latin typeface="Constantia"/>
                <a:hlinkClick r:id="rId6"/>
              </a:rPr>
              <a:t>nickel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e2d700"/>
                </a:solidFill>
                <a:uFillTx/>
                <a:latin typeface="Constantia"/>
                <a:hlinkClick r:id="rId7"/>
              </a:rPr>
              <a:t>nitrate ion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mercury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4617b"/>
                </a:solidFill>
                <a:latin typeface="Calibri"/>
              </a:rPr>
              <a:t>PRTR pilot initiative in Volgograd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sulphat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sulphid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methylbenzen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onstantia"/>
              </a:rPr>
              <a:t>trichlorethan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onstantia"/>
              </a:rPr>
              <a:t>phenol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4617b"/>
                </a:solidFill>
                <a:latin typeface="Calibri"/>
              </a:rPr>
              <a:t>PRTR pilot initiative in Volgograd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3572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Constantia"/>
              </a:rPr>
              <a:t>phosphates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Constantia"/>
              </a:rPr>
              <a:t>phosphorous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Constantia"/>
              </a:rPr>
              <a:t>fluorides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chlorine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Constantia"/>
              </a:rPr>
              <a:t>chloride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chlorine 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Constantia"/>
              </a:rPr>
              <a:t>methyl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Constantia"/>
              </a:rPr>
              <a:t>chloroform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trips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4617b"/>
                </a:solidFill>
                <a:latin typeface="Calibri"/>
              </a:rPr>
              <a:t>PRTR pilot initiative in Volgograd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00"/>
                </a:solidFill>
                <a:uFillTx/>
                <a:latin typeface="Constantia"/>
              </a:rPr>
              <a:t>Step 4: software application with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00"/>
                </a:solidFill>
                <a:uFillTx/>
                <a:latin typeface="Constantia"/>
              </a:rPr>
              <a:t>information on: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nstantia"/>
              </a:rPr>
              <a:t>sampling points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nstantia"/>
              </a:rPr>
              <a:t>list of chemicals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nstantia"/>
              </a:rPr>
              <a:t>emission limits for water, air and waste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trips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4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2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3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4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environmental emergency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wastewater collection/evaporation ponds of Khimprom and Kaustic compan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wastewater collection ponds with their overall area of 160 km</a:t>
            </a:r>
            <a:r>
              <a:rPr b="0" lang="en-GB" sz="26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caused air, soil and groundwater pollution on the area of 720 km</a:t>
            </a:r>
            <a:r>
              <a:rPr b="0" lang="en-GB" sz="26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More that 50 chemicals compounds were identified in the pollution zone (chlorine, organofluorine compounds, phenols, arsenic, lead, vinyl chloride, etc.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214200" y="285840"/>
            <a:ext cx="857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nstantia"/>
              </a:rPr>
              <a:t>The Southern Industrial Zone of Volgograd, Russia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advTm="0">
    <p:strips dir="l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4617b"/>
                </a:solidFill>
                <a:latin typeface="Calibri"/>
              </a:rPr>
              <a:t>Further steps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9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  <a:ea typeface="Arial"/>
              </a:rPr>
              <a:t>Collect data and update the database</a:t>
            </a:r>
            <a:endParaRPr b="0" lang="en-US" sz="3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9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  <a:ea typeface="Arial"/>
              </a:rPr>
              <a:t>Access to computer</a:t>
            </a:r>
            <a:endParaRPr b="0" lang="en-US" sz="3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9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  <a:ea typeface="Arial"/>
              </a:rPr>
              <a:t>Dissemination of the system among other facilities</a:t>
            </a:r>
            <a:endParaRPr b="0" lang="en-US" sz="3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9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  <a:ea typeface="Arial"/>
              </a:rPr>
              <a:t>Planning transition from "end-of-the-pipe" control to control of a chemical's life cycle at the facility</a:t>
            </a:r>
            <a:endParaRPr b="0" lang="en-US" sz="3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trips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urther step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CREASE THE NUMBER OF FACILITIE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MPROVE THE REPORTING SYSTEM ON WASTE (types/components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ORK WITH FACILITIES ON DATA INTERPRETATIO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ORK WITH NGOs, CITIZENS AND MEDIA ON DATA INTERPRETATIO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4617b"/>
                </a:solidFill>
                <a:latin typeface="Calibri"/>
              </a:rPr>
              <a:t>Further steps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42848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development of PRTRs at local and regional levels is the most optimal way for introduction of a system of environmental reportin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Russia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keholder participation: NGOs, facilities, medi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develop PRTRs at the base of governmental environmental enforcement bodies or at the base of major industrial facilities-polluter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trips dir="l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Rectangle 4" descr=""/>
          <p:cNvPicPr/>
          <p:nvPr/>
        </p:nvPicPr>
        <p:blipFill>
          <a:blip r:embed="rId2"/>
          <a:stretch/>
        </p:blipFill>
        <p:spPr>
          <a:xfrm>
            <a:off x="1139760" y="-6480"/>
            <a:ext cx="7643880" cy="187164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000080" y="1571760"/>
            <a:ext cx="7215120" cy="47527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nstantia"/>
              </a:rPr>
              <a:t>Virtual NGO Forum on PRTR development – coordinated by Greenwomen NGO (Kazakhstan), Eco-Accord (Russia) with financial support from UNITAR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Industrial Zone, Russi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6" name="Picture 2" descr="C:\Users\1\Documents\ICCM-2\1107.jpg"/>
          <p:cNvPicPr/>
          <p:nvPr/>
        </p:nvPicPr>
        <p:blipFill>
          <a:blip r:embed="rId2"/>
          <a:stretch/>
        </p:blipFill>
        <p:spPr>
          <a:xfrm>
            <a:off x="571680" y="2500200"/>
            <a:ext cx="7643520" cy="37148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ndustrial facility, Russi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8" name="Picture 2" descr="C:\Users\1\Documents\ICCM-2\1117.jpg"/>
          <p:cNvPicPr/>
          <p:nvPr/>
        </p:nvPicPr>
        <p:blipFill>
          <a:blip r:embed="rId2"/>
          <a:stretch/>
        </p:blipFill>
        <p:spPr>
          <a:xfrm>
            <a:off x="571680" y="1785960"/>
            <a:ext cx="7715160" cy="50720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Title 1" descr=""/>
          <p:cNvPicPr/>
          <p:nvPr/>
        </p:nvPicPr>
        <p:blipFill>
          <a:blip r:embed="rId2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" descr="C:\Users\1\Documents\ICCM-2\1137.jpg"/>
          <p:cNvPicPr/>
          <p:nvPr/>
        </p:nvPicPr>
        <p:blipFill>
          <a:blip r:embed="rId3"/>
          <a:stretch/>
        </p:blipFill>
        <p:spPr>
          <a:xfrm>
            <a:off x="857160" y="2000160"/>
            <a:ext cx="7929720" cy="421488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r>
              <a:rPr b="1" lang="en-US" sz="4500" spc="-1" strike="noStrike">
                <a:solidFill>
                  <a:srgbClr val="04617b"/>
                </a:solidFill>
                <a:latin typeface="Calibri"/>
              </a:rPr>
              <a:t>PRTR pilot initiative in Volgograd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785960"/>
            <a:ext cx="822960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SAICM GPA: WORK AREAS ADDRESSING KNOWLEDGE AND INFORMATION</a:t>
            </a:r>
            <a:br>
              <a:rPr sz="2600"/>
            </a:b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Develop a national PRTR/emission inventory design process involving affected and interested parti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4617b"/>
                </a:solidFill>
                <a:latin typeface="Calibri"/>
              </a:rPr>
              <a:t>PRTR pilot initiative in Volgograd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Constantia"/>
              </a:rPr>
              <a:t>STAGES OF PRTR DEVELOPMENT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nstantia"/>
              </a:rPr>
              <a:t>Step 1: establishment of a working group, incorporating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non-governmental organisations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representatives of governmental environmental authoriti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industrial faciliti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medical and technical research and education faciliti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mass media outlet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571680" y="1500120"/>
            <a:ext cx="82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4617b"/>
                </a:solidFill>
                <a:latin typeface="Calibri"/>
              </a:rPr>
              <a:t>PRTR pilot initiative in Volgograd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000000"/>
                </a:solidFill>
                <a:uFillTx/>
                <a:latin typeface="Constantia"/>
              </a:rPr>
              <a:t>Step 2: selection of a facility (criteria)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a major facility, with particularly hazardous toxic pollutants in its emissions and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leases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(the largest emissions/releases in qualitative and quantitative term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op managers of the facility are ready to implement a policy of open provision of information on its emissions and discharg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a well equipped analytical laborato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active public involvemen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807732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PRTR pilot initiative in Volgograd</a:t>
            </a:r>
            <a:br>
              <a:rPr sz="5000"/>
            </a:b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6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6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18 enterprises (chemical, petrochemical, metallurgical, mechanical industry, housing and public utiliti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6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6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oxic releases and emissions into water and air, waste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6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6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For reporting purposes, 32 chemicals were selected as the most relevant pollutants in the Southern Industrial Zone of Volgograd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6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09:37:52Z</dcterms:created>
  <dc:creator>1</dc:creator>
  <dc:description/>
  <dc:language>en-US</dc:language>
  <cp:lastModifiedBy>Stanley-Jones</cp:lastModifiedBy>
  <dcterms:modified xsi:type="dcterms:W3CDTF">2009-05-28T08:37:51Z</dcterms:modified>
  <cp:revision>119</cp:revision>
  <dc:subject/>
  <dc:title>The Role of Inter-Sectoral Partnerships in Development of Regional and Local PRTRs</dc:title>
</cp:coreProperties>
</file>