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B0-91C3-42C2-B06C-71D3AE09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BB6-8AB5-4423-BCFF-7425694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B2F-4FCB-439E-B16F-CBDAD5F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256-4D2A-4FAF-AA9C-A6B7D78A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9BD2-474D-45C1-920B-795E1C9B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E88F-AC11-49DA-899B-DCC8869F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46CC-04F3-455B-8CB0-23A8A2C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5FE6-44F7-4341-A549-93656224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E31-9865-498F-81AF-12B8DD5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31D6-3385-4BD3-BACF-1FEDDD47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160-D0E3-491E-A50B-0D18545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7BF-3088-4CE2-9167-FA9741FF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C58-4B7A-4D44-84AC-C2244D7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910-E903-445C-B589-3B388B6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848-5425-4D5B-A111-9FF24DD4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3A1-E0AB-4108-BEAA-2A0F3AD8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7A2D-0A46-4276-976F-1EC6062C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4E78D-3FE5-49C8-B061-BD68DDA0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DF2A-ECD9-4583-815D-434AFCF7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906C-884E-43E3-BE88-433EF73B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6451-61E5-4035-93D7-72AEE8E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02D7-1837-4F9A-9802-6A57304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262-7589-4B0C-875C-23927E35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4378-98DF-4486-BAFE-F66799C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B941-E81B-4A91-9DFF-FC0906C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2D41-C3E2-4C64-BE8C-867A796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FF5F-19A5-4C39-B110-73824CBB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E55A-6475-422A-A67C-B8E386B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5823-767E-4E4B-9E61-938AF059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862D2-F4D6-417D-B112-26B5F28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47B5-880A-4B4D-9DC2-97C65E79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C673-C4A2-464C-9235-BCB87F2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A91A-E53D-47D5-BBBD-B83F963F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4B4-2A8C-490A-913C-35142D7A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1158E-2772-4437-B323-021200C2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F63B-1866-49BB-A284-91D1AA7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4A2E-4540-4C2C-9220-03FEF4D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3D28-34B0-4FDD-BA3F-816218B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0067-3269-4087-8DAC-F99C245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82DF-7ABE-44A0-8739-E21F4B3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C69D-6E85-4559-85DD-87CDA9C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2A6F4-8843-4DBD-AB49-17BDCC1E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4A658-3939-4BE1-AE50-0F5EE1E2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F68-8950-4E88-A368-AC4FCA86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DDB-02C5-491A-8F13-71873C51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381-BF87-429A-B5D0-4BD2F71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124-1816-4E2E-BDE2-471C95D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D3F-0DD9-401F-9502-9ADE1CD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F09-7FE6-4F81-B2F7-819F0A02D5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49C-E9F7-4105-9113-9B277949B6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3FC-B916-4B88-9102-F638EAB2954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326-8FC2-463B-A8EB-AFEF437396E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1390393_1_2" TargetMode="External"/><Relationship Id="rId3" Type="http://schemas.openxmlformats.org/officeDocument/2006/relationships/hyperlink" Target="http://www.multitran.ru/c/m.exe?t=27037_1_2" TargetMode="External"/><Relationship Id="rId4" Type="http://schemas.openxmlformats.org/officeDocument/2006/relationships/hyperlink" Target="http://www.multitran.ru/c/m.exe?t=910983_1_2" TargetMode="External"/><Relationship Id="rId5" Type="http://schemas.openxmlformats.org/officeDocument/2006/relationships/hyperlink" Target="http://www.multitran.ru/c/m.exe?t=4024471_1_2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3565955_1_2" TargetMode="External"/><Relationship Id="rId3" Type="http://schemas.openxmlformats.org/officeDocument/2006/relationships/hyperlink" Target="http://www.multitran.ru/c/m.exe?t=1741928_1_2" TargetMode="External"/><Relationship Id="rId4" Type="http://schemas.openxmlformats.org/officeDocument/2006/relationships/hyperlink" Target="http://www.multitran.ru/c/m.exe?t=555000_1_2" TargetMode="External"/><Relationship Id="rId5" Type="http://schemas.openxmlformats.org/officeDocument/2006/relationships/hyperlink" Target="http://www.multitran.ru/c/m.exe?t=658032_1_2" TargetMode="External"/><Relationship Id="rId6" Type="http://schemas.openxmlformats.org/officeDocument/2006/relationships/hyperlink" Target="http://www.multitran.ru/c/m.exe?t=1208474_1_2" TargetMode="External"/><Relationship Id="rId7" Type="http://schemas.openxmlformats.org/officeDocument/2006/relationships/hyperlink" Target="http://www.multitran.ru/c/m.exe?t=29750_1_2" TargetMode="External"/><Relationship Id="rId8" Type="http://schemas.openxmlformats.org/officeDocument/2006/relationships/hyperlink" Target="http://www.multitran.ru/c/m.exe?t=917620_1_2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474362_1_2" TargetMode="External"/><Relationship Id="rId3" Type="http://schemas.openxmlformats.org/officeDocument/2006/relationships/hyperlink" Target="http://www.multitran.ru/c/m.exe?t=930700_1_2" TargetMode="External"/><Relationship Id="rId4" Type="http://schemas.openxmlformats.org/officeDocument/2006/relationships/hyperlink" Target="http://www.multitran.ru/c/m.exe?t=2840578_1_2" TargetMode="External"/><Relationship Id="rId5" Type="http://schemas.openxmlformats.org/officeDocument/2006/relationships/hyperlink" Target="http://www.multitran.ru/c/m.exe?t=703100_1_2" TargetMode="External"/><Relationship Id="rId6" Type="http://schemas.openxmlformats.org/officeDocument/2006/relationships/hyperlink" Target="http://www.multitran.ru/c/m.exe?t=27033_1_2" TargetMode="External"/><Relationship Id="rId7" Type="http://schemas.openxmlformats.org/officeDocument/2006/relationships/hyperlink" Target="http://www.multitran.ru/c/m.exe?t=3083650_1_2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ltitran.ru/c/m.exe?t=265582_1_2" TargetMode="External"/><Relationship Id="rId3" Type="http://schemas.openxmlformats.org/officeDocument/2006/relationships/hyperlink" Target="http://www.multitran.ru/c/m.exe?t=265583_1_2" TargetMode="External"/><Relationship Id="rId4" Type="http://schemas.openxmlformats.org/officeDocument/2006/relationships/hyperlink" Target="http://www.multitran.ru/c/m.exe?t=1869779_1_2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371520" y="1212840"/>
            <a:ext cx="8643960" cy="2560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na Vasileva, Volgograd-Ecopr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lga Speranskaya, Eco-Accord/IP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ssia, Volgograd re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1\Documents\ICCM-2\ipenlogo.tif.tif"/>
          <p:cNvPicPr/>
          <p:nvPr/>
        </p:nvPicPr>
        <p:blipFill>
          <a:blip r:embed="rId3"/>
          <a:stretch/>
        </p:blipFill>
        <p:spPr>
          <a:xfrm>
            <a:off x="214200" y="214200"/>
            <a:ext cx="2357640" cy="85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4"/>
          <a:stretch/>
        </p:blipFill>
        <p:spPr>
          <a:xfrm>
            <a:off x="6572160" y="0"/>
            <a:ext cx="1047960" cy="12762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2"/>
          <p:cNvSpPr txBox="1"/>
          <p:nvPr/>
        </p:nvSpPr>
        <p:spPr>
          <a:xfrm rot="16200000">
            <a:off x="3638160" y="-281160"/>
            <a:ext cx="129564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44827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Garamond"/>
              </a:rPr>
              <a:t>"Волгоград-Экопресс"</a:t>
            </a:r>
            <a:endParaRPr b="1" lang="en-US" sz="20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1734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357720" y="1143000"/>
            <a:ext cx="2361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Helvetica CE"/>
                <a:ea typeface="Helvetica CE"/>
              </a:rPr>
              <a:t>Информационный центр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ammonium nitro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nitro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uminu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aniline sal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uspended solid particl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vinylidene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vinyl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dichloroetha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ferriferrou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dimethyl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methylene chlor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solid residu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synthetic surfacta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petrochemica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nicke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nitrate ion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sulphat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sulph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ethylbenze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trichloretha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phenol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phosphat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phosphorou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fluorid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lorin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chlorid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hlorine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methyl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chlorofor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Step 4: software application with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onstantia"/>
              </a:rPr>
              <a:t>information on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sampling poin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list of chemic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emission limits for water, air and wast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2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4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nvironmental emergen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astewater collection/evaporation ponds of Khimprom and Kaustic compan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astewater collection ponds with their overall area of 160 k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caused air, soil and groundwater pollution on the area of 720 k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re that 50 chemicals compounds were identified in the pollution zone (chlorine, organofluorine compounds, phenols, arsenic, lead, vinyl chloride, 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14200" y="285840"/>
            <a:ext cx="85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he Southern Industrial Zone of Volgograd, Russi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0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Collect data and update the database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Access to computer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the system among other facilitie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  <a:ea typeface="Arial"/>
              </a:rPr>
              <a:t>Planning transition from "end-of-the-pipe" control to control of a chemical's life cycle at the facility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E THE NUMBER OF FACILIT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ROVE THE REPORTING SYSTEM ON WASTE (types/component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FACILITIES ON DATA INTERPRET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WITH NGOs, CITIZENS AND MEDIA ON DATA INTERPRET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urther step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RTRs at local and regional levels is the most optimal way for introduction of a system of environmental repor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uss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keholder participation: NGOs, facilities, med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PRTRs at the base of governmental environmental enforcement bodies or at the base of major industrial facilities-pollut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4" descr=""/>
          <p:cNvPicPr/>
          <p:nvPr/>
        </p:nvPicPr>
        <p:blipFill>
          <a:blip r:embed="rId2"/>
          <a:stretch/>
        </p:blipFill>
        <p:spPr>
          <a:xfrm>
            <a:off x="1139760" y="-6480"/>
            <a:ext cx="7643880" cy="1871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000080" y="1571760"/>
            <a:ext cx="72151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Virtual NGO Forum on PRTR development – coordinated by Greenwomen NGO (Kazakhstan), Eco-Accord (Russia) with financial support from UNITA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ndustrial Zone, Russ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Users\1\Documents\ICCM-2\1107.jpg"/>
          <p:cNvPicPr/>
          <p:nvPr/>
        </p:nvPicPr>
        <p:blipFill>
          <a:blip r:embed="rId2"/>
          <a:stretch/>
        </p:blipFill>
        <p:spPr>
          <a:xfrm>
            <a:off x="571680" y="2500200"/>
            <a:ext cx="764352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dustrial facility, Russ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Users\1\Documents\ICCM-2\1117.jpg"/>
          <p:cNvPicPr/>
          <p:nvPr/>
        </p:nvPicPr>
        <p:blipFill>
          <a:blip r:embed="rId2"/>
          <a:stretch/>
        </p:blipFill>
        <p:spPr>
          <a:xfrm>
            <a:off x="571680" y="1785960"/>
            <a:ext cx="7715160" cy="5072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1\Documents\ICCM-2\1137.jpg"/>
          <p:cNvPicPr/>
          <p:nvPr/>
        </p:nvPicPr>
        <p:blipFill>
          <a:blip r:embed="rId3"/>
          <a:stretch/>
        </p:blipFill>
        <p:spPr>
          <a:xfrm>
            <a:off x="857160" y="2000160"/>
            <a:ext cx="7929720" cy="4214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AICM GPA: WORK AREAS ADDRESSING KNOWLEDGE AND INFORMATION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velop a national PRTR/emission inventory design process involving affected and interested par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onstantia"/>
              </a:rPr>
              <a:t>STAGES OF PRTR DEVELOPMEN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nstantia"/>
              </a:rPr>
              <a:t>Step 1: establishment of a working group, incorporat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n-governmental organisation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representatives of governmental environmental author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ndustrial facil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edical and technical research and education facil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ass media outle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571680" y="15001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Constantia"/>
              </a:rPr>
              <a:t>Step 2: selection of a facility (criteria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major facility, with particularly hazardous toxic pollutants in its emissions an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eas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the largest emissions/releases in qualitative and quantitative term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p managers of the facility are ready to implement a policy of open provision of information on its emissions and dischar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well equipped analytical labora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ctive public invol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TR pilot initiative in Volgograd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6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18 enterprises (chemical, petrochemical, metallurgical, mechanical industry, housing and public util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xic releases and emissions into water and air, wast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or reporting purposes, 32 chemicals were selected as the most relevant pollutants in the Southern Industrial Zone of Volgogra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9:37:52Z</dcterms:created>
  <dc:creator>1</dc:creator>
  <dc:description/>
  <dc:language>en-US</dc:language>
  <cp:lastModifiedBy>Stanley-Jones</cp:lastModifiedBy>
  <dcterms:modified xsi:type="dcterms:W3CDTF">2009-05-28T08:37:51Z</dcterms:modified>
  <cp:revision>119</cp:revision>
  <dc:subject/>
  <dc:title>The Role of Inter-Sectoral Partnerships in Development of Regional and Local PRTRs</dc:title>
</cp:coreProperties>
</file>