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87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65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7BB39D-8358-47F0-9898-85FECD31D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290FFD-F3B8-488F-901F-639575F8D92B}" type="slidenum">
              <a:rPr b="0" lang="en-US" sz="12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DC6-EC5B-45EB-BD0D-8FF66856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84012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3D7-C747-409B-A4FD-83535020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548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C87-1E53-41F1-B0C5-E2AEA2CB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704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572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704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572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0F2-F6F3-44EB-AA2D-8BE234FA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3E70-8661-494C-8455-136FB22A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DB23-469D-44FE-ADB7-745B7A72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3BE3-5891-471F-9E1A-CD809103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7324-F851-40AF-819F-41DBB0DD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B342-B362-4BF3-9B06-5995930C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435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93EE-5137-4068-8FE4-35CDBA22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8D67-62CA-42DF-BBE3-4FD86A1B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841-996F-4025-9CF6-7AD02ADF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548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4FAE-BD4A-44F8-8B2D-5282FA13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F1A0-595D-41CD-80A5-B38F47CF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384012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395C-34D4-4E23-925D-064D21B4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548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722A-0AAA-40CD-8AA1-3125AF30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704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572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704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572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55EC-E7D9-4635-8F75-7A3A991D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8A0-DB71-4597-9795-D970E5EA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003-25EC-4955-B50A-D9C86590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0CF-03E0-4616-AA2D-42DA1023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435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488-B445-4244-B9E5-FA352748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0B4-DF7D-451E-AA79-03E8F585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548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9A5-3755-455F-957F-5819D721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617-681C-4E33-8608-7C58DC3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OECD_white_150"/>
          <p:cNvPicPr/>
          <p:nvPr/>
        </p:nvPicPr>
        <p:blipFill>
          <a:blip r:embed="rId2"/>
          <a:stretch/>
        </p:blipFill>
        <p:spPr>
          <a:xfrm>
            <a:off x="8180280" y="5951520"/>
            <a:ext cx="712800" cy="71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5e5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5e5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43640" y="6048000"/>
            <a:ext cx="23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EAC3-9B9E-43E5-A957-27D9CFCE54D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Guillemetgrey20cm15pour"/>
          <p:cNvPicPr/>
          <p:nvPr/>
        </p:nvPicPr>
        <p:blipFill>
          <a:blip r:embed="rId3"/>
          <a:stretch/>
        </p:blipFill>
        <p:spPr>
          <a:xfrm>
            <a:off x="108000" y="44280"/>
            <a:ext cx="542880" cy="1181160"/>
          </a:xfrm>
          <a:prstGeom prst="rect">
            <a:avLst/>
          </a:prstGeom>
          <a:ln w="0">
            <a:noFill/>
          </a:ln>
        </p:spPr>
      </p:pic>
      <p:sp>
        <p:nvSpPr>
          <p:cNvPr id="7" name="Line 12"/>
          <p:cNvSpPr/>
          <p:nvPr/>
        </p:nvSpPr>
        <p:spPr>
          <a:xfrm>
            <a:off x="971640" y="1052640"/>
            <a:ext cx="792144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Guillemetgrey20cm15pour"/>
          <p:cNvPicPr/>
          <p:nvPr/>
        </p:nvPicPr>
        <p:blipFill>
          <a:blip r:embed="rId2"/>
          <a:stretch/>
        </p:blipFill>
        <p:spPr>
          <a:xfrm>
            <a:off x="755640" y="1700280"/>
            <a:ext cx="15796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pptlogodark_EN"/>
          <p:cNvPicPr/>
          <p:nvPr/>
        </p:nvPicPr>
        <p:blipFill>
          <a:blip r:embed="rId3"/>
          <a:stretch/>
        </p:blipFill>
        <p:spPr>
          <a:xfrm>
            <a:off x="-17640" y="0"/>
            <a:ext cx="9179280" cy="77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5e5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5e5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AD3-BC87-4F3B-8761-FE0697D40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85720" y="928440"/>
            <a:ext cx="542916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Verdana"/>
              </a:rPr>
              <a:t>Second Session of the International Conference on Chemicals Management: 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Verdana"/>
              </a:rPr>
              <a:t>ICCM2 – Side Event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Verdana"/>
              </a:rPr>
              <a:t>Geneva, 10-15 May 2009</a:t>
            </a: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347640" y="3789360"/>
            <a:ext cx="5040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PRTR- Global Solution for Emission Repor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Verdana"/>
              </a:rPr>
              <a:t>Henrik Harju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Verdana"/>
              </a:rPr>
              <a:t>Environment Directo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Verdana"/>
              </a:rPr>
              <a:t>OEC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419640" y="5516640"/>
            <a:ext cx="482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f2f2f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Verdana"/>
              </a:rPr>
              <a:t>Conlusion:</a:t>
            </a:r>
            <a:endParaRPr b="0" lang="en-US" sz="3200" spc="-1" strike="noStrike">
              <a:solidFill>
                <a:srgbClr val="c5e5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f2f2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f2f2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PRTR is an excellent tool for combining different data collection and reporting requirements under one umbrella; many countries are currently considering this opportunity.</a:t>
            </a:r>
            <a:endParaRPr b="0" lang="en-US" sz="2800" spc="-1" strike="noStrike">
              <a:solidFill>
                <a:srgbClr val="c5e5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B592-CD36-433B-88FA-B19AF2AD768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21A7-DDD5-46E0-974F-6F4B307A5B0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hat is a PRTR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ollutant Release and Transfer Register (PRTR) is a national or regional environmental database or inventory of hazardous chemical substances and pollutants released to air, water and soil, and transferred off-site for treatment or disposal.</a:t>
            </a:r>
            <a:endParaRPr b="0" lang="en-US" sz="3200" spc="-1" strike="noStrike">
              <a:solidFill>
                <a:srgbClr val="c5e5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0A84-0434-4694-B9CF-951E48BFA46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ternational Mileston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90320" indent="-188640"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ECD Council Recommendation on Implementing PRTRs C(96)41/Final, as amended by C(2003)87;</a:t>
            </a:r>
            <a:endParaRPr b="0" lang="en-US" sz="2300" spc="-1" strike="noStrike">
              <a:solidFill>
                <a:srgbClr val="c5e5ff"/>
              </a:solidFill>
              <a:latin typeface="Verdana"/>
            </a:endParaRPr>
          </a:p>
          <a:p>
            <a:pPr lvl="1" marL="490320" indent="-188640"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CEC started to publish North American PRTR Data (Taking Stock) in 1997 (1994 data);</a:t>
            </a:r>
            <a:endParaRPr b="0" lang="en-US" sz="2300" spc="-1" strike="noStrike">
              <a:solidFill>
                <a:srgbClr val="c5e5ff"/>
              </a:solidFill>
              <a:latin typeface="Verdana"/>
            </a:endParaRPr>
          </a:p>
          <a:p>
            <a:pPr lvl="1" marL="490320" indent="-188640"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Regulation (EC) No 166/2006 of the European Parliament and of the Council of 18 January 2006 concerning the establishment of a European Pollutant Release and Transfer Register;</a:t>
            </a:r>
            <a:endParaRPr b="0" lang="en-US" sz="2300" spc="-1" strike="noStrike">
              <a:solidFill>
                <a:srgbClr val="c5e5ff"/>
              </a:solidFill>
              <a:latin typeface="Verdana"/>
            </a:endParaRPr>
          </a:p>
          <a:p>
            <a:pPr lvl="1" marL="490320" indent="-188640"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rotocol on Pollutant Release and Transfer Registers under the Aarhus Convention, K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iev, 21 May 2003, possibly entering into force in 2009.</a:t>
            </a:r>
            <a:endParaRPr b="0" lang="en-US" sz="2300" spc="-1" strike="noStrike">
              <a:solidFill>
                <a:srgbClr val="c5e5ff"/>
              </a:solidFill>
              <a:latin typeface="Verdana"/>
            </a:endParaRPr>
          </a:p>
          <a:p>
            <a:pPr lvl="1" marL="490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ECD and PRTR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ECD started to work on PRTRs in response to Agenda 21, UNCED, 1992;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 1996 OECD Council adopted a Recommendation on Implementing PRTRs C(96)41/Final, as amended by C(2003)87 and published a Guidance Manual;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n 2006, there were 17 OECD countries which had an operational PRTR in place;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y the end of 2009, there should be over 30 operational PRTRs in OECD and beyond.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44B6-3C7F-44A6-9F59-CECF8A6D79E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D2BE-3B37-4627-96F3-32E0C0168B3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lected OECD PRTR Publication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Resource Compendium of RETs, Parts 1-3: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mmary of Techniques for Point Sources; Diffuse Sources and Off-site Transfers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Uses of Pollutant Release and Transfer Register Data and Tools for Their Presentation: A Reference Manual;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ramework for Selecting and Applying PRTR Release Estimation Techniques.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AEC7-DB9F-488F-A9FF-A794BCBC140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lected OECD PRTR Publication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tudy on the inclusion of releases and transfers from small and medium-sized enterprises in PRTRs;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nsiderations for ensuring quality Pollutant Release and Transfer Registers (PRTR) data.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 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ECD PRTR Databas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Global Portal to PRTR Information </a:t>
            </a: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(www.PRTR.net)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source Centre for RETs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(www.oecd.org/env/prtr/rc) 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Centre for PRTR Data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(www.oecd.org/env/prtr/data) 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F743-821E-40B8-B56A-2CC5C503594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es of PRTR Dat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NV/JM/MONO(2005)3: This report presents over 100 examples of uses of PRTR data from many different countries and a variety of PRTR systems. PRTR data is used by the public, industry, governments, investment community and academic research institutions. 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oxic Chemicals and Children’s Health in North America: A Call for Efforts to Determine the Sources, Levels of Exposure, and Risks that Industrial Chemicals Pose to Children’s Health;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ate of the North American environment, etc.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F649-7901-4786-A7C1-80B0060FE47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9757-1EEB-43E0-A133-2943C66D028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PRTR Initiativ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-23436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Use of PRTR data to implement MEAs: A UNITAR project on POPs involving Cambodia, Chile, Ecuador, Kazakhstan, Peru, Thailand and Ukraine;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-23436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clusion of GHGs in PRTRs: a side-event planned for the December 2009 UNFCCC COP-15, Copenhagen;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-23436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Inclusion of manufactured nanomaterials in PRTRs – discussions underway in some OECD countries.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0:56:07Z</dcterms:created>
  <dc:creator>OECD</dc:creator>
  <dc:description/>
  <dc:language>en-US</dc:language>
  <cp:lastModifiedBy>Henrik Harjula</cp:lastModifiedBy>
  <cp:lastPrinted>2002-06-04T13:46:34Z</cp:lastPrinted>
  <dcterms:modified xsi:type="dcterms:W3CDTF">2009-05-05T09:15:03Z</dcterms:modified>
  <cp:revision>372</cp:revision>
  <dc:subject/>
  <dc:title>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endees 1">
    <vt:lpwstr/>
  </property>
  <property fmtid="{D5CDD505-2E9C-101B-9397-08002B2CF9AE}" pid="3" name="Category0">
    <vt:lpwstr>7</vt:lpwstr>
  </property>
  <property fmtid="{D5CDD505-2E9C-101B-9397-08002B2CF9AE}" pid="4" name="DateOfEvent">
    <vt:lpwstr>2006-06-27T00:00:00Z</vt:lpwstr>
  </property>
  <property fmtid="{D5CDD505-2E9C-101B-9397-08002B2CF9AE}" pid="5" name="Directorate">
    <vt:lpwstr>9</vt:lpwstr>
  </property>
  <property fmtid="{D5CDD505-2E9C-101B-9397-08002B2CF9AE}" pid="6" name="Event">
    <vt:lpwstr>3</vt:lpwstr>
  </property>
  <property fmtid="{D5CDD505-2E9C-101B-9397-08002B2CF9AE}" pid="7" name="EventDate">
    <vt:lpwstr>2006-06-27T00:00:00Z</vt:lpwstr>
  </property>
  <property fmtid="{D5CDD505-2E9C-101B-9397-08002B2CF9AE}" pid="8" name="Language">
    <vt:lpwstr>English</vt:lpwstr>
  </property>
  <property fmtid="{D5CDD505-2E9C-101B-9397-08002B2CF9AE}" pid="9" name="Software">
    <vt:lpwstr>2</vt:lpwstr>
  </property>
  <property fmtid="{D5CDD505-2E9C-101B-9397-08002B2CF9AE}" pid="10" name="Template Type">
    <vt:lpwstr>2</vt:lpwstr>
  </property>
</Properties>
</file>