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87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65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73C667-CA56-4924-97DD-01610BE79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BAFC60-DD27-4382-A4FE-8555FC678384}" type="slidenum">
              <a:rPr b="0" lang="en-US" sz="12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BB2A-5686-4EEB-B0EA-347A8C65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840120"/>
            <a:ext cx="842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133-F91E-4907-A38C-49002B94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548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0EC-22F1-40C9-8802-58D21DA8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7040" y="134100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5720" y="134100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84012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7040" y="384012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5720" y="384012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CED-EFFF-4E44-9F7A-7F1E1689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59EC-A4DF-4E43-96BA-3616BC0A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6689-BBB6-4B65-AD22-1C1C39FB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59F4-B168-4917-BA5A-309A0EE6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8645-C39C-4D93-A189-D2DFC578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A80F-8A29-4AD5-9697-6FD3B70E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89000"/>
            <a:ext cx="8435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443F-A853-494B-A183-6A174FA2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36ED-E524-43EC-87D8-475767C4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C2C-91D3-4BAF-8CC1-00041EF5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548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9725-0ED8-4525-98B8-F2602C04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40120"/>
            <a:ext cx="842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9431-A952-4B5A-A498-BC7435AD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60" y="3840120"/>
            <a:ext cx="842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5DDD-A549-4D21-AE15-7604AAA6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36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548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E7EC-7E3C-40AB-A5B9-0D8476E6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7040" y="134100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65720" y="134100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360" y="384012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7040" y="384012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65720" y="3840120"/>
            <a:ext cx="271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BA88-D7AF-43B0-85BD-81014286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760-8F36-4F4B-84CF-4B0A1B50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317-222C-445B-AA66-ECC957F8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092-E066-45DD-B123-713DAAD7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89000"/>
            <a:ext cx="8435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876-28C5-4219-B9F9-4400133B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FDB-E9F9-40EB-B7C4-6F093E5B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5480" y="384012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E75-0B30-4D2C-AE2D-8E149463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5480" y="1341000"/>
            <a:ext cx="4111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840120"/>
            <a:ext cx="84247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412-374F-416F-9361-A4A251E6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OECD_white_150"/>
          <p:cNvPicPr/>
          <p:nvPr/>
        </p:nvPicPr>
        <p:blipFill>
          <a:blip r:embed="rId2"/>
          <a:stretch/>
        </p:blipFill>
        <p:spPr>
          <a:xfrm>
            <a:off x="8180280" y="5951520"/>
            <a:ext cx="712800" cy="71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5e5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5e5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43640" y="6048000"/>
            <a:ext cx="23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700D-4DF0-4E54-B731-47B77EE6CC9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Guillemetgrey20cm15pour"/>
          <p:cNvPicPr/>
          <p:nvPr/>
        </p:nvPicPr>
        <p:blipFill>
          <a:blip r:embed="rId3"/>
          <a:stretch/>
        </p:blipFill>
        <p:spPr>
          <a:xfrm>
            <a:off x="108000" y="44280"/>
            <a:ext cx="542880" cy="1181160"/>
          </a:xfrm>
          <a:prstGeom prst="rect">
            <a:avLst/>
          </a:prstGeom>
          <a:ln w="0">
            <a:noFill/>
          </a:ln>
        </p:spPr>
      </p:pic>
      <p:sp>
        <p:nvSpPr>
          <p:cNvPr id="7" name="Line 12"/>
          <p:cNvSpPr/>
          <p:nvPr/>
        </p:nvSpPr>
        <p:spPr>
          <a:xfrm>
            <a:off x="971640" y="1052640"/>
            <a:ext cx="792144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Guillemetgrey20cm15pour"/>
          <p:cNvPicPr/>
          <p:nvPr/>
        </p:nvPicPr>
        <p:blipFill>
          <a:blip r:embed="rId2"/>
          <a:stretch/>
        </p:blipFill>
        <p:spPr>
          <a:xfrm>
            <a:off x="755640" y="1700280"/>
            <a:ext cx="157968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pptlogodark_EN"/>
          <p:cNvPicPr/>
          <p:nvPr/>
        </p:nvPicPr>
        <p:blipFill>
          <a:blip r:embed="rId3"/>
          <a:stretch/>
        </p:blipFill>
        <p:spPr>
          <a:xfrm>
            <a:off x="-17640" y="0"/>
            <a:ext cx="9179280" cy="77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5e5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5e5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594-7227-4299-A499-1BB871F14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85720" y="928440"/>
            <a:ext cx="542916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Verdana"/>
              </a:rPr>
              <a:t>Second Session of the International Conference on Chemicals Management: 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Verdana"/>
              </a:rPr>
              <a:t>ICCM2 – Side Event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Verdana"/>
              </a:rPr>
              <a:t>Geneva, 10-15 May 2009</a:t>
            </a:r>
            <a:endParaRPr b="0" lang="en-US" sz="28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347640" y="3789360"/>
            <a:ext cx="5040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PRTR- Global Solution for Emission Repor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Verdana"/>
              </a:rPr>
              <a:t>Henrik Harjul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Verdana"/>
              </a:rPr>
              <a:t>Environment Directo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be0e3"/>
                </a:solidFill>
                <a:latin typeface="Verdana"/>
              </a:rPr>
              <a:t>OEC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419640" y="5516640"/>
            <a:ext cx="482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f2f2f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2f2f2"/>
                </a:solidFill>
                <a:latin typeface="Verdana"/>
              </a:rPr>
              <a:t>Conlusion:</a:t>
            </a:r>
            <a:endParaRPr b="0" lang="en-US" sz="3200" spc="-1" strike="noStrike">
              <a:solidFill>
                <a:srgbClr val="c5e5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2f2f2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2f2f2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PRTR is an excellent tool for combining different data collection and reporting requirements under one umbrella; many countries are currently considering this opportunity.</a:t>
            </a:r>
            <a:endParaRPr b="0" lang="en-US" sz="2800" spc="-1" strike="noStrike">
              <a:solidFill>
                <a:srgbClr val="c5e5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425C-B9AC-4FF8-B071-61CC633DF44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29CC-50EF-43B8-A97B-278696B419B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4358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hat is a PRTR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Pollutant Release and Transfer Register (PRTR) is a national or regional environmental database or inventory of hazardous chemical substances and pollutants released to air, water and soil, and transferred off-site for treatment or disposal.</a:t>
            </a:r>
            <a:endParaRPr b="0" lang="en-US" sz="3200" spc="-1" strike="noStrike">
              <a:solidFill>
                <a:srgbClr val="c5e5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7497-10D4-4735-AD13-8316FA246AD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nternational Mileston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90320" indent="-188640"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OECD Council Recommendation on Implementing PRTRs C(96)41/Final, as amended by C(2003)87;</a:t>
            </a:r>
            <a:endParaRPr b="0" lang="en-US" sz="2300" spc="-1" strike="noStrike">
              <a:solidFill>
                <a:srgbClr val="c5e5ff"/>
              </a:solidFill>
              <a:latin typeface="Verdana"/>
            </a:endParaRPr>
          </a:p>
          <a:p>
            <a:pPr lvl="1" marL="490320" indent="-188640"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CEC started to publish North American PRTR Data (Taking Stock) in 1997 (1994 data);</a:t>
            </a:r>
            <a:endParaRPr b="0" lang="en-US" sz="2300" spc="-1" strike="noStrike">
              <a:solidFill>
                <a:srgbClr val="c5e5ff"/>
              </a:solidFill>
              <a:latin typeface="Verdana"/>
            </a:endParaRPr>
          </a:p>
          <a:p>
            <a:pPr lvl="1" marL="490320" indent="-188640"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Regulation (EC) No 166/2006 of the European Parliament and of the Council of 18 January 2006 concerning the establishment of a European Pollutant Release and Transfer Register;</a:t>
            </a:r>
            <a:endParaRPr b="0" lang="en-US" sz="2300" spc="-1" strike="noStrike">
              <a:solidFill>
                <a:srgbClr val="c5e5ff"/>
              </a:solidFill>
              <a:latin typeface="Verdana"/>
            </a:endParaRPr>
          </a:p>
          <a:p>
            <a:pPr lvl="1" marL="490320" indent="-188640">
              <a:spcBef>
                <a:spcPts val="575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Verdana"/>
              </a:rPr>
              <a:t>Protocol on Pollutant Release and Transfer Registers under the Aarhus Convention, K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iev, 21 May 2003, possibly entering into force in 2009.</a:t>
            </a:r>
            <a:endParaRPr b="0" lang="en-US" sz="2300" spc="-1" strike="noStrike">
              <a:solidFill>
                <a:srgbClr val="c5e5ff"/>
              </a:solidFill>
              <a:latin typeface="Verdana"/>
            </a:endParaRPr>
          </a:p>
          <a:p>
            <a:pPr lvl="1" marL="490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ECD and PRTR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ECD started to work on PRTRs in response to Agenda 21, UNCED, 1992;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 1996 OECD Council adopted a Recommendation on Implementing PRTRs C(96)41/Final, as amended by C(2003)87 and published a Guidance Manual;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In 2006, there were 17 OECD countries which had an operational PRTR in place;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By the end of 2009, there should be over 30 operational PRTRs in OECD and beyond.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87C6-2538-498A-8554-C0A88F6B3FF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DEEE-3DF1-4228-8A6C-67B8A92F1E5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lected OECD PRTR Publication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Resource Compendium of RETs, Parts 1-3: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mmary of Techniques for Point Sources; Diffuse Sources and Off-site Transfers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Uses of Pollutant Release and Transfer Register Data and Tools for Their Presentation: A Reference Manual;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Framework for Selecting and Applying PRTR Release Estimation Techniques.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DEED-48BF-46F9-91D0-B7CB8BEF778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lected OECD PRTR Publication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tudy on the inclusion of releases and transfers from small and medium-sized enterprises in PRTRs;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nsiderations for ensuring quality Pollutant Release and Transfer Registers (PRTR) data.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 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ECD PRTR Databas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Global Portal to PRTR Information </a:t>
            </a:r>
            <a:r>
              <a:rPr b="0" lang="en-GB" sz="2600" spc="-1" strike="noStrike">
                <a:solidFill>
                  <a:srgbClr val="c5e5ff"/>
                </a:solidFill>
                <a:latin typeface="Verdana"/>
              </a:rPr>
              <a:t>(www.PRTR.net)</a:t>
            </a: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source Centre for RETs</a:t>
            </a: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5e5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c5e5ff"/>
                </a:solidFill>
                <a:latin typeface="Verdana"/>
              </a:rPr>
              <a:t>(www.oecd.org/env/prtr/rc) </a:t>
            </a: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buClr>
                <a:srgbClr val="c5e5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Centre for PRTR Data</a:t>
            </a: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lvl="1" marL="71316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5e5ff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c5e5ff"/>
                </a:solidFill>
                <a:latin typeface="Verdana"/>
              </a:rPr>
              <a:t>(www.oecd.org/env/prtr/data) </a:t>
            </a: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D0EE-2CBA-4A90-82E5-9BCC5B54D94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Uses of PRTR Dat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NV/JM/MONO(2005)3: This report presents over 100 examples of uses of PRTR data from many different countries and a variety of PRTR systems. PRTR data is used by the public, industry, governments, investment community and academic research institutions. 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oxic Chemicals and Children’s Health in North America: A Call for Efforts to Determine the Sources, Levels of Exposure, and Risks that Industrial Chemicals Pose to Children’s Health;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ate of the North American environment, etc.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c5e5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7461-A846-4CAC-874F-2B7F5D9ADDC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443640" y="6048360"/>
            <a:ext cx="23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7146-9FDD-4763-8E64-5B92D8AE581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65 Medium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bbe0e3"/>
                </a:solidFill>
                <a:latin typeface="Georgia"/>
              </a:rPr>
              <a:t>ICCM2</a:t>
            </a:r>
            <a:endParaRPr b="0" lang="en-US" sz="3600" spc="-1" strike="noStrike">
              <a:solidFill>
                <a:srgbClr val="bbe0e3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PRTR Initiativ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-23436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Use of PRTR data to implement MEAs: A UNITAR project on POPs involving Cambodia, Chile, Ecuador, Kazakhstan, Peru, Thailand and Ukraine;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609120" indent="-23436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clusion of GHGs in PRTRs: a side-event planned for the December 2009 UNFCCC COP-15, Copenhagen;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609120" indent="-23436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Inclusion of manufactured nanomaterials in PRTRs – discussions underway in some OECD countries.</a:t>
            </a: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5e5ff"/>
              </a:solidFill>
              <a:latin typeface="Verdana"/>
            </a:endParaRPr>
          </a:p>
          <a:p>
            <a:pPr lvl="1" marL="609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5e5ff"/>
              </a:solidFill>
              <a:latin typeface="Verdan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0:56:07Z</dcterms:created>
  <dc:creator>OECD</dc:creator>
  <dc:description/>
  <dc:language>en-US</dc:language>
  <cp:lastModifiedBy>Henrik Harjula</cp:lastModifiedBy>
  <cp:lastPrinted>2002-06-04T13:46:34Z</cp:lastPrinted>
  <dcterms:modified xsi:type="dcterms:W3CDTF">2009-05-05T09:15:03Z</dcterms:modified>
  <cp:revision>372</cp:revision>
  <dc:subject/>
  <dc:title>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endees 1">
    <vt:lpwstr/>
  </property>
  <property fmtid="{D5CDD505-2E9C-101B-9397-08002B2CF9AE}" pid="3" name="Category0">
    <vt:lpwstr>7</vt:lpwstr>
  </property>
  <property fmtid="{D5CDD505-2E9C-101B-9397-08002B2CF9AE}" pid="4" name="DateOfEvent">
    <vt:lpwstr>2006-06-27T00:00:00Z</vt:lpwstr>
  </property>
  <property fmtid="{D5CDD505-2E9C-101B-9397-08002B2CF9AE}" pid="5" name="Directorate">
    <vt:lpwstr>9</vt:lpwstr>
  </property>
  <property fmtid="{D5CDD505-2E9C-101B-9397-08002B2CF9AE}" pid="6" name="Event">
    <vt:lpwstr>3</vt:lpwstr>
  </property>
  <property fmtid="{D5CDD505-2E9C-101B-9397-08002B2CF9AE}" pid="7" name="EventDate">
    <vt:lpwstr>2006-06-27T00:00:00Z</vt:lpwstr>
  </property>
  <property fmtid="{D5CDD505-2E9C-101B-9397-08002B2CF9AE}" pid="8" name="Language">
    <vt:lpwstr>English</vt:lpwstr>
  </property>
  <property fmtid="{D5CDD505-2E9C-101B-9397-08002B2CF9AE}" pid="9" name="Software">
    <vt:lpwstr>2</vt:lpwstr>
  </property>
  <property fmtid="{D5CDD505-2E9C-101B-9397-08002B2CF9AE}" pid="10" name="Template Type">
    <vt:lpwstr>2</vt:lpwstr>
  </property>
</Properties>
</file>