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FC82-22C8-4605-86AE-267E6C36042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5836E-82B0-4EDA-8C35-DC9968326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2CD28-5695-4EA5-83B6-49DE8D42B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785AC-565F-430D-91CB-CB6286374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6D487-8A7B-4775-9A98-12676CFAB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512C3-D57B-4E01-82E9-B175F7962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6AB92-C373-4244-8482-3E5F5EE2B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A07A1-539C-4721-8FB6-58086B811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B59FA-D07B-49FA-9B56-10BBA8707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58615-1438-4174-8621-47C4E80FD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BEFD6-EB4A-4448-9481-AC47ADAC0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58A47-3AC2-45DE-8587-ABAFD48DC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AB6FA-7A23-4E85-AB36-17554CB13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D704C-EB12-4E36-9A88-F7D68BAF9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7BC27-E0D0-4C9B-8B58-ACC8BAC84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A41A9-4352-43CF-80C9-4B619C5CA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E2052-5063-42BC-B004-24FF4C872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E7C48-5E8E-4D1D-A02B-C1972A7607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DA906-5C28-4A1C-88A0-716682CB9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C3E8B-16E7-4A26-A60F-FA018C94E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D8AEE-225B-493C-8DAB-0501A1E22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61CEF-F8CB-41C1-82CF-12F809789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68F2A-8BC8-4069-B163-E9E226547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A88C3-5D0A-439C-9024-039C2FD81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94BA7-DE1E-43F4-87DD-882DE5C58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5BC5-F267-49C2-9E12-6C3FBA134D4C}" type="slidenum">
              <a:rPr b="0" lang="ru-RU"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5CB0-0B8D-4DF7-860E-89D34F0B9FA8}" type="slidenum">
              <a:rPr b="0" lang="ru-RU"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Building a SAICM pilot national pollutant register in Belarus</a:t>
            </a:r>
            <a:endParaRPr b="0" lang="en-US" sz="4000" spc="-1" strike="noStrike">
              <a:solidFill>
                <a:srgbClr val="ffff99"/>
              </a:solidFill>
              <a:latin typeface="Arial"/>
            </a:endParaRPr>
          </a:p>
        </p:txBody>
      </p:sp>
      <p:sp>
        <p:nvSpPr>
          <p:cNvPr id="168"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Irina Zastenskaya, SAICM National Focal Point</a:t>
            </a:r>
            <a:endParaRPr b="0" lang="en-US" sz="1600" spc="-1" strike="noStrike">
              <a:solidFill>
                <a:srgbClr val="ffffff"/>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entral and Eastern Europe regional meeting on the </a:t>
            </a:r>
            <a:endParaRPr b="0" lang="en-US" sz="1600" spc="-1" strike="noStrike">
              <a:solidFill>
                <a:srgbClr val="ffffff"/>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trategic Approach to International Chemicals Management </a:t>
            </a:r>
            <a:endParaRPr b="0" lang="en-US" sz="1600" spc="-1" strike="noStrike">
              <a:solidFill>
                <a:srgbClr val="ffffff"/>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Riga, 4-6 December 2006 </a:t>
            </a:r>
            <a:endParaRPr b="0" lang="en-US" sz="1600" spc="-1" strike="noStrike">
              <a:solidFill>
                <a:srgbClr val="ffffff"/>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UNECE Side-Event</a:t>
            </a:r>
            <a:endParaRPr b="0" lang="en-US" sz="1600" spc="-1" strike="noStrike">
              <a:solidFill>
                <a:srgbClr val="ffffff"/>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760"/>
            <a:ext cx="8075520" cy="822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esent situation and needs</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170" name="PlaceHolder 2"/>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Aarhus Convention ratification – 1999 </a:t>
            </a:r>
            <a:endParaRPr b="0" lang="en-US" sz="2000" spc="-1" strike="noStrike">
              <a:solidFill>
                <a:srgbClr val="ffffff"/>
              </a:solidFill>
              <a:latin typeface="Verdan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Cadastres of air, water and soil pollution</a:t>
            </a:r>
            <a:endParaRPr b="0" lang="en-US" sz="2000" spc="-1" strike="noStrike">
              <a:solidFill>
                <a:srgbClr val="ffffff"/>
              </a:solidFill>
              <a:latin typeface="Verdan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The National Profile of Chemical Management</a:t>
            </a:r>
            <a:endParaRPr b="0" lang="en-US" sz="1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t>
            </a:r>
            <a:r>
              <a:rPr b="0" lang="en-US" sz="2000" spc="-1" strike="noStrike">
                <a:solidFill>
                  <a:srgbClr val="ffffff"/>
                </a:solidFill>
                <a:latin typeface="Verdana"/>
              </a:rPr>
              <a:t>there are problems in collection and dissemination of the information. The information posted on ministries and other  sites is not sufficient both as a result of the absence of data and technical and financial problems of sites maintenance. This is one of the reasons of significant gaps revealed in the system of information provision, databases, and information dissemination (Chapter 8, National Profil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there is a clear need to modernize the existing system of data recording, build-up of registers, accumulation of statistical information in order to obtain more complete information about the use, amount, environmental and health effects of chemicals. This will facilitate priority setting both at the national and regional levels (Chapter 3, National Profile)</a:t>
            </a:r>
            <a:endParaRPr b="0" lang="en-US" sz="2000" spc="-1" strike="noStrike">
              <a:solidFill>
                <a:srgbClr val="ffffff"/>
              </a:solidFill>
              <a:latin typeface="Verdan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Priority setting meeting (April,2005)</a:t>
            </a:r>
            <a:endParaRPr b="0" lang="en-US" sz="1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priority 2 “Information collection and dissemination. Information exchang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89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ole of international agreements</a:t>
            </a:r>
            <a:endParaRPr b="0" lang="en-US" sz="3200" spc="-1" strike="noStrike">
              <a:solidFill>
                <a:srgbClr val="ffff99"/>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tification of International agreements facilitate registers development, e.g.</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ntreal protocol – register of ozon-depliting substances (very precise)</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Ps Convention– register of obsolete  pesticides, dioxin  emission, PCBs emission (rather precise)</a:t>
            </a:r>
            <a:endParaRPr b="0" lang="en-US" sz="2800" spc="-1" strike="noStrike">
              <a:solidFill>
                <a:srgbClr val="ffffff"/>
              </a:solidFill>
              <a:latin typeface="Verdan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tocols to Convention for transboundary transmission of air pollutants– register of heavy metals (very precise) </a:t>
            </a:r>
            <a:endParaRPr b="0" lang="en-US" sz="2800" spc="-1" strike="noStrike">
              <a:solidFill>
                <a:srgbClr val="ffffff"/>
              </a:solidFill>
              <a:latin typeface="Verdan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461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AICM Role</a:t>
            </a:r>
            <a:endParaRPr b="0" lang="en-US" sz="2800" spc="-1" strike="noStrike">
              <a:solidFill>
                <a:srgbClr val="ffff99"/>
              </a:solidFill>
              <a:latin typeface="Arial"/>
            </a:endParaRPr>
          </a:p>
        </p:txBody>
      </p:sp>
      <p:sp>
        <p:nvSpPr>
          <p:cNvPr id="174" name="PlaceHolder 2"/>
          <p:cNvSpPr>
            <a:spLocks noGrp="1"/>
          </p:cNvSpPr>
          <p:nvPr>
            <p:ph/>
          </p:nvPr>
        </p:nvSpPr>
        <p:spPr>
          <a:xfrm>
            <a:off x="457200" y="620640"/>
            <a:ext cx="8229600" cy="5832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esently, the international community develops the Strategic Approaches to the International Chemical Management (SAICM). Expansion of information exchange and access to available information on chemicals are defined as one of the main aspects of increasing chemical safety. Adoption of the SAICM will facilitate information collection, exchange and information accessibility at the national level as well (Chapter 3, National Profile)</a:t>
            </a:r>
            <a:endParaRPr b="0" lang="en-US" sz="2000" spc="-1" strike="noStrike">
              <a:solidFill>
                <a:srgbClr val="ffffff"/>
              </a:solidFill>
              <a:latin typeface="Verdan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 23 Johannesburg Implementation Plan “to appreciate the development of harmonized and integrated information of chemicals, for example through national pollutants release and transfer registers</a:t>
            </a:r>
            <a:endParaRPr b="0" lang="en-US" sz="2000" spc="-1" strike="noStrike">
              <a:solidFill>
                <a:srgbClr val="ffffff"/>
              </a:solidFill>
              <a:latin typeface="Verdan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S: GPA: n. 23 </a:t>
            </a:r>
            <a:endParaRPr b="0" lang="en-US" sz="2000" spc="-1" strike="noStrike">
              <a:solidFill>
                <a:srgbClr val="ffffff"/>
              </a:solidFill>
              <a:latin typeface="Verdan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registers (on chemicals hazard information and PRTR) development was discussed as a priority N 1 for one of two priority areas partnership projects (UNITAR Pilot Project)</a:t>
            </a:r>
            <a:endParaRPr b="0" lang="en-US" sz="2000" spc="-1" strike="noStrike">
              <a:solidFill>
                <a:srgbClr val="ffffff"/>
              </a:solidFill>
              <a:latin typeface="Verdan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e need to know:</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what kind of chemical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wher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how strong impact can b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to answer – what can we do </a:t>
            </a:r>
            <a:r>
              <a:rPr b="0" lang="en-US" sz="2000" spc="-1" strike="noStrike">
                <a:solidFill>
                  <a:srgbClr val="000000"/>
                </a:solidFill>
                <a:latin typeface="Verdana"/>
              </a:rPr>
              <a:t>to minimize the adverse effe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89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ticipations</a:t>
            </a:r>
            <a:endParaRPr b="0" lang="en-US" sz="3200" spc="-1" strike="noStrike">
              <a:solidFill>
                <a:srgbClr val="ffff99"/>
              </a:solidFill>
              <a:latin typeface="Arial"/>
            </a:endParaRPr>
          </a:p>
        </p:txBody>
      </p:sp>
      <p:sp>
        <p:nvSpPr>
          <p:cNvPr id="176"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ollutant Release and Transfer Registers</a:t>
            </a:r>
            <a:r>
              <a:rPr b="0" lang="en-US" sz="2400" spc="-1" strike="noStrike">
                <a:solidFill>
                  <a:srgbClr val="ffffff"/>
                </a:solidFill>
                <a:latin typeface="Verdana"/>
              </a:rPr>
              <a:t> : </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reporting on individual chemicals </a:t>
            </a:r>
            <a:r>
              <a:rPr b="0" lang="en-US" sz="2400" spc="-1" strike="noStrike">
                <a:solidFill>
                  <a:srgbClr val="ffffff"/>
                </a:solidFill>
                <a:latin typeface="Verdana"/>
              </a:rPr>
              <a:t>(what?)</a:t>
            </a:r>
            <a:endParaRPr b="0" lang="en-US" sz="24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by individual industrial facilities </a:t>
            </a:r>
            <a:endParaRPr b="0" lang="en-US" sz="2400" spc="-1" strike="noStrike">
              <a:solidFill>
                <a:srgbClr val="ffffff"/>
              </a:solidFill>
              <a:latin typeface="Verdan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on all releases and transfers </a:t>
            </a:r>
            <a:endParaRPr b="0" lang="en-US" sz="2400" spc="-1" strike="noStrike">
              <a:solidFill>
                <a:srgbClr val="ffffff"/>
              </a:solidFill>
              <a:latin typeface="Verdan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all environmental media (air, water, land) </a:t>
            </a:r>
            <a:endParaRPr b="0" lang="en-US" sz="2400" spc="-1" strike="noStrike">
              <a:solidFill>
                <a:srgbClr val="ffffff"/>
              </a:solidFill>
              <a:latin typeface="Verdana"/>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with consistently structured data </a:t>
            </a:r>
            <a:endParaRPr b="0" lang="en-US" sz="2400" spc="-1" strike="noStrike">
              <a:solidFill>
                <a:srgbClr val="ffffff"/>
              </a:solidFill>
              <a:latin typeface="Verdana"/>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actively disseminated to the public </a:t>
            </a:r>
            <a:endParaRPr b="0" lang="en-US" sz="2400" spc="-1" strike="noStrike">
              <a:solidFill>
                <a:srgbClr val="ffffff"/>
              </a:solidFill>
              <a:latin typeface="Verdana"/>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th limited data withheld as trade secrets, </a:t>
            </a:r>
            <a:endParaRPr b="0" lang="en-US" sz="2400" spc="-1" strike="noStrike">
              <a:solidFill>
                <a:srgbClr val="ffffff"/>
              </a:solidFill>
              <a:latin typeface="Verdana"/>
            </a:endParaRPr>
          </a:p>
          <a:p>
            <a:pPr marL="343080" indent="-343080">
              <a:lnSpc>
                <a:spcPct val="9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th the aim to improve environmental quality and promote cleaner technology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s an instrument to reach 2020 go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	</a:t>
            </a:r>
            <a:r>
              <a:rPr b="0" lang="en-US" sz="4000" spc="-1" strike="noStrike">
                <a:solidFill>
                  <a:srgbClr val="ffffff"/>
                </a:solidFill>
                <a:latin typeface="Verdana"/>
              </a:rPr>
              <a:t>	</a:t>
            </a:r>
            <a:r>
              <a:rPr b="0" lang="en-US" sz="4000" spc="-1" strike="noStrike">
                <a:solidFill>
                  <a:srgbClr val="ffffff"/>
                </a:solidFill>
                <a:latin typeface="Verdana"/>
              </a:rPr>
              <a:t>Thank you very much </a:t>
            </a: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	</a:t>
            </a:r>
            <a:r>
              <a:rPr b="0" lang="en-US" sz="4000" spc="-1" strike="noStrike">
                <a:solidFill>
                  <a:srgbClr val="ffffff"/>
                </a:solidFill>
                <a:latin typeface="Verdana"/>
              </a:rPr>
              <a:t>	</a:t>
            </a:r>
            <a:r>
              <a:rPr b="0" lang="en-US" sz="4000" spc="-1" strike="noStrike">
                <a:solidFill>
                  <a:srgbClr val="ffffff"/>
                </a:solidFill>
                <a:latin typeface="Verdana"/>
              </a:rPr>
              <a:t>for your attention!!!</a:t>
            </a: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21:14:01Z</dcterms:created>
  <dc:creator>Samsung</dc:creator>
  <dc:description/>
  <dc:language>en-US</dc:language>
  <cp:lastModifiedBy>Stanley-Jones</cp:lastModifiedBy>
  <dcterms:modified xsi:type="dcterms:W3CDTF">2006-12-14T16:24:31Z</dcterms:modified>
  <cp:revision>7</cp:revision>
  <dc:subject/>
  <dc:title>Building a SAICM pilot national pollutant register in Belarus</dc:title>
</cp:coreProperties>
</file>