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A19-7381-48A9-852B-4493BFE7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256-4398-469D-878B-06BCE47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5DB-C518-4CAB-BB15-C9308CDC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376-A62D-4217-A758-764B65FA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B94D-1B53-4B22-A918-22EE3A89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AD5-BD5B-4084-BB7B-7CF30DD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9F0-67C8-4158-B7C1-04BD958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0BF7-4776-4DAE-9E16-0862ADD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6DC-E632-4AE7-90D8-ED96147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668-880A-4025-B663-C06574F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0BAE-475B-498D-9CC8-4837462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5B4-23E1-4D9A-B5C8-3019412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C521-2603-487E-8582-8677C99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9459-0D0A-461C-BA48-235AC39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E39-B453-4E5C-A01B-823F101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2379-1318-473D-A6D7-6E43762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EA8-207C-4159-BC4B-AF0CF8CF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C36-4007-4747-BC69-BE16D8FB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09-7550-4161-9CC2-FE05099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501-9950-4A8A-9B4A-0BC90B6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D9F-400C-412D-80C1-303AD12A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69D-8C8F-4A6D-9A8D-ECC2D18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594-DA1A-496B-919C-816D073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0DE-701C-43A5-AF83-B0D703B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8763120" cy="6324120"/>
            <a:chOff x="0" y="228600"/>
            <a:chExt cx="8763120" cy="6324120"/>
          </a:xfrm>
        </p:grpSpPr>
        <p:sp>
          <p:nvSpPr>
            <p:cNvPr id="1" name=""/>
            <p:cNvSpPr/>
            <p:nvPr/>
          </p:nvSpPr>
          <p:spPr>
            <a:xfrm>
              <a:off x="384120" y="623520"/>
              <a:ext cx="8379000" cy="5929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28600"/>
              <a:ext cx="8609040" cy="1265040"/>
            </a:xfrm>
            <a:prstGeom prst="pie">
              <a:avLst/>
            </a:prstGeom>
            <a:solidFill>
              <a:srgbClr val="161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334880"/>
              <a:ext cx="814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619-5038-4622-A54B-1563A9F6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320" y="6324480"/>
            <a:ext cx="4507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2133720"/>
            <a:ext cx="7391520" cy="4114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7920" y="1828800"/>
            <a:ext cx="73915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7620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2286000"/>
            <a:ext cx="7848720" cy="1981080"/>
          </a:xfrm>
          <a:prstGeom prst="rect">
            <a:avLst/>
          </a:prstGeom>
          <a:solidFill>
            <a:srgbClr val="161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3440" y="4114800"/>
            <a:ext cx="784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981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TR capacity-building in a global contex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8960" y="441972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rade,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gradFill rotWithShape="0">
            <a:gsLst>
              <a:gs pos="0">
                <a:srgbClr val="0033cc">
                  <a:alpha val="7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TED NAITONS INSTITUTE FOR TRAINING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hemicals and Waste Management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UN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280" cy="682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990720"/>
            <a:ext cx="1219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3867-2A5D-44E0-B75A-AC6B36AE62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TR-CD RO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159984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04920" y="15238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tional, regional and national legislation/poli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nd regional PRTR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tional guidance documents on PRT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ion and reporting on emission rel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dissemination, right to know and PRTR data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TR web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018-322C-4B6C-99F1-BA81B4F30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TR-CD ROM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8F5-28E2-4427-A2B7-1E0475678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Capacity Building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gramme to Facilitat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Design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T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 and Waste Management Progra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Nations Institute for Training and Research (UNI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-1211 Geneva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+41 22 917 80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www.unitar.org/cw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4DF-57C9-4D04-877E-AE5655CD7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UNITAR PRTR Programm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076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508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y-based capacity-build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ty-build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073-7B5D-47DA-AFB1-642BCC5AC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800" spc="-1" strike="noStrike">
                <a:solidFill>
                  <a:srgbClr val="ffffff"/>
                </a:solidFill>
                <a:latin typeface="Arial"/>
              </a:rPr>
              <a:t>UNITAR country-based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u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371600"/>
            <a:ext cx="3810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lovak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2CD-2C05-4D98-A768-FA3AD952D2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apacity Building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076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stakehold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ing industr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 estim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access to information and data      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B5C-FE79-4E48-8AAA-79B83380A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TR as an implementation too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ckholm Convention requires Parties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change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9),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cilitate public information, awareness and edu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10),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port to the Secretari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15), to periodic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pdate implementation pl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10 explicitly acknowledges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alue of PRT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11 encourages Parties to undertake appropriat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aining to PO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F6E-1673-4FAA-BB0E-0C2A656F41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2 POPS under Stockholm Conven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d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ld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ox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89720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880" y="1523880"/>
            <a:ext cx="44960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ptach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xachlorobenzene (H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r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chlorinated Biphenyls (PC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xaph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8AB-5EF2-4C62-9771-96BD3FD9B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TR vis-à-vis Stockhol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a National PRTR System to Strengthen National Capacities for the Implementation of the Stockholm Convention in Arme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TR Project on POPs monitoring, reporting and information dissemination using Pollutant Release and Transfer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D4D-5D0B-4789-965A-ADAF1CC877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echnical Guidance on Specific Aspects of PRT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Implementing a National PRTR Design Project –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Guidanc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1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Preparing a National PRTR Infrastructur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2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Designing the Key Features of a National PRT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3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Implementing a PRTR Report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C31-F30F-481C-8EB5-74BACA599D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echnical Guidance on Specific Aspects of PRTR Design and Implementation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upplement 4: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Structuring a National PRTR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ddressing Industry Concerns Related to Pollutant Release and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uidance on Estimating Non-Point Source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uidance for facilities on PRTR Data Estima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473-D7C3-40AD-BAF6-83DA460DD2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6:51:38Z</dcterms:created>
  <dc:creator> </dc:creator>
  <dc:description/>
  <dc:language>en-US</dc:language>
  <cp:lastModifiedBy>Stanley-Jones</cp:lastModifiedBy>
  <dcterms:modified xsi:type="dcterms:W3CDTF">2007-10-16T12:47:10Z</dcterms:modified>
  <cp:revision>238</cp:revision>
  <dc:subject/>
  <dc:title>UNITAR</dc:title>
</cp:coreProperties>
</file>