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F95-C784-4BAE-A4B8-DE793087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412-8FB0-44EF-863B-770FC5DA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766-5FD7-477A-84B4-F6BF6238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9F9-803F-4579-BBE1-50D3F8F0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82D-0209-4D0E-A192-AD236D7E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156C-7345-44F4-A397-E640902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53F-3396-46FC-8478-22C02CBC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066-0872-4A6B-B99B-63090562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7AE5-A25A-4006-BA21-C192D76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149F-6F5F-438C-97B0-7AF592F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7F15-27AC-4E76-B886-6C41054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E14-7847-4B1F-AB46-77F6A75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D3F-0A0E-4375-851A-794789A5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5457-5BF8-4836-9A7F-34A78387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B5F-6667-4740-AA63-3E11FF0C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09F7-899B-40D0-8451-C83628C4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DD4A-8E35-4431-B1AD-87616D6E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0FE-983B-4621-94B6-D4A105E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CB9-1994-4ABD-BF5F-EC27FDE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76C-82B1-4C22-A79F-1A6AFF6E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434-C5FA-4C6E-B198-6C4B565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0F0-1677-417D-9CE2-C0844EE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313-3DDB-4956-A552-B3AD1878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5CA-705D-4506-8261-7D16D3E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"/>
            <a:ext cx="8763120" cy="6324120"/>
            <a:chOff x="0" y="228600"/>
            <a:chExt cx="8763120" cy="6324120"/>
          </a:xfrm>
        </p:grpSpPr>
        <p:sp>
          <p:nvSpPr>
            <p:cNvPr id="1" name=""/>
            <p:cNvSpPr/>
            <p:nvPr/>
          </p:nvSpPr>
          <p:spPr>
            <a:xfrm>
              <a:off x="384120" y="623520"/>
              <a:ext cx="8379000" cy="59292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28600"/>
              <a:ext cx="8609040" cy="1265040"/>
            </a:xfrm>
            <a:prstGeom prst="pie">
              <a:avLst/>
            </a:prstGeom>
            <a:solidFill>
              <a:srgbClr val="161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334880"/>
              <a:ext cx="814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6A24-2B96-44DE-8B7E-5BC50C030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6320" y="6324480"/>
            <a:ext cx="4507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2133720"/>
            <a:ext cx="7391520" cy="4114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7920" y="1828800"/>
            <a:ext cx="73915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7620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2286000"/>
            <a:ext cx="7848720" cy="1981080"/>
          </a:xfrm>
          <a:prstGeom prst="rect">
            <a:avLst/>
          </a:prstGeom>
          <a:solidFill>
            <a:srgbClr val="161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3440" y="4114800"/>
            <a:ext cx="784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981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TR capacity-building in a global contex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8960" y="441972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grade,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Octo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gradFill rotWithShape="0">
            <a:gsLst>
              <a:gs pos="0">
                <a:srgbClr val="0033cc">
                  <a:alpha val="7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TED NAITONS INSTITUTE FOR TRAINING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hemicals and Waste Management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UN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0280" cy="682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990720"/>
            <a:ext cx="1219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4B42-3331-489E-9C32-CD88413A4C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TR-CD RO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"/>
          <p:cNvCxnSpPr/>
          <p:nvPr/>
        </p:nvCxnSpPr>
        <p:spPr>
          <a:xfrm>
            <a:off x="1599840" y="2666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04920" y="15238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tional, regional and national legislation/poli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nd regional PRTR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tional guidance documents on PRTR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ion and reporting on emission rel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dissemination, right to know and PRTR data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buClr>
                <a:srgbClr val="6666cc"/>
              </a:buClr>
              <a:buFont typeface="Arial"/>
              <a:buChar char="●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TR web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2D4-DFFC-4FAA-905B-EB2AE84B6D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TR-CD ROM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2FE-64C6-48CC-A12D-A8428C43DA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Capacity Building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gramme to Facilitat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Design of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T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 and Waste Management Progra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Nations Institute for Training and Research (UNIT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ais des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-1211 Geneva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+41 22 917 80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www.unitar.org/cw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E45-F926-4925-8AD2-F4D42E691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UNITAR PRTR Programm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076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508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y-based capacity-build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acity-build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cc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EE5-7501-40B8-9ED3-CC37EC141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800" spc="-1" strike="noStrike">
                <a:solidFill>
                  <a:srgbClr val="ffffff"/>
                </a:solidFill>
                <a:latin typeface="Arial"/>
              </a:rPr>
              <a:t>UNITAR country-based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cuad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371600"/>
            <a:ext cx="3810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gy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lovak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394-CFB1-4943-9A70-6446F5231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apacity Building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00200"/>
            <a:ext cx="8076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stakehold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ressing industr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 estim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14440">
              <a:buClr>
                <a:srgbClr val="6666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access to information and data      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50D-3640-43F3-93DE-C8CBE647D4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TR as an implementation too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ockholm Convention requires Parties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change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9),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cilitate public information, awareness and edu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10),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port to the Secretari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15), to periodic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pdate implementation pl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rticle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10 explicitly acknowledges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alue of PRT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 11 encourages Parties to undertake appropriat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aining to PO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94F-05EE-4C20-8827-02194BD63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2 POPS under Stockholm Conven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d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lord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ld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ox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176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897200" cy="151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880" y="1523880"/>
            <a:ext cx="44960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ptach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xachlorobenzene (H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r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chlorinated Biphenyls (PC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5920" indent="-57240"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xaph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C36-28FC-4B50-8508-F2E4F3D02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RTR vis-à-vis Stockhol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a National PRTR System to Strengthen National Capacities for the Implementation of the Stockholm Convention in Armen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TR Project on POPs monitoring, reporting and information dissemination using Pollutant Release and Transfer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4FE-812B-4869-B0C8-72FCBA319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Technical Guidance on Specific Aspects of PRTR Design and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Implementing a National PRTR Design Project – 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Guidanc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upplement 1: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Preparing a National PRTR Infrastructur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upplement 2: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Designing the Key Features of a National PRT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upplement 3:</a:t>
            </a: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 Implementing a PRTR Report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D7D-9E88-4157-AE00-17637A7732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3049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ffffff"/>
                </a:solidFill>
                <a:latin typeface="Arial"/>
              </a:rPr>
              <a:t>Technical Guidance on Specific Aspects of PRTR Design and Implementation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upplement 4: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Structuring a National PRTR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ddressing Industry Concerns Related to Pollutant Release and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Guidance on Estimating Non-Point Source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Guidance for facilities on PRTR Data Estima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D76-8A40-4B68-B744-2A75E6E87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6:51:38Z</dcterms:created>
  <dc:creator> </dc:creator>
  <dc:description/>
  <dc:language>en-US</dc:language>
  <cp:lastModifiedBy>Stanley-Jones</cp:lastModifiedBy>
  <dcterms:modified xsi:type="dcterms:W3CDTF">2007-10-16T12:47:10Z</dcterms:modified>
  <cp:revision>238</cp:revision>
  <dc:subject/>
  <dc:title>UNITAR</dc:title>
</cp:coreProperties>
</file>