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D31-D321-4518-B2E3-546BDD5C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293-13F8-43AA-8BC2-FE46CCAB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E8D-7DAB-43CC-BC80-8C47D746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D56-9D7A-4A7B-9D2C-A7C8362B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D13-DA90-48DA-80CB-534B765D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333-9F00-4CCA-9887-FF8D17BA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176-7482-4297-8866-6ECFED63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51AB-27AE-43EE-9D6D-9D344F2E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E2F-0DC8-4C93-A1C9-35528BA3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968-DAAA-4148-B5BB-3AD9F0C4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19B-C01B-427E-8658-39858162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47EC-715A-48F5-B9DB-AB9E91D6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D270-84D6-42E7-A163-F87F89CA6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ece.org/env/pp" TargetMode="External"/><Relationship Id="rId2" Type="http://schemas.openxmlformats.org/officeDocument/2006/relationships/hyperlink" Target="http://www.unece.org/env/pp" TargetMode="External"/><Relationship Id="rId3" Type="http://schemas.openxmlformats.org/officeDocument/2006/relationships/hyperlink" Target="http://www.unece.org/env/pp" TargetMode="External"/><Relationship Id="rId4" Type="http://schemas.openxmlformats.org/officeDocument/2006/relationships/hyperlink" Target="http://www.unece.org/env/pp" TargetMode="External"/><Relationship Id="rId5" Type="http://schemas.openxmlformats.org/officeDocument/2006/relationships/hyperlink" Target="http://www.unece.org/env/pp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2120" y="685800"/>
            <a:ext cx="80308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atification of the UNECE Protocol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llutant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leas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ansf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gister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o the Aarhus Conven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38080" y="3886200"/>
            <a:ext cx="76201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Mr. Jeremy Wat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Secretary to the UNECE Convention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on Access to Information, Public Participation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in Decision-making and Access to Justice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in Environmental Matt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838080" y="5562720"/>
            <a:ext cx="739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UNECE Protocol on PRTRs: Ready for Take-off, Side event to Sixth Ministerial Conference “Environment for Europe”, Belgrade, 10 October 200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H:\Wates\Public Participation\Aarhus Conv\Logo\logo without leaf.tif"/>
          <p:cNvPicPr/>
          <p:nvPr/>
        </p:nvPicPr>
        <p:blipFill>
          <a:blip r:embed="rId1"/>
          <a:stretch/>
        </p:blipFill>
        <p:spPr>
          <a:xfrm>
            <a:off x="5943600" y="1219320"/>
            <a:ext cx="2700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087360" y="844560"/>
            <a:ext cx="300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Main message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71800" y="1523880"/>
            <a:ext cx="8862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Now is the time to ratify</a:t>
            </a:r>
            <a:r>
              <a:rPr b="1" lang="fr-CH" sz="2400" spc="-1" strike="noStrike">
                <a:solidFill>
                  <a:srgbClr val="000000"/>
                </a:solidFill>
                <a:latin typeface="Arial Unicode MS"/>
              </a:rPr>
              <a:t>!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ountries should speedily ratif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he PRTR Protocol, </a:t>
            </a:r>
            <a:r>
              <a:rPr b="0" lang="sr-Latn-CS" sz="2400" spc="-1" strike="noStrike">
                <a:solidFill>
                  <a:srgbClr val="000000"/>
                </a:solidFill>
                <a:latin typeface="Arial Unicode MS"/>
              </a:rPr>
              <a:t>if possible so that PRTR MOP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 Unicode MS"/>
              </a:rPr>
              <a:t>can be held back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-to-back with Aarhus MoP-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Establish PRTRs: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set up registers in line with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requirements of the Protocol, availing as necessary of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guidance and capacity building suppo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To donors: support countries in transition i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establishing PRTRs: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ECCA countries, esp. thos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outside the orbit of future EU accession, need spec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ssistance to develop national PRT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685800" y="838080"/>
            <a:ext cx="7924680" cy="37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For more information, se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http://www.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unece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 Unicode MS"/>
                <a:hlinkClick r:id="rId3"/>
              </a:rPr>
              <a:t>.org/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 Unicode MS"/>
                <a:hlinkClick r:id="rId4"/>
              </a:rPr>
              <a:t>env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 Unicode MS"/>
                <a:hlinkClick r:id="rId5"/>
              </a:rPr>
              <a:t>/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hank you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33520" y="838080"/>
            <a:ext cx="815328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Convention on Access to Information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Public Participation in Decision-making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and Access to Justice in Environmental Matt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 Unicode MS"/>
              </a:rPr>
              <a:t>25 June </a:t>
            </a:r>
            <a:r>
              <a:rPr b="0" lang="fr-CH" sz="2000" spc="-1" strike="noStrike" u="sng">
                <a:solidFill>
                  <a:srgbClr val="000000"/>
                </a:solidFill>
                <a:uFillTx/>
                <a:latin typeface="Arial Unicode MS"/>
              </a:rPr>
              <a:t>1998</a:t>
            </a:r>
            <a:r>
              <a:rPr b="0" lang="fr-CH" sz="2000" spc="-1" strike="noStrike">
                <a:solidFill>
                  <a:srgbClr val="000000"/>
                </a:solidFill>
                <a:latin typeface="Arial Unicode MS"/>
              </a:rPr>
              <a:t>  -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doption of the Convention at the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 Unicode MS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Ministerial “Environment for Europe” Conference, Aarhus, Denmark. Signed by 39 countries and the </a:t>
            </a:r>
            <a:r>
              <a:rPr b="0" lang="fr-CH" sz="2000" spc="-1" strike="noStrike">
                <a:solidFill>
                  <a:srgbClr val="000000"/>
                </a:solidFill>
                <a:latin typeface="Arial Unicode M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uropean Commun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 Unicode MS"/>
              </a:rPr>
              <a:t>30 Oct </a:t>
            </a:r>
            <a:r>
              <a:rPr b="0" lang="fr-CH" sz="2000" spc="-1" strike="noStrike" u="sng">
                <a:solidFill>
                  <a:srgbClr val="000000"/>
                </a:solidFill>
                <a:uFillTx/>
                <a:latin typeface="Arial Unicode MS"/>
              </a:rPr>
              <a:t>20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 Unicode MS"/>
              </a:rPr>
              <a:t>0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  -   Entry into force of the Conven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 Unicode MS"/>
              </a:rPr>
              <a:t>21 May 2003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   -   Adoption of the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Arial Unicode MS"/>
              </a:rPr>
              <a:t>Protocol on PRTRs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 at extra-ordinary    meeting of the Parties, within the framework of the </a:t>
            </a:r>
            <a:r>
              <a:rPr b="0" lang="en-GB" sz="2000" spc="-1" strike="noStrike">
                <a:solidFill>
                  <a:srgbClr val="3333cc"/>
                </a:solidFill>
                <a:latin typeface="Arial Unicode MS"/>
              </a:rPr>
              <a:t>5</a:t>
            </a:r>
            <a:r>
              <a:rPr b="0" lang="en-GB" sz="2000" spc="-1" strike="noStrike" baseline="30000">
                <a:solidFill>
                  <a:srgbClr val="3333cc"/>
                </a:solidFill>
                <a:latin typeface="Arial Unicode MS"/>
              </a:rPr>
              <a:t>th</a:t>
            </a:r>
            <a:r>
              <a:rPr b="0" lang="en-GB" sz="2000" spc="-1" strike="noStrike">
                <a:solidFill>
                  <a:srgbClr val="3333cc"/>
                </a:solidFill>
                <a:latin typeface="Arial Unicode MS"/>
              </a:rPr>
              <a:t> Ministerial Conference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 Unicode MS"/>
              </a:rPr>
              <a:t>“Environment for Europe” 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(Kiev, Ukraine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orking Group on PRTRs established in Kiev to prepare for entry into for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838080"/>
            <a:ext cx="7620120" cy="52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Legal basis in Conven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rticle 5, paragraph 9 and article 10, para. 2 (i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egal basis: article 5, para. 9 and article 10, para. 2 (e) and (i) of the Aarhus Convention, requiring each Par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o take steps to establish progressively ... a coherent, nationwide system of pollution inventories or registers on a structured, computerized and publicly accessible database compiled through standardized reporting.” (art. 5, para. 9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“…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aking into account international processes and developments, including the elaboration of an appropriate instrument concerning pollution release and transfer registers or inventories ….” (art. 10, para. 2(i)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990720" y="2057400"/>
            <a:ext cx="73152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TRs under the Protocol</a:t>
            </a:r>
            <a:r>
              <a:rPr b="0" lang="fr-CH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are required to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e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public</a:t>
            </a:r>
            <a:r>
              <a:rPr b="0" lang="fr-CH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y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accessible and user-friend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esent standardized, timely data on a structured, computerised datab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ver releases and transfers from certain major point sour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egin to include some diffuse sources (e.g. transport, agriculture, small- and medium-sized enterprise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llow public participation in their development and modific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31160" y="533520"/>
            <a:ext cx="726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 Unicode MS"/>
                <a:ea typeface="Times New Roman"/>
              </a:rPr>
              <a:t>Objective of Protocol: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“… to enhance public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access to information through the establishment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of coherent, integrated, nationwide PRTRs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914400"/>
            <a:ext cx="396252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Pollutants covered</a:t>
            </a: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 (annex II) </a:t>
            </a:r>
            <a:br>
              <a:rPr sz="2000"/>
            </a:b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includ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Greenhouse gas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Acid rain polluta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Ozone-depleting substan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Heavy meta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Certain carcinogens, </a:t>
            </a:r>
            <a:br>
              <a:rPr sz="2000"/>
            </a:b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  such as dioxi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Unicode MS"/>
                <a:ea typeface="Times New Roman"/>
              </a:rPr>
              <a:t>TOTAL:  86 polluta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57200" y="533520"/>
            <a:ext cx="41720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38080" y="45720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72000" y="838080"/>
            <a:ext cx="4572000" cy="58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acilities covere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annex I) includ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ermal power stations and refiner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ining and metallurgical industr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hemical pla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aste and waste-water management pla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aper and timber industr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tensive livestock production and aquacultu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ood and beverage produ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605960" y="533520"/>
            <a:ext cx="55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Status of Protocol Ratification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523880" y="1676520"/>
            <a:ext cx="670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ston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erman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xembourg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witzerl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uropean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040760" y="4114800"/>
            <a:ext cx="76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6 Member State ratifications are neede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for the Protocol to enter into for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83360" y="1828800"/>
            <a:ext cx="8201160" cy="39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ules of procedure and compliance review mechanis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nancial arrang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pacity-build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ternational cooperation and reporti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ternational PRTR Coordinating Grou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AICM / ICCM et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762120" y="45720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Steps for Protocol’s future implementation: institutional archite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3520" y="1698480"/>
            <a:ext cx="39765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ion of technic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ance on implement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guidance planned on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  PRTR reporting by enterpris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  dissemination of PRT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inform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  data users’ gui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an Community guid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PRT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09480" y="533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 for Protocol’s future implementation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city-build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C:\Documents and Settings\Stanley-Jones\Desktop\Cover.jpg"/>
          <p:cNvPicPr/>
          <p:nvPr/>
        </p:nvPicPr>
        <p:blipFill>
          <a:blip r:embed="rId1"/>
          <a:stretch/>
        </p:blipFill>
        <p:spPr>
          <a:xfrm>
            <a:off x="5148360" y="1484280"/>
            <a:ext cx="3073320" cy="4343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CE Guidelines on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and reporting by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Stanley-Jones\Desktop\two_track_approach.jpg"/>
          <p:cNvPicPr/>
          <p:nvPr/>
        </p:nvPicPr>
        <p:blipFill>
          <a:blip r:embed="rId1"/>
          <a:stretch/>
        </p:blipFill>
        <p:spPr>
          <a:xfrm>
            <a:off x="1371600" y="762120"/>
            <a:ext cx="5715000" cy="4452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273320" y="5410080"/>
            <a:ext cx="660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viding technical guidance on approach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o reporting releases and transf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5:28:59Z</dcterms:created>
  <dc:creator>Stanley-Jones</dc:creator>
  <dc:description/>
  <dc:language>en-US</dc:language>
  <cp:lastModifiedBy>Stanley-Jones</cp:lastModifiedBy>
  <dcterms:modified xsi:type="dcterms:W3CDTF">2007-10-16T12:47:33Z</dcterms:modified>
  <cp:revision>18</cp:revision>
  <dc:subject/>
  <dc:title>PowerPoint Presentation</dc:title>
</cp:coreProperties>
</file>