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508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37080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F073-5D27-4A91-8EB4-94BCC2601B7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E798-0B26-42F8-9840-277E1FEA577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D4C2-AF85-44A3-B622-EE3B67B6DC9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B7DA-9F8B-4797-AF72-9260F80D804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5FB0-76C7-4468-B206-59520410B06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A933-067C-46C3-8ED5-AF6B64CB068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A84B-8024-4853-A31D-D86568433C9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15DF-9F93-4873-85AA-809169E59AC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B342-B7E0-4628-B023-1EA258A82CC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639E-F187-4994-AD36-612A7FB6876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89E3-95B6-416A-802F-4EC151A990B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9ED-849C-40A7-8CCE-66DCBE32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B2E-1968-4153-9EA6-9A4D1854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10A-9EFA-4766-B96F-C7A9BCB9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6BD-BB02-40B9-B8BA-F63588E9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15A-F7D9-47D7-8032-6DB84A6E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526-9B56-4C84-BC55-DD047FB8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F64-17C5-41A3-869B-4000337B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25A-DDA3-49E2-88B8-8D0358B3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622-24A4-42EE-86EB-E17A79E7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82B-F7D5-4487-84B9-861F6A04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DF5-147C-4DA1-A9B8-A77D2F75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2D7-A563-4BC5-B7E4-5E8ACF80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5C73-16CF-4E8B-ACAB-9C8A3375322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oprano.paolo@minambiente.i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2" name="Picture 6" descr="stellone"/>
          <p:cNvPicPr/>
          <p:nvPr/>
        </p:nvPicPr>
        <p:blipFill>
          <a:blip r:embed="rId1"/>
          <a:stretch/>
        </p:blipFill>
        <p:spPr>
          <a:xfrm>
            <a:off x="81000" y="44280"/>
            <a:ext cx="609480" cy="64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042920" y="1125360"/>
            <a:ext cx="72741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ixth Meeting of the UNECE Steering Committee on ESD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Geneva, </a:t>
            </a:r>
            <a:r>
              <a:rPr b="1" i="1" lang="fr-FR" sz="1800" spc="-1" strike="noStrike">
                <a:solidFill>
                  <a:srgbClr val="333399"/>
                </a:solidFill>
                <a:latin typeface="Arial"/>
              </a:rPr>
              <a:t>Palais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de Nations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7-8 April 2011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genda item 6: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anel discussion: taking stock and looking forward – ESD in the context of the United Nations Conference on Sustainable Development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THE ROLE OF ESD IN SHIFTING TO A GREEN ECONOMY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Paolo Soprano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Director of Division for Sustainable Development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Ministry for the Environment, Land and Sea of Italy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971640" y="549360"/>
            <a:ext cx="784836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Picture 6" descr="stellone"/>
          <p:cNvPicPr/>
          <p:nvPr/>
        </p:nvPicPr>
        <p:blipFill>
          <a:blip r:embed="rId1"/>
          <a:stretch/>
        </p:blipFill>
        <p:spPr>
          <a:xfrm>
            <a:off x="179280" y="117360"/>
            <a:ext cx="609840" cy="647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826920" y="907920"/>
            <a:ext cx="7921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286000" y="1460520"/>
            <a:ext cx="45720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hank you for your attention!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aolo Soprano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inistry for the Environment, Land and Sea of Italy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rector of Division for Sustainable Development: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oprano.paolo@minambiente.it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468360" y="98100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Picture 6" descr="stellone"/>
          <p:cNvPicPr/>
          <p:nvPr/>
        </p:nvPicPr>
        <p:blipFill>
          <a:blip r:embed="rId1"/>
          <a:stretch/>
        </p:blipFill>
        <p:spPr>
          <a:xfrm>
            <a:off x="103320" y="73080"/>
            <a:ext cx="583920" cy="619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826920" y="90792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042920" y="765000"/>
            <a:ext cx="7434360" cy="50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United Nations General Assembly Resolution A/64/236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Decided to convene a 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</a:rPr>
              <a:t>United Nations Conference on Sustainable Development in 2012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 (Rio de Janeiro, </a:t>
            </a:r>
            <a:r>
              <a:rPr b="0" i="1" lang="it-IT" sz="1800" spc="-1" strike="noStrike">
                <a:solidFill>
                  <a:srgbClr val="333399"/>
                </a:solidFill>
                <a:latin typeface="Arial"/>
              </a:rPr>
              <a:t>4-6 June 2012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)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Conference at the highest possible level, including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Heads of State and Government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r other representatives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Two major themes: 1) 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</a:rPr>
              <a:t>A green economy in the context of sustainable development and poverty eradication 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(GESDPE); 2) 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</a:rPr>
              <a:t>Institutional framework for sustainable development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 (IFSD)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he objectives are to secure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renewed political commitment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for sustainable development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ssess the progres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o date and the remaining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gaps in the implementation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of the outcomes of the major summits on sustainable development, and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ddress new and emerging challenges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4572000" y="2997360"/>
            <a:ext cx="689040" cy="485640"/>
          </a:xfrm>
          <a:custGeom>
            <a:avLst/>
            <a:gdLst>
              <a:gd name="textAreaLeft" fmla="*/ 107640 w 689040"/>
              <a:gd name="textAreaRight" fmla="*/ 603000 w 6890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971640" y="549360"/>
            <a:ext cx="784836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9" name="Picture 6" descr="stellone"/>
          <p:cNvPicPr/>
          <p:nvPr/>
        </p:nvPicPr>
        <p:blipFill>
          <a:blip r:embed="rId1"/>
          <a:stretch/>
        </p:blipFill>
        <p:spPr>
          <a:xfrm>
            <a:off x="103320" y="73080"/>
            <a:ext cx="583920" cy="619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826920" y="90792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755640" y="836640"/>
            <a:ext cx="7993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United Nations General Assembly Resolution A/64/236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hree preparatory meetings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, one in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May 2010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he second one in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March 2011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and the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hird one immediately prior to the Conference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tself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hree intersessional meeting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will take place: one in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January 2011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, the second one in the second half of 2011 and the third one not later than eight weeks prior to the Conference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Member States elected at the First Preparatory Committee meeting in May 2010 a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0-member Bureau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(2 representatives from each region) and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Brazil as ex-officio member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to steer the preparatory process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he Conference Secretary-General in his functions is supported by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wo Executive Coordinators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and a team of special advisors.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4572000" y="2997360"/>
            <a:ext cx="689040" cy="485640"/>
          </a:xfrm>
          <a:custGeom>
            <a:avLst/>
            <a:gdLst>
              <a:gd name="textAreaLeft" fmla="*/ 107640 w 689040"/>
              <a:gd name="textAreaRight" fmla="*/ 603000 w 6890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971640" y="549360"/>
            <a:ext cx="784836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Picture 6" descr="stellone"/>
          <p:cNvPicPr/>
          <p:nvPr/>
        </p:nvPicPr>
        <p:blipFill>
          <a:blip r:embed="rId1"/>
          <a:stretch/>
        </p:blipFill>
        <p:spPr>
          <a:xfrm>
            <a:off x="179280" y="117360"/>
            <a:ext cx="609840" cy="647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826920" y="692280"/>
            <a:ext cx="7921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Towards a ‘Green Economy’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urrent global economic, environmental and social challenges are contributing to the growing sense that a different economic model is needed: sustainable investment, ‘green growth’ and ‘green jobs’.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Priority areas: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vestment in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ow-carbon energy, sustainable transport and infrastructures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2.  OECD/G20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recovery packages and green investment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3.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scal and financial/corporate reform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based Rio principle 8, principle 15, principle 16 (e.g. financial/banking regulations,‘socially useful’ finance, green markets; new business models/CSR)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4.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ntergovernmental strategie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(Rio+20)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global studies and guidance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n Green Economy (OECD, UNEP, UNDP, ILO, EC)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5.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NGO/think-tank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visions and wellbeing measures.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68360" y="98100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971640" y="549360"/>
            <a:ext cx="784836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8" name="Picture 6" descr="stellone"/>
          <p:cNvPicPr/>
          <p:nvPr/>
        </p:nvPicPr>
        <p:blipFill>
          <a:blip r:embed="rId1"/>
          <a:stretch/>
        </p:blipFill>
        <p:spPr>
          <a:xfrm>
            <a:off x="179280" y="117360"/>
            <a:ext cx="60984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826920" y="907920"/>
            <a:ext cx="79218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Ten Year Framework of Programmes (10YFP) on Sustainable Consumption and Production (SCP)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Since 2003, the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Marrakech Proces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has catalized most initiatives on SCP: thematic task forces, regional and national roundtables, pilot projects etc.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2011, at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SD 19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, MS are called to adopt a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0YFP on SCP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t present: tinkering is not enough: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‘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Relative decoupling’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shows no signs of becoming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‘absolute decoupling’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Developed economie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re not reducing consumption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Global economy is be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ocked into a model of ever increasing energy and resource-intensive production and consumption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(GDP versus other indicators of development);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68360" y="98100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7" name="Picture 6" descr="stellone"/>
          <p:cNvPicPr/>
          <p:nvPr/>
        </p:nvPicPr>
        <p:blipFill>
          <a:blip r:embed="rId1"/>
          <a:stretch/>
        </p:blipFill>
        <p:spPr>
          <a:xfrm>
            <a:off x="179280" y="117360"/>
            <a:ext cx="609840" cy="6476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826920" y="692280"/>
            <a:ext cx="792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CP and GESDPE: commonalities and differences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Sustainable consumption’ debate has been very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Northern-focused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as for GESDPE. Both need to strengthen a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global ownership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he focus on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CP is perceived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as a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otential harm to producer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especially in developing countries and a risk for the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mposition of trade barriers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Both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SCP and GESDPE are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global issue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hat go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o the heart of economic and social arrangement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f countries and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heir interdependencies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Both need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nternational mechanisms to manage the proces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and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avoid a ‘grab’ for resources. SCP, through discussions on a 10YFP at CSD19 is aiming for a global mechanism. GESDPE is in the hands of Rio+20.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468360" y="98100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6" name="Picture 6" descr="stellone"/>
          <p:cNvPicPr/>
          <p:nvPr/>
        </p:nvPicPr>
        <p:blipFill>
          <a:blip r:embed="rId1"/>
          <a:stretch/>
        </p:blipFill>
        <p:spPr>
          <a:xfrm>
            <a:off x="179280" y="117360"/>
            <a:ext cx="609840" cy="647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826920" y="692280"/>
            <a:ext cx="7921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CP and GESDPE: commonalities and differences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both processe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eople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need to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articipate fully in decision-making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,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locally, nationally and internationally through an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ncreased ability to make informed choices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, greater knowledge and awareness (role of ESD).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both processe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he invisible hand of the market is not enough; it needs the guiding hand of society (Adam Smith)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hange towards SCP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definitely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requires a shift to a ‘green economy’ model: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. Economic resilience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2. Biosphere protection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3. Equity and social justice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4. … and accountability for 1-3 above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(Green Economy Coalition)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468360" y="98100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5" name="Picture 6" descr="stellone"/>
          <p:cNvPicPr/>
          <p:nvPr/>
        </p:nvPicPr>
        <p:blipFill>
          <a:blip r:embed="rId1"/>
          <a:stretch/>
        </p:blipFill>
        <p:spPr>
          <a:xfrm>
            <a:off x="103320" y="73080"/>
            <a:ext cx="583920" cy="619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6920" y="90792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755640" y="836640"/>
            <a:ext cx="7993080" cy="50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Main linkages between GESDPE and ESD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Jevons paradox or rebound effect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ustainable thinking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reorientation of values and attitude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as a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otential to unlock wide behavioral change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society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Role of education: provides knowledge, skills and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bility to make informed choices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, empowering individuals as key actors for change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ESD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trengthens a sense of ownership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f the process for all those who have to contribute to it: citizens, decision makers at all levels, civil society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ESD: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ormal, non-formal and informal learning processe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a life long perspective as a key driver for change at national, regional and international level.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4572000" y="2997360"/>
            <a:ext cx="689040" cy="485640"/>
          </a:xfrm>
          <a:custGeom>
            <a:avLst/>
            <a:gdLst>
              <a:gd name="textAreaLeft" fmla="*/ 107640 w 689040"/>
              <a:gd name="textAreaRight" fmla="*/ 603000 w 6890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68360" y="98100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971640" y="549360"/>
            <a:ext cx="784836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6" name="Picture 6" descr="stellone"/>
          <p:cNvPicPr/>
          <p:nvPr/>
        </p:nvPicPr>
        <p:blipFill>
          <a:blip r:embed="rId1"/>
          <a:stretch/>
        </p:blipFill>
        <p:spPr>
          <a:xfrm>
            <a:off x="103320" y="73080"/>
            <a:ext cx="583920" cy="619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826920" y="90792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042920" y="1197000"/>
            <a:ext cx="743436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971640" y="907920"/>
            <a:ext cx="75610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Relevant international policy processes to promote ESD and its importance for greening the economy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ixth Meeting of the UNECE Steering Committee on ESD, Geneva 6-7 April 2011 – has been introduced in the official calendar of event of the UNCSD process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eventh United Nations Conference Economic Commission for Europe (UNECE) “Environment for Europe” Ministerial Conference, Astana 21-23 September 2011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pecial session of the Regional Implementation Meeting (RIM), Geneva 1-2 December 2011, shifted into Rio+20 Regional Preparatory Meeting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ntersessional Meetings of UNCSD 2012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i="1" lang="en-US" sz="18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PrepCom Meeting of UNCSD, Rio de Janeiro, May 2012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468360" y="98100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09:56:28Z</dcterms:created>
  <dc:creator>Utente</dc:creator>
  <dc:description/>
  <dc:language>en-US</dc:language>
  <cp:lastModifiedBy>Soprano Paolo</cp:lastModifiedBy>
  <dcterms:modified xsi:type="dcterms:W3CDTF">2011-04-07T10:22:53Z</dcterms:modified>
  <cp:revision>188</cp:revision>
  <dc:subject/>
  <dc:title>Diapositiva 1</dc:title>
</cp:coreProperties>
</file>